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41.wmf" ContentType="image/x-wmf"/>
  <Override PartName="/ppt/media/image40.wmf" ContentType="image/x-wmf"/>
  <Override PartName="/ppt/media/image39.wmf" ContentType="image/x-wmf"/>
  <Override PartName="/ppt/media/image30.wmf" ContentType="image/x-wmf"/>
  <Override PartName="/ppt/media/image13.wmf" ContentType="image/x-wmf"/>
  <Override PartName="/ppt/media/image1.wmf" ContentType="image/x-wmf"/>
  <Override PartName="/ppt/media/image42.wmf" ContentType="image/x-wmf"/>
  <Override PartName="/ppt/media/image17.wmf" ContentType="image/x-wmf"/>
  <Override PartName="/ppt/media/image5.wmf" ContentType="image/x-wmf"/>
  <Override PartName="/ppt/media/image82.wmf" ContentType="image/x-wmf"/>
  <Override PartName="/ppt/media/image38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31.wmf" ContentType="image/x-wmf"/>
  <Override PartName="/ppt/media/image68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643-EF18-4647-9814-674C56A4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170-D940-4E40-82AA-4A48F9E3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229-5062-4780-AF9C-E4D898D0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845-9DC1-4256-8D7E-8413D432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F3C-1AE2-4D2E-8AA6-678AE6B0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AB8-BA84-4C6B-8D36-3184E491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358F-D6A2-4B50-B2A1-8C89195F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EE6C-7ABC-43A1-B354-F1837C9D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095D-9345-4095-8625-96B1938D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4E2C-FFF1-42C8-A6EC-B446BA26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869A-14A4-410D-820A-8876AEF1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F2FC-8D4C-4FB2-B395-8948ACA0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BAC8-3BF6-40A6-845A-0A1EDAFC5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wmf"/><Relationship Id="rId10" Type="http://schemas.openxmlformats.org/officeDocument/2006/relationships/image" Target="../media/image53.wmf"/><Relationship Id="rId11" Type="http://schemas.openxmlformats.org/officeDocument/2006/relationships/image" Target="../media/image54.wmf"/><Relationship Id="rId12" Type="http://schemas.openxmlformats.org/officeDocument/2006/relationships/image" Target="../media/image55.wmf"/><Relationship Id="rId13" Type="http://schemas.openxmlformats.org/officeDocument/2006/relationships/image" Target="../media/image56.wmf"/><Relationship Id="rId14" Type="http://schemas.openxmlformats.org/officeDocument/2006/relationships/image" Target="../media/image57.wmf"/><Relationship Id="rId15" Type="http://schemas.openxmlformats.org/officeDocument/2006/relationships/image" Target="../media/image58.wmf"/><Relationship Id="rId16" Type="http://schemas.openxmlformats.org/officeDocument/2006/relationships/image" Target="../media/image59.wmf"/><Relationship Id="rId17" Type="http://schemas.openxmlformats.org/officeDocument/2006/relationships/image" Target="../media/image60.wmf"/><Relationship Id="rId18" Type="http://schemas.openxmlformats.org/officeDocument/2006/relationships/image" Target="../media/image61.wmf"/><Relationship Id="rId19" Type="http://schemas.openxmlformats.org/officeDocument/2006/relationships/image" Target="../media/image62.wmf"/><Relationship Id="rId20" Type="http://schemas.openxmlformats.org/officeDocument/2006/relationships/image" Target="../media/image63.wmf"/><Relationship Id="rId21" Type="http://schemas.openxmlformats.org/officeDocument/2006/relationships/image" Target="../media/image64.wmf"/><Relationship Id="rId22" Type="http://schemas.openxmlformats.org/officeDocument/2006/relationships/image" Target="../media/image65.wmf"/><Relationship Id="rId23" Type="http://schemas.openxmlformats.org/officeDocument/2006/relationships/image" Target="../media/image66.wmf"/><Relationship Id="rId24" Type="http://schemas.openxmlformats.org/officeDocument/2006/relationships/image" Target="../media/image67.wmf"/><Relationship Id="rId25" Type="http://schemas.openxmlformats.org/officeDocument/2006/relationships/image" Target="../media/image68.wmf"/><Relationship Id="rId26" Type="http://schemas.openxmlformats.org/officeDocument/2006/relationships/image" Target="../media/image69.wmf"/><Relationship Id="rId27" Type="http://schemas.openxmlformats.org/officeDocument/2006/relationships/image" Target="../media/image70.wmf"/><Relationship Id="rId28" Type="http://schemas.openxmlformats.org/officeDocument/2006/relationships/image" Target="../media/image71.wmf"/><Relationship Id="rId29" Type="http://schemas.openxmlformats.org/officeDocument/2006/relationships/image" Target="../media/image72.wmf"/><Relationship Id="rId30" Type="http://schemas.openxmlformats.org/officeDocument/2006/relationships/image" Target="../media/image73.wmf"/><Relationship Id="rId31" Type="http://schemas.openxmlformats.org/officeDocument/2006/relationships/image" Target="../media/image74.wmf"/><Relationship Id="rId32" Type="http://schemas.openxmlformats.org/officeDocument/2006/relationships/image" Target="../media/image75.wmf"/><Relationship Id="rId33" Type="http://schemas.openxmlformats.org/officeDocument/2006/relationships/image" Target="../media/image76.wmf"/><Relationship Id="rId34" Type="http://schemas.openxmlformats.org/officeDocument/2006/relationships/image" Target="../media/image77.wmf"/><Relationship Id="rId35" Type="http://schemas.openxmlformats.org/officeDocument/2006/relationships/image" Target="../media/image78.wmf"/><Relationship Id="rId3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image" Target="../media/image56.wmf"/><Relationship Id="rId10" Type="http://schemas.openxmlformats.org/officeDocument/2006/relationships/image" Target="../media/image57.wmf"/><Relationship Id="rId11" Type="http://schemas.openxmlformats.org/officeDocument/2006/relationships/image" Target="../media/image58.wmf"/><Relationship Id="rId12" Type="http://schemas.openxmlformats.org/officeDocument/2006/relationships/image" Target="../media/image59.wmf"/><Relationship Id="rId13" Type="http://schemas.openxmlformats.org/officeDocument/2006/relationships/image" Target="../media/image60.wmf"/><Relationship Id="rId14" Type="http://schemas.openxmlformats.org/officeDocument/2006/relationships/image" Target="../media/image61.wmf"/><Relationship Id="rId15" Type="http://schemas.openxmlformats.org/officeDocument/2006/relationships/image" Target="../media/image62.wmf"/><Relationship Id="rId16" Type="http://schemas.openxmlformats.org/officeDocument/2006/relationships/image" Target="../media/image63.wmf"/><Relationship Id="rId17" Type="http://schemas.openxmlformats.org/officeDocument/2006/relationships/image" Target="../media/image64.wmf"/><Relationship Id="rId18" Type="http://schemas.openxmlformats.org/officeDocument/2006/relationships/image" Target="../media/image65.wmf"/><Relationship Id="rId19" Type="http://schemas.openxmlformats.org/officeDocument/2006/relationships/image" Target="../media/image66.wmf"/><Relationship Id="rId20" Type="http://schemas.openxmlformats.org/officeDocument/2006/relationships/image" Target="../media/image67.wmf"/><Relationship Id="rId21" Type="http://schemas.openxmlformats.org/officeDocument/2006/relationships/image" Target="../media/image68.wmf"/><Relationship Id="rId22" Type="http://schemas.openxmlformats.org/officeDocument/2006/relationships/image" Target="../media/image69.wmf"/><Relationship Id="rId23" Type="http://schemas.openxmlformats.org/officeDocument/2006/relationships/image" Target="../media/image70.wmf"/><Relationship Id="rId24" Type="http://schemas.openxmlformats.org/officeDocument/2006/relationships/image" Target="../media/image71.wmf"/><Relationship Id="rId25" Type="http://schemas.openxmlformats.org/officeDocument/2006/relationships/image" Target="../media/image72.wmf"/><Relationship Id="rId26" Type="http://schemas.openxmlformats.org/officeDocument/2006/relationships/image" Target="../media/image73.wmf"/><Relationship Id="rId27" Type="http://schemas.openxmlformats.org/officeDocument/2006/relationships/image" Target="../media/image74.wmf"/><Relationship Id="rId28" Type="http://schemas.openxmlformats.org/officeDocument/2006/relationships/image" Target="../media/image75.wmf"/><Relationship Id="rId29" Type="http://schemas.openxmlformats.org/officeDocument/2006/relationships/image" Target="../media/image76.wmf"/><Relationship Id="rId30" Type="http://schemas.openxmlformats.org/officeDocument/2006/relationships/image" Target="../media/image77.wmf"/><Relationship Id="rId31" Type="http://schemas.openxmlformats.org/officeDocument/2006/relationships/image" Target="../media/image78.wmf"/><Relationship Id="rId32" Type="http://schemas.openxmlformats.org/officeDocument/2006/relationships/image" Target="../media/image79.wmf"/><Relationship Id="rId33" Type="http://schemas.openxmlformats.org/officeDocument/2006/relationships/image" Target="../media/image80.wmf"/><Relationship Id="rId34" Type="http://schemas.openxmlformats.org/officeDocument/2006/relationships/image" Target="../media/image81.wmf"/><Relationship Id="rId35" Type="http://schemas.openxmlformats.org/officeDocument/2006/relationships/image" Target="../media/image82.wmf"/><Relationship Id="rId3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24.wmf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image" Target="../media/image27.wmf"/><Relationship Id="rId14" Type="http://schemas.openxmlformats.org/officeDocument/2006/relationships/image" Target="../media/image28.wmf"/><Relationship Id="rId15" Type="http://schemas.openxmlformats.org/officeDocument/2006/relationships/image" Target="../media/image29.wmf"/><Relationship Id="rId16" Type="http://schemas.openxmlformats.org/officeDocument/2006/relationships/image" Target="../media/image30.wmf"/><Relationship Id="rId17" Type="http://schemas.openxmlformats.org/officeDocument/2006/relationships/image" Target="../media/image31.wmf"/><Relationship Id="rId18" Type="http://schemas.openxmlformats.org/officeDocument/2006/relationships/image" Target="../media/image32.wmf"/><Relationship Id="rId1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pter 2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ess Network Desig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51280" y="530280"/>
            <a:ext cx="1467000" cy="877680"/>
            <a:chOff x="3851280" y="530280"/>
            <a:chExt cx="1467000" cy="877680"/>
          </a:xfrm>
        </p:grpSpPr>
        <p:sp>
          <p:nvSpPr>
            <p:cNvPr id="44" name=""/>
            <p:cNvSpPr/>
            <p:nvPr/>
          </p:nvSpPr>
          <p:spPr>
            <a:xfrm>
              <a:off x="4357800" y="530280"/>
              <a:ext cx="631800" cy="355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02120" y="628560"/>
              <a:ext cx="479520" cy="354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51280" y="849240"/>
              <a:ext cx="318960" cy="284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48120" y="982800"/>
              <a:ext cx="488880" cy="30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303800" y="1035000"/>
              <a:ext cx="738000" cy="37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784760" y="636480"/>
              <a:ext cx="461880" cy="274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56040" y="822240"/>
              <a:ext cx="462240" cy="27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11760" y="885960"/>
              <a:ext cx="461880" cy="460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18040" y="743040"/>
              <a:ext cx="950760" cy="461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841920" y="512640"/>
            <a:ext cx="1466640" cy="878040"/>
            <a:chOff x="3841920" y="512640"/>
            <a:chExt cx="1466640" cy="878040"/>
          </a:xfrm>
        </p:grpSpPr>
        <p:sp>
          <p:nvSpPr>
            <p:cNvPr id="54" name=""/>
            <p:cNvSpPr/>
            <p:nvPr/>
          </p:nvSpPr>
          <p:spPr>
            <a:xfrm>
              <a:off x="4348080" y="512640"/>
              <a:ext cx="631800" cy="3542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92400" y="609480"/>
              <a:ext cx="481320" cy="355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41920" y="831960"/>
              <a:ext cx="320400" cy="284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40200" y="965160"/>
              <a:ext cx="488880" cy="309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95880" y="1017720"/>
              <a:ext cx="738000" cy="372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75040" y="619200"/>
              <a:ext cx="463680" cy="274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46680" y="804960"/>
              <a:ext cx="461880" cy="274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02040" y="866880"/>
              <a:ext cx="462240" cy="461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08320" y="725400"/>
              <a:ext cx="952560" cy="460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08320" y="838080"/>
            <a:ext cx="700200" cy="454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42040" y="838080"/>
            <a:ext cx="699840" cy="454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275000" y="1371600"/>
            <a:ext cx="700200" cy="453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243160" y="762120"/>
            <a:ext cx="992160" cy="620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977080" y="762120"/>
            <a:ext cx="992160" cy="620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148280" y="1752480"/>
            <a:ext cx="992160" cy="621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45760" y="93672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79320" y="93672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89320" y="190512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22640" y="814320"/>
            <a:ext cx="127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Network Topolog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ees with root connected to backbone n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oint with bus connected to backbone n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 with hub connected to backbone n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brid meshed configur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Networ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include data transport to backb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e capacity of total access networ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e capacity of each access devi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topology accommodat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cui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Networ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ss design focu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ort layer (some func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cations support functions fro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ssion lay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ation lay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 services lay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Lay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es entry points into networ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ical dev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ut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BX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cal point for standardiz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Lay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iz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itec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it switch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cket switch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ll switch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iz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al lin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itched data serv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de area network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atures/Fun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TE terminate da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CE pass through/modify da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cal Connectiv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ctated by network servi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-to-point circui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of med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isted pair (shielded/unshielded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xial cable (thick/thin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ber optic cable (multimode/single mod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cal Interfa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A 23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 pin cable, line speeds &lt; 20 Kb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A 44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7 pin cable, line speeds &lt; 10 Mb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.3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4 pin cable, line speeds &lt; 2 Mb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only used connecto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B-25, DB-37, M-34, RJ-45, RJ-1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tocols Characteristic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protocols are supported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acteristic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iosyncras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interfaces are being used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are protocols being supported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itch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dg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apsula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nnel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ed transparent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ted by networ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Port Utiliz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432320" cy="38224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3657600" y="3124080"/>
            <a:ext cx="2070000" cy="15368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4175280" y="3565440"/>
            <a:ext cx="115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0" y="4648320"/>
            <a:ext cx="983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3200400" y="2895480"/>
            <a:ext cx="515880" cy="505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572000" y="5181480"/>
            <a:ext cx="515880" cy="505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6019920" y="3657600"/>
            <a:ext cx="515880" cy="5047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6"/>
          <a:stretch/>
        </p:blipFill>
        <p:spPr>
          <a:xfrm>
            <a:off x="2971800" y="4495680"/>
            <a:ext cx="515880" cy="5050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7"/>
          <a:stretch/>
        </p:blipFill>
        <p:spPr>
          <a:xfrm>
            <a:off x="4572000" y="2362320"/>
            <a:ext cx="515880" cy="5047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211480" y="4800600"/>
            <a:ext cx="836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40080" y="3124080"/>
            <a:ext cx="836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00600" y="160020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478560" y="3886200"/>
            <a:ext cx="836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800600" y="563868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49520" y="1812960"/>
            <a:ext cx="2471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Data:   950 GB/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Ports: 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2040" y="5394240"/>
            <a:ext cx="25898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ily Aver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ilization/Port = 2.8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ak H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ilization/Port = 13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9040" y="3201840"/>
            <a:ext cx="379440" cy="15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00600" y="4573440"/>
            <a:ext cx="0" cy="6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430440" y="4344840"/>
            <a:ext cx="53208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0480" y="388620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00600" y="2820960"/>
            <a:ext cx="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Node Desig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146320" cy="1917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211480" y="274320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11480" y="312408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11480" y="342900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11480" y="373392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83280" y="3124080"/>
            <a:ext cx="1217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" y="4218120"/>
            <a:ext cx="287172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port of type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speed of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% utilization of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18960" y="2514600"/>
            <a:ext cx="1814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 Trunks,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83280" y="3505320"/>
            <a:ext cx="1217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99160" y="4278240"/>
            <a:ext cx="290052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 Tru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trunk of type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speed of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% utilization of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2880" y="5943600"/>
            <a:ext cx="2815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Relationshi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3429000" y="5867280"/>
                <a:ext cx="3898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1067760" y="2209680"/>
            <a:ext cx="170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Ports,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erarchical Desig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erarchical desig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 lay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ss lay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bone lay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sco desig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ss lay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tion lay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e lay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Node Trunk Failure Utilization Desig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146320" cy="19177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211480" y="274320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11480" y="312408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11480" y="342900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11480" y="373392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83280" y="3124080"/>
            <a:ext cx="1217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41640" y="2514600"/>
            <a:ext cx="18993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 Trunks, 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83280" y="3505320"/>
            <a:ext cx="1217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3760" y="4267080"/>
            <a:ext cx="4267800" cy="13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 Tru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f  = loading factor per tru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number of trunks of speed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maximum % loading of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2880" y="5943600"/>
            <a:ext cx="2815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Relationshi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9880" y="5562720"/>
                <a:ext cx="193536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1066680" y="2209680"/>
            <a:ext cx="146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83280" y="2743200"/>
            <a:ext cx="1217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33520" y="5181480"/>
                <a:ext cx="4251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erarchical vs. Ubiquitous Desig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s cost-efficient use of network med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eps performance from degrad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ects from broadcast stor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ows for hierarchical address schem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access control filters in rout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ses security administ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ses isolation and diagnosis of proble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2171880" cy="24969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248520" y="2057400"/>
            <a:ext cx="1485720" cy="16383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3505320" y="2057400"/>
            <a:ext cx="1485720" cy="1638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762120" y="1981080"/>
            <a:ext cx="1485720" cy="16383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biquitous Access using Hubs, Bridges or Switch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1295280" y="3200400"/>
            <a:ext cx="630360" cy="4017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4038480" y="3200400"/>
            <a:ext cx="630360" cy="4017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6705720" y="3276720"/>
            <a:ext cx="630000" cy="4014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8"/>
          <a:stretch/>
        </p:blipFill>
        <p:spPr>
          <a:xfrm>
            <a:off x="3886200" y="5638680"/>
            <a:ext cx="719280" cy="46836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762120" y="2362320"/>
            <a:ext cx="695160" cy="504720"/>
            <a:chOff x="762120" y="2362320"/>
            <a:chExt cx="695160" cy="504720"/>
          </a:xfrm>
        </p:grpSpPr>
        <p:pic>
          <p:nvPicPr>
            <p:cNvPr id="395" name="" descr=""/>
            <p:cNvPicPr/>
            <p:nvPr/>
          </p:nvPicPr>
          <p:blipFill>
            <a:blip r:embed="rId9"/>
            <a:stretch/>
          </p:blipFill>
          <p:spPr>
            <a:xfrm>
              <a:off x="762120" y="2362320"/>
              <a:ext cx="447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10"/>
            <a:stretch/>
          </p:blipFill>
          <p:spPr>
            <a:xfrm>
              <a:off x="885960" y="2476440"/>
              <a:ext cx="4474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11"/>
            <a:stretch/>
          </p:blipFill>
          <p:spPr>
            <a:xfrm>
              <a:off x="1009800" y="259236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"/>
          <p:cNvSpPr/>
          <p:nvPr/>
        </p:nvSpPr>
        <p:spPr>
          <a:xfrm>
            <a:off x="1523880" y="3511440"/>
            <a:ext cx="0" cy="2432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30360" y="5943600"/>
            <a:ext cx="2355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86600" y="3587760"/>
            <a:ext cx="0" cy="235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501800" y="5943600"/>
            <a:ext cx="2584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8480" y="3429000"/>
            <a:ext cx="106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38680" y="3435480"/>
            <a:ext cx="0" cy="227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501800" y="5715000"/>
            <a:ext cx="113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7680" y="2747880"/>
            <a:ext cx="300240" cy="4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447920" y="2362320"/>
            <a:ext cx="695160" cy="504720"/>
            <a:chOff x="1447920" y="2362320"/>
            <a:chExt cx="695160" cy="504720"/>
          </a:xfrm>
        </p:grpSpPr>
        <p:pic>
          <p:nvPicPr>
            <p:cNvPr id="407" name="" descr=""/>
            <p:cNvPicPr/>
            <p:nvPr/>
          </p:nvPicPr>
          <p:blipFill>
            <a:blip r:embed="rId12"/>
            <a:stretch/>
          </p:blipFill>
          <p:spPr>
            <a:xfrm>
              <a:off x="1447920" y="2362320"/>
              <a:ext cx="447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13"/>
            <a:stretch/>
          </p:blipFill>
          <p:spPr>
            <a:xfrm>
              <a:off x="1571760" y="2476440"/>
              <a:ext cx="4474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14"/>
            <a:stretch/>
          </p:blipFill>
          <p:spPr>
            <a:xfrm>
              <a:off x="1695600" y="259236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"/>
          <p:cNvSpPr/>
          <p:nvPr/>
        </p:nvSpPr>
        <p:spPr>
          <a:xfrm>
            <a:off x="1676520" y="2671920"/>
            <a:ext cx="0" cy="52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267080" y="2362320"/>
            <a:ext cx="695520" cy="504720"/>
            <a:chOff x="4267080" y="2362320"/>
            <a:chExt cx="695520" cy="504720"/>
          </a:xfrm>
        </p:grpSpPr>
        <p:pic>
          <p:nvPicPr>
            <p:cNvPr id="412" name="" descr=""/>
            <p:cNvPicPr/>
            <p:nvPr/>
          </p:nvPicPr>
          <p:blipFill>
            <a:blip r:embed="rId15"/>
            <a:stretch/>
          </p:blipFill>
          <p:spPr>
            <a:xfrm>
              <a:off x="4267080" y="2362320"/>
              <a:ext cx="44784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16"/>
            <a:stretch/>
          </p:blipFill>
          <p:spPr>
            <a:xfrm>
              <a:off x="4390920" y="2476440"/>
              <a:ext cx="447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17"/>
            <a:stretch/>
          </p:blipFill>
          <p:spPr>
            <a:xfrm>
              <a:off x="4514760" y="2592360"/>
              <a:ext cx="44784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5" name=""/>
          <p:cNvGrpSpPr/>
          <p:nvPr/>
        </p:nvGrpSpPr>
        <p:grpSpPr>
          <a:xfrm>
            <a:off x="3581280" y="2362320"/>
            <a:ext cx="695520" cy="504720"/>
            <a:chOff x="3581280" y="2362320"/>
            <a:chExt cx="695520" cy="504720"/>
          </a:xfrm>
        </p:grpSpPr>
        <p:pic>
          <p:nvPicPr>
            <p:cNvPr id="416" name="" descr=""/>
            <p:cNvPicPr/>
            <p:nvPr/>
          </p:nvPicPr>
          <p:blipFill>
            <a:blip r:embed="rId18"/>
            <a:stretch/>
          </p:blipFill>
          <p:spPr>
            <a:xfrm>
              <a:off x="3581280" y="2362320"/>
              <a:ext cx="44784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19"/>
            <a:stretch/>
          </p:blipFill>
          <p:spPr>
            <a:xfrm>
              <a:off x="3705120" y="2476440"/>
              <a:ext cx="447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20"/>
            <a:stretch/>
          </p:blipFill>
          <p:spPr>
            <a:xfrm>
              <a:off x="3828960" y="2592360"/>
              <a:ext cx="44784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"/>
          <p:cNvSpPr/>
          <p:nvPr/>
        </p:nvSpPr>
        <p:spPr>
          <a:xfrm>
            <a:off x="4114800" y="282420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0" y="2824200"/>
            <a:ext cx="0" cy="4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248520" y="2514600"/>
            <a:ext cx="695160" cy="504720"/>
            <a:chOff x="6248520" y="2514600"/>
            <a:chExt cx="695160" cy="504720"/>
          </a:xfrm>
        </p:grpSpPr>
        <p:pic>
          <p:nvPicPr>
            <p:cNvPr id="422" name="" descr=""/>
            <p:cNvPicPr/>
            <p:nvPr/>
          </p:nvPicPr>
          <p:blipFill>
            <a:blip r:embed="rId21"/>
            <a:stretch/>
          </p:blipFill>
          <p:spPr>
            <a:xfrm>
              <a:off x="6248520" y="2514600"/>
              <a:ext cx="447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22"/>
            <a:stretch/>
          </p:blipFill>
          <p:spPr>
            <a:xfrm>
              <a:off x="6372360" y="2629080"/>
              <a:ext cx="4474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23"/>
            <a:stretch/>
          </p:blipFill>
          <p:spPr>
            <a:xfrm>
              <a:off x="6496200" y="274464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"/>
          <p:cNvGrpSpPr/>
          <p:nvPr/>
        </p:nvGrpSpPr>
        <p:grpSpPr>
          <a:xfrm>
            <a:off x="7010280" y="2514600"/>
            <a:ext cx="695520" cy="504720"/>
            <a:chOff x="7010280" y="2514600"/>
            <a:chExt cx="695520" cy="504720"/>
          </a:xfrm>
        </p:grpSpPr>
        <p:pic>
          <p:nvPicPr>
            <p:cNvPr id="426" name="" descr=""/>
            <p:cNvPicPr/>
            <p:nvPr/>
          </p:nvPicPr>
          <p:blipFill>
            <a:blip r:embed="rId24"/>
            <a:stretch/>
          </p:blipFill>
          <p:spPr>
            <a:xfrm>
              <a:off x="7010280" y="2514600"/>
              <a:ext cx="44784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25"/>
            <a:stretch/>
          </p:blipFill>
          <p:spPr>
            <a:xfrm>
              <a:off x="7134120" y="2629080"/>
              <a:ext cx="447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26"/>
            <a:stretch/>
          </p:blipFill>
          <p:spPr>
            <a:xfrm>
              <a:off x="7257960" y="2744640"/>
              <a:ext cx="44784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9" name=""/>
          <p:cNvSpPr/>
          <p:nvPr/>
        </p:nvSpPr>
        <p:spPr>
          <a:xfrm>
            <a:off x="6781680" y="297648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2824200"/>
            <a:ext cx="0" cy="4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4343400" y="4648320"/>
            <a:ext cx="695160" cy="504720"/>
            <a:chOff x="4343400" y="4648320"/>
            <a:chExt cx="695160" cy="504720"/>
          </a:xfrm>
        </p:grpSpPr>
        <p:pic>
          <p:nvPicPr>
            <p:cNvPr id="432" name="" descr=""/>
            <p:cNvPicPr/>
            <p:nvPr/>
          </p:nvPicPr>
          <p:blipFill>
            <a:blip r:embed="rId27"/>
            <a:stretch/>
          </p:blipFill>
          <p:spPr>
            <a:xfrm>
              <a:off x="4343400" y="4648320"/>
              <a:ext cx="44784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28"/>
            <a:stretch/>
          </p:blipFill>
          <p:spPr>
            <a:xfrm>
              <a:off x="4467240" y="4762440"/>
              <a:ext cx="447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29"/>
            <a:stretch/>
          </p:blipFill>
          <p:spPr>
            <a:xfrm>
              <a:off x="4591080" y="487836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"/>
          <p:cNvGrpSpPr/>
          <p:nvPr/>
        </p:nvGrpSpPr>
        <p:grpSpPr>
          <a:xfrm>
            <a:off x="3505320" y="4191120"/>
            <a:ext cx="695160" cy="504720"/>
            <a:chOff x="3505320" y="4191120"/>
            <a:chExt cx="695160" cy="504720"/>
          </a:xfrm>
        </p:grpSpPr>
        <p:pic>
          <p:nvPicPr>
            <p:cNvPr id="436" name="" descr=""/>
            <p:cNvPicPr/>
            <p:nvPr/>
          </p:nvPicPr>
          <p:blipFill>
            <a:blip r:embed="rId30"/>
            <a:stretch/>
          </p:blipFill>
          <p:spPr>
            <a:xfrm>
              <a:off x="3505320" y="4191120"/>
              <a:ext cx="447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31"/>
            <a:stretch/>
          </p:blipFill>
          <p:spPr>
            <a:xfrm>
              <a:off x="3629160" y="4305240"/>
              <a:ext cx="4474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32"/>
            <a:stretch/>
          </p:blipFill>
          <p:spPr>
            <a:xfrm>
              <a:off x="3753000" y="442116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9" name=""/>
          <p:cNvGrpSpPr/>
          <p:nvPr/>
        </p:nvGrpSpPr>
        <p:grpSpPr>
          <a:xfrm>
            <a:off x="2971800" y="5257800"/>
            <a:ext cx="695160" cy="504720"/>
            <a:chOff x="2971800" y="5257800"/>
            <a:chExt cx="695160" cy="504720"/>
          </a:xfrm>
        </p:grpSpPr>
        <p:pic>
          <p:nvPicPr>
            <p:cNvPr id="440" name="" descr=""/>
            <p:cNvPicPr/>
            <p:nvPr/>
          </p:nvPicPr>
          <p:blipFill>
            <a:blip r:embed="rId33"/>
            <a:stretch/>
          </p:blipFill>
          <p:spPr>
            <a:xfrm>
              <a:off x="2971800" y="5257800"/>
              <a:ext cx="44784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" descr=""/>
            <p:cNvPicPr/>
            <p:nvPr/>
          </p:nvPicPr>
          <p:blipFill>
            <a:blip r:embed="rId34"/>
            <a:stretch/>
          </p:blipFill>
          <p:spPr>
            <a:xfrm>
              <a:off x="3095640" y="5372280"/>
              <a:ext cx="447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35"/>
            <a:stretch/>
          </p:blipFill>
          <p:spPr>
            <a:xfrm>
              <a:off x="3219480" y="548784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"/>
          <p:cNvSpPr/>
          <p:nvPr/>
        </p:nvSpPr>
        <p:spPr>
          <a:xfrm>
            <a:off x="4495680" y="4957920"/>
            <a:ext cx="0" cy="75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4653000"/>
            <a:ext cx="0" cy="9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510000" y="5719680"/>
            <a:ext cx="37620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90720" y="6232680"/>
            <a:ext cx="7230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reates a flat network =&gt; 1 Broadcast domain, multiple collis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dom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2171880" cy="24969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6248520" y="2057400"/>
            <a:ext cx="1485720" cy="163836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3505320" y="2057400"/>
            <a:ext cx="1485720" cy="1638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4"/>
          <a:stretch/>
        </p:blipFill>
        <p:spPr>
          <a:xfrm>
            <a:off x="762120" y="1981080"/>
            <a:ext cx="1485720" cy="16383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erarchical Access using Rout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62120" y="2362320"/>
            <a:ext cx="695160" cy="504720"/>
            <a:chOff x="762120" y="2362320"/>
            <a:chExt cx="695160" cy="504720"/>
          </a:xfrm>
        </p:grpSpPr>
        <p:pic>
          <p:nvPicPr>
            <p:cNvPr id="453" name="" descr=""/>
            <p:cNvPicPr/>
            <p:nvPr/>
          </p:nvPicPr>
          <p:blipFill>
            <a:blip r:embed="rId5"/>
            <a:stretch/>
          </p:blipFill>
          <p:spPr>
            <a:xfrm>
              <a:off x="762120" y="2362320"/>
              <a:ext cx="447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6"/>
            <a:stretch/>
          </p:blipFill>
          <p:spPr>
            <a:xfrm>
              <a:off x="885960" y="2476440"/>
              <a:ext cx="4474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7"/>
            <a:stretch/>
          </p:blipFill>
          <p:spPr>
            <a:xfrm>
              <a:off x="1009800" y="259236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"/>
          <p:cNvSpPr/>
          <p:nvPr/>
        </p:nvSpPr>
        <p:spPr>
          <a:xfrm>
            <a:off x="1523880" y="3511440"/>
            <a:ext cx="0" cy="2432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30360" y="5943600"/>
            <a:ext cx="2355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587760"/>
            <a:ext cx="0" cy="235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4501800" y="5943600"/>
            <a:ext cx="2584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8480" y="3429000"/>
            <a:ext cx="106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3435480"/>
            <a:ext cx="0" cy="227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4501800" y="5715000"/>
            <a:ext cx="113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24000" y="2824200"/>
            <a:ext cx="299880" cy="4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447920" y="2362320"/>
            <a:ext cx="695160" cy="504720"/>
            <a:chOff x="1447920" y="2362320"/>
            <a:chExt cx="695160" cy="504720"/>
          </a:xfrm>
        </p:grpSpPr>
        <p:pic>
          <p:nvPicPr>
            <p:cNvPr id="465" name="" descr=""/>
            <p:cNvPicPr/>
            <p:nvPr/>
          </p:nvPicPr>
          <p:blipFill>
            <a:blip r:embed="rId8"/>
            <a:stretch/>
          </p:blipFill>
          <p:spPr>
            <a:xfrm>
              <a:off x="1447920" y="2362320"/>
              <a:ext cx="447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9"/>
            <a:stretch/>
          </p:blipFill>
          <p:spPr>
            <a:xfrm>
              <a:off x="1571760" y="2476440"/>
              <a:ext cx="4474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10"/>
            <a:stretch/>
          </p:blipFill>
          <p:spPr>
            <a:xfrm>
              <a:off x="1695600" y="259236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"/>
          <p:cNvSpPr/>
          <p:nvPr/>
        </p:nvSpPr>
        <p:spPr>
          <a:xfrm>
            <a:off x="1676520" y="2671920"/>
            <a:ext cx="0" cy="52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4267080" y="2362320"/>
            <a:ext cx="695520" cy="504720"/>
            <a:chOff x="4267080" y="2362320"/>
            <a:chExt cx="695520" cy="504720"/>
          </a:xfrm>
        </p:grpSpPr>
        <p:pic>
          <p:nvPicPr>
            <p:cNvPr id="470" name="" descr=""/>
            <p:cNvPicPr/>
            <p:nvPr/>
          </p:nvPicPr>
          <p:blipFill>
            <a:blip r:embed="rId11"/>
            <a:stretch/>
          </p:blipFill>
          <p:spPr>
            <a:xfrm>
              <a:off x="4267080" y="2362320"/>
              <a:ext cx="44784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12"/>
            <a:stretch/>
          </p:blipFill>
          <p:spPr>
            <a:xfrm>
              <a:off x="4390920" y="2476440"/>
              <a:ext cx="447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13"/>
            <a:stretch/>
          </p:blipFill>
          <p:spPr>
            <a:xfrm>
              <a:off x="4514760" y="2592360"/>
              <a:ext cx="44784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"/>
          <p:cNvGrpSpPr/>
          <p:nvPr/>
        </p:nvGrpSpPr>
        <p:grpSpPr>
          <a:xfrm>
            <a:off x="3581280" y="2362320"/>
            <a:ext cx="695520" cy="504720"/>
            <a:chOff x="3581280" y="2362320"/>
            <a:chExt cx="695520" cy="504720"/>
          </a:xfrm>
        </p:grpSpPr>
        <p:pic>
          <p:nvPicPr>
            <p:cNvPr id="474" name="" descr=""/>
            <p:cNvPicPr/>
            <p:nvPr/>
          </p:nvPicPr>
          <p:blipFill>
            <a:blip r:embed="rId14"/>
            <a:stretch/>
          </p:blipFill>
          <p:spPr>
            <a:xfrm>
              <a:off x="3581280" y="2362320"/>
              <a:ext cx="44784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15"/>
            <a:stretch/>
          </p:blipFill>
          <p:spPr>
            <a:xfrm>
              <a:off x="3705120" y="2476440"/>
              <a:ext cx="447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16"/>
            <a:stretch/>
          </p:blipFill>
          <p:spPr>
            <a:xfrm>
              <a:off x="3828960" y="2592360"/>
              <a:ext cx="44784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"/>
          <p:cNvSpPr/>
          <p:nvPr/>
        </p:nvSpPr>
        <p:spPr>
          <a:xfrm>
            <a:off x="4114800" y="282420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0" y="2824200"/>
            <a:ext cx="0" cy="4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6248520" y="2514600"/>
            <a:ext cx="695160" cy="504720"/>
            <a:chOff x="6248520" y="2514600"/>
            <a:chExt cx="695160" cy="504720"/>
          </a:xfrm>
        </p:grpSpPr>
        <p:pic>
          <p:nvPicPr>
            <p:cNvPr id="480" name="" descr=""/>
            <p:cNvPicPr/>
            <p:nvPr/>
          </p:nvPicPr>
          <p:blipFill>
            <a:blip r:embed="rId17"/>
            <a:stretch/>
          </p:blipFill>
          <p:spPr>
            <a:xfrm>
              <a:off x="6248520" y="2514600"/>
              <a:ext cx="447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18"/>
            <a:stretch/>
          </p:blipFill>
          <p:spPr>
            <a:xfrm>
              <a:off x="6372360" y="2629080"/>
              <a:ext cx="4474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19"/>
            <a:stretch/>
          </p:blipFill>
          <p:spPr>
            <a:xfrm>
              <a:off x="6496200" y="274464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3" name=""/>
          <p:cNvGrpSpPr/>
          <p:nvPr/>
        </p:nvGrpSpPr>
        <p:grpSpPr>
          <a:xfrm>
            <a:off x="7010280" y="2514600"/>
            <a:ext cx="695520" cy="504720"/>
            <a:chOff x="7010280" y="2514600"/>
            <a:chExt cx="695520" cy="504720"/>
          </a:xfrm>
        </p:grpSpPr>
        <p:pic>
          <p:nvPicPr>
            <p:cNvPr id="484" name="" descr=""/>
            <p:cNvPicPr/>
            <p:nvPr/>
          </p:nvPicPr>
          <p:blipFill>
            <a:blip r:embed="rId20"/>
            <a:stretch/>
          </p:blipFill>
          <p:spPr>
            <a:xfrm>
              <a:off x="7010280" y="2514600"/>
              <a:ext cx="44784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21"/>
            <a:stretch/>
          </p:blipFill>
          <p:spPr>
            <a:xfrm>
              <a:off x="7134120" y="2629080"/>
              <a:ext cx="447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22"/>
            <a:stretch/>
          </p:blipFill>
          <p:spPr>
            <a:xfrm>
              <a:off x="7257960" y="2744640"/>
              <a:ext cx="44784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7" name=""/>
          <p:cNvSpPr/>
          <p:nvPr/>
        </p:nvSpPr>
        <p:spPr>
          <a:xfrm>
            <a:off x="6781680" y="297648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62920" y="2824200"/>
            <a:ext cx="0" cy="4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343400" y="4648320"/>
            <a:ext cx="695160" cy="504720"/>
            <a:chOff x="4343400" y="4648320"/>
            <a:chExt cx="695160" cy="504720"/>
          </a:xfrm>
        </p:grpSpPr>
        <p:pic>
          <p:nvPicPr>
            <p:cNvPr id="490" name="" descr=""/>
            <p:cNvPicPr/>
            <p:nvPr/>
          </p:nvPicPr>
          <p:blipFill>
            <a:blip r:embed="rId23"/>
            <a:stretch/>
          </p:blipFill>
          <p:spPr>
            <a:xfrm>
              <a:off x="4343400" y="4648320"/>
              <a:ext cx="44784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24"/>
            <a:stretch/>
          </p:blipFill>
          <p:spPr>
            <a:xfrm>
              <a:off x="4467240" y="4762440"/>
              <a:ext cx="447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25"/>
            <a:stretch/>
          </p:blipFill>
          <p:spPr>
            <a:xfrm>
              <a:off x="4591080" y="487836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3" name=""/>
          <p:cNvGrpSpPr/>
          <p:nvPr/>
        </p:nvGrpSpPr>
        <p:grpSpPr>
          <a:xfrm>
            <a:off x="3505320" y="4191120"/>
            <a:ext cx="695160" cy="504720"/>
            <a:chOff x="3505320" y="4191120"/>
            <a:chExt cx="695160" cy="504720"/>
          </a:xfrm>
        </p:grpSpPr>
        <p:pic>
          <p:nvPicPr>
            <p:cNvPr id="494" name="" descr=""/>
            <p:cNvPicPr/>
            <p:nvPr/>
          </p:nvPicPr>
          <p:blipFill>
            <a:blip r:embed="rId26"/>
            <a:stretch/>
          </p:blipFill>
          <p:spPr>
            <a:xfrm>
              <a:off x="3505320" y="4191120"/>
              <a:ext cx="447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27"/>
            <a:stretch/>
          </p:blipFill>
          <p:spPr>
            <a:xfrm>
              <a:off x="3629160" y="4305240"/>
              <a:ext cx="4474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28"/>
            <a:stretch/>
          </p:blipFill>
          <p:spPr>
            <a:xfrm>
              <a:off x="3753000" y="442116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"/>
          <p:cNvGrpSpPr/>
          <p:nvPr/>
        </p:nvGrpSpPr>
        <p:grpSpPr>
          <a:xfrm>
            <a:off x="2971800" y="5257800"/>
            <a:ext cx="695160" cy="504720"/>
            <a:chOff x="2971800" y="5257800"/>
            <a:chExt cx="695160" cy="504720"/>
          </a:xfrm>
        </p:grpSpPr>
        <p:pic>
          <p:nvPicPr>
            <p:cNvPr id="498" name="" descr=""/>
            <p:cNvPicPr/>
            <p:nvPr/>
          </p:nvPicPr>
          <p:blipFill>
            <a:blip r:embed="rId29"/>
            <a:stretch/>
          </p:blipFill>
          <p:spPr>
            <a:xfrm>
              <a:off x="2971800" y="5257800"/>
              <a:ext cx="44784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30"/>
            <a:stretch/>
          </p:blipFill>
          <p:spPr>
            <a:xfrm>
              <a:off x="3095640" y="5372280"/>
              <a:ext cx="447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" descr=""/>
            <p:cNvPicPr/>
            <p:nvPr/>
          </p:nvPicPr>
          <p:blipFill>
            <a:blip r:embed="rId31"/>
            <a:stretch/>
          </p:blipFill>
          <p:spPr>
            <a:xfrm>
              <a:off x="3219480" y="548784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"/>
          <p:cNvSpPr/>
          <p:nvPr/>
        </p:nvSpPr>
        <p:spPr>
          <a:xfrm>
            <a:off x="4495680" y="4957920"/>
            <a:ext cx="0" cy="75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4653000"/>
            <a:ext cx="0" cy="9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10000" y="5719680"/>
            <a:ext cx="37620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32"/>
          <a:stretch/>
        </p:blipFill>
        <p:spPr>
          <a:xfrm>
            <a:off x="3733920" y="5562720"/>
            <a:ext cx="952560" cy="495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3"/>
          <a:stretch/>
        </p:blipFill>
        <p:spPr>
          <a:xfrm>
            <a:off x="1219320" y="3124080"/>
            <a:ext cx="723960" cy="4543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4"/>
          <a:stretch/>
        </p:blipFill>
        <p:spPr>
          <a:xfrm>
            <a:off x="3962520" y="3124080"/>
            <a:ext cx="723960" cy="4543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5"/>
          <a:stretch/>
        </p:blipFill>
        <p:spPr>
          <a:xfrm>
            <a:off x="6705720" y="3200400"/>
            <a:ext cx="723960" cy="45396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1005840" y="6248520"/>
            <a:ext cx="738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reates multiple subnetworks =&gt; Multiple broadcast and collision dom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Circuit Desig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rtest pat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imum cos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imum conges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imum de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imum lo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ximum throughpu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st utiliz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imum hop cou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1200" y="1460520"/>
            <a:ext cx="8737560" cy="5308560"/>
          </a:xfrm>
          <a:prstGeom prst="ellipse">
            <a:avLst/>
          </a:prstGeom>
          <a:solidFill>
            <a:srgbClr val="a2c1f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Three Network Lay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1080" y="2376360"/>
            <a:ext cx="5537160" cy="3373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72400" y="5135400"/>
            <a:ext cx="182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00560" y="2916360"/>
            <a:ext cx="1473120" cy="81252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57440" y="3144960"/>
            <a:ext cx="1117800" cy="81252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02120" y="3664080"/>
            <a:ext cx="738000" cy="64440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32160" y="3975120"/>
            <a:ext cx="1138320" cy="70812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73480" y="4098960"/>
            <a:ext cx="1727280" cy="85392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08560" y="3165480"/>
            <a:ext cx="1076400" cy="62712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77040" y="3600360"/>
            <a:ext cx="1076040" cy="62712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72280" y="3746520"/>
            <a:ext cx="1076040" cy="106200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2120" y="3413160"/>
            <a:ext cx="2232000" cy="106200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78240" y="2874960"/>
            <a:ext cx="1476360" cy="81108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36920" y="3103560"/>
            <a:ext cx="1119240" cy="81108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79800" y="3622680"/>
            <a:ext cx="738000" cy="64620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1640" y="3932280"/>
            <a:ext cx="1139760" cy="70812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51160" y="4057560"/>
            <a:ext cx="1729080" cy="85428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89480" y="3124080"/>
            <a:ext cx="1073160" cy="62568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56160" y="3559320"/>
            <a:ext cx="1074960" cy="62676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51400" y="3703680"/>
            <a:ext cx="1074960" cy="106200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10160" y="3371760"/>
            <a:ext cx="2233440" cy="106200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4680" y="3997440"/>
            <a:ext cx="1402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8840" y="6049800"/>
            <a:ext cx="3128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(Application)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78080" y="2597040"/>
            <a:ext cx="755640" cy="1365480"/>
            <a:chOff x="1378080" y="2597040"/>
            <a:chExt cx="755640" cy="1365480"/>
          </a:xfrm>
        </p:grpSpPr>
        <p:sp>
          <p:nvSpPr>
            <p:cNvPr id="100" name=""/>
            <p:cNvSpPr/>
            <p:nvPr/>
          </p:nvSpPr>
          <p:spPr>
            <a:xfrm>
              <a:off x="1547640" y="2597040"/>
              <a:ext cx="0" cy="136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8080" y="272088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8080" y="291780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8080" y="317808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8080" y="344016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8080" y="370044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54120" y="3309840"/>
              <a:ext cx="57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78080" y="389736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899280" y="403704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407280" y="2057400"/>
            <a:ext cx="1720800" cy="1049400"/>
            <a:chOff x="6407280" y="2057400"/>
            <a:chExt cx="1720800" cy="1049400"/>
          </a:xfrm>
        </p:grpSpPr>
        <p:sp>
          <p:nvSpPr>
            <p:cNvPr id="110" name=""/>
            <p:cNvSpPr/>
            <p:nvPr/>
          </p:nvSpPr>
          <p:spPr>
            <a:xfrm>
              <a:off x="6407280" y="2597040"/>
              <a:ext cx="77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7099200" y="2057400"/>
              <a:ext cx="1028880" cy="104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1828800" y="4484520"/>
            <a:ext cx="458640" cy="1003320"/>
            <a:chOff x="1828800" y="4484520"/>
            <a:chExt cx="458640" cy="1003320"/>
          </a:xfrm>
        </p:grpSpPr>
        <p:sp>
          <p:nvSpPr>
            <p:cNvPr id="113" name=""/>
            <p:cNvSpPr/>
            <p:nvPr/>
          </p:nvSpPr>
          <p:spPr>
            <a:xfrm>
              <a:off x="2178000" y="4484520"/>
              <a:ext cx="106560" cy="968400"/>
            </a:xfrm>
            <a:custGeom>
              <a:avLst/>
              <a:gdLst/>
              <a:ahLst/>
              <a:rect l="l" t="t" r="r" b="b"/>
              <a:pathLst>
                <a:path w="67" h="610">
                  <a:moveTo>
                    <a:pt x="0" y="609"/>
                  </a:moveTo>
                  <a:lnTo>
                    <a:pt x="0" y="41"/>
                  </a:lnTo>
                  <a:lnTo>
                    <a:pt x="66" y="0"/>
                  </a:lnTo>
                  <a:lnTo>
                    <a:pt x="66" y="454"/>
                  </a:lnTo>
                  <a:lnTo>
                    <a:pt x="0" y="609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dcdcd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8800" y="4484520"/>
              <a:ext cx="458640" cy="65160"/>
            </a:xfrm>
            <a:custGeom>
              <a:avLst/>
              <a:gdLst/>
              <a:ahLst/>
              <a:rect l="l" t="t" r="r" b="b"/>
              <a:pathLst>
                <a:path w="289" h="41">
                  <a:moveTo>
                    <a:pt x="226" y="40"/>
                  </a:moveTo>
                  <a:lnTo>
                    <a:pt x="0" y="40"/>
                  </a:lnTo>
                  <a:lnTo>
                    <a:pt x="63" y="0"/>
                  </a:lnTo>
                  <a:lnTo>
                    <a:pt x="288" y="0"/>
                  </a:lnTo>
                  <a:lnTo>
                    <a:pt x="226" y="4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828800" y="4549680"/>
              <a:ext cx="351000" cy="903240"/>
              <a:chOff x="1828800" y="4549680"/>
              <a:chExt cx="351000" cy="903240"/>
            </a:xfrm>
          </p:grpSpPr>
          <p:sp>
            <p:nvSpPr>
              <p:cNvPr id="116" name=""/>
              <p:cNvSpPr/>
              <p:nvPr/>
            </p:nvSpPr>
            <p:spPr>
              <a:xfrm>
                <a:off x="1828800" y="4549680"/>
                <a:ext cx="347760" cy="892440"/>
              </a:xfrm>
              <a:custGeom>
                <a:avLst/>
                <a:gdLst/>
                <a:ahLst/>
                <a:rect l="l" t="t" r="r" b="b"/>
                <a:pathLst>
                  <a:path w="219" h="562">
                    <a:moveTo>
                      <a:pt x="218" y="0"/>
                    </a:moveTo>
                    <a:lnTo>
                      <a:pt x="0" y="0"/>
                    </a:lnTo>
                    <a:lnTo>
                      <a:pt x="0" y="561"/>
                    </a:lnTo>
                    <a:lnTo>
                      <a:pt x="218" y="561"/>
                    </a:lnTo>
                    <a:lnTo>
                      <a:pt x="218" y="0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ecec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28800" y="4549680"/>
                <a:ext cx="351000" cy="903240"/>
              </a:xfrm>
              <a:custGeom>
                <a:avLst/>
                <a:gdLst/>
                <a:ahLst/>
                <a:rect l="l" t="t" r="r" b="b"/>
                <a:pathLst>
                  <a:path w="221" h="569">
                    <a:moveTo>
                      <a:pt x="220" y="0"/>
                    </a:moveTo>
                    <a:lnTo>
                      <a:pt x="0" y="0"/>
                    </a:lnTo>
                    <a:lnTo>
                      <a:pt x="0" y="568"/>
                    </a:lnTo>
                    <a:lnTo>
                      <a:pt x="220" y="568"/>
                    </a:lnTo>
                    <a:lnTo>
                      <a:pt x="22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828800" y="4484520"/>
              <a:ext cx="455760" cy="66960"/>
            </a:xfrm>
            <a:custGeom>
              <a:avLst/>
              <a:gdLst/>
              <a:ahLst/>
              <a:rect l="l" t="t" r="r" b="b"/>
              <a:pathLst>
                <a:path w="287" h="42">
                  <a:moveTo>
                    <a:pt x="224" y="41"/>
                  </a:moveTo>
                  <a:lnTo>
                    <a:pt x="0" y="41"/>
                  </a:lnTo>
                  <a:lnTo>
                    <a:pt x="63" y="0"/>
                  </a:lnTo>
                  <a:lnTo>
                    <a:pt x="286" y="0"/>
                  </a:lnTo>
                  <a:lnTo>
                    <a:pt x="224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35280" y="4556160"/>
              <a:ext cx="336600" cy="87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35280" y="4732200"/>
              <a:ext cx="266400" cy="658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6560" y="4575240"/>
              <a:ext cx="96480" cy="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" rIns="14400" tIns="6480" bIns="6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80"/>
                  <a:tab algn="l" pos="38160"/>
                  <a:tab algn="l" pos="57240"/>
                  <a:tab algn="l" pos="76320"/>
                  <a:tab algn="l" pos="95400"/>
                  <a:tab algn="l" pos="114480"/>
                  <a:tab algn="l" pos="133200"/>
                  <a:tab algn="l" pos="152280"/>
                  <a:tab algn="l" pos="171360"/>
                  <a:tab algn="l" pos="190440"/>
                  <a:tab algn="l" pos="209520"/>
                  <a:tab algn="l" pos="228600"/>
                  <a:tab algn="l" pos="247680"/>
                  <a:tab algn="l" pos="266760"/>
                  <a:tab algn="l" pos="285840"/>
                  <a:tab algn="l" pos="304920"/>
                  <a:tab algn="l" pos="324000"/>
                  <a:tab algn="l" pos="343080"/>
                  <a:tab algn="l" pos="361800"/>
                  <a:tab algn="l" pos="38088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AT&amp;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17880" y="4556160"/>
              <a:ext cx="56880" cy="88092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7099fc"/>
                </a:gs>
                <a:gs pos="100000">
                  <a:srgbClr val="618ff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17880" y="4910040"/>
              <a:ext cx="6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873440" y="4587840"/>
              <a:ext cx="198720" cy="73080"/>
              <a:chOff x="1873440" y="4587840"/>
              <a:chExt cx="198720" cy="73080"/>
            </a:xfrm>
          </p:grpSpPr>
          <p:sp>
            <p:nvSpPr>
              <p:cNvPr id="125" name=""/>
              <p:cNvSpPr/>
              <p:nvPr/>
            </p:nvSpPr>
            <p:spPr>
              <a:xfrm>
                <a:off x="1873440" y="4587840"/>
                <a:ext cx="19296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23" y="1"/>
                    </a:moveTo>
                    <a:arcTo wR="10800" hR="10800" stAng="-5456352" swAng="530449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23" y="1"/>
                    </a:moveTo>
                    <a:arcTo wR="10800" hR="10800" stAng="-5456352" swAng="5304492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877400" y="4587840"/>
                <a:ext cx="19476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6" y="8506"/>
                    </a:moveTo>
                    <a:arcTo wR="10800" hR="10800" stAng="-10064114" swAng="46077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6" y="8506"/>
                    </a:moveTo>
                    <a:arcTo wR="10800" hR="10800" stAng="-10064114" swAng="4607762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 flipH="1">
              <a:off x="1837800" y="4616280"/>
              <a:ext cx="3492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069640" y="4616280"/>
              <a:ext cx="4140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926360" y="4616280"/>
              <a:ext cx="52560" cy="43920"/>
              <a:chOff x="1926360" y="4616280"/>
              <a:chExt cx="52560" cy="43920"/>
            </a:xfrm>
          </p:grpSpPr>
          <p:sp>
            <p:nvSpPr>
              <p:cNvPr id="130" name=""/>
              <p:cNvSpPr/>
              <p:nvPr/>
            </p:nvSpPr>
            <p:spPr>
              <a:xfrm>
                <a:off x="1926360" y="4616280"/>
                <a:ext cx="5256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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40400" y="4616280"/>
                <a:ext cx="3708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2178000" y="4484520"/>
              <a:ext cx="106560" cy="963720"/>
            </a:xfrm>
            <a:custGeom>
              <a:avLst/>
              <a:gdLst/>
              <a:ahLst/>
              <a:rect l="l" t="t" r="r" b="b"/>
              <a:pathLst>
                <a:path w="67" h="607">
                  <a:moveTo>
                    <a:pt x="0" y="606"/>
                  </a:moveTo>
                  <a:lnTo>
                    <a:pt x="0" y="41"/>
                  </a:lnTo>
                  <a:lnTo>
                    <a:pt x="66" y="0"/>
                  </a:lnTo>
                  <a:lnTo>
                    <a:pt x="66" y="450"/>
                  </a:lnTo>
                  <a:lnTo>
                    <a:pt x="0" y="60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47880" y="5440320"/>
              <a:ext cx="331920" cy="47520"/>
            </a:xfrm>
            <a:custGeom>
              <a:avLst/>
              <a:gdLst/>
              <a:ahLst/>
              <a:rect l="l" t="t" r="r" b="b"/>
              <a:pathLst>
                <a:path w="209" h="30">
                  <a:moveTo>
                    <a:pt x="0" y="0"/>
                  </a:moveTo>
                  <a:lnTo>
                    <a:pt x="208" y="0"/>
                  </a:lnTo>
                  <a:lnTo>
                    <a:pt x="208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8000" y="5203800"/>
              <a:ext cx="106560" cy="263520"/>
            </a:xfrm>
            <a:custGeom>
              <a:avLst/>
              <a:gdLst/>
              <a:ahLst/>
              <a:rect l="l" t="t" r="r" b="b"/>
              <a:pathLst>
                <a:path w="67" h="166">
                  <a:moveTo>
                    <a:pt x="0" y="150"/>
                  </a:moveTo>
                  <a:lnTo>
                    <a:pt x="66" y="0"/>
                  </a:lnTo>
                  <a:lnTo>
                    <a:pt x="66" y="7"/>
                  </a:lnTo>
                  <a:lnTo>
                    <a:pt x="0" y="165"/>
                  </a:lnTo>
                  <a:lnTo>
                    <a:pt x="0" y="15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584360" y="5560920"/>
            <a:ext cx="93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0120" y="3662280"/>
          <a:ext cx="1058760" cy="82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0120" y="3662280"/>
                    <a:ext cx="10587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377120" y="4494240"/>
            <a:ext cx="154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 S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2576520" y="2630520"/>
            <a:ext cx="876240" cy="530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6464160" y="5062680"/>
            <a:ext cx="693720" cy="682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3186000" y="4459320"/>
            <a:ext cx="876240" cy="530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654360" y="335268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5788080" y="3962520"/>
            <a:ext cx="576360" cy="568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4398840" y="3200400"/>
            <a:ext cx="169704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799160" y="1985760"/>
            <a:ext cx="809640" cy="1049040"/>
            <a:chOff x="4799160" y="1985760"/>
            <a:chExt cx="809640" cy="1049040"/>
          </a:xfrm>
        </p:grpSpPr>
        <p:sp>
          <p:nvSpPr>
            <p:cNvPr id="146" name=""/>
            <p:cNvSpPr/>
            <p:nvPr/>
          </p:nvSpPr>
          <p:spPr>
            <a:xfrm flipH="1" flipV="1">
              <a:off x="5184360" y="2491920"/>
              <a:ext cx="3240" cy="889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799160" y="2989080"/>
              <a:ext cx="29880" cy="457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854600" y="2911320"/>
              <a:ext cx="30240" cy="446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910040" y="2831760"/>
              <a:ext cx="28800" cy="442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962600" y="2754360"/>
              <a:ext cx="31680" cy="460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018040" y="2674800"/>
              <a:ext cx="31680" cy="460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073480" y="2597040"/>
              <a:ext cx="32040" cy="460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127480" y="2519280"/>
              <a:ext cx="33480" cy="446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194440" y="2533680"/>
              <a:ext cx="28440" cy="475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246640" y="2455920"/>
              <a:ext cx="31680" cy="460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302080" y="2378160"/>
              <a:ext cx="32040" cy="460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357880" y="2298600"/>
              <a:ext cx="31680" cy="460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413320" y="2220840"/>
              <a:ext cx="30240" cy="460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467320" y="2141640"/>
              <a:ext cx="31680" cy="460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522760" y="2063880"/>
              <a:ext cx="28800" cy="460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576760" y="1985760"/>
              <a:ext cx="32040" cy="457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968640" y="2139840"/>
            <a:ext cx="801720" cy="1054080"/>
            <a:chOff x="3968640" y="2139840"/>
            <a:chExt cx="801720" cy="1054080"/>
          </a:xfrm>
        </p:grpSpPr>
        <p:sp>
          <p:nvSpPr>
            <p:cNvPr id="163" name=""/>
            <p:cNvSpPr/>
            <p:nvPr/>
          </p:nvSpPr>
          <p:spPr>
            <a:xfrm>
              <a:off x="4305240" y="2638440"/>
              <a:ext cx="87480" cy="936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68640" y="2139840"/>
              <a:ext cx="34920" cy="428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30560" y="2214720"/>
              <a:ext cx="33480" cy="410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2480" y="2287440"/>
              <a:ext cx="33480" cy="414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52960" y="2359080"/>
              <a:ext cx="34920" cy="428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14880" y="2432160"/>
              <a:ext cx="34920" cy="442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76800" y="2506680"/>
              <a:ext cx="33120" cy="428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38720" y="2579760"/>
              <a:ext cx="33120" cy="442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05240" y="2638440"/>
              <a:ext cx="36720" cy="414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67160" y="2709720"/>
              <a:ext cx="34920" cy="446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9080" y="2784600"/>
              <a:ext cx="33480" cy="428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91000" y="2857680"/>
              <a:ext cx="34920" cy="442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1480" y="2932200"/>
              <a:ext cx="34920" cy="428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14840" y="3005280"/>
              <a:ext cx="33480" cy="428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75320" y="3078000"/>
              <a:ext cx="34920" cy="414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35440" y="3151080"/>
              <a:ext cx="34920" cy="428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H="1">
            <a:off x="1149120" y="3664080"/>
            <a:ext cx="1212840" cy="90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erarchical Network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12800" y="5499000"/>
            <a:ext cx="1803600" cy="1041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80760" y="5532480"/>
            <a:ext cx="1393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ICE ISSU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ueing 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ting 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98800" y="5499000"/>
            <a:ext cx="1650960" cy="1041480"/>
          </a:xfrm>
          <a:prstGeom prst="rect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69640" y="5532480"/>
            <a:ext cx="16588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FACILITY ISSU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rial Line Over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opagation 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rror 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ine Turn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13400" y="5499000"/>
            <a:ext cx="1879560" cy="1041480"/>
          </a:xfrm>
          <a:prstGeom prst="rect">
            <a:avLst/>
          </a:prstGeom>
          <a:solidFill>
            <a:srgbClr val="a2c1fe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83520" y="5532480"/>
            <a:ext cx="18856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ERATIONAL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dal 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l Setup 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51560" y="3322800"/>
            <a:ext cx="1090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ulti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2946240" cy="2641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352680" y="2830680"/>
            <a:ext cx="1727280" cy="1563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V="1">
            <a:off x="5794200" y="2669760"/>
            <a:ext cx="1136880" cy="83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40440" y="2673360"/>
            <a:ext cx="984240" cy="98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787800" y="3664080"/>
            <a:ext cx="1136520" cy="83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7440" y="3511440"/>
            <a:ext cx="1060560" cy="106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788160" y="2673360"/>
            <a:ext cx="146160" cy="1822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97440" y="3511440"/>
            <a:ext cx="212724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73360" y="3505320"/>
            <a:ext cx="1441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803840" y="4041720"/>
            <a:ext cx="1365120" cy="144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727520" y="3660840"/>
            <a:ext cx="69840" cy="1822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126960" y="3660840"/>
            <a:ext cx="1670040" cy="1822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514600" y="3889080"/>
            <a:ext cx="0" cy="159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937200" y="4650840"/>
            <a:ext cx="222480" cy="831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298520" y="1905120"/>
            <a:ext cx="909720" cy="8967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911240" y="2673360"/>
            <a:ext cx="374760" cy="7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4121280"/>
            <a:ext cx="0" cy="136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20880" y="4267080"/>
            <a:ext cx="22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0880" y="4724280"/>
            <a:ext cx="22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0880" y="5334120"/>
            <a:ext cx="22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1023840" y="1600200"/>
            <a:ext cx="698760" cy="596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414360" y="3886200"/>
            <a:ext cx="698400" cy="596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1994040" y="1752480"/>
            <a:ext cx="515880" cy="520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469800" y="4419720"/>
            <a:ext cx="515880" cy="52056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990720" y="2286000"/>
            <a:ext cx="458640" cy="839880"/>
            <a:chOff x="990720" y="2286000"/>
            <a:chExt cx="458640" cy="839880"/>
          </a:xfrm>
        </p:grpSpPr>
        <p:sp>
          <p:nvSpPr>
            <p:cNvPr id="213" name=""/>
            <p:cNvSpPr/>
            <p:nvPr/>
          </p:nvSpPr>
          <p:spPr>
            <a:xfrm>
              <a:off x="1339920" y="2286000"/>
              <a:ext cx="106200" cy="811080"/>
            </a:xfrm>
            <a:custGeom>
              <a:avLst/>
              <a:gdLst/>
              <a:ahLst/>
              <a:rect l="l" t="t" r="r" b="b"/>
              <a:pathLst>
                <a:path w="67" h="511">
                  <a:moveTo>
                    <a:pt x="0" y="510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66" y="380"/>
                  </a:lnTo>
                  <a:lnTo>
                    <a:pt x="0" y="51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dcdcd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90720" y="2286000"/>
              <a:ext cx="458640" cy="54000"/>
            </a:xfrm>
            <a:custGeom>
              <a:avLst/>
              <a:gdLst/>
              <a:ahLst/>
              <a:rect l="l" t="t" r="r" b="b"/>
              <a:pathLst>
                <a:path w="289" h="34">
                  <a:moveTo>
                    <a:pt x="226" y="33"/>
                  </a:moveTo>
                  <a:lnTo>
                    <a:pt x="0" y="33"/>
                  </a:lnTo>
                  <a:lnTo>
                    <a:pt x="63" y="0"/>
                  </a:lnTo>
                  <a:lnTo>
                    <a:pt x="288" y="0"/>
                  </a:lnTo>
                  <a:lnTo>
                    <a:pt x="226" y="3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990720" y="2340000"/>
              <a:ext cx="350640" cy="757080"/>
              <a:chOff x="990720" y="2340000"/>
              <a:chExt cx="350640" cy="757080"/>
            </a:xfrm>
          </p:grpSpPr>
          <p:sp>
            <p:nvSpPr>
              <p:cNvPr id="216" name=""/>
              <p:cNvSpPr/>
              <p:nvPr/>
            </p:nvSpPr>
            <p:spPr>
              <a:xfrm>
                <a:off x="990720" y="2340000"/>
                <a:ext cx="347400" cy="747720"/>
              </a:xfrm>
              <a:custGeom>
                <a:avLst/>
                <a:gdLst/>
                <a:ahLst/>
                <a:rect l="l" t="t" r="r" b="b"/>
                <a:pathLst>
                  <a:path w="219" h="471">
                    <a:moveTo>
                      <a:pt x="218" y="0"/>
                    </a:moveTo>
                    <a:lnTo>
                      <a:pt x="0" y="0"/>
                    </a:lnTo>
                    <a:lnTo>
                      <a:pt x="0" y="470"/>
                    </a:lnTo>
                    <a:lnTo>
                      <a:pt x="218" y="470"/>
                    </a:lnTo>
                    <a:lnTo>
                      <a:pt x="218" y="0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ecec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990720" y="2340000"/>
                <a:ext cx="350640" cy="757080"/>
              </a:xfrm>
              <a:custGeom>
                <a:avLst/>
                <a:gdLst/>
                <a:ahLst/>
                <a:rect l="l" t="t" r="r" b="b"/>
                <a:pathLst>
                  <a:path w="221" h="477">
                    <a:moveTo>
                      <a:pt x="220" y="0"/>
                    </a:moveTo>
                    <a:lnTo>
                      <a:pt x="0" y="0"/>
                    </a:lnTo>
                    <a:lnTo>
                      <a:pt x="0" y="476"/>
                    </a:lnTo>
                    <a:lnTo>
                      <a:pt x="220" y="476"/>
                    </a:lnTo>
                    <a:lnTo>
                      <a:pt x="22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990720" y="2286000"/>
              <a:ext cx="455400" cy="55440"/>
            </a:xfrm>
            <a:custGeom>
              <a:avLst/>
              <a:gdLst/>
              <a:ahLst/>
              <a:rect l="l" t="t" r="r" b="b"/>
              <a:pathLst>
                <a:path w="287" h="35">
                  <a:moveTo>
                    <a:pt x="224" y="34"/>
                  </a:moveTo>
                  <a:lnTo>
                    <a:pt x="0" y="34"/>
                  </a:lnTo>
                  <a:lnTo>
                    <a:pt x="63" y="0"/>
                  </a:lnTo>
                  <a:lnTo>
                    <a:pt x="286" y="0"/>
                  </a:lnTo>
                  <a:lnTo>
                    <a:pt x="224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96840" y="2346480"/>
              <a:ext cx="336600" cy="733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6840" y="2494080"/>
              <a:ext cx="266760" cy="5490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8480" y="2362320"/>
              <a:ext cx="96480" cy="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" rIns="14400" tIns="6480" bIns="6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80"/>
                  <a:tab algn="l" pos="38160"/>
                  <a:tab algn="l" pos="57240"/>
                  <a:tab algn="l" pos="76320"/>
                  <a:tab algn="l" pos="95400"/>
                  <a:tab algn="l" pos="114480"/>
                  <a:tab algn="l" pos="133200"/>
                  <a:tab algn="l" pos="152280"/>
                  <a:tab algn="l" pos="171360"/>
                  <a:tab algn="l" pos="190440"/>
                  <a:tab algn="l" pos="209520"/>
                  <a:tab algn="l" pos="228600"/>
                  <a:tab algn="l" pos="247680"/>
                  <a:tab algn="l" pos="266760"/>
                  <a:tab algn="l" pos="285840"/>
                  <a:tab algn="l" pos="304920"/>
                  <a:tab algn="l" pos="324000"/>
                  <a:tab algn="l" pos="343080"/>
                  <a:tab algn="l" pos="361800"/>
                  <a:tab algn="l" pos="38088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AT&amp;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79440" y="2346480"/>
              <a:ext cx="57240" cy="73476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7099fc"/>
                </a:gs>
                <a:gs pos="100000">
                  <a:srgbClr val="618ff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79440" y="2641680"/>
              <a:ext cx="6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036440" y="2373480"/>
              <a:ext cx="196920" cy="62640"/>
              <a:chOff x="1036440" y="2373480"/>
              <a:chExt cx="196920" cy="62640"/>
            </a:xfrm>
          </p:grpSpPr>
          <p:sp>
            <p:nvSpPr>
              <p:cNvPr id="225" name=""/>
              <p:cNvSpPr/>
              <p:nvPr/>
            </p:nvSpPr>
            <p:spPr>
              <a:xfrm>
                <a:off x="1036440" y="2373480"/>
                <a:ext cx="193680" cy="6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23" y="1"/>
                    </a:moveTo>
                    <a:arcTo wR="10800" hR="10800" stAng="-5456352" swAng="52817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23" y="1"/>
                    </a:moveTo>
                    <a:arcTo wR="10800" hR="10800" stAng="-5456352" swAng="5281750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039680" y="2374920"/>
                <a:ext cx="193680" cy="6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39" y="8540"/>
                    </a:moveTo>
                    <a:arcTo wR="10800" hR="10800" stAng="-10075139" swAng="46187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39" y="8540"/>
                    </a:moveTo>
                    <a:arcTo wR="10800" hR="10800" stAng="-10075139" swAng="4618787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 flipH="1">
              <a:off x="999720" y="2395440"/>
              <a:ext cx="3492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231560" y="2395440"/>
              <a:ext cx="4140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088280" y="2395440"/>
              <a:ext cx="52560" cy="43920"/>
              <a:chOff x="1088280" y="2395440"/>
              <a:chExt cx="52560" cy="43920"/>
            </a:xfrm>
          </p:grpSpPr>
          <p:sp>
            <p:nvSpPr>
              <p:cNvPr id="230" name=""/>
              <p:cNvSpPr/>
              <p:nvPr/>
            </p:nvSpPr>
            <p:spPr>
              <a:xfrm>
                <a:off x="1088280" y="2395440"/>
                <a:ext cx="5256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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02320" y="2395440"/>
                <a:ext cx="3708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339920" y="2286000"/>
              <a:ext cx="106200" cy="806400"/>
            </a:xfrm>
            <a:custGeom>
              <a:avLst/>
              <a:gdLst/>
              <a:ahLst/>
              <a:rect l="l" t="t" r="r" b="b"/>
              <a:pathLst>
                <a:path w="67" h="508">
                  <a:moveTo>
                    <a:pt x="0" y="507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66" y="377"/>
                  </a:lnTo>
                  <a:lnTo>
                    <a:pt x="0" y="5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09800" y="3086280"/>
              <a:ext cx="331560" cy="39600"/>
            </a:xfrm>
            <a:custGeom>
              <a:avLst/>
              <a:gdLst/>
              <a:ahLst/>
              <a:rect l="l" t="t" r="r" b="b"/>
              <a:pathLst>
                <a:path w="209" h="25">
                  <a:moveTo>
                    <a:pt x="0" y="0"/>
                  </a:moveTo>
                  <a:lnTo>
                    <a:pt x="208" y="0"/>
                  </a:lnTo>
                  <a:lnTo>
                    <a:pt x="208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39920" y="2887560"/>
              <a:ext cx="106200" cy="220680"/>
            </a:xfrm>
            <a:custGeom>
              <a:avLst/>
              <a:gdLst/>
              <a:ahLst/>
              <a:rect l="l" t="t" r="r" b="b"/>
              <a:pathLst>
                <a:path w="67" h="139">
                  <a:moveTo>
                    <a:pt x="0" y="125"/>
                  </a:moveTo>
                  <a:lnTo>
                    <a:pt x="66" y="0"/>
                  </a:lnTo>
                  <a:lnTo>
                    <a:pt x="66" y="6"/>
                  </a:lnTo>
                  <a:lnTo>
                    <a:pt x="0" y="138"/>
                  </a:lnTo>
                  <a:lnTo>
                    <a:pt x="0" y="125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33520" y="4952880"/>
            <a:ext cx="458640" cy="839880"/>
            <a:chOff x="533520" y="4952880"/>
            <a:chExt cx="458640" cy="839880"/>
          </a:xfrm>
        </p:grpSpPr>
        <p:sp>
          <p:nvSpPr>
            <p:cNvPr id="236" name=""/>
            <p:cNvSpPr/>
            <p:nvPr/>
          </p:nvSpPr>
          <p:spPr>
            <a:xfrm>
              <a:off x="882720" y="4952880"/>
              <a:ext cx="106200" cy="811440"/>
            </a:xfrm>
            <a:custGeom>
              <a:avLst/>
              <a:gdLst/>
              <a:ahLst/>
              <a:rect l="l" t="t" r="r" b="b"/>
              <a:pathLst>
                <a:path w="67" h="511">
                  <a:moveTo>
                    <a:pt x="0" y="510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66" y="380"/>
                  </a:lnTo>
                  <a:lnTo>
                    <a:pt x="0" y="51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dcdcd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3520" y="4952880"/>
              <a:ext cx="458640" cy="54000"/>
            </a:xfrm>
            <a:custGeom>
              <a:avLst/>
              <a:gdLst/>
              <a:ahLst/>
              <a:rect l="l" t="t" r="r" b="b"/>
              <a:pathLst>
                <a:path w="289" h="34">
                  <a:moveTo>
                    <a:pt x="226" y="33"/>
                  </a:moveTo>
                  <a:lnTo>
                    <a:pt x="0" y="33"/>
                  </a:lnTo>
                  <a:lnTo>
                    <a:pt x="63" y="0"/>
                  </a:lnTo>
                  <a:lnTo>
                    <a:pt x="288" y="0"/>
                  </a:lnTo>
                  <a:lnTo>
                    <a:pt x="226" y="3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533520" y="5006880"/>
              <a:ext cx="350640" cy="757440"/>
              <a:chOff x="533520" y="5006880"/>
              <a:chExt cx="350640" cy="757440"/>
            </a:xfrm>
          </p:grpSpPr>
          <p:sp>
            <p:nvSpPr>
              <p:cNvPr id="239" name=""/>
              <p:cNvSpPr/>
              <p:nvPr/>
            </p:nvSpPr>
            <p:spPr>
              <a:xfrm>
                <a:off x="533520" y="5006880"/>
                <a:ext cx="347400" cy="747720"/>
              </a:xfrm>
              <a:custGeom>
                <a:avLst/>
                <a:gdLst/>
                <a:ahLst/>
                <a:rect l="l" t="t" r="r" b="b"/>
                <a:pathLst>
                  <a:path w="219" h="471">
                    <a:moveTo>
                      <a:pt x="218" y="0"/>
                    </a:moveTo>
                    <a:lnTo>
                      <a:pt x="0" y="0"/>
                    </a:lnTo>
                    <a:lnTo>
                      <a:pt x="0" y="470"/>
                    </a:lnTo>
                    <a:lnTo>
                      <a:pt x="218" y="470"/>
                    </a:lnTo>
                    <a:lnTo>
                      <a:pt x="218" y="0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ecec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3520" y="5006880"/>
                <a:ext cx="350640" cy="757440"/>
              </a:xfrm>
              <a:custGeom>
                <a:avLst/>
                <a:gdLst/>
                <a:ahLst/>
                <a:rect l="l" t="t" r="r" b="b"/>
                <a:pathLst>
                  <a:path w="221" h="477">
                    <a:moveTo>
                      <a:pt x="220" y="0"/>
                    </a:moveTo>
                    <a:lnTo>
                      <a:pt x="0" y="0"/>
                    </a:lnTo>
                    <a:lnTo>
                      <a:pt x="0" y="476"/>
                    </a:lnTo>
                    <a:lnTo>
                      <a:pt x="220" y="476"/>
                    </a:lnTo>
                    <a:lnTo>
                      <a:pt x="22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533520" y="4952880"/>
              <a:ext cx="455400" cy="55800"/>
            </a:xfrm>
            <a:custGeom>
              <a:avLst/>
              <a:gdLst/>
              <a:ahLst/>
              <a:rect l="l" t="t" r="r" b="b"/>
              <a:pathLst>
                <a:path w="287" h="35">
                  <a:moveTo>
                    <a:pt x="224" y="34"/>
                  </a:moveTo>
                  <a:lnTo>
                    <a:pt x="0" y="34"/>
                  </a:lnTo>
                  <a:lnTo>
                    <a:pt x="63" y="0"/>
                  </a:lnTo>
                  <a:lnTo>
                    <a:pt x="286" y="0"/>
                  </a:lnTo>
                  <a:lnTo>
                    <a:pt x="224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9640" y="5013360"/>
              <a:ext cx="336600" cy="733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9640" y="5160960"/>
              <a:ext cx="266760" cy="5493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1280" y="5029200"/>
              <a:ext cx="96480" cy="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" rIns="14400" tIns="6480" bIns="6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80"/>
                  <a:tab algn="l" pos="38160"/>
                  <a:tab algn="l" pos="57240"/>
                  <a:tab algn="l" pos="76320"/>
                  <a:tab algn="l" pos="95400"/>
                  <a:tab algn="l" pos="114480"/>
                  <a:tab algn="l" pos="133200"/>
                  <a:tab algn="l" pos="152280"/>
                  <a:tab algn="l" pos="171360"/>
                  <a:tab algn="l" pos="190440"/>
                  <a:tab algn="l" pos="209520"/>
                  <a:tab algn="l" pos="228600"/>
                  <a:tab algn="l" pos="247680"/>
                  <a:tab algn="l" pos="266760"/>
                  <a:tab algn="l" pos="285840"/>
                  <a:tab algn="l" pos="304920"/>
                  <a:tab algn="l" pos="324000"/>
                  <a:tab algn="l" pos="343080"/>
                  <a:tab algn="l" pos="361800"/>
                  <a:tab algn="l" pos="38088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AT&amp;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2240" y="5013360"/>
              <a:ext cx="57240" cy="73512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7099fc"/>
                </a:gs>
                <a:gs pos="100000">
                  <a:srgbClr val="618ff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2240" y="5308560"/>
              <a:ext cx="6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579240" y="5040360"/>
              <a:ext cx="196920" cy="62640"/>
              <a:chOff x="579240" y="5040360"/>
              <a:chExt cx="196920" cy="62640"/>
            </a:xfrm>
          </p:grpSpPr>
          <p:sp>
            <p:nvSpPr>
              <p:cNvPr id="248" name=""/>
              <p:cNvSpPr/>
              <p:nvPr/>
            </p:nvSpPr>
            <p:spPr>
              <a:xfrm>
                <a:off x="579240" y="5040360"/>
                <a:ext cx="193680" cy="6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23" y="1"/>
                    </a:moveTo>
                    <a:arcTo wR="10800" hR="10800" stAng="-5456352" swAng="52817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23" y="1"/>
                    </a:moveTo>
                    <a:arcTo wR="10800" hR="10800" stAng="-5456352" swAng="5281750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2480" y="5041800"/>
                <a:ext cx="193680" cy="6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39" y="8540"/>
                    </a:moveTo>
                    <a:arcTo wR="10800" hR="10800" stAng="-10075139" swAng="46187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39" y="8540"/>
                    </a:moveTo>
                    <a:arcTo wR="10800" hR="10800" stAng="-10075139" swAng="4618787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 flipH="1">
              <a:off x="542520" y="5062680"/>
              <a:ext cx="3492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74360" y="5062680"/>
              <a:ext cx="4140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631080" y="5062680"/>
              <a:ext cx="52560" cy="43920"/>
              <a:chOff x="631080" y="5062680"/>
              <a:chExt cx="52560" cy="43920"/>
            </a:xfrm>
          </p:grpSpPr>
          <p:sp>
            <p:nvSpPr>
              <p:cNvPr id="253" name=""/>
              <p:cNvSpPr/>
              <p:nvPr/>
            </p:nvSpPr>
            <p:spPr>
              <a:xfrm>
                <a:off x="631080" y="5062680"/>
                <a:ext cx="5256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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45120" y="5062680"/>
                <a:ext cx="3708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882720" y="4952880"/>
              <a:ext cx="106200" cy="806400"/>
            </a:xfrm>
            <a:custGeom>
              <a:avLst/>
              <a:gdLst/>
              <a:ahLst/>
              <a:rect l="l" t="t" r="r" b="b"/>
              <a:pathLst>
                <a:path w="67" h="508">
                  <a:moveTo>
                    <a:pt x="0" y="507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66" y="377"/>
                  </a:lnTo>
                  <a:lnTo>
                    <a:pt x="0" y="5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2600" y="5753160"/>
              <a:ext cx="331560" cy="39600"/>
            </a:xfrm>
            <a:custGeom>
              <a:avLst/>
              <a:gdLst/>
              <a:ahLst/>
              <a:rect l="l" t="t" r="r" b="b"/>
              <a:pathLst>
                <a:path w="209" h="25">
                  <a:moveTo>
                    <a:pt x="0" y="0"/>
                  </a:moveTo>
                  <a:lnTo>
                    <a:pt x="208" y="0"/>
                  </a:lnTo>
                  <a:lnTo>
                    <a:pt x="208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82720" y="5554800"/>
              <a:ext cx="106200" cy="220680"/>
            </a:xfrm>
            <a:custGeom>
              <a:avLst/>
              <a:gdLst/>
              <a:ahLst/>
              <a:rect l="l" t="t" r="r" b="b"/>
              <a:pathLst>
                <a:path w="67" h="139">
                  <a:moveTo>
                    <a:pt x="0" y="125"/>
                  </a:moveTo>
                  <a:lnTo>
                    <a:pt x="66" y="0"/>
                  </a:lnTo>
                  <a:lnTo>
                    <a:pt x="66" y="6"/>
                  </a:lnTo>
                  <a:lnTo>
                    <a:pt x="0" y="138"/>
                  </a:lnTo>
                  <a:lnTo>
                    <a:pt x="0" y="125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743760" y="1317600"/>
            <a:ext cx="1760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800" y="2612880"/>
            <a:ext cx="887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41080" y="1851120"/>
            <a:ext cx="1786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bone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mmon Carri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0"/>
          <a:stretch/>
        </p:blipFill>
        <p:spPr>
          <a:xfrm>
            <a:off x="6550200" y="4191120"/>
            <a:ext cx="576000" cy="568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1"/>
          <a:stretch/>
        </p:blipFill>
        <p:spPr>
          <a:xfrm>
            <a:off x="6626160" y="243828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2"/>
          <a:stretch/>
        </p:blipFill>
        <p:spPr>
          <a:xfrm>
            <a:off x="7693200" y="3352680"/>
            <a:ext cx="576000" cy="568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3"/>
          <a:stretch/>
        </p:blipFill>
        <p:spPr>
          <a:xfrm>
            <a:off x="5483160" y="3200400"/>
            <a:ext cx="576360" cy="5684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121280" y="3505320"/>
            <a:ext cx="13651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041720" y="3050640"/>
            <a:ext cx="527040" cy="374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4"/>
          <a:stretch/>
        </p:blipFill>
        <p:spPr>
          <a:xfrm>
            <a:off x="4406760" y="2776680"/>
            <a:ext cx="693720" cy="6825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5"/>
          <a:stretch/>
        </p:blipFill>
        <p:spPr>
          <a:xfrm>
            <a:off x="3589200" y="3276720"/>
            <a:ext cx="804960" cy="519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6"/>
          <a:stretch/>
        </p:blipFill>
        <p:spPr>
          <a:xfrm>
            <a:off x="2141640" y="3257640"/>
            <a:ext cx="957240" cy="614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7"/>
          <a:stretch/>
        </p:blipFill>
        <p:spPr>
          <a:xfrm>
            <a:off x="3581280" y="1623960"/>
            <a:ext cx="776520" cy="963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8"/>
          <a:stretch/>
        </p:blipFill>
        <p:spPr>
          <a:xfrm>
            <a:off x="5029200" y="1541520"/>
            <a:ext cx="10494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r Lay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ysical interfa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stations and Serv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ial adapt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ernet adapt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ken ring adapt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nt End Processo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w if any network serv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r Lay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versity of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itec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 layer standar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gn based on protoc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access da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transport data across networ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session-orien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119640" y="5403960"/>
            <a:ext cx="2305080" cy="160200"/>
          </a:xfrm>
          <a:custGeom>
            <a:avLst/>
            <a:gdLst/>
            <a:ahLst/>
            <a:rect l="l" t="t" r="r" b="b"/>
            <a:pathLst>
              <a:path w="1452" h="101">
                <a:moveTo>
                  <a:pt x="0" y="0"/>
                </a:moveTo>
                <a:lnTo>
                  <a:pt x="744" y="0"/>
                </a:lnTo>
                <a:lnTo>
                  <a:pt x="664" y="100"/>
                </a:lnTo>
                <a:lnTo>
                  <a:pt x="1451" y="100"/>
                </a:lnTo>
              </a:path>
            </a:pathLst>
          </a:custGeom>
          <a:noFill/>
          <a:ln cap="rnd" w="25560">
            <a:solidFill>
              <a:srgbClr val="ff2a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41600" y="2832120"/>
            <a:ext cx="3784680" cy="142236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r Access Wir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808200" y="2847960"/>
            <a:ext cx="1307880" cy="13176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987560" y="3816360"/>
            <a:ext cx="13968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2368440"/>
            <a:ext cx="0" cy="1746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78280" y="3816360"/>
            <a:ext cx="13968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9840" y="3886200"/>
            <a:ext cx="8319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18240" y="2948040"/>
            <a:ext cx="8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J-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139840" y="3282840"/>
            <a:ext cx="222480" cy="45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73360" y="3282840"/>
            <a:ext cx="298440" cy="45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78920" y="1881360"/>
            <a:ext cx="65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94240" y="3137040"/>
            <a:ext cx="736560" cy="812520"/>
          </a:xfrm>
          <a:prstGeom prst="rect">
            <a:avLst/>
          </a:prstGeom>
          <a:solidFill>
            <a:srgbClr val="a2c1f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13200" y="3137040"/>
            <a:ext cx="736560" cy="812520"/>
          </a:xfrm>
          <a:prstGeom prst="rect">
            <a:avLst/>
          </a:prstGeom>
          <a:solidFill>
            <a:srgbClr val="a2c1f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65440" y="3176640"/>
            <a:ext cx="80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4760" y="3176640"/>
            <a:ext cx="80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961240" y="3119400"/>
            <a:ext cx="992160" cy="820800"/>
            <a:chOff x="5961240" y="3119400"/>
            <a:chExt cx="992160" cy="820800"/>
          </a:xfrm>
        </p:grpSpPr>
        <p:sp>
          <p:nvSpPr>
            <p:cNvPr id="294" name=""/>
            <p:cNvSpPr/>
            <p:nvPr/>
          </p:nvSpPr>
          <p:spPr>
            <a:xfrm>
              <a:off x="5961240" y="3119400"/>
              <a:ext cx="992160" cy="90360"/>
            </a:xfrm>
            <a:custGeom>
              <a:avLst/>
              <a:gdLst/>
              <a:ahLst/>
              <a:rect l="l" t="t" r="r" b="b"/>
              <a:pathLst>
                <a:path w="625" h="57">
                  <a:moveTo>
                    <a:pt x="0" y="56"/>
                  </a:moveTo>
                  <a:lnTo>
                    <a:pt x="69" y="0"/>
                  </a:lnTo>
                  <a:lnTo>
                    <a:pt x="624" y="0"/>
                  </a:lnTo>
                  <a:lnTo>
                    <a:pt x="555" y="56"/>
                  </a:lnTo>
                  <a:lnTo>
                    <a:pt x="0" y="56"/>
                  </a:lnTo>
                </a:path>
              </a:pathLst>
            </a:cu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61240" y="3119400"/>
              <a:ext cx="992160" cy="90360"/>
            </a:xfrm>
            <a:custGeom>
              <a:avLst/>
              <a:gdLst/>
              <a:ahLst/>
              <a:rect l="l" t="t" r="r" b="b"/>
              <a:pathLst>
                <a:path w="625" h="57">
                  <a:moveTo>
                    <a:pt x="0" y="56"/>
                  </a:moveTo>
                  <a:lnTo>
                    <a:pt x="69" y="0"/>
                  </a:lnTo>
                  <a:lnTo>
                    <a:pt x="624" y="0"/>
                  </a:lnTo>
                  <a:lnTo>
                    <a:pt x="555" y="56"/>
                  </a:lnTo>
                  <a:lnTo>
                    <a:pt x="0" y="56"/>
                  </a:lnTo>
                </a:path>
              </a:pathLst>
            </a:cu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61240" y="3224160"/>
              <a:ext cx="880920" cy="716040"/>
            </a:xfrm>
            <a:custGeom>
              <a:avLst/>
              <a:gdLst/>
              <a:ahLst/>
              <a:rect l="l" t="t" r="r" b="b"/>
              <a:pathLst>
                <a:path w="555" h="451">
                  <a:moveTo>
                    <a:pt x="0" y="0"/>
                  </a:moveTo>
                  <a:lnTo>
                    <a:pt x="554" y="0"/>
                  </a:lnTo>
                  <a:lnTo>
                    <a:pt x="554" y="450"/>
                  </a:lnTo>
                  <a:lnTo>
                    <a:pt x="0" y="450"/>
                  </a:lnTo>
                  <a:lnTo>
                    <a:pt x="0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56560" y="3119400"/>
              <a:ext cx="96840" cy="820800"/>
            </a:xfrm>
            <a:custGeom>
              <a:avLst/>
              <a:gdLst/>
              <a:ahLst/>
              <a:rect l="l" t="t" r="r" b="b"/>
              <a:pathLst>
                <a:path w="61" h="517">
                  <a:moveTo>
                    <a:pt x="0" y="65"/>
                  </a:moveTo>
                  <a:lnTo>
                    <a:pt x="60" y="0"/>
                  </a:lnTo>
                  <a:lnTo>
                    <a:pt x="60" y="439"/>
                  </a:lnTo>
                  <a:lnTo>
                    <a:pt x="0" y="516"/>
                  </a:lnTo>
                  <a:lnTo>
                    <a:pt x="0" y="65"/>
                  </a:lnTo>
                </a:path>
              </a:pathLst>
            </a:custGeom>
            <a:solidFill>
              <a:srgbClr val="003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56560" y="3119400"/>
              <a:ext cx="96840" cy="820800"/>
            </a:xfrm>
            <a:custGeom>
              <a:avLst/>
              <a:gdLst/>
              <a:ahLst/>
              <a:rect l="l" t="t" r="r" b="b"/>
              <a:pathLst>
                <a:path w="61" h="517">
                  <a:moveTo>
                    <a:pt x="0" y="65"/>
                  </a:moveTo>
                  <a:lnTo>
                    <a:pt x="60" y="0"/>
                  </a:lnTo>
                  <a:lnTo>
                    <a:pt x="60" y="439"/>
                  </a:lnTo>
                  <a:lnTo>
                    <a:pt x="0" y="516"/>
                  </a:lnTo>
                  <a:lnTo>
                    <a:pt x="0" y="65"/>
                  </a:lnTo>
                </a:path>
              </a:pathLst>
            </a:custGeom>
            <a:solidFill>
              <a:srgbClr val="003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16680" y="3279600"/>
              <a:ext cx="768240" cy="588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02280" y="3382920"/>
              <a:ext cx="73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130560" y="3886200"/>
            <a:ext cx="45072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9880" y="3657600"/>
            <a:ext cx="45072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68840" y="3657600"/>
            <a:ext cx="3747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5854680" y="4813200"/>
            <a:ext cx="1168560" cy="11559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7499520" y="5008680"/>
            <a:ext cx="1527120" cy="9460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400800" y="3968640"/>
            <a:ext cx="0" cy="9082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08840" y="5310360"/>
            <a:ext cx="73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78400" y="2338560"/>
            <a:ext cx="166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ing Clo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Requir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the access requirement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traffic ana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capacity pl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coalescing user requirements onto common platform that defin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s and protoco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itecture and techn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atures, functions, and servi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Network Topolog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connect to backbone nodes without direct trunking between access nod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connect to backbone nodes with direct trunking between access nod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ng connected to backbone n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9T20:43:30Z</dcterms:created>
  <dc:creator/>
  <dc:description/>
  <dc:language>en-US</dc:language>
  <cp:lastModifiedBy>NCR User</cp:lastModifiedBy>
  <cp:lastPrinted>1999-03-26T17:20:50Z</cp:lastPrinted>
  <dcterms:modified xsi:type="dcterms:W3CDTF">2003-03-31T18:04:10Z</dcterms:modified>
  <cp:revision>19</cp:revision>
  <dc:subject/>
  <dc:title>Calculating Response Time</dc:title>
</cp:coreProperties>
</file>