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26B8-0865-46A5-9A29-735EDDCAE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5559-982C-404F-A67C-34C3B3A5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00F1-BE9E-4557-872C-0B02E4B22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E1A8-F1AA-4DDD-A470-D8C1EC5A2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098A-C7A4-441E-8299-ECA88953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034B-EE5F-4F01-B21C-4A489D69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D72F-C976-4F90-86C1-DA4CBEE7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1276-7D7E-406A-9D23-5FACF63C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2C2C-6534-424C-8D44-935CE6D9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0556-3235-449F-9697-927F0699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B1ED-4653-44F8-92F8-3FAAD764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2B0A-62D3-4020-AA23-08423EB0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5349-4DF9-4628-A414-8C878469E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apter 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quirements Defi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562720" y="4892760"/>
          <a:ext cx="3101760" cy="14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4892760"/>
                    <a:ext cx="310176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380880" y="533520"/>
          <a:ext cx="3338640" cy="16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533520"/>
                    <a:ext cx="3338640" cy="16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134280" y="6324480"/>
            <a:ext cx="619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ohn, Darren L., </a:t>
            </a: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ata Network Desig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Second Edition, McGraw-Hill, 19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Designer’s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rehensive traffic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pacity planning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plication traffic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plication message s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asures for data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asures for traffic volu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Designer’s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derst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twork device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 of s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 of call set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 of calls hand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 of times devices turn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Designer’s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ling interv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orting interv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patterns of user s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ak traffic peri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ak bursts of traf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ak sustained traf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ant traffic f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eriod average traffic volu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Designer’s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ntif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lk data transfer peri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nge of 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Use average values when estimating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Must alway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MANAGE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user expec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934320" y="4724280"/>
          <a:ext cx="1879560" cy="18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4724280"/>
                    <a:ext cx="1879560" cy="18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ffic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twork design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the application mission critic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minimum error rate is acceptab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traffic prioritiz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variable delay allow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will calls be rou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ffic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twork desig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 based on Poisson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cognize periods of under-uti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ort periods of  over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cify classes of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 queues based on class of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ffic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rst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lay tole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pons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tal capa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rough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494240" y="2354400"/>
          <a:ext cx="3489120" cy="36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4240" y="2354400"/>
                    <a:ext cx="3489120" cy="36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rst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measure of how infrequently a source sends traff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requent sending -- very burs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ant sending -- nonburs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157400" y="4643280"/>
                <a:ext cx="5852880" cy="13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urstines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eak Rat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verage Rat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lay Toler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aximum delay an application or user can tole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lay is usually attributed to many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336920" y="4202280"/>
          <a:ext cx="3649680" cy="19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6920" y="4202280"/>
                    <a:ext cx="3649680" cy="19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ponse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otal period of elapsed time, measured from when a request is transmitted until a response is recei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033800" y="3494160"/>
          <a:ext cx="3648240" cy="28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3800" y="3494160"/>
                    <a:ext cx="3648240" cy="28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r is the custo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twork design is the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twork design must conform to user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Requirement analysis is the most important step in network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pacity and Through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ctual resources available across a given 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rough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measure of the volume of data across a circuit in a given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roughput Measu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ircuit switc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asured in bits (bytes)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cket switc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asured in packets (frames, cells)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roughput Measu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cket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eed of packet header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cket forwar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eed of bridges and routers in forwarding packets to correct MAC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cket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eed at which bridge determines if packet need to be forwar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tocol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the applic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architecture is being us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program interfaces are being us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protocols are being us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 encapsulation, conversion, translation, or bridging requir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 any special considerations requir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tocol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the network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will internetworking be accomplish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 directory services requir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 any “special” implementations being us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ch type of communication service is requir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nection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ll polling be us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tocol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ll contention resolution be us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the protocols use dynamic or fixed rout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addressing scheme is us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at, hierarch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manently assigned, modif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istent with global sc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tocol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network delay a major facto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much access delay is tolerab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response time a major facto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trade-offs can be ma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Minimizing delay will maximize through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iming and Delay Consid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lo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 traffic flow is blocked (halted) until sufficient bandwidth is avail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ue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oring user data in buffers in FIFO order until sufficient bandwidth exists to allow transmi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iming and Delay Consid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ing store and forward techniques during transmi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Storing and queueing user traffic wil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INCREASE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delay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rrupts and Re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ll application interrupts be us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ll application interrupts need to be prioritiz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ll application resets be us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INTERRUPTS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RESETS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must b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TRANSPARENT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to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iewing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r’s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king into network from out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962520" y="3687840"/>
            <a:ext cx="3285360" cy="2317680"/>
            <a:chOff x="3962520" y="3687840"/>
            <a:chExt cx="3285360" cy="2317680"/>
          </a:xfrm>
        </p:grpSpPr>
        <p:graphicFrame>
          <p:nvGraphicFramePr>
            <p:cNvPr id="53" name=""/>
            <p:cNvGraphicFramePr/>
            <p:nvPr/>
          </p:nvGraphicFramePr>
          <p:xfrm>
            <a:off x="3962520" y="4437000"/>
            <a:ext cx="1458720" cy="156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62520" y="4437000"/>
                      <a:ext cx="1458720" cy="156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" name=""/>
            <p:cNvSpPr/>
            <p:nvPr/>
          </p:nvSpPr>
          <p:spPr>
            <a:xfrm>
              <a:off x="5892840" y="4826160"/>
              <a:ext cx="1168200" cy="10918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753880" y="3687840"/>
              <a:ext cx="149400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ser’s Vie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f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sign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type of User-Network Interface is des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the speed for data access and data transfer connectiv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types of services will be connec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the distance between connected devic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826160" y="5257800"/>
          <a:ext cx="3305160" cy="149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6160" y="5257800"/>
                    <a:ext cx="3305160" cy="14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sign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addressing mode is used for the access lay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addressing mode is used for backbone lay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are the basic connection protocol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the connected community homogeneous or hetrogeneou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sign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type of access is required to the transport networ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network interface technology will be us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nternetworking technology will be us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availability, reliability, and maintainability requirements exi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sign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protocols fault tolera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the level of error tolerability? Does the user require control of network resourc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the network expandable, scalable, and evolutiona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end-to-end fault identification and isolation requ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sign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special billing services requ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level of disaster recovery in requ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level of security is requ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are the user expecta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the network costs within budgetary limits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iewing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igner’s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king outside network from in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606840" y="3835440"/>
            <a:ext cx="2539800" cy="2311200"/>
            <a:chOff x="3606840" y="3835440"/>
            <a:chExt cx="2539800" cy="2311200"/>
          </a:xfrm>
        </p:grpSpPr>
        <p:graphicFrame>
          <p:nvGraphicFramePr>
            <p:cNvPr id="60" name=""/>
            <p:cNvGraphicFramePr/>
            <p:nvPr/>
          </p:nvGraphicFramePr>
          <p:xfrm>
            <a:off x="4495680" y="4513320"/>
            <a:ext cx="1459080" cy="156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95680" y="4513320"/>
                      <a:ext cx="1459080" cy="156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2" name=""/>
            <p:cNvSpPr/>
            <p:nvPr/>
          </p:nvSpPr>
          <p:spPr>
            <a:xfrm>
              <a:off x="3606840" y="3835440"/>
              <a:ext cx="2539800" cy="23112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6462720" y="3535200"/>
            <a:ext cx="20610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igner’s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018200" y="4594320"/>
            <a:ext cx="1063800" cy="1466640"/>
            <a:chOff x="7018200" y="4594320"/>
            <a:chExt cx="1063800" cy="1466640"/>
          </a:xfrm>
        </p:grpSpPr>
        <p:pic>
          <p:nvPicPr>
            <p:cNvPr id="65" name="" descr=""/>
            <p:cNvPicPr/>
            <p:nvPr/>
          </p:nvPicPr>
          <p:blipFill>
            <a:blip r:embed="rId3"/>
            <a:stretch/>
          </p:blipFill>
          <p:spPr>
            <a:xfrm>
              <a:off x="7427880" y="4745160"/>
              <a:ext cx="65412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>
              <a:off x="7018200" y="4594320"/>
              <a:ext cx="876600" cy="1466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ser’s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otal 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limited bandwid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biquitous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errors, downtime or network de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functional or protocol restri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physical or logical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ing New 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ke a gradual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t realistic user expec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experience and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eting User Expec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chnology t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b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configuration exp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wntime exp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pha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imal dow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w active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eting User Expec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ta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ery little down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y active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ar produc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duction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expected users are a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unscheduled dow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Designer’s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Recognize that all user requirements will never be completely sati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ntify user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derstand user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630840" y="3505320"/>
          <a:ext cx="1959120" cy="29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30840" y="3505320"/>
                    <a:ext cx="195912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7450920" y="4618080"/>
            <a:ext cx="651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i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7T17:35:02Z</dcterms:created>
  <dc:creator>NCR ASSOCIATE</dc:creator>
  <dc:description/>
  <dc:language>en-US</dc:language>
  <cp:lastModifiedBy>NCR User</cp:lastModifiedBy>
  <cp:lastPrinted>1997-09-12T19:33:50Z</cp:lastPrinted>
  <dcterms:modified xsi:type="dcterms:W3CDTF">2002-12-24T17:57:46Z</dcterms:modified>
  <cp:revision>11</cp:revision>
  <dc:subject/>
  <dc:title>Chapter 15</dc:title>
</cp:coreProperties>
</file>