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39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29.wmf" ContentType="image/x-wmf"/>
  <Override PartName="/ppt/media/image32.wmf" ContentType="image/x-wmf"/>
  <Override PartName="/ppt/media/image133.wmf" ContentType="image/x-wmf"/>
  <Override PartName="/ppt/media/image160.wmf" ContentType="image/x-wmf"/>
  <Override PartName="/ppt/media/image161.wmf" ContentType="image/x-wmf"/>
  <Override PartName="/ppt/media/image150.wmf" ContentType="image/x-wmf"/>
  <Override PartName="/ppt/media/image162.wmf" ContentType="image/x-wmf"/>
  <Override PartName="/ppt/media/image109.wmf" ContentType="image/x-wmf"/>
  <Override PartName="/ppt/media/image151.wmf" ContentType="image/x-wmf"/>
  <Override PartName="/ppt/media/image40.wmf" ContentType="image/x-wmf"/>
  <Override PartName="/ppt/media/image137.wmf" ContentType="image/x-wmf"/>
  <Override PartName="/ppt/media/image163.wmf" ContentType="image/x-wmf"/>
  <Override PartName="/ppt/media/image152.wmf" ContentType="image/x-wmf"/>
  <Override PartName="/ppt/media/image41.wmf" ContentType="image/x-wmf"/>
  <Override PartName="/ppt/media/image138.wmf" ContentType="image/x-wmf"/>
  <Override PartName="/ppt/media/image164.wmf" ContentType="image/x-wmf"/>
  <Override PartName="/ppt/media/image42.wmf" ContentType="image/x-wmf"/>
  <Override PartName="/ppt/media/image139.wmf" ContentType="image/x-wmf"/>
  <Override PartName="/ppt/media/image165.wmf" ContentType="image/x-wmf"/>
  <Override PartName="/ppt/media/image43.wmf" ContentType="image/x-wmf"/>
  <Override PartName="/ppt/media/image166.wmf" ContentType="image/x-wmf"/>
  <Override PartName="/ppt/media/image44.wmf" ContentType="image/x-wmf"/>
  <Override PartName="/ppt/media/image130.wmf" ContentType="image/x-wmf"/>
  <Override PartName="/ppt/media/image167.wmf" ContentType="image/x-wmf"/>
  <Override PartName="/ppt/media/image45.wmf" ContentType="image/x-wmf"/>
  <Override PartName="/ppt/media/image131.wmf" ContentType="image/x-wmf"/>
  <Override PartName="/ppt/media/image168.wmf" ContentType="image/x-wmf"/>
  <Override PartName="/ppt/media/image46.wmf" ContentType="image/x-wmf"/>
  <Override PartName="/ppt/media/image132.wmf" ContentType="image/x-wmf"/>
  <Override PartName="/ppt/media/image169.wmf" ContentType="image/x-wmf"/>
  <Override PartName="/ppt/media/image134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37.wmf" ContentType="image/x-wmf"/>
  <Override PartName="/ppt/media/image62.wmf" ContentType="image/x-wmf"/>
  <Override PartName="/ppt/media/image159.wmf" ContentType="image/x-wmf"/>
  <Override PartName="/ppt/media/image7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1.wmf" ContentType="image/x-wmf"/>
  <Override PartName="/ppt/media/image158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1.wmf" ContentType="image/x-wmf"/>
  <Override PartName="/ppt/media/image9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4.wmf" ContentType="image/x-wmf"/>
  <Override PartName="/ppt/media/image156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154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8129588" cy="6099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12876F-F7DF-435F-A3D8-B21430039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RTP Ser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ayload Type I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quence Numb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imestam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livery Monito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ynch. Source ID (end point ID not dependent on Net ID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RTC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Quality Monito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Header Compression is used to keep payload to header ratio high for efficien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0ms @ 8kbs = 20byte paylo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RTP + UDP + IP = 12 + 8 + 20 (bytes) = 40byte Header 2x Payloa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ragmentation and Interleave of large packets reduces residency on slow lin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500 Byte MTU Takes 215Ms to Transmit on 56Kb Lin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LPPP on single interface at frag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IETF Draft memo - draft-ietf-issll-isslow-mcml-01.tx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ck Tracy Decoder Ring so you look smar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M = Pulse Code Mod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PCM = Adaptive Delta P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S-ACELP = Conjugate-Structure Linear-Predictive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D-CELP = Low Delay C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P = Code Excited Linear Pred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ELP = Algebraic C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: L3 Qos only assures Qos OUT th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in “WAN cloud” must rely on L2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9160" indent="-11916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Works with exsisting telephony architec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asses office to office telephone and fax calls across data network significantly reducing toll’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128080" cy="609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4280" y="5761080"/>
            <a:ext cx="8013600" cy="164880"/>
            <a:chOff x="44280" y="5761080"/>
            <a:chExt cx="8013600" cy="164880"/>
          </a:xfrm>
        </p:grpSpPr>
        <p:sp>
          <p:nvSpPr>
            <p:cNvPr id="2" name=""/>
            <p:cNvSpPr/>
            <p:nvPr/>
          </p:nvSpPr>
          <p:spPr>
            <a:xfrm>
              <a:off x="44280" y="5840280"/>
              <a:ext cx="8013600" cy="8568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8240" y="5761080"/>
              <a:ext cx="7796160" cy="525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135000" y="135000"/>
            <a:ext cx="7888320" cy="162000"/>
            <a:chOff x="135000" y="135000"/>
            <a:chExt cx="7888320" cy="162000"/>
          </a:xfrm>
        </p:grpSpPr>
        <p:sp>
          <p:nvSpPr>
            <p:cNvPr id="5" name=""/>
            <p:cNvSpPr/>
            <p:nvPr/>
          </p:nvSpPr>
          <p:spPr>
            <a:xfrm>
              <a:off x="135000" y="135000"/>
              <a:ext cx="7888320" cy="74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92240" y="250920"/>
              <a:ext cx="7773840" cy="46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"/>
          <p:cNvSpPr txBox="1"/>
          <p:nvPr/>
        </p:nvSpPr>
        <p:spPr>
          <a:xfrm>
            <a:off x="7435800" y="5938920"/>
            <a:ext cx="68256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fld id="{B26FCFFE-6286-42A7-BBB4-BF6FBF88EE0D}" type="datetime"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image" Target="../media/image98.wmf"/><Relationship Id="rId3" Type="http://schemas.openxmlformats.org/officeDocument/2006/relationships/image" Target="../media/image99.wmf"/><Relationship Id="rId4" Type="http://schemas.openxmlformats.org/officeDocument/2006/relationships/image" Target="../media/image100.wmf"/><Relationship Id="rId5" Type="http://schemas.openxmlformats.org/officeDocument/2006/relationships/image" Target="../media/image101.wmf"/><Relationship Id="rId6" Type="http://schemas.openxmlformats.org/officeDocument/2006/relationships/image" Target="../media/image102.wmf"/><Relationship Id="rId7" Type="http://schemas.openxmlformats.org/officeDocument/2006/relationships/image" Target="../media/image103.wmf"/><Relationship Id="rId8" Type="http://schemas.openxmlformats.org/officeDocument/2006/relationships/image" Target="../media/image104.wmf"/><Relationship Id="rId9" Type="http://schemas.openxmlformats.org/officeDocument/2006/relationships/image" Target="../media/image105.wmf"/><Relationship Id="rId10" Type="http://schemas.openxmlformats.org/officeDocument/2006/relationships/image" Target="../media/image106.wmf"/><Relationship Id="rId11" Type="http://schemas.openxmlformats.org/officeDocument/2006/relationships/image" Target="../media/image107.wmf"/><Relationship Id="rId12" Type="http://schemas.openxmlformats.org/officeDocument/2006/relationships/image" Target="../media/image108.wmf"/><Relationship Id="rId13" Type="http://schemas.openxmlformats.org/officeDocument/2006/relationships/image" Target="../media/image109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image" Target="../media/image111.wmf"/><Relationship Id="rId3" Type="http://schemas.openxmlformats.org/officeDocument/2006/relationships/image" Target="../media/image112.wmf"/><Relationship Id="rId4" Type="http://schemas.openxmlformats.org/officeDocument/2006/relationships/image" Target="../media/image113.wmf"/><Relationship Id="rId5" Type="http://schemas.openxmlformats.org/officeDocument/2006/relationships/image" Target="../media/image114.wmf"/><Relationship Id="rId6" Type="http://schemas.openxmlformats.org/officeDocument/2006/relationships/image" Target="../media/image1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image" Target="../media/image117.wmf"/><Relationship Id="rId3" Type="http://schemas.openxmlformats.org/officeDocument/2006/relationships/image" Target="../media/image118.wmf"/><Relationship Id="rId4" Type="http://schemas.openxmlformats.org/officeDocument/2006/relationships/image" Target="../media/image119.wmf"/><Relationship Id="rId5" Type="http://schemas.openxmlformats.org/officeDocument/2006/relationships/image" Target="../media/image120.wmf"/><Relationship Id="rId6" Type="http://schemas.openxmlformats.org/officeDocument/2006/relationships/image" Target="../media/image1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2.wmf"/><Relationship Id="rId2" Type="http://schemas.openxmlformats.org/officeDocument/2006/relationships/image" Target="../media/image123.wmf"/><Relationship Id="rId3" Type="http://schemas.openxmlformats.org/officeDocument/2006/relationships/image" Target="../media/image124.wmf"/><Relationship Id="rId4" Type="http://schemas.openxmlformats.org/officeDocument/2006/relationships/image" Target="../media/image125.wmf"/><Relationship Id="rId5" Type="http://schemas.openxmlformats.org/officeDocument/2006/relationships/image" Target="../media/image126.wmf"/><Relationship Id="rId6" Type="http://schemas.openxmlformats.org/officeDocument/2006/relationships/image" Target="../media/image127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8.wmf"/><Relationship Id="rId2" Type="http://schemas.openxmlformats.org/officeDocument/2006/relationships/image" Target="../media/image129.wmf"/><Relationship Id="rId3" Type="http://schemas.openxmlformats.org/officeDocument/2006/relationships/image" Target="../media/image13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image" Target="../media/image144.wmf"/><Relationship Id="rId10" Type="http://schemas.openxmlformats.org/officeDocument/2006/relationships/image" Target="../media/image145.wmf"/><Relationship Id="rId11" Type="http://schemas.openxmlformats.org/officeDocument/2006/relationships/image" Target="../media/image146.wmf"/><Relationship Id="rId12" Type="http://schemas.openxmlformats.org/officeDocument/2006/relationships/image" Target="../media/image147.wmf"/><Relationship Id="rId13" Type="http://schemas.openxmlformats.org/officeDocument/2006/relationships/image" Target="../media/image148.wmf"/><Relationship Id="rId14" Type="http://schemas.openxmlformats.org/officeDocument/2006/relationships/image" Target="../media/image149.wmf"/><Relationship Id="rId15" Type="http://schemas.openxmlformats.org/officeDocument/2006/relationships/image" Target="../media/image150.wmf"/><Relationship Id="rId16" Type="http://schemas.openxmlformats.org/officeDocument/2006/relationships/image" Target="../media/image151.wmf"/><Relationship Id="rId17" Type="http://schemas.openxmlformats.org/officeDocument/2006/relationships/image" Target="../media/image152.wmf"/><Relationship Id="rId18" Type="http://schemas.openxmlformats.org/officeDocument/2006/relationships/image" Target="../media/image153.wmf"/><Relationship Id="rId19" Type="http://schemas.openxmlformats.org/officeDocument/2006/relationships/image" Target="../media/image154.wmf"/><Relationship Id="rId20" Type="http://schemas.openxmlformats.org/officeDocument/2006/relationships/image" Target="../media/image155.wmf"/><Relationship Id="rId21" Type="http://schemas.openxmlformats.org/officeDocument/2006/relationships/image" Target="../media/image156.wmf"/><Relationship Id="rId22" Type="http://schemas.openxmlformats.org/officeDocument/2006/relationships/image" Target="../media/image157.wmf"/><Relationship Id="rId23" Type="http://schemas.openxmlformats.org/officeDocument/2006/relationships/image" Target="../media/image158.wmf"/><Relationship Id="rId24" Type="http://schemas.openxmlformats.org/officeDocument/2006/relationships/image" Target="../media/image159.wmf"/><Relationship Id="rId25" Type="http://schemas.openxmlformats.org/officeDocument/2006/relationships/image" Target="../media/image160.wmf"/><Relationship Id="rId2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1.wmf"/><Relationship Id="rId2" Type="http://schemas.openxmlformats.org/officeDocument/2006/relationships/image" Target="../media/image162.wmf"/><Relationship Id="rId3" Type="http://schemas.openxmlformats.org/officeDocument/2006/relationships/image" Target="../media/image163.wmf"/><Relationship Id="rId4" Type="http://schemas.openxmlformats.org/officeDocument/2006/relationships/image" Target="../media/image164.wmf"/><Relationship Id="rId5" Type="http://schemas.openxmlformats.org/officeDocument/2006/relationships/image" Target="../media/image165.wmf"/><Relationship Id="rId6" Type="http://schemas.openxmlformats.org/officeDocument/2006/relationships/image" Target="../media/image166.wmf"/><Relationship Id="rId7" Type="http://schemas.openxmlformats.org/officeDocument/2006/relationships/image" Target="../media/image167.wmf"/><Relationship Id="rId8" Type="http://schemas.openxmlformats.org/officeDocument/2006/relationships/image" Target="../media/image168.wmf"/><Relationship Id="rId9" Type="http://schemas.openxmlformats.org/officeDocument/2006/relationships/image" Target="../media/image169.wmf"/><Relationship Id="rId10" Type="http://schemas.openxmlformats.org/officeDocument/2006/relationships/image" Target="../media/image170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38.wmf"/><Relationship Id="rId13" Type="http://schemas.openxmlformats.org/officeDocument/2006/relationships/image" Target="../media/image39.wmf"/><Relationship Id="rId14" Type="http://schemas.openxmlformats.org/officeDocument/2006/relationships/image" Target="../media/image40.wmf"/><Relationship Id="rId15" Type="http://schemas.openxmlformats.org/officeDocument/2006/relationships/image" Target="../media/image41.wmf"/><Relationship Id="rId16" Type="http://schemas.openxmlformats.org/officeDocument/2006/relationships/image" Target="../media/image42.wmf"/><Relationship Id="rId17" Type="http://schemas.openxmlformats.org/officeDocument/2006/relationships/image" Target="../media/image43.wmf"/><Relationship Id="rId18" Type="http://schemas.openxmlformats.org/officeDocument/2006/relationships/image" Target="../media/image44.wmf"/><Relationship Id="rId19" Type="http://schemas.openxmlformats.org/officeDocument/2006/relationships/image" Target="../media/image45.wmf"/><Relationship Id="rId20" Type="http://schemas.openxmlformats.org/officeDocument/2006/relationships/image" Target="../media/image46.wmf"/><Relationship Id="rId21" Type="http://schemas.openxmlformats.org/officeDocument/2006/relationships/image" Target="../media/image47.wmf"/><Relationship Id="rId22" Type="http://schemas.openxmlformats.org/officeDocument/2006/relationships/image" Target="../media/image48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wmf"/><Relationship Id="rId10" Type="http://schemas.openxmlformats.org/officeDocument/2006/relationships/image" Target="../media/image57.wmf"/><Relationship Id="rId11" Type="http://schemas.openxmlformats.org/officeDocument/2006/relationships/image" Target="../media/image58.wmf"/><Relationship Id="rId12" Type="http://schemas.openxmlformats.org/officeDocument/2006/relationships/image" Target="../media/image59.wmf"/><Relationship Id="rId13" Type="http://schemas.openxmlformats.org/officeDocument/2006/relationships/image" Target="../media/image40.wmf"/><Relationship Id="rId14" Type="http://schemas.openxmlformats.org/officeDocument/2006/relationships/image" Target="../media/image41.wmf"/><Relationship Id="rId15" Type="http://schemas.openxmlformats.org/officeDocument/2006/relationships/image" Target="../media/image60.wmf"/><Relationship Id="rId16" Type="http://schemas.openxmlformats.org/officeDocument/2006/relationships/image" Target="../media/image61.wmf"/><Relationship Id="rId17" Type="http://schemas.openxmlformats.org/officeDocument/2006/relationships/image" Target="../media/image45.wmf"/><Relationship Id="rId18" Type="http://schemas.openxmlformats.org/officeDocument/2006/relationships/image" Target="../media/image46.wmf"/><Relationship Id="rId19" Type="http://schemas.openxmlformats.org/officeDocument/2006/relationships/image" Target="../media/image47.wmf"/><Relationship Id="rId20" Type="http://schemas.openxmlformats.org/officeDocument/2006/relationships/image" Target="../media/image48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8.wmf"/><Relationship Id="rId8" Type="http://schemas.openxmlformats.org/officeDocument/2006/relationships/image" Target="../media/image69.wmf"/><Relationship Id="rId9" Type="http://schemas.openxmlformats.org/officeDocument/2006/relationships/image" Target="../media/image70.wmf"/><Relationship Id="rId10" Type="http://schemas.openxmlformats.org/officeDocument/2006/relationships/image" Target="../media/image71.wmf"/><Relationship Id="rId11" Type="http://schemas.openxmlformats.org/officeDocument/2006/relationships/image" Target="../media/image72.wmf"/><Relationship Id="rId12" Type="http://schemas.openxmlformats.org/officeDocument/2006/relationships/image" Target="../media/image73.wmf"/><Relationship Id="rId13" Type="http://schemas.openxmlformats.org/officeDocument/2006/relationships/image" Target="../media/image74.wmf"/><Relationship Id="rId14" Type="http://schemas.openxmlformats.org/officeDocument/2006/relationships/image" Target="../media/image75.wmf"/><Relationship Id="rId15" Type="http://schemas.openxmlformats.org/officeDocument/2006/relationships/image" Target="../media/image76.wmf"/><Relationship Id="rId16" Type="http://schemas.openxmlformats.org/officeDocument/2006/relationships/image" Target="../media/image77.wmf"/><Relationship Id="rId17" Type="http://schemas.openxmlformats.org/officeDocument/2006/relationships/image" Target="../media/image78.wmf"/><Relationship Id="rId18" Type="http://schemas.openxmlformats.org/officeDocument/2006/relationships/image" Target="../media/image79.wmf"/><Relationship Id="rId19" Type="http://schemas.openxmlformats.org/officeDocument/2006/relationships/image" Target="../media/image80.wmf"/><Relationship Id="rId20" Type="http://schemas.openxmlformats.org/officeDocument/2006/relationships/image" Target="../media/image81.wmf"/><Relationship Id="rId21" Type="http://schemas.openxmlformats.org/officeDocument/2006/relationships/image" Target="../media/image82.wmf"/><Relationship Id="rId22" Type="http://schemas.openxmlformats.org/officeDocument/2006/relationships/image" Target="../media/image83.wmf"/><Relationship Id="rId23" Type="http://schemas.openxmlformats.org/officeDocument/2006/relationships/image" Target="../media/image84.wmf"/><Relationship Id="rId24" Type="http://schemas.openxmlformats.org/officeDocument/2006/relationships/image" Target="../media/image85.wmf"/><Relationship Id="rId25" Type="http://schemas.openxmlformats.org/officeDocument/2006/relationships/image" Target="../media/image86.wmf"/><Relationship Id="rId26" Type="http://schemas.openxmlformats.org/officeDocument/2006/relationships/image" Target="../media/image87.wmf"/><Relationship Id="rId27" Type="http://schemas.openxmlformats.org/officeDocument/2006/relationships/image" Target="../media/image88.wmf"/><Relationship Id="rId28" Type="http://schemas.openxmlformats.org/officeDocument/2006/relationships/image" Target="../media/image89.wmf"/><Relationship Id="rId29" Type="http://schemas.openxmlformats.org/officeDocument/2006/relationships/image" Target="../media/image90.wmf"/><Relationship Id="rId30" Type="http://schemas.openxmlformats.org/officeDocument/2006/relationships/image" Target="../media/image91.wmf"/><Relationship Id="rId31" Type="http://schemas.openxmlformats.org/officeDocument/2006/relationships/image" Target="../media/image92.wmf"/><Relationship Id="rId32" Type="http://schemas.openxmlformats.org/officeDocument/2006/relationships/image" Target="../media/image93.wmf"/><Relationship Id="rId33" Type="http://schemas.openxmlformats.org/officeDocument/2006/relationships/image" Target="../media/image94.wmf"/><Relationship Id="rId34" Type="http://schemas.openxmlformats.org/officeDocument/2006/relationships/image" Target="../media/image95.wmf"/><Relationship Id="rId35" Type="http://schemas.openxmlformats.org/officeDocument/2006/relationships/image" Target="../media/image96.wmf"/><Relationship Id="rId3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720880" y="1525680"/>
            <a:ext cx="46483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VoIP Network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4680" y="0"/>
            <a:ext cx="936720" cy="6086520"/>
          </a:xfrm>
          <a:prstGeom prst="rect">
            <a:avLst/>
          </a:prstGeom>
          <a:solidFill>
            <a:srgbClr val="008aa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749160"/>
            <a:ext cx="2597040" cy="4446720"/>
            <a:chOff x="0" y="749160"/>
            <a:chExt cx="2597040" cy="4446720"/>
          </a:xfrm>
        </p:grpSpPr>
        <p:sp>
          <p:nvSpPr>
            <p:cNvPr id="93" name=""/>
            <p:cNvSpPr/>
            <p:nvPr/>
          </p:nvSpPr>
          <p:spPr>
            <a:xfrm>
              <a:off x="0" y="749160"/>
              <a:ext cx="2597040" cy="4446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f0e3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104760" y="863640"/>
              <a:ext cx="2451240" cy="428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568440" y="1498680"/>
            <a:ext cx="3651120" cy="3456000"/>
          </a:xfrm>
          <a:prstGeom prst="rect">
            <a:avLst/>
          </a:prstGeom>
          <a:gradFill rotWithShape="0">
            <a:gsLst>
              <a:gs pos="0">
                <a:srgbClr val="999999"/>
              </a:gs>
              <a:gs pos="50000">
                <a:srgbClr val="ffffff"/>
              </a:gs>
              <a:gs pos="100000">
                <a:srgbClr val="999999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20560" y="1587600"/>
            <a:ext cx="3651120" cy="345600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42960" y="196920"/>
            <a:ext cx="730728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L3/L2 Transport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85800" y="1676520"/>
            <a:ext cx="3462480" cy="33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L3—VoI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Flexible—IP is ubiquito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Soft” form of Q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IP/UDP/RTP overhead </a:t>
            </a:r>
            <a:br>
              <a:rPr sz="1900"/>
            </a:b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(RTP compress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Quickly emerging technolog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Standards-based H.32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292640" y="1541520"/>
            <a:ext cx="3579840" cy="27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L2—VoFR, VoAT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Hard” Q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Infrastructure can be rigi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Standards-bas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Better suited for high volume bulk vo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506520" y="1127160"/>
            <a:ext cx="7005600" cy="3905280"/>
            <a:chOff x="506520" y="1127160"/>
            <a:chExt cx="7005600" cy="3905280"/>
          </a:xfrm>
        </p:grpSpPr>
        <p:sp>
          <p:nvSpPr>
            <p:cNvPr id="508" name=""/>
            <p:cNvSpPr/>
            <p:nvPr/>
          </p:nvSpPr>
          <p:spPr>
            <a:xfrm>
              <a:off x="595440" y="200016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5440" y="263052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5440" y="3917880"/>
              <a:ext cx="6916680" cy="4698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5440" y="452592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95440" y="3257640"/>
              <a:ext cx="6916680" cy="473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5440" y="137160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6520" y="191124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002028"/>
                </a:gs>
                <a:gs pos="50000">
                  <a:srgbClr val="006c88"/>
                </a:gs>
                <a:gs pos="100000">
                  <a:srgbClr val="002028"/>
                </a:gs>
              </a:gsLst>
              <a:lin ang="2700000"/>
            </a:gradFill>
            <a:ln w="25560">
              <a:solidFill>
                <a:srgbClr val="00c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6520" y="254160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002028"/>
                </a:gs>
                <a:gs pos="50000">
                  <a:srgbClr val="006c88"/>
                </a:gs>
                <a:gs pos="100000">
                  <a:srgbClr val="002028"/>
                </a:gs>
              </a:gsLst>
              <a:lin ang="2700000"/>
            </a:gradFill>
            <a:ln w="25560">
              <a:solidFill>
                <a:srgbClr val="00c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6520" y="382896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002028"/>
                </a:gs>
                <a:gs pos="50000">
                  <a:srgbClr val="006c88"/>
                </a:gs>
                <a:gs pos="100000">
                  <a:srgbClr val="002028"/>
                </a:gs>
              </a:gsLst>
              <a:lin ang="2700000"/>
            </a:gradFill>
            <a:ln w="25560">
              <a:solidFill>
                <a:srgbClr val="00c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6520" y="443880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002028"/>
                </a:gs>
                <a:gs pos="50000">
                  <a:srgbClr val="006c88"/>
                </a:gs>
                <a:gs pos="100000">
                  <a:srgbClr val="002028"/>
                </a:gs>
              </a:gsLst>
              <a:lin ang="2700000"/>
            </a:gradFill>
            <a:ln w="25560">
              <a:solidFill>
                <a:srgbClr val="00c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6520" y="3170160"/>
              <a:ext cx="6916680" cy="473040"/>
            </a:xfrm>
            <a:prstGeom prst="rect">
              <a:avLst/>
            </a:prstGeom>
            <a:gradFill rotWithShape="0">
              <a:gsLst>
                <a:gs pos="0">
                  <a:srgbClr val="002028"/>
                </a:gs>
                <a:gs pos="50000">
                  <a:srgbClr val="006c88"/>
                </a:gs>
                <a:gs pos="100000">
                  <a:srgbClr val="002028"/>
                </a:gs>
              </a:gsLst>
              <a:lin ang="2700000"/>
            </a:gradFill>
            <a:ln w="25560">
              <a:solidFill>
                <a:srgbClr val="00c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6520" y="128412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002028"/>
                </a:gs>
                <a:gs pos="50000">
                  <a:srgbClr val="006c88"/>
                </a:gs>
                <a:gs pos="100000">
                  <a:srgbClr val="002028"/>
                </a:gs>
              </a:gsLst>
              <a:lin ang="2700000"/>
            </a:gradFill>
            <a:ln w="25560">
              <a:solidFill>
                <a:srgbClr val="00c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582480" y="1127160"/>
              <a:ext cx="2163600" cy="390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es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Sess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Transpor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Network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Link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Physic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4044960" y="1127160"/>
              <a:ext cx="3000240" cy="390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G.729(A)/G.723(.1)/G.71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H.323/H.323Gatewa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RTP/UDP/RSV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IP/WFQ/IP-pre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MLPPP/FR/ATM AAL1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– – –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oice over IP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554120" y="1238400"/>
            <a:ext cx="1390680" cy="812880"/>
          </a:xfrm>
          <a:prstGeom prst="ellipse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32320" y="1289160"/>
            <a:ext cx="1390680" cy="812880"/>
          </a:xfrm>
          <a:prstGeom prst="ellipse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540240" y="4462560"/>
            <a:ext cx="2486160" cy="1216080"/>
          </a:xfrm>
          <a:prstGeom prst="rect">
            <a:avLst/>
          </a:prstGeom>
          <a:gradFill rotWithShape="0">
            <a:gsLst>
              <a:gs pos="0">
                <a:srgbClr val="004b5f"/>
              </a:gs>
              <a:gs pos="50000">
                <a:srgbClr val="006c88"/>
              </a:gs>
              <a:gs pos="100000">
                <a:srgbClr val="004b5f"/>
              </a:gs>
            </a:gsLst>
            <a:lin ang="2700000"/>
          </a:gradFill>
          <a:ln w="25560">
            <a:solidFill>
              <a:srgbClr val="00c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230560" y="1773360"/>
            <a:ext cx="19080" cy="3492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H.323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48360" y="1754280"/>
            <a:ext cx="0" cy="3823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5480" y="2155680"/>
            <a:ext cx="0" cy="1719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670200" y="2155680"/>
            <a:ext cx="0" cy="1719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94320" y="2155680"/>
            <a:ext cx="0" cy="1719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962000" y="1403280"/>
            <a:ext cx="596880" cy="54612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539640" y="2293920"/>
            <a:ext cx="635040" cy="3967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975040" y="2279520"/>
            <a:ext cx="1390680" cy="812880"/>
          </a:xfrm>
          <a:prstGeom prst="ellipse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799160" y="2279520"/>
            <a:ext cx="1390680" cy="812880"/>
          </a:xfrm>
          <a:prstGeom prst="ellipse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92080" y="3629160"/>
            <a:ext cx="1395360" cy="1187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204840" y="3316320"/>
            <a:ext cx="1306440" cy="8161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 flipH="1">
            <a:off x="2260440" y="3435480"/>
            <a:ext cx="1440000" cy="13888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5900760" y="3817800"/>
            <a:ext cx="506520" cy="5731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904000" y="3160800"/>
            <a:ext cx="550800" cy="5000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29200" y="3749760"/>
            <a:ext cx="8049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295360" y="4762440"/>
            <a:ext cx="841680" cy="18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2004840" y="4621320"/>
            <a:ext cx="635040" cy="3967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3049560" y="3316320"/>
            <a:ext cx="1306440" cy="8161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6"/>
          <a:stretch/>
        </p:blipFill>
        <p:spPr>
          <a:xfrm>
            <a:off x="4873680" y="3316320"/>
            <a:ext cx="1306440" cy="8161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7"/>
          <a:stretch/>
        </p:blipFill>
        <p:spPr>
          <a:xfrm>
            <a:off x="2773440" y="4497480"/>
            <a:ext cx="704880" cy="6444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8"/>
          <a:stretch/>
        </p:blipFill>
        <p:spPr>
          <a:xfrm>
            <a:off x="6245280" y="2951280"/>
            <a:ext cx="588960" cy="5176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9"/>
          <a:stretch/>
        </p:blipFill>
        <p:spPr>
          <a:xfrm>
            <a:off x="6097680" y="4208400"/>
            <a:ext cx="695160" cy="5526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0"/>
          <a:stretch/>
        </p:blipFill>
        <p:spPr>
          <a:xfrm>
            <a:off x="6289560" y="3554280"/>
            <a:ext cx="550800" cy="46044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 txBox="1"/>
          <p:nvPr/>
        </p:nvSpPr>
        <p:spPr>
          <a:xfrm>
            <a:off x="411120" y="3541680"/>
            <a:ext cx="8301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170160" y="3454560"/>
            <a:ext cx="1077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al-Tim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927680" y="3454560"/>
            <a:ext cx="120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phon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5454720" y="1012680"/>
            <a:ext cx="11462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atekee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528920" y="1008000"/>
            <a:ext cx="144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.323 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136520" y="2313000"/>
            <a:ext cx="7524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2300400" y="2548080"/>
            <a:ext cx="6746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070680" y="2313000"/>
            <a:ext cx="9097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759720" y="2951280"/>
            <a:ext cx="117792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.32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Over ISD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738840" y="3502080"/>
            <a:ext cx="12160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.32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Over P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551640" y="4606920"/>
            <a:ext cx="1254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ech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PST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766960" y="5110200"/>
            <a:ext cx="654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.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20760" y="1852560"/>
            <a:ext cx="10098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rp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1"/>
          <a:stretch/>
        </p:blipFill>
        <p:spPr>
          <a:xfrm>
            <a:off x="5259240" y="2365200"/>
            <a:ext cx="533520" cy="70488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12"/>
          <a:stretch/>
        </p:blipFill>
        <p:spPr>
          <a:xfrm>
            <a:off x="5848200" y="1409760"/>
            <a:ext cx="422280" cy="6364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3"/>
          <a:stretch/>
        </p:blipFill>
        <p:spPr>
          <a:xfrm>
            <a:off x="3490920" y="2400480"/>
            <a:ext cx="422280" cy="636480"/>
          </a:xfrm>
          <a:prstGeom prst="rect">
            <a:avLst/>
          </a:prstGeom>
          <a:ln w="0">
            <a:noFill/>
          </a:ln>
        </p:spPr>
      </p:pic>
      <p:grpSp>
        <p:nvGrpSpPr>
          <p:cNvPr id="566" name=""/>
          <p:cNvGrpSpPr/>
          <p:nvPr/>
        </p:nvGrpSpPr>
        <p:grpSpPr>
          <a:xfrm>
            <a:off x="3540240" y="4491000"/>
            <a:ext cx="2481480" cy="1160640"/>
            <a:chOff x="3540240" y="4491000"/>
            <a:chExt cx="2481480" cy="1160640"/>
          </a:xfrm>
        </p:grpSpPr>
        <p:sp>
          <p:nvSpPr>
            <p:cNvPr id="567" name=""/>
            <p:cNvSpPr txBox="1"/>
            <p:nvPr/>
          </p:nvSpPr>
          <p:spPr>
            <a:xfrm>
              <a:off x="3540240" y="4756320"/>
              <a:ext cx="2459160" cy="89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4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  <a:ea typeface="Arial"/>
                </a:rPr>
                <a:t>Internet Phone/I-Fax (VOI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4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ata Conferencing (T.12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4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  <a:ea typeface="Arial"/>
                </a:rPr>
                <a:t>Video Conferenc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3613320" y="4491000"/>
              <a:ext cx="2408400" cy="2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4000"/>
                </a:lnSpc>
                <a:spcBef>
                  <a:spcPts val="1199"/>
                </a:spcBef>
              </a:pPr>
              <a:r>
                <a:rPr b="1" lang="en-US" sz="1400" spc="-1" strike="noStrike" u="sng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Typical H.323 Appl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584280" y="2147760"/>
            <a:ext cx="62150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5864400" y="2744640"/>
            <a:ext cx="1202040" cy="935280"/>
          </a:xfrm>
          <a:custGeom>
            <a:avLst/>
            <a:gdLst/>
            <a:ahLst/>
            <a:rect l="0" t="0" r="r" b="b"/>
            <a:pathLst>
              <a:path fill="none" w="3339" h="2598">
                <a:moveTo>
                  <a:pt x="0" y="0"/>
                </a:moveTo>
                <a:lnTo>
                  <a:pt x="0" y="2598"/>
                </a:lnTo>
                <a:lnTo>
                  <a:pt x="3312" y="2598"/>
                </a:lnTo>
                <a:lnTo>
                  <a:pt x="3312" y="2492"/>
                </a:lnTo>
                <a:lnTo>
                  <a:pt x="3312" y="1591"/>
                </a:lnTo>
                <a:lnTo>
                  <a:pt x="3339" y="1591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11320" y="2678040"/>
            <a:ext cx="1163880" cy="973440"/>
          </a:xfrm>
          <a:custGeom>
            <a:avLst/>
            <a:gdLst/>
            <a:ahLst/>
            <a:rect l="0" t="0" r="r" b="b"/>
            <a:pathLst>
              <a:path fill="none" w="3233" h="2704">
                <a:moveTo>
                  <a:pt x="3233" y="0"/>
                </a:moveTo>
                <a:lnTo>
                  <a:pt x="3233" y="2704"/>
                </a:lnTo>
                <a:lnTo>
                  <a:pt x="0" y="2704"/>
                </a:lnTo>
                <a:lnTo>
                  <a:pt x="0" y="1723"/>
                </a:lnTo>
                <a:lnTo>
                  <a:pt x="26" y="172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82720" y="631800"/>
            <a:ext cx="6434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PBX to Router VoIP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57280" y="1544760"/>
            <a:ext cx="1600560" cy="381240"/>
          </a:xfrm>
          <a:custGeom>
            <a:avLst/>
            <a:gdLst/>
            <a:ahLst/>
            <a:rect l="0" t="0" r="r" b="b"/>
            <a:pathLst>
              <a:path w="4446" h="1059">
                <a:moveTo>
                  <a:pt x="0" y="352"/>
                </a:moveTo>
                <a:lnTo>
                  <a:pt x="0" y="705"/>
                </a:lnTo>
                <a:lnTo>
                  <a:pt x="3112" y="705"/>
                </a:lnTo>
                <a:lnTo>
                  <a:pt x="3112" y="1059"/>
                </a:lnTo>
                <a:lnTo>
                  <a:pt x="4446" y="530"/>
                </a:lnTo>
                <a:lnTo>
                  <a:pt x="3112" y="0"/>
                </a:lnTo>
                <a:lnTo>
                  <a:pt x="3112" y="352"/>
                </a:lnTo>
                <a:lnTo>
                  <a:pt x="0" y="352"/>
                </a:lnTo>
                <a:close/>
              </a:path>
            </a:pathLst>
          </a:custGeom>
          <a:gradFill rotWithShape="0">
            <a:gsLst>
              <a:gs pos="0">
                <a:srgbClr val="002934"/>
              </a:gs>
              <a:gs pos="50000">
                <a:srgbClr val="008bae"/>
              </a:gs>
              <a:gs pos="100000">
                <a:srgbClr val="002934"/>
              </a:gs>
            </a:gsLst>
            <a:lin ang="2700000"/>
          </a:gradFill>
          <a:ln w="12600">
            <a:solidFill>
              <a:srgbClr val="66cc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997520" y="2413080"/>
            <a:ext cx="5619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59520" y="2332080"/>
            <a:ext cx="4395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59520" y="2413080"/>
            <a:ext cx="4395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490840" y="2413080"/>
            <a:ext cx="7970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6400800" y="1954080"/>
            <a:ext cx="1306440" cy="10350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995560" y="1920960"/>
            <a:ext cx="2197080" cy="128268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3468600" y="2214720"/>
            <a:ext cx="13208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507000" y="2106720"/>
            <a:ext cx="9176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98400" y="3780000"/>
            <a:ext cx="2048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Analog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154160" y="4135320"/>
            <a:ext cx="9414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FXO/FX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544680" y="1598760"/>
            <a:ext cx="10191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52783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386080" y="1603440"/>
            <a:ext cx="0" cy="664920"/>
          </a:xfrm>
          <a:prstGeom prst="line">
            <a:avLst/>
          </a:prstGeom>
          <a:ln w="25560">
            <a:solidFill>
              <a:srgbClr val="41414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815080" y="1616040"/>
            <a:ext cx="0" cy="500040"/>
          </a:xfrm>
          <a:prstGeom prst="line">
            <a:avLst/>
          </a:prstGeom>
          <a:ln w="25560">
            <a:solidFill>
              <a:srgbClr val="41414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5191200" y="1316160"/>
            <a:ext cx="14320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H.323 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379600" y="1779480"/>
            <a:ext cx="1011240" cy="0"/>
          </a:xfrm>
          <a:prstGeom prst="line">
            <a:avLst/>
          </a:prstGeom>
          <a:ln w="25560">
            <a:solidFill>
              <a:srgbClr val="41414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4821120" y="1781280"/>
            <a:ext cx="965160" cy="1440"/>
          </a:xfrm>
          <a:prstGeom prst="line">
            <a:avLst/>
          </a:prstGeom>
          <a:ln w="25560">
            <a:solidFill>
              <a:srgbClr val="41414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408480" y="1657440"/>
            <a:ext cx="13032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H.225 (Q.93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164200" y="3855960"/>
            <a:ext cx="26701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Digital Trunk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994360" y="4210200"/>
            <a:ext cx="10098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E&amp;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C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Q.931/P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6029280" y="1620720"/>
            <a:ext cx="1614960" cy="381240"/>
            <a:chOff x="6029280" y="1620720"/>
            <a:chExt cx="1614960" cy="381240"/>
          </a:xfrm>
        </p:grpSpPr>
        <p:sp>
          <p:nvSpPr>
            <p:cNvPr id="594" name=""/>
            <p:cNvSpPr/>
            <p:nvPr/>
          </p:nvSpPr>
          <p:spPr>
            <a:xfrm>
              <a:off x="6043680" y="1620720"/>
              <a:ext cx="1600560" cy="381240"/>
            </a:xfrm>
            <a:custGeom>
              <a:avLst/>
              <a:gdLst/>
              <a:ahLst/>
              <a:rect l="0" t="0" r="r" b="b"/>
              <a:pathLst>
                <a:path w="4446" h="1059">
                  <a:moveTo>
                    <a:pt x="0" y="352"/>
                  </a:moveTo>
                  <a:lnTo>
                    <a:pt x="0" y="705"/>
                  </a:lnTo>
                  <a:lnTo>
                    <a:pt x="3112" y="705"/>
                  </a:lnTo>
                  <a:lnTo>
                    <a:pt x="3112" y="1059"/>
                  </a:lnTo>
                  <a:lnTo>
                    <a:pt x="4446" y="530"/>
                  </a:lnTo>
                  <a:lnTo>
                    <a:pt x="3112" y="0"/>
                  </a:lnTo>
                  <a:lnTo>
                    <a:pt x="3112" y="352"/>
                  </a:lnTo>
                  <a:lnTo>
                    <a:pt x="0" y="352"/>
                  </a:lnTo>
                  <a:close/>
                </a:path>
              </a:pathLst>
            </a:custGeom>
            <a:gradFill rotWithShape="0">
              <a:gsLst>
                <a:gs pos="0">
                  <a:srgbClr val="002934"/>
                </a:gs>
                <a:gs pos="50000">
                  <a:srgbClr val="008bae"/>
                </a:gs>
                <a:gs pos="100000">
                  <a:srgbClr val="002934"/>
                </a:gs>
              </a:gsLst>
              <a:lin ang="2700000"/>
            </a:gradFill>
            <a:ln w="12600">
              <a:solidFill>
                <a:srgbClr val="66cc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6029280" y="1674720"/>
              <a:ext cx="10206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  <a:ea typeface="Arial"/>
                </a:rPr>
                <a:t>  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  <a:ea typeface="Arial"/>
                </a:rPr>
                <a:t>52783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"/>
          <p:cNvSpPr txBox="1"/>
          <p:nvPr/>
        </p:nvSpPr>
        <p:spPr>
          <a:xfrm>
            <a:off x="1541520" y="3208320"/>
            <a:ext cx="3636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81520" y="1324080"/>
            <a:ext cx="3636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318360" y="3208320"/>
            <a:ext cx="3636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31880" y="2357280"/>
            <a:ext cx="1262160" cy="0"/>
          </a:xfrm>
          <a:prstGeom prst="line">
            <a:avLst/>
          </a:prstGeom>
          <a:ln w="255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31880" y="2433600"/>
            <a:ext cx="11858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220680" y="2138400"/>
            <a:ext cx="774720" cy="6112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4"/>
          <a:stretch/>
        </p:blipFill>
        <p:spPr>
          <a:xfrm>
            <a:off x="5499000" y="2124000"/>
            <a:ext cx="706320" cy="6951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5"/>
          <a:stretch/>
        </p:blipFill>
        <p:spPr>
          <a:xfrm>
            <a:off x="1949400" y="2236680"/>
            <a:ext cx="685800" cy="428760"/>
          </a:xfrm>
          <a:prstGeom prst="rect">
            <a:avLst/>
          </a:prstGeom>
          <a:ln w="0">
            <a:noFill/>
          </a:ln>
        </p:spPr>
      </p:pic>
      <p:grpSp>
        <p:nvGrpSpPr>
          <p:cNvPr id="604" name=""/>
          <p:cNvGrpSpPr/>
          <p:nvPr/>
        </p:nvGrpSpPr>
        <p:grpSpPr>
          <a:xfrm>
            <a:off x="5624640" y="2643120"/>
            <a:ext cx="453960" cy="325440"/>
            <a:chOff x="5624640" y="2643120"/>
            <a:chExt cx="453960" cy="325440"/>
          </a:xfrm>
        </p:grpSpPr>
        <p:pic>
          <p:nvPicPr>
            <p:cNvPr id="605" name="" descr=""/>
            <p:cNvPicPr/>
            <p:nvPr/>
          </p:nvPicPr>
          <p:blipFill>
            <a:blip r:embed="rId6"/>
            <a:stretch/>
          </p:blipFill>
          <p:spPr>
            <a:xfrm>
              <a:off x="5624640" y="2643120"/>
              <a:ext cx="45396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 txBox="1"/>
            <p:nvPr/>
          </p:nvSpPr>
          <p:spPr>
            <a:xfrm>
              <a:off x="5684760" y="2712960"/>
              <a:ext cx="25884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TP/RTCP—RFCs 1889/18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09480" y="1762200"/>
            <a:ext cx="6910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End-to-end network transport fun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Payload type identif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Sequence number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Timestamp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Delivery monitor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RTCP (Real-Time Control Protocol) provides feedback on the quality of the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RTP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does not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address: Resource reservation or guaranteed quality of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andwidth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278080" y="1114560"/>
            <a:ext cx="35067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Voice Band Traff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1655640" y="1693800"/>
            <a:ext cx="4880160" cy="4083120"/>
            <a:chOff x="1655640" y="1693800"/>
            <a:chExt cx="4880160" cy="4083120"/>
          </a:xfrm>
        </p:grpSpPr>
        <p:sp>
          <p:nvSpPr>
            <p:cNvPr id="612" name=""/>
            <p:cNvSpPr/>
            <p:nvPr/>
          </p:nvSpPr>
          <p:spPr>
            <a:xfrm>
              <a:off x="1746360" y="1781280"/>
              <a:ext cx="4789440" cy="3995640"/>
            </a:xfrm>
            <a:prstGeom prst="rect">
              <a:avLst/>
            </a:prstGeom>
            <a:gradFill rotWithShape="0">
              <a:gsLst>
                <a:gs pos="0">
                  <a:srgbClr val="e5e5e5"/>
                </a:gs>
                <a:gs pos="50000">
                  <a:srgbClr val="ffffff"/>
                </a:gs>
                <a:gs pos="100000">
                  <a:srgbClr val="e5e5e5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655640" y="1693800"/>
              <a:ext cx="4789440" cy="3995640"/>
            </a:xfrm>
            <a:prstGeom prst="rect">
              <a:avLst/>
            </a:prstGeom>
            <a:gradFill rotWithShape="0">
              <a:gsLst>
                <a:gs pos="0">
                  <a:srgbClr val="002028"/>
                </a:gs>
                <a:gs pos="50000">
                  <a:srgbClr val="006c88"/>
                </a:gs>
                <a:gs pos="100000">
                  <a:srgbClr val="002028"/>
                </a:gs>
              </a:gsLst>
              <a:lin ang="2700000"/>
            </a:gradFill>
            <a:ln w="25560">
              <a:solidFill>
                <a:srgbClr val="81c2f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55640" y="1693800"/>
              <a:ext cx="4780080" cy="824040"/>
            </a:xfrm>
            <a:prstGeom prst="rect">
              <a:avLst/>
            </a:prstGeom>
            <a:gradFill rotWithShape="0">
              <a:gsLst>
                <a:gs pos="0">
                  <a:srgbClr val="001217"/>
                </a:gs>
                <a:gs pos="50000">
                  <a:srgbClr val="003e4e"/>
                </a:gs>
                <a:gs pos="100000">
                  <a:srgbClr val="001217"/>
                </a:gs>
              </a:gsLst>
              <a:lin ang="2700000"/>
            </a:gradFill>
            <a:ln w="25560">
              <a:solidFill>
                <a:srgbClr val="81c2f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1760400" y="1787400"/>
              <a:ext cx="18018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Encoding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Compre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4441680" y="1785960"/>
              <a:ext cx="1622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Resul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Bit 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>
              <a:off x="1841400" y="2616120"/>
              <a:ext cx="135108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G.711 PC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A-Law/</a:t>
              </a:r>
              <a:r>
                <a:rPr b="1" i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u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-Law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>
              <a:off x="4529160" y="2616120"/>
              <a:ext cx="143820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64 kbps (DS0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>
              <a:off x="1841400" y="3332160"/>
              <a:ext cx="14493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G.726 ADPC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>
              <a:off x="4403880" y="3332160"/>
              <a:ext cx="18399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16, 24, 32, 40 kb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 txBox="1"/>
            <p:nvPr/>
          </p:nvSpPr>
          <p:spPr>
            <a:xfrm>
              <a:off x="1841400" y="3790800"/>
              <a:ext cx="163980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G.727 E-ADPC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1839960" y="4227480"/>
              <a:ext cx="172404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G.729 CS-ACEL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 txBox="1"/>
            <p:nvPr/>
          </p:nvSpPr>
          <p:spPr>
            <a:xfrm>
              <a:off x="4865760" y="4227480"/>
              <a:ext cx="78120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8 kb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 txBox="1"/>
            <p:nvPr/>
          </p:nvSpPr>
          <p:spPr>
            <a:xfrm>
              <a:off x="1839960" y="4641840"/>
              <a:ext cx="157464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G.728 LD-CEL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>
              <a:off x="4811760" y="4641840"/>
              <a:ext cx="88740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16 kb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 txBox="1"/>
            <p:nvPr/>
          </p:nvSpPr>
          <p:spPr>
            <a:xfrm>
              <a:off x="1839960" y="5089680"/>
              <a:ext cx="141588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G.723.1 CEL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 txBox="1"/>
            <p:nvPr/>
          </p:nvSpPr>
          <p:spPr>
            <a:xfrm>
              <a:off x="4622760" y="5089680"/>
              <a:ext cx="125748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6.3/5.3 kb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Variab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>
              <a:off x="4403880" y="3790800"/>
              <a:ext cx="18399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16, 24, 32, 40 kb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0280" y="2508120"/>
              <a:ext cx="4700520" cy="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87680" y="3241800"/>
              <a:ext cx="472572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87680" y="3722760"/>
              <a:ext cx="472572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687680" y="4164120"/>
              <a:ext cx="472572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87680" y="4583160"/>
              <a:ext cx="472572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87680" y="5032440"/>
              <a:ext cx="472572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30640" y="1719360"/>
              <a:ext cx="0" cy="395136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oice Transpor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09480" y="1762200"/>
            <a:ext cx="337824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Subjective qual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M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Delay and delay vari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Echo cancell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140360" y="1762200"/>
            <a:ext cx="337968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Background noi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Silence suppress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Comfort noi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Language sensitiv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285920" y="3092400"/>
            <a:ext cx="5519880" cy="2506680"/>
            <a:chOff x="1285920" y="3092400"/>
            <a:chExt cx="5519880" cy="2506680"/>
          </a:xfrm>
        </p:grpSpPr>
        <p:sp>
          <p:nvSpPr>
            <p:cNvPr id="640" name=""/>
            <p:cNvSpPr/>
            <p:nvPr/>
          </p:nvSpPr>
          <p:spPr>
            <a:xfrm>
              <a:off x="1362240" y="3178080"/>
              <a:ext cx="5443560" cy="2421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85920" y="3102120"/>
              <a:ext cx="5443560" cy="2421000"/>
            </a:xfrm>
            <a:prstGeom prst="rect">
              <a:avLst/>
            </a:prstGeom>
            <a:gradFill rotWithShape="0">
              <a:gsLst>
                <a:gs pos="0">
                  <a:srgbClr val="004b5f"/>
                </a:gs>
                <a:gs pos="50000">
                  <a:srgbClr val="006c88"/>
                </a:gs>
                <a:gs pos="100000">
                  <a:srgbClr val="004b5f"/>
                </a:gs>
              </a:gsLst>
              <a:lin ang="2700000"/>
            </a:gradFill>
            <a:ln w="25560">
              <a:solidFill>
                <a:srgbClr val="66cc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 txBox="1"/>
            <p:nvPr/>
          </p:nvSpPr>
          <p:spPr>
            <a:xfrm>
              <a:off x="2664000" y="3517920"/>
              <a:ext cx="2606760" cy="154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Bandwid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lay Variation (Jitt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 txBox="1"/>
            <p:nvPr/>
          </p:nvSpPr>
          <p:spPr>
            <a:xfrm>
              <a:off x="1909800" y="3092400"/>
              <a:ext cx="42750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VoIP Challenges in the W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1392120" y="5065560"/>
              <a:ext cx="528624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(Amplified with Coexistence of Voice and Dat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elay Budgeting—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etworked End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819440" y="1422360"/>
            <a:ext cx="4673520" cy="4303440"/>
            <a:chOff x="1819440" y="1422360"/>
            <a:chExt cx="4673520" cy="4303440"/>
          </a:xfrm>
        </p:grpSpPr>
        <p:sp>
          <p:nvSpPr>
            <p:cNvPr id="647" name=""/>
            <p:cNvSpPr/>
            <p:nvPr/>
          </p:nvSpPr>
          <p:spPr>
            <a:xfrm>
              <a:off x="1909800" y="1512720"/>
              <a:ext cx="4583160" cy="42130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819440" y="1422360"/>
              <a:ext cx="4597560" cy="1492200"/>
            </a:xfrm>
            <a:prstGeom prst="rect">
              <a:avLst/>
            </a:prstGeom>
            <a:gradFill rotWithShape="0">
              <a:gsLst>
                <a:gs pos="0">
                  <a:srgbClr val="ffe59b"/>
                </a:gs>
                <a:gs pos="50000">
                  <a:srgbClr val="ffe8a5"/>
                </a:gs>
                <a:gs pos="100000">
                  <a:srgbClr val="ffe59b"/>
                </a:gs>
              </a:gsLst>
              <a:lin ang="2700000"/>
            </a:gradFill>
            <a:ln w="38160">
              <a:solidFill>
                <a:srgbClr val="00ff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19440" y="2914560"/>
              <a:ext cx="4597560" cy="1255680"/>
            </a:xfrm>
            <a:prstGeom prst="rect">
              <a:avLst/>
            </a:prstGeom>
            <a:gradFill rotWithShape="0">
              <a:gsLst>
                <a:gs pos="0">
                  <a:srgbClr val="004151"/>
                </a:gs>
                <a:gs pos="50000">
                  <a:srgbClr val="006c88"/>
                </a:gs>
                <a:gs pos="100000">
                  <a:srgbClr val="004151"/>
                </a:gs>
              </a:gsLst>
              <a:lin ang="2700000"/>
            </a:gradFill>
            <a:ln w="25560">
              <a:solidFill>
                <a:srgbClr val="00c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820880" y="4159080"/>
              <a:ext cx="4595760" cy="14922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bababa"/>
                </a:gs>
                <a:gs pos="100000">
                  <a:srgbClr val="b2b2b2"/>
                </a:gs>
              </a:gsLst>
              <a:lin ang="2700000"/>
            </a:gradFill>
            <a:ln w="25560">
              <a:solidFill>
                <a:srgbClr val="dddddd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 txBox="1"/>
            <p:nvPr/>
          </p:nvSpPr>
          <p:spPr>
            <a:xfrm>
              <a:off x="1828800" y="4348080"/>
              <a:ext cx="2039760" cy="12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414141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 queu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414141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itter buf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414141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 txBox="1"/>
            <p:nvPr/>
          </p:nvSpPr>
          <p:spPr>
            <a:xfrm>
              <a:off x="1828800" y="2952720"/>
              <a:ext cx="4308480" cy="12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ffff00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Access (up) link transmi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ffff00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Backbone network transmi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ffff00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Access (down) link transmi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 txBox="1"/>
            <p:nvPr/>
          </p:nvSpPr>
          <p:spPr>
            <a:xfrm>
              <a:off x="1828800" y="1515960"/>
              <a:ext cx="2251080" cy="12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414141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414141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414141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 queu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54160" y="2058840"/>
            <a:ext cx="7645320" cy="2387520"/>
          </a:xfrm>
          <a:prstGeom prst="rect">
            <a:avLst/>
          </a:prstGeom>
          <a:gradFill rotWithShape="0">
            <a:gsLst>
              <a:gs pos="0">
                <a:srgbClr val="4c4c4c"/>
              </a:gs>
              <a:gs pos="50000">
                <a:srgbClr val="ffffff"/>
              </a:gs>
              <a:gs pos="100000">
                <a:srgbClr val="4c4c4c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644400" y="196920"/>
            <a:ext cx="738036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elay—How Much Is Too Muc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68200" y="1162080"/>
            <a:ext cx="7591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umulative Transmission Path Del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77840" y="1982880"/>
            <a:ext cx="7645320" cy="238752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308400" y="3743280"/>
            <a:ext cx="12160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(ms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74680" y="3276720"/>
            <a:ext cx="73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6880" y="3276720"/>
            <a:ext cx="7315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30636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8096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746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8492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104292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1219320" y="323532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141120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158760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177948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195408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147760" y="3233880"/>
            <a:ext cx="0" cy="209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32416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5160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26906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288432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3059280" y="3235320"/>
            <a:ext cx="0" cy="204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25440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342900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362268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7958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3960720" y="3235320"/>
            <a:ext cx="19080" cy="195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416412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434016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45338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47084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4900680" y="3235320"/>
            <a:ext cx="0" cy="223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07672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527220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544680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64048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5813280" y="3235320"/>
            <a:ext cx="0" cy="185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00552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618156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637380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65516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6743880" y="3235320"/>
            <a:ext cx="0" cy="195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691992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711216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72896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748188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7655040" y="3235320"/>
            <a:ext cx="0" cy="185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162000" y="3395520"/>
            <a:ext cx="2793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973080" y="3395520"/>
            <a:ext cx="476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905120" y="3395520"/>
            <a:ext cx="476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2841480" y="3395520"/>
            <a:ext cx="476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743280" y="3395520"/>
            <a:ext cx="476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008600" y="2290680"/>
            <a:ext cx="2906640" cy="279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008600" y="2290680"/>
            <a:ext cx="290664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CB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41400" y="2592360"/>
            <a:ext cx="3321000" cy="279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1841400" y="2592360"/>
            <a:ext cx="332100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Satellite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456080" y="2871720"/>
            <a:ext cx="3220920" cy="279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456080" y="2871720"/>
            <a:ext cx="322092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Fax Relay, Broad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93760" y="2871720"/>
            <a:ext cx="1547640" cy="2811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293760" y="2871720"/>
            <a:ext cx="154764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High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1530360" y="3036960"/>
            <a:ext cx="482760" cy="469800"/>
            <a:chOff x="1530360" y="3036960"/>
            <a:chExt cx="482760" cy="469800"/>
          </a:xfrm>
        </p:grpSpPr>
        <p:sp>
          <p:nvSpPr>
            <p:cNvPr id="716" name=""/>
            <p:cNvSpPr/>
            <p:nvPr/>
          </p:nvSpPr>
          <p:spPr>
            <a:xfrm>
              <a:off x="1530360" y="3036960"/>
              <a:ext cx="482760" cy="469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550880" y="3271680"/>
              <a:ext cx="449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73360" y="3056040"/>
              <a:ext cx="0" cy="4363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25480" y="3230640"/>
              <a:ext cx="96840" cy="84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txBody>
            <a:bodyPr lIns="102600" rIns="1026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"/>
          <p:cNvSpPr txBox="1"/>
          <p:nvPr/>
        </p:nvSpPr>
        <p:spPr>
          <a:xfrm>
            <a:off x="2208240" y="4064040"/>
            <a:ext cx="12445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lay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882800" y="4170240"/>
            <a:ext cx="347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1757520" y="3346560"/>
            <a:ext cx="93600" cy="855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675320" y="3395520"/>
            <a:ext cx="476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5578560" y="3395520"/>
            <a:ext cx="476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496200" y="3395520"/>
            <a:ext cx="476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7399440" y="3395520"/>
            <a:ext cx="476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876240" y="4773600"/>
            <a:ext cx="63594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ITU’s G.114 Recommendation = 0 – 150msec 1-way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2322360" y="1523880"/>
            <a:ext cx="3538440" cy="218268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4935600" y="2271600"/>
            <a:ext cx="969840" cy="762120"/>
          </a:xfrm>
          <a:prstGeom prst="rect">
            <a:avLst/>
          </a:prstGeom>
          <a:gradFill rotWithShape="0">
            <a:gsLst>
              <a:gs pos="0">
                <a:srgbClr val="004b5f"/>
              </a:gs>
              <a:gs pos="50000">
                <a:srgbClr val="006c88"/>
              </a:gs>
              <a:gs pos="100000">
                <a:srgbClr val="004b5f"/>
              </a:gs>
            </a:gsLst>
            <a:lin ang="2700000"/>
          </a:gradFill>
          <a:ln w="12600">
            <a:solidFill>
              <a:srgbClr val="66cc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206800" y="2287440"/>
            <a:ext cx="973080" cy="714240"/>
          </a:xfrm>
          <a:prstGeom prst="rect">
            <a:avLst/>
          </a:prstGeom>
          <a:gradFill rotWithShape="0">
            <a:gsLst>
              <a:gs pos="0">
                <a:srgbClr val="004b5f"/>
              </a:gs>
              <a:gs pos="50000">
                <a:srgbClr val="006c88"/>
              </a:gs>
              <a:gs pos="100000">
                <a:srgbClr val="004b5f"/>
              </a:gs>
            </a:gsLst>
            <a:lin ang="2700000"/>
          </a:gradFill>
          <a:ln w="12600">
            <a:solidFill>
              <a:srgbClr val="66cc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044720" y="2693880"/>
            <a:ext cx="1554120" cy="0"/>
          </a:xfrm>
          <a:prstGeom prst="line">
            <a:avLst/>
          </a:prstGeom>
          <a:ln w="25560">
            <a:solidFill>
              <a:srgbClr val="414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603760" y="2693880"/>
            <a:ext cx="1554120" cy="0"/>
          </a:xfrm>
          <a:prstGeom prst="line">
            <a:avLst/>
          </a:prstGeom>
          <a:ln w="25560">
            <a:solidFill>
              <a:srgbClr val="414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880920" y="406440"/>
            <a:ext cx="6435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Fixed Delay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03200" y="3773520"/>
            <a:ext cx="7311960" cy="19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Propagation—six microseconds per kilo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Serial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Coding/compression/decompression/decod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Packetiz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3716280" y="2338560"/>
            <a:ext cx="777960" cy="62244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3076560" y="2681280"/>
            <a:ext cx="627120" cy="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435560" y="2681280"/>
            <a:ext cx="627120" cy="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30840" y="2384280"/>
            <a:ext cx="317520" cy="292320"/>
          </a:xfrm>
          <a:custGeom>
            <a:avLst/>
            <a:gdLst/>
            <a:ahLst/>
            <a:rect l="0" t="0" r="r" b="b"/>
            <a:pathLst>
              <a:path fill="none" w="882" h="812">
                <a:moveTo>
                  <a:pt x="882" y="812"/>
                </a:moveTo>
                <a:lnTo>
                  <a:pt x="882" y="812"/>
                </a:lnTo>
                <a:lnTo>
                  <a:pt x="882" y="812"/>
                </a:lnTo>
                <a:cubicBezTo>
                  <a:pt x="882" y="669"/>
                  <a:pt x="841" y="529"/>
                  <a:pt x="764" y="406"/>
                </a:cubicBezTo>
                <a:cubicBezTo>
                  <a:pt x="686" y="283"/>
                  <a:pt x="575" y="180"/>
                  <a:pt x="440" y="109"/>
                </a:cubicBezTo>
                <a:cubicBezTo>
                  <a:pt x="307" y="38"/>
                  <a:pt x="155" y="0"/>
                  <a:pt x="0" y="0"/>
                </a:cubicBezTo>
              </a:path>
            </a:pathLst>
          </a:custGeom>
          <a:ln w="25560">
            <a:solidFill>
              <a:srgbClr val="7b00e4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23920" y="1028880"/>
            <a:ext cx="2260440" cy="1130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87280" y="1828800"/>
            <a:ext cx="304920" cy="241200"/>
          </a:xfrm>
          <a:prstGeom prst="rect">
            <a:avLst/>
          </a:prstGeom>
          <a:gradFill rotWithShape="0">
            <a:gsLst>
              <a:gs pos="0">
                <a:srgbClr val="004b5f"/>
              </a:gs>
              <a:gs pos="50000">
                <a:srgbClr val="006c88"/>
              </a:gs>
              <a:gs pos="100000">
                <a:srgbClr val="004b5f"/>
              </a:gs>
            </a:gsLst>
            <a:lin ang="2700000"/>
          </a:gradFill>
          <a:ln w="12600">
            <a:solidFill>
              <a:srgbClr val="00c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07800" y="1206360"/>
            <a:ext cx="297000" cy="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07800" y="1460520"/>
            <a:ext cx="297000" cy="0"/>
          </a:xfrm>
          <a:prstGeom prst="line">
            <a:avLst/>
          </a:prstGeom>
          <a:ln w="25560">
            <a:solidFill>
              <a:srgbClr val="7b00e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608040" y="1817640"/>
            <a:ext cx="1658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ssing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09480" y="1069920"/>
            <a:ext cx="17366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pagation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09480" y="1336680"/>
            <a:ext cx="19256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ialization Delay—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ffer to Serial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5073480" y="2338560"/>
            <a:ext cx="777960" cy="62244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4"/>
          <a:stretch/>
        </p:blipFill>
        <p:spPr>
          <a:xfrm>
            <a:off x="2335320" y="2338560"/>
            <a:ext cx="777960" cy="62244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4402440" y="2384280"/>
            <a:ext cx="317520" cy="292320"/>
          </a:xfrm>
          <a:custGeom>
            <a:avLst/>
            <a:gdLst/>
            <a:ahLst/>
            <a:rect l="0" t="0" r="r" b="b"/>
            <a:pathLst>
              <a:path fill="none" w="882" h="812">
                <a:moveTo>
                  <a:pt x="882" y="812"/>
                </a:moveTo>
                <a:lnTo>
                  <a:pt x="882" y="812"/>
                </a:lnTo>
                <a:lnTo>
                  <a:pt x="882" y="812"/>
                </a:lnTo>
                <a:cubicBezTo>
                  <a:pt x="882" y="669"/>
                  <a:pt x="841" y="529"/>
                  <a:pt x="764" y="406"/>
                </a:cubicBezTo>
                <a:cubicBezTo>
                  <a:pt x="686" y="283"/>
                  <a:pt x="575" y="180"/>
                  <a:pt x="440" y="109"/>
                </a:cubicBezTo>
                <a:cubicBezTo>
                  <a:pt x="307" y="38"/>
                  <a:pt x="155" y="0"/>
                  <a:pt x="0" y="0"/>
                </a:cubicBezTo>
              </a:path>
            </a:pathLst>
          </a:custGeom>
          <a:ln w="25560">
            <a:solidFill>
              <a:srgbClr val="7b00e4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5"/>
          <a:stretch/>
        </p:blipFill>
        <p:spPr>
          <a:xfrm>
            <a:off x="596880" y="2476440"/>
            <a:ext cx="716040" cy="50796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6"/>
          <a:stretch/>
        </p:blipFill>
        <p:spPr>
          <a:xfrm>
            <a:off x="7074000" y="2476440"/>
            <a:ext cx="716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7840" y="1414440"/>
            <a:ext cx="777240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ossible VoIP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VoIP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acket Networking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ariable Delay Compon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03200" y="3963960"/>
            <a:ext cx="7311960" cy="18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Queuing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ejitte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Variable packet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1708200" y="2017800"/>
            <a:ext cx="3908520" cy="18543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033560" y="2606760"/>
            <a:ext cx="629100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6665760" y="2324160"/>
            <a:ext cx="797040" cy="63036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3"/>
          <a:stretch/>
        </p:blipFill>
        <p:spPr>
          <a:xfrm>
            <a:off x="655560" y="2324160"/>
            <a:ext cx="797040" cy="63036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5761080" y="2955960"/>
            <a:ext cx="0" cy="411120"/>
          </a:xfrm>
          <a:prstGeom prst="line">
            <a:avLst/>
          </a:prstGeom>
          <a:ln w="25560">
            <a:solidFill>
              <a:srgbClr val="41414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5378400" y="3354480"/>
            <a:ext cx="7920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Dejitter</a:t>
            </a:r>
            <a:br>
              <a:rPr sz="1400"/>
            </a:b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1824120" y="1484280"/>
            <a:ext cx="9478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Queuing </a:t>
            </a:r>
            <a:br>
              <a:rPr sz="1400"/>
            </a:b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335320" y="2327400"/>
            <a:ext cx="3516120" cy="622440"/>
            <a:chOff x="2335320" y="2327400"/>
            <a:chExt cx="3516120" cy="622440"/>
          </a:xfrm>
        </p:grpSpPr>
        <p:pic>
          <p:nvPicPr>
            <p:cNvPr id="761" name="" descr=""/>
            <p:cNvPicPr/>
            <p:nvPr/>
          </p:nvPicPr>
          <p:blipFill>
            <a:blip r:embed="rId4"/>
            <a:stretch/>
          </p:blipFill>
          <p:spPr>
            <a:xfrm>
              <a:off x="5073480" y="2327400"/>
              <a:ext cx="77796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5"/>
            <a:stretch/>
          </p:blipFill>
          <p:spPr>
            <a:xfrm>
              <a:off x="2335320" y="2327400"/>
              <a:ext cx="77796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6"/>
            <a:stretch/>
          </p:blipFill>
          <p:spPr>
            <a:xfrm>
              <a:off x="3716280" y="2327400"/>
              <a:ext cx="7779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4" name=""/>
          <p:cNvSpPr txBox="1"/>
          <p:nvPr/>
        </p:nvSpPr>
        <p:spPr>
          <a:xfrm>
            <a:off x="3195720" y="1484280"/>
            <a:ext cx="9478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Queuing </a:t>
            </a:r>
            <a:br>
              <a:rPr sz="1400"/>
            </a:b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68760" y="1484280"/>
            <a:ext cx="9478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Queuing </a:t>
            </a:r>
            <a:br>
              <a:rPr sz="1400"/>
            </a:b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839960" y="2058840"/>
            <a:ext cx="3659400" cy="991080"/>
            <a:chOff x="1839960" y="2058840"/>
            <a:chExt cx="3659400" cy="991080"/>
          </a:xfrm>
        </p:grpSpPr>
        <p:sp>
          <p:nvSpPr>
            <p:cNvPr id="767" name=""/>
            <p:cNvSpPr/>
            <p:nvPr/>
          </p:nvSpPr>
          <p:spPr>
            <a:xfrm>
              <a:off x="1839960" y="2058840"/>
              <a:ext cx="914760" cy="991080"/>
            </a:xfrm>
            <a:custGeom>
              <a:avLst/>
              <a:gdLst/>
              <a:ahLst/>
              <a:rect l="0" t="0" r="r" b="b"/>
              <a:pathLst>
                <a:path w="2541" h="2753">
                  <a:moveTo>
                    <a:pt x="0" y="550"/>
                  </a:moveTo>
                  <a:lnTo>
                    <a:pt x="0" y="2203"/>
                  </a:lnTo>
                  <a:lnTo>
                    <a:pt x="1778" y="2203"/>
                  </a:lnTo>
                  <a:lnTo>
                    <a:pt x="1778" y="2753"/>
                  </a:lnTo>
                  <a:lnTo>
                    <a:pt x="2541" y="1376"/>
                  </a:lnTo>
                  <a:lnTo>
                    <a:pt x="1778" y="0"/>
                  </a:lnTo>
                  <a:lnTo>
                    <a:pt x="1778" y="550"/>
                  </a:lnTo>
                  <a:lnTo>
                    <a:pt x="0" y="55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44880" y="27018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92240" y="27018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297160" y="27018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144880" y="254952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97160" y="254952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97160" y="239724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44880" y="22446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992240" y="22446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97160" y="22446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11560" y="2058840"/>
              <a:ext cx="914760" cy="991080"/>
            </a:xfrm>
            <a:custGeom>
              <a:avLst/>
              <a:gdLst/>
              <a:ahLst/>
              <a:rect l="0" t="0" r="r" b="b"/>
              <a:pathLst>
                <a:path w="2541" h="2753">
                  <a:moveTo>
                    <a:pt x="0" y="550"/>
                  </a:moveTo>
                  <a:lnTo>
                    <a:pt x="0" y="2203"/>
                  </a:lnTo>
                  <a:lnTo>
                    <a:pt x="1778" y="2203"/>
                  </a:lnTo>
                  <a:lnTo>
                    <a:pt x="1778" y="2753"/>
                  </a:lnTo>
                  <a:lnTo>
                    <a:pt x="2541" y="1376"/>
                  </a:lnTo>
                  <a:lnTo>
                    <a:pt x="1778" y="0"/>
                  </a:lnTo>
                  <a:lnTo>
                    <a:pt x="1778" y="550"/>
                  </a:lnTo>
                  <a:lnTo>
                    <a:pt x="0" y="55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16480" y="27018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68760" y="27018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68760" y="254952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516480" y="239724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68760" y="239724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516480" y="22446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668760" y="22446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584600" y="2058840"/>
              <a:ext cx="914760" cy="991080"/>
            </a:xfrm>
            <a:custGeom>
              <a:avLst/>
              <a:gdLst/>
              <a:ahLst/>
              <a:rect l="0" t="0" r="r" b="b"/>
              <a:pathLst>
                <a:path w="2541" h="2753">
                  <a:moveTo>
                    <a:pt x="0" y="550"/>
                  </a:moveTo>
                  <a:lnTo>
                    <a:pt x="0" y="2203"/>
                  </a:lnTo>
                  <a:lnTo>
                    <a:pt x="1778" y="2203"/>
                  </a:lnTo>
                  <a:lnTo>
                    <a:pt x="1778" y="2753"/>
                  </a:lnTo>
                  <a:lnTo>
                    <a:pt x="2541" y="1376"/>
                  </a:lnTo>
                  <a:lnTo>
                    <a:pt x="1778" y="0"/>
                  </a:lnTo>
                  <a:lnTo>
                    <a:pt x="1778" y="550"/>
                  </a:lnTo>
                  <a:lnTo>
                    <a:pt x="0" y="55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40360" y="27018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888080" y="254952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40360" y="254952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88080" y="239724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735440" y="239724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40360" y="239724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040360" y="22446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3106800" y="2892600"/>
            <a:ext cx="1357200" cy="974880"/>
            <a:chOff x="3106800" y="2892600"/>
            <a:chExt cx="1357200" cy="974880"/>
          </a:xfrm>
        </p:grpSpPr>
        <p:pic>
          <p:nvPicPr>
            <p:cNvPr id="794" name="" descr=""/>
            <p:cNvPicPr/>
            <p:nvPr/>
          </p:nvPicPr>
          <p:blipFill>
            <a:blip r:embed="rId1"/>
            <a:stretch/>
          </p:blipFill>
          <p:spPr>
            <a:xfrm>
              <a:off x="3106800" y="2892600"/>
              <a:ext cx="135720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 txBox="1"/>
            <p:nvPr/>
          </p:nvSpPr>
          <p:spPr>
            <a:xfrm>
              <a:off x="3170160" y="3186000"/>
              <a:ext cx="1165320" cy="3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4kb W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7435800" y="2406600"/>
            <a:ext cx="4856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807080" y="2406600"/>
            <a:ext cx="4856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092320" y="2406600"/>
            <a:ext cx="4856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52320" y="4268880"/>
            <a:ext cx="1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44400" y="196920"/>
            <a:ext cx="713088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Large Packets “Freeze Out” V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06440" y="3922560"/>
            <a:ext cx="7311960" cy="17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Large packets can cause playback buffer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underrun, resulting in slight voice degrad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Jitter or playback buffer can accommodate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some delay/delay vari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646280" y="3192480"/>
            <a:ext cx="129852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687680" y="321300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899320" y="3213000"/>
            <a:ext cx="0" cy="2383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660920" y="3192480"/>
            <a:ext cx="13017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697280" y="3213000"/>
            <a:ext cx="0" cy="1018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4321080" y="3314880"/>
            <a:ext cx="816120" cy="48420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1555920" y="2820960"/>
            <a:ext cx="43225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695920" y="3406680"/>
            <a:ext cx="519480" cy="486360"/>
            <a:chOff x="5695920" y="3406680"/>
            <a:chExt cx="519480" cy="486360"/>
          </a:xfrm>
        </p:grpSpPr>
        <p:sp>
          <p:nvSpPr>
            <p:cNvPr id="810" name=""/>
            <p:cNvSpPr/>
            <p:nvPr/>
          </p:nvSpPr>
          <p:spPr>
            <a:xfrm>
              <a:off x="6035760" y="3732120"/>
              <a:ext cx="172440" cy="91080"/>
            </a:xfrm>
            <a:custGeom>
              <a:avLst/>
              <a:gdLst/>
              <a:ahLst/>
              <a:rect l="0" t="0" r="r" b="b"/>
              <a:pathLst>
                <a:path fill="none" w="479" h="253">
                  <a:moveTo>
                    <a:pt x="405" y="253"/>
                  </a:moveTo>
                  <a:lnTo>
                    <a:pt x="405" y="253"/>
                  </a:lnTo>
                  <a:cubicBezTo>
                    <a:pt x="419" y="245"/>
                    <a:pt x="431" y="236"/>
                    <a:pt x="442" y="226"/>
                  </a:cubicBezTo>
                  <a:cubicBezTo>
                    <a:pt x="466" y="203"/>
                    <a:pt x="479" y="177"/>
                    <a:pt x="479" y="151"/>
                  </a:cubicBezTo>
                  <a:cubicBezTo>
                    <a:pt x="479" y="124"/>
                    <a:pt x="466" y="98"/>
                    <a:pt x="442" y="76"/>
                  </a:cubicBezTo>
                  <a:cubicBezTo>
                    <a:pt x="417" y="53"/>
                    <a:pt x="382" y="34"/>
                    <a:pt x="340" y="21"/>
                  </a:cubicBezTo>
                  <a:cubicBezTo>
                    <a:pt x="298" y="7"/>
                    <a:pt x="251" y="0"/>
                    <a:pt x="202" y="0"/>
                  </a:cubicBezTo>
                  <a:cubicBezTo>
                    <a:pt x="154" y="0"/>
                    <a:pt x="106" y="7"/>
                    <a:pt x="64" y="21"/>
                  </a:cubicBezTo>
                  <a:cubicBezTo>
                    <a:pt x="40" y="28"/>
                    <a:pt x="19" y="37"/>
                    <a:pt x="0" y="48"/>
                  </a:cubicBezTo>
                </a:path>
              </a:pathLst>
            </a:custGeom>
            <a:ln w="12600">
              <a:solidFill>
                <a:srgbClr val="626248"/>
              </a:solidFill>
              <a:round/>
            </a:ln>
          </p:spPr>
          <p:txBody>
            <a:bodyPr lIns="96120" rIns="9612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044760" y="3735360"/>
              <a:ext cx="165960" cy="88920"/>
            </a:xfrm>
            <a:custGeom>
              <a:avLst/>
              <a:gdLst/>
              <a:ahLst/>
              <a:rect l="0" t="0" r="r" b="b"/>
              <a:pathLst>
                <a:path fill="none" w="461" h="247">
                  <a:moveTo>
                    <a:pt x="379" y="247"/>
                  </a:moveTo>
                  <a:lnTo>
                    <a:pt x="379" y="247"/>
                  </a:lnTo>
                  <a:cubicBezTo>
                    <a:pt x="397" y="238"/>
                    <a:pt x="412" y="227"/>
                    <a:pt x="425" y="216"/>
                  </a:cubicBezTo>
                  <a:cubicBezTo>
                    <a:pt x="448" y="194"/>
                    <a:pt x="461" y="169"/>
                    <a:pt x="461" y="144"/>
                  </a:cubicBezTo>
                  <a:cubicBezTo>
                    <a:pt x="461" y="119"/>
                    <a:pt x="448" y="94"/>
                    <a:pt x="425" y="72"/>
                  </a:cubicBezTo>
                  <a:cubicBezTo>
                    <a:pt x="401" y="50"/>
                    <a:pt x="367" y="32"/>
                    <a:pt x="325" y="20"/>
                  </a:cubicBezTo>
                  <a:cubicBezTo>
                    <a:pt x="284" y="7"/>
                    <a:pt x="237" y="0"/>
                    <a:pt x="189" y="0"/>
                  </a:cubicBezTo>
                  <a:cubicBezTo>
                    <a:pt x="142" y="0"/>
                    <a:pt x="95" y="7"/>
                    <a:pt x="54" y="20"/>
                  </a:cubicBezTo>
                  <a:cubicBezTo>
                    <a:pt x="34" y="26"/>
                    <a:pt x="16" y="33"/>
                    <a:pt x="0" y="41"/>
                  </a:cubicBezTo>
                </a:path>
              </a:pathLst>
            </a:custGeom>
            <a:ln w="12600">
              <a:solidFill>
                <a:srgbClr val="edede7"/>
              </a:solidFill>
              <a:round/>
            </a:ln>
          </p:spPr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21440" y="3819600"/>
              <a:ext cx="93960" cy="47880"/>
            </a:xfrm>
            <a:custGeom>
              <a:avLst/>
              <a:gdLst/>
              <a:ahLst/>
              <a:rect l="0" t="0" r="r" b="b"/>
              <a:pathLst>
                <a:path w="261" h="133">
                  <a:moveTo>
                    <a:pt x="0" y="133"/>
                  </a:moveTo>
                  <a:lnTo>
                    <a:pt x="94" y="0"/>
                  </a:lnTo>
                  <a:lnTo>
                    <a:pt x="261" y="0"/>
                  </a:lnTo>
                  <a:lnTo>
                    <a:pt x="17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121440" y="3819600"/>
              <a:ext cx="93960" cy="47880"/>
            </a:xfrm>
            <a:custGeom>
              <a:avLst/>
              <a:gdLst/>
              <a:ahLst/>
              <a:rect l="0" t="0" r="r" b="b"/>
              <a:pathLst>
                <a:path w="261" h="133">
                  <a:moveTo>
                    <a:pt x="0" y="133"/>
                  </a:moveTo>
                  <a:lnTo>
                    <a:pt x="94" y="0"/>
                  </a:lnTo>
                  <a:lnTo>
                    <a:pt x="261" y="0"/>
                  </a:lnTo>
                  <a:lnTo>
                    <a:pt x="17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c9c9b6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183360" y="3819600"/>
              <a:ext cx="32040" cy="66960"/>
            </a:xfrm>
            <a:custGeom>
              <a:avLst/>
              <a:gdLst/>
              <a:ahLst/>
              <a:rect l="0" t="0" r="r" b="b"/>
              <a:pathLst>
                <a:path w="89" h="186">
                  <a:moveTo>
                    <a:pt x="0" y="186"/>
                  </a:moveTo>
                  <a:lnTo>
                    <a:pt x="89" y="85"/>
                  </a:lnTo>
                  <a:lnTo>
                    <a:pt x="89" y="0"/>
                  </a:lnTo>
                  <a:lnTo>
                    <a:pt x="0" y="13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183360" y="3819600"/>
              <a:ext cx="32040" cy="66960"/>
            </a:xfrm>
            <a:custGeom>
              <a:avLst/>
              <a:gdLst/>
              <a:ahLst/>
              <a:rect l="0" t="0" r="r" b="b"/>
              <a:pathLst>
                <a:path w="89" h="186">
                  <a:moveTo>
                    <a:pt x="0" y="186"/>
                  </a:moveTo>
                  <a:lnTo>
                    <a:pt x="89" y="85"/>
                  </a:lnTo>
                  <a:lnTo>
                    <a:pt x="89" y="0"/>
                  </a:lnTo>
                  <a:lnTo>
                    <a:pt x="0" y="13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21440" y="3865680"/>
              <a:ext cx="63720" cy="27360"/>
            </a:xfrm>
            <a:custGeom>
              <a:avLst/>
              <a:gdLst/>
              <a:ahLst/>
              <a:rect l="0" t="0" r="r" b="b"/>
              <a:pathLst>
                <a:path w="177" h="76">
                  <a:moveTo>
                    <a:pt x="0" y="0"/>
                  </a:moveTo>
                  <a:lnTo>
                    <a:pt x="177" y="0"/>
                  </a:lnTo>
                  <a:lnTo>
                    <a:pt x="177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121440" y="3865680"/>
              <a:ext cx="63720" cy="27360"/>
            </a:xfrm>
            <a:custGeom>
              <a:avLst/>
              <a:gdLst/>
              <a:ahLst/>
              <a:rect l="0" t="0" r="r" b="b"/>
              <a:pathLst>
                <a:path w="177" h="76">
                  <a:moveTo>
                    <a:pt x="0" y="0"/>
                  </a:moveTo>
                  <a:lnTo>
                    <a:pt x="177" y="0"/>
                  </a:lnTo>
                  <a:lnTo>
                    <a:pt x="177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73680" y="3740040"/>
              <a:ext cx="276480" cy="65520"/>
            </a:xfrm>
            <a:custGeom>
              <a:avLst/>
              <a:gdLst/>
              <a:ahLst/>
              <a:rect l="0" t="0" r="r" b="b"/>
              <a:pathLst>
                <a:path w="768" h="182">
                  <a:moveTo>
                    <a:pt x="0" y="0"/>
                  </a:moveTo>
                  <a:lnTo>
                    <a:pt x="768" y="0"/>
                  </a:lnTo>
                  <a:lnTo>
                    <a:pt x="768" y="182"/>
                  </a:lnTo>
                  <a:lnTo>
                    <a:pt x="0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a585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773680" y="3740040"/>
              <a:ext cx="276480" cy="65520"/>
            </a:xfrm>
            <a:custGeom>
              <a:avLst/>
              <a:gdLst/>
              <a:ahLst/>
              <a:rect l="0" t="0" r="r" b="b"/>
              <a:pathLst>
                <a:path w="768" h="182">
                  <a:moveTo>
                    <a:pt x="0" y="0"/>
                  </a:moveTo>
                  <a:lnTo>
                    <a:pt x="768" y="0"/>
                  </a:lnTo>
                  <a:lnTo>
                    <a:pt x="768" y="182"/>
                  </a:lnTo>
                  <a:lnTo>
                    <a:pt x="0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a585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46920" y="3706920"/>
              <a:ext cx="52920" cy="98640"/>
            </a:xfrm>
            <a:custGeom>
              <a:avLst/>
              <a:gdLst/>
              <a:ahLst/>
              <a:rect l="0" t="0" r="r" b="b"/>
              <a:pathLst>
                <a:path w="147" h="274">
                  <a:moveTo>
                    <a:pt x="0" y="274"/>
                  </a:moveTo>
                  <a:lnTo>
                    <a:pt x="138" y="121"/>
                  </a:lnTo>
                  <a:lnTo>
                    <a:pt x="147" y="0"/>
                  </a:lnTo>
                  <a:lnTo>
                    <a:pt x="0" y="14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62624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46920" y="3706920"/>
              <a:ext cx="52920" cy="98640"/>
            </a:xfrm>
            <a:custGeom>
              <a:avLst/>
              <a:gdLst/>
              <a:ahLst/>
              <a:rect l="0" t="0" r="r" b="b"/>
              <a:pathLst>
                <a:path w="147" h="274">
                  <a:moveTo>
                    <a:pt x="0" y="274"/>
                  </a:moveTo>
                  <a:lnTo>
                    <a:pt x="138" y="121"/>
                  </a:lnTo>
                  <a:lnTo>
                    <a:pt x="147" y="0"/>
                  </a:lnTo>
                  <a:lnTo>
                    <a:pt x="0" y="14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626248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695920" y="3798720"/>
              <a:ext cx="406800" cy="68760"/>
            </a:xfrm>
            <a:custGeom>
              <a:avLst/>
              <a:gdLst/>
              <a:ahLst/>
              <a:rect l="0" t="0" r="r" b="b"/>
              <a:pathLst>
                <a:path w="1130" h="191">
                  <a:moveTo>
                    <a:pt x="0" y="191"/>
                  </a:moveTo>
                  <a:lnTo>
                    <a:pt x="141" y="0"/>
                  </a:lnTo>
                  <a:lnTo>
                    <a:pt x="1130" y="0"/>
                  </a:lnTo>
                  <a:lnTo>
                    <a:pt x="984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695920" y="3798720"/>
              <a:ext cx="406800" cy="68760"/>
            </a:xfrm>
            <a:custGeom>
              <a:avLst/>
              <a:gdLst/>
              <a:ahLst/>
              <a:rect l="0" t="0" r="r" b="b"/>
              <a:pathLst>
                <a:path w="1130" h="191">
                  <a:moveTo>
                    <a:pt x="0" y="191"/>
                  </a:moveTo>
                  <a:lnTo>
                    <a:pt x="141" y="0"/>
                  </a:lnTo>
                  <a:lnTo>
                    <a:pt x="1130" y="0"/>
                  </a:lnTo>
                  <a:lnTo>
                    <a:pt x="984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c9c9b6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49800" y="3798720"/>
              <a:ext cx="52920" cy="86040"/>
            </a:xfrm>
            <a:custGeom>
              <a:avLst/>
              <a:gdLst/>
              <a:ahLst/>
              <a:rect l="0" t="0" r="r" b="b"/>
              <a:pathLst>
                <a:path w="147" h="239">
                  <a:moveTo>
                    <a:pt x="0" y="239"/>
                  </a:moveTo>
                  <a:lnTo>
                    <a:pt x="147" y="85"/>
                  </a:lnTo>
                  <a:lnTo>
                    <a:pt x="147" y="0"/>
                  </a:lnTo>
                  <a:lnTo>
                    <a:pt x="0" y="18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49800" y="3798720"/>
              <a:ext cx="52920" cy="86040"/>
            </a:xfrm>
            <a:custGeom>
              <a:avLst/>
              <a:gdLst/>
              <a:ahLst/>
              <a:rect l="0" t="0" r="r" b="b"/>
              <a:pathLst>
                <a:path w="147" h="239">
                  <a:moveTo>
                    <a:pt x="0" y="239"/>
                  </a:moveTo>
                  <a:lnTo>
                    <a:pt x="147" y="85"/>
                  </a:lnTo>
                  <a:lnTo>
                    <a:pt x="147" y="0"/>
                  </a:lnTo>
                  <a:lnTo>
                    <a:pt x="0" y="18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695920" y="3865680"/>
              <a:ext cx="356040" cy="27360"/>
            </a:xfrm>
            <a:custGeom>
              <a:avLst/>
              <a:gdLst/>
              <a:ahLst/>
              <a:rect l="0" t="0" r="r" b="b"/>
              <a:pathLst>
                <a:path w="989" h="76">
                  <a:moveTo>
                    <a:pt x="0" y="0"/>
                  </a:moveTo>
                  <a:lnTo>
                    <a:pt x="989" y="0"/>
                  </a:lnTo>
                  <a:lnTo>
                    <a:pt x="989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95920" y="3865680"/>
              <a:ext cx="356040" cy="27360"/>
            </a:xfrm>
            <a:custGeom>
              <a:avLst/>
              <a:gdLst/>
              <a:ahLst/>
              <a:rect l="0" t="0" r="r" b="b"/>
              <a:pathLst>
                <a:path w="989" h="76">
                  <a:moveTo>
                    <a:pt x="0" y="0"/>
                  </a:moveTo>
                  <a:lnTo>
                    <a:pt x="989" y="0"/>
                  </a:lnTo>
                  <a:lnTo>
                    <a:pt x="989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066000" y="3689280"/>
              <a:ext cx="57600" cy="79560"/>
            </a:xfrm>
            <a:custGeom>
              <a:avLst/>
              <a:gdLst/>
              <a:ahLst/>
              <a:rect l="0" t="0" r="r" b="b"/>
              <a:pathLst>
                <a:path w="160" h="221">
                  <a:moveTo>
                    <a:pt x="0" y="221"/>
                  </a:moveTo>
                  <a:lnTo>
                    <a:pt x="160" y="40"/>
                  </a:lnTo>
                  <a:lnTo>
                    <a:pt x="160" y="0"/>
                  </a:lnTo>
                  <a:lnTo>
                    <a:pt x="0" y="17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066000" y="3689280"/>
              <a:ext cx="57600" cy="79560"/>
            </a:xfrm>
            <a:custGeom>
              <a:avLst/>
              <a:gdLst/>
              <a:ahLst/>
              <a:rect l="0" t="0" r="r" b="b"/>
              <a:pathLst>
                <a:path w="160" h="221">
                  <a:moveTo>
                    <a:pt x="0" y="221"/>
                  </a:moveTo>
                  <a:lnTo>
                    <a:pt x="160" y="40"/>
                  </a:lnTo>
                  <a:lnTo>
                    <a:pt x="160" y="0"/>
                  </a:lnTo>
                  <a:lnTo>
                    <a:pt x="0" y="17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742000" y="3751200"/>
              <a:ext cx="325800" cy="27360"/>
            </a:xfrm>
            <a:custGeom>
              <a:avLst/>
              <a:gdLst/>
              <a:ahLst/>
              <a:rect l="0" t="0" r="r" b="b"/>
              <a:pathLst>
                <a:path w="905" h="76">
                  <a:moveTo>
                    <a:pt x="90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05" y="0"/>
                  </a:lnTo>
                  <a:lnTo>
                    <a:pt x="905" y="76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42000" y="3751200"/>
              <a:ext cx="325800" cy="27360"/>
            </a:xfrm>
            <a:custGeom>
              <a:avLst/>
              <a:gdLst/>
              <a:ahLst/>
              <a:rect l="0" t="0" r="r" b="b"/>
              <a:pathLst>
                <a:path w="905" h="76">
                  <a:moveTo>
                    <a:pt x="90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05" y="0"/>
                  </a:lnTo>
                  <a:lnTo>
                    <a:pt x="905" y="76"/>
                  </a:lnTo>
                  <a:close/>
                </a:path>
              </a:pathLst>
            </a:cu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742000" y="3689280"/>
              <a:ext cx="381240" cy="63720"/>
            </a:xfrm>
            <a:custGeom>
              <a:avLst/>
              <a:gdLst/>
              <a:ahLst/>
              <a:rect l="0" t="0" r="r" b="b"/>
              <a:pathLst>
                <a:path w="1059" h="177">
                  <a:moveTo>
                    <a:pt x="1059" y="0"/>
                  </a:moveTo>
                  <a:lnTo>
                    <a:pt x="154" y="0"/>
                  </a:lnTo>
                  <a:lnTo>
                    <a:pt x="0" y="177"/>
                  </a:lnTo>
                  <a:lnTo>
                    <a:pt x="899" y="177"/>
                  </a:lnTo>
                  <a:lnTo>
                    <a:pt x="1059" y="0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742000" y="3689280"/>
              <a:ext cx="381240" cy="63720"/>
            </a:xfrm>
            <a:custGeom>
              <a:avLst/>
              <a:gdLst/>
              <a:ahLst/>
              <a:rect l="0" t="0" r="r" b="b"/>
              <a:pathLst>
                <a:path w="1059" h="177">
                  <a:moveTo>
                    <a:pt x="1059" y="0"/>
                  </a:moveTo>
                  <a:lnTo>
                    <a:pt x="154" y="0"/>
                  </a:lnTo>
                  <a:lnTo>
                    <a:pt x="0" y="177"/>
                  </a:lnTo>
                  <a:lnTo>
                    <a:pt x="899" y="177"/>
                  </a:lnTo>
                  <a:lnTo>
                    <a:pt x="1059" y="0"/>
                  </a:lnTo>
                  <a:close/>
                </a:path>
              </a:pathLst>
            </a:cu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83400" y="3706920"/>
              <a:ext cx="286200" cy="27360"/>
            </a:xfrm>
            <a:custGeom>
              <a:avLst/>
              <a:gdLst/>
              <a:ahLst/>
              <a:rect l="0" t="0" r="r" b="b"/>
              <a:pathLst>
                <a:path w="795" h="76">
                  <a:moveTo>
                    <a:pt x="0" y="0"/>
                  </a:moveTo>
                  <a:lnTo>
                    <a:pt x="764" y="0"/>
                  </a:lnTo>
                  <a:lnTo>
                    <a:pt x="795" y="76"/>
                  </a:lnTo>
                  <a:lnTo>
                    <a:pt x="26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783400" y="3706920"/>
              <a:ext cx="286200" cy="27360"/>
            </a:xfrm>
            <a:custGeom>
              <a:avLst/>
              <a:gdLst/>
              <a:ahLst/>
              <a:rect l="0" t="0" r="r" b="b"/>
              <a:pathLst>
                <a:path w="795" h="76">
                  <a:moveTo>
                    <a:pt x="0" y="0"/>
                  </a:moveTo>
                  <a:lnTo>
                    <a:pt x="764" y="0"/>
                  </a:lnTo>
                  <a:lnTo>
                    <a:pt x="795" y="76"/>
                  </a:lnTo>
                  <a:lnTo>
                    <a:pt x="26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057720" y="3672000"/>
              <a:ext cx="41760" cy="51120"/>
            </a:xfrm>
            <a:custGeom>
              <a:avLst/>
              <a:gdLst/>
              <a:ahLst/>
              <a:rect l="0" t="0" r="r" b="b"/>
              <a:pathLst>
                <a:path w="116" h="142">
                  <a:moveTo>
                    <a:pt x="83" y="0"/>
                  </a:moveTo>
                  <a:lnTo>
                    <a:pt x="0" y="101"/>
                  </a:lnTo>
                  <a:lnTo>
                    <a:pt x="27" y="142"/>
                  </a:lnTo>
                  <a:lnTo>
                    <a:pt x="116" y="4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62624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57720" y="3672000"/>
              <a:ext cx="41760" cy="51120"/>
            </a:xfrm>
            <a:custGeom>
              <a:avLst/>
              <a:gdLst/>
              <a:ahLst/>
              <a:rect l="0" t="0" r="r" b="b"/>
              <a:pathLst>
                <a:path w="116" h="142">
                  <a:moveTo>
                    <a:pt x="83" y="0"/>
                  </a:moveTo>
                  <a:lnTo>
                    <a:pt x="0" y="101"/>
                  </a:lnTo>
                  <a:lnTo>
                    <a:pt x="27" y="142"/>
                  </a:lnTo>
                  <a:lnTo>
                    <a:pt x="116" y="4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626248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61080" y="3406680"/>
              <a:ext cx="362160" cy="35280"/>
            </a:xfrm>
            <a:custGeom>
              <a:avLst/>
              <a:gdLst/>
              <a:ahLst/>
              <a:rect l="0" t="0" r="r" b="b"/>
              <a:pathLst>
                <a:path w="1006" h="98">
                  <a:moveTo>
                    <a:pt x="0" y="98"/>
                  </a:moveTo>
                  <a:lnTo>
                    <a:pt x="97" y="0"/>
                  </a:lnTo>
                  <a:lnTo>
                    <a:pt x="1006" y="0"/>
                  </a:lnTo>
                  <a:lnTo>
                    <a:pt x="90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761080" y="3406680"/>
              <a:ext cx="362160" cy="35280"/>
            </a:xfrm>
            <a:custGeom>
              <a:avLst/>
              <a:gdLst/>
              <a:ahLst/>
              <a:rect l="0" t="0" r="r" b="b"/>
              <a:pathLst>
                <a:path w="1006" h="98">
                  <a:moveTo>
                    <a:pt x="0" y="98"/>
                  </a:moveTo>
                  <a:lnTo>
                    <a:pt x="97" y="0"/>
                  </a:lnTo>
                  <a:lnTo>
                    <a:pt x="1006" y="0"/>
                  </a:lnTo>
                  <a:lnTo>
                    <a:pt x="90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9c9b6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761080" y="3440160"/>
              <a:ext cx="326880" cy="270000"/>
            </a:xfrm>
            <a:prstGeom prst="rect">
              <a:avLst/>
            </a:pr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788080" y="3476520"/>
              <a:ext cx="272880" cy="20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086520" y="3406680"/>
              <a:ext cx="36720" cy="302040"/>
            </a:xfrm>
            <a:custGeom>
              <a:avLst/>
              <a:gdLst/>
              <a:ahLst/>
              <a:rect l="0" t="0" r="r" b="b"/>
              <a:pathLst>
                <a:path w="102" h="839">
                  <a:moveTo>
                    <a:pt x="0" y="839"/>
                  </a:moveTo>
                  <a:lnTo>
                    <a:pt x="102" y="733"/>
                  </a:lnTo>
                  <a:lnTo>
                    <a:pt x="102" y="0"/>
                  </a:lnTo>
                  <a:lnTo>
                    <a:pt x="0" y="93"/>
                  </a:lnTo>
                  <a:lnTo>
                    <a:pt x="0" y="839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086520" y="3406680"/>
              <a:ext cx="36720" cy="302040"/>
            </a:xfrm>
            <a:custGeom>
              <a:avLst/>
              <a:gdLst/>
              <a:ahLst/>
              <a:rect l="0" t="0" r="r" b="b"/>
              <a:pathLst>
                <a:path w="102" h="839">
                  <a:moveTo>
                    <a:pt x="0" y="839"/>
                  </a:moveTo>
                  <a:lnTo>
                    <a:pt x="102" y="733"/>
                  </a:lnTo>
                  <a:lnTo>
                    <a:pt x="102" y="0"/>
                  </a:lnTo>
                  <a:lnTo>
                    <a:pt x="0" y="93"/>
                  </a:lnTo>
                  <a:lnTo>
                    <a:pt x="0" y="839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"/>
          <p:cNvSpPr txBox="1"/>
          <p:nvPr/>
        </p:nvSpPr>
        <p:spPr>
          <a:xfrm>
            <a:off x="2714760" y="2052720"/>
            <a:ext cx="276696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~214ms Serialization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1582560" y="2927520"/>
            <a:ext cx="14158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mbps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599000" y="2927520"/>
            <a:ext cx="14158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mbps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797040" y="1117440"/>
            <a:ext cx="127476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oice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0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very 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368520" y="2406600"/>
            <a:ext cx="14000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835360" y="2406600"/>
            <a:ext cx="4856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2793960" y="2392200"/>
            <a:ext cx="2551320" cy="271440"/>
            <a:chOff x="2793960" y="2392200"/>
            <a:chExt cx="2551320" cy="271440"/>
          </a:xfrm>
        </p:grpSpPr>
        <p:sp>
          <p:nvSpPr>
            <p:cNvPr id="851" name=""/>
            <p:cNvSpPr txBox="1"/>
            <p:nvPr/>
          </p:nvSpPr>
          <p:spPr>
            <a:xfrm>
              <a:off x="2793960" y="2392200"/>
              <a:ext cx="5875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 txBox="1"/>
            <p:nvPr/>
          </p:nvSpPr>
          <p:spPr>
            <a:xfrm>
              <a:off x="3301920" y="2392200"/>
              <a:ext cx="1515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0 bytes of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>
              <a:off x="4757760" y="2392200"/>
              <a:ext cx="5875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"/>
          <p:cNvSpPr txBox="1"/>
          <p:nvPr/>
        </p:nvSpPr>
        <p:spPr>
          <a:xfrm>
            <a:off x="3349800" y="1127160"/>
            <a:ext cx="137016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oice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0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v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&gt;214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6087960" y="1136520"/>
            <a:ext cx="137016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oice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0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v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&gt;214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4098960" y="1770120"/>
            <a:ext cx="74520" cy="3128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233280" y="1779480"/>
            <a:ext cx="704880" cy="5446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665360" y="1827360"/>
            <a:ext cx="449280" cy="5126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5573880" y="1811160"/>
            <a:ext cx="1406520" cy="513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129440" y="1843200"/>
            <a:ext cx="357120" cy="5126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438800" y="1781280"/>
            <a:ext cx="1638000" cy="2667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878200" y="3213000"/>
            <a:ext cx="0" cy="2383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997600" y="2406600"/>
            <a:ext cx="14000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464080" y="2406600"/>
            <a:ext cx="4856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5423040" y="2392200"/>
            <a:ext cx="2550960" cy="271440"/>
            <a:chOff x="5423040" y="2392200"/>
            <a:chExt cx="2550960" cy="271440"/>
          </a:xfrm>
        </p:grpSpPr>
        <p:sp>
          <p:nvSpPr>
            <p:cNvPr id="866" name=""/>
            <p:cNvSpPr txBox="1"/>
            <p:nvPr/>
          </p:nvSpPr>
          <p:spPr>
            <a:xfrm>
              <a:off x="5423040" y="2392200"/>
              <a:ext cx="5875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 txBox="1"/>
            <p:nvPr/>
          </p:nvSpPr>
          <p:spPr>
            <a:xfrm>
              <a:off x="5931000" y="2392200"/>
              <a:ext cx="1515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0 bytes of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 txBox="1"/>
            <p:nvPr/>
          </p:nvSpPr>
          <p:spPr>
            <a:xfrm>
              <a:off x="7386480" y="2392200"/>
              <a:ext cx="5875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654120" y="2406600"/>
            <a:ext cx="14000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20600" y="2406600"/>
            <a:ext cx="4856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79200" y="2392200"/>
            <a:ext cx="2551320" cy="271440"/>
            <a:chOff x="79200" y="2392200"/>
            <a:chExt cx="2551320" cy="271440"/>
          </a:xfrm>
        </p:grpSpPr>
        <p:sp>
          <p:nvSpPr>
            <p:cNvPr id="872" name=""/>
            <p:cNvSpPr txBox="1"/>
            <p:nvPr/>
          </p:nvSpPr>
          <p:spPr>
            <a:xfrm>
              <a:off x="79200" y="2392200"/>
              <a:ext cx="5875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587520" y="2392200"/>
              <a:ext cx="1515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0 bytes of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2043000" y="2392200"/>
              <a:ext cx="5875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5" name="" descr=""/>
          <p:cNvPicPr/>
          <p:nvPr/>
        </p:nvPicPr>
        <p:blipFill>
          <a:blip r:embed="rId3"/>
          <a:stretch/>
        </p:blipFill>
        <p:spPr>
          <a:xfrm>
            <a:off x="2492280" y="3314880"/>
            <a:ext cx="816120" cy="484200"/>
          </a:xfrm>
          <a:prstGeom prst="rect">
            <a:avLst/>
          </a:prstGeom>
          <a:ln w="0">
            <a:noFill/>
          </a:ln>
        </p:spPr>
      </p:pic>
      <p:grpSp>
        <p:nvGrpSpPr>
          <p:cNvPr id="876" name=""/>
          <p:cNvGrpSpPr/>
          <p:nvPr/>
        </p:nvGrpSpPr>
        <p:grpSpPr>
          <a:xfrm>
            <a:off x="1428840" y="3406680"/>
            <a:ext cx="519480" cy="486360"/>
            <a:chOff x="1428840" y="3406680"/>
            <a:chExt cx="519480" cy="486360"/>
          </a:xfrm>
        </p:grpSpPr>
        <p:sp>
          <p:nvSpPr>
            <p:cNvPr id="877" name=""/>
            <p:cNvSpPr/>
            <p:nvPr/>
          </p:nvSpPr>
          <p:spPr>
            <a:xfrm>
              <a:off x="1768320" y="3732120"/>
              <a:ext cx="172440" cy="91080"/>
            </a:xfrm>
            <a:custGeom>
              <a:avLst/>
              <a:gdLst/>
              <a:ahLst/>
              <a:rect l="0" t="0" r="r" b="b"/>
              <a:pathLst>
                <a:path fill="none" w="479" h="253">
                  <a:moveTo>
                    <a:pt x="405" y="253"/>
                  </a:moveTo>
                  <a:lnTo>
                    <a:pt x="405" y="253"/>
                  </a:lnTo>
                  <a:cubicBezTo>
                    <a:pt x="419" y="245"/>
                    <a:pt x="431" y="236"/>
                    <a:pt x="442" y="226"/>
                  </a:cubicBezTo>
                  <a:cubicBezTo>
                    <a:pt x="466" y="203"/>
                    <a:pt x="479" y="177"/>
                    <a:pt x="479" y="151"/>
                  </a:cubicBezTo>
                  <a:cubicBezTo>
                    <a:pt x="479" y="124"/>
                    <a:pt x="466" y="98"/>
                    <a:pt x="442" y="76"/>
                  </a:cubicBezTo>
                  <a:cubicBezTo>
                    <a:pt x="417" y="53"/>
                    <a:pt x="382" y="34"/>
                    <a:pt x="340" y="21"/>
                  </a:cubicBezTo>
                  <a:cubicBezTo>
                    <a:pt x="298" y="7"/>
                    <a:pt x="251" y="0"/>
                    <a:pt x="202" y="0"/>
                  </a:cubicBezTo>
                  <a:cubicBezTo>
                    <a:pt x="154" y="0"/>
                    <a:pt x="106" y="7"/>
                    <a:pt x="64" y="21"/>
                  </a:cubicBezTo>
                  <a:cubicBezTo>
                    <a:pt x="40" y="28"/>
                    <a:pt x="19" y="37"/>
                    <a:pt x="0" y="48"/>
                  </a:cubicBezTo>
                </a:path>
              </a:pathLst>
            </a:custGeom>
            <a:ln w="12600">
              <a:solidFill>
                <a:srgbClr val="626248"/>
              </a:solidFill>
              <a:round/>
            </a:ln>
          </p:spPr>
          <p:txBody>
            <a:bodyPr lIns="96120" rIns="9612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777680" y="3735360"/>
              <a:ext cx="165960" cy="88920"/>
            </a:xfrm>
            <a:custGeom>
              <a:avLst/>
              <a:gdLst/>
              <a:ahLst/>
              <a:rect l="0" t="0" r="r" b="b"/>
              <a:pathLst>
                <a:path fill="none" w="461" h="247">
                  <a:moveTo>
                    <a:pt x="379" y="247"/>
                  </a:moveTo>
                  <a:lnTo>
                    <a:pt x="379" y="247"/>
                  </a:lnTo>
                  <a:cubicBezTo>
                    <a:pt x="397" y="238"/>
                    <a:pt x="412" y="227"/>
                    <a:pt x="425" y="216"/>
                  </a:cubicBezTo>
                  <a:cubicBezTo>
                    <a:pt x="448" y="194"/>
                    <a:pt x="461" y="169"/>
                    <a:pt x="461" y="144"/>
                  </a:cubicBezTo>
                  <a:cubicBezTo>
                    <a:pt x="461" y="119"/>
                    <a:pt x="448" y="94"/>
                    <a:pt x="425" y="72"/>
                  </a:cubicBezTo>
                  <a:cubicBezTo>
                    <a:pt x="401" y="50"/>
                    <a:pt x="367" y="32"/>
                    <a:pt x="325" y="20"/>
                  </a:cubicBezTo>
                  <a:cubicBezTo>
                    <a:pt x="284" y="7"/>
                    <a:pt x="237" y="0"/>
                    <a:pt x="189" y="0"/>
                  </a:cubicBezTo>
                  <a:cubicBezTo>
                    <a:pt x="142" y="0"/>
                    <a:pt x="95" y="7"/>
                    <a:pt x="54" y="20"/>
                  </a:cubicBezTo>
                  <a:cubicBezTo>
                    <a:pt x="34" y="26"/>
                    <a:pt x="16" y="33"/>
                    <a:pt x="0" y="41"/>
                  </a:cubicBezTo>
                </a:path>
              </a:pathLst>
            </a:custGeom>
            <a:ln w="12600">
              <a:solidFill>
                <a:srgbClr val="edede7"/>
              </a:solidFill>
              <a:round/>
            </a:ln>
          </p:spPr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854360" y="3819600"/>
              <a:ext cx="93960" cy="47880"/>
            </a:xfrm>
            <a:custGeom>
              <a:avLst/>
              <a:gdLst/>
              <a:ahLst/>
              <a:rect l="0" t="0" r="r" b="b"/>
              <a:pathLst>
                <a:path w="261" h="133">
                  <a:moveTo>
                    <a:pt x="0" y="133"/>
                  </a:moveTo>
                  <a:lnTo>
                    <a:pt x="94" y="0"/>
                  </a:lnTo>
                  <a:lnTo>
                    <a:pt x="261" y="0"/>
                  </a:lnTo>
                  <a:lnTo>
                    <a:pt x="17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54360" y="3819600"/>
              <a:ext cx="93960" cy="47880"/>
            </a:xfrm>
            <a:custGeom>
              <a:avLst/>
              <a:gdLst/>
              <a:ahLst/>
              <a:rect l="0" t="0" r="r" b="b"/>
              <a:pathLst>
                <a:path w="261" h="133">
                  <a:moveTo>
                    <a:pt x="0" y="133"/>
                  </a:moveTo>
                  <a:lnTo>
                    <a:pt x="94" y="0"/>
                  </a:lnTo>
                  <a:lnTo>
                    <a:pt x="261" y="0"/>
                  </a:lnTo>
                  <a:lnTo>
                    <a:pt x="17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c9c9b6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16280" y="3819600"/>
              <a:ext cx="32040" cy="66960"/>
            </a:xfrm>
            <a:custGeom>
              <a:avLst/>
              <a:gdLst/>
              <a:ahLst/>
              <a:rect l="0" t="0" r="r" b="b"/>
              <a:pathLst>
                <a:path w="89" h="186">
                  <a:moveTo>
                    <a:pt x="0" y="186"/>
                  </a:moveTo>
                  <a:lnTo>
                    <a:pt x="89" y="85"/>
                  </a:lnTo>
                  <a:lnTo>
                    <a:pt x="89" y="0"/>
                  </a:lnTo>
                  <a:lnTo>
                    <a:pt x="0" y="13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16280" y="3819600"/>
              <a:ext cx="32040" cy="66960"/>
            </a:xfrm>
            <a:custGeom>
              <a:avLst/>
              <a:gdLst/>
              <a:ahLst/>
              <a:rect l="0" t="0" r="r" b="b"/>
              <a:pathLst>
                <a:path w="89" h="186">
                  <a:moveTo>
                    <a:pt x="0" y="186"/>
                  </a:moveTo>
                  <a:lnTo>
                    <a:pt x="89" y="85"/>
                  </a:lnTo>
                  <a:lnTo>
                    <a:pt x="89" y="0"/>
                  </a:lnTo>
                  <a:lnTo>
                    <a:pt x="0" y="13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54360" y="3865680"/>
              <a:ext cx="63720" cy="27360"/>
            </a:xfrm>
            <a:custGeom>
              <a:avLst/>
              <a:gdLst/>
              <a:ahLst/>
              <a:rect l="0" t="0" r="r" b="b"/>
              <a:pathLst>
                <a:path w="177" h="76">
                  <a:moveTo>
                    <a:pt x="0" y="0"/>
                  </a:moveTo>
                  <a:lnTo>
                    <a:pt x="177" y="0"/>
                  </a:lnTo>
                  <a:lnTo>
                    <a:pt x="177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854360" y="3865680"/>
              <a:ext cx="63720" cy="27360"/>
            </a:xfrm>
            <a:custGeom>
              <a:avLst/>
              <a:gdLst/>
              <a:ahLst/>
              <a:rect l="0" t="0" r="r" b="b"/>
              <a:pathLst>
                <a:path w="177" h="76">
                  <a:moveTo>
                    <a:pt x="0" y="0"/>
                  </a:moveTo>
                  <a:lnTo>
                    <a:pt x="177" y="0"/>
                  </a:lnTo>
                  <a:lnTo>
                    <a:pt x="177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506600" y="3740040"/>
              <a:ext cx="276480" cy="65520"/>
            </a:xfrm>
            <a:custGeom>
              <a:avLst/>
              <a:gdLst/>
              <a:ahLst/>
              <a:rect l="0" t="0" r="r" b="b"/>
              <a:pathLst>
                <a:path w="768" h="182">
                  <a:moveTo>
                    <a:pt x="0" y="0"/>
                  </a:moveTo>
                  <a:lnTo>
                    <a:pt x="768" y="0"/>
                  </a:lnTo>
                  <a:lnTo>
                    <a:pt x="768" y="182"/>
                  </a:lnTo>
                  <a:lnTo>
                    <a:pt x="0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a585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06600" y="3740040"/>
              <a:ext cx="276480" cy="65520"/>
            </a:xfrm>
            <a:custGeom>
              <a:avLst/>
              <a:gdLst/>
              <a:ahLst/>
              <a:rect l="0" t="0" r="r" b="b"/>
              <a:pathLst>
                <a:path w="768" h="182">
                  <a:moveTo>
                    <a:pt x="0" y="0"/>
                  </a:moveTo>
                  <a:lnTo>
                    <a:pt x="768" y="0"/>
                  </a:lnTo>
                  <a:lnTo>
                    <a:pt x="768" y="182"/>
                  </a:lnTo>
                  <a:lnTo>
                    <a:pt x="0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a585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779480" y="3706920"/>
              <a:ext cx="52920" cy="98640"/>
            </a:xfrm>
            <a:custGeom>
              <a:avLst/>
              <a:gdLst/>
              <a:ahLst/>
              <a:rect l="0" t="0" r="r" b="b"/>
              <a:pathLst>
                <a:path w="147" h="274">
                  <a:moveTo>
                    <a:pt x="0" y="274"/>
                  </a:moveTo>
                  <a:lnTo>
                    <a:pt x="138" y="121"/>
                  </a:lnTo>
                  <a:lnTo>
                    <a:pt x="147" y="0"/>
                  </a:lnTo>
                  <a:lnTo>
                    <a:pt x="0" y="14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62624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779480" y="3706920"/>
              <a:ext cx="52920" cy="98640"/>
            </a:xfrm>
            <a:custGeom>
              <a:avLst/>
              <a:gdLst/>
              <a:ahLst/>
              <a:rect l="0" t="0" r="r" b="b"/>
              <a:pathLst>
                <a:path w="147" h="274">
                  <a:moveTo>
                    <a:pt x="0" y="274"/>
                  </a:moveTo>
                  <a:lnTo>
                    <a:pt x="138" y="121"/>
                  </a:lnTo>
                  <a:lnTo>
                    <a:pt x="147" y="0"/>
                  </a:lnTo>
                  <a:lnTo>
                    <a:pt x="0" y="14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626248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428840" y="3798720"/>
              <a:ext cx="406800" cy="68760"/>
            </a:xfrm>
            <a:custGeom>
              <a:avLst/>
              <a:gdLst/>
              <a:ahLst/>
              <a:rect l="0" t="0" r="r" b="b"/>
              <a:pathLst>
                <a:path w="1130" h="191">
                  <a:moveTo>
                    <a:pt x="0" y="191"/>
                  </a:moveTo>
                  <a:lnTo>
                    <a:pt x="141" y="0"/>
                  </a:lnTo>
                  <a:lnTo>
                    <a:pt x="1130" y="0"/>
                  </a:lnTo>
                  <a:lnTo>
                    <a:pt x="984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428840" y="3798720"/>
              <a:ext cx="406800" cy="68760"/>
            </a:xfrm>
            <a:custGeom>
              <a:avLst/>
              <a:gdLst/>
              <a:ahLst/>
              <a:rect l="0" t="0" r="r" b="b"/>
              <a:pathLst>
                <a:path w="1130" h="191">
                  <a:moveTo>
                    <a:pt x="0" y="191"/>
                  </a:moveTo>
                  <a:lnTo>
                    <a:pt x="141" y="0"/>
                  </a:lnTo>
                  <a:lnTo>
                    <a:pt x="1130" y="0"/>
                  </a:lnTo>
                  <a:lnTo>
                    <a:pt x="984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c9c9b6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82720" y="3798720"/>
              <a:ext cx="52920" cy="86040"/>
            </a:xfrm>
            <a:custGeom>
              <a:avLst/>
              <a:gdLst/>
              <a:ahLst/>
              <a:rect l="0" t="0" r="r" b="b"/>
              <a:pathLst>
                <a:path w="147" h="239">
                  <a:moveTo>
                    <a:pt x="0" y="239"/>
                  </a:moveTo>
                  <a:lnTo>
                    <a:pt x="147" y="85"/>
                  </a:lnTo>
                  <a:lnTo>
                    <a:pt x="147" y="0"/>
                  </a:lnTo>
                  <a:lnTo>
                    <a:pt x="0" y="18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82720" y="3798720"/>
              <a:ext cx="52920" cy="86040"/>
            </a:xfrm>
            <a:custGeom>
              <a:avLst/>
              <a:gdLst/>
              <a:ahLst/>
              <a:rect l="0" t="0" r="r" b="b"/>
              <a:pathLst>
                <a:path w="147" h="239">
                  <a:moveTo>
                    <a:pt x="0" y="239"/>
                  </a:moveTo>
                  <a:lnTo>
                    <a:pt x="147" y="85"/>
                  </a:lnTo>
                  <a:lnTo>
                    <a:pt x="147" y="0"/>
                  </a:lnTo>
                  <a:lnTo>
                    <a:pt x="0" y="18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428840" y="3865680"/>
              <a:ext cx="356040" cy="27360"/>
            </a:xfrm>
            <a:custGeom>
              <a:avLst/>
              <a:gdLst/>
              <a:ahLst/>
              <a:rect l="0" t="0" r="r" b="b"/>
              <a:pathLst>
                <a:path w="989" h="76">
                  <a:moveTo>
                    <a:pt x="0" y="0"/>
                  </a:moveTo>
                  <a:lnTo>
                    <a:pt x="989" y="0"/>
                  </a:lnTo>
                  <a:lnTo>
                    <a:pt x="989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28840" y="3865680"/>
              <a:ext cx="356040" cy="27360"/>
            </a:xfrm>
            <a:custGeom>
              <a:avLst/>
              <a:gdLst/>
              <a:ahLst/>
              <a:rect l="0" t="0" r="r" b="b"/>
              <a:pathLst>
                <a:path w="989" h="76">
                  <a:moveTo>
                    <a:pt x="0" y="0"/>
                  </a:moveTo>
                  <a:lnTo>
                    <a:pt x="989" y="0"/>
                  </a:lnTo>
                  <a:lnTo>
                    <a:pt x="989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98560" y="3689280"/>
              <a:ext cx="57600" cy="79560"/>
            </a:xfrm>
            <a:custGeom>
              <a:avLst/>
              <a:gdLst/>
              <a:ahLst/>
              <a:rect l="0" t="0" r="r" b="b"/>
              <a:pathLst>
                <a:path w="160" h="221">
                  <a:moveTo>
                    <a:pt x="0" y="221"/>
                  </a:moveTo>
                  <a:lnTo>
                    <a:pt x="160" y="40"/>
                  </a:lnTo>
                  <a:lnTo>
                    <a:pt x="160" y="0"/>
                  </a:lnTo>
                  <a:lnTo>
                    <a:pt x="0" y="17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98560" y="3689280"/>
              <a:ext cx="57600" cy="79560"/>
            </a:xfrm>
            <a:custGeom>
              <a:avLst/>
              <a:gdLst/>
              <a:ahLst/>
              <a:rect l="0" t="0" r="r" b="b"/>
              <a:pathLst>
                <a:path w="160" h="221">
                  <a:moveTo>
                    <a:pt x="0" y="221"/>
                  </a:moveTo>
                  <a:lnTo>
                    <a:pt x="160" y="40"/>
                  </a:lnTo>
                  <a:lnTo>
                    <a:pt x="160" y="0"/>
                  </a:lnTo>
                  <a:lnTo>
                    <a:pt x="0" y="17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74920" y="3751200"/>
              <a:ext cx="325800" cy="27360"/>
            </a:xfrm>
            <a:custGeom>
              <a:avLst/>
              <a:gdLst/>
              <a:ahLst/>
              <a:rect l="0" t="0" r="r" b="b"/>
              <a:pathLst>
                <a:path w="905" h="76">
                  <a:moveTo>
                    <a:pt x="90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05" y="0"/>
                  </a:lnTo>
                  <a:lnTo>
                    <a:pt x="905" y="76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4920" y="3751200"/>
              <a:ext cx="325800" cy="27360"/>
            </a:xfrm>
            <a:custGeom>
              <a:avLst/>
              <a:gdLst/>
              <a:ahLst/>
              <a:rect l="0" t="0" r="r" b="b"/>
              <a:pathLst>
                <a:path w="905" h="76">
                  <a:moveTo>
                    <a:pt x="90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05" y="0"/>
                  </a:lnTo>
                  <a:lnTo>
                    <a:pt x="905" y="76"/>
                  </a:lnTo>
                  <a:close/>
                </a:path>
              </a:pathLst>
            </a:cu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474920" y="3689280"/>
              <a:ext cx="381240" cy="63720"/>
            </a:xfrm>
            <a:custGeom>
              <a:avLst/>
              <a:gdLst/>
              <a:ahLst/>
              <a:rect l="0" t="0" r="r" b="b"/>
              <a:pathLst>
                <a:path w="1059" h="177">
                  <a:moveTo>
                    <a:pt x="1059" y="0"/>
                  </a:moveTo>
                  <a:lnTo>
                    <a:pt x="154" y="0"/>
                  </a:lnTo>
                  <a:lnTo>
                    <a:pt x="0" y="177"/>
                  </a:lnTo>
                  <a:lnTo>
                    <a:pt x="899" y="177"/>
                  </a:lnTo>
                  <a:lnTo>
                    <a:pt x="1059" y="0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74920" y="3689280"/>
              <a:ext cx="381240" cy="63720"/>
            </a:xfrm>
            <a:custGeom>
              <a:avLst/>
              <a:gdLst/>
              <a:ahLst/>
              <a:rect l="0" t="0" r="r" b="b"/>
              <a:pathLst>
                <a:path w="1059" h="177">
                  <a:moveTo>
                    <a:pt x="1059" y="0"/>
                  </a:moveTo>
                  <a:lnTo>
                    <a:pt x="154" y="0"/>
                  </a:lnTo>
                  <a:lnTo>
                    <a:pt x="0" y="177"/>
                  </a:lnTo>
                  <a:lnTo>
                    <a:pt x="899" y="177"/>
                  </a:lnTo>
                  <a:lnTo>
                    <a:pt x="1059" y="0"/>
                  </a:lnTo>
                  <a:close/>
                </a:path>
              </a:pathLst>
            </a:cu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15960" y="3706920"/>
              <a:ext cx="286200" cy="27360"/>
            </a:xfrm>
            <a:custGeom>
              <a:avLst/>
              <a:gdLst/>
              <a:ahLst/>
              <a:rect l="0" t="0" r="r" b="b"/>
              <a:pathLst>
                <a:path w="795" h="76">
                  <a:moveTo>
                    <a:pt x="0" y="0"/>
                  </a:moveTo>
                  <a:lnTo>
                    <a:pt x="764" y="0"/>
                  </a:lnTo>
                  <a:lnTo>
                    <a:pt x="795" y="76"/>
                  </a:lnTo>
                  <a:lnTo>
                    <a:pt x="26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15960" y="3706920"/>
              <a:ext cx="286200" cy="27360"/>
            </a:xfrm>
            <a:custGeom>
              <a:avLst/>
              <a:gdLst/>
              <a:ahLst/>
              <a:rect l="0" t="0" r="r" b="b"/>
              <a:pathLst>
                <a:path w="795" h="76">
                  <a:moveTo>
                    <a:pt x="0" y="0"/>
                  </a:moveTo>
                  <a:lnTo>
                    <a:pt x="764" y="0"/>
                  </a:lnTo>
                  <a:lnTo>
                    <a:pt x="795" y="76"/>
                  </a:lnTo>
                  <a:lnTo>
                    <a:pt x="26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790640" y="3672000"/>
              <a:ext cx="41760" cy="51120"/>
            </a:xfrm>
            <a:custGeom>
              <a:avLst/>
              <a:gdLst/>
              <a:ahLst/>
              <a:rect l="0" t="0" r="r" b="b"/>
              <a:pathLst>
                <a:path w="116" h="142">
                  <a:moveTo>
                    <a:pt x="83" y="0"/>
                  </a:moveTo>
                  <a:lnTo>
                    <a:pt x="0" y="101"/>
                  </a:lnTo>
                  <a:lnTo>
                    <a:pt x="27" y="142"/>
                  </a:lnTo>
                  <a:lnTo>
                    <a:pt x="116" y="4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62624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90640" y="3672000"/>
              <a:ext cx="41760" cy="51120"/>
            </a:xfrm>
            <a:custGeom>
              <a:avLst/>
              <a:gdLst/>
              <a:ahLst/>
              <a:rect l="0" t="0" r="r" b="b"/>
              <a:pathLst>
                <a:path w="116" h="142">
                  <a:moveTo>
                    <a:pt x="83" y="0"/>
                  </a:moveTo>
                  <a:lnTo>
                    <a:pt x="0" y="101"/>
                  </a:lnTo>
                  <a:lnTo>
                    <a:pt x="27" y="142"/>
                  </a:lnTo>
                  <a:lnTo>
                    <a:pt x="116" y="4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626248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494000" y="3406680"/>
              <a:ext cx="362160" cy="35280"/>
            </a:xfrm>
            <a:custGeom>
              <a:avLst/>
              <a:gdLst/>
              <a:ahLst/>
              <a:rect l="0" t="0" r="r" b="b"/>
              <a:pathLst>
                <a:path w="1006" h="98">
                  <a:moveTo>
                    <a:pt x="0" y="98"/>
                  </a:moveTo>
                  <a:lnTo>
                    <a:pt x="97" y="0"/>
                  </a:lnTo>
                  <a:lnTo>
                    <a:pt x="1006" y="0"/>
                  </a:lnTo>
                  <a:lnTo>
                    <a:pt x="90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94000" y="3406680"/>
              <a:ext cx="362160" cy="35280"/>
            </a:xfrm>
            <a:custGeom>
              <a:avLst/>
              <a:gdLst/>
              <a:ahLst/>
              <a:rect l="0" t="0" r="r" b="b"/>
              <a:pathLst>
                <a:path w="1006" h="98">
                  <a:moveTo>
                    <a:pt x="0" y="98"/>
                  </a:moveTo>
                  <a:lnTo>
                    <a:pt x="97" y="0"/>
                  </a:lnTo>
                  <a:lnTo>
                    <a:pt x="1006" y="0"/>
                  </a:lnTo>
                  <a:lnTo>
                    <a:pt x="90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9c9b6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494000" y="3440160"/>
              <a:ext cx="326880" cy="270000"/>
            </a:xfrm>
            <a:prstGeom prst="rect">
              <a:avLst/>
            </a:pr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521000" y="3476520"/>
              <a:ext cx="272880" cy="20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819440" y="3406680"/>
              <a:ext cx="36720" cy="302040"/>
            </a:xfrm>
            <a:custGeom>
              <a:avLst/>
              <a:gdLst/>
              <a:ahLst/>
              <a:rect l="0" t="0" r="r" b="b"/>
              <a:pathLst>
                <a:path w="102" h="839">
                  <a:moveTo>
                    <a:pt x="0" y="839"/>
                  </a:moveTo>
                  <a:lnTo>
                    <a:pt x="102" y="733"/>
                  </a:lnTo>
                  <a:lnTo>
                    <a:pt x="102" y="0"/>
                  </a:lnTo>
                  <a:lnTo>
                    <a:pt x="0" y="93"/>
                  </a:lnTo>
                  <a:lnTo>
                    <a:pt x="0" y="839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19440" y="3406680"/>
              <a:ext cx="36720" cy="302040"/>
            </a:xfrm>
            <a:custGeom>
              <a:avLst/>
              <a:gdLst/>
              <a:ahLst/>
              <a:rect l="0" t="0" r="r" b="b"/>
              <a:pathLst>
                <a:path w="102" h="839">
                  <a:moveTo>
                    <a:pt x="0" y="839"/>
                  </a:moveTo>
                  <a:lnTo>
                    <a:pt x="102" y="733"/>
                  </a:lnTo>
                  <a:lnTo>
                    <a:pt x="102" y="0"/>
                  </a:lnTo>
                  <a:lnTo>
                    <a:pt x="0" y="93"/>
                  </a:lnTo>
                  <a:lnTo>
                    <a:pt x="0" y="839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alculate Delay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1982880" y="1371600"/>
            <a:ext cx="70632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Coder  </a:t>
            </a:r>
            <a:br>
              <a:rPr sz="1200"/>
            </a:b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Delay</a:t>
            </a:r>
            <a:br>
              <a:rPr sz="1200"/>
            </a:b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25 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519280" y="1371600"/>
            <a:ext cx="80172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Queuing</a:t>
            </a:r>
            <a:br>
              <a:rPr sz="1200"/>
            </a:b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Delay</a:t>
            </a:r>
            <a:br>
              <a:rPr sz="1200"/>
            </a:b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6 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467000" y="2386080"/>
            <a:ext cx="55670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2030400" cy="119556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6751800" y="2225520"/>
            <a:ext cx="601560" cy="45576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1062000" y="2225520"/>
            <a:ext cx="601560" cy="45576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3308400" y="2386080"/>
            <a:ext cx="187956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2050920" y="2690640"/>
            <a:ext cx="1527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Serialization Delay</a:t>
            </a:r>
            <a:br>
              <a:rPr sz="1200"/>
            </a:b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3 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4"/>
          <a:stretch/>
        </p:blipFill>
        <p:spPr>
          <a:xfrm>
            <a:off x="5499000" y="2181240"/>
            <a:ext cx="669960" cy="50976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5"/>
          <a:stretch/>
        </p:blipFill>
        <p:spPr>
          <a:xfrm>
            <a:off x="2317680" y="2181240"/>
            <a:ext cx="669960" cy="50976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 flipV="1">
            <a:off x="5803920" y="1887480"/>
            <a:ext cx="0" cy="372960"/>
          </a:xfrm>
          <a:prstGeom prst="line">
            <a:avLst/>
          </a:prstGeom>
          <a:ln w="25560">
            <a:solidFill>
              <a:srgbClr val="41414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5210280" y="1544760"/>
            <a:ext cx="119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Dejitter 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50 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2333520" y="1949400"/>
            <a:ext cx="0" cy="372960"/>
          </a:xfrm>
          <a:prstGeom prst="line">
            <a:avLst/>
          </a:prstGeom>
          <a:ln w="25560">
            <a:solidFill>
              <a:srgbClr val="41414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2995560" y="2411280"/>
            <a:ext cx="0" cy="319320"/>
          </a:xfrm>
          <a:prstGeom prst="line">
            <a:avLst/>
          </a:prstGeom>
          <a:ln w="25560">
            <a:solidFill>
              <a:srgbClr val="41414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919240" y="1949400"/>
            <a:ext cx="0" cy="372960"/>
          </a:xfrm>
          <a:prstGeom prst="line">
            <a:avLst/>
          </a:prstGeom>
          <a:ln w="25560">
            <a:solidFill>
              <a:srgbClr val="41414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990720" y="1544760"/>
            <a:ext cx="87012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ng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6621480" y="1716120"/>
            <a:ext cx="800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Mun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664080" y="1905120"/>
            <a:ext cx="121752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lay—32 m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429000" y="2438280"/>
            <a:ext cx="17892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Private Line Net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327320" y="3052800"/>
            <a:ext cx="5532480" cy="2951280"/>
            <a:chOff x="1327320" y="3052800"/>
            <a:chExt cx="5532480" cy="2951280"/>
          </a:xfrm>
        </p:grpSpPr>
        <p:sp>
          <p:nvSpPr>
            <p:cNvPr id="932" name=""/>
            <p:cNvSpPr/>
            <p:nvPr/>
          </p:nvSpPr>
          <p:spPr>
            <a:xfrm>
              <a:off x="1409760" y="3137040"/>
              <a:ext cx="5450040" cy="2867040"/>
            </a:xfrm>
            <a:prstGeom prst="rect">
              <a:avLst/>
            </a:prstGeom>
            <a:gradFill rotWithShape="0">
              <a:gsLst>
                <a:gs pos="0">
                  <a:srgbClr val="4c4c4c"/>
                </a:gs>
                <a:gs pos="50000">
                  <a:srgbClr val="ffffff"/>
                </a:gs>
                <a:gs pos="100000">
                  <a:srgbClr val="4c4c4c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333440" y="3060720"/>
              <a:ext cx="5450040" cy="2867040"/>
            </a:xfrm>
            <a:prstGeom prst="rect">
              <a:avLst/>
            </a:prstGeom>
            <a:gradFill rotWithShape="0">
              <a:gsLst>
                <a:gs pos="0">
                  <a:srgbClr val="002028"/>
                </a:gs>
                <a:gs pos="50000">
                  <a:srgbClr val="006c88"/>
                </a:gs>
                <a:gs pos="100000">
                  <a:srgbClr val="002028"/>
                </a:gs>
              </a:gsLst>
              <a:lin ang="2700000"/>
            </a:gradFill>
            <a:ln w="25560">
              <a:solidFill>
                <a:srgbClr val="00c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 txBox="1"/>
            <p:nvPr/>
          </p:nvSpPr>
          <p:spPr>
            <a:xfrm>
              <a:off x="1339920" y="5678640"/>
              <a:ext cx="58752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5032440" y="5678640"/>
              <a:ext cx="96372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110 ms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 txBox="1"/>
            <p:nvPr/>
          </p:nvSpPr>
          <p:spPr>
            <a:xfrm>
              <a:off x="1339920" y="5421240"/>
              <a:ext cx="126828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jitter Buff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 txBox="1"/>
            <p:nvPr/>
          </p:nvSpPr>
          <p:spPr>
            <a:xfrm>
              <a:off x="5178600" y="5421240"/>
              <a:ext cx="8175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50 mse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 txBox="1"/>
            <p:nvPr/>
          </p:nvSpPr>
          <p:spPr>
            <a:xfrm>
              <a:off x="5178600" y="4886280"/>
              <a:ext cx="8175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32 mse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 txBox="1"/>
            <p:nvPr/>
          </p:nvSpPr>
          <p:spPr>
            <a:xfrm>
              <a:off x="1339920" y="5114880"/>
              <a:ext cx="36590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Network Delay (e.g.,Public Frame Relay Sv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 txBox="1"/>
            <p:nvPr/>
          </p:nvSpPr>
          <p:spPr>
            <a:xfrm>
              <a:off x="1338120" y="4595760"/>
              <a:ext cx="27972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Serialization Delay 64 kbps Trun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 txBox="1"/>
            <p:nvPr/>
          </p:nvSpPr>
          <p:spPr>
            <a:xfrm>
              <a:off x="5268960" y="4633920"/>
              <a:ext cx="7254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3 mse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 txBox="1"/>
            <p:nvPr/>
          </p:nvSpPr>
          <p:spPr>
            <a:xfrm>
              <a:off x="6021360" y="4294080"/>
              <a:ext cx="7254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6 mse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 txBox="1"/>
            <p:nvPr/>
          </p:nvSpPr>
          <p:spPr>
            <a:xfrm>
              <a:off x="1327320" y="4319640"/>
              <a:ext cx="24955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Queuing Delay 64 kbps Trun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 txBox="1"/>
            <p:nvPr/>
          </p:nvSpPr>
          <p:spPr>
            <a:xfrm>
              <a:off x="5268960" y="3540240"/>
              <a:ext cx="7254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5 mse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>
              <a:off x="1338120" y="4029120"/>
              <a:ext cx="37638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Packetization Delay—Included in Coder Dela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 txBox="1"/>
            <p:nvPr/>
          </p:nvSpPr>
          <p:spPr>
            <a:xfrm>
              <a:off x="1338120" y="3540240"/>
              <a:ext cx="325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Coder Delay G.729 (5 msec look ahead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 txBox="1"/>
            <p:nvPr/>
          </p:nvSpPr>
          <p:spPr>
            <a:xfrm>
              <a:off x="1339920" y="4851360"/>
              <a:ext cx="28065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opagation Delay (Private Lines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 txBox="1"/>
            <p:nvPr/>
          </p:nvSpPr>
          <p:spPr>
            <a:xfrm>
              <a:off x="5157720" y="3052800"/>
              <a:ext cx="644400" cy="47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Fixed </a:t>
              </a:r>
              <a:br>
                <a:rPr sz="1300"/>
              </a:b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la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 txBox="1"/>
            <p:nvPr/>
          </p:nvSpPr>
          <p:spPr>
            <a:xfrm>
              <a:off x="5969160" y="3052800"/>
              <a:ext cx="853920" cy="47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Variable </a:t>
              </a:r>
              <a:br>
                <a:rPr sz="1300"/>
              </a:b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la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 txBox="1"/>
            <p:nvPr/>
          </p:nvSpPr>
          <p:spPr>
            <a:xfrm>
              <a:off x="1339920" y="3767040"/>
              <a:ext cx="32353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Coder Delay G.729 (10 msec per frame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 txBox="1"/>
            <p:nvPr/>
          </p:nvSpPr>
          <p:spPr>
            <a:xfrm>
              <a:off x="5178600" y="3767040"/>
              <a:ext cx="8175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20 mse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062680" y="3095640"/>
              <a:ext cx="0" cy="278604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977080" y="3095640"/>
              <a:ext cx="0" cy="278604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359000" y="351324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359000" y="378000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359000" y="403704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359000" y="431316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359000" y="457992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59000" y="483696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359000" y="510372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359000" y="537048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359000" y="566568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936800" y="4573440"/>
            <a:ext cx="2743200" cy="1371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860480" y="4497480"/>
            <a:ext cx="2743200" cy="1371600"/>
          </a:xfrm>
          <a:prstGeom prst="rect">
            <a:avLst/>
          </a:prstGeom>
          <a:gradFill rotWithShape="0">
            <a:gsLst>
              <a:gs pos="0">
                <a:srgbClr val="004b5f"/>
              </a:gs>
              <a:gs pos="50000">
                <a:srgbClr val="006c88"/>
              </a:gs>
              <a:gs pos="100000">
                <a:srgbClr val="004b5f"/>
              </a:gs>
            </a:gsLst>
            <a:lin ang="2700000"/>
          </a:gradFill>
          <a:ln w="25560">
            <a:solidFill>
              <a:srgbClr val="66cc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749840" y="2516040"/>
            <a:ext cx="3049560" cy="2743200"/>
          </a:xfrm>
          <a:prstGeom prst="ellipse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644400" y="196920"/>
            <a:ext cx="72691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ypical Enterprise Network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70320" y="1830240"/>
            <a:ext cx="2952720" cy="1824120"/>
            <a:chOff x="2470320" y="1830240"/>
            <a:chExt cx="2952720" cy="1824120"/>
          </a:xfrm>
        </p:grpSpPr>
        <p:pic>
          <p:nvPicPr>
            <p:cNvPr id="968" name="" descr=""/>
            <p:cNvPicPr/>
            <p:nvPr/>
          </p:nvPicPr>
          <p:blipFill>
            <a:blip r:embed="rId1"/>
            <a:stretch/>
          </p:blipFill>
          <p:spPr>
            <a:xfrm>
              <a:off x="2470320" y="1830240"/>
              <a:ext cx="2952720" cy="18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"/>
            <p:cNvSpPr txBox="1"/>
            <p:nvPr/>
          </p:nvSpPr>
          <p:spPr>
            <a:xfrm>
              <a:off x="3044880" y="2349360"/>
              <a:ext cx="173988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Core Lay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Higher Bandwid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Lower Dela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"/>
          <p:cNvSpPr txBox="1"/>
          <p:nvPr/>
        </p:nvSpPr>
        <p:spPr>
          <a:xfrm>
            <a:off x="3044880" y="1092240"/>
            <a:ext cx="1932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stribution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2992320" y="1393920"/>
            <a:ext cx="551160" cy="500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236520" y="2397240"/>
            <a:ext cx="207972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cess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Lower Bandwidth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gher D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189080" y="3193920"/>
            <a:ext cx="318960" cy="3286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1224000" y="2127240"/>
            <a:ext cx="176040" cy="284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138720" y="1454040"/>
            <a:ext cx="1109880" cy="2462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6138720" y="1301760"/>
            <a:ext cx="957240" cy="3985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6138720" y="1149480"/>
            <a:ext cx="804960" cy="5508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6215040" y="996840"/>
            <a:ext cx="576360" cy="6271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5224320" y="1682640"/>
            <a:ext cx="881280" cy="4748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4873680" y="1982880"/>
            <a:ext cx="731880" cy="45720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3"/>
          <a:stretch/>
        </p:blipFill>
        <p:spPr>
          <a:xfrm>
            <a:off x="6550200" y="91584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4"/>
          <a:stretch/>
        </p:blipFill>
        <p:spPr>
          <a:xfrm>
            <a:off x="6702480" y="106848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5"/>
          <a:stretch/>
        </p:blipFill>
        <p:spPr>
          <a:xfrm>
            <a:off x="6854760" y="122076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/>
          <p:cNvPicPr/>
          <p:nvPr/>
        </p:nvPicPr>
        <p:blipFill>
          <a:blip r:embed="rId6"/>
          <a:stretch/>
        </p:blipFill>
        <p:spPr>
          <a:xfrm>
            <a:off x="7007400" y="1373040"/>
            <a:ext cx="603360" cy="38088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 txBox="1"/>
          <p:nvPr/>
        </p:nvSpPr>
        <p:spPr>
          <a:xfrm>
            <a:off x="1987560" y="4497480"/>
            <a:ext cx="2440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cess Lay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Area of Most Challe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for VoIP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4691160" y="4260960"/>
            <a:ext cx="728640" cy="245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1963800" y="5230800"/>
            <a:ext cx="256212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Loss (Bandwidth/Conges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Delay (Serialization/Propag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Jitter (Varying Packet Siz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5450040" y="2798640"/>
            <a:ext cx="19224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 Layer/Small-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er Size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218280" y="3817800"/>
            <a:ext cx="1033560" cy="2714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218280" y="3817800"/>
            <a:ext cx="880920" cy="424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41960" y="3817800"/>
            <a:ext cx="804960" cy="576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141960" y="3741840"/>
            <a:ext cx="652680" cy="8809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227560" y="3208320"/>
            <a:ext cx="957240" cy="576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7"/>
          <a:stretch/>
        </p:blipFill>
        <p:spPr>
          <a:xfrm>
            <a:off x="7007400" y="401328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8"/>
          <a:stretch/>
        </p:blipFill>
        <p:spPr>
          <a:xfrm>
            <a:off x="6854760" y="416556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9"/>
          <a:stretch/>
        </p:blipFill>
        <p:spPr>
          <a:xfrm>
            <a:off x="6702480" y="431784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10"/>
          <a:stretch/>
        </p:blipFill>
        <p:spPr>
          <a:xfrm>
            <a:off x="6550200" y="4470480"/>
            <a:ext cx="603360" cy="380880"/>
          </a:xfrm>
          <a:prstGeom prst="rect">
            <a:avLst/>
          </a:prstGeom>
          <a:ln w="0">
            <a:noFill/>
          </a:ln>
        </p:spPr>
      </p:pic>
      <p:grpSp>
        <p:nvGrpSpPr>
          <p:cNvPr id="998" name=""/>
          <p:cNvGrpSpPr/>
          <p:nvPr/>
        </p:nvGrpSpPr>
        <p:grpSpPr>
          <a:xfrm>
            <a:off x="573120" y="3022560"/>
            <a:ext cx="2408400" cy="2057400"/>
            <a:chOff x="573120" y="3022560"/>
            <a:chExt cx="2408400" cy="2057400"/>
          </a:xfrm>
        </p:grpSpPr>
        <p:sp>
          <p:nvSpPr>
            <p:cNvPr id="999" name=""/>
            <p:cNvSpPr/>
            <p:nvPr/>
          </p:nvSpPr>
          <p:spPr>
            <a:xfrm flipV="1">
              <a:off x="1305000" y="3941640"/>
              <a:ext cx="652320" cy="9320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152360" y="3865680"/>
              <a:ext cx="804960" cy="7794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000080" y="3941640"/>
              <a:ext cx="957240" cy="5511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847800" y="3941640"/>
              <a:ext cx="1109520" cy="3985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2066760" y="3179880"/>
              <a:ext cx="500400" cy="6271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4" name="" descr=""/>
            <p:cNvPicPr/>
            <p:nvPr/>
          </p:nvPicPr>
          <p:blipFill>
            <a:blip r:embed="rId11"/>
            <a:stretch/>
          </p:blipFill>
          <p:spPr>
            <a:xfrm>
              <a:off x="2249640" y="3022560"/>
              <a:ext cx="731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2"/>
            <a:stretch/>
          </p:blipFill>
          <p:spPr>
            <a:xfrm>
              <a:off x="573120" y="4241880"/>
              <a:ext cx="6033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13"/>
            <a:stretch/>
          </p:blipFill>
          <p:spPr>
            <a:xfrm>
              <a:off x="725400" y="4394160"/>
              <a:ext cx="6033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14"/>
            <a:stretch/>
          </p:blipFill>
          <p:spPr>
            <a:xfrm>
              <a:off x="878040" y="4546440"/>
              <a:ext cx="6033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" descr=""/>
            <p:cNvPicPr/>
            <p:nvPr/>
          </p:nvPicPr>
          <p:blipFill>
            <a:blip r:embed="rId15"/>
            <a:stretch/>
          </p:blipFill>
          <p:spPr>
            <a:xfrm>
              <a:off x="1030320" y="4699080"/>
              <a:ext cx="60336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9" name=""/>
          <p:cNvSpPr/>
          <p:nvPr/>
        </p:nvSpPr>
        <p:spPr>
          <a:xfrm>
            <a:off x="927000" y="1177920"/>
            <a:ext cx="652680" cy="576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74720" y="1330200"/>
            <a:ext cx="804960" cy="424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22440" y="1482840"/>
            <a:ext cx="1033200" cy="2714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689120" y="1787400"/>
            <a:ext cx="880920" cy="3477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69800" y="1711440"/>
            <a:ext cx="1109880" cy="428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6"/>
          <a:stretch/>
        </p:blipFill>
        <p:spPr>
          <a:xfrm>
            <a:off x="649440" y="106848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17"/>
          <a:stretch/>
        </p:blipFill>
        <p:spPr>
          <a:xfrm>
            <a:off x="496800" y="122076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18"/>
          <a:stretch/>
        </p:blipFill>
        <p:spPr>
          <a:xfrm>
            <a:off x="344520" y="137304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19"/>
          <a:stretch/>
        </p:blipFill>
        <p:spPr>
          <a:xfrm>
            <a:off x="192240" y="152568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20"/>
          <a:stretch/>
        </p:blipFill>
        <p:spPr>
          <a:xfrm>
            <a:off x="2249640" y="1982880"/>
            <a:ext cx="731880" cy="45720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21"/>
          <a:stretch/>
        </p:blipFill>
        <p:spPr>
          <a:xfrm>
            <a:off x="4873680" y="3022560"/>
            <a:ext cx="731880" cy="45720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/>
          <p:nvPr/>
        </p:nvSpPr>
        <p:spPr>
          <a:xfrm>
            <a:off x="4465800" y="1393920"/>
            <a:ext cx="500040" cy="500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857160" y="1373040"/>
            <a:ext cx="1528920" cy="884160"/>
            <a:chOff x="857160" y="1373040"/>
            <a:chExt cx="1528920" cy="884160"/>
          </a:xfrm>
        </p:grpSpPr>
        <p:pic>
          <p:nvPicPr>
            <p:cNvPr id="1022" name="" descr=""/>
            <p:cNvPicPr/>
            <p:nvPr/>
          </p:nvPicPr>
          <p:blipFill>
            <a:blip r:embed="rId22"/>
            <a:stretch/>
          </p:blipFill>
          <p:spPr>
            <a:xfrm>
              <a:off x="946080" y="1373040"/>
              <a:ext cx="14097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 txBox="1"/>
            <p:nvPr/>
          </p:nvSpPr>
          <p:spPr>
            <a:xfrm>
              <a:off x="857160" y="1487520"/>
              <a:ext cx="1528920" cy="63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me Re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, SMDS, VS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t-to-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5353200" y="1373040"/>
            <a:ext cx="1528920" cy="884160"/>
            <a:chOff x="5353200" y="1373040"/>
            <a:chExt cx="1528920" cy="884160"/>
          </a:xfrm>
        </p:grpSpPr>
        <p:pic>
          <p:nvPicPr>
            <p:cNvPr id="1025" name="" descr=""/>
            <p:cNvPicPr/>
            <p:nvPr/>
          </p:nvPicPr>
          <p:blipFill>
            <a:blip r:embed="rId23"/>
            <a:stretch/>
          </p:blipFill>
          <p:spPr>
            <a:xfrm>
              <a:off x="5442120" y="1373040"/>
              <a:ext cx="14097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"/>
            <p:cNvSpPr txBox="1"/>
            <p:nvPr/>
          </p:nvSpPr>
          <p:spPr>
            <a:xfrm>
              <a:off x="5353200" y="1487520"/>
              <a:ext cx="1528920" cy="63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me Re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, SMDS, VS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t-to-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1238400" y="3430440"/>
            <a:ext cx="1528920" cy="884160"/>
            <a:chOff x="1238400" y="3430440"/>
            <a:chExt cx="1528920" cy="884160"/>
          </a:xfrm>
        </p:grpSpPr>
        <p:pic>
          <p:nvPicPr>
            <p:cNvPr id="1028" name="" descr=""/>
            <p:cNvPicPr/>
            <p:nvPr/>
          </p:nvPicPr>
          <p:blipFill>
            <a:blip r:embed="rId24"/>
            <a:stretch/>
          </p:blipFill>
          <p:spPr>
            <a:xfrm>
              <a:off x="1327320" y="3430440"/>
              <a:ext cx="14097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 txBox="1"/>
            <p:nvPr/>
          </p:nvSpPr>
          <p:spPr>
            <a:xfrm>
              <a:off x="1238400" y="3544920"/>
              <a:ext cx="1528920" cy="63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me Re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, SMDS, VS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t-to-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5353200" y="3430440"/>
            <a:ext cx="1528920" cy="884160"/>
            <a:chOff x="5353200" y="3430440"/>
            <a:chExt cx="1528920" cy="884160"/>
          </a:xfrm>
        </p:grpSpPr>
        <p:pic>
          <p:nvPicPr>
            <p:cNvPr id="1031" name="" descr=""/>
            <p:cNvPicPr/>
            <p:nvPr/>
          </p:nvPicPr>
          <p:blipFill>
            <a:blip r:embed="rId25"/>
            <a:stretch/>
          </p:blipFill>
          <p:spPr>
            <a:xfrm>
              <a:off x="5442120" y="3430440"/>
              <a:ext cx="14097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 txBox="1"/>
            <p:nvPr/>
          </p:nvSpPr>
          <p:spPr>
            <a:xfrm>
              <a:off x="5353200" y="3544920"/>
              <a:ext cx="1528920" cy="63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me Re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, SMDS, VS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t-to-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1916280" y="1514520"/>
            <a:ext cx="4849920" cy="3559320"/>
          </a:xfrm>
          <a:prstGeom prst="ellipse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880920" y="406440"/>
            <a:ext cx="64357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618080" y="3679920"/>
            <a:ext cx="1465200" cy="3729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618080" y="3679920"/>
            <a:ext cx="1251000" cy="5760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541760" y="3679920"/>
            <a:ext cx="1144800" cy="7794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0880" y="3375000"/>
            <a:ext cx="930240" cy="11858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712960" y="2460600"/>
            <a:ext cx="1490760" cy="10335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1"/>
          <a:stretch/>
        </p:blipFill>
        <p:spPr>
          <a:xfrm>
            <a:off x="5635800" y="3951360"/>
            <a:ext cx="822240" cy="487440"/>
          </a:xfrm>
          <a:prstGeom prst="rect">
            <a:avLst/>
          </a:prstGeom>
          <a:ln w="0">
            <a:noFill/>
          </a:ln>
        </p:spPr>
      </p:pic>
      <p:pic>
        <p:nvPicPr>
          <p:cNvPr id="1041" name="" descr=""/>
          <p:cNvPicPr/>
          <p:nvPr/>
        </p:nvPicPr>
        <p:blipFill>
          <a:blip r:embed="rId2"/>
          <a:stretch/>
        </p:blipFill>
        <p:spPr>
          <a:xfrm>
            <a:off x="5407200" y="4103640"/>
            <a:ext cx="822240" cy="487440"/>
          </a:xfrm>
          <a:prstGeom prst="rect">
            <a:avLst/>
          </a:prstGeom>
          <a:ln w="0">
            <a:noFill/>
          </a:ln>
        </p:spPr>
      </p:pic>
      <p:pic>
        <p:nvPicPr>
          <p:cNvPr id="1042" name="" descr=""/>
          <p:cNvPicPr/>
          <p:nvPr/>
        </p:nvPicPr>
        <p:blipFill>
          <a:blip r:embed="rId3"/>
          <a:stretch/>
        </p:blipFill>
        <p:spPr>
          <a:xfrm>
            <a:off x="5102280" y="4255920"/>
            <a:ext cx="822240" cy="487440"/>
          </a:xfrm>
          <a:prstGeom prst="rect">
            <a:avLst/>
          </a:prstGeom>
          <a:ln w="0">
            <a:noFill/>
          </a:ln>
        </p:spPr>
      </p:pic>
      <p:pic>
        <p:nvPicPr>
          <p:cNvPr id="1043" name="" descr=""/>
          <p:cNvPicPr/>
          <p:nvPr/>
        </p:nvPicPr>
        <p:blipFill>
          <a:blip r:embed="rId4"/>
          <a:stretch/>
        </p:blipFill>
        <p:spPr>
          <a:xfrm>
            <a:off x="4721400" y="4408560"/>
            <a:ext cx="822240" cy="48744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 flipV="1">
            <a:off x="2214720" y="2813040"/>
            <a:ext cx="688680" cy="11001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309920" y="4413240"/>
            <a:ext cx="424080" cy="169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5126040" y="2736720"/>
            <a:ext cx="779400" cy="4431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121440" y="2809800"/>
            <a:ext cx="1828800" cy="719280"/>
          </a:xfrm>
          <a:prstGeom prst="rect">
            <a:avLst/>
          </a:prstGeom>
          <a:gradFill rotWithShape="0">
            <a:gsLst>
              <a:gs pos="0">
                <a:srgbClr val="004b5f"/>
              </a:gs>
              <a:gs pos="50000">
                <a:srgbClr val="006c88"/>
              </a:gs>
              <a:gs pos="100000">
                <a:srgbClr val="004b5f"/>
              </a:gs>
            </a:gsLst>
            <a:lin ang="2700000"/>
          </a:gradFill>
          <a:ln w="25560">
            <a:solidFill>
              <a:srgbClr val="00c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6076800" y="2843280"/>
            <a:ext cx="191448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Equally a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in the Design Proce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But Not Discusse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84240" y="5211720"/>
            <a:ext cx="39528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sco’s QoS Toolkit can help 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30320" y="4014720"/>
            <a:ext cx="4113360" cy="1143000"/>
          </a:xfrm>
          <a:prstGeom prst="rect">
            <a:avLst/>
          </a:prstGeom>
          <a:gradFill rotWithShape="0">
            <a:gsLst>
              <a:gs pos="0">
                <a:srgbClr val="004b5f"/>
              </a:gs>
              <a:gs pos="50000">
                <a:srgbClr val="006c88"/>
              </a:gs>
              <a:gs pos="100000">
                <a:srgbClr val="004b5f"/>
              </a:gs>
            </a:gsLst>
            <a:lin ang="2700000"/>
          </a:gradFill>
          <a:ln w="25560">
            <a:solidFill>
              <a:srgbClr val="66cc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65160" y="4119480"/>
            <a:ext cx="4245120" cy="934920"/>
            <a:chOff x="65160" y="4119480"/>
            <a:chExt cx="4245120" cy="934920"/>
          </a:xfrm>
        </p:grpSpPr>
        <p:sp>
          <p:nvSpPr>
            <p:cNvPr id="1052" name=""/>
            <p:cNvSpPr txBox="1"/>
            <p:nvPr/>
          </p:nvSpPr>
          <p:spPr>
            <a:xfrm>
              <a:off x="1314360" y="4119480"/>
              <a:ext cx="174312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Router Eg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65160" y="4417920"/>
              <a:ext cx="4245120" cy="63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Dropped Packets—Serial Interface Cong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Serialization Delay—Voice Packet Behind “Jumbogram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Varying Packet Sizes—Coexistence of Voice +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 txBox="1"/>
          <p:nvPr/>
        </p:nvSpPr>
        <p:spPr>
          <a:xfrm>
            <a:off x="6769080" y="3733920"/>
            <a:ext cx="96984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all PBX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ey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 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722600" y="2430360"/>
            <a:ext cx="576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" descr=""/>
          <p:cNvPicPr/>
          <p:nvPr/>
        </p:nvPicPr>
        <p:blipFill>
          <a:blip r:embed="rId5"/>
          <a:stretch/>
        </p:blipFill>
        <p:spPr>
          <a:xfrm>
            <a:off x="2282760" y="2168640"/>
            <a:ext cx="1001880" cy="58896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 flipH="1" flipV="1">
            <a:off x="5961240" y="4565520"/>
            <a:ext cx="703080" cy="2462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7081920" y="4565520"/>
            <a:ext cx="147600" cy="20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113600" y="4975200"/>
            <a:ext cx="19512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6"/>
          <a:stretch/>
        </p:blipFill>
        <p:spPr>
          <a:xfrm>
            <a:off x="7250040" y="4829040"/>
            <a:ext cx="504720" cy="37476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4253040" y="1433520"/>
            <a:ext cx="3705120" cy="1233360"/>
          </a:xfrm>
          <a:prstGeom prst="rect">
            <a:avLst/>
          </a:prstGeom>
          <a:gradFill rotWithShape="0">
            <a:gsLst>
              <a:gs pos="0">
                <a:srgbClr val="004b5f"/>
              </a:gs>
              <a:gs pos="50000">
                <a:srgbClr val="006c88"/>
              </a:gs>
              <a:gs pos="100000">
                <a:srgbClr val="004b5f"/>
              </a:gs>
            </a:gsLst>
            <a:lin ang="2700000"/>
          </a:gradFill>
          <a:ln w="25560">
            <a:solidFill>
              <a:srgbClr val="66cc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219560" y="1757520"/>
            <a:ext cx="36100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Unless Pt-to-P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Dropped Packets—CIR Rates, ATM Q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Delay—NBMA Delays, VSAT De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Jitter—Shared Transport with Other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827600" y="1446120"/>
            <a:ext cx="2390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AN Transport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250920" y="936720"/>
            <a:ext cx="7596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s, Delay and J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184320" y="1379520"/>
            <a:ext cx="270828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: These issues exist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layer but are dam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higher bandwid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7"/>
          <a:stretch/>
        </p:blipFill>
        <p:spPr>
          <a:xfrm>
            <a:off x="6653160" y="4649760"/>
            <a:ext cx="49356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" descr=""/>
          <p:cNvPicPr/>
          <p:nvPr/>
        </p:nvPicPr>
        <p:blipFill>
          <a:blip r:embed="rId8"/>
          <a:stretch/>
        </p:blipFill>
        <p:spPr>
          <a:xfrm>
            <a:off x="3454560" y="2811600"/>
            <a:ext cx="1744560" cy="1084320"/>
          </a:xfrm>
          <a:prstGeom prst="rect">
            <a:avLst/>
          </a:prstGeom>
          <a:ln w="0">
            <a:noFill/>
          </a:ln>
        </p:spPr>
      </p:pic>
      <p:sp>
        <p:nvSpPr>
          <p:cNvPr id="1068" name=""/>
          <p:cNvSpPr txBox="1"/>
          <p:nvPr/>
        </p:nvSpPr>
        <p:spPr>
          <a:xfrm>
            <a:off x="3611520" y="2948040"/>
            <a:ext cx="136692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e R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M, SMDS, VSAT Pt-to-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735120" y="2036880"/>
            <a:ext cx="1120680" cy="888840"/>
            <a:chOff x="735120" y="2036880"/>
            <a:chExt cx="1120680" cy="888840"/>
          </a:xfrm>
        </p:grpSpPr>
        <p:pic>
          <p:nvPicPr>
            <p:cNvPr id="1070" name="" descr=""/>
            <p:cNvPicPr/>
            <p:nvPr/>
          </p:nvPicPr>
          <p:blipFill>
            <a:blip r:embed="rId9"/>
            <a:stretch/>
          </p:blipFill>
          <p:spPr>
            <a:xfrm>
              <a:off x="735120" y="2036880"/>
              <a:ext cx="112068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"/>
            <p:cNvSpPr txBox="1"/>
            <p:nvPr/>
          </p:nvSpPr>
          <p:spPr>
            <a:xfrm>
              <a:off x="887400" y="2136600"/>
              <a:ext cx="65088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PB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2" name="" descr=""/>
          <p:cNvPicPr/>
          <p:nvPr/>
        </p:nvPicPr>
        <p:blipFill>
          <a:blip r:embed="rId10"/>
          <a:stretch/>
        </p:blipFill>
        <p:spPr>
          <a:xfrm>
            <a:off x="7209000" y="4367160"/>
            <a:ext cx="7542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IP Prece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609480" y="1762200"/>
            <a:ext cx="6910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et IP Precedence higher on Vo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100" spc="-1" strike="noStrike">
                <a:solidFill>
                  <a:srgbClr val="ff0033"/>
                </a:solidFill>
                <a:latin typeface="Arial"/>
                <a:ea typeface="Arial"/>
              </a:rPr>
              <a:t>Result = Isolated WFQ queue from Best Effort traff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100" spc="-1" strike="noStrike">
                <a:solidFill>
                  <a:srgbClr val="ff0033"/>
                </a:solidFill>
                <a:latin typeface="Arial"/>
                <a:ea typeface="Arial"/>
              </a:rPr>
              <a:t>Set at: Endpoint, proxy, or statically through rou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May scale better than RSVP in 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OME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100" spc="-1" strike="noStrike">
                <a:solidFill>
                  <a:srgbClr val="ff0033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ff0033"/>
                </a:solidFill>
                <a:latin typeface="Arial"/>
                <a:ea typeface="Arial"/>
              </a:rPr>
              <a:t>Bulk QoS by customer or networ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Warning: No admiss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SVP -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source 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r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tion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380880" y="1905120"/>
            <a:ext cx="73119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ETF signaling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100" spc="-1" strike="noStrike">
                <a:solidFill>
                  <a:srgbClr val="ff0033"/>
                </a:solidFill>
                <a:latin typeface="Arial"/>
                <a:ea typeface="Arial"/>
              </a:rPr>
              <a:t>Reservation of bandwidth and del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Dynamic end-to-end “access list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100" spc="-1" strike="noStrike">
                <a:solidFill>
                  <a:srgbClr val="ff0033"/>
                </a:solidFill>
                <a:latin typeface="Arial"/>
                <a:ea typeface="Arial"/>
              </a:rPr>
              <a:t>Programs queuing poli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Flow can be signaled by end station or by router (static reserv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QoS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300" spc="-1" strike="noStrike">
                <a:solidFill>
                  <a:srgbClr val="ff0033"/>
                </a:solidFill>
                <a:latin typeface="Arial"/>
                <a:ea typeface="Arial"/>
              </a:rPr>
              <a:t>Guaranteed - queueing delay and bandwid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300" spc="-1" strike="noStrike">
                <a:solidFill>
                  <a:srgbClr val="ff0033"/>
                </a:solidFill>
                <a:latin typeface="Arial"/>
                <a:ea typeface="Arial"/>
              </a:rPr>
              <a:t>Controlled loss - no loss for specific bit r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6186600" y="981000"/>
            <a:ext cx="16095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ther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609480" y="1762200"/>
            <a:ext cx="731520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eighted Random Early Detection (W-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Congestion avoid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ultilink PPP with fragmentation and interle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Prevent voice packet starv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TP header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Reduce IP header from 40 bytes to 4 by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 txBox="1"/>
          <p:nvPr/>
        </p:nvSpPr>
        <p:spPr>
          <a:xfrm>
            <a:off x="914400" y="152280"/>
            <a:ext cx="6435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uggestions for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06440" y="1116000"/>
            <a:ext cx="73119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P prece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Network telephon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Audio/whiteboard conferenc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S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Videoconferenc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Interactive applic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Transaction applic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SNA in TCP/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09480" y="1762200"/>
            <a:ext cx="6910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STN gatewa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oute replacement/toll byp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Most common appl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BX OPX “extens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.323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Supports voice-enabled Web applic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oIP Gateway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44400" y="196920"/>
            <a:ext cx="742788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ternet Telephony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87840" y="1185840"/>
            <a:ext cx="2965320" cy="113652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1680" y="1185840"/>
            <a:ext cx="2967120" cy="3956040"/>
          </a:xfrm>
          <a:prstGeom prst="rect">
            <a:avLst/>
          </a:prstGeom>
          <a:gradFill rotWithShape="0">
            <a:gsLst>
              <a:gs pos="0">
                <a:srgbClr val="a5ecff"/>
              </a:gs>
              <a:gs pos="50000">
                <a:srgbClr val="aeeeff"/>
              </a:gs>
              <a:gs pos="100000">
                <a:srgbClr val="a5ec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87840" y="2390760"/>
            <a:ext cx="2965320" cy="273672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6040" y="1779480"/>
            <a:ext cx="1101960" cy="844920"/>
          </a:xfrm>
          <a:custGeom>
            <a:avLst/>
            <a:gdLst/>
            <a:ahLst/>
            <a:rect l="0" t="0" r="r" b="b"/>
            <a:pathLst>
              <a:path fill="none" w="3061" h="2347">
                <a:moveTo>
                  <a:pt x="0" y="2347"/>
                </a:moveTo>
                <a:lnTo>
                  <a:pt x="61" y="2299"/>
                </a:lnTo>
                <a:lnTo>
                  <a:pt x="304" y="2149"/>
                </a:lnTo>
                <a:lnTo>
                  <a:pt x="485" y="2043"/>
                </a:lnTo>
                <a:lnTo>
                  <a:pt x="688" y="1915"/>
                </a:lnTo>
                <a:lnTo>
                  <a:pt x="1042" y="1693"/>
                </a:lnTo>
                <a:lnTo>
                  <a:pt x="1908" y="1158"/>
                </a:lnTo>
                <a:lnTo>
                  <a:pt x="1979" y="1109"/>
                </a:lnTo>
                <a:lnTo>
                  <a:pt x="1351" y="1043"/>
                </a:lnTo>
                <a:lnTo>
                  <a:pt x="3061" y="0"/>
                </a:lnTo>
              </a:path>
            </a:pathLst>
          </a:custGeom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69000" y="3492360"/>
            <a:ext cx="721080" cy="127440"/>
          </a:xfrm>
          <a:custGeom>
            <a:avLst/>
            <a:gdLst/>
            <a:ahLst/>
            <a:rect l="0" t="0" r="r" b="b"/>
            <a:pathLst>
              <a:path fill="none" w="2003" h="354">
                <a:moveTo>
                  <a:pt x="0" y="0"/>
                </a:moveTo>
                <a:lnTo>
                  <a:pt x="35" y="0"/>
                </a:lnTo>
                <a:lnTo>
                  <a:pt x="172" y="0"/>
                </a:lnTo>
                <a:lnTo>
                  <a:pt x="269" y="0"/>
                </a:lnTo>
                <a:lnTo>
                  <a:pt x="380" y="0"/>
                </a:lnTo>
                <a:lnTo>
                  <a:pt x="574" y="0"/>
                </a:lnTo>
                <a:lnTo>
                  <a:pt x="1057" y="0"/>
                </a:lnTo>
                <a:lnTo>
                  <a:pt x="1097" y="0"/>
                </a:lnTo>
                <a:lnTo>
                  <a:pt x="866" y="354"/>
                </a:lnTo>
                <a:lnTo>
                  <a:pt x="2003" y="354"/>
                </a:lnTo>
              </a:path>
            </a:pathLst>
          </a:custGeom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69880" y="3059280"/>
            <a:ext cx="67464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P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940280" y="1187280"/>
            <a:ext cx="2324160" cy="1173600"/>
            <a:chOff x="4940280" y="1187280"/>
            <a:chExt cx="2324160" cy="1173600"/>
          </a:xfrm>
        </p:grpSpPr>
        <p:sp>
          <p:nvSpPr>
            <p:cNvPr id="107" name=""/>
            <p:cNvSpPr txBox="1"/>
            <p:nvPr/>
          </p:nvSpPr>
          <p:spPr>
            <a:xfrm>
              <a:off x="5199120" y="1730520"/>
              <a:ext cx="1806480" cy="63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hentication, Call Routing, Billing and Settlement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4940280" y="1187280"/>
              <a:ext cx="2324160" cy="5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ttlement Provi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Trusted 3rd Pa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 txBox="1"/>
          <p:nvPr/>
        </p:nvSpPr>
        <p:spPr>
          <a:xfrm>
            <a:off x="6512040" y="2414520"/>
            <a:ext cx="99072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P “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30120" y="1187280"/>
            <a:ext cx="99072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P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87800" y="2909880"/>
            <a:ext cx="1857240" cy="11523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475160" y="3081240"/>
            <a:ext cx="1133640" cy="719280"/>
            <a:chOff x="4475160" y="3081240"/>
            <a:chExt cx="1133640" cy="719280"/>
          </a:xfrm>
        </p:grpSpPr>
        <p:sp>
          <p:nvSpPr>
            <p:cNvPr id="113" name=""/>
            <p:cNvSpPr/>
            <p:nvPr/>
          </p:nvSpPr>
          <p:spPr>
            <a:xfrm>
              <a:off x="4772160" y="3081240"/>
              <a:ext cx="674640" cy="5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4475160" y="3228840"/>
              <a:ext cx="1133640" cy="57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P “B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ckb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959360" y="4113360"/>
            <a:ext cx="1849680" cy="627120"/>
            <a:chOff x="4959360" y="4113360"/>
            <a:chExt cx="1849680" cy="627120"/>
          </a:xfrm>
        </p:grpSpPr>
        <p:sp>
          <p:nvSpPr>
            <p:cNvPr id="116" name=""/>
            <p:cNvSpPr/>
            <p:nvPr/>
          </p:nvSpPr>
          <p:spPr>
            <a:xfrm>
              <a:off x="4959360" y="4113360"/>
              <a:ext cx="1681560" cy="581400"/>
            </a:xfrm>
            <a:custGeom>
              <a:avLst/>
              <a:gdLst/>
              <a:ahLst/>
              <a:rect l="0" t="0" r="r" b="b"/>
              <a:pathLst>
                <a:path fill="none" w="4671" h="1615">
                  <a:moveTo>
                    <a:pt x="4671" y="0"/>
                  </a:moveTo>
                  <a:lnTo>
                    <a:pt x="3435" y="327"/>
                  </a:lnTo>
                  <a:lnTo>
                    <a:pt x="3302" y="362"/>
                  </a:lnTo>
                  <a:lnTo>
                    <a:pt x="3209" y="389"/>
                  </a:lnTo>
                  <a:lnTo>
                    <a:pt x="3099" y="421"/>
                  </a:lnTo>
                  <a:lnTo>
                    <a:pt x="2914" y="469"/>
                  </a:lnTo>
                  <a:lnTo>
                    <a:pt x="2446" y="593"/>
                  </a:lnTo>
                  <a:lnTo>
                    <a:pt x="2406" y="606"/>
                  </a:lnTo>
                  <a:lnTo>
                    <a:pt x="2724" y="885"/>
                  </a:lnTo>
                  <a:lnTo>
                    <a:pt x="0" y="1615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27480" y="4159080"/>
              <a:ext cx="1681560" cy="581400"/>
            </a:xfrm>
            <a:custGeom>
              <a:avLst/>
              <a:gdLst/>
              <a:ahLst/>
              <a:rect l="0" t="0" r="r" b="b"/>
              <a:pathLst>
                <a:path fill="none" w="4671" h="1615">
                  <a:moveTo>
                    <a:pt x="4671" y="0"/>
                  </a:moveTo>
                  <a:lnTo>
                    <a:pt x="3435" y="327"/>
                  </a:lnTo>
                  <a:lnTo>
                    <a:pt x="3302" y="362"/>
                  </a:lnTo>
                  <a:lnTo>
                    <a:pt x="3209" y="389"/>
                  </a:lnTo>
                  <a:lnTo>
                    <a:pt x="3099" y="421"/>
                  </a:lnTo>
                  <a:lnTo>
                    <a:pt x="2914" y="469"/>
                  </a:lnTo>
                  <a:lnTo>
                    <a:pt x="2446" y="593"/>
                  </a:lnTo>
                  <a:lnTo>
                    <a:pt x="2406" y="606"/>
                  </a:lnTo>
                  <a:lnTo>
                    <a:pt x="2724" y="885"/>
                  </a:lnTo>
                  <a:lnTo>
                    <a:pt x="0" y="1615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291360" y="3340080"/>
            <a:ext cx="903240" cy="1657440"/>
            <a:chOff x="6291360" y="3340080"/>
            <a:chExt cx="903240" cy="1657440"/>
          </a:xfrm>
        </p:grpSpPr>
        <p:sp>
          <p:nvSpPr>
            <p:cNvPr id="119" name=""/>
            <p:cNvSpPr/>
            <p:nvPr/>
          </p:nvSpPr>
          <p:spPr>
            <a:xfrm>
              <a:off x="7194600" y="3340080"/>
              <a:ext cx="0" cy="1657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64320" y="4375080"/>
              <a:ext cx="517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51560" y="4264200"/>
              <a:ext cx="727200" cy="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6160" bIns="-56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61280" y="3602160"/>
              <a:ext cx="726840" cy="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6160" bIns="-56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6291360" y="3444840"/>
              <a:ext cx="73980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6300720" y="4027320"/>
              <a:ext cx="617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6453360" y="4179960"/>
              <a:ext cx="61740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"/>
            <p:cNvGrpSpPr/>
            <p:nvPr/>
          </p:nvGrpSpPr>
          <p:grpSpPr>
            <a:xfrm>
              <a:off x="6683400" y="4508640"/>
              <a:ext cx="453960" cy="325440"/>
              <a:chOff x="6683400" y="4508640"/>
              <a:chExt cx="453960" cy="325440"/>
            </a:xfrm>
          </p:grpSpPr>
          <p:pic>
            <p:nvPicPr>
              <p:cNvPr id="1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683400" y="4508640"/>
                <a:ext cx="453960" cy="32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 txBox="1"/>
              <p:nvPr/>
            </p:nvSpPr>
            <p:spPr>
              <a:xfrm>
                <a:off x="6743880" y="4578480"/>
                <a:ext cx="258840" cy="2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1179360" y="4213080"/>
            <a:ext cx="1732320" cy="468720"/>
            <a:chOff x="1179360" y="4213080"/>
            <a:chExt cx="1732320" cy="468720"/>
          </a:xfrm>
        </p:grpSpPr>
        <p:sp>
          <p:nvSpPr>
            <p:cNvPr id="130" name=""/>
            <p:cNvSpPr/>
            <p:nvPr/>
          </p:nvSpPr>
          <p:spPr>
            <a:xfrm>
              <a:off x="1197000" y="4316400"/>
              <a:ext cx="1538640" cy="365400"/>
            </a:xfrm>
            <a:custGeom>
              <a:avLst/>
              <a:gdLst/>
              <a:ahLst/>
              <a:rect l="0" t="0" r="r" b="b"/>
              <a:pathLst>
                <a:path fill="none" w="4274" h="1015">
                  <a:moveTo>
                    <a:pt x="4274" y="1015"/>
                  </a:moveTo>
                  <a:lnTo>
                    <a:pt x="3011" y="820"/>
                  </a:lnTo>
                  <a:lnTo>
                    <a:pt x="2874" y="798"/>
                  </a:lnTo>
                  <a:lnTo>
                    <a:pt x="2781" y="780"/>
                  </a:lnTo>
                  <a:lnTo>
                    <a:pt x="2667" y="762"/>
                  </a:lnTo>
                  <a:lnTo>
                    <a:pt x="2477" y="731"/>
                  </a:lnTo>
                  <a:lnTo>
                    <a:pt x="1999" y="656"/>
                  </a:lnTo>
                  <a:lnTo>
                    <a:pt x="1959" y="647"/>
                  </a:lnTo>
                  <a:lnTo>
                    <a:pt x="2247" y="336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79360" y="4213080"/>
              <a:ext cx="1732320" cy="402120"/>
            </a:xfrm>
            <a:custGeom>
              <a:avLst/>
              <a:gdLst/>
              <a:ahLst/>
              <a:rect l="0" t="0" r="r" b="b"/>
              <a:pathLst>
                <a:path fill="none" w="4812" h="1117">
                  <a:moveTo>
                    <a:pt x="4812" y="1117"/>
                  </a:moveTo>
                  <a:lnTo>
                    <a:pt x="3549" y="922"/>
                  </a:lnTo>
                  <a:lnTo>
                    <a:pt x="3412" y="900"/>
                  </a:lnTo>
                  <a:lnTo>
                    <a:pt x="3320" y="883"/>
                  </a:lnTo>
                  <a:lnTo>
                    <a:pt x="3205" y="865"/>
                  </a:lnTo>
                  <a:lnTo>
                    <a:pt x="3015" y="837"/>
                  </a:lnTo>
                  <a:lnTo>
                    <a:pt x="2538" y="762"/>
                  </a:lnTo>
                  <a:lnTo>
                    <a:pt x="2499" y="753"/>
                  </a:lnTo>
                  <a:lnTo>
                    <a:pt x="2786" y="443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539720" y="3492360"/>
            <a:ext cx="721080" cy="127440"/>
          </a:xfrm>
          <a:custGeom>
            <a:avLst/>
            <a:gdLst/>
            <a:ahLst/>
            <a:rect l="0" t="0" r="r" b="b"/>
            <a:pathLst>
              <a:path fill="none" w="2003" h="354">
                <a:moveTo>
                  <a:pt x="2003" y="0"/>
                </a:moveTo>
                <a:lnTo>
                  <a:pt x="1967" y="0"/>
                </a:lnTo>
                <a:lnTo>
                  <a:pt x="1830" y="0"/>
                </a:lnTo>
                <a:lnTo>
                  <a:pt x="1733" y="0"/>
                </a:lnTo>
                <a:lnTo>
                  <a:pt x="1622" y="0"/>
                </a:lnTo>
                <a:lnTo>
                  <a:pt x="1428" y="0"/>
                </a:lnTo>
                <a:lnTo>
                  <a:pt x="945" y="0"/>
                </a:lnTo>
                <a:lnTo>
                  <a:pt x="905" y="0"/>
                </a:lnTo>
                <a:lnTo>
                  <a:pt x="1136" y="354"/>
                </a:lnTo>
                <a:lnTo>
                  <a:pt x="0" y="354"/>
                </a:lnTo>
              </a:path>
            </a:pathLst>
          </a:custGeom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6320" y="2730600"/>
            <a:ext cx="1760760" cy="991080"/>
          </a:xfrm>
          <a:custGeom>
            <a:avLst/>
            <a:gdLst/>
            <a:ahLst/>
            <a:rect l="0" t="0" r="r" b="b"/>
            <a:pathLst>
              <a:path fill="none" w="4891" h="2753">
                <a:moveTo>
                  <a:pt x="4891" y="2753"/>
                </a:moveTo>
                <a:lnTo>
                  <a:pt x="2281" y="1445"/>
                </a:lnTo>
                <a:lnTo>
                  <a:pt x="2153" y="1383"/>
                </a:lnTo>
                <a:lnTo>
                  <a:pt x="2074" y="1339"/>
                </a:lnTo>
                <a:lnTo>
                  <a:pt x="1968" y="1286"/>
                </a:lnTo>
                <a:lnTo>
                  <a:pt x="1791" y="1211"/>
                </a:lnTo>
                <a:lnTo>
                  <a:pt x="1355" y="1012"/>
                </a:lnTo>
                <a:lnTo>
                  <a:pt x="1319" y="990"/>
                </a:lnTo>
                <a:lnTo>
                  <a:pt x="1681" y="773"/>
                </a:lnTo>
                <a:lnTo>
                  <a:pt x="0" y="0"/>
                </a:lnTo>
              </a:path>
            </a:pathLst>
          </a:custGeom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030400" y="2909880"/>
            <a:ext cx="1857240" cy="115236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360520" y="3081240"/>
            <a:ext cx="1133640" cy="719280"/>
            <a:chOff x="2360520" y="3081240"/>
            <a:chExt cx="1133640" cy="719280"/>
          </a:xfrm>
        </p:grpSpPr>
        <p:sp>
          <p:nvSpPr>
            <p:cNvPr id="136" name=""/>
            <p:cNvSpPr/>
            <p:nvPr/>
          </p:nvSpPr>
          <p:spPr>
            <a:xfrm>
              <a:off x="2657520" y="3081240"/>
              <a:ext cx="674640" cy="5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2360520" y="3228840"/>
              <a:ext cx="1133640" cy="57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P “A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ckb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09760" y="1657440"/>
            <a:ext cx="1440" cy="1488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33520" y="2087640"/>
            <a:ext cx="718920" cy="20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600" y="1908000"/>
            <a:ext cx="72684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4680" y="2766960"/>
            <a:ext cx="72684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781200" y="2567160"/>
            <a:ext cx="739800" cy="46044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733320" y="3311640"/>
            <a:ext cx="1077840" cy="1726920"/>
            <a:chOff x="733320" y="3311640"/>
            <a:chExt cx="1077840" cy="1726920"/>
          </a:xfrm>
        </p:grpSpPr>
        <p:sp>
          <p:nvSpPr>
            <p:cNvPr id="144" name=""/>
            <p:cNvSpPr txBox="1"/>
            <p:nvPr/>
          </p:nvSpPr>
          <p:spPr>
            <a:xfrm>
              <a:off x="839880" y="4773600"/>
              <a:ext cx="717480" cy="26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P (i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33320" y="3311640"/>
              <a:ext cx="20880" cy="152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63560" y="4433760"/>
              <a:ext cx="719280" cy="20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640" y="4254480"/>
              <a:ext cx="727200" cy="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6160" bIns="-56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5000" y="3635280"/>
              <a:ext cx="72720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8"/>
            <a:stretch/>
          </p:blipFill>
          <p:spPr>
            <a:xfrm>
              <a:off x="1004760" y="3948120"/>
              <a:ext cx="617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9"/>
            <a:stretch/>
          </p:blipFill>
          <p:spPr>
            <a:xfrm>
              <a:off x="1157400" y="4100400"/>
              <a:ext cx="61740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"/>
            <p:cNvGrpSpPr/>
            <p:nvPr/>
          </p:nvGrpSpPr>
          <p:grpSpPr>
            <a:xfrm>
              <a:off x="1357200" y="4456080"/>
              <a:ext cx="453960" cy="325440"/>
              <a:chOff x="1357200" y="4456080"/>
              <a:chExt cx="453960" cy="325440"/>
            </a:xfrm>
          </p:grpSpPr>
          <p:pic>
            <p:nvPicPr>
              <p:cNvPr id="15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357200" y="4456080"/>
                <a:ext cx="453960" cy="32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 txBox="1"/>
              <p:nvPr/>
            </p:nvSpPr>
            <p:spPr>
              <a:xfrm>
                <a:off x="1417680" y="4525920"/>
                <a:ext cx="258840" cy="2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4" name="" descr=""/>
            <p:cNvPicPr/>
            <p:nvPr/>
          </p:nvPicPr>
          <p:blipFill>
            <a:blip r:embed="rId11"/>
            <a:stretch/>
          </p:blipFill>
          <p:spPr>
            <a:xfrm>
              <a:off x="1028880" y="3425760"/>
              <a:ext cx="739800" cy="460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>
            <a:off x="3036960" y="2209680"/>
            <a:ext cx="1857240" cy="115236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3295800" y="2181240"/>
            <a:ext cx="1441440" cy="982800"/>
            <a:chOff x="3295800" y="2181240"/>
            <a:chExt cx="1441440" cy="982800"/>
          </a:xfrm>
        </p:grpSpPr>
        <p:sp>
          <p:nvSpPr>
            <p:cNvPr id="157" name=""/>
            <p:cNvSpPr/>
            <p:nvPr/>
          </p:nvSpPr>
          <p:spPr>
            <a:xfrm>
              <a:off x="3738600" y="2181240"/>
              <a:ext cx="674640" cy="61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295800" y="2347920"/>
              <a:ext cx="1441440" cy="81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Q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connec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or Interne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934920" y="1581120"/>
            <a:ext cx="1526040" cy="627480"/>
            <a:chOff x="934920" y="1581120"/>
            <a:chExt cx="1526040" cy="627480"/>
          </a:xfrm>
        </p:grpSpPr>
        <p:sp>
          <p:nvSpPr>
            <p:cNvPr id="160" name=""/>
            <p:cNvSpPr/>
            <p:nvPr/>
          </p:nvSpPr>
          <p:spPr>
            <a:xfrm>
              <a:off x="934920" y="1581120"/>
              <a:ext cx="1387800" cy="581400"/>
            </a:xfrm>
            <a:custGeom>
              <a:avLst/>
              <a:gdLst/>
              <a:ahLst/>
              <a:rect l="0" t="0" r="r" b="b"/>
              <a:pathLst>
                <a:path fill="none" w="3855" h="1615">
                  <a:moveTo>
                    <a:pt x="3855" y="0"/>
                  </a:moveTo>
                  <a:lnTo>
                    <a:pt x="2830" y="327"/>
                  </a:lnTo>
                  <a:lnTo>
                    <a:pt x="2724" y="362"/>
                  </a:lnTo>
                  <a:lnTo>
                    <a:pt x="2645" y="389"/>
                  </a:lnTo>
                  <a:lnTo>
                    <a:pt x="2557" y="421"/>
                  </a:lnTo>
                  <a:lnTo>
                    <a:pt x="2402" y="469"/>
                  </a:lnTo>
                  <a:lnTo>
                    <a:pt x="2018" y="593"/>
                  </a:lnTo>
                  <a:lnTo>
                    <a:pt x="1983" y="606"/>
                  </a:lnTo>
                  <a:lnTo>
                    <a:pt x="2248" y="885"/>
                  </a:lnTo>
                  <a:lnTo>
                    <a:pt x="0" y="1615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73160" y="1627200"/>
              <a:ext cx="1387800" cy="581400"/>
            </a:xfrm>
            <a:custGeom>
              <a:avLst/>
              <a:gdLst/>
              <a:ahLst/>
              <a:rect l="0" t="0" r="r" b="b"/>
              <a:pathLst>
                <a:path fill="none" w="3855" h="1615">
                  <a:moveTo>
                    <a:pt x="3855" y="0"/>
                  </a:moveTo>
                  <a:lnTo>
                    <a:pt x="2830" y="327"/>
                  </a:lnTo>
                  <a:lnTo>
                    <a:pt x="2724" y="362"/>
                  </a:lnTo>
                  <a:lnTo>
                    <a:pt x="2645" y="389"/>
                  </a:lnTo>
                  <a:lnTo>
                    <a:pt x="2557" y="421"/>
                  </a:lnTo>
                  <a:lnTo>
                    <a:pt x="2402" y="469"/>
                  </a:lnTo>
                  <a:lnTo>
                    <a:pt x="2018" y="593"/>
                  </a:lnTo>
                  <a:lnTo>
                    <a:pt x="1983" y="606"/>
                  </a:lnTo>
                  <a:lnTo>
                    <a:pt x="2248" y="885"/>
                  </a:lnTo>
                  <a:lnTo>
                    <a:pt x="0" y="1615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3"/>
          <a:stretch/>
        </p:blipFill>
        <p:spPr>
          <a:xfrm>
            <a:off x="774720" y="1601640"/>
            <a:ext cx="617400" cy="609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4"/>
          <a:stretch/>
        </p:blipFill>
        <p:spPr>
          <a:xfrm>
            <a:off x="927000" y="1754280"/>
            <a:ext cx="617400" cy="60948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127160" y="2109960"/>
            <a:ext cx="453960" cy="325440"/>
            <a:chOff x="1127160" y="2109960"/>
            <a:chExt cx="453960" cy="325440"/>
          </a:xfrm>
        </p:grpSpPr>
        <p:pic>
          <p:nvPicPr>
            <p:cNvPr id="165" name="" descr=""/>
            <p:cNvPicPr/>
            <p:nvPr/>
          </p:nvPicPr>
          <p:blipFill>
            <a:blip r:embed="rId15"/>
            <a:stretch/>
          </p:blipFill>
          <p:spPr>
            <a:xfrm>
              <a:off x="1127160" y="2109960"/>
              <a:ext cx="45396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 txBox="1"/>
            <p:nvPr/>
          </p:nvSpPr>
          <p:spPr>
            <a:xfrm>
              <a:off x="1189080" y="2181240"/>
              <a:ext cx="25884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368520" y="1279440"/>
            <a:ext cx="1051200" cy="590760"/>
          </a:xfrm>
          <a:custGeom>
            <a:avLst/>
            <a:gdLst/>
            <a:ahLst/>
            <a:rect l="0" t="0" r="r" b="b"/>
            <a:pathLst>
              <a:path fill="none" w="2920" h="1641">
                <a:moveTo>
                  <a:pt x="2920" y="0"/>
                </a:moveTo>
                <a:lnTo>
                  <a:pt x="1992" y="380"/>
                </a:lnTo>
                <a:lnTo>
                  <a:pt x="1886" y="424"/>
                </a:lnTo>
                <a:lnTo>
                  <a:pt x="1811" y="464"/>
                </a:lnTo>
                <a:lnTo>
                  <a:pt x="1718" y="508"/>
                </a:lnTo>
                <a:lnTo>
                  <a:pt x="1568" y="579"/>
                </a:lnTo>
                <a:lnTo>
                  <a:pt x="1183" y="756"/>
                </a:lnTo>
                <a:lnTo>
                  <a:pt x="1152" y="769"/>
                </a:lnTo>
                <a:lnTo>
                  <a:pt x="1471" y="947"/>
                </a:lnTo>
                <a:lnTo>
                  <a:pt x="0" y="1641"/>
                </a:lnTo>
              </a:path>
            </a:pathLst>
          </a:custGeom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97400" y="1327320"/>
            <a:ext cx="973440" cy="582840"/>
          </a:xfrm>
          <a:custGeom>
            <a:avLst/>
            <a:gdLst/>
            <a:ahLst/>
            <a:rect l="0" t="0" r="r" b="b"/>
            <a:pathLst>
              <a:path fill="none" w="2704" h="1619">
                <a:moveTo>
                  <a:pt x="2704" y="0"/>
                </a:moveTo>
                <a:lnTo>
                  <a:pt x="2333" y="190"/>
                </a:lnTo>
                <a:lnTo>
                  <a:pt x="2205" y="247"/>
                </a:lnTo>
                <a:lnTo>
                  <a:pt x="2116" y="287"/>
                </a:lnTo>
                <a:lnTo>
                  <a:pt x="2010" y="336"/>
                </a:lnTo>
                <a:lnTo>
                  <a:pt x="1838" y="411"/>
                </a:lnTo>
                <a:lnTo>
                  <a:pt x="1392" y="610"/>
                </a:lnTo>
                <a:lnTo>
                  <a:pt x="1356" y="627"/>
                </a:lnTo>
                <a:lnTo>
                  <a:pt x="1710" y="849"/>
                </a:lnTo>
                <a:lnTo>
                  <a:pt x="0" y="1619"/>
                </a:lnTo>
              </a:path>
            </a:pathLst>
          </a:custGeom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6"/>
          <a:stretch/>
        </p:blipFill>
        <p:spPr>
          <a:xfrm>
            <a:off x="3943440" y="103824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7"/>
          <a:stretch/>
        </p:blipFill>
        <p:spPr>
          <a:xfrm>
            <a:off x="4095720" y="1190520"/>
            <a:ext cx="528480" cy="42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8"/>
          <a:stretch/>
        </p:blipFill>
        <p:spPr>
          <a:xfrm>
            <a:off x="4913280" y="1563840"/>
            <a:ext cx="468360" cy="71136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2274840" y="1141560"/>
            <a:ext cx="1579680" cy="990720"/>
            <a:chOff x="2274840" y="1141560"/>
            <a:chExt cx="1579680" cy="990720"/>
          </a:xfrm>
        </p:grpSpPr>
        <p:pic>
          <p:nvPicPr>
            <p:cNvPr id="173" name="" descr=""/>
            <p:cNvPicPr/>
            <p:nvPr/>
          </p:nvPicPr>
          <p:blipFill>
            <a:blip r:embed="rId19"/>
            <a:stretch/>
          </p:blipFill>
          <p:spPr>
            <a:xfrm>
              <a:off x="2274840" y="1141560"/>
              <a:ext cx="15796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 txBox="1"/>
            <p:nvPr/>
          </p:nvSpPr>
          <p:spPr>
            <a:xfrm>
              <a:off x="2719440" y="1316160"/>
              <a:ext cx="720720" cy="5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043000" y="4675320"/>
            <a:ext cx="1341720" cy="1212840"/>
            <a:chOff x="2043000" y="4675320"/>
            <a:chExt cx="1341720" cy="1212840"/>
          </a:xfrm>
        </p:grpSpPr>
        <p:sp>
          <p:nvSpPr>
            <p:cNvPr id="176" name=""/>
            <p:cNvSpPr/>
            <p:nvPr/>
          </p:nvSpPr>
          <p:spPr>
            <a:xfrm>
              <a:off x="2136600" y="4856040"/>
              <a:ext cx="1198800" cy="1032120"/>
            </a:xfrm>
            <a:custGeom>
              <a:avLst/>
              <a:gdLst/>
              <a:ahLst/>
              <a:rect l="0" t="0" r="r" b="b"/>
              <a:pathLst>
                <a:path fill="none" w="3330" h="2867">
                  <a:moveTo>
                    <a:pt x="3330" y="0"/>
                  </a:moveTo>
                  <a:lnTo>
                    <a:pt x="2429" y="909"/>
                  </a:lnTo>
                  <a:lnTo>
                    <a:pt x="2332" y="1006"/>
                  </a:lnTo>
                  <a:lnTo>
                    <a:pt x="2261" y="1073"/>
                  </a:lnTo>
                  <a:lnTo>
                    <a:pt x="2182" y="1152"/>
                  </a:lnTo>
                  <a:lnTo>
                    <a:pt x="2045" y="1289"/>
                  </a:lnTo>
                  <a:lnTo>
                    <a:pt x="1705" y="1630"/>
                  </a:lnTo>
                  <a:lnTo>
                    <a:pt x="1674" y="1657"/>
                  </a:lnTo>
                  <a:lnTo>
                    <a:pt x="1589" y="1245"/>
                  </a:lnTo>
                  <a:lnTo>
                    <a:pt x="0" y="2867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43000" y="4675320"/>
              <a:ext cx="1341720" cy="1167120"/>
            </a:xfrm>
            <a:custGeom>
              <a:avLst/>
              <a:gdLst/>
              <a:ahLst/>
              <a:rect l="0" t="0" r="r" b="b"/>
              <a:pathLst>
                <a:path fill="none" w="3727" h="3242">
                  <a:moveTo>
                    <a:pt x="3727" y="0"/>
                  </a:moveTo>
                  <a:lnTo>
                    <a:pt x="2830" y="905"/>
                  </a:lnTo>
                  <a:lnTo>
                    <a:pt x="2729" y="1002"/>
                  </a:lnTo>
                  <a:lnTo>
                    <a:pt x="2663" y="1068"/>
                  </a:lnTo>
                  <a:lnTo>
                    <a:pt x="2579" y="1152"/>
                  </a:lnTo>
                  <a:lnTo>
                    <a:pt x="2446" y="1289"/>
                  </a:lnTo>
                  <a:lnTo>
                    <a:pt x="2106" y="1630"/>
                  </a:lnTo>
                  <a:lnTo>
                    <a:pt x="2076" y="1661"/>
                  </a:lnTo>
                  <a:lnTo>
                    <a:pt x="1996" y="1245"/>
                  </a:lnTo>
                  <a:lnTo>
                    <a:pt x="0" y="3242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20"/>
          <a:stretch/>
        </p:blipFill>
        <p:spPr>
          <a:xfrm>
            <a:off x="1814400" y="550224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1"/>
          <a:stretch/>
        </p:blipFill>
        <p:spPr>
          <a:xfrm>
            <a:off x="1967040" y="5646600"/>
            <a:ext cx="533520" cy="42372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2274840" y="4265640"/>
            <a:ext cx="1579680" cy="990720"/>
            <a:chOff x="2274840" y="4265640"/>
            <a:chExt cx="1579680" cy="990720"/>
          </a:xfrm>
        </p:grpSpPr>
        <p:pic>
          <p:nvPicPr>
            <p:cNvPr id="181" name="" descr=""/>
            <p:cNvPicPr/>
            <p:nvPr/>
          </p:nvPicPr>
          <p:blipFill>
            <a:blip r:embed="rId22"/>
            <a:stretch/>
          </p:blipFill>
          <p:spPr>
            <a:xfrm>
              <a:off x="2274840" y="4265640"/>
              <a:ext cx="15796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 txBox="1"/>
            <p:nvPr/>
          </p:nvSpPr>
          <p:spPr>
            <a:xfrm>
              <a:off x="2719440" y="4440240"/>
              <a:ext cx="720720" cy="5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76840" y="4722840"/>
            <a:ext cx="1089360" cy="1005480"/>
            <a:chOff x="4776840" y="4722840"/>
            <a:chExt cx="1089360" cy="1005480"/>
          </a:xfrm>
        </p:grpSpPr>
        <p:sp>
          <p:nvSpPr>
            <p:cNvPr id="184" name=""/>
            <p:cNvSpPr/>
            <p:nvPr/>
          </p:nvSpPr>
          <p:spPr>
            <a:xfrm>
              <a:off x="4826160" y="4903920"/>
              <a:ext cx="992520" cy="824400"/>
            </a:xfrm>
            <a:custGeom>
              <a:avLst/>
              <a:gdLst/>
              <a:ahLst/>
              <a:rect l="0" t="0" r="r" b="b"/>
              <a:pathLst>
                <a:path fill="none" w="2757" h="2290">
                  <a:moveTo>
                    <a:pt x="0" y="0"/>
                  </a:moveTo>
                  <a:lnTo>
                    <a:pt x="901" y="911"/>
                  </a:lnTo>
                  <a:lnTo>
                    <a:pt x="998" y="1008"/>
                  </a:lnTo>
                  <a:lnTo>
                    <a:pt x="1068" y="1074"/>
                  </a:lnTo>
                  <a:lnTo>
                    <a:pt x="1148" y="1154"/>
                  </a:lnTo>
                  <a:lnTo>
                    <a:pt x="1285" y="1291"/>
                  </a:lnTo>
                  <a:lnTo>
                    <a:pt x="1626" y="1631"/>
                  </a:lnTo>
                  <a:lnTo>
                    <a:pt x="1657" y="1657"/>
                  </a:lnTo>
                  <a:lnTo>
                    <a:pt x="1741" y="1246"/>
                  </a:lnTo>
                  <a:lnTo>
                    <a:pt x="2757" y="229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76840" y="4722840"/>
              <a:ext cx="1089360" cy="910080"/>
            </a:xfrm>
            <a:custGeom>
              <a:avLst/>
              <a:gdLst/>
              <a:ahLst/>
              <a:rect l="0" t="0" r="r" b="b"/>
              <a:pathLst>
                <a:path fill="none" w="3026" h="2528">
                  <a:moveTo>
                    <a:pt x="0" y="0"/>
                  </a:moveTo>
                  <a:lnTo>
                    <a:pt x="896" y="906"/>
                  </a:lnTo>
                  <a:lnTo>
                    <a:pt x="998" y="1003"/>
                  </a:lnTo>
                  <a:lnTo>
                    <a:pt x="1064" y="1070"/>
                  </a:lnTo>
                  <a:lnTo>
                    <a:pt x="1148" y="1153"/>
                  </a:lnTo>
                  <a:lnTo>
                    <a:pt x="1280" y="1290"/>
                  </a:lnTo>
                  <a:lnTo>
                    <a:pt x="1621" y="1631"/>
                  </a:lnTo>
                  <a:lnTo>
                    <a:pt x="1652" y="1661"/>
                  </a:lnTo>
                  <a:lnTo>
                    <a:pt x="1732" y="1246"/>
                  </a:lnTo>
                  <a:lnTo>
                    <a:pt x="3026" y="2528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23"/>
          <a:stretch/>
        </p:blipFill>
        <p:spPr>
          <a:xfrm>
            <a:off x="5808600" y="5456160"/>
            <a:ext cx="752400" cy="399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4"/>
          <a:stretch/>
        </p:blipFill>
        <p:spPr>
          <a:xfrm>
            <a:off x="5326200" y="5589720"/>
            <a:ext cx="533520" cy="42372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4246560" y="4265640"/>
            <a:ext cx="1579680" cy="990720"/>
            <a:chOff x="4246560" y="4265640"/>
            <a:chExt cx="1579680" cy="990720"/>
          </a:xfrm>
        </p:grpSpPr>
        <p:pic>
          <p:nvPicPr>
            <p:cNvPr id="189" name="" descr=""/>
            <p:cNvPicPr/>
            <p:nvPr/>
          </p:nvPicPr>
          <p:blipFill>
            <a:blip r:embed="rId25"/>
            <a:stretch/>
          </p:blipFill>
          <p:spPr>
            <a:xfrm>
              <a:off x="4246560" y="4265640"/>
              <a:ext cx="15796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 txBox="1"/>
            <p:nvPr/>
          </p:nvSpPr>
          <p:spPr>
            <a:xfrm>
              <a:off x="4691160" y="4440240"/>
              <a:ext cx="720720" cy="5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182760" y="839880"/>
            <a:ext cx="1857240" cy="1739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1040" y="1065240"/>
            <a:ext cx="2370240" cy="4062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bababa"/>
              </a:gs>
              <a:gs pos="100000">
                <a:srgbClr val="b2b2b2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75160" y="1065240"/>
            <a:ext cx="2370240" cy="406224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49520" y="1449360"/>
            <a:ext cx="1282680" cy="534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88920" y="1252440"/>
            <a:ext cx="10447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036800" y="1411200"/>
            <a:ext cx="976320" cy="2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150920" y="1539720"/>
            <a:ext cx="888840" cy="572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344840" y="1746360"/>
            <a:ext cx="1378080" cy="249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130800" y="1450800"/>
            <a:ext cx="376200" cy="133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141960" y="1709640"/>
            <a:ext cx="876240" cy="810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46640" y="2006640"/>
            <a:ext cx="594000" cy="31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2040" y="3070080"/>
            <a:ext cx="1376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52760" y="2363760"/>
            <a:ext cx="341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51720" y="2687760"/>
            <a:ext cx="0" cy="1865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8200" y="4708440"/>
            <a:ext cx="19130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Branch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641760" y="1201680"/>
            <a:ext cx="876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ST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16640" y="3603600"/>
            <a:ext cx="222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83400" y="3546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76920" y="4168800"/>
            <a:ext cx="185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18440" y="426708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56440" y="287964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802480" y="4708440"/>
            <a:ext cx="16034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ain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190520" y="1596960"/>
            <a:ext cx="879480" cy="517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625840" y="1733400"/>
            <a:ext cx="6382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1,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138400" y="1754280"/>
            <a:ext cx="133200" cy="458640"/>
            <a:chOff x="2138400" y="1754280"/>
            <a:chExt cx="133200" cy="458640"/>
          </a:xfrm>
        </p:grpSpPr>
        <p:sp>
          <p:nvSpPr>
            <p:cNvPr id="216" name=""/>
            <p:cNvSpPr/>
            <p:nvPr/>
          </p:nvSpPr>
          <p:spPr>
            <a:xfrm>
              <a:off x="2138400" y="1754280"/>
              <a:ext cx="0" cy="458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71600" y="1754280"/>
              <a:ext cx="0" cy="4586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28560" y="1928880"/>
            <a:ext cx="754200" cy="404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76240" y="2384280"/>
            <a:ext cx="0" cy="666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975360" y="1560600"/>
            <a:ext cx="438120" cy="316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85720" y="1123920"/>
            <a:ext cx="438120" cy="316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84360" y="1322280"/>
            <a:ext cx="438120" cy="317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819000" y="1459080"/>
            <a:ext cx="438120" cy="316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oute Re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6678720" y="1893960"/>
            <a:ext cx="438120" cy="316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6467400" y="1309680"/>
            <a:ext cx="438120" cy="31608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5869080" y="2316240"/>
            <a:ext cx="142920" cy="209520"/>
            <a:chOff x="5869080" y="2316240"/>
            <a:chExt cx="142920" cy="209520"/>
          </a:xfrm>
        </p:grpSpPr>
        <p:sp>
          <p:nvSpPr>
            <p:cNvPr id="228" name=""/>
            <p:cNvSpPr/>
            <p:nvPr/>
          </p:nvSpPr>
          <p:spPr>
            <a:xfrm>
              <a:off x="6012000" y="2316240"/>
              <a:ext cx="0" cy="209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9080" y="2316240"/>
              <a:ext cx="0" cy="209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>
            <a:off x="4832280" y="2909880"/>
            <a:ext cx="906480" cy="39852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9"/>
          <a:stretch/>
        </p:blipFill>
        <p:spPr>
          <a:xfrm>
            <a:off x="5619600" y="2563920"/>
            <a:ext cx="706320" cy="695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481120" y="2523960"/>
            <a:ext cx="847800" cy="8366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0"/>
          <a:stretch/>
        </p:blipFill>
        <p:spPr>
          <a:xfrm>
            <a:off x="1893960" y="2181240"/>
            <a:ext cx="685800" cy="4287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3106800" y="2897280"/>
            <a:ext cx="2011320" cy="1882800"/>
            <a:chOff x="3106800" y="2897280"/>
            <a:chExt cx="2011320" cy="1882800"/>
          </a:xfrm>
        </p:grpSpPr>
        <p:pic>
          <p:nvPicPr>
            <p:cNvPr id="235" name="" descr=""/>
            <p:cNvPicPr/>
            <p:nvPr/>
          </p:nvPicPr>
          <p:blipFill>
            <a:blip r:embed="rId11"/>
            <a:stretch/>
          </p:blipFill>
          <p:spPr>
            <a:xfrm>
              <a:off x="3106800" y="2897280"/>
              <a:ext cx="2011320" cy="18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3154320" y="3322800"/>
              <a:ext cx="1851120" cy="96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o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tranet/Interne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998720" y="2403360"/>
            <a:ext cx="453960" cy="325440"/>
            <a:chOff x="1998720" y="2403360"/>
            <a:chExt cx="453960" cy="325440"/>
          </a:xfrm>
        </p:grpSpPr>
        <p:pic>
          <p:nvPicPr>
            <p:cNvPr id="238" name="" descr=""/>
            <p:cNvPicPr/>
            <p:nvPr/>
          </p:nvPicPr>
          <p:blipFill>
            <a:blip r:embed="rId12"/>
            <a:stretch/>
          </p:blipFill>
          <p:spPr>
            <a:xfrm>
              <a:off x="1998720" y="2403360"/>
              <a:ext cx="45396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 txBox="1"/>
            <p:nvPr/>
          </p:nvSpPr>
          <p:spPr>
            <a:xfrm>
              <a:off x="2058840" y="2473200"/>
              <a:ext cx="25884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734080" y="3013200"/>
            <a:ext cx="453960" cy="325440"/>
            <a:chOff x="5734080" y="3013200"/>
            <a:chExt cx="453960" cy="325440"/>
          </a:xfrm>
        </p:grpSpPr>
        <p:pic>
          <p:nvPicPr>
            <p:cNvPr id="241" name="" descr=""/>
            <p:cNvPicPr/>
            <p:nvPr/>
          </p:nvPicPr>
          <p:blipFill>
            <a:blip r:embed="rId13"/>
            <a:stretch/>
          </p:blipFill>
          <p:spPr>
            <a:xfrm>
              <a:off x="5734080" y="3013200"/>
              <a:ext cx="45396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5794200" y="3083040"/>
              <a:ext cx="25884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759120" y="1677960"/>
            <a:ext cx="777960" cy="663480"/>
            <a:chOff x="3759120" y="1677960"/>
            <a:chExt cx="777960" cy="663480"/>
          </a:xfrm>
        </p:grpSpPr>
        <p:pic>
          <p:nvPicPr>
            <p:cNvPr id="244" name="" descr=""/>
            <p:cNvPicPr/>
            <p:nvPr/>
          </p:nvPicPr>
          <p:blipFill>
            <a:blip r:embed="rId14"/>
            <a:stretch/>
          </p:blipFill>
          <p:spPr>
            <a:xfrm>
              <a:off x="3782880" y="1677960"/>
              <a:ext cx="7542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 txBox="1"/>
            <p:nvPr/>
          </p:nvSpPr>
          <p:spPr>
            <a:xfrm>
              <a:off x="3759120" y="1762200"/>
              <a:ext cx="679320" cy="46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Telc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Switc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73600" y="1365120"/>
            <a:ext cx="587520" cy="1015920"/>
            <a:chOff x="5673600" y="1365120"/>
            <a:chExt cx="587520" cy="1015920"/>
          </a:xfrm>
        </p:grpSpPr>
        <p:pic>
          <p:nvPicPr>
            <p:cNvPr id="247" name="" descr=""/>
            <p:cNvPicPr/>
            <p:nvPr/>
          </p:nvPicPr>
          <p:blipFill>
            <a:blip r:embed="rId15"/>
            <a:stretch/>
          </p:blipFill>
          <p:spPr>
            <a:xfrm>
              <a:off x="5692680" y="1365120"/>
              <a:ext cx="5684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 txBox="1"/>
            <p:nvPr/>
          </p:nvSpPr>
          <p:spPr>
            <a:xfrm>
              <a:off x="5673600" y="1486080"/>
              <a:ext cx="500040" cy="39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PBX</a:t>
              </a:r>
              <a:r>
                <a:rPr b="1" lang="en-US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801800" y="1122480"/>
            <a:ext cx="871560" cy="695160"/>
            <a:chOff x="1801800" y="1122480"/>
            <a:chExt cx="871560" cy="695160"/>
          </a:xfrm>
        </p:grpSpPr>
        <p:pic>
          <p:nvPicPr>
            <p:cNvPr id="250" name="" descr=""/>
            <p:cNvPicPr/>
            <p:nvPr/>
          </p:nvPicPr>
          <p:blipFill>
            <a:blip r:embed="rId16"/>
            <a:stretch/>
          </p:blipFill>
          <p:spPr>
            <a:xfrm>
              <a:off x="1801800" y="1122480"/>
              <a:ext cx="8715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 txBox="1"/>
            <p:nvPr/>
          </p:nvSpPr>
          <p:spPr>
            <a:xfrm>
              <a:off x="1879560" y="1198440"/>
              <a:ext cx="65088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PB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" descr=""/>
          <p:cNvPicPr/>
          <p:nvPr/>
        </p:nvPicPr>
        <p:blipFill>
          <a:blip r:embed="rId17"/>
          <a:stretch/>
        </p:blipFill>
        <p:spPr>
          <a:xfrm>
            <a:off x="458640" y="258444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8"/>
          <a:stretch/>
        </p:blipFill>
        <p:spPr>
          <a:xfrm>
            <a:off x="971640" y="314784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9"/>
          <a:stretch/>
        </p:blipFill>
        <p:spPr>
          <a:xfrm>
            <a:off x="6045120" y="343836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0"/>
          <a:stretch/>
        </p:blipFill>
        <p:spPr>
          <a:xfrm>
            <a:off x="6045120" y="412416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1"/>
          <a:stretch/>
        </p:blipFill>
        <p:spPr>
          <a:xfrm>
            <a:off x="6807240" y="336564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2"/>
          <a:stretch/>
        </p:blipFill>
        <p:spPr>
          <a:xfrm>
            <a:off x="6818400" y="3860640"/>
            <a:ext cx="50796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808280" y="3201840"/>
            <a:ext cx="3578040" cy="1501920"/>
            <a:chOff x="1808280" y="3201840"/>
            <a:chExt cx="3578040" cy="1501920"/>
          </a:xfrm>
        </p:grpSpPr>
        <p:sp>
          <p:nvSpPr>
            <p:cNvPr id="259" name=""/>
            <p:cNvSpPr/>
            <p:nvPr/>
          </p:nvSpPr>
          <p:spPr>
            <a:xfrm>
              <a:off x="3270240" y="3208320"/>
              <a:ext cx="476280" cy="436680"/>
            </a:xfrm>
            <a:prstGeom prst="ellipse">
              <a:avLst/>
            </a:prstGeom>
            <a:solidFill>
              <a:srgbClr val="868686"/>
            </a:solidFill>
            <a:ln w="12600">
              <a:solidFill>
                <a:srgbClr val="41414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10040" y="3201840"/>
              <a:ext cx="476280" cy="436680"/>
            </a:xfrm>
            <a:prstGeom prst="ellipse">
              <a:avLst/>
            </a:prstGeom>
            <a:solidFill>
              <a:srgbClr val="868686"/>
            </a:solidFill>
            <a:ln w="12600">
              <a:solidFill>
                <a:srgbClr val="41414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08280" y="4267080"/>
              <a:ext cx="476280" cy="436680"/>
            </a:xfrm>
            <a:prstGeom prst="ellipse">
              <a:avLst/>
            </a:prstGeom>
            <a:solidFill>
              <a:srgbClr val="868686"/>
            </a:solidFill>
            <a:ln w="12600">
              <a:solidFill>
                <a:srgbClr val="41414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oute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52640" y="1774800"/>
            <a:ext cx="0" cy="3319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9640" y="4802040"/>
            <a:ext cx="7205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168640" y="5253120"/>
            <a:ext cx="4341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age/Billing Cycle (Hours/Mon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593640" y="2895480"/>
            <a:ext cx="27176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lling Cycle Cost ($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24040" y="4826160"/>
            <a:ext cx="3078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62120" y="4826160"/>
            <a:ext cx="434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400560" y="4826160"/>
            <a:ext cx="434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238640" y="4826160"/>
            <a:ext cx="434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76720" y="4826160"/>
            <a:ext cx="434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915160" y="4826160"/>
            <a:ext cx="434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753240" y="4826160"/>
            <a:ext cx="434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85760" y="3430440"/>
            <a:ext cx="634212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082520" y="2724120"/>
            <a:ext cx="6113520" cy="2100240"/>
          </a:xfrm>
          <a:prstGeom prst="line">
            <a:avLst/>
          </a:prstGeom>
          <a:ln w="38160">
            <a:solidFill>
              <a:srgbClr val="00c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082520" y="1886040"/>
            <a:ext cx="5123160" cy="2938320"/>
          </a:xfrm>
          <a:prstGeom prst="line">
            <a:avLst/>
          </a:prstGeom>
          <a:ln w="38160">
            <a:solidFill>
              <a:srgbClr val="1bb15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85760" y="4497480"/>
            <a:ext cx="6342120" cy="0"/>
          </a:xfrm>
          <a:prstGeom prst="line">
            <a:avLst/>
          </a:prstGeom>
          <a:ln w="38160">
            <a:solidFill>
              <a:srgbClr val="99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481040" y="1449360"/>
            <a:ext cx="2660760" cy="1219320"/>
            <a:chOff x="1481040" y="1449360"/>
            <a:chExt cx="2660760" cy="1219320"/>
          </a:xfrm>
        </p:grpSpPr>
        <p:sp>
          <p:nvSpPr>
            <p:cNvPr id="279" name=""/>
            <p:cNvSpPr/>
            <p:nvPr/>
          </p:nvSpPr>
          <p:spPr>
            <a:xfrm>
              <a:off x="1481040" y="1449360"/>
              <a:ext cx="2635200" cy="121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19280" y="1601640"/>
              <a:ext cx="1084320" cy="0"/>
            </a:xfrm>
            <a:prstGeom prst="line">
              <a:avLst/>
            </a:prstGeom>
            <a:ln w="38160">
              <a:solidFill>
                <a:srgbClr val="99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19280" y="2135160"/>
              <a:ext cx="1084320" cy="0"/>
            </a:xfrm>
            <a:prstGeom prst="line">
              <a:avLst/>
            </a:prstGeom>
            <a:ln w="38160">
              <a:solidFill>
                <a:srgbClr val="1bb15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19280" y="2421000"/>
              <a:ext cx="1084320" cy="0"/>
            </a:xfrm>
            <a:prstGeom prst="line">
              <a:avLst/>
            </a:prstGeom>
            <a:ln w="38160">
              <a:solidFill>
                <a:srgbClr val="00c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2838600" y="1763640"/>
              <a:ext cx="9777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e Tru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2838600" y="2030400"/>
              <a:ext cx="566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2838600" y="2316240"/>
              <a:ext cx="911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”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19280" y="1859040"/>
              <a:ext cx="10843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2838600" y="1496880"/>
              <a:ext cx="1303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 Bandwid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11040" y="1065240"/>
            <a:ext cx="2370240" cy="4062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bababa"/>
              </a:gs>
              <a:gs pos="100000">
                <a:srgbClr val="b2b2b2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75160" y="1065240"/>
            <a:ext cx="2370240" cy="406224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182760" y="839880"/>
            <a:ext cx="1857240" cy="17398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3641760" y="1201680"/>
            <a:ext cx="876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ST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134040" y="1446120"/>
            <a:ext cx="376200" cy="133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145200" y="1704960"/>
            <a:ext cx="876240" cy="81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49880" y="2001960"/>
            <a:ext cx="594000" cy="31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54960" y="2682720"/>
            <a:ext cx="0" cy="1865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41440" y="4703760"/>
            <a:ext cx="19130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Branch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419880" y="3598920"/>
            <a:ext cx="222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86640" y="354168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80160" y="4164120"/>
            <a:ext cx="185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21320" y="426240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805360" y="4703760"/>
            <a:ext cx="16034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ain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978600" y="1555920"/>
            <a:ext cx="438120" cy="3160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681960" y="1889280"/>
            <a:ext cx="438120" cy="3160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6470640" y="1305000"/>
            <a:ext cx="438120" cy="3160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511280" y="3611520"/>
            <a:ext cx="487800" cy="1078200"/>
          </a:xfrm>
          <a:custGeom>
            <a:avLst/>
            <a:gdLst/>
            <a:ahLst/>
            <a:rect l="0" t="0" r="r" b="b"/>
            <a:pathLst>
              <a:path fill="none" w="1355" h="2995">
                <a:moveTo>
                  <a:pt x="1355" y="0"/>
                </a:moveTo>
                <a:lnTo>
                  <a:pt x="1355" y="768"/>
                </a:lnTo>
                <a:lnTo>
                  <a:pt x="0" y="768"/>
                </a:lnTo>
                <a:lnTo>
                  <a:pt x="0" y="299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47600" y="3254400"/>
            <a:ext cx="574920" cy="182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69920" y="3487680"/>
            <a:ext cx="569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908600" y="3081240"/>
            <a:ext cx="850680" cy="820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31760" y="4346640"/>
            <a:ext cx="466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128600" y="3517920"/>
            <a:ext cx="489240" cy="262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36680" y="3556080"/>
            <a:ext cx="1204920" cy="547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18280" y="3003480"/>
            <a:ext cx="42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178680" y="2195640"/>
            <a:ext cx="111924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4 to 12 Analo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363760" y="3284640"/>
            <a:ext cx="1006560" cy="171360"/>
          </a:xfrm>
          <a:prstGeom prst="line">
            <a:avLst/>
          </a:prstGeom>
          <a:ln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249640" y="1984320"/>
            <a:ext cx="1608120" cy="14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954680" y="2897280"/>
            <a:ext cx="652320" cy="198360"/>
          </a:xfrm>
          <a:prstGeom prst="line">
            <a:avLst/>
          </a:prstGeom>
          <a:ln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1520" y="4191120"/>
            <a:ext cx="237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427640" y="1744560"/>
            <a:ext cx="1295280" cy="187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757840" y="2198520"/>
            <a:ext cx="318960" cy="316080"/>
            <a:chOff x="5757840" y="2198520"/>
            <a:chExt cx="318960" cy="316080"/>
          </a:xfrm>
        </p:grpSpPr>
        <p:sp>
          <p:nvSpPr>
            <p:cNvPr id="320" name=""/>
            <p:cNvSpPr/>
            <p:nvPr/>
          </p:nvSpPr>
          <p:spPr>
            <a:xfrm>
              <a:off x="5757840" y="2227320"/>
              <a:ext cx="0" cy="287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862600" y="2200320"/>
              <a:ext cx="20520" cy="301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69160" y="220356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75360" y="2198520"/>
              <a:ext cx="1440" cy="303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PBX OPX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725400" y="3005280"/>
            <a:ext cx="436680" cy="3160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725400" y="3324240"/>
            <a:ext cx="436680" cy="3175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677880" y="3638520"/>
            <a:ext cx="531720" cy="4842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3133800" y="2654280"/>
            <a:ext cx="2031840" cy="880920"/>
            <a:chOff x="3133800" y="2654280"/>
            <a:chExt cx="2031840" cy="880920"/>
          </a:xfrm>
        </p:grpSpPr>
        <p:sp>
          <p:nvSpPr>
            <p:cNvPr id="329" name=""/>
            <p:cNvSpPr/>
            <p:nvPr/>
          </p:nvSpPr>
          <p:spPr>
            <a:xfrm>
              <a:off x="3133800" y="2654280"/>
              <a:ext cx="2031840" cy="880920"/>
            </a:xfrm>
            <a:prstGeom prst="ellipse">
              <a:avLst/>
            </a:prstGeom>
            <a:gradFill rotWithShape="0">
              <a:gsLst>
                <a:gs pos="0">
                  <a:srgbClr val="004b5f"/>
                </a:gs>
                <a:gs pos="50000">
                  <a:srgbClr val="006c88"/>
                </a:gs>
                <a:gs pos="100000">
                  <a:srgbClr val="004b5f"/>
                </a:gs>
              </a:gsLst>
              <a:lin ang="2700000"/>
            </a:gradFill>
            <a:ln w="25560">
              <a:solidFill>
                <a:srgbClr val="66cc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3322800" y="2778120"/>
              <a:ext cx="1727280" cy="63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Voice Enab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" descr=""/>
          <p:cNvPicPr/>
          <p:nvPr/>
        </p:nvPicPr>
        <p:blipFill>
          <a:blip r:embed="rId8"/>
          <a:stretch/>
        </p:blipFill>
        <p:spPr>
          <a:xfrm>
            <a:off x="3124080" y="3581280"/>
            <a:ext cx="2011320" cy="18828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3209760" y="3962520"/>
            <a:ext cx="18511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Q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W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ntranet/Inter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721480" y="2496960"/>
            <a:ext cx="453960" cy="325440"/>
            <a:chOff x="5721480" y="2496960"/>
            <a:chExt cx="453960" cy="325440"/>
          </a:xfrm>
        </p:grpSpPr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>
              <a:off x="5721480" y="2496960"/>
              <a:ext cx="45396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 txBox="1"/>
            <p:nvPr/>
          </p:nvSpPr>
          <p:spPr>
            <a:xfrm>
              <a:off x="5781600" y="2567160"/>
              <a:ext cx="25884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5605560" y="2790720"/>
            <a:ext cx="685800" cy="4287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1"/>
          <a:stretch/>
        </p:blipFill>
        <p:spPr>
          <a:xfrm>
            <a:off x="1719360" y="3278160"/>
            <a:ext cx="636480" cy="39852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1355760" y="3335400"/>
            <a:ext cx="453960" cy="325440"/>
            <a:chOff x="1355760" y="3335400"/>
            <a:chExt cx="453960" cy="325440"/>
          </a:xfrm>
        </p:grpSpPr>
        <p:pic>
          <p:nvPicPr>
            <p:cNvPr id="339" name="" descr=""/>
            <p:cNvPicPr/>
            <p:nvPr/>
          </p:nvPicPr>
          <p:blipFill>
            <a:blip r:embed="rId12"/>
            <a:stretch/>
          </p:blipFill>
          <p:spPr>
            <a:xfrm>
              <a:off x="1355760" y="3335400"/>
              <a:ext cx="45396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 txBox="1"/>
            <p:nvPr/>
          </p:nvSpPr>
          <p:spPr>
            <a:xfrm>
              <a:off x="1415880" y="3405240"/>
              <a:ext cx="25884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759120" y="1677960"/>
            <a:ext cx="777960" cy="663480"/>
            <a:chOff x="3759120" y="1677960"/>
            <a:chExt cx="777960" cy="663480"/>
          </a:xfrm>
        </p:grpSpPr>
        <p:pic>
          <p:nvPicPr>
            <p:cNvPr id="342" name="" descr=""/>
            <p:cNvPicPr/>
            <p:nvPr/>
          </p:nvPicPr>
          <p:blipFill>
            <a:blip r:embed="rId13"/>
            <a:stretch/>
          </p:blipFill>
          <p:spPr>
            <a:xfrm>
              <a:off x="3782880" y="1677960"/>
              <a:ext cx="7542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 txBox="1"/>
            <p:nvPr/>
          </p:nvSpPr>
          <p:spPr>
            <a:xfrm>
              <a:off x="3759120" y="1762200"/>
              <a:ext cx="679320" cy="46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Telc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Switc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673600" y="1365120"/>
            <a:ext cx="587520" cy="1015920"/>
            <a:chOff x="5673600" y="1365120"/>
            <a:chExt cx="587520" cy="1015920"/>
          </a:xfrm>
        </p:grpSpPr>
        <p:pic>
          <p:nvPicPr>
            <p:cNvPr id="345" name="" descr=""/>
            <p:cNvPicPr/>
            <p:nvPr/>
          </p:nvPicPr>
          <p:blipFill>
            <a:blip r:embed="rId14"/>
            <a:stretch/>
          </p:blipFill>
          <p:spPr>
            <a:xfrm>
              <a:off x="5692680" y="1365120"/>
              <a:ext cx="5684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 txBox="1"/>
            <p:nvPr/>
          </p:nvSpPr>
          <p:spPr>
            <a:xfrm>
              <a:off x="5673600" y="1486080"/>
              <a:ext cx="500040" cy="39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PBX</a:t>
              </a:r>
              <a:r>
                <a:rPr b="1" lang="en-US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7" name="" descr=""/>
          <p:cNvPicPr/>
          <p:nvPr/>
        </p:nvPicPr>
        <p:blipFill>
          <a:blip r:embed="rId15"/>
          <a:stretch/>
        </p:blipFill>
        <p:spPr>
          <a:xfrm>
            <a:off x="685800" y="410040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6"/>
          <a:stretch/>
        </p:blipFill>
        <p:spPr>
          <a:xfrm>
            <a:off x="1674720" y="404172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7"/>
          <a:stretch/>
        </p:blipFill>
        <p:spPr>
          <a:xfrm>
            <a:off x="6045120" y="343836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18"/>
          <a:stretch/>
        </p:blipFill>
        <p:spPr>
          <a:xfrm>
            <a:off x="6045120" y="412416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19"/>
          <a:stretch/>
        </p:blipFill>
        <p:spPr>
          <a:xfrm>
            <a:off x="6807240" y="336564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0"/>
          <a:stretch/>
        </p:blipFill>
        <p:spPr>
          <a:xfrm>
            <a:off x="6818400" y="3860640"/>
            <a:ext cx="50796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5664240" y="2098800"/>
            <a:ext cx="2219400" cy="363060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7320" y="1449360"/>
            <a:ext cx="2155680" cy="188748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41414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79560" y="2144880"/>
            <a:ext cx="544320" cy="15696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65120" y="1887480"/>
            <a:ext cx="312840" cy="38916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724040" y="1913040"/>
            <a:ext cx="120600" cy="31104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25760" y="2344680"/>
            <a:ext cx="0" cy="59364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90760" y="2368440"/>
            <a:ext cx="925560" cy="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602160" y="3994200"/>
            <a:ext cx="466560" cy="414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800280" y="2757600"/>
            <a:ext cx="4190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1224000" y="3067200"/>
            <a:ext cx="514440" cy="19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22200" y="2589120"/>
            <a:ext cx="0" cy="6098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459240" y="3522600"/>
            <a:ext cx="48744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12680" y="2817720"/>
            <a:ext cx="77616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-Ph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.323 S/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156120" y="4475160"/>
            <a:ext cx="600480" cy="389160"/>
            <a:chOff x="3156120" y="4475160"/>
            <a:chExt cx="600480" cy="389160"/>
          </a:xfrm>
        </p:grpSpPr>
        <p:sp>
          <p:nvSpPr>
            <p:cNvPr id="367" name=""/>
            <p:cNvSpPr/>
            <p:nvPr/>
          </p:nvSpPr>
          <p:spPr>
            <a:xfrm>
              <a:off x="3156120" y="4475160"/>
              <a:ext cx="600480" cy="51120"/>
            </a:xfrm>
            <a:custGeom>
              <a:avLst/>
              <a:gdLst/>
              <a:ahLst/>
              <a:rect l="0" t="0" r="r" b="b"/>
              <a:pathLst>
                <a:path w="1668" h="142">
                  <a:moveTo>
                    <a:pt x="0" y="142"/>
                  </a:moveTo>
                  <a:lnTo>
                    <a:pt x="163" y="0"/>
                  </a:lnTo>
                  <a:lnTo>
                    <a:pt x="1668" y="0"/>
                  </a:lnTo>
                  <a:lnTo>
                    <a:pt x="150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05120" y="4475160"/>
              <a:ext cx="51120" cy="389160"/>
            </a:xfrm>
            <a:custGeom>
              <a:avLst/>
              <a:gdLst/>
              <a:ahLst/>
              <a:rect l="0" t="0" r="r" b="b"/>
              <a:pathLst>
                <a:path w="142" h="1081">
                  <a:moveTo>
                    <a:pt x="0" y="163"/>
                  </a:moveTo>
                  <a:lnTo>
                    <a:pt x="142" y="0"/>
                  </a:lnTo>
                  <a:lnTo>
                    <a:pt x="142" y="913"/>
                  </a:lnTo>
                  <a:lnTo>
                    <a:pt x="0" y="1081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56120" y="4535640"/>
              <a:ext cx="538200" cy="32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76120" y="2444760"/>
            <a:ext cx="357120" cy="4762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411200" y="2181240"/>
            <a:ext cx="493560" cy="4381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716040" y="1936800"/>
            <a:ext cx="511200" cy="3794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1176480" y="1679400"/>
            <a:ext cx="511200" cy="379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1706400" y="1641600"/>
            <a:ext cx="511200" cy="379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1795320" y="2496960"/>
            <a:ext cx="3999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B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62200" y="2803680"/>
            <a:ext cx="533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+ Vo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84080" y="1430280"/>
            <a:ext cx="84132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30440" y="2325600"/>
            <a:ext cx="625680" cy="238320"/>
          </a:xfrm>
          <a:custGeom>
            <a:avLst/>
            <a:gdLst/>
            <a:ahLst/>
            <a:rect l="0" t="0" r="r" b="b"/>
            <a:pathLst>
              <a:path fill="none" w="1738" h="662">
                <a:moveTo>
                  <a:pt x="0" y="0"/>
                </a:moveTo>
                <a:lnTo>
                  <a:pt x="35" y="8"/>
                </a:lnTo>
                <a:lnTo>
                  <a:pt x="154" y="35"/>
                </a:lnTo>
                <a:lnTo>
                  <a:pt x="238" y="57"/>
                </a:lnTo>
                <a:lnTo>
                  <a:pt x="340" y="84"/>
                </a:lnTo>
                <a:lnTo>
                  <a:pt x="512" y="128"/>
                </a:lnTo>
                <a:lnTo>
                  <a:pt x="947" y="235"/>
                </a:lnTo>
                <a:lnTo>
                  <a:pt x="978" y="244"/>
                </a:lnTo>
                <a:lnTo>
                  <a:pt x="720" y="404"/>
                </a:lnTo>
                <a:lnTo>
                  <a:pt x="1738" y="662"/>
                </a:lnTo>
              </a:path>
            </a:pathLst>
          </a:custGeom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855800" y="3146400"/>
            <a:ext cx="215280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320" y="4289400"/>
            <a:ext cx="2154240" cy="147960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41414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979560" y="4714920"/>
            <a:ext cx="24224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7320" y="3408480"/>
            <a:ext cx="2154240" cy="80172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41414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593720" y="4738680"/>
            <a:ext cx="0" cy="611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163600" y="3792600"/>
            <a:ext cx="925560" cy="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15920" y="3814920"/>
            <a:ext cx="650880" cy="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2662200" y="3816360"/>
            <a:ext cx="1184400" cy="349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12680" y="3786120"/>
            <a:ext cx="77616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-Ph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.323 S/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12680" y="4897440"/>
            <a:ext cx="77616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-Ph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.323 S/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547640" y="4794120"/>
            <a:ext cx="56520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xDS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od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6"/>
          <a:stretch/>
        </p:blipFill>
        <p:spPr>
          <a:xfrm>
            <a:off x="1400040" y="5148360"/>
            <a:ext cx="511200" cy="3794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1689120" y="5349960"/>
            <a:ext cx="63504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nd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h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276120" y="3422520"/>
            <a:ext cx="357120" cy="4762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8"/>
          <a:stretch/>
        </p:blipFill>
        <p:spPr>
          <a:xfrm>
            <a:off x="276120" y="4430880"/>
            <a:ext cx="357120" cy="476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716040" y="5551560"/>
            <a:ext cx="97776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16040" y="3998880"/>
            <a:ext cx="97776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4881600" y="3413160"/>
            <a:ext cx="1095480" cy="406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292720" y="3984480"/>
            <a:ext cx="612720" cy="238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147840" y="4479840"/>
            <a:ext cx="600480" cy="390960"/>
            <a:chOff x="3147840" y="4479840"/>
            <a:chExt cx="600480" cy="390960"/>
          </a:xfrm>
        </p:grpSpPr>
        <p:sp>
          <p:nvSpPr>
            <p:cNvPr id="399" name=""/>
            <p:cNvSpPr/>
            <p:nvPr/>
          </p:nvSpPr>
          <p:spPr>
            <a:xfrm>
              <a:off x="3147840" y="4479840"/>
              <a:ext cx="600480" cy="51120"/>
            </a:xfrm>
            <a:custGeom>
              <a:avLst/>
              <a:gdLst/>
              <a:ahLst/>
              <a:rect l="0" t="0" r="r" b="b"/>
              <a:pathLst>
                <a:path w="1668" h="142">
                  <a:moveTo>
                    <a:pt x="0" y="142"/>
                  </a:moveTo>
                  <a:lnTo>
                    <a:pt x="163" y="0"/>
                  </a:lnTo>
                  <a:lnTo>
                    <a:pt x="1668" y="0"/>
                  </a:lnTo>
                  <a:lnTo>
                    <a:pt x="150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97200" y="4479840"/>
              <a:ext cx="51120" cy="390960"/>
            </a:xfrm>
            <a:custGeom>
              <a:avLst/>
              <a:gdLst/>
              <a:ahLst/>
              <a:rect l="0" t="0" r="r" b="b"/>
              <a:pathLst>
                <a:path w="142" h="1086">
                  <a:moveTo>
                    <a:pt x="0" y="163"/>
                  </a:moveTo>
                  <a:lnTo>
                    <a:pt x="142" y="0"/>
                  </a:lnTo>
                  <a:lnTo>
                    <a:pt x="142" y="918"/>
                  </a:lnTo>
                  <a:lnTo>
                    <a:pt x="0" y="1086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62624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47840" y="4541760"/>
              <a:ext cx="538200" cy="32688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 txBox="1"/>
          <p:nvPr/>
        </p:nvSpPr>
        <p:spPr>
          <a:xfrm>
            <a:off x="3030480" y="4602240"/>
            <a:ext cx="77328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SL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H.323 Interopera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9"/>
          <a:stretch/>
        </p:blipFill>
        <p:spPr>
          <a:xfrm>
            <a:off x="7283520" y="3787920"/>
            <a:ext cx="357120" cy="4762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6021360" y="5365800"/>
            <a:ext cx="16034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ain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99400" y="3497400"/>
            <a:ext cx="0" cy="1865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64320" y="4413240"/>
            <a:ext cx="222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31080" y="43560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24600" y="4978440"/>
            <a:ext cx="185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65760" y="5076720"/>
            <a:ext cx="2178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62720" y="3817800"/>
            <a:ext cx="42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359400" y="2432160"/>
            <a:ext cx="376200" cy="133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370560" y="2690640"/>
            <a:ext cx="876240" cy="81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375240" y="2987640"/>
            <a:ext cx="594000" cy="31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7203960" y="2541600"/>
            <a:ext cx="438120" cy="3160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1"/>
          <a:stretch/>
        </p:blipFill>
        <p:spPr>
          <a:xfrm>
            <a:off x="6907320" y="2874960"/>
            <a:ext cx="438120" cy="3160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2"/>
          <a:stretch/>
        </p:blipFill>
        <p:spPr>
          <a:xfrm>
            <a:off x="6696000" y="2290680"/>
            <a:ext cx="438120" cy="316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2262240" y="944640"/>
            <a:ext cx="57499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H.323 VoIP Local Loop Bypa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Integrated Messaging: Email, VMail, FaxMa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Interoperability with NetMeeting type progra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722760" y="2895480"/>
            <a:ext cx="1319040" cy="825480"/>
            <a:chOff x="3722760" y="2895480"/>
            <a:chExt cx="1319040" cy="825480"/>
          </a:xfrm>
        </p:grpSpPr>
        <p:pic>
          <p:nvPicPr>
            <p:cNvPr id="420" name="" descr=""/>
            <p:cNvPicPr/>
            <p:nvPr/>
          </p:nvPicPr>
          <p:blipFill>
            <a:blip r:embed="rId13"/>
            <a:stretch/>
          </p:blipFill>
          <p:spPr>
            <a:xfrm>
              <a:off x="3722760" y="2895480"/>
              <a:ext cx="131904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 txBox="1"/>
            <p:nvPr/>
          </p:nvSpPr>
          <p:spPr>
            <a:xfrm>
              <a:off x="4025880" y="2990880"/>
              <a:ext cx="649440" cy="57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Q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969920" y="2139840"/>
            <a:ext cx="820800" cy="522360"/>
            <a:chOff x="1969920" y="2139840"/>
            <a:chExt cx="820800" cy="522360"/>
          </a:xfrm>
        </p:grpSpPr>
        <p:pic>
          <p:nvPicPr>
            <p:cNvPr id="423" name="" descr=""/>
            <p:cNvPicPr/>
            <p:nvPr/>
          </p:nvPicPr>
          <p:blipFill>
            <a:blip r:embed="rId14"/>
            <a:stretch/>
          </p:blipFill>
          <p:spPr>
            <a:xfrm>
              <a:off x="1969920" y="2139840"/>
              <a:ext cx="820800" cy="5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 txBox="1"/>
            <p:nvPr/>
          </p:nvSpPr>
          <p:spPr>
            <a:xfrm>
              <a:off x="2028960" y="2211480"/>
              <a:ext cx="63972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979640" y="4419720"/>
            <a:ext cx="1131840" cy="674640"/>
            <a:chOff x="1979640" y="4419720"/>
            <a:chExt cx="1131840" cy="674640"/>
          </a:xfrm>
        </p:grpSpPr>
        <p:pic>
          <p:nvPicPr>
            <p:cNvPr id="426" name="" descr=""/>
            <p:cNvPicPr/>
            <p:nvPr/>
          </p:nvPicPr>
          <p:blipFill>
            <a:blip r:embed="rId15"/>
            <a:stretch/>
          </p:blipFill>
          <p:spPr>
            <a:xfrm>
              <a:off x="2039760" y="4419720"/>
              <a:ext cx="107172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 txBox="1"/>
            <p:nvPr/>
          </p:nvSpPr>
          <p:spPr>
            <a:xfrm>
              <a:off x="1979640" y="4592520"/>
              <a:ext cx="112716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DS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735200" y="3505320"/>
            <a:ext cx="1071720" cy="674640"/>
            <a:chOff x="1735200" y="3505320"/>
            <a:chExt cx="1071720" cy="674640"/>
          </a:xfrm>
        </p:grpSpPr>
        <p:pic>
          <p:nvPicPr>
            <p:cNvPr id="429" name="" descr=""/>
            <p:cNvPicPr/>
            <p:nvPr/>
          </p:nvPicPr>
          <p:blipFill>
            <a:blip r:embed="rId16"/>
            <a:stretch/>
          </p:blipFill>
          <p:spPr>
            <a:xfrm>
              <a:off x="1735200" y="3505320"/>
              <a:ext cx="107172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 txBox="1"/>
            <p:nvPr/>
          </p:nvSpPr>
          <p:spPr>
            <a:xfrm>
              <a:off x="1919160" y="3562200"/>
              <a:ext cx="63972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" descr=""/>
          <p:cNvPicPr/>
          <p:nvPr/>
        </p:nvPicPr>
        <p:blipFill>
          <a:blip r:embed="rId17"/>
          <a:stretch/>
        </p:blipFill>
        <p:spPr>
          <a:xfrm>
            <a:off x="3997440" y="3780000"/>
            <a:ext cx="1501920" cy="9349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303800" y="4092480"/>
            <a:ext cx="911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051600" y="3294000"/>
            <a:ext cx="228600" cy="236520"/>
            <a:chOff x="6051600" y="3294000"/>
            <a:chExt cx="228600" cy="236520"/>
          </a:xfrm>
        </p:grpSpPr>
        <p:sp>
          <p:nvSpPr>
            <p:cNvPr id="434" name=""/>
            <p:cNvSpPr/>
            <p:nvPr/>
          </p:nvSpPr>
          <p:spPr>
            <a:xfrm>
              <a:off x="6051600" y="3294000"/>
              <a:ext cx="0" cy="236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80200" y="3294000"/>
              <a:ext cx="0" cy="236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" descr=""/>
          <p:cNvPicPr/>
          <p:nvPr/>
        </p:nvPicPr>
        <p:blipFill>
          <a:blip r:embed="rId18"/>
          <a:stretch/>
        </p:blipFill>
        <p:spPr>
          <a:xfrm>
            <a:off x="5845320" y="3525840"/>
            <a:ext cx="706320" cy="69516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5970600" y="4014720"/>
            <a:ext cx="453960" cy="325440"/>
            <a:chOff x="5970600" y="4014720"/>
            <a:chExt cx="453960" cy="325440"/>
          </a:xfrm>
        </p:grpSpPr>
        <p:pic>
          <p:nvPicPr>
            <p:cNvPr id="438" name="" descr=""/>
            <p:cNvPicPr/>
            <p:nvPr/>
          </p:nvPicPr>
          <p:blipFill>
            <a:blip r:embed="rId19"/>
            <a:stretch/>
          </p:blipFill>
          <p:spPr>
            <a:xfrm>
              <a:off x="5970600" y="4014720"/>
              <a:ext cx="45396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 txBox="1"/>
            <p:nvPr/>
          </p:nvSpPr>
          <p:spPr>
            <a:xfrm>
              <a:off x="6031080" y="4084560"/>
              <a:ext cx="25884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" descr=""/>
          <p:cNvPicPr/>
          <p:nvPr/>
        </p:nvPicPr>
        <p:blipFill>
          <a:blip r:embed="rId20"/>
          <a:stretch/>
        </p:blipFill>
        <p:spPr>
          <a:xfrm>
            <a:off x="1414440" y="2973240"/>
            <a:ext cx="453960" cy="291960"/>
          </a:xfrm>
          <a:prstGeom prst="rect">
            <a:avLst/>
          </a:prstGeom>
          <a:ln w="0">
            <a:noFill/>
          </a:ln>
        </p:spPr>
      </p:pic>
      <p:grpSp>
        <p:nvGrpSpPr>
          <p:cNvPr id="441" name=""/>
          <p:cNvGrpSpPr/>
          <p:nvPr/>
        </p:nvGrpSpPr>
        <p:grpSpPr>
          <a:xfrm>
            <a:off x="1432080" y="2719440"/>
            <a:ext cx="453960" cy="325440"/>
            <a:chOff x="1432080" y="2719440"/>
            <a:chExt cx="453960" cy="325440"/>
          </a:xfrm>
        </p:grpSpPr>
        <p:pic>
          <p:nvPicPr>
            <p:cNvPr id="442" name="" descr=""/>
            <p:cNvPicPr/>
            <p:nvPr/>
          </p:nvPicPr>
          <p:blipFill>
            <a:blip r:embed="rId21"/>
            <a:stretch/>
          </p:blipFill>
          <p:spPr>
            <a:xfrm>
              <a:off x="1432080" y="2719440"/>
              <a:ext cx="45396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 txBox="1"/>
            <p:nvPr/>
          </p:nvSpPr>
          <p:spPr>
            <a:xfrm>
              <a:off x="1492200" y="2789280"/>
              <a:ext cx="25884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22"/>
          <a:stretch/>
        </p:blipFill>
        <p:spPr>
          <a:xfrm>
            <a:off x="3835440" y="3735360"/>
            <a:ext cx="547560" cy="3477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3"/>
          <a:stretch/>
        </p:blipFill>
        <p:spPr>
          <a:xfrm>
            <a:off x="3205080" y="4268880"/>
            <a:ext cx="547560" cy="3477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4"/>
          <a:stretch/>
        </p:blipFill>
        <p:spPr>
          <a:xfrm>
            <a:off x="2949480" y="3602160"/>
            <a:ext cx="492120" cy="48420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5902200" y="2355840"/>
            <a:ext cx="587520" cy="1015920"/>
            <a:chOff x="5902200" y="2355840"/>
            <a:chExt cx="587520" cy="1015920"/>
          </a:xfrm>
        </p:grpSpPr>
        <p:pic>
          <p:nvPicPr>
            <p:cNvPr id="448" name="" descr=""/>
            <p:cNvPicPr/>
            <p:nvPr/>
          </p:nvPicPr>
          <p:blipFill>
            <a:blip r:embed="rId25"/>
            <a:stretch/>
          </p:blipFill>
          <p:spPr>
            <a:xfrm>
              <a:off x="5921280" y="2355840"/>
              <a:ext cx="5684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 txBox="1"/>
            <p:nvPr/>
          </p:nvSpPr>
          <p:spPr>
            <a:xfrm>
              <a:off x="5902200" y="2476440"/>
              <a:ext cx="500040" cy="39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PBX</a:t>
              </a:r>
              <a:r>
                <a:rPr b="1" lang="en-US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" descr=""/>
          <p:cNvPicPr/>
          <p:nvPr/>
        </p:nvPicPr>
        <p:blipFill>
          <a:blip r:embed="rId26"/>
          <a:stretch/>
        </p:blipFill>
        <p:spPr>
          <a:xfrm>
            <a:off x="6299280" y="430704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27"/>
          <a:stretch/>
        </p:blipFill>
        <p:spPr>
          <a:xfrm>
            <a:off x="6299280" y="499284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8"/>
          <a:stretch/>
        </p:blipFill>
        <p:spPr>
          <a:xfrm>
            <a:off x="7061040" y="423396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9"/>
          <a:stretch/>
        </p:blipFill>
        <p:spPr>
          <a:xfrm>
            <a:off x="7072200" y="472932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0"/>
          <a:stretch/>
        </p:blipFill>
        <p:spPr>
          <a:xfrm>
            <a:off x="674640" y="2585880"/>
            <a:ext cx="450720" cy="4129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31"/>
          <a:stretch/>
        </p:blipFill>
        <p:spPr>
          <a:xfrm>
            <a:off x="674640" y="4653000"/>
            <a:ext cx="450720" cy="4129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2"/>
          <a:stretch/>
        </p:blipFill>
        <p:spPr>
          <a:xfrm>
            <a:off x="674640" y="3586320"/>
            <a:ext cx="450720" cy="4129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3"/>
          <a:stretch/>
        </p:blipFill>
        <p:spPr>
          <a:xfrm>
            <a:off x="3098880" y="2387520"/>
            <a:ext cx="511200" cy="3794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4"/>
          <a:stretch/>
        </p:blipFill>
        <p:spPr>
          <a:xfrm>
            <a:off x="1440000" y="4595760"/>
            <a:ext cx="384120" cy="2491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35"/>
          <a:stretch/>
        </p:blipFill>
        <p:spPr>
          <a:xfrm>
            <a:off x="1281240" y="3700440"/>
            <a:ext cx="38412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etwork Con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70120" y="2697120"/>
            <a:ext cx="1066680" cy="243828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36600" y="1935000"/>
            <a:ext cx="7391520" cy="7621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41720" y="1706400"/>
            <a:ext cx="518148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276800" y="1959120"/>
            <a:ext cx="1104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798560" y="2697120"/>
            <a:ext cx="5923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784520" y="1706400"/>
            <a:ext cx="6027840" cy="984600"/>
            <a:chOff x="1784520" y="1706400"/>
            <a:chExt cx="6027840" cy="984600"/>
          </a:xfrm>
        </p:grpSpPr>
        <p:sp>
          <p:nvSpPr>
            <p:cNvPr id="467" name=""/>
            <p:cNvSpPr/>
            <p:nvPr/>
          </p:nvSpPr>
          <p:spPr>
            <a:xfrm>
              <a:off x="5075280" y="1706400"/>
              <a:ext cx="2737080" cy="984600"/>
            </a:xfrm>
            <a:custGeom>
              <a:avLst/>
              <a:gdLst/>
              <a:ahLst/>
              <a:rect l="0" t="0" r="r" b="b"/>
              <a:pathLst>
                <a:path w="7603" h="2735">
                  <a:moveTo>
                    <a:pt x="760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480"/>
                    <a:pt x="351" y="952"/>
                    <a:pt x="1019" y="1368"/>
                  </a:cubicBezTo>
                  <a:cubicBezTo>
                    <a:pt x="1686" y="1783"/>
                    <a:pt x="2646" y="2129"/>
                    <a:pt x="3802" y="2369"/>
                  </a:cubicBezTo>
                  <a:cubicBezTo>
                    <a:pt x="4957" y="2609"/>
                    <a:pt x="6268" y="2735"/>
                    <a:pt x="7603" y="2735"/>
                  </a:cubicBezTo>
                  <a:lnTo>
                    <a:pt x="760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84520" y="1706400"/>
              <a:ext cx="2737080" cy="984600"/>
            </a:xfrm>
            <a:custGeom>
              <a:avLst/>
              <a:gdLst/>
              <a:ahLst/>
              <a:rect l="0" t="0" r="r" b="b"/>
              <a:pathLst>
                <a:path w="7603" h="2735">
                  <a:moveTo>
                    <a:pt x="0" y="0"/>
                  </a:moveTo>
                  <a:lnTo>
                    <a:pt x="0" y="2735"/>
                  </a:lnTo>
                  <a:lnTo>
                    <a:pt x="0" y="2735"/>
                  </a:lnTo>
                  <a:lnTo>
                    <a:pt x="0" y="2735"/>
                  </a:lnTo>
                  <a:cubicBezTo>
                    <a:pt x="1335" y="2735"/>
                    <a:pt x="2646" y="2609"/>
                    <a:pt x="3802" y="2369"/>
                  </a:cubicBezTo>
                  <a:cubicBezTo>
                    <a:pt x="4957" y="2129"/>
                    <a:pt x="5917" y="1783"/>
                    <a:pt x="6584" y="1368"/>
                  </a:cubicBezTo>
                  <a:cubicBezTo>
                    <a:pt x="7251" y="952"/>
                    <a:pt x="7602" y="481"/>
                    <a:pt x="7603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41760" y="1706400"/>
              <a:ext cx="513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832280" y="2697120"/>
            <a:ext cx="1066680" cy="2438280"/>
          </a:xfrm>
          <a:prstGeom prst="rect">
            <a:avLst/>
          </a:prstGeom>
          <a:gradFill rotWithShape="0">
            <a:gsLst>
              <a:gs pos="0">
                <a:srgbClr val="009fca"/>
              </a:gs>
              <a:gs pos="50000">
                <a:srgbClr val="1aa9d0"/>
              </a:gs>
              <a:gs pos="100000">
                <a:srgbClr val="009fca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689280" y="2697120"/>
            <a:ext cx="1143000" cy="2438280"/>
          </a:xfrm>
          <a:prstGeom prst="rect">
            <a:avLst/>
          </a:prstGeom>
          <a:gradFill rotWithShape="0">
            <a:gsLst>
              <a:gs pos="0">
                <a:srgbClr val="47d8ff"/>
              </a:gs>
              <a:gs pos="50000">
                <a:srgbClr val="5adcff"/>
              </a:gs>
              <a:gs pos="100000">
                <a:srgbClr val="47d8f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46280" y="2697120"/>
            <a:ext cx="1143000" cy="2438280"/>
          </a:xfrm>
          <a:prstGeom prst="rect">
            <a:avLst/>
          </a:prstGeom>
          <a:gradFill rotWithShape="0">
            <a:gsLst>
              <a:gs pos="0">
                <a:srgbClr val="a5ecff"/>
              </a:gs>
              <a:gs pos="50000">
                <a:srgbClr val="aeeeff"/>
              </a:gs>
              <a:gs pos="100000">
                <a:srgbClr val="a5ecf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99320" y="2697120"/>
            <a:ext cx="1828800" cy="2438280"/>
          </a:xfrm>
          <a:prstGeom prst="rect">
            <a:avLst/>
          </a:prstGeom>
          <a:gradFill rotWithShape="0">
            <a:gsLst>
              <a:gs pos="0">
                <a:srgbClr val="006c88"/>
              </a:gs>
              <a:gs pos="50000">
                <a:srgbClr val="1a7b94"/>
              </a:gs>
              <a:gs pos="100000">
                <a:srgbClr val="006c88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36600" y="3002040"/>
            <a:ext cx="7391520" cy="1447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98520" y="4732200"/>
            <a:ext cx="4478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2200" y="3589200"/>
            <a:ext cx="4478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760840" y="4732200"/>
            <a:ext cx="6634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-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979800" y="4732200"/>
            <a:ext cx="16416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S1         D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418440" y="4473720"/>
            <a:ext cx="6732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037200" y="4732200"/>
            <a:ext cx="1336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3 - O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36600" y="4754520"/>
            <a:ext cx="7391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28480" y="3613320"/>
            <a:ext cx="880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mp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160640" y="3711600"/>
            <a:ext cx="654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2.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913120" y="3719520"/>
            <a:ext cx="94284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894200" y="3795840"/>
            <a:ext cx="7318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643120" y="3840120"/>
            <a:ext cx="27144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684600" y="4297320"/>
            <a:ext cx="108432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862440" y="3992400"/>
            <a:ext cx="103356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589720" y="3992400"/>
            <a:ext cx="146520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14360" y="2225520"/>
            <a:ext cx="5364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852560" y="2058840"/>
            <a:ext cx="5652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36600" y="1096920"/>
            <a:ext cx="7391520" cy="609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27120" y="1158840"/>
            <a:ext cx="20080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437000" y="3110040"/>
            <a:ext cx="6904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5132520" y="3306600"/>
            <a:ext cx="260820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67160" y="330660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2116080" y="3600360"/>
            <a:ext cx="6066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881760" y="2058840"/>
            <a:ext cx="5652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28720" y="1935000"/>
            <a:ext cx="2710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157720" y="1935000"/>
            <a:ext cx="2557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728120" y="1949400"/>
            <a:ext cx="0" cy="74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im Danford</dc:creator>
  <dc:description/>
  <dc:language>en-US</dc:language>
  <cp:lastModifiedBy>Dick Young</cp:lastModifiedBy>
  <cp:revision>0</cp:revision>
  <dc:subject/>
  <dc:title>VoIP Networking Design</dc:title>
</cp:coreProperties>
</file>