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D89-803B-40F8-8E29-C7474774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B9E4-9AB4-4133-BD0A-C9123391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EEC-96BF-46FA-B59B-2B895FC2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877-8260-416D-921E-5671A40B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A48-BCCA-4735-8806-C9A00AE1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AB5-7A33-48D8-BF50-2F999055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56E-C5B6-4F61-89F4-AD793856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D90-7213-4BBF-A0EE-7B8BFBC0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E20-546E-43DF-9E5F-F6FE34F8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EAD-4720-4713-9B05-CE40A4A0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C8D-B704-4F35-AE73-0898E6C7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186-EF48-4606-A28B-F1EB38AE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B24E-3B57-4070-BBAA-146AA70BF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 Formula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and SLA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248520" y="4038480"/>
            <a:ext cx="22874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 Rate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MTBF = 1000 hours, F(day) =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100 nod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048040" y="2746440"/>
                <a:ext cx="53686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 fp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124000" y="5108400"/>
                <a:ext cx="5369040" cy="116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fp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 Rate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MTBF = 40,000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(24) = 0.0006 failures/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100 node network F(24) = 0.06 f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monthly basis F = 1.8 f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ty a system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ail withi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series connected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78040" y="3381480"/>
                <a:ext cx="29401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646280" y="5418000"/>
                <a:ext cx="2735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 connec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arallel system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38360" y="2514600"/>
                <a:ext cx="45892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ste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639800" y="4267080"/>
                <a:ext cx="458784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ste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reliability if MTBF = 10,000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3 series connected elements with MTBFs of 20,000 25,000 and 30,000 h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222200" y="2562120"/>
                <a:ext cx="60184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760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89080" y="4811760"/>
                <a:ext cx="529416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0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000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74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0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valu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257560" y="2529000"/>
                <a:ext cx="216360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32000" y="4943520"/>
                <a:ext cx="417528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mo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deviation (using second mo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35000" y="2540160"/>
                <a:ext cx="279900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752480" y="4849920"/>
                <a:ext cx="361476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  <m:sub/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e form averag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e form second mo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295280" y="2666880"/>
                <a:ext cx="579780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371600" y="4952880"/>
                <a:ext cx="581976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        and                   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536840" y="2057400"/>
                <a:ext cx="1701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87600" y="2778120"/>
                <a:ext cx="214920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73480" y="2033640"/>
                <a:ext cx="1808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ementary 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        and                    th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581120" y="1994040"/>
                <a:ext cx="1575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674720" y="2809800"/>
                <a:ext cx="1955880" cy="21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237200" y="2021040"/>
                <a:ext cx="1668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ailability - probability a system will work when the user needs it to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 time between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al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39800" y="4370400"/>
                <a:ext cx="28940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28640" y="5943600"/>
                <a:ext cx="19684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avai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vailability - probability a system will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wor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hen the user needs it to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 connec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compute availability of elements connected in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898640" y="3370320"/>
                <a:ext cx="41972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=1-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49320" y="5029200"/>
                <a:ext cx="18226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 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number of failures in time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089000" y="2724120"/>
                <a:ext cx="7335720" cy="21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TBF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TR</m:t>
                            </m:r>
                          </m:den>
                        </m:f>
                        <m:r>
                          <m:t xml:space="preserve">@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TBF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ce MTBF &gt;&gt; MTT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1T22:00:50Z</dcterms:created>
  <dc:creator>Dick Young</dc:creator>
  <dc:description/>
  <dc:language>en-US</dc:language>
  <cp:lastModifiedBy>NCR User</cp:lastModifiedBy>
  <dcterms:modified xsi:type="dcterms:W3CDTF">2002-09-25T17:44:21Z</dcterms:modified>
  <cp:revision>5</cp:revision>
  <dc:subject/>
  <dc:title>No Slide Title</dc:title>
</cp:coreProperties>
</file>