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698-3860-4B1D-81A6-2B81FB3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662-E1C1-489C-B53D-3967B80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EA9-4EAA-4B5F-B85E-B8A3B1D1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0D4-7181-47FF-9B2C-4E4517F9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248-1EDA-4DD6-8795-11371CF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692-52C6-46F8-911D-3CFE5B8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BD2-8A71-4FC4-9767-273A0F8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0F7-8F21-4BBC-A47E-0CE9FA0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135-DEC9-420D-98D9-4F60767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F78-86FA-4A60-9F15-3FFA2ED5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CAA-F748-49EC-911A-D7F27A0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469-F7A3-4D84-B826-38C0833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B6FC-3C5F-4FB5-BD05-FE2EEFF97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4680"/>
            <a:ext cx="17543160" cy="13690440"/>
            <a:chOff x="-8410320" y="468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468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9.wmf"/><Relationship Id="rId12" Type="http://schemas.openxmlformats.org/officeDocument/2006/relationships/image" Target="../media/image15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CP/IP and 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6160" y="307800"/>
          <a:ext cx="437508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307800"/>
                    <a:ext cx="43750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4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, high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media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ropolitan requirements in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width optim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‘fat pip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service provider bun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Stand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cedure or process established by authority as a rule for the measure of value o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cedure or process established by custom or general consent as a model 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tructure that serves as a basis for a procedure o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36320" y="6156360"/>
            <a:ext cx="321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ter’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evelop Communication Standa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vide a common referenc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vide mainstream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allow common produc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enhance product marke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promot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Network Archite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 formal logical structure of the interactions and functions required to provide communication services to end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Open Systems Interconn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andards for the exchange of information among “systems” that are open to one another by virtue of their mutual use of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ree-Lay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s that solve the user’s busines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n procedures used for reliable transfer of applicati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change of data between user an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 developed by D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protocols communicated across LANs and W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 3/4 protocols plus network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1450800" y="2209680"/>
            <a:ext cx="987480" cy="609840"/>
            <a:chOff x="1450800" y="2209680"/>
            <a:chExt cx="987480" cy="609840"/>
          </a:xfrm>
        </p:grpSpPr>
        <p:sp>
          <p:nvSpPr>
            <p:cNvPr id="120" name=""/>
            <p:cNvSpPr/>
            <p:nvPr/>
          </p:nvSpPr>
          <p:spPr>
            <a:xfrm>
              <a:off x="1450800" y="2819520"/>
              <a:ext cx="987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2480" y="2593800"/>
              <a:ext cx="0" cy="225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1"/>
            <a:stretch/>
          </p:blipFill>
          <p:spPr>
            <a:xfrm>
              <a:off x="1536840" y="2209680"/>
              <a:ext cx="4903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937200" y="2220840"/>
            <a:ext cx="987480" cy="750960"/>
            <a:chOff x="6937200" y="2220840"/>
            <a:chExt cx="987480" cy="750960"/>
          </a:xfrm>
        </p:grpSpPr>
        <p:sp>
          <p:nvSpPr>
            <p:cNvPr id="124" name=""/>
            <p:cNvSpPr/>
            <p:nvPr/>
          </p:nvSpPr>
          <p:spPr>
            <a:xfrm>
              <a:off x="7543800" y="2670120"/>
              <a:ext cx="0" cy="301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2"/>
            <a:stretch/>
          </p:blipFill>
          <p:spPr>
            <a:xfrm>
              <a:off x="7391520" y="2220840"/>
              <a:ext cx="50616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937200" y="2971800"/>
              <a:ext cx="987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022640" y="1706400"/>
            <a:ext cx="10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2440" y="1905120"/>
            <a:ext cx="2587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5720" y="1905120"/>
            <a:ext cx="2282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DP, TCP,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TP, 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TP, 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-to-host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net, File transfer, Mail, Networ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65960" y="4570560"/>
            <a:ext cx="838080" cy="1446120"/>
          </a:xfrm>
          <a:custGeom>
            <a:avLst/>
            <a:gdLst/>
            <a:ahLst/>
            <a:rect l="l" t="t" r="r" b="b"/>
            <a:pathLst>
              <a:path w="528" h="911">
                <a:moveTo>
                  <a:pt x="0" y="910"/>
                </a:moveTo>
                <a:lnTo>
                  <a:pt x="199" y="415"/>
                </a:lnTo>
                <a:lnTo>
                  <a:pt x="315" y="523"/>
                </a:lnTo>
                <a:lnTo>
                  <a:pt x="52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040" y="4562640"/>
            <a:ext cx="430200" cy="1614240"/>
          </a:xfrm>
          <a:custGeom>
            <a:avLst/>
            <a:gdLst/>
            <a:ahLst/>
            <a:rect l="l" t="t" r="r" b="b"/>
            <a:pathLst>
              <a:path w="271" h="1017">
                <a:moveTo>
                  <a:pt x="0" y="0"/>
                </a:moveTo>
                <a:lnTo>
                  <a:pt x="208" y="492"/>
                </a:lnTo>
                <a:lnTo>
                  <a:pt x="50" y="497"/>
                </a:lnTo>
                <a:lnTo>
                  <a:pt x="270" y="10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9280" y="5708520"/>
            <a:ext cx="1654200" cy="236520"/>
          </a:xfrm>
          <a:custGeom>
            <a:avLst/>
            <a:gdLst/>
            <a:ahLst/>
            <a:rect l="l" t="t" r="r" b="b"/>
            <a:pathLst>
              <a:path w="1042" h="149">
                <a:moveTo>
                  <a:pt x="0" y="0"/>
                </a:moveTo>
                <a:lnTo>
                  <a:pt x="533" y="0"/>
                </a:lnTo>
                <a:lnTo>
                  <a:pt x="476" y="148"/>
                </a:lnTo>
                <a:lnTo>
                  <a:pt x="1041" y="1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5880" y="5486400"/>
            <a:ext cx="1628640" cy="374760"/>
          </a:xfrm>
          <a:custGeom>
            <a:avLst/>
            <a:gdLst/>
            <a:ahLst/>
            <a:rect l="l" t="t" r="r" b="b"/>
            <a:pathLst>
              <a:path w="1026" h="236">
                <a:moveTo>
                  <a:pt x="0" y="235"/>
                </a:moveTo>
                <a:lnTo>
                  <a:pt x="498" y="44"/>
                </a:lnTo>
                <a:lnTo>
                  <a:pt x="498" y="203"/>
                </a:lnTo>
                <a:lnTo>
                  <a:pt x="102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Using TCP/I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8400" y="1859040"/>
            <a:ext cx="1968480" cy="3101760"/>
            <a:chOff x="698400" y="1859040"/>
            <a:chExt cx="1968480" cy="3101760"/>
          </a:xfrm>
        </p:grpSpPr>
        <p:sp>
          <p:nvSpPr>
            <p:cNvPr id="140" name=""/>
            <p:cNvSpPr/>
            <p:nvPr/>
          </p:nvSpPr>
          <p:spPr>
            <a:xfrm>
              <a:off x="1530360" y="2368440"/>
              <a:ext cx="825480" cy="2923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400" y="2222640"/>
              <a:ext cx="1955880" cy="27176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2212920"/>
              <a:ext cx="0" cy="27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-92520" y="3405600"/>
              <a:ext cx="214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5720" y="1859040"/>
              <a:ext cx="752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2200" y="27432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2200" y="43434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2200" y="36576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9440" y="4319640"/>
              <a:ext cx="108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59960" y="386244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4000" y="30243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83640" y="226224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298600"/>
              <a:ext cx="888840" cy="355680"/>
            </a:xfrm>
            <a:prstGeom prst="ellipse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3640" y="2338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718320" y="1859040"/>
            <a:ext cx="1968480" cy="3101760"/>
            <a:chOff x="6718320" y="1859040"/>
            <a:chExt cx="1968480" cy="3101760"/>
          </a:xfrm>
        </p:grpSpPr>
        <p:sp>
          <p:nvSpPr>
            <p:cNvPr id="155" name=""/>
            <p:cNvSpPr/>
            <p:nvPr/>
          </p:nvSpPr>
          <p:spPr>
            <a:xfrm>
              <a:off x="7550280" y="2368440"/>
              <a:ext cx="825480" cy="2923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8320" y="2222640"/>
              <a:ext cx="1955880" cy="27176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8880" y="2212920"/>
              <a:ext cx="0" cy="27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5927040" y="3405600"/>
              <a:ext cx="214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45640" y="1859040"/>
              <a:ext cx="752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42120" y="27432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42120" y="43434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42120" y="3657600"/>
              <a:ext cx="14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99360" y="4319640"/>
              <a:ext cx="108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79520" y="386244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03920" y="30243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03200" y="226224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400" y="2298600"/>
              <a:ext cx="889200" cy="355680"/>
            </a:xfrm>
            <a:prstGeom prst="ellipse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3200" y="2338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118040" y="4395960"/>
            <a:ext cx="1368360" cy="1471320"/>
            <a:chOff x="4118040" y="4395960"/>
            <a:chExt cx="1368360" cy="1471320"/>
          </a:xfrm>
        </p:grpSpPr>
        <p:sp>
          <p:nvSpPr>
            <p:cNvPr id="170" name=""/>
            <p:cNvSpPr/>
            <p:nvPr/>
          </p:nvSpPr>
          <p:spPr>
            <a:xfrm>
              <a:off x="4127400" y="4813200"/>
              <a:ext cx="1346400" cy="104148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8040" y="5334120"/>
              <a:ext cx="13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533700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528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84760" y="5462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31760" y="4929120"/>
              <a:ext cx="40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27560" y="4395960"/>
              <a:ext cx="92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31880" y="5389560"/>
            <a:ext cx="1501920" cy="92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280200" y="5389560"/>
            <a:ext cx="1501560" cy="92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59960" y="5691240"/>
            <a:ext cx="14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7920" y="5767560"/>
            <a:ext cx="14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concepts and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ied three lay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- The 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 (OS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onless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dat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interne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byt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dotted decim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packet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470720" y="2743200"/>
            <a:ext cx="378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ing permits end station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choice depends upon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location assigned a uniqu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50800" y="2819520"/>
            <a:ext cx="9874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25938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18200" y="2514600"/>
            <a:ext cx="498600" cy="4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1536840" y="2209680"/>
            <a:ext cx="49032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3"/>
          <a:stretch/>
        </p:blipFill>
        <p:spPr>
          <a:xfrm>
            <a:off x="7696080" y="2297160"/>
            <a:ext cx="506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5760" y="2463840"/>
            <a:ext cx="5892480" cy="2844720"/>
          </a:xfrm>
          <a:prstGeom prst="rect">
            <a:avLst/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0480" y="2955960"/>
            <a:ext cx="1402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1400" y="2575080"/>
            <a:ext cx="1370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-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-2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7400" y="2575080"/>
            <a:ext cx="1015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440" y="3809880"/>
            <a:ext cx="59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3280" y="5699160"/>
            <a:ext cx="58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: Multicast usage -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E: Experimental usage - 24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Transport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 - Transmission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3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 - User Datagram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/IP Fra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38200" y="2128680"/>
            <a:ext cx="674064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Open Systems 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connects heterogeneous compu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 variety of data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data exchange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internod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s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a layered archit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a hierarchic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set of well defin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s 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taneou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ervices to users of OSI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transformations f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control structure for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reliable end-to-end data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independence from transmission and switching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reliable data transfer across a physical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for the transmission of unstructured bit streams over physical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57320" y="1214280"/>
            <a:ext cx="7045200" cy="53596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69080" y="289080"/>
            <a:ext cx="4720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I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6254640"/>
            <a:ext cx="34164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a process that allows information to pass between a sender and a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le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communications by electrical or electromagnetic means, usually over a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ta communic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- movement of coded information over a distance by electrical or electromagnetic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yer-Specif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 to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access point (S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BM System Network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release 1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d hierarchic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d network addressable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P, PU, 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layer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s from 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08120" y="3841920"/>
            <a:ext cx="1363680" cy="704520"/>
          </a:xfrm>
          <a:custGeom>
            <a:avLst/>
            <a:gdLst/>
            <a:ahLst/>
            <a:rect l="l" t="t" r="r" b="b"/>
            <a:pathLst>
              <a:path w="859" h="444">
                <a:moveTo>
                  <a:pt x="858" y="0"/>
                </a:moveTo>
                <a:lnTo>
                  <a:pt x="481" y="306"/>
                </a:lnTo>
                <a:lnTo>
                  <a:pt x="399" y="120"/>
                </a:lnTo>
                <a:lnTo>
                  <a:pt x="0" y="4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37120" y="3666960"/>
            <a:ext cx="312840" cy="1501920"/>
          </a:xfrm>
          <a:custGeom>
            <a:avLst/>
            <a:gdLst/>
            <a:ahLst/>
            <a:rect l="l" t="t" r="r" b="b"/>
            <a:pathLst>
              <a:path w="197" h="946">
                <a:moveTo>
                  <a:pt x="196" y="0"/>
                </a:moveTo>
                <a:lnTo>
                  <a:pt x="196" y="485"/>
                </a:lnTo>
                <a:lnTo>
                  <a:pt x="0" y="432"/>
                </a:lnTo>
                <a:lnTo>
                  <a:pt x="0" y="94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81560" y="5327640"/>
            <a:ext cx="1501920" cy="312840"/>
          </a:xfrm>
          <a:custGeom>
            <a:avLst/>
            <a:gdLst/>
            <a:ahLst/>
            <a:rect l="l" t="t" r="r" b="b"/>
            <a:pathLst>
              <a:path w="946" h="197">
                <a:moveTo>
                  <a:pt x="0" y="0"/>
                </a:moveTo>
                <a:lnTo>
                  <a:pt x="485" y="0"/>
                </a:lnTo>
                <a:lnTo>
                  <a:pt x="432" y="196"/>
                </a:lnTo>
                <a:lnTo>
                  <a:pt x="945" y="19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A Network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1600" y="1765440"/>
            <a:ext cx="2184480" cy="142236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08640" y="2146320"/>
            <a:ext cx="73656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702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14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1800" y="26798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72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3000" y="27194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47600" y="213192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9840" y="21859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74920" y="1424160"/>
            <a:ext cx="6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800" y="4356000"/>
            <a:ext cx="2184480" cy="134640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84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6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842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70000" y="5194440"/>
            <a:ext cx="432000" cy="3553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554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41200" y="523404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5800" y="457056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1600" y="4660920"/>
            <a:ext cx="2184480" cy="134604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46520" y="4889520"/>
            <a:ext cx="507960" cy="4316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02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414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41800" y="54990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272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13000" y="55389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17720" y="49291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3400" y="4813200"/>
            <a:ext cx="2184480" cy="96516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1840" y="5194440"/>
            <a:ext cx="507960" cy="4316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42000" y="52704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13200" y="53103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13600" y="5270400"/>
            <a:ext cx="432000" cy="3556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99360" y="531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84800" y="531036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99000" y="52340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41600" y="3441600"/>
            <a:ext cx="2184480" cy="58428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0" y="3579840"/>
            <a:ext cx="502200" cy="36684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20364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7720" y="6019920"/>
            <a:ext cx="563760" cy="455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363920" y="6248520"/>
            <a:ext cx="563760" cy="455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126040" y="62485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602160" y="62485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316160" y="6019920"/>
            <a:ext cx="563400" cy="455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7816680" y="6172200"/>
            <a:ext cx="614520" cy="38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2101680" y="6019920"/>
            <a:ext cx="614520" cy="3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3808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5565600"/>
            <a:ext cx="0" cy="45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587052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564192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564192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98080" y="3405240"/>
            <a:ext cx="191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0640" y="3633840"/>
            <a:ext cx="127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88760" y="4091040"/>
            <a:ext cx="127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2480" y="355752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60680" y="45482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55800" y="477684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9520" y="485316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8"/>
          <a:stretch/>
        </p:blipFill>
        <p:spPr>
          <a:xfrm>
            <a:off x="6581880" y="6111720"/>
            <a:ext cx="815760" cy="573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479840" y="172872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 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communicating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application that solves a busines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co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symbols for  representing the busines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ha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Network provides the mechanism and th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The rules for communic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lements of a Telecommunication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562720"/>
            <a:ext cx="26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5041800"/>
            <a:ext cx="2413080" cy="1117800"/>
          </a:xfrm>
          <a:prstGeom prst="rect">
            <a:avLst/>
          </a:prstGeom>
          <a:solidFill>
            <a:srgbClr val="39393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5320" y="5041800"/>
            <a:ext cx="2413080" cy="1117800"/>
          </a:xfrm>
          <a:prstGeom prst="rect">
            <a:avLst/>
          </a:prstGeom>
          <a:solidFill>
            <a:srgbClr val="39393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60320" y="538632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36520" y="538632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45960" y="5614920"/>
            <a:ext cx="104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38240" y="2743200"/>
          <a:ext cx="225108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743200"/>
                    <a:ext cx="2251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638680" y="3089160"/>
          <a:ext cx="230040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089160"/>
                    <a:ext cx="23004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ntifying User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’s view the network from out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3078000"/>
            <a:ext cx="4397400" cy="2891160"/>
            <a:chOff x="2057400" y="3078000"/>
            <a:chExt cx="4397400" cy="2891160"/>
          </a:xfrm>
        </p:grpSpPr>
        <p:graphicFrame>
          <p:nvGraphicFramePr>
            <p:cNvPr id="68" name=""/>
            <p:cNvGraphicFramePr/>
            <p:nvPr/>
          </p:nvGraphicFramePr>
          <p:xfrm>
            <a:off x="2057400" y="4005360"/>
            <a:ext cx="2090880" cy="196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4005360"/>
                      <a:ext cx="2090880" cy="196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4780080" y="4479840"/>
              <a:ext cx="1674720" cy="136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04640" y="3078000"/>
              <a:ext cx="1494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’s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Users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limi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source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tal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nspa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y to connect and recon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le with good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availability, large throughput, and fast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peed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ed data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e compu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ai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e compu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peed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1T11:13:52Z</dcterms:created>
  <dc:creator>Robert S. Marshall</dc:creator>
  <dc:description/>
  <dc:language>en-US</dc:language>
  <cp:lastModifiedBy>NCR User</cp:lastModifiedBy>
  <cp:lastPrinted>1998-04-07T17:34:08Z</cp:lastPrinted>
  <dcterms:modified xsi:type="dcterms:W3CDTF">2001-02-19T17:37:29Z</dcterms:modified>
  <cp:revision>33</cp:revision>
  <dc:subject/>
  <dc:title>Open Systems Interconnection (OSI)</dc:title>
</cp:coreProperties>
</file>