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0" y="1371600"/>
            <a:ext cx="8025120" cy="0"/>
          </a:xfrm>
          <a:prstGeom prst="line">
            <a:avLst/>
          </a:prstGeom>
          <a:ln w="38160">
            <a:solidFill>
              <a:srgbClr val="86868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1440" y="3429000"/>
            <a:ext cx="8025120" cy="0"/>
          </a:xfrm>
          <a:prstGeom prst="line">
            <a:avLst/>
          </a:prstGeom>
          <a:ln w="38160">
            <a:solidFill>
              <a:srgbClr val="86868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08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itc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0880" y="266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et Switc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484520" y="4282920"/>
            <a:ext cx="496800" cy="65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Arial"/>
              </a:rPr>
              <a:t>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2936880" y="4282920"/>
            <a:ext cx="496800" cy="65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Arial"/>
              </a:rPr>
              <a:t>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6413400" cy="38941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2819520" y="3354480"/>
            <a:ext cx="0" cy="11412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3049560" y="2592360"/>
            <a:ext cx="1674720" cy="6080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800600" y="2897280"/>
            <a:ext cx="0" cy="10652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973240" y="3278160"/>
            <a:ext cx="1598760" cy="7603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2744640" y="4192560"/>
            <a:ext cx="1903680" cy="4557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44640" y="4802040"/>
            <a:ext cx="2970360" cy="3794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726080" y="4116240"/>
            <a:ext cx="988920" cy="8366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4802040" y="3659040"/>
            <a:ext cx="1827360" cy="3794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4680" y="2744640"/>
            <a:ext cx="1674720" cy="9129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5869080" y="3811680"/>
            <a:ext cx="760320" cy="11412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1220760" y="4726080"/>
            <a:ext cx="1446120" cy="60804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707160" y="3735360"/>
            <a:ext cx="1446120" cy="60804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362320" y="4343400"/>
            <a:ext cx="914400" cy="76212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343400" y="2362320"/>
            <a:ext cx="914400" cy="76212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267080" y="3733920"/>
            <a:ext cx="914400" cy="76212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334120" y="4572000"/>
            <a:ext cx="914400" cy="76212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914400" y="5029200"/>
            <a:ext cx="609480" cy="60948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077320" y="4038480"/>
            <a:ext cx="609480" cy="60948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974880" y="5089680"/>
            <a:ext cx="557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8137440" y="4098960"/>
            <a:ext cx="557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479840" y="2498760"/>
            <a:ext cx="557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2498760" y="4479840"/>
            <a:ext cx="557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479840" y="3946680"/>
            <a:ext cx="557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546880" y="4708440"/>
            <a:ext cx="557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3124080" y="3506760"/>
            <a:ext cx="0" cy="74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449360" y="2440080"/>
            <a:ext cx="1217520" cy="76032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6783480" y="2820960"/>
            <a:ext cx="1446120" cy="6843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066680" y="2133720"/>
            <a:ext cx="609480" cy="60948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077320" y="2514600"/>
            <a:ext cx="609480" cy="60948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127160" y="2193840"/>
            <a:ext cx="557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8137440" y="2575080"/>
            <a:ext cx="557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362320" y="2895480"/>
            <a:ext cx="914400" cy="76212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2575080" y="3032280"/>
            <a:ext cx="557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172200" y="3276720"/>
            <a:ext cx="914400" cy="76212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384960" y="3413160"/>
            <a:ext cx="557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1525680" y="4497480"/>
            <a:ext cx="836640" cy="379440"/>
          </a:xfrm>
          <a:prstGeom prst="line">
            <a:avLst/>
          </a:prstGeom>
          <a:ln w="25560">
            <a:solidFill>
              <a:srgbClr val="ff33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7164360" y="2668680"/>
            <a:ext cx="836640" cy="379440"/>
          </a:xfrm>
          <a:prstGeom prst="line">
            <a:avLst/>
          </a:prstGeom>
          <a:ln w="255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3352680" y="4443480"/>
            <a:ext cx="901800" cy="203040"/>
          </a:xfrm>
          <a:prstGeom prst="line">
            <a:avLst/>
          </a:prstGeom>
          <a:ln w="255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 flipV="1">
            <a:off x="5029200" y="3156120"/>
            <a:ext cx="1440" cy="547560"/>
          </a:xfrm>
          <a:prstGeom prst="line">
            <a:avLst/>
          </a:prstGeom>
          <a:ln w="255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5013360" y="6004080"/>
            <a:ext cx="2394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data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462640" y="2712960"/>
            <a:ext cx="798480" cy="466920"/>
          </a:xfrm>
          <a:prstGeom prst="line">
            <a:avLst/>
          </a:prstGeom>
          <a:ln w="255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1677960" y="5106960"/>
            <a:ext cx="684360" cy="303120"/>
          </a:xfrm>
          <a:prstGeom prst="line">
            <a:avLst/>
          </a:prstGeom>
          <a:ln w="25560">
            <a:solidFill>
              <a:srgbClr val="0000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7088040" y="3201840"/>
            <a:ext cx="836640" cy="379440"/>
          </a:xfrm>
          <a:prstGeom prst="line">
            <a:avLst/>
          </a:prstGeom>
          <a:ln w="255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728880" y="5091120"/>
            <a:ext cx="914400" cy="130320"/>
          </a:xfrm>
          <a:prstGeom prst="line">
            <a:avLst/>
          </a:prstGeom>
          <a:ln w="255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6364440" y="4164120"/>
            <a:ext cx="517320" cy="763560"/>
          </a:xfrm>
          <a:prstGeom prst="line">
            <a:avLst/>
          </a:prstGeom>
          <a:ln w="255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380880" y="266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et Switc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se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et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mediate node 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et re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disconn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et Switc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technolo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BM S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 D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.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ataCom Fast Pac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380880" y="266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itching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1035000" y="1676520"/>
            <a:ext cx="772812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switching network with the following parame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: number of hops between user s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: message length in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: link data rate (speed) in b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: packet size (including header) in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: packet header size (overhead) in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: call setup time (circuit-switched or virtual circuit) in sec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: propagation delay per hop in sec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380880" y="266760"/>
            <a:ext cx="807732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1035000" y="1676520"/>
            <a:ext cx="772812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ute the end-to-end transmission delay assuming no node processing de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gram packet swit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rtual circuit packet swit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he following values for the network param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= 4,  L = 3200 bits,  P = 1024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= 9600 bps,  H = 16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= 0.2 sec,  D = 0.001 s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380880" y="266760"/>
            <a:ext cx="82296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ircuit Swit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etu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ransmi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pr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S + L/B + (N)(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0.2 + 3200/9600 + (4)(0.00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0.537 s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380880" y="266760"/>
            <a:ext cx="80773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atagram Packet Swit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dp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hop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hop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hop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hop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(4)(P/B) + D + (3)(P/B +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(4)(1024/9600) + 0.001 +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(3)(1024/9600 + 0.00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0.427 + 0.001 + 0.3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0.752 s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hop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hop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hop4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/B +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irtual Circuit Packet Swit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vcp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etu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d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0.2 + 0.75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0.952 s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les and Interface Po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2666880" y="1676520"/>
            <a:ext cx="3277080" cy="4038840"/>
            <a:chOff x="2666880" y="1676520"/>
            <a:chExt cx="3277080" cy="4038840"/>
          </a:xfrm>
        </p:grpSpPr>
        <p:sp>
          <p:nvSpPr>
            <p:cNvPr id="288" name=""/>
            <p:cNvSpPr/>
            <p:nvPr/>
          </p:nvSpPr>
          <p:spPr>
            <a:xfrm>
              <a:off x="5411880" y="1793880"/>
              <a:ext cx="532080" cy="3921480"/>
            </a:xfrm>
            <a:custGeom>
              <a:avLst/>
              <a:gdLst/>
              <a:ahLst/>
              <a:rect l="0" t="0" r="r" b="b"/>
              <a:pathLst>
                <a:path w="1478" h="10893">
                  <a:moveTo>
                    <a:pt x="0" y="10893"/>
                  </a:moveTo>
                  <a:lnTo>
                    <a:pt x="0" y="1323"/>
                  </a:lnTo>
                  <a:lnTo>
                    <a:pt x="1478" y="0"/>
                  </a:lnTo>
                  <a:lnTo>
                    <a:pt x="1478" y="8571"/>
                  </a:lnTo>
                  <a:lnTo>
                    <a:pt x="0" y="10893"/>
                  </a:lnTo>
                  <a:close/>
                </a:path>
              </a:pathLst>
            </a:custGeom>
            <a:solidFill>
              <a:srgbClr val="79001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666880" y="1676520"/>
              <a:ext cx="3277080" cy="605160"/>
            </a:xfrm>
            <a:custGeom>
              <a:avLst/>
              <a:gdLst/>
              <a:ahLst/>
              <a:rect l="0" t="0" r="r" b="b"/>
              <a:pathLst>
                <a:path w="9103" h="1681">
                  <a:moveTo>
                    <a:pt x="7598" y="1681"/>
                  </a:moveTo>
                  <a:lnTo>
                    <a:pt x="9103" y="328"/>
                  </a:lnTo>
                  <a:lnTo>
                    <a:pt x="2508" y="0"/>
                  </a:lnTo>
                  <a:lnTo>
                    <a:pt x="0" y="1268"/>
                  </a:lnTo>
                  <a:lnTo>
                    <a:pt x="7598" y="1681"/>
                  </a:lnTo>
                  <a:close/>
                </a:path>
              </a:pathLst>
            </a:custGeom>
            <a:solidFill>
              <a:srgbClr val="5f5f5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666880" y="2130480"/>
              <a:ext cx="2748240" cy="3584880"/>
            </a:xfrm>
            <a:custGeom>
              <a:avLst/>
              <a:gdLst/>
              <a:ahLst/>
              <a:rect l="0" t="0" r="r" b="b"/>
              <a:pathLst>
                <a:path w="7634" h="9958">
                  <a:moveTo>
                    <a:pt x="0" y="9530"/>
                  </a:moveTo>
                  <a:lnTo>
                    <a:pt x="0" y="0"/>
                  </a:lnTo>
                  <a:lnTo>
                    <a:pt x="7634" y="366"/>
                  </a:lnTo>
                  <a:lnTo>
                    <a:pt x="7634" y="9958"/>
                  </a:lnTo>
                  <a:lnTo>
                    <a:pt x="0" y="9530"/>
                  </a:lnTo>
                  <a:close/>
                </a:path>
              </a:pathLst>
            </a:custGeom>
            <a:solidFill>
              <a:srgbClr val="919191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051520" y="5229360"/>
              <a:ext cx="179640" cy="173520"/>
            </a:xfrm>
            <a:custGeom>
              <a:avLst/>
              <a:gdLst/>
              <a:ahLst/>
              <a:rect l="0" t="0" r="r" b="b"/>
              <a:pathLst>
                <a:path w="499" h="482">
                  <a:moveTo>
                    <a:pt x="0" y="482"/>
                  </a:moveTo>
                  <a:lnTo>
                    <a:pt x="349" y="482"/>
                  </a:lnTo>
                  <a:lnTo>
                    <a:pt x="499" y="0"/>
                  </a:lnTo>
                  <a:lnTo>
                    <a:pt x="149" y="0"/>
                  </a:lnTo>
                  <a:lnTo>
                    <a:pt x="0" y="48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2725560" y="2217600"/>
              <a:ext cx="2619720" cy="356040"/>
              <a:chOff x="2725560" y="2217600"/>
              <a:chExt cx="2619720" cy="356040"/>
            </a:xfrm>
          </p:grpSpPr>
          <p:sp>
            <p:nvSpPr>
              <p:cNvPr id="293" name=""/>
              <p:cNvSpPr/>
              <p:nvPr/>
            </p:nvSpPr>
            <p:spPr>
              <a:xfrm>
                <a:off x="3736800" y="2335320"/>
                <a:ext cx="738720" cy="128880"/>
              </a:xfrm>
              <a:custGeom>
                <a:avLst/>
                <a:gdLst/>
                <a:ahLst/>
                <a:rect l="0" t="0" r="r" b="b"/>
                <a:pathLst>
                  <a:path w="2052" h="358">
                    <a:moveTo>
                      <a:pt x="26" y="263"/>
                    </a:moveTo>
                    <a:lnTo>
                      <a:pt x="2025" y="358"/>
                    </a:lnTo>
                    <a:lnTo>
                      <a:pt x="2052" y="113"/>
                    </a:lnTo>
                    <a:lnTo>
                      <a:pt x="0" y="0"/>
                    </a:lnTo>
                    <a:lnTo>
                      <a:pt x="26" y="2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725560" y="2217600"/>
                <a:ext cx="2619720" cy="356040"/>
              </a:xfrm>
              <a:custGeom>
                <a:avLst/>
                <a:gdLst/>
                <a:ahLst/>
                <a:rect l="0" t="0" r="r" b="b"/>
                <a:pathLst>
                  <a:path fill="none" w="7277" h="989">
                    <a:moveTo>
                      <a:pt x="0" y="0"/>
                    </a:moveTo>
                    <a:lnTo>
                      <a:pt x="7277" y="352"/>
                    </a:lnTo>
                    <a:lnTo>
                      <a:pt x="7277" y="989"/>
                    </a:lnTo>
                    <a:lnTo>
                      <a:pt x="0" y="619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754360" y="2298600"/>
                <a:ext cx="61920" cy="65160"/>
              </a:xfrm>
              <a:prstGeom prst="ellipse">
                <a:avLst/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235480" y="2416320"/>
                <a:ext cx="60480" cy="65160"/>
              </a:xfrm>
              <a:prstGeom prst="ellipse">
                <a:avLst/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7" name=""/>
              <p:cNvGrpSpPr/>
              <p:nvPr/>
            </p:nvGrpSpPr>
            <p:grpSpPr>
              <a:xfrm>
                <a:off x="4726080" y="2394000"/>
                <a:ext cx="206640" cy="117360"/>
                <a:chOff x="4726080" y="2394000"/>
                <a:chExt cx="206640" cy="117360"/>
              </a:xfrm>
            </p:grpSpPr>
            <p:grpSp>
              <p:nvGrpSpPr>
                <p:cNvPr id="298" name=""/>
                <p:cNvGrpSpPr/>
                <p:nvPr/>
              </p:nvGrpSpPr>
              <p:grpSpPr>
                <a:xfrm>
                  <a:off x="4741920" y="2394000"/>
                  <a:ext cx="190800" cy="98280"/>
                  <a:chOff x="4741920" y="2394000"/>
                  <a:chExt cx="190800" cy="98280"/>
                </a:xfrm>
              </p:grpSpPr>
              <p:sp>
                <p:nvSpPr>
                  <p:cNvPr id="299" name=""/>
                  <p:cNvSpPr/>
                  <p:nvPr/>
                </p:nvSpPr>
                <p:spPr>
                  <a:xfrm>
                    <a:off x="4835520" y="2398680"/>
                    <a:ext cx="97200" cy="88920"/>
                  </a:xfrm>
                  <a:custGeom>
                    <a:avLst/>
                    <a:gdLst/>
                    <a:ahLst/>
                    <a:rect l="0" t="0" r="r" b="b"/>
                    <a:pathLst>
                      <a:path w="270" h="247">
                        <a:moveTo>
                          <a:pt x="0" y="116"/>
                        </a:moveTo>
                        <a:lnTo>
                          <a:pt x="0" y="116"/>
                        </a:lnTo>
                        <a:cubicBezTo>
                          <a:pt x="-1" y="138"/>
                          <a:pt x="4" y="160"/>
                          <a:pt x="15" y="179"/>
                        </a:cubicBezTo>
                        <a:cubicBezTo>
                          <a:pt x="26" y="199"/>
                          <a:pt x="42" y="215"/>
                          <a:pt x="62" y="227"/>
                        </a:cubicBezTo>
                        <a:cubicBezTo>
                          <a:pt x="82" y="239"/>
                          <a:pt x="105" y="246"/>
                          <a:pt x="129" y="247"/>
                        </a:cubicBezTo>
                        <a:cubicBezTo>
                          <a:pt x="152" y="248"/>
                          <a:pt x="176" y="244"/>
                          <a:pt x="197" y="234"/>
                        </a:cubicBezTo>
                        <a:cubicBezTo>
                          <a:pt x="218" y="224"/>
                          <a:pt x="236" y="210"/>
                          <a:pt x="249" y="191"/>
                        </a:cubicBezTo>
                        <a:cubicBezTo>
                          <a:pt x="262" y="173"/>
                          <a:pt x="269" y="152"/>
                          <a:pt x="270" y="131"/>
                        </a:cubicBezTo>
                        <a:lnTo>
                          <a:pt x="270" y="131"/>
                        </a:lnTo>
                        <a:lnTo>
                          <a:pt x="270" y="131"/>
                        </a:lnTo>
                        <a:cubicBezTo>
                          <a:pt x="271" y="109"/>
                          <a:pt x="266" y="87"/>
                          <a:pt x="255" y="68"/>
                        </a:cubicBezTo>
                        <a:cubicBezTo>
                          <a:pt x="244" y="48"/>
                          <a:pt x="228" y="32"/>
                          <a:pt x="208" y="20"/>
                        </a:cubicBezTo>
                        <a:cubicBezTo>
                          <a:pt x="188" y="8"/>
                          <a:pt x="165" y="1"/>
                          <a:pt x="141" y="0"/>
                        </a:cubicBezTo>
                        <a:cubicBezTo>
                          <a:pt x="118" y="-1"/>
                          <a:pt x="94" y="3"/>
                          <a:pt x="73" y="13"/>
                        </a:cubicBezTo>
                        <a:cubicBezTo>
                          <a:pt x="52" y="23"/>
                          <a:pt x="34" y="37"/>
                          <a:pt x="21" y="56"/>
                        </a:cubicBezTo>
                        <a:cubicBezTo>
                          <a:pt x="8" y="74"/>
                          <a:pt x="1" y="95"/>
                          <a:pt x="0" y="116"/>
                        </a:cubicBezTo>
                        <a:close/>
                      </a:path>
                    </a:pathLst>
                  </a:custGeom>
                  <a:solidFill>
                    <a:srgbClr val="919191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37800" bIns="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>
                    <a:off x="4741920" y="2395440"/>
                    <a:ext cx="97200" cy="88920"/>
                  </a:xfrm>
                  <a:custGeom>
                    <a:avLst/>
                    <a:gdLst/>
                    <a:ahLst/>
                    <a:rect l="0" t="0" r="r" b="b"/>
                    <a:pathLst>
                      <a:path w="270" h="247">
                        <a:moveTo>
                          <a:pt x="0" y="116"/>
                        </a:moveTo>
                        <a:lnTo>
                          <a:pt x="0" y="116"/>
                        </a:lnTo>
                        <a:cubicBezTo>
                          <a:pt x="-1" y="138"/>
                          <a:pt x="4" y="160"/>
                          <a:pt x="15" y="179"/>
                        </a:cubicBezTo>
                        <a:cubicBezTo>
                          <a:pt x="26" y="199"/>
                          <a:pt x="42" y="215"/>
                          <a:pt x="62" y="227"/>
                        </a:cubicBezTo>
                        <a:cubicBezTo>
                          <a:pt x="82" y="239"/>
                          <a:pt x="105" y="246"/>
                          <a:pt x="129" y="247"/>
                        </a:cubicBezTo>
                        <a:cubicBezTo>
                          <a:pt x="152" y="248"/>
                          <a:pt x="176" y="244"/>
                          <a:pt x="197" y="234"/>
                        </a:cubicBezTo>
                        <a:cubicBezTo>
                          <a:pt x="218" y="224"/>
                          <a:pt x="236" y="210"/>
                          <a:pt x="249" y="191"/>
                        </a:cubicBezTo>
                        <a:cubicBezTo>
                          <a:pt x="262" y="173"/>
                          <a:pt x="269" y="152"/>
                          <a:pt x="270" y="131"/>
                        </a:cubicBezTo>
                        <a:lnTo>
                          <a:pt x="270" y="131"/>
                        </a:lnTo>
                        <a:lnTo>
                          <a:pt x="270" y="131"/>
                        </a:lnTo>
                        <a:cubicBezTo>
                          <a:pt x="271" y="109"/>
                          <a:pt x="266" y="87"/>
                          <a:pt x="255" y="68"/>
                        </a:cubicBezTo>
                        <a:cubicBezTo>
                          <a:pt x="244" y="48"/>
                          <a:pt x="228" y="32"/>
                          <a:pt x="208" y="20"/>
                        </a:cubicBezTo>
                        <a:cubicBezTo>
                          <a:pt x="188" y="8"/>
                          <a:pt x="165" y="1"/>
                          <a:pt x="141" y="0"/>
                        </a:cubicBezTo>
                        <a:cubicBezTo>
                          <a:pt x="118" y="-1"/>
                          <a:pt x="94" y="3"/>
                          <a:pt x="73" y="13"/>
                        </a:cubicBezTo>
                        <a:cubicBezTo>
                          <a:pt x="52" y="23"/>
                          <a:pt x="34" y="37"/>
                          <a:pt x="21" y="56"/>
                        </a:cubicBezTo>
                        <a:cubicBezTo>
                          <a:pt x="8" y="74"/>
                          <a:pt x="1" y="95"/>
                          <a:pt x="0" y="116"/>
                        </a:cubicBezTo>
                        <a:close/>
                      </a:path>
                    </a:pathLst>
                  </a:custGeom>
                  <a:solidFill>
                    <a:srgbClr val="919191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37800" bIns="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 flipH="1">
                    <a:off x="4795920" y="2394000"/>
                    <a:ext cx="98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 flipH="1" flipV="1">
                    <a:off x="4794120" y="2490840"/>
                    <a:ext cx="95400" cy="1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49680" bIns="-49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>
                    <a:off x="4778280" y="2394360"/>
                    <a:ext cx="108720" cy="78840"/>
                  </a:xfrm>
                  <a:custGeom>
                    <a:avLst/>
                    <a:gdLst/>
                    <a:ahLst/>
                    <a:rect l="0" t="0" r="r" b="b"/>
                    <a:pathLst>
                      <a:path w="302" h="219">
                        <a:moveTo>
                          <a:pt x="10" y="0"/>
                        </a:moveTo>
                        <a:lnTo>
                          <a:pt x="0" y="204"/>
                        </a:lnTo>
                        <a:lnTo>
                          <a:pt x="291" y="219"/>
                        </a:lnTo>
                        <a:lnTo>
                          <a:pt x="302" y="15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919191"/>
                  </a:solidFill>
                  <a:ln w="0">
                    <a:noFill/>
                  </a:ln>
                </p:spPr>
                <p:txBody>
                  <a:bodyPr lIns="90000" rIns="90000" tIns="33840" bIns="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4" name=""/>
                <p:cNvGrpSpPr/>
                <p:nvPr/>
              </p:nvGrpSpPr>
              <p:grpSpPr>
                <a:xfrm>
                  <a:off x="4726080" y="2413080"/>
                  <a:ext cx="190800" cy="98280"/>
                  <a:chOff x="4726080" y="2413080"/>
                  <a:chExt cx="190800" cy="98280"/>
                </a:xfrm>
              </p:grpSpPr>
              <p:sp>
                <p:nvSpPr>
                  <p:cNvPr id="305" name=""/>
                  <p:cNvSpPr/>
                  <p:nvPr/>
                </p:nvSpPr>
                <p:spPr>
                  <a:xfrm>
                    <a:off x="4819680" y="2417760"/>
                    <a:ext cx="97200" cy="88920"/>
                  </a:xfrm>
                  <a:custGeom>
                    <a:avLst/>
                    <a:gdLst/>
                    <a:ahLst/>
                    <a:rect l="0" t="0" r="r" b="b"/>
                    <a:pathLst>
                      <a:path w="270" h="247">
                        <a:moveTo>
                          <a:pt x="0" y="116"/>
                        </a:moveTo>
                        <a:lnTo>
                          <a:pt x="0" y="116"/>
                        </a:lnTo>
                        <a:cubicBezTo>
                          <a:pt x="-1" y="138"/>
                          <a:pt x="4" y="160"/>
                          <a:pt x="15" y="179"/>
                        </a:cubicBezTo>
                        <a:cubicBezTo>
                          <a:pt x="26" y="199"/>
                          <a:pt x="42" y="215"/>
                          <a:pt x="62" y="227"/>
                        </a:cubicBezTo>
                        <a:cubicBezTo>
                          <a:pt x="82" y="239"/>
                          <a:pt x="105" y="246"/>
                          <a:pt x="129" y="247"/>
                        </a:cubicBezTo>
                        <a:cubicBezTo>
                          <a:pt x="152" y="248"/>
                          <a:pt x="176" y="244"/>
                          <a:pt x="197" y="234"/>
                        </a:cubicBezTo>
                        <a:cubicBezTo>
                          <a:pt x="218" y="224"/>
                          <a:pt x="236" y="210"/>
                          <a:pt x="249" y="191"/>
                        </a:cubicBezTo>
                        <a:cubicBezTo>
                          <a:pt x="262" y="173"/>
                          <a:pt x="269" y="152"/>
                          <a:pt x="270" y="131"/>
                        </a:cubicBezTo>
                        <a:lnTo>
                          <a:pt x="270" y="131"/>
                        </a:lnTo>
                        <a:lnTo>
                          <a:pt x="270" y="131"/>
                        </a:lnTo>
                        <a:cubicBezTo>
                          <a:pt x="271" y="109"/>
                          <a:pt x="266" y="87"/>
                          <a:pt x="255" y="68"/>
                        </a:cubicBezTo>
                        <a:cubicBezTo>
                          <a:pt x="244" y="48"/>
                          <a:pt x="228" y="32"/>
                          <a:pt x="208" y="20"/>
                        </a:cubicBezTo>
                        <a:cubicBezTo>
                          <a:pt x="188" y="8"/>
                          <a:pt x="165" y="1"/>
                          <a:pt x="141" y="0"/>
                        </a:cubicBezTo>
                        <a:cubicBezTo>
                          <a:pt x="118" y="-1"/>
                          <a:pt x="94" y="3"/>
                          <a:pt x="73" y="13"/>
                        </a:cubicBezTo>
                        <a:cubicBezTo>
                          <a:pt x="52" y="23"/>
                          <a:pt x="34" y="37"/>
                          <a:pt x="21" y="56"/>
                        </a:cubicBezTo>
                        <a:cubicBezTo>
                          <a:pt x="8" y="74"/>
                          <a:pt x="1" y="95"/>
                          <a:pt x="0" y="116"/>
                        </a:cubicBezTo>
                        <a:close/>
                      </a:path>
                    </a:pathLst>
                  </a:custGeom>
                  <a:solidFill>
                    <a:srgbClr val="919191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37800" bIns="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>
                    <a:off x="4726080" y="2414520"/>
                    <a:ext cx="97200" cy="89280"/>
                  </a:xfrm>
                  <a:custGeom>
                    <a:avLst/>
                    <a:gdLst/>
                    <a:ahLst/>
                    <a:rect l="0" t="0" r="r" b="b"/>
                    <a:pathLst>
                      <a:path w="270" h="248">
                        <a:moveTo>
                          <a:pt x="0" y="117"/>
                        </a:moveTo>
                        <a:lnTo>
                          <a:pt x="0" y="117"/>
                        </a:lnTo>
                        <a:cubicBezTo>
                          <a:pt x="-1" y="139"/>
                          <a:pt x="4" y="160"/>
                          <a:pt x="15" y="180"/>
                        </a:cubicBezTo>
                        <a:cubicBezTo>
                          <a:pt x="26" y="199"/>
                          <a:pt x="42" y="216"/>
                          <a:pt x="62" y="228"/>
                        </a:cubicBezTo>
                        <a:cubicBezTo>
                          <a:pt x="82" y="240"/>
                          <a:pt x="105" y="247"/>
                          <a:pt x="129" y="248"/>
                        </a:cubicBezTo>
                        <a:cubicBezTo>
                          <a:pt x="152" y="249"/>
                          <a:pt x="176" y="245"/>
                          <a:pt x="197" y="235"/>
                        </a:cubicBezTo>
                        <a:cubicBezTo>
                          <a:pt x="218" y="225"/>
                          <a:pt x="236" y="210"/>
                          <a:pt x="249" y="192"/>
                        </a:cubicBezTo>
                        <a:cubicBezTo>
                          <a:pt x="262" y="174"/>
                          <a:pt x="269" y="153"/>
                          <a:pt x="270" y="131"/>
                        </a:cubicBezTo>
                        <a:lnTo>
                          <a:pt x="270" y="131"/>
                        </a:lnTo>
                        <a:lnTo>
                          <a:pt x="270" y="131"/>
                        </a:lnTo>
                        <a:cubicBezTo>
                          <a:pt x="271" y="109"/>
                          <a:pt x="266" y="88"/>
                          <a:pt x="255" y="68"/>
                        </a:cubicBezTo>
                        <a:cubicBezTo>
                          <a:pt x="244" y="49"/>
                          <a:pt x="228" y="32"/>
                          <a:pt x="208" y="20"/>
                        </a:cubicBezTo>
                        <a:cubicBezTo>
                          <a:pt x="188" y="8"/>
                          <a:pt x="165" y="1"/>
                          <a:pt x="141" y="0"/>
                        </a:cubicBezTo>
                        <a:cubicBezTo>
                          <a:pt x="118" y="-1"/>
                          <a:pt x="94" y="3"/>
                          <a:pt x="73" y="13"/>
                        </a:cubicBezTo>
                        <a:cubicBezTo>
                          <a:pt x="52" y="23"/>
                          <a:pt x="34" y="38"/>
                          <a:pt x="21" y="56"/>
                        </a:cubicBezTo>
                        <a:cubicBezTo>
                          <a:pt x="8" y="74"/>
                          <a:pt x="1" y="95"/>
                          <a:pt x="0" y="117"/>
                        </a:cubicBezTo>
                        <a:close/>
                      </a:path>
                    </a:pathLst>
                  </a:custGeom>
                  <a:solidFill>
                    <a:srgbClr val="919191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38160" bIns="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 flipH="1">
                    <a:off x="4782960" y="2413080"/>
                    <a:ext cx="921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 flipH="1" flipV="1">
                    <a:off x="4784760" y="2509920"/>
                    <a:ext cx="92160" cy="1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49680" bIns="-49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4762440" y="2418120"/>
                    <a:ext cx="111600" cy="74160"/>
                  </a:xfrm>
                  <a:custGeom>
                    <a:avLst/>
                    <a:gdLst/>
                    <a:ahLst/>
                    <a:rect l="0" t="0" r="r" b="b"/>
                    <a:pathLst>
                      <a:path w="310" h="206">
                        <a:moveTo>
                          <a:pt x="9" y="0"/>
                        </a:moveTo>
                        <a:lnTo>
                          <a:pt x="0" y="190"/>
                        </a:lnTo>
                        <a:lnTo>
                          <a:pt x="300" y="206"/>
                        </a:lnTo>
                        <a:lnTo>
                          <a:pt x="310" y="15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919191"/>
                  </a:solidFill>
                  <a:ln w="0">
                    <a:noFill/>
                  </a:ln>
                </p:spPr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10" name=""/>
              <p:cNvGrpSpPr/>
              <p:nvPr/>
            </p:nvGrpSpPr>
            <p:grpSpPr>
              <a:xfrm>
                <a:off x="3079800" y="2290680"/>
                <a:ext cx="497160" cy="151200"/>
                <a:chOff x="3079800" y="2290680"/>
                <a:chExt cx="497160" cy="151200"/>
              </a:xfrm>
            </p:grpSpPr>
            <p:sp>
              <p:nvSpPr>
                <p:cNvPr id="311" name=""/>
                <p:cNvSpPr/>
                <p:nvPr/>
              </p:nvSpPr>
              <p:spPr>
                <a:xfrm>
                  <a:off x="3079800" y="2290680"/>
                  <a:ext cx="109800" cy="132120"/>
                </a:xfrm>
                <a:custGeom>
                  <a:avLst/>
                  <a:gdLst/>
                  <a:ahLst/>
                  <a:rect l="0" t="0" r="r" b="b"/>
                  <a:pathLst>
                    <a:path w="305" h="367">
                      <a:moveTo>
                        <a:pt x="0" y="0"/>
                      </a:moveTo>
                      <a:lnTo>
                        <a:pt x="305" y="9"/>
                      </a:lnTo>
                      <a:lnTo>
                        <a:pt x="305" y="294"/>
                      </a:lnTo>
                      <a:lnTo>
                        <a:pt x="232" y="294"/>
                      </a:lnTo>
                      <a:lnTo>
                        <a:pt x="232" y="367"/>
                      </a:lnTo>
                      <a:lnTo>
                        <a:pt x="81" y="353"/>
                      </a:lnTo>
                      <a:lnTo>
                        <a:pt x="81" y="281"/>
                      </a:lnTo>
                      <a:lnTo>
                        <a:pt x="0" y="28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3208320" y="2298600"/>
                  <a:ext cx="109800" cy="132120"/>
                </a:xfrm>
                <a:custGeom>
                  <a:avLst/>
                  <a:gdLst/>
                  <a:ahLst/>
                  <a:rect l="0" t="0" r="r" b="b"/>
                  <a:pathLst>
                    <a:path w="305" h="367">
                      <a:moveTo>
                        <a:pt x="0" y="0"/>
                      </a:moveTo>
                      <a:lnTo>
                        <a:pt x="305" y="9"/>
                      </a:lnTo>
                      <a:lnTo>
                        <a:pt x="305" y="294"/>
                      </a:lnTo>
                      <a:lnTo>
                        <a:pt x="232" y="294"/>
                      </a:lnTo>
                      <a:lnTo>
                        <a:pt x="232" y="367"/>
                      </a:lnTo>
                      <a:lnTo>
                        <a:pt x="81" y="353"/>
                      </a:lnTo>
                      <a:lnTo>
                        <a:pt x="81" y="281"/>
                      </a:lnTo>
                      <a:lnTo>
                        <a:pt x="0" y="28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3338640" y="2301840"/>
                  <a:ext cx="109800" cy="132120"/>
                </a:xfrm>
                <a:custGeom>
                  <a:avLst/>
                  <a:gdLst/>
                  <a:ahLst/>
                  <a:rect l="0" t="0" r="r" b="b"/>
                  <a:pathLst>
                    <a:path w="305" h="367">
                      <a:moveTo>
                        <a:pt x="0" y="0"/>
                      </a:moveTo>
                      <a:lnTo>
                        <a:pt x="305" y="9"/>
                      </a:lnTo>
                      <a:lnTo>
                        <a:pt x="305" y="294"/>
                      </a:lnTo>
                      <a:lnTo>
                        <a:pt x="232" y="294"/>
                      </a:lnTo>
                      <a:lnTo>
                        <a:pt x="232" y="367"/>
                      </a:lnTo>
                      <a:lnTo>
                        <a:pt x="81" y="353"/>
                      </a:lnTo>
                      <a:lnTo>
                        <a:pt x="81" y="281"/>
                      </a:lnTo>
                      <a:lnTo>
                        <a:pt x="0" y="28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3467160" y="2309760"/>
                  <a:ext cx="109800" cy="132120"/>
                </a:xfrm>
                <a:custGeom>
                  <a:avLst/>
                  <a:gdLst/>
                  <a:ahLst/>
                  <a:rect l="0" t="0" r="r" b="b"/>
                  <a:pathLst>
                    <a:path w="305" h="367">
                      <a:moveTo>
                        <a:pt x="0" y="0"/>
                      </a:moveTo>
                      <a:lnTo>
                        <a:pt x="305" y="9"/>
                      </a:lnTo>
                      <a:lnTo>
                        <a:pt x="305" y="294"/>
                      </a:lnTo>
                      <a:lnTo>
                        <a:pt x="232" y="294"/>
                      </a:lnTo>
                      <a:lnTo>
                        <a:pt x="232" y="367"/>
                      </a:lnTo>
                      <a:lnTo>
                        <a:pt x="81" y="353"/>
                      </a:lnTo>
                      <a:lnTo>
                        <a:pt x="81" y="281"/>
                      </a:lnTo>
                      <a:lnTo>
                        <a:pt x="0" y="28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5" name=""/>
              <p:cNvSpPr/>
              <p:nvPr/>
            </p:nvSpPr>
            <p:spPr>
              <a:xfrm>
                <a:off x="2860560" y="2284560"/>
                <a:ext cx="109800" cy="132120"/>
              </a:xfrm>
              <a:custGeom>
                <a:avLst/>
                <a:gdLst/>
                <a:ahLst/>
                <a:rect l="0" t="0" r="r" b="b"/>
                <a:pathLst>
                  <a:path w="305" h="367">
                    <a:moveTo>
                      <a:pt x="0" y="0"/>
                    </a:moveTo>
                    <a:lnTo>
                      <a:pt x="305" y="9"/>
                    </a:lnTo>
                    <a:lnTo>
                      <a:pt x="305" y="294"/>
                    </a:lnTo>
                    <a:lnTo>
                      <a:pt x="232" y="294"/>
                    </a:lnTo>
                    <a:lnTo>
                      <a:pt x="232" y="367"/>
                    </a:lnTo>
                    <a:lnTo>
                      <a:pt x="81" y="353"/>
                    </a:lnTo>
                    <a:lnTo>
                      <a:pt x="81" y="281"/>
                    </a:lnTo>
                    <a:lnTo>
                      <a:pt x="0" y="28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6" name=""/>
            <p:cNvGrpSpPr/>
            <p:nvPr/>
          </p:nvGrpSpPr>
          <p:grpSpPr>
            <a:xfrm>
              <a:off x="2725560" y="2489040"/>
              <a:ext cx="2619720" cy="356040"/>
              <a:chOff x="2725560" y="2489040"/>
              <a:chExt cx="2619720" cy="356040"/>
            </a:xfrm>
          </p:grpSpPr>
          <p:grpSp>
            <p:nvGrpSpPr>
              <p:cNvPr id="317" name=""/>
              <p:cNvGrpSpPr/>
              <p:nvPr/>
            </p:nvGrpSpPr>
            <p:grpSpPr>
              <a:xfrm>
                <a:off x="4978440" y="2671920"/>
                <a:ext cx="205200" cy="117360"/>
                <a:chOff x="4978440" y="2671920"/>
                <a:chExt cx="205200" cy="117360"/>
              </a:xfrm>
            </p:grpSpPr>
            <p:grpSp>
              <p:nvGrpSpPr>
                <p:cNvPr id="318" name=""/>
                <p:cNvGrpSpPr/>
                <p:nvPr/>
              </p:nvGrpSpPr>
              <p:grpSpPr>
                <a:xfrm>
                  <a:off x="4994280" y="2671920"/>
                  <a:ext cx="189360" cy="98280"/>
                  <a:chOff x="4994280" y="2671920"/>
                  <a:chExt cx="189360" cy="98280"/>
                </a:xfrm>
              </p:grpSpPr>
              <p:sp>
                <p:nvSpPr>
                  <p:cNvPr id="319" name=""/>
                  <p:cNvSpPr/>
                  <p:nvPr/>
                </p:nvSpPr>
                <p:spPr>
                  <a:xfrm>
                    <a:off x="5087880" y="2676600"/>
                    <a:ext cx="95760" cy="88920"/>
                  </a:xfrm>
                  <a:custGeom>
                    <a:avLst/>
                    <a:gdLst/>
                    <a:ahLst/>
                    <a:rect l="0" t="0" r="r" b="b"/>
                    <a:pathLst>
                      <a:path w="266" h="247">
                        <a:moveTo>
                          <a:pt x="0" y="116"/>
                        </a:moveTo>
                        <a:lnTo>
                          <a:pt x="0" y="116"/>
                        </a:lnTo>
                        <a:lnTo>
                          <a:pt x="0" y="117"/>
                        </a:lnTo>
                        <a:cubicBezTo>
                          <a:pt x="-1" y="138"/>
                          <a:pt x="4" y="160"/>
                          <a:pt x="15" y="179"/>
                        </a:cubicBezTo>
                        <a:cubicBezTo>
                          <a:pt x="25" y="199"/>
                          <a:pt x="41" y="215"/>
                          <a:pt x="61" y="227"/>
                        </a:cubicBezTo>
                        <a:cubicBezTo>
                          <a:pt x="81" y="239"/>
                          <a:pt x="103" y="246"/>
                          <a:pt x="127" y="247"/>
                        </a:cubicBezTo>
                        <a:cubicBezTo>
                          <a:pt x="150" y="248"/>
                          <a:pt x="173" y="244"/>
                          <a:pt x="194" y="234"/>
                        </a:cubicBezTo>
                        <a:cubicBezTo>
                          <a:pt x="215" y="224"/>
                          <a:pt x="232" y="209"/>
                          <a:pt x="245" y="191"/>
                        </a:cubicBezTo>
                        <a:cubicBezTo>
                          <a:pt x="258" y="173"/>
                          <a:pt x="265" y="152"/>
                          <a:pt x="266" y="131"/>
                        </a:cubicBezTo>
                        <a:lnTo>
                          <a:pt x="266" y="131"/>
                        </a:lnTo>
                        <a:cubicBezTo>
                          <a:pt x="266" y="130"/>
                          <a:pt x="266" y="130"/>
                          <a:pt x="266" y="130"/>
                        </a:cubicBezTo>
                        <a:cubicBezTo>
                          <a:pt x="267" y="109"/>
                          <a:pt x="262" y="87"/>
                          <a:pt x="251" y="68"/>
                        </a:cubicBezTo>
                        <a:cubicBezTo>
                          <a:pt x="241" y="48"/>
                          <a:pt x="225" y="32"/>
                          <a:pt x="205" y="20"/>
                        </a:cubicBezTo>
                        <a:cubicBezTo>
                          <a:pt x="185" y="8"/>
                          <a:pt x="163" y="1"/>
                          <a:pt x="139" y="0"/>
                        </a:cubicBezTo>
                        <a:cubicBezTo>
                          <a:pt x="116" y="-1"/>
                          <a:pt x="93" y="3"/>
                          <a:pt x="72" y="13"/>
                        </a:cubicBezTo>
                        <a:cubicBezTo>
                          <a:pt x="51" y="23"/>
                          <a:pt x="34" y="38"/>
                          <a:pt x="21" y="56"/>
                        </a:cubicBezTo>
                        <a:cubicBezTo>
                          <a:pt x="8" y="74"/>
                          <a:pt x="1" y="95"/>
                          <a:pt x="0" y="116"/>
                        </a:cubicBezTo>
                        <a:close/>
                      </a:path>
                    </a:pathLst>
                  </a:custGeom>
                  <a:solidFill>
                    <a:srgbClr val="919191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37800" bIns="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4994280" y="2673360"/>
                    <a:ext cx="95760" cy="88920"/>
                  </a:xfrm>
                  <a:custGeom>
                    <a:avLst/>
                    <a:gdLst/>
                    <a:ahLst/>
                    <a:rect l="0" t="0" r="r" b="b"/>
                    <a:pathLst>
                      <a:path w="266" h="247">
                        <a:moveTo>
                          <a:pt x="0" y="116"/>
                        </a:moveTo>
                        <a:lnTo>
                          <a:pt x="0" y="116"/>
                        </a:lnTo>
                        <a:lnTo>
                          <a:pt x="0" y="117"/>
                        </a:lnTo>
                        <a:cubicBezTo>
                          <a:pt x="-1" y="138"/>
                          <a:pt x="4" y="160"/>
                          <a:pt x="15" y="179"/>
                        </a:cubicBezTo>
                        <a:cubicBezTo>
                          <a:pt x="25" y="199"/>
                          <a:pt x="41" y="215"/>
                          <a:pt x="61" y="227"/>
                        </a:cubicBezTo>
                        <a:cubicBezTo>
                          <a:pt x="81" y="239"/>
                          <a:pt x="103" y="246"/>
                          <a:pt x="127" y="247"/>
                        </a:cubicBezTo>
                        <a:cubicBezTo>
                          <a:pt x="150" y="248"/>
                          <a:pt x="173" y="244"/>
                          <a:pt x="194" y="234"/>
                        </a:cubicBezTo>
                        <a:cubicBezTo>
                          <a:pt x="215" y="224"/>
                          <a:pt x="232" y="209"/>
                          <a:pt x="245" y="191"/>
                        </a:cubicBezTo>
                        <a:cubicBezTo>
                          <a:pt x="258" y="173"/>
                          <a:pt x="265" y="152"/>
                          <a:pt x="266" y="131"/>
                        </a:cubicBezTo>
                        <a:lnTo>
                          <a:pt x="266" y="131"/>
                        </a:lnTo>
                        <a:cubicBezTo>
                          <a:pt x="266" y="130"/>
                          <a:pt x="266" y="130"/>
                          <a:pt x="266" y="130"/>
                        </a:cubicBezTo>
                        <a:cubicBezTo>
                          <a:pt x="267" y="109"/>
                          <a:pt x="262" y="87"/>
                          <a:pt x="251" y="68"/>
                        </a:cubicBezTo>
                        <a:cubicBezTo>
                          <a:pt x="241" y="48"/>
                          <a:pt x="225" y="32"/>
                          <a:pt x="205" y="20"/>
                        </a:cubicBezTo>
                        <a:cubicBezTo>
                          <a:pt x="185" y="8"/>
                          <a:pt x="163" y="1"/>
                          <a:pt x="139" y="0"/>
                        </a:cubicBezTo>
                        <a:cubicBezTo>
                          <a:pt x="116" y="-1"/>
                          <a:pt x="93" y="3"/>
                          <a:pt x="72" y="13"/>
                        </a:cubicBezTo>
                        <a:cubicBezTo>
                          <a:pt x="51" y="23"/>
                          <a:pt x="34" y="38"/>
                          <a:pt x="21" y="56"/>
                        </a:cubicBezTo>
                        <a:cubicBezTo>
                          <a:pt x="8" y="74"/>
                          <a:pt x="1" y="95"/>
                          <a:pt x="0" y="116"/>
                        </a:cubicBezTo>
                        <a:close/>
                      </a:path>
                    </a:pathLst>
                  </a:custGeom>
                  <a:solidFill>
                    <a:srgbClr val="919191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37800" bIns="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 flipH="1">
                    <a:off x="5046840" y="2671920"/>
                    <a:ext cx="98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 flipH="1" flipV="1">
                    <a:off x="5045040" y="2768760"/>
                    <a:ext cx="95400" cy="1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49680" bIns="-49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>
                    <a:off x="5030640" y="2672280"/>
                    <a:ext cx="107280" cy="78840"/>
                  </a:xfrm>
                  <a:custGeom>
                    <a:avLst/>
                    <a:gdLst/>
                    <a:ahLst/>
                    <a:rect l="0" t="0" r="r" b="b"/>
                    <a:pathLst>
                      <a:path w="298" h="219">
                        <a:moveTo>
                          <a:pt x="10" y="0"/>
                        </a:moveTo>
                        <a:lnTo>
                          <a:pt x="0" y="204"/>
                        </a:lnTo>
                        <a:lnTo>
                          <a:pt x="288" y="219"/>
                        </a:lnTo>
                        <a:lnTo>
                          <a:pt x="298" y="15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919191"/>
                  </a:solidFill>
                  <a:ln w="0">
                    <a:noFill/>
                  </a:ln>
                </p:spPr>
                <p:txBody>
                  <a:bodyPr lIns="90000" rIns="90000" tIns="33840" bIns="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4" name=""/>
                <p:cNvGrpSpPr/>
                <p:nvPr/>
              </p:nvGrpSpPr>
              <p:grpSpPr>
                <a:xfrm>
                  <a:off x="4978440" y="2690640"/>
                  <a:ext cx="189360" cy="98640"/>
                  <a:chOff x="4978440" y="2690640"/>
                  <a:chExt cx="189360" cy="98640"/>
                </a:xfrm>
              </p:grpSpPr>
              <p:sp>
                <p:nvSpPr>
                  <p:cNvPr id="325" name=""/>
                  <p:cNvSpPr/>
                  <p:nvPr/>
                </p:nvSpPr>
                <p:spPr>
                  <a:xfrm>
                    <a:off x="5072040" y="2695320"/>
                    <a:ext cx="95760" cy="88920"/>
                  </a:xfrm>
                  <a:custGeom>
                    <a:avLst/>
                    <a:gdLst/>
                    <a:ahLst/>
                    <a:rect l="0" t="0" r="r" b="b"/>
                    <a:pathLst>
                      <a:path w="266" h="247">
                        <a:moveTo>
                          <a:pt x="0" y="116"/>
                        </a:moveTo>
                        <a:lnTo>
                          <a:pt x="0" y="116"/>
                        </a:lnTo>
                        <a:lnTo>
                          <a:pt x="0" y="117"/>
                        </a:lnTo>
                        <a:cubicBezTo>
                          <a:pt x="-1" y="138"/>
                          <a:pt x="4" y="160"/>
                          <a:pt x="15" y="179"/>
                        </a:cubicBezTo>
                        <a:cubicBezTo>
                          <a:pt x="25" y="199"/>
                          <a:pt x="41" y="215"/>
                          <a:pt x="61" y="227"/>
                        </a:cubicBezTo>
                        <a:cubicBezTo>
                          <a:pt x="81" y="239"/>
                          <a:pt x="103" y="246"/>
                          <a:pt x="127" y="247"/>
                        </a:cubicBezTo>
                        <a:cubicBezTo>
                          <a:pt x="150" y="248"/>
                          <a:pt x="173" y="244"/>
                          <a:pt x="194" y="234"/>
                        </a:cubicBezTo>
                        <a:cubicBezTo>
                          <a:pt x="215" y="224"/>
                          <a:pt x="232" y="209"/>
                          <a:pt x="245" y="191"/>
                        </a:cubicBezTo>
                        <a:cubicBezTo>
                          <a:pt x="258" y="173"/>
                          <a:pt x="265" y="152"/>
                          <a:pt x="266" y="131"/>
                        </a:cubicBezTo>
                        <a:lnTo>
                          <a:pt x="266" y="131"/>
                        </a:lnTo>
                        <a:cubicBezTo>
                          <a:pt x="266" y="130"/>
                          <a:pt x="266" y="130"/>
                          <a:pt x="266" y="130"/>
                        </a:cubicBezTo>
                        <a:cubicBezTo>
                          <a:pt x="267" y="109"/>
                          <a:pt x="262" y="87"/>
                          <a:pt x="251" y="68"/>
                        </a:cubicBezTo>
                        <a:cubicBezTo>
                          <a:pt x="241" y="48"/>
                          <a:pt x="225" y="32"/>
                          <a:pt x="205" y="20"/>
                        </a:cubicBezTo>
                        <a:cubicBezTo>
                          <a:pt x="185" y="8"/>
                          <a:pt x="163" y="1"/>
                          <a:pt x="139" y="0"/>
                        </a:cubicBezTo>
                        <a:cubicBezTo>
                          <a:pt x="116" y="-1"/>
                          <a:pt x="93" y="3"/>
                          <a:pt x="72" y="13"/>
                        </a:cubicBezTo>
                        <a:cubicBezTo>
                          <a:pt x="51" y="23"/>
                          <a:pt x="34" y="38"/>
                          <a:pt x="21" y="56"/>
                        </a:cubicBezTo>
                        <a:cubicBezTo>
                          <a:pt x="8" y="74"/>
                          <a:pt x="1" y="95"/>
                          <a:pt x="0" y="116"/>
                        </a:cubicBezTo>
                        <a:close/>
                      </a:path>
                    </a:pathLst>
                  </a:custGeom>
                  <a:solidFill>
                    <a:srgbClr val="919191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37800" bIns="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"/>
                  <p:cNvSpPr/>
                  <p:nvPr/>
                </p:nvSpPr>
                <p:spPr>
                  <a:xfrm>
                    <a:off x="4978440" y="2692440"/>
                    <a:ext cx="95760" cy="88920"/>
                  </a:xfrm>
                  <a:custGeom>
                    <a:avLst/>
                    <a:gdLst/>
                    <a:ahLst/>
                    <a:rect l="0" t="0" r="r" b="b"/>
                    <a:pathLst>
                      <a:path w="266" h="247">
                        <a:moveTo>
                          <a:pt x="0" y="116"/>
                        </a:moveTo>
                        <a:lnTo>
                          <a:pt x="0" y="116"/>
                        </a:lnTo>
                        <a:lnTo>
                          <a:pt x="0" y="117"/>
                        </a:lnTo>
                        <a:cubicBezTo>
                          <a:pt x="-1" y="138"/>
                          <a:pt x="4" y="160"/>
                          <a:pt x="15" y="179"/>
                        </a:cubicBezTo>
                        <a:cubicBezTo>
                          <a:pt x="25" y="199"/>
                          <a:pt x="41" y="215"/>
                          <a:pt x="61" y="227"/>
                        </a:cubicBezTo>
                        <a:cubicBezTo>
                          <a:pt x="81" y="239"/>
                          <a:pt x="103" y="246"/>
                          <a:pt x="127" y="247"/>
                        </a:cubicBezTo>
                        <a:cubicBezTo>
                          <a:pt x="150" y="248"/>
                          <a:pt x="173" y="244"/>
                          <a:pt x="194" y="234"/>
                        </a:cubicBezTo>
                        <a:cubicBezTo>
                          <a:pt x="215" y="224"/>
                          <a:pt x="232" y="209"/>
                          <a:pt x="245" y="191"/>
                        </a:cubicBezTo>
                        <a:cubicBezTo>
                          <a:pt x="258" y="173"/>
                          <a:pt x="265" y="152"/>
                          <a:pt x="266" y="131"/>
                        </a:cubicBezTo>
                        <a:lnTo>
                          <a:pt x="266" y="131"/>
                        </a:lnTo>
                        <a:cubicBezTo>
                          <a:pt x="266" y="130"/>
                          <a:pt x="266" y="130"/>
                          <a:pt x="266" y="130"/>
                        </a:cubicBezTo>
                        <a:cubicBezTo>
                          <a:pt x="267" y="109"/>
                          <a:pt x="262" y="87"/>
                          <a:pt x="251" y="68"/>
                        </a:cubicBezTo>
                        <a:cubicBezTo>
                          <a:pt x="241" y="48"/>
                          <a:pt x="225" y="32"/>
                          <a:pt x="205" y="20"/>
                        </a:cubicBezTo>
                        <a:cubicBezTo>
                          <a:pt x="185" y="8"/>
                          <a:pt x="163" y="1"/>
                          <a:pt x="139" y="0"/>
                        </a:cubicBezTo>
                        <a:cubicBezTo>
                          <a:pt x="116" y="-1"/>
                          <a:pt x="93" y="3"/>
                          <a:pt x="72" y="13"/>
                        </a:cubicBezTo>
                        <a:cubicBezTo>
                          <a:pt x="51" y="23"/>
                          <a:pt x="34" y="38"/>
                          <a:pt x="21" y="56"/>
                        </a:cubicBezTo>
                        <a:cubicBezTo>
                          <a:pt x="8" y="74"/>
                          <a:pt x="1" y="95"/>
                          <a:pt x="0" y="116"/>
                        </a:cubicBezTo>
                        <a:close/>
                      </a:path>
                    </a:pathLst>
                  </a:custGeom>
                  <a:solidFill>
                    <a:srgbClr val="919191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37800" bIns="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 flipH="1">
                    <a:off x="5033880" y="2690640"/>
                    <a:ext cx="921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 flipH="1" flipV="1">
                    <a:off x="5035680" y="2787480"/>
                    <a:ext cx="91800" cy="1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49320" bIns="-49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5014800" y="2696040"/>
                    <a:ext cx="110160" cy="74160"/>
                  </a:xfrm>
                  <a:custGeom>
                    <a:avLst/>
                    <a:gdLst/>
                    <a:ahLst/>
                    <a:rect l="0" t="0" r="r" b="b"/>
                    <a:pathLst>
                      <a:path w="306" h="206">
                        <a:moveTo>
                          <a:pt x="9" y="0"/>
                        </a:moveTo>
                        <a:lnTo>
                          <a:pt x="0" y="191"/>
                        </a:lnTo>
                        <a:lnTo>
                          <a:pt x="297" y="206"/>
                        </a:lnTo>
                        <a:lnTo>
                          <a:pt x="306" y="15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919191"/>
                  </a:solidFill>
                  <a:ln w="0">
                    <a:noFill/>
                  </a:ln>
                </p:spPr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30" name=""/>
              <p:cNvSpPr/>
              <p:nvPr/>
            </p:nvSpPr>
            <p:spPr>
              <a:xfrm>
                <a:off x="2725560" y="2489040"/>
                <a:ext cx="2619720" cy="356040"/>
              </a:xfrm>
              <a:custGeom>
                <a:avLst/>
                <a:gdLst/>
                <a:ahLst/>
                <a:rect l="0" t="0" r="r" b="b"/>
                <a:pathLst>
                  <a:path fill="none" w="7277" h="989">
                    <a:moveTo>
                      <a:pt x="0" y="0"/>
                    </a:moveTo>
                    <a:lnTo>
                      <a:pt x="7277" y="352"/>
                    </a:lnTo>
                    <a:lnTo>
                      <a:pt x="7277" y="989"/>
                    </a:lnTo>
                    <a:lnTo>
                      <a:pt x="0" y="619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754360" y="2570040"/>
                <a:ext cx="61920" cy="65160"/>
              </a:xfrm>
              <a:prstGeom prst="ellipse">
                <a:avLst/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235480" y="2687760"/>
                <a:ext cx="60480" cy="65160"/>
              </a:xfrm>
              <a:prstGeom prst="ellipse">
                <a:avLst/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3" name=""/>
              <p:cNvGrpSpPr/>
              <p:nvPr/>
            </p:nvGrpSpPr>
            <p:grpSpPr>
              <a:xfrm>
                <a:off x="4726080" y="2665440"/>
                <a:ext cx="206640" cy="117360"/>
                <a:chOff x="4726080" y="2665440"/>
                <a:chExt cx="206640" cy="117360"/>
              </a:xfrm>
            </p:grpSpPr>
            <p:grpSp>
              <p:nvGrpSpPr>
                <p:cNvPr id="334" name=""/>
                <p:cNvGrpSpPr/>
                <p:nvPr/>
              </p:nvGrpSpPr>
              <p:grpSpPr>
                <a:xfrm>
                  <a:off x="4741920" y="2665440"/>
                  <a:ext cx="190800" cy="98280"/>
                  <a:chOff x="4741920" y="2665440"/>
                  <a:chExt cx="190800" cy="98280"/>
                </a:xfrm>
              </p:grpSpPr>
              <p:sp>
                <p:nvSpPr>
                  <p:cNvPr id="335" name=""/>
                  <p:cNvSpPr/>
                  <p:nvPr/>
                </p:nvSpPr>
                <p:spPr>
                  <a:xfrm>
                    <a:off x="4835520" y="2670120"/>
                    <a:ext cx="97200" cy="88920"/>
                  </a:xfrm>
                  <a:custGeom>
                    <a:avLst/>
                    <a:gdLst/>
                    <a:ahLst/>
                    <a:rect l="0" t="0" r="r" b="b"/>
                    <a:pathLst>
                      <a:path w="270" h="247">
                        <a:moveTo>
                          <a:pt x="0" y="116"/>
                        </a:moveTo>
                        <a:lnTo>
                          <a:pt x="0" y="116"/>
                        </a:lnTo>
                        <a:cubicBezTo>
                          <a:pt x="-1" y="138"/>
                          <a:pt x="4" y="160"/>
                          <a:pt x="15" y="179"/>
                        </a:cubicBezTo>
                        <a:cubicBezTo>
                          <a:pt x="26" y="199"/>
                          <a:pt x="42" y="215"/>
                          <a:pt x="62" y="227"/>
                        </a:cubicBezTo>
                        <a:cubicBezTo>
                          <a:pt x="82" y="239"/>
                          <a:pt x="105" y="246"/>
                          <a:pt x="129" y="247"/>
                        </a:cubicBezTo>
                        <a:cubicBezTo>
                          <a:pt x="152" y="248"/>
                          <a:pt x="176" y="244"/>
                          <a:pt x="197" y="234"/>
                        </a:cubicBezTo>
                        <a:cubicBezTo>
                          <a:pt x="218" y="224"/>
                          <a:pt x="236" y="210"/>
                          <a:pt x="249" y="191"/>
                        </a:cubicBezTo>
                        <a:cubicBezTo>
                          <a:pt x="262" y="173"/>
                          <a:pt x="269" y="152"/>
                          <a:pt x="270" y="131"/>
                        </a:cubicBezTo>
                        <a:lnTo>
                          <a:pt x="270" y="131"/>
                        </a:lnTo>
                        <a:lnTo>
                          <a:pt x="270" y="131"/>
                        </a:lnTo>
                        <a:cubicBezTo>
                          <a:pt x="271" y="109"/>
                          <a:pt x="266" y="87"/>
                          <a:pt x="255" y="68"/>
                        </a:cubicBezTo>
                        <a:cubicBezTo>
                          <a:pt x="244" y="48"/>
                          <a:pt x="228" y="32"/>
                          <a:pt x="208" y="20"/>
                        </a:cubicBezTo>
                        <a:cubicBezTo>
                          <a:pt x="188" y="8"/>
                          <a:pt x="165" y="1"/>
                          <a:pt x="141" y="0"/>
                        </a:cubicBezTo>
                        <a:cubicBezTo>
                          <a:pt x="118" y="-1"/>
                          <a:pt x="94" y="3"/>
                          <a:pt x="73" y="13"/>
                        </a:cubicBezTo>
                        <a:cubicBezTo>
                          <a:pt x="52" y="23"/>
                          <a:pt x="34" y="37"/>
                          <a:pt x="21" y="56"/>
                        </a:cubicBezTo>
                        <a:cubicBezTo>
                          <a:pt x="8" y="74"/>
                          <a:pt x="1" y="95"/>
                          <a:pt x="0" y="116"/>
                        </a:cubicBezTo>
                        <a:close/>
                      </a:path>
                    </a:pathLst>
                  </a:custGeom>
                  <a:solidFill>
                    <a:srgbClr val="919191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37800" bIns="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" name=""/>
                  <p:cNvSpPr/>
                  <p:nvPr/>
                </p:nvSpPr>
                <p:spPr>
                  <a:xfrm>
                    <a:off x="4741920" y="2666880"/>
                    <a:ext cx="97200" cy="88920"/>
                  </a:xfrm>
                  <a:custGeom>
                    <a:avLst/>
                    <a:gdLst/>
                    <a:ahLst/>
                    <a:rect l="0" t="0" r="r" b="b"/>
                    <a:pathLst>
                      <a:path w="270" h="247">
                        <a:moveTo>
                          <a:pt x="0" y="116"/>
                        </a:moveTo>
                        <a:lnTo>
                          <a:pt x="0" y="116"/>
                        </a:lnTo>
                        <a:cubicBezTo>
                          <a:pt x="-1" y="138"/>
                          <a:pt x="4" y="160"/>
                          <a:pt x="15" y="179"/>
                        </a:cubicBezTo>
                        <a:cubicBezTo>
                          <a:pt x="26" y="199"/>
                          <a:pt x="42" y="215"/>
                          <a:pt x="62" y="227"/>
                        </a:cubicBezTo>
                        <a:cubicBezTo>
                          <a:pt x="82" y="239"/>
                          <a:pt x="105" y="246"/>
                          <a:pt x="129" y="247"/>
                        </a:cubicBezTo>
                        <a:cubicBezTo>
                          <a:pt x="152" y="248"/>
                          <a:pt x="176" y="244"/>
                          <a:pt x="197" y="234"/>
                        </a:cubicBezTo>
                        <a:cubicBezTo>
                          <a:pt x="218" y="224"/>
                          <a:pt x="236" y="210"/>
                          <a:pt x="249" y="191"/>
                        </a:cubicBezTo>
                        <a:cubicBezTo>
                          <a:pt x="262" y="173"/>
                          <a:pt x="269" y="152"/>
                          <a:pt x="270" y="131"/>
                        </a:cubicBezTo>
                        <a:lnTo>
                          <a:pt x="270" y="131"/>
                        </a:lnTo>
                        <a:lnTo>
                          <a:pt x="270" y="131"/>
                        </a:lnTo>
                        <a:cubicBezTo>
                          <a:pt x="271" y="109"/>
                          <a:pt x="266" y="87"/>
                          <a:pt x="255" y="68"/>
                        </a:cubicBezTo>
                        <a:cubicBezTo>
                          <a:pt x="244" y="48"/>
                          <a:pt x="228" y="32"/>
                          <a:pt x="208" y="20"/>
                        </a:cubicBezTo>
                        <a:cubicBezTo>
                          <a:pt x="188" y="8"/>
                          <a:pt x="165" y="1"/>
                          <a:pt x="141" y="0"/>
                        </a:cubicBezTo>
                        <a:cubicBezTo>
                          <a:pt x="118" y="-1"/>
                          <a:pt x="94" y="3"/>
                          <a:pt x="73" y="13"/>
                        </a:cubicBezTo>
                        <a:cubicBezTo>
                          <a:pt x="52" y="23"/>
                          <a:pt x="34" y="37"/>
                          <a:pt x="21" y="56"/>
                        </a:cubicBezTo>
                        <a:cubicBezTo>
                          <a:pt x="8" y="74"/>
                          <a:pt x="1" y="95"/>
                          <a:pt x="0" y="116"/>
                        </a:cubicBezTo>
                        <a:close/>
                      </a:path>
                    </a:pathLst>
                  </a:custGeom>
                  <a:solidFill>
                    <a:srgbClr val="919191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37800" bIns="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 flipH="1">
                    <a:off x="4795920" y="2665440"/>
                    <a:ext cx="98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 flipH="1" flipV="1">
                    <a:off x="4794120" y="2762280"/>
                    <a:ext cx="95400" cy="1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49680" bIns="-49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4778280" y="2665800"/>
                    <a:ext cx="108720" cy="78840"/>
                  </a:xfrm>
                  <a:custGeom>
                    <a:avLst/>
                    <a:gdLst/>
                    <a:ahLst/>
                    <a:rect l="0" t="0" r="r" b="b"/>
                    <a:pathLst>
                      <a:path w="302" h="219">
                        <a:moveTo>
                          <a:pt x="10" y="0"/>
                        </a:moveTo>
                        <a:lnTo>
                          <a:pt x="0" y="204"/>
                        </a:lnTo>
                        <a:lnTo>
                          <a:pt x="291" y="219"/>
                        </a:lnTo>
                        <a:lnTo>
                          <a:pt x="302" y="15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919191"/>
                  </a:solidFill>
                  <a:ln w="0">
                    <a:noFill/>
                  </a:ln>
                </p:spPr>
                <p:txBody>
                  <a:bodyPr lIns="90000" rIns="90000" tIns="33840" bIns="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0" name=""/>
                <p:cNvGrpSpPr/>
                <p:nvPr/>
              </p:nvGrpSpPr>
              <p:grpSpPr>
                <a:xfrm>
                  <a:off x="4726080" y="2684520"/>
                  <a:ext cx="190800" cy="98280"/>
                  <a:chOff x="4726080" y="2684520"/>
                  <a:chExt cx="190800" cy="98280"/>
                </a:xfrm>
              </p:grpSpPr>
              <p:sp>
                <p:nvSpPr>
                  <p:cNvPr id="341" name=""/>
                  <p:cNvSpPr/>
                  <p:nvPr/>
                </p:nvSpPr>
                <p:spPr>
                  <a:xfrm>
                    <a:off x="4819680" y="2689200"/>
                    <a:ext cx="97200" cy="88920"/>
                  </a:xfrm>
                  <a:custGeom>
                    <a:avLst/>
                    <a:gdLst/>
                    <a:ahLst/>
                    <a:rect l="0" t="0" r="r" b="b"/>
                    <a:pathLst>
                      <a:path w="270" h="247">
                        <a:moveTo>
                          <a:pt x="0" y="116"/>
                        </a:moveTo>
                        <a:lnTo>
                          <a:pt x="0" y="116"/>
                        </a:lnTo>
                        <a:cubicBezTo>
                          <a:pt x="-1" y="138"/>
                          <a:pt x="4" y="160"/>
                          <a:pt x="15" y="179"/>
                        </a:cubicBezTo>
                        <a:cubicBezTo>
                          <a:pt x="26" y="199"/>
                          <a:pt x="42" y="215"/>
                          <a:pt x="62" y="227"/>
                        </a:cubicBezTo>
                        <a:cubicBezTo>
                          <a:pt x="82" y="239"/>
                          <a:pt x="105" y="246"/>
                          <a:pt x="129" y="247"/>
                        </a:cubicBezTo>
                        <a:cubicBezTo>
                          <a:pt x="152" y="248"/>
                          <a:pt x="176" y="244"/>
                          <a:pt x="197" y="234"/>
                        </a:cubicBezTo>
                        <a:cubicBezTo>
                          <a:pt x="218" y="224"/>
                          <a:pt x="236" y="210"/>
                          <a:pt x="249" y="191"/>
                        </a:cubicBezTo>
                        <a:cubicBezTo>
                          <a:pt x="262" y="173"/>
                          <a:pt x="269" y="152"/>
                          <a:pt x="270" y="131"/>
                        </a:cubicBezTo>
                        <a:lnTo>
                          <a:pt x="270" y="131"/>
                        </a:lnTo>
                        <a:lnTo>
                          <a:pt x="270" y="131"/>
                        </a:lnTo>
                        <a:cubicBezTo>
                          <a:pt x="271" y="109"/>
                          <a:pt x="266" y="87"/>
                          <a:pt x="255" y="68"/>
                        </a:cubicBezTo>
                        <a:cubicBezTo>
                          <a:pt x="244" y="48"/>
                          <a:pt x="228" y="32"/>
                          <a:pt x="208" y="20"/>
                        </a:cubicBezTo>
                        <a:cubicBezTo>
                          <a:pt x="188" y="8"/>
                          <a:pt x="165" y="1"/>
                          <a:pt x="141" y="0"/>
                        </a:cubicBezTo>
                        <a:cubicBezTo>
                          <a:pt x="118" y="-1"/>
                          <a:pt x="94" y="3"/>
                          <a:pt x="73" y="13"/>
                        </a:cubicBezTo>
                        <a:cubicBezTo>
                          <a:pt x="52" y="23"/>
                          <a:pt x="34" y="37"/>
                          <a:pt x="21" y="56"/>
                        </a:cubicBezTo>
                        <a:cubicBezTo>
                          <a:pt x="8" y="74"/>
                          <a:pt x="1" y="95"/>
                          <a:pt x="0" y="116"/>
                        </a:cubicBezTo>
                        <a:close/>
                      </a:path>
                    </a:pathLst>
                  </a:custGeom>
                  <a:solidFill>
                    <a:srgbClr val="919191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37800" bIns="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>
                    <a:off x="4726080" y="2685960"/>
                    <a:ext cx="97200" cy="89280"/>
                  </a:xfrm>
                  <a:custGeom>
                    <a:avLst/>
                    <a:gdLst/>
                    <a:ahLst/>
                    <a:rect l="0" t="0" r="r" b="b"/>
                    <a:pathLst>
                      <a:path w="270" h="248">
                        <a:moveTo>
                          <a:pt x="0" y="117"/>
                        </a:moveTo>
                        <a:lnTo>
                          <a:pt x="0" y="117"/>
                        </a:lnTo>
                        <a:cubicBezTo>
                          <a:pt x="-1" y="139"/>
                          <a:pt x="4" y="160"/>
                          <a:pt x="15" y="180"/>
                        </a:cubicBezTo>
                        <a:cubicBezTo>
                          <a:pt x="26" y="199"/>
                          <a:pt x="42" y="216"/>
                          <a:pt x="62" y="228"/>
                        </a:cubicBezTo>
                        <a:cubicBezTo>
                          <a:pt x="82" y="240"/>
                          <a:pt x="105" y="247"/>
                          <a:pt x="129" y="248"/>
                        </a:cubicBezTo>
                        <a:cubicBezTo>
                          <a:pt x="152" y="249"/>
                          <a:pt x="176" y="245"/>
                          <a:pt x="197" y="235"/>
                        </a:cubicBezTo>
                        <a:cubicBezTo>
                          <a:pt x="218" y="225"/>
                          <a:pt x="236" y="210"/>
                          <a:pt x="249" y="192"/>
                        </a:cubicBezTo>
                        <a:cubicBezTo>
                          <a:pt x="262" y="174"/>
                          <a:pt x="269" y="153"/>
                          <a:pt x="270" y="131"/>
                        </a:cubicBezTo>
                        <a:lnTo>
                          <a:pt x="270" y="131"/>
                        </a:lnTo>
                        <a:lnTo>
                          <a:pt x="270" y="131"/>
                        </a:lnTo>
                        <a:cubicBezTo>
                          <a:pt x="271" y="109"/>
                          <a:pt x="266" y="88"/>
                          <a:pt x="255" y="68"/>
                        </a:cubicBezTo>
                        <a:cubicBezTo>
                          <a:pt x="244" y="49"/>
                          <a:pt x="228" y="32"/>
                          <a:pt x="208" y="20"/>
                        </a:cubicBezTo>
                        <a:cubicBezTo>
                          <a:pt x="188" y="8"/>
                          <a:pt x="165" y="1"/>
                          <a:pt x="141" y="0"/>
                        </a:cubicBezTo>
                        <a:cubicBezTo>
                          <a:pt x="118" y="-1"/>
                          <a:pt x="94" y="3"/>
                          <a:pt x="73" y="13"/>
                        </a:cubicBezTo>
                        <a:cubicBezTo>
                          <a:pt x="52" y="23"/>
                          <a:pt x="34" y="38"/>
                          <a:pt x="21" y="56"/>
                        </a:cubicBezTo>
                        <a:cubicBezTo>
                          <a:pt x="8" y="74"/>
                          <a:pt x="1" y="95"/>
                          <a:pt x="0" y="117"/>
                        </a:cubicBezTo>
                        <a:close/>
                      </a:path>
                    </a:pathLst>
                  </a:custGeom>
                  <a:solidFill>
                    <a:srgbClr val="919191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38160" bIns="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 flipH="1">
                    <a:off x="4782960" y="2684520"/>
                    <a:ext cx="921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 flipH="1" flipV="1">
                    <a:off x="4784760" y="2781360"/>
                    <a:ext cx="92160" cy="1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49680" bIns="-49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>
                    <a:off x="4762440" y="2689560"/>
                    <a:ext cx="111600" cy="74160"/>
                  </a:xfrm>
                  <a:custGeom>
                    <a:avLst/>
                    <a:gdLst/>
                    <a:ahLst/>
                    <a:rect l="0" t="0" r="r" b="b"/>
                    <a:pathLst>
                      <a:path w="310" h="206">
                        <a:moveTo>
                          <a:pt x="9" y="0"/>
                        </a:moveTo>
                        <a:lnTo>
                          <a:pt x="0" y="190"/>
                        </a:lnTo>
                        <a:lnTo>
                          <a:pt x="300" y="206"/>
                        </a:lnTo>
                        <a:lnTo>
                          <a:pt x="310" y="15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919191"/>
                  </a:solidFill>
                  <a:ln w="0">
                    <a:noFill/>
                  </a:ln>
                </p:spPr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46" name=""/>
              <p:cNvGrpSpPr/>
              <p:nvPr/>
            </p:nvGrpSpPr>
            <p:grpSpPr>
              <a:xfrm>
                <a:off x="4194000" y="2620800"/>
                <a:ext cx="497160" cy="151200"/>
                <a:chOff x="4194000" y="2620800"/>
                <a:chExt cx="497160" cy="15120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4194000" y="2620800"/>
                  <a:ext cx="109800" cy="132120"/>
                </a:xfrm>
                <a:custGeom>
                  <a:avLst/>
                  <a:gdLst/>
                  <a:ahLst/>
                  <a:rect l="0" t="0" r="r" b="b"/>
                  <a:pathLst>
                    <a:path w="305" h="367">
                      <a:moveTo>
                        <a:pt x="0" y="0"/>
                      </a:moveTo>
                      <a:lnTo>
                        <a:pt x="305" y="9"/>
                      </a:lnTo>
                      <a:lnTo>
                        <a:pt x="305" y="294"/>
                      </a:lnTo>
                      <a:lnTo>
                        <a:pt x="232" y="294"/>
                      </a:lnTo>
                      <a:lnTo>
                        <a:pt x="232" y="367"/>
                      </a:lnTo>
                      <a:lnTo>
                        <a:pt x="81" y="353"/>
                      </a:lnTo>
                      <a:lnTo>
                        <a:pt x="81" y="281"/>
                      </a:lnTo>
                      <a:lnTo>
                        <a:pt x="0" y="28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4322880" y="2628720"/>
                  <a:ext cx="109800" cy="132120"/>
                </a:xfrm>
                <a:custGeom>
                  <a:avLst/>
                  <a:gdLst/>
                  <a:ahLst/>
                  <a:rect l="0" t="0" r="r" b="b"/>
                  <a:pathLst>
                    <a:path w="305" h="367">
                      <a:moveTo>
                        <a:pt x="0" y="0"/>
                      </a:moveTo>
                      <a:lnTo>
                        <a:pt x="305" y="9"/>
                      </a:lnTo>
                      <a:lnTo>
                        <a:pt x="305" y="294"/>
                      </a:lnTo>
                      <a:lnTo>
                        <a:pt x="232" y="294"/>
                      </a:lnTo>
                      <a:lnTo>
                        <a:pt x="232" y="367"/>
                      </a:lnTo>
                      <a:lnTo>
                        <a:pt x="81" y="353"/>
                      </a:lnTo>
                      <a:lnTo>
                        <a:pt x="81" y="281"/>
                      </a:lnTo>
                      <a:lnTo>
                        <a:pt x="0" y="28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4452840" y="2631960"/>
                  <a:ext cx="109800" cy="132120"/>
                </a:xfrm>
                <a:custGeom>
                  <a:avLst/>
                  <a:gdLst/>
                  <a:ahLst/>
                  <a:rect l="0" t="0" r="r" b="b"/>
                  <a:pathLst>
                    <a:path w="305" h="367">
                      <a:moveTo>
                        <a:pt x="0" y="0"/>
                      </a:moveTo>
                      <a:lnTo>
                        <a:pt x="305" y="9"/>
                      </a:lnTo>
                      <a:lnTo>
                        <a:pt x="305" y="294"/>
                      </a:lnTo>
                      <a:lnTo>
                        <a:pt x="232" y="294"/>
                      </a:lnTo>
                      <a:lnTo>
                        <a:pt x="232" y="367"/>
                      </a:lnTo>
                      <a:lnTo>
                        <a:pt x="81" y="353"/>
                      </a:lnTo>
                      <a:lnTo>
                        <a:pt x="81" y="281"/>
                      </a:lnTo>
                      <a:lnTo>
                        <a:pt x="0" y="28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4581360" y="2639880"/>
                  <a:ext cx="109800" cy="132120"/>
                </a:xfrm>
                <a:custGeom>
                  <a:avLst/>
                  <a:gdLst/>
                  <a:ahLst/>
                  <a:rect l="0" t="0" r="r" b="b"/>
                  <a:pathLst>
                    <a:path w="305" h="367">
                      <a:moveTo>
                        <a:pt x="0" y="0"/>
                      </a:moveTo>
                      <a:lnTo>
                        <a:pt x="305" y="9"/>
                      </a:lnTo>
                      <a:lnTo>
                        <a:pt x="305" y="294"/>
                      </a:lnTo>
                      <a:lnTo>
                        <a:pt x="232" y="294"/>
                      </a:lnTo>
                      <a:lnTo>
                        <a:pt x="232" y="367"/>
                      </a:lnTo>
                      <a:lnTo>
                        <a:pt x="81" y="353"/>
                      </a:lnTo>
                      <a:lnTo>
                        <a:pt x="81" y="281"/>
                      </a:lnTo>
                      <a:lnTo>
                        <a:pt x="0" y="28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1" name=""/>
              <p:cNvGrpSpPr/>
              <p:nvPr/>
            </p:nvGrpSpPr>
            <p:grpSpPr>
              <a:xfrm>
                <a:off x="3633840" y="2592360"/>
                <a:ext cx="497160" cy="149760"/>
                <a:chOff x="3633840" y="2592360"/>
                <a:chExt cx="497160" cy="14976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3633840" y="2592360"/>
                  <a:ext cx="109800" cy="132120"/>
                </a:xfrm>
                <a:custGeom>
                  <a:avLst/>
                  <a:gdLst/>
                  <a:ahLst/>
                  <a:rect l="0" t="0" r="r" b="b"/>
                  <a:pathLst>
                    <a:path w="305" h="367">
                      <a:moveTo>
                        <a:pt x="0" y="0"/>
                      </a:moveTo>
                      <a:lnTo>
                        <a:pt x="305" y="9"/>
                      </a:lnTo>
                      <a:lnTo>
                        <a:pt x="305" y="294"/>
                      </a:lnTo>
                      <a:lnTo>
                        <a:pt x="232" y="294"/>
                      </a:lnTo>
                      <a:lnTo>
                        <a:pt x="232" y="367"/>
                      </a:lnTo>
                      <a:lnTo>
                        <a:pt x="81" y="353"/>
                      </a:lnTo>
                      <a:lnTo>
                        <a:pt x="81" y="281"/>
                      </a:lnTo>
                      <a:lnTo>
                        <a:pt x="0" y="28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3762360" y="2600280"/>
                  <a:ext cx="109800" cy="130680"/>
                </a:xfrm>
                <a:custGeom>
                  <a:avLst/>
                  <a:gdLst/>
                  <a:ahLst/>
                  <a:rect l="0" t="0" r="r" b="b"/>
                  <a:pathLst>
                    <a:path w="305" h="363">
                      <a:moveTo>
                        <a:pt x="0" y="0"/>
                      </a:moveTo>
                      <a:lnTo>
                        <a:pt x="305" y="9"/>
                      </a:lnTo>
                      <a:lnTo>
                        <a:pt x="305" y="291"/>
                      </a:lnTo>
                      <a:lnTo>
                        <a:pt x="232" y="291"/>
                      </a:lnTo>
                      <a:lnTo>
                        <a:pt x="232" y="363"/>
                      </a:lnTo>
                      <a:lnTo>
                        <a:pt x="81" y="350"/>
                      </a:lnTo>
                      <a:lnTo>
                        <a:pt x="81" y="277"/>
                      </a:lnTo>
                      <a:lnTo>
                        <a:pt x="0" y="27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3892680" y="2603520"/>
                  <a:ext cx="109800" cy="130680"/>
                </a:xfrm>
                <a:custGeom>
                  <a:avLst/>
                  <a:gdLst/>
                  <a:ahLst/>
                  <a:rect l="0" t="0" r="r" b="b"/>
                  <a:pathLst>
                    <a:path w="305" h="363">
                      <a:moveTo>
                        <a:pt x="0" y="0"/>
                      </a:moveTo>
                      <a:lnTo>
                        <a:pt x="305" y="9"/>
                      </a:lnTo>
                      <a:lnTo>
                        <a:pt x="305" y="291"/>
                      </a:lnTo>
                      <a:lnTo>
                        <a:pt x="232" y="291"/>
                      </a:lnTo>
                      <a:lnTo>
                        <a:pt x="232" y="363"/>
                      </a:lnTo>
                      <a:lnTo>
                        <a:pt x="81" y="350"/>
                      </a:lnTo>
                      <a:lnTo>
                        <a:pt x="81" y="277"/>
                      </a:lnTo>
                      <a:lnTo>
                        <a:pt x="0" y="27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4021200" y="2610000"/>
                  <a:ext cx="109800" cy="132120"/>
                </a:xfrm>
                <a:custGeom>
                  <a:avLst/>
                  <a:gdLst/>
                  <a:ahLst/>
                  <a:rect l="0" t="0" r="r" b="b"/>
                  <a:pathLst>
                    <a:path w="305" h="367">
                      <a:moveTo>
                        <a:pt x="0" y="0"/>
                      </a:moveTo>
                      <a:lnTo>
                        <a:pt x="305" y="9"/>
                      </a:lnTo>
                      <a:lnTo>
                        <a:pt x="305" y="294"/>
                      </a:lnTo>
                      <a:lnTo>
                        <a:pt x="232" y="294"/>
                      </a:lnTo>
                      <a:lnTo>
                        <a:pt x="232" y="367"/>
                      </a:lnTo>
                      <a:lnTo>
                        <a:pt x="81" y="353"/>
                      </a:lnTo>
                      <a:lnTo>
                        <a:pt x="81" y="281"/>
                      </a:lnTo>
                      <a:lnTo>
                        <a:pt x="0" y="28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6" name=""/>
              <p:cNvGrpSpPr/>
              <p:nvPr/>
            </p:nvGrpSpPr>
            <p:grpSpPr>
              <a:xfrm>
                <a:off x="3079800" y="2562120"/>
                <a:ext cx="497160" cy="151200"/>
                <a:chOff x="3079800" y="2562120"/>
                <a:chExt cx="497160" cy="15120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3079800" y="2562120"/>
                  <a:ext cx="109800" cy="132120"/>
                </a:xfrm>
                <a:custGeom>
                  <a:avLst/>
                  <a:gdLst/>
                  <a:ahLst/>
                  <a:rect l="0" t="0" r="r" b="b"/>
                  <a:pathLst>
                    <a:path w="305" h="367">
                      <a:moveTo>
                        <a:pt x="0" y="0"/>
                      </a:moveTo>
                      <a:lnTo>
                        <a:pt x="305" y="9"/>
                      </a:lnTo>
                      <a:lnTo>
                        <a:pt x="305" y="294"/>
                      </a:lnTo>
                      <a:lnTo>
                        <a:pt x="232" y="294"/>
                      </a:lnTo>
                      <a:lnTo>
                        <a:pt x="232" y="367"/>
                      </a:lnTo>
                      <a:lnTo>
                        <a:pt x="81" y="353"/>
                      </a:lnTo>
                      <a:lnTo>
                        <a:pt x="81" y="281"/>
                      </a:lnTo>
                      <a:lnTo>
                        <a:pt x="0" y="28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3208320" y="2570040"/>
                  <a:ext cx="109800" cy="132120"/>
                </a:xfrm>
                <a:custGeom>
                  <a:avLst/>
                  <a:gdLst/>
                  <a:ahLst/>
                  <a:rect l="0" t="0" r="r" b="b"/>
                  <a:pathLst>
                    <a:path w="305" h="367">
                      <a:moveTo>
                        <a:pt x="0" y="0"/>
                      </a:moveTo>
                      <a:lnTo>
                        <a:pt x="305" y="9"/>
                      </a:lnTo>
                      <a:lnTo>
                        <a:pt x="305" y="294"/>
                      </a:lnTo>
                      <a:lnTo>
                        <a:pt x="232" y="294"/>
                      </a:lnTo>
                      <a:lnTo>
                        <a:pt x="232" y="367"/>
                      </a:lnTo>
                      <a:lnTo>
                        <a:pt x="81" y="353"/>
                      </a:lnTo>
                      <a:lnTo>
                        <a:pt x="81" y="281"/>
                      </a:lnTo>
                      <a:lnTo>
                        <a:pt x="0" y="28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3338640" y="2573280"/>
                  <a:ext cx="109800" cy="132120"/>
                </a:xfrm>
                <a:custGeom>
                  <a:avLst/>
                  <a:gdLst/>
                  <a:ahLst/>
                  <a:rect l="0" t="0" r="r" b="b"/>
                  <a:pathLst>
                    <a:path w="305" h="367">
                      <a:moveTo>
                        <a:pt x="0" y="0"/>
                      </a:moveTo>
                      <a:lnTo>
                        <a:pt x="305" y="9"/>
                      </a:lnTo>
                      <a:lnTo>
                        <a:pt x="305" y="294"/>
                      </a:lnTo>
                      <a:lnTo>
                        <a:pt x="232" y="294"/>
                      </a:lnTo>
                      <a:lnTo>
                        <a:pt x="232" y="367"/>
                      </a:lnTo>
                      <a:lnTo>
                        <a:pt x="81" y="353"/>
                      </a:lnTo>
                      <a:lnTo>
                        <a:pt x="81" y="281"/>
                      </a:lnTo>
                      <a:lnTo>
                        <a:pt x="0" y="28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3467160" y="2581200"/>
                  <a:ext cx="109800" cy="132120"/>
                </a:xfrm>
                <a:custGeom>
                  <a:avLst/>
                  <a:gdLst/>
                  <a:ahLst/>
                  <a:rect l="0" t="0" r="r" b="b"/>
                  <a:pathLst>
                    <a:path w="305" h="367">
                      <a:moveTo>
                        <a:pt x="0" y="0"/>
                      </a:moveTo>
                      <a:lnTo>
                        <a:pt x="305" y="9"/>
                      </a:lnTo>
                      <a:lnTo>
                        <a:pt x="305" y="294"/>
                      </a:lnTo>
                      <a:lnTo>
                        <a:pt x="232" y="294"/>
                      </a:lnTo>
                      <a:lnTo>
                        <a:pt x="232" y="367"/>
                      </a:lnTo>
                      <a:lnTo>
                        <a:pt x="81" y="353"/>
                      </a:lnTo>
                      <a:lnTo>
                        <a:pt x="81" y="281"/>
                      </a:lnTo>
                      <a:lnTo>
                        <a:pt x="0" y="28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1" name=""/>
              <p:cNvSpPr/>
              <p:nvPr/>
            </p:nvSpPr>
            <p:spPr>
              <a:xfrm>
                <a:off x="2860560" y="2556000"/>
                <a:ext cx="109800" cy="132120"/>
              </a:xfrm>
              <a:custGeom>
                <a:avLst/>
                <a:gdLst/>
                <a:ahLst/>
                <a:rect l="0" t="0" r="r" b="b"/>
                <a:pathLst>
                  <a:path w="305" h="367">
                    <a:moveTo>
                      <a:pt x="0" y="0"/>
                    </a:moveTo>
                    <a:lnTo>
                      <a:pt x="305" y="9"/>
                    </a:lnTo>
                    <a:lnTo>
                      <a:pt x="305" y="294"/>
                    </a:lnTo>
                    <a:lnTo>
                      <a:pt x="232" y="294"/>
                    </a:lnTo>
                    <a:lnTo>
                      <a:pt x="232" y="367"/>
                    </a:lnTo>
                    <a:lnTo>
                      <a:pt x="81" y="353"/>
                    </a:lnTo>
                    <a:lnTo>
                      <a:pt x="81" y="281"/>
                    </a:lnTo>
                    <a:lnTo>
                      <a:pt x="0" y="28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2725560" y="2760840"/>
              <a:ext cx="2619720" cy="354240"/>
              <a:chOff x="2725560" y="2760840"/>
              <a:chExt cx="2619720" cy="354240"/>
            </a:xfrm>
          </p:grpSpPr>
          <p:grpSp>
            <p:nvGrpSpPr>
              <p:cNvPr id="363" name=""/>
              <p:cNvGrpSpPr/>
              <p:nvPr/>
            </p:nvGrpSpPr>
            <p:grpSpPr>
              <a:xfrm>
                <a:off x="4978440" y="2943360"/>
                <a:ext cx="205200" cy="117360"/>
                <a:chOff x="4978440" y="2943360"/>
                <a:chExt cx="205200" cy="117360"/>
              </a:xfrm>
            </p:grpSpPr>
            <p:grpSp>
              <p:nvGrpSpPr>
                <p:cNvPr id="364" name=""/>
                <p:cNvGrpSpPr/>
                <p:nvPr/>
              </p:nvGrpSpPr>
              <p:grpSpPr>
                <a:xfrm>
                  <a:off x="4994280" y="2943360"/>
                  <a:ext cx="189360" cy="98280"/>
                  <a:chOff x="4994280" y="2943360"/>
                  <a:chExt cx="189360" cy="98280"/>
                </a:xfrm>
              </p:grpSpPr>
              <p:sp>
                <p:nvSpPr>
                  <p:cNvPr id="365" name=""/>
                  <p:cNvSpPr/>
                  <p:nvPr/>
                </p:nvSpPr>
                <p:spPr>
                  <a:xfrm>
                    <a:off x="5087880" y="2948040"/>
                    <a:ext cx="95760" cy="88920"/>
                  </a:xfrm>
                  <a:custGeom>
                    <a:avLst/>
                    <a:gdLst/>
                    <a:ahLst/>
                    <a:rect l="0" t="0" r="r" b="b"/>
                    <a:pathLst>
                      <a:path w="266" h="247">
                        <a:moveTo>
                          <a:pt x="0" y="116"/>
                        </a:moveTo>
                        <a:lnTo>
                          <a:pt x="0" y="116"/>
                        </a:lnTo>
                        <a:lnTo>
                          <a:pt x="0" y="117"/>
                        </a:lnTo>
                        <a:cubicBezTo>
                          <a:pt x="-1" y="138"/>
                          <a:pt x="4" y="160"/>
                          <a:pt x="15" y="179"/>
                        </a:cubicBezTo>
                        <a:cubicBezTo>
                          <a:pt x="25" y="199"/>
                          <a:pt x="41" y="215"/>
                          <a:pt x="61" y="227"/>
                        </a:cubicBezTo>
                        <a:cubicBezTo>
                          <a:pt x="81" y="239"/>
                          <a:pt x="103" y="246"/>
                          <a:pt x="127" y="247"/>
                        </a:cubicBezTo>
                        <a:cubicBezTo>
                          <a:pt x="150" y="248"/>
                          <a:pt x="173" y="244"/>
                          <a:pt x="194" y="234"/>
                        </a:cubicBezTo>
                        <a:cubicBezTo>
                          <a:pt x="215" y="224"/>
                          <a:pt x="232" y="209"/>
                          <a:pt x="245" y="191"/>
                        </a:cubicBezTo>
                        <a:cubicBezTo>
                          <a:pt x="258" y="173"/>
                          <a:pt x="265" y="152"/>
                          <a:pt x="266" y="131"/>
                        </a:cubicBezTo>
                        <a:lnTo>
                          <a:pt x="266" y="131"/>
                        </a:lnTo>
                        <a:cubicBezTo>
                          <a:pt x="266" y="130"/>
                          <a:pt x="266" y="130"/>
                          <a:pt x="266" y="130"/>
                        </a:cubicBezTo>
                        <a:cubicBezTo>
                          <a:pt x="267" y="109"/>
                          <a:pt x="262" y="87"/>
                          <a:pt x="251" y="68"/>
                        </a:cubicBezTo>
                        <a:cubicBezTo>
                          <a:pt x="241" y="48"/>
                          <a:pt x="225" y="32"/>
                          <a:pt x="205" y="20"/>
                        </a:cubicBezTo>
                        <a:cubicBezTo>
                          <a:pt x="185" y="8"/>
                          <a:pt x="163" y="1"/>
                          <a:pt x="139" y="0"/>
                        </a:cubicBezTo>
                        <a:cubicBezTo>
                          <a:pt x="116" y="-1"/>
                          <a:pt x="93" y="3"/>
                          <a:pt x="72" y="13"/>
                        </a:cubicBezTo>
                        <a:cubicBezTo>
                          <a:pt x="51" y="23"/>
                          <a:pt x="34" y="38"/>
                          <a:pt x="21" y="56"/>
                        </a:cubicBezTo>
                        <a:cubicBezTo>
                          <a:pt x="8" y="74"/>
                          <a:pt x="1" y="95"/>
                          <a:pt x="0" y="116"/>
                        </a:cubicBezTo>
                        <a:close/>
                      </a:path>
                    </a:pathLst>
                  </a:custGeom>
                  <a:solidFill>
                    <a:srgbClr val="919191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37800" bIns="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>
                    <a:off x="4994280" y="2944800"/>
                    <a:ext cx="95760" cy="88920"/>
                  </a:xfrm>
                  <a:custGeom>
                    <a:avLst/>
                    <a:gdLst/>
                    <a:ahLst/>
                    <a:rect l="0" t="0" r="r" b="b"/>
                    <a:pathLst>
                      <a:path w="266" h="247">
                        <a:moveTo>
                          <a:pt x="0" y="116"/>
                        </a:moveTo>
                        <a:lnTo>
                          <a:pt x="0" y="116"/>
                        </a:lnTo>
                        <a:lnTo>
                          <a:pt x="0" y="117"/>
                        </a:lnTo>
                        <a:cubicBezTo>
                          <a:pt x="-1" y="138"/>
                          <a:pt x="4" y="160"/>
                          <a:pt x="15" y="179"/>
                        </a:cubicBezTo>
                        <a:cubicBezTo>
                          <a:pt x="25" y="199"/>
                          <a:pt x="41" y="215"/>
                          <a:pt x="61" y="227"/>
                        </a:cubicBezTo>
                        <a:cubicBezTo>
                          <a:pt x="81" y="239"/>
                          <a:pt x="103" y="246"/>
                          <a:pt x="127" y="247"/>
                        </a:cubicBezTo>
                        <a:cubicBezTo>
                          <a:pt x="150" y="248"/>
                          <a:pt x="173" y="244"/>
                          <a:pt x="194" y="234"/>
                        </a:cubicBezTo>
                        <a:cubicBezTo>
                          <a:pt x="215" y="224"/>
                          <a:pt x="232" y="209"/>
                          <a:pt x="245" y="191"/>
                        </a:cubicBezTo>
                        <a:cubicBezTo>
                          <a:pt x="258" y="173"/>
                          <a:pt x="265" y="152"/>
                          <a:pt x="266" y="131"/>
                        </a:cubicBezTo>
                        <a:lnTo>
                          <a:pt x="266" y="131"/>
                        </a:lnTo>
                        <a:cubicBezTo>
                          <a:pt x="266" y="130"/>
                          <a:pt x="266" y="130"/>
                          <a:pt x="266" y="130"/>
                        </a:cubicBezTo>
                        <a:cubicBezTo>
                          <a:pt x="267" y="109"/>
                          <a:pt x="262" y="87"/>
                          <a:pt x="251" y="68"/>
                        </a:cubicBezTo>
                        <a:cubicBezTo>
                          <a:pt x="241" y="48"/>
                          <a:pt x="225" y="32"/>
                          <a:pt x="205" y="20"/>
                        </a:cubicBezTo>
                        <a:cubicBezTo>
                          <a:pt x="185" y="8"/>
                          <a:pt x="163" y="1"/>
                          <a:pt x="139" y="0"/>
                        </a:cubicBezTo>
                        <a:cubicBezTo>
                          <a:pt x="116" y="-1"/>
                          <a:pt x="93" y="3"/>
                          <a:pt x="72" y="13"/>
                        </a:cubicBezTo>
                        <a:cubicBezTo>
                          <a:pt x="51" y="23"/>
                          <a:pt x="34" y="38"/>
                          <a:pt x="21" y="56"/>
                        </a:cubicBezTo>
                        <a:cubicBezTo>
                          <a:pt x="8" y="74"/>
                          <a:pt x="1" y="95"/>
                          <a:pt x="0" y="116"/>
                        </a:cubicBezTo>
                        <a:close/>
                      </a:path>
                    </a:pathLst>
                  </a:custGeom>
                  <a:solidFill>
                    <a:srgbClr val="919191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37800" bIns="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 flipH="1">
                    <a:off x="5046840" y="2943360"/>
                    <a:ext cx="98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 flipH="1" flipV="1">
                    <a:off x="5045040" y="3040200"/>
                    <a:ext cx="95400" cy="1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49680" bIns="-49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>
                    <a:off x="5030640" y="2943720"/>
                    <a:ext cx="107280" cy="78840"/>
                  </a:xfrm>
                  <a:custGeom>
                    <a:avLst/>
                    <a:gdLst/>
                    <a:ahLst/>
                    <a:rect l="0" t="0" r="r" b="b"/>
                    <a:pathLst>
                      <a:path w="298" h="219">
                        <a:moveTo>
                          <a:pt x="10" y="0"/>
                        </a:moveTo>
                        <a:lnTo>
                          <a:pt x="0" y="204"/>
                        </a:lnTo>
                        <a:lnTo>
                          <a:pt x="288" y="219"/>
                        </a:lnTo>
                        <a:lnTo>
                          <a:pt x="298" y="15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919191"/>
                  </a:solidFill>
                  <a:ln w="0">
                    <a:noFill/>
                  </a:ln>
                </p:spPr>
                <p:txBody>
                  <a:bodyPr lIns="90000" rIns="90000" tIns="33840" bIns="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0" name=""/>
                <p:cNvGrpSpPr/>
                <p:nvPr/>
              </p:nvGrpSpPr>
              <p:grpSpPr>
                <a:xfrm>
                  <a:off x="4978440" y="2962440"/>
                  <a:ext cx="189360" cy="98280"/>
                  <a:chOff x="4978440" y="2962440"/>
                  <a:chExt cx="189360" cy="98280"/>
                </a:xfrm>
              </p:grpSpPr>
              <p:sp>
                <p:nvSpPr>
                  <p:cNvPr id="371" name=""/>
                  <p:cNvSpPr/>
                  <p:nvPr/>
                </p:nvSpPr>
                <p:spPr>
                  <a:xfrm>
                    <a:off x="5072040" y="2967120"/>
                    <a:ext cx="95760" cy="88920"/>
                  </a:xfrm>
                  <a:custGeom>
                    <a:avLst/>
                    <a:gdLst/>
                    <a:ahLst/>
                    <a:rect l="0" t="0" r="r" b="b"/>
                    <a:pathLst>
                      <a:path w="266" h="247">
                        <a:moveTo>
                          <a:pt x="0" y="116"/>
                        </a:moveTo>
                        <a:lnTo>
                          <a:pt x="0" y="116"/>
                        </a:lnTo>
                        <a:lnTo>
                          <a:pt x="0" y="117"/>
                        </a:lnTo>
                        <a:cubicBezTo>
                          <a:pt x="-1" y="138"/>
                          <a:pt x="4" y="160"/>
                          <a:pt x="15" y="179"/>
                        </a:cubicBezTo>
                        <a:cubicBezTo>
                          <a:pt x="25" y="199"/>
                          <a:pt x="41" y="215"/>
                          <a:pt x="61" y="227"/>
                        </a:cubicBezTo>
                        <a:cubicBezTo>
                          <a:pt x="81" y="239"/>
                          <a:pt x="103" y="246"/>
                          <a:pt x="127" y="247"/>
                        </a:cubicBezTo>
                        <a:cubicBezTo>
                          <a:pt x="150" y="248"/>
                          <a:pt x="173" y="244"/>
                          <a:pt x="194" y="234"/>
                        </a:cubicBezTo>
                        <a:cubicBezTo>
                          <a:pt x="215" y="224"/>
                          <a:pt x="232" y="209"/>
                          <a:pt x="245" y="191"/>
                        </a:cubicBezTo>
                        <a:cubicBezTo>
                          <a:pt x="258" y="173"/>
                          <a:pt x="265" y="152"/>
                          <a:pt x="266" y="131"/>
                        </a:cubicBezTo>
                        <a:lnTo>
                          <a:pt x="266" y="131"/>
                        </a:lnTo>
                        <a:cubicBezTo>
                          <a:pt x="266" y="130"/>
                          <a:pt x="266" y="130"/>
                          <a:pt x="266" y="130"/>
                        </a:cubicBezTo>
                        <a:cubicBezTo>
                          <a:pt x="267" y="109"/>
                          <a:pt x="262" y="87"/>
                          <a:pt x="251" y="68"/>
                        </a:cubicBezTo>
                        <a:cubicBezTo>
                          <a:pt x="241" y="48"/>
                          <a:pt x="225" y="32"/>
                          <a:pt x="205" y="20"/>
                        </a:cubicBezTo>
                        <a:cubicBezTo>
                          <a:pt x="185" y="8"/>
                          <a:pt x="163" y="1"/>
                          <a:pt x="139" y="0"/>
                        </a:cubicBezTo>
                        <a:cubicBezTo>
                          <a:pt x="116" y="-1"/>
                          <a:pt x="93" y="3"/>
                          <a:pt x="72" y="13"/>
                        </a:cubicBezTo>
                        <a:cubicBezTo>
                          <a:pt x="51" y="23"/>
                          <a:pt x="34" y="38"/>
                          <a:pt x="21" y="56"/>
                        </a:cubicBezTo>
                        <a:cubicBezTo>
                          <a:pt x="8" y="74"/>
                          <a:pt x="1" y="95"/>
                          <a:pt x="0" y="116"/>
                        </a:cubicBezTo>
                        <a:close/>
                      </a:path>
                    </a:pathLst>
                  </a:custGeom>
                  <a:solidFill>
                    <a:srgbClr val="919191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37800" bIns="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4978440" y="2963880"/>
                    <a:ext cx="95760" cy="88920"/>
                  </a:xfrm>
                  <a:custGeom>
                    <a:avLst/>
                    <a:gdLst/>
                    <a:ahLst/>
                    <a:rect l="0" t="0" r="r" b="b"/>
                    <a:pathLst>
                      <a:path w="266" h="247">
                        <a:moveTo>
                          <a:pt x="0" y="116"/>
                        </a:moveTo>
                        <a:lnTo>
                          <a:pt x="0" y="116"/>
                        </a:lnTo>
                        <a:lnTo>
                          <a:pt x="0" y="117"/>
                        </a:lnTo>
                        <a:cubicBezTo>
                          <a:pt x="-1" y="138"/>
                          <a:pt x="4" y="160"/>
                          <a:pt x="15" y="179"/>
                        </a:cubicBezTo>
                        <a:cubicBezTo>
                          <a:pt x="25" y="199"/>
                          <a:pt x="41" y="215"/>
                          <a:pt x="61" y="227"/>
                        </a:cubicBezTo>
                        <a:cubicBezTo>
                          <a:pt x="81" y="239"/>
                          <a:pt x="103" y="246"/>
                          <a:pt x="127" y="247"/>
                        </a:cubicBezTo>
                        <a:cubicBezTo>
                          <a:pt x="150" y="248"/>
                          <a:pt x="173" y="244"/>
                          <a:pt x="194" y="234"/>
                        </a:cubicBezTo>
                        <a:cubicBezTo>
                          <a:pt x="215" y="224"/>
                          <a:pt x="232" y="209"/>
                          <a:pt x="245" y="191"/>
                        </a:cubicBezTo>
                        <a:cubicBezTo>
                          <a:pt x="258" y="173"/>
                          <a:pt x="265" y="152"/>
                          <a:pt x="266" y="131"/>
                        </a:cubicBezTo>
                        <a:lnTo>
                          <a:pt x="266" y="131"/>
                        </a:lnTo>
                        <a:cubicBezTo>
                          <a:pt x="266" y="130"/>
                          <a:pt x="266" y="130"/>
                          <a:pt x="266" y="130"/>
                        </a:cubicBezTo>
                        <a:cubicBezTo>
                          <a:pt x="267" y="109"/>
                          <a:pt x="262" y="87"/>
                          <a:pt x="251" y="68"/>
                        </a:cubicBezTo>
                        <a:cubicBezTo>
                          <a:pt x="241" y="48"/>
                          <a:pt x="225" y="32"/>
                          <a:pt x="205" y="20"/>
                        </a:cubicBezTo>
                        <a:cubicBezTo>
                          <a:pt x="185" y="8"/>
                          <a:pt x="163" y="1"/>
                          <a:pt x="139" y="0"/>
                        </a:cubicBezTo>
                        <a:cubicBezTo>
                          <a:pt x="116" y="-1"/>
                          <a:pt x="93" y="3"/>
                          <a:pt x="72" y="13"/>
                        </a:cubicBezTo>
                        <a:cubicBezTo>
                          <a:pt x="51" y="23"/>
                          <a:pt x="34" y="38"/>
                          <a:pt x="21" y="56"/>
                        </a:cubicBezTo>
                        <a:cubicBezTo>
                          <a:pt x="8" y="74"/>
                          <a:pt x="1" y="95"/>
                          <a:pt x="0" y="116"/>
                        </a:cubicBezTo>
                        <a:close/>
                      </a:path>
                    </a:pathLst>
                  </a:custGeom>
                  <a:solidFill>
                    <a:srgbClr val="919191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37800" bIns="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 flipH="1">
                    <a:off x="5033880" y="2962440"/>
                    <a:ext cx="921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 flipH="1" flipV="1">
                    <a:off x="5035680" y="3059280"/>
                    <a:ext cx="91800" cy="1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49680" bIns="-49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5014800" y="2967480"/>
                    <a:ext cx="110160" cy="74160"/>
                  </a:xfrm>
                  <a:custGeom>
                    <a:avLst/>
                    <a:gdLst/>
                    <a:ahLst/>
                    <a:rect l="0" t="0" r="r" b="b"/>
                    <a:pathLst>
                      <a:path w="306" h="206">
                        <a:moveTo>
                          <a:pt x="9" y="0"/>
                        </a:moveTo>
                        <a:lnTo>
                          <a:pt x="0" y="191"/>
                        </a:lnTo>
                        <a:lnTo>
                          <a:pt x="297" y="206"/>
                        </a:lnTo>
                        <a:lnTo>
                          <a:pt x="306" y="15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919191"/>
                  </a:solidFill>
                  <a:ln w="0">
                    <a:noFill/>
                  </a:ln>
                </p:spPr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76" name=""/>
              <p:cNvSpPr/>
              <p:nvPr/>
            </p:nvSpPr>
            <p:spPr>
              <a:xfrm>
                <a:off x="2725560" y="2760840"/>
                <a:ext cx="2619720" cy="354240"/>
              </a:xfrm>
              <a:custGeom>
                <a:avLst/>
                <a:gdLst/>
                <a:ahLst/>
                <a:rect l="0" t="0" r="r" b="b"/>
                <a:pathLst>
                  <a:path fill="none" w="7277" h="984">
                    <a:moveTo>
                      <a:pt x="0" y="0"/>
                    </a:moveTo>
                    <a:lnTo>
                      <a:pt x="7277" y="347"/>
                    </a:lnTo>
                    <a:lnTo>
                      <a:pt x="7277" y="984"/>
                    </a:lnTo>
                    <a:lnTo>
                      <a:pt x="0" y="615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2754360" y="2841480"/>
                <a:ext cx="61920" cy="63360"/>
              </a:xfrm>
              <a:prstGeom prst="ellipse">
                <a:avLst/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235480" y="2959200"/>
                <a:ext cx="60480" cy="63360"/>
              </a:xfrm>
              <a:prstGeom prst="ellipse">
                <a:avLst/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9" name=""/>
              <p:cNvGrpSpPr/>
              <p:nvPr/>
            </p:nvGrpSpPr>
            <p:grpSpPr>
              <a:xfrm>
                <a:off x="4726080" y="2935440"/>
                <a:ext cx="206640" cy="117360"/>
                <a:chOff x="4726080" y="2935440"/>
                <a:chExt cx="206640" cy="117360"/>
              </a:xfrm>
            </p:grpSpPr>
            <p:grpSp>
              <p:nvGrpSpPr>
                <p:cNvPr id="380" name=""/>
                <p:cNvGrpSpPr/>
                <p:nvPr/>
              </p:nvGrpSpPr>
              <p:grpSpPr>
                <a:xfrm>
                  <a:off x="4741920" y="2935440"/>
                  <a:ext cx="190800" cy="98280"/>
                  <a:chOff x="4741920" y="2935440"/>
                  <a:chExt cx="190800" cy="98280"/>
                </a:xfrm>
              </p:grpSpPr>
              <p:sp>
                <p:nvSpPr>
                  <p:cNvPr id="381" name=""/>
                  <p:cNvSpPr/>
                  <p:nvPr/>
                </p:nvSpPr>
                <p:spPr>
                  <a:xfrm>
                    <a:off x="4835520" y="2940120"/>
                    <a:ext cx="97200" cy="88920"/>
                  </a:xfrm>
                  <a:custGeom>
                    <a:avLst/>
                    <a:gdLst/>
                    <a:ahLst/>
                    <a:rect l="0" t="0" r="r" b="b"/>
                    <a:pathLst>
                      <a:path w="270" h="247">
                        <a:moveTo>
                          <a:pt x="0" y="116"/>
                        </a:moveTo>
                        <a:lnTo>
                          <a:pt x="0" y="116"/>
                        </a:lnTo>
                        <a:cubicBezTo>
                          <a:pt x="-1" y="138"/>
                          <a:pt x="4" y="160"/>
                          <a:pt x="15" y="179"/>
                        </a:cubicBezTo>
                        <a:cubicBezTo>
                          <a:pt x="26" y="199"/>
                          <a:pt x="42" y="215"/>
                          <a:pt x="62" y="227"/>
                        </a:cubicBezTo>
                        <a:cubicBezTo>
                          <a:pt x="82" y="239"/>
                          <a:pt x="105" y="246"/>
                          <a:pt x="129" y="247"/>
                        </a:cubicBezTo>
                        <a:cubicBezTo>
                          <a:pt x="152" y="248"/>
                          <a:pt x="176" y="244"/>
                          <a:pt x="197" y="234"/>
                        </a:cubicBezTo>
                        <a:cubicBezTo>
                          <a:pt x="218" y="224"/>
                          <a:pt x="236" y="210"/>
                          <a:pt x="249" y="191"/>
                        </a:cubicBezTo>
                        <a:cubicBezTo>
                          <a:pt x="262" y="173"/>
                          <a:pt x="269" y="152"/>
                          <a:pt x="270" y="131"/>
                        </a:cubicBezTo>
                        <a:lnTo>
                          <a:pt x="270" y="131"/>
                        </a:lnTo>
                        <a:lnTo>
                          <a:pt x="270" y="131"/>
                        </a:lnTo>
                        <a:cubicBezTo>
                          <a:pt x="271" y="109"/>
                          <a:pt x="266" y="87"/>
                          <a:pt x="255" y="68"/>
                        </a:cubicBezTo>
                        <a:cubicBezTo>
                          <a:pt x="244" y="48"/>
                          <a:pt x="228" y="32"/>
                          <a:pt x="208" y="20"/>
                        </a:cubicBezTo>
                        <a:cubicBezTo>
                          <a:pt x="188" y="8"/>
                          <a:pt x="165" y="1"/>
                          <a:pt x="141" y="0"/>
                        </a:cubicBezTo>
                        <a:cubicBezTo>
                          <a:pt x="118" y="-1"/>
                          <a:pt x="94" y="3"/>
                          <a:pt x="73" y="13"/>
                        </a:cubicBezTo>
                        <a:cubicBezTo>
                          <a:pt x="52" y="23"/>
                          <a:pt x="34" y="37"/>
                          <a:pt x="21" y="56"/>
                        </a:cubicBezTo>
                        <a:cubicBezTo>
                          <a:pt x="8" y="74"/>
                          <a:pt x="1" y="95"/>
                          <a:pt x="0" y="116"/>
                        </a:cubicBezTo>
                        <a:close/>
                      </a:path>
                    </a:pathLst>
                  </a:custGeom>
                  <a:solidFill>
                    <a:srgbClr val="919191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37800" bIns="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>
                    <a:off x="4741920" y="2936880"/>
                    <a:ext cx="97200" cy="88920"/>
                  </a:xfrm>
                  <a:custGeom>
                    <a:avLst/>
                    <a:gdLst/>
                    <a:ahLst/>
                    <a:rect l="0" t="0" r="r" b="b"/>
                    <a:pathLst>
                      <a:path w="270" h="247">
                        <a:moveTo>
                          <a:pt x="0" y="116"/>
                        </a:moveTo>
                        <a:lnTo>
                          <a:pt x="0" y="116"/>
                        </a:lnTo>
                        <a:cubicBezTo>
                          <a:pt x="-1" y="138"/>
                          <a:pt x="4" y="160"/>
                          <a:pt x="15" y="179"/>
                        </a:cubicBezTo>
                        <a:cubicBezTo>
                          <a:pt x="26" y="199"/>
                          <a:pt x="42" y="215"/>
                          <a:pt x="62" y="227"/>
                        </a:cubicBezTo>
                        <a:cubicBezTo>
                          <a:pt x="82" y="239"/>
                          <a:pt x="105" y="246"/>
                          <a:pt x="129" y="247"/>
                        </a:cubicBezTo>
                        <a:cubicBezTo>
                          <a:pt x="152" y="248"/>
                          <a:pt x="176" y="244"/>
                          <a:pt x="197" y="234"/>
                        </a:cubicBezTo>
                        <a:cubicBezTo>
                          <a:pt x="218" y="224"/>
                          <a:pt x="236" y="210"/>
                          <a:pt x="249" y="191"/>
                        </a:cubicBezTo>
                        <a:cubicBezTo>
                          <a:pt x="262" y="173"/>
                          <a:pt x="269" y="152"/>
                          <a:pt x="270" y="131"/>
                        </a:cubicBezTo>
                        <a:lnTo>
                          <a:pt x="270" y="131"/>
                        </a:lnTo>
                        <a:lnTo>
                          <a:pt x="270" y="131"/>
                        </a:lnTo>
                        <a:cubicBezTo>
                          <a:pt x="271" y="109"/>
                          <a:pt x="266" y="87"/>
                          <a:pt x="255" y="68"/>
                        </a:cubicBezTo>
                        <a:cubicBezTo>
                          <a:pt x="244" y="48"/>
                          <a:pt x="228" y="32"/>
                          <a:pt x="208" y="20"/>
                        </a:cubicBezTo>
                        <a:cubicBezTo>
                          <a:pt x="188" y="8"/>
                          <a:pt x="165" y="1"/>
                          <a:pt x="141" y="0"/>
                        </a:cubicBezTo>
                        <a:cubicBezTo>
                          <a:pt x="118" y="-1"/>
                          <a:pt x="94" y="3"/>
                          <a:pt x="73" y="13"/>
                        </a:cubicBezTo>
                        <a:cubicBezTo>
                          <a:pt x="52" y="23"/>
                          <a:pt x="34" y="37"/>
                          <a:pt x="21" y="56"/>
                        </a:cubicBezTo>
                        <a:cubicBezTo>
                          <a:pt x="8" y="74"/>
                          <a:pt x="1" y="95"/>
                          <a:pt x="0" y="116"/>
                        </a:cubicBezTo>
                        <a:close/>
                      </a:path>
                    </a:pathLst>
                  </a:custGeom>
                  <a:solidFill>
                    <a:srgbClr val="919191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37800" bIns="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 flipH="1">
                    <a:off x="4795920" y="2935440"/>
                    <a:ext cx="98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 flipH="1" flipV="1">
                    <a:off x="4794120" y="3032280"/>
                    <a:ext cx="95400" cy="1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49680" bIns="-49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4778280" y="2935800"/>
                    <a:ext cx="108720" cy="78840"/>
                  </a:xfrm>
                  <a:custGeom>
                    <a:avLst/>
                    <a:gdLst/>
                    <a:ahLst/>
                    <a:rect l="0" t="0" r="r" b="b"/>
                    <a:pathLst>
                      <a:path w="302" h="219">
                        <a:moveTo>
                          <a:pt x="10" y="0"/>
                        </a:moveTo>
                        <a:lnTo>
                          <a:pt x="0" y="204"/>
                        </a:lnTo>
                        <a:lnTo>
                          <a:pt x="291" y="219"/>
                        </a:lnTo>
                        <a:lnTo>
                          <a:pt x="302" y="15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919191"/>
                  </a:solidFill>
                  <a:ln w="0">
                    <a:noFill/>
                  </a:ln>
                </p:spPr>
                <p:txBody>
                  <a:bodyPr lIns="90000" rIns="90000" tIns="33840" bIns="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6" name=""/>
                <p:cNvGrpSpPr/>
                <p:nvPr/>
              </p:nvGrpSpPr>
              <p:grpSpPr>
                <a:xfrm>
                  <a:off x="4726080" y="2954160"/>
                  <a:ext cx="190800" cy="98640"/>
                  <a:chOff x="4726080" y="2954160"/>
                  <a:chExt cx="190800" cy="98640"/>
                </a:xfrm>
              </p:grpSpPr>
              <p:sp>
                <p:nvSpPr>
                  <p:cNvPr id="387" name=""/>
                  <p:cNvSpPr/>
                  <p:nvPr/>
                </p:nvSpPr>
                <p:spPr>
                  <a:xfrm>
                    <a:off x="4819680" y="2959200"/>
                    <a:ext cx="97200" cy="88920"/>
                  </a:xfrm>
                  <a:custGeom>
                    <a:avLst/>
                    <a:gdLst/>
                    <a:ahLst/>
                    <a:rect l="0" t="0" r="r" b="b"/>
                    <a:pathLst>
                      <a:path w="270" h="247">
                        <a:moveTo>
                          <a:pt x="0" y="116"/>
                        </a:moveTo>
                        <a:lnTo>
                          <a:pt x="0" y="116"/>
                        </a:lnTo>
                        <a:cubicBezTo>
                          <a:pt x="-1" y="138"/>
                          <a:pt x="4" y="160"/>
                          <a:pt x="15" y="179"/>
                        </a:cubicBezTo>
                        <a:cubicBezTo>
                          <a:pt x="26" y="199"/>
                          <a:pt x="42" y="215"/>
                          <a:pt x="62" y="227"/>
                        </a:cubicBezTo>
                        <a:cubicBezTo>
                          <a:pt x="82" y="239"/>
                          <a:pt x="105" y="246"/>
                          <a:pt x="129" y="247"/>
                        </a:cubicBezTo>
                        <a:cubicBezTo>
                          <a:pt x="152" y="248"/>
                          <a:pt x="176" y="244"/>
                          <a:pt x="197" y="234"/>
                        </a:cubicBezTo>
                        <a:cubicBezTo>
                          <a:pt x="218" y="224"/>
                          <a:pt x="236" y="210"/>
                          <a:pt x="249" y="191"/>
                        </a:cubicBezTo>
                        <a:cubicBezTo>
                          <a:pt x="262" y="173"/>
                          <a:pt x="269" y="152"/>
                          <a:pt x="270" y="131"/>
                        </a:cubicBezTo>
                        <a:lnTo>
                          <a:pt x="270" y="131"/>
                        </a:lnTo>
                        <a:lnTo>
                          <a:pt x="270" y="131"/>
                        </a:lnTo>
                        <a:cubicBezTo>
                          <a:pt x="271" y="109"/>
                          <a:pt x="266" y="87"/>
                          <a:pt x="255" y="68"/>
                        </a:cubicBezTo>
                        <a:cubicBezTo>
                          <a:pt x="244" y="48"/>
                          <a:pt x="228" y="32"/>
                          <a:pt x="208" y="20"/>
                        </a:cubicBezTo>
                        <a:cubicBezTo>
                          <a:pt x="188" y="8"/>
                          <a:pt x="165" y="1"/>
                          <a:pt x="141" y="0"/>
                        </a:cubicBezTo>
                        <a:cubicBezTo>
                          <a:pt x="118" y="-1"/>
                          <a:pt x="94" y="3"/>
                          <a:pt x="73" y="13"/>
                        </a:cubicBezTo>
                        <a:cubicBezTo>
                          <a:pt x="52" y="23"/>
                          <a:pt x="34" y="37"/>
                          <a:pt x="21" y="56"/>
                        </a:cubicBezTo>
                        <a:cubicBezTo>
                          <a:pt x="8" y="74"/>
                          <a:pt x="1" y="95"/>
                          <a:pt x="0" y="116"/>
                        </a:cubicBezTo>
                        <a:close/>
                      </a:path>
                    </a:pathLst>
                  </a:custGeom>
                  <a:solidFill>
                    <a:srgbClr val="919191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37800" bIns="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>
                    <a:off x="4726080" y="2955960"/>
                    <a:ext cx="97200" cy="89280"/>
                  </a:xfrm>
                  <a:custGeom>
                    <a:avLst/>
                    <a:gdLst/>
                    <a:ahLst/>
                    <a:rect l="0" t="0" r="r" b="b"/>
                    <a:pathLst>
                      <a:path w="270" h="248">
                        <a:moveTo>
                          <a:pt x="0" y="117"/>
                        </a:moveTo>
                        <a:lnTo>
                          <a:pt x="0" y="117"/>
                        </a:lnTo>
                        <a:cubicBezTo>
                          <a:pt x="-1" y="139"/>
                          <a:pt x="4" y="160"/>
                          <a:pt x="15" y="180"/>
                        </a:cubicBezTo>
                        <a:cubicBezTo>
                          <a:pt x="26" y="199"/>
                          <a:pt x="42" y="216"/>
                          <a:pt x="62" y="228"/>
                        </a:cubicBezTo>
                        <a:cubicBezTo>
                          <a:pt x="82" y="240"/>
                          <a:pt x="105" y="247"/>
                          <a:pt x="129" y="248"/>
                        </a:cubicBezTo>
                        <a:cubicBezTo>
                          <a:pt x="152" y="249"/>
                          <a:pt x="176" y="245"/>
                          <a:pt x="197" y="235"/>
                        </a:cubicBezTo>
                        <a:cubicBezTo>
                          <a:pt x="218" y="225"/>
                          <a:pt x="236" y="210"/>
                          <a:pt x="249" y="192"/>
                        </a:cubicBezTo>
                        <a:cubicBezTo>
                          <a:pt x="262" y="174"/>
                          <a:pt x="269" y="153"/>
                          <a:pt x="270" y="131"/>
                        </a:cubicBezTo>
                        <a:lnTo>
                          <a:pt x="270" y="131"/>
                        </a:lnTo>
                        <a:lnTo>
                          <a:pt x="270" y="131"/>
                        </a:lnTo>
                        <a:cubicBezTo>
                          <a:pt x="271" y="109"/>
                          <a:pt x="266" y="88"/>
                          <a:pt x="255" y="68"/>
                        </a:cubicBezTo>
                        <a:cubicBezTo>
                          <a:pt x="244" y="49"/>
                          <a:pt x="228" y="32"/>
                          <a:pt x="208" y="20"/>
                        </a:cubicBezTo>
                        <a:cubicBezTo>
                          <a:pt x="188" y="8"/>
                          <a:pt x="165" y="1"/>
                          <a:pt x="141" y="0"/>
                        </a:cubicBezTo>
                        <a:cubicBezTo>
                          <a:pt x="118" y="-1"/>
                          <a:pt x="94" y="3"/>
                          <a:pt x="73" y="13"/>
                        </a:cubicBezTo>
                        <a:cubicBezTo>
                          <a:pt x="52" y="23"/>
                          <a:pt x="34" y="38"/>
                          <a:pt x="21" y="56"/>
                        </a:cubicBezTo>
                        <a:cubicBezTo>
                          <a:pt x="8" y="74"/>
                          <a:pt x="1" y="95"/>
                          <a:pt x="0" y="117"/>
                        </a:cubicBezTo>
                        <a:close/>
                      </a:path>
                    </a:pathLst>
                  </a:custGeom>
                  <a:solidFill>
                    <a:srgbClr val="919191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38160" bIns="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 flipH="1">
                    <a:off x="4782960" y="2954160"/>
                    <a:ext cx="921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 flipH="1" flipV="1">
                    <a:off x="4784760" y="3051000"/>
                    <a:ext cx="92160" cy="1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49320" bIns="-49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4762440" y="2959560"/>
                    <a:ext cx="111600" cy="74160"/>
                  </a:xfrm>
                  <a:custGeom>
                    <a:avLst/>
                    <a:gdLst/>
                    <a:ahLst/>
                    <a:rect l="0" t="0" r="r" b="b"/>
                    <a:pathLst>
                      <a:path w="310" h="206">
                        <a:moveTo>
                          <a:pt x="9" y="0"/>
                        </a:moveTo>
                        <a:lnTo>
                          <a:pt x="0" y="190"/>
                        </a:lnTo>
                        <a:lnTo>
                          <a:pt x="300" y="206"/>
                        </a:lnTo>
                        <a:lnTo>
                          <a:pt x="310" y="15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919191"/>
                  </a:solidFill>
                  <a:ln w="0">
                    <a:noFill/>
                  </a:ln>
                </p:spPr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92" name=""/>
              <p:cNvGrpSpPr/>
              <p:nvPr/>
            </p:nvGrpSpPr>
            <p:grpSpPr>
              <a:xfrm>
                <a:off x="4194000" y="2892600"/>
                <a:ext cx="497160" cy="149400"/>
                <a:chOff x="4194000" y="2892600"/>
                <a:chExt cx="497160" cy="149400"/>
              </a:xfrm>
            </p:grpSpPr>
            <p:sp>
              <p:nvSpPr>
                <p:cNvPr id="393" name=""/>
                <p:cNvSpPr/>
                <p:nvPr/>
              </p:nvSpPr>
              <p:spPr>
                <a:xfrm>
                  <a:off x="4194000" y="2892600"/>
                  <a:ext cx="109800" cy="132120"/>
                </a:xfrm>
                <a:custGeom>
                  <a:avLst/>
                  <a:gdLst/>
                  <a:ahLst/>
                  <a:rect l="0" t="0" r="r" b="b"/>
                  <a:pathLst>
                    <a:path w="305" h="367">
                      <a:moveTo>
                        <a:pt x="0" y="0"/>
                      </a:moveTo>
                      <a:lnTo>
                        <a:pt x="305" y="9"/>
                      </a:lnTo>
                      <a:lnTo>
                        <a:pt x="305" y="294"/>
                      </a:lnTo>
                      <a:lnTo>
                        <a:pt x="232" y="294"/>
                      </a:lnTo>
                      <a:lnTo>
                        <a:pt x="232" y="367"/>
                      </a:lnTo>
                      <a:lnTo>
                        <a:pt x="81" y="353"/>
                      </a:lnTo>
                      <a:lnTo>
                        <a:pt x="81" y="281"/>
                      </a:lnTo>
                      <a:lnTo>
                        <a:pt x="0" y="28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4322880" y="2900520"/>
                  <a:ext cx="109800" cy="130680"/>
                </a:xfrm>
                <a:custGeom>
                  <a:avLst/>
                  <a:gdLst/>
                  <a:ahLst/>
                  <a:rect l="0" t="0" r="r" b="b"/>
                  <a:pathLst>
                    <a:path w="305" h="363">
                      <a:moveTo>
                        <a:pt x="0" y="0"/>
                      </a:moveTo>
                      <a:lnTo>
                        <a:pt x="305" y="9"/>
                      </a:lnTo>
                      <a:lnTo>
                        <a:pt x="305" y="291"/>
                      </a:lnTo>
                      <a:lnTo>
                        <a:pt x="232" y="291"/>
                      </a:lnTo>
                      <a:lnTo>
                        <a:pt x="232" y="363"/>
                      </a:lnTo>
                      <a:lnTo>
                        <a:pt x="81" y="350"/>
                      </a:lnTo>
                      <a:lnTo>
                        <a:pt x="81" y="277"/>
                      </a:lnTo>
                      <a:lnTo>
                        <a:pt x="0" y="27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4452840" y="2903400"/>
                  <a:ext cx="109800" cy="130680"/>
                </a:xfrm>
                <a:custGeom>
                  <a:avLst/>
                  <a:gdLst/>
                  <a:ahLst/>
                  <a:rect l="0" t="0" r="r" b="b"/>
                  <a:pathLst>
                    <a:path w="305" h="363">
                      <a:moveTo>
                        <a:pt x="0" y="0"/>
                      </a:moveTo>
                      <a:lnTo>
                        <a:pt x="305" y="9"/>
                      </a:lnTo>
                      <a:lnTo>
                        <a:pt x="305" y="291"/>
                      </a:lnTo>
                      <a:lnTo>
                        <a:pt x="232" y="291"/>
                      </a:lnTo>
                      <a:lnTo>
                        <a:pt x="232" y="363"/>
                      </a:lnTo>
                      <a:lnTo>
                        <a:pt x="81" y="350"/>
                      </a:lnTo>
                      <a:lnTo>
                        <a:pt x="81" y="277"/>
                      </a:lnTo>
                      <a:lnTo>
                        <a:pt x="0" y="27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4581360" y="2909880"/>
                  <a:ext cx="109800" cy="132120"/>
                </a:xfrm>
                <a:custGeom>
                  <a:avLst/>
                  <a:gdLst/>
                  <a:ahLst/>
                  <a:rect l="0" t="0" r="r" b="b"/>
                  <a:pathLst>
                    <a:path w="305" h="367">
                      <a:moveTo>
                        <a:pt x="0" y="0"/>
                      </a:moveTo>
                      <a:lnTo>
                        <a:pt x="305" y="9"/>
                      </a:lnTo>
                      <a:lnTo>
                        <a:pt x="305" y="294"/>
                      </a:lnTo>
                      <a:lnTo>
                        <a:pt x="232" y="294"/>
                      </a:lnTo>
                      <a:lnTo>
                        <a:pt x="232" y="367"/>
                      </a:lnTo>
                      <a:lnTo>
                        <a:pt x="81" y="353"/>
                      </a:lnTo>
                      <a:lnTo>
                        <a:pt x="81" y="281"/>
                      </a:lnTo>
                      <a:lnTo>
                        <a:pt x="0" y="28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7" name=""/>
              <p:cNvGrpSpPr/>
              <p:nvPr/>
            </p:nvGrpSpPr>
            <p:grpSpPr>
              <a:xfrm>
                <a:off x="3633840" y="2862360"/>
                <a:ext cx="497160" cy="151200"/>
                <a:chOff x="3633840" y="2862360"/>
                <a:chExt cx="497160" cy="15120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3633840" y="2862360"/>
                  <a:ext cx="109800" cy="132120"/>
                </a:xfrm>
                <a:custGeom>
                  <a:avLst/>
                  <a:gdLst/>
                  <a:ahLst/>
                  <a:rect l="0" t="0" r="r" b="b"/>
                  <a:pathLst>
                    <a:path w="305" h="367">
                      <a:moveTo>
                        <a:pt x="0" y="0"/>
                      </a:moveTo>
                      <a:lnTo>
                        <a:pt x="305" y="9"/>
                      </a:lnTo>
                      <a:lnTo>
                        <a:pt x="305" y="294"/>
                      </a:lnTo>
                      <a:lnTo>
                        <a:pt x="232" y="294"/>
                      </a:lnTo>
                      <a:lnTo>
                        <a:pt x="232" y="367"/>
                      </a:lnTo>
                      <a:lnTo>
                        <a:pt x="81" y="353"/>
                      </a:lnTo>
                      <a:lnTo>
                        <a:pt x="81" y="281"/>
                      </a:lnTo>
                      <a:lnTo>
                        <a:pt x="0" y="28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3762360" y="2870280"/>
                  <a:ext cx="109800" cy="132120"/>
                </a:xfrm>
                <a:custGeom>
                  <a:avLst/>
                  <a:gdLst/>
                  <a:ahLst/>
                  <a:rect l="0" t="0" r="r" b="b"/>
                  <a:pathLst>
                    <a:path w="305" h="367">
                      <a:moveTo>
                        <a:pt x="0" y="0"/>
                      </a:moveTo>
                      <a:lnTo>
                        <a:pt x="305" y="9"/>
                      </a:lnTo>
                      <a:lnTo>
                        <a:pt x="305" y="294"/>
                      </a:lnTo>
                      <a:lnTo>
                        <a:pt x="232" y="294"/>
                      </a:lnTo>
                      <a:lnTo>
                        <a:pt x="232" y="367"/>
                      </a:lnTo>
                      <a:lnTo>
                        <a:pt x="81" y="353"/>
                      </a:lnTo>
                      <a:lnTo>
                        <a:pt x="81" y="281"/>
                      </a:lnTo>
                      <a:lnTo>
                        <a:pt x="0" y="28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3892680" y="2873520"/>
                  <a:ext cx="109800" cy="132120"/>
                </a:xfrm>
                <a:custGeom>
                  <a:avLst/>
                  <a:gdLst/>
                  <a:ahLst/>
                  <a:rect l="0" t="0" r="r" b="b"/>
                  <a:pathLst>
                    <a:path w="305" h="367">
                      <a:moveTo>
                        <a:pt x="0" y="0"/>
                      </a:moveTo>
                      <a:lnTo>
                        <a:pt x="305" y="9"/>
                      </a:lnTo>
                      <a:lnTo>
                        <a:pt x="305" y="294"/>
                      </a:lnTo>
                      <a:lnTo>
                        <a:pt x="232" y="294"/>
                      </a:lnTo>
                      <a:lnTo>
                        <a:pt x="232" y="367"/>
                      </a:lnTo>
                      <a:lnTo>
                        <a:pt x="81" y="353"/>
                      </a:lnTo>
                      <a:lnTo>
                        <a:pt x="81" y="281"/>
                      </a:lnTo>
                      <a:lnTo>
                        <a:pt x="0" y="28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4021200" y="2881440"/>
                  <a:ext cx="109800" cy="132120"/>
                </a:xfrm>
                <a:custGeom>
                  <a:avLst/>
                  <a:gdLst/>
                  <a:ahLst/>
                  <a:rect l="0" t="0" r="r" b="b"/>
                  <a:pathLst>
                    <a:path w="305" h="367">
                      <a:moveTo>
                        <a:pt x="0" y="0"/>
                      </a:moveTo>
                      <a:lnTo>
                        <a:pt x="305" y="9"/>
                      </a:lnTo>
                      <a:lnTo>
                        <a:pt x="305" y="294"/>
                      </a:lnTo>
                      <a:lnTo>
                        <a:pt x="232" y="294"/>
                      </a:lnTo>
                      <a:lnTo>
                        <a:pt x="232" y="367"/>
                      </a:lnTo>
                      <a:lnTo>
                        <a:pt x="81" y="353"/>
                      </a:lnTo>
                      <a:lnTo>
                        <a:pt x="81" y="281"/>
                      </a:lnTo>
                      <a:lnTo>
                        <a:pt x="0" y="28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2" name=""/>
              <p:cNvGrpSpPr/>
              <p:nvPr/>
            </p:nvGrpSpPr>
            <p:grpSpPr>
              <a:xfrm>
                <a:off x="3079800" y="2833560"/>
                <a:ext cx="497160" cy="149760"/>
                <a:chOff x="3079800" y="2833560"/>
                <a:chExt cx="497160" cy="14976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3079800" y="2833560"/>
                  <a:ext cx="109800" cy="132120"/>
                </a:xfrm>
                <a:custGeom>
                  <a:avLst/>
                  <a:gdLst/>
                  <a:ahLst/>
                  <a:rect l="0" t="0" r="r" b="b"/>
                  <a:pathLst>
                    <a:path w="305" h="367">
                      <a:moveTo>
                        <a:pt x="0" y="0"/>
                      </a:moveTo>
                      <a:lnTo>
                        <a:pt x="305" y="9"/>
                      </a:lnTo>
                      <a:lnTo>
                        <a:pt x="305" y="294"/>
                      </a:lnTo>
                      <a:lnTo>
                        <a:pt x="232" y="294"/>
                      </a:lnTo>
                      <a:lnTo>
                        <a:pt x="232" y="367"/>
                      </a:lnTo>
                      <a:lnTo>
                        <a:pt x="81" y="353"/>
                      </a:lnTo>
                      <a:lnTo>
                        <a:pt x="81" y="281"/>
                      </a:lnTo>
                      <a:lnTo>
                        <a:pt x="0" y="28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3208320" y="2841480"/>
                  <a:ext cx="109800" cy="130680"/>
                </a:xfrm>
                <a:custGeom>
                  <a:avLst/>
                  <a:gdLst/>
                  <a:ahLst/>
                  <a:rect l="0" t="0" r="r" b="b"/>
                  <a:pathLst>
                    <a:path w="305" h="363">
                      <a:moveTo>
                        <a:pt x="0" y="0"/>
                      </a:moveTo>
                      <a:lnTo>
                        <a:pt x="305" y="9"/>
                      </a:lnTo>
                      <a:lnTo>
                        <a:pt x="305" y="291"/>
                      </a:lnTo>
                      <a:lnTo>
                        <a:pt x="232" y="291"/>
                      </a:lnTo>
                      <a:lnTo>
                        <a:pt x="232" y="363"/>
                      </a:lnTo>
                      <a:lnTo>
                        <a:pt x="81" y="350"/>
                      </a:lnTo>
                      <a:lnTo>
                        <a:pt x="81" y="277"/>
                      </a:lnTo>
                      <a:lnTo>
                        <a:pt x="0" y="27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3338640" y="2844720"/>
                  <a:ext cx="109800" cy="130680"/>
                </a:xfrm>
                <a:custGeom>
                  <a:avLst/>
                  <a:gdLst/>
                  <a:ahLst/>
                  <a:rect l="0" t="0" r="r" b="b"/>
                  <a:pathLst>
                    <a:path w="305" h="363">
                      <a:moveTo>
                        <a:pt x="0" y="0"/>
                      </a:moveTo>
                      <a:lnTo>
                        <a:pt x="305" y="9"/>
                      </a:lnTo>
                      <a:lnTo>
                        <a:pt x="305" y="291"/>
                      </a:lnTo>
                      <a:lnTo>
                        <a:pt x="232" y="291"/>
                      </a:lnTo>
                      <a:lnTo>
                        <a:pt x="232" y="363"/>
                      </a:lnTo>
                      <a:lnTo>
                        <a:pt x="81" y="350"/>
                      </a:lnTo>
                      <a:lnTo>
                        <a:pt x="81" y="277"/>
                      </a:lnTo>
                      <a:lnTo>
                        <a:pt x="0" y="27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3467160" y="2851200"/>
                  <a:ext cx="109800" cy="132120"/>
                </a:xfrm>
                <a:custGeom>
                  <a:avLst/>
                  <a:gdLst/>
                  <a:ahLst/>
                  <a:rect l="0" t="0" r="r" b="b"/>
                  <a:pathLst>
                    <a:path w="305" h="367">
                      <a:moveTo>
                        <a:pt x="0" y="0"/>
                      </a:moveTo>
                      <a:lnTo>
                        <a:pt x="305" y="9"/>
                      </a:lnTo>
                      <a:lnTo>
                        <a:pt x="305" y="294"/>
                      </a:lnTo>
                      <a:lnTo>
                        <a:pt x="232" y="294"/>
                      </a:lnTo>
                      <a:lnTo>
                        <a:pt x="232" y="367"/>
                      </a:lnTo>
                      <a:lnTo>
                        <a:pt x="81" y="353"/>
                      </a:lnTo>
                      <a:lnTo>
                        <a:pt x="81" y="281"/>
                      </a:lnTo>
                      <a:lnTo>
                        <a:pt x="0" y="28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7" name=""/>
              <p:cNvSpPr/>
              <p:nvPr/>
            </p:nvSpPr>
            <p:spPr>
              <a:xfrm>
                <a:off x="2860560" y="2825640"/>
                <a:ext cx="109800" cy="132120"/>
              </a:xfrm>
              <a:custGeom>
                <a:avLst/>
                <a:gdLst/>
                <a:ahLst/>
                <a:rect l="0" t="0" r="r" b="b"/>
                <a:pathLst>
                  <a:path w="305" h="367">
                    <a:moveTo>
                      <a:pt x="0" y="0"/>
                    </a:moveTo>
                    <a:lnTo>
                      <a:pt x="305" y="9"/>
                    </a:lnTo>
                    <a:lnTo>
                      <a:pt x="305" y="294"/>
                    </a:lnTo>
                    <a:lnTo>
                      <a:pt x="232" y="294"/>
                    </a:lnTo>
                    <a:lnTo>
                      <a:pt x="232" y="367"/>
                    </a:lnTo>
                    <a:lnTo>
                      <a:pt x="81" y="353"/>
                    </a:lnTo>
                    <a:lnTo>
                      <a:pt x="81" y="281"/>
                    </a:lnTo>
                    <a:lnTo>
                      <a:pt x="0" y="28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2725560" y="3030480"/>
              <a:ext cx="2619720" cy="356040"/>
              <a:chOff x="2725560" y="3030480"/>
              <a:chExt cx="2619720" cy="356040"/>
            </a:xfrm>
          </p:grpSpPr>
          <p:grpSp>
            <p:nvGrpSpPr>
              <p:cNvPr id="409" name=""/>
              <p:cNvGrpSpPr/>
              <p:nvPr/>
            </p:nvGrpSpPr>
            <p:grpSpPr>
              <a:xfrm>
                <a:off x="4978440" y="3213000"/>
                <a:ext cx="205200" cy="117720"/>
                <a:chOff x="4978440" y="3213000"/>
                <a:chExt cx="205200" cy="117720"/>
              </a:xfrm>
            </p:grpSpPr>
            <p:grpSp>
              <p:nvGrpSpPr>
                <p:cNvPr id="410" name=""/>
                <p:cNvGrpSpPr/>
                <p:nvPr/>
              </p:nvGrpSpPr>
              <p:grpSpPr>
                <a:xfrm>
                  <a:off x="4994280" y="3213000"/>
                  <a:ext cx="189360" cy="98640"/>
                  <a:chOff x="4994280" y="3213000"/>
                  <a:chExt cx="189360" cy="98640"/>
                </a:xfrm>
              </p:grpSpPr>
              <p:sp>
                <p:nvSpPr>
                  <p:cNvPr id="411" name=""/>
                  <p:cNvSpPr/>
                  <p:nvPr/>
                </p:nvSpPr>
                <p:spPr>
                  <a:xfrm>
                    <a:off x="5087880" y="3217680"/>
                    <a:ext cx="95760" cy="88920"/>
                  </a:xfrm>
                  <a:custGeom>
                    <a:avLst/>
                    <a:gdLst/>
                    <a:ahLst/>
                    <a:rect l="0" t="0" r="r" b="b"/>
                    <a:pathLst>
                      <a:path w="266" h="247">
                        <a:moveTo>
                          <a:pt x="0" y="116"/>
                        </a:moveTo>
                        <a:lnTo>
                          <a:pt x="0" y="116"/>
                        </a:lnTo>
                        <a:lnTo>
                          <a:pt x="0" y="117"/>
                        </a:lnTo>
                        <a:cubicBezTo>
                          <a:pt x="-1" y="138"/>
                          <a:pt x="4" y="160"/>
                          <a:pt x="15" y="179"/>
                        </a:cubicBezTo>
                        <a:cubicBezTo>
                          <a:pt x="25" y="199"/>
                          <a:pt x="41" y="215"/>
                          <a:pt x="61" y="227"/>
                        </a:cubicBezTo>
                        <a:cubicBezTo>
                          <a:pt x="81" y="239"/>
                          <a:pt x="103" y="246"/>
                          <a:pt x="127" y="247"/>
                        </a:cubicBezTo>
                        <a:cubicBezTo>
                          <a:pt x="150" y="248"/>
                          <a:pt x="173" y="244"/>
                          <a:pt x="194" y="234"/>
                        </a:cubicBezTo>
                        <a:cubicBezTo>
                          <a:pt x="215" y="224"/>
                          <a:pt x="232" y="209"/>
                          <a:pt x="245" y="191"/>
                        </a:cubicBezTo>
                        <a:cubicBezTo>
                          <a:pt x="258" y="173"/>
                          <a:pt x="265" y="152"/>
                          <a:pt x="266" y="131"/>
                        </a:cubicBezTo>
                        <a:lnTo>
                          <a:pt x="266" y="131"/>
                        </a:lnTo>
                        <a:cubicBezTo>
                          <a:pt x="266" y="130"/>
                          <a:pt x="266" y="130"/>
                          <a:pt x="266" y="130"/>
                        </a:cubicBezTo>
                        <a:cubicBezTo>
                          <a:pt x="267" y="109"/>
                          <a:pt x="262" y="87"/>
                          <a:pt x="251" y="68"/>
                        </a:cubicBezTo>
                        <a:cubicBezTo>
                          <a:pt x="241" y="48"/>
                          <a:pt x="225" y="32"/>
                          <a:pt x="205" y="20"/>
                        </a:cubicBezTo>
                        <a:cubicBezTo>
                          <a:pt x="185" y="8"/>
                          <a:pt x="163" y="1"/>
                          <a:pt x="139" y="0"/>
                        </a:cubicBezTo>
                        <a:cubicBezTo>
                          <a:pt x="116" y="-1"/>
                          <a:pt x="93" y="3"/>
                          <a:pt x="72" y="13"/>
                        </a:cubicBezTo>
                        <a:cubicBezTo>
                          <a:pt x="51" y="23"/>
                          <a:pt x="34" y="38"/>
                          <a:pt x="21" y="56"/>
                        </a:cubicBezTo>
                        <a:cubicBezTo>
                          <a:pt x="8" y="74"/>
                          <a:pt x="1" y="95"/>
                          <a:pt x="0" y="116"/>
                        </a:cubicBezTo>
                        <a:close/>
                      </a:path>
                    </a:pathLst>
                  </a:custGeom>
                  <a:solidFill>
                    <a:srgbClr val="919191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37800" bIns="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4994280" y="3214800"/>
                    <a:ext cx="95760" cy="88920"/>
                  </a:xfrm>
                  <a:custGeom>
                    <a:avLst/>
                    <a:gdLst/>
                    <a:ahLst/>
                    <a:rect l="0" t="0" r="r" b="b"/>
                    <a:pathLst>
                      <a:path w="266" h="247">
                        <a:moveTo>
                          <a:pt x="0" y="116"/>
                        </a:moveTo>
                        <a:lnTo>
                          <a:pt x="0" y="116"/>
                        </a:lnTo>
                        <a:lnTo>
                          <a:pt x="0" y="117"/>
                        </a:lnTo>
                        <a:cubicBezTo>
                          <a:pt x="-1" y="138"/>
                          <a:pt x="4" y="160"/>
                          <a:pt x="15" y="179"/>
                        </a:cubicBezTo>
                        <a:cubicBezTo>
                          <a:pt x="25" y="199"/>
                          <a:pt x="41" y="215"/>
                          <a:pt x="61" y="227"/>
                        </a:cubicBezTo>
                        <a:cubicBezTo>
                          <a:pt x="81" y="239"/>
                          <a:pt x="103" y="246"/>
                          <a:pt x="127" y="247"/>
                        </a:cubicBezTo>
                        <a:cubicBezTo>
                          <a:pt x="150" y="248"/>
                          <a:pt x="173" y="244"/>
                          <a:pt x="194" y="234"/>
                        </a:cubicBezTo>
                        <a:cubicBezTo>
                          <a:pt x="215" y="224"/>
                          <a:pt x="232" y="209"/>
                          <a:pt x="245" y="191"/>
                        </a:cubicBezTo>
                        <a:cubicBezTo>
                          <a:pt x="258" y="173"/>
                          <a:pt x="265" y="152"/>
                          <a:pt x="266" y="131"/>
                        </a:cubicBezTo>
                        <a:lnTo>
                          <a:pt x="266" y="131"/>
                        </a:lnTo>
                        <a:cubicBezTo>
                          <a:pt x="266" y="130"/>
                          <a:pt x="266" y="130"/>
                          <a:pt x="266" y="130"/>
                        </a:cubicBezTo>
                        <a:cubicBezTo>
                          <a:pt x="267" y="109"/>
                          <a:pt x="262" y="87"/>
                          <a:pt x="251" y="68"/>
                        </a:cubicBezTo>
                        <a:cubicBezTo>
                          <a:pt x="241" y="48"/>
                          <a:pt x="225" y="32"/>
                          <a:pt x="205" y="20"/>
                        </a:cubicBezTo>
                        <a:cubicBezTo>
                          <a:pt x="185" y="8"/>
                          <a:pt x="163" y="1"/>
                          <a:pt x="139" y="0"/>
                        </a:cubicBezTo>
                        <a:cubicBezTo>
                          <a:pt x="116" y="-1"/>
                          <a:pt x="93" y="3"/>
                          <a:pt x="72" y="13"/>
                        </a:cubicBezTo>
                        <a:cubicBezTo>
                          <a:pt x="51" y="23"/>
                          <a:pt x="34" y="38"/>
                          <a:pt x="21" y="56"/>
                        </a:cubicBezTo>
                        <a:cubicBezTo>
                          <a:pt x="8" y="74"/>
                          <a:pt x="1" y="95"/>
                          <a:pt x="0" y="116"/>
                        </a:cubicBezTo>
                        <a:close/>
                      </a:path>
                    </a:pathLst>
                  </a:custGeom>
                  <a:solidFill>
                    <a:srgbClr val="919191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37800" bIns="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 flipH="1">
                    <a:off x="5046840" y="3213000"/>
                    <a:ext cx="98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 flipH="1" flipV="1">
                    <a:off x="5045040" y="3309840"/>
                    <a:ext cx="95400" cy="1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49320" bIns="-49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5030640" y="3213720"/>
                    <a:ext cx="107280" cy="78840"/>
                  </a:xfrm>
                  <a:custGeom>
                    <a:avLst/>
                    <a:gdLst/>
                    <a:ahLst/>
                    <a:rect l="0" t="0" r="r" b="b"/>
                    <a:pathLst>
                      <a:path w="298" h="219">
                        <a:moveTo>
                          <a:pt x="10" y="0"/>
                        </a:moveTo>
                        <a:lnTo>
                          <a:pt x="0" y="204"/>
                        </a:lnTo>
                        <a:lnTo>
                          <a:pt x="288" y="219"/>
                        </a:lnTo>
                        <a:lnTo>
                          <a:pt x="298" y="15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919191"/>
                  </a:solidFill>
                  <a:ln w="0">
                    <a:noFill/>
                  </a:ln>
                </p:spPr>
                <p:txBody>
                  <a:bodyPr lIns="90000" rIns="90000" tIns="33840" bIns="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6" name=""/>
                <p:cNvGrpSpPr/>
                <p:nvPr/>
              </p:nvGrpSpPr>
              <p:grpSpPr>
                <a:xfrm>
                  <a:off x="4978440" y="3232080"/>
                  <a:ext cx="189360" cy="98640"/>
                  <a:chOff x="4978440" y="3232080"/>
                  <a:chExt cx="189360" cy="98640"/>
                </a:xfrm>
              </p:grpSpPr>
              <p:sp>
                <p:nvSpPr>
                  <p:cNvPr id="417" name=""/>
                  <p:cNvSpPr/>
                  <p:nvPr/>
                </p:nvSpPr>
                <p:spPr>
                  <a:xfrm>
                    <a:off x="5072040" y="3236760"/>
                    <a:ext cx="95760" cy="88920"/>
                  </a:xfrm>
                  <a:custGeom>
                    <a:avLst/>
                    <a:gdLst/>
                    <a:ahLst/>
                    <a:rect l="0" t="0" r="r" b="b"/>
                    <a:pathLst>
                      <a:path w="266" h="247">
                        <a:moveTo>
                          <a:pt x="0" y="116"/>
                        </a:moveTo>
                        <a:lnTo>
                          <a:pt x="0" y="116"/>
                        </a:lnTo>
                        <a:lnTo>
                          <a:pt x="0" y="117"/>
                        </a:lnTo>
                        <a:cubicBezTo>
                          <a:pt x="-1" y="138"/>
                          <a:pt x="4" y="160"/>
                          <a:pt x="15" y="179"/>
                        </a:cubicBezTo>
                        <a:cubicBezTo>
                          <a:pt x="25" y="199"/>
                          <a:pt x="41" y="215"/>
                          <a:pt x="61" y="227"/>
                        </a:cubicBezTo>
                        <a:cubicBezTo>
                          <a:pt x="81" y="239"/>
                          <a:pt x="103" y="246"/>
                          <a:pt x="127" y="247"/>
                        </a:cubicBezTo>
                        <a:cubicBezTo>
                          <a:pt x="150" y="248"/>
                          <a:pt x="173" y="244"/>
                          <a:pt x="194" y="234"/>
                        </a:cubicBezTo>
                        <a:cubicBezTo>
                          <a:pt x="215" y="224"/>
                          <a:pt x="232" y="209"/>
                          <a:pt x="245" y="191"/>
                        </a:cubicBezTo>
                        <a:cubicBezTo>
                          <a:pt x="258" y="173"/>
                          <a:pt x="265" y="152"/>
                          <a:pt x="266" y="131"/>
                        </a:cubicBezTo>
                        <a:lnTo>
                          <a:pt x="266" y="131"/>
                        </a:lnTo>
                        <a:cubicBezTo>
                          <a:pt x="266" y="130"/>
                          <a:pt x="266" y="130"/>
                          <a:pt x="266" y="130"/>
                        </a:cubicBezTo>
                        <a:cubicBezTo>
                          <a:pt x="267" y="109"/>
                          <a:pt x="262" y="87"/>
                          <a:pt x="251" y="68"/>
                        </a:cubicBezTo>
                        <a:cubicBezTo>
                          <a:pt x="241" y="48"/>
                          <a:pt x="225" y="32"/>
                          <a:pt x="205" y="20"/>
                        </a:cubicBezTo>
                        <a:cubicBezTo>
                          <a:pt x="185" y="8"/>
                          <a:pt x="163" y="1"/>
                          <a:pt x="139" y="0"/>
                        </a:cubicBezTo>
                        <a:cubicBezTo>
                          <a:pt x="116" y="-1"/>
                          <a:pt x="93" y="3"/>
                          <a:pt x="72" y="13"/>
                        </a:cubicBezTo>
                        <a:cubicBezTo>
                          <a:pt x="51" y="23"/>
                          <a:pt x="34" y="38"/>
                          <a:pt x="21" y="56"/>
                        </a:cubicBezTo>
                        <a:cubicBezTo>
                          <a:pt x="8" y="74"/>
                          <a:pt x="1" y="95"/>
                          <a:pt x="0" y="116"/>
                        </a:cubicBezTo>
                        <a:close/>
                      </a:path>
                    </a:pathLst>
                  </a:custGeom>
                  <a:solidFill>
                    <a:srgbClr val="919191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37800" bIns="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4978440" y="3233520"/>
                    <a:ext cx="95760" cy="88920"/>
                  </a:xfrm>
                  <a:custGeom>
                    <a:avLst/>
                    <a:gdLst/>
                    <a:ahLst/>
                    <a:rect l="0" t="0" r="r" b="b"/>
                    <a:pathLst>
                      <a:path w="266" h="247">
                        <a:moveTo>
                          <a:pt x="0" y="116"/>
                        </a:moveTo>
                        <a:lnTo>
                          <a:pt x="0" y="116"/>
                        </a:lnTo>
                        <a:lnTo>
                          <a:pt x="0" y="117"/>
                        </a:lnTo>
                        <a:cubicBezTo>
                          <a:pt x="-1" y="138"/>
                          <a:pt x="4" y="160"/>
                          <a:pt x="15" y="179"/>
                        </a:cubicBezTo>
                        <a:cubicBezTo>
                          <a:pt x="25" y="199"/>
                          <a:pt x="41" y="215"/>
                          <a:pt x="61" y="227"/>
                        </a:cubicBezTo>
                        <a:cubicBezTo>
                          <a:pt x="81" y="239"/>
                          <a:pt x="103" y="246"/>
                          <a:pt x="127" y="247"/>
                        </a:cubicBezTo>
                        <a:cubicBezTo>
                          <a:pt x="150" y="248"/>
                          <a:pt x="173" y="244"/>
                          <a:pt x="194" y="234"/>
                        </a:cubicBezTo>
                        <a:cubicBezTo>
                          <a:pt x="215" y="224"/>
                          <a:pt x="232" y="209"/>
                          <a:pt x="245" y="191"/>
                        </a:cubicBezTo>
                        <a:cubicBezTo>
                          <a:pt x="258" y="173"/>
                          <a:pt x="265" y="152"/>
                          <a:pt x="266" y="131"/>
                        </a:cubicBezTo>
                        <a:lnTo>
                          <a:pt x="266" y="131"/>
                        </a:lnTo>
                        <a:cubicBezTo>
                          <a:pt x="266" y="130"/>
                          <a:pt x="266" y="130"/>
                          <a:pt x="266" y="130"/>
                        </a:cubicBezTo>
                        <a:cubicBezTo>
                          <a:pt x="267" y="109"/>
                          <a:pt x="262" y="87"/>
                          <a:pt x="251" y="68"/>
                        </a:cubicBezTo>
                        <a:cubicBezTo>
                          <a:pt x="241" y="48"/>
                          <a:pt x="225" y="32"/>
                          <a:pt x="205" y="20"/>
                        </a:cubicBezTo>
                        <a:cubicBezTo>
                          <a:pt x="185" y="8"/>
                          <a:pt x="163" y="1"/>
                          <a:pt x="139" y="0"/>
                        </a:cubicBezTo>
                        <a:cubicBezTo>
                          <a:pt x="116" y="-1"/>
                          <a:pt x="93" y="3"/>
                          <a:pt x="72" y="13"/>
                        </a:cubicBezTo>
                        <a:cubicBezTo>
                          <a:pt x="51" y="23"/>
                          <a:pt x="34" y="38"/>
                          <a:pt x="21" y="56"/>
                        </a:cubicBezTo>
                        <a:cubicBezTo>
                          <a:pt x="8" y="74"/>
                          <a:pt x="1" y="95"/>
                          <a:pt x="0" y="116"/>
                        </a:cubicBezTo>
                        <a:close/>
                      </a:path>
                    </a:pathLst>
                  </a:custGeom>
                  <a:solidFill>
                    <a:srgbClr val="919191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37800" bIns="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 flipH="1">
                    <a:off x="5033880" y="3232080"/>
                    <a:ext cx="921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 flipH="1" flipV="1">
                    <a:off x="5035680" y="3328920"/>
                    <a:ext cx="91800" cy="1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49320" bIns="-49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5014800" y="3237480"/>
                    <a:ext cx="110160" cy="74160"/>
                  </a:xfrm>
                  <a:custGeom>
                    <a:avLst/>
                    <a:gdLst/>
                    <a:ahLst/>
                    <a:rect l="0" t="0" r="r" b="b"/>
                    <a:pathLst>
                      <a:path w="306" h="206">
                        <a:moveTo>
                          <a:pt x="9" y="0"/>
                        </a:moveTo>
                        <a:lnTo>
                          <a:pt x="0" y="191"/>
                        </a:lnTo>
                        <a:lnTo>
                          <a:pt x="297" y="206"/>
                        </a:lnTo>
                        <a:lnTo>
                          <a:pt x="306" y="15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919191"/>
                  </a:solidFill>
                  <a:ln w="0">
                    <a:noFill/>
                  </a:ln>
                </p:spPr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22" name=""/>
              <p:cNvSpPr/>
              <p:nvPr/>
            </p:nvSpPr>
            <p:spPr>
              <a:xfrm>
                <a:off x="2725560" y="3030480"/>
                <a:ext cx="2619720" cy="356040"/>
              </a:xfrm>
              <a:custGeom>
                <a:avLst/>
                <a:gdLst/>
                <a:ahLst/>
                <a:rect l="0" t="0" r="r" b="b"/>
                <a:pathLst>
                  <a:path fill="none" w="7277" h="989">
                    <a:moveTo>
                      <a:pt x="0" y="0"/>
                    </a:moveTo>
                    <a:lnTo>
                      <a:pt x="7277" y="352"/>
                    </a:lnTo>
                    <a:lnTo>
                      <a:pt x="7277" y="989"/>
                    </a:lnTo>
                    <a:lnTo>
                      <a:pt x="0" y="619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2754360" y="3111480"/>
                <a:ext cx="61920" cy="65160"/>
              </a:xfrm>
              <a:prstGeom prst="ellipse">
                <a:avLst/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5235480" y="3228840"/>
                <a:ext cx="60480" cy="65160"/>
              </a:xfrm>
              <a:prstGeom prst="ellipse">
                <a:avLst/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5" name=""/>
              <p:cNvGrpSpPr/>
              <p:nvPr/>
            </p:nvGrpSpPr>
            <p:grpSpPr>
              <a:xfrm>
                <a:off x="4726080" y="3206880"/>
                <a:ext cx="206640" cy="117360"/>
                <a:chOff x="4726080" y="3206880"/>
                <a:chExt cx="206640" cy="117360"/>
              </a:xfrm>
            </p:grpSpPr>
            <p:grpSp>
              <p:nvGrpSpPr>
                <p:cNvPr id="426" name=""/>
                <p:cNvGrpSpPr/>
                <p:nvPr/>
              </p:nvGrpSpPr>
              <p:grpSpPr>
                <a:xfrm>
                  <a:off x="4741920" y="3206880"/>
                  <a:ext cx="190800" cy="98280"/>
                  <a:chOff x="4741920" y="3206880"/>
                  <a:chExt cx="190800" cy="98280"/>
                </a:xfrm>
              </p:grpSpPr>
              <p:sp>
                <p:nvSpPr>
                  <p:cNvPr id="427" name=""/>
                  <p:cNvSpPr/>
                  <p:nvPr/>
                </p:nvSpPr>
                <p:spPr>
                  <a:xfrm>
                    <a:off x="4835520" y="3211560"/>
                    <a:ext cx="97200" cy="88920"/>
                  </a:xfrm>
                  <a:custGeom>
                    <a:avLst/>
                    <a:gdLst/>
                    <a:ahLst/>
                    <a:rect l="0" t="0" r="r" b="b"/>
                    <a:pathLst>
                      <a:path w="270" h="247">
                        <a:moveTo>
                          <a:pt x="0" y="116"/>
                        </a:moveTo>
                        <a:lnTo>
                          <a:pt x="0" y="116"/>
                        </a:lnTo>
                        <a:cubicBezTo>
                          <a:pt x="-1" y="138"/>
                          <a:pt x="4" y="160"/>
                          <a:pt x="15" y="179"/>
                        </a:cubicBezTo>
                        <a:cubicBezTo>
                          <a:pt x="26" y="199"/>
                          <a:pt x="42" y="215"/>
                          <a:pt x="62" y="227"/>
                        </a:cubicBezTo>
                        <a:cubicBezTo>
                          <a:pt x="82" y="239"/>
                          <a:pt x="105" y="246"/>
                          <a:pt x="129" y="247"/>
                        </a:cubicBezTo>
                        <a:cubicBezTo>
                          <a:pt x="152" y="248"/>
                          <a:pt x="176" y="244"/>
                          <a:pt x="197" y="234"/>
                        </a:cubicBezTo>
                        <a:cubicBezTo>
                          <a:pt x="218" y="224"/>
                          <a:pt x="236" y="210"/>
                          <a:pt x="249" y="191"/>
                        </a:cubicBezTo>
                        <a:cubicBezTo>
                          <a:pt x="262" y="173"/>
                          <a:pt x="269" y="152"/>
                          <a:pt x="270" y="131"/>
                        </a:cubicBezTo>
                        <a:lnTo>
                          <a:pt x="270" y="131"/>
                        </a:lnTo>
                        <a:lnTo>
                          <a:pt x="270" y="131"/>
                        </a:lnTo>
                        <a:cubicBezTo>
                          <a:pt x="271" y="109"/>
                          <a:pt x="266" y="87"/>
                          <a:pt x="255" y="68"/>
                        </a:cubicBezTo>
                        <a:cubicBezTo>
                          <a:pt x="244" y="48"/>
                          <a:pt x="228" y="32"/>
                          <a:pt x="208" y="20"/>
                        </a:cubicBezTo>
                        <a:cubicBezTo>
                          <a:pt x="188" y="8"/>
                          <a:pt x="165" y="1"/>
                          <a:pt x="141" y="0"/>
                        </a:cubicBezTo>
                        <a:cubicBezTo>
                          <a:pt x="118" y="-1"/>
                          <a:pt x="94" y="3"/>
                          <a:pt x="73" y="13"/>
                        </a:cubicBezTo>
                        <a:cubicBezTo>
                          <a:pt x="52" y="23"/>
                          <a:pt x="34" y="37"/>
                          <a:pt x="21" y="56"/>
                        </a:cubicBezTo>
                        <a:cubicBezTo>
                          <a:pt x="8" y="74"/>
                          <a:pt x="1" y="95"/>
                          <a:pt x="0" y="116"/>
                        </a:cubicBezTo>
                        <a:close/>
                      </a:path>
                    </a:pathLst>
                  </a:custGeom>
                  <a:solidFill>
                    <a:srgbClr val="919191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37800" bIns="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>
                    <a:off x="4741920" y="3208320"/>
                    <a:ext cx="97200" cy="88920"/>
                  </a:xfrm>
                  <a:custGeom>
                    <a:avLst/>
                    <a:gdLst/>
                    <a:ahLst/>
                    <a:rect l="0" t="0" r="r" b="b"/>
                    <a:pathLst>
                      <a:path w="270" h="247">
                        <a:moveTo>
                          <a:pt x="0" y="116"/>
                        </a:moveTo>
                        <a:lnTo>
                          <a:pt x="0" y="116"/>
                        </a:lnTo>
                        <a:cubicBezTo>
                          <a:pt x="-1" y="138"/>
                          <a:pt x="4" y="160"/>
                          <a:pt x="15" y="179"/>
                        </a:cubicBezTo>
                        <a:cubicBezTo>
                          <a:pt x="26" y="199"/>
                          <a:pt x="42" y="215"/>
                          <a:pt x="62" y="227"/>
                        </a:cubicBezTo>
                        <a:cubicBezTo>
                          <a:pt x="82" y="239"/>
                          <a:pt x="105" y="246"/>
                          <a:pt x="129" y="247"/>
                        </a:cubicBezTo>
                        <a:cubicBezTo>
                          <a:pt x="152" y="248"/>
                          <a:pt x="176" y="244"/>
                          <a:pt x="197" y="234"/>
                        </a:cubicBezTo>
                        <a:cubicBezTo>
                          <a:pt x="218" y="224"/>
                          <a:pt x="236" y="210"/>
                          <a:pt x="249" y="191"/>
                        </a:cubicBezTo>
                        <a:cubicBezTo>
                          <a:pt x="262" y="173"/>
                          <a:pt x="269" y="152"/>
                          <a:pt x="270" y="131"/>
                        </a:cubicBezTo>
                        <a:lnTo>
                          <a:pt x="270" y="131"/>
                        </a:lnTo>
                        <a:lnTo>
                          <a:pt x="270" y="131"/>
                        </a:lnTo>
                        <a:cubicBezTo>
                          <a:pt x="271" y="109"/>
                          <a:pt x="266" y="87"/>
                          <a:pt x="255" y="68"/>
                        </a:cubicBezTo>
                        <a:cubicBezTo>
                          <a:pt x="244" y="48"/>
                          <a:pt x="228" y="32"/>
                          <a:pt x="208" y="20"/>
                        </a:cubicBezTo>
                        <a:cubicBezTo>
                          <a:pt x="188" y="8"/>
                          <a:pt x="165" y="1"/>
                          <a:pt x="141" y="0"/>
                        </a:cubicBezTo>
                        <a:cubicBezTo>
                          <a:pt x="118" y="-1"/>
                          <a:pt x="94" y="3"/>
                          <a:pt x="73" y="13"/>
                        </a:cubicBezTo>
                        <a:cubicBezTo>
                          <a:pt x="52" y="23"/>
                          <a:pt x="34" y="37"/>
                          <a:pt x="21" y="56"/>
                        </a:cubicBezTo>
                        <a:cubicBezTo>
                          <a:pt x="8" y="74"/>
                          <a:pt x="1" y="95"/>
                          <a:pt x="0" y="116"/>
                        </a:cubicBezTo>
                        <a:close/>
                      </a:path>
                    </a:pathLst>
                  </a:custGeom>
                  <a:solidFill>
                    <a:srgbClr val="919191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37800" bIns="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 flipH="1">
                    <a:off x="4795920" y="3206880"/>
                    <a:ext cx="98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 flipH="1" flipV="1">
                    <a:off x="4794120" y="3303720"/>
                    <a:ext cx="95400" cy="1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49680" bIns="-49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4778280" y="3207240"/>
                    <a:ext cx="108720" cy="78840"/>
                  </a:xfrm>
                  <a:custGeom>
                    <a:avLst/>
                    <a:gdLst/>
                    <a:ahLst/>
                    <a:rect l="0" t="0" r="r" b="b"/>
                    <a:pathLst>
                      <a:path w="302" h="219">
                        <a:moveTo>
                          <a:pt x="10" y="0"/>
                        </a:moveTo>
                        <a:lnTo>
                          <a:pt x="0" y="204"/>
                        </a:lnTo>
                        <a:lnTo>
                          <a:pt x="291" y="219"/>
                        </a:lnTo>
                        <a:lnTo>
                          <a:pt x="302" y="15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919191"/>
                  </a:solidFill>
                  <a:ln w="0">
                    <a:noFill/>
                  </a:ln>
                </p:spPr>
                <p:txBody>
                  <a:bodyPr lIns="90000" rIns="90000" tIns="33840" bIns="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2" name=""/>
                <p:cNvGrpSpPr/>
                <p:nvPr/>
              </p:nvGrpSpPr>
              <p:grpSpPr>
                <a:xfrm>
                  <a:off x="4726080" y="3225960"/>
                  <a:ext cx="190800" cy="98280"/>
                  <a:chOff x="4726080" y="3225960"/>
                  <a:chExt cx="190800" cy="98280"/>
                </a:xfrm>
              </p:grpSpPr>
              <p:sp>
                <p:nvSpPr>
                  <p:cNvPr id="433" name=""/>
                  <p:cNvSpPr/>
                  <p:nvPr/>
                </p:nvSpPr>
                <p:spPr>
                  <a:xfrm>
                    <a:off x="4819680" y="3230640"/>
                    <a:ext cx="97200" cy="88920"/>
                  </a:xfrm>
                  <a:custGeom>
                    <a:avLst/>
                    <a:gdLst/>
                    <a:ahLst/>
                    <a:rect l="0" t="0" r="r" b="b"/>
                    <a:pathLst>
                      <a:path w="270" h="247">
                        <a:moveTo>
                          <a:pt x="0" y="116"/>
                        </a:moveTo>
                        <a:lnTo>
                          <a:pt x="0" y="116"/>
                        </a:lnTo>
                        <a:cubicBezTo>
                          <a:pt x="-1" y="138"/>
                          <a:pt x="4" y="160"/>
                          <a:pt x="15" y="179"/>
                        </a:cubicBezTo>
                        <a:cubicBezTo>
                          <a:pt x="26" y="199"/>
                          <a:pt x="42" y="215"/>
                          <a:pt x="62" y="227"/>
                        </a:cubicBezTo>
                        <a:cubicBezTo>
                          <a:pt x="82" y="239"/>
                          <a:pt x="105" y="246"/>
                          <a:pt x="129" y="247"/>
                        </a:cubicBezTo>
                        <a:cubicBezTo>
                          <a:pt x="152" y="248"/>
                          <a:pt x="176" y="244"/>
                          <a:pt x="197" y="234"/>
                        </a:cubicBezTo>
                        <a:cubicBezTo>
                          <a:pt x="218" y="224"/>
                          <a:pt x="236" y="210"/>
                          <a:pt x="249" y="191"/>
                        </a:cubicBezTo>
                        <a:cubicBezTo>
                          <a:pt x="262" y="173"/>
                          <a:pt x="269" y="152"/>
                          <a:pt x="270" y="131"/>
                        </a:cubicBezTo>
                        <a:lnTo>
                          <a:pt x="270" y="131"/>
                        </a:lnTo>
                        <a:lnTo>
                          <a:pt x="270" y="131"/>
                        </a:lnTo>
                        <a:cubicBezTo>
                          <a:pt x="271" y="109"/>
                          <a:pt x="266" y="87"/>
                          <a:pt x="255" y="68"/>
                        </a:cubicBezTo>
                        <a:cubicBezTo>
                          <a:pt x="244" y="48"/>
                          <a:pt x="228" y="32"/>
                          <a:pt x="208" y="20"/>
                        </a:cubicBezTo>
                        <a:cubicBezTo>
                          <a:pt x="188" y="8"/>
                          <a:pt x="165" y="1"/>
                          <a:pt x="141" y="0"/>
                        </a:cubicBezTo>
                        <a:cubicBezTo>
                          <a:pt x="118" y="-1"/>
                          <a:pt x="94" y="3"/>
                          <a:pt x="73" y="13"/>
                        </a:cubicBezTo>
                        <a:cubicBezTo>
                          <a:pt x="52" y="23"/>
                          <a:pt x="34" y="37"/>
                          <a:pt x="21" y="56"/>
                        </a:cubicBezTo>
                        <a:cubicBezTo>
                          <a:pt x="8" y="74"/>
                          <a:pt x="1" y="95"/>
                          <a:pt x="0" y="116"/>
                        </a:cubicBezTo>
                        <a:close/>
                      </a:path>
                    </a:pathLst>
                  </a:custGeom>
                  <a:solidFill>
                    <a:srgbClr val="919191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37800" bIns="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4726080" y="3227400"/>
                    <a:ext cx="97200" cy="89280"/>
                  </a:xfrm>
                  <a:custGeom>
                    <a:avLst/>
                    <a:gdLst/>
                    <a:ahLst/>
                    <a:rect l="0" t="0" r="r" b="b"/>
                    <a:pathLst>
                      <a:path w="270" h="248">
                        <a:moveTo>
                          <a:pt x="0" y="117"/>
                        </a:moveTo>
                        <a:lnTo>
                          <a:pt x="0" y="117"/>
                        </a:lnTo>
                        <a:cubicBezTo>
                          <a:pt x="-1" y="139"/>
                          <a:pt x="4" y="160"/>
                          <a:pt x="15" y="180"/>
                        </a:cubicBezTo>
                        <a:cubicBezTo>
                          <a:pt x="26" y="199"/>
                          <a:pt x="42" y="216"/>
                          <a:pt x="62" y="228"/>
                        </a:cubicBezTo>
                        <a:cubicBezTo>
                          <a:pt x="82" y="240"/>
                          <a:pt x="105" y="247"/>
                          <a:pt x="129" y="248"/>
                        </a:cubicBezTo>
                        <a:cubicBezTo>
                          <a:pt x="152" y="249"/>
                          <a:pt x="176" y="245"/>
                          <a:pt x="197" y="235"/>
                        </a:cubicBezTo>
                        <a:cubicBezTo>
                          <a:pt x="218" y="225"/>
                          <a:pt x="236" y="210"/>
                          <a:pt x="249" y="192"/>
                        </a:cubicBezTo>
                        <a:cubicBezTo>
                          <a:pt x="262" y="174"/>
                          <a:pt x="269" y="153"/>
                          <a:pt x="270" y="131"/>
                        </a:cubicBezTo>
                        <a:lnTo>
                          <a:pt x="270" y="131"/>
                        </a:lnTo>
                        <a:lnTo>
                          <a:pt x="270" y="131"/>
                        </a:lnTo>
                        <a:cubicBezTo>
                          <a:pt x="271" y="109"/>
                          <a:pt x="266" y="88"/>
                          <a:pt x="255" y="68"/>
                        </a:cubicBezTo>
                        <a:cubicBezTo>
                          <a:pt x="244" y="49"/>
                          <a:pt x="228" y="32"/>
                          <a:pt x="208" y="20"/>
                        </a:cubicBezTo>
                        <a:cubicBezTo>
                          <a:pt x="188" y="8"/>
                          <a:pt x="165" y="1"/>
                          <a:pt x="141" y="0"/>
                        </a:cubicBezTo>
                        <a:cubicBezTo>
                          <a:pt x="118" y="-1"/>
                          <a:pt x="94" y="3"/>
                          <a:pt x="73" y="13"/>
                        </a:cubicBezTo>
                        <a:cubicBezTo>
                          <a:pt x="52" y="23"/>
                          <a:pt x="34" y="38"/>
                          <a:pt x="21" y="56"/>
                        </a:cubicBezTo>
                        <a:cubicBezTo>
                          <a:pt x="8" y="74"/>
                          <a:pt x="1" y="95"/>
                          <a:pt x="0" y="117"/>
                        </a:cubicBezTo>
                        <a:close/>
                      </a:path>
                    </a:pathLst>
                  </a:custGeom>
                  <a:solidFill>
                    <a:srgbClr val="919191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38160" bIns="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 flipH="1">
                    <a:off x="4782960" y="3225960"/>
                    <a:ext cx="921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 flipH="1" flipV="1">
                    <a:off x="4784760" y="3322800"/>
                    <a:ext cx="92160" cy="1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49680" bIns="-49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>
                    <a:off x="4762440" y="3231000"/>
                    <a:ext cx="111600" cy="74160"/>
                  </a:xfrm>
                  <a:custGeom>
                    <a:avLst/>
                    <a:gdLst/>
                    <a:ahLst/>
                    <a:rect l="0" t="0" r="r" b="b"/>
                    <a:pathLst>
                      <a:path w="310" h="206">
                        <a:moveTo>
                          <a:pt x="9" y="0"/>
                        </a:moveTo>
                        <a:lnTo>
                          <a:pt x="0" y="190"/>
                        </a:lnTo>
                        <a:lnTo>
                          <a:pt x="300" y="206"/>
                        </a:lnTo>
                        <a:lnTo>
                          <a:pt x="310" y="15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919191"/>
                  </a:solidFill>
                  <a:ln w="0">
                    <a:noFill/>
                  </a:ln>
                </p:spPr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8" name=""/>
              <p:cNvGrpSpPr/>
              <p:nvPr/>
            </p:nvGrpSpPr>
            <p:grpSpPr>
              <a:xfrm>
                <a:off x="4194000" y="3162240"/>
                <a:ext cx="497160" cy="151200"/>
                <a:chOff x="4194000" y="3162240"/>
                <a:chExt cx="497160" cy="15120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4194000" y="3162240"/>
                  <a:ext cx="109800" cy="132120"/>
                </a:xfrm>
                <a:custGeom>
                  <a:avLst/>
                  <a:gdLst/>
                  <a:ahLst/>
                  <a:rect l="0" t="0" r="r" b="b"/>
                  <a:pathLst>
                    <a:path w="305" h="367">
                      <a:moveTo>
                        <a:pt x="0" y="0"/>
                      </a:moveTo>
                      <a:lnTo>
                        <a:pt x="305" y="9"/>
                      </a:lnTo>
                      <a:lnTo>
                        <a:pt x="305" y="294"/>
                      </a:lnTo>
                      <a:lnTo>
                        <a:pt x="232" y="294"/>
                      </a:lnTo>
                      <a:lnTo>
                        <a:pt x="232" y="367"/>
                      </a:lnTo>
                      <a:lnTo>
                        <a:pt x="81" y="353"/>
                      </a:lnTo>
                      <a:lnTo>
                        <a:pt x="81" y="281"/>
                      </a:lnTo>
                      <a:lnTo>
                        <a:pt x="0" y="28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4322880" y="3170160"/>
                  <a:ext cx="109800" cy="132120"/>
                </a:xfrm>
                <a:custGeom>
                  <a:avLst/>
                  <a:gdLst/>
                  <a:ahLst/>
                  <a:rect l="0" t="0" r="r" b="b"/>
                  <a:pathLst>
                    <a:path w="305" h="367">
                      <a:moveTo>
                        <a:pt x="0" y="0"/>
                      </a:moveTo>
                      <a:lnTo>
                        <a:pt x="305" y="9"/>
                      </a:lnTo>
                      <a:lnTo>
                        <a:pt x="305" y="294"/>
                      </a:lnTo>
                      <a:lnTo>
                        <a:pt x="232" y="294"/>
                      </a:lnTo>
                      <a:lnTo>
                        <a:pt x="232" y="367"/>
                      </a:lnTo>
                      <a:lnTo>
                        <a:pt x="81" y="353"/>
                      </a:lnTo>
                      <a:lnTo>
                        <a:pt x="81" y="281"/>
                      </a:lnTo>
                      <a:lnTo>
                        <a:pt x="0" y="28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4452840" y="3173400"/>
                  <a:ext cx="109800" cy="132120"/>
                </a:xfrm>
                <a:custGeom>
                  <a:avLst/>
                  <a:gdLst/>
                  <a:ahLst/>
                  <a:rect l="0" t="0" r="r" b="b"/>
                  <a:pathLst>
                    <a:path w="305" h="367">
                      <a:moveTo>
                        <a:pt x="0" y="0"/>
                      </a:moveTo>
                      <a:lnTo>
                        <a:pt x="305" y="9"/>
                      </a:lnTo>
                      <a:lnTo>
                        <a:pt x="305" y="294"/>
                      </a:lnTo>
                      <a:lnTo>
                        <a:pt x="232" y="294"/>
                      </a:lnTo>
                      <a:lnTo>
                        <a:pt x="232" y="367"/>
                      </a:lnTo>
                      <a:lnTo>
                        <a:pt x="81" y="353"/>
                      </a:lnTo>
                      <a:lnTo>
                        <a:pt x="81" y="281"/>
                      </a:lnTo>
                      <a:lnTo>
                        <a:pt x="0" y="28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4581360" y="3181320"/>
                  <a:ext cx="109800" cy="132120"/>
                </a:xfrm>
                <a:custGeom>
                  <a:avLst/>
                  <a:gdLst/>
                  <a:ahLst/>
                  <a:rect l="0" t="0" r="r" b="b"/>
                  <a:pathLst>
                    <a:path w="305" h="367">
                      <a:moveTo>
                        <a:pt x="0" y="0"/>
                      </a:moveTo>
                      <a:lnTo>
                        <a:pt x="305" y="9"/>
                      </a:lnTo>
                      <a:lnTo>
                        <a:pt x="305" y="294"/>
                      </a:lnTo>
                      <a:lnTo>
                        <a:pt x="232" y="294"/>
                      </a:lnTo>
                      <a:lnTo>
                        <a:pt x="232" y="367"/>
                      </a:lnTo>
                      <a:lnTo>
                        <a:pt x="81" y="353"/>
                      </a:lnTo>
                      <a:lnTo>
                        <a:pt x="81" y="281"/>
                      </a:lnTo>
                      <a:lnTo>
                        <a:pt x="0" y="28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3" name=""/>
              <p:cNvGrpSpPr/>
              <p:nvPr/>
            </p:nvGrpSpPr>
            <p:grpSpPr>
              <a:xfrm>
                <a:off x="3633840" y="3133800"/>
                <a:ext cx="497160" cy="149400"/>
                <a:chOff x="3633840" y="3133800"/>
                <a:chExt cx="497160" cy="149400"/>
              </a:xfrm>
            </p:grpSpPr>
            <p:sp>
              <p:nvSpPr>
                <p:cNvPr id="444" name=""/>
                <p:cNvSpPr/>
                <p:nvPr/>
              </p:nvSpPr>
              <p:spPr>
                <a:xfrm>
                  <a:off x="3633840" y="3133800"/>
                  <a:ext cx="109800" cy="132120"/>
                </a:xfrm>
                <a:custGeom>
                  <a:avLst/>
                  <a:gdLst/>
                  <a:ahLst/>
                  <a:rect l="0" t="0" r="r" b="b"/>
                  <a:pathLst>
                    <a:path w="305" h="367">
                      <a:moveTo>
                        <a:pt x="0" y="0"/>
                      </a:moveTo>
                      <a:lnTo>
                        <a:pt x="305" y="9"/>
                      </a:lnTo>
                      <a:lnTo>
                        <a:pt x="305" y="294"/>
                      </a:lnTo>
                      <a:lnTo>
                        <a:pt x="232" y="294"/>
                      </a:lnTo>
                      <a:lnTo>
                        <a:pt x="232" y="367"/>
                      </a:lnTo>
                      <a:lnTo>
                        <a:pt x="81" y="353"/>
                      </a:lnTo>
                      <a:lnTo>
                        <a:pt x="81" y="281"/>
                      </a:lnTo>
                      <a:lnTo>
                        <a:pt x="0" y="28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3762360" y="3141720"/>
                  <a:ext cx="109800" cy="130680"/>
                </a:xfrm>
                <a:custGeom>
                  <a:avLst/>
                  <a:gdLst/>
                  <a:ahLst/>
                  <a:rect l="0" t="0" r="r" b="b"/>
                  <a:pathLst>
                    <a:path w="305" h="363">
                      <a:moveTo>
                        <a:pt x="0" y="0"/>
                      </a:moveTo>
                      <a:lnTo>
                        <a:pt x="305" y="9"/>
                      </a:lnTo>
                      <a:lnTo>
                        <a:pt x="305" y="291"/>
                      </a:lnTo>
                      <a:lnTo>
                        <a:pt x="232" y="291"/>
                      </a:lnTo>
                      <a:lnTo>
                        <a:pt x="232" y="363"/>
                      </a:lnTo>
                      <a:lnTo>
                        <a:pt x="81" y="350"/>
                      </a:lnTo>
                      <a:lnTo>
                        <a:pt x="81" y="277"/>
                      </a:lnTo>
                      <a:lnTo>
                        <a:pt x="0" y="27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3892680" y="3144960"/>
                  <a:ext cx="109800" cy="130680"/>
                </a:xfrm>
                <a:custGeom>
                  <a:avLst/>
                  <a:gdLst/>
                  <a:ahLst/>
                  <a:rect l="0" t="0" r="r" b="b"/>
                  <a:pathLst>
                    <a:path w="305" h="363">
                      <a:moveTo>
                        <a:pt x="0" y="0"/>
                      </a:moveTo>
                      <a:lnTo>
                        <a:pt x="305" y="9"/>
                      </a:lnTo>
                      <a:lnTo>
                        <a:pt x="305" y="291"/>
                      </a:lnTo>
                      <a:lnTo>
                        <a:pt x="232" y="291"/>
                      </a:lnTo>
                      <a:lnTo>
                        <a:pt x="232" y="363"/>
                      </a:lnTo>
                      <a:lnTo>
                        <a:pt x="81" y="350"/>
                      </a:lnTo>
                      <a:lnTo>
                        <a:pt x="81" y="277"/>
                      </a:lnTo>
                      <a:lnTo>
                        <a:pt x="0" y="27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4021200" y="3151080"/>
                  <a:ext cx="109800" cy="132120"/>
                </a:xfrm>
                <a:custGeom>
                  <a:avLst/>
                  <a:gdLst/>
                  <a:ahLst/>
                  <a:rect l="0" t="0" r="r" b="b"/>
                  <a:pathLst>
                    <a:path w="305" h="367">
                      <a:moveTo>
                        <a:pt x="0" y="0"/>
                      </a:moveTo>
                      <a:lnTo>
                        <a:pt x="305" y="9"/>
                      </a:lnTo>
                      <a:lnTo>
                        <a:pt x="305" y="294"/>
                      </a:lnTo>
                      <a:lnTo>
                        <a:pt x="232" y="294"/>
                      </a:lnTo>
                      <a:lnTo>
                        <a:pt x="232" y="367"/>
                      </a:lnTo>
                      <a:lnTo>
                        <a:pt x="81" y="353"/>
                      </a:lnTo>
                      <a:lnTo>
                        <a:pt x="81" y="281"/>
                      </a:lnTo>
                      <a:lnTo>
                        <a:pt x="0" y="28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8" name=""/>
              <p:cNvGrpSpPr/>
              <p:nvPr/>
            </p:nvGrpSpPr>
            <p:grpSpPr>
              <a:xfrm>
                <a:off x="3079800" y="3103560"/>
                <a:ext cx="497160" cy="151200"/>
                <a:chOff x="3079800" y="3103560"/>
                <a:chExt cx="497160" cy="151200"/>
              </a:xfrm>
            </p:grpSpPr>
            <p:sp>
              <p:nvSpPr>
                <p:cNvPr id="449" name=""/>
                <p:cNvSpPr/>
                <p:nvPr/>
              </p:nvSpPr>
              <p:spPr>
                <a:xfrm>
                  <a:off x="3079800" y="3103560"/>
                  <a:ext cx="109800" cy="132120"/>
                </a:xfrm>
                <a:custGeom>
                  <a:avLst/>
                  <a:gdLst/>
                  <a:ahLst/>
                  <a:rect l="0" t="0" r="r" b="b"/>
                  <a:pathLst>
                    <a:path w="305" h="367">
                      <a:moveTo>
                        <a:pt x="0" y="0"/>
                      </a:moveTo>
                      <a:lnTo>
                        <a:pt x="305" y="9"/>
                      </a:lnTo>
                      <a:lnTo>
                        <a:pt x="305" y="294"/>
                      </a:lnTo>
                      <a:lnTo>
                        <a:pt x="232" y="294"/>
                      </a:lnTo>
                      <a:lnTo>
                        <a:pt x="232" y="367"/>
                      </a:lnTo>
                      <a:lnTo>
                        <a:pt x="81" y="353"/>
                      </a:lnTo>
                      <a:lnTo>
                        <a:pt x="81" y="281"/>
                      </a:lnTo>
                      <a:lnTo>
                        <a:pt x="0" y="28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3208320" y="3111480"/>
                  <a:ext cx="109800" cy="132120"/>
                </a:xfrm>
                <a:custGeom>
                  <a:avLst/>
                  <a:gdLst/>
                  <a:ahLst/>
                  <a:rect l="0" t="0" r="r" b="b"/>
                  <a:pathLst>
                    <a:path w="305" h="367">
                      <a:moveTo>
                        <a:pt x="0" y="0"/>
                      </a:moveTo>
                      <a:lnTo>
                        <a:pt x="305" y="9"/>
                      </a:lnTo>
                      <a:lnTo>
                        <a:pt x="305" y="294"/>
                      </a:lnTo>
                      <a:lnTo>
                        <a:pt x="232" y="294"/>
                      </a:lnTo>
                      <a:lnTo>
                        <a:pt x="232" y="367"/>
                      </a:lnTo>
                      <a:lnTo>
                        <a:pt x="81" y="353"/>
                      </a:lnTo>
                      <a:lnTo>
                        <a:pt x="81" y="281"/>
                      </a:lnTo>
                      <a:lnTo>
                        <a:pt x="0" y="28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3338640" y="3114720"/>
                  <a:ext cx="109800" cy="132120"/>
                </a:xfrm>
                <a:custGeom>
                  <a:avLst/>
                  <a:gdLst/>
                  <a:ahLst/>
                  <a:rect l="0" t="0" r="r" b="b"/>
                  <a:pathLst>
                    <a:path w="305" h="367">
                      <a:moveTo>
                        <a:pt x="0" y="0"/>
                      </a:moveTo>
                      <a:lnTo>
                        <a:pt x="305" y="9"/>
                      </a:lnTo>
                      <a:lnTo>
                        <a:pt x="305" y="294"/>
                      </a:lnTo>
                      <a:lnTo>
                        <a:pt x="232" y="294"/>
                      </a:lnTo>
                      <a:lnTo>
                        <a:pt x="232" y="367"/>
                      </a:lnTo>
                      <a:lnTo>
                        <a:pt x="81" y="353"/>
                      </a:lnTo>
                      <a:lnTo>
                        <a:pt x="81" y="281"/>
                      </a:lnTo>
                      <a:lnTo>
                        <a:pt x="0" y="28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3467160" y="3122640"/>
                  <a:ext cx="109800" cy="132120"/>
                </a:xfrm>
                <a:custGeom>
                  <a:avLst/>
                  <a:gdLst/>
                  <a:ahLst/>
                  <a:rect l="0" t="0" r="r" b="b"/>
                  <a:pathLst>
                    <a:path w="305" h="367">
                      <a:moveTo>
                        <a:pt x="0" y="0"/>
                      </a:moveTo>
                      <a:lnTo>
                        <a:pt x="305" y="9"/>
                      </a:lnTo>
                      <a:lnTo>
                        <a:pt x="305" y="294"/>
                      </a:lnTo>
                      <a:lnTo>
                        <a:pt x="232" y="294"/>
                      </a:lnTo>
                      <a:lnTo>
                        <a:pt x="232" y="367"/>
                      </a:lnTo>
                      <a:lnTo>
                        <a:pt x="81" y="353"/>
                      </a:lnTo>
                      <a:lnTo>
                        <a:pt x="81" y="281"/>
                      </a:lnTo>
                      <a:lnTo>
                        <a:pt x="0" y="28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3" name=""/>
              <p:cNvSpPr/>
              <p:nvPr/>
            </p:nvSpPr>
            <p:spPr>
              <a:xfrm>
                <a:off x="2860560" y="3097080"/>
                <a:ext cx="109800" cy="132120"/>
              </a:xfrm>
              <a:custGeom>
                <a:avLst/>
                <a:gdLst/>
                <a:ahLst/>
                <a:rect l="0" t="0" r="r" b="b"/>
                <a:pathLst>
                  <a:path w="305" h="367">
                    <a:moveTo>
                      <a:pt x="0" y="0"/>
                    </a:moveTo>
                    <a:lnTo>
                      <a:pt x="305" y="9"/>
                    </a:lnTo>
                    <a:lnTo>
                      <a:pt x="305" y="294"/>
                    </a:lnTo>
                    <a:lnTo>
                      <a:pt x="232" y="294"/>
                    </a:lnTo>
                    <a:lnTo>
                      <a:pt x="232" y="367"/>
                    </a:lnTo>
                    <a:lnTo>
                      <a:pt x="81" y="353"/>
                    </a:lnTo>
                    <a:lnTo>
                      <a:pt x="81" y="281"/>
                    </a:lnTo>
                    <a:lnTo>
                      <a:pt x="0" y="28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2725560" y="3301920"/>
              <a:ext cx="2619720" cy="356040"/>
              <a:chOff x="2725560" y="3301920"/>
              <a:chExt cx="2619720" cy="356040"/>
            </a:xfrm>
          </p:grpSpPr>
          <p:grpSp>
            <p:nvGrpSpPr>
              <p:cNvPr id="455" name=""/>
              <p:cNvGrpSpPr/>
              <p:nvPr/>
            </p:nvGrpSpPr>
            <p:grpSpPr>
              <a:xfrm>
                <a:off x="4978440" y="3484440"/>
                <a:ext cx="205200" cy="117720"/>
                <a:chOff x="4978440" y="3484440"/>
                <a:chExt cx="205200" cy="117720"/>
              </a:xfrm>
            </p:grpSpPr>
            <p:grpSp>
              <p:nvGrpSpPr>
                <p:cNvPr id="456" name=""/>
                <p:cNvGrpSpPr/>
                <p:nvPr/>
              </p:nvGrpSpPr>
              <p:grpSpPr>
                <a:xfrm>
                  <a:off x="4994280" y="3484440"/>
                  <a:ext cx="189360" cy="98640"/>
                  <a:chOff x="4994280" y="3484440"/>
                  <a:chExt cx="189360" cy="98640"/>
                </a:xfrm>
              </p:grpSpPr>
              <p:sp>
                <p:nvSpPr>
                  <p:cNvPr id="457" name=""/>
                  <p:cNvSpPr/>
                  <p:nvPr/>
                </p:nvSpPr>
                <p:spPr>
                  <a:xfrm>
                    <a:off x="5087880" y="3489120"/>
                    <a:ext cx="95760" cy="88920"/>
                  </a:xfrm>
                  <a:custGeom>
                    <a:avLst/>
                    <a:gdLst/>
                    <a:ahLst/>
                    <a:rect l="0" t="0" r="r" b="b"/>
                    <a:pathLst>
                      <a:path w="266" h="247">
                        <a:moveTo>
                          <a:pt x="0" y="116"/>
                        </a:moveTo>
                        <a:lnTo>
                          <a:pt x="0" y="116"/>
                        </a:lnTo>
                        <a:lnTo>
                          <a:pt x="0" y="117"/>
                        </a:lnTo>
                        <a:cubicBezTo>
                          <a:pt x="-1" y="138"/>
                          <a:pt x="4" y="160"/>
                          <a:pt x="15" y="179"/>
                        </a:cubicBezTo>
                        <a:cubicBezTo>
                          <a:pt x="25" y="199"/>
                          <a:pt x="41" y="215"/>
                          <a:pt x="61" y="227"/>
                        </a:cubicBezTo>
                        <a:cubicBezTo>
                          <a:pt x="81" y="239"/>
                          <a:pt x="103" y="246"/>
                          <a:pt x="127" y="247"/>
                        </a:cubicBezTo>
                        <a:cubicBezTo>
                          <a:pt x="150" y="248"/>
                          <a:pt x="173" y="244"/>
                          <a:pt x="194" y="234"/>
                        </a:cubicBezTo>
                        <a:cubicBezTo>
                          <a:pt x="215" y="224"/>
                          <a:pt x="232" y="209"/>
                          <a:pt x="245" y="191"/>
                        </a:cubicBezTo>
                        <a:cubicBezTo>
                          <a:pt x="258" y="173"/>
                          <a:pt x="265" y="152"/>
                          <a:pt x="266" y="131"/>
                        </a:cubicBezTo>
                        <a:lnTo>
                          <a:pt x="266" y="131"/>
                        </a:lnTo>
                        <a:cubicBezTo>
                          <a:pt x="266" y="130"/>
                          <a:pt x="266" y="130"/>
                          <a:pt x="266" y="130"/>
                        </a:cubicBezTo>
                        <a:cubicBezTo>
                          <a:pt x="267" y="109"/>
                          <a:pt x="262" y="87"/>
                          <a:pt x="251" y="68"/>
                        </a:cubicBezTo>
                        <a:cubicBezTo>
                          <a:pt x="241" y="48"/>
                          <a:pt x="225" y="32"/>
                          <a:pt x="205" y="20"/>
                        </a:cubicBezTo>
                        <a:cubicBezTo>
                          <a:pt x="185" y="8"/>
                          <a:pt x="163" y="1"/>
                          <a:pt x="139" y="0"/>
                        </a:cubicBezTo>
                        <a:cubicBezTo>
                          <a:pt x="116" y="-1"/>
                          <a:pt x="93" y="3"/>
                          <a:pt x="72" y="13"/>
                        </a:cubicBezTo>
                        <a:cubicBezTo>
                          <a:pt x="51" y="23"/>
                          <a:pt x="34" y="38"/>
                          <a:pt x="21" y="56"/>
                        </a:cubicBezTo>
                        <a:cubicBezTo>
                          <a:pt x="8" y="74"/>
                          <a:pt x="1" y="95"/>
                          <a:pt x="0" y="116"/>
                        </a:cubicBezTo>
                        <a:close/>
                      </a:path>
                    </a:pathLst>
                  </a:custGeom>
                  <a:solidFill>
                    <a:srgbClr val="919191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37800" bIns="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>
                    <a:off x="4994280" y="3485880"/>
                    <a:ext cx="95760" cy="88920"/>
                  </a:xfrm>
                  <a:custGeom>
                    <a:avLst/>
                    <a:gdLst/>
                    <a:ahLst/>
                    <a:rect l="0" t="0" r="r" b="b"/>
                    <a:pathLst>
                      <a:path w="266" h="247">
                        <a:moveTo>
                          <a:pt x="0" y="116"/>
                        </a:moveTo>
                        <a:lnTo>
                          <a:pt x="0" y="116"/>
                        </a:lnTo>
                        <a:lnTo>
                          <a:pt x="0" y="117"/>
                        </a:lnTo>
                        <a:cubicBezTo>
                          <a:pt x="-1" y="138"/>
                          <a:pt x="4" y="160"/>
                          <a:pt x="15" y="179"/>
                        </a:cubicBezTo>
                        <a:cubicBezTo>
                          <a:pt x="25" y="199"/>
                          <a:pt x="41" y="215"/>
                          <a:pt x="61" y="227"/>
                        </a:cubicBezTo>
                        <a:cubicBezTo>
                          <a:pt x="81" y="239"/>
                          <a:pt x="103" y="246"/>
                          <a:pt x="127" y="247"/>
                        </a:cubicBezTo>
                        <a:cubicBezTo>
                          <a:pt x="150" y="248"/>
                          <a:pt x="173" y="244"/>
                          <a:pt x="194" y="234"/>
                        </a:cubicBezTo>
                        <a:cubicBezTo>
                          <a:pt x="215" y="224"/>
                          <a:pt x="232" y="209"/>
                          <a:pt x="245" y="191"/>
                        </a:cubicBezTo>
                        <a:cubicBezTo>
                          <a:pt x="258" y="173"/>
                          <a:pt x="265" y="152"/>
                          <a:pt x="266" y="131"/>
                        </a:cubicBezTo>
                        <a:lnTo>
                          <a:pt x="266" y="131"/>
                        </a:lnTo>
                        <a:cubicBezTo>
                          <a:pt x="266" y="130"/>
                          <a:pt x="266" y="130"/>
                          <a:pt x="266" y="130"/>
                        </a:cubicBezTo>
                        <a:cubicBezTo>
                          <a:pt x="267" y="109"/>
                          <a:pt x="262" y="87"/>
                          <a:pt x="251" y="68"/>
                        </a:cubicBezTo>
                        <a:cubicBezTo>
                          <a:pt x="241" y="48"/>
                          <a:pt x="225" y="32"/>
                          <a:pt x="205" y="20"/>
                        </a:cubicBezTo>
                        <a:cubicBezTo>
                          <a:pt x="185" y="8"/>
                          <a:pt x="163" y="1"/>
                          <a:pt x="139" y="0"/>
                        </a:cubicBezTo>
                        <a:cubicBezTo>
                          <a:pt x="116" y="-1"/>
                          <a:pt x="93" y="3"/>
                          <a:pt x="72" y="13"/>
                        </a:cubicBezTo>
                        <a:cubicBezTo>
                          <a:pt x="51" y="23"/>
                          <a:pt x="34" y="38"/>
                          <a:pt x="21" y="56"/>
                        </a:cubicBezTo>
                        <a:cubicBezTo>
                          <a:pt x="8" y="74"/>
                          <a:pt x="1" y="95"/>
                          <a:pt x="0" y="116"/>
                        </a:cubicBezTo>
                        <a:close/>
                      </a:path>
                    </a:pathLst>
                  </a:custGeom>
                  <a:solidFill>
                    <a:srgbClr val="919191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37800" bIns="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 flipH="1">
                    <a:off x="5046840" y="3484440"/>
                    <a:ext cx="98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 flipH="1" flipV="1">
                    <a:off x="5045040" y="3581280"/>
                    <a:ext cx="95400" cy="1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49320" bIns="-49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>
                    <a:off x="5030640" y="3485160"/>
                    <a:ext cx="107280" cy="78840"/>
                  </a:xfrm>
                  <a:custGeom>
                    <a:avLst/>
                    <a:gdLst/>
                    <a:ahLst/>
                    <a:rect l="0" t="0" r="r" b="b"/>
                    <a:pathLst>
                      <a:path w="298" h="219">
                        <a:moveTo>
                          <a:pt x="10" y="0"/>
                        </a:moveTo>
                        <a:lnTo>
                          <a:pt x="0" y="204"/>
                        </a:lnTo>
                        <a:lnTo>
                          <a:pt x="288" y="219"/>
                        </a:lnTo>
                        <a:lnTo>
                          <a:pt x="298" y="15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919191"/>
                  </a:solidFill>
                  <a:ln w="0">
                    <a:noFill/>
                  </a:ln>
                </p:spPr>
                <p:txBody>
                  <a:bodyPr lIns="90000" rIns="90000" tIns="33840" bIns="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2" name=""/>
                <p:cNvGrpSpPr/>
                <p:nvPr/>
              </p:nvGrpSpPr>
              <p:grpSpPr>
                <a:xfrm>
                  <a:off x="4978440" y="3503520"/>
                  <a:ext cx="189360" cy="98640"/>
                  <a:chOff x="4978440" y="3503520"/>
                  <a:chExt cx="189360" cy="98640"/>
                </a:xfrm>
              </p:grpSpPr>
              <p:sp>
                <p:nvSpPr>
                  <p:cNvPr id="463" name=""/>
                  <p:cNvSpPr/>
                  <p:nvPr/>
                </p:nvSpPr>
                <p:spPr>
                  <a:xfrm>
                    <a:off x="5072040" y="3508200"/>
                    <a:ext cx="95760" cy="88920"/>
                  </a:xfrm>
                  <a:custGeom>
                    <a:avLst/>
                    <a:gdLst/>
                    <a:ahLst/>
                    <a:rect l="0" t="0" r="r" b="b"/>
                    <a:pathLst>
                      <a:path w="266" h="247">
                        <a:moveTo>
                          <a:pt x="0" y="116"/>
                        </a:moveTo>
                        <a:lnTo>
                          <a:pt x="0" y="116"/>
                        </a:lnTo>
                        <a:lnTo>
                          <a:pt x="0" y="117"/>
                        </a:lnTo>
                        <a:cubicBezTo>
                          <a:pt x="-1" y="138"/>
                          <a:pt x="4" y="160"/>
                          <a:pt x="15" y="179"/>
                        </a:cubicBezTo>
                        <a:cubicBezTo>
                          <a:pt x="25" y="199"/>
                          <a:pt x="41" y="215"/>
                          <a:pt x="61" y="227"/>
                        </a:cubicBezTo>
                        <a:cubicBezTo>
                          <a:pt x="81" y="239"/>
                          <a:pt x="103" y="246"/>
                          <a:pt x="127" y="247"/>
                        </a:cubicBezTo>
                        <a:cubicBezTo>
                          <a:pt x="150" y="248"/>
                          <a:pt x="173" y="244"/>
                          <a:pt x="194" y="234"/>
                        </a:cubicBezTo>
                        <a:cubicBezTo>
                          <a:pt x="215" y="224"/>
                          <a:pt x="232" y="209"/>
                          <a:pt x="245" y="191"/>
                        </a:cubicBezTo>
                        <a:cubicBezTo>
                          <a:pt x="258" y="173"/>
                          <a:pt x="265" y="152"/>
                          <a:pt x="266" y="131"/>
                        </a:cubicBezTo>
                        <a:lnTo>
                          <a:pt x="266" y="131"/>
                        </a:lnTo>
                        <a:cubicBezTo>
                          <a:pt x="266" y="130"/>
                          <a:pt x="266" y="130"/>
                          <a:pt x="266" y="130"/>
                        </a:cubicBezTo>
                        <a:cubicBezTo>
                          <a:pt x="267" y="109"/>
                          <a:pt x="262" y="87"/>
                          <a:pt x="251" y="68"/>
                        </a:cubicBezTo>
                        <a:cubicBezTo>
                          <a:pt x="241" y="48"/>
                          <a:pt x="225" y="32"/>
                          <a:pt x="205" y="20"/>
                        </a:cubicBezTo>
                        <a:cubicBezTo>
                          <a:pt x="185" y="8"/>
                          <a:pt x="163" y="1"/>
                          <a:pt x="139" y="0"/>
                        </a:cubicBezTo>
                        <a:cubicBezTo>
                          <a:pt x="116" y="-1"/>
                          <a:pt x="93" y="3"/>
                          <a:pt x="72" y="13"/>
                        </a:cubicBezTo>
                        <a:cubicBezTo>
                          <a:pt x="51" y="23"/>
                          <a:pt x="34" y="38"/>
                          <a:pt x="21" y="56"/>
                        </a:cubicBezTo>
                        <a:cubicBezTo>
                          <a:pt x="8" y="74"/>
                          <a:pt x="1" y="95"/>
                          <a:pt x="0" y="116"/>
                        </a:cubicBezTo>
                        <a:close/>
                      </a:path>
                    </a:pathLst>
                  </a:custGeom>
                  <a:solidFill>
                    <a:srgbClr val="919191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37800" bIns="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>
                    <a:off x="4978440" y="3505320"/>
                    <a:ext cx="95760" cy="88920"/>
                  </a:xfrm>
                  <a:custGeom>
                    <a:avLst/>
                    <a:gdLst/>
                    <a:ahLst/>
                    <a:rect l="0" t="0" r="r" b="b"/>
                    <a:pathLst>
                      <a:path w="266" h="247">
                        <a:moveTo>
                          <a:pt x="0" y="116"/>
                        </a:moveTo>
                        <a:lnTo>
                          <a:pt x="0" y="116"/>
                        </a:lnTo>
                        <a:lnTo>
                          <a:pt x="0" y="117"/>
                        </a:lnTo>
                        <a:cubicBezTo>
                          <a:pt x="-1" y="138"/>
                          <a:pt x="4" y="160"/>
                          <a:pt x="15" y="179"/>
                        </a:cubicBezTo>
                        <a:cubicBezTo>
                          <a:pt x="25" y="199"/>
                          <a:pt x="41" y="215"/>
                          <a:pt x="61" y="227"/>
                        </a:cubicBezTo>
                        <a:cubicBezTo>
                          <a:pt x="81" y="239"/>
                          <a:pt x="103" y="246"/>
                          <a:pt x="127" y="247"/>
                        </a:cubicBezTo>
                        <a:cubicBezTo>
                          <a:pt x="150" y="248"/>
                          <a:pt x="173" y="244"/>
                          <a:pt x="194" y="234"/>
                        </a:cubicBezTo>
                        <a:cubicBezTo>
                          <a:pt x="215" y="224"/>
                          <a:pt x="232" y="209"/>
                          <a:pt x="245" y="191"/>
                        </a:cubicBezTo>
                        <a:cubicBezTo>
                          <a:pt x="258" y="173"/>
                          <a:pt x="265" y="152"/>
                          <a:pt x="266" y="131"/>
                        </a:cubicBezTo>
                        <a:lnTo>
                          <a:pt x="266" y="131"/>
                        </a:lnTo>
                        <a:cubicBezTo>
                          <a:pt x="266" y="130"/>
                          <a:pt x="266" y="130"/>
                          <a:pt x="266" y="130"/>
                        </a:cubicBezTo>
                        <a:cubicBezTo>
                          <a:pt x="267" y="109"/>
                          <a:pt x="262" y="87"/>
                          <a:pt x="251" y="68"/>
                        </a:cubicBezTo>
                        <a:cubicBezTo>
                          <a:pt x="241" y="48"/>
                          <a:pt x="225" y="32"/>
                          <a:pt x="205" y="20"/>
                        </a:cubicBezTo>
                        <a:cubicBezTo>
                          <a:pt x="185" y="8"/>
                          <a:pt x="163" y="1"/>
                          <a:pt x="139" y="0"/>
                        </a:cubicBezTo>
                        <a:cubicBezTo>
                          <a:pt x="116" y="-1"/>
                          <a:pt x="93" y="3"/>
                          <a:pt x="72" y="13"/>
                        </a:cubicBezTo>
                        <a:cubicBezTo>
                          <a:pt x="51" y="23"/>
                          <a:pt x="34" y="38"/>
                          <a:pt x="21" y="56"/>
                        </a:cubicBezTo>
                        <a:cubicBezTo>
                          <a:pt x="8" y="74"/>
                          <a:pt x="1" y="95"/>
                          <a:pt x="0" y="116"/>
                        </a:cubicBezTo>
                        <a:close/>
                      </a:path>
                    </a:pathLst>
                  </a:custGeom>
                  <a:solidFill>
                    <a:srgbClr val="919191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37800" bIns="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 flipH="1">
                    <a:off x="5033880" y="3503520"/>
                    <a:ext cx="921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 flipH="1" flipV="1">
                    <a:off x="5035680" y="3600360"/>
                    <a:ext cx="91800" cy="1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49320" bIns="-49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>
                    <a:off x="5014800" y="3508920"/>
                    <a:ext cx="110160" cy="74160"/>
                  </a:xfrm>
                  <a:custGeom>
                    <a:avLst/>
                    <a:gdLst/>
                    <a:ahLst/>
                    <a:rect l="0" t="0" r="r" b="b"/>
                    <a:pathLst>
                      <a:path w="306" h="206">
                        <a:moveTo>
                          <a:pt x="9" y="0"/>
                        </a:moveTo>
                        <a:lnTo>
                          <a:pt x="0" y="191"/>
                        </a:lnTo>
                        <a:lnTo>
                          <a:pt x="297" y="206"/>
                        </a:lnTo>
                        <a:lnTo>
                          <a:pt x="306" y="15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919191"/>
                  </a:solidFill>
                  <a:ln w="0">
                    <a:noFill/>
                  </a:ln>
                </p:spPr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68" name=""/>
              <p:cNvSpPr/>
              <p:nvPr/>
            </p:nvSpPr>
            <p:spPr>
              <a:xfrm>
                <a:off x="2725560" y="3301920"/>
                <a:ext cx="2619720" cy="356040"/>
              </a:xfrm>
              <a:custGeom>
                <a:avLst/>
                <a:gdLst/>
                <a:ahLst/>
                <a:rect l="0" t="0" r="r" b="b"/>
                <a:pathLst>
                  <a:path fill="none" w="7277" h="989">
                    <a:moveTo>
                      <a:pt x="0" y="0"/>
                    </a:moveTo>
                    <a:lnTo>
                      <a:pt x="7277" y="352"/>
                    </a:lnTo>
                    <a:lnTo>
                      <a:pt x="7277" y="989"/>
                    </a:lnTo>
                    <a:lnTo>
                      <a:pt x="0" y="619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2754360" y="3382920"/>
                <a:ext cx="61920" cy="65160"/>
              </a:xfrm>
              <a:prstGeom prst="ellipse">
                <a:avLst/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235480" y="3500280"/>
                <a:ext cx="60480" cy="65160"/>
              </a:xfrm>
              <a:prstGeom prst="ellipse">
                <a:avLst/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1" name=""/>
              <p:cNvGrpSpPr/>
              <p:nvPr/>
            </p:nvGrpSpPr>
            <p:grpSpPr>
              <a:xfrm>
                <a:off x="4726080" y="3478320"/>
                <a:ext cx="206640" cy="117360"/>
                <a:chOff x="4726080" y="3478320"/>
                <a:chExt cx="206640" cy="117360"/>
              </a:xfrm>
            </p:grpSpPr>
            <p:grpSp>
              <p:nvGrpSpPr>
                <p:cNvPr id="472" name=""/>
                <p:cNvGrpSpPr/>
                <p:nvPr/>
              </p:nvGrpSpPr>
              <p:grpSpPr>
                <a:xfrm>
                  <a:off x="4741920" y="3478320"/>
                  <a:ext cx="190800" cy="98280"/>
                  <a:chOff x="4741920" y="3478320"/>
                  <a:chExt cx="190800" cy="98280"/>
                </a:xfrm>
              </p:grpSpPr>
              <p:sp>
                <p:nvSpPr>
                  <p:cNvPr id="473" name=""/>
                  <p:cNvSpPr/>
                  <p:nvPr/>
                </p:nvSpPr>
                <p:spPr>
                  <a:xfrm>
                    <a:off x="4835520" y="3483000"/>
                    <a:ext cx="97200" cy="88920"/>
                  </a:xfrm>
                  <a:custGeom>
                    <a:avLst/>
                    <a:gdLst/>
                    <a:ahLst/>
                    <a:rect l="0" t="0" r="r" b="b"/>
                    <a:pathLst>
                      <a:path w="270" h="247">
                        <a:moveTo>
                          <a:pt x="0" y="116"/>
                        </a:moveTo>
                        <a:lnTo>
                          <a:pt x="0" y="116"/>
                        </a:lnTo>
                        <a:cubicBezTo>
                          <a:pt x="-1" y="138"/>
                          <a:pt x="4" y="160"/>
                          <a:pt x="15" y="179"/>
                        </a:cubicBezTo>
                        <a:cubicBezTo>
                          <a:pt x="26" y="199"/>
                          <a:pt x="42" y="215"/>
                          <a:pt x="62" y="227"/>
                        </a:cubicBezTo>
                        <a:cubicBezTo>
                          <a:pt x="82" y="239"/>
                          <a:pt x="105" y="246"/>
                          <a:pt x="129" y="247"/>
                        </a:cubicBezTo>
                        <a:cubicBezTo>
                          <a:pt x="152" y="248"/>
                          <a:pt x="176" y="244"/>
                          <a:pt x="197" y="234"/>
                        </a:cubicBezTo>
                        <a:cubicBezTo>
                          <a:pt x="218" y="224"/>
                          <a:pt x="236" y="210"/>
                          <a:pt x="249" y="191"/>
                        </a:cubicBezTo>
                        <a:cubicBezTo>
                          <a:pt x="262" y="173"/>
                          <a:pt x="269" y="152"/>
                          <a:pt x="270" y="131"/>
                        </a:cubicBezTo>
                        <a:lnTo>
                          <a:pt x="270" y="131"/>
                        </a:lnTo>
                        <a:lnTo>
                          <a:pt x="270" y="131"/>
                        </a:lnTo>
                        <a:cubicBezTo>
                          <a:pt x="271" y="109"/>
                          <a:pt x="266" y="87"/>
                          <a:pt x="255" y="68"/>
                        </a:cubicBezTo>
                        <a:cubicBezTo>
                          <a:pt x="244" y="48"/>
                          <a:pt x="228" y="32"/>
                          <a:pt x="208" y="20"/>
                        </a:cubicBezTo>
                        <a:cubicBezTo>
                          <a:pt x="188" y="8"/>
                          <a:pt x="165" y="1"/>
                          <a:pt x="141" y="0"/>
                        </a:cubicBezTo>
                        <a:cubicBezTo>
                          <a:pt x="118" y="-1"/>
                          <a:pt x="94" y="3"/>
                          <a:pt x="73" y="13"/>
                        </a:cubicBezTo>
                        <a:cubicBezTo>
                          <a:pt x="52" y="23"/>
                          <a:pt x="34" y="37"/>
                          <a:pt x="21" y="56"/>
                        </a:cubicBezTo>
                        <a:cubicBezTo>
                          <a:pt x="8" y="74"/>
                          <a:pt x="1" y="95"/>
                          <a:pt x="0" y="116"/>
                        </a:cubicBezTo>
                        <a:close/>
                      </a:path>
                    </a:pathLst>
                  </a:custGeom>
                  <a:solidFill>
                    <a:srgbClr val="919191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37800" bIns="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>
                    <a:off x="4741920" y="3479760"/>
                    <a:ext cx="97200" cy="88920"/>
                  </a:xfrm>
                  <a:custGeom>
                    <a:avLst/>
                    <a:gdLst/>
                    <a:ahLst/>
                    <a:rect l="0" t="0" r="r" b="b"/>
                    <a:pathLst>
                      <a:path w="270" h="247">
                        <a:moveTo>
                          <a:pt x="0" y="116"/>
                        </a:moveTo>
                        <a:lnTo>
                          <a:pt x="0" y="116"/>
                        </a:lnTo>
                        <a:cubicBezTo>
                          <a:pt x="-1" y="138"/>
                          <a:pt x="4" y="160"/>
                          <a:pt x="15" y="179"/>
                        </a:cubicBezTo>
                        <a:cubicBezTo>
                          <a:pt x="26" y="199"/>
                          <a:pt x="42" y="215"/>
                          <a:pt x="62" y="227"/>
                        </a:cubicBezTo>
                        <a:cubicBezTo>
                          <a:pt x="82" y="239"/>
                          <a:pt x="105" y="246"/>
                          <a:pt x="129" y="247"/>
                        </a:cubicBezTo>
                        <a:cubicBezTo>
                          <a:pt x="152" y="248"/>
                          <a:pt x="176" y="244"/>
                          <a:pt x="197" y="234"/>
                        </a:cubicBezTo>
                        <a:cubicBezTo>
                          <a:pt x="218" y="224"/>
                          <a:pt x="236" y="210"/>
                          <a:pt x="249" y="191"/>
                        </a:cubicBezTo>
                        <a:cubicBezTo>
                          <a:pt x="262" y="173"/>
                          <a:pt x="269" y="152"/>
                          <a:pt x="270" y="131"/>
                        </a:cubicBezTo>
                        <a:lnTo>
                          <a:pt x="270" y="131"/>
                        </a:lnTo>
                        <a:lnTo>
                          <a:pt x="270" y="131"/>
                        </a:lnTo>
                        <a:cubicBezTo>
                          <a:pt x="271" y="109"/>
                          <a:pt x="266" y="87"/>
                          <a:pt x="255" y="68"/>
                        </a:cubicBezTo>
                        <a:cubicBezTo>
                          <a:pt x="244" y="48"/>
                          <a:pt x="228" y="32"/>
                          <a:pt x="208" y="20"/>
                        </a:cubicBezTo>
                        <a:cubicBezTo>
                          <a:pt x="188" y="8"/>
                          <a:pt x="165" y="1"/>
                          <a:pt x="141" y="0"/>
                        </a:cubicBezTo>
                        <a:cubicBezTo>
                          <a:pt x="118" y="-1"/>
                          <a:pt x="94" y="3"/>
                          <a:pt x="73" y="13"/>
                        </a:cubicBezTo>
                        <a:cubicBezTo>
                          <a:pt x="52" y="23"/>
                          <a:pt x="34" y="37"/>
                          <a:pt x="21" y="56"/>
                        </a:cubicBezTo>
                        <a:cubicBezTo>
                          <a:pt x="8" y="74"/>
                          <a:pt x="1" y="95"/>
                          <a:pt x="0" y="116"/>
                        </a:cubicBezTo>
                        <a:close/>
                      </a:path>
                    </a:pathLst>
                  </a:custGeom>
                  <a:solidFill>
                    <a:srgbClr val="919191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37800" bIns="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 flipH="1">
                    <a:off x="4795920" y="3478320"/>
                    <a:ext cx="98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 flipH="1" flipV="1">
                    <a:off x="4794120" y="3575160"/>
                    <a:ext cx="95400" cy="1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49680" bIns="-49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4778280" y="3478680"/>
                    <a:ext cx="108720" cy="78840"/>
                  </a:xfrm>
                  <a:custGeom>
                    <a:avLst/>
                    <a:gdLst/>
                    <a:ahLst/>
                    <a:rect l="0" t="0" r="r" b="b"/>
                    <a:pathLst>
                      <a:path w="302" h="219">
                        <a:moveTo>
                          <a:pt x="10" y="0"/>
                        </a:moveTo>
                        <a:lnTo>
                          <a:pt x="0" y="204"/>
                        </a:lnTo>
                        <a:lnTo>
                          <a:pt x="291" y="219"/>
                        </a:lnTo>
                        <a:lnTo>
                          <a:pt x="302" y="15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919191"/>
                  </a:solidFill>
                  <a:ln w="0">
                    <a:noFill/>
                  </a:ln>
                </p:spPr>
                <p:txBody>
                  <a:bodyPr lIns="90000" rIns="90000" tIns="33840" bIns="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8" name=""/>
                <p:cNvGrpSpPr/>
                <p:nvPr/>
              </p:nvGrpSpPr>
              <p:grpSpPr>
                <a:xfrm>
                  <a:off x="4726080" y="3497400"/>
                  <a:ext cx="190800" cy="98280"/>
                  <a:chOff x="4726080" y="3497400"/>
                  <a:chExt cx="190800" cy="98280"/>
                </a:xfrm>
              </p:grpSpPr>
              <p:sp>
                <p:nvSpPr>
                  <p:cNvPr id="479" name=""/>
                  <p:cNvSpPr/>
                  <p:nvPr/>
                </p:nvSpPr>
                <p:spPr>
                  <a:xfrm>
                    <a:off x="4819680" y="3502080"/>
                    <a:ext cx="97200" cy="88920"/>
                  </a:xfrm>
                  <a:custGeom>
                    <a:avLst/>
                    <a:gdLst/>
                    <a:ahLst/>
                    <a:rect l="0" t="0" r="r" b="b"/>
                    <a:pathLst>
                      <a:path w="270" h="247">
                        <a:moveTo>
                          <a:pt x="0" y="116"/>
                        </a:moveTo>
                        <a:lnTo>
                          <a:pt x="0" y="116"/>
                        </a:lnTo>
                        <a:cubicBezTo>
                          <a:pt x="-1" y="138"/>
                          <a:pt x="4" y="160"/>
                          <a:pt x="15" y="179"/>
                        </a:cubicBezTo>
                        <a:cubicBezTo>
                          <a:pt x="26" y="199"/>
                          <a:pt x="42" y="215"/>
                          <a:pt x="62" y="227"/>
                        </a:cubicBezTo>
                        <a:cubicBezTo>
                          <a:pt x="82" y="239"/>
                          <a:pt x="105" y="246"/>
                          <a:pt x="129" y="247"/>
                        </a:cubicBezTo>
                        <a:cubicBezTo>
                          <a:pt x="152" y="248"/>
                          <a:pt x="176" y="244"/>
                          <a:pt x="197" y="234"/>
                        </a:cubicBezTo>
                        <a:cubicBezTo>
                          <a:pt x="218" y="224"/>
                          <a:pt x="236" y="210"/>
                          <a:pt x="249" y="191"/>
                        </a:cubicBezTo>
                        <a:cubicBezTo>
                          <a:pt x="262" y="173"/>
                          <a:pt x="269" y="152"/>
                          <a:pt x="270" y="131"/>
                        </a:cubicBezTo>
                        <a:lnTo>
                          <a:pt x="270" y="131"/>
                        </a:lnTo>
                        <a:lnTo>
                          <a:pt x="270" y="131"/>
                        </a:lnTo>
                        <a:cubicBezTo>
                          <a:pt x="271" y="109"/>
                          <a:pt x="266" y="87"/>
                          <a:pt x="255" y="68"/>
                        </a:cubicBezTo>
                        <a:cubicBezTo>
                          <a:pt x="244" y="48"/>
                          <a:pt x="228" y="32"/>
                          <a:pt x="208" y="20"/>
                        </a:cubicBezTo>
                        <a:cubicBezTo>
                          <a:pt x="188" y="8"/>
                          <a:pt x="165" y="1"/>
                          <a:pt x="141" y="0"/>
                        </a:cubicBezTo>
                        <a:cubicBezTo>
                          <a:pt x="118" y="-1"/>
                          <a:pt x="94" y="3"/>
                          <a:pt x="73" y="13"/>
                        </a:cubicBezTo>
                        <a:cubicBezTo>
                          <a:pt x="52" y="23"/>
                          <a:pt x="34" y="37"/>
                          <a:pt x="21" y="56"/>
                        </a:cubicBezTo>
                        <a:cubicBezTo>
                          <a:pt x="8" y="74"/>
                          <a:pt x="1" y="95"/>
                          <a:pt x="0" y="116"/>
                        </a:cubicBezTo>
                        <a:close/>
                      </a:path>
                    </a:pathLst>
                  </a:custGeom>
                  <a:solidFill>
                    <a:srgbClr val="919191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37800" bIns="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4726080" y="3498840"/>
                    <a:ext cx="97200" cy="89280"/>
                  </a:xfrm>
                  <a:custGeom>
                    <a:avLst/>
                    <a:gdLst/>
                    <a:ahLst/>
                    <a:rect l="0" t="0" r="r" b="b"/>
                    <a:pathLst>
                      <a:path w="270" h="248">
                        <a:moveTo>
                          <a:pt x="0" y="117"/>
                        </a:moveTo>
                        <a:lnTo>
                          <a:pt x="0" y="117"/>
                        </a:lnTo>
                        <a:cubicBezTo>
                          <a:pt x="-1" y="139"/>
                          <a:pt x="4" y="160"/>
                          <a:pt x="15" y="180"/>
                        </a:cubicBezTo>
                        <a:cubicBezTo>
                          <a:pt x="26" y="199"/>
                          <a:pt x="42" y="216"/>
                          <a:pt x="62" y="228"/>
                        </a:cubicBezTo>
                        <a:cubicBezTo>
                          <a:pt x="82" y="240"/>
                          <a:pt x="105" y="247"/>
                          <a:pt x="129" y="248"/>
                        </a:cubicBezTo>
                        <a:cubicBezTo>
                          <a:pt x="152" y="249"/>
                          <a:pt x="176" y="245"/>
                          <a:pt x="197" y="235"/>
                        </a:cubicBezTo>
                        <a:cubicBezTo>
                          <a:pt x="218" y="225"/>
                          <a:pt x="236" y="210"/>
                          <a:pt x="249" y="192"/>
                        </a:cubicBezTo>
                        <a:cubicBezTo>
                          <a:pt x="262" y="174"/>
                          <a:pt x="269" y="153"/>
                          <a:pt x="270" y="131"/>
                        </a:cubicBezTo>
                        <a:lnTo>
                          <a:pt x="270" y="131"/>
                        </a:lnTo>
                        <a:lnTo>
                          <a:pt x="270" y="131"/>
                        </a:lnTo>
                        <a:cubicBezTo>
                          <a:pt x="271" y="109"/>
                          <a:pt x="266" y="88"/>
                          <a:pt x="255" y="68"/>
                        </a:cubicBezTo>
                        <a:cubicBezTo>
                          <a:pt x="244" y="49"/>
                          <a:pt x="228" y="32"/>
                          <a:pt x="208" y="20"/>
                        </a:cubicBezTo>
                        <a:cubicBezTo>
                          <a:pt x="188" y="8"/>
                          <a:pt x="165" y="1"/>
                          <a:pt x="141" y="0"/>
                        </a:cubicBezTo>
                        <a:cubicBezTo>
                          <a:pt x="118" y="-1"/>
                          <a:pt x="94" y="3"/>
                          <a:pt x="73" y="13"/>
                        </a:cubicBezTo>
                        <a:cubicBezTo>
                          <a:pt x="52" y="23"/>
                          <a:pt x="34" y="38"/>
                          <a:pt x="21" y="56"/>
                        </a:cubicBezTo>
                        <a:cubicBezTo>
                          <a:pt x="8" y="74"/>
                          <a:pt x="1" y="95"/>
                          <a:pt x="0" y="117"/>
                        </a:cubicBezTo>
                        <a:close/>
                      </a:path>
                    </a:pathLst>
                  </a:custGeom>
                  <a:solidFill>
                    <a:srgbClr val="919191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38160" bIns="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 flipH="1">
                    <a:off x="4782960" y="3497400"/>
                    <a:ext cx="921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 flipH="1" flipV="1">
                    <a:off x="4784760" y="3594240"/>
                    <a:ext cx="92160" cy="1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49680" bIns="-49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>
                    <a:off x="4762440" y="3502440"/>
                    <a:ext cx="111600" cy="74160"/>
                  </a:xfrm>
                  <a:custGeom>
                    <a:avLst/>
                    <a:gdLst/>
                    <a:ahLst/>
                    <a:rect l="0" t="0" r="r" b="b"/>
                    <a:pathLst>
                      <a:path w="310" h="206">
                        <a:moveTo>
                          <a:pt x="9" y="0"/>
                        </a:moveTo>
                        <a:lnTo>
                          <a:pt x="0" y="190"/>
                        </a:lnTo>
                        <a:lnTo>
                          <a:pt x="300" y="206"/>
                        </a:lnTo>
                        <a:lnTo>
                          <a:pt x="310" y="15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919191"/>
                  </a:solidFill>
                  <a:ln w="0">
                    <a:noFill/>
                  </a:ln>
                </p:spPr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4" name=""/>
              <p:cNvGrpSpPr/>
              <p:nvPr/>
            </p:nvGrpSpPr>
            <p:grpSpPr>
              <a:xfrm>
                <a:off x="4194000" y="3433680"/>
                <a:ext cx="497160" cy="151200"/>
                <a:chOff x="4194000" y="3433680"/>
                <a:chExt cx="497160" cy="151200"/>
              </a:xfrm>
            </p:grpSpPr>
            <p:sp>
              <p:nvSpPr>
                <p:cNvPr id="485" name=""/>
                <p:cNvSpPr/>
                <p:nvPr/>
              </p:nvSpPr>
              <p:spPr>
                <a:xfrm>
                  <a:off x="4194000" y="3433680"/>
                  <a:ext cx="109800" cy="132120"/>
                </a:xfrm>
                <a:custGeom>
                  <a:avLst/>
                  <a:gdLst/>
                  <a:ahLst/>
                  <a:rect l="0" t="0" r="r" b="b"/>
                  <a:pathLst>
                    <a:path w="305" h="367">
                      <a:moveTo>
                        <a:pt x="0" y="0"/>
                      </a:moveTo>
                      <a:lnTo>
                        <a:pt x="305" y="9"/>
                      </a:lnTo>
                      <a:lnTo>
                        <a:pt x="305" y="294"/>
                      </a:lnTo>
                      <a:lnTo>
                        <a:pt x="232" y="294"/>
                      </a:lnTo>
                      <a:lnTo>
                        <a:pt x="232" y="367"/>
                      </a:lnTo>
                      <a:lnTo>
                        <a:pt x="81" y="353"/>
                      </a:lnTo>
                      <a:lnTo>
                        <a:pt x="81" y="281"/>
                      </a:lnTo>
                      <a:lnTo>
                        <a:pt x="0" y="28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4322880" y="3441600"/>
                  <a:ext cx="109800" cy="132120"/>
                </a:xfrm>
                <a:custGeom>
                  <a:avLst/>
                  <a:gdLst/>
                  <a:ahLst/>
                  <a:rect l="0" t="0" r="r" b="b"/>
                  <a:pathLst>
                    <a:path w="305" h="367">
                      <a:moveTo>
                        <a:pt x="0" y="0"/>
                      </a:moveTo>
                      <a:lnTo>
                        <a:pt x="305" y="9"/>
                      </a:lnTo>
                      <a:lnTo>
                        <a:pt x="305" y="294"/>
                      </a:lnTo>
                      <a:lnTo>
                        <a:pt x="232" y="294"/>
                      </a:lnTo>
                      <a:lnTo>
                        <a:pt x="232" y="367"/>
                      </a:lnTo>
                      <a:lnTo>
                        <a:pt x="81" y="353"/>
                      </a:lnTo>
                      <a:lnTo>
                        <a:pt x="81" y="281"/>
                      </a:lnTo>
                      <a:lnTo>
                        <a:pt x="0" y="28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4452840" y="3444840"/>
                  <a:ext cx="109800" cy="132120"/>
                </a:xfrm>
                <a:custGeom>
                  <a:avLst/>
                  <a:gdLst/>
                  <a:ahLst/>
                  <a:rect l="0" t="0" r="r" b="b"/>
                  <a:pathLst>
                    <a:path w="305" h="367">
                      <a:moveTo>
                        <a:pt x="0" y="0"/>
                      </a:moveTo>
                      <a:lnTo>
                        <a:pt x="305" y="9"/>
                      </a:lnTo>
                      <a:lnTo>
                        <a:pt x="305" y="294"/>
                      </a:lnTo>
                      <a:lnTo>
                        <a:pt x="232" y="294"/>
                      </a:lnTo>
                      <a:lnTo>
                        <a:pt x="232" y="367"/>
                      </a:lnTo>
                      <a:lnTo>
                        <a:pt x="81" y="353"/>
                      </a:lnTo>
                      <a:lnTo>
                        <a:pt x="81" y="281"/>
                      </a:lnTo>
                      <a:lnTo>
                        <a:pt x="0" y="28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4581360" y="3452760"/>
                  <a:ext cx="109800" cy="132120"/>
                </a:xfrm>
                <a:custGeom>
                  <a:avLst/>
                  <a:gdLst/>
                  <a:ahLst/>
                  <a:rect l="0" t="0" r="r" b="b"/>
                  <a:pathLst>
                    <a:path w="305" h="367">
                      <a:moveTo>
                        <a:pt x="0" y="0"/>
                      </a:moveTo>
                      <a:lnTo>
                        <a:pt x="305" y="9"/>
                      </a:lnTo>
                      <a:lnTo>
                        <a:pt x="305" y="294"/>
                      </a:lnTo>
                      <a:lnTo>
                        <a:pt x="232" y="294"/>
                      </a:lnTo>
                      <a:lnTo>
                        <a:pt x="232" y="367"/>
                      </a:lnTo>
                      <a:lnTo>
                        <a:pt x="81" y="353"/>
                      </a:lnTo>
                      <a:lnTo>
                        <a:pt x="81" y="281"/>
                      </a:lnTo>
                      <a:lnTo>
                        <a:pt x="0" y="28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9" name=""/>
              <p:cNvGrpSpPr/>
              <p:nvPr/>
            </p:nvGrpSpPr>
            <p:grpSpPr>
              <a:xfrm>
                <a:off x="3633840" y="3405240"/>
                <a:ext cx="497160" cy="149400"/>
                <a:chOff x="3633840" y="3405240"/>
                <a:chExt cx="497160" cy="149400"/>
              </a:xfrm>
            </p:grpSpPr>
            <p:sp>
              <p:nvSpPr>
                <p:cNvPr id="490" name=""/>
                <p:cNvSpPr/>
                <p:nvPr/>
              </p:nvSpPr>
              <p:spPr>
                <a:xfrm>
                  <a:off x="3633840" y="3405240"/>
                  <a:ext cx="109800" cy="132120"/>
                </a:xfrm>
                <a:custGeom>
                  <a:avLst/>
                  <a:gdLst/>
                  <a:ahLst/>
                  <a:rect l="0" t="0" r="r" b="b"/>
                  <a:pathLst>
                    <a:path w="305" h="367">
                      <a:moveTo>
                        <a:pt x="0" y="0"/>
                      </a:moveTo>
                      <a:lnTo>
                        <a:pt x="305" y="9"/>
                      </a:lnTo>
                      <a:lnTo>
                        <a:pt x="305" y="294"/>
                      </a:lnTo>
                      <a:lnTo>
                        <a:pt x="232" y="294"/>
                      </a:lnTo>
                      <a:lnTo>
                        <a:pt x="232" y="367"/>
                      </a:lnTo>
                      <a:lnTo>
                        <a:pt x="81" y="353"/>
                      </a:lnTo>
                      <a:lnTo>
                        <a:pt x="81" y="281"/>
                      </a:lnTo>
                      <a:lnTo>
                        <a:pt x="0" y="28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3762360" y="3413160"/>
                  <a:ext cx="109800" cy="130680"/>
                </a:xfrm>
                <a:custGeom>
                  <a:avLst/>
                  <a:gdLst/>
                  <a:ahLst/>
                  <a:rect l="0" t="0" r="r" b="b"/>
                  <a:pathLst>
                    <a:path w="305" h="363">
                      <a:moveTo>
                        <a:pt x="0" y="0"/>
                      </a:moveTo>
                      <a:lnTo>
                        <a:pt x="305" y="9"/>
                      </a:lnTo>
                      <a:lnTo>
                        <a:pt x="305" y="291"/>
                      </a:lnTo>
                      <a:lnTo>
                        <a:pt x="232" y="291"/>
                      </a:lnTo>
                      <a:lnTo>
                        <a:pt x="232" y="363"/>
                      </a:lnTo>
                      <a:lnTo>
                        <a:pt x="81" y="350"/>
                      </a:lnTo>
                      <a:lnTo>
                        <a:pt x="81" y="277"/>
                      </a:lnTo>
                      <a:lnTo>
                        <a:pt x="0" y="27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3892680" y="3416400"/>
                  <a:ext cx="109800" cy="130680"/>
                </a:xfrm>
                <a:custGeom>
                  <a:avLst/>
                  <a:gdLst/>
                  <a:ahLst/>
                  <a:rect l="0" t="0" r="r" b="b"/>
                  <a:pathLst>
                    <a:path w="305" h="363">
                      <a:moveTo>
                        <a:pt x="0" y="0"/>
                      </a:moveTo>
                      <a:lnTo>
                        <a:pt x="305" y="9"/>
                      </a:lnTo>
                      <a:lnTo>
                        <a:pt x="305" y="291"/>
                      </a:lnTo>
                      <a:lnTo>
                        <a:pt x="232" y="291"/>
                      </a:lnTo>
                      <a:lnTo>
                        <a:pt x="232" y="363"/>
                      </a:lnTo>
                      <a:lnTo>
                        <a:pt x="81" y="350"/>
                      </a:lnTo>
                      <a:lnTo>
                        <a:pt x="81" y="277"/>
                      </a:lnTo>
                      <a:lnTo>
                        <a:pt x="0" y="27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4021200" y="3422520"/>
                  <a:ext cx="109800" cy="132120"/>
                </a:xfrm>
                <a:custGeom>
                  <a:avLst/>
                  <a:gdLst/>
                  <a:ahLst/>
                  <a:rect l="0" t="0" r="r" b="b"/>
                  <a:pathLst>
                    <a:path w="305" h="367">
                      <a:moveTo>
                        <a:pt x="0" y="0"/>
                      </a:moveTo>
                      <a:lnTo>
                        <a:pt x="305" y="9"/>
                      </a:lnTo>
                      <a:lnTo>
                        <a:pt x="305" y="294"/>
                      </a:lnTo>
                      <a:lnTo>
                        <a:pt x="232" y="294"/>
                      </a:lnTo>
                      <a:lnTo>
                        <a:pt x="232" y="367"/>
                      </a:lnTo>
                      <a:lnTo>
                        <a:pt x="81" y="353"/>
                      </a:lnTo>
                      <a:lnTo>
                        <a:pt x="81" y="281"/>
                      </a:lnTo>
                      <a:lnTo>
                        <a:pt x="0" y="28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4" name=""/>
              <p:cNvGrpSpPr/>
              <p:nvPr/>
            </p:nvGrpSpPr>
            <p:grpSpPr>
              <a:xfrm>
                <a:off x="3079800" y="3375000"/>
                <a:ext cx="497160" cy="151200"/>
                <a:chOff x="3079800" y="3375000"/>
                <a:chExt cx="497160" cy="151200"/>
              </a:xfrm>
            </p:grpSpPr>
            <p:sp>
              <p:nvSpPr>
                <p:cNvPr id="495" name=""/>
                <p:cNvSpPr/>
                <p:nvPr/>
              </p:nvSpPr>
              <p:spPr>
                <a:xfrm>
                  <a:off x="3079800" y="3375000"/>
                  <a:ext cx="109800" cy="132120"/>
                </a:xfrm>
                <a:custGeom>
                  <a:avLst/>
                  <a:gdLst/>
                  <a:ahLst/>
                  <a:rect l="0" t="0" r="r" b="b"/>
                  <a:pathLst>
                    <a:path w="305" h="367">
                      <a:moveTo>
                        <a:pt x="0" y="0"/>
                      </a:moveTo>
                      <a:lnTo>
                        <a:pt x="305" y="9"/>
                      </a:lnTo>
                      <a:lnTo>
                        <a:pt x="305" y="294"/>
                      </a:lnTo>
                      <a:lnTo>
                        <a:pt x="232" y="294"/>
                      </a:lnTo>
                      <a:lnTo>
                        <a:pt x="232" y="367"/>
                      </a:lnTo>
                      <a:lnTo>
                        <a:pt x="81" y="353"/>
                      </a:lnTo>
                      <a:lnTo>
                        <a:pt x="81" y="281"/>
                      </a:lnTo>
                      <a:lnTo>
                        <a:pt x="0" y="28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3208320" y="3382920"/>
                  <a:ext cx="109800" cy="132120"/>
                </a:xfrm>
                <a:custGeom>
                  <a:avLst/>
                  <a:gdLst/>
                  <a:ahLst/>
                  <a:rect l="0" t="0" r="r" b="b"/>
                  <a:pathLst>
                    <a:path w="305" h="367">
                      <a:moveTo>
                        <a:pt x="0" y="0"/>
                      </a:moveTo>
                      <a:lnTo>
                        <a:pt x="305" y="9"/>
                      </a:lnTo>
                      <a:lnTo>
                        <a:pt x="305" y="294"/>
                      </a:lnTo>
                      <a:lnTo>
                        <a:pt x="232" y="294"/>
                      </a:lnTo>
                      <a:lnTo>
                        <a:pt x="232" y="367"/>
                      </a:lnTo>
                      <a:lnTo>
                        <a:pt x="81" y="353"/>
                      </a:lnTo>
                      <a:lnTo>
                        <a:pt x="81" y="281"/>
                      </a:lnTo>
                      <a:lnTo>
                        <a:pt x="0" y="28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3338640" y="3386160"/>
                  <a:ext cx="109800" cy="132120"/>
                </a:xfrm>
                <a:custGeom>
                  <a:avLst/>
                  <a:gdLst/>
                  <a:ahLst/>
                  <a:rect l="0" t="0" r="r" b="b"/>
                  <a:pathLst>
                    <a:path w="305" h="367">
                      <a:moveTo>
                        <a:pt x="0" y="0"/>
                      </a:moveTo>
                      <a:lnTo>
                        <a:pt x="305" y="9"/>
                      </a:lnTo>
                      <a:lnTo>
                        <a:pt x="305" y="294"/>
                      </a:lnTo>
                      <a:lnTo>
                        <a:pt x="232" y="294"/>
                      </a:lnTo>
                      <a:lnTo>
                        <a:pt x="232" y="367"/>
                      </a:lnTo>
                      <a:lnTo>
                        <a:pt x="81" y="353"/>
                      </a:lnTo>
                      <a:lnTo>
                        <a:pt x="81" y="281"/>
                      </a:lnTo>
                      <a:lnTo>
                        <a:pt x="0" y="28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3467160" y="3394080"/>
                  <a:ext cx="109800" cy="132120"/>
                </a:xfrm>
                <a:custGeom>
                  <a:avLst/>
                  <a:gdLst/>
                  <a:ahLst/>
                  <a:rect l="0" t="0" r="r" b="b"/>
                  <a:pathLst>
                    <a:path w="305" h="367">
                      <a:moveTo>
                        <a:pt x="0" y="0"/>
                      </a:moveTo>
                      <a:lnTo>
                        <a:pt x="305" y="9"/>
                      </a:lnTo>
                      <a:lnTo>
                        <a:pt x="305" y="294"/>
                      </a:lnTo>
                      <a:lnTo>
                        <a:pt x="232" y="294"/>
                      </a:lnTo>
                      <a:lnTo>
                        <a:pt x="232" y="367"/>
                      </a:lnTo>
                      <a:lnTo>
                        <a:pt x="81" y="353"/>
                      </a:lnTo>
                      <a:lnTo>
                        <a:pt x="81" y="281"/>
                      </a:lnTo>
                      <a:lnTo>
                        <a:pt x="0" y="28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9" name=""/>
              <p:cNvSpPr/>
              <p:nvPr/>
            </p:nvSpPr>
            <p:spPr>
              <a:xfrm>
                <a:off x="2860560" y="3368520"/>
                <a:ext cx="109800" cy="132120"/>
              </a:xfrm>
              <a:custGeom>
                <a:avLst/>
                <a:gdLst/>
                <a:ahLst/>
                <a:rect l="0" t="0" r="r" b="b"/>
                <a:pathLst>
                  <a:path w="305" h="367">
                    <a:moveTo>
                      <a:pt x="0" y="0"/>
                    </a:moveTo>
                    <a:lnTo>
                      <a:pt x="305" y="9"/>
                    </a:lnTo>
                    <a:lnTo>
                      <a:pt x="305" y="294"/>
                    </a:lnTo>
                    <a:lnTo>
                      <a:pt x="232" y="294"/>
                    </a:lnTo>
                    <a:lnTo>
                      <a:pt x="232" y="367"/>
                    </a:lnTo>
                    <a:lnTo>
                      <a:pt x="81" y="353"/>
                    </a:lnTo>
                    <a:lnTo>
                      <a:pt x="81" y="281"/>
                    </a:lnTo>
                    <a:lnTo>
                      <a:pt x="0" y="28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0" name=""/>
            <p:cNvGrpSpPr/>
            <p:nvPr/>
          </p:nvGrpSpPr>
          <p:grpSpPr>
            <a:xfrm>
              <a:off x="2725560" y="3843360"/>
              <a:ext cx="2619720" cy="356040"/>
              <a:chOff x="2725560" y="3843360"/>
              <a:chExt cx="2619720" cy="356040"/>
            </a:xfrm>
          </p:grpSpPr>
          <p:grpSp>
            <p:nvGrpSpPr>
              <p:cNvPr id="501" name=""/>
              <p:cNvGrpSpPr/>
              <p:nvPr/>
            </p:nvGrpSpPr>
            <p:grpSpPr>
              <a:xfrm>
                <a:off x="4978440" y="4025880"/>
                <a:ext cx="205200" cy="117360"/>
                <a:chOff x="4978440" y="4025880"/>
                <a:chExt cx="205200" cy="117360"/>
              </a:xfrm>
            </p:grpSpPr>
            <p:grpSp>
              <p:nvGrpSpPr>
                <p:cNvPr id="502" name=""/>
                <p:cNvGrpSpPr/>
                <p:nvPr/>
              </p:nvGrpSpPr>
              <p:grpSpPr>
                <a:xfrm>
                  <a:off x="4994280" y="4025880"/>
                  <a:ext cx="189360" cy="98280"/>
                  <a:chOff x="4994280" y="4025880"/>
                  <a:chExt cx="189360" cy="98280"/>
                </a:xfrm>
              </p:grpSpPr>
              <p:sp>
                <p:nvSpPr>
                  <p:cNvPr id="503" name=""/>
                  <p:cNvSpPr/>
                  <p:nvPr/>
                </p:nvSpPr>
                <p:spPr>
                  <a:xfrm>
                    <a:off x="5087880" y="4030560"/>
                    <a:ext cx="95760" cy="88920"/>
                  </a:xfrm>
                  <a:custGeom>
                    <a:avLst/>
                    <a:gdLst/>
                    <a:ahLst/>
                    <a:rect l="0" t="0" r="r" b="b"/>
                    <a:pathLst>
                      <a:path w="266" h="247">
                        <a:moveTo>
                          <a:pt x="0" y="116"/>
                        </a:moveTo>
                        <a:lnTo>
                          <a:pt x="0" y="116"/>
                        </a:lnTo>
                        <a:lnTo>
                          <a:pt x="0" y="117"/>
                        </a:lnTo>
                        <a:cubicBezTo>
                          <a:pt x="-1" y="138"/>
                          <a:pt x="4" y="160"/>
                          <a:pt x="15" y="179"/>
                        </a:cubicBezTo>
                        <a:cubicBezTo>
                          <a:pt x="25" y="199"/>
                          <a:pt x="41" y="215"/>
                          <a:pt x="61" y="227"/>
                        </a:cubicBezTo>
                        <a:cubicBezTo>
                          <a:pt x="81" y="239"/>
                          <a:pt x="103" y="246"/>
                          <a:pt x="127" y="247"/>
                        </a:cubicBezTo>
                        <a:cubicBezTo>
                          <a:pt x="150" y="248"/>
                          <a:pt x="173" y="244"/>
                          <a:pt x="194" y="234"/>
                        </a:cubicBezTo>
                        <a:cubicBezTo>
                          <a:pt x="215" y="224"/>
                          <a:pt x="232" y="209"/>
                          <a:pt x="245" y="191"/>
                        </a:cubicBezTo>
                        <a:cubicBezTo>
                          <a:pt x="258" y="173"/>
                          <a:pt x="265" y="152"/>
                          <a:pt x="266" y="131"/>
                        </a:cubicBezTo>
                        <a:lnTo>
                          <a:pt x="266" y="131"/>
                        </a:lnTo>
                        <a:cubicBezTo>
                          <a:pt x="266" y="130"/>
                          <a:pt x="266" y="130"/>
                          <a:pt x="266" y="130"/>
                        </a:cubicBezTo>
                        <a:cubicBezTo>
                          <a:pt x="267" y="109"/>
                          <a:pt x="262" y="87"/>
                          <a:pt x="251" y="68"/>
                        </a:cubicBezTo>
                        <a:cubicBezTo>
                          <a:pt x="241" y="48"/>
                          <a:pt x="225" y="32"/>
                          <a:pt x="205" y="20"/>
                        </a:cubicBezTo>
                        <a:cubicBezTo>
                          <a:pt x="185" y="8"/>
                          <a:pt x="163" y="1"/>
                          <a:pt x="139" y="0"/>
                        </a:cubicBezTo>
                        <a:cubicBezTo>
                          <a:pt x="116" y="-1"/>
                          <a:pt x="93" y="3"/>
                          <a:pt x="72" y="13"/>
                        </a:cubicBezTo>
                        <a:cubicBezTo>
                          <a:pt x="51" y="23"/>
                          <a:pt x="34" y="38"/>
                          <a:pt x="21" y="56"/>
                        </a:cubicBezTo>
                        <a:cubicBezTo>
                          <a:pt x="8" y="74"/>
                          <a:pt x="1" y="95"/>
                          <a:pt x="0" y="116"/>
                        </a:cubicBezTo>
                        <a:close/>
                      </a:path>
                    </a:pathLst>
                  </a:custGeom>
                  <a:solidFill>
                    <a:srgbClr val="919191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37800" bIns="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>
                    <a:off x="4994280" y="4027320"/>
                    <a:ext cx="95760" cy="88920"/>
                  </a:xfrm>
                  <a:custGeom>
                    <a:avLst/>
                    <a:gdLst/>
                    <a:ahLst/>
                    <a:rect l="0" t="0" r="r" b="b"/>
                    <a:pathLst>
                      <a:path w="266" h="247">
                        <a:moveTo>
                          <a:pt x="0" y="116"/>
                        </a:moveTo>
                        <a:lnTo>
                          <a:pt x="0" y="116"/>
                        </a:lnTo>
                        <a:lnTo>
                          <a:pt x="0" y="117"/>
                        </a:lnTo>
                        <a:cubicBezTo>
                          <a:pt x="-1" y="138"/>
                          <a:pt x="4" y="160"/>
                          <a:pt x="15" y="179"/>
                        </a:cubicBezTo>
                        <a:cubicBezTo>
                          <a:pt x="25" y="199"/>
                          <a:pt x="41" y="215"/>
                          <a:pt x="61" y="227"/>
                        </a:cubicBezTo>
                        <a:cubicBezTo>
                          <a:pt x="81" y="239"/>
                          <a:pt x="103" y="246"/>
                          <a:pt x="127" y="247"/>
                        </a:cubicBezTo>
                        <a:cubicBezTo>
                          <a:pt x="150" y="248"/>
                          <a:pt x="173" y="244"/>
                          <a:pt x="194" y="234"/>
                        </a:cubicBezTo>
                        <a:cubicBezTo>
                          <a:pt x="215" y="224"/>
                          <a:pt x="232" y="209"/>
                          <a:pt x="245" y="191"/>
                        </a:cubicBezTo>
                        <a:cubicBezTo>
                          <a:pt x="258" y="173"/>
                          <a:pt x="265" y="152"/>
                          <a:pt x="266" y="131"/>
                        </a:cubicBezTo>
                        <a:lnTo>
                          <a:pt x="266" y="131"/>
                        </a:lnTo>
                        <a:cubicBezTo>
                          <a:pt x="266" y="130"/>
                          <a:pt x="266" y="130"/>
                          <a:pt x="266" y="130"/>
                        </a:cubicBezTo>
                        <a:cubicBezTo>
                          <a:pt x="267" y="109"/>
                          <a:pt x="262" y="87"/>
                          <a:pt x="251" y="68"/>
                        </a:cubicBezTo>
                        <a:cubicBezTo>
                          <a:pt x="241" y="48"/>
                          <a:pt x="225" y="32"/>
                          <a:pt x="205" y="20"/>
                        </a:cubicBezTo>
                        <a:cubicBezTo>
                          <a:pt x="185" y="8"/>
                          <a:pt x="163" y="1"/>
                          <a:pt x="139" y="0"/>
                        </a:cubicBezTo>
                        <a:cubicBezTo>
                          <a:pt x="116" y="-1"/>
                          <a:pt x="93" y="3"/>
                          <a:pt x="72" y="13"/>
                        </a:cubicBezTo>
                        <a:cubicBezTo>
                          <a:pt x="51" y="23"/>
                          <a:pt x="34" y="38"/>
                          <a:pt x="21" y="56"/>
                        </a:cubicBezTo>
                        <a:cubicBezTo>
                          <a:pt x="8" y="74"/>
                          <a:pt x="1" y="95"/>
                          <a:pt x="0" y="116"/>
                        </a:cubicBezTo>
                        <a:close/>
                      </a:path>
                    </a:pathLst>
                  </a:custGeom>
                  <a:solidFill>
                    <a:srgbClr val="919191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37800" bIns="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 flipH="1">
                    <a:off x="5046840" y="4025880"/>
                    <a:ext cx="98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6" name=""/>
                  <p:cNvSpPr/>
                  <p:nvPr/>
                </p:nvSpPr>
                <p:spPr>
                  <a:xfrm flipH="1" flipV="1">
                    <a:off x="5045040" y="4122720"/>
                    <a:ext cx="95400" cy="1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49680" bIns="-49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>
                    <a:off x="5030640" y="4026600"/>
                    <a:ext cx="107280" cy="78840"/>
                  </a:xfrm>
                  <a:custGeom>
                    <a:avLst/>
                    <a:gdLst/>
                    <a:ahLst/>
                    <a:rect l="0" t="0" r="r" b="b"/>
                    <a:pathLst>
                      <a:path w="298" h="219">
                        <a:moveTo>
                          <a:pt x="10" y="0"/>
                        </a:moveTo>
                        <a:lnTo>
                          <a:pt x="0" y="204"/>
                        </a:lnTo>
                        <a:lnTo>
                          <a:pt x="288" y="219"/>
                        </a:lnTo>
                        <a:lnTo>
                          <a:pt x="298" y="15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919191"/>
                  </a:solidFill>
                  <a:ln w="0">
                    <a:noFill/>
                  </a:ln>
                </p:spPr>
                <p:txBody>
                  <a:bodyPr lIns="90000" rIns="90000" tIns="33840" bIns="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8" name=""/>
                <p:cNvGrpSpPr/>
                <p:nvPr/>
              </p:nvGrpSpPr>
              <p:grpSpPr>
                <a:xfrm>
                  <a:off x="4978440" y="4044960"/>
                  <a:ext cx="189360" cy="98280"/>
                  <a:chOff x="4978440" y="4044960"/>
                  <a:chExt cx="189360" cy="98280"/>
                </a:xfrm>
              </p:grpSpPr>
              <p:sp>
                <p:nvSpPr>
                  <p:cNvPr id="509" name=""/>
                  <p:cNvSpPr/>
                  <p:nvPr/>
                </p:nvSpPr>
                <p:spPr>
                  <a:xfrm>
                    <a:off x="5072040" y="4049640"/>
                    <a:ext cx="95760" cy="88920"/>
                  </a:xfrm>
                  <a:custGeom>
                    <a:avLst/>
                    <a:gdLst/>
                    <a:ahLst/>
                    <a:rect l="0" t="0" r="r" b="b"/>
                    <a:pathLst>
                      <a:path w="266" h="247">
                        <a:moveTo>
                          <a:pt x="0" y="116"/>
                        </a:moveTo>
                        <a:lnTo>
                          <a:pt x="0" y="116"/>
                        </a:lnTo>
                        <a:lnTo>
                          <a:pt x="0" y="117"/>
                        </a:lnTo>
                        <a:cubicBezTo>
                          <a:pt x="-1" y="138"/>
                          <a:pt x="4" y="160"/>
                          <a:pt x="15" y="179"/>
                        </a:cubicBezTo>
                        <a:cubicBezTo>
                          <a:pt x="25" y="199"/>
                          <a:pt x="41" y="215"/>
                          <a:pt x="61" y="227"/>
                        </a:cubicBezTo>
                        <a:cubicBezTo>
                          <a:pt x="81" y="239"/>
                          <a:pt x="103" y="246"/>
                          <a:pt x="127" y="247"/>
                        </a:cubicBezTo>
                        <a:cubicBezTo>
                          <a:pt x="150" y="248"/>
                          <a:pt x="173" y="244"/>
                          <a:pt x="194" y="234"/>
                        </a:cubicBezTo>
                        <a:cubicBezTo>
                          <a:pt x="215" y="224"/>
                          <a:pt x="232" y="209"/>
                          <a:pt x="245" y="191"/>
                        </a:cubicBezTo>
                        <a:cubicBezTo>
                          <a:pt x="258" y="173"/>
                          <a:pt x="265" y="152"/>
                          <a:pt x="266" y="131"/>
                        </a:cubicBezTo>
                        <a:lnTo>
                          <a:pt x="266" y="131"/>
                        </a:lnTo>
                        <a:cubicBezTo>
                          <a:pt x="266" y="130"/>
                          <a:pt x="266" y="130"/>
                          <a:pt x="266" y="130"/>
                        </a:cubicBezTo>
                        <a:cubicBezTo>
                          <a:pt x="267" y="109"/>
                          <a:pt x="262" y="87"/>
                          <a:pt x="251" y="68"/>
                        </a:cubicBezTo>
                        <a:cubicBezTo>
                          <a:pt x="241" y="48"/>
                          <a:pt x="225" y="32"/>
                          <a:pt x="205" y="20"/>
                        </a:cubicBezTo>
                        <a:cubicBezTo>
                          <a:pt x="185" y="8"/>
                          <a:pt x="163" y="1"/>
                          <a:pt x="139" y="0"/>
                        </a:cubicBezTo>
                        <a:cubicBezTo>
                          <a:pt x="116" y="-1"/>
                          <a:pt x="93" y="3"/>
                          <a:pt x="72" y="13"/>
                        </a:cubicBezTo>
                        <a:cubicBezTo>
                          <a:pt x="51" y="23"/>
                          <a:pt x="34" y="38"/>
                          <a:pt x="21" y="56"/>
                        </a:cubicBezTo>
                        <a:cubicBezTo>
                          <a:pt x="8" y="74"/>
                          <a:pt x="1" y="95"/>
                          <a:pt x="0" y="116"/>
                        </a:cubicBezTo>
                        <a:close/>
                      </a:path>
                    </a:pathLst>
                  </a:custGeom>
                  <a:solidFill>
                    <a:srgbClr val="919191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37800" bIns="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>
                    <a:off x="4978440" y="4046400"/>
                    <a:ext cx="95760" cy="88920"/>
                  </a:xfrm>
                  <a:custGeom>
                    <a:avLst/>
                    <a:gdLst/>
                    <a:ahLst/>
                    <a:rect l="0" t="0" r="r" b="b"/>
                    <a:pathLst>
                      <a:path w="266" h="247">
                        <a:moveTo>
                          <a:pt x="0" y="116"/>
                        </a:moveTo>
                        <a:lnTo>
                          <a:pt x="0" y="116"/>
                        </a:lnTo>
                        <a:lnTo>
                          <a:pt x="0" y="117"/>
                        </a:lnTo>
                        <a:cubicBezTo>
                          <a:pt x="-1" y="138"/>
                          <a:pt x="4" y="160"/>
                          <a:pt x="15" y="179"/>
                        </a:cubicBezTo>
                        <a:cubicBezTo>
                          <a:pt x="25" y="199"/>
                          <a:pt x="41" y="215"/>
                          <a:pt x="61" y="227"/>
                        </a:cubicBezTo>
                        <a:cubicBezTo>
                          <a:pt x="81" y="239"/>
                          <a:pt x="103" y="246"/>
                          <a:pt x="127" y="247"/>
                        </a:cubicBezTo>
                        <a:cubicBezTo>
                          <a:pt x="150" y="248"/>
                          <a:pt x="173" y="244"/>
                          <a:pt x="194" y="234"/>
                        </a:cubicBezTo>
                        <a:cubicBezTo>
                          <a:pt x="215" y="224"/>
                          <a:pt x="232" y="209"/>
                          <a:pt x="245" y="191"/>
                        </a:cubicBezTo>
                        <a:cubicBezTo>
                          <a:pt x="258" y="173"/>
                          <a:pt x="265" y="152"/>
                          <a:pt x="266" y="131"/>
                        </a:cubicBezTo>
                        <a:lnTo>
                          <a:pt x="266" y="131"/>
                        </a:lnTo>
                        <a:cubicBezTo>
                          <a:pt x="266" y="130"/>
                          <a:pt x="266" y="130"/>
                          <a:pt x="266" y="130"/>
                        </a:cubicBezTo>
                        <a:cubicBezTo>
                          <a:pt x="267" y="109"/>
                          <a:pt x="262" y="87"/>
                          <a:pt x="251" y="68"/>
                        </a:cubicBezTo>
                        <a:cubicBezTo>
                          <a:pt x="241" y="48"/>
                          <a:pt x="225" y="32"/>
                          <a:pt x="205" y="20"/>
                        </a:cubicBezTo>
                        <a:cubicBezTo>
                          <a:pt x="185" y="8"/>
                          <a:pt x="163" y="1"/>
                          <a:pt x="139" y="0"/>
                        </a:cubicBezTo>
                        <a:cubicBezTo>
                          <a:pt x="116" y="-1"/>
                          <a:pt x="93" y="3"/>
                          <a:pt x="72" y="13"/>
                        </a:cubicBezTo>
                        <a:cubicBezTo>
                          <a:pt x="51" y="23"/>
                          <a:pt x="34" y="38"/>
                          <a:pt x="21" y="56"/>
                        </a:cubicBezTo>
                        <a:cubicBezTo>
                          <a:pt x="8" y="74"/>
                          <a:pt x="1" y="95"/>
                          <a:pt x="0" y="116"/>
                        </a:cubicBezTo>
                        <a:close/>
                      </a:path>
                    </a:pathLst>
                  </a:custGeom>
                  <a:solidFill>
                    <a:srgbClr val="919191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37800" bIns="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 flipH="1">
                    <a:off x="5033880" y="4044960"/>
                    <a:ext cx="921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 flipH="1" flipV="1">
                    <a:off x="5035680" y="4141800"/>
                    <a:ext cx="91800" cy="1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49680" bIns="-49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>
                    <a:off x="5014800" y="4050000"/>
                    <a:ext cx="110160" cy="74160"/>
                  </a:xfrm>
                  <a:custGeom>
                    <a:avLst/>
                    <a:gdLst/>
                    <a:ahLst/>
                    <a:rect l="0" t="0" r="r" b="b"/>
                    <a:pathLst>
                      <a:path w="306" h="206">
                        <a:moveTo>
                          <a:pt x="9" y="0"/>
                        </a:moveTo>
                        <a:lnTo>
                          <a:pt x="0" y="191"/>
                        </a:lnTo>
                        <a:lnTo>
                          <a:pt x="297" y="206"/>
                        </a:lnTo>
                        <a:lnTo>
                          <a:pt x="306" y="15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919191"/>
                  </a:solidFill>
                  <a:ln w="0">
                    <a:noFill/>
                  </a:ln>
                </p:spPr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14" name=""/>
              <p:cNvSpPr/>
              <p:nvPr/>
            </p:nvSpPr>
            <p:spPr>
              <a:xfrm>
                <a:off x="2725560" y="3843360"/>
                <a:ext cx="2619720" cy="356040"/>
              </a:xfrm>
              <a:custGeom>
                <a:avLst/>
                <a:gdLst/>
                <a:ahLst/>
                <a:rect l="0" t="0" r="r" b="b"/>
                <a:pathLst>
                  <a:path fill="none" w="7277" h="989">
                    <a:moveTo>
                      <a:pt x="0" y="0"/>
                    </a:moveTo>
                    <a:lnTo>
                      <a:pt x="7277" y="352"/>
                    </a:lnTo>
                    <a:lnTo>
                      <a:pt x="7277" y="989"/>
                    </a:lnTo>
                    <a:lnTo>
                      <a:pt x="0" y="619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2754360" y="3924360"/>
                <a:ext cx="61920" cy="65160"/>
              </a:xfrm>
              <a:prstGeom prst="ellipse">
                <a:avLst/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5235480" y="4041720"/>
                <a:ext cx="60480" cy="65160"/>
              </a:xfrm>
              <a:prstGeom prst="ellipse">
                <a:avLst/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7" name=""/>
              <p:cNvGrpSpPr/>
              <p:nvPr/>
            </p:nvGrpSpPr>
            <p:grpSpPr>
              <a:xfrm>
                <a:off x="4726080" y="4019400"/>
                <a:ext cx="206640" cy="117720"/>
                <a:chOff x="4726080" y="4019400"/>
                <a:chExt cx="206640" cy="117720"/>
              </a:xfrm>
            </p:grpSpPr>
            <p:grpSp>
              <p:nvGrpSpPr>
                <p:cNvPr id="518" name=""/>
                <p:cNvGrpSpPr/>
                <p:nvPr/>
              </p:nvGrpSpPr>
              <p:grpSpPr>
                <a:xfrm>
                  <a:off x="4741920" y="4019400"/>
                  <a:ext cx="190800" cy="98640"/>
                  <a:chOff x="4741920" y="4019400"/>
                  <a:chExt cx="190800" cy="98640"/>
                </a:xfrm>
              </p:grpSpPr>
              <p:sp>
                <p:nvSpPr>
                  <p:cNvPr id="519" name=""/>
                  <p:cNvSpPr/>
                  <p:nvPr/>
                </p:nvSpPr>
                <p:spPr>
                  <a:xfrm>
                    <a:off x="4835520" y="4024440"/>
                    <a:ext cx="97200" cy="88920"/>
                  </a:xfrm>
                  <a:custGeom>
                    <a:avLst/>
                    <a:gdLst/>
                    <a:ahLst/>
                    <a:rect l="0" t="0" r="r" b="b"/>
                    <a:pathLst>
                      <a:path w="270" h="247">
                        <a:moveTo>
                          <a:pt x="0" y="116"/>
                        </a:moveTo>
                        <a:lnTo>
                          <a:pt x="0" y="116"/>
                        </a:lnTo>
                        <a:cubicBezTo>
                          <a:pt x="-1" y="138"/>
                          <a:pt x="4" y="160"/>
                          <a:pt x="15" y="179"/>
                        </a:cubicBezTo>
                        <a:cubicBezTo>
                          <a:pt x="26" y="199"/>
                          <a:pt x="42" y="215"/>
                          <a:pt x="62" y="227"/>
                        </a:cubicBezTo>
                        <a:cubicBezTo>
                          <a:pt x="82" y="239"/>
                          <a:pt x="105" y="246"/>
                          <a:pt x="129" y="247"/>
                        </a:cubicBezTo>
                        <a:cubicBezTo>
                          <a:pt x="152" y="248"/>
                          <a:pt x="176" y="244"/>
                          <a:pt x="197" y="234"/>
                        </a:cubicBezTo>
                        <a:cubicBezTo>
                          <a:pt x="218" y="224"/>
                          <a:pt x="236" y="210"/>
                          <a:pt x="249" y="191"/>
                        </a:cubicBezTo>
                        <a:cubicBezTo>
                          <a:pt x="262" y="173"/>
                          <a:pt x="269" y="152"/>
                          <a:pt x="270" y="131"/>
                        </a:cubicBezTo>
                        <a:lnTo>
                          <a:pt x="270" y="131"/>
                        </a:lnTo>
                        <a:lnTo>
                          <a:pt x="270" y="131"/>
                        </a:lnTo>
                        <a:cubicBezTo>
                          <a:pt x="271" y="109"/>
                          <a:pt x="266" y="87"/>
                          <a:pt x="255" y="68"/>
                        </a:cubicBezTo>
                        <a:cubicBezTo>
                          <a:pt x="244" y="48"/>
                          <a:pt x="228" y="32"/>
                          <a:pt x="208" y="20"/>
                        </a:cubicBezTo>
                        <a:cubicBezTo>
                          <a:pt x="188" y="8"/>
                          <a:pt x="165" y="1"/>
                          <a:pt x="141" y="0"/>
                        </a:cubicBezTo>
                        <a:cubicBezTo>
                          <a:pt x="118" y="-1"/>
                          <a:pt x="94" y="3"/>
                          <a:pt x="73" y="13"/>
                        </a:cubicBezTo>
                        <a:cubicBezTo>
                          <a:pt x="52" y="23"/>
                          <a:pt x="34" y="37"/>
                          <a:pt x="21" y="56"/>
                        </a:cubicBezTo>
                        <a:cubicBezTo>
                          <a:pt x="8" y="74"/>
                          <a:pt x="1" y="95"/>
                          <a:pt x="0" y="116"/>
                        </a:cubicBezTo>
                        <a:close/>
                      </a:path>
                    </a:pathLst>
                  </a:custGeom>
                  <a:solidFill>
                    <a:srgbClr val="919191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37800" bIns="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>
                    <a:off x="4741920" y="4021200"/>
                    <a:ext cx="97200" cy="88920"/>
                  </a:xfrm>
                  <a:custGeom>
                    <a:avLst/>
                    <a:gdLst/>
                    <a:ahLst/>
                    <a:rect l="0" t="0" r="r" b="b"/>
                    <a:pathLst>
                      <a:path w="270" h="247">
                        <a:moveTo>
                          <a:pt x="0" y="116"/>
                        </a:moveTo>
                        <a:lnTo>
                          <a:pt x="0" y="116"/>
                        </a:lnTo>
                        <a:cubicBezTo>
                          <a:pt x="-1" y="138"/>
                          <a:pt x="4" y="160"/>
                          <a:pt x="15" y="179"/>
                        </a:cubicBezTo>
                        <a:cubicBezTo>
                          <a:pt x="26" y="199"/>
                          <a:pt x="42" y="215"/>
                          <a:pt x="62" y="227"/>
                        </a:cubicBezTo>
                        <a:cubicBezTo>
                          <a:pt x="82" y="239"/>
                          <a:pt x="105" y="246"/>
                          <a:pt x="129" y="247"/>
                        </a:cubicBezTo>
                        <a:cubicBezTo>
                          <a:pt x="152" y="248"/>
                          <a:pt x="176" y="244"/>
                          <a:pt x="197" y="234"/>
                        </a:cubicBezTo>
                        <a:cubicBezTo>
                          <a:pt x="218" y="224"/>
                          <a:pt x="236" y="210"/>
                          <a:pt x="249" y="191"/>
                        </a:cubicBezTo>
                        <a:cubicBezTo>
                          <a:pt x="262" y="173"/>
                          <a:pt x="269" y="152"/>
                          <a:pt x="270" y="131"/>
                        </a:cubicBezTo>
                        <a:lnTo>
                          <a:pt x="270" y="131"/>
                        </a:lnTo>
                        <a:lnTo>
                          <a:pt x="270" y="131"/>
                        </a:lnTo>
                        <a:cubicBezTo>
                          <a:pt x="271" y="109"/>
                          <a:pt x="266" y="87"/>
                          <a:pt x="255" y="68"/>
                        </a:cubicBezTo>
                        <a:cubicBezTo>
                          <a:pt x="244" y="48"/>
                          <a:pt x="228" y="32"/>
                          <a:pt x="208" y="20"/>
                        </a:cubicBezTo>
                        <a:cubicBezTo>
                          <a:pt x="188" y="8"/>
                          <a:pt x="165" y="1"/>
                          <a:pt x="141" y="0"/>
                        </a:cubicBezTo>
                        <a:cubicBezTo>
                          <a:pt x="118" y="-1"/>
                          <a:pt x="94" y="3"/>
                          <a:pt x="73" y="13"/>
                        </a:cubicBezTo>
                        <a:cubicBezTo>
                          <a:pt x="52" y="23"/>
                          <a:pt x="34" y="37"/>
                          <a:pt x="21" y="56"/>
                        </a:cubicBezTo>
                        <a:cubicBezTo>
                          <a:pt x="8" y="74"/>
                          <a:pt x="1" y="95"/>
                          <a:pt x="0" y="116"/>
                        </a:cubicBezTo>
                        <a:close/>
                      </a:path>
                    </a:pathLst>
                  </a:custGeom>
                  <a:solidFill>
                    <a:srgbClr val="919191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37800" bIns="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 flipH="1">
                    <a:off x="4795920" y="4019400"/>
                    <a:ext cx="98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 flipH="1" flipV="1">
                    <a:off x="4794120" y="4116240"/>
                    <a:ext cx="95400" cy="1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49320" bIns="-49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>
                    <a:off x="4778280" y="4020120"/>
                    <a:ext cx="108720" cy="78840"/>
                  </a:xfrm>
                  <a:custGeom>
                    <a:avLst/>
                    <a:gdLst/>
                    <a:ahLst/>
                    <a:rect l="0" t="0" r="r" b="b"/>
                    <a:pathLst>
                      <a:path w="302" h="219">
                        <a:moveTo>
                          <a:pt x="10" y="0"/>
                        </a:moveTo>
                        <a:lnTo>
                          <a:pt x="0" y="204"/>
                        </a:lnTo>
                        <a:lnTo>
                          <a:pt x="291" y="219"/>
                        </a:lnTo>
                        <a:lnTo>
                          <a:pt x="302" y="15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919191"/>
                  </a:solidFill>
                  <a:ln w="0">
                    <a:noFill/>
                  </a:ln>
                </p:spPr>
                <p:txBody>
                  <a:bodyPr lIns="90000" rIns="90000" tIns="33840" bIns="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4" name=""/>
                <p:cNvGrpSpPr/>
                <p:nvPr/>
              </p:nvGrpSpPr>
              <p:grpSpPr>
                <a:xfrm>
                  <a:off x="4726080" y="4038480"/>
                  <a:ext cx="190800" cy="98640"/>
                  <a:chOff x="4726080" y="4038480"/>
                  <a:chExt cx="190800" cy="98640"/>
                </a:xfrm>
              </p:grpSpPr>
              <p:sp>
                <p:nvSpPr>
                  <p:cNvPr id="525" name=""/>
                  <p:cNvSpPr/>
                  <p:nvPr/>
                </p:nvSpPr>
                <p:spPr>
                  <a:xfrm>
                    <a:off x="4819680" y="4043520"/>
                    <a:ext cx="97200" cy="88920"/>
                  </a:xfrm>
                  <a:custGeom>
                    <a:avLst/>
                    <a:gdLst/>
                    <a:ahLst/>
                    <a:rect l="0" t="0" r="r" b="b"/>
                    <a:pathLst>
                      <a:path w="270" h="247">
                        <a:moveTo>
                          <a:pt x="0" y="116"/>
                        </a:moveTo>
                        <a:lnTo>
                          <a:pt x="0" y="116"/>
                        </a:lnTo>
                        <a:cubicBezTo>
                          <a:pt x="-1" y="138"/>
                          <a:pt x="4" y="160"/>
                          <a:pt x="15" y="179"/>
                        </a:cubicBezTo>
                        <a:cubicBezTo>
                          <a:pt x="26" y="199"/>
                          <a:pt x="42" y="215"/>
                          <a:pt x="62" y="227"/>
                        </a:cubicBezTo>
                        <a:cubicBezTo>
                          <a:pt x="82" y="239"/>
                          <a:pt x="105" y="246"/>
                          <a:pt x="129" y="247"/>
                        </a:cubicBezTo>
                        <a:cubicBezTo>
                          <a:pt x="152" y="248"/>
                          <a:pt x="176" y="244"/>
                          <a:pt x="197" y="234"/>
                        </a:cubicBezTo>
                        <a:cubicBezTo>
                          <a:pt x="218" y="224"/>
                          <a:pt x="236" y="210"/>
                          <a:pt x="249" y="191"/>
                        </a:cubicBezTo>
                        <a:cubicBezTo>
                          <a:pt x="262" y="173"/>
                          <a:pt x="269" y="152"/>
                          <a:pt x="270" y="131"/>
                        </a:cubicBezTo>
                        <a:lnTo>
                          <a:pt x="270" y="131"/>
                        </a:lnTo>
                        <a:lnTo>
                          <a:pt x="270" y="131"/>
                        </a:lnTo>
                        <a:cubicBezTo>
                          <a:pt x="271" y="109"/>
                          <a:pt x="266" y="87"/>
                          <a:pt x="255" y="68"/>
                        </a:cubicBezTo>
                        <a:cubicBezTo>
                          <a:pt x="244" y="48"/>
                          <a:pt x="228" y="32"/>
                          <a:pt x="208" y="20"/>
                        </a:cubicBezTo>
                        <a:cubicBezTo>
                          <a:pt x="188" y="8"/>
                          <a:pt x="165" y="1"/>
                          <a:pt x="141" y="0"/>
                        </a:cubicBezTo>
                        <a:cubicBezTo>
                          <a:pt x="118" y="-1"/>
                          <a:pt x="94" y="3"/>
                          <a:pt x="73" y="13"/>
                        </a:cubicBezTo>
                        <a:cubicBezTo>
                          <a:pt x="52" y="23"/>
                          <a:pt x="34" y="37"/>
                          <a:pt x="21" y="56"/>
                        </a:cubicBezTo>
                        <a:cubicBezTo>
                          <a:pt x="8" y="74"/>
                          <a:pt x="1" y="95"/>
                          <a:pt x="0" y="116"/>
                        </a:cubicBezTo>
                        <a:close/>
                      </a:path>
                    </a:pathLst>
                  </a:custGeom>
                  <a:solidFill>
                    <a:srgbClr val="919191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37800" bIns="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6" name=""/>
                  <p:cNvSpPr/>
                  <p:nvPr/>
                </p:nvSpPr>
                <p:spPr>
                  <a:xfrm>
                    <a:off x="4726080" y="4039920"/>
                    <a:ext cx="97200" cy="89280"/>
                  </a:xfrm>
                  <a:custGeom>
                    <a:avLst/>
                    <a:gdLst/>
                    <a:ahLst/>
                    <a:rect l="0" t="0" r="r" b="b"/>
                    <a:pathLst>
                      <a:path w="270" h="248">
                        <a:moveTo>
                          <a:pt x="0" y="117"/>
                        </a:moveTo>
                        <a:lnTo>
                          <a:pt x="0" y="117"/>
                        </a:lnTo>
                        <a:cubicBezTo>
                          <a:pt x="-1" y="139"/>
                          <a:pt x="4" y="160"/>
                          <a:pt x="15" y="180"/>
                        </a:cubicBezTo>
                        <a:cubicBezTo>
                          <a:pt x="26" y="199"/>
                          <a:pt x="42" y="216"/>
                          <a:pt x="62" y="228"/>
                        </a:cubicBezTo>
                        <a:cubicBezTo>
                          <a:pt x="82" y="240"/>
                          <a:pt x="105" y="247"/>
                          <a:pt x="129" y="248"/>
                        </a:cubicBezTo>
                        <a:cubicBezTo>
                          <a:pt x="152" y="249"/>
                          <a:pt x="176" y="245"/>
                          <a:pt x="197" y="235"/>
                        </a:cubicBezTo>
                        <a:cubicBezTo>
                          <a:pt x="218" y="225"/>
                          <a:pt x="236" y="210"/>
                          <a:pt x="249" y="192"/>
                        </a:cubicBezTo>
                        <a:cubicBezTo>
                          <a:pt x="262" y="174"/>
                          <a:pt x="269" y="153"/>
                          <a:pt x="270" y="131"/>
                        </a:cubicBezTo>
                        <a:lnTo>
                          <a:pt x="270" y="131"/>
                        </a:lnTo>
                        <a:lnTo>
                          <a:pt x="270" y="131"/>
                        </a:lnTo>
                        <a:cubicBezTo>
                          <a:pt x="271" y="109"/>
                          <a:pt x="266" y="88"/>
                          <a:pt x="255" y="68"/>
                        </a:cubicBezTo>
                        <a:cubicBezTo>
                          <a:pt x="244" y="49"/>
                          <a:pt x="228" y="32"/>
                          <a:pt x="208" y="20"/>
                        </a:cubicBezTo>
                        <a:cubicBezTo>
                          <a:pt x="188" y="8"/>
                          <a:pt x="165" y="1"/>
                          <a:pt x="141" y="0"/>
                        </a:cubicBezTo>
                        <a:cubicBezTo>
                          <a:pt x="118" y="-1"/>
                          <a:pt x="94" y="3"/>
                          <a:pt x="73" y="13"/>
                        </a:cubicBezTo>
                        <a:cubicBezTo>
                          <a:pt x="52" y="23"/>
                          <a:pt x="34" y="38"/>
                          <a:pt x="21" y="56"/>
                        </a:cubicBezTo>
                        <a:cubicBezTo>
                          <a:pt x="8" y="74"/>
                          <a:pt x="1" y="95"/>
                          <a:pt x="0" y="117"/>
                        </a:cubicBezTo>
                        <a:close/>
                      </a:path>
                    </a:pathLst>
                  </a:custGeom>
                  <a:solidFill>
                    <a:srgbClr val="919191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38160" bIns="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7" name=""/>
                  <p:cNvSpPr/>
                  <p:nvPr/>
                </p:nvSpPr>
                <p:spPr>
                  <a:xfrm flipH="1">
                    <a:off x="4782960" y="4038480"/>
                    <a:ext cx="921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8" name=""/>
                  <p:cNvSpPr/>
                  <p:nvPr/>
                </p:nvSpPr>
                <p:spPr>
                  <a:xfrm flipH="1" flipV="1">
                    <a:off x="4784760" y="4135320"/>
                    <a:ext cx="92160" cy="1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49320" bIns="-49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9" name=""/>
                  <p:cNvSpPr/>
                  <p:nvPr/>
                </p:nvSpPr>
                <p:spPr>
                  <a:xfrm>
                    <a:off x="4762440" y="4043880"/>
                    <a:ext cx="111600" cy="74160"/>
                  </a:xfrm>
                  <a:custGeom>
                    <a:avLst/>
                    <a:gdLst/>
                    <a:ahLst/>
                    <a:rect l="0" t="0" r="r" b="b"/>
                    <a:pathLst>
                      <a:path w="310" h="206">
                        <a:moveTo>
                          <a:pt x="9" y="0"/>
                        </a:moveTo>
                        <a:lnTo>
                          <a:pt x="0" y="190"/>
                        </a:lnTo>
                        <a:lnTo>
                          <a:pt x="300" y="206"/>
                        </a:lnTo>
                        <a:lnTo>
                          <a:pt x="310" y="15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919191"/>
                  </a:solidFill>
                  <a:ln w="0">
                    <a:noFill/>
                  </a:ln>
                </p:spPr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30" name=""/>
              <p:cNvGrpSpPr/>
              <p:nvPr/>
            </p:nvGrpSpPr>
            <p:grpSpPr>
              <a:xfrm>
                <a:off x="4194000" y="3975120"/>
                <a:ext cx="497160" cy="151200"/>
                <a:chOff x="4194000" y="3975120"/>
                <a:chExt cx="497160" cy="151200"/>
              </a:xfrm>
            </p:grpSpPr>
            <p:sp>
              <p:nvSpPr>
                <p:cNvPr id="531" name=""/>
                <p:cNvSpPr/>
                <p:nvPr/>
              </p:nvSpPr>
              <p:spPr>
                <a:xfrm>
                  <a:off x="4194000" y="3975120"/>
                  <a:ext cx="109800" cy="132120"/>
                </a:xfrm>
                <a:custGeom>
                  <a:avLst/>
                  <a:gdLst/>
                  <a:ahLst/>
                  <a:rect l="0" t="0" r="r" b="b"/>
                  <a:pathLst>
                    <a:path w="305" h="367">
                      <a:moveTo>
                        <a:pt x="0" y="0"/>
                      </a:moveTo>
                      <a:lnTo>
                        <a:pt x="305" y="9"/>
                      </a:lnTo>
                      <a:lnTo>
                        <a:pt x="305" y="294"/>
                      </a:lnTo>
                      <a:lnTo>
                        <a:pt x="232" y="294"/>
                      </a:lnTo>
                      <a:lnTo>
                        <a:pt x="232" y="367"/>
                      </a:lnTo>
                      <a:lnTo>
                        <a:pt x="81" y="353"/>
                      </a:lnTo>
                      <a:lnTo>
                        <a:pt x="81" y="281"/>
                      </a:lnTo>
                      <a:lnTo>
                        <a:pt x="0" y="28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4322880" y="3983040"/>
                  <a:ext cx="109800" cy="132120"/>
                </a:xfrm>
                <a:custGeom>
                  <a:avLst/>
                  <a:gdLst/>
                  <a:ahLst/>
                  <a:rect l="0" t="0" r="r" b="b"/>
                  <a:pathLst>
                    <a:path w="305" h="367">
                      <a:moveTo>
                        <a:pt x="0" y="0"/>
                      </a:moveTo>
                      <a:lnTo>
                        <a:pt x="305" y="9"/>
                      </a:lnTo>
                      <a:lnTo>
                        <a:pt x="305" y="294"/>
                      </a:lnTo>
                      <a:lnTo>
                        <a:pt x="232" y="294"/>
                      </a:lnTo>
                      <a:lnTo>
                        <a:pt x="232" y="367"/>
                      </a:lnTo>
                      <a:lnTo>
                        <a:pt x="81" y="353"/>
                      </a:lnTo>
                      <a:lnTo>
                        <a:pt x="81" y="281"/>
                      </a:lnTo>
                      <a:lnTo>
                        <a:pt x="0" y="28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4452840" y="3986280"/>
                  <a:ext cx="109800" cy="132120"/>
                </a:xfrm>
                <a:custGeom>
                  <a:avLst/>
                  <a:gdLst/>
                  <a:ahLst/>
                  <a:rect l="0" t="0" r="r" b="b"/>
                  <a:pathLst>
                    <a:path w="305" h="367">
                      <a:moveTo>
                        <a:pt x="0" y="0"/>
                      </a:moveTo>
                      <a:lnTo>
                        <a:pt x="305" y="9"/>
                      </a:lnTo>
                      <a:lnTo>
                        <a:pt x="305" y="294"/>
                      </a:lnTo>
                      <a:lnTo>
                        <a:pt x="232" y="294"/>
                      </a:lnTo>
                      <a:lnTo>
                        <a:pt x="232" y="367"/>
                      </a:lnTo>
                      <a:lnTo>
                        <a:pt x="81" y="353"/>
                      </a:lnTo>
                      <a:lnTo>
                        <a:pt x="81" y="281"/>
                      </a:lnTo>
                      <a:lnTo>
                        <a:pt x="0" y="28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4581360" y="3994200"/>
                  <a:ext cx="109800" cy="132120"/>
                </a:xfrm>
                <a:custGeom>
                  <a:avLst/>
                  <a:gdLst/>
                  <a:ahLst/>
                  <a:rect l="0" t="0" r="r" b="b"/>
                  <a:pathLst>
                    <a:path w="305" h="367">
                      <a:moveTo>
                        <a:pt x="0" y="0"/>
                      </a:moveTo>
                      <a:lnTo>
                        <a:pt x="305" y="9"/>
                      </a:lnTo>
                      <a:lnTo>
                        <a:pt x="305" y="294"/>
                      </a:lnTo>
                      <a:lnTo>
                        <a:pt x="232" y="294"/>
                      </a:lnTo>
                      <a:lnTo>
                        <a:pt x="232" y="367"/>
                      </a:lnTo>
                      <a:lnTo>
                        <a:pt x="81" y="353"/>
                      </a:lnTo>
                      <a:lnTo>
                        <a:pt x="81" y="281"/>
                      </a:lnTo>
                      <a:lnTo>
                        <a:pt x="0" y="28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5" name=""/>
              <p:cNvGrpSpPr/>
              <p:nvPr/>
            </p:nvGrpSpPr>
            <p:grpSpPr>
              <a:xfrm>
                <a:off x="3633840" y="3946680"/>
                <a:ext cx="497160" cy="149400"/>
                <a:chOff x="3633840" y="3946680"/>
                <a:chExt cx="497160" cy="14940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3633840" y="3946680"/>
                  <a:ext cx="109800" cy="132120"/>
                </a:xfrm>
                <a:custGeom>
                  <a:avLst/>
                  <a:gdLst/>
                  <a:ahLst/>
                  <a:rect l="0" t="0" r="r" b="b"/>
                  <a:pathLst>
                    <a:path w="305" h="367">
                      <a:moveTo>
                        <a:pt x="0" y="0"/>
                      </a:moveTo>
                      <a:lnTo>
                        <a:pt x="305" y="9"/>
                      </a:lnTo>
                      <a:lnTo>
                        <a:pt x="305" y="294"/>
                      </a:lnTo>
                      <a:lnTo>
                        <a:pt x="232" y="294"/>
                      </a:lnTo>
                      <a:lnTo>
                        <a:pt x="232" y="367"/>
                      </a:lnTo>
                      <a:lnTo>
                        <a:pt x="81" y="353"/>
                      </a:lnTo>
                      <a:lnTo>
                        <a:pt x="81" y="281"/>
                      </a:lnTo>
                      <a:lnTo>
                        <a:pt x="0" y="28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3762360" y="3954600"/>
                  <a:ext cx="109800" cy="130680"/>
                </a:xfrm>
                <a:custGeom>
                  <a:avLst/>
                  <a:gdLst/>
                  <a:ahLst/>
                  <a:rect l="0" t="0" r="r" b="b"/>
                  <a:pathLst>
                    <a:path w="305" h="363">
                      <a:moveTo>
                        <a:pt x="0" y="0"/>
                      </a:moveTo>
                      <a:lnTo>
                        <a:pt x="305" y="9"/>
                      </a:lnTo>
                      <a:lnTo>
                        <a:pt x="305" y="291"/>
                      </a:lnTo>
                      <a:lnTo>
                        <a:pt x="232" y="291"/>
                      </a:lnTo>
                      <a:lnTo>
                        <a:pt x="232" y="363"/>
                      </a:lnTo>
                      <a:lnTo>
                        <a:pt x="81" y="350"/>
                      </a:lnTo>
                      <a:lnTo>
                        <a:pt x="81" y="277"/>
                      </a:lnTo>
                      <a:lnTo>
                        <a:pt x="0" y="27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3892680" y="3957480"/>
                  <a:ext cx="109800" cy="130680"/>
                </a:xfrm>
                <a:custGeom>
                  <a:avLst/>
                  <a:gdLst/>
                  <a:ahLst/>
                  <a:rect l="0" t="0" r="r" b="b"/>
                  <a:pathLst>
                    <a:path w="305" h="363">
                      <a:moveTo>
                        <a:pt x="0" y="0"/>
                      </a:moveTo>
                      <a:lnTo>
                        <a:pt x="305" y="9"/>
                      </a:lnTo>
                      <a:lnTo>
                        <a:pt x="305" y="291"/>
                      </a:lnTo>
                      <a:lnTo>
                        <a:pt x="232" y="291"/>
                      </a:lnTo>
                      <a:lnTo>
                        <a:pt x="232" y="363"/>
                      </a:lnTo>
                      <a:lnTo>
                        <a:pt x="81" y="350"/>
                      </a:lnTo>
                      <a:lnTo>
                        <a:pt x="81" y="277"/>
                      </a:lnTo>
                      <a:lnTo>
                        <a:pt x="0" y="27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4021200" y="3963960"/>
                  <a:ext cx="109800" cy="132120"/>
                </a:xfrm>
                <a:custGeom>
                  <a:avLst/>
                  <a:gdLst/>
                  <a:ahLst/>
                  <a:rect l="0" t="0" r="r" b="b"/>
                  <a:pathLst>
                    <a:path w="305" h="367">
                      <a:moveTo>
                        <a:pt x="0" y="0"/>
                      </a:moveTo>
                      <a:lnTo>
                        <a:pt x="305" y="9"/>
                      </a:lnTo>
                      <a:lnTo>
                        <a:pt x="305" y="294"/>
                      </a:lnTo>
                      <a:lnTo>
                        <a:pt x="232" y="294"/>
                      </a:lnTo>
                      <a:lnTo>
                        <a:pt x="232" y="367"/>
                      </a:lnTo>
                      <a:lnTo>
                        <a:pt x="81" y="353"/>
                      </a:lnTo>
                      <a:lnTo>
                        <a:pt x="81" y="281"/>
                      </a:lnTo>
                      <a:lnTo>
                        <a:pt x="0" y="28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0" name=""/>
              <p:cNvGrpSpPr/>
              <p:nvPr/>
            </p:nvGrpSpPr>
            <p:grpSpPr>
              <a:xfrm>
                <a:off x="3079800" y="3916440"/>
                <a:ext cx="497160" cy="151200"/>
                <a:chOff x="3079800" y="3916440"/>
                <a:chExt cx="497160" cy="15120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3079800" y="3916440"/>
                  <a:ext cx="109800" cy="132120"/>
                </a:xfrm>
                <a:custGeom>
                  <a:avLst/>
                  <a:gdLst/>
                  <a:ahLst/>
                  <a:rect l="0" t="0" r="r" b="b"/>
                  <a:pathLst>
                    <a:path w="305" h="367">
                      <a:moveTo>
                        <a:pt x="0" y="0"/>
                      </a:moveTo>
                      <a:lnTo>
                        <a:pt x="305" y="9"/>
                      </a:lnTo>
                      <a:lnTo>
                        <a:pt x="305" y="294"/>
                      </a:lnTo>
                      <a:lnTo>
                        <a:pt x="232" y="294"/>
                      </a:lnTo>
                      <a:lnTo>
                        <a:pt x="232" y="367"/>
                      </a:lnTo>
                      <a:lnTo>
                        <a:pt x="81" y="353"/>
                      </a:lnTo>
                      <a:lnTo>
                        <a:pt x="81" y="281"/>
                      </a:lnTo>
                      <a:lnTo>
                        <a:pt x="0" y="28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3208320" y="3924360"/>
                  <a:ext cx="109800" cy="132120"/>
                </a:xfrm>
                <a:custGeom>
                  <a:avLst/>
                  <a:gdLst/>
                  <a:ahLst/>
                  <a:rect l="0" t="0" r="r" b="b"/>
                  <a:pathLst>
                    <a:path w="305" h="367">
                      <a:moveTo>
                        <a:pt x="0" y="0"/>
                      </a:moveTo>
                      <a:lnTo>
                        <a:pt x="305" y="9"/>
                      </a:lnTo>
                      <a:lnTo>
                        <a:pt x="305" y="294"/>
                      </a:lnTo>
                      <a:lnTo>
                        <a:pt x="232" y="294"/>
                      </a:lnTo>
                      <a:lnTo>
                        <a:pt x="232" y="367"/>
                      </a:lnTo>
                      <a:lnTo>
                        <a:pt x="81" y="353"/>
                      </a:lnTo>
                      <a:lnTo>
                        <a:pt x="81" y="281"/>
                      </a:lnTo>
                      <a:lnTo>
                        <a:pt x="0" y="28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3338640" y="3927600"/>
                  <a:ext cx="109800" cy="132120"/>
                </a:xfrm>
                <a:custGeom>
                  <a:avLst/>
                  <a:gdLst/>
                  <a:ahLst/>
                  <a:rect l="0" t="0" r="r" b="b"/>
                  <a:pathLst>
                    <a:path w="305" h="367">
                      <a:moveTo>
                        <a:pt x="0" y="0"/>
                      </a:moveTo>
                      <a:lnTo>
                        <a:pt x="305" y="9"/>
                      </a:lnTo>
                      <a:lnTo>
                        <a:pt x="305" y="294"/>
                      </a:lnTo>
                      <a:lnTo>
                        <a:pt x="232" y="294"/>
                      </a:lnTo>
                      <a:lnTo>
                        <a:pt x="232" y="367"/>
                      </a:lnTo>
                      <a:lnTo>
                        <a:pt x="81" y="353"/>
                      </a:lnTo>
                      <a:lnTo>
                        <a:pt x="81" y="281"/>
                      </a:lnTo>
                      <a:lnTo>
                        <a:pt x="0" y="28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3467160" y="3935520"/>
                  <a:ext cx="109800" cy="132120"/>
                </a:xfrm>
                <a:custGeom>
                  <a:avLst/>
                  <a:gdLst/>
                  <a:ahLst/>
                  <a:rect l="0" t="0" r="r" b="b"/>
                  <a:pathLst>
                    <a:path w="305" h="367">
                      <a:moveTo>
                        <a:pt x="0" y="0"/>
                      </a:moveTo>
                      <a:lnTo>
                        <a:pt x="305" y="9"/>
                      </a:lnTo>
                      <a:lnTo>
                        <a:pt x="305" y="294"/>
                      </a:lnTo>
                      <a:lnTo>
                        <a:pt x="232" y="294"/>
                      </a:lnTo>
                      <a:lnTo>
                        <a:pt x="232" y="367"/>
                      </a:lnTo>
                      <a:lnTo>
                        <a:pt x="81" y="353"/>
                      </a:lnTo>
                      <a:lnTo>
                        <a:pt x="81" y="281"/>
                      </a:lnTo>
                      <a:lnTo>
                        <a:pt x="0" y="28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5" name=""/>
              <p:cNvSpPr/>
              <p:nvPr/>
            </p:nvSpPr>
            <p:spPr>
              <a:xfrm>
                <a:off x="2860560" y="3909960"/>
                <a:ext cx="109800" cy="132120"/>
              </a:xfrm>
              <a:custGeom>
                <a:avLst/>
                <a:gdLst/>
                <a:ahLst/>
                <a:rect l="0" t="0" r="r" b="b"/>
                <a:pathLst>
                  <a:path w="305" h="367">
                    <a:moveTo>
                      <a:pt x="0" y="0"/>
                    </a:moveTo>
                    <a:lnTo>
                      <a:pt x="305" y="9"/>
                    </a:lnTo>
                    <a:lnTo>
                      <a:pt x="305" y="294"/>
                    </a:lnTo>
                    <a:lnTo>
                      <a:pt x="232" y="294"/>
                    </a:lnTo>
                    <a:lnTo>
                      <a:pt x="232" y="367"/>
                    </a:lnTo>
                    <a:lnTo>
                      <a:pt x="81" y="353"/>
                    </a:lnTo>
                    <a:lnTo>
                      <a:pt x="81" y="281"/>
                    </a:lnTo>
                    <a:lnTo>
                      <a:pt x="0" y="28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46" name=""/>
            <p:cNvGrpSpPr/>
            <p:nvPr/>
          </p:nvGrpSpPr>
          <p:grpSpPr>
            <a:xfrm>
              <a:off x="2725560" y="4114800"/>
              <a:ext cx="2619720" cy="356040"/>
              <a:chOff x="2725560" y="4114800"/>
              <a:chExt cx="2619720" cy="356040"/>
            </a:xfrm>
          </p:grpSpPr>
          <p:grpSp>
            <p:nvGrpSpPr>
              <p:cNvPr id="547" name=""/>
              <p:cNvGrpSpPr/>
              <p:nvPr/>
            </p:nvGrpSpPr>
            <p:grpSpPr>
              <a:xfrm>
                <a:off x="4978440" y="4297320"/>
                <a:ext cx="205200" cy="117360"/>
                <a:chOff x="4978440" y="4297320"/>
                <a:chExt cx="205200" cy="117360"/>
              </a:xfrm>
            </p:grpSpPr>
            <p:grpSp>
              <p:nvGrpSpPr>
                <p:cNvPr id="548" name=""/>
                <p:cNvGrpSpPr/>
                <p:nvPr/>
              </p:nvGrpSpPr>
              <p:grpSpPr>
                <a:xfrm>
                  <a:off x="4994280" y="4297320"/>
                  <a:ext cx="189360" cy="98640"/>
                  <a:chOff x="4994280" y="4297320"/>
                  <a:chExt cx="189360" cy="98640"/>
                </a:xfrm>
              </p:grpSpPr>
              <p:sp>
                <p:nvSpPr>
                  <p:cNvPr id="549" name=""/>
                  <p:cNvSpPr/>
                  <p:nvPr/>
                </p:nvSpPr>
                <p:spPr>
                  <a:xfrm>
                    <a:off x="5087880" y="4302000"/>
                    <a:ext cx="95760" cy="88920"/>
                  </a:xfrm>
                  <a:custGeom>
                    <a:avLst/>
                    <a:gdLst/>
                    <a:ahLst/>
                    <a:rect l="0" t="0" r="r" b="b"/>
                    <a:pathLst>
                      <a:path w="266" h="247">
                        <a:moveTo>
                          <a:pt x="0" y="116"/>
                        </a:moveTo>
                        <a:lnTo>
                          <a:pt x="0" y="116"/>
                        </a:lnTo>
                        <a:lnTo>
                          <a:pt x="0" y="117"/>
                        </a:lnTo>
                        <a:cubicBezTo>
                          <a:pt x="-1" y="138"/>
                          <a:pt x="4" y="160"/>
                          <a:pt x="15" y="179"/>
                        </a:cubicBezTo>
                        <a:cubicBezTo>
                          <a:pt x="25" y="199"/>
                          <a:pt x="41" y="215"/>
                          <a:pt x="61" y="227"/>
                        </a:cubicBezTo>
                        <a:cubicBezTo>
                          <a:pt x="81" y="239"/>
                          <a:pt x="103" y="246"/>
                          <a:pt x="127" y="247"/>
                        </a:cubicBezTo>
                        <a:cubicBezTo>
                          <a:pt x="150" y="248"/>
                          <a:pt x="173" y="244"/>
                          <a:pt x="194" y="234"/>
                        </a:cubicBezTo>
                        <a:cubicBezTo>
                          <a:pt x="215" y="224"/>
                          <a:pt x="232" y="209"/>
                          <a:pt x="245" y="191"/>
                        </a:cubicBezTo>
                        <a:cubicBezTo>
                          <a:pt x="258" y="173"/>
                          <a:pt x="265" y="152"/>
                          <a:pt x="266" y="131"/>
                        </a:cubicBezTo>
                        <a:lnTo>
                          <a:pt x="266" y="131"/>
                        </a:lnTo>
                        <a:cubicBezTo>
                          <a:pt x="266" y="130"/>
                          <a:pt x="266" y="130"/>
                          <a:pt x="266" y="130"/>
                        </a:cubicBezTo>
                        <a:cubicBezTo>
                          <a:pt x="267" y="109"/>
                          <a:pt x="262" y="87"/>
                          <a:pt x="251" y="68"/>
                        </a:cubicBezTo>
                        <a:cubicBezTo>
                          <a:pt x="241" y="48"/>
                          <a:pt x="225" y="32"/>
                          <a:pt x="205" y="20"/>
                        </a:cubicBezTo>
                        <a:cubicBezTo>
                          <a:pt x="185" y="8"/>
                          <a:pt x="163" y="1"/>
                          <a:pt x="139" y="0"/>
                        </a:cubicBezTo>
                        <a:cubicBezTo>
                          <a:pt x="116" y="-1"/>
                          <a:pt x="93" y="3"/>
                          <a:pt x="72" y="13"/>
                        </a:cubicBezTo>
                        <a:cubicBezTo>
                          <a:pt x="51" y="23"/>
                          <a:pt x="34" y="38"/>
                          <a:pt x="21" y="56"/>
                        </a:cubicBezTo>
                        <a:cubicBezTo>
                          <a:pt x="8" y="74"/>
                          <a:pt x="1" y="95"/>
                          <a:pt x="0" y="116"/>
                        </a:cubicBezTo>
                        <a:close/>
                      </a:path>
                    </a:pathLst>
                  </a:custGeom>
                  <a:solidFill>
                    <a:srgbClr val="919191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37800" bIns="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>
                    <a:off x="4994280" y="4298760"/>
                    <a:ext cx="95760" cy="88920"/>
                  </a:xfrm>
                  <a:custGeom>
                    <a:avLst/>
                    <a:gdLst/>
                    <a:ahLst/>
                    <a:rect l="0" t="0" r="r" b="b"/>
                    <a:pathLst>
                      <a:path w="266" h="247">
                        <a:moveTo>
                          <a:pt x="0" y="116"/>
                        </a:moveTo>
                        <a:lnTo>
                          <a:pt x="0" y="116"/>
                        </a:lnTo>
                        <a:lnTo>
                          <a:pt x="0" y="117"/>
                        </a:lnTo>
                        <a:cubicBezTo>
                          <a:pt x="-1" y="138"/>
                          <a:pt x="4" y="160"/>
                          <a:pt x="15" y="179"/>
                        </a:cubicBezTo>
                        <a:cubicBezTo>
                          <a:pt x="25" y="199"/>
                          <a:pt x="41" y="215"/>
                          <a:pt x="61" y="227"/>
                        </a:cubicBezTo>
                        <a:cubicBezTo>
                          <a:pt x="81" y="239"/>
                          <a:pt x="103" y="246"/>
                          <a:pt x="127" y="247"/>
                        </a:cubicBezTo>
                        <a:cubicBezTo>
                          <a:pt x="150" y="248"/>
                          <a:pt x="173" y="244"/>
                          <a:pt x="194" y="234"/>
                        </a:cubicBezTo>
                        <a:cubicBezTo>
                          <a:pt x="215" y="224"/>
                          <a:pt x="232" y="209"/>
                          <a:pt x="245" y="191"/>
                        </a:cubicBezTo>
                        <a:cubicBezTo>
                          <a:pt x="258" y="173"/>
                          <a:pt x="265" y="152"/>
                          <a:pt x="266" y="131"/>
                        </a:cubicBezTo>
                        <a:lnTo>
                          <a:pt x="266" y="131"/>
                        </a:lnTo>
                        <a:cubicBezTo>
                          <a:pt x="266" y="130"/>
                          <a:pt x="266" y="130"/>
                          <a:pt x="266" y="130"/>
                        </a:cubicBezTo>
                        <a:cubicBezTo>
                          <a:pt x="267" y="109"/>
                          <a:pt x="262" y="87"/>
                          <a:pt x="251" y="68"/>
                        </a:cubicBezTo>
                        <a:cubicBezTo>
                          <a:pt x="241" y="48"/>
                          <a:pt x="225" y="32"/>
                          <a:pt x="205" y="20"/>
                        </a:cubicBezTo>
                        <a:cubicBezTo>
                          <a:pt x="185" y="8"/>
                          <a:pt x="163" y="1"/>
                          <a:pt x="139" y="0"/>
                        </a:cubicBezTo>
                        <a:cubicBezTo>
                          <a:pt x="116" y="-1"/>
                          <a:pt x="93" y="3"/>
                          <a:pt x="72" y="13"/>
                        </a:cubicBezTo>
                        <a:cubicBezTo>
                          <a:pt x="51" y="23"/>
                          <a:pt x="34" y="38"/>
                          <a:pt x="21" y="56"/>
                        </a:cubicBezTo>
                        <a:cubicBezTo>
                          <a:pt x="8" y="74"/>
                          <a:pt x="1" y="95"/>
                          <a:pt x="0" y="116"/>
                        </a:cubicBezTo>
                        <a:close/>
                      </a:path>
                    </a:pathLst>
                  </a:custGeom>
                  <a:solidFill>
                    <a:srgbClr val="919191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37800" bIns="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 flipH="1">
                    <a:off x="5046840" y="4297320"/>
                    <a:ext cx="98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 flipH="1" flipV="1">
                    <a:off x="5045040" y="4394160"/>
                    <a:ext cx="95400" cy="1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49320" bIns="-49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>
                    <a:off x="5030640" y="4298040"/>
                    <a:ext cx="107280" cy="78840"/>
                  </a:xfrm>
                  <a:custGeom>
                    <a:avLst/>
                    <a:gdLst/>
                    <a:ahLst/>
                    <a:rect l="0" t="0" r="r" b="b"/>
                    <a:pathLst>
                      <a:path w="298" h="219">
                        <a:moveTo>
                          <a:pt x="10" y="0"/>
                        </a:moveTo>
                        <a:lnTo>
                          <a:pt x="0" y="204"/>
                        </a:lnTo>
                        <a:lnTo>
                          <a:pt x="288" y="219"/>
                        </a:lnTo>
                        <a:lnTo>
                          <a:pt x="298" y="15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919191"/>
                  </a:solidFill>
                  <a:ln w="0">
                    <a:noFill/>
                  </a:ln>
                </p:spPr>
                <p:txBody>
                  <a:bodyPr lIns="90000" rIns="90000" tIns="33840" bIns="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4" name=""/>
                <p:cNvGrpSpPr/>
                <p:nvPr/>
              </p:nvGrpSpPr>
              <p:grpSpPr>
                <a:xfrm>
                  <a:off x="4978440" y="4316400"/>
                  <a:ext cx="189360" cy="98280"/>
                  <a:chOff x="4978440" y="4316400"/>
                  <a:chExt cx="189360" cy="98280"/>
                </a:xfrm>
              </p:grpSpPr>
              <p:sp>
                <p:nvSpPr>
                  <p:cNvPr id="555" name=""/>
                  <p:cNvSpPr/>
                  <p:nvPr/>
                </p:nvSpPr>
                <p:spPr>
                  <a:xfrm>
                    <a:off x="5072040" y="4321080"/>
                    <a:ext cx="95760" cy="88920"/>
                  </a:xfrm>
                  <a:custGeom>
                    <a:avLst/>
                    <a:gdLst/>
                    <a:ahLst/>
                    <a:rect l="0" t="0" r="r" b="b"/>
                    <a:pathLst>
                      <a:path w="266" h="247">
                        <a:moveTo>
                          <a:pt x="0" y="116"/>
                        </a:moveTo>
                        <a:lnTo>
                          <a:pt x="0" y="116"/>
                        </a:lnTo>
                        <a:lnTo>
                          <a:pt x="0" y="117"/>
                        </a:lnTo>
                        <a:cubicBezTo>
                          <a:pt x="-1" y="138"/>
                          <a:pt x="4" y="160"/>
                          <a:pt x="15" y="179"/>
                        </a:cubicBezTo>
                        <a:cubicBezTo>
                          <a:pt x="25" y="199"/>
                          <a:pt x="41" y="215"/>
                          <a:pt x="61" y="227"/>
                        </a:cubicBezTo>
                        <a:cubicBezTo>
                          <a:pt x="81" y="239"/>
                          <a:pt x="103" y="246"/>
                          <a:pt x="127" y="247"/>
                        </a:cubicBezTo>
                        <a:cubicBezTo>
                          <a:pt x="150" y="248"/>
                          <a:pt x="173" y="244"/>
                          <a:pt x="194" y="234"/>
                        </a:cubicBezTo>
                        <a:cubicBezTo>
                          <a:pt x="215" y="224"/>
                          <a:pt x="232" y="209"/>
                          <a:pt x="245" y="191"/>
                        </a:cubicBezTo>
                        <a:cubicBezTo>
                          <a:pt x="258" y="173"/>
                          <a:pt x="265" y="152"/>
                          <a:pt x="266" y="131"/>
                        </a:cubicBezTo>
                        <a:lnTo>
                          <a:pt x="266" y="131"/>
                        </a:lnTo>
                        <a:cubicBezTo>
                          <a:pt x="266" y="130"/>
                          <a:pt x="266" y="130"/>
                          <a:pt x="266" y="130"/>
                        </a:cubicBezTo>
                        <a:cubicBezTo>
                          <a:pt x="267" y="109"/>
                          <a:pt x="262" y="87"/>
                          <a:pt x="251" y="68"/>
                        </a:cubicBezTo>
                        <a:cubicBezTo>
                          <a:pt x="241" y="48"/>
                          <a:pt x="225" y="32"/>
                          <a:pt x="205" y="20"/>
                        </a:cubicBezTo>
                        <a:cubicBezTo>
                          <a:pt x="185" y="8"/>
                          <a:pt x="163" y="1"/>
                          <a:pt x="139" y="0"/>
                        </a:cubicBezTo>
                        <a:cubicBezTo>
                          <a:pt x="116" y="-1"/>
                          <a:pt x="93" y="3"/>
                          <a:pt x="72" y="13"/>
                        </a:cubicBezTo>
                        <a:cubicBezTo>
                          <a:pt x="51" y="23"/>
                          <a:pt x="34" y="38"/>
                          <a:pt x="21" y="56"/>
                        </a:cubicBezTo>
                        <a:cubicBezTo>
                          <a:pt x="8" y="74"/>
                          <a:pt x="1" y="95"/>
                          <a:pt x="0" y="116"/>
                        </a:cubicBezTo>
                        <a:close/>
                      </a:path>
                    </a:pathLst>
                  </a:custGeom>
                  <a:solidFill>
                    <a:srgbClr val="919191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37800" bIns="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"/>
                  <p:cNvSpPr/>
                  <p:nvPr/>
                </p:nvSpPr>
                <p:spPr>
                  <a:xfrm>
                    <a:off x="4978440" y="4317840"/>
                    <a:ext cx="95760" cy="88920"/>
                  </a:xfrm>
                  <a:custGeom>
                    <a:avLst/>
                    <a:gdLst/>
                    <a:ahLst/>
                    <a:rect l="0" t="0" r="r" b="b"/>
                    <a:pathLst>
                      <a:path w="266" h="247">
                        <a:moveTo>
                          <a:pt x="0" y="116"/>
                        </a:moveTo>
                        <a:lnTo>
                          <a:pt x="0" y="116"/>
                        </a:lnTo>
                        <a:lnTo>
                          <a:pt x="0" y="117"/>
                        </a:lnTo>
                        <a:cubicBezTo>
                          <a:pt x="-1" y="138"/>
                          <a:pt x="4" y="160"/>
                          <a:pt x="15" y="179"/>
                        </a:cubicBezTo>
                        <a:cubicBezTo>
                          <a:pt x="25" y="199"/>
                          <a:pt x="41" y="215"/>
                          <a:pt x="61" y="227"/>
                        </a:cubicBezTo>
                        <a:cubicBezTo>
                          <a:pt x="81" y="239"/>
                          <a:pt x="103" y="246"/>
                          <a:pt x="127" y="247"/>
                        </a:cubicBezTo>
                        <a:cubicBezTo>
                          <a:pt x="150" y="248"/>
                          <a:pt x="173" y="244"/>
                          <a:pt x="194" y="234"/>
                        </a:cubicBezTo>
                        <a:cubicBezTo>
                          <a:pt x="215" y="224"/>
                          <a:pt x="232" y="209"/>
                          <a:pt x="245" y="191"/>
                        </a:cubicBezTo>
                        <a:cubicBezTo>
                          <a:pt x="258" y="173"/>
                          <a:pt x="265" y="152"/>
                          <a:pt x="266" y="131"/>
                        </a:cubicBezTo>
                        <a:lnTo>
                          <a:pt x="266" y="131"/>
                        </a:lnTo>
                        <a:cubicBezTo>
                          <a:pt x="266" y="130"/>
                          <a:pt x="266" y="130"/>
                          <a:pt x="266" y="130"/>
                        </a:cubicBezTo>
                        <a:cubicBezTo>
                          <a:pt x="267" y="109"/>
                          <a:pt x="262" y="87"/>
                          <a:pt x="251" y="68"/>
                        </a:cubicBezTo>
                        <a:cubicBezTo>
                          <a:pt x="241" y="48"/>
                          <a:pt x="225" y="32"/>
                          <a:pt x="205" y="20"/>
                        </a:cubicBezTo>
                        <a:cubicBezTo>
                          <a:pt x="185" y="8"/>
                          <a:pt x="163" y="1"/>
                          <a:pt x="139" y="0"/>
                        </a:cubicBezTo>
                        <a:cubicBezTo>
                          <a:pt x="116" y="-1"/>
                          <a:pt x="93" y="3"/>
                          <a:pt x="72" y="13"/>
                        </a:cubicBezTo>
                        <a:cubicBezTo>
                          <a:pt x="51" y="23"/>
                          <a:pt x="34" y="38"/>
                          <a:pt x="21" y="56"/>
                        </a:cubicBezTo>
                        <a:cubicBezTo>
                          <a:pt x="8" y="74"/>
                          <a:pt x="1" y="95"/>
                          <a:pt x="0" y="116"/>
                        </a:cubicBezTo>
                        <a:close/>
                      </a:path>
                    </a:pathLst>
                  </a:custGeom>
                  <a:solidFill>
                    <a:srgbClr val="919191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37800" bIns="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7" name=""/>
                  <p:cNvSpPr/>
                  <p:nvPr/>
                </p:nvSpPr>
                <p:spPr>
                  <a:xfrm flipH="1">
                    <a:off x="5033880" y="4316400"/>
                    <a:ext cx="921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8" name=""/>
                  <p:cNvSpPr/>
                  <p:nvPr/>
                </p:nvSpPr>
                <p:spPr>
                  <a:xfrm flipH="1" flipV="1">
                    <a:off x="5035680" y="4413240"/>
                    <a:ext cx="91800" cy="1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49680" bIns="-49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9" name=""/>
                  <p:cNvSpPr/>
                  <p:nvPr/>
                </p:nvSpPr>
                <p:spPr>
                  <a:xfrm>
                    <a:off x="5014800" y="4321800"/>
                    <a:ext cx="110160" cy="74160"/>
                  </a:xfrm>
                  <a:custGeom>
                    <a:avLst/>
                    <a:gdLst/>
                    <a:ahLst/>
                    <a:rect l="0" t="0" r="r" b="b"/>
                    <a:pathLst>
                      <a:path w="306" h="206">
                        <a:moveTo>
                          <a:pt x="9" y="0"/>
                        </a:moveTo>
                        <a:lnTo>
                          <a:pt x="0" y="191"/>
                        </a:lnTo>
                        <a:lnTo>
                          <a:pt x="297" y="206"/>
                        </a:lnTo>
                        <a:lnTo>
                          <a:pt x="306" y="15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919191"/>
                  </a:solidFill>
                  <a:ln w="0">
                    <a:noFill/>
                  </a:ln>
                </p:spPr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60" name=""/>
              <p:cNvSpPr/>
              <p:nvPr/>
            </p:nvSpPr>
            <p:spPr>
              <a:xfrm>
                <a:off x="2725560" y="4114800"/>
                <a:ext cx="2619720" cy="356040"/>
              </a:xfrm>
              <a:custGeom>
                <a:avLst/>
                <a:gdLst/>
                <a:ahLst/>
                <a:rect l="0" t="0" r="r" b="b"/>
                <a:pathLst>
                  <a:path fill="none" w="7277" h="989">
                    <a:moveTo>
                      <a:pt x="0" y="0"/>
                    </a:moveTo>
                    <a:lnTo>
                      <a:pt x="7277" y="352"/>
                    </a:lnTo>
                    <a:lnTo>
                      <a:pt x="7277" y="989"/>
                    </a:lnTo>
                    <a:lnTo>
                      <a:pt x="0" y="619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2754360" y="4195800"/>
                <a:ext cx="61920" cy="65160"/>
              </a:xfrm>
              <a:prstGeom prst="ellipse">
                <a:avLst/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235480" y="4313160"/>
                <a:ext cx="60480" cy="65160"/>
              </a:xfrm>
              <a:prstGeom prst="ellipse">
                <a:avLst/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3" name=""/>
              <p:cNvGrpSpPr/>
              <p:nvPr/>
            </p:nvGrpSpPr>
            <p:grpSpPr>
              <a:xfrm>
                <a:off x="4726080" y="4290840"/>
                <a:ext cx="206640" cy="117720"/>
                <a:chOff x="4726080" y="4290840"/>
                <a:chExt cx="206640" cy="117720"/>
              </a:xfrm>
            </p:grpSpPr>
            <p:grpSp>
              <p:nvGrpSpPr>
                <p:cNvPr id="564" name=""/>
                <p:cNvGrpSpPr/>
                <p:nvPr/>
              </p:nvGrpSpPr>
              <p:grpSpPr>
                <a:xfrm>
                  <a:off x="4741920" y="4290840"/>
                  <a:ext cx="190800" cy="98640"/>
                  <a:chOff x="4741920" y="4290840"/>
                  <a:chExt cx="190800" cy="98640"/>
                </a:xfrm>
              </p:grpSpPr>
              <p:sp>
                <p:nvSpPr>
                  <p:cNvPr id="565" name=""/>
                  <p:cNvSpPr/>
                  <p:nvPr/>
                </p:nvSpPr>
                <p:spPr>
                  <a:xfrm>
                    <a:off x="4835520" y="4295880"/>
                    <a:ext cx="97200" cy="88920"/>
                  </a:xfrm>
                  <a:custGeom>
                    <a:avLst/>
                    <a:gdLst/>
                    <a:ahLst/>
                    <a:rect l="0" t="0" r="r" b="b"/>
                    <a:pathLst>
                      <a:path w="270" h="247">
                        <a:moveTo>
                          <a:pt x="0" y="116"/>
                        </a:moveTo>
                        <a:lnTo>
                          <a:pt x="0" y="116"/>
                        </a:lnTo>
                        <a:cubicBezTo>
                          <a:pt x="-1" y="138"/>
                          <a:pt x="4" y="160"/>
                          <a:pt x="15" y="179"/>
                        </a:cubicBezTo>
                        <a:cubicBezTo>
                          <a:pt x="26" y="199"/>
                          <a:pt x="42" y="215"/>
                          <a:pt x="62" y="227"/>
                        </a:cubicBezTo>
                        <a:cubicBezTo>
                          <a:pt x="82" y="239"/>
                          <a:pt x="105" y="246"/>
                          <a:pt x="129" y="247"/>
                        </a:cubicBezTo>
                        <a:cubicBezTo>
                          <a:pt x="152" y="248"/>
                          <a:pt x="176" y="244"/>
                          <a:pt x="197" y="234"/>
                        </a:cubicBezTo>
                        <a:cubicBezTo>
                          <a:pt x="218" y="224"/>
                          <a:pt x="236" y="210"/>
                          <a:pt x="249" y="191"/>
                        </a:cubicBezTo>
                        <a:cubicBezTo>
                          <a:pt x="262" y="173"/>
                          <a:pt x="269" y="152"/>
                          <a:pt x="270" y="131"/>
                        </a:cubicBezTo>
                        <a:lnTo>
                          <a:pt x="270" y="131"/>
                        </a:lnTo>
                        <a:lnTo>
                          <a:pt x="270" y="131"/>
                        </a:lnTo>
                        <a:cubicBezTo>
                          <a:pt x="271" y="109"/>
                          <a:pt x="266" y="87"/>
                          <a:pt x="255" y="68"/>
                        </a:cubicBezTo>
                        <a:cubicBezTo>
                          <a:pt x="244" y="48"/>
                          <a:pt x="228" y="32"/>
                          <a:pt x="208" y="20"/>
                        </a:cubicBezTo>
                        <a:cubicBezTo>
                          <a:pt x="188" y="8"/>
                          <a:pt x="165" y="1"/>
                          <a:pt x="141" y="0"/>
                        </a:cubicBezTo>
                        <a:cubicBezTo>
                          <a:pt x="118" y="-1"/>
                          <a:pt x="94" y="3"/>
                          <a:pt x="73" y="13"/>
                        </a:cubicBezTo>
                        <a:cubicBezTo>
                          <a:pt x="52" y="23"/>
                          <a:pt x="34" y="37"/>
                          <a:pt x="21" y="56"/>
                        </a:cubicBezTo>
                        <a:cubicBezTo>
                          <a:pt x="8" y="74"/>
                          <a:pt x="1" y="95"/>
                          <a:pt x="0" y="116"/>
                        </a:cubicBezTo>
                        <a:close/>
                      </a:path>
                    </a:pathLst>
                  </a:custGeom>
                  <a:solidFill>
                    <a:srgbClr val="919191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37800" bIns="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" name=""/>
                  <p:cNvSpPr/>
                  <p:nvPr/>
                </p:nvSpPr>
                <p:spPr>
                  <a:xfrm>
                    <a:off x="4741920" y="4292640"/>
                    <a:ext cx="97200" cy="88920"/>
                  </a:xfrm>
                  <a:custGeom>
                    <a:avLst/>
                    <a:gdLst/>
                    <a:ahLst/>
                    <a:rect l="0" t="0" r="r" b="b"/>
                    <a:pathLst>
                      <a:path w="270" h="247">
                        <a:moveTo>
                          <a:pt x="0" y="116"/>
                        </a:moveTo>
                        <a:lnTo>
                          <a:pt x="0" y="116"/>
                        </a:lnTo>
                        <a:cubicBezTo>
                          <a:pt x="-1" y="138"/>
                          <a:pt x="4" y="160"/>
                          <a:pt x="15" y="179"/>
                        </a:cubicBezTo>
                        <a:cubicBezTo>
                          <a:pt x="26" y="199"/>
                          <a:pt x="42" y="215"/>
                          <a:pt x="62" y="227"/>
                        </a:cubicBezTo>
                        <a:cubicBezTo>
                          <a:pt x="82" y="239"/>
                          <a:pt x="105" y="246"/>
                          <a:pt x="129" y="247"/>
                        </a:cubicBezTo>
                        <a:cubicBezTo>
                          <a:pt x="152" y="248"/>
                          <a:pt x="176" y="244"/>
                          <a:pt x="197" y="234"/>
                        </a:cubicBezTo>
                        <a:cubicBezTo>
                          <a:pt x="218" y="224"/>
                          <a:pt x="236" y="210"/>
                          <a:pt x="249" y="191"/>
                        </a:cubicBezTo>
                        <a:cubicBezTo>
                          <a:pt x="262" y="173"/>
                          <a:pt x="269" y="152"/>
                          <a:pt x="270" y="131"/>
                        </a:cubicBezTo>
                        <a:lnTo>
                          <a:pt x="270" y="131"/>
                        </a:lnTo>
                        <a:lnTo>
                          <a:pt x="270" y="131"/>
                        </a:lnTo>
                        <a:cubicBezTo>
                          <a:pt x="271" y="109"/>
                          <a:pt x="266" y="87"/>
                          <a:pt x="255" y="68"/>
                        </a:cubicBezTo>
                        <a:cubicBezTo>
                          <a:pt x="244" y="48"/>
                          <a:pt x="228" y="32"/>
                          <a:pt x="208" y="20"/>
                        </a:cubicBezTo>
                        <a:cubicBezTo>
                          <a:pt x="188" y="8"/>
                          <a:pt x="165" y="1"/>
                          <a:pt x="141" y="0"/>
                        </a:cubicBezTo>
                        <a:cubicBezTo>
                          <a:pt x="118" y="-1"/>
                          <a:pt x="94" y="3"/>
                          <a:pt x="73" y="13"/>
                        </a:cubicBezTo>
                        <a:cubicBezTo>
                          <a:pt x="52" y="23"/>
                          <a:pt x="34" y="37"/>
                          <a:pt x="21" y="56"/>
                        </a:cubicBezTo>
                        <a:cubicBezTo>
                          <a:pt x="8" y="74"/>
                          <a:pt x="1" y="95"/>
                          <a:pt x="0" y="116"/>
                        </a:cubicBezTo>
                        <a:close/>
                      </a:path>
                    </a:pathLst>
                  </a:custGeom>
                  <a:solidFill>
                    <a:srgbClr val="919191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37800" bIns="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7" name=""/>
                  <p:cNvSpPr/>
                  <p:nvPr/>
                </p:nvSpPr>
                <p:spPr>
                  <a:xfrm flipH="1">
                    <a:off x="4795920" y="4290840"/>
                    <a:ext cx="98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8" name=""/>
                  <p:cNvSpPr/>
                  <p:nvPr/>
                </p:nvSpPr>
                <p:spPr>
                  <a:xfrm flipH="1" flipV="1">
                    <a:off x="4794120" y="4387680"/>
                    <a:ext cx="95400" cy="1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49320" bIns="-49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9" name=""/>
                  <p:cNvSpPr/>
                  <p:nvPr/>
                </p:nvSpPr>
                <p:spPr>
                  <a:xfrm>
                    <a:off x="4778280" y="4291560"/>
                    <a:ext cx="108720" cy="78840"/>
                  </a:xfrm>
                  <a:custGeom>
                    <a:avLst/>
                    <a:gdLst/>
                    <a:ahLst/>
                    <a:rect l="0" t="0" r="r" b="b"/>
                    <a:pathLst>
                      <a:path w="302" h="219">
                        <a:moveTo>
                          <a:pt x="10" y="0"/>
                        </a:moveTo>
                        <a:lnTo>
                          <a:pt x="0" y="204"/>
                        </a:lnTo>
                        <a:lnTo>
                          <a:pt x="291" y="219"/>
                        </a:lnTo>
                        <a:lnTo>
                          <a:pt x="302" y="15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919191"/>
                  </a:solidFill>
                  <a:ln w="0">
                    <a:noFill/>
                  </a:ln>
                </p:spPr>
                <p:txBody>
                  <a:bodyPr lIns="90000" rIns="90000" tIns="33840" bIns="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0" name=""/>
                <p:cNvGrpSpPr/>
                <p:nvPr/>
              </p:nvGrpSpPr>
              <p:grpSpPr>
                <a:xfrm>
                  <a:off x="4726080" y="4309920"/>
                  <a:ext cx="190800" cy="98640"/>
                  <a:chOff x="4726080" y="4309920"/>
                  <a:chExt cx="190800" cy="98640"/>
                </a:xfrm>
              </p:grpSpPr>
              <p:sp>
                <p:nvSpPr>
                  <p:cNvPr id="571" name=""/>
                  <p:cNvSpPr/>
                  <p:nvPr/>
                </p:nvSpPr>
                <p:spPr>
                  <a:xfrm>
                    <a:off x="4819680" y="4314600"/>
                    <a:ext cx="97200" cy="88920"/>
                  </a:xfrm>
                  <a:custGeom>
                    <a:avLst/>
                    <a:gdLst/>
                    <a:ahLst/>
                    <a:rect l="0" t="0" r="r" b="b"/>
                    <a:pathLst>
                      <a:path w="270" h="247">
                        <a:moveTo>
                          <a:pt x="0" y="116"/>
                        </a:moveTo>
                        <a:lnTo>
                          <a:pt x="0" y="116"/>
                        </a:lnTo>
                        <a:cubicBezTo>
                          <a:pt x="-1" y="138"/>
                          <a:pt x="4" y="160"/>
                          <a:pt x="15" y="179"/>
                        </a:cubicBezTo>
                        <a:cubicBezTo>
                          <a:pt x="26" y="199"/>
                          <a:pt x="42" y="215"/>
                          <a:pt x="62" y="227"/>
                        </a:cubicBezTo>
                        <a:cubicBezTo>
                          <a:pt x="82" y="239"/>
                          <a:pt x="105" y="246"/>
                          <a:pt x="129" y="247"/>
                        </a:cubicBezTo>
                        <a:cubicBezTo>
                          <a:pt x="152" y="248"/>
                          <a:pt x="176" y="244"/>
                          <a:pt x="197" y="234"/>
                        </a:cubicBezTo>
                        <a:cubicBezTo>
                          <a:pt x="218" y="224"/>
                          <a:pt x="236" y="210"/>
                          <a:pt x="249" y="191"/>
                        </a:cubicBezTo>
                        <a:cubicBezTo>
                          <a:pt x="262" y="173"/>
                          <a:pt x="269" y="152"/>
                          <a:pt x="270" y="131"/>
                        </a:cubicBezTo>
                        <a:lnTo>
                          <a:pt x="270" y="131"/>
                        </a:lnTo>
                        <a:lnTo>
                          <a:pt x="270" y="131"/>
                        </a:lnTo>
                        <a:cubicBezTo>
                          <a:pt x="271" y="109"/>
                          <a:pt x="266" y="87"/>
                          <a:pt x="255" y="68"/>
                        </a:cubicBezTo>
                        <a:cubicBezTo>
                          <a:pt x="244" y="48"/>
                          <a:pt x="228" y="32"/>
                          <a:pt x="208" y="20"/>
                        </a:cubicBezTo>
                        <a:cubicBezTo>
                          <a:pt x="188" y="8"/>
                          <a:pt x="165" y="1"/>
                          <a:pt x="141" y="0"/>
                        </a:cubicBezTo>
                        <a:cubicBezTo>
                          <a:pt x="118" y="-1"/>
                          <a:pt x="94" y="3"/>
                          <a:pt x="73" y="13"/>
                        </a:cubicBezTo>
                        <a:cubicBezTo>
                          <a:pt x="52" y="23"/>
                          <a:pt x="34" y="37"/>
                          <a:pt x="21" y="56"/>
                        </a:cubicBezTo>
                        <a:cubicBezTo>
                          <a:pt x="8" y="74"/>
                          <a:pt x="1" y="95"/>
                          <a:pt x="0" y="116"/>
                        </a:cubicBezTo>
                        <a:close/>
                      </a:path>
                    </a:pathLst>
                  </a:custGeom>
                  <a:solidFill>
                    <a:srgbClr val="919191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37800" bIns="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>
                    <a:off x="4726080" y="4311720"/>
                    <a:ext cx="97200" cy="89280"/>
                  </a:xfrm>
                  <a:custGeom>
                    <a:avLst/>
                    <a:gdLst/>
                    <a:ahLst/>
                    <a:rect l="0" t="0" r="r" b="b"/>
                    <a:pathLst>
                      <a:path w="270" h="248">
                        <a:moveTo>
                          <a:pt x="0" y="117"/>
                        </a:moveTo>
                        <a:lnTo>
                          <a:pt x="0" y="117"/>
                        </a:lnTo>
                        <a:cubicBezTo>
                          <a:pt x="-1" y="139"/>
                          <a:pt x="4" y="160"/>
                          <a:pt x="15" y="180"/>
                        </a:cubicBezTo>
                        <a:cubicBezTo>
                          <a:pt x="26" y="199"/>
                          <a:pt x="42" y="216"/>
                          <a:pt x="62" y="228"/>
                        </a:cubicBezTo>
                        <a:cubicBezTo>
                          <a:pt x="82" y="240"/>
                          <a:pt x="105" y="247"/>
                          <a:pt x="129" y="248"/>
                        </a:cubicBezTo>
                        <a:cubicBezTo>
                          <a:pt x="152" y="249"/>
                          <a:pt x="176" y="245"/>
                          <a:pt x="197" y="235"/>
                        </a:cubicBezTo>
                        <a:cubicBezTo>
                          <a:pt x="218" y="225"/>
                          <a:pt x="236" y="210"/>
                          <a:pt x="249" y="192"/>
                        </a:cubicBezTo>
                        <a:cubicBezTo>
                          <a:pt x="262" y="174"/>
                          <a:pt x="269" y="153"/>
                          <a:pt x="270" y="131"/>
                        </a:cubicBezTo>
                        <a:lnTo>
                          <a:pt x="270" y="131"/>
                        </a:lnTo>
                        <a:lnTo>
                          <a:pt x="270" y="131"/>
                        </a:lnTo>
                        <a:cubicBezTo>
                          <a:pt x="271" y="109"/>
                          <a:pt x="266" y="88"/>
                          <a:pt x="255" y="68"/>
                        </a:cubicBezTo>
                        <a:cubicBezTo>
                          <a:pt x="244" y="49"/>
                          <a:pt x="228" y="32"/>
                          <a:pt x="208" y="20"/>
                        </a:cubicBezTo>
                        <a:cubicBezTo>
                          <a:pt x="188" y="8"/>
                          <a:pt x="165" y="1"/>
                          <a:pt x="141" y="0"/>
                        </a:cubicBezTo>
                        <a:cubicBezTo>
                          <a:pt x="118" y="-1"/>
                          <a:pt x="94" y="3"/>
                          <a:pt x="73" y="13"/>
                        </a:cubicBezTo>
                        <a:cubicBezTo>
                          <a:pt x="52" y="23"/>
                          <a:pt x="34" y="38"/>
                          <a:pt x="21" y="56"/>
                        </a:cubicBezTo>
                        <a:cubicBezTo>
                          <a:pt x="8" y="74"/>
                          <a:pt x="1" y="95"/>
                          <a:pt x="0" y="117"/>
                        </a:cubicBezTo>
                        <a:close/>
                      </a:path>
                    </a:pathLst>
                  </a:custGeom>
                  <a:solidFill>
                    <a:srgbClr val="919191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38160" bIns="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 flipH="1">
                    <a:off x="4782960" y="4309920"/>
                    <a:ext cx="921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 flipH="1" flipV="1">
                    <a:off x="4784760" y="4406760"/>
                    <a:ext cx="92160" cy="1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49320" bIns="-49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>
                    <a:off x="4762440" y="4315320"/>
                    <a:ext cx="111600" cy="74160"/>
                  </a:xfrm>
                  <a:custGeom>
                    <a:avLst/>
                    <a:gdLst/>
                    <a:ahLst/>
                    <a:rect l="0" t="0" r="r" b="b"/>
                    <a:pathLst>
                      <a:path w="310" h="206">
                        <a:moveTo>
                          <a:pt x="9" y="0"/>
                        </a:moveTo>
                        <a:lnTo>
                          <a:pt x="0" y="190"/>
                        </a:lnTo>
                        <a:lnTo>
                          <a:pt x="300" y="206"/>
                        </a:lnTo>
                        <a:lnTo>
                          <a:pt x="310" y="15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919191"/>
                  </a:solidFill>
                  <a:ln w="0">
                    <a:noFill/>
                  </a:ln>
                </p:spPr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76" name=""/>
              <p:cNvGrpSpPr/>
              <p:nvPr/>
            </p:nvGrpSpPr>
            <p:grpSpPr>
              <a:xfrm>
                <a:off x="4194000" y="4246560"/>
                <a:ext cx="497160" cy="151200"/>
                <a:chOff x="4194000" y="4246560"/>
                <a:chExt cx="497160" cy="151200"/>
              </a:xfrm>
            </p:grpSpPr>
            <p:sp>
              <p:nvSpPr>
                <p:cNvPr id="577" name=""/>
                <p:cNvSpPr/>
                <p:nvPr/>
              </p:nvSpPr>
              <p:spPr>
                <a:xfrm>
                  <a:off x="4194000" y="4246560"/>
                  <a:ext cx="109800" cy="132120"/>
                </a:xfrm>
                <a:custGeom>
                  <a:avLst/>
                  <a:gdLst/>
                  <a:ahLst/>
                  <a:rect l="0" t="0" r="r" b="b"/>
                  <a:pathLst>
                    <a:path w="305" h="367">
                      <a:moveTo>
                        <a:pt x="0" y="0"/>
                      </a:moveTo>
                      <a:lnTo>
                        <a:pt x="305" y="9"/>
                      </a:lnTo>
                      <a:lnTo>
                        <a:pt x="305" y="294"/>
                      </a:lnTo>
                      <a:lnTo>
                        <a:pt x="232" y="294"/>
                      </a:lnTo>
                      <a:lnTo>
                        <a:pt x="232" y="367"/>
                      </a:lnTo>
                      <a:lnTo>
                        <a:pt x="81" y="353"/>
                      </a:lnTo>
                      <a:lnTo>
                        <a:pt x="81" y="281"/>
                      </a:lnTo>
                      <a:lnTo>
                        <a:pt x="0" y="28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4322880" y="4254480"/>
                  <a:ext cx="109800" cy="132120"/>
                </a:xfrm>
                <a:custGeom>
                  <a:avLst/>
                  <a:gdLst/>
                  <a:ahLst/>
                  <a:rect l="0" t="0" r="r" b="b"/>
                  <a:pathLst>
                    <a:path w="305" h="367">
                      <a:moveTo>
                        <a:pt x="0" y="0"/>
                      </a:moveTo>
                      <a:lnTo>
                        <a:pt x="305" y="9"/>
                      </a:lnTo>
                      <a:lnTo>
                        <a:pt x="305" y="294"/>
                      </a:lnTo>
                      <a:lnTo>
                        <a:pt x="232" y="294"/>
                      </a:lnTo>
                      <a:lnTo>
                        <a:pt x="232" y="367"/>
                      </a:lnTo>
                      <a:lnTo>
                        <a:pt x="81" y="353"/>
                      </a:lnTo>
                      <a:lnTo>
                        <a:pt x="81" y="281"/>
                      </a:lnTo>
                      <a:lnTo>
                        <a:pt x="0" y="28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4452840" y="4257720"/>
                  <a:ext cx="109800" cy="132120"/>
                </a:xfrm>
                <a:custGeom>
                  <a:avLst/>
                  <a:gdLst/>
                  <a:ahLst/>
                  <a:rect l="0" t="0" r="r" b="b"/>
                  <a:pathLst>
                    <a:path w="305" h="367">
                      <a:moveTo>
                        <a:pt x="0" y="0"/>
                      </a:moveTo>
                      <a:lnTo>
                        <a:pt x="305" y="9"/>
                      </a:lnTo>
                      <a:lnTo>
                        <a:pt x="305" y="294"/>
                      </a:lnTo>
                      <a:lnTo>
                        <a:pt x="232" y="294"/>
                      </a:lnTo>
                      <a:lnTo>
                        <a:pt x="232" y="367"/>
                      </a:lnTo>
                      <a:lnTo>
                        <a:pt x="81" y="353"/>
                      </a:lnTo>
                      <a:lnTo>
                        <a:pt x="81" y="281"/>
                      </a:lnTo>
                      <a:lnTo>
                        <a:pt x="0" y="28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4581360" y="4265640"/>
                  <a:ext cx="109800" cy="132120"/>
                </a:xfrm>
                <a:custGeom>
                  <a:avLst/>
                  <a:gdLst/>
                  <a:ahLst/>
                  <a:rect l="0" t="0" r="r" b="b"/>
                  <a:pathLst>
                    <a:path w="305" h="367">
                      <a:moveTo>
                        <a:pt x="0" y="0"/>
                      </a:moveTo>
                      <a:lnTo>
                        <a:pt x="305" y="9"/>
                      </a:lnTo>
                      <a:lnTo>
                        <a:pt x="305" y="294"/>
                      </a:lnTo>
                      <a:lnTo>
                        <a:pt x="232" y="294"/>
                      </a:lnTo>
                      <a:lnTo>
                        <a:pt x="232" y="367"/>
                      </a:lnTo>
                      <a:lnTo>
                        <a:pt x="81" y="353"/>
                      </a:lnTo>
                      <a:lnTo>
                        <a:pt x="81" y="281"/>
                      </a:lnTo>
                      <a:lnTo>
                        <a:pt x="0" y="28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1" name=""/>
              <p:cNvGrpSpPr/>
              <p:nvPr/>
            </p:nvGrpSpPr>
            <p:grpSpPr>
              <a:xfrm>
                <a:off x="3633840" y="4218120"/>
                <a:ext cx="497160" cy="149400"/>
                <a:chOff x="3633840" y="4218120"/>
                <a:chExt cx="497160" cy="149400"/>
              </a:xfrm>
            </p:grpSpPr>
            <p:sp>
              <p:nvSpPr>
                <p:cNvPr id="582" name=""/>
                <p:cNvSpPr/>
                <p:nvPr/>
              </p:nvSpPr>
              <p:spPr>
                <a:xfrm>
                  <a:off x="3633840" y="4218120"/>
                  <a:ext cx="109800" cy="132120"/>
                </a:xfrm>
                <a:custGeom>
                  <a:avLst/>
                  <a:gdLst/>
                  <a:ahLst/>
                  <a:rect l="0" t="0" r="r" b="b"/>
                  <a:pathLst>
                    <a:path w="305" h="367">
                      <a:moveTo>
                        <a:pt x="0" y="0"/>
                      </a:moveTo>
                      <a:lnTo>
                        <a:pt x="305" y="9"/>
                      </a:lnTo>
                      <a:lnTo>
                        <a:pt x="305" y="294"/>
                      </a:lnTo>
                      <a:lnTo>
                        <a:pt x="232" y="294"/>
                      </a:lnTo>
                      <a:lnTo>
                        <a:pt x="232" y="367"/>
                      </a:lnTo>
                      <a:lnTo>
                        <a:pt x="81" y="353"/>
                      </a:lnTo>
                      <a:lnTo>
                        <a:pt x="81" y="281"/>
                      </a:lnTo>
                      <a:lnTo>
                        <a:pt x="0" y="28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3762360" y="4226040"/>
                  <a:ext cx="109800" cy="130680"/>
                </a:xfrm>
                <a:custGeom>
                  <a:avLst/>
                  <a:gdLst/>
                  <a:ahLst/>
                  <a:rect l="0" t="0" r="r" b="b"/>
                  <a:pathLst>
                    <a:path w="305" h="363">
                      <a:moveTo>
                        <a:pt x="0" y="0"/>
                      </a:moveTo>
                      <a:lnTo>
                        <a:pt x="305" y="9"/>
                      </a:lnTo>
                      <a:lnTo>
                        <a:pt x="305" y="291"/>
                      </a:lnTo>
                      <a:lnTo>
                        <a:pt x="232" y="291"/>
                      </a:lnTo>
                      <a:lnTo>
                        <a:pt x="232" y="363"/>
                      </a:lnTo>
                      <a:lnTo>
                        <a:pt x="81" y="350"/>
                      </a:lnTo>
                      <a:lnTo>
                        <a:pt x="81" y="277"/>
                      </a:lnTo>
                      <a:lnTo>
                        <a:pt x="0" y="27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3892680" y="4228920"/>
                  <a:ext cx="109800" cy="130680"/>
                </a:xfrm>
                <a:custGeom>
                  <a:avLst/>
                  <a:gdLst/>
                  <a:ahLst/>
                  <a:rect l="0" t="0" r="r" b="b"/>
                  <a:pathLst>
                    <a:path w="305" h="363">
                      <a:moveTo>
                        <a:pt x="0" y="0"/>
                      </a:moveTo>
                      <a:lnTo>
                        <a:pt x="305" y="9"/>
                      </a:lnTo>
                      <a:lnTo>
                        <a:pt x="305" y="291"/>
                      </a:lnTo>
                      <a:lnTo>
                        <a:pt x="232" y="291"/>
                      </a:lnTo>
                      <a:lnTo>
                        <a:pt x="232" y="363"/>
                      </a:lnTo>
                      <a:lnTo>
                        <a:pt x="81" y="350"/>
                      </a:lnTo>
                      <a:lnTo>
                        <a:pt x="81" y="277"/>
                      </a:lnTo>
                      <a:lnTo>
                        <a:pt x="0" y="27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4021200" y="4235400"/>
                  <a:ext cx="109800" cy="132120"/>
                </a:xfrm>
                <a:custGeom>
                  <a:avLst/>
                  <a:gdLst/>
                  <a:ahLst/>
                  <a:rect l="0" t="0" r="r" b="b"/>
                  <a:pathLst>
                    <a:path w="305" h="367">
                      <a:moveTo>
                        <a:pt x="0" y="0"/>
                      </a:moveTo>
                      <a:lnTo>
                        <a:pt x="305" y="9"/>
                      </a:lnTo>
                      <a:lnTo>
                        <a:pt x="305" y="294"/>
                      </a:lnTo>
                      <a:lnTo>
                        <a:pt x="232" y="294"/>
                      </a:lnTo>
                      <a:lnTo>
                        <a:pt x="232" y="367"/>
                      </a:lnTo>
                      <a:lnTo>
                        <a:pt x="81" y="353"/>
                      </a:lnTo>
                      <a:lnTo>
                        <a:pt x="81" y="281"/>
                      </a:lnTo>
                      <a:lnTo>
                        <a:pt x="0" y="28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6" name=""/>
              <p:cNvGrpSpPr/>
              <p:nvPr/>
            </p:nvGrpSpPr>
            <p:grpSpPr>
              <a:xfrm>
                <a:off x="3079800" y="4187880"/>
                <a:ext cx="497160" cy="151200"/>
                <a:chOff x="3079800" y="4187880"/>
                <a:chExt cx="497160" cy="151200"/>
              </a:xfrm>
            </p:grpSpPr>
            <p:sp>
              <p:nvSpPr>
                <p:cNvPr id="587" name=""/>
                <p:cNvSpPr/>
                <p:nvPr/>
              </p:nvSpPr>
              <p:spPr>
                <a:xfrm>
                  <a:off x="3079800" y="4187880"/>
                  <a:ext cx="109800" cy="132120"/>
                </a:xfrm>
                <a:custGeom>
                  <a:avLst/>
                  <a:gdLst/>
                  <a:ahLst/>
                  <a:rect l="0" t="0" r="r" b="b"/>
                  <a:pathLst>
                    <a:path w="305" h="367">
                      <a:moveTo>
                        <a:pt x="0" y="0"/>
                      </a:moveTo>
                      <a:lnTo>
                        <a:pt x="305" y="9"/>
                      </a:lnTo>
                      <a:lnTo>
                        <a:pt x="305" y="294"/>
                      </a:lnTo>
                      <a:lnTo>
                        <a:pt x="232" y="294"/>
                      </a:lnTo>
                      <a:lnTo>
                        <a:pt x="232" y="367"/>
                      </a:lnTo>
                      <a:lnTo>
                        <a:pt x="81" y="353"/>
                      </a:lnTo>
                      <a:lnTo>
                        <a:pt x="81" y="281"/>
                      </a:lnTo>
                      <a:lnTo>
                        <a:pt x="0" y="28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3208320" y="4195800"/>
                  <a:ext cx="109800" cy="132120"/>
                </a:xfrm>
                <a:custGeom>
                  <a:avLst/>
                  <a:gdLst/>
                  <a:ahLst/>
                  <a:rect l="0" t="0" r="r" b="b"/>
                  <a:pathLst>
                    <a:path w="305" h="367">
                      <a:moveTo>
                        <a:pt x="0" y="0"/>
                      </a:moveTo>
                      <a:lnTo>
                        <a:pt x="305" y="9"/>
                      </a:lnTo>
                      <a:lnTo>
                        <a:pt x="305" y="294"/>
                      </a:lnTo>
                      <a:lnTo>
                        <a:pt x="232" y="294"/>
                      </a:lnTo>
                      <a:lnTo>
                        <a:pt x="232" y="367"/>
                      </a:lnTo>
                      <a:lnTo>
                        <a:pt x="81" y="353"/>
                      </a:lnTo>
                      <a:lnTo>
                        <a:pt x="81" y="281"/>
                      </a:lnTo>
                      <a:lnTo>
                        <a:pt x="0" y="28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3338640" y="4199040"/>
                  <a:ext cx="109800" cy="132120"/>
                </a:xfrm>
                <a:custGeom>
                  <a:avLst/>
                  <a:gdLst/>
                  <a:ahLst/>
                  <a:rect l="0" t="0" r="r" b="b"/>
                  <a:pathLst>
                    <a:path w="305" h="367">
                      <a:moveTo>
                        <a:pt x="0" y="0"/>
                      </a:moveTo>
                      <a:lnTo>
                        <a:pt x="305" y="9"/>
                      </a:lnTo>
                      <a:lnTo>
                        <a:pt x="305" y="294"/>
                      </a:lnTo>
                      <a:lnTo>
                        <a:pt x="232" y="294"/>
                      </a:lnTo>
                      <a:lnTo>
                        <a:pt x="232" y="367"/>
                      </a:lnTo>
                      <a:lnTo>
                        <a:pt x="81" y="353"/>
                      </a:lnTo>
                      <a:lnTo>
                        <a:pt x="81" y="281"/>
                      </a:lnTo>
                      <a:lnTo>
                        <a:pt x="0" y="28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3467160" y="4206960"/>
                  <a:ext cx="109800" cy="132120"/>
                </a:xfrm>
                <a:custGeom>
                  <a:avLst/>
                  <a:gdLst/>
                  <a:ahLst/>
                  <a:rect l="0" t="0" r="r" b="b"/>
                  <a:pathLst>
                    <a:path w="305" h="367">
                      <a:moveTo>
                        <a:pt x="0" y="0"/>
                      </a:moveTo>
                      <a:lnTo>
                        <a:pt x="305" y="9"/>
                      </a:lnTo>
                      <a:lnTo>
                        <a:pt x="305" y="294"/>
                      </a:lnTo>
                      <a:lnTo>
                        <a:pt x="232" y="294"/>
                      </a:lnTo>
                      <a:lnTo>
                        <a:pt x="232" y="367"/>
                      </a:lnTo>
                      <a:lnTo>
                        <a:pt x="81" y="353"/>
                      </a:lnTo>
                      <a:lnTo>
                        <a:pt x="81" y="281"/>
                      </a:lnTo>
                      <a:lnTo>
                        <a:pt x="0" y="28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1" name=""/>
              <p:cNvSpPr/>
              <p:nvPr/>
            </p:nvSpPr>
            <p:spPr>
              <a:xfrm>
                <a:off x="2860560" y="4181400"/>
                <a:ext cx="109800" cy="132120"/>
              </a:xfrm>
              <a:custGeom>
                <a:avLst/>
                <a:gdLst/>
                <a:ahLst/>
                <a:rect l="0" t="0" r="r" b="b"/>
                <a:pathLst>
                  <a:path w="305" h="367">
                    <a:moveTo>
                      <a:pt x="0" y="0"/>
                    </a:moveTo>
                    <a:lnTo>
                      <a:pt x="305" y="9"/>
                    </a:lnTo>
                    <a:lnTo>
                      <a:pt x="305" y="294"/>
                    </a:lnTo>
                    <a:lnTo>
                      <a:pt x="232" y="294"/>
                    </a:lnTo>
                    <a:lnTo>
                      <a:pt x="232" y="367"/>
                    </a:lnTo>
                    <a:lnTo>
                      <a:pt x="81" y="353"/>
                    </a:lnTo>
                    <a:lnTo>
                      <a:pt x="81" y="281"/>
                    </a:lnTo>
                    <a:lnTo>
                      <a:pt x="0" y="28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92" name=""/>
            <p:cNvGrpSpPr/>
            <p:nvPr/>
          </p:nvGrpSpPr>
          <p:grpSpPr>
            <a:xfrm>
              <a:off x="2725560" y="4386240"/>
              <a:ext cx="2619720" cy="354240"/>
              <a:chOff x="2725560" y="4386240"/>
              <a:chExt cx="2619720" cy="354240"/>
            </a:xfrm>
          </p:grpSpPr>
          <p:grpSp>
            <p:nvGrpSpPr>
              <p:cNvPr id="593" name=""/>
              <p:cNvGrpSpPr/>
              <p:nvPr/>
            </p:nvGrpSpPr>
            <p:grpSpPr>
              <a:xfrm>
                <a:off x="4978440" y="4568760"/>
                <a:ext cx="205200" cy="117720"/>
                <a:chOff x="4978440" y="4568760"/>
                <a:chExt cx="205200" cy="117720"/>
              </a:xfrm>
            </p:grpSpPr>
            <p:grpSp>
              <p:nvGrpSpPr>
                <p:cNvPr id="594" name=""/>
                <p:cNvGrpSpPr/>
                <p:nvPr/>
              </p:nvGrpSpPr>
              <p:grpSpPr>
                <a:xfrm>
                  <a:off x="4994280" y="4568760"/>
                  <a:ext cx="189360" cy="98640"/>
                  <a:chOff x="4994280" y="4568760"/>
                  <a:chExt cx="189360" cy="98640"/>
                </a:xfrm>
              </p:grpSpPr>
              <p:sp>
                <p:nvSpPr>
                  <p:cNvPr id="595" name=""/>
                  <p:cNvSpPr/>
                  <p:nvPr/>
                </p:nvSpPr>
                <p:spPr>
                  <a:xfrm>
                    <a:off x="5087880" y="4573440"/>
                    <a:ext cx="95760" cy="88920"/>
                  </a:xfrm>
                  <a:custGeom>
                    <a:avLst/>
                    <a:gdLst/>
                    <a:ahLst/>
                    <a:rect l="0" t="0" r="r" b="b"/>
                    <a:pathLst>
                      <a:path w="266" h="247">
                        <a:moveTo>
                          <a:pt x="0" y="116"/>
                        </a:moveTo>
                        <a:lnTo>
                          <a:pt x="0" y="116"/>
                        </a:lnTo>
                        <a:lnTo>
                          <a:pt x="0" y="117"/>
                        </a:lnTo>
                        <a:cubicBezTo>
                          <a:pt x="-1" y="138"/>
                          <a:pt x="4" y="160"/>
                          <a:pt x="15" y="179"/>
                        </a:cubicBezTo>
                        <a:cubicBezTo>
                          <a:pt x="25" y="199"/>
                          <a:pt x="41" y="215"/>
                          <a:pt x="61" y="227"/>
                        </a:cubicBezTo>
                        <a:cubicBezTo>
                          <a:pt x="81" y="239"/>
                          <a:pt x="103" y="246"/>
                          <a:pt x="127" y="247"/>
                        </a:cubicBezTo>
                        <a:cubicBezTo>
                          <a:pt x="150" y="248"/>
                          <a:pt x="173" y="244"/>
                          <a:pt x="194" y="234"/>
                        </a:cubicBezTo>
                        <a:cubicBezTo>
                          <a:pt x="215" y="224"/>
                          <a:pt x="232" y="209"/>
                          <a:pt x="245" y="191"/>
                        </a:cubicBezTo>
                        <a:cubicBezTo>
                          <a:pt x="258" y="173"/>
                          <a:pt x="265" y="152"/>
                          <a:pt x="266" y="131"/>
                        </a:cubicBezTo>
                        <a:lnTo>
                          <a:pt x="266" y="131"/>
                        </a:lnTo>
                        <a:cubicBezTo>
                          <a:pt x="266" y="130"/>
                          <a:pt x="266" y="130"/>
                          <a:pt x="266" y="130"/>
                        </a:cubicBezTo>
                        <a:cubicBezTo>
                          <a:pt x="267" y="109"/>
                          <a:pt x="262" y="87"/>
                          <a:pt x="251" y="68"/>
                        </a:cubicBezTo>
                        <a:cubicBezTo>
                          <a:pt x="241" y="48"/>
                          <a:pt x="225" y="32"/>
                          <a:pt x="205" y="20"/>
                        </a:cubicBezTo>
                        <a:cubicBezTo>
                          <a:pt x="185" y="8"/>
                          <a:pt x="163" y="1"/>
                          <a:pt x="139" y="0"/>
                        </a:cubicBezTo>
                        <a:cubicBezTo>
                          <a:pt x="116" y="-1"/>
                          <a:pt x="93" y="3"/>
                          <a:pt x="72" y="13"/>
                        </a:cubicBezTo>
                        <a:cubicBezTo>
                          <a:pt x="51" y="23"/>
                          <a:pt x="34" y="38"/>
                          <a:pt x="21" y="56"/>
                        </a:cubicBezTo>
                        <a:cubicBezTo>
                          <a:pt x="8" y="74"/>
                          <a:pt x="1" y="95"/>
                          <a:pt x="0" y="116"/>
                        </a:cubicBezTo>
                        <a:close/>
                      </a:path>
                    </a:pathLst>
                  </a:custGeom>
                  <a:solidFill>
                    <a:srgbClr val="919191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37800" bIns="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>
                    <a:off x="4994280" y="4570200"/>
                    <a:ext cx="95760" cy="88920"/>
                  </a:xfrm>
                  <a:custGeom>
                    <a:avLst/>
                    <a:gdLst/>
                    <a:ahLst/>
                    <a:rect l="0" t="0" r="r" b="b"/>
                    <a:pathLst>
                      <a:path w="266" h="247">
                        <a:moveTo>
                          <a:pt x="0" y="116"/>
                        </a:moveTo>
                        <a:lnTo>
                          <a:pt x="0" y="116"/>
                        </a:lnTo>
                        <a:lnTo>
                          <a:pt x="0" y="117"/>
                        </a:lnTo>
                        <a:cubicBezTo>
                          <a:pt x="-1" y="138"/>
                          <a:pt x="4" y="160"/>
                          <a:pt x="15" y="179"/>
                        </a:cubicBezTo>
                        <a:cubicBezTo>
                          <a:pt x="25" y="199"/>
                          <a:pt x="41" y="215"/>
                          <a:pt x="61" y="227"/>
                        </a:cubicBezTo>
                        <a:cubicBezTo>
                          <a:pt x="81" y="239"/>
                          <a:pt x="103" y="246"/>
                          <a:pt x="127" y="247"/>
                        </a:cubicBezTo>
                        <a:cubicBezTo>
                          <a:pt x="150" y="248"/>
                          <a:pt x="173" y="244"/>
                          <a:pt x="194" y="234"/>
                        </a:cubicBezTo>
                        <a:cubicBezTo>
                          <a:pt x="215" y="224"/>
                          <a:pt x="232" y="209"/>
                          <a:pt x="245" y="191"/>
                        </a:cubicBezTo>
                        <a:cubicBezTo>
                          <a:pt x="258" y="173"/>
                          <a:pt x="265" y="152"/>
                          <a:pt x="266" y="131"/>
                        </a:cubicBezTo>
                        <a:lnTo>
                          <a:pt x="266" y="131"/>
                        </a:lnTo>
                        <a:cubicBezTo>
                          <a:pt x="266" y="130"/>
                          <a:pt x="266" y="130"/>
                          <a:pt x="266" y="130"/>
                        </a:cubicBezTo>
                        <a:cubicBezTo>
                          <a:pt x="267" y="109"/>
                          <a:pt x="262" y="87"/>
                          <a:pt x="251" y="68"/>
                        </a:cubicBezTo>
                        <a:cubicBezTo>
                          <a:pt x="241" y="48"/>
                          <a:pt x="225" y="32"/>
                          <a:pt x="205" y="20"/>
                        </a:cubicBezTo>
                        <a:cubicBezTo>
                          <a:pt x="185" y="8"/>
                          <a:pt x="163" y="1"/>
                          <a:pt x="139" y="0"/>
                        </a:cubicBezTo>
                        <a:cubicBezTo>
                          <a:pt x="116" y="-1"/>
                          <a:pt x="93" y="3"/>
                          <a:pt x="72" y="13"/>
                        </a:cubicBezTo>
                        <a:cubicBezTo>
                          <a:pt x="51" y="23"/>
                          <a:pt x="34" y="38"/>
                          <a:pt x="21" y="56"/>
                        </a:cubicBezTo>
                        <a:cubicBezTo>
                          <a:pt x="8" y="74"/>
                          <a:pt x="1" y="95"/>
                          <a:pt x="0" y="116"/>
                        </a:cubicBezTo>
                        <a:close/>
                      </a:path>
                    </a:pathLst>
                  </a:custGeom>
                  <a:solidFill>
                    <a:srgbClr val="919191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37800" bIns="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 flipH="1">
                    <a:off x="5046840" y="4568760"/>
                    <a:ext cx="98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" name=""/>
                  <p:cNvSpPr/>
                  <p:nvPr/>
                </p:nvSpPr>
                <p:spPr>
                  <a:xfrm flipH="1" flipV="1">
                    <a:off x="5045040" y="4665600"/>
                    <a:ext cx="95400" cy="1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49320" bIns="-49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" name=""/>
                  <p:cNvSpPr/>
                  <p:nvPr/>
                </p:nvSpPr>
                <p:spPr>
                  <a:xfrm>
                    <a:off x="5030640" y="4569480"/>
                    <a:ext cx="107280" cy="78840"/>
                  </a:xfrm>
                  <a:custGeom>
                    <a:avLst/>
                    <a:gdLst/>
                    <a:ahLst/>
                    <a:rect l="0" t="0" r="r" b="b"/>
                    <a:pathLst>
                      <a:path w="298" h="219">
                        <a:moveTo>
                          <a:pt x="10" y="0"/>
                        </a:moveTo>
                        <a:lnTo>
                          <a:pt x="0" y="204"/>
                        </a:lnTo>
                        <a:lnTo>
                          <a:pt x="288" y="219"/>
                        </a:lnTo>
                        <a:lnTo>
                          <a:pt x="298" y="15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919191"/>
                  </a:solidFill>
                  <a:ln w="0">
                    <a:noFill/>
                  </a:ln>
                </p:spPr>
                <p:txBody>
                  <a:bodyPr lIns="90000" rIns="90000" tIns="33840" bIns="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0" name=""/>
                <p:cNvGrpSpPr/>
                <p:nvPr/>
              </p:nvGrpSpPr>
              <p:grpSpPr>
                <a:xfrm>
                  <a:off x="4978440" y="4587840"/>
                  <a:ext cx="189360" cy="98640"/>
                  <a:chOff x="4978440" y="4587840"/>
                  <a:chExt cx="189360" cy="98640"/>
                </a:xfrm>
              </p:grpSpPr>
              <p:sp>
                <p:nvSpPr>
                  <p:cNvPr id="601" name=""/>
                  <p:cNvSpPr/>
                  <p:nvPr/>
                </p:nvSpPr>
                <p:spPr>
                  <a:xfrm>
                    <a:off x="5072040" y="4592520"/>
                    <a:ext cx="95760" cy="88920"/>
                  </a:xfrm>
                  <a:custGeom>
                    <a:avLst/>
                    <a:gdLst/>
                    <a:ahLst/>
                    <a:rect l="0" t="0" r="r" b="b"/>
                    <a:pathLst>
                      <a:path w="266" h="247">
                        <a:moveTo>
                          <a:pt x="0" y="116"/>
                        </a:moveTo>
                        <a:lnTo>
                          <a:pt x="0" y="116"/>
                        </a:lnTo>
                        <a:lnTo>
                          <a:pt x="0" y="117"/>
                        </a:lnTo>
                        <a:cubicBezTo>
                          <a:pt x="-1" y="138"/>
                          <a:pt x="4" y="160"/>
                          <a:pt x="15" y="179"/>
                        </a:cubicBezTo>
                        <a:cubicBezTo>
                          <a:pt x="25" y="199"/>
                          <a:pt x="41" y="215"/>
                          <a:pt x="61" y="227"/>
                        </a:cubicBezTo>
                        <a:cubicBezTo>
                          <a:pt x="81" y="239"/>
                          <a:pt x="103" y="246"/>
                          <a:pt x="127" y="247"/>
                        </a:cubicBezTo>
                        <a:cubicBezTo>
                          <a:pt x="150" y="248"/>
                          <a:pt x="173" y="244"/>
                          <a:pt x="194" y="234"/>
                        </a:cubicBezTo>
                        <a:cubicBezTo>
                          <a:pt x="215" y="224"/>
                          <a:pt x="232" y="209"/>
                          <a:pt x="245" y="191"/>
                        </a:cubicBezTo>
                        <a:cubicBezTo>
                          <a:pt x="258" y="173"/>
                          <a:pt x="265" y="152"/>
                          <a:pt x="266" y="131"/>
                        </a:cubicBezTo>
                        <a:lnTo>
                          <a:pt x="266" y="131"/>
                        </a:lnTo>
                        <a:cubicBezTo>
                          <a:pt x="266" y="130"/>
                          <a:pt x="266" y="130"/>
                          <a:pt x="266" y="130"/>
                        </a:cubicBezTo>
                        <a:cubicBezTo>
                          <a:pt x="267" y="109"/>
                          <a:pt x="262" y="87"/>
                          <a:pt x="251" y="68"/>
                        </a:cubicBezTo>
                        <a:cubicBezTo>
                          <a:pt x="241" y="48"/>
                          <a:pt x="225" y="32"/>
                          <a:pt x="205" y="20"/>
                        </a:cubicBezTo>
                        <a:cubicBezTo>
                          <a:pt x="185" y="8"/>
                          <a:pt x="163" y="1"/>
                          <a:pt x="139" y="0"/>
                        </a:cubicBezTo>
                        <a:cubicBezTo>
                          <a:pt x="116" y="-1"/>
                          <a:pt x="93" y="3"/>
                          <a:pt x="72" y="13"/>
                        </a:cubicBezTo>
                        <a:cubicBezTo>
                          <a:pt x="51" y="23"/>
                          <a:pt x="34" y="38"/>
                          <a:pt x="21" y="56"/>
                        </a:cubicBezTo>
                        <a:cubicBezTo>
                          <a:pt x="8" y="74"/>
                          <a:pt x="1" y="95"/>
                          <a:pt x="0" y="116"/>
                        </a:cubicBezTo>
                        <a:close/>
                      </a:path>
                    </a:pathLst>
                  </a:custGeom>
                  <a:solidFill>
                    <a:srgbClr val="919191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37800" bIns="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2" name=""/>
                  <p:cNvSpPr/>
                  <p:nvPr/>
                </p:nvSpPr>
                <p:spPr>
                  <a:xfrm>
                    <a:off x="4978440" y="4589280"/>
                    <a:ext cx="95760" cy="89280"/>
                  </a:xfrm>
                  <a:custGeom>
                    <a:avLst/>
                    <a:gdLst/>
                    <a:ahLst/>
                    <a:rect l="0" t="0" r="r" b="b"/>
                    <a:pathLst>
                      <a:path w="266" h="248">
                        <a:moveTo>
                          <a:pt x="0" y="117"/>
                        </a:moveTo>
                        <a:lnTo>
                          <a:pt x="0" y="117"/>
                        </a:lnTo>
                        <a:lnTo>
                          <a:pt x="0" y="117"/>
                        </a:lnTo>
                        <a:cubicBezTo>
                          <a:pt x="-1" y="139"/>
                          <a:pt x="4" y="160"/>
                          <a:pt x="15" y="180"/>
                        </a:cubicBezTo>
                        <a:cubicBezTo>
                          <a:pt x="25" y="199"/>
                          <a:pt x="41" y="216"/>
                          <a:pt x="61" y="228"/>
                        </a:cubicBezTo>
                        <a:cubicBezTo>
                          <a:pt x="81" y="240"/>
                          <a:pt x="103" y="247"/>
                          <a:pt x="127" y="248"/>
                        </a:cubicBezTo>
                        <a:cubicBezTo>
                          <a:pt x="150" y="249"/>
                          <a:pt x="173" y="245"/>
                          <a:pt x="194" y="235"/>
                        </a:cubicBezTo>
                        <a:cubicBezTo>
                          <a:pt x="215" y="225"/>
                          <a:pt x="232" y="210"/>
                          <a:pt x="245" y="192"/>
                        </a:cubicBezTo>
                        <a:cubicBezTo>
                          <a:pt x="258" y="174"/>
                          <a:pt x="265" y="153"/>
                          <a:pt x="266" y="131"/>
                        </a:cubicBezTo>
                        <a:lnTo>
                          <a:pt x="266" y="131"/>
                        </a:lnTo>
                        <a:lnTo>
                          <a:pt x="266" y="131"/>
                        </a:lnTo>
                        <a:cubicBezTo>
                          <a:pt x="267" y="109"/>
                          <a:pt x="262" y="87"/>
                          <a:pt x="251" y="68"/>
                        </a:cubicBezTo>
                        <a:cubicBezTo>
                          <a:pt x="241" y="49"/>
                          <a:pt x="225" y="32"/>
                          <a:pt x="205" y="20"/>
                        </a:cubicBezTo>
                        <a:cubicBezTo>
                          <a:pt x="185" y="8"/>
                          <a:pt x="163" y="1"/>
                          <a:pt x="139" y="0"/>
                        </a:cubicBezTo>
                        <a:cubicBezTo>
                          <a:pt x="116" y="-1"/>
                          <a:pt x="93" y="3"/>
                          <a:pt x="72" y="13"/>
                        </a:cubicBezTo>
                        <a:cubicBezTo>
                          <a:pt x="51" y="23"/>
                          <a:pt x="34" y="38"/>
                          <a:pt x="21" y="56"/>
                        </a:cubicBezTo>
                        <a:cubicBezTo>
                          <a:pt x="8" y="74"/>
                          <a:pt x="1" y="95"/>
                          <a:pt x="0" y="117"/>
                        </a:cubicBezTo>
                        <a:close/>
                      </a:path>
                    </a:pathLst>
                  </a:custGeom>
                  <a:solidFill>
                    <a:srgbClr val="919191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38160" bIns="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3" name=""/>
                  <p:cNvSpPr/>
                  <p:nvPr/>
                </p:nvSpPr>
                <p:spPr>
                  <a:xfrm flipH="1">
                    <a:off x="5033880" y="4587840"/>
                    <a:ext cx="921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 flipH="1" flipV="1">
                    <a:off x="5035680" y="4684680"/>
                    <a:ext cx="91800" cy="1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49320" bIns="-49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5" name=""/>
                  <p:cNvSpPr/>
                  <p:nvPr/>
                </p:nvSpPr>
                <p:spPr>
                  <a:xfrm>
                    <a:off x="5014800" y="4592880"/>
                    <a:ext cx="110160" cy="74160"/>
                  </a:xfrm>
                  <a:custGeom>
                    <a:avLst/>
                    <a:gdLst/>
                    <a:ahLst/>
                    <a:rect l="0" t="0" r="r" b="b"/>
                    <a:pathLst>
                      <a:path w="306" h="206">
                        <a:moveTo>
                          <a:pt x="9" y="0"/>
                        </a:moveTo>
                        <a:lnTo>
                          <a:pt x="0" y="191"/>
                        </a:lnTo>
                        <a:lnTo>
                          <a:pt x="297" y="206"/>
                        </a:lnTo>
                        <a:lnTo>
                          <a:pt x="306" y="15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919191"/>
                  </a:solidFill>
                  <a:ln w="0">
                    <a:noFill/>
                  </a:ln>
                </p:spPr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06" name=""/>
              <p:cNvSpPr/>
              <p:nvPr/>
            </p:nvSpPr>
            <p:spPr>
              <a:xfrm>
                <a:off x="2725560" y="4386240"/>
                <a:ext cx="2619720" cy="354240"/>
              </a:xfrm>
              <a:custGeom>
                <a:avLst/>
                <a:gdLst/>
                <a:ahLst/>
                <a:rect l="0" t="0" r="r" b="b"/>
                <a:pathLst>
                  <a:path fill="none" w="7277" h="984">
                    <a:moveTo>
                      <a:pt x="0" y="0"/>
                    </a:moveTo>
                    <a:lnTo>
                      <a:pt x="7277" y="347"/>
                    </a:lnTo>
                    <a:lnTo>
                      <a:pt x="7277" y="984"/>
                    </a:lnTo>
                    <a:lnTo>
                      <a:pt x="0" y="615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2754360" y="4467240"/>
                <a:ext cx="61920" cy="63360"/>
              </a:xfrm>
              <a:prstGeom prst="ellipse">
                <a:avLst/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235480" y="4584600"/>
                <a:ext cx="60480" cy="63360"/>
              </a:xfrm>
              <a:prstGeom prst="ellipse">
                <a:avLst/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9" name=""/>
              <p:cNvGrpSpPr/>
              <p:nvPr/>
            </p:nvGrpSpPr>
            <p:grpSpPr>
              <a:xfrm>
                <a:off x="4726080" y="4560840"/>
                <a:ext cx="206640" cy="117360"/>
                <a:chOff x="4726080" y="4560840"/>
                <a:chExt cx="206640" cy="117360"/>
              </a:xfrm>
            </p:grpSpPr>
            <p:grpSp>
              <p:nvGrpSpPr>
                <p:cNvPr id="610" name=""/>
                <p:cNvGrpSpPr/>
                <p:nvPr/>
              </p:nvGrpSpPr>
              <p:grpSpPr>
                <a:xfrm>
                  <a:off x="4741920" y="4560840"/>
                  <a:ext cx="190800" cy="98640"/>
                  <a:chOff x="4741920" y="4560840"/>
                  <a:chExt cx="190800" cy="98640"/>
                </a:xfrm>
              </p:grpSpPr>
              <p:sp>
                <p:nvSpPr>
                  <p:cNvPr id="611" name=""/>
                  <p:cNvSpPr/>
                  <p:nvPr/>
                </p:nvSpPr>
                <p:spPr>
                  <a:xfrm>
                    <a:off x="4835520" y="4565520"/>
                    <a:ext cx="97200" cy="88920"/>
                  </a:xfrm>
                  <a:custGeom>
                    <a:avLst/>
                    <a:gdLst/>
                    <a:ahLst/>
                    <a:rect l="0" t="0" r="r" b="b"/>
                    <a:pathLst>
                      <a:path w="270" h="247">
                        <a:moveTo>
                          <a:pt x="0" y="116"/>
                        </a:moveTo>
                        <a:lnTo>
                          <a:pt x="0" y="116"/>
                        </a:lnTo>
                        <a:cubicBezTo>
                          <a:pt x="-1" y="138"/>
                          <a:pt x="4" y="160"/>
                          <a:pt x="15" y="179"/>
                        </a:cubicBezTo>
                        <a:cubicBezTo>
                          <a:pt x="26" y="199"/>
                          <a:pt x="42" y="215"/>
                          <a:pt x="62" y="227"/>
                        </a:cubicBezTo>
                        <a:cubicBezTo>
                          <a:pt x="82" y="239"/>
                          <a:pt x="105" y="246"/>
                          <a:pt x="129" y="247"/>
                        </a:cubicBezTo>
                        <a:cubicBezTo>
                          <a:pt x="152" y="248"/>
                          <a:pt x="176" y="244"/>
                          <a:pt x="197" y="234"/>
                        </a:cubicBezTo>
                        <a:cubicBezTo>
                          <a:pt x="218" y="224"/>
                          <a:pt x="236" y="210"/>
                          <a:pt x="249" y="191"/>
                        </a:cubicBezTo>
                        <a:cubicBezTo>
                          <a:pt x="262" y="173"/>
                          <a:pt x="269" y="152"/>
                          <a:pt x="270" y="131"/>
                        </a:cubicBezTo>
                        <a:lnTo>
                          <a:pt x="270" y="131"/>
                        </a:lnTo>
                        <a:lnTo>
                          <a:pt x="270" y="131"/>
                        </a:lnTo>
                        <a:cubicBezTo>
                          <a:pt x="271" y="109"/>
                          <a:pt x="266" y="87"/>
                          <a:pt x="255" y="68"/>
                        </a:cubicBezTo>
                        <a:cubicBezTo>
                          <a:pt x="244" y="48"/>
                          <a:pt x="228" y="32"/>
                          <a:pt x="208" y="20"/>
                        </a:cubicBezTo>
                        <a:cubicBezTo>
                          <a:pt x="188" y="8"/>
                          <a:pt x="165" y="1"/>
                          <a:pt x="141" y="0"/>
                        </a:cubicBezTo>
                        <a:cubicBezTo>
                          <a:pt x="118" y="-1"/>
                          <a:pt x="94" y="3"/>
                          <a:pt x="73" y="13"/>
                        </a:cubicBezTo>
                        <a:cubicBezTo>
                          <a:pt x="52" y="23"/>
                          <a:pt x="34" y="37"/>
                          <a:pt x="21" y="56"/>
                        </a:cubicBezTo>
                        <a:cubicBezTo>
                          <a:pt x="8" y="74"/>
                          <a:pt x="1" y="95"/>
                          <a:pt x="0" y="116"/>
                        </a:cubicBezTo>
                        <a:close/>
                      </a:path>
                    </a:pathLst>
                  </a:custGeom>
                  <a:solidFill>
                    <a:srgbClr val="919191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37800" bIns="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2" name=""/>
                  <p:cNvSpPr/>
                  <p:nvPr/>
                </p:nvSpPr>
                <p:spPr>
                  <a:xfrm>
                    <a:off x="4741920" y="4562640"/>
                    <a:ext cx="97200" cy="88920"/>
                  </a:xfrm>
                  <a:custGeom>
                    <a:avLst/>
                    <a:gdLst/>
                    <a:ahLst/>
                    <a:rect l="0" t="0" r="r" b="b"/>
                    <a:pathLst>
                      <a:path w="270" h="247">
                        <a:moveTo>
                          <a:pt x="0" y="116"/>
                        </a:moveTo>
                        <a:lnTo>
                          <a:pt x="0" y="116"/>
                        </a:lnTo>
                        <a:cubicBezTo>
                          <a:pt x="-1" y="138"/>
                          <a:pt x="4" y="160"/>
                          <a:pt x="15" y="179"/>
                        </a:cubicBezTo>
                        <a:cubicBezTo>
                          <a:pt x="26" y="199"/>
                          <a:pt x="42" y="215"/>
                          <a:pt x="62" y="227"/>
                        </a:cubicBezTo>
                        <a:cubicBezTo>
                          <a:pt x="82" y="239"/>
                          <a:pt x="105" y="246"/>
                          <a:pt x="129" y="247"/>
                        </a:cubicBezTo>
                        <a:cubicBezTo>
                          <a:pt x="152" y="248"/>
                          <a:pt x="176" y="244"/>
                          <a:pt x="197" y="234"/>
                        </a:cubicBezTo>
                        <a:cubicBezTo>
                          <a:pt x="218" y="224"/>
                          <a:pt x="236" y="210"/>
                          <a:pt x="249" y="191"/>
                        </a:cubicBezTo>
                        <a:cubicBezTo>
                          <a:pt x="262" y="173"/>
                          <a:pt x="269" y="152"/>
                          <a:pt x="270" y="131"/>
                        </a:cubicBezTo>
                        <a:lnTo>
                          <a:pt x="270" y="131"/>
                        </a:lnTo>
                        <a:lnTo>
                          <a:pt x="270" y="131"/>
                        </a:lnTo>
                        <a:cubicBezTo>
                          <a:pt x="271" y="109"/>
                          <a:pt x="266" y="87"/>
                          <a:pt x="255" y="68"/>
                        </a:cubicBezTo>
                        <a:cubicBezTo>
                          <a:pt x="244" y="48"/>
                          <a:pt x="228" y="32"/>
                          <a:pt x="208" y="20"/>
                        </a:cubicBezTo>
                        <a:cubicBezTo>
                          <a:pt x="188" y="8"/>
                          <a:pt x="165" y="1"/>
                          <a:pt x="141" y="0"/>
                        </a:cubicBezTo>
                        <a:cubicBezTo>
                          <a:pt x="118" y="-1"/>
                          <a:pt x="94" y="3"/>
                          <a:pt x="73" y="13"/>
                        </a:cubicBezTo>
                        <a:cubicBezTo>
                          <a:pt x="52" y="23"/>
                          <a:pt x="34" y="37"/>
                          <a:pt x="21" y="56"/>
                        </a:cubicBezTo>
                        <a:cubicBezTo>
                          <a:pt x="8" y="74"/>
                          <a:pt x="1" y="95"/>
                          <a:pt x="0" y="116"/>
                        </a:cubicBezTo>
                        <a:close/>
                      </a:path>
                    </a:pathLst>
                  </a:custGeom>
                  <a:solidFill>
                    <a:srgbClr val="919191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37800" bIns="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 flipH="1">
                    <a:off x="4795920" y="4560840"/>
                    <a:ext cx="98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 flipH="1" flipV="1">
                    <a:off x="4794120" y="4657680"/>
                    <a:ext cx="95400" cy="1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49320" bIns="-49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>
                    <a:off x="4778280" y="4561560"/>
                    <a:ext cx="108720" cy="78840"/>
                  </a:xfrm>
                  <a:custGeom>
                    <a:avLst/>
                    <a:gdLst/>
                    <a:ahLst/>
                    <a:rect l="0" t="0" r="r" b="b"/>
                    <a:pathLst>
                      <a:path w="302" h="219">
                        <a:moveTo>
                          <a:pt x="10" y="0"/>
                        </a:moveTo>
                        <a:lnTo>
                          <a:pt x="0" y="204"/>
                        </a:lnTo>
                        <a:lnTo>
                          <a:pt x="291" y="219"/>
                        </a:lnTo>
                        <a:lnTo>
                          <a:pt x="302" y="15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919191"/>
                  </a:solidFill>
                  <a:ln w="0">
                    <a:noFill/>
                  </a:ln>
                </p:spPr>
                <p:txBody>
                  <a:bodyPr lIns="90000" rIns="90000" tIns="33840" bIns="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6" name=""/>
                <p:cNvGrpSpPr/>
                <p:nvPr/>
              </p:nvGrpSpPr>
              <p:grpSpPr>
                <a:xfrm>
                  <a:off x="4726080" y="4579920"/>
                  <a:ext cx="190800" cy="98280"/>
                  <a:chOff x="4726080" y="4579920"/>
                  <a:chExt cx="190800" cy="98280"/>
                </a:xfrm>
              </p:grpSpPr>
              <p:sp>
                <p:nvSpPr>
                  <p:cNvPr id="617" name=""/>
                  <p:cNvSpPr/>
                  <p:nvPr/>
                </p:nvSpPr>
                <p:spPr>
                  <a:xfrm>
                    <a:off x="4819680" y="4584600"/>
                    <a:ext cx="97200" cy="88920"/>
                  </a:xfrm>
                  <a:custGeom>
                    <a:avLst/>
                    <a:gdLst/>
                    <a:ahLst/>
                    <a:rect l="0" t="0" r="r" b="b"/>
                    <a:pathLst>
                      <a:path w="270" h="247">
                        <a:moveTo>
                          <a:pt x="0" y="116"/>
                        </a:moveTo>
                        <a:lnTo>
                          <a:pt x="0" y="116"/>
                        </a:lnTo>
                        <a:cubicBezTo>
                          <a:pt x="-1" y="138"/>
                          <a:pt x="4" y="160"/>
                          <a:pt x="15" y="179"/>
                        </a:cubicBezTo>
                        <a:cubicBezTo>
                          <a:pt x="26" y="199"/>
                          <a:pt x="42" y="215"/>
                          <a:pt x="62" y="227"/>
                        </a:cubicBezTo>
                        <a:cubicBezTo>
                          <a:pt x="82" y="239"/>
                          <a:pt x="105" y="246"/>
                          <a:pt x="129" y="247"/>
                        </a:cubicBezTo>
                        <a:cubicBezTo>
                          <a:pt x="152" y="248"/>
                          <a:pt x="176" y="244"/>
                          <a:pt x="197" y="234"/>
                        </a:cubicBezTo>
                        <a:cubicBezTo>
                          <a:pt x="218" y="224"/>
                          <a:pt x="236" y="210"/>
                          <a:pt x="249" y="191"/>
                        </a:cubicBezTo>
                        <a:cubicBezTo>
                          <a:pt x="262" y="173"/>
                          <a:pt x="269" y="152"/>
                          <a:pt x="270" y="131"/>
                        </a:cubicBezTo>
                        <a:lnTo>
                          <a:pt x="270" y="131"/>
                        </a:lnTo>
                        <a:lnTo>
                          <a:pt x="270" y="131"/>
                        </a:lnTo>
                        <a:cubicBezTo>
                          <a:pt x="271" y="109"/>
                          <a:pt x="266" y="87"/>
                          <a:pt x="255" y="68"/>
                        </a:cubicBezTo>
                        <a:cubicBezTo>
                          <a:pt x="244" y="48"/>
                          <a:pt x="228" y="32"/>
                          <a:pt x="208" y="20"/>
                        </a:cubicBezTo>
                        <a:cubicBezTo>
                          <a:pt x="188" y="8"/>
                          <a:pt x="165" y="1"/>
                          <a:pt x="141" y="0"/>
                        </a:cubicBezTo>
                        <a:cubicBezTo>
                          <a:pt x="118" y="-1"/>
                          <a:pt x="94" y="3"/>
                          <a:pt x="73" y="13"/>
                        </a:cubicBezTo>
                        <a:cubicBezTo>
                          <a:pt x="52" y="23"/>
                          <a:pt x="34" y="37"/>
                          <a:pt x="21" y="56"/>
                        </a:cubicBezTo>
                        <a:cubicBezTo>
                          <a:pt x="8" y="74"/>
                          <a:pt x="1" y="95"/>
                          <a:pt x="0" y="116"/>
                        </a:cubicBezTo>
                        <a:close/>
                      </a:path>
                    </a:pathLst>
                  </a:custGeom>
                  <a:solidFill>
                    <a:srgbClr val="919191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37800" bIns="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>
                    <a:off x="4726080" y="4581360"/>
                    <a:ext cx="97200" cy="89280"/>
                  </a:xfrm>
                  <a:custGeom>
                    <a:avLst/>
                    <a:gdLst/>
                    <a:ahLst/>
                    <a:rect l="0" t="0" r="r" b="b"/>
                    <a:pathLst>
                      <a:path w="270" h="248">
                        <a:moveTo>
                          <a:pt x="0" y="117"/>
                        </a:moveTo>
                        <a:lnTo>
                          <a:pt x="0" y="117"/>
                        </a:lnTo>
                        <a:cubicBezTo>
                          <a:pt x="-1" y="139"/>
                          <a:pt x="4" y="160"/>
                          <a:pt x="15" y="180"/>
                        </a:cubicBezTo>
                        <a:cubicBezTo>
                          <a:pt x="26" y="199"/>
                          <a:pt x="42" y="216"/>
                          <a:pt x="62" y="228"/>
                        </a:cubicBezTo>
                        <a:cubicBezTo>
                          <a:pt x="82" y="240"/>
                          <a:pt x="105" y="247"/>
                          <a:pt x="129" y="248"/>
                        </a:cubicBezTo>
                        <a:cubicBezTo>
                          <a:pt x="152" y="249"/>
                          <a:pt x="176" y="245"/>
                          <a:pt x="197" y="235"/>
                        </a:cubicBezTo>
                        <a:cubicBezTo>
                          <a:pt x="218" y="225"/>
                          <a:pt x="236" y="210"/>
                          <a:pt x="249" y="192"/>
                        </a:cubicBezTo>
                        <a:cubicBezTo>
                          <a:pt x="262" y="174"/>
                          <a:pt x="269" y="153"/>
                          <a:pt x="270" y="131"/>
                        </a:cubicBezTo>
                        <a:lnTo>
                          <a:pt x="270" y="131"/>
                        </a:lnTo>
                        <a:lnTo>
                          <a:pt x="270" y="131"/>
                        </a:lnTo>
                        <a:cubicBezTo>
                          <a:pt x="271" y="109"/>
                          <a:pt x="266" y="88"/>
                          <a:pt x="255" y="68"/>
                        </a:cubicBezTo>
                        <a:cubicBezTo>
                          <a:pt x="244" y="49"/>
                          <a:pt x="228" y="32"/>
                          <a:pt x="208" y="20"/>
                        </a:cubicBezTo>
                        <a:cubicBezTo>
                          <a:pt x="188" y="8"/>
                          <a:pt x="165" y="1"/>
                          <a:pt x="141" y="0"/>
                        </a:cubicBezTo>
                        <a:cubicBezTo>
                          <a:pt x="118" y="-1"/>
                          <a:pt x="94" y="3"/>
                          <a:pt x="73" y="13"/>
                        </a:cubicBezTo>
                        <a:cubicBezTo>
                          <a:pt x="52" y="23"/>
                          <a:pt x="34" y="38"/>
                          <a:pt x="21" y="56"/>
                        </a:cubicBezTo>
                        <a:cubicBezTo>
                          <a:pt x="8" y="74"/>
                          <a:pt x="1" y="95"/>
                          <a:pt x="0" y="117"/>
                        </a:cubicBezTo>
                        <a:close/>
                      </a:path>
                    </a:pathLst>
                  </a:custGeom>
                  <a:solidFill>
                    <a:srgbClr val="919191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38160" bIns="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 flipH="1">
                    <a:off x="4782960" y="4579920"/>
                    <a:ext cx="921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 flipH="1" flipV="1">
                    <a:off x="4784760" y="4676760"/>
                    <a:ext cx="92160" cy="1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49680" bIns="-49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1" name=""/>
                  <p:cNvSpPr/>
                  <p:nvPr/>
                </p:nvSpPr>
                <p:spPr>
                  <a:xfrm>
                    <a:off x="4762440" y="4584960"/>
                    <a:ext cx="111600" cy="74160"/>
                  </a:xfrm>
                  <a:custGeom>
                    <a:avLst/>
                    <a:gdLst/>
                    <a:ahLst/>
                    <a:rect l="0" t="0" r="r" b="b"/>
                    <a:pathLst>
                      <a:path w="310" h="206">
                        <a:moveTo>
                          <a:pt x="9" y="0"/>
                        </a:moveTo>
                        <a:lnTo>
                          <a:pt x="0" y="190"/>
                        </a:lnTo>
                        <a:lnTo>
                          <a:pt x="300" y="206"/>
                        </a:lnTo>
                        <a:lnTo>
                          <a:pt x="310" y="15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919191"/>
                  </a:solidFill>
                  <a:ln w="0">
                    <a:noFill/>
                  </a:ln>
                </p:spPr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22" name=""/>
              <p:cNvGrpSpPr/>
              <p:nvPr/>
            </p:nvGrpSpPr>
            <p:grpSpPr>
              <a:xfrm>
                <a:off x="4194000" y="4518000"/>
                <a:ext cx="497160" cy="149760"/>
                <a:chOff x="4194000" y="4518000"/>
                <a:chExt cx="497160" cy="149760"/>
              </a:xfrm>
            </p:grpSpPr>
            <p:sp>
              <p:nvSpPr>
                <p:cNvPr id="623" name=""/>
                <p:cNvSpPr/>
                <p:nvPr/>
              </p:nvSpPr>
              <p:spPr>
                <a:xfrm>
                  <a:off x="4194000" y="4518000"/>
                  <a:ext cx="109800" cy="132120"/>
                </a:xfrm>
                <a:custGeom>
                  <a:avLst/>
                  <a:gdLst/>
                  <a:ahLst/>
                  <a:rect l="0" t="0" r="r" b="b"/>
                  <a:pathLst>
                    <a:path w="305" h="367">
                      <a:moveTo>
                        <a:pt x="0" y="0"/>
                      </a:moveTo>
                      <a:lnTo>
                        <a:pt x="305" y="9"/>
                      </a:lnTo>
                      <a:lnTo>
                        <a:pt x="305" y="294"/>
                      </a:lnTo>
                      <a:lnTo>
                        <a:pt x="232" y="294"/>
                      </a:lnTo>
                      <a:lnTo>
                        <a:pt x="232" y="367"/>
                      </a:lnTo>
                      <a:lnTo>
                        <a:pt x="81" y="353"/>
                      </a:lnTo>
                      <a:lnTo>
                        <a:pt x="81" y="281"/>
                      </a:lnTo>
                      <a:lnTo>
                        <a:pt x="0" y="28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4322880" y="4525920"/>
                  <a:ext cx="109800" cy="130680"/>
                </a:xfrm>
                <a:custGeom>
                  <a:avLst/>
                  <a:gdLst/>
                  <a:ahLst/>
                  <a:rect l="0" t="0" r="r" b="b"/>
                  <a:pathLst>
                    <a:path w="305" h="363">
                      <a:moveTo>
                        <a:pt x="0" y="0"/>
                      </a:moveTo>
                      <a:lnTo>
                        <a:pt x="305" y="9"/>
                      </a:lnTo>
                      <a:lnTo>
                        <a:pt x="305" y="291"/>
                      </a:lnTo>
                      <a:lnTo>
                        <a:pt x="232" y="291"/>
                      </a:lnTo>
                      <a:lnTo>
                        <a:pt x="232" y="363"/>
                      </a:lnTo>
                      <a:lnTo>
                        <a:pt x="81" y="350"/>
                      </a:lnTo>
                      <a:lnTo>
                        <a:pt x="81" y="277"/>
                      </a:lnTo>
                      <a:lnTo>
                        <a:pt x="0" y="27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4452840" y="4529160"/>
                  <a:ext cx="109800" cy="130680"/>
                </a:xfrm>
                <a:custGeom>
                  <a:avLst/>
                  <a:gdLst/>
                  <a:ahLst/>
                  <a:rect l="0" t="0" r="r" b="b"/>
                  <a:pathLst>
                    <a:path w="305" h="363">
                      <a:moveTo>
                        <a:pt x="0" y="0"/>
                      </a:moveTo>
                      <a:lnTo>
                        <a:pt x="305" y="9"/>
                      </a:lnTo>
                      <a:lnTo>
                        <a:pt x="305" y="291"/>
                      </a:lnTo>
                      <a:lnTo>
                        <a:pt x="232" y="291"/>
                      </a:lnTo>
                      <a:lnTo>
                        <a:pt x="232" y="363"/>
                      </a:lnTo>
                      <a:lnTo>
                        <a:pt x="81" y="350"/>
                      </a:lnTo>
                      <a:lnTo>
                        <a:pt x="81" y="277"/>
                      </a:lnTo>
                      <a:lnTo>
                        <a:pt x="0" y="27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4581360" y="4535640"/>
                  <a:ext cx="109800" cy="132120"/>
                </a:xfrm>
                <a:custGeom>
                  <a:avLst/>
                  <a:gdLst/>
                  <a:ahLst/>
                  <a:rect l="0" t="0" r="r" b="b"/>
                  <a:pathLst>
                    <a:path w="305" h="367">
                      <a:moveTo>
                        <a:pt x="0" y="0"/>
                      </a:moveTo>
                      <a:lnTo>
                        <a:pt x="305" y="9"/>
                      </a:lnTo>
                      <a:lnTo>
                        <a:pt x="305" y="294"/>
                      </a:lnTo>
                      <a:lnTo>
                        <a:pt x="232" y="294"/>
                      </a:lnTo>
                      <a:lnTo>
                        <a:pt x="232" y="367"/>
                      </a:lnTo>
                      <a:lnTo>
                        <a:pt x="81" y="353"/>
                      </a:lnTo>
                      <a:lnTo>
                        <a:pt x="81" y="281"/>
                      </a:lnTo>
                      <a:lnTo>
                        <a:pt x="0" y="28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7" name=""/>
              <p:cNvGrpSpPr/>
              <p:nvPr/>
            </p:nvGrpSpPr>
            <p:grpSpPr>
              <a:xfrm>
                <a:off x="3633840" y="4487760"/>
                <a:ext cx="497160" cy="151200"/>
                <a:chOff x="3633840" y="4487760"/>
                <a:chExt cx="497160" cy="151200"/>
              </a:xfrm>
            </p:grpSpPr>
            <p:sp>
              <p:nvSpPr>
                <p:cNvPr id="628" name=""/>
                <p:cNvSpPr/>
                <p:nvPr/>
              </p:nvSpPr>
              <p:spPr>
                <a:xfrm>
                  <a:off x="3633840" y="4487760"/>
                  <a:ext cx="109800" cy="132120"/>
                </a:xfrm>
                <a:custGeom>
                  <a:avLst/>
                  <a:gdLst/>
                  <a:ahLst/>
                  <a:rect l="0" t="0" r="r" b="b"/>
                  <a:pathLst>
                    <a:path w="305" h="367">
                      <a:moveTo>
                        <a:pt x="0" y="0"/>
                      </a:moveTo>
                      <a:lnTo>
                        <a:pt x="305" y="9"/>
                      </a:lnTo>
                      <a:lnTo>
                        <a:pt x="305" y="294"/>
                      </a:lnTo>
                      <a:lnTo>
                        <a:pt x="232" y="294"/>
                      </a:lnTo>
                      <a:lnTo>
                        <a:pt x="232" y="367"/>
                      </a:lnTo>
                      <a:lnTo>
                        <a:pt x="81" y="353"/>
                      </a:lnTo>
                      <a:lnTo>
                        <a:pt x="81" y="281"/>
                      </a:lnTo>
                      <a:lnTo>
                        <a:pt x="0" y="28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3762360" y="4495680"/>
                  <a:ext cx="109800" cy="132120"/>
                </a:xfrm>
                <a:custGeom>
                  <a:avLst/>
                  <a:gdLst/>
                  <a:ahLst/>
                  <a:rect l="0" t="0" r="r" b="b"/>
                  <a:pathLst>
                    <a:path w="305" h="367">
                      <a:moveTo>
                        <a:pt x="0" y="0"/>
                      </a:moveTo>
                      <a:lnTo>
                        <a:pt x="305" y="9"/>
                      </a:lnTo>
                      <a:lnTo>
                        <a:pt x="305" y="294"/>
                      </a:lnTo>
                      <a:lnTo>
                        <a:pt x="232" y="294"/>
                      </a:lnTo>
                      <a:lnTo>
                        <a:pt x="232" y="367"/>
                      </a:lnTo>
                      <a:lnTo>
                        <a:pt x="81" y="353"/>
                      </a:lnTo>
                      <a:lnTo>
                        <a:pt x="81" y="281"/>
                      </a:lnTo>
                      <a:lnTo>
                        <a:pt x="0" y="28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3892680" y="4498920"/>
                  <a:ext cx="109800" cy="132120"/>
                </a:xfrm>
                <a:custGeom>
                  <a:avLst/>
                  <a:gdLst/>
                  <a:ahLst/>
                  <a:rect l="0" t="0" r="r" b="b"/>
                  <a:pathLst>
                    <a:path w="305" h="367">
                      <a:moveTo>
                        <a:pt x="0" y="0"/>
                      </a:moveTo>
                      <a:lnTo>
                        <a:pt x="305" y="9"/>
                      </a:lnTo>
                      <a:lnTo>
                        <a:pt x="305" y="294"/>
                      </a:lnTo>
                      <a:lnTo>
                        <a:pt x="232" y="294"/>
                      </a:lnTo>
                      <a:lnTo>
                        <a:pt x="232" y="367"/>
                      </a:lnTo>
                      <a:lnTo>
                        <a:pt x="81" y="353"/>
                      </a:lnTo>
                      <a:lnTo>
                        <a:pt x="81" y="281"/>
                      </a:lnTo>
                      <a:lnTo>
                        <a:pt x="0" y="28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4021200" y="4506840"/>
                  <a:ext cx="109800" cy="132120"/>
                </a:xfrm>
                <a:custGeom>
                  <a:avLst/>
                  <a:gdLst/>
                  <a:ahLst/>
                  <a:rect l="0" t="0" r="r" b="b"/>
                  <a:pathLst>
                    <a:path w="305" h="367">
                      <a:moveTo>
                        <a:pt x="0" y="0"/>
                      </a:moveTo>
                      <a:lnTo>
                        <a:pt x="305" y="9"/>
                      </a:lnTo>
                      <a:lnTo>
                        <a:pt x="305" y="294"/>
                      </a:lnTo>
                      <a:lnTo>
                        <a:pt x="232" y="294"/>
                      </a:lnTo>
                      <a:lnTo>
                        <a:pt x="232" y="367"/>
                      </a:lnTo>
                      <a:lnTo>
                        <a:pt x="81" y="353"/>
                      </a:lnTo>
                      <a:lnTo>
                        <a:pt x="81" y="281"/>
                      </a:lnTo>
                      <a:lnTo>
                        <a:pt x="0" y="28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2" name=""/>
              <p:cNvGrpSpPr/>
              <p:nvPr/>
            </p:nvGrpSpPr>
            <p:grpSpPr>
              <a:xfrm>
                <a:off x="3079800" y="4459320"/>
                <a:ext cx="497160" cy="149400"/>
                <a:chOff x="3079800" y="4459320"/>
                <a:chExt cx="497160" cy="149400"/>
              </a:xfrm>
            </p:grpSpPr>
            <p:sp>
              <p:nvSpPr>
                <p:cNvPr id="633" name=""/>
                <p:cNvSpPr/>
                <p:nvPr/>
              </p:nvSpPr>
              <p:spPr>
                <a:xfrm>
                  <a:off x="3079800" y="4459320"/>
                  <a:ext cx="109800" cy="132120"/>
                </a:xfrm>
                <a:custGeom>
                  <a:avLst/>
                  <a:gdLst/>
                  <a:ahLst/>
                  <a:rect l="0" t="0" r="r" b="b"/>
                  <a:pathLst>
                    <a:path w="305" h="367">
                      <a:moveTo>
                        <a:pt x="0" y="0"/>
                      </a:moveTo>
                      <a:lnTo>
                        <a:pt x="305" y="9"/>
                      </a:lnTo>
                      <a:lnTo>
                        <a:pt x="305" y="294"/>
                      </a:lnTo>
                      <a:lnTo>
                        <a:pt x="232" y="294"/>
                      </a:lnTo>
                      <a:lnTo>
                        <a:pt x="232" y="367"/>
                      </a:lnTo>
                      <a:lnTo>
                        <a:pt x="81" y="353"/>
                      </a:lnTo>
                      <a:lnTo>
                        <a:pt x="81" y="281"/>
                      </a:lnTo>
                      <a:lnTo>
                        <a:pt x="0" y="28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3208320" y="4467240"/>
                  <a:ext cx="109800" cy="130680"/>
                </a:xfrm>
                <a:custGeom>
                  <a:avLst/>
                  <a:gdLst/>
                  <a:ahLst/>
                  <a:rect l="0" t="0" r="r" b="b"/>
                  <a:pathLst>
                    <a:path w="305" h="363">
                      <a:moveTo>
                        <a:pt x="0" y="0"/>
                      </a:moveTo>
                      <a:lnTo>
                        <a:pt x="305" y="9"/>
                      </a:lnTo>
                      <a:lnTo>
                        <a:pt x="305" y="291"/>
                      </a:lnTo>
                      <a:lnTo>
                        <a:pt x="232" y="291"/>
                      </a:lnTo>
                      <a:lnTo>
                        <a:pt x="232" y="363"/>
                      </a:lnTo>
                      <a:lnTo>
                        <a:pt x="81" y="350"/>
                      </a:lnTo>
                      <a:lnTo>
                        <a:pt x="81" y="277"/>
                      </a:lnTo>
                      <a:lnTo>
                        <a:pt x="0" y="27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3338640" y="4470480"/>
                  <a:ext cx="109800" cy="130680"/>
                </a:xfrm>
                <a:custGeom>
                  <a:avLst/>
                  <a:gdLst/>
                  <a:ahLst/>
                  <a:rect l="0" t="0" r="r" b="b"/>
                  <a:pathLst>
                    <a:path w="305" h="363">
                      <a:moveTo>
                        <a:pt x="0" y="0"/>
                      </a:moveTo>
                      <a:lnTo>
                        <a:pt x="305" y="9"/>
                      </a:lnTo>
                      <a:lnTo>
                        <a:pt x="305" y="291"/>
                      </a:lnTo>
                      <a:lnTo>
                        <a:pt x="232" y="291"/>
                      </a:lnTo>
                      <a:lnTo>
                        <a:pt x="232" y="363"/>
                      </a:lnTo>
                      <a:lnTo>
                        <a:pt x="81" y="350"/>
                      </a:lnTo>
                      <a:lnTo>
                        <a:pt x="81" y="277"/>
                      </a:lnTo>
                      <a:lnTo>
                        <a:pt x="0" y="27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3467160" y="4476600"/>
                  <a:ext cx="109800" cy="132120"/>
                </a:xfrm>
                <a:custGeom>
                  <a:avLst/>
                  <a:gdLst/>
                  <a:ahLst/>
                  <a:rect l="0" t="0" r="r" b="b"/>
                  <a:pathLst>
                    <a:path w="305" h="367">
                      <a:moveTo>
                        <a:pt x="0" y="0"/>
                      </a:moveTo>
                      <a:lnTo>
                        <a:pt x="305" y="9"/>
                      </a:lnTo>
                      <a:lnTo>
                        <a:pt x="305" y="294"/>
                      </a:lnTo>
                      <a:lnTo>
                        <a:pt x="232" y="294"/>
                      </a:lnTo>
                      <a:lnTo>
                        <a:pt x="232" y="367"/>
                      </a:lnTo>
                      <a:lnTo>
                        <a:pt x="81" y="353"/>
                      </a:lnTo>
                      <a:lnTo>
                        <a:pt x="81" y="281"/>
                      </a:lnTo>
                      <a:lnTo>
                        <a:pt x="0" y="28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7" name=""/>
              <p:cNvSpPr/>
              <p:nvPr/>
            </p:nvSpPr>
            <p:spPr>
              <a:xfrm>
                <a:off x="2860560" y="4451400"/>
                <a:ext cx="109800" cy="132120"/>
              </a:xfrm>
              <a:custGeom>
                <a:avLst/>
                <a:gdLst/>
                <a:ahLst/>
                <a:rect l="0" t="0" r="r" b="b"/>
                <a:pathLst>
                  <a:path w="305" h="367">
                    <a:moveTo>
                      <a:pt x="0" y="0"/>
                    </a:moveTo>
                    <a:lnTo>
                      <a:pt x="305" y="9"/>
                    </a:lnTo>
                    <a:lnTo>
                      <a:pt x="305" y="294"/>
                    </a:lnTo>
                    <a:lnTo>
                      <a:pt x="232" y="294"/>
                    </a:lnTo>
                    <a:lnTo>
                      <a:pt x="232" y="367"/>
                    </a:lnTo>
                    <a:lnTo>
                      <a:pt x="81" y="353"/>
                    </a:lnTo>
                    <a:lnTo>
                      <a:pt x="81" y="281"/>
                    </a:lnTo>
                    <a:lnTo>
                      <a:pt x="0" y="28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8" name=""/>
            <p:cNvGrpSpPr/>
            <p:nvPr/>
          </p:nvGrpSpPr>
          <p:grpSpPr>
            <a:xfrm>
              <a:off x="4976640" y="4840200"/>
              <a:ext cx="207000" cy="117720"/>
              <a:chOff x="4976640" y="4840200"/>
              <a:chExt cx="207000" cy="117720"/>
            </a:xfrm>
          </p:grpSpPr>
          <p:grpSp>
            <p:nvGrpSpPr>
              <p:cNvPr id="639" name=""/>
              <p:cNvGrpSpPr/>
              <p:nvPr/>
            </p:nvGrpSpPr>
            <p:grpSpPr>
              <a:xfrm>
                <a:off x="4992840" y="4840200"/>
                <a:ext cx="190800" cy="98640"/>
                <a:chOff x="4992840" y="4840200"/>
                <a:chExt cx="190800" cy="98640"/>
              </a:xfrm>
            </p:grpSpPr>
            <p:sp>
              <p:nvSpPr>
                <p:cNvPr id="640" name=""/>
                <p:cNvSpPr/>
                <p:nvPr/>
              </p:nvSpPr>
              <p:spPr>
                <a:xfrm>
                  <a:off x="5086440" y="4844880"/>
                  <a:ext cx="97200" cy="88920"/>
                </a:xfrm>
                <a:custGeom>
                  <a:avLst/>
                  <a:gdLst/>
                  <a:ahLst/>
                  <a:rect l="0" t="0" r="r" b="b"/>
                  <a:pathLst>
                    <a:path w="270" h="247">
                      <a:moveTo>
                        <a:pt x="0" y="116"/>
                      </a:moveTo>
                      <a:lnTo>
                        <a:pt x="0" y="116"/>
                      </a:lnTo>
                      <a:cubicBezTo>
                        <a:pt x="-1" y="138"/>
                        <a:pt x="4" y="160"/>
                        <a:pt x="15" y="179"/>
                      </a:cubicBezTo>
                      <a:cubicBezTo>
                        <a:pt x="26" y="199"/>
                        <a:pt x="42" y="215"/>
                        <a:pt x="62" y="227"/>
                      </a:cubicBezTo>
                      <a:cubicBezTo>
                        <a:pt x="82" y="239"/>
                        <a:pt x="105" y="246"/>
                        <a:pt x="129" y="247"/>
                      </a:cubicBezTo>
                      <a:cubicBezTo>
                        <a:pt x="152" y="248"/>
                        <a:pt x="176" y="244"/>
                        <a:pt x="197" y="234"/>
                      </a:cubicBezTo>
                      <a:cubicBezTo>
                        <a:pt x="218" y="224"/>
                        <a:pt x="236" y="210"/>
                        <a:pt x="249" y="191"/>
                      </a:cubicBezTo>
                      <a:cubicBezTo>
                        <a:pt x="262" y="173"/>
                        <a:pt x="269" y="152"/>
                        <a:pt x="270" y="131"/>
                      </a:cubicBezTo>
                      <a:lnTo>
                        <a:pt x="270" y="131"/>
                      </a:lnTo>
                      <a:lnTo>
                        <a:pt x="270" y="131"/>
                      </a:lnTo>
                      <a:cubicBezTo>
                        <a:pt x="271" y="109"/>
                        <a:pt x="266" y="87"/>
                        <a:pt x="255" y="68"/>
                      </a:cubicBezTo>
                      <a:cubicBezTo>
                        <a:pt x="244" y="48"/>
                        <a:pt x="228" y="32"/>
                        <a:pt x="208" y="20"/>
                      </a:cubicBezTo>
                      <a:cubicBezTo>
                        <a:pt x="188" y="8"/>
                        <a:pt x="165" y="1"/>
                        <a:pt x="141" y="0"/>
                      </a:cubicBezTo>
                      <a:cubicBezTo>
                        <a:pt x="118" y="-1"/>
                        <a:pt x="94" y="3"/>
                        <a:pt x="73" y="13"/>
                      </a:cubicBezTo>
                      <a:cubicBezTo>
                        <a:pt x="52" y="23"/>
                        <a:pt x="34" y="37"/>
                        <a:pt x="21" y="56"/>
                      </a:cubicBezTo>
                      <a:cubicBezTo>
                        <a:pt x="8" y="74"/>
                        <a:pt x="1" y="95"/>
                        <a:pt x="0" y="116"/>
                      </a:cubicBezTo>
                      <a:close/>
                    </a:path>
                  </a:pathLst>
                </a:custGeom>
                <a:solidFill>
                  <a:srgbClr val="919191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4992840" y="4842000"/>
                  <a:ext cx="97200" cy="88920"/>
                </a:xfrm>
                <a:custGeom>
                  <a:avLst/>
                  <a:gdLst/>
                  <a:ahLst/>
                  <a:rect l="0" t="0" r="r" b="b"/>
                  <a:pathLst>
                    <a:path w="270" h="247">
                      <a:moveTo>
                        <a:pt x="0" y="116"/>
                      </a:moveTo>
                      <a:lnTo>
                        <a:pt x="0" y="116"/>
                      </a:lnTo>
                      <a:cubicBezTo>
                        <a:pt x="-1" y="138"/>
                        <a:pt x="4" y="160"/>
                        <a:pt x="15" y="179"/>
                      </a:cubicBezTo>
                      <a:cubicBezTo>
                        <a:pt x="26" y="199"/>
                        <a:pt x="42" y="215"/>
                        <a:pt x="62" y="227"/>
                      </a:cubicBezTo>
                      <a:cubicBezTo>
                        <a:pt x="82" y="239"/>
                        <a:pt x="105" y="246"/>
                        <a:pt x="129" y="247"/>
                      </a:cubicBezTo>
                      <a:cubicBezTo>
                        <a:pt x="152" y="248"/>
                        <a:pt x="176" y="244"/>
                        <a:pt x="197" y="234"/>
                      </a:cubicBezTo>
                      <a:cubicBezTo>
                        <a:pt x="218" y="224"/>
                        <a:pt x="236" y="210"/>
                        <a:pt x="249" y="191"/>
                      </a:cubicBezTo>
                      <a:cubicBezTo>
                        <a:pt x="262" y="173"/>
                        <a:pt x="269" y="152"/>
                        <a:pt x="270" y="131"/>
                      </a:cubicBezTo>
                      <a:lnTo>
                        <a:pt x="270" y="131"/>
                      </a:lnTo>
                      <a:lnTo>
                        <a:pt x="270" y="131"/>
                      </a:lnTo>
                      <a:cubicBezTo>
                        <a:pt x="271" y="109"/>
                        <a:pt x="266" y="87"/>
                        <a:pt x="255" y="68"/>
                      </a:cubicBezTo>
                      <a:cubicBezTo>
                        <a:pt x="244" y="48"/>
                        <a:pt x="228" y="32"/>
                        <a:pt x="208" y="20"/>
                      </a:cubicBezTo>
                      <a:cubicBezTo>
                        <a:pt x="188" y="8"/>
                        <a:pt x="165" y="1"/>
                        <a:pt x="141" y="0"/>
                      </a:cubicBezTo>
                      <a:cubicBezTo>
                        <a:pt x="118" y="-1"/>
                        <a:pt x="94" y="3"/>
                        <a:pt x="73" y="13"/>
                      </a:cubicBezTo>
                      <a:cubicBezTo>
                        <a:pt x="52" y="23"/>
                        <a:pt x="34" y="37"/>
                        <a:pt x="21" y="56"/>
                      </a:cubicBezTo>
                      <a:cubicBezTo>
                        <a:pt x="8" y="74"/>
                        <a:pt x="1" y="95"/>
                        <a:pt x="0" y="116"/>
                      </a:cubicBezTo>
                      <a:close/>
                    </a:path>
                  </a:pathLst>
                </a:custGeom>
                <a:solidFill>
                  <a:srgbClr val="919191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 flipH="1">
                  <a:off x="5046840" y="4840200"/>
                  <a:ext cx="98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 flipH="1" flipV="1">
                  <a:off x="5045040" y="4937040"/>
                  <a:ext cx="95400" cy="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49320" bIns="-49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5028840" y="4840920"/>
                  <a:ext cx="108720" cy="78840"/>
                </a:xfrm>
                <a:custGeom>
                  <a:avLst/>
                  <a:gdLst/>
                  <a:ahLst/>
                  <a:rect l="0" t="0" r="r" b="b"/>
                  <a:pathLst>
                    <a:path w="302" h="219">
                      <a:moveTo>
                        <a:pt x="10" y="0"/>
                      </a:moveTo>
                      <a:lnTo>
                        <a:pt x="0" y="204"/>
                      </a:lnTo>
                      <a:lnTo>
                        <a:pt x="291" y="219"/>
                      </a:lnTo>
                      <a:lnTo>
                        <a:pt x="302" y="15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33840" bIns="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5" name=""/>
              <p:cNvGrpSpPr/>
              <p:nvPr/>
            </p:nvGrpSpPr>
            <p:grpSpPr>
              <a:xfrm>
                <a:off x="4976640" y="4859280"/>
                <a:ext cx="191160" cy="98640"/>
                <a:chOff x="4976640" y="4859280"/>
                <a:chExt cx="191160" cy="98640"/>
              </a:xfrm>
            </p:grpSpPr>
            <p:sp>
              <p:nvSpPr>
                <p:cNvPr id="646" name=""/>
                <p:cNvSpPr/>
                <p:nvPr/>
              </p:nvSpPr>
              <p:spPr>
                <a:xfrm>
                  <a:off x="5070600" y="4863960"/>
                  <a:ext cx="97200" cy="88920"/>
                </a:xfrm>
                <a:custGeom>
                  <a:avLst/>
                  <a:gdLst/>
                  <a:ahLst/>
                  <a:rect l="0" t="0" r="r" b="b"/>
                  <a:pathLst>
                    <a:path w="270" h="247">
                      <a:moveTo>
                        <a:pt x="0" y="116"/>
                      </a:moveTo>
                      <a:lnTo>
                        <a:pt x="0" y="116"/>
                      </a:lnTo>
                      <a:cubicBezTo>
                        <a:pt x="-1" y="138"/>
                        <a:pt x="4" y="160"/>
                        <a:pt x="15" y="179"/>
                      </a:cubicBezTo>
                      <a:cubicBezTo>
                        <a:pt x="26" y="199"/>
                        <a:pt x="42" y="215"/>
                        <a:pt x="62" y="227"/>
                      </a:cubicBezTo>
                      <a:cubicBezTo>
                        <a:pt x="82" y="239"/>
                        <a:pt x="105" y="246"/>
                        <a:pt x="129" y="247"/>
                      </a:cubicBezTo>
                      <a:cubicBezTo>
                        <a:pt x="152" y="248"/>
                        <a:pt x="176" y="244"/>
                        <a:pt x="197" y="234"/>
                      </a:cubicBezTo>
                      <a:cubicBezTo>
                        <a:pt x="218" y="224"/>
                        <a:pt x="236" y="210"/>
                        <a:pt x="249" y="191"/>
                      </a:cubicBezTo>
                      <a:cubicBezTo>
                        <a:pt x="262" y="173"/>
                        <a:pt x="269" y="152"/>
                        <a:pt x="270" y="131"/>
                      </a:cubicBezTo>
                      <a:lnTo>
                        <a:pt x="270" y="131"/>
                      </a:lnTo>
                      <a:lnTo>
                        <a:pt x="270" y="131"/>
                      </a:lnTo>
                      <a:cubicBezTo>
                        <a:pt x="271" y="109"/>
                        <a:pt x="266" y="87"/>
                        <a:pt x="255" y="68"/>
                      </a:cubicBezTo>
                      <a:cubicBezTo>
                        <a:pt x="244" y="48"/>
                        <a:pt x="228" y="32"/>
                        <a:pt x="208" y="20"/>
                      </a:cubicBezTo>
                      <a:cubicBezTo>
                        <a:pt x="188" y="8"/>
                        <a:pt x="165" y="1"/>
                        <a:pt x="141" y="0"/>
                      </a:cubicBezTo>
                      <a:cubicBezTo>
                        <a:pt x="118" y="-1"/>
                        <a:pt x="94" y="3"/>
                        <a:pt x="73" y="13"/>
                      </a:cubicBezTo>
                      <a:cubicBezTo>
                        <a:pt x="52" y="23"/>
                        <a:pt x="34" y="37"/>
                        <a:pt x="21" y="56"/>
                      </a:cubicBezTo>
                      <a:cubicBezTo>
                        <a:pt x="8" y="74"/>
                        <a:pt x="1" y="95"/>
                        <a:pt x="0" y="116"/>
                      </a:cubicBezTo>
                      <a:close/>
                    </a:path>
                  </a:pathLst>
                </a:custGeom>
                <a:solidFill>
                  <a:srgbClr val="919191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4976640" y="4860720"/>
                  <a:ext cx="97200" cy="89280"/>
                </a:xfrm>
                <a:custGeom>
                  <a:avLst/>
                  <a:gdLst/>
                  <a:ahLst/>
                  <a:rect l="0" t="0" r="r" b="b"/>
                  <a:pathLst>
                    <a:path w="270" h="248">
                      <a:moveTo>
                        <a:pt x="0" y="117"/>
                      </a:moveTo>
                      <a:lnTo>
                        <a:pt x="0" y="117"/>
                      </a:lnTo>
                      <a:cubicBezTo>
                        <a:pt x="-1" y="139"/>
                        <a:pt x="4" y="160"/>
                        <a:pt x="15" y="180"/>
                      </a:cubicBezTo>
                      <a:cubicBezTo>
                        <a:pt x="26" y="199"/>
                        <a:pt x="42" y="216"/>
                        <a:pt x="62" y="228"/>
                      </a:cubicBezTo>
                      <a:cubicBezTo>
                        <a:pt x="82" y="240"/>
                        <a:pt x="105" y="247"/>
                        <a:pt x="129" y="248"/>
                      </a:cubicBezTo>
                      <a:cubicBezTo>
                        <a:pt x="152" y="249"/>
                        <a:pt x="176" y="245"/>
                        <a:pt x="197" y="235"/>
                      </a:cubicBezTo>
                      <a:cubicBezTo>
                        <a:pt x="218" y="225"/>
                        <a:pt x="236" y="210"/>
                        <a:pt x="249" y="192"/>
                      </a:cubicBezTo>
                      <a:cubicBezTo>
                        <a:pt x="262" y="174"/>
                        <a:pt x="269" y="153"/>
                        <a:pt x="270" y="131"/>
                      </a:cubicBezTo>
                      <a:lnTo>
                        <a:pt x="270" y="131"/>
                      </a:lnTo>
                      <a:lnTo>
                        <a:pt x="270" y="131"/>
                      </a:lnTo>
                      <a:cubicBezTo>
                        <a:pt x="271" y="109"/>
                        <a:pt x="266" y="88"/>
                        <a:pt x="255" y="68"/>
                      </a:cubicBezTo>
                      <a:cubicBezTo>
                        <a:pt x="244" y="49"/>
                        <a:pt x="228" y="32"/>
                        <a:pt x="208" y="20"/>
                      </a:cubicBezTo>
                      <a:cubicBezTo>
                        <a:pt x="188" y="8"/>
                        <a:pt x="165" y="1"/>
                        <a:pt x="141" y="0"/>
                      </a:cubicBezTo>
                      <a:cubicBezTo>
                        <a:pt x="118" y="-1"/>
                        <a:pt x="94" y="3"/>
                        <a:pt x="73" y="13"/>
                      </a:cubicBezTo>
                      <a:cubicBezTo>
                        <a:pt x="52" y="23"/>
                        <a:pt x="34" y="38"/>
                        <a:pt x="21" y="56"/>
                      </a:cubicBezTo>
                      <a:cubicBezTo>
                        <a:pt x="8" y="74"/>
                        <a:pt x="1" y="95"/>
                        <a:pt x="0" y="117"/>
                      </a:cubicBezTo>
                      <a:close/>
                    </a:path>
                  </a:pathLst>
                </a:custGeom>
                <a:solidFill>
                  <a:srgbClr val="919191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38160" bIns="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 flipH="1">
                  <a:off x="5033880" y="4859280"/>
                  <a:ext cx="92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 flipH="1" flipV="1">
                  <a:off x="5035680" y="4956120"/>
                  <a:ext cx="91800" cy="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49320" bIns="-49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5013360" y="4864680"/>
                  <a:ext cx="111600" cy="74160"/>
                </a:xfrm>
                <a:custGeom>
                  <a:avLst/>
                  <a:gdLst/>
                  <a:ahLst/>
                  <a:rect l="0" t="0" r="r" b="b"/>
                  <a:pathLst>
                    <a:path w="310" h="206">
                      <a:moveTo>
                        <a:pt x="9" y="0"/>
                      </a:moveTo>
                      <a:lnTo>
                        <a:pt x="0" y="190"/>
                      </a:lnTo>
                      <a:lnTo>
                        <a:pt x="300" y="206"/>
                      </a:lnTo>
                      <a:lnTo>
                        <a:pt x="310" y="15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51" name=""/>
            <p:cNvSpPr/>
            <p:nvPr/>
          </p:nvSpPr>
          <p:spPr>
            <a:xfrm>
              <a:off x="2725560" y="4656240"/>
              <a:ext cx="2619720" cy="356040"/>
            </a:xfrm>
            <a:custGeom>
              <a:avLst/>
              <a:gdLst/>
              <a:ahLst/>
              <a:rect l="0" t="0" r="r" b="b"/>
              <a:pathLst>
                <a:path fill="none" w="7277" h="989">
                  <a:moveTo>
                    <a:pt x="0" y="0"/>
                  </a:moveTo>
                  <a:lnTo>
                    <a:pt x="7277" y="352"/>
                  </a:lnTo>
                  <a:lnTo>
                    <a:pt x="7277" y="989"/>
                  </a:lnTo>
                  <a:lnTo>
                    <a:pt x="0" y="619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754360" y="4738680"/>
              <a:ext cx="60480" cy="63360"/>
            </a:xfrm>
            <a:prstGeom prst="ellipse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235480" y="4856040"/>
              <a:ext cx="60480" cy="63360"/>
            </a:xfrm>
            <a:prstGeom prst="ellipse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4" name=""/>
            <p:cNvGrpSpPr/>
            <p:nvPr/>
          </p:nvGrpSpPr>
          <p:grpSpPr>
            <a:xfrm>
              <a:off x="4726080" y="4832280"/>
              <a:ext cx="206640" cy="117720"/>
              <a:chOff x="4726080" y="4832280"/>
              <a:chExt cx="206640" cy="117720"/>
            </a:xfrm>
          </p:grpSpPr>
          <p:grpSp>
            <p:nvGrpSpPr>
              <p:cNvPr id="655" name=""/>
              <p:cNvGrpSpPr/>
              <p:nvPr/>
            </p:nvGrpSpPr>
            <p:grpSpPr>
              <a:xfrm>
                <a:off x="4741920" y="4832280"/>
                <a:ext cx="190800" cy="98640"/>
                <a:chOff x="4741920" y="4832280"/>
                <a:chExt cx="190800" cy="98640"/>
              </a:xfrm>
            </p:grpSpPr>
            <p:sp>
              <p:nvSpPr>
                <p:cNvPr id="656" name=""/>
                <p:cNvSpPr/>
                <p:nvPr/>
              </p:nvSpPr>
              <p:spPr>
                <a:xfrm>
                  <a:off x="4835520" y="4836960"/>
                  <a:ext cx="97200" cy="88920"/>
                </a:xfrm>
                <a:custGeom>
                  <a:avLst/>
                  <a:gdLst/>
                  <a:ahLst/>
                  <a:rect l="0" t="0" r="r" b="b"/>
                  <a:pathLst>
                    <a:path w="270" h="247">
                      <a:moveTo>
                        <a:pt x="0" y="116"/>
                      </a:moveTo>
                      <a:lnTo>
                        <a:pt x="0" y="116"/>
                      </a:lnTo>
                      <a:cubicBezTo>
                        <a:pt x="-1" y="138"/>
                        <a:pt x="4" y="160"/>
                        <a:pt x="15" y="179"/>
                      </a:cubicBezTo>
                      <a:cubicBezTo>
                        <a:pt x="26" y="199"/>
                        <a:pt x="42" y="215"/>
                        <a:pt x="62" y="227"/>
                      </a:cubicBezTo>
                      <a:cubicBezTo>
                        <a:pt x="82" y="239"/>
                        <a:pt x="105" y="246"/>
                        <a:pt x="129" y="247"/>
                      </a:cubicBezTo>
                      <a:cubicBezTo>
                        <a:pt x="152" y="248"/>
                        <a:pt x="176" y="244"/>
                        <a:pt x="197" y="234"/>
                      </a:cubicBezTo>
                      <a:cubicBezTo>
                        <a:pt x="218" y="224"/>
                        <a:pt x="236" y="210"/>
                        <a:pt x="249" y="191"/>
                      </a:cubicBezTo>
                      <a:cubicBezTo>
                        <a:pt x="262" y="173"/>
                        <a:pt x="269" y="152"/>
                        <a:pt x="270" y="131"/>
                      </a:cubicBezTo>
                      <a:lnTo>
                        <a:pt x="270" y="131"/>
                      </a:lnTo>
                      <a:lnTo>
                        <a:pt x="270" y="131"/>
                      </a:lnTo>
                      <a:cubicBezTo>
                        <a:pt x="271" y="109"/>
                        <a:pt x="266" y="87"/>
                        <a:pt x="255" y="68"/>
                      </a:cubicBezTo>
                      <a:cubicBezTo>
                        <a:pt x="244" y="48"/>
                        <a:pt x="228" y="32"/>
                        <a:pt x="208" y="20"/>
                      </a:cubicBezTo>
                      <a:cubicBezTo>
                        <a:pt x="188" y="8"/>
                        <a:pt x="165" y="1"/>
                        <a:pt x="141" y="0"/>
                      </a:cubicBezTo>
                      <a:cubicBezTo>
                        <a:pt x="118" y="-1"/>
                        <a:pt x="94" y="3"/>
                        <a:pt x="73" y="13"/>
                      </a:cubicBezTo>
                      <a:cubicBezTo>
                        <a:pt x="52" y="23"/>
                        <a:pt x="34" y="37"/>
                        <a:pt x="21" y="56"/>
                      </a:cubicBezTo>
                      <a:cubicBezTo>
                        <a:pt x="8" y="74"/>
                        <a:pt x="1" y="95"/>
                        <a:pt x="0" y="116"/>
                      </a:cubicBezTo>
                      <a:close/>
                    </a:path>
                  </a:pathLst>
                </a:custGeom>
                <a:solidFill>
                  <a:srgbClr val="919191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4741920" y="4833720"/>
                  <a:ext cx="97200" cy="88920"/>
                </a:xfrm>
                <a:custGeom>
                  <a:avLst/>
                  <a:gdLst/>
                  <a:ahLst/>
                  <a:rect l="0" t="0" r="r" b="b"/>
                  <a:pathLst>
                    <a:path w="270" h="247">
                      <a:moveTo>
                        <a:pt x="0" y="116"/>
                      </a:moveTo>
                      <a:lnTo>
                        <a:pt x="0" y="116"/>
                      </a:lnTo>
                      <a:cubicBezTo>
                        <a:pt x="-1" y="138"/>
                        <a:pt x="4" y="160"/>
                        <a:pt x="15" y="179"/>
                      </a:cubicBezTo>
                      <a:cubicBezTo>
                        <a:pt x="26" y="199"/>
                        <a:pt x="42" y="215"/>
                        <a:pt x="62" y="227"/>
                      </a:cubicBezTo>
                      <a:cubicBezTo>
                        <a:pt x="82" y="239"/>
                        <a:pt x="105" y="246"/>
                        <a:pt x="129" y="247"/>
                      </a:cubicBezTo>
                      <a:cubicBezTo>
                        <a:pt x="152" y="248"/>
                        <a:pt x="176" y="244"/>
                        <a:pt x="197" y="234"/>
                      </a:cubicBezTo>
                      <a:cubicBezTo>
                        <a:pt x="218" y="224"/>
                        <a:pt x="236" y="210"/>
                        <a:pt x="249" y="191"/>
                      </a:cubicBezTo>
                      <a:cubicBezTo>
                        <a:pt x="262" y="173"/>
                        <a:pt x="269" y="152"/>
                        <a:pt x="270" y="131"/>
                      </a:cubicBezTo>
                      <a:lnTo>
                        <a:pt x="270" y="131"/>
                      </a:lnTo>
                      <a:lnTo>
                        <a:pt x="270" y="131"/>
                      </a:lnTo>
                      <a:cubicBezTo>
                        <a:pt x="271" y="109"/>
                        <a:pt x="266" y="87"/>
                        <a:pt x="255" y="68"/>
                      </a:cubicBezTo>
                      <a:cubicBezTo>
                        <a:pt x="244" y="48"/>
                        <a:pt x="228" y="32"/>
                        <a:pt x="208" y="20"/>
                      </a:cubicBezTo>
                      <a:cubicBezTo>
                        <a:pt x="188" y="8"/>
                        <a:pt x="165" y="1"/>
                        <a:pt x="141" y="0"/>
                      </a:cubicBezTo>
                      <a:cubicBezTo>
                        <a:pt x="118" y="-1"/>
                        <a:pt x="94" y="3"/>
                        <a:pt x="73" y="13"/>
                      </a:cubicBezTo>
                      <a:cubicBezTo>
                        <a:pt x="52" y="23"/>
                        <a:pt x="34" y="37"/>
                        <a:pt x="21" y="56"/>
                      </a:cubicBezTo>
                      <a:cubicBezTo>
                        <a:pt x="8" y="74"/>
                        <a:pt x="1" y="95"/>
                        <a:pt x="0" y="116"/>
                      </a:cubicBezTo>
                      <a:close/>
                    </a:path>
                  </a:pathLst>
                </a:custGeom>
                <a:solidFill>
                  <a:srgbClr val="919191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 flipH="1">
                  <a:off x="4795920" y="4832280"/>
                  <a:ext cx="98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 flipH="1" flipV="1">
                  <a:off x="4794120" y="4929120"/>
                  <a:ext cx="95400" cy="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49320" bIns="-49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4778280" y="4833000"/>
                  <a:ext cx="108720" cy="78840"/>
                </a:xfrm>
                <a:custGeom>
                  <a:avLst/>
                  <a:gdLst/>
                  <a:ahLst/>
                  <a:rect l="0" t="0" r="r" b="b"/>
                  <a:pathLst>
                    <a:path w="302" h="219">
                      <a:moveTo>
                        <a:pt x="10" y="0"/>
                      </a:moveTo>
                      <a:lnTo>
                        <a:pt x="0" y="204"/>
                      </a:lnTo>
                      <a:lnTo>
                        <a:pt x="291" y="219"/>
                      </a:lnTo>
                      <a:lnTo>
                        <a:pt x="302" y="15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33840" bIns="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1" name=""/>
              <p:cNvGrpSpPr/>
              <p:nvPr/>
            </p:nvGrpSpPr>
            <p:grpSpPr>
              <a:xfrm>
                <a:off x="4726080" y="4851360"/>
                <a:ext cx="190800" cy="98640"/>
                <a:chOff x="4726080" y="4851360"/>
                <a:chExt cx="190800" cy="98640"/>
              </a:xfrm>
            </p:grpSpPr>
            <p:sp>
              <p:nvSpPr>
                <p:cNvPr id="662" name=""/>
                <p:cNvSpPr/>
                <p:nvPr/>
              </p:nvSpPr>
              <p:spPr>
                <a:xfrm>
                  <a:off x="4819680" y="4856040"/>
                  <a:ext cx="97200" cy="88920"/>
                </a:xfrm>
                <a:custGeom>
                  <a:avLst/>
                  <a:gdLst/>
                  <a:ahLst/>
                  <a:rect l="0" t="0" r="r" b="b"/>
                  <a:pathLst>
                    <a:path w="270" h="247">
                      <a:moveTo>
                        <a:pt x="0" y="116"/>
                      </a:moveTo>
                      <a:lnTo>
                        <a:pt x="0" y="116"/>
                      </a:lnTo>
                      <a:cubicBezTo>
                        <a:pt x="-1" y="138"/>
                        <a:pt x="4" y="160"/>
                        <a:pt x="15" y="179"/>
                      </a:cubicBezTo>
                      <a:cubicBezTo>
                        <a:pt x="26" y="199"/>
                        <a:pt x="42" y="215"/>
                        <a:pt x="62" y="227"/>
                      </a:cubicBezTo>
                      <a:cubicBezTo>
                        <a:pt x="82" y="239"/>
                        <a:pt x="105" y="246"/>
                        <a:pt x="129" y="247"/>
                      </a:cubicBezTo>
                      <a:cubicBezTo>
                        <a:pt x="152" y="248"/>
                        <a:pt x="176" y="244"/>
                        <a:pt x="197" y="234"/>
                      </a:cubicBezTo>
                      <a:cubicBezTo>
                        <a:pt x="218" y="224"/>
                        <a:pt x="236" y="210"/>
                        <a:pt x="249" y="191"/>
                      </a:cubicBezTo>
                      <a:cubicBezTo>
                        <a:pt x="262" y="173"/>
                        <a:pt x="269" y="152"/>
                        <a:pt x="270" y="131"/>
                      </a:cubicBezTo>
                      <a:lnTo>
                        <a:pt x="270" y="131"/>
                      </a:lnTo>
                      <a:lnTo>
                        <a:pt x="270" y="131"/>
                      </a:lnTo>
                      <a:cubicBezTo>
                        <a:pt x="271" y="109"/>
                        <a:pt x="266" y="87"/>
                        <a:pt x="255" y="68"/>
                      </a:cubicBezTo>
                      <a:cubicBezTo>
                        <a:pt x="244" y="48"/>
                        <a:pt x="228" y="32"/>
                        <a:pt x="208" y="20"/>
                      </a:cubicBezTo>
                      <a:cubicBezTo>
                        <a:pt x="188" y="8"/>
                        <a:pt x="165" y="1"/>
                        <a:pt x="141" y="0"/>
                      </a:cubicBezTo>
                      <a:cubicBezTo>
                        <a:pt x="118" y="-1"/>
                        <a:pt x="94" y="3"/>
                        <a:pt x="73" y="13"/>
                      </a:cubicBezTo>
                      <a:cubicBezTo>
                        <a:pt x="52" y="23"/>
                        <a:pt x="34" y="37"/>
                        <a:pt x="21" y="56"/>
                      </a:cubicBezTo>
                      <a:cubicBezTo>
                        <a:pt x="8" y="74"/>
                        <a:pt x="1" y="95"/>
                        <a:pt x="0" y="116"/>
                      </a:cubicBezTo>
                      <a:close/>
                    </a:path>
                  </a:pathLst>
                </a:custGeom>
                <a:solidFill>
                  <a:srgbClr val="919191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4726080" y="4852800"/>
                  <a:ext cx="97200" cy="89280"/>
                </a:xfrm>
                <a:custGeom>
                  <a:avLst/>
                  <a:gdLst/>
                  <a:ahLst/>
                  <a:rect l="0" t="0" r="r" b="b"/>
                  <a:pathLst>
                    <a:path w="270" h="248">
                      <a:moveTo>
                        <a:pt x="0" y="117"/>
                      </a:moveTo>
                      <a:lnTo>
                        <a:pt x="0" y="117"/>
                      </a:lnTo>
                      <a:cubicBezTo>
                        <a:pt x="-1" y="139"/>
                        <a:pt x="4" y="160"/>
                        <a:pt x="15" y="180"/>
                      </a:cubicBezTo>
                      <a:cubicBezTo>
                        <a:pt x="26" y="199"/>
                        <a:pt x="42" y="216"/>
                        <a:pt x="62" y="228"/>
                      </a:cubicBezTo>
                      <a:cubicBezTo>
                        <a:pt x="82" y="240"/>
                        <a:pt x="105" y="247"/>
                        <a:pt x="129" y="248"/>
                      </a:cubicBezTo>
                      <a:cubicBezTo>
                        <a:pt x="152" y="249"/>
                        <a:pt x="176" y="245"/>
                        <a:pt x="197" y="235"/>
                      </a:cubicBezTo>
                      <a:cubicBezTo>
                        <a:pt x="218" y="225"/>
                        <a:pt x="236" y="210"/>
                        <a:pt x="249" y="192"/>
                      </a:cubicBezTo>
                      <a:cubicBezTo>
                        <a:pt x="262" y="174"/>
                        <a:pt x="269" y="153"/>
                        <a:pt x="270" y="131"/>
                      </a:cubicBezTo>
                      <a:lnTo>
                        <a:pt x="270" y="131"/>
                      </a:lnTo>
                      <a:lnTo>
                        <a:pt x="270" y="131"/>
                      </a:lnTo>
                      <a:cubicBezTo>
                        <a:pt x="271" y="109"/>
                        <a:pt x="266" y="88"/>
                        <a:pt x="255" y="68"/>
                      </a:cubicBezTo>
                      <a:cubicBezTo>
                        <a:pt x="244" y="49"/>
                        <a:pt x="228" y="32"/>
                        <a:pt x="208" y="20"/>
                      </a:cubicBezTo>
                      <a:cubicBezTo>
                        <a:pt x="188" y="8"/>
                        <a:pt x="165" y="1"/>
                        <a:pt x="141" y="0"/>
                      </a:cubicBezTo>
                      <a:cubicBezTo>
                        <a:pt x="118" y="-1"/>
                        <a:pt x="94" y="3"/>
                        <a:pt x="73" y="13"/>
                      </a:cubicBezTo>
                      <a:cubicBezTo>
                        <a:pt x="52" y="23"/>
                        <a:pt x="34" y="38"/>
                        <a:pt x="21" y="56"/>
                      </a:cubicBezTo>
                      <a:cubicBezTo>
                        <a:pt x="8" y="74"/>
                        <a:pt x="1" y="95"/>
                        <a:pt x="0" y="117"/>
                      </a:cubicBezTo>
                      <a:close/>
                    </a:path>
                  </a:pathLst>
                </a:custGeom>
                <a:solidFill>
                  <a:srgbClr val="919191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38160" bIns="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 flipH="1">
                  <a:off x="4782960" y="4851360"/>
                  <a:ext cx="92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 flipH="1" flipV="1">
                  <a:off x="4784760" y="4948200"/>
                  <a:ext cx="92160" cy="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49320" bIns="-49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4762440" y="4856400"/>
                  <a:ext cx="111600" cy="74160"/>
                </a:xfrm>
                <a:custGeom>
                  <a:avLst/>
                  <a:gdLst/>
                  <a:ahLst/>
                  <a:rect l="0" t="0" r="r" b="b"/>
                  <a:pathLst>
                    <a:path w="310" h="206">
                      <a:moveTo>
                        <a:pt x="9" y="0"/>
                      </a:moveTo>
                      <a:lnTo>
                        <a:pt x="0" y="190"/>
                      </a:lnTo>
                      <a:lnTo>
                        <a:pt x="300" y="206"/>
                      </a:lnTo>
                      <a:lnTo>
                        <a:pt x="310" y="15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67" name=""/>
            <p:cNvGrpSpPr/>
            <p:nvPr/>
          </p:nvGrpSpPr>
          <p:grpSpPr>
            <a:xfrm>
              <a:off x="4194000" y="4788000"/>
              <a:ext cx="497160" cy="151200"/>
              <a:chOff x="4194000" y="4788000"/>
              <a:chExt cx="497160" cy="151200"/>
            </a:xfrm>
          </p:grpSpPr>
          <p:sp>
            <p:nvSpPr>
              <p:cNvPr id="668" name=""/>
              <p:cNvSpPr/>
              <p:nvPr/>
            </p:nvSpPr>
            <p:spPr>
              <a:xfrm>
                <a:off x="4194000" y="4788000"/>
                <a:ext cx="109800" cy="132120"/>
              </a:xfrm>
              <a:custGeom>
                <a:avLst/>
                <a:gdLst/>
                <a:ahLst/>
                <a:rect l="0" t="0" r="r" b="b"/>
                <a:pathLst>
                  <a:path w="305" h="367">
                    <a:moveTo>
                      <a:pt x="0" y="0"/>
                    </a:moveTo>
                    <a:lnTo>
                      <a:pt x="305" y="9"/>
                    </a:lnTo>
                    <a:lnTo>
                      <a:pt x="305" y="294"/>
                    </a:lnTo>
                    <a:lnTo>
                      <a:pt x="232" y="294"/>
                    </a:lnTo>
                    <a:lnTo>
                      <a:pt x="232" y="367"/>
                    </a:lnTo>
                    <a:lnTo>
                      <a:pt x="81" y="353"/>
                    </a:lnTo>
                    <a:lnTo>
                      <a:pt x="81" y="281"/>
                    </a:lnTo>
                    <a:lnTo>
                      <a:pt x="0" y="28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4322880" y="4795920"/>
                <a:ext cx="109800" cy="132120"/>
              </a:xfrm>
              <a:custGeom>
                <a:avLst/>
                <a:gdLst/>
                <a:ahLst/>
                <a:rect l="0" t="0" r="r" b="b"/>
                <a:pathLst>
                  <a:path w="305" h="367">
                    <a:moveTo>
                      <a:pt x="0" y="0"/>
                    </a:moveTo>
                    <a:lnTo>
                      <a:pt x="305" y="9"/>
                    </a:lnTo>
                    <a:lnTo>
                      <a:pt x="305" y="294"/>
                    </a:lnTo>
                    <a:lnTo>
                      <a:pt x="232" y="294"/>
                    </a:lnTo>
                    <a:lnTo>
                      <a:pt x="232" y="367"/>
                    </a:lnTo>
                    <a:lnTo>
                      <a:pt x="81" y="353"/>
                    </a:lnTo>
                    <a:lnTo>
                      <a:pt x="81" y="281"/>
                    </a:lnTo>
                    <a:lnTo>
                      <a:pt x="0" y="28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4452840" y="4799160"/>
                <a:ext cx="109800" cy="132120"/>
              </a:xfrm>
              <a:custGeom>
                <a:avLst/>
                <a:gdLst/>
                <a:ahLst/>
                <a:rect l="0" t="0" r="r" b="b"/>
                <a:pathLst>
                  <a:path w="305" h="367">
                    <a:moveTo>
                      <a:pt x="0" y="0"/>
                    </a:moveTo>
                    <a:lnTo>
                      <a:pt x="305" y="9"/>
                    </a:lnTo>
                    <a:lnTo>
                      <a:pt x="305" y="294"/>
                    </a:lnTo>
                    <a:lnTo>
                      <a:pt x="232" y="294"/>
                    </a:lnTo>
                    <a:lnTo>
                      <a:pt x="232" y="367"/>
                    </a:lnTo>
                    <a:lnTo>
                      <a:pt x="81" y="353"/>
                    </a:lnTo>
                    <a:lnTo>
                      <a:pt x="81" y="281"/>
                    </a:lnTo>
                    <a:lnTo>
                      <a:pt x="0" y="28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4581360" y="4807080"/>
                <a:ext cx="109800" cy="132120"/>
              </a:xfrm>
              <a:custGeom>
                <a:avLst/>
                <a:gdLst/>
                <a:ahLst/>
                <a:rect l="0" t="0" r="r" b="b"/>
                <a:pathLst>
                  <a:path w="305" h="367">
                    <a:moveTo>
                      <a:pt x="0" y="0"/>
                    </a:moveTo>
                    <a:lnTo>
                      <a:pt x="305" y="9"/>
                    </a:lnTo>
                    <a:lnTo>
                      <a:pt x="305" y="294"/>
                    </a:lnTo>
                    <a:lnTo>
                      <a:pt x="232" y="294"/>
                    </a:lnTo>
                    <a:lnTo>
                      <a:pt x="232" y="367"/>
                    </a:lnTo>
                    <a:lnTo>
                      <a:pt x="81" y="353"/>
                    </a:lnTo>
                    <a:lnTo>
                      <a:pt x="81" y="281"/>
                    </a:lnTo>
                    <a:lnTo>
                      <a:pt x="0" y="28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72" name=""/>
            <p:cNvGrpSpPr/>
            <p:nvPr/>
          </p:nvGrpSpPr>
          <p:grpSpPr>
            <a:xfrm>
              <a:off x="3633840" y="4759200"/>
              <a:ext cx="495360" cy="151200"/>
              <a:chOff x="3633840" y="4759200"/>
              <a:chExt cx="495360" cy="151200"/>
            </a:xfrm>
          </p:grpSpPr>
          <p:sp>
            <p:nvSpPr>
              <p:cNvPr id="673" name=""/>
              <p:cNvSpPr/>
              <p:nvPr/>
            </p:nvSpPr>
            <p:spPr>
              <a:xfrm>
                <a:off x="3633840" y="4759200"/>
                <a:ext cx="109800" cy="132120"/>
              </a:xfrm>
              <a:custGeom>
                <a:avLst/>
                <a:gdLst/>
                <a:ahLst/>
                <a:rect l="0" t="0" r="r" b="b"/>
                <a:pathLst>
                  <a:path w="305" h="367">
                    <a:moveTo>
                      <a:pt x="0" y="0"/>
                    </a:moveTo>
                    <a:lnTo>
                      <a:pt x="305" y="9"/>
                    </a:lnTo>
                    <a:lnTo>
                      <a:pt x="305" y="294"/>
                    </a:lnTo>
                    <a:lnTo>
                      <a:pt x="232" y="294"/>
                    </a:lnTo>
                    <a:lnTo>
                      <a:pt x="232" y="367"/>
                    </a:lnTo>
                    <a:lnTo>
                      <a:pt x="81" y="353"/>
                    </a:lnTo>
                    <a:lnTo>
                      <a:pt x="81" y="281"/>
                    </a:lnTo>
                    <a:lnTo>
                      <a:pt x="0" y="28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3762360" y="4767120"/>
                <a:ext cx="109800" cy="132120"/>
              </a:xfrm>
              <a:custGeom>
                <a:avLst/>
                <a:gdLst/>
                <a:ahLst/>
                <a:rect l="0" t="0" r="r" b="b"/>
                <a:pathLst>
                  <a:path w="305" h="367">
                    <a:moveTo>
                      <a:pt x="0" y="0"/>
                    </a:moveTo>
                    <a:lnTo>
                      <a:pt x="305" y="9"/>
                    </a:lnTo>
                    <a:lnTo>
                      <a:pt x="305" y="294"/>
                    </a:lnTo>
                    <a:lnTo>
                      <a:pt x="232" y="294"/>
                    </a:lnTo>
                    <a:lnTo>
                      <a:pt x="232" y="367"/>
                    </a:lnTo>
                    <a:lnTo>
                      <a:pt x="81" y="353"/>
                    </a:lnTo>
                    <a:lnTo>
                      <a:pt x="81" y="281"/>
                    </a:lnTo>
                    <a:lnTo>
                      <a:pt x="0" y="28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3890880" y="4770360"/>
                <a:ext cx="109800" cy="132120"/>
              </a:xfrm>
              <a:custGeom>
                <a:avLst/>
                <a:gdLst/>
                <a:ahLst/>
                <a:rect l="0" t="0" r="r" b="b"/>
                <a:pathLst>
                  <a:path w="305" h="367">
                    <a:moveTo>
                      <a:pt x="0" y="0"/>
                    </a:moveTo>
                    <a:lnTo>
                      <a:pt x="305" y="9"/>
                    </a:lnTo>
                    <a:lnTo>
                      <a:pt x="305" y="294"/>
                    </a:lnTo>
                    <a:lnTo>
                      <a:pt x="232" y="294"/>
                    </a:lnTo>
                    <a:lnTo>
                      <a:pt x="232" y="367"/>
                    </a:lnTo>
                    <a:lnTo>
                      <a:pt x="81" y="353"/>
                    </a:lnTo>
                    <a:lnTo>
                      <a:pt x="81" y="281"/>
                    </a:lnTo>
                    <a:lnTo>
                      <a:pt x="0" y="28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4019400" y="4778280"/>
                <a:ext cx="109800" cy="132120"/>
              </a:xfrm>
              <a:custGeom>
                <a:avLst/>
                <a:gdLst/>
                <a:ahLst/>
                <a:rect l="0" t="0" r="r" b="b"/>
                <a:pathLst>
                  <a:path w="305" h="367">
                    <a:moveTo>
                      <a:pt x="0" y="0"/>
                    </a:moveTo>
                    <a:lnTo>
                      <a:pt x="305" y="9"/>
                    </a:lnTo>
                    <a:lnTo>
                      <a:pt x="305" y="294"/>
                    </a:lnTo>
                    <a:lnTo>
                      <a:pt x="232" y="294"/>
                    </a:lnTo>
                    <a:lnTo>
                      <a:pt x="232" y="367"/>
                    </a:lnTo>
                    <a:lnTo>
                      <a:pt x="81" y="353"/>
                    </a:lnTo>
                    <a:lnTo>
                      <a:pt x="81" y="281"/>
                    </a:lnTo>
                    <a:lnTo>
                      <a:pt x="0" y="28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77" name=""/>
            <p:cNvGrpSpPr/>
            <p:nvPr/>
          </p:nvGrpSpPr>
          <p:grpSpPr>
            <a:xfrm>
              <a:off x="3079800" y="4730760"/>
              <a:ext cx="495360" cy="149400"/>
              <a:chOff x="3079800" y="4730760"/>
              <a:chExt cx="495360" cy="149400"/>
            </a:xfrm>
          </p:grpSpPr>
          <p:sp>
            <p:nvSpPr>
              <p:cNvPr id="678" name=""/>
              <p:cNvSpPr/>
              <p:nvPr/>
            </p:nvSpPr>
            <p:spPr>
              <a:xfrm>
                <a:off x="3079800" y="4730760"/>
                <a:ext cx="109800" cy="132120"/>
              </a:xfrm>
              <a:custGeom>
                <a:avLst/>
                <a:gdLst/>
                <a:ahLst/>
                <a:rect l="0" t="0" r="r" b="b"/>
                <a:pathLst>
                  <a:path w="305" h="367">
                    <a:moveTo>
                      <a:pt x="0" y="0"/>
                    </a:moveTo>
                    <a:lnTo>
                      <a:pt x="305" y="9"/>
                    </a:lnTo>
                    <a:lnTo>
                      <a:pt x="305" y="294"/>
                    </a:lnTo>
                    <a:lnTo>
                      <a:pt x="232" y="294"/>
                    </a:lnTo>
                    <a:lnTo>
                      <a:pt x="232" y="367"/>
                    </a:lnTo>
                    <a:lnTo>
                      <a:pt x="81" y="353"/>
                    </a:lnTo>
                    <a:lnTo>
                      <a:pt x="81" y="281"/>
                    </a:lnTo>
                    <a:lnTo>
                      <a:pt x="0" y="28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3208320" y="4738680"/>
                <a:ext cx="109800" cy="130680"/>
              </a:xfrm>
              <a:custGeom>
                <a:avLst/>
                <a:gdLst/>
                <a:ahLst/>
                <a:rect l="0" t="0" r="r" b="b"/>
                <a:pathLst>
                  <a:path w="305" h="363">
                    <a:moveTo>
                      <a:pt x="0" y="0"/>
                    </a:moveTo>
                    <a:lnTo>
                      <a:pt x="305" y="9"/>
                    </a:lnTo>
                    <a:lnTo>
                      <a:pt x="305" y="291"/>
                    </a:lnTo>
                    <a:lnTo>
                      <a:pt x="232" y="291"/>
                    </a:lnTo>
                    <a:lnTo>
                      <a:pt x="232" y="363"/>
                    </a:lnTo>
                    <a:lnTo>
                      <a:pt x="81" y="350"/>
                    </a:lnTo>
                    <a:lnTo>
                      <a:pt x="81" y="277"/>
                    </a:lnTo>
                    <a:lnTo>
                      <a:pt x="0" y="27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3336840" y="4741920"/>
                <a:ext cx="109800" cy="130680"/>
              </a:xfrm>
              <a:custGeom>
                <a:avLst/>
                <a:gdLst/>
                <a:ahLst/>
                <a:rect l="0" t="0" r="r" b="b"/>
                <a:pathLst>
                  <a:path w="305" h="363">
                    <a:moveTo>
                      <a:pt x="0" y="0"/>
                    </a:moveTo>
                    <a:lnTo>
                      <a:pt x="305" y="9"/>
                    </a:lnTo>
                    <a:lnTo>
                      <a:pt x="305" y="291"/>
                    </a:lnTo>
                    <a:lnTo>
                      <a:pt x="232" y="291"/>
                    </a:lnTo>
                    <a:lnTo>
                      <a:pt x="232" y="363"/>
                    </a:lnTo>
                    <a:lnTo>
                      <a:pt x="81" y="350"/>
                    </a:lnTo>
                    <a:lnTo>
                      <a:pt x="81" y="277"/>
                    </a:lnTo>
                    <a:lnTo>
                      <a:pt x="0" y="27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3465360" y="4748040"/>
                <a:ext cx="109800" cy="132120"/>
              </a:xfrm>
              <a:custGeom>
                <a:avLst/>
                <a:gdLst/>
                <a:ahLst/>
                <a:rect l="0" t="0" r="r" b="b"/>
                <a:pathLst>
                  <a:path w="305" h="367">
                    <a:moveTo>
                      <a:pt x="0" y="0"/>
                    </a:moveTo>
                    <a:lnTo>
                      <a:pt x="305" y="9"/>
                    </a:lnTo>
                    <a:lnTo>
                      <a:pt x="305" y="294"/>
                    </a:lnTo>
                    <a:lnTo>
                      <a:pt x="232" y="294"/>
                    </a:lnTo>
                    <a:lnTo>
                      <a:pt x="232" y="367"/>
                    </a:lnTo>
                    <a:lnTo>
                      <a:pt x="81" y="353"/>
                    </a:lnTo>
                    <a:lnTo>
                      <a:pt x="81" y="281"/>
                    </a:lnTo>
                    <a:lnTo>
                      <a:pt x="0" y="28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82" name=""/>
            <p:cNvSpPr/>
            <p:nvPr/>
          </p:nvSpPr>
          <p:spPr>
            <a:xfrm>
              <a:off x="2860560" y="4722840"/>
              <a:ext cx="109800" cy="132120"/>
            </a:xfrm>
            <a:custGeom>
              <a:avLst/>
              <a:gdLst/>
              <a:ahLst/>
              <a:rect l="0" t="0" r="r" b="b"/>
              <a:pathLst>
                <a:path w="305" h="367">
                  <a:moveTo>
                    <a:pt x="0" y="0"/>
                  </a:moveTo>
                  <a:lnTo>
                    <a:pt x="305" y="9"/>
                  </a:lnTo>
                  <a:lnTo>
                    <a:pt x="305" y="294"/>
                  </a:lnTo>
                  <a:lnTo>
                    <a:pt x="232" y="294"/>
                  </a:lnTo>
                  <a:lnTo>
                    <a:pt x="232" y="367"/>
                  </a:lnTo>
                  <a:lnTo>
                    <a:pt x="81" y="353"/>
                  </a:lnTo>
                  <a:lnTo>
                    <a:pt x="81" y="281"/>
                  </a:lnTo>
                  <a:lnTo>
                    <a:pt x="0" y="2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3" name=""/>
            <p:cNvGrpSpPr/>
            <p:nvPr/>
          </p:nvGrpSpPr>
          <p:grpSpPr>
            <a:xfrm>
              <a:off x="2725560" y="3573360"/>
              <a:ext cx="2619720" cy="354240"/>
              <a:chOff x="2725560" y="3573360"/>
              <a:chExt cx="2619720" cy="354240"/>
            </a:xfrm>
          </p:grpSpPr>
          <p:sp>
            <p:nvSpPr>
              <p:cNvPr id="684" name=""/>
              <p:cNvSpPr/>
              <p:nvPr/>
            </p:nvSpPr>
            <p:spPr>
              <a:xfrm>
                <a:off x="3736800" y="3691080"/>
                <a:ext cx="738720" cy="127440"/>
              </a:xfrm>
              <a:custGeom>
                <a:avLst/>
                <a:gdLst/>
                <a:ahLst/>
                <a:rect l="0" t="0" r="r" b="b"/>
                <a:pathLst>
                  <a:path w="2052" h="354">
                    <a:moveTo>
                      <a:pt x="26" y="258"/>
                    </a:moveTo>
                    <a:lnTo>
                      <a:pt x="2025" y="354"/>
                    </a:lnTo>
                    <a:lnTo>
                      <a:pt x="2052" y="114"/>
                    </a:lnTo>
                    <a:lnTo>
                      <a:pt x="0" y="0"/>
                    </a:lnTo>
                    <a:lnTo>
                      <a:pt x="26" y="2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2725560" y="3573360"/>
                <a:ext cx="2619720" cy="354240"/>
              </a:xfrm>
              <a:custGeom>
                <a:avLst/>
                <a:gdLst/>
                <a:ahLst/>
                <a:rect l="0" t="0" r="r" b="b"/>
                <a:pathLst>
                  <a:path fill="none" w="7277" h="984">
                    <a:moveTo>
                      <a:pt x="0" y="0"/>
                    </a:moveTo>
                    <a:lnTo>
                      <a:pt x="7277" y="347"/>
                    </a:lnTo>
                    <a:lnTo>
                      <a:pt x="7277" y="984"/>
                    </a:lnTo>
                    <a:lnTo>
                      <a:pt x="0" y="615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2754360" y="3654360"/>
                <a:ext cx="61920" cy="63360"/>
              </a:xfrm>
              <a:prstGeom prst="ellipse">
                <a:avLst/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5235480" y="3771720"/>
                <a:ext cx="60480" cy="63360"/>
              </a:xfrm>
              <a:prstGeom prst="ellipse">
                <a:avLst/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8" name=""/>
              <p:cNvGrpSpPr/>
              <p:nvPr/>
            </p:nvGrpSpPr>
            <p:grpSpPr>
              <a:xfrm>
                <a:off x="4726080" y="3747960"/>
                <a:ext cx="206640" cy="117720"/>
                <a:chOff x="4726080" y="3747960"/>
                <a:chExt cx="206640" cy="117720"/>
              </a:xfrm>
            </p:grpSpPr>
            <p:grpSp>
              <p:nvGrpSpPr>
                <p:cNvPr id="689" name=""/>
                <p:cNvGrpSpPr/>
                <p:nvPr/>
              </p:nvGrpSpPr>
              <p:grpSpPr>
                <a:xfrm>
                  <a:off x="4741920" y="3747960"/>
                  <a:ext cx="190800" cy="98640"/>
                  <a:chOff x="4741920" y="3747960"/>
                  <a:chExt cx="190800" cy="98640"/>
                </a:xfrm>
              </p:grpSpPr>
              <p:sp>
                <p:nvSpPr>
                  <p:cNvPr id="690" name=""/>
                  <p:cNvSpPr/>
                  <p:nvPr/>
                </p:nvSpPr>
                <p:spPr>
                  <a:xfrm>
                    <a:off x="4835520" y="3753000"/>
                    <a:ext cx="97200" cy="88920"/>
                  </a:xfrm>
                  <a:custGeom>
                    <a:avLst/>
                    <a:gdLst/>
                    <a:ahLst/>
                    <a:rect l="0" t="0" r="r" b="b"/>
                    <a:pathLst>
                      <a:path w="270" h="247">
                        <a:moveTo>
                          <a:pt x="0" y="116"/>
                        </a:moveTo>
                        <a:lnTo>
                          <a:pt x="0" y="116"/>
                        </a:lnTo>
                        <a:cubicBezTo>
                          <a:pt x="-1" y="138"/>
                          <a:pt x="4" y="160"/>
                          <a:pt x="15" y="179"/>
                        </a:cubicBezTo>
                        <a:cubicBezTo>
                          <a:pt x="26" y="199"/>
                          <a:pt x="42" y="215"/>
                          <a:pt x="62" y="227"/>
                        </a:cubicBezTo>
                        <a:cubicBezTo>
                          <a:pt x="82" y="239"/>
                          <a:pt x="105" y="246"/>
                          <a:pt x="129" y="247"/>
                        </a:cubicBezTo>
                        <a:cubicBezTo>
                          <a:pt x="152" y="248"/>
                          <a:pt x="176" y="244"/>
                          <a:pt x="197" y="234"/>
                        </a:cubicBezTo>
                        <a:cubicBezTo>
                          <a:pt x="218" y="224"/>
                          <a:pt x="236" y="210"/>
                          <a:pt x="249" y="191"/>
                        </a:cubicBezTo>
                        <a:cubicBezTo>
                          <a:pt x="262" y="173"/>
                          <a:pt x="269" y="152"/>
                          <a:pt x="270" y="131"/>
                        </a:cubicBezTo>
                        <a:lnTo>
                          <a:pt x="270" y="131"/>
                        </a:lnTo>
                        <a:lnTo>
                          <a:pt x="270" y="131"/>
                        </a:lnTo>
                        <a:cubicBezTo>
                          <a:pt x="271" y="109"/>
                          <a:pt x="266" y="87"/>
                          <a:pt x="255" y="68"/>
                        </a:cubicBezTo>
                        <a:cubicBezTo>
                          <a:pt x="244" y="48"/>
                          <a:pt x="228" y="32"/>
                          <a:pt x="208" y="20"/>
                        </a:cubicBezTo>
                        <a:cubicBezTo>
                          <a:pt x="188" y="8"/>
                          <a:pt x="165" y="1"/>
                          <a:pt x="141" y="0"/>
                        </a:cubicBezTo>
                        <a:cubicBezTo>
                          <a:pt x="118" y="-1"/>
                          <a:pt x="94" y="3"/>
                          <a:pt x="73" y="13"/>
                        </a:cubicBezTo>
                        <a:cubicBezTo>
                          <a:pt x="52" y="23"/>
                          <a:pt x="34" y="37"/>
                          <a:pt x="21" y="56"/>
                        </a:cubicBezTo>
                        <a:cubicBezTo>
                          <a:pt x="8" y="74"/>
                          <a:pt x="1" y="95"/>
                          <a:pt x="0" y="116"/>
                        </a:cubicBezTo>
                        <a:close/>
                      </a:path>
                    </a:pathLst>
                  </a:custGeom>
                  <a:solidFill>
                    <a:srgbClr val="919191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37800" bIns="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1" name=""/>
                  <p:cNvSpPr/>
                  <p:nvPr/>
                </p:nvSpPr>
                <p:spPr>
                  <a:xfrm>
                    <a:off x="4741920" y="3749760"/>
                    <a:ext cx="97200" cy="88920"/>
                  </a:xfrm>
                  <a:custGeom>
                    <a:avLst/>
                    <a:gdLst/>
                    <a:ahLst/>
                    <a:rect l="0" t="0" r="r" b="b"/>
                    <a:pathLst>
                      <a:path w="270" h="247">
                        <a:moveTo>
                          <a:pt x="0" y="116"/>
                        </a:moveTo>
                        <a:lnTo>
                          <a:pt x="0" y="116"/>
                        </a:lnTo>
                        <a:cubicBezTo>
                          <a:pt x="-1" y="138"/>
                          <a:pt x="4" y="160"/>
                          <a:pt x="15" y="179"/>
                        </a:cubicBezTo>
                        <a:cubicBezTo>
                          <a:pt x="26" y="199"/>
                          <a:pt x="42" y="215"/>
                          <a:pt x="62" y="227"/>
                        </a:cubicBezTo>
                        <a:cubicBezTo>
                          <a:pt x="82" y="239"/>
                          <a:pt x="105" y="246"/>
                          <a:pt x="129" y="247"/>
                        </a:cubicBezTo>
                        <a:cubicBezTo>
                          <a:pt x="152" y="248"/>
                          <a:pt x="176" y="244"/>
                          <a:pt x="197" y="234"/>
                        </a:cubicBezTo>
                        <a:cubicBezTo>
                          <a:pt x="218" y="224"/>
                          <a:pt x="236" y="210"/>
                          <a:pt x="249" y="191"/>
                        </a:cubicBezTo>
                        <a:cubicBezTo>
                          <a:pt x="262" y="173"/>
                          <a:pt x="269" y="152"/>
                          <a:pt x="270" y="131"/>
                        </a:cubicBezTo>
                        <a:lnTo>
                          <a:pt x="270" y="131"/>
                        </a:lnTo>
                        <a:lnTo>
                          <a:pt x="270" y="131"/>
                        </a:lnTo>
                        <a:cubicBezTo>
                          <a:pt x="271" y="109"/>
                          <a:pt x="266" y="87"/>
                          <a:pt x="255" y="68"/>
                        </a:cubicBezTo>
                        <a:cubicBezTo>
                          <a:pt x="244" y="48"/>
                          <a:pt x="228" y="32"/>
                          <a:pt x="208" y="20"/>
                        </a:cubicBezTo>
                        <a:cubicBezTo>
                          <a:pt x="188" y="8"/>
                          <a:pt x="165" y="1"/>
                          <a:pt x="141" y="0"/>
                        </a:cubicBezTo>
                        <a:cubicBezTo>
                          <a:pt x="118" y="-1"/>
                          <a:pt x="94" y="3"/>
                          <a:pt x="73" y="13"/>
                        </a:cubicBezTo>
                        <a:cubicBezTo>
                          <a:pt x="52" y="23"/>
                          <a:pt x="34" y="37"/>
                          <a:pt x="21" y="56"/>
                        </a:cubicBezTo>
                        <a:cubicBezTo>
                          <a:pt x="8" y="74"/>
                          <a:pt x="1" y="95"/>
                          <a:pt x="0" y="116"/>
                        </a:cubicBezTo>
                        <a:close/>
                      </a:path>
                    </a:pathLst>
                  </a:custGeom>
                  <a:solidFill>
                    <a:srgbClr val="919191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37800" bIns="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2" name=""/>
                  <p:cNvSpPr/>
                  <p:nvPr/>
                </p:nvSpPr>
                <p:spPr>
                  <a:xfrm flipH="1">
                    <a:off x="4795920" y="3747960"/>
                    <a:ext cx="98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3" name=""/>
                  <p:cNvSpPr/>
                  <p:nvPr/>
                </p:nvSpPr>
                <p:spPr>
                  <a:xfrm flipH="1" flipV="1">
                    <a:off x="4794120" y="3844800"/>
                    <a:ext cx="95400" cy="1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49320" bIns="-49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4" name=""/>
                  <p:cNvSpPr/>
                  <p:nvPr/>
                </p:nvSpPr>
                <p:spPr>
                  <a:xfrm>
                    <a:off x="4778280" y="3748680"/>
                    <a:ext cx="108720" cy="78840"/>
                  </a:xfrm>
                  <a:custGeom>
                    <a:avLst/>
                    <a:gdLst/>
                    <a:ahLst/>
                    <a:rect l="0" t="0" r="r" b="b"/>
                    <a:pathLst>
                      <a:path w="302" h="219">
                        <a:moveTo>
                          <a:pt x="10" y="0"/>
                        </a:moveTo>
                        <a:lnTo>
                          <a:pt x="0" y="204"/>
                        </a:lnTo>
                        <a:lnTo>
                          <a:pt x="291" y="219"/>
                        </a:lnTo>
                        <a:lnTo>
                          <a:pt x="302" y="15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919191"/>
                  </a:solidFill>
                  <a:ln w="0">
                    <a:noFill/>
                  </a:ln>
                </p:spPr>
                <p:txBody>
                  <a:bodyPr lIns="90000" rIns="90000" tIns="33840" bIns="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5" name=""/>
                <p:cNvGrpSpPr/>
                <p:nvPr/>
              </p:nvGrpSpPr>
              <p:grpSpPr>
                <a:xfrm>
                  <a:off x="4726080" y="3767040"/>
                  <a:ext cx="190800" cy="98640"/>
                  <a:chOff x="4726080" y="3767040"/>
                  <a:chExt cx="190800" cy="98640"/>
                </a:xfrm>
              </p:grpSpPr>
              <p:sp>
                <p:nvSpPr>
                  <p:cNvPr id="696" name=""/>
                  <p:cNvSpPr/>
                  <p:nvPr/>
                </p:nvSpPr>
                <p:spPr>
                  <a:xfrm>
                    <a:off x="4819680" y="3771720"/>
                    <a:ext cx="97200" cy="88920"/>
                  </a:xfrm>
                  <a:custGeom>
                    <a:avLst/>
                    <a:gdLst/>
                    <a:ahLst/>
                    <a:rect l="0" t="0" r="r" b="b"/>
                    <a:pathLst>
                      <a:path w="270" h="247">
                        <a:moveTo>
                          <a:pt x="0" y="116"/>
                        </a:moveTo>
                        <a:lnTo>
                          <a:pt x="0" y="116"/>
                        </a:lnTo>
                        <a:cubicBezTo>
                          <a:pt x="-1" y="138"/>
                          <a:pt x="4" y="160"/>
                          <a:pt x="15" y="179"/>
                        </a:cubicBezTo>
                        <a:cubicBezTo>
                          <a:pt x="26" y="199"/>
                          <a:pt x="42" y="215"/>
                          <a:pt x="62" y="227"/>
                        </a:cubicBezTo>
                        <a:cubicBezTo>
                          <a:pt x="82" y="239"/>
                          <a:pt x="105" y="246"/>
                          <a:pt x="129" y="247"/>
                        </a:cubicBezTo>
                        <a:cubicBezTo>
                          <a:pt x="152" y="248"/>
                          <a:pt x="176" y="244"/>
                          <a:pt x="197" y="234"/>
                        </a:cubicBezTo>
                        <a:cubicBezTo>
                          <a:pt x="218" y="224"/>
                          <a:pt x="236" y="210"/>
                          <a:pt x="249" y="191"/>
                        </a:cubicBezTo>
                        <a:cubicBezTo>
                          <a:pt x="262" y="173"/>
                          <a:pt x="269" y="152"/>
                          <a:pt x="270" y="131"/>
                        </a:cubicBezTo>
                        <a:lnTo>
                          <a:pt x="270" y="131"/>
                        </a:lnTo>
                        <a:lnTo>
                          <a:pt x="270" y="131"/>
                        </a:lnTo>
                        <a:cubicBezTo>
                          <a:pt x="271" y="109"/>
                          <a:pt x="266" y="87"/>
                          <a:pt x="255" y="68"/>
                        </a:cubicBezTo>
                        <a:cubicBezTo>
                          <a:pt x="244" y="48"/>
                          <a:pt x="228" y="32"/>
                          <a:pt x="208" y="20"/>
                        </a:cubicBezTo>
                        <a:cubicBezTo>
                          <a:pt x="188" y="8"/>
                          <a:pt x="165" y="1"/>
                          <a:pt x="141" y="0"/>
                        </a:cubicBezTo>
                        <a:cubicBezTo>
                          <a:pt x="118" y="-1"/>
                          <a:pt x="94" y="3"/>
                          <a:pt x="73" y="13"/>
                        </a:cubicBezTo>
                        <a:cubicBezTo>
                          <a:pt x="52" y="23"/>
                          <a:pt x="34" y="37"/>
                          <a:pt x="21" y="56"/>
                        </a:cubicBezTo>
                        <a:cubicBezTo>
                          <a:pt x="8" y="74"/>
                          <a:pt x="1" y="95"/>
                          <a:pt x="0" y="116"/>
                        </a:cubicBezTo>
                        <a:close/>
                      </a:path>
                    </a:pathLst>
                  </a:custGeom>
                  <a:solidFill>
                    <a:srgbClr val="919191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37800" bIns="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7" name=""/>
                  <p:cNvSpPr/>
                  <p:nvPr/>
                </p:nvSpPr>
                <p:spPr>
                  <a:xfrm>
                    <a:off x="4726080" y="3768480"/>
                    <a:ext cx="97200" cy="89280"/>
                  </a:xfrm>
                  <a:custGeom>
                    <a:avLst/>
                    <a:gdLst/>
                    <a:ahLst/>
                    <a:rect l="0" t="0" r="r" b="b"/>
                    <a:pathLst>
                      <a:path w="270" h="248">
                        <a:moveTo>
                          <a:pt x="0" y="117"/>
                        </a:moveTo>
                        <a:lnTo>
                          <a:pt x="0" y="117"/>
                        </a:lnTo>
                        <a:cubicBezTo>
                          <a:pt x="-1" y="139"/>
                          <a:pt x="4" y="160"/>
                          <a:pt x="15" y="180"/>
                        </a:cubicBezTo>
                        <a:cubicBezTo>
                          <a:pt x="26" y="199"/>
                          <a:pt x="42" y="216"/>
                          <a:pt x="62" y="228"/>
                        </a:cubicBezTo>
                        <a:cubicBezTo>
                          <a:pt x="82" y="240"/>
                          <a:pt x="105" y="247"/>
                          <a:pt x="129" y="248"/>
                        </a:cubicBezTo>
                        <a:cubicBezTo>
                          <a:pt x="152" y="249"/>
                          <a:pt x="176" y="245"/>
                          <a:pt x="197" y="235"/>
                        </a:cubicBezTo>
                        <a:cubicBezTo>
                          <a:pt x="218" y="225"/>
                          <a:pt x="236" y="210"/>
                          <a:pt x="249" y="192"/>
                        </a:cubicBezTo>
                        <a:cubicBezTo>
                          <a:pt x="262" y="174"/>
                          <a:pt x="269" y="153"/>
                          <a:pt x="270" y="131"/>
                        </a:cubicBezTo>
                        <a:lnTo>
                          <a:pt x="270" y="131"/>
                        </a:lnTo>
                        <a:lnTo>
                          <a:pt x="270" y="131"/>
                        </a:lnTo>
                        <a:cubicBezTo>
                          <a:pt x="271" y="109"/>
                          <a:pt x="266" y="88"/>
                          <a:pt x="255" y="68"/>
                        </a:cubicBezTo>
                        <a:cubicBezTo>
                          <a:pt x="244" y="49"/>
                          <a:pt x="228" y="32"/>
                          <a:pt x="208" y="20"/>
                        </a:cubicBezTo>
                        <a:cubicBezTo>
                          <a:pt x="188" y="8"/>
                          <a:pt x="165" y="1"/>
                          <a:pt x="141" y="0"/>
                        </a:cubicBezTo>
                        <a:cubicBezTo>
                          <a:pt x="118" y="-1"/>
                          <a:pt x="94" y="3"/>
                          <a:pt x="73" y="13"/>
                        </a:cubicBezTo>
                        <a:cubicBezTo>
                          <a:pt x="52" y="23"/>
                          <a:pt x="34" y="38"/>
                          <a:pt x="21" y="56"/>
                        </a:cubicBezTo>
                        <a:cubicBezTo>
                          <a:pt x="8" y="74"/>
                          <a:pt x="1" y="95"/>
                          <a:pt x="0" y="117"/>
                        </a:cubicBezTo>
                        <a:close/>
                      </a:path>
                    </a:pathLst>
                  </a:custGeom>
                  <a:solidFill>
                    <a:srgbClr val="919191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38160" bIns="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" name=""/>
                  <p:cNvSpPr/>
                  <p:nvPr/>
                </p:nvSpPr>
                <p:spPr>
                  <a:xfrm flipH="1">
                    <a:off x="4782960" y="3767040"/>
                    <a:ext cx="921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9" name=""/>
                  <p:cNvSpPr/>
                  <p:nvPr/>
                </p:nvSpPr>
                <p:spPr>
                  <a:xfrm flipH="1" flipV="1">
                    <a:off x="4784760" y="3863880"/>
                    <a:ext cx="92160" cy="1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49320" bIns="-49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0" name=""/>
                  <p:cNvSpPr/>
                  <p:nvPr/>
                </p:nvSpPr>
                <p:spPr>
                  <a:xfrm>
                    <a:off x="4762440" y="3772440"/>
                    <a:ext cx="111600" cy="74160"/>
                  </a:xfrm>
                  <a:custGeom>
                    <a:avLst/>
                    <a:gdLst/>
                    <a:ahLst/>
                    <a:rect l="0" t="0" r="r" b="b"/>
                    <a:pathLst>
                      <a:path w="310" h="206">
                        <a:moveTo>
                          <a:pt x="9" y="0"/>
                        </a:moveTo>
                        <a:lnTo>
                          <a:pt x="0" y="190"/>
                        </a:lnTo>
                        <a:lnTo>
                          <a:pt x="300" y="206"/>
                        </a:lnTo>
                        <a:lnTo>
                          <a:pt x="310" y="15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919191"/>
                  </a:solidFill>
                  <a:ln w="0">
                    <a:noFill/>
                  </a:ln>
                </p:spPr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01" name=""/>
              <p:cNvGrpSpPr/>
              <p:nvPr/>
            </p:nvGrpSpPr>
            <p:grpSpPr>
              <a:xfrm>
                <a:off x="3079800" y="3646440"/>
                <a:ext cx="497160" cy="149760"/>
                <a:chOff x="3079800" y="3646440"/>
                <a:chExt cx="497160" cy="149760"/>
              </a:xfrm>
            </p:grpSpPr>
            <p:sp>
              <p:nvSpPr>
                <p:cNvPr id="702" name=""/>
                <p:cNvSpPr/>
                <p:nvPr/>
              </p:nvSpPr>
              <p:spPr>
                <a:xfrm>
                  <a:off x="3079800" y="3646440"/>
                  <a:ext cx="109800" cy="132120"/>
                </a:xfrm>
                <a:custGeom>
                  <a:avLst/>
                  <a:gdLst/>
                  <a:ahLst/>
                  <a:rect l="0" t="0" r="r" b="b"/>
                  <a:pathLst>
                    <a:path w="305" h="367">
                      <a:moveTo>
                        <a:pt x="0" y="0"/>
                      </a:moveTo>
                      <a:lnTo>
                        <a:pt x="305" y="9"/>
                      </a:lnTo>
                      <a:lnTo>
                        <a:pt x="305" y="294"/>
                      </a:lnTo>
                      <a:lnTo>
                        <a:pt x="232" y="294"/>
                      </a:lnTo>
                      <a:lnTo>
                        <a:pt x="232" y="367"/>
                      </a:lnTo>
                      <a:lnTo>
                        <a:pt x="81" y="353"/>
                      </a:lnTo>
                      <a:lnTo>
                        <a:pt x="81" y="281"/>
                      </a:lnTo>
                      <a:lnTo>
                        <a:pt x="0" y="28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3208320" y="3654360"/>
                  <a:ext cx="109800" cy="130680"/>
                </a:xfrm>
                <a:custGeom>
                  <a:avLst/>
                  <a:gdLst/>
                  <a:ahLst/>
                  <a:rect l="0" t="0" r="r" b="b"/>
                  <a:pathLst>
                    <a:path w="305" h="363">
                      <a:moveTo>
                        <a:pt x="0" y="0"/>
                      </a:moveTo>
                      <a:lnTo>
                        <a:pt x="305" y="9"/>
                      </a:lnTo>
                      <a:lnTo>
                        <a:pt x="305" y="291"/>
                      </a:lnTo>
                      <a:lnTo>
                        <a:pt x="232" y="291"/>
                      </a:lnTo>
                      <a:lnTo>
                        <a:pt x="232" y="363"/>
                      </a:lnTo>
                      <a:lnTo>
                        <a:pt x="81" y="350"/>
                      </a:lnTo>
                      <a:lnTo>
                        <a:pt x="81" y="277"/>
                      </a:lnTo>
                      <a:lnTo>
                        <a:pt x="0" y="27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3338640" y="3657600"/>
                  <a:ext cx="109800" cy="130680"/>
                </a:xfrm>
                <a:custGeom>
                  <a:avLst/>
                  <a:gdLst/>
                  <a:ahLst/>
                  <a:rect l="0" t="0" r="r" b="b"/>
                  <a:pathLst>
                    <a:path w="305" h="363">
                      <a:moveTo>
                        <a:pt x="0" y="0"/>
                      </a:moveTo>
                      <a:lnTo>
                        <a:pt x="305" y="9"/>
                      </a:lnTo>
                      <a:lnTo>
                        <a:pt x="305" y="291"/>
                      </a:lnTo>
                      <a:lnTo>
                        <a:pt x="232" y="291"/>
                      </a:lnTo>
                      <a:lnTo>
                        <a:pt x="232" y="363"/>
                      </a:lnTo>
                      <a:lnTo>
                        <a:pt x="81" y="350"/>
                      </a:lnTo>
                      <a:lnTo>
                        <a:pt x="81" y="277"/>
                      </a:lnTo>
                      <a:lnTo>
                        <a:pt x="0" y="27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3467160" y="3664080"/>
                  <a:ext cx="109800" cy="132120"/>
                </a:xfrm>
                <a:custGeom>
                  <a:avLst/>
                  <a:gdLst/>
                  <a:ahLst/>
                  <a:rect l="0" t="0" r="r" b="b"/>
                  <a:pathLst>
                    <a:path w="305" h="367">
                      <a:moveTo>
                        <a:pt x="0" y="0"/>
                      </a:moveTo>
                      <a:lnTo>
                        <a:pt x="305" y="9"/>
                      </a:lnTo>
                      <a:lnTo>
                        <a:pt x="305" y="294"/>
                      </a:lnTo>
                      <a:lnTo>
                        <a:pt x="232" y="294"/>
                      </a:lnTo>
                      <a:lnTo>
                        <a:pt x="232" y="367"/>
                      </a:lnTo>
                      <a:lnTo>
                        <a:pt x="81" y="353"/>
                      </a:lnTo>
                      <a:lnTo>
                        <a:pt x="81" y="281"/>
                      </a:lnTo>
                      <a:lnTo>
                        <a:pt x="0" y="28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6" name=""/>
              <p:cNvSpPr/>
              <p:nvPr/>
            </p:nvSpPr>
            <p:spPr>
              <a:xfrm>
                <a:off x="2860560" y="3638520"/>
                <a:ext cx="109800" cy="132120"/>
              </a:xfrm>
              <a:custGeom>
                <a:avLst/>
                <a:gdLst/>
                <a:ahLst/>
                <a:rect l="0" t="0" r="r" b="b"/>
                <a:pathLst>
                  <a:path w="305" h="367">
                    <a:moveTo>
                      <a:pt x="0" y="0"/>
                    </a:moveTo>
                    <a:lnTo>
                      <a:pt x="305" y="9"/>
                    </a:lnTo>
                    <a:lnTo>
                      <a:pt x="305" y="294"/>
                    </a:lnTo>
                    <a:lnTo>
                      <a:pt x="232" y="294"/>
                    </a:lnTo>
                    <a:lnTo>
                      <a:pt x="232" y="367"/>
                    </a:lnTo>
                    <a:lnTo>
                      <a:pt x="81" y="353"/>
                    </a:lnTo>
                    <a:lnTo>
                      <a:pt x="81" y="281"/>
                    </a:lnTo>
                    <a:lnTo>
                      <a:pt x="0" y="28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07" name=""/>
            <p:cNvSpPr/>
            <p:nvPr/>
          </p:nvSpPr>
          <p:spPr>
            <a:xfrm>
              <a:off x="3975120" y="5022720"/>
              <a:ext cx="951120" cy="479880"/>
            </a:xfrm>
            <a:custGeom>
              <a:avLst/>
              <a:gdLst/>
              <a:ahLst/>
              <a:rect l="0" t="0" r="r" b="b"/>
              <a:pathLst>
                <a:path fill="none" w="2642" h="1333">
                  <a:moveTo>
                    <a:pt x="0" y="0"/>
                  </a:moveTo>
                  <a:lnTo>
                    <a:pt x="2642" y="164"/>
                  </a:lnTo>
                  <a:lnTo>
                    <a:pt x="2642" y="1333"/>
                  </a:lnTo>
                  <a:lnTo>
                    <a:pt x="0" y="1187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8" name=""/>
            <p:cNvGrpSpPr/>
            <p:nvPr/>
          </p:nvGrpSpPr>
          <p:grpSpPr>
            <a:xfrm>
              <a:off x="4475160" y="5168880"/>
              <a:ext cx="205200" cy="117360"/>
              <a:chOff x="4475160" y="5168880"/>
              <a:chExt cx="205200" cy="117360"/>
            </a:xfrm>
          </p:grpSpPr>
          <p:grpSp>
            <p:nvGrpSpPr>
              <p:cNvPr id="709" name=""/>
              <p:cNvGrpSpPr/>
              <p:nvPr/>
            </p:nvGrpSpPr>
            <p:grpSpPr>
              <a:xfrm>
                <a:off x="4491000" y="5168880"/>
                <a:ext cx="189360" cy="98280"/>
                <a:chOff x="4491000" y="5168880"/>
                <a:chExt cx="189360" cy="98280"/>
              </a:xfrm>
            </p:grpSpPr>
            <p:sp>
              <p:nvSpPr>
                <p:cNvPr id="710" name=""/>
                <p:cNvSpPr/>
                <p:nvPr/>
              </p:nvSpPr>
              <p:spPr>
                <a:xfrm>
                  <a:off x="4584600" y="5173560"/>
                  <a:ext cx="95760" cy="88920"/>
                </a:xfrm>
                <a:custGeom>
                  <a:avLst/>
                  <a:gdLst/>
                  <a:ahLst/>
                  <a:rect l="0" t="0" r="r" b="b"/>
                  <a:pathLst>
                    <a:path w="266" h="247">
                      <a:moveTo>
                        <a:pt x="0" y="116"/>
                      </a:moveTo>
                      <a:lnTo>
                        <a:pt x="0" y="116"/>
                      </a:lnTo>
                      <a:lnTo>
                        <a:pt x="0" y="117"/>
                      </a:lnTo>
                      <a:cubicBezTo>
                        <a:pt x="-1" y="138"/>
                        <a:pt x="4" y="160"/>
                        <a:pt x="15" y="179"/>
                      </a:cubicBezTo>
                      <a:cubicBezTo>
                        <a:pt x="25" y="199"/>
                        <a:pt x="41" y="215"/>
                        <a:pt x="61" y="227"/>
                      </a:cubicBezTo>
                      <a:cubicBezTo>
                        <a:pt x="81" y="239"/>
                        <a:pt x="103" y="246"/>
                        <a:pt x="127" y="247"/>
                      </a:cubicBezTo>
                      <a:cubicBezTo>
                        <a:pt x="150" y="248"/>
                        <a:pt x="173" y="244"/>
                        <a:pt x="194" y="234"/>
                      </a:cubicBezTo>
                      <a:cubicBezTo>
                        <a:pt x="215" y="224"/>
                        <a:pt x="232" y="209"/>
                        <a:pt x="245" y="191"/>
                      </a:cubicBezTo>
                      <a:cubicBezTo>
                        <a:pt x="258" y="173"/>
                        <a:pt x="265" y="152"/>
                        <a:pt x="266" y="131"/>
                      </a:cubicBezTo>
                      <a:lnTo>
                        <a:pt x="266" y="131"/>
                      </a:lnTo>
                      <a:cubicBezTo>
                        <a:pt x="266" y="130"/>
                        <a:pt x="266" y="130"/>
                        <a:pt x="266" y="130"/>
                      </a:cubicBezTo>
                      <a:cubicBezTo>
                        <a:pt x="267" y="109"/>
                        <a:pt x="262" y="87"/>
                        <a:pt x="251" y="68"/>
                      </a:cubicBezTo>
                      <a:cubicBezTo>
                        <a:pt x="241" y="48"/>
                        <a:pt x="225" y="32"/>
                        <a:pt x="205" y="20"/>
                      </a:cubicBezTo>
                      <a:cubicBezTo>
                        <a:pt x="185" y="8"/>
                        <a:pt x="163" y="1"/>
                        <a:pt x="139" y="0"/>
                      </a:cubicBezTo>
                      <a:cubicBezTo>
                        <a:pt x="116" y="-1"/>
                        <a:pt x="93" y="3"/>
                        <a:pt x="72" y="13"/>
                      </a:cubicBezTo>
                      <a:cubicBezTo>
                        <a:pt x="51" y="23"/>
                        <a:pt x="34" y="38"/>
                        <a:pt x="21" y="56"/>
                      </a:cubicBezTo>
                      <a:cubicBezTo>
                        <a:pt x="8" y="74"/>
                        <a:pt x="1" y="95"/>
                        <a:pt x="0" y="116"/>
                      </a:cubicBezTo>
                      <a:close/>
                    </a:path>
                  </a:pathLst>
                </a:custGeom>
                <a:solidFill>
                  <a:srgbClr val="919191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4491000" y="5170320"/>
                  <a:ext cx="95400" cy="89280"/>
                </a:xfrm>
                <a:custGeom>
                  <a:avLst/>
                  <a:gdLst/>
                  <a:ahLst/>
                  <a:rect l="0" t="0" r="r" b="b"/>
                  <a:pathLst>
                    <a:path w="265" h="248">
                      <a:moveTo>
                        <a:pt x="0" y="117"/>
                      </a:moveTo>
                      <a:lnTo>
                        <a:pt x="0" y="117"/>
                      </a:lnTo>
                      <a:lnTo>
                        <a:pt x="0" y="117"/>
                      </a:lnTo>
                      <a:cubicBezTo>
                        <a:pt x="-1" y="139"/>
                        <a:pt x="4" y="160"/>
                        <a:pt x="15" y="180"/>
                      </a:cubicBezTo>
                      <a:cubicBezTo>
                        <a:pt x="25" y="199"/>
                        <a:pt x="41" y="216"/>
                        <a:pt x="61" y="228"/>
                      </a:cubicBezTo>
                      <a:cubicBezTo>
                        <a:pt x="80" y="240"/>
                        <a:pt x="103" y="247"/>
                        <a:pt x="126" y="248"/>
                      </a:cubicBezTo>
                      <a:cubicBezTo>
                        <a:pt x="149" y="249"/>
                        <a:pt x="172" y="245"/>
                        <a:pt x="193" y="235"/>
                      </a:cubicBezTo>
                      <a:cubicBezTo>
                        <a:pt x="214" y="225"/>
                        <a:pt x="231" y="210"/>
                        <a:pt x="244" y="192"/>
                      </a:cubicBezTo>
                      <a:cubicBezTo>
                        <a:pt x="257" y="174"/>
                        <a:pt x="264" y="153"/>
                        <a:pt x="265" y="131"/>
                      </a:cubicBezTo>
                      <a:lnTo>
                        <a:pt x="265" y="131"/>
                      </a:lnTo>
                      <a:lnTo>
                        <a:pt x="265" y="131"/>
                      </a:lnTo>
                      <a:cubicBezTo>
                        <a:pt x="266" y="109"/>
                        <a:pt x="261" y="88"/>
                        <a:pt x="250" y="68"/>
                      </a:cubicBezTo>
                      <a:cubicBezTo>
                        <a:pt x="240" y="49"/>
                        <a:pt x="224" y="32"/>
                        <a:pt x="204" y="20"/>
                      </a:cubicBezTo>
                      <a:cubicBezTo>
                        <a:pt x="185" y="8"/>
                        <a:pt x="162" y="1"/>
                        <a:pt x="139" y="0"/>
                      </a:cubicBezTo>
                      <a:cubicBezTo>
                        <a:pt x="116" y="-1"/>
                        <a:pt x="93" y="3"/>
                        <a:pt x="72" y="13"/>
                      </a:cubicBezTo>
                      <a:cubicBezTo>
                        <a:pt x="51" y="23"/>
                        <a:pt x="34" y="38"/>
                        <a:pt x="21" y="56"/>
                      </a:cubicBezTo>
                      <a:cubicBezTo>
                        <a:pt x="8" y="74"/>
                        <a:pt x="1" y="95"/>
                        <a:pt x="0" y="117"/>
                      </a:cubicBezTo>
                      <a:close/>
                    </a:path>
                  </a:pathLst>
                </a:custGeom>
                <a:solidFill>
                  <a:srgbClr val="919191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38160" bIns="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 flipH="1">
                  <a:off x="4543560" y="5168880"/>
                  <a:ext cx="98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 flipH="1" flipV="1">
                  <a:off x="4541760" y="5265720"/>
                  <a:ext cx="9540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49680" bIns="-49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4527360" y="5169600"/>
                  <a:ext cx="107280" cy="78840"/>
                </a:xfrm>
                <a:custGeom>
                  <a:avLst/>
                  <a:gdLst/>
                  <a:ahLst/>
                  <a:rect l="0" t="0" r="r" b="b"/>
                  <a:pathLst>
                    <a:path w="298" h="219">
                      <a:moveTo>
                        <a:pt x="10" y="0"/>
                      </a:moveTo>
                      <a:lnTo>
                        <a:pt x="0" y="204"/>
                      </a:lnTo>
                      <a:lnTo>
                        <a:pt x="288" y="219"/>
                      </a:lnTo>
                      <a:lnTo>
                        <a:pt x="298" y="15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33840" bIns="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5" name=""/>
              <p:cNvGrpSpPr/>
              <p:nvPr/>
            </p:nvGrpSpPr>
            <p:grpSpPr>
              <a:xfrm>
                <a:off x="4475160" y="5187960"/>
                <a:ext cx="189360" cy="98280"/>
                <a:chOff x="4475160" y="5187960"/>
                <a:chExt cx="189360" cy="98280"/>
              </a:xfrm>
            </p:grpSpPr>
            <p:sp>
              <p:nvSpPr>
                <p:cNvPr id="716" name=""/>
                <p:cNvSpPr/>
                <p:nvPr/>
              </p:nvSpPr>
              <p:spPr>
                <a:xfrm>
                  <a:off x="4568760" y="5192640"/>
                  <a:ext cx="95760" cy="88920"/>
                </a:xfrm>
                <a:custGeom>
                  <a:avLst/>
                  <a:gdLst/>
                  <a:ahLst/>
                  <a:rect l="0" t="0" r="r" b="b"/>
                  <a:pathLst>
                    <a:path w="266" h="247">
                      <a:moveTo>
                        <a:pt x="0" y="116"/>
                      </a:moveTo>
                      <a:lnTo>
                        <a:pt x="0" y="116"/>
                      </a:lnTo>
                      <a:lnTo>
                        <a:pt x="0" y="117"/>
                      </a:lnTo>
                      <a:cubicBezTo>
                        <a:pt x="-1" y="138"/>
                        <a:pt x="4" y="160"/>
                        <a:pt x="15" y="179"/>
                      </a:cubicBezTo>
                      <a:cubicBezTo>
                        <a:pt x="25" y="199"/>
                        <a:pt x="41" y="215"/>
                        <a:pt x="61" y="227"/>
                      </a:cubicBezTo>
                      <a:cubicBezTo>
                        <a:pt x="81" y="239"/>
                        <a:pt x="103" y="246"/>
                        <a:pt x="127" y="247"/>
                      </a:cubicBezTo>
                      <a:cubicBezTo>
                        <a:pt x="150" y="248"/>
                        <a:pt x="173" y="244"/>
                        <a:pt x="194" y="234"/>
                      </a:cubicBezTo>
                      <a:cubicBezTo>
                        <a:pt x="215" y="224"/>
                        <a:pt x="232" y="209"/>
                        <a:pt x="245" y="191"/>
                      </a:cubicBezTo>
                      <a:cubicBezTo>
                        <a:pt x="258" y="173"/>
                        <a:pt x="265" y="152"/>
                        <a:pt x="266" y="131"/>
                      </a:cubicBezTo>
                      <a:lnTo>
                        <a:pt x="266" y="131"/>
                      </a:lnTo>
                      <a:cubicBezTo>
                        <a:pt x="266" y="130"/>
                        <a:pt x="266" y="130"/>
                        <a:pt x="266" y="130"/>
                      </a:cubicBezTo>
                      <a:cubicBezTo>
                        <a:pt x="267" y="109"/>
                        <a:pt x="262" y="87"/>
                        <a:pt x="251" y="68"/>
                      </a:cubicBezTo>
                      <a:cubicBezTo>
                        <a:pt x="241" y="48"/>
                        <a:pt x="225" y="32"/>
                        <a:pt x="205" y="20"/>
                      </a:cubicBezTo>
                      <a:cubicBezTo>
                        <a:pt x="185" y="8"/>
                        <a:pt x="163" y="1"/>
                        <a:pt x="139" y="0"/>
                      </a:cubicBezTo>
                      <a:cubicBezTo>
                        <a:pt x="116" y="-1"/>
                        <a:pt x="93" y="3"/>
                        <a:pt x="72" y="13"/>
                      </a:cubicBezTo>
                      <a:cubicBezTo>
                        <a:pt x="51" y="23"/>
                        <a:pt x="34" y="38"/>
                        <a:pt x="21" y="56"/>
                      </a:cubicBezTo>
                      <a:cubicBezTo>
                        <a:pt x="8" y="74"/>
                        <a:pt x="1" y="95"/>
                        <a:pt x="0" y="116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4475160" y="5189400"/>
                  <a:ext cx="95400" cy="89280"/>
                </a:xfrm>
                <a:custGeom>
                  <a:avLst/>
                  <a:gdLst/>
                  <a:ahLst/>
                  <a:rect l="0" t="0" r="r" b="b"/>
                  <a:pathLst>
                    <a:path w="265" h="248">
                      <a:moveTo>
                        <a:pt x="0" y="117"/>
                      </a:moveTo>
                      <a:lnTo>
                        <a:pt x="0" y="117"/>
                      </a:lnTo>
                      <a:lnTo>
                        <a:pt x="0" y="117"/>
                      </a:lnTo>
                      <a:cubicBezTo>
                        <a:pt x="-1" y="139"/>
                        <a:pt x="4" y="160"/>
                        <a:pt x="15" y="180"/>
                      </a:cubicBezTo>
                      <a:cubicBezTo>
                        <a:pt x="25" y="199"/>
                        <a:pt x="41" y="216"/>
                        <a:pt x="61" y="228"/>
                      </a:cubicBezTo>
                      <a:cubicBezTo>
                        <a:pt x="80" y="240"/>
                        <a:pt x="103" y="247"/>
                        <a:pt x="126" y="248"/>
                      </a:cubicBezTo>
                      <a:cubicBezTo>
                        <a:pt x="149" y="249"/>
                        <a:pt x="172" y="245"/>
                        <a:pt x="193" y="235"/>
                      </a:cubicBezTo>
                      <a:cubicBezTo>
                        <a:pt x="214" y="225"/>
                        <a:pt x="231" y="210"/>
                        <a:pt x="244" y="192"/>
                      </a:cubicBezTo>
                      <a:cubicBezTo>
                        <a:pt x="257" y="174"/>
                        <a:pt x="264" y="153"/>
                        <a:pt x="265" y="131"/>
                      </a:cubicBezTo>
                      <a:lnTo>
                        <a:pt x="265" y="131"/>
                      </a:lnTo>
                      <a:lnTo>
                        <a:pt x="265" y="131"/>
                      </a:lnTo>
                      <a:cubicBezTo>
                        <a:pt x="266" y="109"/>
                        <a:pt x="261" y="88"/>
                        <a:pt x="250" y="68"/>
                      </a:cubicBezTo>
                      <a:cubicBezTo>
                        <a:pt x="240" y="49"/>
                        <a:pt x="224" y="32"/>
                        <a:pt x="204" y="20"/>
                      </a:cubicBezTo>
                      <a:cubicBezTo>
                        <a:pt x="185" y="8"/>
                        <a:pt x="162" y="1"/>
                        <a:pt x="139" y="0"/>
                      </a:cubicBezTo>
                      <a:cubicBezTo>
                        <a:pt x="116" y="-1"/>
                        <a:pt x="93" y="3"/>
                        <a:pt x="72" y="13"/>
                      </a:cubicBezTo>
                      <a:cubicBezTo>
                        <a:pt x="51" y="23"/>
                        <a:pt x="34" y="38"/>
                        <a:pt x="21" y="56"/>
                      </a:cubicBezTo>
                      <a:cubicBezTo>
                        <a:pt x="8" y="74"/>
                        <a:pt x="1" y="95"/>
                        <a:pt x="0" y="117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38160" bIns="38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 flipH="1">
                  <a:off x="4530600" y="5187960"/>
                  <a:ext cx="92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 flipH="1" flipV="1">
                  <a:off x="4532400" y="5284800"/>
                  <a:ext cx="9216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49680" bIns="-49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4511520" y="5193000"/>
                  <a:ext cx="110160" cy="74160"/>
                </a:xfrm>
                <a:custGeom>
                  <a:avLst/>
                  <a:gdLst/>
                  <a:ahLst/>
                  <a:rect l="0" t="0" r="r" b="b"/>
                  <a:pathLst>
                    <a:path w="306" h="206">
                      <a:moveTo>
                        <a:pt x="9" y="0"/>
                      </a:moveTo>
                      <a:lnTo>
                        <a:pt x="0" y="191"/>
                      </a:lnTo>
                      <a:lnTo>
                        <a:pt x="297" y="206"/>
                      </a:lnTo>
                      <a:lnTo>
                        <a:pt x="306" y="15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21" name=""/>
            <p:cNvGrpSpPr/>
            <p:nvPr/>
          </p:nvGrpSpPr>
          <p:grpSpPr>
            <a:xfrm>
              <a:off x="4481640" y="5308560"/>
              <a:ext cx="205200" cy="117360"/>
              <a:chOff x="4481640" y="5308560"/>
              <a:chExt cx="205200" cy="117360"/>
            </a:xfrm>
          </p:grpSpPr>
          <p:grpSp>
            <p:nvGrpSpPr>
              <p:cNvPr id="722" name=""/>
              <p:cNvGrpSpPr/>
              <p:nvPr/>
            </p:nvGrpSpPr>
            <p:grpSpPr>
              <a:xfrm>
                <a:off x="4497480" y="5308560"/>
                <a:ext cx="189360" cy="98640"/>
                <a:chOff x="4497480" y="5308560"/>
                <a:chExt cx="189360" cy="98640"/>
              </a:xfrm>
            </p:grpSpPr>
            <p:sp>
              <p:nvSpPr>
                <p:cNvPr id="723" name=""/>
                <p:cNvSpPr/>
                <p:nvPr/>
              </p:nvSpPr>
              <p:spPr>
                <a:xfrm>
                  <a:off x="4591080" y="5313240"/>
                  <a:ext cx="95760" cy="88920"/>
                </a:xfrm>
                <a:custGeom>
                  <a:avLst/>
                  <a:gdLst/>
                  <a:ahLst/>
                  <a:rect l="0" t="0" r="r" b="b"/>
                  <a:pathLst>
                    <a:path w="266" h="247">
                      <a:moveTo>
                        <a:pt x="0" y="116"/>
                      </a:moveTo>
                      <a:lnTo>
                        <a:pt x="0" y="116"/>
                      </a:lnTo>
                      <a:lnTo>
                        <a:pt x="0" y="117"/>
                      </a:lnTo>
                      <a:cubicBezTo>
                        <a:pt x="-1" y="138"/>
                        <a:pt x="4" y="160"/>
                        <a:pt x="15" y="179"/>
                      </a:cubicBezTo>
                      <a:cubicBezTo>
                        <a:pt x="25" y="199"/>
                        <a:pt x="41" y="215"/>
                        <a:pt x="61" y="227"/>
                      </a:cubicBezTo>
                      <a:cubicBezTo>
                        <a:pt x="81" y="239"/>
                        <a:pt x="103" y="246"/>
                        <a:pt x="127" y="247"/>
                      </a:cubicBezTo>
                      <a:cubicBezTo>
                        <a:pt x="150" y="248"/>
                        <a:pt x="173" y="244"/>
                        <a:pt x="194" y="234"/>
                      </a:cubicBezTo>
                      <a:cubicBezTo>
                        <a:pt x="215" y="224"/>
                        <a:pt x="232" y="209"/>
                        <a:pt x="245" y="191"/>
                      </a:cubicBezTo>
                      <a:cubicBezTo>
                        <a:pt x="258" y="173"/>
                        <a:pt x="265" y="152"/>
                        <a:pt x="266" y="131"/>
                      </a:cubicBezTo>
                      <a:lnTo>
                        <a:pt x="266" y="131"/>
                      </a:lnTo>
                      <a:cubicBezTo>
                        <a:pt x="266" y="130"/>
                        <a:pt x="266" y="130"/>
                        <a:pt x="266" y="130"/>
                      </a:cubicBezTo>
                      <a:cubicBezTo>
                        <a:pt x="267" y="109"/>
                        <a:pt x="262" y="87"/>
                        <a:pt x="251" y="68"/>
                      </a:cubicBezTo>
                      <a:cubicBezTo>
                        <a:pt x="241" y="48"/>
                        <a:pt x="225" y="32"/>
                        <a:pt x="205" y="20"/>
                      </a:cubicBezTo>
                      <a:cubicBezTo>
                        <a:pt x="185" y="8"/>
                        <a:pt x="163" y="1"/>
                        <a:pt x="139" y="0"/>
                      </a:cubicBezTo>
                      <a:cubicBezTo>
                        <a:pt x="116" y="-1"/>
                        <a:pt x="93" y="3"/>
                        <a:pt x="72" y="13"/>
                      </a:cubicBezTo>
                      <a:cubicBezTo>
                        <a:pt x="51" y="23"/>
                        <a:pt x="34" y="38"/>
                        <a:pt x="21" y="56"/>
                      </a:cubicBezTo>
                      <a:cubicBezTo>
                        <a:pt x="8" y="74"/>
                        <a:pt x="1" y="95"/>
                        <a:pt x="0" y="116"/>
                      </a:cubicBezTo>
                      <a:close/>
                    </a:path>
                  </a:pathLst>
                </a:custGeom>
                <a:solidFill>
                  <a:srgbClr val="919191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4497480" y="5310000"/>
                  <a:ext cx="95760" cy="88920"/>
                </a:xfrm>
                <a:custGeom>
                  <a:avLst/>
                  <a:gdLst/>
                  <a:ahLst/>
                  <a:rect l="0" t="0" r="r" b="b"/>
                  <a:pathLst>
                    <a:path w="266" h="247">
                      <a:moveTo>
                        <a:pt x="0" y="116"/>
                      </a:moveTo>
                      <a:lnTo>
                        <a:pt x="0" y="116"/>
                      </a:lnTo>
                      <a:lnTo>
                        <a:pt x="0" y="117"/>
                      </a:lnTo>
                      <a:cubicBezTo>
                        <a:pt x="-1" y="138"/>
                        <a:pt x="4" y="160"/>
                        <a:pt x="15" y="179"/>
                      </a:cubicBezTo>
                      <a:cubicBezTo>
                        <a:pt x="25" y="199"/>
                        <a:pt x="41" y="215"/>
                        <a:pt x="61" y="227"/>
                      </a:cubicBezTo>
                      <a:cubicBezTo>
                        <a:pt x="81" y="239"/>
                        <a:pt x="103" y="246"/>
                        <a:pt x="127" y="247"/>
                      </a:cubicBezTo>
                      <a:cubicBezTo>
                        <a:pt x="150" y="248"/>
                        <a:pt x="173" y="244"/>
                        <a:pt x="194" y="234"/>
                      </a:cubicBezTo>
                      <a:cubicBezTo>
                        <a:pt x="215" y="224"/>
                        <a:pt x="232" y="209"/>
                        <a:pt x="245" y="191"/>
                      </a:cubicBezTo>
                      <a:cubicBezTo>
                        <a:pt x="258" y="173"/>
                        <a:pt x="265" y="152"/>
                        <a:pt x="266" y="131"/>
                      </a:cubicBezTo>
                      <a:lnTo>
                        <a:pt x="266" y="131"/>
                      </a:lnTo>
                      <a:cubicBezTo>
                        <a:pt x="266" y="130"/>
                        <a:pt x="266" y="130"/>
                        <a:pt x="266" y="130"/>
                      </a:cubicBezTo>
                      <a:cubicBezTo>
                        <a:pt x="267" y="109"/>
                        <a:pt x="262" y="87"/>
                        <a:pt x="251" y="68"/>
                      </a:cubicBezTo>
                      <a:cubicBezTo>
                        <a:pt x="241" y="48"/>
                        <a:pt x="225" y="32"/>
                        <a:pt x="205" y="20"/>
                      </a:cubicBezTo>
                      <a:cubicBezTo>
                        <a:pt x="185" y="8"/>
                        <a:pt x="163" y="1"/>
                        <a:pt x="139" y="0"/>
                      </a:cubicBezTo>
                      <a:cubicBezTo>
                        <a:pt x="116" y="-1"/>
                        <a:pt x="93" y="3"/>
                        <a:pt x="72" y="13"/>
                      </a:cubicBezTo>
                      <a:cubicBezTo>
                        <a:pt x="51" y="23"/>
                        <a:pt x="34" y="38"/>
                        <a:pt x="21" y="56"/>
                      </a:cubicBezTo>
                      <a:cubicBezTo>
                        <a:pt x="8" y="74"/>
                        <a:pt x="1" y="95"/>
                        <a:pt x="0" y="116"/>
                      </a:cubicBezTo>
                      <a:close/>
                    </a:path>
                  </a:pathLst>
                </a:custGeom>
                <a:solidFill>
                  <a:srgbClr val="919191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 flipH="1">
                  <a:off x="4549680" y="5308560"/>
                  <a:ext cx="98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 flipH="1" flipV="1">
                  <a:off x="4548240" y="5405400"/>
                  <a:ext cx="95040" cy="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49320" bIns="-49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4533840" y="5308920"/>
                  <a:ext cx="107280" cy="78840"/>
                </a:xfrm>
                <a:custGeom>
                  <a:avLst/>
                  <a:gdLst/>
                  <a:ahLst/>
                  <a:rect l="0" t="0" r="r" b="b"/>
                  <a:pathLst>
                    <a:path w="298" h="219">
                      <a:moveTo>
                        <a:pt x="10" y="0"/>
                      </a:moveTo>
                      <a:lnTo>
                        <a:pt x="0" y="204"/>
                      </a:lnTo>
                      <a:lnTo>
                        <a:pt x="288" y="219"/>
                      </a:lnTo>
                      <a:lnTo>
                        <a:pt x="298" y="15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33840" bIns="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8" name=""/>
              <p:cNvGrpSpPr/>
              <p:nvPr/>
            </p:nvGrpSpPr>
            <p:grpSpPr>
              <a:xfrm>
                <a:off x="4481640" y="5327640"/>
                <a:ext cx="189360" cy="98280"/>
                <a:chOff x="4481640" y="5327640"/>
                <a:chExt cx="189360" cy="98280"/>
              </a:xfrm>
            </p:grpSpPr>
            <p:sp>
              <p:nvSpPr>
                <p:cNvPr id="729" name=""/>
                <p:cNvSpPr/>
                <p:nvPr/>
              </p:nvSpPr>
              <p:spPr>
                <a:xfrm>
                  <a:off x="4575240" y="5332320"/>
                  <a:ext cx="95760" cy="88920"/>
                </a:xfrm>
                <a:custGeom>
                  <a:avLst/>
                  <a:gdLst/>
                  <a:ahLst/>
                  <a:rect l="0" t="0" r="r" b="b"/>
                  <a:pathLst>
                    <a:path w="266" h="247">
                      <a:moveTo>
                        <a:pt x="0" y="116"/>
                      </a:moveTo>
                      <a:lnTo>
                        <a:pt x="0" y="116"/>
                      </a:lnTo>
                      <a:lnTo>
                        <a:pt x="0" y="117"/>
                      </a:lnTo>
                      <a:cubicBezTo>
                        <a:pt x="-1" y="138"/>
                        <a:pt x="4" y="160"/>
                        <a:pt x="15" y="179"/>
                      </a:cubicBezTo>
                      <a:cubicBezTo>
                        <a:pt x="25" y="199"/>
                        <a:pt x="41" y="215"/>
                        <a:pt x="61" y="227"/>
                      </a:cubicBezTo>
                      <a:cubicBezTo>
                        <a:pt x="81" y="239"/>
                        <a:pt x="103" y="246"/>
                        <a:pt x="127" y="247"/>
                      </a:cubicBezTo>
                      <a:cubicBezTo>
                        <a:pt x="150" y="248"/>
                        <a:pt x="173" y="244"/>
                        <a:pt x="194" y="234"/>
                      </a:cubicBezTo>
                      <a:cubicBezTo>
                        <a:pt x="215" y="224"/>
                        <a:pt x="232" y="209"/>
                        <a:pt x="245" y="191"/>
                      </a:cubicBezTo>
                      <a:cubicBezTo>
                        <a:pt x="258" y="173"/>
                        <a:pt x="265" y="152"/>
                        <a:pt x="266" y="131"/>
                      </a:cubicBezTo>
                      <a:lnTo>
                        <a:pt x="266" y="131"/>
                      </a:lnTo>
                      <a:cubicBezTo>
                        <a:pt x="266" y="130"/>
                        <a:pt x="266" y="130"/>
                        <a:pt x="266" y="130"/>
                      </a:cubicBezTo>
                      <a:cubicBezTo>
                        <a:pt x="267" y="109"/>
                        <a:pt x="262" y="87"/>
                        <a:pt x="251" y="68"/>
                      </a:cubicBezTo>
                      <a:cubicBezTo>
                        <a:pt x="241" y="48"/>
                        <a:pt x="225" y="32"/>
                        <a:pt x="205" y="20"/>
                      </a:cubicBezTo>
                      <a:cubicBezTo>
                        <a:pt x="185" y="8"/>
                        <a:pt x="163" y="1"/>
                        <a:pt x="139" y="0"/>
                      </a:cubicBezTo>
                      <a:cubicBezTo>
                        <a:pt x="116" y="-1"/>
                        <a:pt x="93" y="3"/>
                        <a:pt x="72" y="13"/>
                      </a:cubicBezTo>
                      <a:cubicBezTo>
                        <a:pt x="51" y="23"/>
                        <a:pt x="34" y="38"/>
                        <a:pt x="21" y="56"/>
                      </a:cubicBezTo>
                      <a:cubicBezTo>
                        <a:pt x="8" y="74"/>
                        <a:pt x="1" y="95"/>
                        <a:pt x="0" y="116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4481640" y="5329080"/>
                  <a:ext cx="95760" cy="88920"/>
                </a:xfrm>
                <a:custGeom>
                  <a:avLst/>
                  <a:gdLst/>
                  <a:ahLst/>
                  <a:rect l="0" t="0" r="r" b="b"/>
                  <a:pathLst>
                    <a:path w="266" h="247">
                      <a:moveTo>
                        <a:pt x="0" y="116"/>
                      </a:moveTo>
                      <a:lnTo>
                        <a:pt x="0" y="116"/>
                      </a:lnTo>
                      <a:lnTo>
                        <a:pt x="0" y="117"/>
                      </a:lnTo>
                      <a:cubicBezTo>
                        <a:pt x="-1" y="138"/>
                        <a:pt x="4" y="160"/>
                        <a:pt x="15" y="179"/>
                      </a:cubicBezTo>
                      <a:cubicBezTo>
                        <a:pt x="25" y="199"/>
                        <a:pt x="41" y="215"/>
                        <a:pt x="61" y="227"/>
                      </a:cubicBezTo>
                      <a:cubicBezTo>
                        <a:pt x="81" y="239"/>
                        <a:pt x="103" y="246"/>
                        <a:pt x="127" y="247"/>
                      </a:cubicBezTo>
                      <a:cubicBezTo>
                        <a:pt x="150" y="248"/>
                        <a:pt x="173" y="244"/>
                        <a:pt x="194" y="234"/>
                      </a:cubicBezTo>
                      <a:cubicBezTo>
                        <a:pt x="215" y="224"/>
                        <a:pt x="232" y="209"/>
                        <a:pt x="245" y="191"/>
                      </a:cubicBezTo>
                      <a:cubicBezTo>
                        <a:pt x="258" y="173"/>
                        <a:pt x="265" y="152"/>
                        <a:pt x="266" y="131"/>
                      </a:cubicBezTo>
                      <a:lnTo>
                        <a:pt x="266" y="131"/>
                      </a:lnTo>
                      <a:cubicBezTo>
                        <a:pt x="266" y="130"/>
                        <a:pt x="266" y="130"/>
                        <a:pt x="266" y="130"/>
                      </a:cubicBezTo>
                      <a:cubicBezTo>
                        <a:pt x="267" y="109"/>
                        <a:pt x="262" y="87"/>
                        <a:pt x="251" y="68"/>
                      </a:cubicBezTo>
                      <a:cubicBezTo>
                        <a:pt x="241" y="48"/>
                        <a:pt x="225" y="32"/>
                        <a:pt x="205" y="20"/>
                      </a:cubicBezTo>
                      <a:cubicBezTo>
                        <a:pt x="185" y="8"/>
                        <a:pt x="163" y="1"/>
                        <a:pt x="139" y="0"/>
                      </a:cubicBezTo>
                      <a:cubicBezTo>
                        <a:pt x="116" y="-1"/>
                        <a:pt x="93" y="3"/>
                        <a:pt x="72" y="13"/>
                      </a:cubicBezTo>
                      <a:cubicBezTo>
                        <a:pt x="51" y="23"/>
                        <a:pt x="34" y="38"/>
                        <a:pt x="21" y="56"/>
                      </a:cubicBezTo>
                      <a:cubicBezTo>
                        <a:pt x="8" y="74"/>
                        <a:pt x="1" y="95"/>
                        <a:pt x="0" y="116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 flipH="1">
                  <a:off x="4537080" y="5327640"/>
                  <a:ext cx="92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 flipH="1" flipV="1">
                  <a:off x="4538520" y="5424480"/>
                  <a:ext cx="9216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49680" bIns="-49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4518000" y="5333040"/>
                  <a:ext cx="110160" cy="74160"/>
                </a:xfrm>
                <a:custGeom>
                  <a:avLst/>
                  <a:gdLst/>
                  <a:ahLst/>
                  <a:rect l="0" t="0" r="r" b="b"/>
                  <a:pathLst>
                    <a:path w="306" h="206">
                      <a:moveTo>
                        <a:pt x="9" y="0"/>
                      </a:moveTo>
                      <a:lnTo>
                        <a:pt x="0" y="191"/>
                      </a:lnTo>
                      <a:lnTo>
                        <a:pt x="297" y="206"/>
                      </a:lnTo>
                      <a:lnTo>
                        <a:pt x="306" y="15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34" name=""/>
            <p:cNvGrpSpPr/>
            <p:nvPr/>
          </p:nvGrpSpPr>
          <p:grpSpPr>
            <a:xfrm>
              <a:off x="4098960" y="5133240"/>
              <a:ext cx="248040" cy="248040"/>
              <a:chOff x="4098960" y="5133240"/>
              <a:chExt cx="248040" cy="248040"/>
            </a:xfrm>
          </p:grpSpPr>
          <p:sp>
            <p:nvSpPr>
              <p:cNvPr id="735" name=""/>
              <p:cNvSpPr/>
              <p:nvPr/>
            </p:nvSpPr>
            <p:spPr>
              <a:xfrm>
                <a:off x="4098960" y="5133240"/>
                <a:ext cx="248040" cy="248040"/>
              </a:xfrm>
              <a:custGeom>
                <a:avLst/>
                <a:gdLst/>
                <a:ahLst/>
                <a:rect l="0" t="0" r="r" b="b"/>
                <a:pathLst>
                  <a:path fill="none" w="689" h="689">
                    <a:moveTo>
                      <a:pt x="123" y="567"/>
                    </a:moveTo>
                    <a:lnTo>
                      <a:pt x="123" y="567"/>
                    </a:lnTo>
                    <a:cubicBezTo>
                      <a:pt x="169" y="613"/>
                      <a:pt x="225" y="648"/>
                      <a:pt x="285" y="669"/>
                    </a:cubicBezTo>
                    <a:cubicBezTo>
                      <a:pt x="344" y="690"/>
                      <a:pt x="406" y="695"/>
                      <a:pt x="462" y="684"/>
                    </a:cubicBezTo>
                    <a:cubicBezTo>
                      <a:pt x="519" y="674"/>
                      <a:pt x="570" y="648"/>
                      <a:pt x="609" y="609"/>
                    </a:cubicBezTo>
                    <a:cubicBezTo>
                      <a:pt x="648" y="570"/>
                      <a:pt x="674" y="519"/>
                      <a:pt x="684" y="462"/>
                    </a:cubicBezTo>
                    <a:cubicBezTo>
                      <a:pt x="695" y="406"/>
                      <a:pt x="690" y="344"/>
                      <a:pt x="669" y="285"/>
                    </a:cubicBezTo>
                    <a:cubicBezTo>
                      <a:pt x="648" y="225"/>
                      <a:pt x="613" y="169"/>
                      <a:pt x="567" y="123"/>
                    </a:cubicBezTo>
                    <a:lnTo>
                      <a:pt x="567" y="123"/>
                    </a:lnTo>
                    <a:lnTo>
                      <a:pt x="567" y="123"/>
                    </a:lnTo>
                    <a:cubicBezTo>
                      <a:pt x="521" y="77"/>
                      <a:pt x="465" y="42"/>
                      <a:pt x="405" y="21"/>
                    </a:cubicBezTo>
                    <a:cubicBezTo>
                      <a:pt x="346" y="0"/>
                      <a:pt x="284" y="-5"/>
                      <a:pt x="228" y="6"/>
                    </a:cubicBezTo>
                    <a:cubicBezTo>
                      <a:pt x="171" y="16"/>
                      <a:pt x="120" y="42"/>
                      <a:pt x="81" y="81"/>
                    </a:cubicBezTo>
                    <a:cubicBezTo>
                      <a:pt x="42" y="120"/>
                      <a:pt x="16" y="171"/>
                      <a:pt x="6" y="228"/>
                    </a:cubicBezTo>
                    <a:cubicBezTo>
                      <a:pt x="-5" y="284"/>
                      <a:pt x="0" y="346"/>
                      <a:pt x="21" y="405"/>
                    </a:cubicBezTo>
                    <a:cubicBezTo>
                      <a:pt x="42" y="465"/>
                      <a:pt x="77" y="521"/>
                      <a:pt x="123" y="567"/>
                    </a:cubicBez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4112640" y="5139720"/>
                <a:ext cx="227160" cy="227160"/>
              </a:xfrm>
              <a:custGeom>
                <a:avLst/>
                <a:gdLst/>
                <a:ahLst/>
                <a:rect l="0" t="0" r="r" b="b"/>
                <a:pathLst>
                  <a:path w="631" h="631">
                    <a:moveTo>
                      <a:pt x="0" y="507"/>
                    </a:moveTo>
                    <a:lnTo>
                      <a:pt x="124" y="631"/>
                    </a:lnTo>
                    <a:lnTo>
                      <a:pt x="631" y="124"/>
                    </a:lnTo>
                    <a:lnTo>
                      <a:pt x="507" y="0"/>
                    </a:lnTo>
                    <a:lnTo>
                      <a:pt x="0" y="507"/>
                    </a:lnTo>
                    <a:close/>
                  </a:path>
                </a:pathLst>
              </a:custGeom>
              <a:solidFill>
                <a:srgbClr val="39393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4099680" y="5133960"/>
                <a:ext cx="246240" cy="246240"/>
              </a:xfrm>
              <a:custGeom>
                <a:avLst/>
                <a:gdLst/>
                <a:ahLst/>
                <a:rect l="0" t="0" r="r" b="b"/>
                <a:pathLst>
                  <a:path w="684" h="684">
                    <a:moveTo>
                      <a:pt x="0" y="112"/>
                    </a:moveTo>
                    <a:lnTo>
                      <a:pt x="572" y="684"/>
                    </a:lnTo>
                    <a:lnTo>
                      <a:pt x="684" y="572"/>
                    </a:lnTo>
                    <a:lnTo>
                      <a:pt x="112" y="0"/>
                    </a:lnTo>
                    <a:lnTo>
                      <a:pt x="0" y="112"/>
                    </a:lnTo>
                    <a:close/>
                  </a:path>
                </a:pathLst>
              </a:custGeom>
              <a:solidFill>
                <a:srgbClr val="39393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8" name=""/>
            <p:cNvSpPr/>
            <p:nvPr/>
          </p:nvSpPr>
          <p:spPr>
            <a:xfrm>
              <a:off x="2917800" y="4971960"/>
              <a:ext cx="951120" cy="479880"/>
            </a:xfrm>
            <a:custGeom>
              <a:avLst/>
              <a:gdLst/>
              <a:ahLst/>
              <a:rect l="0" t="0" r="r" b="b"/>
              <a:pathLst>
                <a:path fill="none" w="2642" h="1333">
                  <a:moveTo>
                    <a:pt x="0" y="0"/>
                  </a:moveTo>
                  <a:lnTo>
                    <a:pt x="2642" y="164"/>
                  </a:lnTo>
                  <a:lnTo>
                    <a:pt x="2642" y="1333"/>
                  </a:lnTo>
                  <a:lnTo>
                    <a:pt x="0" y="1187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9" name=""/>
            <p:cNvGrpSpPr/>
            <p:nvPr/>
          </p:nvGrpSpPr>
          <p:grpSpPr>
            <a:xfrm>
              <a:off x="3417840" y="5118120"/>
              <a:ext cx="206640" cy="117360"/>
              <a:chOff x="3417840" y="5118120"/>
              <a:chExt cx="206640" cy="117360"/>
            </a:xfrm>
          </p:grpSpPr>
          <p:grpSp>
            <p:nvGrpSpPr>
              <p:cNvPr id="740" name=""/>
              <p:cNvGrpSpPr/>
              <p:nvPr/>
            </p:nvGrpSpPr>
            <p:grpSpPr>
              <a:xfrm>
                <a:off x="3433680" y="5118120"/>
                <a:ext cx="190800" cy="98280"/>
                <a:chOff x="3433680" y="5118120"/>
                <a:chExt cx="190800" cy="98280"/>
              </a:xfrm>
            </p:grpSpPr>
            <p:sp>
              <p:nvSpPr>
                <p:cNvPr id="741" name=""/>
                <p:cNvSpPr/>
                <p:nvPr/>
              </p:nvSpPr>
              <p:spPr>
                <a:xfrm>
                  <a:off x="3527280" y="5122800"/>
                  <a:ext cx="97200" cy="89280"/>
                </a:xfrm>
                <a:custGeom>
                  <a:avLst/>
                  <a:gdLst/>
                  <a:ahLst/>
                  <a:rect l="0" t="0" r="r" b="b"/>
                  <a:pathLst>
                    <a:path w="270" h="248">
                      <a:moveTo>
                        <a:pt x="0" y="117"/>
                      </a:moveTo>
                      <a:lnTo>
                        <a:pt x="0" y="117"/>
                      </a:lnTo>
                      <a:cubicBezTo>
                        <a:pt x="-1" y="139"/>
                        <a:pt x="4" y="160"/>
                        <a:pt x="15" y="180"/>
                      </a:cubicBezTo>
                      <a:cubicBezTo>
                        <a:pt x="26" y="199"/>
                        <a:pt x="42" y="216"/>
                        <a:pt x="62" y="228"/>
                      </a:cubicBezTo>
                      <a:cubicBezTo>
                        <a:pt x="82" y="240"/>
                        <a:pt x="105" y="247"/>
                        <a:pt x="129" y="248"/>
                      </a:cubicBezTo>
                      <a:cubicBezTo>
                        <a:pt x="152" y="249"/>
                        <a:pt x="176" y="245"/>
                        <a:pt x="197" y="235"/>
                      </a:cubicBezTo>
                      <a:cubicBezTo>
                        <a:pt x="218" y="225"/>
                        <a:pt x="236" y="210"/>
                        <a:pt x="249" y="192"/>
                      </a:cubicBezTo>
                      <a:cubicBezTo>
                        <a:pt x="262" y="174"/>
                        <a:pt x="269" y="153"/>
                        <a:pt x="270" y="131"/>
                      </a:cubicBezTo>
                      <a:lnTo>
                        <a:pt x="270" y="131"/>
                      </a:lnTo>
                      <a:lnTo>
                        <a:pt x="270" y="131"/>
                      </a:lnTo>
                      <a:cubicBezTo>
                        <a:pt x="271" y="109"/>
                        <a:pt x="266" y="88"/>
                        <a:pt x="255" y="68"/>
                      </a:cubicBezTo>
                      <a:cubicBezTo>
                        <a:pt x="244" y="49"/>
                        <a:pt x="228" y="32"/>
                        <a:pt x="208" y="20"/>
                      </a:cubicBezTo>
                      <a:cubicBezTo>
                        <a:pt x="188" y="8"/>
                        <a:pt x="165" y="1"/>
                        <a:pt x="141" y="0"/>
                      </a:cubicBezTo>
                      <a:cubicBezTo>
                        <a:pt x="118" y="-1"/>
                        <a:pt x="94" y="3"/>
                        <a:pt x="73" y="13"/>
                      </a:cubicBezTo>
                      <a:cubicBezTo>
                        <a:pt x="52" y="23"/>
                        <a:pt x="34" y="38"/>
                        <a:pt x="21" y="56"/>
                      </a:cubicBezTo>
                      <a:cubicBezTo>
                        <a:pt x="8" y="74"/>
                        <a:pt x="1" y="95"/>
                        <a:pt x="0" y="117"/>
                      </a:cubicBezTo>
                      <a:close/>
                    </a:path>
                  </a:pathLst>
                </a:custGeom>
                <a:solidFill>
                  <a:srgbClr val="919191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38160" bIns="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3433680" y="5119560"/>
                  <a:ext cx="97200" cy="88920"/>
                </a:xfrm>
                <a:custGeom>
                  <a:avLst/>
                  <a:gdLst/>
                  <a:ahLst/>
                  <a:rect l="0" t="0" r="r" b="b"/>
                  <a:pathLst>
                    <a:path w="270" h="247">
                      <a:moveTo>
                        <a:pt x="0" y="116"/>
                      </a:moveTo>
                      <a:lnTo>
                        <a:pt x="0" y="116"/>
                      </a:lnTo>
                      <a:cubicBezTo>
                        <a:pt x="-1" y="138"/>
                        <a:pt x="4" y="160"/>
                        <a:pt x="15" y="179"/>
                      </a:cubicBezTo>
                      <a:cubicBezTo>
                        <a:pt x="26" y="199"/>
                        <a:pt x="42" y="215"/>
                        <a:pt x="62" y="227"/>
                      </a:cubicBezTo>
                      <a:cubicBezTo>
                        <a:pt x="82" y="239"/>
                        <a:pt x="105" y="246"/>
                        <a:pt x="129" y="247"/>
                      </a:cubicBezTo>
                      <a:cubicBezTo>
                        <a:pt x="152" y="248"/>
                        <a:pt x="176" y="244"/>
                        <a:pt x="197" y="234"/>
                      </a:cubicBezTo>
                      <a:cubicBezTo>
                        <a:pt x="218" y="224"/>
                        <a:pt x="236" y="210"/>
                        <a:pt x="249" y="191"/>
                      </a:cubicBezTo>
                      <a:cubicBezTo>
                        <a:pt x="262" y="173"/>
                        <a:pt x="269" y="152"/>
                        <a:pt x="270" y="131"/>
                      </a:cubicBezTo>
                      <a:lnTo>
                        <a:pt x="270" y="131"/>
                      </a:lnTo>
                      <a:lnTo>
                        <a:pt x="270" y="131"/>
                      </a:lnTo>
                      <a:cubicBezTo>
                        <a:pt x="271" y="109"/>
                        <a:pt x="266" y="87"/>
                        <a:pt x="255" y="68"/>
                      </a:cubicBezTo>
                      <a:cubicBezTo>
                        <a:pt x="244" y="48"/>
                        <a:pt x="228" y="32"/>
                        <a:pt x="208" y="20"/>
                      </a:cubicBezTo>
                      <a:cubicBezTo>
                        <a:pt x="188" y="8"/>
                        <a:pt x="165" y="1"/>
                        <a:pt x="141" y="0"/>
                      </a:cubicBezTo>
                      <a:cubicBezTo>
                        <a:pt x="118" y="-1"/>
                        <a:pt x="94" y="3"/>
                        <a:pt x="73" y="13"/>
                      </a:cubicBezTo>
                      <a:cubicBezTo>
                        <a:pt x="52" y="23"/>
                        <a:pt x="34" y="37"/>
                        <a:pt x="21" y="56"/>
                      </a:cubicBezTo>
                      <a:cubicBezTo>
                        <a:pt x="8" y="74"/>
                        <a:pt x="1" y="95"/>
                        <a:pt x="0" y="116"/>
                      </a:cubicBezTo>
                      <a:close/>
                    </a:path>
                  </a:pathLst>
                </a:custGeom>
                <a:solidFill>
                  <a:srgbClr val="919191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 flipH="1">
                  <a:off x="3487680" y="5118120"/>
                  <a:ext cx="98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 flipH="1" flipV="1">
                  <a:off x="3486240" y="5214960"/>
                  <a:ext cx="9504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49680" bIns="-49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3470040" y="5118480"/>
                  <a:ext cx="108720" cy="78840"/>
                </a:xfrm>
                <a:custGeom>
                  <a:avLst/>
                  <a:gdLst/>
                  <a:ahLst/>
                  <a:rect l="0" t="0" r="r" b="b"/>
                  <a:pathLst>
                    <a:path w="302" h="219">
                      <a:moveTo>
                        <a:pt x="10" y="0"/>
                      </a:moveTo>
                      <a:lnTo>
                        <a:pt x="0" y="204"/>
                      </a:lnTo>
                      <a:lnTo>
                        <a:pt x="291" y="219"/>
                      </a:lnTo>
                      <a:lnTo>
                        <a:pt x="302" y="15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33840" bIns="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6" name=""/>
              <p:cNvGrpSpPr/>
              <p:nvPr/>
            </p:nvGrpSpPr>
            <p:grpSpPr>
              <a:xfrm>
                <a:off x="3417840" y="5137200"/>
                <a:ext cx="190800" cy="98280"/>
                <a:chOff x="3417840" y="5137200"/>
                <a:chExt cx="190800" cy="98280"/>
              </a:xfrm>
            </p:grpSpPr>
            <p:sp>
              <p:nvSpPr>
                <p:cNvPr id="747" name=""/>
                <p:cNvSpPr/>
                <p:nvPr/>
              </p:nvSpPr>
              <p:spPr>
                <a:xfrm>
                  <a:off x="3511440" y="5141880"/>
                  <a:ext cx="97200" cy="89280"/>
                </a:xfrm>
                <a:custGeom>
                  <a:avLst/>
                  <a:gdLst/>
                  <a:ahLst/>
                  <a:rect l="0" t="0" r="r" b="b"/>
                  <a:pathLst>
                    <a:path w="270" h="248">
                      <a:moveTo>
                        <a:pt x="0" y="117"/>
                      </a:moveTo>
                      <a:lnTo>
                        <a:pt x="0" y="117"/>
                      </a:lnTo>
                      <a:cubicBezTo>
                        <a:pt x="-1" y="139"/>
                        <a:pt x="4" y="160"/>
                        <a:pt x="15" y="180"/>
                      </a:cubicBezTo>
                      <a:cubicBezTo>
                        <a:pt x="26" y="199"/>
                        <a:pt x="42" y="216"/>
                        <a:pt x="62" y="228"/>
                      </a:cubicBezTo>
                      <a:cubicBezTo>
                        <a:pt x="82" y="240"/>
                        <a:pt x="105" y="247"/>
                        <a:pt x="129" y="248"/>
                      </a:cubicBezTo>
                      <a:cubicBezTo>
                        <a:pt x="152" y="249"/>
                        <a:pt x="176" y="245"/>
                        <a:pt x="197" y="235"/>
                      </a:cubicBezTo>
                      <a:cubicBezTo>
                        <a:pt x="218" y="225"/>
                        <a:pt x="236" y="210"/>
                        <a:pt x="249" y="192"/>
                      </a:cubicBezTo>
                      <a:cubicBezTo>
                        <a:pt x="262" y="174"/>
                        <a:pt x="269" y="153"/>
                        <a:pt x="270" y="131"/>
                      </a:cubicBezTo>
                      <a:lnTo>
                        <a:pt x="270" y="131"/>
                      </a:lnTo>
                      <a:lnTo>
                        <a:pt x="270" y="131"/>
                      </a:lnTo>
                      <a:cubicBezTo>
                        <a:pt x="271" y="109"/>
                        <a:pt x="266" y="88"/>
                        <a:pt x="255" y="68"/>
                      </a:cubicBezTo>
                      <a:cubicBezTo>
                        <a:pt x="244" y="49"/>
                        <a:pt x="228" y="32"/>
                        <a:pt x="208" y="20"/>
                      </a:cubicBezTo>
                      <a:cubicBezTo>
                        <a:pt x="188" y="8"/>
                        <a:pt x="165" y="1"/>
                        <a:pt x="141" y="0"/>
                      </a:cubicBezTo>
                      <a:cubicBezTo>
                        <a:pt x="118" y="-1"/>
                        <a:pt x="94" y="3"/>
                        <a:pt x="73" y="13"/>
                      </a:cubicBezTo>
                      <a:cubicBezTo>
                        <a:pt x="52" y="23"/>
                        <a:pt x="34" y="38"/>
                        <a:pt x="21" y="56"/>
                      </a:cubicBezTo>
                      <a:cubicBezTo>
                        <a:pt x="8" y="74"/>
                        <a:pt x="1" y="95"/>
                        <a:pt x="0" y="117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38160" bIns="38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3417840" y="5138640"/>
                  <a:ext cx="97200" cy="88920"/>
                </a:xfrm>
                <a:custGeom>
                  <a:avLst/>
                  <a:gdLst/>
                  <a:ahLst/>
                  <a:rect l="0" t="0" r="r" b="b"/>
                  <a:pathLst>
                    <a:path w="270" h="247">
                      <a:moveTo>
                        <a:pt x="0" y="116"/>
                      </a:moveTo>
                      <a:lnTo>
                        <a:pt x="0" y="116"/>
                      </a:lnTo>
                      <a:cubicBezTo>
                        <a:pt x="-1" y="138"/>
                        <a:pt x="4" y="160"/>
                        <a:pt x="15" y="179"/>
                      </a:cubicBezTo>
                      <a:cubicBezTo>
                        <a:pt x="26" y="199"/>
                        <a:pt x="42" y="215"/>
                        <a:pt x="62" y="227"/>
                      </a:cubicBezTo>
                      <a:cubicBezTo>
                        <a:pt x="82" y="239"/>
                        <a:pt x="105" y="246"/>
                        <a:pt x="129" y="247"/>
                      </a:cubicBezTo>
                      <a:cubicBezTo>
                        <a:pt x="152" y="248"/>
                        <a:pt x="176" y="244"/>
                        <a:pt x="197" y="234"/>
                      </a:cubicBezTo>
                      <a:cubicBezTo>
                        <a:pt x="218" y="224"/>
                        <a:pt x="236" y="210"/>
                        <a:pt x="249" y="191"/>
                      </a:cubicBezTo>
                      <a:cubicBezTo>
                        <a:pt x="262" y="173"/>
                        <a:pt x="269" y="152"/>
                        <a:pt x="270" y="131"/>
                      </a:cubicBezTo>
                      <a:lnTo>
                        <a:pt x="270" y="131"/>
                      </a:lnTo>
                      <a:lnTo>
                        <a:pt x="270" y="131"/>
                      </a:lnTo>
                      <a:cubicBezTo>
                        <a:pt x="271" y="109"/>
                        <a:pt x="266" y="87"/>
                        <a:pt x="255" y="68"/>
                      </a:cubicBezTo>
                      <a:cubicBezTo>
                        <a:pt x="244" y="48"/>
                        <a:pt x="228" y="32"/>
                        <a:pt x="208" y="20"/>
                      </a:cubicBezTo>
                      <a:cubicBezTo>
                        <a:pt x="188" y="8"/>
                        <a:pt x="165" y="1"/>
                        <a:pt x="141" y="0"/>
                      </a:cubicBezTo>
                      <a:cubicBezTo>
                        <a:pt x="118" y="-1"/>
                        <a:pt x="94" y="3"/>
                        <a:pt x="73" y="13"/>
                      </a:cubicBezTo>
                      <a:cubicBezTo>
                        <a:pt x="52" y="23"/>
                        <a:pt x="34" y="37"/>
                        <a:pt x="21" y="56"/>
                      </a:cubicBezTo>
                      <a:cubicBezTo>
                        <a:pt x="8" y="74"/>
                        <a:pt x="1" y="95"/>
                        <a:pt x="0" y="116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 flipH="1">
                  <a:off x="3475080" y="5137200"/>
                  <a:ext cx="92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 flipH="1" flipV="1">
                  <a:off x="3476520" y="5234040"/>
                  <a:ext cx="9216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49680" bIns="-49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3454200" y="5142240"/>
                  <a:ext cx="111600" cy="74160"/>
                </a:xfrm>
                <a:custGeom>
                  <a:avLst/>
                  <a:gdLst/>
                  <a:ahLst/>
                  <a:rect l="0" t="0" r="r" b="b"/>
                  <a:pathLst>
                    <a:path w="310" h="206">
                      <a:moveTo>
                        <a:pt x="9" y="0"/>
                      </a:moveTo>
                      <a:lnTo>
                        <a:pt x="0" y="190"/>
                      </a:lnTo>
                      <a:lnTo>
                        <a:pt x="300" y="206"/>
                      </a:lnTo>
                      <a:lnTo>
                        <a:pt x="310" y="15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52" name=""/>
            <p:cNvGrpSpPr/>
            <p:nvPr/>
          </p:nvGrpSpPr>
          <p:grpSpPr>
            <a:xfrm>
              <a:off x="3424320" y="5257800"/>
              <a:ext cx="206640" cy="117360"/>
              <a:chOff x="3424320" y="5257800"/>
              <a:chExt cx="206640" cy="117360"/>
            </a:xfrm>
          </p:grpSpPr>
          <p:grpSp>
            <p:nvGrpSpPr>
              <p:cNvPr id="753" name=""/>
              <p:cNvGrpSpPr/>
              <p:nvPr/>
            </p:nvGrpSpPr>
            <p:grpSpPr>
              <a:xfrm>
                <a:off x="3440160" y="5257800"/>
                <a:ext cx="190800" cy="98280"/>
                <a:chOff x="3440160" y="5257800"/>
                <a:chExt cx="190800" cy="98280"/>
              </a:xfrm>
            </p:grpSpPr>
            <p:sp>
              <p:nvSpPr>
                <p:cNvPr id="754" name=""/>
                <p:cNvSpPr/>
                <p:nvPr/>
              </p:nvSpPr>
              <p:spPr>
                <a:xfrm>
                  <a:off x="3533760" y="5262480"/>
                  <a:ext cx="97200" cy="89280"/>
                </a:xfrm>
                <a:custGeom>
                  <a:avLst/>
                  <a:gdLst/>
                  <a:ahLst/>
                  <a:rect l="0" t="0" r="r" b="b"/>
                  <a:pathLst>
                    <a:path w="270" h="248">
                      <a:moveTo>
                        <a:pt x="0" y="117"/>
                      </a:moveTo>
                      <a:lnTo>
                        <a:pt x="0" y="117"/>
                      </a:lnTo>
                      <a:cubicBezTo>
                        <a:pt x="-1" y="139"/>
                        <a:pt x="4" y="160"/>
                        <a:pt x="15" y="180"/>
                      </a:cubicBezTo>
                      <a:cubicBezTo>
                        <a:pt x="26" y="199"/>
                        <a:pt x="42" y="216"/>
                        <a:pt x="62" y="228"/>
                      </a:cubicBezTo>
                      <a:cubicBezTo>
                        <a:pt x="82" y="240"/>
                        <a:pt x="105" y="247"/>
                        <a:pt x="129" y="248"/>
                      </a:cubicBezTo>
                      <a:cubicBezTo>
                        <a:pt x="152" y="249"/>
                        <a:pt x="176" y="245"/>
                        <a:pt x="197" y="235"/>
                      </a:cubicBezTo>
                      <a:cubicBezTo>
                        <a:pt x="218" y="225"/>
                        <a:pt x="236" y="210"/>
                        <a:pt x="249" y="192"/>
                      </a:cubicBezTo>
                      <a:cubicBezTo>
                        <a:pt x="262" y="174"/>
                        <a:pt x="269" y="153"/>
                        <a:pt x="270" y="131"/>
                      </a:cubicBezTo>
                      <a:lnTo>
                        <a:pt x="270" y="131"/>
                      </a:lnTo>
                      <a:lnTo>
                        <a:pt x="270" y="131"/>
                      </a:lnTo>
                      <a:cubicBezTo>
                        <a:pt x="271" y="109"/>
                        <a:pt x="266" y="88"/>
                        <a:pt x="255" y="68"/>
                      </a:cubicBezTo>
                      <a:cubicBezTo>
                        <a:pt x="244" y="49"/>
                        <a:pt x="228" y="32"/>
                        <a:pt x="208" y="20"/>
                      </a:cubicBezTo>
                      <a:cubicBezTo>
                        <a:pt x="188" y="8"/>
                        <a:pt x="165" y="1"/>
                        <a:pt x="141" y="0"/>
                      </a:cubicBezTo>
                      <a:cubicBezTo>
                        <a:pt x="118" y="-1"/>
                        <a:pt x="94" y="3"/>
                        <a:pt x="73" y="13"/>
                      </a:cubicBezTo>
                      <a:cubicBezTo>
                        <a:pt x="52" y="23"/>
                        <a:pt x="34" y="38"/>
                        <a:pt x="21" y="56"/>
                      </a:cubicBezTo>
                      <a:cubicBezTo>
                        <a:pt x="8" y="74"/>
                        <a:pt x="1" y="95"/>
                        <a:pt x="0" y="117"/>
                      </a:cubicBezTo>
                      <a:close/>
                    </a:path>
                  </a:pathLst>
                </a:custGeom>
                <a:solidFill>
                  <a:srgbClr val="919191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38160" bIns="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3440160" y="5259240"/>
                  <a:ext cx="97200" cy="88920"/>
                </a:xfrm>
                <a:custGeom>
                  <a:avLst/>
                  <a:gdLst/>
                  <a:ahLst/>
                  <a:rect l="0" t="0" r="r" b="b"/>
                  <a:pathLst>
                    <a:path w="270" h="247">
                      <a:moveTo>
                        <a:pt x="0" y="116"/>
                      </a:moveTo>
                      <a:lnTo>
                        <a:pt x="0" y="116"/>
                      </a:lnTo>
                      <a:cubicBezTo>
                        <a:pt x="-1" y="138"/>
                        <a:pt x="4" y="160"/>
                        <a:pt x="15" y="179"/>
                      </a:cubicBezTo>
                      <a:cubicBezTo>
                        <a:pt x="26" y="199"/>
                        <a:pt x="42" y="215"/>
                        <a:pt x="62" y="227"/>
                      </a:cubicBezTo>
                      <a:cubicBezTo>
                        <a:pt x="82" y="239"/>
                        <a:pt x="105" y="246"/>
                        <a:pt x="129" y="247"/>
                      </a:cubicBezTo>
                      <a:cubicBezTo>
                        <a:pt x="152" y="248"/>
                        <a:pt x="176" y="244"/>
                        <a:pt x="197" y="234"/>
                      </a:cubicBezTo>
                      <a:cubicBezTo>
                        <a:pt x="218" y="224"/>
                        <a:pt x="236" y="210"/>
                        <a:pt x="249" y="191"/>
                      </a:cubicBezTo>
                      <a:cubicBezTo>
                        <a:pt x="262" y="173"/>
                        <a:pt x="269" y="152"/>
                        <a:pt x="270" y="131"/>
                      </a:cubicBezTo>
                      <a:lnTo>
                        <a:pt x="270" y="131"/>
                      </a:lnTo>
                      <a:lnTo>
                        <a:pt x="270" y="131"/>
                      </a:lnTo>
                      <a:cubicBezTo>
                        <a:pt x="271" y="109"/>
                        <a:pt x="266" y="87"/>
                        <a:pt x="255" y="68"/>
                      </a:cubicBezTo>
                      <a:cubicBezTo>
                        <a:pt x="244" y="48"/>
                        <a:pt x="228" y="32"/>
                        <a:pt x="208" y="20"/>
                      </a:cubicBezTo>
                      <a:cubicBezTo>
                        <a:pt x="188" y="8"/>
                        <a:pt x="165" y="1"/>
                        <a:pt x="141" y="0"/>
                      </a:cubicBezTo>
                      <a:cubicBezTo>
                        <a:pt x="118" y="-1"/>
                        <a:pt x="94" y="3"/>
                        <a:pt x="73" y="13"/>
                      </a:cubicBezTo>
                      <a:cubicBezTo>
                        <a:pt x="52" y="23"/>
                        <a:pt x="34" y="37"/>
                        <a:pt x="21" y="56"/>
                      </a:cubicBezTo>
                      <a:cubicBezTo>
                        <a:pt x="8" y="74"/>
                        <a:pt x="1" y="95"/>
                        <a:pt x="0" y="116"/>
                      </a:cubicBezTo>
                      <a:close/>
                    </a:path>
                  </a:pathLst>
                </a:custGeom>
                <a:solidFill>
                  <a:srgbClr val="919191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 flipH="1">
                  <a:off x="3494160" y="5257800"/>
                  <a:ext cx="98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 flipH="1" flipV="1">
                  <a:off x="3492360" y="5354640"/>
                  <a:ext cx="9540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49680" bIns="-49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3476520" y="5258160"/>
                  <a:ext cx="108720" cy="78840"/>
                </a:xfrm>
                <a:custGeom>
                  <a:avLst/>
                  <a:gdLst/>
                  <a:ahLst/>
                  <a:rect l="0" t="0" r="r" b="b"/>
                  <a:pathLst>
                    <a:path w="302" h="219">
                      <a:moveTo>
                        <a:pt x="10" y="0"/>
                      </a:moveTo>
                      <a:lnTo>
                        <a:pt x="0" y="204"/>
                      </a:lnTo>
                      <a:lnTo>
                        <a:pt x="291" y="219"/>
                      </a:lnTo>
                      <a:lnTo>
                        <a:pt x="302" y="15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33840" bIns="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9" name=""/>
              <p:cNvGrpSpPr/>
              <p:nvPr/>
            </p:nvGrpSpPr>
            <p:grpSpPr>
              <a:xfrm>
                <a:off x="3424320" y="5276880"/>
                <a:ext cx="190800" cy="98280"/>
                <a:chOff x="3424320" y="5276880"/>
                <a:chExt cx="190800" cy="98280"/>
              </a:xfrm>
            </p:grpSpPr>
            <p:sp>
              <p:nvSpPr>
                <p:cNvPr id="760" name=""/>
                <p:cNvSpPr/>
                <p:nvPr/>
              </p:nvSpPr>
              <p:spPr>
                <a:xfrm>
                  <a:off x="3517920" y="5281560"/>
                  <a:ext cx="97200" cy="88920"/>
                </a:xfrm>
                <a:custGeom>
                  <a:avLst/>
                  <a:gdLst/>
                  <a:ahLst/>
                  <a:rect l="0" t="0" r="r" b="b"/>
                  <a:pathLst>
                    <a:path w="270" h="247">
                      <a:moveTo>
                        <a:pt x="0" y="116"/>
                      </a:moveTo>
                      <a:lnTo>
                        <a:pt x="0" y="116"/>
                      </a:lnTo>
                      <a:cubicBezTo>
                        <a:pt x="-1" y="138"/>
                        <a:pt x="4" y="160"/>
                        <a:pt x="15" y="179"/>
                      </a:cubicBezTo>
                      <a:cubicBezTo>
                        <a:pt x="26" y="199"/>
                        <a:pt x="42" y="215"/>
                        <a:pt x="62" y="227"/>
                      </a:cubicBezTo>
                      <a:cubicBezTo>
                        <a:pt x="82" y="239"/>
                        <a:pt x="105" y="246"/>
                        <a:pt x="129" y="247"/>
                      </a:cubicBezTo>
                      <a:cubicBezTo>
                        <a:pt x="152" y="248"/>
                        <a:pt x="176" y="244"/>
                        <a:pt x="197" y="234"/>
                      </a:cubicBezTo>
                      <a:cubicBezTo>
                        <a:pt x="218" y="224"/>
                        <a:pt x="236" y="210"/>
                        <a:pt x="249" y="191"/>
                      </a:cubicBezTo>
                      <a:cubicBezTo>
                        <a:pt x="262" y="173"/>
                        <a:pt x="269" y="152"/>
                        <a:pt x="270" y="131"/>
                      </a:cubicBezTo>
                      <a:lnTo>
                        <a:pt x="270" y="131"/>
                      </a:lnTo>
                      <a:lnTo>
                        <a:pt x="270" y="131"/>
                      </a:lnTo>
                      <a:cubicBezTo>
                        <a:pt x="271" y="109"/>
                        <a:pt x="266" y="87"/>
                        <a:pt x="255" y="68"/>
                      </a:cubicBezTo>
                      <a:cubicBezTo>
                        <a:pt x="244" y="48"/>
                        <a:pt x="228" y="32"/>
                        <a:pt x="208" y="20"/>
                      </a:cubicBezTo>
                      <a:cubicBezTo>
                        <a:pt x="188" y="8"/>
                        <a:pt x="165" y="1"/>
                        <a:pt x="141" y="0"/>
                      </a:cubicBezTo>
                      <a:cubicBezTo>
                        <a:pt x="118" y="-1"/>
                        <a:pt x="94" y="3"/>
                        <a:pt x="73" y="13"/>
                      </a:cubicBezTo>
                      <a:cubicBezTo>
                        <a:pt x="52" y="23"/>
                        <a:pt x="34" y="37"/>
                        <a:pt x="21" y="56"/>
                      </a:cubicBezTo>
                      <a:cubicBezTo>
                        <a:pt x="8" y="74"/>
                        <a:pt x="1" y="95"/>
                        <a:pt x="0" y="116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3424320" y="5278320"/>
                  <a:ext cx="97200" cy="89280"/>
                </a:xfrm>
                <a:custGeom>
                  <a:avLst/>
                  <a:gdLst/>
                  <a:ahLst/>
                  <a:rect l="0" t="0" r="r" b="b"/>
                  <a:pathLst>
                    <a:path w="270" h="248">
                      <a:moveTo>
                        <a:pt x="0" y="117"/>
                      </a:moveTo>
                      <a:lnTo>
                        <a:pt x="0" y="117"/>
                      </a:lnTo>
                      <a:cubicBezTo>
                        <a:pt x="-1" y="139"/>
                        <a:pt x="4" y="160"/>
                        <a:pt x="15" y="180"/>
                      </a:cubicBezTo>
                      <a:cubicBezTo>
                        <a:pt x="26" y="199"/>
                        <a:pt x="42" y="216"/>
                        <a:pt x="62" y="228"/>
                      </a:cubicBezTo>
                      <a:cubicBezTo>
                        <a:pt x="82" y="240"/>
                        <a:pt x="105" y="247"/>
                        <a:pt x="129" y="248"/>
                      </a:cubicBezTo>
                      <a:cubicBezTo>
                        <a:pt x="152" y="249"/>
                        <a:pt x="176" y="245"/>
                        <a:pt x="197" y="235"/>
                      </a:cubicBezTo>
                      <a:cubicBezTo>
                        <a:pt x="218" y="225"/>
                        <a:pt x="236" y="210"/>
                        <a:pt x="249" y="192"/>
                      </a:cubicBezTo>
                      <a:cubicBezTo>
                        <a:pt x="262" y="174"/>
                        <a:pt x="269" y="153"/>
                        <a:pt x="270" y="131"/>
                      </a:cubicBezTo>
                      <a:lnTo>
                        <a:pt x="270" y="131"/>
                      </a:lnTo>
                      <a:lnTo>
                        <a:pt x="270" y="131"/>
                      </a:lnTo>
                      <a:cubicBezTo>
                        <a:pt x="271" y="109"/>
                        <a:pt x="266" y="88"/>
                        <a:pt x="255" y="68"/>
                      </a:cubicBezTo>
                      <a:cubicBezTo>
                        <a:pt x="244" y="49"/>
                        <a:pt x="228" y="32"/>
                        <a:pt x="208" y="20"/>
                      </a:cubicBezTo>
                      <a:cubicBezTo>
                        <a:pt x="188" y="8"/>
                        <a:pt x="165" y="1"/>
                        <a:pt x="141" y="0"/>
                      </a:cubicBezTo>
                      <a:cubicBezTo>
                        <a:pt x="118" y="-1"/>
                        <a:pt x="94" y="3"/>
                        <a:pt x="73" y="13"/>
                      </a:cubicBezTo>
                      <a:cubicBezTo>
                        <a:pt x="52" y="23"/>
                        <a:pt x="34" y="38"/>
                        <a:pt x="21" y="56"/>
                      </a:cubicBezTo>
                      <a:cubicBezTo>
                        <a:pt x="8" y="74"/>
                        <a:pt x="1" y="95"/>
                        <a:pt x="0" y="117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38160" bIns="38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 flipH="1">
                  <a:off x="3481560" y="5276880"/>
                  <a:ext cx="918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 flipH="1" flipV="1">
                  <a:off x="3483000" y="5373720"/>
                  <a:ext cx="9216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49680" bIns="-49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3460680" y="5281920"/>
                  <a:ext cx="111600" cy="74160"/>
                </a:xfrm>
                <a:custGeom>
                  <a:avLst/>
                  <a:gdLst/>
                  <a:ahLst/>
                  <a:rect l="0" t="0" r="r" b="b"/>
                  <a:pathLst>
                    <a:path w="310" h="206">
                      <a:moveTo>
                        <a:pt x="9" y="0"/>
                      </a:moveTo>
                      <a:lnTo>
                        <a:pt x="0" y="190"/>
                      </a:lnTo>
                      <a:lnTo>
                        <a:pt x="300" y="206"/>
                      </a:lnTo>
                      <a:lnTo>
                        <a:pt x="310" y="15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65" name=""/>
            <p:cNvGrpSpPr/>
            <p:nvPr/>
          </p:nvGrpSpPr>
          <p:grpSpPr>
            <a:xfrm>
              <a:off x="3042000" y="5081760"/>
              <a:ext cx="249120" cy="249120"/>
              <a:chOff x="3042000" y="5081760"/>
              <a:chExt cx="249120" cy="249120"/>
            </a:xfrm>
          </p:grpSpPr>
          <p:sp>
            <p:nvSpPr>
              <p:cNvPr id="766" name=""/>
              <p:cNvSpPr/>
              <p:nvPr/>
            </p:nvSpPr>
            <p:spPr>
              <a:xfrm>
                <a:off x="3042000" y="5081760"/>
                <a:ext cx="249120" cy="249120"/>
              </a:xfrm>
              <a:custGeom>
                <a:avLst/>
                <a:gdLst/>
                <a:ahLst/>
                <a:rect l="0" t="0" r="r" b="b"/>
                <a:pathLst>
                  <a:path fill="none" w="692" h="692">
                    <a:moveTo>
                      <a:pt x="122" y="570"/>
                    </a:moveTo>
                    <a:lnTo>
                      <a:pt x="122" y="570"/>
                    </a:lnTo>
                    <a:cubicBezTo>
                      <a:pt x="169" y="616"/>
                      <a:pt x="225" y="651"/>
                      <a:pt x="284" y="672"/>
                    </a:cubicBezTo>
                    <a:cubicBezTo>
                      <a:pt x="344" y="692"/>
                      <a:pt x="406" y="697"/>
                      <a:pt x="463" y="687"/>
                    </a:cubicBezTo>
                    <a:cubicBezTo>
                      <a:pt x="520" y="676"/>
                      <a:pt x="571" y="649"/>
                      <a:pt x="610" y="610"/>
                    </a:cubicBezTo>
                    <a:cubicBezTo>
                      <a:pt x="649" y="571"/>
                      <a:pt x="676" y="520"/>
                      <a:pt x="687" y="463"/>
                    </a:cubicBezTo>
                    <a:cubicBezTo>
                      <a:pt x="697" y="406"/>
                      <a:pt x="692" y="344"/>
                      <a:pt x="672" y="284"/>
                    </a:cubicBezTo>
                    <a:cubicBezTo>
                      <a:pt x="651" y="225"/>
                      <a:pt x="616" y="169"/>
                      <a:pt x="570" y="122"/>
                    </a:cubicBezTo>
                    <a:lnTo>
                      <a:pt x="570" y="122"/>
                    </a:lnTo>
                    <a:lnTo>
                      <a:pt x="570" y="122"/>
                    </a:lnTo>
                    <a:cubicBezTo>
                      <a:pt x="523" y="76"/>
                      <a:pt x="467" y="41"/>
                      <a:pt x="408" y="20"/>
                    </a:cubicBezTo>
                    <a:cubicBezTo>
                      <a:pt x="348" y="0"/>
                      <a:pt x="286" y="-5"/>
                      <a:pt x="229" y="5"/>
                    </a:cubicBezTo>
                    <a:cubicBezTo>
                      <a:pt x="172" y="16"/>
                      <a:pt x="121" y="43"/>
                      <a:pt x="82" y="82"/>
                    </a:cubicBezTo>
                    <a:cubicBezTo>
                      <a:pt x="43" y="121"/>
                      <a:pt x="16" y="172"/>
                      <a:pt x="5" y="229"/>
                    </a:cubicBezTo>
                    <a:cubicBezTo>
                      <a:pt x="-5" y="286"/>
                      <a:pt x="0" y="348"/>
                      <a:pt x="20" y="408"/>
                    </a:cubicBezTo>
                    <a:cubicBezTo>
                      <a:pt x="41" y="467"/>
                      <a:pt x="76" y="523"/>
                      <a:pt x="122" y="570"/>
                    </a:cubicBez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3055320" y="5088240"/>
                <a:ext cx="228240" cy="228240"/>
              </a:xfrm>
              <a:custGeom>
                <a:avLst/>
                <a:gdLst/>
                <a:ahLst/>
                <a:rect l="0" t="0" r="r" b="b"/>
                <a:pathLst>
                  <a:path w="634" h="634">
                    <a:moveTo>
                      <a:pt x="0" y="510"/>
                    </a:moveTo>
                    <a:lnTo>
                      <a:pt x="124" y="634"/>
                    </a:lnTo>
                    <a:lnTo>
                      <a:pt x="634" y="124"/>
                    </a:lnTo>
                    <a:lnTo>
                      <a:pt x="510" y="0"/>
                    </a:lnTo>
                    <a:lnTo>
                      <a:pt x="0" y="510"/>
                    </a:lnTo>
                    <a:close/>
                  </a:path>
                </a:pathLst>
              </a:custGeom>
              <a:solidFill>
                <a:srgbClr val="39393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3042720" y="5082840"/>
                <a:ext cx="247320" cy="247320"/>
              </a:xfrm>
              <a:custGeom>
                <a:avLst/>
                <a:gdLst/>
                <a:ahLst/>
                <a:rect l="0" t="0" r="r" b="b"/>
                <a:pathLst>
                  <a:path w="687" h="687">
                    <a:moveTo>
                      <a:pt x="0" y="115"/>
                    </a:moveTo>
                    <a:lnTo>
                      <a:pt x="572" y="687"/>
                    </a:lnTo>
                    <a:lnTo>
                      <a:pt x="687" y="572"/>
                    </a:lnTo>
                    <a:lnTo>
                      <a:pt x="115" y="0"/>
                    </a:lnTo>
                    <a:lnTo>
                      <a:pt x="0" y="115"/>
                    </a:lnTo>
                    <a:close/>
                  </a:path>
                </a:pathLst>
              </a:custGeom>
              <a:solidFill>
                <a:srgbClr val="39393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69" name=""/>
          <p:cNvSpPr/>
          <p:nvPr/>
        </p:nvSpPr>
        <p:spPr>
          <a:xfrm>
            <a:off x="4649760" y="3505320"/>
            <a:ext cx="2817720" cy="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7391520" y="3048120"/>
            <a:ext cx="156528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 flipH="1">
            <a:off x="1601640" y="4267080"/>
            <a:ext cx="1217880" cy="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 txBox="1"/>
          <p:nvPr/>
        </p:nvSpPr>
        <p:spPr>
          <a:xfrm>
            <a:off x="228600" y="3962520"/>
            <a:ext cx="1349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380880" y="266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itc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220760" y="2362320"/>
            <a:ext cx="6475320" cy="0"/>
          </a:xfrm>
          <a:prstGeom prst="line">
            <a:avLst/>
          </a:prstGeom>
          <a:ln w="1270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53360" rIns="153360" tIns="-108360" bIns="-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7240" y="3809880"/>
            <a:ext cx="75423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219320" y="3506760"/>
            <a:ext cx="0" cy="608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96080" y="3506760"/>
            <a:ext cx="0" cy="608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495680" y="3506760"/>
            <a:ext cx="0" cy="608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3506760"/>
            <a:ext cx="0" cy="608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95880" y="3506760"/>
            <a:ext cx="0" cy="608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806400" y="1432080"/>
            <a:ext cx="1139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x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t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42160" y="1355760"/>
            <a:ext cx="13190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t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46280" y="2651040"/>
            <a:ext cx="1504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689880" y="2651040"/>
            <a:ext cx="16905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4175280"/>
            <a:ext cx="160812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it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135160" y="4175280"/>
            <a:ext cx="143676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it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141800" y="4175280"/>
            <a:ext cx="8445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546880" y="4175280"/>
            <a:ext cx="1047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7020000" y="4175280"/>
            <a:ext cx="142092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it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itc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s of swit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rc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380880" y="266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rcuit Switc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rcuit switching dominant for POTS voice and data traf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 primary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rcuit establish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al trans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rcuit disconn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nel dedicated to circuit for du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ject to blo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rcuit Switc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ires same protocol end-to-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ires same link speed end-to-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ly uses inband signa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ll suited for analog sig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transpar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80880" y="266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rcuit Switc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484520" y="4282920"/>
            <a:ext cx="496800" cy="65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Arial"/>
              </a:rPr>
              <a:t>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936880" y="4282920"/>
            <a:ext cx="496800" cy="65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Arial"/>
              </a:rPr>
              <a:t>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1257480" y="1981080"/>
            <a:ext cx="6362280" cy="3805560"/>
            <a:chOff x="1257480" y="1981080"/>
            <a:chExt cx="6362280" cy="3805560"/>
          </a:xfrm>
        </p:grpSpPr>
        <p:sp>
          <p:nvSpPr>
            <p:cNvPr id="108" name=""/>
            <p:cNvSpPr/>
            <p:nvPr/>
          </p:nvSpPr>
          <p:spPr>
            <a:xfrm>
              <a:off x="3456000" y="1981080"/>
              <a:ext cx="2736720" cy="1538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913040" y="2405160"/>
              <a:ext cx="2082960" cy="1536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57480" y="3365640"/>
              <a:ext cx="1389240" cy="1230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681200" y="3941640"/>
              <a:ext cx="2120760" cy="1344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224160" y="4172040"/>
              <a:ext cx="3200400" cy="1614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307120" y="2443320"/>
              <a:ext cx="2004840" cy="1190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614920" y="3249720"/>
              <a:ext cx="2004840" cy="1192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423040" y="3519360"/>
              <a:ext cx="2004840" cy="1998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414520" y="2903400"/>
              <a:ext cx="4125960" cy="1998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1219320" y="1905120"/>
            <a:ext cx="6362280" cy="3805200"/>
            <a:chOff x="1219320" y="1905120"/>
            <a:chExt cx="6362280" cy="3805200"/>
          </a:xfrm>
        </p:grpSpPr>
        <p:sp>
          <p:nvSpPr>
            <p:cNvPr id="118" name=""/>
            <p:cNvSpPr/>
            <p:nvPr/>
          </p:nvSpPr>
          <p:spPr>
            <a:xfrm>
              <a:off x="3416400" y="1905120"/>
              <a:ext cx="2738520" cy="1536840"/>
            </a:xfrm>
            <a:prstGeom prst="ellipse">
              <a:avLst/>
            </a:prstGeom>
            <a:solidFill>
              <a:srgbClr val="cedad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874880" y="2327400"/>
              <a:ext cx="2082960" cy="1538280"/>
            </a:xfrm>
            <a:prstGeom prst="ellipse">
              <a:avLst/>
            </a:prstGeom>
            <a:solidFill>
              <a:srgbClr val="cedad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219320" y="3287880"/>
              <a:ext cx="1387440" cy="1230480"/>
            </a:xfrm>
            <a:prstGeom prst="ellipse">
              <a:avLst/>
            </a:prstGeom>
            <a:solidFill>
              <a:srgbClr val="cedad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643040" y="3865680"/>
              <a:ext cx="2120760" cy="1344600"/>
            </a:xfrm>
            <a:prstGeom prst="ellipse">
              <a:avLst/>
            </a:prstGeom>
            <a:solidFill>
              <a:srgbClr val="cedad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186000" y="4095720"/>
              <a:ext cx="3200400" cy="1614600"/>
            </a:xfrm>
            <a:prstGeom prst="ellipse">
              <a:avLst/>
            </a:prstGeom>
            <a:solidFill>
              <a:srgbClr val="cedad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267160" y="2365200"/>
              <a:ext cx="2004840" cy="1192320"/>
            </a:xfrm>
            <a:prstGeom prst="ellipse">
              <a:avLst/>
            </a:prstGeom>
            <a:solidFill>
              <a:srgbClr val="cedad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76760" y="3173400"/>
              <a:ext cx="2004840" cy="1190520"/>
            </a:xfrm>
            <a:prstGeom prst="ellipse">
              <a:avLst/>
            </a:prstGeom>
            <a:solidFill>
              <a:srgbClr val="cedad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383080" y="3441600"/>
              <a:ext cx="2004840" cy="1998720"/>
            </a:xfrm>
            <a:prstGeom prst="ellipse">
              <a:avLst/>
            </a:prstGeom>
            <a:solidFill>
              <a:srgbClr val="cedad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376360" y="2827440"/>
              <a:ext cx="4125960" cy="1998720"/>
            </a:xfrm>
            <a:prstGeom prst="ellipse">
              <a:avLst/>
            </a:prstGeom>
            <a:solidFill>
              <a:srgbClr val="cedad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2819520" y="3354480"/>
            <a:ext cx="0" cy="11412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049560" y="2592360"/>
            <a:ext cx="1674720" cy="608040"/>
          </a:xfrm>
          <a:prstGeom prst="line">
            <a:avLst/>
          </a:prstGeom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800600" y="2897280"/>
            <a:ext cx="0" cy="1065240"/>
          </a:xfrm>
          <a:prstGeom prst="line">
            <a:avLst/>
          </a:prstGeom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973240" y="3278160"/>
            <a:ext cx="1598760" cy="7603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744640" y="4192560"/>
            <a:ext cx="1903680" cy="455760"/>
          </a:xfrm>
          <a:prstGeom prst="line">
            <a:avLst/>
          </a:prstGeom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44640" y="4802040"/>
            <a:ext cx="2970360" cy="3794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726080" y="4116240"/>
            <a:ext cx="988920" cy="836640"/>
          </a:xfrm>
          <a:prstGeom prst="line">
            <a:avLst/>
          </a:prstGeom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4802040" y="3659040"/>
            <a:ext cx="1827360" cy="379440"/>
          </a:xfrm>
          <a:prstGeom prst="line">
            <a:avLst/>
          </a:prstGeom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954680" y="2744640"/>
            <a:ext cx="1674720" cy="912960"/>
          </a:xfrm>
          <a:prstGeom prst="line">
            <a:avLst/>
          </a:prstGeom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869080" y="3811680"/>
            <a:ext cx="760320" cy="11412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1220760" y="4726080"/>
            <a:ext cx="1446120" cy="608040"/>
          </a:xfrm>
          <a:prstGeom prst="line">
            <a:avLst/>
          </a:prstGeom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707160" y="3735360"/>
            <a:ext cx="1446120" cy="608040"/>
          </a:xfrm>
          <a:prstGeom prst="line">
            <a:avLst/>
          </a:prstGeom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62320" y="4343400"/>
            <a:ext cx="914400" cy="76212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267080" y="3733920"/>
            <a:ext cx="914400" cy="76212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5029200"/>
            <a:ext cx="609480" cy="60948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77320" y="4038480"/>
            <a:ext cx="609480" cy="60948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974880" y="5089680"/>
            <a:ext cx="557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8137440" y="4098960"/>
            <a:ext cx="557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498760" y="4479840"/>
            <a:ext cx="557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479840" y="3946680"/>
            <a:ext cx="557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3124080" y="3506760"/>
            <a:ext cx="0" cy="74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49360" y="2440080"/>
            <a:ext cx="1217520" cy="760320"/>
          </a:xfrm>
          <a:prstGeom prst="line">
            <a:avLst/>
          </a:prstGeom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783480" y="2820960"/>
            <a:ext cx="1446120" cy="684360"/>
          </a:xfrm>
          <a:prstGeom prst="line">
            <a:avLst/>
          </a:prstGeom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2133720"/>
            <a:ext cx="609480" cy="60948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127160" y="2193840"/>
            <a:ext cx="557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8077320" y="2514600"/>
            <a:ext cx="617400" cy="609480"/>
            <a:chOff x="8077320" y="2514600"/>
            <a:chExt cx="617400" cy="609480"/>
          </a:xfrm>
        </p:grpSpPr>
        <p:sp>
          <p:nvSpPr>
            <p:cNvPr id="153" name=""/>
            <p:cNvSpPr/>
            <p:nvPr/>
          </p:nvSpPr>
          <p:spPr>
            <a:xfrm>
              <a:off x="8077320" y="2514600"/>
              <a:ext cx="609480" cy="60948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 txBox="1"/>
            <p:nvPr/>
          </p:nvSpPr>
          <p:spPr>
            <a:xfrm>
              <a:off x="8137440" y="2575080"/>
              <a:ext cx="5572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2362320" y="2895480"/>
            <a:ext cx="914400" cy="76212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575080" y="3032280"/>
            <a:ext cx="557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172200" y="3276720"/>
            <a:ext cx="914400" cy="76212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384960" y="3413160"/>
            <a:ext cx="557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4954680" y="1906560"/>
            <a:ext cx="836640" cy="684360"/>
          </a:xfrm>
          <a:prstGeom prst="line">
            <a:avLst/>
          </a:prstGeom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343400" y="2362320"/>
            <a:ext cx="914400" cy="76212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479840" y="2498760"/>
            <a:ext cx="557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9080" y="5106960"/>
            <a:ext cx="760320" cy="988920"/>
          </a:xfrm>
          <a:prstGeom prst="line">
            <a:avLst/>
          </a:prstGeom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334120" y="4572000"/>
            <a:ext cx="914400" cy="76212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5546880" y="4708440"/>
            <a:ext cx="557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5562720" y="1600200"/>
            <a:ext cx="617400" cy="609480"/>
            <a:chOff x="5562720" y="1600200"/>
            <a:chExt cx="617400" cy="609480"/>
          </a:xfrm>
        </p:grpSpPr>
        <p:sp>
          <p:nvSpPr>
            <p:cNvPr id="166" name=""/>
            <p:cNvSpPr/>
            <p:nvPr/>
          </p:nvSpPr>
          <p:spPr>
            <a:xfrm>
              <a:off x="5562720" y="1600200"/>
              <a:ext cx="609480" cy="60948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 txBox="1"/>
            <p:nvPr/>
          </p:nvSpPr>
          <p:spPr>
            <a:xfrm>
              <a:off x="5622840" y="1660680"/>
              <a:ext cx="5572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6324480" y="5867280"/>
            <a:ext cx="617760" cy="609480"/>
            <a:chOff x="6324480" y="5867280"/>
            <a:chExt cx="617760" cy="609480"/>
          </a:xfrm>
        </p:grpSpPr>
        <p:sp>
          <p:nvSpPr>
            <p:cNvPr id="169" name=""/>
            <p:cNvSpPr/>
            <p:nvPr/>
          </p:nvSpPr>
          <p:spPr>
            <a:xfrm>
              <a:off x="6324480" y="5867280"/>
              <a:ext cx="609480" cy="60948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 txBox="1"/>
            <p:nvPr/>
          </p:nvSpPr>
          <p:spPr>
            <a:xfrm>
              <a:off x="6384960" y="5927760"/>
              <a:ext cx="5572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80880" y="266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et Switc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035000" y="1676520"/>
            <a:ext cx="7728120" cy="41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et Swit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s line ef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data rate con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vents blocking by queue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riorit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l 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rtual circ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380880" y="266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et Switc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et rou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rnal virtual circuit, internal virtual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rnal virtual circuit, internal dat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rnal datagram, internal dat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rnal datagram, internal virtual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380880" y="266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et Switc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84520" y="4282920"/>
            <a:ext cx="496800" cy="65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Arial"/>
              </a:rPr>
              <a:t>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936880" y="4282920"/>
            <a:ext cx="496800" cy="65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Arial"/>
              </a:rPr>
              <a:t>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6413400" cy="38941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2819520" y="3354480"/>
            <a:ext cx="0" cy="11412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049560" y="2592360"/>
            <a:ext cx="1674720" cy="6080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800600" y="2897280"/>
            <a:ext cx="0" cy="10652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973240" y="3278160"/>
            <a:ext cx="1598760" cy="7603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2744640" y="4192560"/>
            <a:ext cx="1903680" cy="4557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744640" y="4802040"/>
            <a:ext cx="2970360" cy="3794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726080" y="4116240"/>
            <a:ext cx="988920" cy="8366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4802040" y="3659040"/>
            <a:ext cx="1827360" cy="3794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954680" y="2744640"/>
            <a:ext cx="1674720" cy="9129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5869080" y="3811680"/>
            <a:ext cx="760320" cy="11412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1220760" y="4726080"/>
            <a:ext cx="1446120" cy="60804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707160" y="3735360"/>
            <a:ext cx="1446120" cy="60804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362320" y="4343400"/>
            <a:ext cx="914400" cy="76212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343400" y="2362320"/>
            <a:ext cx="914400" cy="76212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67080" y="3733920"/>
            <a:ext cx="914400" cy="76212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334120" y="4572000"/>
            <a:ext cx="914400" cy="76212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914400" y="5029200"/>
            <a:ext cx="609480" cy="60948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077320" y="4038480"/>
            <a:ext cx="609480" cy="60948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974880" y="5089680"/>
            <a:ext cx="557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8137440" y="4098960"/>
            <a:ext cx="557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479840" y="2498760"/>
            <a:ext cx="557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498760" y="4479840"/>
            <a:ext cx="557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479840" y="3946680"/>
            <a:ext cx="557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546880" y="4708440"/>
            <a:ext cx="557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3124080" y="3506760"/>
            <a:ext cx="0" cy="74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449360" y="2440080"/>
            <a:ext cx="1217520" cy="76032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6783480" y="2820960"/>
            <a:ext cx="1446120" cy="6843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066680" y="2133720"/>
            <a:ext cx="609480" cy="60948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077320" y="2514600"/>
            <a:ext cx="609480" cy="60948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127160" y="2193840"/>
            <a:ext cx="557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8137440" y="2575080"/>
            <a:ext cx="557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362320" y="2895480"/>
            <a:ext cx="914400" cy="76212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575080" y="3032280"/>
            <a:ext cx="557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72200" y="3276720"/>
            <a:ext cx="914400" cy="76212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384960" y="3413160"/>
            <a:ext cx="557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9360" y="4573440"/>
            <a:ext cx="836640" cy="379440"/>
          </a:xfrm>
          <a:prstGeom prst="line">
            <a:avLst/>
          </a:prstGeom>
          <a:ln w="25560">
            <a:solidFill>
              <a:srgbClr val="ff33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7164360" y="2668680"/>
            <a:ext cx="836640" cy="379440"/>
          </a:xfrm>
          <a:prstGeom prst="line">
            <a:avLst/>
          </a:prstGeom>
          <a:ln w="255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963960" y="4802040"/>
            <a:ext cx="1065240" cy="150840"/>
          </a:xfrm>
          <a:prstGeom prst="line">
            <a:avLst/>
          </a:prstGeom>
          <a:ln w="255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6021360" y="3887640"/>
            <a:ext cx="303120" cy="455760"/>
          </a:xfrm>
          <a:prstGeom prst="line">
            <a:avLst/>
          </a:prstGeom>
          <a:ln w="255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5013360" y="6004080"/>
            <a:ext cx="2927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virtual 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1677960" y="5106960"/>
            <a:ext cx="531720" cy="227160"/>
          </a:xfrm>
          <a:prstGeom prst="line">
            <a:avLst/>
          </a:prstGeom>
          <a:ln w="25560">
            <a:solidFill>
              <a:srgbClr val="0000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430440" y="5030640"/>
            <a:ext cx="1065240" cy="150840"/>
          </a:xfrm>
          <a:prstGeom prst="line">
            <a:avLst/>
          </a:prstGeom>
          <a:ln w="255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7088040" y="3201840"/>
            <a:ext cx="836640" cy="379440"/>
          </a:xfrm>
          <a:prstGeom prst="line">
            <a:avLst/>
          </a:prstGeom>
          <a:ln w="255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6249960" y="4268880"/>
            <a:ext cx="303120" cy="455400"/>
          </a:xfrm>
          <a:prstGeom prst="line">
            <a:avLst/>
          </a:prstGeom>
          <a:ln w="255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CR ASSOCIATE</dc:creator>
  <dc:description/>
  <dc:language>en-US</dc:language>
  <cp:lastModifiedBy>Dick Young</cp:lastModifiedBy>
  <cp:revision>0</cp:revision>
  <dc:subject/>
  <dc:title>IST 246  Integrated Digital Networks</dc:title>
</cp:coreProperties>
</file>