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680" y="1371600"/>
            <a:ext cx="8021880" cy="0"/>
          </a:xfrm>
          <a:prstGeom prst="line">
            <a:avLst/>
          </a:prstGeom>
          <a:ln w="38160">
            <a:solidFill>
              <a:srgbClr val="8686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680" y="3429000"/>
            <a:ext cx="8021880" cy="0"/>
          </a:xfrm>
          <a:prstGeom prst="line">
            <a:avLst/>
          </a:prstGeom>
          <a:ln w="38160">
            <a:solidFill>
              <a:srgbClr val="8686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08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nchronous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ical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troduction to SO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238880" y="3741840"/>
            <a:ext cx="11494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SON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core term for North American version of Synchronous Digital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 interface and transmission method that prov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peed with low error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er-optic multiplexed transmi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standard for interfacing PTTs, IXCs and LE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 of SO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-band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s transmiss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s transmission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s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ET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ET transfer mode defines aspects of digital transmission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ous Transfer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6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 sw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 Transfer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6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ed fram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6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data, management, maintenance, and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ONE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ous Transport Signal level 1 (STS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al Carrier Signal (OC-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e 51.84 Mbps STS-1 bit stream becomes 51.84 Mbps OC-1 bit stream when converted from “electrical” to “fiber optic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0 byte per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00 frames per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3 electrical signal = OC-1 optical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ET Multiplex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35000" y="1676520"/>
            <a:ext cx="8109000" cy="45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multiplexing into STS-N pay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ET sp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 to OC-3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3 to OC-1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 or synchronou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 signals down to DS1 can be directly accessed without demultiple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le clock sourc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um 1 prefe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um 3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ET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24040" y="1967040"/>
            <a:ext cx="3533760" cy="79056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24040" y="2728800"/>
            <a:ext cx="3533760" cy="790560"/>
          </a:xfrm>
          <a:prstGeom prst="rect">
            <a:avLst/>
          </a:prstGeom>
          <a:solidFill>
            <a:srgbClr val="868686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24040" y="3490920"/>
            <a:ext cx="3533760" cy="1171440"/>
          </a:xfrm>
          <a:prstGeom prst="rect">
            <a:avLst/>
          </a:prstGeom>
          <a:solidFill>
            <a:srgbClr val="5f5f5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24040" y="4786200"/>
            <a:ext cx="3533760" cy="7905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800600" y="2057400"/>
            <a:ext cx="2122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er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800600" y="2819520"/>
            <a:ext cx="2397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s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Physical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0440" y="4724280"/>
            <a:ext cx="51022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800600" y="4800600"/>
            <a:ext cx="2135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oton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800600" y="3581280"/>
            <a:ext cx="25588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Multipl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 Sw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98920" y="3505320"/>
            <a:ext cx="31971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98920" y="2743200"/>
            <a:ext cx="31971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2286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 Descri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35000" y="1676520"/>
            <a:ext cx="8109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hysical Lay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defines physical fiber type, path and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50 nm dispersion-shifted fi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10 nm convention glass fi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electrical interfaces that become STS-1 frame virtual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Lay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builds SONET fram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SONET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 Descri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ne Lay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rovides communication channel between line-terminating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multiplex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 swi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th Lay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rovides management of data transfer across SONET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Dick Young</cp:lastModifiedBy>
  <cp:revision>0</cp:revision>
  <dc:subject/>
  <dc:title>Synchronous Optical NETwork</dc:title>
</cp:coreProperties>
</file>