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431-AFDD-41ED-AB10-B61D8BAC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829-B685-449B-81AE-30C45D43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81E-B4D3-4DCA-9BF3-C2BA5A79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AA2-5B2C-4501-B0E1-91309B1D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84E2-5174-4953-9AFF-470C021E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8F5B-BFB0-4230-9C36-1DBB0BE0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5137-E2F4-4D34-9EF9-8CC5093C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A67B-B5D0-49E8-80D1-152A29F4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FC35-BCD4-43AE-9E1A-26138DA4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4077-9F41-4AEB-9A79-11EF007F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68F7-9447-4656-A38B-9A307EDC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DF8-9C4D-4583-9105-5F41B7A1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A564-431E-48BD-BAED-4B872E0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6C42-AB73-400C-B7DE-F94988E8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2F06-1C38-4578-9E9C-6734A798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EBA1-C9C5-4E93-A7A5-19D6F222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29BB-A23B-4726-AA07-B4691FF7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15E-35CF-49AD-B0C0-8167B1D9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1DD-3F7E-4AE6-BD2F-B7CC9E89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ACB-F1DC-4FE7-ACB8-02E6C3D6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205-5C07-4F2E-B0F6-E694D70F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993-BA62-4B24-80B9-CBFBFF9F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5DF-BB8C-47F8-B743-083E54CD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B66-D726-4E1C-BCBB-AFD8F972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EF44-F5A4-43FD-B06A-46363CD6B6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8AC8-08BC-4E4C-893D-87956E0090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lity of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icy Rou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s definition of traffic flow policies so that don’t have to rely completely on routing protocols to determine traffic forwar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s setting of IP Precedence bits to create different classes of ser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ies are based 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P addr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 Numb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te maps determine where packets are forwar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routing is applied to the receive interface not the send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vea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created on the router is not sent through the policy rou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al attention is required to avoid using the “process-switching” path in Cisco IOS based rout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SVP-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ource Re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ion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endpoints to signal to the network the QoS needed by a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nistrators do not need to be concerned with IP port numbers because RSVP signals this information during 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n out-of-band, end-to-end signaling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s amount of bandwidth needed and latency permitted with each node that supports the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kips nodes that do not suppor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 has option to approve or deny the reservation request based on “load” on interface where service is reques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s receive notification on whether their request was approved or den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SVP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ot a routing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modify routing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rotocols to choose the most optimal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v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3 drawb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lability – not deployed in large networks, used only at edge of backbon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ssion control – works only on total size of IP packet, doesn’t consider compression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up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P RTP Reser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sm for weighting traffic based on packet flow UDP port r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s like “static” RSV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used don’t need IP Precedence or RSV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ies packets based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PD port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s specification of bandwidth to be prioritized on port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“reserved” traffic is not present allows bandwidth to be used by other traffic fl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ve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most scalable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orts only a range of 100 UDP por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 not allow admission control – any packet flows within specified IP RTP Reserve range are weigh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P RTP Prio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figured with WFQ a strict priority queue is cre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ce traffic identified by port numbers can be classified on strict priority que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s voice precedence over all othe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for VoIP networks with links of &lt; 768 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ffic Polic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ting the amount of traffic an application can send across a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– Committed Access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e limiting t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maximum traffic rate on send/receive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granular control at Layer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s IP network to have TDM qualit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ops traffic based on poli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when traffic exceeds thresho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used in service provider networks to ensure that the subscriber does not exceed bandwidth limits set by contr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ffic Polic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(Continu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s of rate limiting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 parame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buffer traffic to smooth out traffic bur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required to setup C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et dir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erage bit rate – based on long term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rst size – maximum increase before traffic is considered to exceed rate lim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ss burst size – traffic in excess of rate lim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ffic Polic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TS – Generic Traffic Shaping (on interface bas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TS – Frame Relay Traffic Shaping (on DLCI bas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ffic shaping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buffer excess traffic waiting for an opportunity to 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control of traffic out an interface to match remote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usage of available band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 traffic polic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ulate traffic to avoid conges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vents packet lo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s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s priority to real time traff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out traffic patter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ffic Shaping and Queu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es traffic by storing traffic that is above the configured rate in 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queu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ffic shaper processes the arriving 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s packet if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ves on queue if not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queue contains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ffic shaper stores arriving packet on end of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s packet at head of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gmentation &amp; Blo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ing up large packets into smaller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serialization time on slow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ccomplished at either Layer 2 or Layer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 is amount of time non-real time traffic consumes WAN bandwidth forcing real time traffic to be que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le of thumb: blocking delay = 80% voice packet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ct formula: WAN BW * Blocking Delay = Fragment size (bi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O – First In First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ingle queue for all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sent when bandwidth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FQ – Weighted 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multiple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bandwidth equally among all traffic f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volume flows given pre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volume flows share remaining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flow ends bandwidth is re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FQ (Continu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jitter and enables efficient sharing among all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ghting is affected by 6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Prece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bandwidth allocated as precedence value incre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 Relay: FECN and BEC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V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RTP Prio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RTP Reser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FQ Cave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ministrator must ensure that weights are properly 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intended for interfaces with clock rates &gt; 2.048 Mb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Q - Custom Queu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have up to 16 queues + 1 queue for system mess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 specify % of bandwidth to each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queue served sequentially in round robin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% of traffic on queue is sent before moving to next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ber of bytes sent depends on interface speed + configured traffic 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Q Cave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required of port and traffic typ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administrative over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s a highly granular approach to queu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Q – Priority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4 traffic prior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, normal, medium and 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riority queue is always serviced 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is next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understand traffic flows to avoid starving a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best when High priority traffic is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Q Cav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perly configured can starve applictions by servicing 1 queue and ignoring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-WFQ – Class Based Weighted 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FQ + administrator defined class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ccess lists to define the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es determine how packets are grouped on que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specify amount of bandwidth to allocate to each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orts 64 classes with bandwidth control for each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class is associated with a separate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 allocation does not mean that traffic in a class will experience 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Q – Low Latency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PQ with CB-WF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olute priority to voice traffic over all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ccess lists to queue voice traffic to a strict P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fact that voice traffic is well beha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s packets at regular interv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en to provide voice traffic with the necessary priority, jitter and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cket Class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achieve proper weighting for WF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Prece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ting of the 3 bits in ToS field of IP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Table 9-2, p 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s router to group traffic flo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an inband Qo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cket Class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Precedence Cav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built-in mechanism to reject incorrect IP Precedence sett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nistrator must manage settings to insure that applications do not change IP Precedence settings from the planne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Policy Routing to reset IP Precedenc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isco IOS to create route-map which will reset the precedence bits to “routine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5:24:54Z</dcterms:created>
  <dc:creator>Richard W Young</dc:creator>
  <dc:description/>
  <dc:language>en-US</dc:language>
  <cp:lastModifiedBy>Richard W Young</cp:lastModifiedBy>
  <dcterms:modified xsi:type="dcterms:W3CDTF">2004-10-21T18:49:48Z</dcterms:modified>
  <cp:revision>7</cp:revision>
  <dc:subject/>
  <dc:title>Slide 1</dc:title>
</cp:coreProperties>
</file>