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1160"/>
            <a:ext cx="3014640" cy="450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19680" y="11160"/>
            <a:ext cx="3014640" cy="450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694800"/>
            <a:ext cx="46008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376880"/>
            <a:ext cx="512784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41880"/>
            <a:ext cx="3014640" cy="451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19680" y="8741880"/>
            <a:ext cx="3014640" cy="451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D51EAC14-EF15-44AF-B10F-3A7EAB6FD5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160720" y="345960"/>
            <a:ext cx="2557440" cy="19177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23400" y="2607840"/>
            <a:ext cx="5086440" cy="590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nagement solutions today are vendor-specific.  The network management platforms like HP OpenView, IBM NetView/AIX and SunNet Manager help to monitor the entire network (IP based primarily with little help for IPX and SNA environm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iferation of tools continues and tends to be device/vendor-speci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good tools for cutting across vendors to take entire network into ac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o is working on forging key partnerships in industry around the IOS which is the most pervasive Internetwork Operating System.  We believe this will enable end-to-end network management solutions as vendors cooperate to jointly deploy this fundamental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2160720" y="345960"/>
            <a:ext cx="2557440" cy="19177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23400" y="2607840"/>
            <a:ext cx="5086440" cy="590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nagement solutions today are vendor-specific.  The network management platforms like HP OpenView, IBM NetView/AIX and SunNet Manager help to monitor the entire network (IP based primarily with little help for IPX and SNA environm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iferation of tools continues and tends to be device/vendor-speci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good tools for cutting across vendors to take entire network into ac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o is working on forging key partnerships in industry around the IOS which is the most pervasive Internetwork Operating System.  We believe this will enable end-to-end network management solutions as vendors cooperate to jointly deploy this fundamental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3B2-6029-4194-A489-D5014E30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863-DADD-4C74-A862-AE5D8BC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B1A-911F-439E-BBF9-B9729FF3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A42-9E1B-4194-BC9C-6340E0D4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EB3-1AD4-4889-9144-A88C5654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98E-BAB9-45F6-92E0-7772455D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13E-FB15-41ED-B620-4CE509C4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27C-B228-4C5E-843E-3D5A7816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D99-BFE4-4041-A36A-1CCFA7D8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39C-68FA-4A14-AB9F-66241A14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C7C-28DC-4ED4-9311-46813614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B77-62A8-4D2C-9E03-7A52B6E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673-5590-444B-81C2-B5F3D71B6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6800" y="533520"/>
          <a:ext cx="209232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533520"/>
                    <a:ext cx="209232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 network 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ul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PBX network 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ul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up and remove user work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e and correct us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 security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ver network and system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the print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all, configure, and delete network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tain documentation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ion and nam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BM Network Managem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view and Netview/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Network Management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ion and nam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d nod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management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agen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Information Bas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Managem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13000" y="2222640"/>
            <a:ext cx="2718000" cy="1650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46520" y="2222640"/>
            <a:ext cx="1650960" cy="35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65640" y="2832120"/>
            <a:ext cx="2412720" cy="888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92960" y="2185920"/>
            <a:ext cx="159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45960" y="2795760"/>
            <a:ext cx="1468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08240" y="4813200"/>
            <a:ext cx="1955520" cy="15750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41400" y="4813200"/>
            <a:ext cx="9651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65240" y="47768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5440" y="5423040"/>
            <a:ext cx="1117440" cy="660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64880" y="553896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80240" y="4813200"/>
            <a:ext cx="1955520" cy="15750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13400" y="4813200"/>
            <a:ext cx="9651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37240" y="47768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37440" y="5423040"/>
            <a:ext cx="1117440" cy="660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36880" y="553896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94240" y="4813200"/>
            <a:ext cx="1955520" cy="15750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27400" y="4813200"/>
            <a:ext cx="9651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51240" y="47768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51440" y="5423040"/>
            <a:ext cx="1117440" cy="660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50880" y="553896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01880" y="4343400"/>
            <a:ext cx="7304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38973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09680" y="43545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43545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43545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30640" y="6453360"/>
            <a:ext cx="180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40320" y="6453360"/>
            <a:ext cx="180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26320" y="6453360"/>
            <a:ext cx="180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77160" y="2620800"/>
            <a:ext cx="1616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444760" y="3892320"/>
            <a:ext cx="1284120" cy="90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267080" y="3892320"/>
            <a:ext cx="0" cy="90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21240" y="3897360"/>
            <a:ext cx="1284480" cy="90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03720" y="393876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55600" y="431964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50880" y="439596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agement station pro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et of application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and faul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rfa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itor and control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pability to translate requirement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itoring and controlling remot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formation databas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B data from manage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629400" y="2502000"/>
          <a:ext cx="236520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502000"/>
                    <a:ext cx="2365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agement agent pro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s to queries from the management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ynchronous responses with unsolici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ices supporting management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rs, bridges, switches, “hub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s,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agement informati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variables representing the manag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ion of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by objec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specif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of 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153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cremental implementation of hardware and software components among existing network elements to provide proactive fault identification, notification, and managem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twork managemen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key management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, Set, 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User Datagram Protocol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less and “unreli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s: GetRequest, GetNextRequest, Set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exchange is separat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data transfer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sion 2 standard adopted in 19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s decentralize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les large data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manager-to-manager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-to-manager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level technical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technical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and 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intrus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us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di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og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time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ware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, Monitoring, and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and digital line mon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simulators and emu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onfigur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load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generation and log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tic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Systems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25320" y="2286000"/>
            <a:ext cx="4392720" cy="1817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129200" y="4267080"/>
            <a:ext cx="4484520" cy="19558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117880" y="4175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80040" y="62326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Associates Uni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cent Technologies One Vi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sco Systems Cisco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 Systems Fo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etr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 Networks Op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54760" cy="32558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4572000" y="4800600"/>
            <a:ext cx="4232160" cy="1852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3272040" cy="1903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-150120" y="533520"/>
            <a:ext cx="933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Networking and Telecommunication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s Network Management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is considered a corporate asset and resource that controls the busines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management controls the entire network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491000" y="1374840"/>
            <a:ext cx="2441520" cy="2614680"/>
            <a:chOff x="4491000" y="1374840"/>
            <a:chExt cx="2441520" cy="2614680"/>
          </a:xfrm>
        </p:grpSpPr>
        <p:sp>
          <p:nvSpPr>
            <p:cNvPr id="58" name=""/>
            <p:cNvSpPr/>
            <p:nvPr/>
          </p:nvSpPr>
          <p:spPr>
            <a:xfrm>
              <a:off x="6056280" y="1728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0320" y="1968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15280" y="2336760"/>
              <a:ext cx="19332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464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91200" y="3565440"/>
              <a:ext cx="21600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27600" y="3540240"/>
              <a:ext cx="244440" cy="15084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3" y="57"/>
                  </a:lnTo>
                  <a:lnTo>
                    <a:pt x="51" y="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8316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100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3240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8804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0320" y="1787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32480" y="2085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15280" y="2211480"/>
              <a:ext cx="33624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43720" y="2521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4880" y="2693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06800" y="3483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2760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32480" y="3186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8316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216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100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2400" y="2281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7236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208584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0" y="43"/>
                  </a:moveTo>
                  <a:lnTo>
                    <a:pt x="25" y="115"/>
                  </a:lnTo>
                  <a:lnTo>
                    <a:pt x="129" y="79"/>
                  </a:lnTo>
                  <a:lnTo>
                    <a:pt x="103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67640" y="2567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880" y="3645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0480" y="3483000"/>
              <a:ext cx="30672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56040" y="3186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34000" y="281952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3" y="0"/>
                  </a:lnTo>
                  <a:lnTo>
                    <a:pt x="103" y="22"/>
                  </a:lnTo>
                  <a:lnTo>
                    <a:pt x="110" y="36"/>
                  </a:lnTo>
                  <a:lnTo>
                    <a:pt x="110" y="43"/>
                  </a:lnTo>
                  <a:lnTo>
                    <a:pt x="116" y="57"/>
                  </a:lnTo>
                  <a:lnTo>
                    <a:pt x="116" y="72"/>
                  </a:lnTo>
                  <a:lnTo>
                    <a:pt x="123" y="86"/>
                  </a:lnTo>
                  <a:lnTo>
                    <a:pt x="123" y="100"/>
                  </a:lnTo>
                  <a:lnTo>
                    <a:pt x="129" y="108"/>
                  </a:lnTo>
                  <a:lnTo>
                    <a:pt x="25" y="14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1492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2155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2592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9592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856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4000" y="1843200"/>
              <a:ext cx="309600" cy="279360"/>
            </a:xfrm>
            <a:custGeom>
              <a:avLst/>
              <a:gdLst/>
              <a:ahLst/>
              <a:rect l="l" t="t" r="r" b="b"/>
              <a:pathLst>
                <a:path w="195" h="176">
                  <a:moveTo>
                    <a:pt x="90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4" y="138"/>
                  </a:lnTo>
                  <a:lnTo>
                    <a:pt x="90" y="17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8160" y="3919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4000" y="1741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00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16440" y="1741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10120" y="1787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3400" y="3621240"/>
              <a:ext cx="30456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060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23080" y="3621240"/>
              <a:ext cx="298440" cy="28728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84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7" y="136"/>
                  </a:lnTo>
                  <a:lnTo>
                    <a:pt x="84" y="1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0600" y="1465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5628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0320" y="1465200"/>
              <a:ext cx="298440" cy="289080"/>
            </a:xfrm>
            <a:custGeom>
              <a:avLst/>
              <a:gdLst/>
              <a:ahLst/>
              <a:rect l="l" t="t" r="r" b="b"/>
              <a:pathLst>
                <a:path w="188" h="182">
                  <a:moveTo>
                    <a:pt x="0" y="43"/>
                  </a:moveTo>
                  <a:lnTo>
                    <a:pt x="84" y="181"/>
                  </a:lnTo>
                  <a:lnTo>
                    <a:pt x="187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8840" y="3529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388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08840" y="3427560"/>
              <a:ext cx="28404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6580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9440" y="3427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664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23120" y="3483000"/>
              <a:ext cx="244440" cy="163440"/>
            </a:xfrm>
            <a:custGeom>
              <a:avLst/>
              <a:gdLst/>
              <a:ahLst/>
              <a:rect l="l" t="t" r="r" b="b"/>
              <a:pathLst>
                <a:path w="154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3" y="0"/>
                  </a:lnTo>
                  <a:lnTo>
                    <a:pt x="5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5768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2360" y="3267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892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7236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032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0400" y="3116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7376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76920" y="3060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96160" y="1442880"/>
              <a:ext cx="26640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4640" y="2909880"/>
              <a:ext cx="35712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0" y="43"/>
                  </a:moveTo>
                  <a:lnTo>
                    <a:pt x="121" y="130"/>
                  </a:lnTo>
                  <a:lnTo>
                    <a:pt x="224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628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1000" y="1430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19320" y="1374840"/>
            <a:ext cx="2441520" cy="2614680"/>
            <a:chOff x="2119320" y="1374840"/>
            <a:chExt cx="2441520" cy="2614680"/>
          </a:xfrm>
        </p:grpSpPr>
        <p:sp>
          <p:nvSpPr>
            <p:cNvPr id="125" name=""/>
            <p:cNvSpPr/>
            <p:nvPr/>
          </p:nvSpPr>
          <p:spPr>
            <a:xfrm>
              <a:off x="3684600" y="1728720"/>
              <a:ext cx="297000" cy="16344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4" y="79"/>
                  </a:lnTo>
                  <a:lnTo>
                    <a:pt x="83" y="102"/>
                  </a:lnTo>
                  <a:lnTo>
                    <a:pt x="186" y="58"/>
                  </a:lnTo>
                  <a:lnTo>
                    <a:pt x="167" y="43"/>
                  </a:lnTo>
                  <a:lnTo>
                    <a:pt x="134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70440" y="1968480"/>
              <a:ext cx="253800" cy="220680"/>
            </a:xfrm>
            <a:custGeom>
              <a:avLst/>
              <a:gdLst/>
              <a:ahLst/>
              <a:rect l="l" t="t" r="r" b="b"/>
              <a:pathLst>
                <a:path w="160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6" y="138"/>
                  </a:lnTo>
                  <a:lnTo>
                    <a:pt x="159" y="101"/>
                  </a:lnTo>
                  <a:lnTo>
                    <a:pt x="146" y="80"/>
                  </a:lnTo>
                  <a:lnTo>
                    <a:pt x="140" y="65"/>
                  </a:lnTo>
                  <a:lnTo>
                    <a:pt x="133" y="57"/>
                  </a:lnTo>
                  <a:lnTo>
                    <a:pt x="120" y="43"/>
                  </a:lnTo>
                  <a:lnTo>
                    <a:pt x="114" y="36"/>
                  </a:lnTo>
                  <a:lnTo>
                    <a:pt x="107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43240" y="2336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296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3565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5920" y="3540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148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1932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216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636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70440" y="178740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70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3" y="0"/>
                  </a:lnTo>
                  <a:lnTo>
                    <a:pt x="7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2240" y="2085840"/>
              <a:ext cx="37656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0" y="64"/>
                  </a:moveTo>
                  <a:lnTo>
                    <a:pt x="133" y="42"/>
                  </a:lnTo>
                  <a:lnTo>
                    <a:pt x="236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3240" y="2211480"/>
              <a:ext cx="33660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3480" y="2521080"/>
              <a:ext cx="387360" cy="104760"/>
            </a:xfrm>
            <a:custGeom>
              <a:avLst/>
              <a:gdLst/>
              <a:ahLst/>
              <a:rect l="l" t="t" r="r" b="b"/>
              <a:pathLst>
                <a:path w="244" h="66">
                  <a:moveTo>
                    <a:pt x="0" y="36"/>
                  </a:moveTo>
                  <a:lnTo>
                    <a:pt x="140" y="65"/>
                  </a:lnTo>
                  <a:lnTo>
                    <a:pt x="243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84640" y="2693880"/>
              <a:ext cx="37620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133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6" y="0"/>
                  </a:lnTo>
                  <a:lnTo>
                    <a:pt x="133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5120" y="348300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22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5" y="0"/>
                  </a:lnTo>
                  <a:lnTo>
                    <a:pt x="122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592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2240" y="3186000"/>
              <a:ext cx="39852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0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0" y="0"/>
                  </a:lnTo>
                  <a:lnTo>
                    <a:pt x="14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148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1932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2160" y="2281320"/>
              <a:ext cx="365040" cy="207720"/>
            </a:xfrm>
            <a:custGeom>
              <a:avLst/>
              <a:gdLst/>
              <a:ahLst/>
              <a:rect l="l" t="t" r="r" b="b"/>
              <a:pathLst>
                <a:path w="230" h="131">
                  <a:moveTo>
                    <a:pt x="126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29" y="86"/>
                  </a:lnTo>
                  <a:lnTo>
                    <a:pt x="126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068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5000" y="2085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97400" y="2567160"/>
              <a:ext cx="163440" cy="19656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36"/>
                  </a:moveTo>
                  <a:lnTo>
                    <a:pt x="0" y="123"/>
                  </a:lnTo>
                  <a:lnTo>
                    <a:pt x="102" y="79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2200" y="3645000"/>
              <a:ext cx="287280" cy="2887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77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80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8800" y="3483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6160" y="3186000"/>
              <a:ext cx="264960" cy="209520"/>
            </a:xfrm>
            <a:custGeom>
              <a:avLst/>
              <a:gdLst/>
              <a:ahLst/>
              <a:rect l="l" t="t" r="r" b="b"/>
              <a:pathLst>
                <a:path w="167" h="132">
                  <a:moveTo>
                    <a:pt x="63" y="131"/>
                  </a:moveTo>
                  <a:lnTo>
                    <a:pt x="57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4" y="22"/>
                  </a:lnTo>
                  <a:lnTo>
                    <a:pt x="121" y="28"/>
                  </a:lnTo>
                  <a:lnTo>
                    <a:pt x="127" y="43"/>
                  </a:lnTo>
                  <a:lnTo>
                    <a:pt x="134" y="51"/>
                  </a:lnTo>
                  <a:lnTo>
                    <a:pt x="140" y="65"/>
                  </a:lnTo>
                  <a:lnTo>
                    <a:pt x="153" y="73"/>
                  </a:lnTo>
                  <a:lnTo>
                    <a:pt x="160" y="87"/>
                  </a:lnTo>
                  <a:lnTo>
                    <a:pt x="166" y="87"/>
                  </a:lnTo>
                  <a:lnTo>
                    <a:pt x="63" y="13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3760" y="2819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4324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0320" y="2155680"/>
              <a:ext cx="388800" cy="114480"/>
            </a:xfrm>
            <a:custGeom>
              <a:avLst/>
              <a:gdLst/>
              <a:ahLst/>
              <a:rect l="l" t="t" r="r" b="b"/>
              <a:pathLst>
                <a:path w="245" h="72">
                  <a:moveTo>
                    <a:pt x="0" y="42"/>
                  </a:moveTo>
                  <a:lnTo>
                    <a:pt x="141" y="71"/>
                  </a:lnTo>
                  <a:lnTo>
                    <a:pt x="244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424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424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688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3760" y="1843200"/>
              <a:ext cx="30816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6480" y="3919680"/>
              <a:ext cx="288720" cy="69840"/>
            </a:xfrm>
            <a:custGeom>
              <a:avLst/>
              <a:gdLst/>
              <a:ahLst/>
              <a:rect l="l" t="t" r="r" b="b"/>
              <a:pathLst>
                <a:path w="182" h="44">
                  <a:moveTo>
                    <a:pt x="77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1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3760" y="1741320"/>
              <a:ext cx="246240" cy="160560"/>
            </a:xfrm>
            <a:custGeom>
              <a:avLst/>
              <a:gdLst/>
              <a:ahLst/>
              <a:rect l="l" t="t" r="r" b="b"/>
              <a:pathLst>
                <a:path w="155" h="101">
                  <a:moveTo>
                    <a:pt x="0" y="100"/>
                  </a:moveTo>
                  <a:lnTo>
                    <a:pt x="51" y="43"/>
                  </a:lnTo>
                  <a:lnTo>
                    <a:pt x="154" y="0"/>
                  </a:lnTo>
                  <a:lnTo>
                    <a:pt x="102" y="64"/>
                  </a:lnTo>
                  <a:lnTo>
                    <a:pt x="0" y="10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7032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44760" y="1741320"/>
              <a:ext cx="357120" cy="21924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0" y="43"/>
                  </a:moveTo>
                  <a:lnTo>
                    <a:pt x="121" y="137"/>
                  </a:lnTo>
                  <a:lnTo>
                    <a:pt x="224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38440" y="1787400"/>
              <a:ext cx="287280" cy="173160"/>
            </a:xfrm>
            <a:custGeom>
              <a:avLst/>
              <a:gdLst/>
              <a:ahLst/>
              <a:rect l="l" t="t" r="r" b="b"/>
              <a:pathLst>
                <a:path w="181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7" y="36"/>
                  </a:lnTo>
                  <a:lnTo>
                    <a:pt x="180" y="0"/>
                  </a:lnTo>
                  <a:lnTo>
                    <a:pt x="161" y="14"/>
                  </a:lnTo>
                  <a:lnTo>
                    <a:pt x="154" y="22"/>
                  </a:lnTo>
                  <a:lnTo>
                    <a:pt x="141" y="28"/>
                  </a:lnTo>
                  <a:lnTo>
                    <a:pt x="135" y="36"/>
                  </a:lnTo>
                  <a:lnTo>
                    <a:pt x="122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1360" y="3621240"/>
              <a:ext cx="30492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0036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2840" y="362124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0360" y="1465200"/>
              <a:ext cx="264960" cy="128520"/>
            </a:xfrm>
            <a:custGeom>
              <a:avLst/>
              <a:gdLst/>
              <a:ahLst/>
              <a:rect l="l" t="t" r="r" b="b"/>
              <a:pathLst>
                <a:path w="167" h="81">
                  <a:moveTo>
                    <a:pt x="0" y="80"/>
                  </a:moveTo>
                  <a:lnTo>
                    <a:pt x="63" y="43"/>
                  </a:lnTo>
                  <a:lnTo>
                    <a:pt x="166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460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00440" y="1465200"/>
              <a:ext cx="29664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6800" y="3529080"/>
              <a:ext cx="21456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220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6800" y="3427560"/>
              <a:ext cx="28440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412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9200" y="3427560"/>
              <a:ext cx="355680" cy="21888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120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3" y="93"/>
                  </a:lnTo>
                  <a:lnTo>
                    <a:pt x="120" y="137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4496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1440" y="3483000"/>
              <a:ext cx="24588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600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00680" y="326700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35"/>
                  </a:moveTo>
                  <a:lnTo>
                    <a:pt x="83" y="180"/>
                  </a:lnTo>
                  <a:lnTo>
                    <a:pt x="186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9724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068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4008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0520" y="3116160"/>
              <a:ext cx="39816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7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0" y="35"/>
                  </a:lnTo>
                  <a:lnTo>
                    <a:pt x="147" y="79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208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7040" y="3060720"/>
              <a:ext cx="20448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24120" y="1442880"/>
              <a:ext cx="26676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52960" y="2909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8460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9320" y="1430280"/>
              <a:ext cx="2279520" cy="2559240"/>
            </a:xfrm>
            <a:custGeom>
              <a:avLst/>
              <a:gdLst/>
              <a:ahLst/>
              <a:rect l="l" t="t" r="r" b="b"/>
              <a:pathLst>
                <a:path w="1436" h="1612">
                  <a:moveTo>
                    <a:pt x="327" y="332"/>
                  </a:moveTo>
                  <a:lnTo>
                    <a:pt x="327" y="325"/>
                  </a:lnTo>
                  <a:lnTo>
                    <a:pt x="340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4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6" y="166"/>
                  </a:lnTo>
                  <a:lnTo>
                    <a:pt x="609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3" y="0"/>
                  </a:lnTo>
                  <a:lnTo>
                    <a:pt x="743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4" y="158"/>
                  </a:lnTo>
                  <a:lnTo>
                    <a:pt x="807" y="158"/>
                  </a:lnTo>
                  <a:lnTo>
                    <a:pt x="839" y="173"/>
                  </a:lnTo>
                  <a:lnTo>
                    <a:pt x="871" y="181"/>
                  </a:lnTo>
                  <a:lnTo>
                    <a:pt x="948" y="43"/>
                  </a:lnTo>
                  <a:lnTo>
                    <a:pt x="1012" y="79"/>
                  </a:lnTo>
                  <a:lnTo>
                    <a:pt x="986" y="224"/>
                  </a:lnTo>
                  <a:lnTo>
                    <a:pt x="993" y="231"/>
                  </a:lnTo>
                  <a:lnTo>
                    <a:pt x="999" y="231"/>
                  </a:lnTo>
                  <a:lnTo>
                    <a:pt x="1006" y="238"/>
                  </a:lnTo>
                  <a:lnTo>
                    <a:pt x="1019" y="253"/>
                  </a:lnTo>
                  <a:lnTo>
                    <a:pt x="1050" y="267"/>
                  </a:lnTo>
                  <a:lnTo>
                    <a:pt x="1070" y="288"/>
                  </a:lnTo>
                  <a:lnTo>
                    <a:pt x="1185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8" y="412"/>
                  </a:lnTo>
                  <a:lnTo>
                    <a:pt x="1185" y="426"/>
                  </a:lnTo>
                  <a:lnTo>
                    <a:pt x="1198" y="441"/>
                  </a:lnTo>
                  <a:lnTo>
                    <a:pt x="1204" y="447"/>
                  </a:lnTo>
                  <a:lnTo>
                    <a:pt x="1211" y="462"/>
                  </a:lnTo>
                  <a:lnTo>
                    <a:pt x="1224" y="476"/>
                  </a:lnTo>
                  <a:lnTo>
                    <a:pt x="1358" y="455"/>
                  </a:lnTo>
                  <a:lnTo>
                    <a:pt x="1383" y="527"/>
                  </a:lnTo>
                  <a:lnTo>
                    <a:pt x="1275" y="606"/>
                  </a:lnTo>
                  <a:lnTo>
                    <a:pt x="1275" y="614"/>
                  </a:lnTo>
                  <a:lnTo>
                    <a:pt x="1275" y="628"/>
                  </a:lnTo>
                  <a:lnTo>
                    <a:pt x="1281" y="643"/>
                  </a:lnTo>
                  <a:lnTo>
                    <a:pt x="1288" y="657"/>
                  </a:lnTo>
                  <a:lnTo>
                    <a:pt x="1288" y="664"/>
                  </a:lnTo>
                  <a:lnTo>
                    <a:pt x="1288" y="678"/>
                  </a:lnTo>
                  <a:lnTo>
                    <a:pt x="1288" y="701"/>
                  </a:lnTo>
                  <a:lnTo>
                    <a:pt x="1294" y="722"/>
                  </a:lnTo>
                  <a:lnTo>
                    <a:pt x="1435" y="751"/>
                  </a:lnTo>
                  <a:lnTo>
                    <a:pt x="1435" y="837"/>
                  </a:lnTo>
                  <a:lnTo>
                    <a:pt x="1300" y="859"/>
                  </a:lnTo>
                  <a:lnTo>
                    <a:pt x="1294" y="866"/>
                  </a:lnTo>
                  <a:lnTo>
                    <a:pt x="1294" y="881"/>
                  </a:lnTo>
                  <a:lnTo>
                    <a:pt x="1294" y="895"/>
                  </a:lnTo>
                  <a:lnTo>
                    <a:pt x="1294" y="909"/>
                  </a:lnTo>
                  <a:lnTo>
                    <a:pt x="1288" y="924"/>
                  </a:lnTo>
                  <a:lnTo>
                    <a:pt x="1288" y="932"/>
                  </a:lnTo>
                  <a:lnTo>
                    <a:pt x="1281" y="953"/>
                  </a:lnTo>
                  <a:lnTo>
                    <a:pt x="1281" y="975"/>
                  </a:lnTo>
                  <a:lnTo>
                    <a:pt x="1403" y="1062"/>
                  </a:lnTo>
                  <a:lnTo>
                    <a:pt x="1377" y="1141"/>
                  </a:lnTo>
                  <a:lnTo>
                    <a:pt x="1230" y="1097"/>
                  </a:lnTo>
                  <a:lnTo>
                    <a:pt x="1230" y="1105"/>
                  </a:lnTo>
                  <a:lnTo>
                    <a:pt x="1224" y="1119"/>
                  </a:lnTo>
                  <a:lnTo>
                    <a:pt x="1217" y="1134"/>
                  </a:lnTo>
                  <a:lnTo>
                    <a:pt x="1211" y="1141"/>
                  </a:lnTo>
                  <a:lnTo>
                    <a:pt x="1204" y="1155"/>
                  </a:lnTo>
                  <a:lnTo>
                    <a:pt x="1198" y="1163"/>
                  </a:lnTo>
                  <a:lnTo>
                    <a:pt x="1191" y="1177"/>
                  </a:lnTo>
                  <a:lnTo>
                    <a:pt x="1185" y="1192"/>
                  </a:lnTo>
                  <a:lnTo>
                    <a:pt x="1268" y="1336"/>
                  </a:lnTo>
                  <a:lnTo>
                    <a:pt x="1217" y="1394"/>
                  </a:lnTo>
                  <a:lnTo>
                    <a:pt x="1095" y="1299"/>
                  </a:lnTo>
                  <a:lnTo>
                    <a:pt x="1083" y="1307"/>
                  </a:lnTo>
                  <a:lnTo>
                    <a:pt x="1076" y="1322"/>
                  </a:lnTo>
                  <a:lnTo>
                    <a:pt x="1063" y="1328"/>
                  </a:lnTo>
                  <a:lnTo>
                    <a:pt x="1057" y="1336"/>
                  </a:lnTo>
                  <a:lnTo>
                    <a:pt x="1044" y="1343"/>
                  </a:lnTo>
                  <a:lnTo>
                    <a:pt x="1037" y="1351"/>
                  </a:lnTo>
                  <a:lnTo>
                    <a:pt x="1019" y="1357"/>
                  </a:lnTo>
                  <a:lnTo>
                    <a:pt x="1050" y="1524"/>
                  </a:lnTo>
                  <a:lnTo>
                    <a:pt x="986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8" y="1429"/>
                  </a:lnTo>
                  <a:lnTo>
                    <a:pt x="865" y="1429"/>
                  </a:lnTo>
                  <a:lnTo>
                    <a:pt x="852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4" y="1444"/>
                  </a:lnTo>
                  <a:lnTo>
                    <a:pt x="788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9" y="1452"/>
                  </a:lnTo>
                  <a:lnTo>
                    <a:pt x="666" y="1452"/>
                  </a:lnTo>
                  <a:lnTo>
                    <a:pt x="653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9" y="1437"/>
                  </a:lnTo>
                  <a:lnTo>
                    <a:pt x="589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8" y="1386"/>
                  </a:lnTo>
                  <a:lnTo>
                    <a:pt x="468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4" y="1343"/>
                  </a:lnTo>
                  <a:lnTo>
                    <a:pt x="384" y="1328"/>
                  </a:lnTo>
                  <a:lnTo>
                    <a:pt x="263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9" y="1206"/>
                  </a:lnTo>
                  <a:lnTo>
                    <a:pt x="263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9" y="527"/>
                  </a:lnTo>
                  <a:lnTo>
                    <a:pt x="205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5" y="238"/>
                  </a:lnTo>
                  <a:lnTo>
                    <a:pt x="327" y="33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826160" y="2043000"/>
            <a:ext cx="16351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ag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7000" y="2070000"/>
            <a:ext cx="18540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40080" y="3660840"/>
            <a:ext cx="2441520" cy="2614680"/>
            <a:chOff x="3340080" y="3660840"/>
            <a:chExt cx="2441520" cy="2614680"/>
          </a:xfrm>
        </p:grpSpPr>
        <p:sp>
          <p:nvSpPr>
            <p:cNvPr id="194" name=""/>
            <p:cNvSpPr/>
            <p:nvPr/>
          </p:nvSpPr>
          <p:spPr>
            <a:xfrm>
              <a:off x="4905360" y="4014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9400" y="4254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4000" y="4622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72280" y="5022720"/>
              <a:ext cx="196560" cy="24444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3" y="109"/>
                  </a:lnTo>
                  <a:lnTo>
                    <a:pt x="103" y="87"/>
                  </a:lnTo>
                  <a:lnTo>
                    <a:pt x="110" y="72"/>
                  </a:lnTo>
                  <a:lnTo>
                    <a:pt x="110" y="58"/>
                  </a:lnTo>
                  <a:lnTo>
                    <a:pt x="116" y="51"/>
                  </a:lnTo>
                  <a:lnTo>
                    <a:pt x="116" y="36"/>
                  </a:lnTo>
                  <a:lnTo>
                    <a:pt x="116" y="14"/>
                  </a:lnTo>
                  <a:lnTo>
                    <a:pt x="116" y="7"/>
                  </a:lnTo>
                  <a:lnTo>
                    <a:pt x="123" y="0"/>
                  </a:lnTo>
                  <a:lnTo>
                    <a:pt x="19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0280" y="5851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5240" y="5826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32240" y="5415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40080" y="4932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81480" y="4441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37120" y="3981600"/>
              <a:ext cx="345960" cy="196560"/>
            </a:xfrm>
            <a:custGeom>
              <a:avLst/>
              <a:gdLst/>
              <a:ahLst/>
              <a:rect l="l" t="t" r="r" b="b"/>
              <a:pathLst>
                <a:path w="218" h="124">
                  <a:moveTo>
                    <a:pt x="0" y="123"/>
                  </a:moveTo>
                  <a:lnTo>
                    <a:pt x="114" y="36"/>
                  </a:lnTo>
                  <a:lnTo>
                    <a:pt x="217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9400" y="4073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81560" y="4371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4000" y="4497480"/>
              <a:ext cx="335160" cy="18576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107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0" y="0"/>
                  </a:lnTo>
                  <a:lnTo>
                    <a:pt x="107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92800" y="4807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03960" y="4979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40280" y="6100920"/>
              <a:ext cx="276120" cy="118800"/>
            </a:xfrm>
            <a:custGeom>
              <a:avLst/>
              <a:gdLst/>
              <a:ahLst/>
              <a:rect l="l" t="t" r="r" b="b"/>
              <a:pathLst>
                <a:path w="174" h="75">
                  <a:moveTo>
                    <a:pt x="70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3" y="37"/>
                  </a:lnTo>
                  <a:lnTo>
                    <a:pt x="70" y="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55880" y="5769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75240" y="5608800"/>
              <a:ext cx="29664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174"/>
                  </a:moveTo>
                  <a:lnTo>
                    <a:pt x="83" y="43"/>
                  </a:lnTo>
                  <a:lnTo>
                    <a:pt x="186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81560" y="5472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32240" y="5275440"/>
              <a:ext cx="355680" cy="198360"/>
            </a:xfrm>
            <a:custGeom>
              <a:avLst/>
              <a:gdLst/>
              <a:ahLst/>
              <a:rect l="l" t="t" r="r" b="b"/>
              <a:pathLst>
                <a:path w="224" h="125">
                  <a:moveTo>
                    <a:pt x="0" y="124"/>
                  </a:moveTo>
                  <a:lnTo>
                    <a:pt x="120" y="36"/>
                  </a:lnTo>
                  <a:lnTo>
                    <a:pt x="223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49800" y="5059440"/>
              <a:ext cx="398160" cy="102960"/>
            </a:xfrm>
            <a:custGeom>
              <a:avLst/>
              <a:gdLst/>
              <a:ahLst/>
              <a:rect l="l" t="t" r="r" b="b"/>
              <a:pathLst>
                <a:path w="251" h="65">
                  <a:moveTo>
                    <a:pt x="147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50" y="28"/>
                  </a:lnTo>
                  <a:lnTo>
                    <a:pt x="147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0080" y="4875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81480" y="4567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1440" y="3981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94320" y="4371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16720" y="4853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2960" y="5931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9560" y="5769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05120" y="5472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3080" y="5105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2200" y="4702320"/>
              <a:ext cx="185760" cy="245880"/>
            </a:xfrm>
            <a:custGeom>
              <a:avLst/>
              <a:gdLst/>
              <a:ahLst/>
              <a:rect l="l" t="t" r="r" b="b"/>
              <a:pathLst>
                <a:path w="117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110" y="36"/>
                  </a:lnTo>
                  <a:lnTo>
                    <a:pt x="110" y="51"/>
                  </a:lnTo>
                  <a:lnTo>
                    <a:pt x="110" y="59"/>
                  </a:lnTo>
                  <a:lnTo>
                    <a:pt x="110" y="73"/>
                  </a:lnTo>
                  <a:lnTo>
                    <a:pt x="110" y="94"/>
                  </a:lnTo>
                  <a:lnTo>
                    <a:pt x="110" y="102"/>
                  </a:lnTo>
                  <a:lnTo>
                    <a:pt x="103" y="110"/>
                  </a:lnTo>
                  <a:lnTo>
                    <a:pt x="0" y="15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1080" y="4441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75000" y="5931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5000" y="434808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4" y="0"/>
                  </a:lnTo>
                  <a:lnTo>
                    <a:pt x="141" y="14"/>
                  </a:lnTo>
                  <a:lnTo>
                    <a:pt x="134" y="28"/>
                  </a:lnTo>
                  <a:lnTo>
                    <a:pt x="128" y="36"/>
                  </a:lnTo>
                  <a:lnTo>
                    <a:pt x="128" y="51"/>
                  </a:lnTo>
                  <a:lnTo>
                    <a:pt x="121" y="57"/>
                  </a:lnTo>
                  <a:lnTo>
                    <a:pt x="115" y="72"/>
                  </a:lnTo>
                  <a:lnTo>
                    <a:pt x="108" y="86"/>
                  </a:lnTo>
                  <a:lnTo>
                    <a:pt x="102" y="94"/>
                  </a:lnTo>
                  <a:lnTo>
                    <a:pt x="0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5840" y="5952960"/>
              <a:ext cx="20664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3080" y="4129200"/>
              <a:ext cx="30780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67240" y="6205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3080" y="4027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91080" y="5952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5520" y="4027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59200" y="4073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30680" y="5907240"/>
              <a:ext cx="306360" cy="104760"/>
            </a:xfrm>
            <a:custGeom>
              <a:avLst/>
              <a:gdLst/>
              <a:ahLst/>
              <a:rect l="l" t="t" r="r" b="b"/>
              <a:pathLst>
                <a:path w="193" h="66">
                  <a:moveTo>
                    <a:pt x="90" y="43"/>
                  </a:moveTo>
                  <a:lnTo>
                    <a:pt x="77" y="43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4" y="21"/>
                  </a:lnTo>
                  <a:lnTo>
                    <a:pt x="140" y="14"/>
                  </a:lnTo>
                  <a:lnTo>
                    <a:pt x="153" y="14"/>
                  </a:lnTo>
                  <a:lnTo>
                    <a:pt x="166" y="6"/>
                  </a:lnTo>
                  <a:lnTo>
                    <a:pt x="179" y="6"/>
                  </a:lnTo>
                  <a:lnTo>
                    <a:pt x="192" y="0"/>
                  </a:lnTo>
                  <a:lnTo>
                    <a:pt x="9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19680" y="3809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2160" y="590724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19680" y="3751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05360" y="6080040"/>
              <a:ext cx="264960" cy="11448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63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6" y="0"/>
                  </a:lnTo>
                  <a:lnTo>
                    <a:pt x="63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19400" y="3751200"/>
              <a:ext cx="29700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6120" y="5815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2960" y="3946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6120" y="5713560"/>
              <a:ext cx="285840" cy="161640"/>
            </a:xfrm>
            <a:custGeom>
              <a:avLst/>
              <a:gdLst/>
              <a:ahLst/>
              <a:rect l="l" t="t" r="r" b="b"/>
              <a:pathLst>
                <a:path w="180" h="102">
                  <a:moveTo>
                    <a:pt x="77" y="43"/>
                  </a:moveTo>
                  <a:lnTo>
                    <a:pt x="64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1" y="51"/>
                  </a:lnTo>
                  <a:lnTo>
                    <a:pt x="127" y="43"/>
                  </a:lnTo>
                  <a:lnTo>
                    <a:pt x="140" y="36"/>
                  </a:lnTo>
                  <a:lnTo>
                    <a:pt x="147" y="28"/>
                  </a:lnTo>
                  <a:lnTo>
                    <a:pt x="160" y="22"/>
                  </a:lnTo>
                  <a:lnTo>
                    <a:pt x="166" y="14"/>
                  </a:lnTo>
                  <a:lnTo>
                    <a:pt x="179" y="7"/>
                  </a:lnTo>
                  <a:lnTo>
                    <a:pt x="179" y="0"/>
                  </a:lnTo>
                  <a:lnTo>
                    <a:pt x="77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13080" y="3911760"/>
              <a:ext cx="31608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8520" y="5713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65720" y="3660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0400" y="5769000"/>
              <a:ext cx="24624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06760" y="3660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21440" y="5553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18000" y="3660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21440" y="5402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59400" y="3900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89480" y="5402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2840" y="3728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26000" y="5346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3440" y="372888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36"/>
                  </a:moveTo>
                  <a:lnTo>
                    <a:pt x="64" y="72"/>
                  </a:lnTo>
                  <a:lnTo>
                    <a:pt x="168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2280" y="5195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05360" y="3774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3716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060720" y="4332240"/>
            <a:ext cx="289728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Co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1000" y="1374840"/>
            <a:ext cx="2441520" cy="2614680"/>
            <a:chOff x="4491000" y="1374840"/>
            <a:chExt cx="2441520" cy="2614680"/>
          </a:xfrm>
        </p:grpSpPr>
        <p:sp>
          <p:nvSpPr>
            <p:cNvPr id="263" name=""/>
            <p:cNvSpPr/>
            <p:nvPr/>
          </p:nvSpPr>
          <p:spPr>
            <a:xfrm>
              <a:off x="6056280" y="1728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40320" y="1968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5280" y="2336760"/>
              <a:ext cx="19332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2464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91200" y="3565440"/>
              <a:ext cx="21600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7600" y="3540240"/>
              <a:ext cx="244440" cy="15084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3" y="57"/>
                  </a:lnTo>
                  <a:lnTo>
                    <a:pt x="51" y="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8316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100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240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8804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40320" y="1787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32480" y="2085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5280" y="2211480"/>
              <a:ext cx="33624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43720" y="2521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4880" y="2693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120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06800" y="3483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2760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32480" y="3186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8316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216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100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2400" y="2281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236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45240" y="208584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0" y="43"/>
                  </a:moveTo>
                  <a:lnTo>
                    <a:pt x="25" y="115"/>
                  </a:lnTo>
                  <a:lnTo>
                    <a:pt x="129" y="79"/>
                  </a:lnTo>
                  <a:lnTo>
                    <a:pt x="103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67640" y="2567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3880" y="3645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00480" y="3483000"/>
              <a:ext cx="30672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6040" y="3186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34000" y="281952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3" y="0"/>
                  </a:lnTo>
                  <a:lnTo>
                    <a:pt x="103" y="22"/>
                  </a:lnTo>
                  <a:lnTo>
                    <a:pt x="110" y="36"/>
                  </a:lnTo>
                  <a:lnTo>
                    <a:pt x="110" y="43"/>
                  </a:lnTo>
                  <a:lnTo>
                    <a:pt x="116" y="57"/>
                  </a:lnTo>
                  <a:lnTo>
                    <a:pt x="116" y="72"/>
                  </a:lnTo>
                  <a:lnTo>
                    <a:pt x="123" y="86"/>
                  </a:lnTo>
                  <a:lnTo>
                    <a:pt x="123" y="100"/>
                  </a:lnTo>
                  <a:lnTo>
                    <a:pt x="129" y="108"/>
                  </a:lnTo>
                  <a:lnTo>
                    <a:pt x="25" y="14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1492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0" y="2155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2592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592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7856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34000" y="1843200"/>
              <a:ext cx="309600" cy="279360"/>
            </a:xfrm>
            <a:custGeom>
              <a:avLst/>
              <a:gdLst/>
              <a:ahLst/>
              <a:rect l="l" t="t" r="r" b="b"/>
              <a:pathLst>
                <a:path w="195" h="176">
                  <a:moveTo>
                    <a:pt x="90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4" y="138"/>
                  </a:lnTo>
                  <a:lnTo>
                    <a:pt x="90" y="17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18160" y="3919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34000" y="1741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4200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6440" y="1741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10120" y="1787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3400" y="3621240"/>
              <a:ext cx="30456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7060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23080" y="3621240"/>
              <a:ext cx="298440" cy="28728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84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7" y="136"/>
                  </a:lnTo>
                  <a:lnTo>
                    <a:pt x="84" y="1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0600" y="1465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628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70320" y="1465200"/>
              <a:ext cx="298440" cy="289080"/>
            </a:xfrm>
            <a:custGeom>
              <a:avLst/>
              <a:gdLst/>
              <a:ahLst/>
              <a:rect l="l" t="t" r="r" b="b"/>
              <a:pathLst>
                <a:path w="188" h="182">
                  <a:moveTo>
                    <a:pt x="0" y="43"/>
                  </a:moveTo>
                  <a:lnTo>
                    <a:pt x="84" y="181"/>
                  </a:lnTo>
                  <a:lnTo>
                    <a:pt x="187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08840" y="3529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0388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8840" y="3427560"/>
              <a:ext cx="28404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6580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29440" y="3427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1664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23120" y="3483000"/>
              <a:ext cx="244440" cy="163440"/>
            </a:xfrm>
            <a:custGeom>
              <a:avLst/>
              <a:gdLst/>
              <a:ahLst/>
              <a:rect l="l" t="t" r="r" b="b"/>
              <a:pathLst>
                <a:path w="154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3" y="0"/>
                  </a:lnTo>
                  <a:lnTo>
                    <a:pt x="5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768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360" y="3267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6892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36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1032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40400" y="3116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7376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6920" y="3060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96160" y="1442880"/>
              <a:ext cx="26640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24640" y="2909880"/>
              <a:ext cx="35712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0" y="43"/>
                  </a:moveTo>
                  <a:lnTo>
                    <a:pt x="121" y="130"/>
                  </a:lnTo>
                  <a:lnTo>
                    <a:pt x="224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5628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91000" y="1430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119320" y="1374840"/>
            <a:ext cx="2441520" cy="2614680"/>
            <a:chOff x="2119320" y="1374840"/>
            <a:chExt cx="2441520" cy="2614680"/>
          </a:xfrm>
        </p:grpSpPr>
        <p:sp>
          <p:nvSpPr>
            <p:cNvPr id="330" name=""/>
            <p:cNvSpPr/>
            <p:nvPr/>
          </p:nvSpPr>
          <p:spPr>
            <a:xfrm>
              <a:off x="3684600" y="1728720"/>
              <a:ext cx="297000" cy="16344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4" y="79"/>
                  </a:lnTo>
                  <a:lnTo>
                    <a:pt x="83" y="102"/>
                  </a:lnTo>
                  <a:lnTo>
                    <a:pt x="186" y="58"/>
                  </a:lnTo>
                  <a:lnTo>
                    <a:pt x="167" y="43"/>
                  </a:lnTo>
                  <a:lnTo>
                    <a:pt x="134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0440" y="1968480"/>
              <a:ext cx="253800" cy="220680"/>
            </a:xfrm>
            <a:custGeom>
              <a:avLst/>
              <a:gdLst/>
              <a:ahLst/>
              <a:rect l="l" t="t" r="r" b="b"/>
              <a:pathLst>
                <a:path w="160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6" y="138"/>
                  </a:lnTo>
                  <a:lnTo>
                    <a:pt x="159" y="101"/>
                  </a:lnTo>
                  <a:lnTo>
                    <a:pt x="146" y="80"/>
                  </a:lnTo>
                  <a:lnTo>
                    <a:pt x="140" y="65"/>
                  </a:lnTo>
                  <a:lnTo>
                    <a:pt x="133" y="57"/>
                  </a:lnTo>
                  <a:lnTo>
                    <a:pt x="120" y="43"/>
                  </a:lnTo>
                  <a:lnTo>
                    <a:pt x="114" y="36"/>
                  </a:lnTo>
                  <a:lnTo>
                    <a:pt x="107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43240" y="2336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5296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9520" y="3565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55920" y="3540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1148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1932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216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1636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70440" y="178740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70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3" y="0"/>
                  </a:lnTo>
                  <a:lnTo>
                    <a:pt x="7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62240" y="2085840"/>
              <a:ext cx="37656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0" y="64"/>
                  </a:moveTo>
                  <a:lnTo>
                    <a:pt x="133" y="42"/>
                  </a:lnTo>
                  <a:lnTo>
                    <a:pt x="236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43240" y="2211480"/>
              <a:ext cx="33660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3480" y="2521080"/>
              <a:ext cx="387360" cy="104760"/>
            </a:xfrm>
            <a:custGeom>
              <a:avLst/>
              <a:gdLst/>
              <a:ahLst/>
              <a:rect l="l" t="t" r="r" b="b"/>
              <a:pathLst>
                <a:path w="244" h="66">
                  <a:moveTo>
                    <a:pt x="0" y="36"/>
                  </a:moveTo>
                  <a:lnTo>
                    <a:pt x="140" y="65"/>
                  </a:lnTo>
                  <a:lnTo>
                    <a:pt x="243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84640" y="2693880"/>
              <a:ext cx="37620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133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6" y="0"/>
                  </a:lnTo>
                  <a:lnTo>
                    <a:pt x="133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1952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35120" y="348300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22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5" y="0"/>
                  </a:lnTo>
                  <a:lnTo>
                    <a:pt x="122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5592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62240" y="3186000"/>
              <a:ext cx="39852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0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0" y="0"/>
                  </a:lnTo>
                  <a:lnTo>
                    <a:pt x="14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148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048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1932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2160" y="2281320"/>
              <a:ext cx="365040" cy="207720"/>
            </a:xfrm>
            <a:custGeom>
              <a:avLst/>
              <a:gdLst/>
              <a:ahLst/>
              <a:rect l="l" t="t" r="r" b="b"/>
              <a:pathLst>
                <a:path w="230" h="131">
                  <a:moveTo>
                    <a:pt x="126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29" y="86"/>
                  </a:lnTo>
                  <a:lnTo>
                    <a:pt x="126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0068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75000" y="2085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97400" y="2567160"/>
              <a:ext cx="163440" cy="19656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36"/>
                  </a:moveTo>
                  <a:lnTo>
                    <a:pt x="0" y="123"/>
                  </a:lnTo>
                  <a:lnTo>
                    <a:pt x="102" y="79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32200" y="3645000"/>
              <a:ext cx="287280" cy="2887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77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80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28800" y="3483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6160" y="3186000"/>
              <a:ext cx="264960" cy="209520"/>
            </a:xfrm>
            <a:custGeom>
              <a:avLst/>
              <a:gdLst/>
              <a:ahLst/>
              <a:rect l="l" t="t" r="r" b="b"/>
              <a:pathLst>
                <a:path w="167" h="132">
                  <a:moveTo>
                    <a:pt x="63" y="131"/>
                  </a:moveTo>
                  <a:lnTo>
                    <a:pt x="57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4" y="22"/>
                  </a:lnTo>
                  <a:lnTo>
                    <a:pt x="121" y="28"/>
                  </a:lnTo>
                  <a:lnTo>
                    <a:pt x="127" y="43"/>
                  </a:lnTo>
                  <a:lnTo>
                    <a:pt x="134" y="51"/>
                  </a:lnTo>
                  <a:lnTo>
                    <a:pt x="140" y="65"/>
                  </a:lnTo>
                  <a:lnTo>
                    <a:pt x="153" y="73"/>
                  </a:lnTo>
                  <a:lnTo>
                    <a:pt x="160" y="87"/>
                  </a:lnTo>
                  <a:lnTo>
                    <a:pt x="166" y="87"/>
                  </a:lnTo>
                  <a:lnTo>
                    <a:pt x="63" y="13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3760" y="2819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4324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00320" y="2155680"/>
              <a:ext cx="388800" cy="114480"/>
            </a:xfrm>
            <a:custGeom>
              <a:avLst/>
              <a:gdLst/>
              <a:ahLst/>
              <a:rect l="l" t="t" r="r" b="b"/>
              <a:pathLst>
                <a:path w="245" h="72">
                  <a:moveTo>
                    <a:pt x="0" y="42"/>
                  </a:moveTo>
                  <a:lnTo>
                    <a:pt x="141" y="71"/>
                  </a:lnTo>
                  <a:lnTo>
                    <a:pt x="244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5424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2424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688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63760" y="1843200"/>
              <a:ext cx="30816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46480" y="3919680"/>
              <a:ext cx="288720" cy="69840"/>
            </a:xfrm>
            <a:custGeom>
              <a:avLst/>
              <a:gdLst/>
              <a:ahLst/>
              <a:rect l="l" t="t" r="r" b="b"/>
              <a:pathLst>
                <a:path w="182" h="44">
                  <a:moveTo>
                    <a:pt x="77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1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3760" y="1741320"/>
              <a:ext cx="246240" cy="160560"/>
            </a:xfrm>
            <a:custGeom>
              <a:avLst/>
              <a:gdLst/>
              <a:ahLst/>
              <a:rect l="l" t="t" r="r" b="b"/>
              <a:pathLst>
                <a:path w="155" h="101">
                  <a:moveTo>
                    <a:pt x="0" y="100"/>
                  </a:moveTo>
                  <a:lnTo>
                    <a:pt x="51" y="43"/>
                  </a:lnTo>
                  <a:lnTo>
                    <a:pt x="154" y="0"/>
                  </a:lnTo>
                  <a:lnTo>
                    <a:pt x="102" y="64"/>
                  </a:lnTo>
                  <a:lnTo>
                    <a:pt x="0" y="10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7032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44760" y="1741320"/>
              <a:ext cx="357120" cy="21924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0" y="43"/>
                  </a:moveTo>
                  <a:lnTo>
                    <a:pt x="121" y="137"/>
                  </a:lnTo>
                  <a:lnTo>
                    <a:pt x="224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38440" y="1787400"/>
              <a:ext cx="287280" cy="173160"/>
            </a:xfrm>
            <a:custGeom>
              <a:avLst/>
              <a:gdLst/>
              <a:ahLst/>
              <a:rect l="l" t="t" r="r" b="b"/>
              <a:pathLst>
                <a:path w="181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7" y="36"/>
                  </a:lnTo>
                  <a:lnTo>
                    <a:pt x="180" y="0"/>
                  </a:lnTo>
                  <a:lnTo>
                    <a:pt x="161" y="14"/>
                  </a:lnTo>
                  <a:lnTo>
                    <a:pt x="154" y="22"/>
                  </a:lnTo>
                  <a:lnTo>
                    <a:pt x="141" y="28"/>
                  </a:lnTo>
                  <a:lnTo>
                    <a:pt x="135" y="36"/>
                  </a:lnTo>
                  <a:lnTo>
                    <a:pt x="122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11360" y="3621240"/>
              <a:ext cx="30492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0036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52840" y="362124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00360" y="1465200"/>
              <a:ext cx="264960" cy="128520"/>
            </a:xfrm>
            <a:custGeom>
              <a:avLst/>
              <a:gdLst/>
              <a:ahLst/>
              <a:rect l="l" t="t" r="r" b="b"/>
              <a:pathLst>
                <a:path w="167" h="81">
                  <a:moveTo>
                    <a:pt x="0" y="80"/>
                  </a:moveTo>
                  <a:lnTo>
                    <a:pt x="63" y="43"/>
                  </a:lnTo>
                  <a:lnTo>
                    <a:pt x="166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8460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00440" y="1465200"/>
              <a:ext cx="29664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36800" y="3529080"/>
              <a:ext cx="21456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3220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36800" y="3427560"/>
              <a:ext cx="28440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9412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59200" y="3427560"/>
              <a:ext cx="355680" cy="21888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120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3" y="93"/>
                  </a:lnTo>
                  <a:lnTo>
                    <a:pt x="120" y="137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496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51440" y="3483000"/>
              <a:ext cx="24588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8600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00680" y="326700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35"/>
                  </a:moveTo>
                  <a:lnTo>
                    <a:pt x="83" y="180"/>
                  </a:lnTo>
                  <a:lnTo>
                    <a:pt x="186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724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068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4008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70520" y="3116160"/>
              <a:ext cx="39816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7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0" y="35"/>
                  </a:lnTo>
                  <a:lnTo>
                    <a:pt x="147" y="79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208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7040" y="3060720"/>
              <a:ext cx="20448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24120" y="1442880"/>
              <a:ext cx="26676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52960" y="2909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8460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9320" y="1430280"/>
              <a:ext cx="2279520" cy="2559240"/>
            </a:xfrm>
            <a:custGeom>
              <a:avLst/>
              <a:gdLst/>
              <a:ahLst/>
              <a:rect l="l" t="t" r="r" b="b"/>
              <a:pathLst>
                <a:path w="1436" h="1612">
                  <a:moveTo>
                    <a:pt x="327" y="332"/>
                  </a:moveTo>
                  <a:lnTo>
                    <a:pt x="327" y="325"/>
                  </a:lnTo>
                  <a:lnTo>
                    <a:pt x="340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4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6" y="166"/>
                  </a:lnTo>
                  <a:lnTo>
                    <a:pt x="609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3" y="0"/>
                  </a:lnTo>
                  <a:lnTo>
                    <a:pt x="743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4" y="158"/>
                  </a:lnTo>
                  <a:lnTo>
                    <a:pt x="807" y="158"/>
                  </a:lnTo>
                  <a:lnTo>
                    <a:pt x="839" y="173"/>
                  </a:lnTo>
                  <a:lnTo>
                    <a:pt x="871" y="181"/>
                  </a:lnTo>
                  <a:lnTo>
                    <a:pt x="948" y="43"/>
                  </a:lnTo>
                  <a:lnTo>
                    <a:pt x="1012" y="79"/>
                  </a:lnTo>
                  <a:lnTo>
                    <a:pt x="986" y="224"/>
                  </a:lnTo>
                  <a:lnTo>
                    <a:pt x="993" y="231"/>
                  </a:lnTo>
                  <a:lnTo>
                    <a:pt x="999" y="231"/>
                  </a:lnTo>
                  <a:lnTo>
                    <a:pt x="1006" y="238"/>
                  </a:lnTo>
                  <a:lnTo>
                    <a:pt x="1019" y="253"/>
                  </a:lnTo>
                  <a:lnTo>
                    <a:pt x="1050" y="267"/>
                  </a:lnTo>
                  <a:lnTo>
                    <a:pt x="1070" y="288"/>
                  </a:lnTo>
                  <a:lnTo>
                    <a:pt x="1185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8" y="412"/>
                  </a:lnTo>
                  <a:lnTo>
                    <a:pt x="1185" y="426"/>
                  </a:lnTo>
                  <a:lnTo>
                    <a:pt x="1198" y="441"/>
                  </a:lnTo>
                  <a:lnTo>
                    <a:pt x="1204" y="447"/>
                  </a:lnTo>
                  <a:lnTo>
                    <a:pt x="1211" y="462"/>
                  </a:lnTo>
                  <a:lnTo>
                    <a:pt x="1224" y="476"/>
                  </a:lnTo>
                  <a:lnTo>
                    <a:pt x="1358" y="455"/>
                  </a:lnTo>
                  <a:lnTo>
                    <a:pt x="1383" y="527"/>
                  </a:lnTo>
                  <a:lnTo>
                    <a:pt x="1275" y="606"/>
                  </a:lnTo>
                  <a:lnTo>
                    <a:pt x="1275" y="614"/>
                  </a:lnTo>
                  <a:lnTo>
                    <a:pt x="1275" y="628"/>
                  </a:lnTo>
                  <a:lnTo>
                    <a:pt x="1281" y="643"/>
                  </a:lnTo>
                  <a:lnTo>
                    <a:pt x="1288" y="657"/>
                  </a:lnTo>
                  <a:lnTo>
                    <a:pt x="1288" y="664"/>
                  </a:lnTo>
                  <a:lnTo>
                    <a:pt x="1288" y="678"/>
                  </a:lnTo>
                  <a:lnTo>
                    <a:pt x="1288" y="701"/>
                  </a:lnTo>
                  <a:lnTo>
                    <a:pt x="1294" y="722"/>
                  </a:lnTo>
                  <a:lnTo>
                    <a:pt x="1435" y="751"/>
                  </a:lnTo>
                  <a:lnTo>
                    <a:pt x="1435" y="837"/>
                  </a:lnTo>
                  <a:lnTo>
                    <a:pt x="1300" y="859"/>
                  </a:lnTo>
                  <a:lnTo>
                    <a:pt x="1294" y="866"/>
                  </a:lnTo>
                  <a:lnTo>
                    <a:pt x="1294" y="881"/>
                  </a:lnTo>
                  <a:lnTo>
                    <a:pt x="1294" y="895"/>
                  </a:lnTo>
                  <a:lnTo>
                    <a:pt x="1294" y="909"/>
                  </a:lnTo>
                  <a:lnTo>
                    <a:pt x="1288" y="924"/>
                  </a:lnTo>
                  <a:lnTo>
                    <a:pt x="1288" y="932"/>
                  </a:lnTo>
                  <a:lnTo>
                    <a:pt x="1281" y="953"/>
                  </a:lnTo>
                  <a:lnTo>
                    <a:pt x="1281" y="975"/>
                  </a:lnTo>
                  <a:lnTo>
                    <a:pt x="1403" y="1062"/>
                  </a:lnTo>
                  <a:lnTo>
                    <a:pt x="1377" y="1141"/>
                  </a:lnTo>
                  <a:lnTo>
                    <a:pt x="1230" y="1097"/>
                  </a:lnTo>
                  <a:lnTo>
                    <a:pt x="1230" y="1105"/>
                  </a:lnTo>
                  <a:lnTo>
                    <a:pt x="1224" y="1119"/>
                  </a:lnTo>
                  <a:lnTo>
                    <a:pt x="1217" y="1134"/>
                  </a:lnTo>
                  <a:lnTo>
                    <a:pt x="1211" y="1141"/>
                  </a:lnTo>
                  <a:lnTo>
                    <a:pt x="1204" y="1155"/>
                  </a:lnTo>
                  <a:lnTo>
                    <a:pt x="1198" y="1163"/>
                  </a:lnTo>
                  <a:lnTo>
                    <a:pt x="1191" y="1177"/>
                  </a:lnTo>
                  <a:lnTo>
                    <a:pt x="1185" y="1192"/>
                  </a:lnTo>
                  <a:lnTo>
                    <a:pt x="1268" y="1336"/>
                  </a:lnTo>
                  <a:lnTo>
                    <a:pt x="1217" y="1394"/>
                  </a:lnTo>
                  <a:lnTo>
                    <a:pt x="1095" y="1299"/>
                  </a:lnTo>
                  <a:lnTo>
                    <a:pt x="1083" y="1307"/>
                  </a:lnTo>
                  <a:lnTo>
                    <a:pt x="1076" y="1322"/>
                  </a:lnTo>
                  <a:lnTo>
                    <a:pt x="1063" y="1328"/>
                  </a:lnTo>
                  <a:lnTo>
                    <a:pt x="1057" y="1336"/>
                  </a:lnTo>
                  <a:lnTo>
                    <a:pt x="1044" y="1343"/>
                  </a:lnTo>
                  <a:lnTo>
                    <a:pt x="1037" y="1351"/>
                  </a:lnTo>
                  <a:lnTo>
                    <a:pt x="1019" y="1357"/>
                  </a:lnTo>
                  <a:lnTo>
                    <a:pt x="1050" y="1524"/>
                  </a:lnTo>
                  <a:lnTo>
                    <a:pt x="986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8" y="1429"/>
                  </a:lnTo>
                  <a:lnTo>
                    <a:pt x="865" y="1429"/>
                  </a:lnTo>
                  <a:lnTo>
                    <a:pt x="852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4" y="1444"/>
                  </a:lnTo>
                  <a:lnTo>
                    <a:pt x="788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9" y="1452"/>
                  </a:lnTo>
                  <a:lnTo>
                    <a:pt x="666" y="1452"/>
                  </a:lnTo>
                  <a:lnTo>
                    <a:pt x="653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9" y="1437"/>
                  </a:lnTo>
                  <a:lnTo>
                    <a:pt x="589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8" y="1386"/>
                  </a:lnTo>
                  <a:lnTo>
                    <a:pt x="468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4" y="1343"/>
                  </a:lnTo>
                  <a:lnTo>
                    <a:pt x="384" y="1328"/>
                  </a:lnTo>
                  <a:lnTo>
                    <a:pt x="263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9" y="1206"/>
                  </a:lnTo>
                  <a:lnTo>
                    <a:pt x="263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9" y="527"/>
                  </a:lnTo>
                  <a:lnTo>
                    <a:pt x="205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5" y="238"/>
                  </a:lnTo>
                  <a:lnTo>
                    <a:pt x="327" y="33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875120" y="2006640"/>
            <a:ext cx="153684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ag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41440" y="2106720"/>
            <a:ext cx="18558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340080" y="3660840"/>
            <a:ext cx="2441520" cy="2614680"/>
            <a:chOff x="3340080" y="3660840"/>
            <a:chExt cx="2441520" cy="2614680"/>
          </a:xfrm>
        </p:grpSpPr>
        <p:sp>
          <p:nvSpPr>
            <p:cNvPr id="399" name=""/>
            <p:cNvSpPr/>
            <p:nvPr/>
          </p:nvSpPr>
          <p:spPr>
            <a:xfrm>
              <a:off x="4905360" y="4014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9400" y="4254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64000" y="4622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72280" y="5022720"/>
              <a:ext cx="196560" cy="24444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3" y="109"/>
                  </a:lnTo>
                  <a:lnTo>
                    <a:pt x="103" y="87"/>
                  </a:lnTo>
                  <a:lnTo>
                    <a:pt x="110" y="72"/>
                  </a:lnTo>
                  <a:lnTo>
                    <a:pt x="110" y="58"/>
                  </a:lnTo>
                  <a:lnTo>
                    <a:pt x="116" y="51"/>
                  </a:lnTo>
                  <a:lnTo>
                    <a:pt x="116" y="36"/>
                  </a:lnTo>
                  <a:lnTo>
                    <a:pt x="116" y="14"/>
                  </a:lnTo>
                  <a:lnTo>
                    <a:pt x="116" y="7"/>
                  </a:lnTo>
                  <a:lnTo>
                    <a:pt x="123" y="0"/>
                  </a:lnTo>
                  <a:lnTo>
                    <a:pt x="19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40280" y="5851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75240" y="5826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32240" y="5415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40080" y="4932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81480" y="4441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37120" y="3981600"/>
              <a:ext cx="345960" cy="196560"/>
            </a:xfrm>
            <a:custGeom>
              <a:avLst/>
              <a:gdLst/>
              <a:ahLst/>
              <a:rect l="l" t="t" r="r" b="b"/>
              <a:pathLst>
                <a:path w="218" h="124">
                  <a:moveTo>
                    <a:pt x="0" y="123"/>
                  </a:moveTo>
                  <a:lnTo>
                    <a:pt x="114" y="36"/>
                  </a:lnTo>
                  <a:lnTo>
                    <a:pt x="217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073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81560" y="4371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64000" y="4497480"/>
              <a:ext cx="335160" cy="18576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107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0" y="0"/>
                  </a:lnTo>
                  <a:lnTo>
                    <a:pt x="107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92800" y="4807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03960" y="4979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0280" y="6100920"/>
              <a:ext cx="276120" cy="118800"/>
            </a:xfrm>
            <a:custGeom>
              <a:avLst/>
              <a:gdLst/>
              <a:ahLst/>
              <a:rect l="l" t="t" r="r" b="b"/>
              <a:pathLst>
                <a:path w="174" h="75">
                  <a:moveTo>
                    <a:pt x="70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3" y="37"/>
                  </a:lnTo>
                  <a:lnTo>
                    <a:pt x="70" y="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5769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5240" y="5608800"/>
              <a:ext cx="29664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174"/>
                  </a:moveTo>
                  <a:lnTo>
                    <a:pt x="83" y="43"/>
                  </a:lnTo>
                  <a:lnTo>
                    <a:pt x="186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81560" y="5472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32240" y="5275440"/>
              <a:ext cx="355680" cy="198360"/>
            </a:xfrm>
            <a:custGeom>
              <a:avLst/>
              <a:gdLst/>
              <a:ahLst/>
              <a:rect l="l" t="t" r="r" b="b"/>
              <a:pathLst>
                <a:path w="224" h="125">
                  <a:moveTo>
                    <a:pt x="0" y="124"/>
                  </a:moveTo>
                  <a:lnTo>
                    <a:pt x="120" y="36"/>
                  </a:lnTo>
                  <a:lnTo>
                    <a:pt x="223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49800" y="5059440"/>
              <a:ext cx="398160" cy="102960"/>
            </a:xfrm>
            <a:custGeom>
              <a:avLst/>
              <a:gdLst/>
              <a:ahLst/>
              <a:rect l="l" t="t" r="r" b="b"/>
              <a:pathLst>
                <a:path w="251" h="65">
                  <a:moveTo>
                    <a:pt x="147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50" y="28"/>
                  </a:lnTo>
                  <a:lnTo>
                    <a:pt x="147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0080" y="4875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81480" y="4567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21440" y="3981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94320" y="4371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6720" y="4853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52960" y="5931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49560" y="5769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05120" y="5472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3080" y="5105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62200" y="4702320"/>
              <a:ext cx="185760" cy="245880"/>
            </a:xfrm>
            <a:custGeom>
              <a:avLst/>
              <a:gdLst/>
              <a:ahLst/>
              <a:rect l="l" t="t" r="r" b="b"/>
              <a:pathLst>
                <a:path w="117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110" y="36"/>
                  </a:lnTo>
                  <a:lnTo>
                    <a:pt x="110" y="51"/>
                  </a:lnTo>
                  <a:lnTo>
                    <a:pt x="110" y="59"/>
                  </a:lnTo>
                  <a:lnTo>
                    <a:pt x="110" y="73"/>
                  </a:lnTo>
                  <a:lnTo>
                    <a:pt x="110" y="94"/>
                  </a:lnTo>
                  <a:lnTo>
                    <a:pt x="110" y="102"/>
                  </a:lnTo>
                  <a:lnTo>
                    <a:pt x="103" y="110"/>
                  </a:lnTo>
                  <a:lnTo>
                    <a:pt x="0" y="15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1080" y="4441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5000" y="5931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45000" y="434808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4" y="0"/>
                  </a:lnTo>
                  <a:lnTo>
                    <a:pt x="141" y="14"/>
                  </a:lnTo>
                  <a:lnTo>
                    <a:pt x="134" y="28"/>
                  </a:lnTo>
                  <a:lnTo>
                    <a:pt x="128" y="36"/>
                  </a:lnTo>
                  <a:lnTo>
                    <a:pt x="128" y="51"/>
                  </a:lnTo>
                  <a:lnTo>
                    <a:pt x="121" y="57"/>
                  </a:lnTo>
                  <a:lnTo>
                    <a:pt x="115" y="72"/>
                  </a:lnTo>
                  <a:lnTo>
                    <a:pt x="108" y="86"/>
                  </a:lnTo>
                  <a:lnTo>
                    <a:pt x="102" y="94"/>
                  </a:lnTo>
                  <a:lnTo>
                    <a:pt x="0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25840" y="5952960"/>
              <a:ext cx="20664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3080" y="4129200"/>
              <a:ext cx="30780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67240" y="6205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83080" y="4027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91080" y="5952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65520" y="4027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59200" y="4073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30680" y="5907240"/>
              <a:ext cx="306360" cy="104760"/>
            </a:xfrm>
            <a:custGeom>
              <a:avLst/>
              <a:gdLst/>
              <a:ahLst/>
              <a:rect l="l" t="t" r="r" b="b"/>
              <a:pathLst>
                <a:path w="193" h="66">
                  <a:moveTo>
                    <a:pt x="90" y="43"/>
                  </a:moveTo>
                  <a:lnTo>
                    <a:pt x="77" y="43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4" y="21"/>
                  </a:lnTo>
                  <a:lnTo>
                    <a:pt x="140" y="14"/>
                  </a:lnTo>
                  <a:lnTo>
                    <a:pt x="153" y="14"/>
                  </a:lnTo>
                  <a:lnTo>
                    <a:pt x="166" y="6"/>
                  </a:lnTo>
                  <a:lnTo>
                    <a:pt x="179" y="6"/>
                  </a:lnTo>
                  <a:lnTo>
                    <a:pt x="192" y="0"/>
                  </a:lnTo>
                  <a:lnTo>
                    <a:pt x="9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19680" y="3809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2160" y="590724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19680" y="3751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05360" y="6080040"/>
              <a:ext cx="264960" cy="11448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63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6" y="0"/>
                  </a:lnTo>
                  <a:lnTo>
                    <a:pt x="63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9400" y="3751200"/>
              <a:ext cx="29700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56120" y="5815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2960" y="3946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56120" y="5713560"/>
              <a:ext cx="285840" cy="161640"/>
            </a:xfrm>
            <a:custGeom>
              <a:avLst/>
              <a:gdLst/>
              <a:ahLst/>
              <a:rect l="l" t="t" r="r" b="b"/>
              <a:pathLst>
                <a:path w="180" h="102">
                  <a:moveTo>
                    <a:pt x="77" y="43"/>
                  </a:moveTo>
                  <a:lnTo>
                    <a:pt x="64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1" y="51"/>
                  </a:lnTo>
                  <a:lnTo>
                    <a:pt x="127" y="43"/>
                  </a:lnTo>
                  <a:lnTo>
                    <a:pt x="140" y="36"/>
                  </a:lnTo>
                  <a:lnTo>
                    <a:pt x="147" y="28"/>
                  </a:lnTo>
                  <a:lnTo>
                    <a:pt x="160" y="22"/>
                  </a:lnTo>
                  <a:lnTo>
                    <a:pt x="166" y="14"/>
                  </a:lnTo>
                  <a:lnTo>
                    <a:pt x="179" y="7"/>
                  </a:lnTo>
                  <a:lnTo>
                    <a:pt x="179" y="0"/>
                  </a:lnTo>
                  <a:lnTo>
                    <a:pt x="77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13080" y="3911760"/>
              <a:ext cx="31608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78520" y="5713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65720" y="3660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70400" y="5769000"/>
              <a:ext cx="24624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06760" y="3660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21440" y="5553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8000" y="3660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21440" y="5402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59400" y="3900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89480" y="5402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22840" y="3728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26000" y="5346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3440" y="372888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36"/>
                  </a:moveTo>
                  <a:lnTo>
                    <a:pt x="64" y="72"/>
                  </a:lnTo>
                  <a:lnTo>
                    <a:pt x="168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2280" y="5195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05360" y="3774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40080" y="3716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452600" y="4470480"/>
            <a:ext cx="1785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SNMP Tools for Data Gat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35760" y="1495440"/>
            <a:ext cx="2141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ing through Management Platforms; Vendor-Specific Diagno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8720" y="2208240"/>
            <a:ext cx="1190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11400" y="4289400"/>
            <a:ext cx="289584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807240" y="4444920"/>
            <a:ext cx="2006640" cy="2097000"/>
            <a:chOff x="6807240" y="4444920"/>
            <a:chExt cx="2006640" cy="2097000"/>
          </a:xfrm>
        </p:grpSpPr>
        <p:sp>
          <p:nvSpPr>
            <p:cNvPr id="470" name=""/>
            <p:cNvSpPr/>
            <p:nvPr/>
          </p:nvSpPr>
          <p:spPr>
            <a:xfrm>
              <a:off x="6807240" y="4444920"/>
              <a:ext cx="2006640" cy="2097000"/>
            </a:xfrm>
            <a:prstGeom prst="ellipse">
              <a:avLst/>
            </a:prstGeom>
            <a:solidFill>
              <a:srgbClr val="ffd255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6280" y="4746600"/>
              <a:ext cx="1719360" cy="14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ndustry an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facto Standar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2400000">
            <a:off x="5949720" y="3892680"/>
            <a:ext cx="1130040" cy="1054080"/>
          </a:xfrm>
          <a:prstGeom prst="leftArrow">
            <a:avLst>
              <a:gd name="adj1" fmla="val 75009"/>
              <a:gd name="adj2" fmla="val 5352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network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s con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all configurati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necessary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cost effectiv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 all changes and equipment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modular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adequate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user satisf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high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goo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ollection, reductio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formance prediction and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probl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 the help d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tiered suppor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repor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and maintain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ing releas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ing training and network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4T19:00:00Z</dcterms:created>
  <dc:creator>NCR ASSOCIATE</dc:creator>
  <dc:description/>
  <dc:language>en-US</dc:language>
  <cp:lastModifiedBy>NCR User</cp:lastModifiedBy>
  <cp:lastPrinted>1998-05-07T16:27:10Z</cp:lastPrinted>
  <dcterms:modified xsi:type="dcterms:W3CDTF">2001-02-21T20:56:41Z</dcterms:modified>
  <cp:revision>25</cp:revision>
  <dc:subject/>
  <dc:title>Chapter 13</dc:title>
</cp:coreProperties>
</file>