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9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3.wmf" ContentType="image/x-wmf"/>
  <Override PartName="/ppt/media/image155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37.wmf" ContentType="image/x-wmf"/>
  <Override PartName="/ppt/media/image40.wmf" ContentType="image/x-wmf"/>
  <Override PartName="/ppt/media/image137.wmf" ContentType="image/x-wmf"/>
  <Override PartName="/ppt/media/image7.png" ContentType="image/png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3.wmf" ContentType="image/x-wmf"/>
  <Override PartName="/ppt/media/image144.wmf" ContentType="image/x-wmf"/>
  <Override PartName="/ppt/media/image146.wmf" ContentType="image/x-wmf"/>
  <Override PartName="/ppt/media/image110.wmf" ContentType="image/x-wmf"/>
  <Override PartName="/ppt/media/image59.wmf" ContentType="image/x-wmf"/>
  <Override PartName="/ppt/media/image141.wmf" ContentType="image/x-wmf"/>
  <Override PartName="/ppt/media/image22.png" ContentType="image/png"/>
  <Override PartName="/ppt/media/image5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142.wmf" ContentType="image/x-wmf"/>
  <Override PartName="/ppt/media/image56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51.wmf" ContentType="image/x-wmf"/>
  <Override PartName="/ppt/media/image54.wmf" ContentType="image/x-wmf"/>
  <Override PartName="/ppt/media/image140.wmf" ContentType="image/x-wmf"/>
  <Override PartName="/ppt/media/image152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145.wmf" ContentType="image/x-wmf"/>
  <Override PartName="/ppt/media/image36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4.wmf" ContentType="image/x-wmf"/>
  <Override PartName="/ppt/media/image4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94.wmf" ContentType="image/x-wmf"/>
  <Override PartName="/ppt/media/image26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0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6.wmf" ContentType="image/x-wmf"/>
  <Override PartName="/ppt/media/image84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934200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336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300672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29040" y="-1440"/>
            <a:ext cx="300672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-1440" y="8745120"/>
            <a:ext cx="30067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929040" y="8745120"/>
            <a:ext cx="30067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942B-D8A8-4524-93CB-F05AD796D8D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171080" y="695160"/>
            <a:ext cx="459108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23400" y="4371840"/>
            <a:ext cx="5086440" cy="41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03160" y="880884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E42C-01D1-41AC-9078-45487B23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23400" y="4371840"/>
            <a:ext cx="5086440" cy="41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MA/CD media access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Mbps coax or twisted pair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8 byte maximum link level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duplex message traffic due to the shared media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istic delivery of message to receiving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23400" y="4371840"/>
            <a:ext cx="5086440" cy="41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MA/CD media access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100 Mbps twisted pair or fiber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8 byte maximum link level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uplex message traffic is possible if the link from the switch to the user is point-to-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23400" y="4371840"/>
            <a:ext cx="5086440" cy="41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 passing media access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directional traffic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rame size is unlimited, but practically is limited to 16 K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the frame size is 4 K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 passing offers a deterministic performance because the time that a message should arrive at the next station can be calc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23400" y="4371840"/>
            <a:ext cx="5086440" cy="41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 passing media access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directional traffic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rame size is unlimited, but practically is limited to 16 K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the frame size is 4 K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 passing offers a deterministic performance because the time that a message should arrive at the next station can be calc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959-3AC0-4FFF-9C31-C2B6977F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33D-4868-475F-B962-D805B47F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98F-92C5-4104-BF21-3AE5F3F4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156-3CA6-45A0-9BB7-F219E42F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0AC-C2BD-4137-99BF-A5BBD8F8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1F9-E0E9-499B-87D1-256176BD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AD0-592A-4813-B46D-8847F63B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00A-A5C0-4C16-A872-3E2723AC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0A9-7D7B-4D11-8E0F-F00B7BD6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AC9-6C93-4AB3-AC76-280D0637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0D7-3B36-44B4-B8F1-9A3CA707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9EE-A298-4B36-BE96-875DEDD5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479B-4F43-4300-A7F9-F44B2FD9C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7920"/>
            <a:ext cx="17543160" cy="13690440"/>
            <a:chOff x="-8410320" y="792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792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46.wmf"/><Relationship Id="rId11" Type="http://schemas.openxmlformats.org/officeDocument/2006/relationships/image" Target="../media/image47.wmf"/><Relationship Id="rId12" Type="http://schemas.openxmlformats.org/officeDocument/2006/relationships/image" Target="../media/image48.wmf"/><Relationship Id="rId13" Type="http://schemas.openxmlformats.org/officeDocument/2006/relationships/image" Target="../media/image49.wmf"/><Relationship Id="rId14" Type="http://schemas.openxmlformats.org/officeDocument/2006/relationships/image" Target="../media/image50.wmf"/><Relationship Id="rId15" Type="http://schemas.openxmlformats.org/officeDocument/2006/relationships/image" Target="../media/image51.wmf"/><Relationship Id="rId16" Type="http://schemas.openxmlformats.org/officeDocument/2006/relationships/image" Target="../media/image52.wmf"/><Relationship Id="rId17" Type="http://schemas.openxmlformats.org/officeDocument/2006/relationships/image" Target="../media/image53.wmf"/><Relationship Id="rId18" Type="http://schemas.openxmlformats.org/officeDocument/2006/relationships/image" Target="../media/image54.wmf"/><Relationship Id="rId19" Type="http://schemas.openxmlformats.org/officeDocument/2006/relationships/image" Target="../media/image55.wmf"/><Relationship Id="rId20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65.wmf"/><Relationship Id="rId9" Type="http://schemas.openxmlformats.org/officeDocument/2006/relationships/image" Target="../media/image66.wmf"/><Relationship Id="rId10" Type="http://schemas.openxmlformats.org/officeDocument/2006/relationships/image" Target="../media/image67.wmf"/><Relationship Id="rId11" Type="http://schemas.openxmlformats.org/officeDocument/2006/relationships/image" Target="../media/image68.wmf"/><Relationship Id="rId12" Type="http://schemas.openxmlformats.org/officeDocument/2006/relationships/image" Target="../media/image69.wmf"/><Relationship Id="rId13" Type="http://schemas.openxmlformats.org/officeDocument/2006/relationships/image" Target="../media/image70.wmf"/><Relationship Id="rId14" Type="http://schemas.openxmlformats.org/officeDocument/2006/relationships/image" Target="../media/image71.wmf"/><Relationship Id="rId15" Type="http://schemas.openxmlformats.org/officeDocument/2006/relationships/image" Target="../media/image72.wmf"/><Relationship Id="rId16" Type="http://schemas.openxmlformats.org/officeDocument/2006/relationships/image" Target="../media/image73.wmf"/><Relationship Id="rId17" Type="http://schemas.openxmlformats.org/officeDocument/2006/relationships/image" Target="../media/image74.wmf"/><Relationship Id="rId18" Type="http://schemas.openxmlformats.org/officeDocument/2006/relationships/image" Target="../media/image75.wmf"/><Relationship Id="rId19" Type="http://schemas.openxmlformats.org/officeDocument/2006/relationships/image" Target="../media/image76.wmf"/><Relationship Id="rId20" Type="http://schemas.openxmlformats.org/officeDocument/2006/relationships/image" Target="../media/image77.wmf"/><Relationship Id="rId21" Type="http://schemas.openxmlformats.org/officeDocument/2006/relationships/image" Target="../media/image78.wmf"/><Relationship Id="rId22" Type="http://schemas.openxmlformats.org/officeDocument/2006/relationships/image" Target="../media/image79.wmf"/><Relationship Id="rId23" Type="http://schemas.openxmlformats.org/officeDocument/2006/relationships/image" Target="../media/image80.wmf"/><Relationship Id="rId24" Type="http://schemas.openxmlformats.org/officeDocument/2006/relationships/image" Target="../media/image81.wmf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image" Target="../media/image92.wmf"/><Relationship Id="rId11" Type="http://schemas.openxmlformats.org/officeDocument/2006/relationships/image" Target="../media/image93.wmf"/><Relationship Id="rId12" Type="http://schemas.openxmlformats.org/officeDocument/2006/relationships/image" Target="../media/image94.wmf"/><Relationship Id="rId13" Type="http://schemas.openxmlformats.org/officeDocument/2006/relationships/image" Target="../media/image95.wmf"/><Relationship Id="rId14" Type="http://schemas.openxmlformats.org/officeDocument/2006/relationships/image" Target="../media/image96.wmf"/><Relationship Id="rId15" Type="http://schemas.openxmlformats.org/officeDocument/2006/relationships/image" Target="../media/image97.wmf"/><Relationship Id="rId16" Type="http://schemas.openxmlformats.org/officeDocument/2006/relationships/image" Target="../media/image98.wmf"/><Relationship Id="rId17" Type="http://schemas.openxmlformats.org/officeDocument/2006/relationships/image" Target="../media/image99.wmf"/><Relationship Id="rId18" Type="http://schemas.openxmlformats.org/officeDocument/2006/relationships/image" Target="../media/image100.wmf"/><Relationship Id="rId19" Type="http://schemas.openxmlformats.org/officeDocument/2006/relationships/image" Target="../media/image101.wmf"/><Relationship Id="rId20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image" Target="../media/image104.wmf"/><Relationship Id="rId3" Type="http://schemas.openxmlformats.org/officeDocument/2006/relationships/image" Target="../media/image105.wmf"/><Relationship Id="rId4" Type="http://schemas.openxmlformats.org/officeDocument/2006/relationships/image" Target="../media/image106.wmf"/><Relationship Id="rId5" Type="http://schemas.openxmlformats.org/officeDocument/2006/relationships/image" Target="../media/image107.wmf"/><Relationship Id="rId6" Type="http://schemas.openxmlformats.org/officeDocument/2006/relationships/image" Target="../media/image108.wmf"/><Relationship Id="rId7" Type="http://schemas.openxmlformats.org/officeDocument/2006/relationships/image" Target="../media/image109.wmf"/><Relationship Id="rId8" Type="http://schemas.openxmlformats.org/officeDocument/2006/relationships/image" Target="../media/image110.wmf"/><Relationship Id="rId9" Type="http://schemas.openxmlformats.org/officeDocument/2006/relationships/image" Target="../media/image111.wmf"/><Relationship Id="rId10" Type="http://schemas.openxmlformats.org/officeDocument/2006/relationships/image" Target="../media/image112.wmf"/><Relationship Id="rId11" Type="http://schemas.openxmlformats.org/officeDocument/2006/relationships/image" Target="../media/image113.wmf"/><Relationship Id="rId12" Type="http://schemas.openxmlformats.org/officeDocument/2006/relationships/image" Target="../media/image114.wmf"/><Relationship Id="rId13" Type="http://schemas.openxmlformats.org/officeDocument/2006/relationships/image" Target="../media/image115.wmf"/><Relationship Id="rId14" Type="http://schemas.openxmlformats.org/officeDocument/2006/relationships/image" Target="../media/image116.wmf"/><Relationship Id="rId15" Type="http://schemas.openxmlformats.org/officeDocument/2006/relationships/image" Target="../media/image117.wmf"/><Relationship Id="rId16" Type="http://schemas.openxmlformats.org/officeDocument/2006/relationships/image" Target="../media/image118.wmf"/><Relationship Id="rId17" Type="http://schemas.openxmlformats.org/officeDocument/2006/relationships/image" Target="../media/image119.wmf"/><Relationship Id="rId18" Type="http://schemas.openxmlformats.org/officeDocument/2006/relationships/image" Target="../media/image120.wmf"/><Relationship Id="rId19" Type="http://schemas.openxmlformats.org/officeDocument/2006/relationships/image" Target="../media/image121.wmf"/><Relationship Id="rId20" Type="http://schemas.openxmlformats.org/officeDocument/2006/relationships/image" Target="../media/image122.wmf"/><Relationship Id="rId2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0.wmf"/><Relationship Id="rId2" Type="http://schemas.openxmlformats.org/officeDocument/2006/relationships/image" Target="../media/image131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2.wmf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image" Target="../media/image13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image" Target="../media/image147.wmf"/><Relationship Id="rId6" Type="http://schemas.openxmlformats.org/officeDocument/2006/relationships/image" Target="../media/image148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9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image" Target="../media/image152.wmf"/><Relationship Id="rId5" Type="http://schemas.openxmlformats.org/officeDocument/2006/relationships/image" Target="../media/image153.wmf"/><Relationship Id="rId6" Type="http://schemas.openxmlformats.org/officeDocument/2006/relationships/image" Target="../media/image154.wmf"/><Relationship Id="rId7" Type="http://schemas.openxmlformats.org/officeDocument/2006/relationships/image" Target="../media/image155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hapter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cal Area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4021200"/>
          <a:ext cx="28576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21200"/>
                    <a:ext cx="28576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943600" y="160200"/>
          <a:ext cx="3084480" cy="26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60200"/>
                    <a:ext cx="308448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ed of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ount of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ror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iciency  of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ed of server computers and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O &amp; IEEE 802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l encoding and de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 transmission and re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me assembly and dis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mission media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 and error contro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, tree, ring, or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mission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isted pair, coaxial cable, or fiber op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ble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ar or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a Access Control (M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und robin (Token pa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ervation (T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ntion (CSMA/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rporate Wiring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95960" cy="3934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48120" y="6170760"/>
            <a:ext cx="4924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:  Telecommunications Magazine, January 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arison OSI &amp; IEEE 8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90760" y="2095560"/>
            <a:ext cx="4708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s and the OSI Referen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yer 1 -- Physical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iste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xial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ber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mission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ad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s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a multi-point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ons use a tap to attach to bus (linear m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ll duplex between station and t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mission from any stations travels entire length of bus (both dire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ination required at all bus end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518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e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ization of bus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nching cable with no closed lo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ble(s) begin at headend, travel to branches which may have branches of their 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ch transmission propagates through network, can be received by any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37524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versus 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ther public or pr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ually 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r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ry internal communications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ng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eaters are connected by unidirectional point-to-point links to form a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mes circulate through repeater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s fram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pies into local buffer if match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ransmits al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urce repeater removes frame from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ng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1963800"/>
            <a:ext cx="8051760" cy="39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r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ch station directly connected to central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ually with two undirectional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ntral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adcast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itches frames between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53716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oosing a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s to cons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iability, flexibility, expandability, 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 or tree is most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e easiest to lay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offers high 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s reliabilit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 offers high speed for short dist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s limited expan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polog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you identify transmission destin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transmitted in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frame has address in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you regulate a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ons take turns sending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ons monitor control information in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to choose the best med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um versus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1922400"/>
            <a:ext cx="6680160" cy="3826080"/>
            <a:chOff x="1143000" y="1922400"/>
            <a:chExt cx="6680160" cy="382608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143000" y="1922400"/>
              <a:ext cx="6680160" cy="38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235160" y="1968480"/>
              <a:ext cx="6445080" cy="36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868686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lecting a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media support expected network traff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media meet availability require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data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media well-suited to the applications inv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ironmental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media function in the required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mission Medi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isted pair--digital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cal fiber--analog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band coax--digital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adband coax--analog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FDM to carry multiple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s longer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lifier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uctured Cabl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bling scheme for wiring within a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ludes cabling for all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s, voice, video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dor and equipment in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ed to encompass entire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s equipment relo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guidance for pre-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and renovated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ercially Available 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BM Token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e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c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P and 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ring Lay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ring layout is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differ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rom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layout minimizes amount of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 layout uses individual cable from concentration point to sub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y be used for bus or 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ation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ing clo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 hu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pts frames and regenerates transmitted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eband and Broadband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87680" y="2209680"/>
            <a:ext cx="61354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s and the OSI Referen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yer 2 -- Data link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a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EEE and ANSI LAN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2 -- LLC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3 -- CSMA/C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4 -- Token Bus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5 -- Token Ring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I X3T9.5 -- FDDI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a Access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ns to control shared media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ique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ntion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rier Sense Multiple Access/Collision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ken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 robin token 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ken 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SMA/CD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84440" y="2057400"/>
            <a:ext cx="6291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ken Ring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5120" y="2070000"/>
            <a:ext cx="53845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tic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 of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isting w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yout and 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ical Lin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fies method of addressing and controls exchange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pendent of topology, media, and media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r layers handle error and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on-mode serv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on setup before data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connection 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ng subnetwork to sub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ng network o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etworking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idges, Routers, Switches, and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Opera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vell -- Ne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soft -- Windows NT Advanced Server, Windows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BM -- OS/2 LAN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nyan -- V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n Systems -- Network 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&amp;T -- Netware for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work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1905120"/>
            <a:ext cx="7264440" cy="4292640"/>
          </a:xfrm>
          <a:prstGeom prst="roundRect">
            <a:avLst>
              <a:gd name="adj" fmla="val 10667"/>
            </a:avLst>
          </a:prstGeom>
          <a:solidFill>
            <a:srgbClr val="eaeaea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060640"/>
            <a:ext cx="7162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working devices provide connections between network segments.  Several different types of internetworking devices are shown below.  Each device provides unique services when used to connect network segments.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63680" y="3822840"/>
            <a:ext cx="819000" cy="680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649600" y="40514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898800" y="4497480"/>
            <a:ext cx="1051200" cy="655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265720" y="4813200"/>
            <a:ext cx="1049400" cy="520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77120" y="4497480"/>
            <a:ext cx="128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23960" y="4649760"/>
            <a:ext cx="103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19600" y="5106960"/>
            <a:ext cx="104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39120" y="5640480"/>
            <a:ext cx="125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14520" y="5335560"/>
            <a:ext cx="117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322960" y="3809880"/>
            <a:ext cx="976320" cy="9525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7086600" y="4560840"/>
            <a:ext cx="458640" cy="1003320"/>
            <a:chOff x="7086600" y="4560840"/>
            <a:chExt cx="458640" cy="1003320"/>
          </a:xfrm>
        </p:grpSpPr>
        <p:sp>
          <p:nvSpPr>
            <p:cNvPr id="157" name=""/>
            <p:cNvSpPr/>
            <p:nvPr/>
          </p:nvSpPr>
          <p:spPr>
            <a:xfrm>
              <a:off x="7435800" y="4560840"/>
              <a:ext cx="106560" cy="968400"/>
            </a:xfrm>
            <a:custGeom>
              <a:avLst/>
              <a:gdLst/>
              <a:ahLst/>
              <a:rect l="l" t="t" r="r" b="b"/>
              <a:pathLst>
                <a:path w="67" h="610">
                  <a:moveTo>
                    <a:pt x="0" y="609"/>
                  </a:moveTo>
                  <a:lnTo>
                    <a:pt x="0" y="41"/>
                  </a:lnTo>
                  <a:lnTo>
                    <a:pt x="66" y="0"/>
                  </a:lnTo>
                  <a:lnTo>
                    <a:pt x="66" y="454"/>
                  </a:lnTo>
                  <a:lnTo>
                    <a:pt x="0" y="609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e0e0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4560840"/>
              <a:ext cx="458640" cy="65160"/>
            </a:xfrm>
            <a:custGeom>
              <a:avLst/>
              <a:gdLst/>
              <a:ahLst/>
              <a:rect l="l" t="t" r="r" b="b"/>
              <a:pathLst>
                <a:path w="289" h="41">
                  <a:moveTo>
                    <a:pt x="226" y="40"/>
                  </a:moveTo>
                  <a:lnTo>
                    <a:pt x="0" y="40"/>
                  </a:lnTo>
                  <a:lnTo>
                    <a:pt x="63" y="0"/>
                  </a:lnTo>
                  <a:lnTo>
                    <a:pt x="288" y="0"/>
                  </a:lnTo>
                  <a:lnTo>
                    <a:pt x="226" y="4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7086600" y="4626000"/>
              <a:ext cx="351000" cy="903240"/>
              <a:chOff x="7086600" y="4626000"/>
              <a:chExt cx="351000" cy="903240"/>
            </a:xfrm>
          </p:grpSpPr>
          <p:sp>
            <p:nvSpPr>
              <p:cNvPr id="160" name=""/>
              <p:cNvSpPr/>
              <p:nvPr/>
            </p:nvSpPr>
            <p:spPr>
              <a:xfrm>
                <a:off x="7086600" y="4626000"/>
                <a:ext cx="347760" cy="892080"/>
              </a:xfrm>
              <a:custGeom>
                <a:avLst/>
                <a:gdLst/>
                <a:ahLst/>
                <a:rect l="l" t="t" r="r" b="b"/>
                <a:pathLst>
                  <a:path w="219" h="562">
                    <a:moveTo>
                      <a:pt x="218" y="0"/>
                    </a:moveTo>
                    <a:lnTo>
                      <a:pt x="0" y="0"/>
                    </a:lnTo>
                    <a:lnTo>
                      <a:pt x="0" y="561"/>
                    </a:lnTo>
                    <a:lnTo>
                      <a:pt x="218" y="561"/>
                    </a:lnTo>
                    <a:lnTo>
                      <a:pt x="218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86600" y="4626000"/>
                <a:ext cx="351000" cy="903240"/>
              </a:xfrm>
              <a:custGeom>
                <a:avLst/>
                <a:gdLst/>
                <a:ahLst/>
                <a:rect l="l" t="t" r="r" b="b"/>
                <a:pathLst>
                  <a:path w="221" h="569">
                    <a:moveTo>
                      <a:pt x="220" y="0"/>
                    </a:moveTo>
                    <a:lnTo>
                      <a:pt x="0" y="0"/>
                    </a:lnTo>
                    <a:lnTo>
                      <a:pt x="0" y="568"/>
                    </a:lnTo>
                    <a:lnTo>
                      <a:pt x="220" y="568"/>
                    </a:lnTo>
                    <a:lnTo>
                      <a:pt x="22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7086600" y="4560840"/>
              <a:ext cx="455760" cy="66600"/>
            </a:xfrm>
            <a:custGeom>
              <a:avLst/>
              <a:gdLst/>
              <a:ahLst/>
              <a:rect l="l" t="t" r="r" b="b"/>
              <a:pathLst>
                <a:path w="287" h="42">
                  <a:moveTo>
                    <a:pt x="224" y="41"/>
                  </a:moveTo>
                  <a:lnTo>
                    <a:pt x="0" y="41"/>
                  </a:lnTo>
                  <a:lnTo>
                    <a:pt x="63" y="0"/>
                  </a:lnTo>
                  <a:lnTo>
                    <a:pt x="286" y="0"/>
                  </a:lnTo>
                  <a:lnTo>
                    <a:pt x="224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93080" y="4632480"/>
              <a:ext cx="336600" cy="87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93080" y="4808520"/>
              <a:ext cx="266400" cy="658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4360" y="465120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75680" y="4632480"/>
              <a:ext cx="56880" cy="8809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73880" y="498636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131240" y="4662360"/>
              <a:ext cx="195840" cy="73080"/>
              <a:chOff x="7131240" y="4662360"/>
              <a:chExt cx="195840" cy="73080"/>
            </a:xfrm>
          </p:grpSpPr>
          <p:sp>
            <p:nvSpPr>
              <p:cNvPr id="169" name=""/>
              <p:cNvSpPr/>
              <p:nvPr/>
            </p:nvSpPr>
            <p:spPr>
              <a:xfrm>
                <a:off x="7131240" y="4662360"/>
                <a:ext cx="19296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3" y="1"/>
                    </a:moveTo>
                    <a:arcTo wR="10800" hR="10800" stAng="-5456352" swAng="53044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3" y="1"/>
                    </a:moveTo>
                    <a:arcTo wR="10800" hR="10800" stAng="-5456352" swAng="5304492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34840" y="4662360"/>
                <a:ext cx="19224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" y="8950"/>
                    </a:moveTo>
                    <a:arcTo wR="10800" hR="10800" stAng="-10208051" swAng="475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" y="8950"/>
                    </a:moveTo>
                    <a:arcTo wR="10800" hR="10800" stAng="-10208051" swAng="4751700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flipH="1">
              <a:off x="7094160" y="4692600"/>
              <a:ext cx="3636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326000" y="4692600"/>
              <a:ext cx="4284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184160" y="4692600"/>
              <a:ext cx="52560" cy="43920"/>
              <a:chOff x="7184160" y="4692600"/>
              <a:chExt cx="52560" cy="43920"/>
            </a:xfrm>
          </p:grpSpPr>
          <p:sp>
            <p:nvSpPr>
              <p:cNvPr id="174" name=""/>
              <p:cNvSpPr/>
              <p:nvPr/>
            </p:nvSpPr>
            <p:spPr>
              <a:xfrm>
                <a:off x="7184160" y="469260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98200" y="469260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435800" y="4560840"/>
              <a:ext cx="106560" cy="963720"/>
            </a:xfrm>
            <a:custGeom>
              <a:avLst/>
              <a:gdLst/>
              <a:ahLst/>
              <a:rect l="l" t="t" r="r" b="b"/>
              <a:pathLst>
                <a:path w="67" h="607">
                  <a:moveTo>
                    <a:pt x="0" y="606"/>
                  </a:moveTo>
                  <a:lnTo>
                    <a:pt x="0" y="41"/>
                  </a:lnTo>
                  <a:lnTo>
                    <a:pt x="66" y="0"/>
                  </a:lnTo>
                  <a:lnTo>
                    <a:pt x="66" y="450"/>
                  </a:lnTo>
                  <a:lnTo>
                    <a:pt x="0" y="6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05680" y="5516640"/>
              <a:ext cx="331920" cy="47520"/>
            </a:xfrm>
            <a:custGeom>
              <a:avLst/>
              <a:gdLst/>
              <a:ahLst/>
              <a:rect l="l" t="t" r="r" b="b"/>
              <a:pathLst>
                <a:path w="209" h="30">
                  <a:moveTo>
                    <a:pt x="0" y="0"/>
                  </a:moveTo>
                  <a:lnTo>
                    <a:pt x="208" y="0"/>
                  </a:lnTo>
                  <a:lnTo>
                    <a:pt x="208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35800" y="5280120"/>
              <a:ext cx="106560" cy="263520"/>
            </a:xfrm>
            <a:custGeom>
              <a:avLst/>
              <a:gdLst/>
              <a:ahLst/>
              <a:rect l="l" t="t" r="r" b="b"/>
              <a:pathLst>
                <a:path w="67" h="166">
                  <a:moveTo>
                    <a:pt x="0" y="150"/>
                  </a:moveTo>
                  <a:lnTo>
                    <a:pt x="66" y="0"/>
                  </a:lnTo>
                  <a:lnTo>
                    <a:pt x="66" y="7"/>
                  </a:lnTo>
                  <a:lnTo>
                    <a:pt x="0" y="165"/>
                  </a:lnTo>
                  <a:lnTo>
                    <a:pt x="0" y="15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peater or 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s segments to extend LA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mits all received bits with no bu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signal re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no address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called a hub or concent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es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2427120" cy="2019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90520" y="5805360"/>
            <a:ext cx="717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68686"/>
                </a:solidFill>
                <a:uFillTx/>
                <a:latin typeface="Arial"/>
              </a:rPr>
              <a:t>Extends</a:t>
            </a: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 a LAN without segment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a Repe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68360" y="1676520"/>
            <a:ext cx="6000840" cy="1396800"/>
            <a:chOff x="468360" y="1676520"/>
            <a:chExt cx="6000840" cy="1396800"/>
          </a:xfrm>
        </p:grpSpPr>
        <p:grpSp>
          <p:nvGrpSpPr>
            <p:cNvPr id="185" name=""/>
            <p:cNvGrpSpPr/>
            <p:nvPr/>
          </p:nvGrpSpPr>
          <p:grpSpPr>
            <a:xfrm>
              <a:off x="468360" y="1676520"/>
              <a:ext cx="2647800" cy="1396800"/>
              <a:chOff x="468360" y="1676520"/>
              <a:chExt cx="2647800" cy="1396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531720" y="2374920"/>
                <a:ext cx="527040" cy="698400"/>
                <a:chOff x="531720" y="2374920"/>
                <a:chExt cx="527040" cy="6984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02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17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9" name=""/>
              <p:cNvGrpSpPr/>
              <p:nvPr/>
            </p:nvGrpSpPr>
            <p:grpSpPr>
              <a:xfrm>
                <a:off x="1217520" y="2374920"/>
                <a:ext cx="527040" cy="698400"/>
                <a:chOff x="1217520" y="2374920"/>
                <a:chExt cx="527040" cy="6984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3860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175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2" name=""/>
              <p:cNvGrpSpPr/>
              <p:nvPr/>
            </p:nvGrpSpPr>
            <p:grpSpPr>
              <a:xfrm>
                <a:off x="1903320" y="2374920"/>
                <a:ext cx="527040" cy="698400"/>
                <a:chOff x="1903320" y="2374920"/>
                <a:chExt cx="527040" cy="6984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0718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033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5" name=""/>
              <p:cNvGrpSpPr/>
              <p:nvPr/>
            </p:nvGrpSpPr>
            <p:grpSpPr>
              <a:xfrm>
                <a:off x="2589120" y="2374920"/>
                <a:ext cx="527040" cy="698400"/>
                <a:chOff x="2589120" y="2374920"/>
                <a:chExt cx="527040" cy="6984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7576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891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8" name=""/>
              <p:cNvGrpSpPr/>
              <p:nvPr/>
            </p:nvGrpSpPr>
            <p:grpSpPr>
              <a:xfrm>
                <a:off x="988920" y="1676520"/>
                <a:ext cx="304920" cy="685800"/>
                <a:chOff x="988920" y="1676520"/>
                <a:chExt cx="304920" cy="6858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07640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88920" y="1676520"/>
                  <a:ext cx="30492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"/>
              <p:cNvGrpSpPr/>
              <p:nvPr/>
            </p:nvGrpSpPr>
            <p:grpSpPr>
              <a:xfrm>
                <a:off x="2360520" y="1676520"/>
                <a:ext cx="304920" cy="685800"/>
                <a:chOff x="2360520" y="1676520"/>
                <a:chExt cx="304920" cy="6858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44800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360520" y="1676520"/>
                  <a:ext cx="30492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4" name=""/>
              <p:cNvSpPr/>
              <p:nvPr/>
            </p:nvSpPr>
            <p:spPr>
              <a:xfrm>
                <a:off x="468360" y="2362320"/>
                <a:ext cx="2577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821040" y="1676520"/>
              <a:ext cx="2648160" cy="1396800"/>
              <a:chOff x="3821040" y="1676520"/>
              <a:chExt cx="2648160" cy="13968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3884760" y="2374920"/>
                <a:ext cx="527040" cy="698400"/>
                <a:chOff x="3884760" y="2374920"/>
                <a:chExt cx="527040" cy="6984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0528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847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9" name=""/>
              <p:cNvGrpSpPr/>
              <p:nvPr/>
            </p:nvGrpSpPr>
            <p:grpSpPr>
              <a:xfrm>
                <a:off x="4570560" y="2374920"/>
                <a:ext cx="527040" cy="698400"/>
                <a:chOff x="4570560" y="2374920"/>
                <a:chExt cx="527040" cy="6984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7386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5705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2" name=""/>
              <p:cNvGrpSpPr/>
              <p:nvPr/>
            </p:nvGrpSpPr>
            <p:grpSpPr>
              <a:xfrm>
                <a:off x="5256360" y="2374920"/>
                <a:ext cx="527040" cy="698400"/>
                <a:chOff x="5256360" y="2374920"/>
                <a:chExt cx="527040" cy="6984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4244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2563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5" name=""/>
              <p:cNvGrpSpPr/>
              <p:nvPr/>
            </p:nvGrpSpPr>
            <p:grpSpPr>
              <a:xfrm>
                <a:off x="5942160" y="2374920"/>
                <a:ext cx="527040" cy="698400"/>
                <a:chOff x="5942160" y="2374920"/>
                <a:chExt cx="527040" cy="6984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1102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9421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8" name=""/>
              <p:cNvGrpSpPr/>
              <p:nvPr/>
            </p:nvGrpSpPr>
            <p:grpSpPr>
              <a:xfrm>
                <a:off x="4341960" y="1676520"/>
                <a:ext cx="304560" cy="685800"/>
                <a:chOff x="4341960" y="1676520"/>
                <a:chExt cx="304560" cy="6858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42908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341960" y="1676520"/>
                  <a:ext cx="30456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1" name=""/>
              <p:cNvGrpSpPr/>
              <p:nvPr/>
            </p:nvGrpSpPr>
            <p:grpSpPr>
              <a:xfrm>
                <a:off x="5713560" y="1676520"/>
                <a:ext cx="304560" cy="685800"/>
                <a:chOff x="5713560" y="1676520"/>
                <a:chExt cx="304560" cy="6858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80068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13560" y="1676520"/>
                  <a:ext cx="30456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24" name=""/>
              <p:cNvSpPr/>
              <p:nvPr/>
            </p:nvSpPr>
            <p:spPr>
              <a:xfrm>
                <a:off x="3821040" y="2362320"/>
                <a:ext cx="25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970360" y="1981080"/>
              <a:ext cx="1336680" cy="649440"/>
              <a:chOff x="2970360" y="1981080"/>
              <a:chExt cx="1336680" cy="64944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70360" y="1981080"/>
                <a:ext cx="1336680" cy="64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3047400" y="2209680"/>
                <a:ext cx="872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REPEA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4567320" y="4038480"/>
            <a:ext cx="35208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devic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e” all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are the same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broadcast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collision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a 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48560" y="4724280"/>
            <a:ext cx="35208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de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e” all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are the same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broadcast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collision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2449440"/>
            <a:ext cx="0" cy="120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67200" y="1676520"/>
            <a:ext cx="1231920" cy="100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7080" y="2133720"/>
            <a:ext cx="56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297160" y="2971800"/>
            <a:ext cx="2647800" cy="1397160"/>
            <a:chOff x="2297160" y="2971800"/>
            <a:chExt cx="2647800" cy="1397160"/>
          </a:xfrm>
        </p:grpSpPr>
        <p:grpSp>
          <p:nvGrpSpPr>
            <p:cNvPr id="235" name=""/>
            <p:cNvGrpSpPr/>
            <p:nvPr/>
          </p:nvGrpSpPr>
          <p:grpSpPr>
            <a:xfrm>
              <a:off x="2360520" y="3670200"/>
              <a:ext cx="527040" cy="698760"/>
              <a:chOff x="2360520" y="3670200"/>
              <a:chExt cx="527040" cy="698760"/>
            </a:xfrm>
          </p:grpSpPr>
          <p:sp>
            <p:nvSpPr>
              <p:cNvPr id="236" name=""/>
              <p:cNvSpPr/>
              <p:nvPr/>
            </p:nvSpPr>
            <p:spPr>
              <a:xfrm>
                <a:off x="25290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60520" y="38401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" name=""/>
            <p:cNvGrpSpPr/>
            <p:nvPr/>
          </p:nvGrpSpPr>
          <p:grpSpPr>
            <a:xfrm>
              <a:off x="3046320" y="3670200"/>
              <a:ext cx="527040" cy="698760"/>
              <a:chOff x="3046320" y="3670200"/>
              <a:chExt cx="527040" cy="698760"/>
            </a:xfrm>
          </p:grpSpPr>
          <p:sp>
            <p:nvSpPr>
              <p:cNvPr id="239" name=""/>
              <p:cNvSpPr/>
              <p:nvPr/>
            </p:nvSpPr>
            <p:spPr>
              <a:xfrm>
                <a:off x="32148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6320" y="38401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3732120" y="3670200"/>
              <a:ext cx="527040" cy="698760"/>
              <a:chOff x="3732120" y="3670200"/>
              <a:chExt cx="527040" cy="698760"/>
            </a:xfrm>
          </p:grpSpPr>
          <p:sp>
            <p:nvSpPr>
              <p:cNvPr id="242" name=""/>
              <p:cNvSpPr/>
              <p:nvPr/>
            </p:nvSpPr>
            <p:spPr>
              <a:xfrm>
                <a:off x="39006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32120" y="38401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"/>
            <p:cNvGrpSpPr/>
            <p:nvPr/>
          </p:nvGrpSpPr>
          <p:grpSpPr>
            <a:xfrm>
              <a:off x="4417920" y="3670200"/>
              <a:ext cx="527040" cy="698760"/>
              <a:chOff x="4417920" y="3670200"/>
              <a:chExt cx="527040" cy="698760"/>
            </a:xfrm>
          </p:grpSpPr>
          <p:sp>
            <p:nvSpPr>
              <p:cNvPr id="245" name=""/>
              <p:cNvSpPr/>
              <p:nvPr/>
            </p:nvSpPr>
            <p:spPr>
              <a:xfrm>
                <a:off x="45864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17920" y="38401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2817720" y="2971800"/>
              <a:ext cx="304920" cy="685800"/>
              <a:chOff x="2817720" y="2971800"/>
              <a:chExt cx="304920" cy="685800"/>
            </a:xfrm>
          </p:grpSpPr>
          <p:sp>
            <p:nvSpPr>
              <p:cNvPr id="248" name=""/>
              <p:cNvSpPr/>
              <p:nvPr/>
            </p:nvSpPr>
            <p:spPr>
              <a:xfrm>
                <a:off x="2905200" y="33847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817720" y="29718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0" name=""/>
            <p:cNvGrpSpPr/>
            <p:nvPr/>
          </p:nvGrpSpPr>
          <p:grpSpPr>
            <a:xfrm>
              <a:off x="4189320" y="2971800"/>
              <a:ext cx="304920" cy="685800"/>
              <a:chOff x="4189320" y="2971800"/>
              <a:chExt cx="304920" cy="685800"/>
            </a:xfrm>
          </p:grpSpPr>
          <p:sp>
            <p:nvSpPr>
              <p:cNvPr id="251" name=""/>
              <p:cNvSpPr/>
              <p:nvPr/>
            </p:nvSpPr>
            <p:spPr>
              <a:xfrm>
                <a:off x="4276800" y="33847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89320" y="29718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"/>
            <p:cNvSpPr/>
            <p:nvPr/>
          </p:nvSpPr>
          <p:spPr>
            <a:xfrm>
              <a:off x="2297160" y="365760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125960" y="1600200"/>
            <a:ext cx="2647800" cy="1397160"/>
            <a:chOff x="4125960" y="1600200"/>
            <a:chExt cx="2647800" cy="1397160"/>
          </a:xfrm>
        </p:grpSpPr>
        <p:grpSp>
          <p:nvGrpSpPr>
            <p:cNvPr id="255" name=""/>
            <p:cNvGrpSpPr/>
            <p:nvPr/>
          </p:nvGrpSpPr>
          <p:grpSpPr>
            <a:xfrm>
              <a:off x="4189320" y="2298600"/>
              <a:ext cx="527040" cy="698760"/>
              <a:chOff x="4189320" y="2298600"/>
              <a:chExt cx="527040" cy="698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578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932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"/>
            <p:cNvGrpSpPr/>
            <p:nvPr/>
          </p:nvGrpSpPr>
          <p:grpSpPr>
            <a:xfrm>
              <a:off x="4875120" y="2298600"/>
              <a:ext cx="527040" cy="698760"/>
              <a:chOff x="4875120" y="2298600"/>
              <a:chExt cx="527040" cy="698760"/>
            </a:xfrm>
          </p:grpSpPr>
          <p:sp>
            <p:nvSpPr>
              <p:cNvPr id="259" name=""/>
              <p:cNvSpPr/>
              <p:nvPr/>
            </p:nvSpPr>
            <p:spPr>
              <a:xfrm>
                <a:off x="50436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87512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1" name=""/>
            <p:cNvGrpSpPr/>
            <p:nvPr/>
          </p:nvGrpSpPr>
          <p:grpSpPr>
            <a:xfrm>
              <a:off x="5560920" y="2298600"/>
              <a:ext cx="527040" cy="698760"/>
              <a:chOff x="5560920" y="2298600"/>
              <a:chExt cx="527040" cy="69876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56092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4" name=""/>
            <p:cNvGrpSpPr/>
            <p:nvPr/>
          </p:nvGrpSpPr>
          <p:grpSpPr>
            <a:xfrm>
              <a:off x="6246720" y="2298600"/>
              <a:ext cx="527040" cy="698760"/>
              <a:chOff x="6246720" y="2298600"/>
              <a:chExt cx="527040" cy="698760"/>
            </a:xfrm>
          </p:grpSpPr>
          <p:sp>
            <p:nvSpPr>
              <p:cNvPr id="265" name=""/>
              <p:cNvSpPr/>
              <p:nvPr/>
            </p:nvSpPr>
            <p:spPr>
              <a:xfrm>
                <a:off x="64152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4672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7" name=""/>
            <p:cNvGrpSpPr/>
            <p:nvPr/>
          </p:nvGrpSpPr>
          <p:grpSpPr>
            <a:xfrm>
              <a:off x="4646520" y="1600200"/>
              <a:ext cx="304920" cy="685800"/>
              <a:chOff x="4646520" y="1600200"/>
              <a:chExt cx="304920" cy="685800"/>
            </a:xfrm>
          </p:grpSpPr>
          <p:sp>
            <p:nvSpPr>
              <p:cNvPr id="268" name=""/>
              <p:cNvSpPr/>
              <p:nvPr/>
            </p:nvSpPr>
            <p:spPr>
              <a:xfrm>
                <a:off x="473400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4652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0" name=""/>
            <p:cNvGrpSpPr/>
            <p:nvPr/>
          </p:nvGrpSpPr>
          <p:grpSpPr>
            <a:xfrm>
              <a:off x="6018120" y="1600200"/>
              <a:ext cx="304920" cy="685800"/>
              <a:chOff x="6018120" y="1600200"/>
              <a:chExt cx="304920" cy="6858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0560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1812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3" name=""/>
            <p:cNvSpPr/>
            <p:nvPr/>
          </p:nvSpPr>
          <p:spPr>
            <a:xfrm>
              <a:off x="4125960" y="228600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44680" y="1600200"/>
            <a:ext cx="2647800" cy="1397160"/>
            <a:chOff x="544680" y="1600200"/>
            <a:chExt cx="2647800" cy="1397160"/>
          </a:xfrm>
        </p:grpSpPr>
        <p:grpSp>
          <p:nvGrpSpPr>
            <p:cNvPr id="275" name=""/>
            <p:cNvGrpSpPr/>
            <p:nvPr/>
          </p:nvGrpSpPr>
          <p:grpSpPr>
            <a:xfrm>
              <a:off x="608040" y="2298600"/>
              <a:ext cx="527040" cy="698760"/>
              <a:chOff x="608040" y="2298600"/>
              <a:chExt cx="527040" cy="698760"/>
            </a:xfrm>
          </p:grpSpPr>
          <p:sp>
            <p:nvSpPr>
              <p:cNvPr id="276" name=""/>
              <p:cNvSpPr/>
              <p:nvPr/>
            </p:nvSpPr>
            <p:spPr>
              <a:xfrm>
                <a:off x="7761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804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8" name=""/>
            <p:cNvGrpSpPr/>
            <p:nvPr/>
          </p:nvGrpSpPr>
          <p:grpSpPr>
            <a:xfrm>
              <a:off x="1293840" y="2298600"/>
              <a:ext cx="527040" cy="698760"/>
              <a:chOff x="1293840" y="2298600"/>
              <a:chExt cx="527040" cy="698760"/>
            </a:xfrm>
          </p:grpSpPr>
          <p:sp>
            <p:nvSpPr>
              <p:cNvPr id="279" name=""/>
              <p:cNvSpPr/>
              <p:nvPr/>
            </p:nvSpPr>
            <p:spPr>
              <a:xfrm>
                <a:off x="14619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9384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1" name=""/>
            <p:cNvGrpSpPr/>
            <p:nvPr/>
          </p:nvGrpSpPr>
          <p:grpSpPr>
            <a:xfrm>
              <a:off x="1979640" y="2298600"/>
              <a:ext cx="527040" cy="698760"/>
              <a:chOff x="1979640" y="2298600"/>
              <a:chExt cx="527040" cy="698760"/>
            </a:xfrm>
          </p:grpSpPr>
          <p:sp>
            <p:nvSpPr>
              <p:cNvPr id="282" name=""/>
              <p:cNvSpPr/>
              <p:nvPr/>
            </p:nvSpPr>
            <p:spPr>
              <a:xfrm>
                <a:off x="21477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97964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4" name=""/>
            <p:cNvGrpSpPr/>
            <p:nvPr/>
          </p:nvGrpSpPr>
          <p:grpSpPr>
            <a:xfrm>
              <a:off x="2665440" y="2298600"/>
              <a:ext cx="527040" cy="698760"/>
              <a:chOff x="2665440" y="2298600"/>
              <a:chExt cx="527040" cy="698760"/>
            </a:xfrm>
          </p:grpSpPr>
          <p:sp>
            <p:nvSpPr>
              <p:cNvPr id="285" name=""/>
              <p:cNvSpPr/>
              <p:nvPr/>
            </p:nvSpPr>
            <p:spPr>
              <a:xfrm>
                <a:off x="28335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66544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1065240" y="1600200"/>
              <a:ext cx="304920" cy="685800"/>
              <a:chOff x="1065240" y="1600200"/>
              <a:chExt cx="304920" cy="685800"/>
            </a:xfrm>
          </p:grpSpPr>
          <p:sp>
            <p:nvSpPr>
              <p:cNvPr id="288" name=""/>
              <p:cNvSpPr/>
              <p:nvPr/>
            </p:nvSpPr>
            <p:spPr>
              <a:xfrm>
                <a:off x="115236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06524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0" name=""/>
            <p:cNvGrpSpPr/>
            <p:nvPr/>
          </p:nvGrpSpPr>
          <p:grpSpPr>
            <a:xfrm>
              <a:off x="2436840" y="1600200"/>
              <a:ext cx="304920" cy="685800"/>
              <a:chOff x="2436840" y="1600200"/>
              <a:chExt cx="304920" cy="685800"/>
            </a:xfrm>
          </p:grpSpPr>
          <p:sp>
            <p:nvSpPr>
              <p:cNvPr id="291" name=""/>
              <p:cNvSpPr/>
              <p:nvPr/>
            </p:nvSpPr>
            <p:spPr>
              <a:xfrm>
                <a:off x="252396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43684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3" name=""/>
            <p:cNvSpPr/>
            <p:nvPr/>
          </p:nvSpPr>
          <p:spPr>
            <a:xfrm>
              <a:off x="544680" y="228600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28640" y="16002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s network segments that use the same LAN data link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address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rns device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adcasts unknown messages to all ports.  May cause broadcast st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physical MAC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transparent or translational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es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Lin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38080" y="2212920"/>
            <a:ext cx="2514600" cy="17622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91600" y="5958000"/>
            <a:ext cx="6622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68686"/>
                </a:solidFill>
                <a:uFillTx/>
                <a:latin typeface="Arial"/>
              </a:rPr>
              <a:t>Extends</a:t>
            </a: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 a LAN with segment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idg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143000" y="1657440"/>
            <a:ext cx="6610320" cy="50814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054240" y="6330960"/>
            <a:ext cx="25783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33520" y="3200400"/>
            <a:ext cx="2805120" cy="731880"/>
            <a:chOff x="533520" y="3200400"/>
            <a:chExt cx="2805120" cy="731880"/>
          </a:xfrm>
        </p:grpSpPr>
        <p:sp>
          <p:nvSpPr>
            <p:cNvPr id="303" name=""/>
            <p:cNvSpPr/>
            <p:nvPr/>
          </p:nvSpPr>
          <p:spPr>
            <a:xfrm>
              <a:off x="1063800" y="3600360"/>
              <a:ext cx="41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36760" y="3556080"/>
              <a:ext cx="41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1387440" y="3200400"/>
              <a:ext cx="1039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533520" y="3333600"/>
              <a:ext cx="63648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2701800" y="3333600"/>
              <a:ext cx="636840" cy="59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773280" y="1992240"/>
            <a:ext cx="2274840" cy="1055880"/>
            <a:chOff x="773280" y="1992240"/>
            <a:chExt cx="2274840" cy="1055880"/>
          </a:xfrm>
        </p:grpSpPr>
        <p:pic>
          <p:nvPicPr>
            <p:cNvPr id="309" name="" descr=""/>
            <p:cNvPicPr/>
            <p:nvPr/>
          </p:nvPicPr>
          <p:blipFill>
            <a:blip r:embed="rId4"/>
            <a:stretch/>
          </p:blipFill>
          <p:spPr>
            <a:xfrm>
              <a:off x="1392120" y="2125800"/>
              <a:ext cx="11383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915840" y="1992240"/>
              <a:ext cx="0" cy="10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3280" y="207648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3280" y="222264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3280" y="241632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3280" y="261144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3280" y="280512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28800" y="2513160"/>
              <a:ext cx="50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86080" y="2513160"/>
              <a:ext cx="506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92600" y="2041560"/>
              <a:ext cx="0" cy="10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904840" y="21258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904840" y="22701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904840" y="246528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904840" y="26589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904840" y="285444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3280" y="295128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05200" y="29988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849240" y="4811760"/>
            <a:ext cx="2413080" cy="1055520"/>
            <a:chOff x="849240" y="4811760"/>
            <a:chExt cx="2413080" cy="1055520"/>
          </a:xfrm>
        </p:grpSpPr>
        <p:sp>
          <p:nvSpPr>
            <p:cNvPr id="327" name=""/>
            <p:cNvSpPr/>
            <p:nvPr/>
          </p:nvSpPr>
          <p:spPr>
            <a:xfrm>
              <a:off x="987480" y="5357880"/>
              <a:ext cx="44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79520" y="5357880"/>
              <a:ext cx="40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1397160" y="4951440"/>
              <a:ext cx="1020600" cy="80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6"/>
            <a:stretch/>
          </p:blipFill>
          <p:spPr>
            <a:xfrm>
              <a:off x="2638440" y="5052960"/>
              <a:ext cx="6238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974880" y="4811760"/>
              <a:ext cx="0" cy="10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49240" y="490068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9240" y="50529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9240" y="52563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9240" y="545940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49240" y="566424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9240" y="581652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27160" y="3922560"/>
            <a:ext cx="150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18960" y="589284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964040" y="1763640"/>
            <a:ext cx="2732040" cy="2046240"/>
            <a:chOff x="4964040" y="1763640"/>
            <a:chExt cx="2732040" cy="2046240"/>
          </a:xfrm>
        </p:grpSpPr>
        <p:sp>
          <p:nvSpPr>
            <p:cNvPr id="341" name=""/>
            <p:cNvSpPr/>
            <p:nvPr/>
          </p:nvSpPr>
          <p:spPr>
            <a:xfrm>
              <a:off x="5813280" y="3500280"/>
              <a:ext cx="955800" cy="66960"/>
            </a:xfrm>
            <a:custGeom>
              <a:avLst/>
              <a:gdLst/>
              <a:ahLst/>
              <a:rect l="l" t="t" r="r" b="b"/>
              <a:pathLst>
                <a:path w="602" h="42">
                  <a:moveTo>
                    <a:pt x="0" y="0"/>
                  </a:moveTo>
                  <a:lnTo>
                    <a:pt x="308" y="0"/>
                  </a:lnTo>
                  <a:lnTo>
                    <a:pt x="275" y="41"/>
                  </a:lnTo>
                  <a:lnTo>
                    <a:pt x="601" y="41"/>
                  </a:lnTo>
                </a:path>
              </a:pathLst>
            </a:custGeom>
            <a:noFill/>
            <a:ln cap="rnd" w="25560">
              <a:solidFill>
                <a:srgbClr val="ff2a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4964040" y="1763640"/>
              <a:ext cx="398520" cy="633600"/>
              <a:chOff x="4964040" y="1763640"/>
              <a:chExt cx="398520" cy="633600"/>
            </a:xfrm>
          </p:grpSpPr>
          <p:sp>
            <p:nvSpPr>
              <p:cNvPr id="343" name=""/>
              <p:cNvSpPr/>
              <p:nvPr/>
            </p:nvSpPr>
            <p:spPr>
              <a:xfrm>
                <a:off x="5046840" y="1763640"/>
                <a:ext cx="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64040" y="18129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64040" y="190512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64040" y="20289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64040" y="2151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4040" y="227484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59440" y="2089080"/>
                <a:ext cx="303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64040" y="2367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1" name="" descr=""/>
            <p:cNvPicPr/>
            <p:nvPr/>
          </p:nvPicPr>
          <p:blipFill>
            <a:blip r:embed="rId7"/>
            <a:stretch/>
          </p:blipFill>
          <p:spPr>
            <a:xfrm>
              <a:off x="5335560" y="1843200"/>
              <a:ext cx="7239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8"/>
            <a:stretch/>
          </p:blipFill>
          <p:spPr>
            <a:xfrm>
              <a:off x="6723000" y="1843200"/>
              <a:ext cx="725400" cy="52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3" name=""/>
            <p:cNvGrpSpPr/>
            <p:nvPr/>
          </p:nvGrpSpPr>
          <p:grpSpPr>
            <a:xfrm>
              <a:off x="7297560" y="1763640"/>
              <a:ext cx="398520" cy="633600"/>
              <a:chOff x="7297560" y="1763640"/>
              <a:chExt cx="398520" cy="633600"/>
            </a:xfrm>
          </p:grpSpPr>
          <p:sp>
            <p:nvSpPr>
              <p:cNvPr id="354" name=""/>
              <p:cNvSpPr/>
              <p:nvPr/>
            </p:nvSpPr>
            <p:spPr>
              <a:xfrm>
                <a:off x="7297560" y="2058840"/>
                <a:ext cx="30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01040" y="1763640"/>
                <a:ext cx="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613280" y="18129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7613280" y="190512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7613280" y="20289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7613280" y="2151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7613280" y="227484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13640" y="2367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2" name="" descr=""/>
            <p:cNvPicPr/>
            <p:nvPr/>
          </p:nvPicPr>
          <p:blipFill>
            <a:blip r:embed="rId9"/>
            <a:stretch/>
          </p:blipFill>
          <p:spPr>
            <a:xfrm>
              <a:off x="5929200" y="1905120"/>
              <a:ext cx="930240" cy="44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3" name=""/>
            <p:cNvGrpSpPr/>
            <p:nvPr/>
          </p:nvGrpSpPr>
          <p:grpSpPr>
            <a:xfrm>
              <a:off x="4964040" y="2471760"/>
              <a:ext cx="2732040" cy="631800"/>
              <a:chOff x="4964040" y="2471760"/>
              <a:chExt cx="2732040" cy="63180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5910120" y="2612880"/>
                <a:ext cx="839880" cy="439920"/>
                <a:chOff x="5910120" y="2612880"/>
                <a:chExt cx="839880" cy="4399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478560" y="2797200"/>
                  <a:ext cx="271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910120" y="2797200"/>
                  <a:ext cx="271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6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151680" y="2612880"/>
                  <a:ext cx="455400" cy="439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8" name=""/>
              <p:cNvGrpSpPr/>
              <p:nvPr/>
            </p:nvGrpSpPr>
            <p:grpSpPr>
              <a:xfrm>
                <a:off x="4964040" y="2471760"/>
                <a:ext cx="398520" cy="631800"/>
                <a:chOff x="4964040" y="2471760"/>
                <a:chExt cx="398520" cy="6318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046840" y="2471760"/>
                  <a:ext cx="0" cy="63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964040" y="25210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964040" y="26128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964040" y="27352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964040" y="28576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964040" y="298116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059440" y="2797200"/>
                  <a:ext cx="303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964040" y="307332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7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335560" y="2550960"/>
                <a:ext cx="72540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23000" y="2550960"/>
                <a:ext cx="725400" cy="52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9" name=""/>
              <p:cNvGrpSpPr/>
              <p:nvPr/>
            </p:nvGrpSpPr>
            <p:grpSpPr>
              <a:xfrm>
                <a:off x="7297560" y="2471760"/>
                <a:ext cx="398520" cy="631800"/>
                <a:chOff x="7297560" y="2471760"/>
                <a:chExt cx="398520" cy="6318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7297560" y="2765520"/>
                  <a:ext cx="303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601040" y="2471760"/>
                  <a:ext cx="0" cy="63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7613280" y="25210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7613280" y="26128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>
                  <a:off x="7613280" y="27352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7613280" y="28576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7613280" y="298116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613640" y="307332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" name=""/>
            <p:cNvGrpSpPr/>
            <p:nvPr/>
          </p:nvGrpSpPr>
          <p:grpSpPr>
            <a:xfrm>
              <a:off x="4964040" y="3176640"/>
              <a:ext cx="398520" cy="633240"/>
              <a:chOff x="4964040" y="3176640"/>
              <a:chExt cx="398520" cy="633240"/>
            </a:xfrm>
          </p:grpSpPr>
          <p:sp>
            <p:nvSpPr>
              <p:cNvPr id="389" name=""/>
              <p:cNvSpPr/>
              <p:nvPr/>
            </p:nvSpPr>
            <p:spPr>
              <a:xfrm>
                <a:off x="5046840" y="3176640"/>
                <a:ext cx="0" cy="63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964040" y="32259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964040" y="33177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964040" y="34416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64040" y="3564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964040" y="368784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59440" y="3502080"/>
                <a:ext cx="303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964040" y="3780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7" name="" descr=""/>
            <p:cNvPicPr/>
            <p:nvPr/>
          </p:nvPicPr>
          <p:blipFill>
            <a:blip r:embed="rId13"/>
            <a:stretch/>
          </p:blipFill>
          <p:spPr>
            <a:xfrm>
              <a:off x="5335560" y="3257640"/>
              <a:ext cx="7239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4"/>
            <a:stretch/>
          </p:blipFill>
          <p:spPr>
            <a:xfrm>
              <a:off x="6723000" y="3257640"/>
              <a:ext cx="725400" cy="52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9" name=""/>
            <p:cNvGrpSpPr/>
            <p:nvPr/>
          </p:nvGrpSpPr>
          <p:grpSpPr>
            <a:xfrm>
              <a:off x="7297560" y="3176640"/>
              <a:ext cx="398520" cy="633240"/>
              <a:chOff x="7297560" y="3176640"/>
              <a:chExt cx="398520" cy="633240"/>
            </a:xfrm>
          </p:grpSpPr>
          <p:sp>
            <p:nvSpPr>
              <p:cNvPr id="400" name=""/>
              <p:cNvSpPr/>
              <p:nvPr/>
            </p:nvSpPr>
            <p:spPr>
              <a:xfrm>
                <a:off x="7297560" y="3471840"/>
                <a:ext cx="30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01040" y="3176640"/>
                <a:ext cx="0" cy="63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7613280" y="32259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7613280" y="33177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613280" y="34416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7613280" y="3564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7613280" y="368784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613640" y="3780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5870520" y="3446640"/>
              <a:ext cx="85680" cy="8244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23000" y="3506760"/>
              <a:ext cx="84240" cy="8424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648320" y="4419720"/>
            <a:ext cx="3490920" cy="1798560"/>
            <a:chOff x="4648320" y="4419720"/>
            <a:chExt cx="3490920" cy="1798560"/>
          </a:xfrm>
        </p:grpSpPr>
        <p:sp>
          <p:nvSpPr>
            <p:cNvPr id="411" name=""/>
            <p:cNvSpPr/>
            <p:nvPr/>
          </p:nvSpPr>
          <p:spPr>
            <a:xfrm flipV="1">
              <a:off x="7790040" y="4747680"/>
              <a:ext cx="0" cy="31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81920" y="547704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91160" y="5442120"/>
              <a:ext cx="0" cy="41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91160" y="4829040"/>
              <a:ext cx="0" cy="34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5799240" y="4491000"/>
              <a:ext cx="1047600" cy="501840"/>
              <a:chOff x="5799240" y="4491000"/>
              <a:chExt cx="1047600" cy="501840"/>
            </a:xfrm>
          </p:grpSpPr>
          <p:sp>
            <p:nvSpPr>
              <p:cNvPr id="416" name=""/>
              <p:cNvSpPr/>
              <p:nvPr/>
            </p:nvSpPr>
            <p:spPr>
              <a:xfrm>
                <a:off x="6505560" y="470700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9240" y="470700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1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102360" y="4491000"/>
                <a:ext cx="544680" cy="501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9" name=""/>
            <p:cNvSpPr/>
            <p:nvPr/>
          </p:nvSpPr>
          <p:spPr>
            <a:xfrm>
              <a:off x="7370640" y="4708440"/>
              <a:ext cx="33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81920" y="4900680"/>
              <a:ext cx="0" cy="27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51520" y="5934240"/>
              <a:ext cx="34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843440" y="5505480"/>
              <a:ext cx="0" cy="31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16"/>
            <a:stretch/>
          </p:blipFill>
          <p:spPr>
            <a:xfrm>
              <a:off x="4648320" y="5716440"/>
              <a:ext cx="54432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17"/>
            <a:stretch/>
          </p:blipFill>
          <p:spPr>
            <a:xfrm>
              <a:off x="5203800" y="4419720"/>
              <a:ext cx="88092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18"/>
            <a:stretch/>
          </p:blipFill>
          <p:spPr>
            <a:xfrm>
              <a:off x="6696000" y="4419720"/>
              <a:ext cx="881280" cy="59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"/>
            <p:cNvGrpSpPr/>
            <p:nvPr/>
          </p:nvGrpSpPr>
          <p:grpSpPr>
            <a:xfrm>
              <a:off x="5799240" y="5681520"/>
              <a:ext cx="1047600" cy="500040"/>
              <a:chOff x="5799240" y="5681520"/>
              <a:chExt cx="1047600" cy="500040"/>
            </a:xfrm>
          </p:grpSpPr>
          <p:sp>
            <p:nvSpPr>
              <p:cNvPr id="427" name=""/>
              <p:cNvSpPr/>
              <p:nvPr/>
            </p:nvSpPr>
            <p:spPr>
              <a:xfrm>
                <a:off x="6505560" y="589752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99240" y="589752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2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02360" y="5681520"/>
                <a:ext cx="54468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0" name="" descr=""/>
            <p:cNvPicPr/>
            <p:nvPr/>
          </p:nvPicPr>
          <p:blipFill>
            <a:blip r:embed="rId20"/>
            <a:stretch/>
          </p:blipFill>
          <p:spPr>
            <a:xfrm>
              <a:off x="5203800" y="5608800"/>
              <a:ext cx="88092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21"/>
            <a:stretch/>
          </p:blipFill>
          <p:spPr>
            <a:xfrm>
              <a:off x="6696000" y="5608800"/>
              <a:ext cx="8812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22"/>
            <a:stretch/>
          </p:blipFill>
          <p:spPr>
            <a:xfrm>
              <a:off x="5396040" y="5103720"/>
              <a:ext cx="54432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23"/>
            <a:stretch/>
          </p:blipFill>
          <p:spPr>
            <a:xfrm>
              <a:off x="6848640" y="5103720"/>
              <a:ext cx="54432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24"/>
            <a:stretch/>
          </p:blipFill>
          <p:spPr>
            <a:xfrm>
              <a:off x="7594560" y="4491000"/>
              <a:ext cx="544680" cy="50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5" name=""/>
            <p:cNvGrpSpPr/>
            <p:nvPr/>
          </p:nvGrpSpPr>
          <p:grpSpPr>
            <a:xfrm>
              <a:off x="4765680" y="5176800"/>
              <a:ext cx="236520" cy="476280"/>
              <a:chOff x="4765680" y="5176800"/>
              <a:chExt cx="236520" cy="476280"/>
            </a:xfrm>
          </p:grpSpPr>
          <p:sp>
            <p:nvSpPr>
              <p:cNvPr id="436" name=""/>
              <p:cNvSpPr/>
              <p:nvPr/>
            </p:nvSpPr>
            <p:spPr>
              <a:xfrm>
                <a:off x="4944960" y="5176800"/>
                <a:ext cx="55800" cy="460440"/>
              </a:xfrm>
              <a:custGeom>
                <a:avLst/>
                <a:gdLst/>
                <a:ahLst/>
                <a:rect l="l" t="t" r="r" b="b"/>
                <a:pathLst>
                  <a:path w="35" h="290">
                    <a:moveTo>
                      <a:pt x="0" y="289"/>
                    </a:moveTo>
                    <a:lnTo>
                      <a:pt x="0" y="19"/>
                    </a:lnTo>
                    <a:lnTo>
                      <a:pt x="34" y="0"/>
                    </a:lnTo>
                    <a:lnTo>
                      <a:pt x="34" y="215"/>
                    </a:lnTo>
                    <a:lnTo>
                      <a:pt x="0" y="289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65680" y="5176800"/>
                <a:ext cx="236520" cy="31680"/>
              </a:xfrm>
              <a:custGeom>
                <a:avLst/>
                <a:gdLst/>
                <a:ahLst/>
                <a:rect l="l" t="t" r="r" b="b"/>
                <a:pathLst>
                  <a:path w="149" h="20">
                    <a:moveTo>
                      <a:pt x="117" y="19"/>
                    </a:moveTo>
                    <a:lnTo>
                      <a:pt x="0" y="19"/>
                    </a:lnTo>
                    <a:lnTo>
                      <a:pt x="32" y="0"/>
                    </a:lnTo>
                    <a:lnTo>
                      <a:pt x="148" y="0"/>
                    </a:lnTo>
                    <a:lnTo>
                      <a:pt x="117" y="1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4765680" y="5207040"/>
                <a:ext cx="181080" cy="430200"/>
                <a:chOff x="4765680" y="5207040"/>
                <a:chExt cx="181080" cy="4302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4765680" y="5207040"/>
                  <a:ext cx="179280" cy="425520"/>
                </a:xfrm>
                <a:custGeom>
                  <a:avLst/>
                  <a:gdLst/>
                  <a:ahLst/>
                  <a:rect l="l" t="t" r="r" b="b"/>
                  <a:pathLst>
                    <a:path w="113" h="268">
                      <a:moveTo>
                        <a:pt x="112" y="0"/>
                      </a:moveTo>
                      <a:lnTo>
                        <a:pt x="0" y="0"/>
                      </a:lnTo>
                      <a:lnTo>
                        <a:pt x="0" y="267"/>
                      </a:lnTo>
                      <a:lnTo>
                        <a:pt x="112" y="267"/>
                      </a:lnTo>
                      <a:lnTo>
                        <a:pt x="1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ecece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765680" y="5207040"/>
                  <a:ext cx="181080" cy="430200"/>
                </a:xfrm>
                <a:custGeom>
                  <a:avLst/>
                  <a:gdLst/>
                  <a:ahLst/>
                  <a:rect l="l" t="t" r="r" b="b"/>
                  <a:pathLst>
                    <a:path w="114" h="271">
                      <a:moveTo>
                        <a:pt x="113" y="0"/>
                      </a:moveTo>
                      <a:lnTo>
                        <a:pt x="0" y="0"/>
                      </a:lnTo>
                      <a:lnTo>
                        <a:pt x="0" y="270"/>
                      </a:lnTo>
                      <a:lnTo>
                        <a:pt x="113" y="270"/>
                      </a:lnTo>
                      <a:lnTo>
                        <a:pt x="11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4765680" y="5176800"/>
                <a:ext cx="235080" cy="33480"/>
              </a:xfrm>
              <a:custGeom>
                <a:avLst/>
                <a:gdLst/>
                <a:ahLst/>
                <a:rect l="l" t="t" r="r" b="b"/>
                <a:pathLst>
                  <a:path w="148" h="21">
                    <a:moveTo>
                      <a:pt x="116" y="20"/>
                    </a:moveTo>
                    <a:lnTo>
                      <a:pt x="0" y="20"/>
                    </a:lnTo>
                    <a:lnTo>
                      <a:pt x="32" y="0"/>
                    </a:lnTo>
                    <a:lnTo>
                      <a:pt x="147" y="0"/>
                    </a:lnTo>
                    <a:lnTo>
                      <a:pt x="116" y="2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68920" y="5210280"/>
                <a:ext cx="172800" cy="41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68920" y="5294160"/>
                <a:ext cx="137880" cy="31140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07800" y="5219640"/>
                <a:ext cx="964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AT&amp;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915080" y="5210280"/>
                <a:ext cx="28440" cy="41724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7099fc"/>
                  </a:gs>
                  <a:gs pos="100000">
                    <a:srgbClr val="618ffd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924440" y="5378400"/>
                <a:ext cx="2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4798800" y="5235480"/>
                <a:ext cx="101880" cy="34920"/>
                <a:chOff x="4798800" y="5235480"/>
                <a:chExt cx="101880" cy="349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800600" y="5235480"/>
                  <a:ext cx="97920" cy="3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52" y="6"/>
                      </a:moveTo>
                      <a:arcTo wR="10800" hR="10800" stAng="-5510857" swAng="55108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52" y="6"/>
                      </a:moveTo>
                      <a:arcTo wR="10800" hR="10800" stAng="-5510857" swAng="5510857"/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798800" y="5235480"/>
                  <a:ext cx="101880" cy="3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4" y="7873"/>
                      </a:moveTo>
                      <a:arcTo wR="10800" hR="10800" stAng="-9856606" swAng="43492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4" y="7873"/>
                      </a:moveTo>
                      <a:arcTo wR="10800" hR="10800" stAng="-9856606" swAng="4349211"/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 flipH="1">
                <a:off x="4780080" y="5238720"/>
                <a:ext cx="792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4898880" y="5238720"/>
                <a:ext cx="1296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4815720" y="5238720"/>
                <a:ext cx="52560" cy="43920"/>
                <a:chOff x="4815720" y="5238720"/>
                <a:chExt cx="52560" cy="439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815720" y="5238720"/>
                  <a:ext cx="52560" cy="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0" rIns="14400" tIns="6480" bIns="6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9080"/>
                      <a:tab algn="l" pos="38160"/>
                      <a:tab algn="l" pos="57240"/>
                      <a:tab algn="l" pos="76320"/>
                      <a:tab algn="l" pos="95400"/>
                      <a:tab algn="l" pos="114480"/>
                      <a:tab algn="l" pos="133200"/>
                      <a:tab algn="l" pos="152280"/>
                      <a:tab algn="l" pos="171360"/>
                      <a:tab algn="l" pos="190440"/>
                      <a:tab algn="l" pos="209520"/>
                      <a:tab algn="l" pos="228600"/>
                      <a:tab algn="l" pos="247680"/>
                      <a:tab algn="l" pos="266760"/>
                      <a:tab algn="l" pos="285840"/>
                      <a:tab algn="l" pos="304920"/>
                      <a:tab algn="l" pos="324000"/>
                      <a:tab algn="l" pos="343080"/>
                      <a:tab algn="l" pos="361800"/>
                      <a:tab algn="l" pos="38088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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821840" y="5238720"/>
                  <a:ext cx="37080" cy="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0" rIns="14400" tIns="6480" bIns="6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9080"/>
                      <a:tab algn="l" pos="38160"/>
                      <a:tab algn="l" pos="57240"/>
                      <a:tab algn="l" pos="76320"/>
                      <a:tab algn="l" pos="95400"/>
                      <a:tab algn="l" pos="114480"/>
                      <a:tab algn="l" pos="133200"/>
                      <a:tab algn="l" pos="152280"/>
                      <a:tab algn="l" pos="171360"/>
                      <a:tab algn="l" pos="190440"/>
                      <a:tab algn="l" pos="209520"/>
                      <a:tab algn="l" pos="228600"/>
                      <a:tab algn="l" pos="247680"/>
                      <a:tab algn="l" pos="266760"/>
                      <a:tab algn="l" pos="285840"/>
                      <a:tab algn="l" pos="304920"/>
                      <a:tab algn="l" pos="324000"/>
                      <a:tab algn="l" pos="343080"/>
                      <a:tab algn="l" pos="361800"/>
                      <a:tab algn="l" pos="380880"/>
                    </a:tabLst>
                  </a:pPr>
                  <a:r>
                    <a:rPr b="1" lang="en-US" sz="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4944960" y="5176800"/>
                <a:ext cx="55800" cy="457200"/>
              </a:xfrm>
              <a:custGeom>
                <a:avLst/>
                <a:gdLst/>
                <a:ahLst/>
                <a:rect l="l" t="t" r="r" b="b"/>
                <a:pathLst>
                  <a:path w="35" h="288">
                    <a:moveTo>
                      <a:pt x="0" y="287"/>
                    </a:moveTo>
                    <a:lnTo>
                      <a:pt x="0" y="19"/>
                    </a:lnTo>
                    <a:lnTo>
                      <a:pt x="34" y="0"/>
                    </a:lnTo>
                    <a:lnTo>
                      <a:pt x="34" y="213"/>
                    </a:lnTo>
                    <a:lnTo>
                      <a:pt x="0" y="28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775040" y="5629320"/>
                <a:ext cx="171720" cy="23760"/>
              </a:xfrm>
              <a:custGeom>
                <a:avLst/>
                <a:gdLst/>
                <a:ahLst/>
                <a:rect l="l" t="t" r="r" b="b"/>
                <a:pathLst>
                  <a:path w="108" h="15">
                    <a:moveTo>
                      <a:pt x="0" y="0"/>
                    </a:moveTo>
                    <a:lnTo>
                      <a:pt x="107" y="0"/>
                    </a:lnTo>
                    <a:lnTo>
                      <a:pt x="107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5516640"/>
                <a:ext cx="55800" cy="127080"/>
              </a:xfrm>
              <a:custGeom>
                <a:avLst/>
                <a:gdLst/>
                <a:ahLst/>
                <a:rect l="l" t="t" r="r" b="b"/>
                <a:pathLst>
                  <a:path w="35" h="80">
                    <a:moveTo>
                      <a:pt x="0" y="71"/>
                    </a:moveTo>
                    <a:lnTo>
                      <a:pt x="34" y="0"/>
                    </a:lnTo>
                    <a:lnTo>
                      <a:pt x="34" y="3"/>
                    </a:lnTo>
                    <a:lnTo>
                      <a:pt x="0" y="79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710480" y="4960800"/>
              <a:ext cx="236520" cy="474840"/>
              <a:chOff x="7710480" y="4960800"/>
              <a:chExt cx="236520" cy="474840"/>
            </a:xfrm>
          </p:grpSpPr>
          <p:sp>
            <p:nvSpPr>
              <p:cNvPr id="459" name=""/>
              <p:cNvSpPr/>
              <p:nvPr/>
            </p:nvSpPr>
            <p:spPr>
              <a:xfrm>
                <a:off x="7889760" y="4960800"/>
                <a:ext cx="55800" cy="459000"/>
              </a:xfrm>
              <a:custGeom>
                <a:avLst/>
                <a:gdLst/>
                <a:ahLst/>
                <a:rect l="l" t="t" r="r" b="b"/>
                <a:pathLst>
                  <a:path w="35" h="289">
                    <a:moveTo>
                      <a:pt x="0" y="288"/>
                    </a:moveTo>
                    <a:lnTo>
                      <a:pt x="0" y="19"/>
                    </a:lnTo>
                    <a:lnTo>
                      <a:pt x="34" y="0"/>
                    </a:lnTo>
                    <a:lnTo>
                      <a:pt x="34" y="214"/>
                    </a:lnTo>
                    <a:lnTo>
                      <a:pt x="0" y="288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10480" y="4960800"/>
                <a:ext cx="236520" cy="32040"/>
              </a:xfrm>
              <a:custGeom>
                <a:avLst/>
                <a:gdLst/>
                <a:ahLst/>
                <a:rect l="l" t="t" r="r" b="b"/>
                <a:pathLst>
                  <a:path w="149" h="20">
                    <a:moveTo>
                      <a:pt x="117" y="19"/>
                    </a:moveTo>
                    <a:lnTo>
                      <a:pt x="0" y="19"/>
                    </a:lnTo>
                    <a:lnTo>
                      <a:pt x="32" y="0"/>
                    </a:lnTo>
                    <a:lnTo>
                      <a:pt x="148" y="0"/>
                    </a:lnTo>
                    <a:lnTo>
                      <a:pt x="117" y="1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7710480" y="4991040"/>
                <a:ext cx="181080" cy="428760"/>
                <a:chOff x="7710480" y="4991040"/>
                <a:chExt cx="181080" cy="428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710480" y="4991040"/>
                  <a:ext cx="179280" cy="424080"/>
                </a:xfrm>
                <a:custGeom>
                  <a:avLst/>
                  <a:gdLst/>
                  <a:ahLst/>
                  <a:rect l="l" t="t" r="r" b="b"/>
                  <a:pathLst>
                    <a:path w="113" h="267">
                      <a:moveTo>
                        <a:pt x="112" y="0"/>
                      </a:moveTo>
                      <a:lnTo>
                        <a:pt x="0" y="0"/>
                      </a:lnTo>
                      <a:lnTo>
                        <a:pt x="0" y="266"/>
                      </a:lnTo>
                      <a:lnTo>
                        <a:pt x="112" y="266"/>
                      </a:lnTo>
                      <a:lnTo>
                        <a:pt x="1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ecece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710480" y="4991040"/>
                  <a:ext cx="181080" cy="428760"/>
                </a:xfrm>
                <a:custGeom>
                  <a:avLst/>
                  <a:gdLst/>
                  <a:ahLst/>
                  <a:rect l="l" t="t" r="r" b="b"/>
                  <a:pathLst>
                    <a:path w="114" h="270">
                      <a:moveTo>
                        <a:pt x="113" y="0"/>
                      </a:moveTo>
                      <a:lnTo>
                        <a:pt x="0" y="0"/>
                      </a:lnTo>
                      <a:lnTo>
                        <a:pt x="0" y="269"/>
                      </a:lnTo>
                      <a:lnTo>
                        <a:pt x="113" y="269"/>
                      </a:lnTo>
                      <a:lnTo>
                        <a:pt x="11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7710480" y="4960800"/>
                <a:ext cx="235080" cy="33480"/>
              </a:xfrm>
              <a:custGeom>
                <a:avLst/>
                <a:gdLst/>
                <a:ahLst/>
                <a:rect l="l" t="t" r="r" b="b"/>
                <a:pathLst>
                  <a:path w="148" h="21">
                    <a:moveTo>
                      <a:pt x="116" y="20"/>
                    </a:moveTo>
                    <a:lnTo>
                      <a:pt x="0" y="20"/>
                    </a:lnTo>
                    <a:lnTo>
                      <a:pt x="32" y="0"/>
                    </a:lnTo>
                    <a:lnTo>
                      <a:pt x="147" y="0"/>
                    </a:lnTo>
                    <a:lnTo>
                      <a:pt x="116" y="2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713720" y="4994280"/>
                <a:ext cx="173160" cy="414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713720" y="5078520"/>
                <a:ext cx="137880" cy="30960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752600" y="5003640"/>
                <a:ext cx="964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AT&amp;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59880" y="4994280"/>
                <a:ext cx="28440" cy="41580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7099fc"/>
                  </a:gs>
                  <a:gs pos="100000">
                    <a:srgbClr val="618ffd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869240" y="5160960"/>
                <a:ext cx="2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7743600" y="5019840"/>
                <a:ext cx="101880" cy="34200"/>
                <a:chOff x="7743600" y="5019840"/>
                <a:chExt cx="101880" cy="342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7745400" y="5019840"/>
                  <a:ext cx="9792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52" y="6"/>
                      </a:moveTo>
                      <a:arcTo wR="10800" hR="10800" stAng="-5510857" swAng="55108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52" y="6"/>
                      </a:moveTo>
                      <a:arcTo wR="10800" hR="10800" stAng="-5510857" swAng="5510857"/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743600" y="5019840"/>
                  <a:ext cx="10188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4" y="7873"/>
                      </a:moveTo>
                      <a:arcTo wR="10800" hR="10800" stAng="-9856606" swAng="43492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4" y="7873"/>
                      </a:moveTo>
                      <a:arcTo wR="10800" hR="10800" stAng="-9856606" swAng="4349211"/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 flipH="1">
                <a:off x="7724880" y="5022720"/>
                <a:ext cx="792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7843680" y="5022720"/>
                <a:ext cx="1296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7760520" y="5022720"/>
                <a:ext cx="52560" cy="43920"/>
                <a:chOff x="7760520" y="5022720"/>
                <a:chExt cx="52560" cy="439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7760520" y="5022720"/>
                  <a:ext cx="52560" cy="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0" rIns="14400" tIns="6480" bIns="6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9080"/>
                      <a:tab algn="l" pos="38160"/>
                      <a:tab algn="l" pos="57240"/>
                      <a:tab algn="l" pos="76320"/>
                      <a:tab algn="l" pos="95400"/>
                      <a:tab algn="l" pos="114480"/>
                      <a:tab algn="l" pos="133200"/>
                      <a:tab algn="l" pos="152280"/>
                      <a:tab algn="l" pos="171360"/>
                      <a:tab algn="l" pos="190440"/>
                      <a:tab algn="l" pos="209520"/>
                      <a:tab algn="l" pos="228600"/>
                      <a:tab algn="l" pos="247680"/>
                      <a:tab algn="l" pos="266760"/>
                      <a:tab algn="l" pos="285840"/>
                      <a:tab algn="l" pos="304920"/>
                      <a:tab algn="l" pos="324000"/>
                      <a:tab algn="l" pos="343080"/>
                      <a:tab algn="l" pos="361800"/>
                      <a:tab algn="l" pos="38088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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764840" y="5022720"/>
                  <a:ext cx="37080" cy="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0" rIns="14400" tIns="6480" bIns="6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9080"/>
                      <a:tab algn="l" pos="38160"/>
                      <a:tab algn="l" pos="57240"/>
                      <a:tab algn="l" pos="76320"/>
                      <a:tab algn="l" pos="95400"/>
                      <a:tab algn="l" pos="114480"/>
                      <a:tab algn="l" pos="133200"/>
                      <a:tab algn="l" pos="152280"/>
                      <a:tab algn="l" pos="171360"/>
                      <a:tab algn="l" pos="190440"/>
                      <a:tab algn="l" pos="209520"/>
                      <a:tab algn="l" pos="228600"/>
                      <a:tab algn="l" pos="247680"/>
                      <a:tab algn="l" pos="266760"/>
                      <a:tab algn="l" pos="285840"/>
                      <a:tab algn="l" pos="304920"/>
                      <a:tab algn="l" pos="324000"/>
                      <a:tab algn="l" pos="343080"/>
                      <a:tab algn="l" pos="361800"/>
                      <a:tab algn="l" pos="380880"/>
                    </a:tabLst>
                  </a:pPr>
                  <a:r>
                    <a:rPr b="1" lang="en-US" sz="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7889760" y="4960800"/>
                <a:ext cx="55800" cy="455760"/>
              </a:xfrm>
              <a:custGeom>
                <a:avLst/>
                <a:gdLst/>
                <a:ahLst/>
                <a:rect l="l" t="t" r="r" b="b"/>
                <a:pathLst>
                  <a:path w="35" h="287">
                    <a:moveTo>
                      <a:pt x="0" y="286"/>
                    </a:moveTo>
                    <a:lnTo>
                      <a:pt x="0" y="19"/>
                    </a:lnTo>
                    <a:lnTo>
                      <a:pt x="34" y="0"/>
                    </a:lnTo>
                    <a:lnTo>
                      <a:pt x="34" y="212"/>
                    </a:lnTo>
                    <a:lnTo>
                      <a:pt x="0" y="2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719840" y="5411880"/>
                <a:ext cx="171720" cy="23760"/>
              </a:xfrm>
              <a:custGeom>
                <a:avLst/>
                <a:gdLst/>
                <a:ahLst/>
                <a:rect l="l" t="t" r="r" b="b"/>
                <a:pathLst>
                  <a:path w="108" h="15">
                    <a:moveTo>
                      <a:pt x="0" y="0"/>
                    </a:moveTo>
                    <a:lnTo>
                      <a:pt x="107" y="0"/>
                    </a:lnTo>
                    <a:lnTo>
                      <a:pt x="107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889760" y="5300640"/>
                <a:ext cx="55800" cy="125280"/>
              </a:xfrm>
              <a:custGeom>
                <a:avLst/>
                <a:gdLst/>
                <a:ahLst/>
                <a:rect l="l" t="t" r="r" b="b"/>
                <a:pathLst>
                  <a:path w="35" h="79">
                    <a:moveTo>
                      <a:pt x="0" y="70"/>
                    </a:moveTo>
                    <a:lnTo>
                      <a:pt x="34" y="0"/>
                    </a:lnTo>
                    <a:lnTo>
                      <a:pt x="34" y="3"/>
                    </a:lnTo>
                    <a:lnTo>
                      <a:pt x="0" y="78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1" name=""/>
          <p:cNvSpPr/>
          <p:nvPr/>
        </p:nvSpPr>
        <p:spPr>
          <a:xfrm>
            <a:off x="5409720" y="3759120"/>
            <a:ext cx="167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aps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62000" y="6197760"/>
            <a:ext cx="181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Ro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s media independent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traffic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ablishes best path between source and destinatio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switching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network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unreliabl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multipl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es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85800" y="2203560"/>
            <a:ext cx="3390840" cy="21207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65040" y="595800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68686"/>
                </a:solidFill>
                <a:uFillTx/>
                <a:latin typeface="Arial"/>
              </a:rPr>
              <a:t>Divides</a:t>
            </a: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 a large network into manageable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a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42560" y="4648320"/>
            <a:ext cx="451188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vices on individual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ub-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e all traffic o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ub-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ar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ub-network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 broadcast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 collision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1280" y="2602080"/>
            <a:ext cx="0" cy="1207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373480" y="3124080"/>
            <a:ext cx="2647800" cy="1397160"/>
            <a:chOff x="2373480" y="3124080"/>
            <a:chExt cx="2647800" cy="1397160"/>
          </a:xfrm>
        </p:grpSpPr>
        <p:grpSp>
          <p:nvGrpSpPr>
            <p:cNvPr id="491" name=""/>
            <p:cNvGrpSpPr/>
            <p:nvPr/>
          </p:nvGrpSpPr>
          <p:grpSpPr>
            <a:xfrm>
              <a:off x="2436840" y="3822840"/>
              <a:ext cx="527040" cy="698400"/>
              <a:chOff x="2436840" y="3822840"/>
              <a:chExt cx="527040" cy="698400"/>
            </a:xfrm>
          </p:grpSpPr>
          <p:sp>
            <p:nvSpPr>
              <p:cNvPr id="492" name=""/>
              <p:cNvSpPr/>
              <p:nvPr/>
            </p:nvSpPr>
            <p:spPr>
              <a:xfrm>
                <a:off x="26049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6840" y="39924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4" name=""/>
            <p:cNvGrpSpPr/>
            <p:nvPr/>
          </p:nvGrpSpPr>
          <p:grpSpPr>
            <a:xfrm>
              <a:off x="3122640" y="3822840"/>
              <a:ext cx="527040" cy="698400"/>
              <a:chOff x="3122640" y="3822840"/>
              <a:chExt cx="527040" cy="698400"/>
            </a:xfrm>
          </p:grpSpPr>
          <p:sp>
            <p:nvSpPr>
              <p:cNvPr id="495" name=""/>
              <p:cNvSpPr/>
              <p:nvPr/>
            </p:nvSpPr>
            <p:spPr>
              <a:xfrm>
                <a:off x="32907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22640" y="39924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7" name=""/>
            <p:cNvGrpSpPr/>
            <p:nvPr/>
          </p:nvGrpSpPr>
          <p:grpSpPr>
            <a:xfrm>
              <a:off x="3808440" y="3822840"/>
              <a:ext cx="527040" cy="698400"/>
              <a:chOff x="3808440" y="3822840"/>
              <a:chExt cx="527040" cy="698400"/>
            </a:xfrm>
          </p:grpSpPr>
          <p:sp>
            <p:nvSpPr>
              <p:cNvPr id="498" name=""/>
              <p:cNvSpPr/>
              <p:nvPr/>
            </p:nvSpPr>
            <p:spPr>
              <a:xfrm>
                <a:off x="39765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440" y="39924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0" name=""/>
            <p:cNvGrpSpPr/>
            <p:nvPr/>
          </p:nvGrpSpPr>
          <p:grpSpPr>
            <a:xfrm>
              <a:off x="4494240" y="3822840"/>
              <a:ext cx="527040" cy="698400"/>
              <a:chOff x="4494240" y="3822840"/>
              <a:chExt cx="527040" cy="698400"/>
            </a:xfrm>
          </p:grpSpPr>
          <p:sp>
            <p:nvSpPr>
              <p:cNvPr id="501" name=""/>
              <p:cNvSpPr/>
              <p:nvPr/>
            </p:nvSpPr>
            <p:spPr>
              <a:xfrm>
                <a:off x="46623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94240" y="39924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3" name=""/>
            <p:cNvGrpSpPr/>
            <p:nvPr/>
          </p:nvGrpSpPr>
          <p:grpSpPr>
            <a:xfrm>
              <a:off x="2894040" y="3124080"/>
              <a:ext cx="304920" cy="685800"/>
              <a:chOff x="2894040" y="3124080"/>
              <a:chExt cx="304920" cy="685800"/>
            </a:xfrm>
          </p:grpSpPr>
          <p:sp>
            <p:nvSpPr>
              <p:cNvPr id="504" name=""/>
              <p:cNvSpPr/>
              <p:nvPr/>
            </p:nvSpPr>
            <p:spPr>
              <a:xfrm>
                <a:off x="2981160" y="35370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4040" y="31240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6" name=""/>
            <p:cNvGrpSpPr/>
            <p:nvPr/>
          </p:nvGrpSpPr>
          <p:grpSpPr>
            <a:xfrm>
              <a:off x="4265640" y="3124080"/>
              <a:ext cx="304920" cy="685800"/>
              <a:chOff x="4265640" y="3124080"/>
              <a:chExt cx="304920" cy="685800"/>
            </a:xfrm>
          </p:grpSpPr>
          <p:sp>
            <p:nvSpPr>
              <p:cNvPr id="507" name=""/>
              <p:cNvSpPr/>
              <p:nvPr/>
            </p:nvSpPr>
            <p:spPr>
              <a:xfrm>
                <a:off x="4352760" y="35370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65640" y="31240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9" name=""/>
            <p:cNvSpPr/>
            <p:nvPr/>
          </p:nvSpPr>
          <p:spPr>
            <a:xfrm>
              <a:off x="2373480" y="38098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202280" y="1752480"/>
            <a:ext cx="2647800" cy="1397160"/>
            <a:chOff x="4202280" y="1752480"/>
            <a:chExt cx="2647800" cy="1397160"/>
          </a:xfrm>
        </p:grpSpPr>
        <p:grpSp>
          <p:nvGrpSpPr>
            <p:cNvPr id="511" name=""/>
            <p:cNvGrpSpPr/>
            <p:nvPr/>
          </p:nvGrpSpPr>
          <p:grpSpPr>
            <a:xfrm>
              <a:off x="4265640" y="2451240"/>
              <a:ext cx="527040" cy="698400"/>
              <a:chOff x="4265640" y="2451240"/>
              <a:chExt cx="527040" cy="698400"/>
            </a:xfrm>
          </p:grpSpPr>
          <p:sp>
            <p:nvSpPr>
              <p:cNvPr id="512" name=""/>
              <p:cNvSpPr/>
              <p:nvPr/>
            </p:nvSpPr>
            <p:spPr>
              <a:xfrm>
                <a:off x="44337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656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4" name=""/>
            <p:cNvGrpSpPr/>
            <p:nvPr/>
          </p:nvGrpSpPr>
          <p:grpSpPr>
            <a:xfrm>
              <a:off x="4951440" y="2451240"/>
              <a:ext cx="527040" cy="698400"/>
              <a:chOff x="4951440" y="2451240"/>
              <a:chExt cx="527040" cy="698400"/>
            </a:xfrm>
          </p:grpSpPr>
          <p:sp>
            <p:nvSpPr>
              <p:cNvPr id="515" name=""/>
              <p:cNvSpPr/>
              <p:nvPr/>
            </p:nvSpPr>
            <p:spPr>
              <a:xfrm>
                <a:off x="51195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14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7" name=""/>
            <p:cNvGrpSpPr/>
            <p:nvPr/>
          </p:nvGrpSpPr>
          <p:grpSpPr>
            <a:xfrm>
              <a:off x="5637240" y="2451240"/>
              <a:ext cx="527040" cy="698400"/>
              <a:chOff x="5637240" y="2451240"/>
              <a:chExt cx="527040" cy="698400"/>
            </a:xfrm>
          </p:grpSpPr>
          <p:sp>
            <p:nvSpPr>
              <p:cNvPr id="518" name=""/>
              <p:cNvSpPr/>
              <p:nvPr/>
            </p:nvSpPr>
            <p:spPr>
              <a:xfrm>
                <a:off x="58053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72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0" name=""/>
            <p:cNvGrpSpPr/>
            <p:nvPr/>
          </p:nvGrpSpPr>
          <p:grpSpPr>
            <a:xfrm>
              <a:off x="6323040" y="2451240"/>
              <a:ext cx="527040" cy="698400"/>
              <a:chOff x="6323040" y="2451240"/>
              <a:chExt cx="527040" cy="698400"/>
            </a:xfrm>
          </p:grpSpPr>
          <p:sp>
            <p:nvSpPr>
              <p:cNvPr id="521" name=""/>
              <p:cNvSpPr/>
              <p:nvPr/>
            </p:nvSpPr>
            <p:spPr>
              <a:xfrm>
                <a:off x="64911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230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3" name=""/>
            <p:cNvGrpSpPr/>
            <p:nvPr/>
          </p:nvGrpSpPr>
          <p:grpSpPr>
            <a:xfrm>
              <a:off x="4722840" y="1752480"/>
              <a:ext cx="304920" cy="685800"/>
              <a:chOff x="4722840" y="1752480"/>
              <a:chExt cx="304920" cy="685800"/>
            </a:xfrm>
          </p:grpSpPr>
          <p:sp>
            <p:nvSpPr>
              <p:cNvPr id="524" name=""/>
              <p:cNvSpPr/>
              <p:nvPr/>
            </p:nvSpPr>
            <p:spPr>
              <a:xfrm>
                <a:off x="48099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228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6" name=""/>
            <p:cNvGrpSpPr/>
            <p:nvPr/>
          </p:nvGrpSpPr>
          <p:grpSpPr>
            <a:xfrm>
              <a:off x="6094440" y="1752480"/>
              <a:ext cx="304920" cy="685800"/>
              <a:chOff x="6094440" y="1752480"/>
              <a:chExt cx="304920" cy="685800"/>
            </a:xfrm>
          </p:grpSpPr>
          <p:sp>
            <p:nvSpPr>
              <p:cNvPr id="527" name=""/>
              <p:cNvSpPr/>
              <p:nvPr/>
            </p:nvSpPr>
            <p:spPr>
              <a:xfrm>
                <a:off x="61815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9" name=""/>
            <p:cNvSpPr/>
            <p:nvPr/>
          </p:nvSpPr>
          <p:spPr>
            <a:xfrm>
              <a:off x="4202280" y="24382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20640" y="1752480"/>
            <a:ext cx="2648160" cy="1397160"/>
            <a:chOff x="620640" y="1752480"/>
            <a:chExt cx="2648160" cy="1397160"/>
          </a:xfrm>
        </p:grpSpPr>
        <p:grpSp>
          <p:nvGrpSpPr>
            <p:cNvPr id="531" name=""/>
            <p:cNvGrpSpPr/>
            <p:nvPr/>
          </p:nvGrpSpPr>
          <p:grpSpPr>
            <a:xfrm>
              <a:off x="684360" y="2451240"/>
              <a:ext cx="527040" cy="698400"/>
              <a:chOff x="684360" y="2451240"/>
              <a:chExt cx="527040" cy="698400"/>
            </a:xfrm>
          </p:grpSpPr>
          <p:sp>
            <p:nvSpPr>
              <p:cNvPr id="532" name=""/>
              <p:cNvSpPr/>
              <p:nvPr/>
            </p:nvSpPr>
            <p:spPr>
              <a:xfrm>
                <a:off x="8524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843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4" name=""/>
            <p:cNvGrpSpPr/>
            <p:nvPr/>
          </p:nvGrpSpPr>
          <p:grpSpPr>
            <a:xfrm>
              <a:off x="1370160" y="2451240"/>
              <a:ext cx="527040" cy="698400"/>
              <a:chOff x="1370160" y="2451240"/>
              <a:chExt cx="527040" cy="698400"/>
            </a:xfrm>
          </p:grpSpPr>
          <p:sp>
            <p:nvSpPr>
              <p:cNvPr id="535" name=""/>
              <p:cNvSpPr/>
              <p:nvPr/>
            </p:nvSpPr>
            <p:spPr>
              <a:xfrm>
                <a:off x="15382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01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7" name=""/>
            <p:cNvGrpSpPr/>
            <p:nvPr/>
          </p:nvGrpSpPr>
          <p:grpSpPr>
            <a:xfrm>
              <a:off x="2055960" y="2451240"/>
              <a:ext cx="527040" cy="698400"/>
              <a:chOff x="2055960" y="2451240"/>
              <a:chExt cx="527040" cy="698400"/>
            </a:xfrm>
          </p:grpSpPr>
          <p:sp>
            <p:nvSpPr>
              <p:cNvPr id="538" name=""/>
              <p:cNvSpPr/>
              <p:nvPr/>
            </p:nvSpPr>
            <p:spPr>
              <a:xfrm>
                <a:off x="22240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59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0" name=""/>
            <p:cNvGrpSpPr/>
            <p:nvPr/>
          </p:nvGrpSpPr>
          <p:grpSpPr>
            <a:xfrm>
              <a:off x="2741760" y="2451240"/>
              <a:ext cx="527040" cy="698400"/>
              <a:chOff x="2741760" y="2451240"/>
              <a:chExt cx="527040" cy="698400"/>
            </a:xfrm>
          </p:grpSpPr>
          <p:sp>
            <p:nvSpPr>
              <p:cNvPr id="541" name=""/>
              <p:cNvSpPr/>
              <p:nvPr/>
            </p:nvSpPr>
            <p:spPr>
              <a:xfrm>
                <a:off x="29098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17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3" name=""/>
            <p:cNvGrpSpPr/>
            <p:nvPr/>
          </p:nvGrpSpPr>
          <p:grpSpPr>
            <a:xfrm>
              <a:off x="1141560" y="1752480"/>
              <a:ext cx="304560" cy="685800"/>
              <a:chOff x="1141560" y="1752480"/>
              <a:chExt cx="304560" cy="685800"/>
            </a:xfrm>
          </p:grpSpPr>
          <p:sp>
            <p:nvSpPr>
              <p:cNvPr id="544" name=""/>
              <p:cNvSpPr/>
              <p:nvPr/>
            </p:nvSpPr>
            <p:spPr>
              <a:xfrm>
                <a:off x="12286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41560" y="1752480"/>
                <a:ext cx="30456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6" name=""/>
            <p:cNvGrpSpPr/>
            <p:nvPr/>
          </p:nvGrpSpPr>
          <p:grpSpPr>
            <a:xfrm>
              <a:off x="2513160" y="1752480"/>
              <a:ext cx="304560" cy="685800"/>
              <a:chOff x="2513160" y="1752480"/>
              <a:chExt cx="304560" cy="685800"/>
            </a:xfrm>
          </p:grpSpPr>
          <p:sp>
            <p:nvSpPr>
              <p:cNvPr id="547" name=""/>
              <p:cNvSpPr/>
              <p:nvPr/>
            </p:nvSpPr>
            <p:spPr>
              <a:xfrm>
                <a:off x="26002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513160" y="1752480"/>
                <a:ext cx="30456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9" name=""/>
            <p:cNvSpPr/>
            <p:nvPr/>
          </p:nvSpPr>
          <p:spPr>
            <a:xfrm>
              <a:off x="620640" y="2438280"/>
              <a:ext cx="2578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" descr=""/>
          <p:cNvPicPr/>
          <p:nvPr/>
        </p:nvPicPr>
        <p:blipFill>
          <a:blip r:embed="rId19"/>
          <a:stretch/>
        </p:blipFill>
        <p:spPr>
          <a:xfrm>
            <a:off x="2971800" y="1905120"/>
            <a:ext cx="1424160" cy="9712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451800" y="4952880"/>
            <a:ext cx="3450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o broadcast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Learn network t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upport multiple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se network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06720" y="1371240"/>
            <a:ext cx="5235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its mixed 10/100 Mbps speed mi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full bandwidth availability per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address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ards messages with unknown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 from shared to switched 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es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Lin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twor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77720" y="2286000"/>
            <a:ext cx="3259080" cy="1612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14560" y="5805360"/>
            <a:ext cx="8877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68686"/>
                </a:solidFill>
                <a:uFillTx/>
                <a:latin typeface="Arial"/>
              </a:rPr>
              <a:t>Converts</a:t>
            </a: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 a shared network into a switch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for optimized client/server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are LANs Popu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sharable hardware, software, and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low cost network attac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w local management an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ually organized into work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client/server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sharable communications, file, and print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752560" y="426708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19400" y="4419720"/>
            <a:ext cx="82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Switches with Ro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330520" y="4800600"/>
            <a:ext cx="2926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witched de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dicate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oll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2602080"/>
            <a:ext cx="0" cy="166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495680" y="4581360"/>
            <a:ext cx="527040" cy="698760"/>
            <a:chOff x="4495680" y="4581360"/>
            <a:chExt cx="527040" cy="698760"/>
          </a:xfrm>
        </p:grpSpPr>
        <p:sp>
          <p:nvSpPr>
            <p:cNvPr id="562" name=""/>
            <p:cNvSpPr/>
            <p:nvPr/>
          </p:nvSpPr>
          <p:spPr>
            <a:xfrm>
              <a:off x="4664160" y="4581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3" name="" descr=""/>
            <p:cNvPicPr/>
            <p:nvPr/>
          </p:nvPicPr>
          <p:blipFill>
            <a:blip r:embed="rId1"/>
            <a:stretch/>
          </p:blipFill>
          <p:spPr>
            <a:xfrm>
              <a:off x="4495680" y="4751280"/>
              <a:ext cx="527040" cy="5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4" name=""/>
          <p:cNvGrpSpPr/>
          <p:nvPr/>
        </p:nvGrpSpPr>
        <p:grpSpPr>
          <a:xfrm>
            <a:off x="2286000" y="4809960"/>
            <a:ext cx="527040" cy="698760"/>
            <a:chOff x="2286000" y="4809960"/>
            <a:chExt cx="527040" cy="698760"/>
          </a:xfrm>
        </p:grpSpPr>
        <p:sp>
          <p:nvSpPr>
            <p:cNvPr id="565" name=""/>
            <p:cNvSpPr/>
            <p:nvPr/>
          </p:nvSpPr>
          <p:spPr>
            <a:xfrm>
              <a:off x="2454120" y="4809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6" name="" descr=""/>
            <p:cNvPicPr/>
            <p:nvPr/>
          </p:nvPicPr>
          <p:blipFill>
            <a:blip r:embed="rId2"/>
            <a:stretch/>
          </p:blipFill>
          <p:spPr>
            <a:xfrm>
              <a:off x="2286000" y="4979880"/>
              <a:ext cx="527040" cy="5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"/>
          <p:cNvGrpSpPr/>
          <p:nvPr/>
        </p:nvGrpSpPr>
        <p:grpSpPr>
          <a:xfrm>
            <a:off x="3048120" y="4809960"/>
            <a:ext cx="527040" cy="698760"/>
            <a:chOff x="3048120" y="4809960"/>
            <a:chExt cx="527040" cy="698760"/>
          </a:xfrm>
        </p:grpSpPr>
        <p:sp>
          <p:nvSpPr>
            <p:cNvPr id="568" name=""/>
            <p:cNvSpPr/>
            <p:nvPr/>
          </p:nvSpPr>
          <p:spPr>
            <a:xfrm>
              <a:off x="3216240" y="4809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3"/>
            <a:stretch/>
          </p:blipFill>
          <p:spPr>
            <a:xfrm>
              <a:off x="3048120" y="4979880"/>
              <a:ext cx="527040" cy="5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"/>
          <p:cNvGrpSpPr/>
          <p:nvPr/>
        </p:nvGrpSpPr>
        <p:grpSpPr>
          <a:xfrm>
            <a:off x="3657600" y="4809960"/>
            <a:ext cx="527040" cy="698760"/>
            <a:chOff x="3657600" y="4809960"/>
            <a:chExt cx="527040" cy="698760"/>
          </a:xfrm>
        </p:grpSpPr>
        <p:sp>
          <p:nvSpPr>
            <p:cNvPr id="571" name=""/>
            <p:cNvSpPr/>
            <p:nvPr/>
          </p:nvSpPr>
          <p:spPr>
            <a:xfrm>
              <a:off x="3825720" y="4809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4"/>
            <a:stretch/>
          </p:blipFill>
          <p:spPr>
            <a:xfrm>
              <a:off x="3657600" y="4979880"/>
              <a:ext cx="527040" cy="5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"/>
          <p:cNvGrpSpPr/>
          <p:nvPr/>
        </p:nvGrpSpPr>
        <p:grpSpPr>
          <a:xfrm>
            <a:off x="2133720" y="3733920"/>
            <a:ext cx="304560" cy="685800"/>
            <a:chOff x="2133720" y="3733920"/>
            <a:chExt cx="304560" cy="685800"/>
          </a:xfrm>
        </p:grpSpPr>
        <p:sp>
          <p:nvSpPr>
            <p:cNvPr id="574" name=""/>
            <p:cNvSpPr/>
            <p:nvPr/>
          </p:nvSpPr>
          <p:spPr>
            <a:xfrm>
              <a:off x="2220840" y="414648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5" name="" descr=""/>
            <p:cNvPicPr/>
            <p:nvPr/>
          </p:nvPicPr>
          <p:blipFill>
            <a:blip r:embed="rId5"/>
            <a:stretch/>
          </p:blipFill>
          <p:spPr>
            <a:xfrm>
              <a:off x="2133720" y="3733920"/>
              <a:ext cx="30456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6" name=""/>
          <p:cNvGrpSpPr/>
          <p:nvPr/>
        </p:nvGrpSpPr>
        <p:grpSpPr>
          <a:xfrm>
            <a:off x="2666880" y="3581280"/>
            <a:ext cx="304920" cy="685800"/>
            <a:chOff x="2666880" y="3581280"/>
            <a:chExt cx="304920" cy="685800"/>
          </a:xfrm>
        </p:grpSpPr>
        <p:sp>
          <p:nvSpPr>
            <p:cNvPr id="577" name=""/>
            <p:cNvSpPr/>
            <p:nvPr/>
          </p:nvSpPr>
          <p:spPr>
            <a:xfrm>
              <a:off x="2754360" y="3994200"/>
              <a:ext cx="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6"/>
            <a:stretch/>
          </p:blipFill>
          <p:spPr>
            <a:xfrm>
              <a:off x="2666880" y="3581280"/>
              <a:ext cx="3049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4202280" y="1752480"/>
            <a:ext cx="2647800" cy="1397160"/>
            <a:chOff x="4202280" y="1752480"/>
            <a:chExt cx="2647800" cy="1397160"/>
          </a:xfrm>
        </p:grpSpPr>
        <p:grpSp>
          <p:nvGrpSpPr>
            <p:cNvPr id="580" name=""/>
            <p:cNvGrpSpPr/>
            <p:nvPr/>
          </p:nvGrpSpPr>
          <p:grpSpPr>
            <a:xfrm>
              <a:off x="4265640" y="2451240"/>
              <a:ext cx="527040" cy="698400"/>
              <a:chOff x="4265640" y="2451240"/>
              <a:chExt cx="527040" cy="698400"/>
            </a:xfrm>
          </p:grpSpPr>
          <p:sp>
            <p:nvSpPr>
              <p:cNvPr id="581" name=""/>
              <p:cNvSpPr/>
              <p:nvPr/>
            </p:nvSpPr>
            <p:spPr>
              <a:xfrm>
                <a:off x="44337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656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4951440" y="2451240"/>
              <a:ext cx="527040" cy="698400"/>
              <a:chOff x="4951440" y="2451240"/>
              <a:chExt cx="527040" cy="698400"/>
            </a:xfrm>
          </p:grpSpPr>
          <p:sp>
            <p:nvSpPr>
              <p:cNvPr id="584" name=""/>
              <p:cNvSpPr/>
              <p:nvPr/>
            </p:nvSpPr>
            <p:spPr>
              <a:xfrm>
                <a:off x="51195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14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637240" y="2451240"/>
              <a:ext cx="527040" cy="698400"/>
              <a:chOff x="5637240" y="2451240"/>
              <a:chExt cx="527040" cy="698400"/>
            </a:xfrm>
          </p:grpSpPr>
          <p:sp>
            <p:nvSpPr>
              <p:cNvPr id="587" name=""/>
              <p:cNvSpPr/>
              <p:nvPr/>
            </p:nvSpPr>
            <p:spPr>
              <a:xfrm>
                <a:off x="58053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72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9" name=""/>
            <p:cNvGrpSpPr/>
            <p:nvPr/>
          </p:nvGrpSpPr>
          <p:grpSpPr>
            <a:xfrm>
              <a:off x="6323040" y="2451240"/>
              <a:ext cx="527040" cy="698400"/>
              <a:chOff x="6323040" y="2451240"/>
              <a:chExt cx="527040" cy="698400"/>
            </a:xfrm>
          </p:grpSpPr>
          <p:sp>
            <p:nvSpPr>
              <p:cNvPr id="590" name=""/>
              <p:cNvSpPr/>
              <p:nvPr/>
            </p:nvSpPr>
            <p:spPr>
              <a:xfrm>
                <a:off x="64911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230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2" name=""/>
            <p:cNvGrpSpPr/>
            <p:nvPr/>
          </p:nvGrpSpPr>
          <p:grpSpPr>
            <a:xfrm>
              <a:off x="4722840" y="1752480"/>
              <a:ext cx="304920" cy="685800"/>
              <a:chOff x="4722840" y="1752480"/>
              <a:chExt cx="304920" cy="685800"/>
            </a:xfrm>
          </p:grpSpPr>
          <p:sp>
            <p:nvSpPr>
              <p:cNvPr id="593" name=""/>
              <p:cNvSpPr/>
              <p:nvPr/>
            </p:nvSpPr>
            <p:spPr>
              <a:xfrm>
                <a:off x="48099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228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5" name=""/>
            <p:cNvGrpSpPr/>
            <p:nvPr/>
          </p:nvGrpSpPr>
          <p:grpSpPr>
            <a:xfrm>
              <a:off x="6094440" y="1752480"/>
              <a:ext cx="304920" cy="685800"/>
              <a:chOff x="6094440" y="1752480"/>
              <a:chExt cx="304920" cy="685800"/>
            </a:xfrm>
          </p:grpSpPr>
          <p:sp>
            <p:nvSpPr>
              <p:cNvPr id="596" name=""/>
              <p:cNvSpPr/>
              <p:nvPr/>
            </p:nvSpPr>
            <p:spPr>
              <a:xfrm>
                <a:off x="61815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8" name=""/>
            <p:cNvSpPr/>
            <p:nvPr/>
          </p:nvSpPr>
          <p:spPr>
            <a:xfrm>
              <a:off x="4202280" y="24382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20640" y="1752480"/>
            <a:ext cx="2648160" cy="1397160"/>
            <a:chOff x="620640" y="1752480"/>
            <a:chExt cx="2648160" cy="1397160"/>
          </a:xfrm>
        </p:grpSpPr>
        <p:grpSp>
          <p:nvGrpSpPr>
            <p:cNvPr id="600" name=""/>
            <p:cNvGrpSpPr/>
            <p:nvPr/>
          </p:nvGrpSpPr>
          <p:grpSpPr>
            <a:xfrm>
              <a:off x="684360" y="2451240"/>
              <a:ext cx="527040" cy="698400"/>
              <a:chOff x="684360" y="2451240"/>
              <a:chExt cx="527040" cy="698400"/>
            </a:xfrm>
          </p:grpSpPr>
          <p:sp>
            <p:nvSpPr>
              <p:cNvPr id="601" name=""/>
              <p:cNvSpPr/>
              <p:nvPr/>
            </p:nvSpPr>
            <p:spPr>
              <a:xfrm>
                <a:off x="8524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843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3" name=""/>
            <p:cNvGrpSpPr/>
            <p:nvPr/>
          </p:nvGrpSpPr>
          <p:grpSpPr>
            <a:xfrm>
              <a:off x="1370160" y="2451240"/>
              <a:ext cx="527040" cy="698400"/>
              <a:chOff x="1370160" y="2451240"/>
              <a:chExt cx="527040" cy="698400"/>
            </a:xfrm>
          </p:grpSpPr>
          <p:sp>
            <p:nvSpPr>
              <p:cNvPr id="604" name=""/>
              <p:cNvSpPr/>
              <p:nvPr/>
            </p:nvSpPr>
            <p:spPr>
              <a:xfrm>
                <a:off x="15382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01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6" name=""/>
            <p:cNvGrpSpPr/>
            <p:nvPr/>
          </p:nvGrpSpPr>
          <p:grpSpPr>
            <a:xfrm>
              <a:off x="2055960" y="2451240"/>
              <a:ext cx="527040" cy="698400"/>
              <a:chOff x="2055960" y="2451240"/>
              <a:chExt cx="527040" cy="698400"/>
            </a:xfrm>
          </p:grpSpPr>
          <p:sp>
            <p:nvSpPr>
              <p:cNvPr id="607" name=""/>
              <p:cNvSpPr/>
              <p:nvPr/>
            </p:nvSpPr>
            <p:spPr>
              <a:xfrm>
                <a:off x="22240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59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9" name=""/>
            <p:cNvGrpSpPr/>
            <p:nvPr/>
          </p:nvGrpSpPr>
          <p:grpSpPr>
            <a:xfrm>
              <a:off x="2741760" y="2451240"/>
              <a:ext cx="527040" cy="698400"/>
              <a:chOff x="2741760" y="2451240"/>
              <a:chExt cx="527040" cy="698400"/>
            </a:xfrm>
          </p:grpSpPr>
          <p:sp>
            <p:nvSpPr>
              <p:cNvPr id="610" name=""/>
              <p:cNvSpPr/>
              <p:nvPr/>
            </p:nvSpPr>
            <p:spPr>
              <a:xfrm>
                <a:off x="29098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17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2" name=""/>
            <p:cNvGrpSpPr/>
            <p:nvPr/>
          </p:nvGrpSpPr>
          <p:grpSpPr>
            <a:xfrm>
              <a:off x="1141560" y="1752480"/>
              <a:ext cx="304560" cy="685800"/>
              <a:chOff x="1141560" y="1752480"/>
              <a:chExt cx="304560" cy="685800"/>
            </a:xfrm>
          </p:grpSpPr>
          <p:sp>
            <p:nvSpPr>
              <p:cNvPr id="613" name=""/>
              <p:cNvSpPr/>
              <p:nvPr/>
            </p:nvSpPr>
            <p:spPr>
              <a:xfrm>
                <a:off x="12286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41560" y="1752480"/>
                <a:ext cx="30456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5" name=""/>
            <p:cNvGrpSpPr/>
            <p:nvPr/>
          </p:nvGrpSpPr>
          <p:grpSpPr>
            <a:xfrm>
              <a:off x="2513160" y="1752480"/>
              <a:ext cx="304560" cy="685800"/>
              <a:chOff x="2513160" y="1752480"/>
              <a:chExt cx="304560" cy="685800"/>
            </a:xfrm>
          </p:grpSpPr>
          <p:sp>
            <p:nvSpPr>
              <p:cNvPr id="616" name=""/>
              <p:cNvSpPr/>
              <p:nvPr/>
            </p:nvSpPr>
            <p:spPr>
              <a:xfrm>
                <a:off x="26002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513160" y="1752480"/>
                <a:ext cx="30456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8" name=""/>
            <p:cNvSpPr/>
            <p:nvPr/>
          </p:nvSpPr>
          <p:spPr>
            <a:xfrm>
              <a:off x="620640" y="2438280"/>
              <a:ext cx="2578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9" name="" descr=""/>
          <p:cNvPicPr/>
          <p:nvPr/>
        </p:nvPicPr>
        <p:blipFill>
          <a:blip r:embed="rId19"/>
          <a:stretch/>
        </p:blipFill>
        <p:spPr>
          <a:xfrm>
            <a:off x="2971800" y="1905120"/>
            <a:ext cx="1424160" cy="9712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0"/>
          <a:stretch/>
        </p:blipFill>
        <p:spPr>
          <a:xfrm>
            <a:off x="2895480" y="4191120"/>
            <a:ext cx="1446480" cy="7747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448000" y="480060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4047840" y="457200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M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9880" y="15238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LAN e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virtual channel/virtual path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isochronous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QoS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multiple traffic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NSA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ell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es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Lin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t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89080" y="4449600"/>
            <a:ext cx="183960" cy="70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811080" y="2133720"/>
            <a:ext cx="2381400" cy="23241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35000" y="5576760"/>
            <a:ext cx="8807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68686"/>
                </a:solidFill>
                <a:uFillTx/>
                <a:latin typeface="Arial"/>
              </a:rPr>
              <a:t>Provides</a:t>
            </a: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 time critical message delivery in a sh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or switched network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404880" y="1066320"/>
            <a:ext cx="5662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its protocol stack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A to 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A to DEC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its migration strategies to be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its enterpris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ress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re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increased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es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7 OS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ay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43000" y="1752480"/>
            <a:ext cx="2058840" cy="3506760"/>
            <a:chOff x="1143000" y="1752480"/>
            <a:chExt cx="2058840" cy="3506760"/>
          </a:xfrm>
        </p:grpSpPr>
        <p:sp>
          <p:nvSpPr>
            <p:cNvPr id="631" name=""/>
            <p:cNvSpPr/>
            <p:nvPr/>
          </p:nvSpPr>
          <p:spPr>
            <a:xfrm>
              <a:off x="2730600" y="1754280"/>
              <a:ext cx="450720" cy="3430440"/>
            </a:xfrm>
            <a:custGeom>
              <a:avLst/>
              <a:gdLst/>
              <a:ahLst/>
              <a:rect l="l" t="t" r="r" b="b"/>
              <a:pathLst>
                <a:path w="284" h="2161">
                  <a:moveTo>
                    <a:pt x="0" y="2160"/>
                  </a:moveTo>
                  <a:lnTo>
                    <a:pt x="0" y="147"/>
                  </a:lnTo>
                  <a:lnTo>
                    <a:pt x="283" y="0"/>
                  </a:lnTo>
                  <a:lnTo>
                    <a:pt x="283" y="1602"/>
                  </a:lnTo>
                  <a:lnTo>
                    <a:pt x="0" y="216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e0e0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43000" y="1754280"/>
              <a:ext cx="2058840" cy="220680"/>
            </a:xfrm>
            <a:custGeom>
              <a:avLst/>
              <a:gdLst/>
              <a:ahLst/>
              <a:rect l="l" t="t" r="r" b="b"/>
              <a:pathLst>
                <a:path w="1297" h="139">
                  <a:moveTo>
                    <a:pt x="1014" y="138"/>
                  </a:moveTo>
                  <a:lnTo>
                    <a:pt x="0" y="138"/>
                  </a:lnTo>
                  <a:lnTo>
                    <a:pt x="277" y="0"/>
                  </a:lnTo>
                  <a:lnTo>
                    <a:pt x="1296" y="0"/>
                  </a:lnTo>
                  <a:lnTo>
                    <a:pt x="1014" y="13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1143000" y="1973160"/>
              <a:ext cx="1589040" cy="3211560"/>
              <a:chOff x="1143000" y="1973160"/>
              <a:chExt cx="1589040" cy="3211560"/>
            </a:xfrm>
          </p:grpSpPr>
          <p:sp>
            <p:nvSpPr>
              <p:cNvPr id="634" name=""/>
              <p:cNvSpPr/>
              <p:nvPr/>
            </p:nvSpPr>
            <p:spPr>
              <a:xfrm>
                <a:off x="1143000" y="1986120"/>
                <a:ext cx="1552680" cy="3163680"/>
              </a:xfrm>
              <a:custGeom>
                <a:avLst/>
                <a:gdLst/>
                <a:ahLst/>
                <a:rect l="l" t="t" r="r" b="b"/>
                <a:pathLst>
                  <a:path w="978" h="1993">
                    <a:moveTo>
                      <a:pt x="977" y="0"/>
                    </a:moveTo>
                    <a:lnTo>
                      <a:pt x="0" y="0"/>
                    </a:lnTo>
                    <a:lnTo>
                      <a:pt x="0" y="1992"/>
                    </a:lnTo>
                    <a:lnTo>
                      <a:pt x="977" y="1992"/>
                    </a:lnTo>
                    <a:lnTo>
                      <a:pt x="977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50920" y="1973160"/>
                <a:ext cx="1581120" cy="3211560"/>
              </a:xfrm>
              <a:custGeom>
                <a:avLst/>
                <a:gdLst/>
                <a:ahLst/>
                <a:rect l="l" t="t" r="r" b="b"/>
                <a:pathLst>
                  <a:path w="996" h="2023">
                    <a:moveTo>
                      <a:pt x="995" y="0"/>
                    </a:moveTo>
                    <a:lnTo>
                      <a:pt x="0" y="0"/>
                    </a:lnTo>
                    <a:lnTo>
                      <a:pt x="0" y="2022"/>
                    </a:lnTo>
                    <a:lnTo>
                      <a:pt x="995" y="2022"/>
                    </a:lnTo>
                    <a:lnTo>
                      <a:pt x="99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150920" y="1754280"/>
              <a:ext cx="2043000" cy="233280"/>
            </a:xfrm>
            <a:custGeom>
              <a:avLst/>
              <a:gdLst/>
              <a:ahLst/>
              <a:rect l="l" t="t" r="r" b="b"/>
              <a:pathLst>
                <a:path w="1287" h="147">
                  <a:moveTo>
                    <a:pt x="1008" y="146"/>
                  </a:moveTo>
                  <a:lnTo>
                    <a:pt x="0" y="146"/>
                  </a:lnTo>
                  <a:lnTo>
                    <a:pt x="277" y="0"/>
                  </a:lnTo>
                  <a:lnTo>
                    <a:pt x="1286" y="0"/>
                  </a:lnTo>
                  <a:lnTo>
                    <a:pt x="1008" y="1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157400" y="1992240"/>
              <a:ext cx="1566720" cy="314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157400" y="2608200"/>
              <a:ext cx="1236600" cy="2378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49440" y="2089080"/>
              <a:ext cx="102960" cy="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9360" bIns="9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13080" y="1992240"/>
              <a:ext cx="311040" cy="314964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19200" y="3263760"/>
              <a:ext cx="311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1350720" y="2089080"/>
              <a:ext cx="870480" cy="276120"/>
              <a:chOff x="1350720" y="2089080"/>
              <a:chExt cx="870480" cy="276120"/>
            </a:xfrm>
          </p:grpSpPr>
          <p:sp>
            <p:nvSpPr>
              <p:cNvPr id="643" name=""/>
              <p:cNvSpPr/>
              <p:nvPr/>
            </p:nvSpPr>
            <p:spPr>
              <a:xfrm>
                <a:off x="1357200" y="2089080"/>
                <a:ext cx="86328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0" y="0"/>
                    </a:moveTo>
                    <a:arcTo wR="10800" hR="10800" stAng="-5412639" swAng="53333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0" y="0"/>
                    </a:moveTo>
                    <a:arcTo wR="10800" hR="10800" stAng="-5412639" swAng="53333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50720" y="2089080"/>
                <a:ext cx="87048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" y="10180"/>
                    </a:moveTo>
                    <a:arcTo wR="10800" hR="10800" stAng="-10602645" swAng="51900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" y="10180"/>
                    </a:moveTo>
                    <a:arcTo wR="10800" hR="10800" stAng="-10602645" swAng="51900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 flipH="1">
              <a:off x="1163520" y="2222640"/>
              <a:ext cx="18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2211480" y="2222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1658160" y="2235240"/>
              <a:ext cx="128880" cy="49680"/>
              <a:chOff x="1658160" y="2235240"/>
              <a:chExt cx="128880" cy="49680"/>
            </a:xfrm>
          </p:grpSpPr>
          <p:sp>
            <p:nvSpPr>
              <p:cNvPr id="648" name=""/>
              <p:cNvSpPr/>
              <p:nvPr/>
            </p:nvSpPr>
            <p:spPr>
              <a:xfrm>
                <a:off x="1658160" y="2235240"/>
                <a:ext cx="5904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640" rIns="1764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480"/>
                    <a:tab algn="l" pos="66600"/>
                    <a:tab algn="l" pos="100080"/>
                    <a:tab algn="l" pos="133200"/>
                    <a:tab algn="l" pos="166680"/>
                    <a:tab algn="l" pos="200160"/>
                    <a:tab algn="l" pos="233280"/>
                    <a:tab algn="l" pos="266760"/>
                    <a:tab algn="l" pos="299880"/>
                    <a:tab algn="l" pos="333360"/>
                    <a:tab algn="l" pos="366840"/>
                    <a:tab algn="l" pos="399960"/>
                    <a:tab algn="l" pos="433440"/>
                    <a:tab algn="l" pos="466560"/>
                    <a:tab algn="l" pos="500040"/>
                    <a:tab algn="l" pos="533520"/>
                    <a:tab algn="l" pos="566640"/>
                    <a:tab algn="l" pos="600120"/>
                    <a:tab algn="l" pos="633240"/>
                    <a:tab algn="l" pos="66672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743480" y="2235240"/>
                <a:ext cx="4356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640" rIns="1764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480"/>
                    <a:tab algn="l" pos="66600"/>
                    <a:tab algn="l" pos="100080"/>
                    <a:tab algn="l" pos="133200"/>
                    <a:tab algn="l" pos="166680"/>
                    <a:tab algn="l" pos="200160"/>
                    <a:tab algn="l" pos="233280"/>
                    <a:tab algn="l" pos="266760"/>
                    <a:tab algn="l" pos="299880"/>
                    <a:tab algn="l" pos="333360"/>
                    <a:tab algn="l" pos="366840"/>
                    <a:tab algn="l" pos="399960"/>
                    <a:tab algn="l" pos="433440"/>
                    <a:tab algn="l" pos="466560"/>
                    <a:tab algn="l" pos="500040"/>
                    <a:tab algn="l" pos="533520"/>
                    <a:tab algn="l" pos="566640"/>
                    <a:tab algn="l" pos="600120"/>
                    <a:tab algn="l" pos="633240"/>
                    <a:tab algn="l" pos="66672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2730600" y="1752480"/>
              <a:ext cx="463320" cy="3397320"/>
            </a:xfrm>
            <a:custGeom>
              <a:avLst/>
              <a:gdLst/>
              <a:ahLst/>
              <a:rect l="l" t="t" r="r" b="b"/>
              <a:pathLst>
                <a:path w="292" h="2140">
                  <a:moveTo>
                    <a:pt x="0" y="2139"/>
                  </a:moveTo>
                  <a:lnTo>
                    <a:pt x="0" y="143"/>
                  </a:lnTo>
                  <a:lnTo>
                    <a:pt x="291" y="0"/>
                  </a:lnTo>
                  <a:lnTo>
                    <a:pt x="291" y="1586"/>
                  </a:lnTo>
                  <a:lnTo>
                    <a:pt x="0" y="21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30480" y="5148360"/>
              <a:ext cx="1501560" cy="110880"/>
            </a:xfrm>
            <a:custGeom>
              <a:avLst/>
              <a:gdLst/>
              <a:ahLst/>
              <a:rect l="l" t="t" r="r" b="b"/>
              <a:pathLst>
                <a:path w="946" h="70">
                  <a:moveTo>
                    <a:pt x="0" y="0"/>
                  </a:moveTo>
                  <a:lnTo>
                    <a:pt x="945" y="0"/>
                  </a:lnTo>
                  <a:lnTo>
                    <a:pt x="945" y="69"/>
                  </a:ln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20880" y="4295880"/>
              <a:ext cx="473040" cy="934920"/>
            </a:xfrm>
            <a:custGeom>
              <a:avLst/>
              <a:gdLst/>
              <a:ahLst/>
              <a:rect l="l" t="t" r="r" b="b"/>
              <a:pathLst>
                <a:path w="298" h="589">
                  <a:moveTo>
                    <a:pt x="0" y="533"/>
                  </a:moveTo>
                  <a:lnTo>
                    <a:pt x="292" y="0"/>
                  </a:lnTo>
                  <a:lnTo>
                    <a:pt x="297" y="21"/>
                  </a:lnTo>
                  <a:lnTo>
                    <a:pt x="0" y="588"/>
                  </a:lnTo>
                  <a:lnTo>
                    <a:pt x="0" y="53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tched Internetwork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3762360" y="1533600"/>
            <a:ext cx="1620720" cy="1631880"/>
            <a:chOff x="3762360" y="1533600"/>
            <a:chExt cx="1620720" cy="1631880"/>
          </a:xfrm>
        </p:grpSpPr>
        <p:sp>
          <p:nvSpPr>
            <p:cNvPr id="655" name=""/>
            <p:cNvSpPr/>
            <p:nvPr/>
          </p:nvSpPr>
          <p:spPr>
            <a:xfrm>
              <a:off x="3762360" y="1533600"/>
              <a:ext cx="1620720" cy="108252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48160" y="2711520"/>
              <a:ext cx="204840" cy="1252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48160" y="2876400"/>
              <a:ext cx="204840" cy="1238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71920" y="3067200"/>
              <a:ext cx="160560" cy="982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4146480" y="1809720"/>
            <a:ext cx="887400" cy="636480"/>
          </a:xfrm>
          <a:prstGeom prst="rect">
            <a:avLst/>
          </a:prstGeom>
          <a:ln w="0">
            <a:noFill/>
          </a:ln>
        </p:spPr>
      </p:pic>
      <p:grpSp>
        <p:nvGrpSpPr>
          <p:cNvPr id="660" name=""/>
          <p:cNvGrpSpPr/>
          <p:nvPr/>
        </p:nvGrpSpPr>
        <p:grpSpPr>
          <a:xfrm>
            <a:off x="2062080" y="2106720"/>
            <a:ext cx="1621080" cy="1520640"/>
            <a:chOff x="2062080" y="2106720"/>
            <a:chExt cx="1621080" cy="1520640"/>
          </a:xfrm>
        </p:grpSpPr>
        <p:sp>
          <p:nvSpPr>
            <p:cNvPr id="661" name=""/>
            <p:cNvSpPr/>
            <p:nvPr/>
          </p:nvSpPr>
          <p:spPr>
            <a:xfrm>
              <a:off x="2062080" y="2106720"/>
              <a:ext cx="1621080" cy="108252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65320" y="3281400"/>
              <a:ext cx="201600" cy="1270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38480" y="3448080"/>
              <a:ext cx="203040" cy="1238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394080" y="3530520"/>
              <a:ext cx="160200" cy="968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2394000" y="2381400"/>
            <a:ext cx="949320" cy="52704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5462640" y="2106720"/>
            <a:ext cx="1620720" cy="108252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miter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78520" y="3281400"/>
            <a:ext cx="203040" cy="1270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miter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05360" y="3448080"/>
            <a:ext cx="203400" cy="1238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miter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591160" y="3530520"/>
            <a:ext cx="160200" cy="968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miter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2865600" y="3301920"/>
            <a:ext cx="3306600" cy="230688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4"/>
          <a:stretch/>
        </p:blipFill>
        <p:spPr>
          <a:xfrm>
            <a:off x="5900760" y="2389320"/>
            <a:ext cx="777960" cy="7668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3492000" y="5805360"/>
            <a:ext cx="513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hould I choo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sible Network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48160" y="2679840"/>
            <a:ext cx="909720" cy="852480"/>
          </a:xfrm>
          <a:custGeom>
            <a:avLst/>
            <a:gdLst/>
            <a:ahLst/>
            <a:rect l="l" t="t" r="r" b="b"/>
            <a:pathLst>
              <a:path w="573" h="537">
                <a:moveTo>
                  <a:pt x="572" y="317"/>
                </a:moveTo>
                <a:lnTo>
                  <a:pt x="572" y="536"/>
                </a:lnTo>
                <a:lnTo>
                  <a:pt x="9" y="214"/>
                </a:lnTo>
                <a:lnTo>
                  <a:pt x="0" y="0"/>
                </a:lnTo>
                <a:lnTo>
                  <a:pt x="572" y="317"/>
                </a:lnTo>
              </a:path>
            </a:pathLst>
          </a:custGeom>
          <a:solidFill>
            <a:srgbClr val="78001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59320" y="2676600"/>
            <a:ext cx="931680" cy="858600"/>
          </a:xfrm>
          <a:custGeom>
            <a:avLst/>
            <a:gdLst/>
            <a:ahLst/>
            <a:rect l="l" t="t" r="r" b="b"/>
            <a:pathLst>
              <a:path w="587" h="541">
                <a:moveTo>
                  <a:pt x="586" y="0"/>
                </a:moveTo>
                <a:lnTo>
                  <a:pt x="577" y="214"/>
                </a:lnTo>
                <a:lnTo>
                  <a:pt x="0" y="540"/>
                </a:lnTo>
                <a:lnTo>
                  <a:pt x="0" y="321"/>
                </a:lnTo>
                <a:lnTo>
                  <a:pt x="586" y="0"/>
                </a:lnTo>
              </a:path>
            </a:pathLst>
          </a:custGeom>
          <a:solidFill>
            <a:srgbClr val="78001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48160" y="1371600"/>
            <a:ext cx="1847880" cy="1816200"/>
          </a:xfrm>
          <a:custGeom>
            <a:avLst/>
            <a:gdLst/>
            <a:ahLst/>
            <a:rect l="l" t="t" r="r" b="b"/>
            <a:pathLst>
              <a:path w="1164" h="1144">
                <a:moveTo>
                  <a:pt x="1163" y="819"/>
                </a:moveTo>
                <a:lnTo>
                  <a:pt x="573" y="1143"/>
                </a:lnTo>
                <a:lnTo>
                  <a:pt x="0" y="825"/>
                </a:lnTo>
                <a:lnTo>
                  <a:pt x="589" y="0"/>
                </a:lnTo>
                <a:lnTo>
                  <a:pt x="1163" y="819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14920" y="3068640"/>
            <a:ext cx="2104920" cy="1643040"/>
          </a:xfrm>
          <a:custGeom>
            <a:avLst/>
            <a:gdLst/>
            <a:ahLst/>
            <a:rect l="l" t="t" r="r" b="b"/>
            <a:pathLst>
              <a:path w="1326" h="1035">
                <a:moveTo>
                  <a:pt x="590" y="0"/>
                </a:moveTo>
                <a:lnTo>
                  <a:pt x="1325" y="1034"/>
                </a:lnTo>
                <a:lnTo>
                  <a:pt x="0" y="1034"/>
                </a:lnTo>
                <a:lnTo>
                  <a:pt x="0" y="323"/>
                </a:lnTo>
                <a:lnTo>
                  <a:pt x="590" y="0"/>
                </a:lnTo>
              </a:path>
            </a:pathLst>
          </a:custGeom>
          <a:solidFill>
            <a:srgbClr val="00b7a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14920" y="4718160"/>
            <a:ext cx="2104920" cy="353880"/>
          </a:xfrm>
          <a:custGeom>
            <a:avLst/>
            <a:gdLst/>
            <a:ahLst/>
            <a:rect l="l" t="t" r="r" b="b"/>
            <a:pathLst>
              <a:path w="1326" h="223">
                <a:moveTo>
                  <a:pt x="1325" y="0"/>
                </a:moveTo>
                <a:lnTo>
                  <a:pt x="1302" y="222"/>
                </a:lnTo>
                <a:lnTo>
                  <a:pt x="0" y="222"/>
                </a:lnTo>
                <a:lnTo>
                  <a:pt x="0" y="0"/>
                </a:lnTo>
                <a:lnTo>
                  <a:pt x="1325" y="0"/>
                </a:lnTo>
              </a:path>
            </a:pathLst>
          </a:custGeom>
          <a:solidFill>
            <a:srgbClr val="006b6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133720" y="3078000"/>
            <a:ext cx="2071440" cy="1633680"/>
          </a:xfrm>
          <a:custGeom>
            <a:avLst/>
            <a:gdLst/>
            <a:ahLst/>
            <a:rect l="l" t="t" r="r" b="b"/>
            <a:pathLst>
              <a:path w="1305" h="1029">
                <a:moveTo>
                  <a:pt x="1303" y="1028"/>
                </a:moveTo>
                <a:lnTo>
                  <a:pt x="0" y="1028"/>
                </a:lnTo>
                <a:lnTo>
                  <a:pt x="730" y="0"/>
                </a:lnTo>
                <a:lnTo>
                  <a:pt x="1304" y="317"/>
                </a:lnTo>
                <a:lnTo>
                  <a:pt x="1303" y="1028"/>
                </a:lnTo>
              </a:path>
            </a:pathLst>
          </a:custGeom>
          <a:solidFill>
            <a:srgbClr val="feae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4718160"/>
            <a:ext cx="2070000" cy="353880"/>
          </a:xfrm>
          <a:custGeom>
            <a:avLst/>
            <a:gdLst/>
            <a:ahLst/>
            <a:rect l="l" t="t" r="r" b="b"/>
            <a:pathLst>
              <a:path w="1304" h="223">
                <a:moveTo>
                  <a:pt x="1303" y="0"/>
                </a:moveTo>
                <a:lnTo>
                  <a:pt x="1303" y="222"/>
                </a:lnTo>
                <a:lnTo>
                  <a:pt x="23" y="222"/>
                </a:lnTo>
                <a:lnTo>
                  <a:pt x="0" y="0"/>
                </a:lnTo>
                <a:lnTo>
                  <a:pt x="1303" y="0"/>
                </a:lnTo>
              </a:path>
            </a:pathLst>
          </a:custGeom>
          <a:solidFill>
            <a:srgbClr val="c45f1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03440" y="3683160"/>
            <a:ext cx="20192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 Segment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gest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67240" y="1996920"/>
            <a:ext cx="1841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tocol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25840" y="3683160"/>
            <a:ext cx="18446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ckbon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gest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93800" y="4170240"/>
            <a:ext cx="1513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485080" y="4245120"/>
            <a:ext cx="1491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o many device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n LAN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862880" y="4245120"/>
            <a:ext cx="15937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ckbone capacity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s n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57760" y="2490840"/>
            <a:ext cx="12589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05280" y="4170240"/>
            <a:ext cx="15080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999240" y="2550960"/>
            <a:ext cx="981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o many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oadc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60560" y="700200"/>
            <a:ext cx="598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59600" y="5608800"/>
            <a:ext cx="5988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8686"/>
                </a:solidFill>
                <a:latin typeface="Arial"/>
              </a:rPr>
              <a:t>Different Types of 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gle Technologies Provide a Partia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993760" y="1752120"/>
            <a:ext cx="5769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ing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s the broadcast and protocol probl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outer for every port is too exp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 switching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s collision/media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scale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 LANE switching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s the capacity/transport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 everywhere” is not cost-eff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46280" y="2571840"/>
            <a:ext cx="593640" cy="544320"/>
          </a:xfrm>
          <a:custGeom>
            <a:avLst/>
            <a:gdLst/>
            <a:ahLst/>
            <a:rect l="l" t="t" r="r" b="b"/>
            <a:pathLst>
              <a:path w="374" h="343">
                <a:moveTo>
                  <a:pt x="0" y="0"/>
                </a:moveTo>
                <a:lnTo>
                  <a:pt x="0" y="124"/>
                </a:lnTo>
                <a:lnTo>
                  <a:pt x="373" y="342"/>
                </a:lnTo>
                <a:lnTo>
                  <a:pt x="373" y="218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38120" y="2571840"/>
            <a:ext cx="594000" cy="544320"/>
          </a:xfrm>
          <a:custGeom>
            <a:avLst/>
            <a:gdLst/>
            <a:ahLst/>
            <a:rect l="l" t="t" r="r" b="b"/>
            <a:pathLst>
              <a:path w="374" h="343">
                <a:moveTo>
                  <a:pt x="0" y="218"/>
                </a:moveTo>
                <a:lnTo>
                  <a:pt x="0" y="342"/>
                </a:lnTo>
                <a:lnTo>
                  <a:pt x="373" y="124"/>
                </a:lnTo>
                <a:lnTo>
                  <a:pt x="373" y="0"/>
                </a:lnTo>
                <a:lnTo>
                  <a:pt x="0" y="218"/>
                </a:lnTo>
              </a:path>
            </a:pathLst>
          </a:custGeom>
          <a:solidFill>
            <a:srgbClr val="79001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46280" y="1781280"/>
            <a:ext cx="1185840" cy="1136520"/>
          </a:xfrm>
          <a:custGeom>
            <a:avLst/>
            <a:gdLst/>
            <a:ahLst/>
            <a:rect l="l" t="t" r="r" b="b"/>
            <a:pathLst>
              <a:path w="747" h="716">
                <a:moveTo>
                  <a:pt x="373" y="0"/>
                </a:moveTo>
                <a:lnTo>
                  <a:pt x="0" y="497"/>
                </a:lnTo>
                <a:lnTo>
                  <a:pt x="373" y="715"/>
                </a:lnTo>
                <a:lnTo>
                  <a:pt x="746" y="497"/>
                </a:lnTo>
                <a:lnTo>
                  <a:pt x="373" y="0"/>
                </a:lnTo>
              </a:path>
            </a:pathLst>
          </a:custGeom>
          <a:solidFill>
            <a:srgbClr val="86868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30240" y="2127240"/>
            <a:ext cx="84456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30240" bIns="302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1027080" y="2395440"/>
            <a:ext cx="662040" cy="4255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681120" y="5121360"/>
            <a:ext cx="1333440" cy="1038240"/>
          </a:xfrm>
          <a:custGeom>
            <a:avLst/>
            <a:gdLst/>
            <a:ahLst/>
            <a:rect l="l" t="t" r="r" b="b"/>
            <a:pathLst>
              <a:path w="840" h="654">
                <a:moveTo>
                  <a:pt x="0" y="218"/>
                </a:moveTo>
                <a:lnTo>
                  <a:pt x="0" y="653"/>
                </a:lnTo>
                <a:lnTo>
                  <a:pt x="839" y="653"/>
                </a:lnTo>
                <a:lnTo>
                  <a:pt x="373" y="0"/>
                </a:lnTo>
                <a:lnTo>
                  <a:pt x="0" y="218"/>
                </a:lnTo>
              </a:path>
            </a:pathLst>
          </a:custGeom>
          <a:solidFill>
            <a:srgbClr val="00b7a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1120" y="6154560"/>
            <a:ext cx="1333440" cy="200160"/>
          </a:xfrm>
          <a:custGeom>
            <a:avLst/>
            <a:gdLst/>
            <a:ahLst/>
            <a:rect l="l" t="t" r="r" b="b"/>
            <a:pathLst>
              <a:path w="840" h="126">
                <a:moveTo>
                  <a:pt x="0" y="0"/>
                </a:moveTo>
                <a:lnTo>
                  <a:pt x="0" y="125"/>
                </a:lnTo>
                <a:lnTo>
                  <a:pt x="839" y="125"/>
                </a:lnTo>
                <a:lnTo>
                  <a:pt x="839" y="0"/>
                </a:lnTo>
                <a:lnTo>
                  <a:pt x="0" y="0"/>
                </a:lnTo>
              </a:path>
            </a:pathLst>
          </a:custGeom>
          <a:solidFill>
            <a:srgbClr val="006b6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922320" y="5348160"/>
            <a:ext cx="520560" cy="50796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663480" y="5884920"/>
            <a:ext cx="129240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30240" bIns="302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TM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1680" y="3335400"/>
            <a:ext cx="1333440" cy="1038240"/>
          </a:xfrm>
          <a:custGeom>
            <a:avLst/>
            <a:gdLst/>
            <a:ahLst/>
            <a:rect l="l" t="t" r="r" b="b"/>
            <a:pathLst>
              <a:path w="840" h="654">
                <a:moveTo>
                  <a:pt x="839" y="218"/>
                </a:moveTo>
                <a:lnTo>
                  <a:pt x="466" y="0"/>
                </a:lnTo>
                <a:lnTo>
                  <a:pt x="0" y="653"/>
                </a:lnTo>
                <a:lnTo>
                  <a:pt x="839" y="653"/>
                </a:lnTo>
                <a:lnTo>
                  <a:pt x="839" y="218"/>
                </a:lnTo>
              </a:path>
            </a:pathLst>
          </a:custGeom>
          <a:solidFill>
            <a:srgbClr val="ffcc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1680" y="4370400"/>
            <a:ext cx="1333440" cy="200160"/>
          </a:xfrm>
          <a:custGeom>
            <a:avLst/>
            <a:gdLst/>
            <a:ahLst/>
            <a:rect l="l" t="t" r="r" b="b"/>
            <a:pathLst>
              <a:path w="840" h="126">
                <a:moveTo>
                  <a:pt x="0" y="0"/>
                </a:moveTo>
                <a:lnTo>
                  <a:pt x="0" y="125"/>
                </a:lnTo>
                <a:lnTo>
                  <a:pt x="839" y="125"/>
                </a:lnTo>
                <a:lnTo>
                  <a:pt x="839" y="0"/>
                </a:lnTo>
                <a:lnTo>
                  <a:pt x="0" y="0"/>
                </a:lnTo>
              </a:path>
            </a:pathLst>
          </a:custGeom>
          <a:solidFill>
            <a:srgbClr val="c45f1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9720" y="4105440"/>
            <a:ext cx="131436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30240" bIns="302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095480" y="3664080"/>
            <a:ext cx="592200" cy="280800"/>
            <a:chOff x="1095480" y="3664080"/>
            <a:chExt cx="592200" cy="280800"/>
          </a:xfrm>
        </p:grpSpPr>
        <p:sp>
          <p:nvSpPr>
            <p:cNvPr id="707" name=""/>
            <p:cNvSpPr/>
            <p:nvPr/>
          </p:nvSpPr>
          <p:spPr>
            <a:xfrm>
              <a:off x="1095480" y="3665520"/>
              <a:ext cx="592200" cy="150840"/>
            </a:xfrm>
            <a:custGeom>
              <a:avLst/>
              <a:gdLst/>
              <a:ahLst/>
              <a:rect l="l" t="t" r="r" b="b"/>
              <a:pathLst>
                <a:path w="373" h="95">
                  <a:moveTo>
                    <a:pt x="92" y="0"/>
                  </a:moveTo>
                  <a:lnTo>
                    <a:pt x="372" y="0"/>
                  </a:lnTo>
                  <a:lnTo>
                    <a:pt x="279" y="94"/>
                  </a:lnTo>
                  <a:lnTo>
                    <a:pt x="0" y="93"/>
                  </a:lnTo>
                  <a:lnTo>
                    <a:pt x="92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09600" y="3699000"/>
              <a:ext cx="200160" cy="33120"/>
            </a:xfrm>
            <a:custGeom>
              <a:avLst/>
              <a:gdLst/>
              <a:ahLst/>
              <a:rect l="l" t="t" r="r" b="b"/>
              <a:pathLst>
                <a:path w="126" h="21">
                  <a:moveTo>
                    <a:pt x="125" y="7"/>
                  </a:moveTo>
                  <a:lnTo>
                    <a:pt x="115" y="16"/>
                  </a:lnTo>
                  <a:lnTo>
                    <a:pt x="40" y="16"/>
                  </a:lnTo>
                  <a:lnTo>
                    <a:pt x="32" y="20"/>
                  </a:lnTo>
                  <a:lnTo>
                    <a:pt x="0" y="11"/>
                  </a:lnTo>
                  <a:lnTo>
                    <a:pt x="59" y="0"/>
                  </a:lnTo>
                  <a:lnTo>
                    <a:pt x="51" y="7"/>
                  </a:lnTo>
                  <a:lnTo>
                    <a:pt x="125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49480" y="3765600"/>
              <a:ext cx="19836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124" y="5"/>
                  </a:moveTo>
                  <a:lnTo>
                    <a:pt x="113" y="13"/>
                  </a:lnTo>
                  <a:lnTo>
                    <a:pt x="39" y="13"/>
                  </a:lnTo>
                  <a:lnTo>
                    <a:pt x="32" y="20"/>
                  </a:lnTo>
                  <a:lnTo>
                    <a:pt x="0" y="9"/>
                  </a:lnTo>
                  <a:lnTo>
                    <a:pt x="56" y="0"/>
                  </a:lnTo>
                  <a:lnTo>
                    <a:pt x="50" y="5"/>
                  </a:lnTo>
                  <a:lnTo>
                    <a:pt x="124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25600" y="3675240"/>
              <a:ext cx="198360" cy="37800"/>
            </a:xfrm>
            <a:custGeom>
              <a:avLst/>
              <a:gdLst/>
              <a:ahLst/>
              <a:rect l="l" t="t" r="r" b="b"/>
              <a:pathLst>
                <a:path w="125" h="24">
                  <a:moveTo>
                    <a:pt x="10" y="7"/>
                  </a:moveTo>
                  <a:lnTo>
                    <a:pt x="0" y="16"/>
                  </a:lnTo>
                  <a:lnTo>
                    <a:pt x="74" y="16"/>
                  </a:lnTo>
                  <a:lnTo>
                    <a:pt x="66" y="23"/>
                  </a:lnTo>
                  <a:lnTo>
                    <a:pt x="124" y="12"/>
                  </a:lnTo>
                  <a:lnTo>
                    <a:pt x="92" y="0"/>
                  </a:lnTo>
                  <a:lnTo>
                    <a:pt x="85" y="7"/>
                  </a:lnTo>
                  <a:lnTo>
                    <a:pt x="1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62240" y="3732120"/>
              <a:ext cx="199800" cy="38160"/>
            </a:xfrm>
            <a:custGeom>
              <a:avLst/>
              <a:gdLst/>
              <a:ahLst/>
              <a:rect l="l" t="t" r="r" b="b"/>
              <a:pathLst>
                <a:path w="126" h="24">
                  <a:moveTo>
                    <a:pt x="10" y="7"/>
                  </a:moveTo>
                  <a:lnTo>
                    <a:pt x="0" y="16"/>
                  </a:lnTo>
                  <a:lnTo>
                    <a:pt x="74" y="16"/>
                  </a:lnTo>
                  <a:lnTo>
                    <a:pt x="66" y="23"/>
                  </a:lnTo>
                  <a:lnTo>
                    <a:pt x="125" y="12"/>
                  </a:lnTo>
                  <a:lnTo>
                    <a:pt x="93" y="0"/>
                  </a:lnTo>
                  <a:lnTo>
                    <a:pt x="85" y="7"/>
                  </a:lnTo>
                  <a:lnTo>
                    <a:pt x="1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95480" y="3814920"/>
              <a:ext cx="442800" cy="128520"/>
            </a:xfrm>
            <a:prstGeom prst="rect">
              <a:avLst/>
            </a:prstGeom>
            <a:solidFill>
              <a:srgbClr val="2a6b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39720" y="3664080"/>
              <a:ext cx="147960" cy="280800"/>
            </a:xfrm>
            <a:custGeom>
              <a:avLst/>
              <a:gdLst/>
              <a:ahLst/>
              <a:rect l="l" t="t" r="r" b="b"/>
              <a:pathLst>
                <a:path w="93" h="177">
                  <a:moveTo>
                    <a:pt x="92" y="0"/>
                  </a:moveTo>
                  <a:lnTo>
                    <a:pt x="1" y="93"/>
                  </a:lnTo>
                  <a:lnTo>
                    <a:pt x="0" y="176"/>
                  </a:lnTo>
                  <a:lnTo>
                    <a:pt x="92" y="85"/>
                  </a:lnTo>
                  <a:lnTo>
                    <a:pt x="92" y="0"/>
                  </a:lnTo>
                </a:path>
              </a:pathLst>
            </a:custGeom>
            <a:solidFill>
              <a:srgbClr val="0034aa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3441600" y="1917720"/>
            <a:ext cx="5613480" cy="2413080"/>
          </a:xfrm>
          <a:prstGeom prst="roundRect">
            <a:avLst>
              <a:gd name="adj" fmla="val 12468"/>
            </a:avLst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 Technologi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vide a Complet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868400" y="4587840"/>
            <a:ext cx="916200" cy="839880"/>
          </a:xfrm>
          <a:custGeom>
            <a:avLst/>
            <a:gdLst/>
            <a:ahLst/>
            <a:rect l="l" t="t" r="r" b="b"/>
            <a:pathLst>
              <a:path w="577" h="529">
                <a:moveTo>
                  <a:pt x="0" y="0"/>
                </a:moveTo>
                <a:lnTo>
                  <a:pt x="0" y="192"/>
                </a:lnTo>
                <a:lnTo>
                  <a:pt x="576" y="528"/>
                </a:lnTo>
                <a:lnTo>
                  <a:pt x="576" y="336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782800" y="4587840"/>
            <a:ext cx="916200" cy="839880"/>
          </a:xfrm>
          <a:custGeom>
            <a:avLst/>
            <a:gdLst/>
            <a:ahLst/>
            <a:rect l="l" t="t" r="r" b="b"/>
            <a:pathLst>
              <a:path w="577" h="529">
                <a:moveTo>
                  <a:pt x="0" y="336"/>
                </a:moveTo>
                <a:lnTo>
                  <a:pt x="0" y="528"/>
                </a:lnTo>
                <a:lnTo>
                  <a:pt x="576" y="192"/>
                </a:lnTo>
                <a:lnTo>
                  <a:pt x="576" y="0"/>
                </a:lnTo>
                <a:lnTo>
                  <a:pt x="0" y="336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68400" y="3368520"/>
            <a:ext cx="1830600" cy="1754280"/>
          </a:xfrm>
          <a:custGeom>
            <a:avLst/>
            <a:gdLst/>
            <a:ahLst/>
            <a:rect l="l" t="t" r="r" b="b"/>
            <a:pathLst>
              <a:path w="1153" h="1105">
                <a:moveTo>
                  <a:pt x="577" y="0"/>
                </a:moveTo>
                <a:lnTo>
                  <a:pt x="0" y="768"/>
                </a:lnTo>
                <a:lnTo>
                  <a:pt x="577" y="1104"/>
                </a:lnTo>
                <a:lnTo>
                  <a:pt x="1152" y="768"/>
                </a:lnTo>
                <a:lnTo>
                  <a:pt x="577" y="0"/>
                </a:lnTo>
              </a:path>
            </a:pathLst>
          </a:custGeom>
          <a:solidFill>
            <a:srgbClr val="86868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23960" y="4587840"/>
            <a:ext cx="2058840" cy="1602000"/>
          </a:xfrm>
          <a:custGeom>
            <a:avLst/>
            <a:gdLst/>
            <a:ahLst/>
            <a:rect l="l" t="t" r="r" b="b"/>
            <a:pathLst>
              <a:path w="1297" h="1009">
                <a:moveTo>
                  <a:pt x="1296" y="336"/>
                </a:moveTo>
                <a:lnTo>
                  <a:pt x="720" y="0"/>
                </a:lnTo>
                <a:lnTo>
                  <a:pt x="0" y="1008"/>
                </a:lnTo>
                <a:lnTo>
                  <a:pt x="1296" y="1008"/>
                </a:lnTo>
                <a:lnTo>
                  <a:pt x="1296" y="336"/>
                </a:lnTo>
              </a:path>
            </a:pathLst>
          </a:custGeom>
          <a:solidFill>
            <a:srgbClr val="ffcc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779560" y="4589640"/>
            <a:ext cx="2060640" cy="1601640"/>
          </a:xfrm>
          <a:custGeom>
            <a:avLst/>
            <a:gdLst/>
            <a:ahLst/>
            <a:rect l="l" t="t" r="r" b="b"/>
            <a:pathLst>
              <a:path w="1298" h="1009">
                <a:moveTo>
                  <a:pt x="0" y="336"/>
                </a:moveTo>
                <a:lnTo>
                  <a:pt x="0" y="1008"/>
                </a:lnTo>
                <a:lnTo>
                  <a:pt x="1297" y="1008"/>
                </a:lnTo>
                <a:lnTo>
                  <a:pt x="577" y="0"/>
                </a:lnTo>
                <a:lnTo>
                  <a:pt x="0" y="336"/>
                </a:lnTo>
              </a:path>
            </a:pathLst>
          </a:custGeom>
          <a:solidFill>
            <a:srgbClr val="00b7a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23960" y="6186600"/>
            <a:ext cx="2058840" cy="306360"/>
          </a:xfrm>
          <a:custGeom>
            <a:avLst/>
            <a:gdLst/>
            <a:ahLst/>
            <a:rect l="l" t="t" r="r" b="b"/>
            <a:pathLst>
              <a:path w="1297" h="193">
                <a:moveTo>
                  <a:pt x="0" y="0"/>
                </a:moveTo>
                <a:lnTo>
                  <a:pt x="0" y="192"/>
                </a:lnTo>
                <a:lnTo>
                  <a:pt x="1296" y="192"/>
                </a:lnTo>
                <a:lnTo>
                  <a:pt x="1296" y="0"/>
                </a:lnTo>
                <a:lnTo>
                  <a:pt x="0" y="0"/>
                </a:lnTo>
              </a:path>
            </a:pathLst>
          </a:custGeom>
          <a:solidFill>
            <a:srgbClr val="c4581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79560" y="6186600"/>
            <a:ext cx="2060640" cy="306360"/>
          </a:xfrm>
          <a:custGeom>
            <a:avLst/>
            <a:gdLst/>
            <a:ahLst/>
            <a:rect l="l" t="t" r="r" b="b"/>
            <a:pathLst>
              <a:path w="1298" h="193">
                <a:moveTo>
                  <a:pt x="0" y="0"/>
                </a:moveTo>
                <a:lnTo>
                  <a:pt x="0" y="192"/>
                </a:lnTo>
                <a:lnTo>
                  <a:pt x="1297" y="192"/>
                </a:lnTo>
                <a:lnTo>
                  <a:pt x="1297" y="0"/>
                </a:lnTo>
                <a:lnTo>
                  <a:pt x="0" y="0"/>
                </a:lnTo>
              </a:path>
            </a:pathLst>
          </a:custGeom>
          <a:solidFill>
            <a:srgbClr val="006b6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49640" y="39592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52560" y="577836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2316240" y="4330800"/>
            <a:ext cx="971640" cy="6094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3166920" y="5040360"/>
            <a:ext cx="758880" cy="7398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2782800" y="5786280"/>
            <a:ext cx="185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535040" y="5224320"/>
            <a:ext cx="912960" cy="433440"/>
            <a:chOff x="1535040" y="5224320"/>
            <a:chExt cx="912960" cy="433440"/>
          </a:xfrm>
        </p:grpSpPr>
        <p:sp>
          <p:nvSpPr>
            <p:cNvPr id="729" name=""/>
            <p:cNvSpPr/>
            <p:nvPr/>
          </p:nvSpPr>
          <p:spPr>
            <a:xfrm>
              <a:off x="1535040" y="5227560"/>
              <a:ext cx="912960" cy="231840"/>
            </a:xfrm>
            <a:custGeom>
              <a:avLst/>
              <a:gdLst/>
              <a:ahLst/>
              <a:rect l="l" t="t" r="r" b="b"/>
              <a:pathLst>
                <a:path w="575" h="146">
                  <a:moveTo>
                    <a:pt x="142" y="0"/>
                  </a:moveTo>
                  <a:lnTo>
                    <a:pt x="574" y="0"/>
                  </a:lnTo>
                  <a:lnTo>
                    <a:pt x="430" y="145"/>
                  </a:lnTo>
                  <a:lnTo>
                    <a:pt x="0" y="143"/>
                  </a:lnTo>
                  <a:lnTo>
                    <a:pt x="142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711440" y="5278320"/>
              <a:ext cx="306360" cy="4932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10"/>
                  </a:moveTo>
                  <a:lnTo>
                    <a:pt x="176" y="24"/>
                  </a:lnTo>
                  <a:lnTo>
                    <a:pt x="61" y="24"/>
                  </a:lnTo>
                  <a:lnTo>
                    <a:pt x="49" y="30"/>
                  </a:lnTo>
                  <a:lnTo>
                    <a:pt x="0" y="17"/>
                  </a:lnTo>
                  <a:lnTo>
                    <a:pt x="90" y="0"/>
                  </a:lnTo>
                  <a:lnTo>
                    <a:pt x="78" y="10"/>
                  </a:lnTo>
                  <a:lnTo>
                    <a:pt x="192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16040" y="5381640"/>
              <a:ext cx="306360" cy="4932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7"/>
                  </a:moveTo>
                  <a:lnTo>
                    <a:pt x="175" y="20"/>
                  </a:lnTo>
                  <a:lnTo>
                    <a:pt x="61" y="20"/>
                  </a:lnTo>
                  <a:lnTo>
                    <a:pt x="49" y="30"/>
                  </a:lnTo>
                  <a:lnTo>
                    <a:pt x="0" y="13"/>
                  </a:lnTo>
                  <a:lnTo>
                    <a:pt x="86" y="0"/>
                  </a:lnTo>
                  <a:lnTo>
                    <a:pt x="77" y="7"/>
                  </a:lnTo>
                  <a:lnTo>
                    <a:pt x="192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044800" y="5240160"/>
              <a:ext cx="303120" cy="59040"/>
            </a:xfrm>
            <a:custGeom>
              <a:avLst/>
              <a:gdLst/>
              <a:ahLst/>
              <a:rect l="l" t="t" r="r" b="b"/>
              <a:pathLst>
                <a:path w="191" h="37">
                  <a:moveTo>
                    <a:pt x="16" y="11"/>
                  </a:moveTo>
                  <a:lnTo>
                    <a:pt x="0" y="25"/>
                  </a:lnTo>
                  <a:lnTo>
                    <a:pt x="113" y="25"/>
                  </a:lnTo>
                  <a:lnTo>
                    <a:pt x="101" y="36"/>
                  </a:lnTo>
                  <a:lnTo>
                    <a:pt x="190" y="18"/>
                  </a:lnTo>
                  <a:lnTo>
                    <a:pt x="141" y="0"/>
                  </a:lnTo>
                  <a:lnTo>
                    <a:pt x="130" y="11"/>
                  </a:lnTo>
                  <a:lnTo>
                    <a:pt x="16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46160" y="5329080"/>
              <a:ext cx="306360" cy="59040"/>
            </a:xfrm>
            <a:custGeom>
              <a:avLst/>
              <a:gdLst/>
              <a:ahLst/>
              <a:rect l="l" t="t" r="r" b="b"/>
              <a:pathLst>
                <a:path w="193" h="37">
                  <a:moveTo>
                    <a:pt x="16" y="11"/>
                  </a:moveTo>
                  <a:lnTo>
                    <a:pt x="0" y="25"/>
                  </a:lnTo>
                  <a:lnTo>
                    <a:pt x="114" y="25"/>
                  </a:lnTo>
                  <a:lnTo>
                    <a:pt x="102" y="36"/>
                  </a:lnTo>
                  <a:lnTo>
                    <a:pt x="192" y="18"/>
                  </a:lnTo>
                  <a:lnTo>
                    <a:pt x="143" y="0"/>
                  </a:lnTo>
                  <a:lnTo>
                    <a:pt x="131" y="11"/>
                  </a:lnTo>
                  <a:lnTo>
                    <a:pt x="16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535040" y="5457960"/>
              <a:ext cx="684360" cy="198360"/>
            </a:xfrm>
            <a:prstGeom prst="rect">
              <a:avLst/>
            </a:prstGeom>
            <a:solidFill>
              <a:srgbClr val="2a6b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22640" y="5224320"/>
              <a:ext cx="225360" cy="433440"/>
            </a:xfrm>
            <a:custGeom>
              <a:avLst/>
              <a:gdLst/>
              <a:ahLst/>
              <a:rect l="l" t="t" r="r" b="b"/>
              <a:pathLst>
                <a:path w="142" h="273">
                  <a:moveTo>
                    <a:pt x="141" y="0"/>
                  </a:moveTo>
                  <a:lnTo>
                    <a:pt x="1" y="143"/>
                  </a:lnTo>
                  <a:lnTo>
                    <a:pt x="0" y="272"/>
                  </a:lnTo>
                  <a:lnTo>
                    <a:pt x="141" y="131"/>
                  </a:lnTo>
                  <a:lnTo>
                    <a:pt x="141" y="0"/>
                  </a:lnTo>
                </a:path>
              </a:pathLst>
            </a:custGeom>
            <a:solidFill>
              <a:srgbClr val="0034aa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3564000" y="2011320"/>
            <a:ext cx="5540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 of choosing between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outing, users must learn how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ively combine ... these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same network to derive the maxim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its in throughput and performance.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77040" y="3960720"/>
            <a:ext cx="330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LeBaron, Gartner Group, 2/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EEE 802.3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mencl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rate in 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ling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ximum segment length in 100s of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a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Base5, 10Base2, 10Broad36, 10BaseT, 10Bas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EEE 802.3 and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699160" y="1752480"/>
            <a:ext cx="22399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089680" y="3475080"/>
            <a:ext cx="3444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736640" y="1782720"/>
            <a:ext cx="2387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742400" y="3519360"/>
            <a:ext cx="620316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shielded twisted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 Mbps link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 duplex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multipoint bus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d bandwidth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2959200" y="2133720"/>
            <a:ext cx="3417840" cy="812520"/>
            <a:chOff x="2959200" y="2133720"/>
            <a:chExt cx="3417840" cy="812520"/>
          </a:xfrm>
        </p:grpSpPr>
        <p:sp>
          <p:nvSpPr>
            <p:cNvPr id="746" name=""/>
            <p:cNvSpPr/>
            <p:nvPr/>
          </p:nvSpPr>
          <p:spPr>
            <a:xfrm>
              <a:off x="5257800" y="2139840"/>
              <a:ext cx="0" cy="45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00400" y="2139840"/>
              <a:ext cx="0" cy="22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86200" y="213984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72000" y="213984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95880" y="213984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78280" y="2133720"/>
              <a:ext cx="334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2" name="" descr=""/>
            <p:cNvPicPr/>
            <p:nvPr/>
          </p:nvPicPr>
          <p:blipFill>
            <a:blip r:embed="rId1"/>
            <a:stretch/>
          </p:blipFill>
          <p:spPr>
            <a:xfrm>
              <a:off x="5894280" y="2374920"/>
              <a:ext cx="4827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2"/>
            <a:stretch/>
          </p:blipFill>
          <p:spPr>
            <a:xfrm>
              <a:off x="3657600" y="2351160"/>
              <a:ext cx="45252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3"/>
            <a:stretch/>
          </p:blipFill>
          <p:spPr>
            <a:xfrm>
              <a:off x="4343400" y="2351160"/>
              <a:ext cx="45252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4"/>
            <a:stretch/>
          </p:blipFill>
          <p:spPr>
            <a:xfrm>
              <a:off x="2959200" y="2362320"/>
              <a:ext cx="5158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5029200" y="2413080"/>
              <a:ext cx="684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tched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207120" y="2422440"/>
            <a:ext cx="1522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124080" y="1994040"/>
            <a:ext cx="3043440" cy="1679400"/>
            <a:chOff x="3124080" y="1994040"/>
            <a:chExt cx="3043440" cy="1679400"/>
          </a:xfrm>
        </p:grpSpPr>
        <p:sp>
          <p:nvSpPr>
            <p:cNvPr id="760" name=""/>
            <p:cNvSpPr/>
            <p:nvPr/>
          </p:nvSpPr>
          <p:spPr>
            <a:xfrm>
              <a:off x="3968640" y="3352680"/>
              <a:ext cx="151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3733920" y="2212920"/>
              <a:ext cx="0" cy="113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4270320" y="2822040"/>
              <a:ext cx="1670040" cy="37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4346640" y="2364840"/>
              <a:ext cx="1060560" cy="75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4041720" y="2212920"/>
              <a:ext cx="451080" cy="90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" descr=""/>
            <p:cNvPicPr/>
            <p:nvPr/>
          </p:nvPicPr>
          <p:blipFill>
            <a:blip r:embed="rId1"/>
            <a:stretch/>
          </p:blipFill>
          <p:spPr>
            <a:xfrm>
              <a:off x="3124080" y="2905200"/>
              <a:ext cx="1379520" cy="6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" descr=""/>
            <p:cNvPicPr/>
            <p:nvPr/>
          </p:nvPicPr>
          <p:blipFill>
            <a:blip r:embed="rId2"/>
            <a:stretch/>
          </p:blipFill>
          <p:spPr>
            <a:xfrm>
              <a:off x="4330800" y="2057400"/>
              <a:ext cx="51588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3"/>
            <a:stretch/>
          </p:blipFill>
          <p:spPr>
            <a:xfrm>
              <a:off x="5257800" y="2122560"/>
              <a:ext cx="4525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4"/>
            <a:stretch/>
          </p:blipFill>
          <p:spPr>
            <a:xfrm>
              <a:off x="5715000" y="2655720"/>
              <a:ext cx="45252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5"/>
            <a:stretch/>
          </p:blipFill>
          <p:spPr>
            <a:xfrm>
              <a:off x="3608280" y="1994040"/>
              <a:ext cx="48276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3260880" y="3260880"/>
              <a:ext cx="1166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03880" y="3398760"/>
              <a:ext cx="81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708440" y="3094200"/>
              <a:ext cx="997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32480" y="2560680"/>
              <a:ext cx="81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4" name="" descr=""/>
            <p:cNvPicPr/>
            <p:nvPr/>
          </p:nvPicPr>
          <p:blipFill>
            <a:blip r:embed="rId6"/>
            <a:stretch/>
          </p:blipFill>
          <p:spPr>
            <a:xfrm>
              <a:off x="5257800" y="3174840"/>
              <a:ext cx="684360" cy="4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5" name=""/>
          <p:cNvSpPr/>
          <p:nvPr/>
        </p:nvSpPr>
        <p:spPr>
          <a:xfrm>
            <a:off x="1437840" y="3976560"/>
            <a:ext cx="59886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shielded twisted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ber optic 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duplex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 Mbps link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folded bus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icated bandwidth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 L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ent/Server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ed access: databases and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ed resources: hardware and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er-to-Peer Commun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ing work load and information within a work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sensitive network attac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EEE 802.5 and IBM Token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470560" y="2050920"/>
            <a:ext cx="24876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3187800" y="2122560"/>
            <a:ext cx="2808360" cy="1585800"/>
            <a:chOff x="3187800" y="2122560"/>
            <a:chExt cx="2808360" cy="1585800"/>
          </a:xfrm>
        </p:grpSpPr>
        <p:sp>
          <p:nvSpPr>
            <p:cNvPr id="779" name=""/>
            <p:cNvSpPr/>
            <p:nvPr/>
          </p:nvSpPr>
          <p:spPr>
            <a:xfrm>
              <a:off x="4959360" y="3054240"/>
              <a:ext cx="755640" cy="37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08200" y="3050640"/>
              <a:ext cx="1289160" cy="37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59160" y="2819520"/>
              <a:ext cx="106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879800" y="2288880"/>
              <a:ext cx="83196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40040" y="2368440"/>
              <a:ext cx="83196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4" name="" descr=""/>
            <p:cNvPicPr/>
            <p:nvPr/>
          </p:nvPicPr>
          <p:blipFill>
            <a:blip r:embed="rId1"/>
            <a:stretch/>
          </p:blipFill>
          <p:spPr>
            <a:xfrm>
              <a:off x="4113360" y="2209680"/>
              <a:ext cx="129528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2"/>
            <a:stretch/>
          </p:blipFill>
          <p:spPr>
            <a:xfrm>
              <a:off x="5513400" y="3137040"/>
              <a:ext cx="4827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3"/>
            <a:stretch/>
          </p:blipFill>
          <p:spPr>
            <a:xfrm>
              <a:off x="3505320" y="2122560"/>
              <a:ext cx="45216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4"/>
            <a:stretch/>
          </p:blipFill>
          <p:spPr>
            <a:xfrm>
              <a:off x="3187800" y="2590920"/>
              <a:ext cx="5158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5"/>
            <a:stretch/>
          </p:blipFill>
          <p:spPr>
            <a:xfrm>
              <a:off x="5486400" y="2122560"/>
              <a:ext cx="45252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6"/>
            <a:stretch/>
          </p:blipFill>
          <p:spPr>
            <a:xfrm>
              <a:off x="3276720" y="3174840"/>
              <a:ext cx="684000" cy="4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0" name=""/>
          <p:cNvSpPr/>
          <p:nvPr/>
        </p:nvSpPr>
        <p:spPr>
          <a:xfrm>
            <a:off x="1892520" y="3824280"/>
            <a:ext cx="616824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elded or unshielded twisted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 duplex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/16 Mbps link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ng is folded star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d bandwidth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tched Token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70560" y="2050920"/>
            <a:ext cx="24876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92520" y="3824280"/>
            <a:ext cx="616824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elded or unshielded twisted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 duplex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p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ull duplex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/16 Mbps link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ng is folded star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icated bandwidth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276720" y="1752480"/>
            <a:ext cx="3043080" cy="1679760"/>
            <a:chOff x="3276720" y="1752480"/>
            <a:chExt cx="3043080" cy="1679760"/>
          </a:xfrm>
        </p:grpSpPr>
        <p:grpSp>
          <p:nvGrpSpPr>
            <p:cNvPr id="795" name=""/>
            <p:cNvGrpSpPr/>
            <p:nvPr/>
          </p:nvGrpSpPr>
          <p:grpSpPr>
            <a:xfrm>
              <a:off x="3276720" y="1752480"/>
              <a:ext cx="3043080" cy="1679760"/>
              <a:chOff x="3276720" y="1752480"/>
              <a:chExt cx="3043080" cy="1679760"/>
            </a:xfrm>
          </p:grpSpPr>
          <p:sp>
            <p:nvSpPr>
              <p:cNvPr id="796" name=""/>
              <p:cNvSpPr/>
              <p:nvPr/>
            </p:nvSpPr>
            <p:spPr>
              <a:xfrm>
                <a:off x="4121280" y="3111480"/>
                <a:ext cx="151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3886200" y="1971360"/>
                <a:ext cx="0" cy="113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4422600" y="2580840"/>
                <a:ext cx="1670400" cy="37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4498920" y="2123640"/>
                <a:ext cx="1060560" cy="75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4194000" y="1971360"/>
                <a:ext cx="451080" cy="904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6720" y="2664000"/>
                <a:ext cx="1379520" cy="69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83080" y="1816200"/>
                <a:ext cx="515880" cy="4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1881360"/>
                <a:ext cx="45252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67280" y="2414520"/>
                <a:ext cx="45252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60920" y="1752480"/>
                <a:ext cx="48240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3413160" y="3019320"/>
                <a:ext cx="1166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556160" y="3157560"/>
                <a:ext cx="81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61080" y="2852640"/>
                <a:ext cx="996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84760" y="2319480"/>
                <a:ext cx="8110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1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2933640"/>
                <a:ext cx="68436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11" name="" descr=""/>
            <p:cNvPicPr/>
            <p:nvPr/>
          </p:nvPicPr>
          <p:blipFill>
            <a:blip r:embed="rId7"/>
            <a:stretch/>
          </p:blipFill>
          <p:spPr>
            <a:xfrm>
              <a:off x="3581280" y="2743200"/>
              <a:ext cx="621000" cy="374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eband Network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680080" cy="4613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067280" y="2905200"/>
            <a:ext cx="898560" cy="78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829040" y="5648400"/>
            <a:ext cx="898560" cy="78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95680" y="2673360"/>
            <a:ext cx="0" cy="2221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5416560"/>
            <a:ext cx="0" cy="29844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35680" y="5416560"/>
            <a:ext cx="222120" cy="29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597040"/>
            <a:ext cx="0" cy="374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ered 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e tiers is an alternative to connecting all devices to a single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-up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artments create independent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backbone to interconnect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ment develops an organization-wide network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of attachment increases with data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ered LAN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1862280"/>
            <a:ext cx="705168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6T13:38:50Z</dcterms:created>
  <dc:creator>Robert S. Marshall</dc:creator>
  <dc:description/>
  <dc:language>en-US</dc:language>
  <cp:lastModifiedBy>NCR User</cp:lastModifiedBy>
  <cp:lastPrinted>1998-04-10T15:04:34Z</cp:lastPrinted>
  <dcterms:modified xsi:type="dcterms:W3CDTF">2001-02-26T20:35:11Z</dcterms:modified>
  <cp:revision>41</cp:revision>
  <dc:subject/>
  <dc:title>Local networks</dc:title>
</cp:coreProperties>
</file>