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  <p:sldId id="284" r:id="rId80"/>
    <p:sldId id="285" r:id="rId81"/>
    <p:sldId id="286" r:id="rId82"/>
    <p:sldId id="287" r:id="rId83"/>
    <p:sldId id="288" r:id="rId84"/>
    <p:sldId id="289" r:id="rId85"/>
    <p:sldId id="290" r:id="rId86"/>
    <p:sldId id="291" r:id="rId87"/>
    <p:sldId id="292" r:id="rId88"/>
    <p:sldId id="293" r:id="rId89"/>
    <p:sldId id="294" r:id="rId90"/>
    <p:sldId id="295" r:id="rId91"/>
    <p:sldId id="296" r:id="rId92"/>
    <p:sldId id="297" r:id="rId93"/>
    <p:sldId id="298" r:id="rId94"/>
    <p:sldId id="299" r:id="rId95"/>
    <p:sldId id="300" r:id="rId96"/>
    <p:sldId id="301" r:id="rId97"/>
    <p:sldId id="302" r:id="rId98"/>
    <p:sldId id="303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slide" Target="slides/slide29.xml"/><Relationship Id="rId81" Type="http://schemas.openxmlformats.org/officeDocument/2006/relationships/slide" Target="slides/slide30.xml"/><Relationship Id="rId82" Type="http://schemas.openxmlformats.org/officeDocument/2006/relationships/slide" Target="slides/slide31.xml"/><Relationship Id="rId83" Type="http://schemas.openxmlformats.org/officeDocument/2006/relationships/slide" Target="slides/slide32.xml"/><Relationship Id="rId84" Type="http://schemas.openxmlformats.org/officeDocument/2006/relationships/slide" Target="slides/slide33.xml"/><Relationship Id="rId85" Type="http://schemas.openxmlformats.org/officeDocument/2006/relationships/slide" Target="slides/slide34.xml"/><Relationship Id="rId86" Type="http://schemas.openxmlformats.org/officeDocument/2006/relationships/slide" Target="slides/slide35.xml"/><Relationship Id="rId87" Type="http://schemas.openxmlformats.org/officeDocument/2006/relationships/slide" Target="slides/slide36.xml"/><Relationship Id="rId88" Type="http://schemas.openxmlformats.org/officeDocument/2006/relationships/slide" Target="slides/slide37.xml"/><Relationship Id="rId89" Type="http://schemas.openxmlformats.org/officeDocument/2006/relationships/slide" Target="slides/slide38.xml"/><Relationship Id="rId90" Type="http://schemas.openxmlformats.org/officeDocument/2006/relationships/slide" Target="slides/slide39.xml"/><Relationship Id="rId91" Type="http://schemas.openxmlformats.org/officeDocument/2006/relationships/slide" Target="slides/slide40.xml"/><Relationship Id="rId92" Type="http://schemas.openxmlformats.org/officeDocument/2006/relationships/slide" Target="slides/slide41.xml"/><Relationship Id="rId93" Type="http://schemas.openxmlformats.org/officeDocument/2006/relationships/slide" Target="slides/slide42.xml"/><Relationship Id="rId94" Type="http://schemas.openxmlformats.org/officeDocument/2006/relationships/slide" Target="slides/slide43.xml"/><Relationship Id="rId95" Type="http://schemas.openxmlformats.org/officeDocument/2006/relationships/slide" Target="slides/slide44.xml"/><Relationship Id="rId96" Type="http://schemas.openxmlformats.org/officeDocument/2006/relationships/slide" Target="slides/slide45.xml"/><Relationship Id="rId97" Type="http://schemas.openxmlformats.org/officeDocument/2006/relationships/slide" Target="slides/slide46.xml"/><Relationship Id="rId98" Type="http://schemas.openxmlformats.org/officeDocument/2006/relationships/slide" Target="slides/slide47.xml"/><Relationship Id="rId99" Type="http://schemas.openxmlformats.org/officeDocument/2006/relationships/slide" Target="slides/slide48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6DD8B1-500A-4745-8DA0-B1E818BEF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ndwidth per user is distributed as a bell-shaped curve, as dict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y economics.  In legacy systems, low-end users connect to th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erminals at 9600 bps, while at the high-end users connect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with workstations requiring 100 Mbps.  The majority of user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LAN with between 50 and 100 other users.  This arran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s the available bandwidth among the users with each user g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roximately 100 Kbps.  (The figure is normalized for Ethernet, b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ion is approximately the same for Token 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ndwidth sharing is a function of the hub used to connect the 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gments.  Most hubs are designed to connect approximately 100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segment.  Some departments will be satisfied with 100 users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gment while others will require high bandwidth per user. 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ment demands that the number of users be reduced in ord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 the available user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coax or twisted pair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message traffic due to the shared media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istic delivery of message to receiving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/100 Mbps twisted pair or fiber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message traffic is possible if the link from the switch to the user is point-to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9000" y="6480"/>
            <a:ext cx="9124560" cy="6845760"/>
            <a:chOff x="9000" y="6480"/>
            <a:chExt cx="91245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5440" cy="5261400"/>
            </a:xfrm>
            <a:custGeom>
              <a:avLst/>
              <a:gdLst/>
              <a:ahLst/>
              <a:rect l="0" t="0" r="r" b="b"/>
              <a:pathLst>
                <a:path w="10404" h="14615">
                  <a:moveTo>
                    <a:pt x="8406" y="14611"/>
                  </a:moveTo>
                  <a:lnTo>
                    <a:pt x="10404" y="14615"/>
                  </a:lnTo>
                  <a:lnTo>
                    <a:pt x="10404" y="6339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4" y="1230"/>
                  </a:lnTo>
                  <a:lnTo>
                    <a:pt x="2435" y="1945"/>
                  </a:lnTo>
                  <a:lnTo>
                    <a:pt x="3230" y="2699"/>
                  </a:lnTo>
                  <a:lnTo>
                    <a:pt x="4394" y="3984"/>
                  </a:lnTo>
                  <a:lnTo>
                    <a:pt x="5427" y="5347"/>
                  </a:lnTo>
                  <a:lnTo>
                    <a:pt x="6177" y="6538"/>
                  </a:lnTo>
                  <a:lnTo>
                    <a:pt x="6830" y="7768"/>
                  </a:lnTo>
                  <a:lnTo>
                    <a:pt x="7346" y="8999"/>
                  </a:lnTo>
                  <a:lnTo>
                    <a:pt x="7725" y="10124"/>
                  </a:lnTo>
                  <a:lnTo>
                    <a:pt x="7982" y="11078"/>
                  </a:lnTo>
                  <a:lnTo>
                    <a:pt x="8220" y="12255"/>
                  </a:lnTo>
                  <a:lnTo>
                    <a:pt x="8339" y="13288"/>
                  </a:lnTo>
                  <a:lnTo>
                    <a:pt x="8406" y="14611"/>
                  </a:lnTo>
                  <a:close/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00" y="6480"/>
              <a:ext cx="8401680" cy="6845760"/>
            </a:xfrm>
            <a:custGeom>
              <a:avLst/>
              <a:gdLst/>
              <a:ahLst/>
              <a:rect l="0" t="0" r="r" b="b"/>
              <a:pathLst>
                <a:path fill="none" w="23338" h="19016">
                  <a:moveTo>
                    <a:pt x="23338" y="19016"/>
                  </a:moveTo>
                  <a:lnTo>
                    <a:pt x="23338" y="19016"/>
                  </a:lnTo>
                  <a:lnTo>
                    <a:pt x="23338" y="19016"/>
                  </a:lnTo>
                  <a:cubicBezTo>
                    <a:pt x="23338" y="15678"/>
                    <a:pt x="22258" y="12399"/>
                    <a:pt x="20208" y="9508"/>
                  </a:cubicBezTo>
                  <a:cubicBezTo>
                    <a:pt x="18157" y="6617"/>
                    <a:pt x="15208" y="4217"/>
                    <a:pt x="11656" y="2548"/>
                  </a:cubicBezTo>
                  <a:cubicBezTo>
                    <a:pt x="8112" y="882"/>
                    <a:pt x="4093" y="4"/>
                    <a:pt x="0" y="0"/>
                  </a:cubicBezTo>
                </a:path>
              </a:pathLst>
            </a:custGeom>
            <a:ln w="12600">
              <a:solidFill>
                <a:srgbClr val="eaeae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05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17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54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1447920" y="3048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cal Area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52280" y="4021200"/>
            <a:ext cx="2857680" cy="2693880"/>
          </a:xfrm>
          <a:prstGeom prst="rect">
            <a:avLst/>
          </a:prstGeom>
          <a:ln w="0">
            <a:noFill/>
          </a:ln>
        </p:spPr>
      </p:pic>
      <p:pic>
        <p:nvPicPr>
          <p:cNvPr id="1872" name="" descr=""/>
          <p:cNvPicPr/>
          <p:nvPr/>
        </p:nvPicPr>
        <p:blipFill>
          <a:blip r:embed="rId2"/>
          <a:stretch/>
        </p:blipFill>
        <p:spPr>
          <a:xfrm>
            <a:off x="5943600" y="160200"/>
            <a:ext cx="3084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ered 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" descr=""/>
          <p:cNvPicPr/>
          <p:nvPr/>
        </p:nvPicPr>
        <p:blipFill>
          <a:blip r:embed="rId1"/>
          <a:stretch/>
        </p:blipFill>
        <p:spPr>
          <a:xfrm>
            <a:off x="990720" y="1862280"/>
            <a:ext cx="70516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 txBox="1"/>
          <p:nvPr/>
        </p:nvSpPr>
        <p:spPr>
          <a:xfrm>
            <a:off x="974880" y="3983040"/>
            <a:ext cx="1278000" cy="8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3351240" y="5972040"/>
            <a:ext cx="27939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dwidth Pe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6934320" y="4172040"/>
            <a:ext cx="15541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DD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1523880" y="380880"/>
            <a:ext cx="6553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ndwidth Usage in Early LA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1962000" y="2441520"/>
            <a:ext cx="5873760" cy="3016440"/>
            <a:chOff x="1962000" y="2441520"/>
            <a:chExt cx="5873760" cy="3016440"/>
          </a:xfrm>
        </p:grpSpPr>
        <p:grpSp>
          <p:nvGrpSpPr>
            <p:cNvPr id="1896" name=""/>
            <p:cNvGrpSpPr/>
            <p:nvPr/>
          </p:nvGrpSpPr>
          <p:grpSpPr>
            <a:xfrm>
              <a:off x="1962000" y="2468520"/>
              <a:ext cx="5850000" cy="2989440"/>
              <a:chOff x="1962000" y="2468520"/>
              <a:chExt cx="5850000" cy="2989440"/>
            </a:xfrm>
          </p:grpSpPr>
          <p:sp>
            <p:nvSpPr>
              <p:cNvPr id="1897" name=""/>
              <p:cNvSpPr/>
              <p:nvPr/>
            </p:nvSpPr>
            <p:spPr>
              <a:xfrm>
                <a:off x="1962000" y="2468520"/>
                <a:ext cx="0" cy="298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968480" y="5457960"/>
                <a:ext cx="58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1973160" y="2441520"/>
              <a:ext cx="5862600" cy="2990880"/>
              <a:chOff x="1973160" y="2441520"/>
              <a:chExt cx="5862600" cy="2990880"/>
            </a:xfrm>
          </p:grpSpPr>
          <p:sp>
            <p:nvSpPr>
              <p:cNvPr id="1900" name=""/>
              <p:cNvSpPr/>
              <p:nvPr/>
            </p:nvSpPr>
            <p:spPr>
              <a:xfrm>
                <a:off x="1973160" y="2441520"/>
                <a:ext cx="0" cy="2990880"/>
              </a:xfrm>
              <a:prstGeom prst="line">
                <a:avLst/>
              </a:prstGeom>
              <a:ln w="38160">
                <a:solidFill>
                  <a:srgbClr val="0041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979640" y="5432400"/>
                <a:ext cx="5856120" cy="0"/>
              </a:xfrm>
              <a:prstGeom prst="line">
                <a:avLst/>
              </a:prstGeom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1986120" y="2649600"/>
            <a:ext cx="5777280" cy="2546640"/>
            <a:chOff x="1986120" y="2649600"/>
            <a:chExt cx="5777280" cy="2546640"/>
          </a:xfrm>
        </p:grpSpPr>
        <p:sp>
          <p:nvSpPr>
            <p:cNvPr id="1903" name=""/>
            <p:cNvSpPr/>
            <p:nvPr/>
          </p:nvSpPr>
          <p:spPr>
            <a:xfrm>
              <a:off x="1998720" y="2673360"/>
              <a:ext cx="5764680" cy="2522880"/>
            </a:xfrm>
            <a:custGeom>
              <a:avLst/>
              <a:gdLst/>
              <a:ahLst/>
              <a:rect l="0" t="0" r="r" b="b"/>
              <a:pathLst>
                <a:path fill="none" w="16013" h="7008">
                  <a:moveTo>
                    <a:pt x="0" y="7008"/>
                  </a:moveTo>
                  <a:lnTo>
                    <a:pt x="70" y="7008"/>
                  </a:lnTo>
                  <a:lnTo>
                    <a:pt x="172" y="6972"/>
                  </a:lnTo>
                  <a:lnTo>
                    <a:pt x="313" y="6902"/>
                  </a:lnTo>
                  <a:lnTo>
                    <a:pt x="383" y="6831"/>
                  </a:lnTo>
                  <a:lnTo>
                    <a:pt x="520" y="6730"/>
                  </a:lnTo>
                  <a:lnTo>
                    <a:pt x="626" y="6624"/>
                  </a:lnTo>
                  <a:lnTo>
                    <a:pt x="732" y="6452"/>
                  </a:lnTo>
                  <a:lnTo>
                    <a:pt x="833" y="6275"/>
                  </a:lnTo>
                  <a:lnTo>
                    <a:pt x="939" y="6068"/>
                  </a:lnTo>
                  <a:lnTo>
                    <a:pt x="1080" y="5785"/>
                  </a:lnTo>
                  <a:lnTo>
                    <a:pt x="1217" y="5507"/>
                  </a:lnTo>
                  <a:lnTo>
                    <a:pt x="1323" y="5159"/>
                  </a:lnTo>
                  <a:lnTo>
                    <a:pt x="1429" y="4775"/>
                  </a:lnTo>
                  <a:lnTo>
                    <a:pt x="1565" y="4391"/>
                  </a:lnTo>
                  <a:lnTo>
                    <a:pt x="1636" y="3976"/>
                  </a:lnTo>
                  <a:lnTo>
                    <a:pt x="1808" y="3137"/>
                  </a:lnTo>
                  <a:lnTo>
                    <a:pt x="2020" y="2298"/>
                  </a:lnTo>
                  <a:lnTo>
                    <a:pt x="2121" y="1919"/>
                  </a:lnTo>
                  <a:lnTo>
                    <a:pt x="2227" y="1535"/>
                  </a:lnTo>
                  <a:lnTo>
                    <a:pt x="2403" y="1186"/>
                  </a:lnTo>
                  <a:lnTo>
                    <a:pt x="2575" y="873"/>
                  </a:lnTo>
                  <a:lnTo>
                    <a:pt x="2783" y="591"/>
                  </a:lnTo>
                  <a:lnTo>
                    <a:pt x="2995" y="348"/>
                  </a:lnTo>
                  <a:lnTo>
                    <a:pt x="3272" y="176"/>
                  </a:lnTo>
                  <a:lnTo>
                    <a:pt x="3621" y="70"/>
                  </a:lnTo>
                  <a:lnTo>
                    <a:pt x="3899" y="0"/>
                  </a:lnTo>
                  <a:lnTo>
                    <a:pt x="4213" y="35"/>
                  </a:lnTo>
                  <a:lnTo>
                    <a:pt x="4526" y="141"/>
                  </a:lnTo>
                  <a:lnTo>
                    <a:pt x="4769" y="313"/>
                  </a:lnTo>
                  <a:lnTo>
                    <a:pt x="5047" y="555"/>
                  </a:lnTo>
                  <a:lnTo>
                    <a:pt x="5289" y="838"/>
                  </a:lnTo>
                  <a:lnTo>
                    <a:pt x="5572" y="1151"/>
                  </a:lnTo>
                  <a:lnTo>
                    <a:pt x="5814" y="1535"/>
                  </a:lnTo>
                  <a:lnTo>
                    <a:pt x="6335" y="2298"/>
                  </a:lnTo>
                  <a:lnTo>
                    <a:pt x="6926" y="3066"/>
                  </a:lnTo>
                  <a:lnTo>
                    <a:pt x="7208" y="3450"/>
                  </a:lnTo>
                  <a:lnTo>
                    <a:pt x="7552" y="3835"/>
                  </a:lnTo>
                  <a:lnTo>
                    <a:pt x="7865" y="4148"/>
                  </a:lnTo>
                  <a:lnTo>
                    <a:pt x="8249" y="4462"/>
                  </a:lnTo>
                  <a:lnTo>
                    <a:pt x="9016" y="4916"/>
                  </a:lnTo>
                  <a:lnTo>
                    <a:pt x="9850" y="5300"/>
                  </a:lnTo>
                  <a:lnTo>
                    <a:pt x="10790" y="5613"/>
                  </a:lnTo>
                  <a:lnTo>
                    <a:pt x="11764" y="5856"/>
                  </a:lnTo>
                  <a:lnTo>
                    <a:pt x="12776" y="6068"/>
                  </a:lnTo>
                  <a:lnTo>
                    <a:pt x="13856" y="6240"/>
                  </a:lnTo>
                  <a:lnTo>
                    <a:pt x="14897" y="6381"/>
                  </a:lnTo>
                  <a:lnTo>
                    <a:pt x="16013" y="6518"/>
                  </a:ln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986120" y="2649600"/>
              <a:ext cx="5764680" cy="2521440"/>
            </a:xfrm>
            <a:custGeom>
              <a:avLst/>
              <a:gdLst/>
              <a:ahLst/>
              <a:rect l="0" t="0" r="r" b="b"/>
              <a:pathLst>
                <a:path fill="none" w="16013" h="7004">
                  <a:moveTo>
                    <a:pt x="0" y="7004"/>
                  </a:moveTo>
                  <a:lnTo>
                    <a:pt x="70" y="7004"/>
                  </a:lnTo>
                  <a:lnTo>
                    <a:pt x="172" y="6969"/>
                  </a:lnTo>
                  <a:lnTo>
                    <a:pt x="313" y="6898"/>
                  </a:lnTo>
                  <a:lnTo>
                    <a:pt x="383" y="6832"/>
                  </a:lnTo>
                  <a:lnTo>
                    <a:pt x="520" y="6726"/>
                  </a:lnTo>
                  <a:lnTo>
                    <a:pt x="626" y="6620"/>
                  </a:lnTo>
                  <a:lnTo>
                    <a:pt x="732" y="6448"/>
                  </a:lnTo>
                  <a:lnTo>
                    <a:pt x="833" y="6272"/>
                  </a:lnTo>
                  <a:lnTo>
                    <a:pt x="939" y="6064"/>
                  </a:lnTo>
                  <a:lnTo>
                    <a:pt x="1080" y="5786"/>
                  </a:lnTo>
                  <a:lnTo>
                    <a:pt x="1217" y="5504"/>
                  </a:lnTo>
                  <a:lnTo>
                    <a:pt x="1323" y="5159"/>
                  </a:lnTo>
                  <a:lnTo>
                    <a:pt x="1429" y="4775"/>
                  </a:lnTo>
                  <a:lnTo>
                    <a:pt x="1565" y="4391"/>
                  </a:lnTo>
                  <a:lnTo>
                    <a:pt x="1636" y="3972"/>
                  </a:lnTo>
                  <a:lnTo>
                    <a:pt x="1808" y="3138"/>
                  </a:lnTo>
                  <a:lnTo>
                    <a:pt x="2020" y="2299"/>
                  </a:lnTo>
                  <a:lnTo>
                    <a:pt x="2121" y="1916"/>
                  </a:lnTo>
                  <a:lnTo>
                    <a:pt x="2227" y="1531"/>
                  </a:lnTo>
                  <a:lnTo>
                    <a:pt x="2403" y="1182"/>
                  </a:lnTo>
                  <a:lnTo>
                    <a:pt x="2575" y="869"/>
                  </a:lnTo>
                  <a:lnTo>
                    <a:pt x="2783" y="591"/>
                  </a:lnTo>
                  <a:lnTo>
                    <a:pt x="2995" y="348"/>
                  </a:lnTo>
                  <a:lnTo>
                    <a:pt x="3272" y="172"/>
                  </a:lnTo>
                  <a:lnTo>
                    <a:pt x="3621" y="70"/>
                  </a:lnTo>
                  <a:lnTo>
                    <a:pt x="3899" y="0"/>
                  </a:lnTo>
                  <a:lnTo>
                    <a:pt x="4213" y="35"/>
                  </a:lnTo>
                  <a:lnTo>
                    <a:pt x="4491" y="141"/>
                  </a:lnTo>
                  <a:lnTo>
                    <a:pt x="4769" y="313"/>
                  </a:lnTo>
                  <a:lnTo>
                    <a:pt x="5047" y="555"/>
                  </a:lnTo>
                  <a:lnTo>
                    <a:pt x="5289" y="833"/>
                  </a:lnTo>
                  <a:lnTo>
                    <a:pt x="5572" y="1151"/>
                  </a:lnTo>
                  <a:lnTo>
                    <a:pt x="5814" y="1531"/>
                  </a:lnTo>
                  <a:lnTo>
                    <a:pt x="6335" y="2299"/>
                  </a:lnTo>
                  <a:lnTo>
                    <a:pt x="6926" y="3067"/>
                  </a:lnTo>
                  <a:lnTo>
                    <a:pt x="7208" y="3451"/>
                  </a:lnTo>
                  <a:lnTo>
                    <a:pt x="7521" y="3835"/>
                  </a:lnTo>
                  <a:lnTo>
                    <a:pt x="7865" y="4148"/>
                  </a:lnTo>
                  <a:lnTo>
                    <a:pt x="8249" y="4462"/>
                  </a:lnTo>
                  <a:lnTo>
                    <a:pt x="9016" y="4912"/>
                  </a:lnTo>
                  <a:lnTo>
                    <a:pt x="9850" y="5297"/>
                  </a:lnTo>
                  <a:lnTo>
                    <a:pt x="10790" y="5610"/>
                  </a:lnTo>
                  <a:lnTo>
                    <a:pt x="11764" y="5852"/>
                  </a:lnTo>
                  <a:lnTo>
                    <a:pt x="12776" y="6064"/>
                  </a:lnTo>
                  <a:lnTo>
                    <a:pt x="13856" y="6236"/>
                  </a:lnTo>
                  <a:lnTo>
                    <a:pt x="14897" y="6378"/>
                  </a:lnTo>
                  <a:lnTo>
                    <a:pt x="16013" y="6514"/>
                  </a:lnTo>
                </a:path>
              </a:pathLst>
            </a:custGeom>
            <a:ln w="38160">
              <a:solidFill>
                <a:srgbClr val="ffd255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2174760" y="5343480"/>
            <a:ext cx="126000" cy="190800"/>
            <a:chOff x="2174760" y="5343480"/>
            <a:chExt cx="126000" cy="190800"/>
          </a:xfrm>
        </p:grpSpPr>
        <p:sp>
          <p:nvSpPr>
            <p:cNvPr id="1906" name=""/>
            <p:cNvSpPr/>
            <p:nvPr/>
          </p:nvSpPr>
          <p:spPr>
            <a:xfrm>
              <a:off x="2243160" y="543240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230560" y="546876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2174760" y="5343480"/>
              <a:ext cx="126000" cy="190800"/>
              <a:chOff x="2174760" y="5343480"/>
              <a:chExt cx="126000" cy="190800"/>
            </a:xfrm>
          </p:grpSpPr>
          <p:sp>
            <p:nvSpPr>
              <p:cNvPr id="1909" name=""/>
              <p:cNvSpPr/>
              <p:nvPr/>
            </p:nvSpPr>
            <p:spPr>
              <a:xfrm>
                <a:off x="2174760" y="5343480"/>
                <a:ext cx="38520" cy="190800"/>
              </a:xfrm>
              <a:custGeom>
                <a:avLst/>
                <a:gdLst/>
                <a:ahLst/>
                <a:rect l="0" t="0" r="r" b="b"/>
                <a:pathLst>
                  <a:path fill="none" w="107" h="530">
                    <a:moveTo>
                      <a:pt x="107" y="530"/>
                    </a:moveTo>
                    <a:lnTo>
                      <a:pt x="0" y="387"/>
                    </a:lnTo>
                    <a:lnTo>
                      <a:pt x="107" y="142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8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262240" y="5343480"/>
                <a:ext cx="38520" cy="190800"/>
              </a:xfrm>
              <a:custGeom>
                <a:avLst/>
                <a:gdLst/>
                <a:ahLst/>
                <a:rect l="0" t="0" r="r" b="b"/>
                <a:pathLst>
                  <a:path fill="none" w="107" h="530">
                    <a:moveTo>
                      <a:pt x="107" y="530"/>
                    </a:moveTo>
                    <a:lnTo>
                      <a:pt x="0" y="387"/>
                    </a:lnTo>
                    <a:lnTo>
                      <a:pt x="107" y="142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8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1" name=""/>
          <p:cNvGrpSpPr/>
          <p:nvPr/>
        </p:nvGrpSpPr>
        <p:grpSpPr>
          <a:xfrm>
            <a:off x="2136600" y="4981680"/>
            <a:ext cx="127440" cy="189360"/>
            <a:chOff x="2136600" y="4981680"/>
            <a:chExt cx="127440" cy="189360"/>
          </a:xfrm>
        </p:grpSpPr>
        <p:sp>
          <p:nvSpPr>
            <p:cNvPr id="1912" name=""/>
            <p:cNvSpPr/>
            <p:nvPr/>
          </p:nvSpPr>
          <p:spPr>
            <a:xfrm>
              <a:off x="2205000" y="506880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192400" y="510552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205000" y="503244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192400" y="514512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2136600" y="4981680"/>
              <a:ext cx="127440" cy="189360"/>
              <a:chOff x="2136600" y="4981680"/>
              <a:chExt cx="127440" cy="189360"/>
            </a:xfrm>
          </p:grpSpPr>
          <p:sp>
            <p:nvSpPr>
              <p:cNvPr id="1917" name=""/>
              <p:cNvSpPr/>
              <p:nvPr/>
            </p:nvSpPr>
            <p:spPr>
              <a:xfrm>
                <a:off x="2136600" y="4981680"/>
                <a:ext cx="39960" cy="189360"/>
              </a:xfrm>
              <a:custGeom>
                <a:avLst/>
                <a:gdLst/>
                <a:ahLst/>
                <a:rect l="0" t="0" r="r" b="b"/>
                <a:pathLst>
                  <a:path fill="none" w="111" h="526">
                    <a:moveTo>
                      <a:pt x="111" y="526"/>
                    </a:moveTo>
                    <a:lnTo>
                      <a:pt x="0" y="387"/>
                    </a:lnTo>
                    <a:lnTo>
                      <a:pt x="111" y="138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224080" y="4981680"/>
                <a:ext cx="39960" cy="189360"/>
              </a:xfrm>
              <a:custGeom>
                <a:avLst/>
                <a:gdLst/>
                <a:ahLst/>
                <a:rect l="0" t="0" r="r" b="b"/>
                <a:pathLst>
                  <a:path fill="none" w="111" h="526">
                    <a:moveTo>
                      <a:pt x="111" y="526"/>
                    </a:moveTo>
                    <a:lnTo>
                      <a:pt x="0" y="387"/>
                    </a:lnTo>
                    <a:lnTo>
                      <a:pt x="111" y="138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9" name=""/>
          <p:cNvGrpSpPr/>
          <p:nvPr/>
        </p:nvGrpSpPr>
        <p:grpSpPr>
          <a:xfrm>
            <a:off x="3427560" y="5326200"/>
            <a:ext cx="4070160" cy="218880"/>
            <a:chOff x="3427560" y="5326200"/>
            <a:chExt cx="4070160" cy="218880"/>
          </a:xfrm>
        </p:grpSpPr>
        <p:sp>
          <p:nvSpPr>
            <p:cNvPr id="1920" name=""/>
            <p:cNvSpPr/>
            <p:nvPr/>
          </p:nvSpPr>
          <p:spPr>
            <a:xfrm>
              <a:off x="342756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76712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3260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9772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3427560" y="25812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767120" y="4022640"/>
            <a:ext cx="0" cy="219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132600" y="4648320"/>
            <a:ext cx="0" cy="218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7497720" y="4873680"/>
            <a:ext cx="0" cy="220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2023920" y="3038400"/>
            <a:ext cx="119052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4545000" y="3525840"/>
            <a:ext cx="1190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 Us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5635800" y="4133880"/>
            <a:ext cx="11890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dic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2989440" y="5581800"/>
            <a:ext cx="9129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 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4327560" y="5581800"/>
            <a:ext cx="915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5692680" y="5581800"/>
            <a:ext cx="915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7059600" y="5581800"/>
            <a:ext cx="914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498760" y="1690560"/>
            <a:ext cx="18651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actors Effec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of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of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of server computers and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&amp; IEEE 802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encoding and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transmission and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assembly and dis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and error contro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685800" y="15238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, tree, ring, or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, coaxial cable, or fiber 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or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robin (Token pas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ation (T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(CSMA/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porate Wiring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1"/>
          <a:stretch/>
        </p:blipFill>
        <p:spPr>
          <a:xfrm>
            <a:off x="1143000" y="1967040"/>
            <a:ext cx="7147080" cy="3984480"/>
          </a:xfrm>
          <a:prstGeom prst="rect">
            <a:avLst/>
          </a:prstGeom>
          <a:ln w="0">
            <a:noFill/>
          </a:ln>
        </p:spPr>
      </p:pic>
      <p:sp>
        <p:nvSpPr>
          <p:cNvPr id="1944" name=""/>
          <p:cNvSpPr txBox="1"/>
          <p:nvPr/>
        </p:nvSpPr>
        <p:spPr>
          <a:xfrm>
            <a:off x="3948120" y="6170760"/>
            <a:ext cx="4924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Telecommunications Magazine, January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&amp; IEEE 8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erenc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1"/>
          <a:stretch/>
        </p:blipFill>
        <p:spPr>
          <a:xfrm>
            <a:off x="2390760" y="2095560"/>
            <a:ext cx="4708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ANSI LA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2 -- LLC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 -- CSMA/C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4 -- Token Bu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5 -- Token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6 -- Metropolit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3T9.5 -- FDDI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152388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us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multi-poi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use a tap to attach to bus (linear med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between station and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from any stations travels entire length of bus (both dir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required at all bus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ancia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compu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us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4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182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e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 of bus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ing cable with no clos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(s) begin at headend, travel to branches which may have branche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ransmission propagates through network, can be received by an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e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752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ng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are connected by unidirectional point-to-point links to form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 circulate through repeater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 fram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es into local buffer if match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smits all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repeater removes frame from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ng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1"/>
          <a:stretch/>
        </p:blipFill>
        <p:spPr>
          <a:xfrm>
            <a:off x="609480" y="1963800"/>
            <a:ext cx="8051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r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ion directly connected to central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with two un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s frames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r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371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oosing a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685800" y="1981080"/>
            <a:ext cx="7772400" cy="42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, flexibility, expandability,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or tree is mos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 easiest to la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 offers high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reliabi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offers high speed for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imited exp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polog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identify transmission desti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mitted i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rame has address i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regulate a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ake turns sen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monitor control information i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choose the best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dium versus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143000" y="1922400"/>
            <a:ext cx="6680160" cy="3825720"/>
            <a:chOff x="1143000" y="1922400"/>
            <a:chExt cx="6680160" cy="3825720"/>
          </a:xfrm>
        </p:grpSpPr>
        <p:pic>
          <p:nvPicPr>
            <p:cNvPr id="1973" name="" descr=""/>
            <p:cNvPicPr/>
            <p:nvPr/>
          </p:nvPicPr>
          <p:blipFill>
            <a:blip r:embed="rId1"/>
            <a:stretch/>
          </p:blipFill>
          <p:spPr>
            <a:xfrm>
              <a:off x="1143000" y="1922400"/>
              <a:ext cx="6680160" cy="38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4" name=""/>
            <p:cNvSpPr/>
            <p:nvPr/>
          </p:nvSpPr>
          <p:spPr>
            <a:xfrm>
              <a:off x="1235160" y="1968480"/>
              <a:ext cx="6445080" cy="368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tai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compu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pe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 txBox="1"/>
          <p:nvPr/>
        </p:nvSpPr>
        <p:spPr>
          <a:xfrm>
            <a:off x="406440" y="2286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lecting a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685800" y="121932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support expected network traff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meet availability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data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edia well-suited to the application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function in the require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"/>
          <p:cNvSpPr txBox="1"/>
          <p:nvPr/>
        </p:nvSpPr>
        <p:spPr>
          <a:xfrm>
            <a:off x="406440" y="2286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--digital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fiber--analog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coax--digital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coax--analog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FDM to carry multiple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longer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e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ructured Cabl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457200" y="18860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ing scheme for wiring within 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cabling for al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s, voice, vide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and equipment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encompass entir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equipment re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guidance for pre-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nd renovated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ing 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ing layout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layout minimizes amount of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layout uses individual cable from concentration point to subscr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bus o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ing cl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hu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frames and regenerates transmitted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eband and Broadb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1687680" y="2209680"/>
            <a:ext cx="61358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 txBox="1"/>
          <p:nvPr/>
        </p:nvSpPr>
        <p:spPr>
          <a:xfrm>
            <a:off x="7632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eband Network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80080" cy="461340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2"/>
          <a:stretch/>
        </p:blipFill>
        <p:spPr>
          <a:xfrm>
            <a:off x="4067280" y="2905200"/>
            <a:ext cx="898560" cy="784080"/>
          </a:xfrm>
          <a:prstGeom prst="rect">
            <a:avLst/>
          </a:prstGeom>
          <a:ln w="0">
            <a:noFill/>
          </a:ln>
        </p:spPr>
      </p:pic>
      <p:pic>
        <p:nvPicPr>
          <p:cNvPr id="1988" name="" descr=""/>
          <p:cNvPicPr/>
          <p:nvPr/>
        </p:nvPicPr>
        <p:blipFill>
          <a:blip r:embed="rId3"/>
          <a:stretch/>
        </p:blipFill>
        <p:spPr>
          <a:xfrm>
            <a:off x="4829040" y="5648400"/>
            <a:ext cx="898560" cy="78408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4495680" y="2673360"/>
            <a:ext cx="0" cy="222120"/>
          </a:xfrm>
          <a:prstGeom prst="line">
            <a:avLst/>
          </a:prstGeom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029200" y="5416560"/>
            <a:ext cx="0" cy="298440"/>
          </a:xfrm>
          <a:prstGeom prst="line">
            <a:avLst/>
          </a:prstGeom>
          <a:ln w="101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035680" y="5416560"/>
            <a:ext cx="222120" cy="2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495680" y="2597040"/>
            <a:ext cx="0" cy="374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1447920" y="4572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dia 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o control shared medi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ense Multiple Access/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robin token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SMA/CD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1684440" y="2057400"/>
            <a:ext cx="6291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" descr=""/>
          <p:cNvPicPr/>
          <p:nvPr/>
        </p:nvPicPr>
        <p:blipFill>
          <a:blip r:embed="rId1"/>
          <a:stretch/>
        </p:blipFill>
        <p:spPr>
          <a:xfrm>
            <a:off x="1905120" y="2070000"/>
            <a:ext cx="5384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1144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ncentration of low spe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requirements i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optim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‘fat pip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ice provider bu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ical Lin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457200" y="1676520"/>
            <a:ext cx="8178840" cy="41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method of addressing and controls exchang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topology, media, and media 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layers handle error and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-mod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setup before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3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in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ength in 100s of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Base5, 10Base2, 10Broad36, 10BaseT, 10Bas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3 an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699160" y="1752480"/>
            <a:ext cx="22399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089680" y="3475080"/>
            <a:ext cx="34448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36640" y="1782720"/>
            <a:ext cx="2387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1736640" y="3519360"/>
            <a:ext cx="6215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multipoint bus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2959200" y="2133720"/>
            <a:ext cx="3417840" cy="812880"/>
            <a:chOff x="2959200" y="2133720"/>
            <a:chExt cx="3417840" cy="812880"/>
          </a:xfrm>
        </p:grpSpPr>
        <p:sp>
          <p:nvSpPr>
            <p:cNvPr id="2011" name=""/>
            <p:cNvSpPr/>
            <p:nvPr/>
          </p:nvSpPr>
          <p:spPr>
            <a:xfrm>
              <a:off x="5257800" y="213984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200400" y="2139840"/>
              <a:ext cx="0" cy="22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62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9588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978280" y="2133720"/>
              <a:ext cx="3346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7" name="" descr=""/>
            <p:cNvPicPr/>
            <p:nvPr/>
          </p:nvPicPr>
          <p:blipFill>
            <a:blip r:embed="rId1"/>
            <a:stretch/>
          </p:blipFill>
          <p:spPr>
            <a:xfrm>
              <a:off x="5894280" y="2374920"/>
              <a:ext cx="482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2"/>
            <a:stretch/>
          </p:blipFill>
          <p:spPr>
            <a:xfrm>
              <a:off x="3657600" y="23511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3"/>
            <a:stretch/>
          </p:blipFill>
          <p:spPr>
            <a:xfrm>
              <a:off x="4343400" y="23511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"/>
            <a:stretch/>
          </p:blipFill>
          <p:spPr>
            <a:xfrm>
              <a:off x="2959200" y="2362320"/>
              <a:ext cx="5158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5"/>
            <a:stretch/>
          </p:blipFill>
          <p:spPr>
            <a:xfrm>
              <a:off x="5029200" y="241308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witche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207120" y="2422440"/>
            <a:ext cx="15224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124080" y="1994040"/>
            <a:ext cx="3043440" cy="1679400"/>
            <a:chOff x="3124080" y="1994040"/>
            <a:chExt cx="3043440" cy="1679400"/>
          </a:xfrm>
        </p:grpSpPr>
        <p:sp>
          <p:nvSpPr>
            <p:cNvPr id="2025" name=""/>
            <p:cNvSpPr/>
            <p:nvPr/>
          </p:nvSpPr>
          <p:spPr>
            <a:xfrm>
              <a:off x="3968640" y="3352680"/>
              <a:ext cx="1517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3733920" y="2212920"/>
              <a:ext cx="0" cy="1136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4270320" y="2822400"/>
              <a:ext cx="167004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346640" y="2365200"/>
              <a:ext cx="1060560" cy="75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041720" y="2212920"/>
              <a:ext cx="451080" cy="90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0" name="" descr=""/>
            <p:cNvPicPr/>
            <p:nvPr/>
          </p:nvPicPr>
          <p:blipFill>
            <a:blip r:embed="rId1"/>
            <a:stretch/>
          </p:blipFill>
          <p:spPr>
            <a:xfrm>
              <a:off x="3124080" y="2905200"/>
              <a:ext cx="137952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2"/>
            <a:stretch/>
          </p:blipFill>
          <p:spPr>
            <a:xfrm>
              <a:off x="4330800" y="2057400"/>
              <a:ext cx="5158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3"/>
            <a:stretch/>
          </p:blipFill>
          <p:spPr>
            <a:xfrm>
              <a:off x="5257800" y="212256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4"/>
            <a:stretch/>
          </p:blipFill>
          <p:spPr>
            <a:xfrm>
              <a:off x="5715000" y="265572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"/>
            <a:stretch/>
          </p:blipFill>
          <p:spPr>
            <a:xfrm>
              <a:off x="3608280" y="1994040"/>
              <a:ext cx="4827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5" name=""/>
            <p:cNvSpPr txBox="1"/>
            <p:nvPr/>
          </p:nvSpPr>
          <p:spPr>
            <a:xfrm>
              <a:off x="3260880" y="3260880"/>
              <a:ext cx="1166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403880" y="339876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708440" y="309420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632480" y="256068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9" name="" descr=""/>
            <p:cNvPicPr/>
            <p:nvPr/>
          </p:nvPicPr>
          <p:blipFill>
            <a:blip r:embed="rId6"/>
            <a:stretch/>
          </p:blipFill>
          <p:spPr>
            <a:xfrm>
              <a:off x="5257800" y="317484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0" name=""/>
          <p:cNvSpPr txBox="1"/>
          <p:nvPr/>
        </p:nvSpPr>
        <p:spPr>
          <a:xfrm>
            <a:off x="1432080" y="3976560"/>
            <a:ext cx="60008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ber optic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folded bus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 txBox="1"/>
          <p:nvPr/>
        </p:nvSpPr>
        <p:spPr>
          <a:xfrm>
            <a:off x="304920" y="4572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5 and IBM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470560" y="2050920"/>
            <a:ext cx="2487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3187800" y="2122560"/>
            <a:ext cx="2808360" cy="1586160"/>
            <a:chOff x="3187800" y="2122560"/>
            <a:chExt cx="2808360" cy="1586160"/>
          </a:xfrm>
        </p:grpSpPr>
        <p:sp>
          <p:nvSpPr>
            <p:cNvPr id="2044" name=""/>
            <p:cNvSpPr/>
            <p:nvPr/>
          </p:nvSpPr>
          <p:spPr>
            <a:xfrm>
              <a:off x="4959360" y="3054240"/>
              <a:ext cx="75564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3508200" y="3051000"/>
              <a:ext cx="128916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359160" y="2819520"/>
              <a:ext cx="1060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4879800" y="2289240"/>
              <a:ext cx="831960" cy="22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740040" y="2368440"/>
              <a:ext cx="83196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9" name="" descr=""/>
            <p:cNvPicPr/>
            <p:nvPr/>
          </p:nvPicPr>
          <p:blipFill>
            <a:blip r:embed="rId1"/>
            <a:stretch/>
          </p:blipFill>
          <p:spPr>
            <a:xfrm>
              <a:off x="4113360" y="2209680"/>
              <a:ext cx="1295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2"/>
            <a:stretch/>
          </p:blipFill>
          <p:spPr>
            <a:xfrm>
              <a:off x="5513400" y="3137040"/>
              <a:ext cx="482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3"/>
            <a:stretch/>
          </p:blipFill>
          <p:spPr>
            <a:xfrm>
              <a:off x="3505320" y="21225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4"/>
            <a:stretch/>
          </p:blipFill>
          <p:spPr>
            <a:xfrm>
              <a:off x="3187800" y="2590920"/>
              <a:ext cx="5158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3" name="" descr=""/>
            <p:cNvPicPr/>
            <p:nvPr/>
          </p:nvPicPr>
          <p:blipFill>
            <a:blip r:embed="rId5"/>
            <a:stretch/>
          </p:blipFill>
          <p:spPr>
            <a:xfrm>
              <a:off x="5486400" y="21225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6"/>
            <a:stretch/>
          </p:blipFill>
          <p:spPr>
            <a:xfrm>
              <a:off x="3276720" y="317484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5" name=""/>
          <p:cNvSpPr txBox="1"/>
          <p:nvPr/>
        </p:nvSpPr>
        <p:spPr>
          <a:xfrm>
            <a:off x="1889280" y="3824280"/>
            <a:ext cx="61754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04920" y="4572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witched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470560" y="2050920"/>
            <a:ext cx="2487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1889280" y="3824280"/>
            <a:ext cx="61754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ll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3276720" y="1752480"/>
            <a:ext cx="3043080" cy="1679760"/>
            <a:chOff x="3276720" y="1752480"/>
            <a:chExt cx="3043080" cy="1679760"/>
          </a:xfrm>
        </p:grpSpPr>
        <p:grpSp>
          <p:nvGrpSpPr>
            <p:cNvPr id="2060" name=""/>
            <p:cNvGrpSpPr/>
            <p:nvPr/>
          </p:nvGrpSpPr>
          <p:grpSpPr>
            <a:xfrm>
              <a:off x="3276720" y="1752480"/>
              <a:ext cx="3043080" cy="1679760"/>
              <a:chOff x="3276720" y="1752480"/>
              <a:chExt cx="3043080" cy="1679760"/>
            </a:xfrm>
          </p:grpSpPr>
          <p:sp>
            <p:nvSpPr>
              <p:cNvPr id="2061" name=""/>
              <p:cNvSpPr/>
              <p:nvPr/>
            </p:nvSpPr>
            <p:spPr>
              <a:xfrm>
                <a:off x="4121280" y="3111480"/>
                <a:ext cx="151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86200" y="1971720"/>
                <a:ext cx="0" cy="113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422600" y="2581200"/>
                <a:ext cx="167040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4498920" y="2124000"/>
                <a:ext cx="1060560" cy="75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4194000" y="1971720"/>
                <a:ext cx="451080" cy="90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664000"/>
                <a:ext cx="1379520" cy="6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3080" y="1816200"/>
                <a:ext cx="51588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188136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241452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60920" y="1752480"/>
                <a:ext cx="48276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1" name=""/>
              <p:cNvSpPr txBox="1"/>
              <p:nvPr/>
            </p:nvSpPr>
            <p:spPr>
              <a:xfrm>
                <a:off x="3413160" y="3019320"/>
                <a:ext cx="11667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556160" y="315756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861080" y="2852640"/>
                <a:ext cx="9968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784760" y="231948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2933640"/>
                <a:ext cx="68436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76" name="" descr=""/>
            <p:cNvPicPr/>
            <p:nvPr/>
          </p:nvPicPr>
          <p:blipFill>
            <a:blip r:embed="rId7"/>
            <a:stretch/>
          </p:blipFill>
          <p:spPr>
            <a:xfrm>
              <a:off x="3581280" y="2743200"/>
              <a:ext cx="620640" cy="3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685800" y="1981080"/>
            <a:ext cx="77724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red and radio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&lt; 2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d pe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lexible equipmen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able pr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500 for network access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40 for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Loc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P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data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mmunications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broad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wi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versus 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457200" y="1676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public or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internal communications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are LANs Popu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harable hardware, software,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low cost network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local management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organized into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lient/server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harable communications, file, and print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/Serv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access: databases an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: hardware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work load and information within a work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sensitive network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LAN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1204920" y="2367000"/>
            <a:ext cx="71517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ered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457200" y="1600200"/>
            <a:ext cx="868680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tiers is an alternative to connecting all devices to a single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s create independent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ackbone to interconnect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develops an organization-wide network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attachment increases with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S. Marshall</dc:creator>
  <dc:description/>
  <dc:language>en-US</dc:language>
  <cp:lastModifiedBy>Dick Young</cp:lastModifiedBy>
  <cp:revision>0</cp:revision>
  <dc:subject/>
  <dc:title>Local networks</dc:title>
</cp:coreProperties>
</file>