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930-F3E6-4F6F-BA64-F787F0DA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0C5-0BF5-46AD-B084-AE433E5A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6F5-8CD7-4C27-8752-88325939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161-79BC-4DF2-8E64-7D3AF97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4445-1106-4D85-9876-EE1528D6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23A1-FD86-4E29-A799-EC794E5F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1E1-1202-410E-9046-60E9614A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2775-C280-4A4F-9517-95138B4C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5D4-A992-4110-ABE9-75D011AA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485C-0519-4703-A3D5-1E0BF22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DD36-81C6-4A1D-B0E2-9F11873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2B3-0E90-44EB-B6D0-7F72F88F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C567-E855-4081-99D1-1F64A08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04F4-14B2-4D39-8EBB-82A99C8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2CF0-BF0A-4829-94B0-3612BF2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FA3D-4BAF-40D4-8FF6-4DAFD332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E305-6717-4E56-93BB-7EBF6570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D66-4816-4814-9F51-98C97F9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3C0-72B7-4D7C-9357-0FF92825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A99-0A04-47FC-A98D-E4CFDE0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DBC-DF4F-42E2-A283-205F1174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0D8-C715-47E2-BA94-DC4C858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626-8730-49A0-8712-44FAC3E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467-D2C3-4BB6-B21C-0677A3E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3C2D-46B2-4ACA-9E9C-045F8377CD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DC82-DFBE-459C-BA10-01579D56AC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U-T spec for transmitting audio, video and data across an IP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 Su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d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r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–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 delivery -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 Suite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s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ation, Admission and Status (RAS) Signaling - provides pre-call control in gatekeeper-based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 channel opened before any other cha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 channel is independent of oth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UDP conn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keeper disco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ual – endpoints are configured with gatekeeper IP addr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 discovery – enables endpoint to discover a gatekeeper using IP address 224.0.1.41, UDP discovery port 1718, UDP registration and status port 171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Control Signaling - supports connection, call maintenance, and disconnection between end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d on H.225 using Q.931 call control messages and Q.932 supplementary ser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 Suite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as of control 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Control and Transport - provides reliable H.245 channel for media control mess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control uses dynamically assigned TCP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transport (RTP/RTCP) uses UDP data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P uses even port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CP uses next highest odd por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point-to-point and multipoint con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es call signaling and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media transport and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dwidth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multiple features and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2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 Contr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2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Code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711, G.722, G.723, G.728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.72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Code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261, H.2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Sha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.1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 Transpor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P/RT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ndpoint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, video and data confere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PSTN or ISDN for inter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kee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dmis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U – multipoint control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600200"/>
            <a:ext cx="7772400" cy="3200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ments of the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209680"/>
            <a:ext cx="14475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200400"/>
            <a:ext cx="144756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k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86200"/>
            <a:ext cx="144792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3200400"/>
            <a:ext cx="1447920" cy="609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981080"/>
            <a:ext cx="144792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209680"/>
            <a:ext cx="144792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1371600" cy="83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47960" y="289548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SV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25146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895480" y="327636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81080" y="5029200"/>
            <a:ext cx="1062000" cy="647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43600" y="4952880"/>
            <a:ext cx="1062000" cy="6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2560" y="518148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943600"/>
            <a:ext cx="12189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.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943600"/>
            <a:ext cx="12189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.3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943600"/>
            <a:ext cx="121896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867280"/>
            <a:ext cx="12193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.3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867280"/>
            <a:ext cx="1219320" cy="457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62480" y="5105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90360" y="5486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61960" y="5638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5562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562360" y="54864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5486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66880" y="44956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4956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6720" y="39625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ope of H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s of a Termi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ntrol Unit – provides H.225 and H.245 call control for proper terminal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 Transmission – Formats media for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 Codec – Encodes/decodes audio signal for transmission/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dec – Encodes/decodes video signal for transmission/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nterface – Packet based capable of supporting end-to-end TCP or UDP unicast and multicas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hannel – Provides support for database access, file transfer and audiographics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eway Functio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Circuit Network (SCN)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.323 Termin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s between the audio, video and data transmission form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needed if SCN interconnect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ekeeper Functio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pre-call and call-level control services to H.323 endpoints (Terminals and MC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multiple gatekeepers are implemented inter-communications is provided in an unspecified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provide following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missions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dwidth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ne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prov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 signa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author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dwidth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oint Control Un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point that supports multipoint con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oint Controller (MC) – transmits capability set to each endpoint in con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oint Processor (MP) – receives audio, video and/or data streams and distributes to end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MP is associated with a different equipmen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xy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es packets between two communicating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s call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otiate adequate QoS to tunnel across IP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 QoS using RSVP and/or IP Prece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pplication specific routing (ASR) to support routing of H.323 traffic separately from ordinary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tible with N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ecurity for H.323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onjunction with Fire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ependent of Fire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26:00Z</dcterms:created>
  <dc:creator>Richard W Young</dc:creator>
  <dc:description/>
  <dc:language>en-US</dc:language>
  <cp:lastModifiedBy>Richard W Young</cp:lastModifiedBy>
  <dcterms:modified xsi:type="dcterms:W3CDTF">2004-11-01T18:59:01Z</dcterms:modified>
  <cp:revision>8</cp:revision>
  <dc:subject/>
  <dc:title>H.323</dc:title>
</cp:coreProperties>
</file>