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F10-C046-4A92-8118-45F82861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CC0-0AE6-4E0C-A9EE-35FE44A5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769-31D2-49D8-887C-990F0F03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77F-49CA-4C96-997F-565C5198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4E9-7334-4F62-BAAC-845C87B4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0052-F9B0-48EB-8A0D-463D991F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EA1-88A8-4928-B969-B9F465AD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123-F2EA-489F-A488-B8F5232C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423-5BAA-436D-9AF3-4E650C4E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8AF-0C7E-4E58-8046-14586137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137-CC48-469B-A5A2-8A22DCEE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BE8-794F-45D3-8866-E3A9AA44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8900-5ED8-4CC5-9077-C52A2D54E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istributed Data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277920"/>
          <a:ext cx="17604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7920"/>
                    <a:ext cx="17604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983200" y="4343400"/>
          <a:ext cx="3070440" cy="24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0" y="4343400"/>
                    <a:ext cx="307044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 links, fully connected: Lines = N(N-1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required lines increases by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50880" y="3892680"/>
            <a:ext cx="5256360" cy="2635200"/>
            <a:chOff x="1550880" y="3892680"/>
            <a:chExt cx="5256360" cy="2635200"/>
          </a:xfrm>
        </p:grpSpPr>
        <p:sp>
          <p:nvSpPr>
            <p:cNvPr id="69" name=""/>
            <p:cNvSpPr/>
            <p:nvPr/>
          </p:nvSpPr>
          <p:spPr>
            <a:xfrm>
              <a:off x="2286000" y="640080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752480" y="4647960"/>
              <a:ext cx="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286000" y="4647960"/>
              <a:ext cx="3809880" cy="160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62320" y="4724280"/>
              <a:ext cx="3733560" cy="144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2320" y="464832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72200" y="48006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550880" y="3892680"/>
              <a:ext cx="836640" cy="882360"/>
              <a:chOff x="1550880" y="3892680"/>
              <a:chExt cx="836640" cy="882360"/>
            </a:xfrm>
          </p:grpSpPr>
          <p:sp>
            <p:nvSpPr>
              <p:cNvPr id="76" name=""/>
              <p:cNvSpPr/>
              <p:nvPr/>
            </p:nvSpPr>
            <p:spPr>
              <a:xfrm>
                <a:off x="1550880" y="3892680"/>
                <a:ext cx="836640" cy="88236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65240" y="3951360"/>
                <a:ext cx="422280" cy="823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1963800" y="3892680"/>
                <a:ext cx="349560" cy="335880"/>
                <a:chOff x="1963800" y="3892680"/>
                <a:chExt cx="349560" cy="335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071800" y="38926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030400" y="38926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996920" y="38926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963800" y="38926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2197080" y="3913200"/>
                <a:ext cx="131760" cy="1440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590840" y="4202280"/>
                <a:ext cx="350640" cy="5727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584360" y="3921120"/>
                <a:ext cx="361800" cy="9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10569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105691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1587600" y="3963960"/>
                <a:ext cx="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1946160" y="3963600"/>
                <a:ext cx="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25480" y="3941640"/>
                <a:ext cx="74880" cy="5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" name=""/>
            <p:cNvGrpSpPr/>
            <p:nvPr/>
          </p:nvGrpSpPr>
          <p:grpSpPr>
            <a:xfrm>
              <a:off x="5970600" y="3892680"/>
              <a:ext cx="836640" cy="882360"/>
              <a:chOff x="5970600" y="3892680"/>
              <a:chExt cx="836640" cy="882360"/>
            </a:xfrm>
          </p:grpSpPr>
          <p:sp>
            <p:nvSpPr>
              <p:cNvPr id="90" name=""/>
              <p:cNvSpPr/>
              <p:nvPr/>
            </p:nvSpPr>
            <p:spPr>
              <a:xfrm>
                <a:off x="5970600" y="3892680"/>
                <a:ext cx="836640" cy="88236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84960" y="3951360"/>
                <a:ext cx="422280" cy="8236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6383160" y="3892680"/>
                <a:ext cx="349560" cy="335880"/>
                <a:chOff x="6383160" y="3892680"/>
                <a:chExt cx="349560" cy="335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491160" y="38926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450120" y="38926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416640" y="38926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383160" y="38926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6616800" y="3913200"/>
                <a:ext cx="131760" cy="1440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010200" y="4202280"/>
                <a:ext cx="351000" cy="5727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004080" y="3921120"/>
                <a:ext cx="361800" cy="9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10569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105691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6006960" y="3963960"/>
                <a:ext cx="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6365880" y="3963600"/>
                <a:ext cx="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145200" y="3941640"/>
                <a:ext cx="74520" cy="5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" name=""/>
            <p:cNvGrpSpPr/>
            <p:nvPr/>
          </p:nvGrpSpPr>
          <p:grpSpPr>
            <a:xfrm>
              <a:off x="1550880" y="5645160"/>
              <a:ext cx="836640" cy="882720"/>
              <a:chOff x="1550880" y="5645160"/>
              <a:chExt cx="836640" cy="882720"/>
            </a:xfrm>
          </p:grpSpPr>
          <p:sp>
            <p:nvSpPr>
              <p:cNvPr id="104" name=""/>
              <p:cNvSpPr/>
              <p:nvPr/>
            </p:nvSpPr>
            <p:spPr>
              <a:xfrm>
                <a:off x="1550880" y="5645160"/>
                <a:ext cx="836640" cy="88272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965240" y="5703840"/>
                <a:ext cx="422280" cy="8240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1963800" y="5645160"/>
                <a:ext cx="349560" cy="335880"/>
                <a:chOff x="1963800" y="5645160"/>
                <a:chExt cx="349560" cy="335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071800" y="564516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30400" y="564516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996920" y="564516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963800" y="564516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2197080" y="5665680"/>
                <a:ext cx="131760" cy="1440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90840" y="5954760"/>
                <a:ext cx="350640" cy="5731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84360" y="5673600"/>
                <a:ext cx="361800" cy="95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10569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105691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587600" y="5716440"/>
                <a:ext cx="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946160" y="5716440"/>
                <a:ext cx="0" cy="25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725480" y="5694480"/>
                <a:ext cx="74880" cy="5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" name=""/>
            <p:cNvGrpSpPr/>
            <p:nvPr/>
          </p:nvGrpSpPr>
          <p:grpSpPr>
            <a:xfrm>
              <a:off x="5970600" y="5645160"/>
              <a:ext cx="836640" cy="882720"/>
              <a:chOff x="5970600" y="5645160"/>
              <a:chExt cx="836640" cy="882720"/>
            </a:xfrm>
          </p:grpSpPr>
          <p:sp>
            <p:nvSpPr>
              <p:cNvPr id="118" name=""/>
              <p:cNvSpPr/>
              <p:nvPr/>
            </p:nvSpPr>
            <p:spPr>
              <a:xfrm>
                <a:off x="5970600" y="5645160"/>
                <a:ext cx="836640" cy="88272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384960" y="5703840"/>
                <a:ext cx="422280" cy="8240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383160" y="5645160"/>
                <a:ext cx="349560" cy="335880"/>
                <a:chOff x="6383160" y="5645160"/>
                <a:chExt cx="349560" cy="335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491160" y="564516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450120" y="564516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416640" y="564516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83160" y="564516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6616800" y="5665680"/>
                <a:ext cx="131760" cy="1440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010200" y="5954760"/>
                <a:ext cx="351000" cy="5731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04080" y="5673600"/>
                <a:ext cx="361800" cy="95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10569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105691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006960" y="5716440"/>
                <a:ext cx="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365880" y="5716440"/>
                <a:ext cx="0" cy="25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145200" y="5694480"/>
                <a:ext cx="74520" cy="50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itched network: Lines =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required lines increases by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474920" y="3968640"/>
            <a:ext cx="5256000" cy="2635200"/>
            <a:chOff x="1474920" y="3968640"/>
            <a:chExt cx="5256000" cy="2635200"/>
          </a:xfrm>
        </p:grpSpPr>
        <p:sp>
          <p:nvSpPr>
            <p:cNvPr id="134" name=""/>
            <p:cNvSpPr/>
            <p:nvPr/>
          </p:nvSpPr>
          <p:spPr>
            <a:xfrm>
              <a:off x="4572000" y="5638680"/>
              <a:ext cx="137160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286000" y="5715000"/>
              <a:ext cx="106668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0" y="4800600"/>
              <a:ext cx="10666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76920" y="4723920"/>
              <a:ext cx="99036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474920" y="3968640"/>
              <a:ext cx="836640" cy="882720"/>
              <a:chOff x="1474920" y="3968640"/>
              <a:chExt cx="836640" cy="882720"/>
            </a:xfrm>
          </p:grpSpPr>
          <p:sp>
            <p:nvSpPr>
              <p:cNvPr id="139" name=""/>
              <p:cNvSpPr/>
              <p:nvPr/>
            </p:nvSpPr>
            <p:spPr>
              <a:xfrm>
                <a:off x="1474920" y="3968640"/>
                <a:ext cx="836640" cy="88272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89280" y="4027320"/>
                <a:ext cx="422280" cy="8240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1887480" y="3968640"/>
                <a:ext cx="349560" cy="335880"/>
                <a:chOff x="1887480" y="3968640"/>
                <a:chExt cx="349560" cy="335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995480" y="396864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54080" y="396864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20960" y="396864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87480" y="396864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2120760" y="3989520"/>
                <a:ext cx="131760" cy="1404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514520" y="4278240"/>
                <a:ext cx="350640" cy="57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08040" y="3997440"/>
                <a:ext cx="362160" cy="9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10569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105691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1511280" y="4040280"/>
                <a:ext cx="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1870200" y="4039920"/>
                <a:ext cx="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49520" y="4017960"/>
                <a:ext cx="74520" cy="5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2" name=""/>
            <p:cNvGrpSpPr/>
            <p:nvPr/>
          </p:nvGrpSpPr>
          <p:grpSpPr>
            <a:xfrm>
              <a:off x="5894280" y="3968640"/>
              <a:ext cx="836640" cy="882720"/>
              <a:chOff x="5894280" y="3968640"/>
              <a:chExt cx="836640" cy="882720"/>
            </a:xfrm>
          </p:grpSpPr>
          <p:sp>
            <p:nvSpPr>
              <p:cNvPr id="153" name=""/>
              <p:cNvSpPr/>
              <p:nvPr/>
            </p:nvSpPr>
            <p:spPr>
              <a:xfrm>
                <a:off x="5894280" y="3968640"/>
                <a:ext cx="836640" cy="88272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308640" y="4027320"/>
                <a:ext cx="422280" cy="8240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6307200" y="3968640"/>
                <a:ext cx="349560" cy="335880"/>
                <a:chOff x="6307200" y="3968640"/>
                <a:chExt cx="349560" cy="3358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415200" y="396864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373800" y="396864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340320" y="396864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307200" y="396864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6540480" y="3989520"/>
                <a:ext cx="131760" cy="1404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34240" y="4278240"/>
                <a:ext cx="350640" cy="5731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27760" y="3997440"/>
                <a:ext cx="361800" cy="9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10569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105691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5931000" y="4040280"/>
                <a:ext cx="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289560" y="4039920"/>
                <a:ext cx="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68880" y="4017960"/>
                <a:ext cx="74880" cy="5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" name=""/>
            <p:cNvGrpSpPr/>
            <p:nvPr/>
          </p:nvGrpSpPr>
          <p:grpSpPr>
            <a:xfrm>
              <a:off x="1474920" y="5721480"/>
              <a:ext cx="836640" cy="882360"/>
              <a:chOff x="1474920" y="5721480"/>
              <a:chExt cx="836640" cy="882360"/>
            </a:xfrm>
          </p:grpSpPr>
          <p:sp>
            <p:nvSpPr>
              <p:cNvPr id="167" name=""/>
              <p:cNvSpPr/>
              <p:nvPr/>
            </p:nvSpPr>
            <p:spPr>
              <a:xfrm>
                <a:off x="1474920" y="5721480"/>
                <a:ext cx="836640" cy="88236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89280" y="5780160"/>
                <a:ext cx="422280" cy="8236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887480" y="5721480"/>
                <a:ext cx="349560" cy="335880"/>
                <a:chOff x="1887480" y="5721480"/>
                <a:chExt cx="349560" cy="3358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995480" y="57214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954080" y="57214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920960" y="57214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887480" y="57214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2120760" y="5742000"/>
                <a:ext cx="131760" cy="1440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14520" y="6031080"/>
                <a:ext cx="350640" cy="5727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08040" y="5749920"/>
                <a:ext cx="362160" cy="9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10569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105691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1511280" y="5792760"/>
                <a:ext cx="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1870200" y="5792400"/>
                <a:ext cx="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649520" y="5770440"/>
                <a:ext cx="74520" cy="5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0" name=""/>
            <p:cNvGrpSpPr/>
            <p:nvPr/>
          </p:nvGrpSpPr>
          <p:grpSpPr>
            <a:xfrm>
              <a:off x="5894280" y="5721480"/>
              <a:ext cx="836640" cy="882360"/>
              <a:chOff x="5894280" y="5721480"/>
              <a:chExt cx="836640" cy="882360"/>
            </a:xfrm>
          </p:grpSpPr>
          <p:sp>
            <p:nvSpPr>
              <p:cNvPr id="181" name=""/>
              <p:cNvSpPr/>
              <p:nvPr/>
            </p:nvSpPr>
            <p:spPr>
              <a:xfrm>
                <a:off x="5894280" y="5721480"/>
                <a:ext cx="836640" cy="88236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308640" y="5780160"/>
                <a:ext cx="422280" cy="8236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6307200" y="5721480"/>
                <a:ext cx="349560" cy="335880"/>
                <a:chOff x="6307200" y="5721480"/>
                <a:chExt cx="349560" cy="3358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415200" y="57214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373800" y="57214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340320" y="57214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307200" y="57214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6540480" y="5742000"/>
                <a:ext cx="131760" cy="1440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934240" y="6031080"/>
                <a:ext cx="350640" cy="5727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7760" y="5749920"/>
                <a:ext cx="361800" cy="9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10569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105691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5931000" y="5792760"/>
                <a:ext cx="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289560" y="5792400"/>
                <a:ext cx="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68880" y="5770440"/>
                <a:ext cx="74880" cy="50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4" name="" descr=""/>
            <p:cNvPicPr/>
            <p:nvPr/>
          </p:nvPicPr>
          <p:blipFill>
            <a:blip r:embed="rId13"/>
            <a:stretch/>
          </p:blipFill>
          <p:spPr>
            <a:xfrm>
              <a:off x="3144960" y="4902120"/>
              <a:ext cx="1765080" cy="863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ance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ons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it takes the system to react to a given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actio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 time - “think”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ailability - probability a system will work when the user needs it to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 time between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 time to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ial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639800" y="4370400"/>
                <a:ext cx="28558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T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628640" y="5943600"/>
                <a:ext cx="19306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availability - probability a system will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 wor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hen the user needs it to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 connec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to compute availability of elements connected in 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898640" y="3370320"/>
                <a:ext cx="4159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=1-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TT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T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849320" y="5029200"/>
                <a:ext cx="17845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 number of failures occuring in tim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235160" y="3124080"/>
                <a:ext cx="648972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TBF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TR</m:t>
                            </m:r>
                          </m:den>
                        </m:f>
                        <m:r>
                          <m:t xml:space="preserve">@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TBF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ce MTBF &gt;&gt; MTT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MTBF = 1000 hours, F(day) =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100 nod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048040" y="2746440"/>
                <a:ext cx="53305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rPr>
                        <m:lit/>
                        <m:nor/>
                      </m:rPr>
                      <m:t xml:space="preserve"> fp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124000" y="5108400"/>
                <a:ext cx="5330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fp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MTBF = 40,000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o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4) = 0.0006 f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100 node net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00 no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4) = 0.06 f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monthly ba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mon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30*0.06 = 1.8 f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iability - probability a system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ail withi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ies connec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562040" y="3352680"/>
                <a:ext cx="27370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550880" y="5019840"/>
                <a:ext cx="25718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 connec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parallel system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38360" y="2514600"/>
                <a:ext cx="45514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ste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39800" y="4267080"/>
                <a:ext cx="45500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ste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Processing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ute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ource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tr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ility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reliability if MTBF = 10,000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3 series connected elements with MTBFs of 20,000 25,000 and 30,000 h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222200" y="2562120"/>
                <a:ext cx="59803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760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189080" y="4811760"/>
                <a:ext cx="52560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0</m:t>
                            </m:r>
                          </m:sup>
                        </m:sSup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000</m:t>
                            </m:r>
                          </m:sup>
                        </m:sSup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748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0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ing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necessary cap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in capital &amp; oper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tisfy special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ntain organizational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et information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iable, professional, competent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w for aut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rve autonomy &amp;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work enjoyable &amp; produ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DP Business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ons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ource sh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mental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ance &amp; location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ndor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DP End User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d User Involvement &amp;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 user Pro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vacy &amp;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DP IS Management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entralized Operation &amp; Centralized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ain Policies &amp;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DP IS Management Drawb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 &amp; Failure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ence on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ompatible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ompatible Data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Management &amp;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minished Data Integrity &amp;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plic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tical network part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erarch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izontal network part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bas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tr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base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0676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1T12:30:24Z</dcterms:created>
  <dc:creator>Robert S. Marshall</dc:creator>
  <dc:description/>
  <dc:language>en-US</dc:language>
  <cp:lastModifiedBy>NCR User</cp:lastModifiedBy>
  <cp:lastPrinted>1997-06-02T16:42:14Z</cp:lastPrinted>
  <dcterms:modified xsi:type="dcterms:W3CDTF">2001-02-19T16:38:13Z</dcterms:modified>
  <cp:revision>18</cp:revision>
  <dc:subject/>
  <dc:title>Data Processing Resources</dc:title>
</cp:coreProperties>
</file>