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1371600"/>
            <a:ext cx="802188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80" y="3429000"/>
            <a:ext cx="802188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 &amp; 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izing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8840" y="2525760"/>
            <a:ext cx="2364120" cy="3053160"/>
          </a:xfrm>
          <a:custGeom>
            <a:avLst/>
            <a:gdLst/>
            <a:ahLst/>
            <a:rect l="0" t="0" r="r" b="b"/>
            <a:pathLst>
              <a:path fill="none" w="6567" h="8481">
                <a:moveTo>
                  <a:pt x="0" y="8481"/>
                </a:moveTo>
                <a:lnTo>
                  <a:pt x="608" y="6845"/>
                </a:lnTo>
                <a:lnTo>
                  <a:pt x="904" y="6049"/>
                </a:lnTo>
                <a:lnTo>
                  <a:pt x="1217" y="5282"/>
                </a:lnTo>
                <a:lnTo>
                  <a:pt x="1553" y="4536"/>
                </a:lnTo>
                <a:lnTo>
                  <a:pt x="1884" y="3817"/>
                </a:lnTo>
                <a:lnTo>
                  <a:pt x="2241" y="3151"/>
                </a:lnTo>
                <a:lnTo>
                  <a:pt x="2612" y="2502"/>
                </a:lnTo>
                <a:lnTo>
                  <a:pt x="3005" y="1932"/>
                </a:lnTo>
                <a:lnTo>
                  <a:pt x="3438" y="1411"/>
                </a:lnTo>
                <a:lnTo>
                  <a:pt x="3875" y="966"/>
                </a:lnTo>
                <a:lnTo>
                  <a:pt x="4343" y="617"/>
                </a:lnTo>
                <a:lnTo>
                  <a:pt x="4854" y="322"/>
                </a:lnTo>
                <a:lnTo>
                  <a:pt x="5388" y="123"/>
                </a:lnTo>
                <a:lnTo>
                  <a:pt x="5662" y="48"/>
                </a:lnTo>
                <a:lnTo>
                  <a:pt x="5958" y="0"/>
                </a:lnTo>
                <a:lnTo>
                  <a:pt x="6253" y="0"/>
                </a:lnTo>
                <a:lnTo>
                  <a:pt x="6567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6640" y="2525760"/>
            <a:ext cx="2362680" cy="3053160"/>
          </a:xfrm>
          <a:custGeom>
            <a:avLst/>
            <a:gdLst/>
            <a:ahLst/>
            <a:rect l="0" t="0" r="r" b="b"/>
            <a:pathLst>
              <a:path fill="none" w="6563" h="8481">
                <a:moveTo>
                  <a:pt x="6563" y="8481"/>
                </a:moveTo>
                <a:lnTo>
                  <a:pt x="5967" y="6845"/>
                </a:lnTo>
                <a:lnTo>
                  <a:pt x="5637" y="6049"/>
                </a:lnTo>
                <a:lnTo>
                  <a:pt x="5341" y="5282"/>
                </a:lnTo>
                <a:lnTo>
                  <a:pt x="5010" y="4536"/>
                </a:lnTo>
                <a:lnTo>
                  <a:pt x="4651" y="3817"/>
                </a:lnTo>
                <a:lnTo>
                  <a:pt x="4294" y="3151"/>
                </a:lnTo>
                <a:lnTo>
                  <a:pt x="3937" y="2502"/>
                </a:lnTo>
                <a:lnTo>
                  <a:pt x="3548" y="1932"/>
                </a:lnTo>
                <a:lnTo>
                  <a:pt x="3134" y="1411"/>
                </a:lnTo>
                <a:lnTo>
                  <a:pt x="2683" y="966"/>
                </a:lnTo>
                <a:lnTo>
                  <a:pt x="2207" y="617"/>
                </a:lnTo>
                <a:lnTo>
                  <a:pt x="1699" y="322"/>
                </a:lnTo>
                <a:lnTo>
                  <a:pt x="1160" y="123"/>
                </a:lnTo>
                <a:lnTo>
                  <a:pt x="895" y="48"/>
                </a:lnTo>
                <a:lnTo>
                  <a:pt x="595" y="0"/>
                </a:lnTo>
                <a:lnTo>
                  <a:pt x="295" y="0"/>
                </a:lnTo>
                <a:lnTo>
                  <a:pt x="0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138400"/>
            <a:ext cx="0" cy="3576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452600" y="5715000"/>
            <a:ext cx="5862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043520"/>
            <a:ext cx="0" cy="16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71920" y="4038480"/>
            <a:ext cx="68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976480"/>
            <a:ext cx="0" cy="273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7720" y="2971800"/>
            <a:ext cx="68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519280"/>
            <a:ext cx="0" cy="3195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0760" y="4032360"/>
            <a:ext cx="698400" cy="1689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6560" y="2965320"/>
            <a:ext cx="698400" cy="275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2360" y="2584440"/>
            <a:ext cx="698400" cy="31370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9880" y="5943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080" y="3884760"/>
            <a:ext cx="17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Ampl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8160" y="2965320"/>
            <a:ext cx="698400" cy="275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03960" y="4032360"/>
            <a:ext cx="698400" cy="1689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2667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American PCM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57520" y="2062080"/>
            <a:ext cx="5100480" cy="4262400"/>
            <a:chOff x="1757520" y="2062080"/>
            <a:chExt cx="5100480" cy="4262400"/>
          </a:xfrm>
        </p:grpSpPr>
        <p:sp>
          <p:nvSpPr>
            <p:cNvPr id="140" name=""/>
            <p:cNvSpPr/>
            <p:nvPr/>
          </p:nvSpPr>
          <p:spPr>
            <a:xfrm>
              <a:off x="4195800" y="2676600"/>
              <a:ext cx="1825920" cy="1475280"/>
            </a:xfrm>
            <a:custGeom>
              <a:avLst/>
              <a:gdLst/>
              <a:ahLst/>
              <a:rect l="0" t="0" r="r" b="b"/>
              <a:pathLst>
                <a:path fill="none" w="5072" h="4098">
                  <a:moveTo>
                    <a:pt x="26" y="4098"/>
                  </a:moveTo>
                  <a:lnTo>
                    <a:pt x="57" y="3930"/>
                  </a:lnTo>
                  <a:lnTo>
                    <a:pt x="57" y="3767"/>
                  </a:lnTo>
                  <a:lnTo>
                    <a:pt x="0" y="3432"/>
                  </a:lnTo>
                  <a:lnTo>
                    <a:pt x="0" y="3046"/>
                  </a:lnTo>
                  <a:lnTo>
                    <a:pt x="26" y="2640"/>
                  </a:lnTo>
                  <a:lnTo>
                    <a:pt x="57" y="2212"/>
                  </a:lnTo>
                  <a:lnTo>
                    <a:pt x="136" y="1828"/>
                  </a:lnTo>
                  <a:lnTo>
                    <a:pt x="163" y="1568"/>
                  </a:lnTo>
                  <a:lnTo>
                    <a:pt x="189" y="1440"/>
                  </a:lnTo>
                  <a:lnTo>
                    <a:pt x="216" y="1307"/>
                  </a:lnTo>
                  <a:lnTo>
                    <a:pt x="322" y="1104"/>
                  </a:lnTo>
                  <a:lnTo>
                    <a:pt x="459" y="957"/>
                  </a:lnTo>
                  <a:lnTo>
                    <a:pt x="617" y="829"/>
                  </a:lnTo>
                  <a:lnTo>
                    <a:pt x="781" y="719"/>
                  </a:lnTo>
                  <a:lnTo>
                    <a:pt x="834" y="679"/>
                  </a:lnTo>
                  <a:lnTo>
                    <a:pt x="913" y="662"/>
                  </a:lnTo>
                  <a:lnTo>
                    <a:pt x="1072" y="626"/>
                  </a:lnTo>
                  <a:lnTo>
                    <a:pt x="1235" y="551"/>
                  </a:lnTo>
                  <a:lnTo>
                    <a:pt x="1394" y="494"/>
                  </a:lnTo>
                  <a:lnTo>
                    <a:pt x="1557" y="459"/>
                  </a:lnTo>
                  <a:lnTo>
                    <a:pt x="1743" y="406"/>
                  </a:lnTo>
                  <a:lnTo>
                    <a:pt x="2334" y="273"/>
                  </a:lnTo>
                  <a:lnTo>
                    <a:pt x="2953" y="203"/>
                  </a:lnTo>
                  <a:lnTo>
                    <a:pt x="3222" y="145"/>
                  </a:lnTo>
                  <a:lnTo>
                    <a:pt x="3545" y="110"/>
                  </a:lnTo>
                  <a:lnTo>
                    <a:pt x="3836" y="88"/>
                  </a:lnTo>
                  <a:lnTo>
                    <a:pt x="4132" y="70"/>
                  </a:lnTo>
                  <a:lnTo>
                    <a:pt x="4268" y="35"/>
                  </a:lnTo>
                  <a:lnTo>
                    <a:pt x="4348" y="17"/>
                  </a:lnTo>
                  <a:lnTo>
                    <a:pt x="4480" y="0"/>
                  </a:lnTo>
                  <a:lnTo>
                    <a:pt x="4591" y="0"/>
                  </a:lnTo>
                  <a:lnTo>
                    <a:pt x="4697" y="0"/>
                  </a:lnTo>
                  <a:lnTo>
                    <a:pt x="4855" y="0"/>
                  </a:lnTo>
                  <a:lnTo>
                    <a:pt x="5072" y="0"/>
                  </a:lnTo>
                  <a:lnTo>
                    <a:pt x="5045" y="17"/>
                  </a:lnTo>
                  <a:lnTo>
                    <a:pt x="4992" y="35"/>
                  </a:lnTo>
                  <a:lnTo>
                    <a:pt x="4939" y="52"/>
                  </a:lnTo>
                  <a:lnTo>
                    <a:pt x="4855" y="70"/>
                  </a:lnTo>
                  <a:lnTo>
                    <a:pt x="4882" y="52"/>
                  </a:lnTo>
                  <a:lnTo>
                    <a:pt x="4939" y="35"/>
                  </a:lnTo>
                  <a:lnTo>
                    <a:pt x="4992" y="17"/>
                  </a:lnTo>
                  <a:lnTo>
                    <a:pt x="5019" y="0"/>
                  </a:lnTo>
                  <a:lnTo>
                    <a:pt x="5045" y="0"/>
                  </a:lnTo>
                  <a:lnTo>
                    <a:pt x="5019" y="35"/>
                  </a:lnTo>
                </a:path>
              </a:pathLst>
            </a:custGeom>
            <a:ln w="381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71680" y="4110120"/>
              <a:ext cx="1818000" cy="1479960"/>
            </a:xfrm>
            <a:custGeom>
              <a:avLst/>
              <a:gdLst/>
              <a:ahLst/>
              <a:rect l="0" t="0" r="r" b="b"/>
              <a:pathLst>
                <a:path fill="none" w="5050" h="4111">
                  <a:moveTo>
                    <a:pt x="5028" y="0"/>
                  </a:moveTo>
                  <a:lnTo>
                    <a:pt x="5010" y="150"/>
                  </a:lnTo>
                  <a:lnTo>
                    <a:pt x="5010" y="326"/>
                  </a:lnTo>
                  <a:lnTo>
                    <a:pt x="5050" y="675"/>
                  </a:lnTo>
                  <a:lnTo>
                    <a:pt x="5050" y="1047"/>
                  </a:lnTo>
                  <a:lnTo>
                    <a:pt x="5050" y="1471"/>
                  </a:lnTo>
                  <a:lnTo>
                    <a:pt x="5010" y="1894"/>
                  </a:lnTo>
                  <a:lnTo>
                    <a:pt x="4935" y="2296"/>
                  </a:lnTo>
                  <a:lnTo>
                    <a:pt x="4917" y="2543"/>
                  </a:lnTo>
                  <a:lnTo>
                    <a:pt x="4878" y="2667"/>
                  </a:lnTo>
                  <a:lnTo>
                    <a:pt x="4842" y="2790"/>
                  </a:lnTo>
                  <a:lnTo>
                    <a:pt x="4750" y="2989"/>
                  </a:lnTo>
                  <a:lnTo>
                    <a:pt x="4617" y="3140"/>
                  </a:lnTo>
                  <a:lnTo>
                    <a:pt x="4467" y="3268"/>
                  </a:lnTo>
                  <a:lnTo>
                    <a:pt x="4299" y="3392"/>
                  </a:lnTo>
                  <a:lnTo>
                    <a:pt x="4149" y="3440"/>
                  </a:lnTo>
                  <a:lnTo>
                    <a:pt x="3999" y="3489"/>
                  </a:lnTo>
                  <a:lnTo>
                    <a:pt x="3831" y="3564"/>
                  </a:lnTo>
                  <a:lnTo>
                    <a:pt x="3664" y="3617"/>
                  </a:lnTo>
                  <a:lnTo>
                    <a:pt x="3328" y="3688"/>
                  </a:lnTo>
                  <a:lnTo>
                    <a:pt x="2733" y="3816"/>
                  </a:lnTo>
                  <a:lnTo>
                    <a:pt x="2114" y="3891"/>
                  </a:lnTo>
                  <a:lnTo>
                    <a:pt x="1831" y="3966"/>
                  </a:lnTo>
                  <a:lnTo>
                    <a:pt x="1535" y="4014"/>
                  </a:lnTo>
                  <a:lnTo>
                    <a:pt x="1235" y="4014"/>
                  </a:lnTo>
                  <a:lnTo>
                    <a:pt x="935" y="4036"/>
                  </a:lnTo>
                  <a:lnTo>
                    <a:pt x="825" y="4063"/>
                  </a:lnTo>
                  <a:lnTo>
                    <a:pt x="732" y="4089"/>
                  </a:lnTo>
                  <a:lnTo>
                    <a:pt x="582" y="4111"/>
                  </a:lnTo>
                  <a:lnTo>
                    <a:pt x="489" y="4111"/>
                  </a:lnTo>
                  <a:lnTo>
                    <a:pt x="375" y="4111"/>
                  </a:lnTo>
                  <a:lnTo>
                    <a:pt x="225" y="4111"/>
                  </a:lnTo>
                  <a:lnTo>
                    <a:pt x="0" y="4111"/>
                  </a:lnTo>
                  <a:lnTo>
                    <a:pt x="22" y="4089"/>
                  </a:lnTo>
                  <a:lnTo>
                    <a:pt x="57" y="4089"/>
                  </a:lnTo>
                  <a:lnTo>
                    <a:pt x="97" y="4063"/>
                  </a:lnTo>
                  <a:lnTo>
                    <a:pt x="150" y="4063"/>
                  </a:lnTo>
                  <a:lnTo>
                    <a:pt x="207" y="4036"/>
                  </a:lnTo>
                  <a:lnTo>
                    <a:pt x="189" y="4063"/>
                  </a:lnTo>
                  <a:lnTo>
                    <a:pt x="150" y="4063"/>
                  </a:lnTo>
                  <a:lnTo>
                    <a:pt x="114" y="4063"/>
                  </a:lnTo>
                  <a:lnTo>
                    <a:pt x="57" y="4089"/>
                  </a:lnTo>
                  <a:lnTo>
                    <a:pt x="39" y="4111"/>
                  </a:lnTo>
                  <a:lnTo>
                    <a:pt x="57" y="4063"/>
                  </a:lnTo>
                </a:path>
              </a:pathLst>
            </a:custGeom>
            <a:ln w="381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2062080"/>
              <a:ext cx="0" cy="426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7520" y="4114800"/>
              <a:ext cx="5100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3505320" y="1600200"/>
            <a:ext cx="1297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Y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851440" y="4253040"/>
            <a:ext cx="866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41960" y="5091120"/>
            <a:ext cx="1060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32680" y="5091120"/>
            <a:ext cx="231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 = ln(1-u*X)/ln(1-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08640" y="5396040"/>
            <a:ext cx="81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=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2240" y="1890720"/>
            <a:ext cx="27003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 Law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8 KHz Sampling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256 Quantization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8 bits/Quantizat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64 Kbps Digitiz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Carrier Systems (T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peed = 1.544 Mb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channels f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hannel uses 7 bits for data + 1 bit for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 frame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= 56000 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nnel used for frame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-1 fram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Subscriber (Local)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wisted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st solution is 2 pair for full duplex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ed base is 1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ull duplex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N 4-Wire Local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41440" y="2279520"/>
            <a:ext cx="1689120" cy="275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N 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556240" y="2279520"/>
            <a:ext cx="1689120" cy="275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5880" y="259092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5880" y="281952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5880" y="441972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5880" y="464832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49528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59040" y="236232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51040" y="255096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775480" y="255096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27360" y="437976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775480" y="437976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full duplex operation on single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s -- difficult to achieve 144 Kbps using curren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transmission -- problems with echos through a 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coming ech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Compression 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transmitted bit rate ~ 350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to achieve on installed twis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Can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at 192 Kbps (144 Kbps aggregate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complex digital signal processing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ibe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to support high data rates provided by broadband 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r interface, simple direc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star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wo-fiber or wavelength-division multiplexing (W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gradual network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r unaware of distribution network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r interface, multiple-acces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star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split at remot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ubscribers receive sam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ense WDM or T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complex equipment at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M currently less expensive that 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WDM cost will make technology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Division 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Time Division 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Time Division 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-to-End Conne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19200" y="1847880"/>
            <a:ext cx="61786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2752560"/>
            <a:ext cx="8420040" cy="185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60680" y="5089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70160" y="5075280"/>
            <a:ext cx="48704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Time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2771640"/>
            <a:ext cx="8494560" cy="1819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2498760" y="4998960"/>
            <a:ext cx="4429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Time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2695680"/>
            <a:ext cx="8418600" cy="1801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422440" y="4923000"/>
            <a:ext cx="4429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Time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4920" y="2847960"/>
            <a:ext cx="8570880" cy="1835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2422440" y="4998960"/>
            <a:ext cx="4429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Time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Carrier Systems (DS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vision 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 Code Modulation for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channels per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 frame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uses 7 bit PCM + 1 bit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peed = 1.544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2667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 -- continuous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-- discret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mmunications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26676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22240" y="1660680"/>
            <a:ext cx="329256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alo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4760" y="1660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3240" y="2095560"/>
            <a:ext cx="3687840" cy="2228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21480" y="5105520"/>
            <a:ext cx="1847880" cy="125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09680" y="4272120"/>
            <a:ext cx="2157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26676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22240" y="1569960"/>
            <a:ext cx="27018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gital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4146480"/>
            <a:ext cx="1636560" cy="227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719600"/>
            <a:ext cx="1549440" cy="152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00720" y="2743200"/>
            <a:ext cx="372888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4400" y="3276720"/>
            <a:ext cx="528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288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7920" y="20574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5780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62480" y="3276720"/>
            <a:ext cx="98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53200" y="20574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8120" y="327672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62680" y="205740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7600" y="327672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55308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16292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67480" y="2060640"/>
            <a:ext cx="0" cy="12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72520" y="205740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Digi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ignal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tion vs.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ignal to noise ratio (S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M vs. F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Integrate Voice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quality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Digi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Digital Circui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ccurate sign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greater voltage tole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0880" y="2667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16606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22240" y="1646280"/>
            <a:ext cx="33577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ulati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84760" y="1646280"/>
            <a:ext cx="386568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gnal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-of-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 Code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 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 samples/second, digitized 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Differential Pulse Code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00 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 samples/second, digitized 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CR ASSOCIATE</dc:creator>
  <dc:description/>
  <dc:language>en-US</dc:language>
  <cp:lastModifiedBy>NCR User</cp:lastModifiedBy>
  <cp:revision>0</cp:revision>
  <dc:subject/>
  <dc:title>IST 246  Integrated Digital Networks</dc:title>
</cp:coreProperties>
</file>