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1D066-ECD5-4A32-B9BB-0962C567EA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B910B-B25E-4839-86B4-6668EEC3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C4D27-5AC5-40B3-85F6-48A12C7E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D1D2F-A296-416D-ADA0-BF96C736FB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6279F-181E-4443-9B0F-A456E569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518FB-C941-4959-ABF0-C0D1CB63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85308-2F76-45E4-9C14-73FACA15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ACAAE-63DF-47C2-B2F2-C4649E0F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546CA-D1E5-4F10-ADA9-17D08A9E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2D33C-1796-421A-9D5B-81825DD7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C96F1-0142-41E2-9BC5-878C2AD8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D9C1D-0752-450D-80FD-A8C4854C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03A3D-D2B9-4FD5-8141-1147F9B6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40BE1-D8C9-4371-ACD9-6C9A5A8A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0B0EE-C25D-4705-8C55-8981D448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55FE6-143E-4CAC-8F9E-E5AADA41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FD1F5-616B-4D85-B246-A48F3179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3C8D5-B89A-436E-B302-42675D9E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D7967-F69B-4EEA-B937-DE237E2B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D0072-D4B1-4809-B29D-BCFB22F8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4DC92-4855-49F4-95C3-93828B12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E612A-516E-4876-8134-E75A561D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70AFA-91D9-4764-B95B-3321A7DC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A1F71-94E1-444E-A312-33E09EED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6868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30F0-08D1-4D64-A52C-AB3BE6C8E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38AF-252C-4DBD-BDD0-440B061FD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sco Configurat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owse to http://www.cisco.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on: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dering Information &amp; Assis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 Too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Product Family Bo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 a product family and click Vie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 a specific product and click on I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 configuration ques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update as necessa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sco Configurat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final after making all selec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figurator will report success or fail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failure make needed correc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successful will see Configuration Comple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 will be orderable parts list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rtel Networks Configurat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owse to http://www.nortelnetworks.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on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s and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s # - 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ired Baystack Produc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e No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desired features -- Click Next to contin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 will be orderable parts lis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bletron Configurat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owse to http://www.cabletron.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on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art Produc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N SmartSwitch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a switch famil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artSTACK or SmartSwitch 2200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dering information on bottom of product p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bletron Configurat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martSwitch 6000/6500 or 9000/9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on Configure On Lin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 options on each page and click Nex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or will show what has been selec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Fina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 will be orderable parts lis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9T17:37:34Z</dcterms:created>
  <dc:creator>Dick Young</dc:creator>
  <dc:description/>
  <dc:language>en-US</dc:language>
  <cp:lastModifiedBy>Dick Young</cp:lastModifiedBy>
  <cp:lastPrinted>2000-02-09T18:50:15Z</cp:lastPrinted>
  <dcterms:modified xsi:type="dcterms:W3CDTF">2000-02-09T18:50:24Z</dcterms:modified>
  <cp:revision>2</cp:revision>
  <dc:subject/>
  <dc:title>Cisco Configurator</dc:title>
</cp:coreProperties>
</file>