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1A0-3C1A-482D-AA2D-59A748B3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EA5-E850-4EE3-B0F6-0A74D5E1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299-EB0A-4237-BA04-276CD9C6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C46-3849-4CCC-B98F-6294C01F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9E7-1470-4A5A-B576-46331F05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C03-A41D-4002-AC34-94C2EDC7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459-A376-49D1-8742-1562C81D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3F5-E90C-433B-9E10-058B48EF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932-1EDD-4354-B731-B07B902F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0A6-2EFC-4A03-AFC6-FB6D0F2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C67-AAA8-42C8-AA8A-94067F1E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A19-18B7-4D63-8E44-1F5975C8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8FBD-65A7-42FD-BA50-728DCBBD8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ffic Analysis and Capacity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e Element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 elements are established for carrier conven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xed charg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e same charge applies regardless of distance or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satellite services all connections are 45,000 miles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ance sensitiv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e charge varies based on the distance the two points being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otal distance is matched against a breakpoin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lume sensitiv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e charge varies based on the volume of calls or circuits provided by the 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&amp;T 2400 bps D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XC Private Lin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mi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73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14 mi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73.56 + $2.59 for each mile ov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10 mi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09.82 + $2.16 for each mile over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75 mi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31.42 + $1.62 for each mile over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900 mi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252.92 + $0.94 for each mile over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eater 1000 mi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098.92 + $0.58 for each mile over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access channel char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clude in first mile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station termination char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65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&amp;T DDD Day Rat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on-to-S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eag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Minu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itional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- 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3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- 2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4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3 - 5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4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6 - 1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5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5 - 29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5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3 - 4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5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31 - 92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5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26 - 19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5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11 - 3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6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01 - 42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6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251 - 57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7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s per Sec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S =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1/8*1 Packet/X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line speed) is usually expressed in 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DS0 line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56000 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X = 128,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S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5 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DS1 line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544000 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X = 128,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S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07.8 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59320" y="2125800"/>
                <a:ext cx="179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432400" y="2030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888160" y="2166840"/>
                <a:ext cx="166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767280" y="2095560"/>
            <a:ext cx="1850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s per Sec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s of 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S 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62 f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user data size = 1024 bytes, frame overhead = 8 bytes, and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512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PPS 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00 f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user data size = 56 bytes, everything else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s per Sec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head 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head = 8/1032 = 0.77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head = 8/64 = 12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ng Probability of Packet Re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retransmission is related to the line Bit Error Rate (B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ability of retransmission increases as packet size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 of retransmission is estimated by multiplying the BER by the packet size in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38280" y="5715000"/>
                <a:ext cx="41148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BER</m:t>
                    </m:r>
                    <m:r>
                      <m:t xml:space="preserve">∗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ice traffic - use the Erlang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 c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= Erlang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all arrival rate calls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average holding time in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cal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182760" y="2960640"/>
                <a:ext cx="1878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03360" y="4165560"/>
                <a:ext cx="303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5680" y="4719600"/>
                <a:ext cx="2952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060720" y="5735520"/>
                <a:ext cx="25002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λ</m:t>
                        </m:r>
                        <m:r>
                          <m:t xml:space="preserve">n</m:t>
                        </m:r>
                        <m:r>
                          <m:t xml:space="preserve">t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gle Line U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28920" y="3164040"/>
            <a:ext cx="2301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30480" y="2196360"/>
            <a:ext cx="2097000" cy="2031120"/>
            <a:chOff x="1230480" y="2196360"/>
            <a:chExt cx="2097000" cy="2031120"/>
          </a:xfrm>
        </p:grpSpPr>
        <p:sp>
          <p:nvSpPr>
            <p:cNvPr id="99" name=""/>
            <p:cNvSpPr/>
            <p:nvPr/>
          </p:nvSpPr>
          <p:spPr>
            <a:xfrm flipV="1" rot="5400000">
              <a:off x="1666800" y="2545200"/>
              <a:ext cx="2009880" cy="1311480"/>
            </a:xfrm>
            <a:custGeom>
              <a:avLst/>
              <a:gdLst>
                <a:gd name="textAreaLeft" fmla="*/ 441720 w 2009880"/>
                <a:gd name="textAreaRight" fmla="*/ 1568160 w 2009880"/>
                <a:gd name="textAreaTop" fmla="*/ 288360 h 1311480"/>
                <a:gd name="textAreaBottom" fmla="*/ 102312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244520" y="3976560"/>
              <a:ext cx="762120" cy="250920"/>
              <a:chOff x="1244520" y="3976560"/>
              <a:chExt cx="762120" cy="250920"/>
            </a:xfrm>
          </p:grpSpPr>
          <p:sp>
            <p:nvSpPr>
              <p:cNvPr id="101" name=""/>
              <p:cNvSpPr/>
              <p:nvPr/>
            </p:nvSpPr>
            <p:spPr>
              <a:xfrm>
                <a:off x="1635120" y="41022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244520" y="397656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238400" y="2225520"/>
              <a:ext cx="761760" cy="250920"/>
              <a:chOff x="1238400" y="2225520"/>
              <a:chExt cx="761760" cy="250920"/>
            </a:xfrm>
          </p:grpSpPr>
          <p:sp>
            <p:nvSpPr>
              <p:cNvPr id="104" name=""/>
              <p:cNvSpPr/>
              <p:nvPr/>
            </p:nvSpPr>
            <p:spPr>
              <a:xfrm>
                <a:off x="1628640" y="235116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38400" y="222552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231920" y="2536920"/>
              <a:ext cx="762120" cy="250560"/>
              <a:chOff x="1231920" y="2536920"/>
              <a:chExt cx="762120" cy="250560"/>
            </a:xfrm>
          </p:grpSpPr>
          <p:sp>
            <p:nvSpPr>
              <p:cNvPr id="107" name=""/>
              <p:cNvSpPr/>
              <p:nvPr/>
            </p:nvSpPr>
            <p:spPr>
              <a:xfrm>
                <a:off x="1622520" y="26622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31920" y="253692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38400" y="2874960"/>
              <a:ext cx="761760" cy="250920"/>
              <a:chOff x="1238400" y="2874960"/>
              <a:chExt cx="761760" cy="250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628640" y="30002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38400" y="287496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230480" y="3317760"/>
              <a:ext cx="761760" cy="250920"/>
              <a:chOff x="1230480" y="3317760"/>
              <a:chExt cx="761760" cy="250920"/>
            </a:xfrm>
          </p:grpSpPr>
          <p:sp>
            <p:nvSpPr>
              <p:cNvPr id="113" name=""/>
              <p:cNvSpPr/>
              <p:nvPr/>
            </p:nvSpPr>
            <p:spPr>
              <a:xfrm>
                <a:off x="1620720" y="34434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30480" y="331776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239840" y="3656160"/>
              <a:ext cx="762120" cy="250560"/>
              <a:chOff x="1239840" y="3656160"/>
              <a:chExt cx="762120" cy="250560"/>
            </a:xfrm>
          </p:grpSpPr>
          <p:sp>
            <p:nvSpPr>
              <p:cNvPr id="116" name=""/>
              <p:cNvSpPr/>
              <p:nvPr/>
            </p:nvSpPr>
            <p:spPr>
              <a:xfrm>
                <a:off x="1630440" y="37814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39840" y="365616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5646240" y="2242440"/>
            <a:ext cx="2097720" cy="2031120"/>
            <a:chOff x="5646240" y="2242440"/>
            <a:chExt cx="2097720" cy="2031120"/>
          </a:xfrm>
        </p:grpSpPr>
        <p:sp>
          <p:nvSpPr>
            <p:cNvPr id="119" name=""/>
            <p:cNvSpPr/>
            <p:nvPr/>
          </p:nvSpPr>
          <p:spPr>
            <a:xfrm flipH="1" flipV="1" rot="16200000">
              <a:off x="5296680" y="2591280"/>
              <a:ext cx="2009880" cy="1311480"/>
            </a:xfrm>
            <a:custGeom>
              <a:avLst/>
              <a:gdLst>
                <a:gd name="textAreaLeft" fmla="*/ 441720 w 2009880"/>
                <a:gd name="textAreaRight" fmla="*/ 1568160 w 2009880"/>
                <a:gd name="textAreaTop" fmla="*/ 288360 h 1311480"/>
                <a:gd name="textAreaBottom" fmla="*/ 102312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967440" y="4022640"/>
              <a:ext cx="762120" cy="250920"/>
              <a:chOff x="6967440" y="4022640"/>
              <a:chExt cx="762120" cy="250920"/>
            </a:xfrm>
          </p:grpSpPr>
          <p:sp>
            <p:nvSpPr>
              <p:cNvPr id="121" name=""/>
              <p:cNvSpPr/>
              <p:nvPr/>
            </p:nvSpPr>
            <p:spPr>
              <a:xfrm flipH="1">
                <a:off x="6967440" y="414828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32840" y="402264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973920" y="2271600"/>
              <a:ext cx="762120" cy="250920"/>
              <a:chOff x="6973920" y="2271600"/>
              <a:chExt cx="762120" cy="25092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973920" y="23972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338960" y="227160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980040" y="2583000"/>
              <a:ext cx="762120" cy="250560"/>
              <a:chOff x="6980040" y="2583000"/>
              <a:chExt cx="762120" cy="25056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6980040" y="2708280"/>
                <a:ext cx="37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45440" y="258300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973920" y="2921040"/>
              <a:ext cx="762120" cy="250920"/>
              <a:chOff x="6973920" y="2921040"/>
              <a:chExt cx="762120" cy="25092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6973920" y="304632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38960" y="292104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81840" y="3363840"/>
              <a:ext cx="762120" cy="250920"/>
              <a:chOff x="6981840" y="3363840"/>
              <a:chExt cx="762120" cy="25092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6981840" y="348948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46880" y="336384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972120" y="3701880"/>
              <a:ext cx="762120" cy="250920"/>
              <a:chOff x="6972120" y="3701880"/>
              <a:chExt cx="762120" cy="25092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6972120" y="3827520"/>
                <a:ext cx="37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337520" y="370188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2176200" y="2943360"/>
            <a:ext cx="92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4720" y="2968560"/>
            <a:ext cx="92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64960" y="4038480"/>
            <a:ext cx="325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otal Demand = 0.5 Erla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05160" y="4741920"/>
            <a:ext cx="2590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 Line U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28920" y="3164040"/>
            <a:ext cx="2301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30480" y="2196360"/>
            <a:ext cx="2097000" cy="2031120"/>
            <a:chOff x="1230480" y="2196360"/>
            <a:chExt cx="2097000" cy="2031120"/>
          </a:xfrm>
        </p:grpSpPr>
        <p:sp>
          <p:nvSpPr>
            <p:cNvPr id="145" name=""/>
            <p:cNvSpPr/>
            <p:nvPr/>
          </p:nvSpPr>
          <p:spPr>
            <a:xfrm flipV="1" rot="5400000">
              <a:off x="1666800" y="2545200"/>
              <a:ext cx="2009880" cy="1311480"/>
            </a:xfrm>
            <a:custGeom>
              <a:avLst/>
              <a:gdLst>
                <a:gd name="textAreaLeft" fmla="*/ 441720 w 2009880"/>
                <a:gd name="textAreaRight" fmla="*/ 1568160 w 2009880"/>
                <a:gd name="textAreaTop" fmla="*/ 288360 h 1311480"/>
                <a:gd name="textAreaBottom" fmla="*/ 102312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244520" y="3976560"/>
              <a:ext cx="762120" cy="250920"/>
              <a:chOff x="1244520" y="3976560"/>
              <a:chExt cx="762120" cy="250920"/>
            </a:xfrm>
          </p:grpSpPr>
          <p:sp>
            <p:nvSpPr>
              <p:cNvPr id="147" name=""/>
              <p:cNvSpPr/>
              <p:nvPr/>
            </p:nvSpPr>
            <p:spPr>
              <a:xfrm>
                <a:off x="1635120" y="41022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44520" y="397656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238400" y="2225520"/>
              <a:ext cx="761760" cy="250920"/>
              <a:chOff x="1238400" y="2225520"/>
              <a:chExt cx="761760" cy="250920"/>
            </a:xfrm>
          </p:grpSpPr>
          <p:sp>
            <p:nvSpPr>
              <p:cNvPr id="150" name=""/>
              <p:cNvSpPr/>
              <p:nvPr/>
            </p:nvSpPr>
            <p:spPr>
              <a:xfrm>
                <a:off x="1628640" y="235116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38400" y="222552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1231920" y="2536920"/>
              <a:ext cx="762120" cy="250560"/>
              <a:chOff x="1231920" y="2536920"/>
              <a:chExt cx="762120" cy="250560"/>
            </a:xfrm>
          </p:grpSpPr>
          <p:sp>
            <p:nvSpPr>
              <p:cNvPr id="153" name=""/>
              <p:cNvSpPr/>
              <p:nvPr/>
            </p:nvSpPr>
            <p:spPr>
              <a:xfrm>
                <a:off x="1622520" y="26622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31920" y="253692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238400" y="2874960"/>
              <a:ext cx="761760" cy="250920"/>
              <a:chOff x="1238400" y="2874960"/>
              <a:chExt cx="761760" cy="250920"/>
            </a:xfrm>
          </p:grpSpPr>
          <p:sp>
            <p:nvSpPr>
              <p:cNvPr id="156" name=""/>
              <p:cNvSpPr/>
              <p:nvPr/>
            </p:nvSpPr>
            <p:spPr>
              <a:xfrm>
                <a:off x="1628640" y="30002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38400" y="287496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230480" y="3317760"/>
              <a:ext cx="761760" cy="250920"/>
              <a:chOff x="1230480" y="3317760"/>
              <a:chExt cx="761760" cy="250920"/>
            </a:xfrm>
          </p:grpSpPr>
          <p:sp>
            <p:nvSpPr>
              <p:cNvPr id="159" name=""/>
              <p:cNvSpPr/>
              <p:nvPr/>
            </p:nvSpPr>
            <p:spPr>
              <a:xfrm>
                <a:off x="1620720" y="34434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30480" y="331776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239840" y="3656160"/>
              <a:ext cx="762120" cy="250560"/>
              <a:chOff x="1239840" y="3656160"/>
              <a:chExt cx="762120" cy="250560"/>
            </a:xfrm>
          </p:grpSpPr>
          <p:sp>
            <p:nvSpPr>
              <p:cNvPr id="162" name=""/>
              <p:cNvSpPr/>
              <p:nvPr/>
            </p:nvSpPr>
            <p:spPr>
              <a:xfrm>
                <a:off x="1630440" y="37814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39840" y="365616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5646240" y="2242440"/>
            <a:ext cx="2097720" cy="2031120"/>
            <a:chOff x="5646240" y="2242440"/>
            <a:chExt cx="2097720" cy="2031120"/>
          </a:xfrm>
        </p:grpSpPr>
        <p:sp>
          <p:nvSpPr>
            <p:cNvPr id="165" name=""/>
            <p:cNvSpPr/>
            <p:nvPr/>
          </p:nvSpPr>
          <p:spPr>
            <a:xfrm flipH="1" flipV="1" rot="16200000">
              <a:off x="5296680" y="2591280"/>
              <a:ext cx="2009880" cy="1311480"/>
            </a:xfrm>
            <a:custGeom>
              <a:avLst/>
              <a:gdLst>
                <a:gd name="textAreaLeft" fmla="*/ 441720 w 2009880"/>
                <a:gd name="textAreaRight" fmla="*/ 1568160 w 2009880"/>
                <a:gd name="textAreaTop" fmla="*/ 288360 h 1311480"/>
                <a:gd name="textAreaBottom" fmla="*/ 102312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967440" y="4022640"/>
              <a:ext cx="762120" cy="250920"/>
              <a:chOff x="6967440" y="4022640"/>
              <a:chExt cx="762120" cy="25092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6967440" y="414828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32840" y="402264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973920" y="2271600"/>
              <a:ext cx="762120" cy="250920"/>
              <a:chOff x="6973920" y="2271600"/>
              <a:chExt cx="762120" cy="250920"/>
            </a:xfrm>
          </p:grpSpPr>
          <p:sp>
            <p:nvSpPr>
              <p:cNvPr id="170" name=""/>
              <p:cNvSpPr/>
              <p:nvPr/>
            </p:nvSpPr>
            <p:spPr>
              <a:xfrm flipH="1">
                <a:off x="6973920" y="23972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38960" y="227160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980040" y="2583000"/>
              <a:ext cx="762120" cy="250560"/>
              <a:chOff x="6980040" y="2583000"/>
              <a:chExt cx="762120" cy="250560"/>
            </a:xfrm>
          </p:grpSpPr>
          <p:sp>
            <p:nvSpPr>
              <p:cNvPr id="173" name=""/>
              <p:cNvSpPr/>
              <p:nvPr/>
            </p:nvSpPr>
            <p:spPr>
              <a:xfrm flipH="1">
                <a:off x="6980040" y="2708280"/>
                <a:ext cx="37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45440" y="258300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6973920" y="2921040"/>
              <a:ext cx="762120" cy="250920"/>
              <a:chOff x="6973920" y="2921040"/>
              <a:chExt cx="762120" cy="25092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6973920" y="304632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38960" y="292104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981840" y="3363840"/>
              <a:ext cx="762120" cy="250920"/>
              <a:chOff x="6981840" y="3363840"/>
              <a:chExt cx="762120" cy="25092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6981840" y="348948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46880" y="336384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972120" y="3701880"/>
              <a:ext cx="762120" cy="250920"/>
              <a:chOff x="6972120" y="3701880"/>
              <a:chExt cx="762120" cy="250920"/>
            </a:xfrm>
          </p:grpSpPr>
          <p:sp>
            <p:nvSpPr>
              <p:cNvPr id="182" name=""/>
              <p:cNvSpPr/>
              <p:nvPr/>
            </p:nvSpPr>
            <p:spPr>
              <a:xfrm flipH="1">
                <a:off x="6972120" y="3827520"/>
                <a:ext cx="37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37520" y="370188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2176200" y="2943360"/>
            <a:ext cx="92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14720" y="2968560"/>
            <a:ext cx="92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88640" y="4038480"/>
            <a:ext cx="325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otal Demand = 2.0 Erla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05160" y="4741920"/>
            <a:ext cx="2590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09840" y="2919240"/>
            <a:ext cx="2301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41520" y="3376440"/>
            <a:ext cx="2302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22800" y="3594240"/>
            <a:ext cx="2301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57560" y="2529000"/>
                <a:ext cx="212544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32000" y="4943520"/>
                <a:ext cx="41371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 U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call every 12 sec, duration 6 s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97160" y="3740040"/>
                <a:ext cx="67276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00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36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Erlang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 U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00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calls, duration 150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 calls, duration 100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 calls, duration 50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32000" y="4352760"/>
                <a:ext cx="6159240" cy="21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λ</m:t>
                            </m:r>
                            <m:r>
                              <m:t xml:space="preserve">n</m:t>
                            </m:r>
                            <m:r>
                              <m:t xml:space="preserve">t</m:t>
                            </m:r>
                            <m:r>
                              <m:t xml:space="preserve">n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0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rPr>
                            <m:lit/>
                            <m:nor/>
                          </m:rPr>
                          <m:t xml:space="preserve">Erlang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ability that all lines are b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(N, E) indicates that blocking is a function of number of lines and the Erlang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635120" y="3035160"/>
                <a:ext cx="302904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have 20 calls/hour, with a call duration of 3 minutes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N = 1, B(N, E) = 0.5 =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N = 2, B(N, E) = 0.2 =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N = 3, B(N, E) = 0.0625 = 6.25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N = 4, B(N, E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539720" y="3559320"/>
                <a:ext cx="51008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Erlan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ov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 that the interarrival time t = T seconds when the average arrival rate is     events per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moryl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371600" y="2820960"/>
                <a:ext cx="5284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827360" y="3435480"/>
                <a:ext cx="41702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sson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oisson arrival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              is probability of k events occuring in    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719360" y="2658960"/>
                <a:ext cx="403848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λt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362320" y="4334040"/>
                <a:ext cx="13255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6320" y="4800600"/>
                <a:ext cx="55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sson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rrival rate is low, then good probability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new messag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arrive during the service tim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ue size decreases, providing 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33520" y="3635280"/>
                <a:ext cx="3384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sson Distribu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ival rate = 900 msg/hour = 0.25 msg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period = 5 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rrivals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622520" y="4092480"/>
                <a:ext cx="5314680" cy="25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2,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∗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08240" y="2298600"/>
            <a:ext cx="1879560" cy="13464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46520" y="2298600"/>
            <a:ext cx="1879560" cy="13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08840" y="2298600"/>
            <a:ext cx="1879560" cy="13464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971800"/>
            <a:ext cx="5335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971800"/>
            <a:ext cx="45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5909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4290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29718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26668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01000" y="3200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35560" y="2575080"/>
            <a:ext cx="103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19600" y="2575080"/>
            <a:ext cx="11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45600" y="2727360"/>
            <a:ext cx="145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7680" y="1722600"/>
            <a:ext cx="220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78720" y="4813200"/>
            <a:ext cx="6481080" cy="1801440"/>
            <a:chOff x="1278720" y="4813200"/>
            <a:chExt cx="6481080" cy="1801440"/>
          </a:xfrm>
        </p:grpSpPr>
        <p:sp>
          <p:nvSpPr>
            <p:cNvPr id="234" name=""/>
            <p:cNvSpPr/>
            <p:nvPr/>
          </p:nvSpPr>
          <p:spPr>
            <a:xfrm>
              <a:off x="3276720" y="5181480"/>
              <a:ext cx="1904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518148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76720" y="5715000"/>
              <a:ext cx="1904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76920" y="51814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5680" y="51814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4800" y="51814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33920" y="51814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51814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8720" y="5013360"/>
              <a:ext cx="115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ri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14600" y="5410080"/>
              <a:ext cx="762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17000" y="577548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e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61120" y="4813200"/>
              <a:ext cx="1498680" cy="1270080"/>
            </a:xfrm>
            <a:prstGeom prst="rect">
              <a:avLst/>
            </a:prstGeom>
            <a:solidFill>
              <a:srgbClr val="96969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1480" y="5410080"/>
              <a:ext cx="106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60560" y="615636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84240" y="5241960"/>
              <a:ext cx="135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pa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69200" y="4065480"/>
            <a:ext cx="7129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ngle Server - Single Queu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/M/1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to service a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number of users in the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889280" y="2579760"/>
                <a:ext cx="1730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859040" y="4352760"/>
                <a:ext cx="63943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,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- probability queue is not empt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mo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35000" y="2540160"/>
                <a:ext cx="276084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752480" y="4849920"/>
                <a:ext cx="35766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sub/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/M/1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ctional ut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55640" y="2716200"/>
                <a:ext cx="13431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∗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282920" y="2722680"/>
                <a:ext cx="273528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 - arrival rat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p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 - average bp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- line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p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522440" y="4756320"/>
                <a:ext cx="33177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pps,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624560" y="4925880"/>
                <a:ext cx="285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/M/1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it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delay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776240" y="2781360"/>
                <a:ext cx="16146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754280" y="4413240"/>
                <a:ext cx="310032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 Swit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a packet switch with 5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user sending 10 msgs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ssage length 102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speed is 56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614600" y="4519440"/>
                <a:ext cx="4647960" cy="14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b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200</m:t>
                        </m:r>
                        <m:r>
                          <m:rPr>
                            <m:lit/>
                            <m:nor/>
                          </m:rPr>
                          <m:t xml:space="preserve"> bps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12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6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4</m:t>
                        </m:r>
                        <m:r>
                          <m:rPr>
                            <m:lit/>
                            <m:nor/>
                          </m:rPr>
                          <m:t xml:space="preserve"> or 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 Swit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verage delay is 0.213 s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608120" y="2693880"/>
                <a:ext cx="4986360" cy="276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6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3</m:t>
                        </m:r>
                        <m:r>
                          <m:rPr>
                            <m:lit/>
                            <m:nor/>
                          </m:rPr>
                          <m:t xml:space="preserve"> sec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 pkts in queue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rPr>
                            <m:lit/>
                            <m:nor/>
                          </m:rPr>
                          <m:t xml:space="preserve"> sec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3</m:t>
                        </m:r>
                        <m:r>
                          <m:rPr>
                            <m:lit/>
                            <m:nor/>
                          </m:rPr>
                          <m:t xml:space="preserve"> 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 Swit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P(0,0.0183) probability for the switch service time 0.0183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.1% probability that no packets will arrive during the servic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858960" y="3166920"/>
                <a:ext cx="8072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8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3</m:t>
                        </m:r>
                        <m:r>
                          <m:t xml:space="preserve">]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/M/1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tilization and Queu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queu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tilization and 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respons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ffer Over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buffer over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 k packets in the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 of overflow if buffer holds B packets of variable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819440" y="3281400"/>
                <a:ext cx="35845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85960" y="5403960"/>
                <a:ext cx="6248520" cy="11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³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Traffic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 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number of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number of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chance of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DDI and DQ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e as token ring but 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switched network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itch input to output throughput vs. delay characterist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constant packet processing for all traffic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switches throughput degrades as packet size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col conversion degrades 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2133720"/>
            <a:ext cx="0" cy="3047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5181480"/>
            <a:ext cx="4952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360000">
            <a:off x="-2047680" y="2975040"/>
            <a:ext cx="8533800" cy="311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1" y="3"/>
                </a:moveTo>
                <a:arcTo wR="10800" hR="10800" stAng="-5479279" swAng="4902398"/>
                <a:lnTo>
                  <a:pt x="10800" y="10800"/>
                </a:lnTo>
                <a:close/>
              </a:path>
              <a:path fill="none" w="21600" h="21600">
                <a:moveTo>
                  <a:pt x="10551" y="3"/>
                </a:moveTo>
                <a:arcTo wR="10800" hR="10800" stAng="-5479279" swAng="4902398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8160000">
            <a:off x="-248760" y="4252680"/>
            <a:ext cx="9107280" cy="522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59" y="21580"/>
                </a:moveTo>
                <a:arcTo wR="10800" hR="10800" stAng="5189995" swAng="4625663"/>
                <a:lnTo>
                  <a:pt x="10800" y="10800"/>
                </a:lnTo>
                <a:close/>
              </a:path>
              <a:path fill="none" w="21600" h="21600">
                <a:moveTo>
                  <a:pt x="11459" y="21580"/>
                </a:moveTo>
                <a:arcTo wR="10800" hR="10800" stAng="5189995" swAng="462566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243828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660000">
            <a:off x="2650680" y="264312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9380000">
            <a:off x="2953800" y="4167000"/>
            <a:ext cx="147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74200" y="5234040"/>
            <a:ext cx="11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45400" y="5234040"/>
            <a:ext cx="64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83280" y="4776840"/>
            <a:ext cx="64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83640" y="2414520"/>
            <a:ext cx="69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27040" y="5234040"/>
            <a:ext cx="69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746280" y="356436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41040" y="5775480"/>
            <a:ext cx="20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ed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form averag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form second mo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95280" y="2666880"/>
                <a:ext cx="57848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371600" y="4952880"/>
                <a:ext cx="58071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ing number of protocol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s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s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s network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 and WAN speeds must be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bone speed must at least equal LA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ing for Pea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usy hou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raffic to determine call arrival 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equivalent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usy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233880" y="2516040"/>
                <a:ext cx="347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787400" y="3710160"/>
                <a:ext cx="4121280" cy="30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H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kt</m:t>
                            </m:r>
                          </m:sub>
                        </m:sSub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Busy H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429000" y="1847880"/>
                <a:ext cx="4089240" cy="43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H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00+18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 pp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kt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=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28=10240 bps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2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4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ses of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agation path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ccess hops traver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ay per access 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onent load along th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components traver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 filtering and forwar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ry size and number of available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cells pro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ses of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ay per access 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s traver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 s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 or frame s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packets or frames pro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ress look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ress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cuit, Message, Packet, and Cell Switching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cuit switching d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e switching d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468440" y="2529000"/>
                <a:ext cx="538956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- message siz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363680" y="4959360"/>
                <a:ext cx="54943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n - #nod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cuit, Message, Packet, and Cell Switching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switching d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622520" y="2573280"/>
                <a:ext cx="4857480" cy="390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- #nod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cuit, Message, Packet, and Cell Switching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 switching delay resembles packet switching delay with no retrans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network delay for packet switching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 setup delay, modem-to-modem de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ffer filling, packet creation, processor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path delay, nod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ailability - probability a system will work when the user needs it to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 time between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al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639800" y="4370400"/>
                <a:ext cx="28558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628640" y="5943600"/>
                <a:ext cx="1930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vai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vailability - probability a system will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wor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en the user needs it to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compute availability of elements connected in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898640" y="3370320"/>
                <a:ext cx="4159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=1-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849320" y="5029200"/>
                <a:ext cx="17845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        and                   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536840" y="2057400"/>
                <a:ext cx="1663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87600" y="2778120"/>
                <a:ext cx="21114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73480" y="2033640"/>
                <a:ext cx="1770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number of failures in tim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089000" y="2724120"/>
                <a:ext cx="7297920" cy="21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TBF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TR</m:t>
                            </m:r>
                          </m:den>
                        </m:f>
                        <m:r>
                          <m:t xml:space="preserve">@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TBF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ce MTBF &gt;&gt; MTT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MTBF = 1000 hours, F(day) =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100 nod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048040" y="2746440"/>
                <a:ext cx="53305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 fp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124000" y="5108400"/>
                <a:ext cx="5330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fp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MTBF = 40,000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24) = 0.0006 failures/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100 node network F(24) = 0.06 f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monthly basis F = 1.8 f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 a system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ail withi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series connected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778040" y="3381480"/>
                <a:ext cx="29019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646280" y="5418000"/>
                <a:ext cx="26971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arallel system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638360" y="2514600"/>
                <a:ext cx="45514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639800" y="4267080"/>
                <a:ext cx="45500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reliability if MTBF = 10,000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3 series connected elements with MTBFs of 20,000 25,000 and 30,000 h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222200" y="2562120"/>
                <a:ext cx="59803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760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189080" y="4811760"/>
                <a:ext cx="52560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0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000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74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0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eating the Traffic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uct a high level view of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egorize traffic into distribution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e the traffic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metric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iginates in communities of similar interest and is uniformly spread across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ymmetric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iginates from large sites to small sites and lacks directional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ymmetrical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87640" y="2368440"/>
            <a:ext cx="4862520" cy="3141720"/>
            <a:chOff x="2087640" y="2368440"/>
            <a:chExt cx="4862520" cy="3141720"/>
          </a:xfrm>
        </p:grpSpPr>
        <p:sp>
          <p:nvSpPr>
            <p:cNvPr id="355" name=""/>
            <p:cNvSpPr/>
            <p:nvPr/>
          </p:nvSpPr>
          <p:spPr>
            <a:xfrm>
              <a:off x="3792600" y="2368440"/>
              <a:ext cx="1628640" cy="1006560"/>
            </a:xfrm>
            <a:prstGeom prst="rect">
              <a:avLst/>
            </a:prstGeom>
            <a:solidFill>
              <a:srgbClr val="96969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68360" y="2530440"/>
              <a:ext cx="1020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ent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2087640" y="4498920"/>
              <a:ext cx="1163520" cy="939960"/>
              <a:chOff x="2087640" y="4498920"/>
              <a:chExt cx="1163520" cy="939960"/>
            </a:xfrm>
          </p:grpSpPr>
          <p:sp>
            <p:nvSpPr>
              <p:cNvPr id="358" name=""/>
              <p:cNvSpPr/>
              <p:nvPr/>
            </p:nvSpPr>
            <p:spPr>
              <a:xfrm>
                <a:off x="2087640" y="4498920"/>
                <a:ext cx="1163520" cy="9399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191680" y="4807080"/>
                <a:ext cx="9424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86280" y="4570560"/>
              <a:ext cx="1163880" cy="939600"/>
              <a:chOff x="5786280" y="4570560"/>
              <a:chExt cx="1163880" cy="939600"/>
            </a:xfrm>
          </p:grpSpPr>
          <p:sp>
            <p:nvSpPr>
              <p:cNvPr id="361" name=""/>
              <p:cNvSpPr/>
              <p:nvPr/>
            </p:nvSpPr>
            <p:spPr>
              <a:xfrm>
                <a:off x="5786280" y="4570560"/>
                <a:ext cx="1163880" cy="93960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92120" y="4878360"/>
                <a:ext cx="927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 flipH="1">
              <a:off x="2563920" y="3402000"/>
              <a:ext cx="1387440" cy="10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15040" y="3387600"/>
              <a:ext cx="1282680" cy="116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184560" y="3362400"/>
              <a:ext cx="1349280" cy="112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4784760" y="3387240"/>
              <a:ext cx="1257120" cy="1165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27480" y="4238640"/>
              <a:ext cx="88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27120" y="3457440"/>
              <a:ext cx="696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09200" y="3470400"/>
              <a:ext cx="696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ymmetrical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600200" y="1752480"/>
            <a:ext cx="3671640" cy="4162680"/>
            <a:chOff x="1600200" y="1752480"/>
            <a:chExt cx="3671640" cy="4162680"/>
          </a:xfrm>
        </p:grpSpPr>
        <p:grpSp>
          <p:nvGrpSpPr>
            <p:cNvPr id="372" name=""/>
            <p:cNvGrpSpPr/>
            <p:nvPr/>
          </p:nvGrpSpPr>
          <p:grpSpPr>
            <a:xfrm>
              <a:off x="1600200" y="1752480"/>
              <a:ext cx="1058760" cy="966960"/>
              <a:chOff x="1600200" y="1752480"/>
              <a:chExt cx="1058760" cy="966960"/>
            </a:xfrm>
          </p:grpSpPr>
          <p:sp>
            <p:nvSpPr>
              <p:cNvPr id="373" name=""/>
              <p:cNvSpPr/>
              <p:nvPr/>
            </p:nvSpPr>
            <p:spPr>
              <a:xfrm>
                <a:off x="1600200" y="1752480"/>
                <a:ext cx="105876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32680" y="184932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213080" y="1798560"/>
              <a:ext cx="1058760" cy="966960"/>
              <a:chOff x="4213080" y="1798560"/>
              <a:chExt cx="1058760" cy="966960"/>
            </a:xfrm>
          </p:grpSpPr>
          <p:sp>
            <p:nvSpPr>
              <p:cNvPr id="376" name=""/>
              <p:cNvSpPr/>
              <p:nvPr/>
            </p:nvSpPr>
            <p:spPr>
              <a:xfrm>
                <a:off x="4213080" y="1798560"/>
                <a:ext cx="105876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45560" y="189540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1620720" y="4948200"/>
              <a:ext cx="1058760" cy="966960"/>
              <a:chOff x="1620720" y="4948200"/>
              <a:chExt cx="1058760" cy="966960"/>
            </a:xfrm>
          </p:grpSpPr>
          <p:sp>
            <p:nvSpPr>
              <p:cNvPr id="379" name=""/>
              <p:cNvSpPr/>
              <p:nvPr/>
            </p:nvSpPr>
            <p:spPr>
              <a:xfrm>
                <a:off x="1620720" y="4948200"/>
                <a:ext cx="105876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53200" y="504504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1626840" y="3379680"/>
              <a:ext cx="1059120" cy="966960"/>
              <a:chOff x="1626840" y="3379680"/>
              <a:chExt cx="1059120" cy="966960"/>
            </a:xfrm>
          </p:grpSpPr>
          <p:sp>
            <p:nvSpPr>
              <p:cNvPr id="382" name=""/>
              <p:cNvSpPr/>
              <p:nvPr/>
            </p:nvSpPr>
            <p:spPr>
              <a:xfrm>
                <a:off x="1626840" y="3379680"/>
                <a:ext cx="105912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59680" y="347652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200480" y="4937040"/>
              <a:ext cx="1058760" cy="966960"/>
              <a:chOff x="4200480" y="4937040"/>
              <a:chExt cx="1058760" cy="966960"/>
            </a:xfrm>
          </p:grpSpPr>
          <p:sp>
            <p:nvSpPr>
              <p:cNvPr id="385" name=""/>
              <p:cNvSpPr/>
              <p:nvPr/>
            </p:nvSpPr>
            <p:spPr>
              <a:xfrm>
                <a:off x="4200480" y="4937040"/>
                <a:ext cx="105876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332960" y="503388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4179600" y="3352680"/>
              <a:ext cx="1059120" cy="966960"/>
              <a:chOff x="4179600" y="3352680"/>
              <a:chExt cx="1059120" cy="966960"/>
            </a:xfrm>
          </p:grpSpPr>
          <p:sp>
            <p:nvSpPr>
              <p:cNvPr id="388" name=""/>
              <p:cNvSpPr/>
              <p:nvPr/>
            </p:nvSpPr>
            <p:spPr>
              <a:xfrm>
                <a:off x="4179600" y="3352680"/>
                <a:ext cx="105912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312080" y="344952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671560" y="2270160"/>
              <a:ext cx="156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97120" y="3870360"/>
              <a:ext cx="14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97120" y="5432400"/>
              <a:ext cx="150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76120" y="2746440"/>
              <a:ext cx="0" cy="60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76120" y="4373640"/>
              <a:ext cx="0" cy="56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735440" y="2786040"/>
              <a:ext cx="0" cy="58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08440" y="4346640"/>
              <a:ext cx="0" cy="59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079320" y="2173320"/>
            <a:ext cx="25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 rates d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        and                   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581120" y="1994040"/>
                <a:ext cx="1536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674720" y="2809800"/>
                <a:ext cx="191772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237200" y="2021040"/>
                <a:ext cx="1630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mission Se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mission segments define the end-to-end link between premises in two rate ce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a-premise seg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nects equipment on the user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a-exchange seg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nects the user premise to the carrier’s serving rat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involve connections through wiring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-exchange seg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nects the rate centers serving the user prem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cross LATA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riff Rat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iff rate elements define tariffing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-exchange mileage (IX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mileage between the carrier rate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d as the airline distance between the cen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nel termination charge (CT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harge assessed at each end of a channel between two rate centers for access through th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inter-exchange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riff Rat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rvice termination charge (ST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charge assessed by the carrier for a connection from the user premise to its serving rat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intra-exchange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age surcharge (US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charge assessed by the carrier for using the line on a specified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s trans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minut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s pro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age units trans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5T17:13:00Z</dcterms:created>
  <dc:creator>NCR ASSOCIATE</dc:creator>
  <dc:description/>
  <dc:language>en-US</dc:language>
  <cp:lastModifiedBy>NCR User</cp:lastModifiedBy>
  <cp:lastPrinted>2001-02-06T16:58:11Z</cp:lastPrinted>
  <dcterms:modified xsi:type="dcterms:W3CDTF">2003-04-21T14:08:42Z</dcterms:modified>
  <cp:revision>31</cp:revision>
  <dc:subject/>
  <dc:title>Chapter 16</dc:title>
</cp:coreProperties>
</file>