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F84B-C5CD-4835-894C-A0BCD457B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536D-1668-4729-9F41-E6A4CA75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D82C-1AFB-4D68-A014-78927D6DE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C38F-7F35-4B04-BC18-9CD4D4C3B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0580-3F45-45E6-AF13-5635BEE14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D755-901B-47A1-BBEA-5F8887B1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718D-862D-4CD7-8340-25C7E551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5252-2CF5-4465-8E44-8F4DE647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5F01-5976-460A-937E-B08BF5BB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5FA5-7B03-41AE-8A29-9CBA0CA5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CC30-1C02-418E-85F3-1EEFBF6A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2643-2C7D-42A7-943D-13C0211D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EDE7-CA90-4270-B1C8-304DD9FE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E048-C461-48F5-A1D6-36EB966F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DBCF-50C5-4E5A-B1AC-B2868F76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E3F9-2C49-4935-A5B1-9224C530B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D029-5567-43B1-AA69-E4726F5FA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E0C4-7E39-4AA2-8FA6-7C6B30BD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0180-B04D-4972-8FD9-2C328CB5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3E1D-52B0-4E9E-9CE0-227458DF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58DC-947F-425F-B93F-C2A40627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0571-FC4E-4DBF-BF2D-ACF29B1E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A5FC-C10C-4CD3-92F8-77377457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0C07-FB30-4B04-AB2E-BB613B92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B824-6405-415C-BE8B-C30F63D508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C69F-4C3B-4B31-80ED-76921C6EAB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isco.com/univercd/cc/td/doc/product/voice/evbugl4.ht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isco Call Manager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isco IP Telephon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Cisco Press, ISBN 1-58705-050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isco CallManager Fundamentals: A Cisco AVVID Solu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Cisco Press, ISBN 1-58705-008-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ll Manager Device Clas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s (clien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(serv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tew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/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rminal Dev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858000" y="4343400"/>
            <a:ext cx="1254240" cy="1981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267080" y="28195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2590920"/>
            <a:ext cx="16002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3352680"/>
            <a:ext cx="1600200" cy="0"/>
          </a:xfrm>
          <a:prstGeom prst="line">
            <a:avLst/>
          </a:prstGeom>
          <a:ln w="28440">
            <a:solidFill>
              <a:srgbClr val="00e4a8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2560" y="208908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ngle output 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9800" y="3384720"/>
            <a:ext cx="174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inp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37160" y="22161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V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8640" y="2927520"/>
            <a:ext cx="123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ngle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3200400"/>
            <a:ext cx="1600200" cy="0"/>
          </a:xfrm>
          <a:prstGeom prst="line">
            <a:avLst/>
          </a:prstGeom>
          <a:ln w="28440">
            <a:solidFill>
              <a:srgbClr val="00e4a8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35880" y="2641680"/>
            <a:ext cx="4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097240" y="4070520"/>
            <a:ext cx="1905840" cy="2700000"/>
            <a:chOff x="5097240" y="4070520"/>
            <a:chExt cx="1905840" cy="2700000"/>
          </a:xfrm>
        </p:grpSpPr>
        <p:sp>
          <p:nvSpPr>
            <p:cNvPr id="167" name=""/>
            <p:cNvSpPr/>
            <p:nvPr/>
          </p:nvSpPr>
          <p:spPr>
            <a:xfrm>
              <a:off x="5181480" y="5715000"/>
              <a:ext cx="1600200" cy="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181480" y="5867280"/>
              <a:ext cx="1600200" cy="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81480" y="6019920"/>
              <a:ext cx="1600200" cy="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81480" y="4724280"/>
              <a:ext cx="1600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181480" y="4876920"/>
              <a:ext cx="1600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181480" y="5029200"/>
              <a:ext cx="1600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97240" y="4070520"/>
              <a:ext cx="190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ultiple outpu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re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256720" y="6127920"/>
              <a:ext cx="1744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ultiple inpu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re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39400" y="5187960"/>
              <a:ext cx="43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861640" y="403848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48840" y="373392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362320" y="2438280"/>
            <a:ext cx="182880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ateway Dev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362320" y="2514600"/>
            <a:ext cx="1512720" cy="1523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791320" y="4876920"/>
            <a:ext cx="1600200" cy="121284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4122360" y="4159080"/>
            <a:ext cx="1905840" cy="2700000"/>
            <a:chOff x="4122360" y="4159080"/>
            <a:chExt cx="1905840" cy="2700000"/>
          </a:xfrm>
        </p:grpSpPr>
        <p:sp>
          <p:nvSpPr>
            <p:cNvPr id="183" name=""/>
            <p:cNvSpPr/>
            <p:nvPr/>
          </p:nvSpPr>
          <p:spPr>
            <a:xfrm>
              <a:off x="4206600" y="5803560"/>
              <a:ext cx="1599840" cy="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06600" y="5955840"/>
              <a:ext cx="1599840" cy="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06600" y="6108480"/>
              <a:ext cx="1599840" cy="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06600" y="4812840"/>
              <a:ext cx="159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06600" y="4965480"/>
              <a:ext cx="159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06600" y="5117760"/>
              <a:ext cx="159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22360" y="4159080"/>
              <a:ext cx="190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ultiple outpu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re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81480" y="6216480"/>
              <a:ext cx="1744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ultiple inpu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re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64160" y="5276520"/>
              <a:ext cx="43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625320" y="3625920"/>
            <a:ext cx="1600200" cy="0"/>
          </a:xfrm>
          <a:prstGeom prst="line">
            <a:avLst/>
          </a:prstGeom>
          <a:ln w="28440">
            <a:solidFill>
              <a:srgbClr val="00e4a8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5320" y="3778200"/>
            <a:ext cx="1600200" cy="0"/>
          </a:xfrm>
          <a:prstGeom prst="line">
            <a:avLst/>
          </a:prstGeom>
          <a:ln w="28440">
            <a:solidFill>
              <a:srgbClr val="00e4a8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5320" y="3930480"/>
            <a:ext cx="1600200" cy="0"/>
          </a:xfrm>
          <a:prstGeom prst="line">
            <a:avLst/>
          </a:prstGeom>
          <a:ln w="28440">
            <a:solidFill>
              <a:srgbClr val="00e4a8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41080" y="1981080"/>
            <a:ext cx="1905840" cy="959040"/>
            <a:chOff x="541080" y="1981080"/>
            <a:chExt cx="1905840" cy="959040"/>
          </a:xfrm>
        </p:grpSpPr>
        <p:sp>
          <p:nvSpPr>
            <p:cNvPr id="196" name=""/>
            <p:cNvSpPr/>
            <p:nvPr/>
          </p:nvSpPr>
          <p:spPr>
            <a:xfrm>
              <a:off x="625320" y="2635200"/>
              <a:ext cx="1600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5320" y="2787480"/>
              <a:ext cx="1600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25320" y="2940120"/>
              <a:ext cx="1600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41080" y="1981080"/>
              <a:ext cx="190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ultiple outpu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re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700560" y="4038480"/>
            <a:ext cx="174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inp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83240" y="3098880"/>
            <a:ext cx="4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02040" y="2635200"/>
            <a:ext cx="16002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02040" y="2787480"/>
            <a:ext cx="16002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02040" y="2940120"/>
            <a:ext cx="16002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49120" y="1981080"/>
            <a:ext cx="152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I/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31040" y="5803920"/>
            <a:ext cx="1600200" cy="0"/>
          </a:xfrm>
          <a:prstGeom prst="line">
            <a:avLst/>
          </a:prstGeom>
          <a:ln w="28440">
            <a:solidFill>
              <a:srgbClr val="00e4a8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31040" y="4813200"/>
            <a:ext cx="16002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31040" y="4965840"/>
            <a:ext cx="16002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331040" y="5118120"/>
            <a:ext cx="16002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278120" y="4159080"/>
            <a:ext cx="152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I/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29760" y="594360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ngle I/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5280" y="5410080"/>
            <a:ext cx="80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255920" y="30542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V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700760" y="37339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V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329200" y="411480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oice-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95880" y="64612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96440" y="6248520"/>
            <a:ext cx="172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oice/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.323 Implementation in CC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of fully compliant H.323 terminal requires extensive computing power and mem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.323 proxy can be implemented in a high performance server and can communicate with 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“Skinny”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kinny client uses SC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 to communicate with C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P/UDP/IP to communicate with another Skinny client or a H.323 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, control and clear audio ca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.323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143000" y="3962520"/>
            <a:ext cx="1219320" cy="9777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019920" y="4114800"/>
            <a:ext cx="1295280" cy="981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3505320" y="2362320"/>
            <a:ext cx="1523880" cy="10634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362320" y="4572000"/>
            <a:ext cx="3657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14800" y="33526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734280" y="2743200"/>
            <a:ext cx="3047040" cy="243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600200" y="2666880"/>
            <a:ext cx="3047040" cy="243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70040" y="472428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P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3924360" y="3009960"/>
            <a:ext cx="380880" cy="4572000"/>
          </a:xfrm>
          <a:custGeom>
            <a:avLst/>
            <a:gdLst>
              <a:gd name="textAreaLeft" fmla="*/ 111960 w 380880"/>
              <a:gd name="textAreaRight" fmla="*/ 381240 w 380880"/>
              <a:gd name="textAreaTop" fmla="*/ 190440 h 4572000"/>
              <a:gd name="textAreaBottom" fmla="*/ 438156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0240" y="2590920"/>
            <a:ext cx="11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gn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297840" y="224172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.225, H.2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gn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31760" y="4114800"/>
            <a:ext cx="88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ki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24000" y="419112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.3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64240" y="190512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50360" y="571500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TP audio 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ion Interf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ible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regist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dele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call process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es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hones using SC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Contro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Aggregator layer to manage audio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stablish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e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I Interf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 is ISDN PR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B + 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4 Kbps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44 Kbps total bandwidth (T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Q.931 on D channel for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able to TCP in Internet protocol st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’t provide flow control or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umes underlying layer is rel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s connection setup and tear-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GC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ed in Device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ontrol VoIP gatew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s all call signaling between CCM and 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ateway regist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ateway dele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call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unicates with telephony gatewa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unicates with Call Control layer through Aggregation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ablish, control and clear audio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dia Control Lay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connecting IP media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P media transported over RT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l of RTP source and receiver addresses is done b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GCP/SCCP – client serv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P/H.323 – peer/p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s provi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ple connections – HDX and FDX conne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different codecs depending on situ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DCX functions – hold, trans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conne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-directional – unicast, multicast (used for music and paging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-directional – Ad Hoc conferencing, Meet-Me conferenc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ll Control Lay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jor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Control – one instance of Cc/C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to initialization and tear-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Control Child Process – one instance per-call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processes may exist depending on call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fe span = life of a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 Analysis – handles network addr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tables to understand national dialing pl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gs used to understand digit string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ldcards used to understand range of numb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p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brevi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chitecture Layer 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ice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dia Control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l Control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brevi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breviations and their meaning are listed at UR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isco.com/univercd/cc/td/doc/product/voice/evbugl4.h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Layer 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2438280"/>
            <a:ext cx="41148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8120" y="2971800"/>
            <a:ext cx="20574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4038480"/>
            <a:ext cx="41148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greg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4572000"/>
            <a:ext cx="41148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05520" y="3505320"/>
            <a:ext cx="205740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dia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5105520"/>
            <a:ext cx="411480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41560" y="2622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2514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95480" y="2590920"/>
            <a:ext cx="152640" cy="609480"/>
          </a:xfrm>
          <a:custGeom>
            <a:avLst/>
            <a:gdLst>
              <a:gd name="textAreaLeft" fmla="*/ 44640 w 152640"/>
              <a:gd name="textAreaRight" fmla="*/ 153000 w 152640"/>
              <a:gd name="textAreaTop" fmla="*/ 32400 h 609480"/>
              <a:gd name="textAreaBottom" fmla="*/ 577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153"/>
                  <a:pt x="0" y="2306"/>
                </a:cubicBezTo>
                <a:lnTo>
                  <a:pt x="0" y="19294"/>
                </a:lnTo>
                <a:cubicBezTo>
                  <a:pt x="0" y="20447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3200400"/>
            <a:ext cx="152640" cy="1066680"/>
          </a:xfrm>
          <a:custGeom>
            <a:avLst/>
            <a:gdLst>
              <a:gd name="textAreaLeft" fmla="*/ 44640 w 152640"/>
              <a:gd name="textAreaRight" fmla="*/ 153000 w 152640"/>
              <a:gd name="textAreaTop" fmla="*/ 87840 h 1066680"/>
              <a:gd name="textAreaBottom" fmla="*/ 97884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784"/>
                  <a:pt x="0" y="3568"/>
                </a:cubicBezTo>
                <a:lnTo>
                  <a:pt x="0" y="18032"/>
                </a:lnTo>
                <a:cubicBezTo>
                  <a:pt x="0" y="19816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4267080"/>
            <a:ext cx="152640" cy="609840"/>
          </a:xfrm>
          <a:custGeom>
            <a:avLst/>
            <a:gdLst>
              <a:gd name="textAreaLeft" fmla="*/ 44640 w 152640"/>
              <a:gd name="textAreaRight" fmla="*/ 153000 w 152640"/>
              <a:gd name="textAreaTop" fmla="*/ 32400 h 609840"/>
              <a:gd name="textAreaBottom" fmla="*/ 57744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153"/>
                  <a:pt x="0" y="2306"/>
                </a:cubicBezTo>
                <a:lnTo>
                  <a:pt x="0" y="19294"/>
                </a:lnTo>
                <a:cubicBezTo>
                  <a:pt x="0" y="20447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4876920"/>
            <a:ext cx="152640" cy="609480"/>
          </a:xfrm>
          <a:custGeom>
            <a:avLst/>
            <a:gdLst>
              <a:gd name="textAreaLeft" fmla="*/ 44640 w 152640"/>
              <a:gd name="textAreaRight" fmla="*/ 153000 w 152640"/>
              <a:gd name="textAreaTop" fmla="*/ 32400 h 609480"/>
              <a:gd name="textAreaBottom" fmla="*/ 577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153"/>
                  <a:pt x="0" y="2306"/>
                </a:cubicBezTo>
                <a:lnTo>
                  <a:pt x="0" y="19294"/>
                </a:lnTo>
                <a:cubicBezTo>
                  <a:pt x="0" y="20447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15520" y="3124080"/>
            <a:ext cx="198000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88560" y="2546280"/>
            <a:ext cx="182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pplemen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ice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20600" y="3352680"/>
            <a:ext cx="143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20600" y="4267080"/>
            <a:ext cx="143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36800" y="5029200"/>
            <a:ext cx="14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P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28280" y="30034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isco CallManager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eature layer – handles all features that IP phones enable other than normal call oper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l Control layer – handles communications wi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eature layer using SSAP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dia layer using Au signa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gregator layer using Cc signa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a Control layer – provides media-related support for call connectivity between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or layer - uses Device layer to determine device regist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ice layer – controls the devices that are registered with CC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k layer – provides connectivity between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k Lay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 sockets are used to communicate across the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 libraries are used to implement the commun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ice Lay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all devices that register with C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3 protocols for device sup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GCP – used for gatew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CP – used for ph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.32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lay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.323 – provides capability for connecting H.323 devices to CC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initial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registr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ele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ther call-relate process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ice Layer (continued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ice layer entities (continu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ion interface – processes all call signaling between CCM and ph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vice registr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vice dele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ther call-related process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 – ISDN primary rate interface (23B+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sses all call signaling between CCM and PRI gatewa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to control, maintain and clear calls through the PST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GCP – Media Gateway Control Protoc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sses all call signaling between CCM and MGCP gatewa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ateway registr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ateway dele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ther external call-related process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09680" y="5867280"/>
            <a:ext cx="4496040" cy="7621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ice Layer Detai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2438280"/>
            <a:ext cx="41148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2971800"/>
            <a:ext cx="20574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4038480"/>
            <a:ext cx="41148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greg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8120" y="4572000"/>
            <a:ext cx="411480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tities – Skinny, PRI, MG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3505320"/>
            <a:ext cx="205740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dia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5105520"/>
            <a:ext cx="411480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41560" y="2622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2514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2590920"/>
            <a:ext cx="152640" cy="609480"/>
          </a:xfrm>
          <a:custGeom>
            <a:avLst/>
            <a:gdLst>
              <a:gd name="textAreaLeft" fmla="*/ 44640 w 152640"/>
              <a:gd name="textAreaRight" fmla="*/ 153000 w 152640"/>
              <a:gd name="textAreaTop" fmla="*/ 32400 h 609480"/>
              <a:gd name="textAreaBottom" fmla="*/ 577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153"/>
                  <a:pt x="0" y="2306"/>
                </a:cubicBezTo>
                <a:lnTo>
                  <a:pt x="0" y="19294"/>
                </a:lnTo>
                <a:cubicBezTo>
                  <a:pt x="0" y="20447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3200400"/>
            <a:ext cx="152640" cy="1066680"/>
          </a:xfrm>
          <a:custGeom>
            <a:avLst/>
            <a:gdLst>
              <a:gd name="textAreaLeft" fmla="*/ 44640 w 152640"/>
              <a:gd name="textAreaRight" fmla="*/ 153000 w 152640"/>
              <a:gd name="textAreaTop" fmla="*/ 87840 h 1066680"/>
              <a:gd name="textAreaBottom" fmla="*/ 97884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784"/>
                  <a:pt x="0" y="3568"/>
                </a:cubicBezTo>
                <a:lnTo>
                  <a:pt x="0" y="18032"/>
                </a:lnTo>
                <a:cubicBezTo>
                  <a:pt x="0" y="19816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4267080"/>
            <a:ext cx="152640" cy="609840"/>
          </a:xfrm>
          <a:custGeom>
            <a:avLst/>
            <a:gdLst>
              <a:gd name="textAreaLeft" fmla="*/ 44640 w 152640"/>
              <a:gd name="textAreaRight" fmla="*/ 153000 w 152640"/>
              <a:gd name="textAreaTop" fmla="*/ 32400 h 609840"/>
              <a:gd name="textAreaBottom" fmla="*/ 57744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153"/>
                  <a:pt x="0" y="2306"/>
                </a:cubicBezTo>
                <a:lnTo>
                  <a:pt x="0" y="19294"/>
                </a:lnTo>
                <a:cubicBezTo>
                  <a:pt x="0" y="20447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95480" y="4876920"/>
            <a:ext cx="152640" cy="609480"/>
          </a:xfrm>
          <a:custGeom>
            <a:avLst/>
            <a:gdLst>
              <a:gd name="textAreaLeft" fmla="*/ 44640 w 152640"/>
              <a:gd name="textAreaRight" fmla="*/ 153000 w 152640"/>
              <a:gd name="textAreaTop" fmla="*/ 32400 h 609480"/>
              <a:gd name="textAreaBottom" fmla="*/ 577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153"/>
                  <a:pt x="0" y="2306"/>
                </a:cubicBezTo>
                <a:lnTo>
                  <a:pt x="0" y="19294"/>
                </a:lnTo>
                <a:cubicBezTo>
                  <a:pt x="0" y="20447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15520" y="3124080"/>
            <a:ext cx="198000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88560" y="2546280"/>
            <a:ext cx="182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pplemen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ice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20600" y="3352680"/>
            <a:ext cx="143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20600" y="4267080"/>
            <a:ext cx="143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36800" y="5029200"/>
            <a:ext cx="14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P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28280" y="30034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594360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Layer controls all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at register with C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14:55:43Z</dcterms:created>
  <dc:creator>Richard W Young</dc:creator>
  <dc:description/>
  <dc:language>en-US</dc:language>
  <cp:lastModifiedBy>Richard W Young</cp:lastModifiedBy>
  <dcterms:modified xsi:type="dcterms:W3CDTF">2004-11-16T20:11:01Z</dcterms:modified>
  <cp:revision>6</cp:revision>
  <dc:subject/>
  <dc:title>Cisco Call Manager Architecture</dc:title>
</cp:coreProperties>
</file>