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3E1-645C-4074-80A8-F2F9265E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1B6-56AC-4D47-BCBA-890928BA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549-C97F-4511-864C-9E4410BC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4C9-912D-4952-9B75-94785701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745-DEA5-46E1-AC6C-336D8ECB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71E-D7E8-484A-8A7A-BE7FE89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B23-F460-4A34-95C0-826D009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EB0-D3C0-4934-9C18-907EE748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704-380F-4E65-94A4-303C1A3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F31-1D36-4BA4-A278-9EC377D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ED7-8B51-4315-B484-E98868F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EB4-2EE1-476D-A613-3CC8437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D583-FCBC-47D9-A250-6B835F66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usines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553080" y="2890800"/>
          <a:ext cx="241776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890800"/>
                    <a:ext cx="241776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04640" y="4189320"/>
            <a:ext cx="916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required for a system to react to a given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process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processing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tangular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ws times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ells = r x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xel (pel) = pictur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xel wordsize = number of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 size = 5in x 3in = 15 sq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er resolution = 300 dots per inch (d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t density = 90,000 dots/sq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olume = (dots/sq in) x (sq in) x (bits/dot) =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olume = 90,000 x 15 x 1 = 1,350,000 = 1.35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6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Rat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523880"/>
          <a:ext cx="777240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77240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- binary di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 value of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tz - cyc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 =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fix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lo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Kb, Kbps, KB,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 - kilobit (10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ps - kilobit per second (data rate, sp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 - kilo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z - kilohertz (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Mb, Mbps, MB,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g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b, Gbps, GB,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Tb, Tbps, TB, T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* 7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(a+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arithms:  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(0,1) x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size and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76520"/>
          <a:ext cx="77724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Sound/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- 3,000 Hz = 3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- 7,000 Hz = 7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fidelity - 15,000 Hz = 15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 of human 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- 20,000 Hz = 20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ital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sound is samp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- 8,000 samples per sec (smp/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litude - 8 bits = 256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 = 8000 smp/sec * 8 bits/smp = 64,000 bps or 64 K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ital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4,100 samples per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litude = 16 bits = 65,536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 = 44,100 x 16 x 2 = 1,411,200 bps = 1,411 Kbps = 1.4 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capacity = 600 MB = 5 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ing time = 5 Gb/1.4 Mbps = 3,566 seconds ~ 1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&amp; Numbers (dat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xt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CII (7 or 8 bits) = 128 or 256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CDIC (8 bits) = 256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 (16 bits) = 65,536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is ISO 106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e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ers - 16 or 32 bits (2 or 4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ating point - 32 or 64 bits (4 or 8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1:40:34Z</dcterms:created>
  <dc:creator>Robert S. Marshall</dc:creator>
  <dc:description/>
  <dc:language>en-US</dc:language>
  <cp:lastModifiedBy>NCR User</cp:lastModifiedBy>
  <cp:lastPrinted>1997-03-18T13:50:18Z</cp:lastPrinted>
  <dcterms:modified xsi:type="dcterms:W3CDTF">2001-02-19T16:31:14Z</dcterms:modified>
  <cp:revision>15</cp:revision>
  <dc:subject/>
  <dc:title>Measuring Data</dc:title>
</cp:coreProperties>
</file>