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97468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468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59072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1800" y="8745120"/>
            <a:ext cx="297468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745120"/>
            <a:ext cx="297468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C9BDCEF-2E06-4629-9CA0-5B1B891C53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27160" y="693720"/>
            <a:ext cx="4603680" cy="34495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72680" y="4373280"/>
            <a:ext cx="589932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ed network rather than a shared network allows for scal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witch added to the network actually increases bandwidth of the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rials in place in the US, and more extensively in Europe where ATM is used for the wide are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661-A5CA-47C9-9514-6183DCB1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26E-FA44-4EE1-A6AD-1640906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07C-8016-443A-A694-FCCBFEF9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A48-7867-434C-9860-D336D08B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CAC-BB66-4E8C-A6FA-BB7AD79A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119-1FBA-4D3E-8FF4-308119CA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F64-FB61-4E70-AB0E-79A3931D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382-5873-4206-8515-EB900934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395-D1F5-42D0-BEDF-36EC7EF2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1C6-7719-4D77-8241-1917A3B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BF1-7CFC-4D9E-89CC-6BD8D225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16F-2CFC-4A05-8BE1-D8E3413B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BCEF-9B15-47D3-8C9E-FA745A1DB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9320" y="6477120"/>
            <a:ext cx="9013680" cy="187200"/>
            <a:chOff x="49320" y="6477120"/>
            <a:chExt cx="9013680" cy="187200"/>
          </a:xfrm>
        </p:grpSpPr>
        <p:sp>
          <p:nvSpPr>
            <p:cNvPr id="4" name=""/>
            <p:cNvSpPr/>
            <p:nvPr/>
          </p:nvSpPr>
          <p:spPr>
            <a:xfrm>
              <a:off x="49320" y="6567480"/>
              <a:ext cx="9013680" cy="96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4080" y="6477120"/>
              <a:ext cx="8769240" cy="586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52280" y="152280"/>
            <a:ext cx="8872560" cy="181080"/>
            <a:chOff x="152280" y="152280"/>
            <a:chExt cx="8872560" cy="181080"/>
          </a:xfrm>
        </p:grpSpPr>
        <p:sp>
          <p:nvSpPr>
            <p:cNvPr id="7" name=""/>
            <p:cNvSpPr/>
            <p:nvPr/>
          </p:nvSpPr>
          <p:spPr>
            <a:xfrm>
              <a:off x="152280" y="152280"/>
              <a:ext cx="8872560" cy="84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17440" y="282600"/>
              <a:ext cx="8742240" cy="5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362800" y="6676920"/>
            <a:ext cx="76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fld id="{30E38FF9-1075-48EE-9CB1-C7B69808087E}" type="datetime"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image" Target="../media/image30.wmf"/><Relationship Id="rId19" Type="http://schemas.openxmlformats.org/officeDocument/2006/relationships/image" Target="../media/image31.wmf"/><Relationship Id="rId20" Type="http://schemas.openxmlformats.org/officeDocument/2006/relationships/image" Target="../media/image32.wmf"/><Relationship Id="rId21" Type="http://schemas.openxmlformats.org/officeDocument/2006/relationships/image" Target="../media/image33.wmf"/><Relationship Id="rId2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pn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8.wmf"/><Relationship Id="rId21" Type="http://schemas.openxmlformats.org/officeDocument/2006/relationships/image" Target="../media/image69.wmf"/><Relationship Id="rId2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synchronous Transfer Mod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1280" y="685800"/>
            <a:ext cx="17352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7086600" y="762120"/>
          <a:ext cx="1449360" cy="204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762120"/>
                    <a:ext cx="144936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5638680" y="3962520"/>
            <a:ext cx="2338200" cy="1804680"/>
            <a:chOff x="5638680" y="3962520"/>
            <a:chExt cx="2338200" cy="1804680"/>
          </a:xfrm>
        </p:grpSpPr>
        <p:sp>
          <p:nvSpPr>
            <p:cNvPr id="60" name=""/>
            <p:cNvSpPr/>
            <p:nvPr/>
          </p:nvSpPr>
          <p:spPr>
            <a:xfrm>
              <a:off x="7272720" y="5138640"/>
              <a:ext cx="420480" cy="38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212600" y="4290840"/>
              <a:ext cx="541440" cy="25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43240" y="4486680"/>
              <a:ext cx="420480" cy="19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002280" y="5072040"/>
              <a:ext cx="420480" cy="32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6122160" y="4353480"/>
              <a:ext cx="1470960" cy="93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5638680" y="4158000"/>
              <a:ext cx="4644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5698800" y="5200920"/>
              <a:ext cx="464760" cy="50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7512120" y="5266440"/>
              <a:ext cx="464760" cy="50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8"/>
            <a:stretch/>
          </p:blipFill>
          <p:spPr>
            <a:xfrm>
              <a:off x="7512120" y="3962520"/>
              <a:ext cx="46476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9"/>
            <a:stretch/>
          </p:blipFill>
          <p:spPr>
            <a:xfrm>
              <a:off x="6666120" y="4614480"/>
              <a:ext cx="393840" cy="46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838080" y="3886200"/>
            <a:ext cx="2130480" cy="1805040"/>
            <a:chOff x="838080" y="3886200"/>
            <a:chExt cx="2130480" cy="1805040"/>
          </a:xfrm>
        </p:grpSpPr>
        <p:sp>
          <p:nvSpPr>
            <p:cNvPr id="71" name=""/>
            <p:cNvSpPr/>
            <p:nvPr/>
          </p:nvSpPr>
          <p:spPr>
            <a:xfrm>
              <a:off x="2511360" y="4803840"/>
              <a:ext cx="0" cy="37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5560" y="4346640"/>
              <a:ext cx="0" cy="45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68360" y="4803840"/>
              <a:ext cx="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4800600"/>
              <a:ext cx="21304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1063440" y="5105520"/>
              <a:ext cx="58608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11"/>
            <a:stretch/>
          </p:blipFill>
          <p:spPr>
            <a:xfrm>
              <a:off x="2206440" y="5105520"/>
              <a:ext cx="58608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2"/>
            <a:stretch/>
          </p:blipFill>
          <p:spPr>
            <a:xfrm>
              <a:off x="1596960" y="3886200"/>
              <a:ext cx="58572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3"/>
            <a:stretch/>
          </p:blipFill>
          <p:spPr>
            <a:xfrm>
              <a:off x="1596960" y="4572000"/>
              <a:ext cx="49680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1358640" y="570564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7360" y="563868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ATM Eliminates Delay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ixed length cel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ariable length packe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60520" y="2603520"/>
            <a:ext cx="584280" cy="2030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98600" y="2603520"/>
            <a:ext cx="584280" cy="20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2603520"/>
            <a:ext cx="584280" cy="2030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22840" y="2603520"/>
            <a:ext cx="58392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2603520"/>
            <a:ext cx="584280" cy="2030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23040" y="2603520"/>
            <a:ext cx="58392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84800" y="2603520"/>
            <a:ext cx="58428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6920" y="2603520"/>
            <a:ext cx="584280" cy="20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09040" y="2603520"/>
            <a:ext cx="58392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800600"/>
            <a:ext cx="2108160" cy="2030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4800600"/>
            <a:ext cx="2641680" cy="2030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4800600"/>
            <a:ext cx="584280" cy="20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2496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1840" y="525780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3920" y="525780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92840" y="525780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6464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656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4076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6424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7c03"/>
                </a:solidFill>
                <a:latin typeface="Book Antiqua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0232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0212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4400" y="297180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78240" y="2948040"/>
            <a:ext cx="44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4800600"/>
            <a:ext cx="583920" cy="20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5226120"/>
            <a:ext cx="82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90080"/>
            <a:ext cx="76964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nd the OSI RM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440" y="1079640"/>
            <a:ext cx="1879560" cy="4241520"/>
          </a:xfrm>
          <a:prstGeom prst="rect">
            <a:avLst/>
          </a:prstGeom>
          <a:noFill/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0640" y="175248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0640" y="236232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0640" y="304812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0640" y="365760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0640" y="419112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0640" y="4724280"/>
            <a:ext cx="189396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960" y="1042920"/>
            <a:ext cx="176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Application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9960" y="1805040"/>
            <a:ext cx="176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Presentation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9960" y="2567160"/>
            <a:ext cx="176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Session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9960" y="3176640"/>
            <a:ext cx="176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Transpor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3786120"/>
            <a:ext cx="176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9960" y="4319640"/>
            <a:ext cx="176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Data Lin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960" y="4853160"/>
            <a:ext cx="176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Physical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78040" y="533412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02080" y="4495680"/>
            <a:ext cx="6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75320" y="2298600"/>
            <a:ext cx="2489040" cy="3022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22840" y="2414520"/>
            <a:ext cx="1158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7c03"/>
                </a:solidFill>
                <a:latin typeface="Book Antiqua"/>
              </a:rPr>
              <a:t>ATM Adapta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7c03"/>
                </a:solidFill>
                <a:latin typeface="Book Antiqua"/>
              </a:rPr>
              <a:t>(A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73880" y="3352680"/>
            <a:ext cx="250344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02480" y="2895480"/>
            <a:ext cx="2046240" cy="0"/>
          </a:xfrm>
          <a:prstGeom prst="line">
            <a:avLst/>
          </a:prstGeom>
          <a:ln w="25560">
            <a:solidFill>
              <a:srgbClr val="037c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73880" y="4419720"/>
            <a:ext cx="2503440" cy="0"/>
          </a:xfrm>
          <a:prstGeom prst="line">
            <a:avLst/>
          </a:prstGeom>
          <a:ln w="255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65840" y="2408400"/>
            <a:ext cx="1387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Convergence SubLay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9880" y="2941560"/>
            <a:ext cx="1387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Segmentation and Reassemb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46880" y="3481560"/>
            <a:ext cx="1158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7c03"/>
                </a:solidFill>
                <a:latin typeface="Book Antiqua"/>
              </a:rPr>
              <a:t>ATM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26160" y="3962520"/>
            <a:ext cx="2046240" cy="0"/>
          </a:xfrm>
          <a:prstGeom prst="line">
            <a:avLst/>
          </a:prstGeom>
          <a:ln w="25560">
            <a:solidFill>
              <a:srgbClr val="037c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89880" y="3475080"/>
            <a:ext cx="1387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VPI &amp; VCI Trans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89880" y="3932280"/>
            <a:ext cx="15397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Cell Header Generate/Extra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26160" y="4876920"/>
            <a:ext cx="2046240" cy="0"/>
          </a:xfrm>
          <a:prstGeom prst="line">
            <a:avLst/>
          </a:prstGeom>
          <a:ln w="25560">
            <a:solidFill>
              <a:srgbClr val="037c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99160" y="462456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7c03"/>
                </a:solidFill>
                <a:latin typeface="Book Antiqua"/>
              </a:rPr>
              <a:t>Physica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89880" y="4465800"/>
            <a:ext cx="1539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Transmission Converg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37240" y="4923000"/>
            <a:ext cx="154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37c03"/>
                </a:solidFill>
                <a:latin typeface="Book Antiqua"/>
              </a:rPr>
              <a:t>(Physical Medi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2286000"/>
            <a:ext cx="1055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82840" y="2292120"/>
            <a:ext cx="1131840" cy="21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Network Environmen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27200" y="1494000"/>
            <a:ext cx="7751520" cy="4806720"/>
            <a:chOff x="727200" y="1494000"/>
            <a:chExt cx="7751520" cy="4806720"/>
          </a:xfrm>
        </p:grpSpPr>
        <p:sp>
          <p:nvSpPr>
            <p:cNvPr id="210" name=""/>
            <p:cNvSpPr/>
            <p:nvPr/>
          </p:nvSpPr>
          <p:spPr>
            <a:xfrm>
              <a:off x="3432240" y="2165400"/>
              <a:ext cx="1622520" cy="13698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32240" y="4930920"/>
              <a:ext cx="1622520" cy="13698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30840" y="3855960"/>
              <a:ext cx="130680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30240" bIns="30240" anchor="t">
              <a:noAutofit/>
            </a:bodyPr>
            <a:p>
              <a:pPr marL="250920" indent="-250920">
                <a:lnSpc>
                  <a:spcPts val="1298"/>
                </a:lnSpc>
                <a:tabLst>
                  <a:tab algn="l" pos="0"/>
                  <a:tab algn="l" pos="503280"/>
                  <a:tab algn="l" pos="1006560"/>
                  <a:tab algn="l" pos="15080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br>
                <a:rPr sz="1500"/>
              </a:br>
              <a:br>
                <a:rPr sz="1100"/>
              </a:br>
              <a:br>
                <a:rPr sz="1100"/>
              </a:br>
              <a:br>
                <a:rPr sz="1100"/>
              </a:b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50920" indent="-250920">
                <a:lnSpc>
                  <a:spcPts val="1100"/>
                </a:lnSpc>
                <a:tabLst>
                  <a:tab algn="l" pos="0"/>
                  <a:tab algn="l" pos="503280"/>
                  <a:tab algn="l" pos="1006560"/>
                  <a:tab algn="l" pos="15080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85000" y="3265560"/>
              <a:ext cx="2265120" cy="2305080"/>
              <a:chOff x="5985000" y="3265560"/>
              <a:chExt cx="2265120" cy="230508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5992920" y="3321000"/>
                <a:ext cx="2257200" cy="2249640"/>
                <a:chOff x="5992920" y="3321000"/>
                <a:chExt cx="2257200" cy="22496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73760" y="3321000"/>
                  <a:ext cx="965160" cy="900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227640" y="3546360"/>
                  <a:ext cx="725760" cy="93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92920" y="4124160"/>
                  <a:ext cx="485640" cy="727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141960" y="4495680"/>
                  <a:ext cx="746280" cy="787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688080" y="4613400"/>
                  <a:ext cx="1133640" cy="957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24640" y="3578400"/>
                  <a:ext cx="708120" cy="703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40560" y="4065480"/>
                  <a:ext cx="709560" cy="701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70720" y="4240080"/>
                  <a:ext cx="693720" cy="1157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99360" y="3868560"/>
                  <a:ext cx="1460520" cy="1186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985000" y="3265560"/>
                <a:ext cx="2243160" cy="2274840"/>
                <a:chOff x="5985000" y="3265560"/>
                <a:chExt cx="2243160" cy="2274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769080" y="3265560"/>
                  <a:ext cx="946080" cy="9046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221520" y="3522600"/>
                  <a:ext cx="726840" cy="9032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85000" y="4097160"/>
                  <a:ext cx="485640" cy="7290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137280" y="4441680"/>
                  <a:ext cx="743040" cy="7844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681960" y="4581360"/>
                  <a:ext cx="1122120" cy="9590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13480" y="3551400"/>
                  <a:ext cx="709920" cy="701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518240" y="4038480"/>
                  <a:ext cx="709920" cy="701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50200" y="4184640"/>
                  <a:ext cx="709560" cy="1187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94320" y="3807000"/>
                  <a:ext cx="1457280" cy="11887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6861240" y="3736800"/>
              <a:ext cx="0" cy="118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72400" y="3830760"/>
              <a:ext cx="969840" cy="449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953040" y="4290840"/>
              <a:ext cx="888840" cy="633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7650000" y="4010040"/>
              <a:ext cx="45108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727200" y="2889360"/>
              <a:ext cx="166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203480" y="3192480"/>
              <a:ext cx="188640" cy="704880"/>
            </a:xfrm>
            <a:custGeom>
              <a:avLst/>
              <a:gdLst/>
              <a:ahLst/>
              <a:rect l="l" t="t" r="r" b="b"/>
              <a:pathLst>
                <a:path w="119" h="444">
                  <a:moveTo>
                    <a:pt x="0" y="443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00320" y="3406680"/>
              <a:ext cx="150480" cy="505080"/>
            </a:xfrm>
            <a:custGeom>
              <a:avLst/>
              <a:gdLst/>
              <a:ahLst/>
              <a:rect l="l" t="t" r="r" b="b"/>
              <a:pathLst>
                <a:path w="95" h="318">
                  <a:moveTo>
                    <a:pt x="0" y="317"/>
                  </a:move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1258920" y="3095640"/>
              <a:ext cx="4446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382760" y="3306600"/>
              <a:ext cx="444600" cy="2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flipH="1">
              <a:off x="1339920" y="3827520"/>
              <a:ext cx="234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1474920" y="3703680"/>
              <a:ext cx="44280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flipH="1" flipV="1">
              <a:off x="1008000" y="4662000"/>
              <a:ext cx="447840" cy="16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014120" y="4842000"/>
              <a:ext cx="447480" cy="185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851040" y="4572000"/>
              <a:ext cx="44424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811080" y="4875120"/>
              <a:ext cx="44316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flipH="1">
              <a:off x="1422360" y="4475160"/>
              <a:ext cx="449280" cy="274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11120" y="3830760"/>
              <a:ext cx="560520" cy="63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71640" y="4475160"/>
              <a:ext cx="0" cy="449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1692360" y="4775040"/>
              <a:ext cx="4442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1119240" y="3665520"/>
              <a:ext cx="33660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1282680" y="4486320"/>
              <a:ext cx="3380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flipH="1" flipV="1">
              <a:off x="1958760" y="4470120"/>
              <a:ext cx="2197080" cy="817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40120" y="5397120"/>
              <a:ext cx="365040" cy="351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1"/>
            <a:stretch/>
          </p:blipFill>
          <p:spPr>
            <a:xfrm>
              <a:off x="3713040" y="5695920"/>
              <a:ext cx="4050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 flipH="1" flipV="1">
              <a:off x="4289040" y="5397120"/>
              <a:ext cx="276120" cy="351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289400" y="2623680"/>
              <a:ext cx="355680" cy="45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3840120" y="2719440"/>
              <a:ext cx="365040" cy="35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2"/>
            <a:stretch/>
          </p:blipFill>
          <p:spPr>
            <a:xfrm>
              <a:off x="3713040" y="2558880"/>
              <a:ext cx="405000" cy="3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>
              <a:off x="1882440" y="3184560"/>
              <a:ext cx="2360520" cy="127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13"/>
            <a:stretch/>
          </p:blipFill>
          <p:spPr>
            <a:xfrm>
              <a:off x="1708200" y="4162320"/>
              <a:ext cx="41760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flipH="1">
              <a:off x="4336560" y="4935600"/>
              <a:ext cx="2441880" cy="35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4247640" y="3271680"/>
              <a:ext cx="2606760" cy="633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4"/>
            <a:stretch/>
          </p:blipFill>
          <p:spPr>
            <a:xfrm>
              <a:off x="6669000" y="4686480"/>
              <a:ext cx="45108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5"/>
            <a:stretch/>
          </p:blipFill>
          <p:spPr>
            <a:xfrm>
              <a:off x="6645240" y="3670200"/>
              <a:ext cx="45072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6"/>
            <a:stretch/>
          </p:blipFill>
          <p:spPr>
            <a:xfrm>
              <a:off x="4519440" y="2543040"/>
              <a:ext cx="346320" cy="4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flipV="1">
              <a:off x="4281480" y="2461680"/>
              <a:ext cx="0" cy="614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17"/>
            <a:stretch/>
          </p:blipFill>
          <p:spPr>
            <a:xfrm>
              <a:off x="4084560" y="2971800"/>
              <a:ext cx="45252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8"/>
            <a:stretch/>
          </p:blipFill>
          <p:spPr>
            <a:xfrm>
              <a:off x="4145040" y="2435400"/>
              <a:ext cx="338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9"/>
            <a:stretch/>
          </p:blipFill>
          <p:spPr>
            <a:xfrm>
              <a:off x="4519440" y="5413320"/>
              <a:ext cx="34632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flipV="1">
              <a:off x="4281480" y="5319720"/>
              <a:ext cx="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0"/>
            <a:stretch/>
          </p:blipFill>
          <p:spPr>
            <a:xfrm>
              <a:off x="4145040" y="5541840"/>
              <a:ext cx="338040" cy="3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1"/>
            <a:stretch/>
          </p:blipFill>
          <p:spPr>
            <a:xfrm>
              <a:off x="4084560" y="5092560"/>
              <a:ext cx="452520" cy="4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"/>
            <p:cNvGrpSpPr/>
            <p:nvPr/>
          </p:nvGrpSpPr>
          <p:grpSpPr>
            <a:xfrm>
              <a:off x="755640" y="1494000"/>
              <a:ext cx="7723080" cy="718920"/>
              <a:chOff x="755640" y="1494000"/>
              <a:chExt cx="7723080" cy="718920"/>
            </a:xfrm>
          </p:grpSpPr>
          <p:sp>
            <p:nvSpPr>
              <p:cNvPr id="277" name=""/>
              <p:cNvSpPr/>
              <p:nvPr/>
            </p:nvSpPr>
            <p:spPr>
              <a:xfrm>
                <a:off x="6245280" y="1494000"/>
                <a:ext cx="20635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0520" rIns="20520" tIns="30240" bIns="3024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503280"/>
                    <a:tab algn="l" pos="1006560"/>
                    <a:tab algn="l" pos="15080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rvice Provi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29120" y="1494000"/>
                <a:ext cx="20653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0520" rIns="20520" tIns="30240" bIns="3024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503280"/>
                    <a:tab algn="l" pos="1006560"/>
                    <a:tab algn="l" pos="15080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nterprise W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54160" y="1494000"/>
                <a:ext cx="68400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0520" rIns="20520" tIns="30240" bIns="3024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503280"/>
                    <a:tab algn="l" pos="1006560"/>
                    <a:tab algn="l" pos="15080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amp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2246400" y="171612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075360" y="171612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57560" y="1963800"/>
                <a:ext cx="3817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86520" y="1963800"/>
                <a:ext cx="239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5640" y="1963800"/>
                <a:ext cx="149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449440" y="492588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N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53400" y="5180040"/>
              <a:ext cx="132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c U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17200" y="3176640"/>
              <a:ext cx="132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c U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2440" y="348156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N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Conne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185400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48320" y="2514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1854000" cy="1549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581280" y="4876920"/>
            <a:ext cx="1854360" cy="1549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533520" y="4952880"/>
            <a:ext cx="1854000" cy="154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09880" y="3048120"/>
            <a:ext cx="1219320" cy="1828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9680" y="5181480"/>
            <a:ext cx="1371600" cy="990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5181480"/>
            <a:ext cx="16002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752480" y="2514600"/>
            <a:ext cx="2362320" cy="3048120"/>
            <a:chOff x="1752480" y="2514600"/>
            <a:chExt cx="2362320" cy="3048120"/>
          </a:xfrm>
        </p:grpSpPr>
        <p:sp>
          <p:nvSpPr>
            <p:cNvPr id="299" name=""/>
            <p:cNvSpPr/>
            <p:nvPr/>
          </p:nvSpPr>
          <p:spPr>
            <a:xfrm>
              <a:off x="1752480" y="5334120"/>
              <a:ext cx="213372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86200" y="2514600"/>
              <a:ext cx="228600" cy="3048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48320" y="2514600"/>
            <a:ext cx="2666880" cy="3048120"/>
            <a:chOff x="4648320" y="2514600"/>
            <a:chExt cx="2666880" cy="3048120"/>
          </a:xfrm>
        </p:grpSpPr>
        <p:sp>
          <p:nvSpPr>
            <p:cNvPr id="302" name=""/>
            <p:cNvSpPr/>
            <p:nvPr/>
          </p:nvSpPr>
          <p:spPr>
            <a:xfrm flipH="1">
              <a:off x="4906800" y="5334120"/>
              <a:ext cx="24084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648320" y="2514600"/>
              <a:ext cx="258480" cy="3048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828800" y="5791320"/>
            <a:ext cx="556272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8400" y="5486400"/>
            <a:ext cx="3340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37240" y="5486400"/>
            <a:ext cx="356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689120"/>
            <a:ext cx="0" cy="379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1689120"/>
            <a:ext cx="0" cy="379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8400" y="5943600"/>
            <a:ext cx="7531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7520" y="548640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1200" y="5943600"/>
            <a:ext cx="4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42200" y="5943600"/>
            <a:ext cx="67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42200" y="5486400"/>
            <a:ext cx="67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37040" y="1676520"/>
            <a:ext cx="90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37240" y="1676520"/>
            <a:ext cx="90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3920" y="144792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21360" y="146196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1080" y="510552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1080" y="586728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492040" y="510552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492040" y="5867280"/>
            <a:ext cx="65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813200" y="3657600"/>
            <a:ext cx="11304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6560" y="3429000"/>
            <a:ext cx="62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08440" y="3657600"/>
            <a:ext cx="10540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1600" y="3429000"/>
            <a:ext cx="62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822840"/>
            <a:ext cx="0" cy="15872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3822840"/>
            <a:ext cx="0" cy="15872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27560" y="6338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3898800"/>
            <a:ext cx="0" cy="1511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21920" y="6338880"/>
            <a:ext cx="62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654440" y="5873760"/>
            <a:ext cx="1054080" cy="673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901960" y="5873760"/>
            <a:ext cx="1130400" cy="596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32320" y="3276720"/>
            <a:ext cx="2273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78800" y="3048120"/>
            <a:ext cx="1655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413400" y="3746520"/>
            <a:ext cx="596880" cy="196848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3840" y="1765440"/>
            <a:ext cx="38091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3"/>
                </a:moveTo>
                <a:arcTo wR="10800" hR="10800" stAng="-10772149" swAng="5366419"/>
                <a:lnTo>
                  <a:pt x="10800" y="10800"/>
                </a:lnTo>
                <a:close/>
              </a:path>
              <a:path fill="none" w="21600" h="21600">
                <a:moveTo>
                  <a:pt x="0" y="10713"/>
                </a:moveTo>
                <a:arcTo wR="10800" hR="10800" stAng="-10772149" swAng="5366419"/>
              </a:path>
            </a:pathLst>
          </a:custGeom>
          <a:noFill/>
          <a:ln cap="rnd"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4127400"/>
            <a:ext cx="0" cy="9781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240" y="3059280"/>
            <a:ext cx="777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V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P and VC Characteristic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quality of servi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switched and semipermenant conn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cell sequencing integrit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traffic parameter negoti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mits usage monitor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restricted channels (VP only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Virtual Path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tains a bundle of virtual channe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a simplified architectur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creases performance and reliabilit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duces processing and connection tim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hances servic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Virtual Channel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user to user conn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PVCs or SVC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lows variable data rat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s fixed cell size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full duplex connec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user to network signal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network to network signal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etwork managemen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ser message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irtual Conne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manent Virtual Circuit (PVC)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Dedicated physical lines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onnectivity is statically configured in the switches and endstations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witched Virtual Circuit (SVC)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reated dynamically for each transmission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Similar to a voice telephone network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ermanent Virtual Conne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58320" y="4571640"/>
            <a:ext cx="77281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nual configur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nections active for long periods of tim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PI/VCI tables required in all loca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811760" y="3059280"/>
            <a:ext cx="293760" cy="1284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59080" y="1916280"/>
            <a:ext cx="6161040" cy="143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22400" y="1509840"/>
          <a:ext cx="63828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509840"/>
                    <a:ext cx="6382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965240" y="3878280"/>
            <a:ext cx="2797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7543800" y="2995560"/>
          <a:ext cx="63828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99556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2286000" y="1752480"/>
            <a:ext cx="1905120" cy="876600"/>
            <a:chOff x="2286000" y="1752480"/>
            <a:chExt cx="1905120" cy="876600"/>
          </a:xfrm>
        </p:grpSpPr>
        <p:graphicFrame>
          <p:nvGraphicFramePr>
            <p:cNvPr id="357" name=""/>
            <p:cNvGraphicFramePr/>
            <p:nvPr/>
          </p:nvGraphicFramePr>
          <p:xfrm>
            <a:off x="2286000" y="1776240"/>
            <a:ext cx="1905120" cy="85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1776240"/>
                      <a:ext cx="1905120" cy="8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"/>
            <p:cNvSpPr/>
            <p:nvPr/>
          </p:nvSpPr>
          <p:spPr>
            <a:xfrm>
              <a:off x="2682720" y="175248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0" name=""/>
          <p:cNvGraphicFramePr/>
          <p:nvPr/>
        </p:nvGraphicFramePr>
        <p:xfrm>
          <a:off x="4375080" y="3948120"/>
          <a:ext cx="638280" cy="57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75080" y="394812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2" name=""/>
          <p:cNvGrpSpPr/>
          <p:nvPr/>
        </p:nvGrpSpPr>
        <p:grpSpPr>
          <a:xfrm>
            <a:off x="4896000" y="2324160"/>
            <a:ext cx="1904760" cy="876240"/>
            <a:chOff x="4896000" y="2324160"/>
            <a:chExt cx="1904760" cy="876240"/>
          </a:xfrm>
        </p:grpSpPr>
        <p:graphicFrame>
          <p:nvGraphicFramePr>
            <p:cNvPr id="363" name=""/>
            <p:cNvGraphicFramePr/>
            <p:nvPr/>
          </p:nvGraphicFramePr>
          <p:xfrm>
            <a:off x="4896000" y="2347920"/>
            <a:ext cx="1904760" cy="852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96000" y="2347920"/>
                      <a:ext cx="190476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" name=""/>
            <p:cNvSpPr/>
            <p:nvPr/>
          </p:nvSpPr>
          <p:spPr>
            <a:xfrm>
              <a:off x="5292720" y="232416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363680" y="2106720"/>
            <a:ext cx="2427120" cy="1798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44760" y="2620800"/>
            <a:ext cx="789120" cy="1151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187960" y="3130200"/>
            <a:ext cx="465120" cy="73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492880" y="3587760"/>
            <a:ext cx="2217600" cy="598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4080" y="2468520"/>
            <a:ext cx="117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27280" y="2697120"/>
            <a:ext cx="117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22840" y="3192480"/>
            <a:ext cx="117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9840" y="3840120"/>
            <a:ext cx="117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witched Virtual Conne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58320" y="3580920"/>
            <a:ext cx="77281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PI/VCI = 0/5, Switch and terminal exchange signaling messages on this chann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PI/VCI = 0/16, Interim Local Management Interfa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PI/VCIs:  0/0-31 are reserved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94520" y="1859040"/>
            <a:ext cx="2568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ing Chann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I/VCI = 0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54400" y="2819520"/>
            <a:ext cx="574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41400" y="2443320"/>
          <a:ext cx="63828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2443320"/>
                    <a:ext cx="6382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7639200" y="2500200"/>
          <a:ext cx="63792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9200" y="2500200"/>
                    <a:ext cx="637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2" name=""/>
          <p:cNvGrpSpPr/>
          <p:nvPr/>
        </p:nvGrpSpPr>
        <p:grpSpPr>
          <a:xfrm>
            <a:off x="3962520" y="2381400"/>
            <a:ext cx="1904760" cy="876240"/>
            <a:chOff x="3962520" y="2381400"/>
            <a:chExt cx="1904760" cy="876240"/>
          </a:xfrm>
        </p:grpSpPr>
        <p:graphicFrame>
          <p:nvGraphicFramePr>
            <p:cNvPr id="383" name=""/>
            <p:cNvGraphicFramePr/>
            <p:nvPr/>
          </p:nvGraphicFramePr>
          <p:xfrm>
            <a:off x="3962520" y="2405160"/>
            <a:ext cx="1904760" cy="8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62520" y="2405160"/>
                      <a:ext cx="190476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4359240" y="238140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146240" y="1782720"/>
            <a:ext cx="2511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ing Chann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I/VCI = 0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49440" y="2590920"/>
            <a:ext cx="1284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106680" y="2590920"/>
            <a:ext cx="1436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ircuit Switch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ndwidth allocated in fixed, inflexible incremen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pplications get only fixed allocation of bandwidth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ngestion Control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andwidth Shar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low call establish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uaranteed throughpu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Network Interfac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362560" y="2379600"/>
            <a:ext cx="2836800" cy="1679760"/>
            <a:chOff x="5362560" y="2379600"/>
            <a:chExt cx="2836800" cy="1679760"/>
          </a:xfrm>
        </p:grpSpPr>
        <p:sp>
          <p:nvSpPr>
            <p:cNvPr id="391" name=""/>
            <p:cNvSpPr/>
            <p:nvPr/>
          </p:nvSpPr>
          <p:spPr>
            <a:xfrm>
              <a:off x="6348240" y="2379600"/>
              <a:ext cx="1208160" cy="673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62440" y="2552760"/>
              <a:ext cx="908280" cy="69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62560" y="2979720"/>
              <a:ext cx="609480" cy="542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56240" y="3257640"/>
              <a:ext cx="928800" cy="587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42040" y="3343320"/>
              <a:ext cx="1420920" cy="716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2920" y="2571840"/>
              <a:ext cx="885600" cy="52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1960" y="2935440"/>
              <a:ext cx="887400" cy="52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26280" y="3063960"/>
              <a:ext cx="865080" cy="86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77000" y="2787480"/>
              <a:ext cx="1828800" cy="88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319720" y="2314440"/>
            <a:ext cx="2814480" cy="1700280"/>
            <a:chOff x="5319720" y="2314440"/>
            <a:chExt cx="2814480" cy="1700280"/>
          </a:xfrm>
        </p:grpSpPr>
        <p:sp>
          <p:nvSpPr>
            <p:cNvPr id="401" name=""/>
            <p:cNvSpPr/>
            <p:nvPr/>
          </p:nvSpPr>
          <p:spPr>
            <a:xfrm>
              <a:off x="6305400" y="2314440"/>
              <a:ext cx="1185840" cy="67500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19600" y="2508120"/>
              <a:ext cx="908280" cy="67320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19720" y="2935440"/>
              <a:ext cx="609480" cy="54612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13400" y="3193920"/>
              <a:ext cx="928800" cy="58428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99200" y="3298680"/>
              <a:ext cx="1400040" cy="71604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20080" y="2530440"/>
              <a:ext cx="885600" cy="52236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48600" y="2894040"/>
              <a:ext cx="885600" cy="52236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2920" y="3000240"/>
              <a:ext cx="885600" cy="88596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34160" y="2724120"/>
              <a:ext cx="1828800" cy="88596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095480" y="2143080"/>
            <a:ext cx="3135240" cy="2262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 flipH="1">
            <a:off x="1306440" y="3305160"/>
            <a:ext cx="617760" cy="1343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38600" y="3456000"/>
            <a:ext cx="0" cy="1208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25720" y="3456000"/>
            <a:ext cx="903240" cy="1208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812880" y="4483080"/>
            <a:ext cx="963360" cy="7048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81560" y="1868400"/>
            <a:ext cx="2211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ivate ATM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4960" y="311616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01760" y="3087720"/>
            <a:ext cx="547920" cy="30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631960" y="2981160"/>
            <a:ext cx="67788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 flipH="1">
            <a:off x="2722320" y="4371840"/>
            <a:ext cx="204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421080" y="4181400"/>
            <a:ext cx="192240" cy="10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1473120" y="4074840"/>
            <a:ext cx="217440" cy="65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127320"/>
            <a:ext cx="11592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6520" y="5100480"/>
            <a:ext cx="9288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39560" y="422280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39680" y="400212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95200" y="3500280"/>
            <a:ext cx="61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P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56800" y="389556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37440" y="3456000"/>
            <a:ext cx="0" cy="1208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6769080" y="4500720"/>
            <a:ext cx="963720" cy="7045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866560" y="1944720"/>
            <a:ext cx="2143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ublic ATM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73520" y="3322800"/>
            <a:ext cx="49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84960" y="3087720"/>
            <a:ext cx="792000" cy="30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6993000" y="2981160"/>
            <a:ext cx="677880" cy="739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 flipH="1">
            <a:off x="7133760" y="4259160"/>
            <a:ext cx="204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676920" y="3114720"/>
            <a:ext cx="11592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20360" y="4106880"/>
            <a:ext cx="1076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04200" y="313992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265120" y="2921040"/>
            <a:ext cx="3701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1716120" y="2752560"/>
            <a:ext cx="679320" cy="7398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824440" y="2752560"/>
            <a:ext cx="67788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613400" y="2828880"/>
            <a:ext cx="0" cy="203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70880" y="2314440"/>
            <a:ext cx="1076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U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00240" y="293220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19720" y="295596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590920" y="4648320"/>
            <a:ext cx="687240" cy="915840"/>
            <a:chOff x="2590920" y="4648320"/>
            <a:chExt cx="687240" cy="915840"/>
          </a:xfrm>
        </p:grpSpPr>
        <p:sp>
          <p:nvSpPr>
            <p:cNvPr id="446" name=""/>
            <p:cNvSpPr/>
            <p:nvPr/>
          </p:nvSpPr>
          <p:spPr>
            <a:xfrm>
              <a:off x="3114720" y="4648320"/>
              <a:ext cx="158760" cy="884160"/>
            </a:xfrm>
            <a:custGeom>
              <a:avLst/>
              <a:gdLst/>
              <a:ahLst/>
              <a:rect l="l" t="t" r="r" b="b"/>
              <a:pathLst>
                <a:path w="100" h="557">
                  <a:moveTo>
                    <a:pt x="0" y="556"/>
                  </a:moveTo>
                  <a:lnTo>
                    <a:pt x="0" y="37"/>
                  </a:lnTo>
                  <a:lnTo>
                    <a:pt x="99" y="0"/>
                  </a:lnTo>
                  <a:lnTo>
                    <a:pt x="99" y="414"/>
                  </a:lnTo>
                  <a:lnTo>
                    <a:pt x="0" y="556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90920" y="4648320"/>
              <a:ext cx="687240" cy="58680"/>
            </a:xfrm>
            <a:custGeom>
              <a:avLst/>
              <a:gdLst/>
              <a:ahLst/>
              <a:rect l="l" t="t" r="r" b="b"/>
              <a:pathLst>
                <a:path w="433" h="37">
                  <a:moveTo>
                    <a:pt x="340" y="36"/>
                  </a:moveTo>
                  <a:lnTo>
                    <a:pt x="0" y="36"/>
                  </a:lnTo>
                  <a:lnTo>
                    <a:pt x="94" y="0"/>
                  </a:lnTo>
                  <a:lnTo>
                    <a:pt x="432" y="0"/>
                  </a:lnTo>
                  <a:lnTo>
                    <a:pt x="340" y="3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590920" y="4707000"/>
              <a:ext cx="525240" cy="825480"/>
              <a:chOff x="2590920" y="4707000"/>
              <a:chExt cx="525240" cy="825480"/>
            </a:xfrm>
          </p:grpSpPr>
          <p:sp>
            <p:nvSpPr>
              <p:cNvPr id="449" name=""/>
              <p:cNvSpPr/>
              <p:nvPr/>
            </p:nvSpPr>
            <p:spPr>
              <a:xfrm>
                <a:off x="2590920" y="4707000"/>
                <a:ext cx="520560" cy="815760"/>
              </a:xfrm>
              <a:custGeom>
                <a:avLst/>
                <a:gdLst/>
                <a:ahLst/>
                <a:rect l="l" t="t" r="r" b="b"/>
                <a:pathLst>
                  <a:path w="328" h="514">
                    <a:moveTo>
                      <a:pt x="327" y="0"/>
                    </a:moveTo>
                    <a:lnTo>
                      <a:pt x="0" y="0"/>
                    </a:lnTo>
                    <a:lnTo>
                      <a:pt x="0" y="513"/>
                    </a:lnTo>
                    <a:lnTo>
                      <a:pt x="327" y="513"/>
                    </a:lnTo>
                    <a:lnTo>
                      <a:pt x="327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90920" y="4707000"/>
                <a:ext cx="525240" cy="825480"/>
              </a:xfrm>
              <a:custGeom>
                <a:avLst/>
                <a:gdLst/>
                <a:ahLst/>
                <a:rect l="l" t="t" r="r" b="b"/>
                <a:pathLst>
                  <a:path w="331" h="520">
                    <a:moveTo>
                      <a:pt x="330" y="0"/>
                    </a:moveTo>
                    <a:lnTo>
                      <a:pt x="0" y="0"/>
                    </a:lnTo>
                    <a:lnTo>
                      <a:pt x="0" y="519"/>
                    </a:lnTo>
                    <a:lnTo>
                      <a:pt x="330" y="519"/>
                    </a:lnTo>
                    <a:lnTo>
                      <a:pt x="33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2590920" y="4648320"/>
              <a:ext cx="682560" cy="60120"/>
            </a:xfrm>
            <a:custGeom>
              <a:avLst/>
              <a:gdLst/>
              <a:ahLst/>
              <a:rect l="l" t="t" r="r" b="b"/>
              <a:pathLst>
                <a:path w="430" h="38">
                  <a:moveTo>
                    <a:pt x="337" y="37"/>
                  </a:moveTo>
                  <a:lnTo>
                    <a:pt x="0" y="37"/>
                  </a:lnTo>
                  <a:lnTo>
                    <a:pt x="94" y="0"/>
                  </a:lnTo>
                  <a:lnTo>
                    <a:pt x="429" y="0"/>
                  </a:lnTo>
                  <a:lnTo>
                    <a:pt x="337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97040" y="4713120"/>
              <a:ext cx="511200" cy="8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97040" y="4875120"/>
              <a:ext cx="406440" cy="600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06840" y="473076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21120" y="4713120"/>
              <a:ext cx="91800" cy="8035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25800" y="5035680"/>
              <a:ext cx="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666880" y="4748040"/>
              <a:ext cx="293760" cy="66600"/>
              <a:chOff x="2666880" y="4748040"/>
              <a:chExt cx="293760" cy="66600"/>
            </a:xfrm>
          </p:grpSpPr>
          <p:sp>
            <p:nvSpPr>
              <p:cNvPr id="458" name=""/>
              <p:cNvSpPr/>
              <p:nvPr/>
            </p:nvSpPr>
            <p:spPr>
              <a:xfrm>
                <a:off x="2671560" y="4748040"/>
                <a:ext cx="289080" cy="6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1" y="1"/>
                    </a:moveTo>
                    <a:arcTo wR="10800" hR="10800" stAng="-5437776" swAng="5272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1" y="1"/>
                    </a:moveTo>
                    <a:arcTo wR="10800" hR="10800" stAng="-5437776" swAng="527238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66880" y="4748040"/>
                <a:ext cx="289440" cy="6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5" y="7208"/>
                    </a:moveTo>
                    <a:arcTo wR="10800" hR="10800" stAng="-9634295" swAng="4196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5" y="7208"/>
                    </a:moveTo>
                    <a:arcTo wR="10800" hR="10800" stAng="-9634295" swAng="4196519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2606400" y="4767120"/>
              <a:ext cx="507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954160" y="4767120"/>
              <a:ext cx="6048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2737800" y="4767120"/>
              <a:ext cx="57240" cy="43920"/>
              <a:chOff x="2737800" y="4767120"/>
              <a:chExt cx="57240" cy="43920"/>
            </a:xfrm>
          </p:grpSpPr>
          <p:sp>
            <p:nvSpPr>
              <p:cNvPr id="463" name=""/>
              <p:cNvSpPr/>
              <p:nvPr/>
            </p:nvSpPr>
            <p:spPr>
              <a:xfrm>
                <a:off x="2737800" y="476712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57960" y="476712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114720" y="4648320"/>
              <a:ext cx="158760" cy="879480"/>
            </a:xfrm>
            <a:custGeom>
              <a:avLst/>
              <a:gdLst/>
              <a:ahLst/>
              <a:rect l="l" t="t" r="r" b="b"/>
              <a:pathLst>
                <a:path w="100" h="554">
                  <a:moveTo>
                    <a:pt x="0" y="553"/>
                  </a:moveTo>
                  <a:lnTo>
                    <a:pt x="0" y="37"/>
                  </a:lnTo>
                  <a:lnTo>
                    <a:pt x="99" y="0"/>
                  </a:lnTo>
                  <a:lnTo>
                    <a:pt x="99" y="411"/>
                  </a:lnTo>
                  <a:lnTo>
                    <a:pt x="0" y="5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19360" y="5521320"/>
              <a:ext cx="496800" cy="42840"/>
            </a:xfrm>
            <a:custGeom>
              <a:avLst/>
              <a:gdLst/>
              <a:ahLst/>
              <a:rect l="l" t="t" r="r" b="b"/>
              <a:pathLst>
                <a:path w="313" h="27">
                  <a:moveTo>
                    <a:pt x="0" y="0"/>
                  </a:moveTo>
                  <a:lnTo>
                    <a:pt x="312" y="0"/>
                  </a:lnTo>
                  <a:lnTo>
                    <a:pt x="312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4720" y="5303880"/>
              <a:ext cx="158760" cy="24120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0" y="137"/>
                  </a:moveTo>
                  <a:lnTo>
                    <a:pt x="99" y="0"/>
                  </a:lnTo>
                  <a:lnTo>
                    <a:pt x="99" y="6"/>
                  </a:lnTo>
                  <a:lnTo>
                    <a:pt x="0" y="151"/>
                  </a:lnTo>
                  <a:lnTo>
                    <a:pt x="0" y="137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657600" y="4419720"/>
            <a:ext cx="687240" cy="915840"/>
            <a:chOff x="3657600" y="4419720"/>
            <a:chExt cx="687240" cy="915840"/>
          </a:xfrm>
        </p:grpSpPr>
        <p:sp>
          <p:nvSpPr>
            <p:cNvPr id="469" name=""/>
            <p:cNvSpPr/>
            <p:nvPr/>
          </p:nvSpPr>
          <p:spPr>
            <a:xfrm>
              <a:off x="4181400" y="4419720"/>
              <a:ext cx="158760" cy="884160"/>
            </a:xfrm>
            <a:custGeom>
              <a:avLst/>
              <a:gdLst/>
              <a:ahLst/>
              <a:rect l="l" t="t" r="r" b="b"/>
              <a:pathLst>
                <a:path w="100" h="557">
                  <a:moveTo>
                    <a:pt x="0" y="556"/>
                  </a:moveTo>
                  <a:lnTo>
                    <a:pt x="0" y="37"/>
                  </a:lnTo>
                  <a:lnTo>
                    <a:pt x="99" y="0"/>
                  </a:lnTo>
                  <a:lnTo>
                    <a:pt x="99" y="414"/>
                  </a:lnTo>
                  <a:lnTo>
                    <a:pt x="0" y="556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600" y="4419720"/>
              <a:ext cx="687240" cy="58680"/>
            </a:xfrm>
            <a:custGeom>
              <a:avLst/>
              <a:gdLst/>
              <a:ahLst/>
              <a:rect l="l" t="t" r="r" b="b"/>
              <a:pathLst>
                <a:path w="433" h="37">
                  <a:moveTo>
                    <a:pt x="340" y="36"/>
                  </a:moveTo>
                  <a:lnTo>
                    <a:pt x="0" y="36"/>
                  </a:lnTo>
                  <a:lnTo>
                    <a:pt x="94" y="0"/>
                  </a:lnTo>
                  <a:lnTo>
                    <a:pt x="432" y="0"/>
                  </a:lnTo>
                  <a:lnTo>
                    <a:pt x="340" y="3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657600" y="4478400"/>
              <a:ext cx="525600" cy="825480"/>
              <a:chOff x="3657600" y="4478400"/>
              <a:chExt cx="525600" cy="8254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57600" y="4478400"/>
                <a:ext cx="520560" cy="815760"/>
              </a:xfrm>
              <a:custGeom>
                <a:avLst/>
                <a:gdLst/>
                <a:ahLst/>
                <a:rect l="l" t="t" r="r" b="b"/>
                <a:pathLst>
                  <a:path w="328" h="514">
                    <a:moveTo>
                      <a:pt x="327" y="0"/>
                    </a:moveTo>
                    <a:lnTo>
                      <a:pt x="0" y="0"/>
                    </a:lnTo>
                    <a:lnTo>
                      <a:pt x="0" y="513"/>
                    </a:lnTo>
                    <a:lnTo>
                      <a:pt x="327" y="513"/>
                    </a:lnTo>
                    <a:lnTo>
                      <a:pt x="327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57600" y="4478400"/>
                <a:ext cx="525600" cy="825480"/>
              </a:xfrm>
              <a:custGeom>
                <a:avLst/>
                <a:gdLst/>
                <a:ahLst/>
                <a:rect l="l" t="t" r="r" b="b"/>
                <a:pathLst>
                  <a:path w="331" h="520">
                    <a:moveTo>
                      <a:pt x="330" y="0"/>
                    </a:moveTo>
                    <a:lnTo>
                      <a:pt x="0" y="0"/>
                    </a:lnTo>
                    <a:lnTo>
                      <a:pt x="0" y="519"/>
                    </a:lnTo>
                    <a:lnTo>
                      <a:pt x="330" y="519"/>
                    </a:lnTo>
                    <a:lnTo>
                      <a:pt x="33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3657600" y="4419720"/>
              <a:ext cx="682560" cy="60120"/>
            </a:xfrm>
            <a:custGeom>
              <a:avLst/>
              <a:gdLst/>
              <a:ahLst/>
              <a:rect l="l" t="t" r="r" b="b"/>
              <a:pathLst>
                <a:path w="430" h="38">
                  <a:moveTo>
                    <a:pt x="337" y="37"/>
                  </a:moveTo>
                  <a:lnTo>
                    <a:pt x="0" y="37"/>
                  </a:lnTo>
                  <a:lnTo>
                    <a:pt x="94" y="0"/>
                  </a:lnTo>
                  <a:lnTo>
                    <a:pt x="429" y="0"/>
                  </a:lnTo>
                  <a:lnTo>
                    <a:pt x="337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64080" y="4484520"/>
              <a:ext cx="511200" cy="8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64080" y="4646520"/>
              <a:ext cx="406440" cy="600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73520" y="450216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87800" y="4484520"/>
              <a:ext cx="92160" cy="8035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92480" y="4807080"/>
              <a:ext cx="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733920" y="4519440"/>
              <a:ext cx="293400" cy="66600"/>
              <a:chOff x="3733920" y="4519440"/>
              <a:chExt cx="293400" cy="66600"/>
            </a:xfrm>
          </p:grpSpPr>
          <p:sp>
            <p:nvSpPr>
              <p:cNvPr id="481" name=""/>
              <p:cNvSpPr/>
              <p:nvPr/>
            </p:nvSpPr>
            <p:spPr>
              <a:xfrm>
                <a:off x="3738960" y="4519440"/>
                <a:ext cx="288360" cy="6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1" y="1"/>
                    </a:moveTo>
                    <a:arcTo wR="10800" hR="10800" stAng="-5437776" swAng="5272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1" y="1"/>
                    </a:moveTo>
                    <a:arcTo wR="10800" hR="10800" stAng="-5437776" swAng="527238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33920" y="4519440"/>
                <a:ext cx="288720" cy="6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5" y="7208"/>
                    </a:moveTo>
                    <a:arcTo wR="10800" hR="10800" stAng="-9634295" swAng="4196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5" y="7208"/>
                    </a:moveTo>
                    <a:arcTo wR="10800" hR="10800" stAng="-9634295" swAng="4196519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>
              <a:off x="3673080" y="4538520"/>
              <a:ext cx="507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4020840" y="4538520"/>
              <a:ext cx="601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804480" y="4538520"/>
              <a:ext cx="57240" cy="43920"/>
              <a:chOff x="3804480" y="4538520"/>
              <a:chExt cx="57240" cy="43920"/>
            </a:xfrm>
          </p:grpSpPr>
          <p:sp>
            <p:nvSpPr>
              <p:cNvPr id="486" name=""/>
              <p:cNvSpPr/>
              <p:nvPr/>
            </p:nvSpPr>
            <p:spPr>
              <a:xfrm>
                <a:off x="3804480" y="453852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24640" y="453852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4181400" y="4419720"/>
              <a:ext cx="158760" cy="879480"/>
            </a:xfrm>
            <a:custGeom>
              <a:avLst/>
              <a:gdLst/>
              <a:ahLst/>
              <a:rect l="l" t="t" r="r" b="b"/>
              <a:pathLst>
                <a:path w="100" h="554">
                  <a:moveTo>
                    <a:pt x="0" y="553"/>
                  </a:moveTo>
                  <a:lnTo>
                    <a:pt x="0" y="37"/>
                  </a:lnTo>
                  <a:lnTo>
                    <a:pt x="99" y="0"/>
                  </a:lnTo>
                  <a:lnTo>
                    <a:pt x="99" y="411"/>
                  </a:lnTo>
                  <a:lnTo>
                    <a:pt x="0" y="5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86040" y="5292720"/>
              <a:ext cx="497160" cy="42840"/>
            </a:xfrm>
            <a:custGeom>
              <a:avLst/>
              <a:gdLst/>
              <a:ahLst/>
              <a:rect l="l" t="t" r="r" b="b"/>
              <a:pathLst>
                <a:path w="313" h="27">
                  <a:moveTo>
                    <a:pt x="0" y="0"/>
                  </a:moveTo>
                  <a:lnTo>
                    <a:pt x="312" y="0"/>
                  </a:lnTo>
                  <a:lnTo>
                    <a:pt x="312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81400" y="5075280"/>
              <a:ext cx="158760" cy="24120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0" y="137"/>
                  </a:moveTo>
                  <a:lnTo>
                    <a:pt x="99" y="0"/>
                  </a:lnTo>
                  <a:lnTo>
                    <a:pt x="99" y="6"/>
                  </a:lnTo>
                  <a:lnTo>
                    <a:pt x="0" y="151"/>
                  </a:lnTo>
                  <a:lnTo>
                    <a:pt x="0" y="137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764400" y="5067360"/>
            <a:ext cx="9288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Network Interfac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er Network Interface (UNI)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TM switch to router interface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TM switch to workstation interface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twork to Network Interface (NNI)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ATM switch to switch interfaces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Private-NNI (PNNI)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Public NNI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I and NNI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58320" y="4647960"/>
            <a:ext cx="77281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r-to-Network Interface (UNI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-to-Network Interface (NNI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tegrated Interswitch Protocol (IISP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136520" y="1801800"/>
            <a:ext cx="6873840" cy="2827440"/>
            <a:chOff x="1136520" y="1801800"/>
            <a:chExt cx="6873840" cy="2827440"/>
          </a:xfrm>
        </p:grpSpPr>
        <p:sp>
          <p:nvSpPr>
            <p:cNvPr id="497" name=""/>
            <p:cNvSpPr/>
            <p:nvPr/>
          </p:nvSpPr>
          <p:spPr>
            <a:xfrm>
              <a:off x="5649840" y="4343400"/>
              <a:ext cx="1817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11360" y="2209680"/>
              <a:ext cx="5856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1136520" y="1967040"/>
            <a:ext cx="638280" cy="57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6520" y="1967040"/>
                      <a:ext cx="63828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1" name=""/>
            <p:cNvGraphicFramePr/>
            <p:nvPr/>
          </p:nvGraphicFramePr>
          <p:xfrm>
            <a:off x="7372440" y="1986120"/>
            <a:ext cx="637920" cy="57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72440" y="1986120"/>
                      <a:ext cx="63792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03" name=""/>
            <p:cNvGrpSpPr/>
            <p:nvPr/>
          </p:nvGrpSpPr>
          <p:grpSpPr>
            <a:xfrm>
              <a:off x="3867120" y="1981080"/>
              <a:ext cx="1905120" cy="876600"/>
              <a:chOff x="3867120" y="1981080"/>
              <a:chExt cx="1905120" cy="87660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3867120" y="2004840"/>
              <a:ext cx="1905120" cy="85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867120" y="2004840"/>
                        <a:ext cx="190512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4264200" y="1981080"/>
                <a:ext cx="955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Book Antiqua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000680" y="3753000"/>
              <a:ext cx="1904760" cy="876240"/>
              <a:chOff x="4000680" y="3753000"/>
              <a:chExt cx="1904760" cy="876240"/>
            </a:xfrm>
          </p:grpSpPr>
          <p:graphicFrame>
            <p:nvGraphicFramePr>
              <p:cNvPr id="508" name=""/>
              <p:cNvGraphicFramePr/>
              <p:nvPr/>
            </p:nvGraphicFramePr>
            <p:xfrm>
              <a:off x="4000680" y="3776760"/>
              <a:ext cx="1904760" cy="8524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0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00680" y="3776760"/>
                        <a:ext cx="1904760" cy="85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0" name=""/>
              <p:cNvSpPr/>
              <p:nvPr/>
            </p:nvSpPr>
            <p:spPr>
              <a:xfrm>
                <a:off x="4397400" y="3753000"/>
                <a:ext cx="955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Book Antiqua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4838760" y="2792520"/>
              <a:ext cx="0" cy="979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17960" y="3021120"/>
              <a:ext cx="1997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NI / I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9120" y="1801800"/>
              <a:ext cx="7588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22440" y="1801800"/>
              <a:ext cx="1177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7143840" y="3986280"/>
            <a:ext cx="637920" cy="57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43840" y="3986280"/>
                      <a:ext cx="637920" cy="5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6137280" y="3706920"/>
              <a:ext cx="1177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I and NNI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NI 3.0 and 3.1 are not interoperabl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I 3.0 developed by ATM Forum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I 3.1 aligned with ITU-T standar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oth have same functionalit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NI 4.0 is backward compatible with UNI 3.1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ISP provides static ATM rout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NNI provides dynamic ATM rout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PNNI replaced IISP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LMI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M Forum standard for network manage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Monitors transfers between switch and node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eports CRC error rate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Tracks performance dip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Provides address registra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d during station attachment to the ATM network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d during LANE initialization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49500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ddress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yte 1 - Authority &amp; Format Identifie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Identifies address forma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ytes 2-13 - Network Prefix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3 Formats - (DCC, ICD, E.164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ytes 14-19 - End Station Identifie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Equivalent to MAC addres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yte 20 - Selecto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ot used by network 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69240" y="1576440"/>
            <a:ext cx="7843680" cy="863640"/>
            <a:chOff x="669240" y="1576440"/>
            <a:chExt cx="7843680" cy="863640"/>
          </a:xfrm>
        </p:grpSpPr>
        <p:sp>
          <p:nvSpPr>
            <p:cNvPr id="525" name=""/>
            <p:cNvSpPr/>
            <p:nvPr/>
          </p:nvSpPr>
          <p:spPr>
            <a:xfrm>
              <a:off x="5740560" y="2006640"/>
              <a:ext cx="2311200" cy="40644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7320" y="2006640"/>
              <a:ext cx="4902120" cy="40644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4300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2388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0512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66880" y="19922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812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2900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0988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9112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7200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5288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15000" y="1994040"/>
              <a:ext cx="0" cy="4460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588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7712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800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1520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96080" y="1994040"/>
              <a:ext cx="0" cy="44604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153280" y="199404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02520" y="2006640"/>
              <a:ext cx="330120" cy="406440"/>
            </a:xfrm>
            <a:prstGeom prst="rect">
              <a:avLst/>
            </a:prstGeom>
            <a:solidFill>
              <a:srgbClr val="ff0000"/>
            </a:solidFill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65600" y="1576440"/>
              <a:ext cx="178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 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74760" y="1576440"/>
              <a:ext cx="55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84800" y="1576440"/>
              <a:ext cx="52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9240" y="1576440"/>
              <a:ext cx="55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7320" y="2006640"/>
              <a:ext cx="330120" cy="406440"/>
            </a:xfrm>
            <a:prstGeom prst="rect">
              <a:avLst/>
            </a:prstGeom>
            <a:solidFill>
              <a:srgbClr val="ff9900"/>
            </a:solidFill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Cell Characteristic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3 byte cel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5 byte header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48 byte payloa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ader typ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ser to network (UNI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etwork to network (NNI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Cell Structur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124280" y="1447920"/>
            <a:ext cx="7107840" cy="5151600"/>
            <a:chOff x="1124280" y="1447920"/>
            <a:chExt cx="7107840" cy="5151600"/>
          </a:xfrm>
        </p:grpSpPr>
        <p:sp>
          <p:nvSpPr>
            <p:cNvPr id="556" name=""/>
            <p:cNvSpPr/>
            <p:nvPr/>
          </p:nvSpPr>
          <p:spPr>
            <a:xfrm rot="16200000">
              <a:off x="7539120" y="3759120"/>
              <a:ext cx="92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BY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08240" y="4500720"/>
              <a:ext cx="6059520" cy="1135080"/>
            </a:xfrm>
            <a:prstGeom prst="rect">
              <a:avLst/>
            </a:prstGeom>
            <a:solidFill>
              <a:srgbClr val="fdc0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08240" y="4064040"/>
              <a:ext cx="6059520" cy="41112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08240" y="3139920"/>
              <a:ext cx="6059520" cy="4114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43400" y="2651040"/>
              <a:ext cx="3024360" cy="4636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43400" y="2163600"/>
              <a:ext cx="3024360" cy="462240"/>
            </a:xfrm>
            <a:prstGeom prst="rect">
              <a:avLst/>
            </a:prstGeom>
            <a:solidFill>
              <a:srgbClr val="fde3b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08240" y="2651040"/>
              <a:ext cx="3025800" cy="463680"/>
            </a:xfrm>
            <a:prstGeom prst="rect">
              <a:avLst/>
            </a:prstGeom>
            <a:solidFill>
              <a:srgbClr val="fde3b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08240" y="2163600"/>
              <a:ext cx="3025800" cy="46224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43400" y="3576600"/>
              <a:ext cx="2316240" cy="461880"/>
            </a:xfrm>
            <a:prstGeom prst="rect">
              <a:avLst/>
            </a:prstGeom>
            <a:solidFill>
              <a:srgbClr val="b3b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08240" y="3576600"/>
              <a:ext cx="3025800" cy="4618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84840" y="3576600"/>
              <a:ext cx="682920" cy="4618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86200" y="1733400"/>
              <a:ext cx="317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8          7         6       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89760" y="1733400"/>
              <a:ext cx="325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4          3         2     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30280" y="1447920"/>
              <a:ext cx="685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39040" y="22716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39040" y="26924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39040" y="31464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9040" y="3618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39040" y="41054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39040" y="4491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5400000">
              <a:off x="7256880" y="4736160"/>
              <a:ext cx="42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28600" y="531648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44120" y="2247840"/>
              <a:ext cx="249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Generic Flow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91080" y="2247840"/>
              <a:ext cx="2486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Virtual Path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92360" y="2719440"/>
              <a:ext cx="2486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Virtual Path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27280" y="2719440"/>
              <a:ext cx="289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rtual Channel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27040" y="3206880"/>
              <a:ext cx="289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rtual Channel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28400" y="3676680"/>
              <a:ext cx="289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rtual Channel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42800" y="3676680"/>
              <a:ext cx="165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Payload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73400" y="369396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CL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78160" y="4148280"/>
              <a:ext cx="2457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Header Error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56880" y="4719600"/>
              <a:ext cx="1544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Cell Pay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05560" y="5057640"/>
              <a:ext cx="109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4141"/>
                  </a:solidFill>
                  <a:latin typeface="Arial"/>
                </a:rPr>
                <a:t>4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24280" y="5775480"/>
              <a:ext cx="6878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NI - Generic Flow Control not used, field exte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ze of Virtual Path Identifier to 12 bi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yload Type Fiel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it 1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0 = user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1 = network (in band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r bit 2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0 = no conges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1 = conges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r bit 3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ATM user to ATM user (AAU)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daptation Lay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dapts protocol frames to ATM cel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PCM, LAPF, TCP/IP, etc. …. 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vides segmentation &amp; reassembl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timing and flow control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Transmission error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ost and mis-inserted cell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cket Switch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ndwidth is shared between all user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N applications contend for link acces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 call establish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 guaranteed performan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ll bandwidth available after link acces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formance is protocol sensitiv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daptation Lay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provides 4 different packet-to-cell conversions required for different data typ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performs Segmentation and Reassembl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ormally done in hardware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maintains cell sequenc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1 and AAL 5 are most widely supported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Adaptation Lay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1 - Supports isochronous traffic (CBR) for voice or video traffic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2 - Supports Variable Bit Rate data that requires transfer of timing between end poin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3/4 - Connection or connectless VBR data traffic.  Supports short, high bursty data generated at irregular interva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5 - Most efficient way to support data traffic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Quality of Service Class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tant Bit Rat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- guaranteed bandwidth for connection dur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ariable Bit Rat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- guaranteed bandwidth for connection duration with a peak maximum burst siz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le Bit Rat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- uses all bandwidth that is available at any insta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specified Bit Rat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- best effort delivery with no guarante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FC 148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fines multiprotocol encapsulation for network traffic over AAL 5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outed Encapsula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Non-VC Multiplexing - protocol families share a VC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LC/SNAP Header identifies Protocol Type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d in RFC 1577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Bridged Encapsulation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Non-VC Multiplexing used for “Bridging over ATM”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pre-LANE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VC-Multiplexing - Protocol families on separate VCs 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by LANE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FC 1577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assical IP and ARP over ATM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es the ATM address resolution protocol to map IP addresses to ATM addresses within a logical IP subnet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A group of IP Hosts on the same subnet are connected to a single ATM Network called a Logical IP Subne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ATM Address Resolution Server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o Broadcast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No Routing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Forum LAN Emul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Media Access Control, MAC layer specification, known as LANE 1.0, that allows the ATM fabric to emulate a logical Ethernet or Token Ring segment.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initions: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User Network Interface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Referred to as “LANE 1.0”.  It defines the interface between a legacy LAN attached device and the ATM network. 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Services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They serve the following functions:  initialization , address registration / resolution, and data forwarding.  They consist of the LECS, LES, and BUS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Forum LAN Emul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initions (continued):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Configuration Server, LECS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Maintains the configuration information for each emulated LAN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Server, LES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Performs the MAC-to-ATM address resolution functions in an emulated LAN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Broadcast Unknown Server, BUS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Performs the multicast server function and broadcasts packets to multiple LECs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AN Emulation Client, LEC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 - Multiple LECs connect to the LANE services.  Client functionalities are typically implemented on adapters, routers, and ATM-to-LAN edge devices.</a:t>
            </a:r>
            <a:endParaRPr b="1" lang="en-US" sz="20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AN Emul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AL 5 segments data frames into cel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M LAN Edge Device implements Proxy LANE Client and MAC Layer LAN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xy client forwards unregistered MAC address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gacy LAN Host requires no chang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NE emulates a bridged LAN seg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ANE Protocol Stac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17520" y="1689120"/>
            <a:ext cx="1938240" cy="3860640"/>
          </a:xfrm>
          <a:prstGeom prst="rect">
            <a:avLst/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6080" y="228600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6080" y="281952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6080" y="350532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6080" y="434340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6080" y="495288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51600" y="1846440"/>
            <a:ext cx="145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6640" y="2414520"/>
            <a:ext cx="205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DIS/ODI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5040" y="2948040"/>
            <a:ext cx="175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LAN E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35640" y="3786120"/>
            <a:ext cx="76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AL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19800" y="44719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592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2160" y="4280040"/>
            <a:ext cx="2012760" cy="126972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0360" y="4800600"/>
            <a:ext cx="198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35960" y="438768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75080" y="4811760"/>
            <a:ext cx="0" cy="75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98760" y="5105520"/>
            <a:ext cx="12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376360" y="5149800"/>
            <a:ext cx="11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21320" y="1689120"/>
            <a:ext cx="2165400" cy="3860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19520" y="1687680"/>
            <a:ext cx="1197000" cy="11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19520" y="3505320"/>
            <a:ext cx="119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19520" y="4343400"/>
            <a:ext cx="119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19520" y="4952880"/>
            <a:ext cx="217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24200" y="2871720"/>
            <a:ext cx="121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E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62880" y="3786120"/>
            <a:ext cx="76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AL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7040" y="44719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6884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62760" y="1689120"/>
            <a:ext cx="1711440" cy="386064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961320" y="228600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61320" y="358128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61320" y="495288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220880" y="1846440"/>
            <a:ext cx="145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11680" y="4091040"/>
            <a:ext cx="7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97760" y="2406600"/>
            <a:ext cx="158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DIS/O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river</a:t>
            </a:r>
            <a:r>
              <a:rPr b="1" lang="en-US" sz="1800" spc="-1" strike="noStrike">
                <a:solidFill>
                  <a:srgbClr val="ff99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0068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16520" y="2830680"/>
            <a:ext cx="0" cy="27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5827320" y="1687680"/>
            <a:ext cx="971640" cy="11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02200" y="3557520"/>
            <a:ext cx="7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54120" y="1728720"/>
            <a:ext cx="121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Brid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8592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97080" y="6019920"/>
            <a:ext cx="1650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4804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0188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13040" y="6019920"/>
            <a:ext cx="1650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6400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119640" y="5573880"/>
            <a:ext cx="0" cy="446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30800" y="6019920"/>
            <a:ext cx="1649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780320" y="5573880"/>
            <a:ext cx="0" cy="446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2320" y="1271520"/>
            <a:ext cx="12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TM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20160" y="1347840"/>
            <a:ext cx="124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N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57400" y="1119240"/>
            <a:ext cx="17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TM L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Edge Devi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93960" y="3862440"/>
            <a:ext cx="15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 rot="7680000">
            <a:off x="4427280" y="2567520"/>
            <a:ext cx="4226760" cy="183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81" swAng="5086819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81" swAng="5086819"/>
              </a:path>
            </a:pathLst>
          </a:custGeom>
          <a:noFill/>
          <a:ln cap="rnd"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7721280" y="2692080"/>
            <a:ext cx="274680" cy="579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7707240" y="4049640"/>
            <a:ext cx="223920" cy="446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70600" y="3060720"/>
            <a:ext cx="1955880" cy="965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ANE Network Configur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62760" y="1557360"/>
            <a:ext cx="207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ernet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81680" y="3040200"/>
            <a:ext cx="2197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xy 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ge Devic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41520" y="2411280"/>
            <a:ext cx="137952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1650960" y="3168360"/>
            <a:ext cx="1284480" cy="5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318360" y="2520720"/>
            <a:ext cx="68724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18440" y="4392720"/>
            <a:ext cx="71244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40120" y="4487760"/>
            <a:ext cx="45252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92360" y="3306600"/>
            <a:ext cx="0" cy="84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35600" y="3306600"/>
            <a:ext cx="0" cy="84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841920" y="3301920"/>
            <a:ext cx="1569960" cy="88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32440" y="3181320"/>
            <a:ext cx="105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93960" y="3268800"/>
            <a:ext cx="174168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880" y="511668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1085760" y="2271600"/>
          <a:ext cx="6382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227160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5160" y="1547640"/>
          <a:ext cx="63828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154764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"/>
          <p:cNvGrpSpPr/>
          <p:nvPr/>
        </p:nvGrpSpPr>
        <p:grpSpPr>
          <a:xfrm>
            <a:off x="5168880" y="2884320"/>
            <a:ext cx="1308240" cy="481320"/>
            <a:chOff x="5168880" y="2884320"/>
            <a:chExt cx="1308240" cy="481320"/>
          </a:xfrm>
        </p:grpSpPr>
        <p:graphicFrame>
          <p:nvGraphicFramePr>
            <p:cNvPr id="687" name=""/>
            <p:cNvGraphicFramePr/>
            <p:nvPr/>
          </p:nvGraphicFramePr>
          <p:xfrm>
            <a:off x="5168880" y="2921040"/>
            <a:ext cx="1308240" cy="44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68880" y="2921040"/>
                      <a:ext cx="13082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9" name=""/>
            <p:cNvSpPr/>
            <p:nvPr/>
          </p:nvSpPr>
          <p:spPr>
            <a:xfrm>
              <a:off x="5405400" y="288432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191120" y="3200400"/>
            <a:ext cx="904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9200" y="2963880"/>
            <a:ext cx="224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168560" y="3490920"/>
          <a:ext cx="637920" cy="57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8560" y="3490920"/>
                    <a:ext cx="637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6010200" y="2259000"/>
            <a:ext cx="77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168880" y="4103640"/>
            <a:ext cx="1308240" cy="480960"/>
            <a:chOff x="5168880" y="4103640"/>
            <a:chExt cx="1308240" cy="480960"/>
          </a:xfrm>
        </p:grpSpPr>
        <p:graphicFrame>
          <p:nvGraphicFramePr>
            <p:cNvPr id="696" name=""/>
            <p:cNvGraphicFramePr/>
            <p:nvPr/>
          </p:nvGraphicFramePr>
          <p:xfrm>
            <a:off x="5168880" y="4140360"/>
            <a:ext cx="1308240" cy="44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68880" y="4140360"/>
                      <a:ext cx="13082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"/>
            <p:cNvSpPr/>
            <p:nvPr/>
          </p:nvSpPr>
          <p:spPr>
            <a:xfrm>
              <a:off x="5405400" y="410364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901960" y="4103640"/>
            <a:ext cx="1308240" cy="480960"/>
            <a:chOff x="2901960" y="4103640"/>
            <a:chExt cx="1308240" cy="480960"/>
          </a:xfrm>
        </p:grpSpPr>
        <p:graphicFrame>
          <p:nvGraphicFramePr>
            <p:cNvPr id="700" name=""/>
            <p:cNvGraphicFramePr/>
            <p:nvPr/>
          </p:nvGraphicFramePr>
          <p:xfrm>
            <a:off x="2901960" y="4140360"/>
            <a:ext cx="1308240" cy="444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01960" y="4140360"/>
                      <a:ext cx="13082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2" name=""/>
            <p:cNvSpPr/>
            <p:nvPr/>
          </p:nvSpPr>
          <p:spPr>
            <a:xfrm>
              <a:off x="3138480" y="410364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2901960" y="2884320"/>
            <a:ext cx="1308240" cy="481320"/>
            <a:chOff x="2901960" y="2884320"/>
            <a:chExt cx="1308240" cy="481320"/>
          </a:xfrm>
        </p:grpSpPr>
        <p:graphicFrame>
          <p:nvGraphicFramePr>
            <p:cNvPr id="704" name=""/>
            <p:cNvGraphicFramePr/>
            <p:nvPr/>
          </p:nvGraphicFramePr>
          <p:xfrm>
            <a:off x="2901960" y="2921040"/>
            <a:ext cx="1308240" cy="444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01960" y="2921040"/>
                      <a:ext cx="13082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3138480" y="288432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6902280" y="2274840"/>
            <a:ext cx="1308240" cy="480960"/>
            <a:chOff x="6902280" y="2274840"/>
            <a:chExt cx="1308240" cy="480960"/>
          </a:xfrm>
        </p:grpSpPr>
        <p:graphicFrame>
          <p:nvGraphicFramePr>
            <p:cNvPr id="708" name=""/>
            <p:cNvGraphicFramePr/>
            <p:nvPr/>
          </p:nvGraphicFramePr>
          <p:xfrm>
            <a:off x="6902280" y="2311560"/>
            <a:ext cx="1308240" cy="444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0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02280" y="2311560"/>
                      <a:ext cx="13082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0" name=""/>
            <p:cNvSpPr/>
            <p:nvPr/>
          </p:nvSpPr>
          <p:spPr>
            <a:xfrm>
              <a:off x="7139160" y="2274840"/>
              <a:ext cx="95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093080" y="4427640"/>
            <a:ext cx="1231920" cy="480960"/>
            <a:chOff x="7093080" y="4427640"/>
            <a:chExt cx="1231920" cy="480960"/>
          </a:xfrm>
        </p:grpSpPr>
        <p:graphicFrame>
          <p:nvGraphicFramePr>
            <p:cNvPr id="712" name=""/>
            <p:cNvGraphicFramePr/>
            <p:nvPr/>
          </p:nvGraphicFramePr>
          <p:xfrm>
            <a:off x="7093080" y="4464000"/>
            <a:ext cx="1231920" cy="444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093080" y="4464000"/>
                      <a:ext cx="12319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4" name=""/>
            <p:cNvSpPr/>
            <p:nvPr/>
          </p:nvSpPr>
          <p:spPr>
            <a:xfrm>
              <a:off x="7308720" y="442764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132440" y="4343400"/>
            <a:ext cx="105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26160" y="5307120"/>
            <a:ext cx="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701880" y="4884840"/>
            <a:ext cx="1308240" cy="480960"/>
            <a:chOff x="3701880" y="4884840"/>
            <a:chExt cx="1308240" cy="480960"/>
          </a:xfrm>
        </p:grpSpPr>
        <p:graphicFrame>
          <p:nvGraphicFramePr>
            <p:cNvPr id="718" name=""/>
            <p:cNvGraphicFramePr/>
            <p:nvPr/>
          </p:nvGraphicFramePr>
          <p:xfrm>
            <a:off x="3701880" y="4921200"/>
            <a:ext cx="1308240" cy="444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701880" y="4921200"/>
                      <a:ext cx="13082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3938760" y="4884840"/>
              <a:ext cx="95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265720" y="5786280"/>
            <a:ext cx="143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4076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3120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70256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87392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29560" y="5195880"/>
            <a:ext cx="207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ernet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1216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30260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47396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64532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01920" y="2068560"/>
            <a:ext cx="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648240" y="1782720"/>
            <a:ext cx="267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 Serv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CS, LES,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1"/>
          <a:stretch/>
        </p:blipFill>
        <p:spPr>
          <a:xfrm>
            <a:off x="4422600" y="5486400"/>
            <a:ext cx="947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vs </a:t>
            </a:r>
            <a:r>
              <a:rPr b="1" lang="en-US" sz="4000" spc="-1" strike="noStrike">
                <a:solidFill>
                  <a:srgbClr val="037c03"/>
                </a:solidFill>
                <a:latin typeface="Arial"/>
              </a:rPr>
              <a:t>ATM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LAN uses broadcast communications over a connectionless network service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LAN uses variable length packe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TM uses virtual circuit communications over a connection oriented network servi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TM uses fixed length packets called cell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ell length is 53 byte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Fixed cells length permits packet-based and stream based traffic to co-exist.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Based LA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upport multiple service class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upport isochronous traffic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cale to higher speed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Permit dynamic performance level assignmen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Based WA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duce WAN bandwidth cos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30% bandwidth saving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Voice compression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ilence and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or repetitive pattern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uppression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Dynamic bandwidth allocation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50–70% reduction in management cost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TM Based WA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mprove performan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50% performance improvemen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Reduce downtime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 highly redunda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nt systems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Provide rapid reroute around failed trunks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Goal 99.99% uptime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ical cos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One time installation cos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Monthly facility access and network port cos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osts are speed dependant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y was ATM Needed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ed bandwidth allocated by design, not accid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ed Quality of Service management for multimedia applica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ed manageable delay, delay variation and packet loss for some applica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Video conferencing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ollaborative workgroup computing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 is ATM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M means Asynchronous Transfer Mod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witched, connection oriented virtual circuit network technology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voice, video, data, and image transmissions over the same link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quality of service parameter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ltiple supported link speed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25 Mbps, 155 Mbps, 622 Mbps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OC-3, OC-12, OC-48, OC-192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y Use ATM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pports voice, data, video, image, and multimedia over the same network with highly efficient bandwidth utiliz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mmon Internetworking technology for implementation in private and public network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nection oriented service using cell switch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mproved performance through streamlined error and flow control managemen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ATM Work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ll data is converted into 53 byte cells prior to transmiss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Cells streams can be multiplexed together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witching is simplified because only cells are supported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Hardware switching permits lower processing overhead</a:t>
            </a:r>
            <a:endParaRPr b="1" lang="en-US" sz="2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TM benefits from both circuit and packet switching technologi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arly ATM Evolu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30080" y="5425920"/>
            <a:ext cx="8207280" cy="673200"/>
            <a:chOff x="730080" y="5425920"/>
            <a:chExt cx="8207280" cy="673200"/>
          </a:xfrm>
        </p:grpSpPr>
        <p:sp>
          <p:nvSpPr>
            <p:cNvPr id="97" name=""/>
            <p:cNvSpPr/>
            <p:nvPr/>
          </p:nvSpPr>
          <p:spPr>
            <a:xfrm>
              <a:off x="730080" y="5645160"/>
              <a:ext cx="7512120" cy="311040"/>
            </a:xfrm>
            <a:prstGeom prst="rect">
              <a:avLst/>
            </a:prstGeom>
            <a:gradFill rotWithShape="0">
              <a:gsLst>
                <a:gs pos="0">
                  <a:srgbClr val="e9ceff"/>
                </a:gs>
                <a:gs pos="100000">
                  <a:srgbClr val="d0b8e4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1414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8235360" y="5397120"/>
              <a:ext cx="673200" cy="730440"/>
            </a:xfrm>
            <a:prstGeom prst="triangle">
              <a:avLst>
                <a:gd name="adj" fmla="val 4993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e9ce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41414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210520" y="5630760"/>
              <a:ext cx="0" cy="312840"/>
            </a:xfrm>
            <a:prstGeom prst="line">
              <a:avLst/>
            </a:prstGeom>
            <a:ln w="12600">
              <a:solidFill>
                <a:srgbClr val="e9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69320" y="599616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22440" y="599616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0960" y="5530680"/>
            <a:ext cx="216000" cy="216000"/>
          </a:xfrm>
          <a:prstGeom prst="diamond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49480" y="4844520"/>
            <a:ext cx="215640" cy="902160"/>
            <a:chOff x="1149480" y="4844520"/>
            <a:chExt cx="215640" cy="902160"/>
          </a:xfrm>
        </p:grpSpPr>
        <p:sp>
          <p:nvSpPr>
            <p:cNvPr id="104" name=""/>
            <p:cNvSpPr/>
            <p:nvPr/>
          </p:nvSpPr>
          <p:spPr>
            <a:xfrm>
              <a:off x="1149480" y="5530680"/>
              <a:ext cx="21564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5748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rot="18540000">
            <a:off x="393480" y="3551040"/>
            <a:ext cx="264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Book Antiqua"/>
              </a:rPr>
              <a:t>UNI 3.0/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5120" y="5996160"/>
            <a:ext cx="70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Book Antiqu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28960" y="4844520"/>
            <a:ext cx="0" cy="67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797440" y="4844520"/>
            <a:ext cx="216000" cy="902160"/>
            <a:chOff x="5797440" y="4844520"/>
            <a:chExt cx="216000" cy="902160"/>
          </a:xfrm>
        </p:grpSpPr>
        <p:sp>
          <p:nvSpPr>
            <p:cNvPr id="110" name=""/>
            <p:cNvSpPr/>
            <p:nvPr/>
          </p:nvSpPr>
          <p:spPr>
            <a:xfrm>
              <a:off x="579744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90544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616800" y="4844520"/>
            <a:ext cx="215640" cy="902160"/>
            <a:chOff x="6616800" y="4844520"/>
            <a:chExt cx="215640" cy="902160"/>
          </a:xfrm>
        </p:grpSpPr>
        <p:sp>
          <p:nvSpPr>
            <p:cNvPr id="113" name=""/>
            <p:cNvSpPr/>
            <p:nvPr/>
          </p:nvSpPr>
          <p:spPr>
            <a:xfrm>
              <a:off x="6616800" y="5530680"/>
              <a:ext cx="21564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72480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44560" y="4844520"/>
            <a:ext cx="216000" cy="902160"/>
            <a:chOff x="844560" y="4844520"/>
            <a:chExt cx="216000" cy="902160"/>
          </a:xfrm>
        </p:grpSpPr>
        <p:sp>
          <p:nvSpPr>
            <p:cNvPr id="116" name=""/>
            <p:cNvSpPr/>
            <p:nvPr/>
          </p:nvSpPr>
          <p:spPr>
            <a:xfrm>
              <a:off x="84456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95256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454040" y="4844520"/>
            <a:ext cx="216000" cy="902160"/>
            <a:chOff x="1454040" y="4844520"/>
            <a:chExt cx="216000" cy="902160"/>
          </a:xfrm>
        </p:grpSpPr>
        <p:sp>
          <p:nvSpPr>
            <p:cNvPr id="119" name=""/>
            <p:cNvSpPr/>
            <p:nvPr/>
          </p:nvSpPr>
          <p:spPr>
            <a:xfrm>
              <a:off x="145404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56204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558880" y="4844520"/>
            <a:ext cx="216000" cy="902160"/>
            <a:chOff x="2558880" y="4844520"/>
            <a:chExt cx="216000" cy="902160"/>
          </a:xfrm>
        </p:grpSpPr>
        <p:sp>
          <p:nvSpPr>
            <p:cNvPr id="122" name=""/>
            <p:cNvSpPr/>
            <p:nvPr/>
          </p:nvSpPr>
          <p:spPr>
            <a:xfrm>
              <a:off x="255888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66688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168720" y="4844520"/>
            <a:ext cx="216000" cy="902160"/>
            <a:chOff x="3168720" y="4844520"/>
            <a:chExt cx="216000" cy="902160"/>
          </a:xfrm>
        </p:grpSpPr>
        <p:sp>
          <p:nvSpPr>
            <p:cNvPr id="125" name=""/>
            <p:cNvSpPr/>
            <p:nvPr/>
          </p:nvSpPr>
          <p:spPr>
            <a:xfrm>
              <a:off x="316872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7672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863960" y="4844520"/>
            <a:ext cx="216000" cy="902160"/>
            <a:chOff x="4863960" y="4844520"/>
            <a:chExt cx="216000" cy="902160"/>
          </a:xfrm>
        </p:grpSpPr>
        <p:sp>
          <p:nvSpPr>
            <p:cNvPr id="128" name=""/>
            <p:cNvSpPr/>
            <p:nvPr/>
          </p:nvSpPr>
          <p:spPr>
            <a:xfrm>
              <a:off x="4863960" y="5530680"/>
              <a:ext cx="21600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97196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264280" y="4844520"/>
            <a:ext cx="215640" cy="902160"/>
            <a:chOff x="5264280" y="4844520"/>
            <a:chExt cx="215640" cy="902160"/>
          </a:xfrm>
        </p:grpSpPr>
        <p:sp>
          <p:nvSpPr>
            <p:cNvPr id="131" name=""/>
            <p:cNvSpPr/>
            <p:nvPr/>
          </p:nvSpPr>
          <p:spPr>
            <a:xfrm>
              <a:off x="5264280" y="5530680"/>
              <a:ext cx="21564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537228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rot="18540000">
            <a:off x="730800" y="3543840"/>
            <a:ext cx="264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c03"/>
                </a:solidFill>
                <a:latin typeface="Book Antiqua"/>
              </a:rPr>
              <a:t>RFC 15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8540000">
            <a:off x="1130760" y="3543840"/>
            <a:ext cx="264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Book Antiqua"/>
              </a:rPr>
              <a:t>LAN E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8540000">
            <a:off x="2197800" y="3543840"/>
            <a:ext cx="264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Book Antiqua"/>
              </a:rPr>
              <a:t>Static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8540000">
            <a:off x="2769120" y="3543840"/>
            <a:ext cx="264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622 Mbps 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8540000">
            <a:off x="2996280" y="2777040"/>
            <a:ext cx="46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8e00"/>
                </a:solidFill>
                <a:latin typeface="Book Antiqua"/>
              </a:rPr>
              <a:t>ATM Layer Access Definition (A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540000">
            <a:off x="4577400" y="2777040"/>
            <a:ext cx="46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Congest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540000">
            <a:off x="4120200" y="2777040"/>
            <a:ext cx="46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Book Antiqua"/>
              </a:rPr>
              <a:t>P-NNI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8540000">
            <a:off x="5145840" y="2777040"/>
            <a:ext cx="46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UNI 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8540000">
            <a:off x="6239880" y="3488040"/>
            <a:ext cx="2948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074000" y="4844520"/>
            <a:ext cx="215640" cy="902160"/>
            <a:chOff x="7074000" y="4844520"/>
            <a:chExt cx="215640" cy="902160"/>
          </a:xfrm>
        </p:grpSpPr>
        <p:sp>
          <p:nvSpPr>
            <p:cNvPr id="143" name=""/>
            <p:cNvSpPr/>
            <p:nvPr/>
          </p:nvSpPr>
          <p:spPr>
            <a:xfrm>
              <a:off x="7074000" y="5530680"/>
              <a:ext cx="215640" cy="216000"/>
            </a:xfrm>
            <a:prstGeom prst="diamond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82000" y="4844520"/>
              <a:ext cx="0" cy="67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rot="18540000">
            <a:off x="6766200" y="3445560"/>
            <a:ext cx="285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Book Antiqua"/>
              </a:rPr>
              <a:t>Multiprotoco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7T20:59:34Z</dcterms:created>
  <dc:creator>NCR ASSOCIATE</dc:creator>
  <dc:description/>
  <dc:language>en-US</dc:language>
  <cp:lastModifiedBy>NCR User</cp:lastModifiedBy>
  <cp:lastPrinted>1997-07-28T20:56:26Z</cp:lastPrinted>
  <dcterms:modified xsi:type="dcterms:W3CDTF">2002-10-30T19:20:35Z</dcterms:modified>
  <cp:revision>30</cp:revision>
  <dc:subject/>
  <dc:title>ATM Overview</dc:title>
</cp:coreProperties>
</file>