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6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65680" y="1236600"/>
            <a:ext cx="4525920" cy="13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65680" y="2804400"/>
            <a:ext cx="4525920" cy="22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165680" y="5251320"/>
            <a:ext cx="4525920" cy="22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65680" y="1236600"/>
            <a:ext cx="4525920" cy="13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65680" y="2804400"/>
            <a:ext cx="2208600" cy="22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85160" y="2804400"/>
            <a:ext cx="2208600" cy="22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65680" y="5251320"/>
            <a:ext cx="2208600" cy="22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485160" y="5251320"/>
            <a:ext cx="2208600" cy="22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65680" y="1236600"/>
            <a:ext cx="4525920" cy="13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65680" y="2804400"/>
            <a:ext cx="1457280" cy="22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696040" y="2804400"/>
            <a:ext cx="1457280" cy="22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226760" y="2804400"/>
            <a:ext cx="1457280" cy="22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165680" y="5251320"/>
            <a:ext cx="1457280" cy="22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696040" y="5251320"/>
            <a:ext cx="1457280" cy="22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4226760" y="5251320"/>
            <a:ext cx="1457280" cy="22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65680" y="1236600"/>
            <a:ext cx="4525920" cy="13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165680" y="2804400"/>
            <a:ext cx="4525920" cy="46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65680" y="1236600"/>
            <a:ext cx="4525920" cy="13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165680" y="2804400"/>
            <a:ext cx="4525920" cy="46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65680" y="1236600"/>
            <a:ext cx="4525920" cy="13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65680" y="2804400"/>
            <a:ext cx="2208600" cy="46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485160" y="2804400"/>
            <a:ext cx="2208600" cy="46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65680" y="1236600"/>
            <a:ext cx="4525920" cy="13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165680" y="1236600"/>
            <a:ext cx="4525920" cy="62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65680" y="1236600"/>
            <a:ext cx="4525920" cy="13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65680" y="2804400"/>
            <a:ext cx="2208600" cy="22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485160" y="2804400"/>
            <a:ext cx="2208600" cy="46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165680" y="5251320"/>
            <a:ext cx="2208600" cy="22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65680" y="1236600"/>
            <a:ext cx="4525920" cy="13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65680" y="2804400"/>
            <a:ext cx="2208600" cy="46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485160" y="2804400"/>
            <a:ext cx="2208600" cy="22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85160" y="5251320"/>
            <a:ext cx="2208600" cy="22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65680" y="1236600"/>
            <a:ext cx="4525920" cy="13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65680" y="2804400"/>
            <a:ext cx="2208600" cy="22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485160" y="2804400"/>
            <a:ext cx="2208600" cy="22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65680" y="5251320"/>
            <a:ext cx="4525920" cy="22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858000" cy="9906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" descr=""/>
          <p:cNvPicPr/>
          <p:nvPr/>
        </p:nvPicPr>
        <p:blipFill>
          <a:blip r:embed="rId1"/>
          <a:stretch/>
        </p:blipFill>
        <p:spPr>
          <a:xfrm>
            <a:off x="380880" y="8439120"/>
            <a:ext cx="6172200" cy="779400"/>
          </a:xfrm>
          <a:prstGeom prst="rect">
            <a:avLst/>
          </a:prstGeom>
          <a:ln w="0">
            <a:noFill/>
          </a:ln>
        </p:spPr>
      </p:pic>
      <p:sp>
        <p:nvSpPr>
          <p:cNvPr id="38" name=""/>
          <p:cNvSpPr txBox="1"/>
          <p:nvPr/>
        </p:nvSpPr>
        <p:spPr>
          <a:xfrm>
            <a:off x="514440" y="111744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rizes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974880" y="8670960"/>
            <a:ext cx="1360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l S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127160" y="3260880"/>
            <a:ext cx="45878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al do Utilizad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ernando Alves</dc:creator>
  <dc:description/>
  <dc:language>en-US</dc:language>
  <cp:lastModifiedBy>Fernando Alves</cp:lastModifiedBy>
  <cp:revision>0</cp:revision>
  <dc:subject/>
  <dc:title>Matrizes</dc:title>
</cp:coreProperties>
</file>