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3636461-8154-4F1B-8D6D-5402831C73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V - Elaboração de Soluções e Desenvolvimento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III - Elaboração de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sa atender às necessidades identificadas na Fase II (Análise da Situação At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 subfa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1 Definição da Arquitetur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2 Definição da Arquitetura de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3 Definição das Estratégia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4 Definição da Arquitetur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ase III.1 - Definição da Arquitetur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-se uma Arquitetura de Dados para suportar o processo decisório e ciclo de negócios da empre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ref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 modelo de dados corp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r entidades candid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o us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1 Definição de Projetos de S.I. -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Priorizar projetos - cont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considerações principai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tr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s e objetivo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nefícios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edente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dependênci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contratação de pes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qualquer forma, o maior peso deve estar na importância dos Fatores Críticos de Sucesso envolv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laborar Planos de Mi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m ser elaborados planos de migração para sistemas de informação a serem substit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 haver igualmente planos de migr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2 Definição da Necessidade de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m função das estratégias de negócio, volumes, freqüência e modalidade de processamento, definir necessidades de recur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compatibilidade, qualidade, facilidade de expansão, modularidade, suporte de assistência técnic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desempenho, atendimento a padrões estabelecidos, segurnaça, documentação, facilidade de uso, suporte de manute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huma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avaliadas em função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s de qualificação; volume de trabalho; níveis de serviço de suporte para clientes e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z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izar o Plano Estratégico de Sistemas de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sentá-lo ao Grupo de Acompamhamento para aprovação, através de um relatório final, cont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ário Execu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 (matrizes de associação dos objetos de planej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ós a elabor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-se regras e responsabilidades para manter o mesmo atualizado e ajustado quando os sistemas estiverem sendo impla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ão pelo menos anualmente,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ar quando ocor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nas diretrize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os tecn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de mel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quis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 conter todos os dados básicos para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negócio da empresa seja levado a bom ter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ja cumprida a Missão e os Obje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os os Processos Gerenciais sejam adequadamente su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representado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grama de Entidades e Relacionamentos (Peter Che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cion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, outra técnica equi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 um ponto de partida para futuros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dados, diferentemente dos processos da empresa, são significativamente es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 - Exemplo de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o Uso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-se definir o uso dos dados,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ução da Matriz de Inter-relac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 X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laboração dessa matriz fornece o mapa de propriedade e uso de informações 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(is) processo(s) cria(m) os dados (entidade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is processos os utiliz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matriz derivada desta que é a de Projetos X Entidades pode auxiliar fortemente na priorização dos pro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m ter maior prioridade de implantação aqueles projetos que “geram” mais dados, em relação aos que “usam” mais d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2 - Definição da Arquitetura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rquitetura dos sistemas a serem implantados para suportar os process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Conceitual Arquitetô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aplicativo para cada projeto ou vários aplicativo para suportar um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X Processamento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Recursos Tecnológicos suficientes para processar dados e 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tilhamento de Recursos Tecnológicos entre as Áreas Funcionais de uma mesma loc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plicaçã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3 - Definição das Estratégias Ger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stratégias gerenciais são definida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tar os tópicos-chav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ment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s as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da estrutura organizacional da função de informática, com elaboração de cenários para supor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af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urto, médio e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ar, na análise, a viabi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lternativas e impactos das Arquiteturas Tecn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º passo: identificação e avaliação dos componentes da tecnologi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que tem a empresa x o que oferece 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º passo: identificação de necessidades adicionais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º passo: preparação do diagrama conceitual de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º passo: identificação de implicações de hardware / software (check-li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steridade x agress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 do 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ilidade com outras arquite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ec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iva de vida da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amento batch x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ximidade do usuári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friend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ndências tec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ndânci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urança física e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orte do fornec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 de resposta dos apli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me de dados e de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idade de operações em caso de conti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iona-se a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, entre as alternativas consideradas, em consenso pelos Grupos de Trabalho 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V - Desenvolvimento dos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fase IV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Definição de Projetos de Sistemas de Inform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definir os projetos de S.I. de acordo com os Fatores Críticos de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ssa fase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1: Definir Projetos de S.I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 diferenças organizacionais e similaridades funcion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 perder de vista os objetivos e missão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entadas conforme os dados (data-driven ou object-dri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de ser um projeto para cada aplicação conce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nselhável dividir aplicações quando necess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tos dependentes podem ser combi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 projetos em andamento devem ser reconcil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zar Proje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ilizar uma vis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dades definidas de acordo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Fernando Andrade Martins de Araújo</cp:lastModifiedBy>
  <cp:revision>0</cp:revision>
  <dc:subject>Unidade V</dc:subject>
  <dc:title>Curso de Teoria Geral de Sistemas</dc:title>
</cp:coreProperties>
</file>