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23DFAAA-CAFD-4730-A5C3-3968FE8AD5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V - Análise de Negócio e Diagnóstico Situ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I - Início do Planjamento Estratégico de Sistem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ce as premissas básicas para a realização do projeto,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ção das pessoas-chave da empresa, com relação ao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inamento dos participantes (metodologia, técnicas e ferramentas de trabal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ase I.1 - Organização do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e uma compreensaão comum e expectativas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escop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regras e respons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plano de trabalho e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resultados e propósitos de elaboração do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ca a cooperação das pessoas-chaves da empresa (participação ativa durante o pro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órios e bolet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as e plani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 diário / mensal dos níveis de qualidade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a de produção real por func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ções de mercado sobre consumidores 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s que dificultam o atendimento dos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lta, carência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fin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ta de mão-de-obra especi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rn-over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le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dade, Classes de Dados e Relaciona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da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objetos concretos ou abstratos dos quais deseja-se reter informações, podendo possuir relacionamentos com outr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dad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grupamentos de informações afins dentro de uma determinada ent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 de entidades candida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os físicos ou juríd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funcionário, candidato, fornecedor, cliente,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nota fiscal, pedido, ordem de compra, co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be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unidade da federação, centro de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stór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venda acumulada, histórico de cargo de funcio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e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matéria-prima, produto, pe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upos de processos que sustentam o ciclo de vida e possibilitam que os Objetivos da Empresa sejam atin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acteriz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que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ito e nã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é 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ças; Recursos Humanos; Suprimentos;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aqueles responsáveis pela consecução das atividades que sustentam o ciclo de vida da Área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ejamento de compras; Compras e importação; Recebimento de materiais; Administração de mater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is físicos da empresa, onde os processos são execu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is onde os dad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mazenados;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u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tor de Expor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dades Organizaci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divisões administrativas da empresa, responsáveis pela execução das Funções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ência Ad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ência geral da Prod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tori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Funcional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funcional da organização, representada por um Diagrama de Decomposição Funcional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quia em 3 n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iz: a própri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º nível: Áreas Fun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º nível: Processo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28760" y="3519360"/>
            <a:ext cx="5929560" cy="3827520"/>
            <a:chOff x="2228760" y="3519360"/>
            <a:chExt cx="5929560" cy="3827520"/>
          </a:xfrm>
        </p:grpSpPr>
        <p:grpSp>
          <p:nvGrpSpPr>
            <p:cNvPr id="71" name=""/>
            <p:cNvGrpSpPr/>
            <p:nvPr/>
          </p:nvGrpSpPr>
          <p:grpSpPr>
            <a:xfrm>
              <a:off x="3738600" y="3519360"/>
              <a:ext cx="1371600" cy="876240"/>
              <a:chOff x="3738600" y="3519360"/>
              <a:chExt cx="1371600" cy="876240"/>
            </a:xfrm>
          </p:grpSpPr>
          <p:sp>
            <p:nvSpPr>
              <p:cNvPr id="72" name=""/>
              <p:cNvSpPr/>
              <p:nvPr/>
            </p:nvSpPr>
            <p:spPr>
              <a:xfrm>
                <a:off x="3738600" y="351936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3763800" y="372888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mpres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228760" y="5016600"/>
              <a:ext cx="4419720" cy="876240"/>
              <a:chOff x="2228760" y="5016600"/>
              <a:chExt cx="4419720" cy="8762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228760" y="5016600"/>
                <a:ext cx="1371600" cy="876240"/>
                <a:chOff x="2228760" y="5016600"/>
                <a:chExt cx="137160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2876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225432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753000" y="5016600"/>
                <a:ext cx="1371600" cy="876240"/>
                <a:chOff x="3753000" y="5016600"/>
                <a:chExt cx="1371600" cy="876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75300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377820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276880" y="5016600"/>
                <a:ext cx="1371600" cy="876240"/>
                <a:chOff x="5276880" y="5016600"/>
                <a:chExt cx="1371600" cy="8762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76880" y="5016600"/>
                  <a:ext cx="1371600" cy="87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5302080" y="5226120"/>
                  <a:ext cx="1320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ção 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"/>
            <p:cNvSpPr txBox="1"/>
            <p:nvPr/>
          </p:nvSpPr>
          <p:spPr>
            <a:xfrm>
              <a:off x="6934320" y="51814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738600" y="6035760"/>
              <a:ext cx="1371600" cy="1311120"/>
              <a:chOff x="3738600" y="6035760"/>
              <a:chExt cx="1371600" cy="1311120"/>
            </a:xfrm>
          </p:grpSpPr>
          <p:sp>
            <p:nvSpPr>
              <p:cNvPr id="86" name=""/>
              <p:cNvSpPr/>
              <p:nvPr/>
            </p:nvSpPr>
            <p:spPr>
              <a:xfrm>
                <a:off x="373860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376380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262480" y="6035760"/>
              <a:ext cx="1371600" cy="1311120"/>
              <a:chOff x="5262480" y="6035760"/>
              <a:chExt cx="1371600" cy="1311120"/>
            </a:xfrm>
          </p:grpSpPr>
          <p:sp>
            <p:nvSpPr>
              <p:cNvPr id="89" name=""/>
              <p:cNvSpPr/>
              <p:nvPr/>
            </p:nvSpPr>
            <p:spPr>
              <a:xfrm>
                <a:off x="526248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28804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786720" y="6035760"/>
              <a:ext cx="1371600" cy="1311120"/>
              <a:chOff x="6786720" y="6035760"/>
              <a:chExt cx="1371600" cy="1311120"/>
            </a:xfrm>
          </p:grpSpPr>
          <p:sp>
            <p:nvSpPr>
              <p:cNvPr id="92" name=""/>
              <p:cNvSpPr/>
              <p:nvPr/>
            </p:nvSpPr>
            <p:spPr>
              <a:xfrm>
                <a:off x="6786720" y="647064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6811920" y="603576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cesso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410000" y="5881680"/>
              <a:ext cx="3100320" cy="581040"/>
              <a:chOff x="4410000" y="5881680"/>
              <a:chExt cx="3100320" cy="58104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58816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0000" y="610560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468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4360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05640" y="610560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890800" y="4419720"/>
              <a:ext cx="3100320" cy="581040"/>
              <a:chOff x="2890800" y="4419720"/>
              <a:chExt cx="3100320" cy="581040"/>
            </a:xfrm>
          </p:grpSpPr>
          <p:sp>
            <p:nvSpPr>
              <p:cNvPr id="101" name=""/>
              <p:cNvSpPr/>
              <p:nvPr/>
            </p:nvSpPr>
            <p:spPr>
              <a:xfrm>
                <a:off x="4424400" y="4419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90800" y="464328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9548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2440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86440" y="4643280"/>
                <a:ext cx="0" cy="35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6186600" y="434808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o Parcial de um Diagrama Funcional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28760" y="2282760"/>
            <a:ext cx="6067440" cy="3807000"/>
            <a:chOff x="2228760" y="2282760"/>
            <a:chExt cx="6067440" cy="3807000"/>
          </a:xfrm>
        </p:grpSpPr>
        <p:grpSp>
          <p:nvGrpSpPr>
            <p:cNvPr id="109" name=""/>
            <p:cNvGrpSpPr/>
            <p:nvPr/>
          </p:nvGrpSpPr>
          <p:grpSpPr>
            <a:xfrm>
              <a:off x="3738600" y="2282760"/>
              <a:ext cx="1371600" cy="906480"/>
              <a:chOff x="3738600" y="2282760"/>
              <a:chExt cx="1371600" cy="90648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8600" y="228276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3763800" y="2367000"/>
                <a:ext cx="132084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mpresa AB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28760" y="3759120"/>
              <a:ext cx="1371600" cy="876240"/>
              <a:chOff x="2228760" y="3759120"/>
              <a:chExt cx="1371600" cy="876240"/>
            </a:xfrm>
          </p:grpSpPr>
          <p:sp>
            <p:nvSpPr>
              <p:cNvPr id="113" name=""/>
              <p:cNvSpPr/>
              <p:nvPr/>
            </p:nvSpPr>
            <p:spPr>
              <a:xfrm>
                <a:off x="222876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2254320" y="396864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.H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753000" y="3759120"/>
              <a:ext cx="1371600" cy="876240"/>
              <a:chOff x="3753000" y="3759120"/>
              <a:chExt cx="1371600" cy="876240"/>
            </a:xfrm>
          </p:grpSpPr>
          <p:sp>
            <p:nvSpPr>
              <p:cNvPr id="116" name=""/>
              <p:cNvSpPr/>
              <p:nvPr/>
            </p:nvSpPr>
            <p:spPr>
              <a:xfrm>
                <a:off x="375300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3778200" y="3968640"/>
                <a:ext cx="1320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end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173560" y="3759120"/>
              <a:ext cx="1622520" cy="876240"/>
              <a:chOff x="5173560" y="3759120"/>
              <a:chExt cx="1622520" cy="876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276880" y="37591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5173560" y="3968640"/>
                <a:ext cx="16225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priment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934320" y="392436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8600" y="5213520"/>
              <a:ext cx="1371600" cy="876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720960" y="5311800"/>
              <a:ext cx="14605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jamento de Comp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262480" y="5213520"/>
              <a:ext cx="1371600" cy="876240"/>
              <a:chOff x="5262480" y="5213520"/>
              <a:chExt cx="1371600" cy="876240"/>
            </a:xfrm>
          </p:grpSpPr>
          <p:sp>
            <p:nvSpPr>
              <p:cNvPr id="125" name=""/>
              <p:cNvSpPr/>
              <p:nvPr/>
            </p:nvSpPr>
            <p:spPr>
              <a:xfrm>
                <a:off x="5262480" y="52135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5288040" y="5311800"/>
                <a:ext cx="1320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mpras Import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667560" y="5213520"/>
              <a:ext cx="1628640" cy="876240"/>
              <a:chOff x="6667560" y="5213520"/>
              <a:chExt cx="1628640" cy="876240"/>
            </a:xfrm>
          </p:grpSpPr>
          <p:sp>
            <p:nvSpPr>
              <p:cNvPr id="128" name=""/>
              <p:cNvSpPr/>
              <p:nvPr/>
            </p:nvSpPr>
            <p:spPr>
              <a:xfrm>
                <a:off x="6786720" y="5213520"/>
                <a:ext cx="1371600" cy="87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6667560" y="5340240"/>
                <a:ext cx="16286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dministração de Materia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10000" y="4624560"/>
              <a:ext cx="3100320" cy="580680"/>
              <a:chOff x="4410000" y="4624560"/>
              <a:chExt cx="3100320" cy="580680"/>
            </a:xfrm>
          </p:grpSpPr>
          <p:sp>
            <p:nvSpPr>
              <p:cNvPr id="131" name=""/>
              <p:cNvSpPr/>
              <p:nvPr/>
            </p:nvSpPr>
            <p:spPr>
              <a:xfrm>
                <a:off x="5943600" y="46245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10000" y="484812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1468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4360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05640" y="484812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90800" y="3162240"/>
              <a:ext cx="3100320" cy="581040"/>
              <a:chOff x="2890800" y="3162240"/>
              <a:chExt cx="3100320" cy="581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400" y="316224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90800" y="3386160"/>
                <a:ext cx="310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9548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2440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86440" y="3386160"/>
                <a:ext cx="0" cy="35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 txBox="1"/>
            <p:nvPr/>
          </p:nvSpPr>
          <p:spPr>
            <a:xfrm>
              <a:off x="6186600" y="309096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Funcional Corporativ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undo James Martin uma grande empresa pode possuir em torn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Áreas Fun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cesso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elamente ao Modelo Funcional Corporativo, deve-se obter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 de Dados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zes de inter-relacion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mos elaborar matrizes bidimensionais para verificar a coerência entre os diversos objetos do planej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são da empresa x objetivos da emp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 da empresa x objetivos 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 da área x fatores críticos de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x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tores crítivos de sucesso x necessidade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2 - Avaliação dos Sistema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efas princip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ntário dos Sistem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s S.I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 ambiente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aboração de recomendações de melhoria de curt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ntário dos Sistema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cionar: objetivo, abrangência, complexidade, vida útil, usuários, arquitetura tecnológica, informações de entrada e saíd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s S. I.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-se avaliar os asp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es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são / exatidão das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u de síntese ou aná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rangência no tempo - informações históricas ou estat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isfação do usuári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urança das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2 - Avaliação dos Sistemas Existent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ção do Ambiente Técn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çã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, rapidez na execução do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us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ção dos controles de segurança lógica e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etividade e eficiência das atividades atuais de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endações de Melhorias de Curto Pr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 base na avaliação dos S.I. e do ambiente técnico, é possí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ualizar e sugerir recomendações de melhorias de curto praz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 podem ser colocadas em prática mesmo antes da finalização do p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.1 - Organização do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arefas principais desta subfase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imento do Grupo d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amento do Escop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entação da empresa sobre o processo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imento do Grup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os plano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.2 - Treinamento dos Particip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treinamento dos participantes do Planejamento Estratégico de Sistemas de Informação deve vi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a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evem estar aptos a se utilizar da Metodologia a ser a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s de Levantament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necessário, os participantes devem ser treinados em técnicas de levantamento de dados (entrevistas, aplicação de questioná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s de Model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lagem funcional corporativa e modelagem de dados corpora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cionalmente, modelagem de objetos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do o Planejamento Estratégico de Sistemas de Informação é realizado para uma pequena ou média 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grupo de trabalho deve ter 2 ou 3 membros (é mais fácil o trein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I - Análise da Situaçã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ão e os Objetivos da empresa (definidos no planejamento estratégico empresa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 organizacional de sust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ções, processos gerenciais, objetivos das áreas funcionais; os desafios e metas dos níveis estratégico, tático e op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ratégias inter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necimento de produtos e serviços para atender as estratégias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imização dos recurso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ratégias exter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 quem devemos fazer negóc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que devemos ven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 que comprariam nossos prod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(F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isas que devem ir corretamente para que os objetivos sejam atin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I - Análise da Situação Atua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âncias na geraçã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ndâncias na execução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abilidades não identifi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imentos não execu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log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rasos persistentes / cr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erros superiores aos norm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ma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ortunidade de reavaliação do modelo ado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1 - Revisão das Estratégias e Operações do Negó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antar estrutura organizacional v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ões dos execu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que estão sendo ou que serão adotadas pel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, Desafios, Metas (níveis Estratégico, Tático e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(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 das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 ser ressaltada a necessidade de participação ativa desses exec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ções do Negó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vistas com o pessoal de nível tático e operacional e análise de documentação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r oportunidades de melh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ificação do nível de automatização dos procedimento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.1 - Revisão das Estratégias e Operações do Negóci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ões sobre estágio da Tecnologia da Informação (T.I.) na organ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tivo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dade de processamento (batch, 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o sobre os negó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os fut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que computacional insta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s de comunicaçã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ficação técnica do pessoal de T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étodos de coleta de inform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vistas (questioná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ção (bom-sen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de documentação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ograma, Planejamento Estratégico; Plano Diretor de T.I.; estratégias, políticas, normas e procedimentos, diagnósticos da área de T.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ssão da Organ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ócio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que ela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que tipo de atividades a empresa deverá se concentrar n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ção futura a se atin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mentar, maximizar ou expandi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minuir, minimizar ou contrai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ter 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 rentabilidade das op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mizar os custos de fabr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 liderança de mercado na linha de produtos domé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 da Área Fun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m para cada área operacional, vinculados aos objetivos da organ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Conceitual de Planejament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elas poucas coisas que devem ir corretamente, mesmo em detrimento de outras que não estejam indo a contento, para se alcança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m-se geralment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rnizar, racionalizar, elaborar, melhorar, obter al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itar, reduzir ou contrair algo;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, dispor 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cionalizar o mix de produ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itar a falta de supr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r de mão-de-obra qualif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ústria automobilís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a de combust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ilo (design) do c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e de distribuição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ho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to inov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dade nas vendas e nos m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 e marketing mund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lidade de uso dos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PAULO HENRIQUE RODRIGUES RIBEIRO</cp:lastModifiedBy>
  <cp:revision>0</cp:revision>
  <dc:subject>Unidade III Introdução ao </dc:subject>
  <dc:title>Curso de Teoria Geral de Sistemas</dc:title>
</cp:coreProperties>
</file>