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C403CE6F-5477-49A2-AEBF-C3F92E1D08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III - Introdução ao Planejamento Estratégico de Sistemas de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rélio: “Arte militar de escolher onde, quando e com que travar um combate ou batalh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á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rélio: “Parte da arte da guerra que trata de como travar um combate ou uma batalh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rélio: “Execução das medidas consideradas necessárias à consecução de um objetivo financeiro, político, militar, etc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Que Planej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 Que Planej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nca temos tempo para fazer algo certo da primeira vez, mas sempre temos tempo para fazê-lo novame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m Planeja sa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r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ir sobre 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er diferenciais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cipar-se a situações desfavor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ar participação n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er serviços e produtos adequados ao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r é uma maneir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mizar a incerteza do processo decisório e aumentar a probabilidade de alcançar os objetivos, desafios e metas empresa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jamento Estratégico de Sistemas de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apa Inicial em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 estabelecem os propósitos básicos, par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antação de sistemas computadorizados estáveis e de apoio à tomada de deci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ames Mart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se Planejamento deve reflet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funções e dados necessários para suportar 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fatores críticos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informação da alt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parte integrante 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mento Estratégico Empresa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Que Elaborar um Planejamento Estratégico de Sistemas de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r oportunidades através do melhor uso de tecnolo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lecer objetivos e fatores críticos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ar as informações que podem auxiliar a gerência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zar a construção de Sistemas de Informação em função das necessidades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mitir à Área de T.I. um melhor planejamento de suas atidades, com maior produtividade e maior sinergia com as áreas de negócio (usuários de T.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zir a redundância de informações n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que de Elaboração do Planej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enfoque produtivo para elaboração do Planejamento Estratégico de Sistemas de Informação, integ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onhecimento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uso de tecnologias de Sistema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escopo de estudo po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da um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di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é mesmo uma s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ês questões bás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de est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 onde iremos?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 ire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que do Planej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29080" y="35193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86360" y="35193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5193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10000" y="5091120"/>
            <a:ext cx="2871720" cy="219240"/>
            <a:chOff x="3510000" y="5091120"/>
            <a:chExt cx="2871720" cy="219240"/>
          </a:xfrm>
        </p:grpSpPr>
        <p:sp>
          <p:nvSpPr>
            <p:cNvPr id="57" name=""/>
            <p:cNvSpPr/>
            <p:nvPr/>
          </p:nvSpPr>
          <p:spPr>
            <a:xfrm>
              <a:off x="3510000" y="509580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10000" y="509112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67280" y="509112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1720" y="509112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529080" y="3505320"/>
            <a:ext cx="2871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741760" y="5284800"/>
            <a:ext cx="4495680" cy="914400"/>
            <a:chOff x="2741760" y="5284800"/>
            <a:chExt cx="4495680" cy="914400"/>
          </a:xfrm>
        </p:grpSpPr>
        <p:grpSp>
          <p:nvGrpSpPr>
            <p:cNvPr id="63" name=""/>
            <p:cNvGrpSpPr/>
            <p:nvPr/>
          </p:nvGrpSpPr>
          <p:grpSpPr>
            <a:xfrm>
              <a:off x="2741760" y="5284800"/>
              <a:ext cx="1600200" cy="914400"/>
              <a:chOff x="2741760" y="5284800"/>
              <a:chExt cx="1600200" cy="914400"/>
            </a:xfrm>
          </p:grpSpPr>
          <p:sp>
            <p:nvSpPr>
              <p:cNvPr id="64" name=""/>
              <p:cNvSpPr/>
              <p:nvPr/>
            </p:nvSpPr>
            <p:spPr>
              <a:xfrm>
                <a:off x="2863800" y="528480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741760" y="532908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senvolv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lanos d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istem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189320" y="5284800"/>
              <a:ext cx="1600200" cy="914400"/>
              <a:chOff x="4189320" y="5284800"/>
              <a:chExt cx="160020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4311720" y="528480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 txBox="1"/>
              <p:nvPr/>
            </p:nvSpPr>
            <p:spPr>
              <a:xfrm>
                <a:off x="4189320" y="532908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senvolv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lanos d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ecnolog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637240" y="5284800"/>
              <a:ext cx="1600200" cy="914400"/>
              <a:chOff x="5637240" y="5284800"/>
              <a:chExt cx="1600200" cy="914400"/>
            </a:xfrm>
          </p:grpSpPr>
          <p:sp>
            <p:nvSpPr>
              <p:cNvPr id="70" name=""/>
              <p:cNvSpPr/>
              <p:nvPr/>
            </p:nvSpPr>
            <p:spPr>
              <a:xfrm>
                <a:off x="5759280" y="528480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5637240" y="532908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senvolv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lanos Orga-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zacionai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3456000" y="6032520"/>
            <a:ext cx="3048120" cy="1744560"/>
            <a:chOff x="3456000" y="6032520"/>
            <a:chExt cx="3048120" cy="1744560"/>
          </a:xfrm>
        </p:grpSpPr>
        <p:grpSp>
          <p:nvGrpSpPr>
            <p:cNvPr id="73" name=""/>
            <p:cNvGrpSpPr/>
            <p:nvPr/>
          </p:nvGrpSpPr>
          <p:grpSpPr>
            <a:xfrm>
              <a:off x="3456000" y="6276960"/>
              <a:ext cx="1600200" cy="1500120"/>
              <a:chOff x="3456000" y="6276960"/>
              <a:chExt cx="1600200" cy="1500120"/>
            </a:xfrm>
          </p:grpSpPr>
          <p:sp>
            <p:nvSpPr>
              <p:cNvPr id="74" name=""/>
              <p:cNvSpPr/>
              <p:nvPr/>
            </p:nvSpPr>
            <p:spPr>
              <a:xfrm>
                <a:off x="3576600" y="686268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3456000" y="6276960"/>
                <a:ext cx="160020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tabelec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Projet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4903920" y="6032520"/>
              <a:ext cx="1600200" cy="1744560"/>
              <a:chOff x="4903920" y="6032520"/>
              <a:chExt cx="1600200" cy="1744560"/>
            </a:xfrm>
          </p:grpSpPr>
          <p:sp>
            <p:nvSpPr>
              <p:cNvPr id="77" name=""/>
              <p:cNvSpPr/>
              <p:nvPr/>
            </p:nvSpPr>
            <p:spPr>
              <a:xfrm>
                <a:off x="5024520" y="686268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4903920" y="603252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bt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provação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 Gerênc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2741760" y="3736800"/>
            <a:ext cx="4495680" cy="914400"/>
            <a:chOff x="2741760" y="3736800"/>
            <a:chExt cx="4495680" cy="914400"/>
          </a:xfrm>
        </p:grpSpPr>
        <p:grpSp>
          <p:nvGrpSpPr>
            <p:cNvPr id="80" name=""/>
            <p:cNvGrpSpPr/>
            <p:nvPr/>
          </p:nvGrpSpPr>
          <p:grpSpPr>
            <a:xfrm>
              <a:off x="2741760" y="3736800"/>
              <a:ext cx="1600200" cy="914400"/>
              <a:chOff x="2741760" y="3736800"/>
              <a:chExt cx="1600200" cy="914400"/>
            </a:xfrm>
          </p:grpSpPr>
          <p:sp>
            <p:nvSpPr>
              <p:cNvPr id="81" name=""/>
              <p:cNvSpPr/>
              <p:nvPr/>
            </p:nvSpPr>
            <p:spPr>
              <a:xfrm>
                <a:off x="2863800" y="373680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2741760" y="3903840"/>
                <a:ext cx="160020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fini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ecessidad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189320" y="3736800"/>
              <a:ext cx="3048120" cy="914400"/>
              <a:chOff x="4189320" y="3736800"/>
              <a:chExt cx="3048120" cy="9144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4189320" y="3736800"/>
                <a:ext cx="1600200" cy="914400"/>
                <a:chOff x="4189320" y="3736800"/>
                <a:chExt cx="1600200" cy="9144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311720" y="373680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 txBox="1"/>
                <p:nvPr/>
              </p:nvSpPr>
              <p:spPr>
                <a:xfrm>
                  <a:off x="4189320" y="3903840"/>
                  <a:ext cx="160020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envolver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637240" y="3736800"/>
                <a:ext cx="1600200" cy="914400"/>
                <a:chOff x="5637240" y="3736800"/>
                <a:chExt cx="1600200" cy="914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759280" y="373680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 txBox="1"/>
                <p:nvPr/>
              </p:nvSpPr>
              <p:spPr>
                <a:xfrm>
                  <a:off x="5637240" y="378144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envolver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ernativa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Soluçã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" name=""/>
          <p:cNvGrpSpPr/>
          <p:nvPr/>
        </p:nvGrpSpPr>
        <p:grpSpPr>
          <a:xfrm>
            <a:off x="2003400" y="719280"/>
            <a:ext cx="5943600" cy="2793960"/>
            <a:chOff x="2003400" y="719280"/>
            <a:chExt cx="5943600" cy="2793960"/>
          </a:xfrm>
        </p:grpSpPr>
        <p:grpSp>
          <p:nvGrpSpPr>
            <p:cNvPr id="91" name=""/>
            <p:cNvGrpSpPr/>
            <p:nvPr/>
          </p:nvGrpSpPr>
          <p:grpSpPr>
            <a:xfrm>
              <a:off x="4175280" y="719280"/>
              <a:ext cx="1600200" cy="914400"/>
              <a:chOff x="4175280" y="719280"/>
              <a:chExt cx="1600200" cy="914400"/>
            </a:xfrm>
          </p:grpSpPr>
          <p:sp>
            <p:nvSpPr>
              <p:cNvPr id="92" name=""/>
              <p:cNvSpPr/>
              <p:nvPr/>
            </p:nvSpPr>
            <p:spPr>
              <a:xfrm>
                <a:off x="4295880" y="71928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4175280" y="885960"/>
                <a:ext cx="160020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iciar o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Proje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003400" y="2114640"/>
              <a:ext cx="5943600" cy="914400"/>
              <a:chOff x="2003400" y="2114640"/>
              <a:chExt cx="5943600" cy="9144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2003400" y="2114640"/>
                <a:ext cx="1600200" cy="914400"/>
                <a:chOff x="2003400" y="2114640"/>
                <a:chExt cx="1600200" cy="9144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25800" y="211464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 txBox="1"/>
                <p:nvPr/>
              </p:nvSpPr>
              <p:spPr>
                <a:xfrm>
                  <a:off x="2003400" y="215892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visar Estratégias do Negóc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451320" y="2114640"/>
                <a:ext cx="1600200" cy="914400"/>
                <a:chOff x="3451320" y="2114640"/>
                <a:chExt cx="1600200" cy="9144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573360" y="211464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 txBox="1"/>
                <p:nvPr/>
              </p:nvSpPr>
              <p:spPr>
                <a:xfrm>
                  <a:off x="3451320" y="215892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visar Operações do Negóc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898880" y="2114640"/>
                <a:ext cx="1600200" cy="914400"/>
                <a:chOff x="4898880" y="2114640"/>
                <a:chExt cx="1600200" cy="914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021280" y="211464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 txBox="1"/>
                <p:nvPr/>
              </p:nvSpPr>
              <p:spPr>
                <a:xfrm>
                  <a:off x="4898880" y="215892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visa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Existen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346800" y="2114640"/>
                <a:ext cx="1600200" cy="914400"/>
                <a:chOff x="6346800" y="2114640"/>
                <a:chExt cx="1600200" cy="9144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469200" y="211464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 txBox="1"/>
                <p:nvPr/>
              </p:nvSpPr>
              <p:spPr>
                <a:xfrm>
                  <a:off x="6346800" y="215892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dentifica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lhoria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urto Praz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" name=""/>
            <p:cNvGrpSpPr/>
            <p:nvPr/>
          </p:nvGrpSpPr>
          <p:grpSpPr>
            <a:xfrm>
              <a:off x="2738520" y="1633680"/>
              <a:ext cx="4495680" cy="490320"/>
              <a:chOff x="2738520" y="1633680"/>
              <a:chExt cx="4495680" cy="49032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738520" y="1633680"/>
                <a:ext cx="4495680" cy="490320"/>
                <a:chOff x="2738520" y="1633680"/>
                <a:chExt cx="4495680" cy="49032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2738520" y="1633680"/>
                  <a:ext cx="4495680" cy="228600"/>
                  <a:chOff x="2738520" y="1633680"/>
                  <a:chExt cx="4495680" cy="2286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4979880" y="1633680"/>
                    <a:ext cx="0" cy="22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738520" y="1862280"/>
                    <a:ext cx="449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2743200" y="186696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4248000" y="1862280"/>
                <a:ext cx="0" cy="25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95920" y="1862280"/>
                <a:ext cx="0" cy="25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234200" y="1862280"/>
                <a:ext cx="0" cy="25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738520" y="3022560"/>
              <a:ext cx="4495680" cy="490680"/>
              <a:chOff x="2738520" y="3022560"/>
              <a:chExt cx="4495680" cy="490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738520" y="3022560"/>
                <a:ext cx="4495680" cy="490680"/>
                <a:chOff x="2738520" y="3022560"/>
                <a:chExt cx="4495680" cy="49068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2738520" y="3284640"/>
                  <a:ext cx="4495680" cy="228600"/>
                  <a:chOff x="2738520" y="3284640"/>
                  <a:chExt cx="4495680" cy="2286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V="1">
                    <a:off x="4979880" y="3284640"/>
                    <a:ext cx="0" cy="22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738520" y="3284640"/>
                    <a:ext cx="449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flipV="1">
                  <a:off x="2743200" y="302256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 flipV="1">
                <a:off x="4248000" y="3027240"/>
                <a:ext cx="0" cy="2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5695920" y="3027240"/>
                <a:ext cx="0" cy="2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7234200" y="3027240"/>
                <a:ext cx="0" cy="2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514680" y="4649760"/>
            <a:ext cx="2871720" cy="432000"/>
            <a:chOff x="3514680" y="4649760"/>
            <a:chExt cx="2871720" cy="432000"/>
          </a:xfrm>
        </p:grpSpPr>
        <p:grpSp>
          <p:nvGrpSpPr>
            <p:cNvPr id="126" name=""/>
            <p:cNvGrpSpPr/>
            <p:nvPr/>
          </p:nvGrpSpPr>
          <p:grpSpPr>
            <a:xfrm>
              <a:off x="3514680" y="4649760"/>
              <a:ext cx="2871720" cy="227160"/>
              <a:chOff x="3514680" y="4649760"/>
              <a:chExt cx="2871720" cy="227160"/>
            </a:xfrm>
          </p:grpSpPr>
          <p:sp>
            <p:nvSpPr>
              <p:cNvPr id="127" name=""/>
              <p:cNvSpPr/>
              <p:nvPr/>
            </p:nvSpPr>
            <p:spPr>
              <a:xfrm>
                <a:off x="3514680" y="4876920"/>
                <a:ext cx="28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514680" y="4656240"/>
                <a:ext cx="0" cy="21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971960" y="4649760"/>
                <a:ext cx="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6386400" y="4656240"/>
                <a:ext cx="0" cy="21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971960" y="4876920"/>
              <a:ext cx="0" cy="204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14680" y="6211800"/>
            <a:ext cx="2871720" cy="650880"/>
            <a:chOff x="3514680" y="6211800"/>
            <a:chExt cx="2871720" cy="650880"/>
          </a:xfrm>
        </p:grpSpPr>
        <p:grpSp>
          <p:nvGrpSpPr>
            <p:cNvPr id="133" name=""/>
            <p:cNvGrpSpPr/>
            <p:nvPr/>
          </p:nvGrpSpPr>
          <p:grpSpPr>
            <a:xfrm>
              <a:off x="3514680" y="6211800"/>
              <a:ext cx="2871720" cy="441360"/>
              <a:chOff x="3514680" y="6211800"/>
              <a:chExt cx="2871720" cy="441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514680" y="6211800"/>
                <a:ext cx="2871720" cy="432000"/>
                <a:chOff x="3514680" y="6211800"/>
                <a:chExt cx="2871720" cy="43200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3514680" y="6211800"/>
                  <a:ext cx="2871720" cy="227160"/>
                  <a:chOff x="3514680" y="6211800"/>
                  <a:chExt cx="2871720" cy="2271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3514680" y="6438960"/>
                    <a:ext cx="2871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>
                    <a:off x="3514680" y="6218280"/>
                    <a:ext cx="0" cy="218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V="1">
                    <a:off x="4971960" y="6211800"/>
                    <a:ext cx="0" cy="219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V="1">
                    <a:off x="6386400" y="6218280"/>
                    <a:ext cx="0" cy="218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4971960" y="6438960"/>
                  <a:ext cx="0" cy="20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4205160" y="6653160"/>
                <a:ext cx="14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05160" y="66531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95920" y="66531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s e Subfases da Metodolo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e I - Início do Planejamento Estratégico de Sistemas d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1 - Organização do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2 - Treinamento dos Participantes do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e II - Análise da Situaçã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1 - Revisão das Estratégias e Operações do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2 - Avaliação dos Sistemas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e III - Elaboração de Solu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1 - Definição da Arquitetura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2 - Definição da Arquitetura de 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3 - Definição de Estratégias Geren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4 - Definição da Arquitetura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e IV - Desenvolvimento dos Pl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1 - Desenvolvimento dos Projetos de Sistemas de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2 - Definição das Necessidades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3 - Finalização do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Análise de Sistemas da Universidade Paulista</dc:description>
  <dc:language>en-US</dc:language>
  <cp:lastModifiedBy>PAULO HENRIQUE RODRIGUES RIBEIRO</cp:lastModifiedBy>
  <cp:revision>0</cp:revision>
  <dc:subject>Unidade III Introdução ao </dc:subject>
  <dc:title>Curso de Teoria Geral de Sistemas</dc:title>
</cp:coreProperties>
</file>