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906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50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23880" y="127080"/>
            <a:ext cx="6850080" cy="220320"/>
            <a:chOff x="1523880" y="127080"/>
            <a:chExt cx="6850080" cy="220320"/>
          </a:xfrm>
        </p:grpSpPr>
        <p:sp>
          <p:nvSpPr>
            <p:cNvPr id="1" name=""/>
            <p:cNvSpPr/>
            <p:nvPr/>
          </p:nvSpPr>
          <p:spPr>
            <a:xfrm>
              <a:off x="1523880" y="127080"/>
              <a:ext cx="6850080" cy="108000"/>
            </a:xfrm>
            <a:prstGeom prst="rect">
              <a:avLst/>
            </a:prstGeom>
            <a:gradFill rotWithShape="0">
              <a:gsLst>
                <a:gs pos="0">
                  <a:srgbClr val="d3d3d3"/>
                </a:gs>
                <a:gs pos="50000">
                  <a:srgbClr val="ebebeb"/>
                </a:gs>
                <a:gs pos="100000">
                  <a:srgbClr val="d3d3d3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3880" y="291960"/>
              <a:ext cx="6850080" cy="5544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cecece"/>
                </a:gs>
                <a:gs pos="100000">
                  <a:srgbClr val="7b7b7b"/>
                </a:gs>
              </a:gsLst>
              <a:lin ang="0"/>
            </a:gradFill>
            <a:ln w="0">
              <a:noFill/>
            </a:ln>
          </p:spPr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 txBox="1"/>
          <p:nvPr/>
        </p:nvSpPr>
        <p:spPr>
          <a:xfrm>
            <a:off x="7939080" y="7967520"/>
            <a:ext cx="37944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7A2BDCBC-A5C8-4170-8110-C1641C782F0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dade I - Introdução aos Sistemas de Inform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stemas de Informação - interação diár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ssoal e profissional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umento dos gastos com S.I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ados anos 80: US$50 bilh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ados anos 90: US$150 bilh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utadores e S.I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nsformando os negócios de empre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própria informação tem val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ércio envolve mais troca de informações do que b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Que é um Sistema de Informaçã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É uma série de elementos ou componentes inter-relacionados que coletam (entrada), manipulam e armazenam (processo), disseminam (saída) os dados e informações e fornecem um mecanismo de “feedba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032360" y="3193920"/>
            <a:ext cx="2668680" cy="2908440"/>
            <a:chOff x="4032360" y="3193920"/>
            <a:chExt cx="2668680" cy="2908440"/>
          </a:xfrm>
        </p:grpSpPr>
        <p:sp>
          <p:nvSpPr>
            <p:cNvPr id="103" name=""/>
            <p:cNvSpPr txBox="1"/>
            <p:nvPr/>
          </p:nvSpPr>
          <p:spPr>
            <a:xfrm>
              <a:off x="4032360" y="3193920"/>
              <a:ext cx="1460520" cy="622440"/>
            </a:xfrm>
            <a:prstGeom prst="rect">
              <a:avLst/>
            </a:prstGeom>
            <a:solidFill>
              <a:srgbClr val="ebebeb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ntra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 txBox="1"/>
            <p:nvPr/>
          </p:nvSpPr>
          <p:spPr>
            <a:xfrm>
              <a:off x="4032360" y="4336920"/>
              <a:ext cx="1460520" cy="622440"/>
            </a:xfrm>
            <a:prstGeom prst="rect">
              <a:avLst/>
            </a:prstGeom>
            <a:solidFill>
              <a:srgbClr val="ebebeb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cessamen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>
              <a:off x="4032360" y="5479920"/>
              <a:ext cx="1460520" cy="622440"/>
            </a:xfrm>
            <a:prstGeom prst="rect">
              <a:avLst/>
            </a:prstGeom>
            <a:solidFill>
              <a:srgbClr val="ebebeb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aí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95760" y="5791320"/>
              <a:ext cx="44136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5943600" y="3500280"/>
              <a:ext cx="0" cy="229572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5483160" y="3505320"/>
              <a:ext cx="46692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5483160" y="4648320"/>
              <a:ext cx="46692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>
              <a:off x="5643720" y="4414680"/>
              <a:ext cx="1057320" cy="363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eedb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entrada é a atividade de captar e juntar os dados primá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.: coleta de horas trabalhadas para se calcular um cheque de pagamento de salá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dependentemente do sistema envolvido, o tipo de entrada é determinado pela saída desejada do 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entrada pode ser um processo manual ou automatiz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.: caixa registradora de um super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same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volve a conversão ou transformação dos dados em saídas úte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de envolver cálculos comparações e tomada de ações alternativas, e a armazenagem dos dados para uso fut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de ser feito manualmente ou com a assistência de comput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.: a obtenção do valor do pagamento líquido de um funcioná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í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volve a produção de informações úte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ralmente na forma de documentos, relatórios e dados de trans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s.: cheques de pagamento a funcionários, relatórios para ger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de ser produzida de formas vari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latórios impressos e telas de comput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cesso manual, envolvendo relatórios e documentos manuscr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edback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É uma saída usada para fazer ajustes ou modificações nas atividades de entrada ou process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.: rejeição de valores fora de domínio (400 horas trabalhadas num mesmo mês, para um mesmo empregado, por exempl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É também importante para os administradores e tomadores de decis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.: saída de um sistema de estoque, indicando que os níveis de estoque de alguns produtos estão baix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ministrador toma decisão de pedir mais estoque desse produ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s novos pedidos de estoque se tornam entradas do sist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I. Manuais e Computadoriza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m sistema de informação (S.I.) pode ser manual ou computadoriz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mbos os tipos podem ser muito bons e úte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itos sistemas de informação começam como sistemas manuais e se transformam em computadoriz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ortan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a simples transposição para o computador de um sistema de informação manual não garante sua melhor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 o sistema manual for defeituoso, sua computadorização pode apenas aumentar o impacto dessas fal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tema de Informação Baseado em Computado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É composto p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quipamentos de entrada, processamento e saí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gramas e instruções dadas ao comput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nco de d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eção organizada de fatos e informa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lecomunic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rmitem ligar os computadores em re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sso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renciam, executam e mantêm o sistema do comput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cedi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stratégias, políticas, métodos e regras usadas para operar o CB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.:manuais de usuário, de contingência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os de CB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stemas de Processamento de Transações (T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tam e processam trocas diárias de negócios, ou trans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.: folha de pagto., controle de estoq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stemas de Informações Gerenci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judam os administradores a tomar melhores decisões em seus negó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latórios program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latórios de dema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latórios de exce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stemas de Apoio à Decisão (D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istência e apoio à tomada de decisões sobre um problema específ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dem sugerir alternativas para decisões estratég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stema Especialista (I.A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bcampo da inteligência artifi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é um S.I. que pode fazer sugestões e chegar a conclusões de um modo bem semelhante a um profissional especial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ção em Sistemas de Inform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hecimento de como os dados e a informação são usados p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sso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pre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range como e por que a T.I. é aplicada em negó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o usar o hardware e software pa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umentar os luc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tar cu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horar a produtiv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umentar a satisfação dos cl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ícios e Usos dos Sistemas de Inform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lor agregado de bens e serviç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ior seguranç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hor serviç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ntagens competi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nos er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ior precis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tos de melhor qual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erfeiçoamento das comunic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ior efici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ior produtiv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ministração mais efic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is oportun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rga de trabalho reduz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stos reduz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ior e melhor controle sobre oper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mada de decisões financeiras e gerenciais superi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itos de Inform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3040" indent="-285840" algn="just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ção x Dad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d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fatos em forma primá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.: nome de um empregado, o número de horas trabalhadas num mê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çã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conjunto de fatos organiz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m valor adicional além do fato em 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.: soma dos salários de todos empregados em um mês - despesas com pesso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alog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pedaços de madeira e formas de organizá-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lações entre os dados faz a informação ganha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itos de Informação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3040" indent="-285840" algn="just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nsformação dos dados em informação é 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roce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cess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arefas logicamente relacionadas, executadas para atingir um resultado defin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cesso de definição de relações entre dados requ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hec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hecimen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conjunto de regras, diretrizes e procedimentos usados pa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lecionar, organizar e manipular os dad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ra torná-los úteis para uma tarefa específ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itos de Informação (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3040" indent="-285840" algn="just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cessamento dos Dad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nualmente ou mental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ando-se computador(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 que é Importan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ão é a fonte dos dado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m como são process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ão o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ultad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que são úteis para o tomador de decis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ções imprecisas ou incompletas =&gt; decisões ruins podem ser tom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ção Relevante - Característ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ecis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ra lixo, sai lix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l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conô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ção x custos para obtê-l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lexí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da tipo de usuário, uma final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fiá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fiabilidade depende da fo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lev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ção em excesso causa sobrecar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 T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erificá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Que é Um Sistem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m conjunto de elementos ou componentes que interagem para atingir um obje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êm entradas, mecanismos de processamento, saídas e “feedback” (realimentaçã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emplo: processo de assar um bo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radas: farinha de trigo, ovos, açucar e manteiga; tempo, energia, técnica e conhec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eedback: termostato do fo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ída: bolo acab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presas podem ser vistas como sist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 maioria dos casos, as metas são: maximização do lucro e a satisfação do c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es e Conceitos de Sist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mite do siste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define o sistema e o distingue de qualquer outro (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mbien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bsistem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sistemas dentro de um 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figuraçã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a forma na qual os elementos do sistema estão organizados ou arranj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es e Conceitos de Sistema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95320" y="1071720"/>
            <a:ext cx="6329520" cy="5943600"/>
            <a:chOff x="1795320" y="1071720"/>
            <a:chExt cx="6329520" cy="5943600"/>
          </a:xfrm>
        </p:grpSpPr>
        <p:grpSp>
          <p:nvGrpSpPr>
            <p:cNvPr id="58" name=""/>
            <p:cNvGrpSpPr/>
            <p:nvPr/>
          </p:nvGrpSpPr>
          <p:grpSpPr>
            <a:xfrm>
              <a:off x="2133720" y="1542960"/>
              <a:ext cx="990720" cy="609480"/>
              <a:chOff x="2133720" y="1542960"/>
              <a:chExt cx="990720" cy="609480"/>
            </a:xfrm>
          </p:grpSpPr>
          <p:sp>
            <p:nvSpPr>
              <p:cNvPr id="59" name=""/>
              <p:cNvSpPr/>
              <p:nvPr/>
            </p:nvSpPr>
            <p:spPr>
              <a:xfrm>
                <a:off x="2133720" y="1542960"/>
                <a:ext cx="990720" cy="609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 txBox="1"/>
              <p:nvPr/>
            </p:nvSpPr>
            <p:spPr>
              <a:xfrm>
                <a:off x="2281320" y="1614600"/>
                <a:ext cx="695160" cy="393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3429000" y="1542960"/>
              <a:ext cx="990720" cy="609480"/>
              <a:chOff x="3429000" y="1542960"/>
              <a:chExt cx="990720" cy="609480"/>
            </a:xfrm>
          </p:grpSpPr>
          <p:sp>
            <p:nvSpPr>
              <p:cNvPr id="62" name=""/>
              <p:cNvSpPr/>
              <p:nvPr/>
            </p:nvSpPr>
            <p:spPr>
              <a:xfrm>
                <a:off x="3429000" y="1542960"/>
                <a:ext cx="990720" cy="609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 txBox="1"/>
              <p:nvPr/>
            </p:nvSpPr>
            <p:spPr>
              <a:xfrm>
                <a:off x="3576600" y="1614600"/>
                <a:ext cx="695160" cy="393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4724280" y="1542960"/>
              <a:ext cx="990720" cy="609480"/>
              <a:chOff x="4724280" y="1542960"/>
              <a:chExt cx="990720" cy="609480"/>
            </a:xfrm>
          </p:grpSpPr>
          <p:sp>
            <p:nvSpPr>
              <p:cNvPr id="65" name=""/>
              <p:cNvSpPr/>
              <p:nvPr/>
            </p:nvSpPr>
            <p:spPr>
              <a:xfrm>
                <a:off x="4724280" y="1542960"/>
                <a:ext cx="990720" cy="609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 txBox="1"/>
              <p:nvPr/>
            </p:nvSpPr>
            <p:spPr>
              <a:xfrm>
                <a:off x="4871880" y="1614600"/>
                <a:ext cx="695160" cy="393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4041720" y="2994120"/>
              <a:ext cx="1676520" cy="444600"/>
            </a:xfrm>
            <a:prstGeom prst="rect">
              <a:avLst/>
            </a:prstGeom>
            <a:solidFill>
              <a:srgbClr val="9c9c9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6019920" y="1542960"/>
              <a:ext cx="990720" cy="609480"/>
              <a:chOff x="6019920" y="1542960"/>
              <a:chExt cx="990720" cy="609480"/>
            </a:xfrm>
          </p:grpSpPr>
          <p:sp>
            <p:nvSpPr>
              <p:cNvPr id="69" name=""/>
              <p:cNvSpPr/>
              <p:nvPr/>
            </p:nvSpPr>
            <p:spPr>
              <a:xfrm>
                <a:off x="6019920" y="1542960"/>
                <a:ext cx="990720" cy="609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 txBox="1"/>
              <p:nvPr/>
            </p:nvSpPr>
            <p:spPr>
              <a:xfrm>
                <a:off x="6167520" y="1614600"/>
                <a:ext cx="695160" cy="393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" name=""/>
            <p:cNvSpPr txBox="1"/>
            <p:nvPr/>
          </p:nvSpPr>
          <p:spPr>
            <a:xfrm>
              <a:off x="4110120" y="3033720"/>
              <a:ext cx="1533600" cy="33336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mbinaçã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682720" y="2168640"/>
              <a:ext cx="1343160" cy="809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78360" y="2168640"/>
              <a:ext cx="581040" cy="809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4943520" y="2168640"/>
              <a:ext cx="250920" cy="809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5629320" y="2168640"/>
              <a:ext cx="860400" cy="809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905120" y="1238400"/>
              <a:ext cx="5410080" cy="3124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 txBox="1"/>
            <p:nvPr/>
          </p:nvSpPr>
          <p:spPr>
            <a:xfrm>
              <a:off x="6014880" y="3062160"/>
              <a:ext cx="122868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bsistema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038480" y="3600360"/>
              <a:ext cx="16765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054320" y="3905280"/>
              <a:ext cx="164808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054320" y="3616200"/>
              <a:ext cx="1644480" cy="274680"/>
            </a:xfrm>
            <a:prstGeom prst="rect">
              <a:avLst/>
            </a:prstGeom>
            <a:solidFill>
              <a:srgbClr val="ebebe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 txBox="1"/>
            <p:nvPr/>
          </p:nvSpPr>
          <p:spPr>
            <a:xfrm>
              <a:off x="4110120" y="3687840"/>
              <a:ext cx="1533600" cy="363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63960" y="345744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2743200" y="4819680"/>
              <a:ext cx="990720" cy="425520"/>
              <a:chOff x="2743200" y="4819680"/>
              <a:chExt cx="990720" cy="425520"/>
            </a:xfrm>
          </p:grpSpPr>
          <p:sp>
            <p:nvSpPr>
              <p:cNvPr id="84" name=""/>
              <p:cNvSpPr/>
              <p:nvPr/>
            </p:nvSpPr>
            <p:spPr>
              <a:xfrm>
                <a:off x="2743200" y="4819680"/>
                <a:ext cx="990720" cy="409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 txBox="1"/>
              <p:nvPr/>
            </p:nvSpPr>
            <p:spPr>
              <a:xfrm>
                <a:off x="2890800" y="4851360"/>
                <a:ext cx="695160" cy="393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4038480" y="4815000"/>
              <a:ext cx="1676520" cy="409320"/>
              <a:chOff x="4038480" y="4815000"/>
              <a:chExt cx="1676520" cy="409320"/>
            </a:xfrm>
          </p:grpSpPr>
          <p:sp>
            <p:nvSpPr>
              <p:cNvPr id="87" name=""/>
              <p:cNvSpPr/>
              <p:nvPr/>
            </p:nvSpPr>
            <p:spPr>
              <a:xfrm>
                <a:off x="4038480" y="4824360"/>
                <a:ext cx="1676520" cy="399960"/>
              </a:xfrm>
              <a:prstGeom prst="rect">
                <a:avLst/>
              </a:prstGeom>
              <a:solidFill>
                <a:srgbClr val="9c9c9c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 txBox="1"/>
              <p:nvPr/>
            </p:nvSpPr>
            <p:spPr>
              <a:xfrm>
                <a:off x="4567320" y="4815000"/>
                <a:ext cx="542880" cy="393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3749760" y="5048280"/>
              <a:ext cx="276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48120" y="4221000"/>
              <a:ext cx="0" cy="595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647800" y="3505320"/>
              <a:ext cx="5191200" cy="2343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6319800" y="4890960"/>
              <a:ext cx="122868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bsistema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038480" y="6195960"/>
              <a:ext cx="1676520" cy="399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414680" y="6262560"/>
              <a:ext cx="84780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aíd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53160" y="5235480"/>
              <a:ext cx="0" cy="952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795320" y="1071720"/>
              <a:ext cx="6329520" cy="5943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 txBox="1"/>
            <p:nvPr/>
          </p:nvSpPr>
          <p:spPr>
            <a:xfrm>
              <a:off x="6458040" y="6200640"/>
              <a:ext cx="1228680" cy="51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imite do sistem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empenho e Padrões de Siste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iciênc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medida do que é produzido dividido pelo que é consum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cance da medida: de 0% a 10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rmo relativo utilizado para comparar sist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.: motor a gasolina é mais eficiente do que um motor a vap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icác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medida da proporção em que o sistema atinge seus 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.: sistema de controle para minimizar o nº de paças defeituo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ta: redução de 100 peças defeituo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dução real: 85 peç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ficácia = 85 / 100 = 8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s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iciais e despesas de manuten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lexida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rau de complicação na relação entre os elementos do sist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ro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pacidade do sistema de operar dentro de diretrizes predefinidas (políticas, procedimentos, orçamentos, esforços gerencia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Fernando Andrade Martins de Araújo</dc:creator>
  <dc:description>Curso ministrado aos alunos de graduação em Ciência da Computação das Faculdades Objetivo. Ano de 1.999</dc:description>
  <dc:language>en-US</dc:language>
  <cp:lastModifiedBy>PAULO HENRIQUE RODRIGUES RIBEIRO</cp:lastModifiedBy>
  <cp:revision>0</cp:revision>
  <dc:subject>Introdução a Auditoria - aula 001</dc:subject>
  <dc:title>Curso de Auditoria de Sistemas</dc:title>
</cp:coreProperties>
</file>