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5393160"/>
            <a:ext cx="611496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29840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48240" y="1904760"/>
            <a:ext cx="29840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5393160"/>
            <a:ext cx="29840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48240" y="5393160"/>
            <a:ext cx="29840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19688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82280" y="1904760"/>
            <a:ext cx="19688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49760" y="1904760"/>
            <a:ext cx="19688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5393160"/>
            <a:ext cx="19688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82280" y="5393160"/>
            <a:ext cx="19688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649760" y="5393160"/>
            <a:ext cx="19688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298404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48240" y="1904760"/>
            <a:ext cx="298404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182160"/>
            <a:ext cx="582912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29840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8240" y="1904760"/>
            <a:ext cx="298404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5393160"/>
            <a:ext cx="29840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298404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8240" y="1904760"/>
            <a:ext cx="29840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48240" y="5393160"/>
            <a:ext cx="29840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29840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8240" y="1904760"/>
            <a:ext cx="298404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5393160"/>
            <a:ext cx="6114960" cy="318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3880"/>
            <a:ext cx="6850080" cy="203400"/>
            <a:chOff x="0" y="1523880"/>
            <a:chExt cx="6850080" cy="20340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6850080" cy="10008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50000">
                  <a:srgbClr val="ebebeb"/>
                </a:gs>
                <a:gs pos="100000">
                  <a:srgbClr val="d2d2d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676520"/>
              <a:ext cx="6850080" cy="507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6102360" y="87519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636A-5A06-47FA-987D-EE1760BBC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151080"/>
            <a:ext cx="5829120" cy="164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Redes de Computadore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A Camada de Rede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28520" y="5391000"/>
            <a:ext cx="4800600" cy="253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dade Pau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62360" y="6783120"/>
            <a:ext cx="293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. Fernando Araú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igação Inter-Red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Diferenças entre Rede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14440" y="1905120"/>
          <a:ext cx="6103800" cy="67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905120"/>
                    <a:ext cx="6103800" cy="67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igação Inter-Red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Tunelamento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ligações inter-redes são compl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etanto, existe um caso especial que proporciona bons resul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os hosts de origem e de destino têm o mesmo tipo de re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há uma rede de outro tipo entre 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olução é uma técnica chama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unel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rede Ethernet, baseada em TCP/IP na matriz de uma empres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filial também com uma rede Ethernet baseada em 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interligar matriz e filial é usada uma rede WAN Frame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ogia: um carro, dentro de um trem entre duas ci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ook Antiqua"/>
              </a:rPr>
              <a:t>Ligação Inter-Redes: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Book Antiqua"/>
              </a:rPr>
              <a:t>Firewall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lexibilidade de conexão inter-redes oferecida pela Internet 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facilidade divertida para os usuários domésticos da Intern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“dor-de-cabeça” para os gerentes de segurança e administradores de redes da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solução para evitar as invasões indesejadas nas redes internas das empresas é 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Firewall”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barreira de prote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“firewall” é uma versão moderna dos fossos dos castelos mediev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único jeito de entrar ou sair do castelo é pela ponte levadi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único jeito de se comunicar da rede interna com a rede externa, e vice-versa é pelo “firewal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 Camada de Redes na Internet : O protocolo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IP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nternet pode ser vista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sistemas autônomos (S.A.) conectados entre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versos “backbones” principais, com linhas de alta largura de banda e roteadores rápidos interligam os S.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regionais conectam-se aos “backbon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locais de empresas, universidades e provedores se interligam às redes reg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“argamassa” que mantêm tudo isso unido 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tocolo de camada de rede, 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igla: Internet Protocol (ou Protocolo Inter-re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i concebido para ligação inter-redes, diferentemente de outros protocolos de re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Endereços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IP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IP, cada host e cada roteador tem um endereço 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seu número de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seu número d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endereço é ún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as máquinas nunca têm o mesmo endereço 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endereços IP são representados em 32 b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A: bit inicial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B: bits iniciais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C: bits iniciais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D: bits iniciais 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E: bits iniciais 11110 (uso futu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visão dos 32 b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A: 1º octeto - rede; restante: ho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B: 1º e 2º octeto - re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C: 1º ao 3º octeto -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ook Antiqua"/>
              </a:rPr>
              <a:t>Protocolos de Controle TCP/IP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o IP, que é usado para transferência de dados, a pilha TCP/IP possui diversos protocolos de contro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Internet Control Message Protoco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ortar erros entre rote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guntar” se uma máquina está ativa (“echo request”; “echo reply”; “ping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Address Resolution Protoco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 um endereço IP, este protocolo determina o correspondente endereço de enlace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iona por difu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AR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Reverse Address Resolution Protoco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 um endereço de enlace Ethernet, este protocolo determina qual é o endereço IP correspo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ve para inicializar uma estação de trabalho sem d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pectos Gerais da Camada de Red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da com a transferência de pacotes da origem para o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que se chegue ao destino, são necessários vários “hops” (passos), em roteadores intermediá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camada mais baixa que lida com a transmissão “fim-a-fi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tingir seus objetivos, a camada de rede de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er a topologia da sub-re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lher os caminhos mais apropri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lher rotas que evitem sobrecarregar linhas e rote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dar com as eventuais diferenças entre as redes de origem e dest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Funções da Camada de Red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necer serviç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à camada de transporte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rcuito virtual e ou  data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incipal fun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teamento de pac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b-redes de circuitos virtuais: decisão de roteamento é tomada quando o circuito virtual é configur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b-redes de datagrama: decisão afeta todos os pac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role de congestion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gestion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situação caracterizada pelo excesso de pacotes em uma parte da sub-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gação Inter-Re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igem e destino podem estar em redes de diferentes tipos ou sub-redes intermediárias podem ser de diferentes 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 camada deve resolver os problemas devidos a essas difere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ook Antiqua"/>
              </a:rPr>
              <a:t>Circuito Virtual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Book Antiqua"/>
              </a:rPr>
              <a:t>X Datagrama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s Virt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lmente utilizados em sub-redes com serviços orientados à conex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éia: evitar a escolha de uma nova rota a cada pacote ou célula env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rota é escolhida no estabelecimento da conexão e utilizada por toda a conex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acote deve conter um campo de número do circuito virtual em seu cabaç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ta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nhuma rota é previamente defi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acote enviado é roteado independentemente de seus anteces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tipo de serviço exige mais processamento dos rote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compensação, é mais robusto e adaptável a falhas e congest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acote deve conter o completo endereço de destino em seu cabeç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ook Antiqua"/>
              </a:rPr>
              <a:t>Algoritmos de Roteamento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 de Rote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e do software da camada de rede responsável pela decisão sobre a linha de saída a ser usada na transmissão de um pacote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riedades desejáve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ção, simplicidade, robustez, estabilidade, eqüidade e otim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de 2 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-Adaptativos (ou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át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inho mais cu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lood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seado no flu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aptativos (ou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nâm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tor de distâ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 de en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ook Antiqua"/>
              </a:rPr>
              <a:t>Roteamento Dinâmico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tor de Distância (distance vecto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roteador mantém uma tabela (vetor) com a melhor distância conhecida a cada desti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 qual linha deve ser utilizada para se chegar ao d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tabelas são atualizadas através de troca de informações com roteadores vizin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do na Internet com o nome de 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de Enlace (link sta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roteador de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obrir seus vizinhos e seus endere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dir o retardo ou o custo p/ cada vizi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r pacote p/ divulgar o que aprend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ar esse pacote a todos os outros rote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lcular o caminho mais curto para cada  um dos outros roteadores (algoritmo de Dijkst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do na Internet com o nome de 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ngestionamento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gestion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cesso de pacotes em uma parte da sub-rede, reduzindo seu desempen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o nº de pacotes depositados na sub-rede está dentro da sua capacidade de transpor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º entregue é proporcional ao nº envi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o tráfego aumenta mu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oteadores não podem suportá-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começam a perder pac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tráfego pes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desempenho diminui drast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se nenhum pacote é entr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íveis cau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uficiência de memória para filas em rote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dores lentos nos rote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has de baixa largura de 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real: o desequilíbrio entre os componentes do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ntrole de Congestionamento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uções de “loop” aber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ntam resolver o problema com um bom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o sistema em funcionamento, não são feitas correções que afetem processos em and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venção de congest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ldagem de tráf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uções de “loop” fech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atég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nitorar o sistema p/ detectar quando e onde ocorre congest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ar informações para lugares onde alguma providência possa ser to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justar a operação do sistema para corrigir o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de admissão (circuito vir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ote regul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oamento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de “jit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18216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igação Inter-Rede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6114960" cy="66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redes não são homogên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muitas redes diferentes (LANs, MANs, WAN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/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CN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ell NCP/IP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pleTal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M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ocolos diversos são amplamente usados em cada cam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duas ou mais redes diferentes se juntam, formam u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r-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exões entre cam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. Física: Repet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. de Enlace: P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. de Rede: Ro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. de Transporte: Gateway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. de Aplicação: Gateway de 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00:51:45Z</dcterms:created>
  <dc:creator>Fernando Andrade Martins de Araújo</dc:creator>
  <dc:description>Curso ministrado aos alunos de Graduação em Análise de Sistemas da Universidade Paulista. 2º Semestre de 2.002</dc:description>
  <cp:keywords>Redes</cp:keywords>
  <dc:language>en-US</dc:language>
  <cp:lastModifiedBy>BANCO BEG S/A</cp:lastModifiedBy>
  <cp:lastPrinted>2002-11-05T00:29:34Z</cp:lastPrinted>
  <dcterms:modified xsi:type="dcterms:W3CDTF">2004-11-19T16:45:54Z</dcterms:modified>
  <cp:revision>184</cp:revision>
  <dc:subject>Redes de Computadores</dc:subject>
  <dc:title>Curso de Redes de Computadores</dc:title>
</cp:coreProperties>
</file>