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7C4-DED9-45CB-8EDC-1B84C0B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819-9E03-48D7-85D6-72AF0E2E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F59-3D33-4AA8-AF63-27FD6535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FEA-5695-48E9-BE3C-06F7D316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084-39ED-474A-BAF1-D53EB63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DDB-21B0-46BA-AF81-9636B78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987-939B-44AE-8C11-2FA2795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8D9-2736-414B-BD36-5EAB4007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02E-F3F4-49BB-812D-62BA33D2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0BD-CF59-46FC-92AC-BEEACB5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DE3-03BC-4343-9846-392C08C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656-5A98-436E-938D-7805D51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3: Camada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-</a:t>
            </a:r>
            <a:fld id="{9DE32B9B-7ADC-4059-BEB8-A3E364F62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 Protocol 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[RFC 768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mínimo, “sem frescura”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e ordem do rem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há “setup” UDP entre remetente,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mento independente de cada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ê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imina estabelecimento de conexão (o que pode causar retar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não se mantém “estado” da conexão no remetente/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queno cabeçalh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1638360"/>
            <a:ext cx="4048200" cy="452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950-DD91-42A2-8301-09188AD91F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514080"/>
            <a:ext cx="8191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2880" y="1695600"/>
            <a:ext cx="40291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cerr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quete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FIN ao servidor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Encerra a conexão, enviando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6624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7016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2440" y="2211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04160" y="3336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2880" y="5646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21640" y="46562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8AB-44EB-44BA-8EA4-9E16707DF4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em “espera temporizada” - responderá com ACK a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recebe ACK.  Conexão encerrad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consegu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510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1000" y="220356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3680" y="33210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480" y="5619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121640" y="466092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76080" y="48150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6A8-0E7C-4ED3-820F-14E6A4F70C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apidamente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der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da de pacotes (esgotamento de buffers em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10 problemas mais importantes em red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5E5-C82B-4567-8021-5E52E662A4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bordagen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960" y="2152440"/>
            <a:ext cx="3781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m a fim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realimentação explícita pel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 inferido das perdas, retardo observados pelo sistema term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gem us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14760" y="2133720"/>
            <a:ext cx="38102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 apoio d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realimentam os sistemas term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 único indicando congestionamento 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p/ envio pelo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abordagens amplas para controle de  congest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265-BC55-4E28-A9ED-8811921923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2520" y="1400040"/>
            <a:ext cx="79153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fim a fim (sem apoio da re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transmissão limitada pela tamanho da janela de congestionamento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gbn_seqnum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85640" y="4591080"/>
            <a:ext cx="8658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segmentos, cada um c/ MSS bytes, enviados por R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825560" y="5143680"/>
            <a:ext cx="5251320" cy="809280"/>
            <a:chOff x="1825560" y="5143680"/>
            <a:chExt cx="5251320" cy="809280"/>
          </a:xfrm>
        </p:grpSpPr>
        <p:sp>
          <p:nvSpPr>
            <p:cNvPr id="276" name=""/>
            <p:cNvSpPr/>
            <p:nvPr/>
          </p:nvSpPr>
          <p:spPr>
            <a:xfrm>
              <a:off x="1864440" y="5313240"/>
              <a:ext cx="26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zã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throughpu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568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5156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616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5400" y="55245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5560" y="5143680"/>
              <a:ext cx="525132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016-A6FD-4888-AC97-4ADC7E5662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“fas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vitar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iáveis importa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e limiar entre fases de partida lenta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ndagem”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banda utilizável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alm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mitir o mais rápido possível (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 máximo possível) sem perder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umenta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erder pacotes (congestion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s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iminui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depois volta a à sondagem (aumento) nov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EB9-B65D-4B32-B0B5-18572BD5A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Partida lent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4410000"/>
            <a:ext cx="380988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 (por RTT) no tamanho da janela (não muito lenta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 de perda: temporizador (Tahoe TCP) e/ou três ACKs  duplicados (Reno TC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2960" y="220356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liza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cada segmento c/ 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o de perda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2600" y="1790640"/>
            <a:ext cx="40194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826960" y="1332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8000">
            <a:off x="6681240" y="19141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82840" y="133200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791840" y="5099040"/>
            <a:ext cx="884880" cy="368280"/>
            <a:chOff x="7791840" y="5099040"/>
            <a:chExt cx="884880" cy="368280"/>
          </a:xfrm>
        </p:grpSpPr>
        <p:sp>
          <p:nvSpPr>
            <p:cNvPr id="30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91840" y="5099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08000">
            <a:off x="6629040" y="270036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408000">
            <a:off x="6647040" y="37148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qtro seg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31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31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323" name=""/>
            <p:cNvSpPr/>
            <p:nvPr/>
          </p:nvSpPr>
          <p:spPr>
            <a:xfrm>
              <a:off x="657360" y="1657440"/>
              <a:ext cx="360972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Algoritmo Partida L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D24-C6C9-4BC0-ADCE-AB27AC2EC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61960" y="1847880"/>
            <a:ext cx="4067280" cy="408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0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Evitar Congestion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52320" y="2127240"/>
            <a:ext cx="397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partida lenta acabou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event de perd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w segmentos reconhec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ça partida 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320" y="5913360"/>
            <a:ext cx="43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: TCP Reno pula partida lenta (recu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ápida) depois de três ACKs dupl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33240" y="1612800"/>
            <a:ext cx="3986280" cy="459720"/>
            <a:chOff x="633240" y="1612800"/>
            <a:chExt cx="3986280" cy="459720"/>
          </a:xfrm>
        </p:grpSpPr>
        <p:sp>
          <p:nvSpPr>
            <p:cNvPr id="332" name=""/>
            <p:cNvSpPr/>
            <p:nvPr/>
          </p:nvSpPr>
          <p:spPr>
            <a:xfrm>
              <a:off x="676440" y="1695600"/>
              <a:ext cx="35906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240" y="1612800"/>
              <a:ext cx="39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vitar congestion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07F-8A2E-467B-B79A-E637967B32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5800" y="79992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Justeza 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419360" y="1847520"/>
            <a:ext cx="47242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ta de justez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N sessões TCP compartilham o mesmo enlace de gargalo, cada uma deve ganhar 1/N da capacidade do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ongestion avoida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AD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umento aditivo, decremento multiplic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janela em 1 por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 janela por fator de 2 num evento de per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I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344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349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4320" y="387972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exã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7480" y="5308560"/>
            <a:ext cx="15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rg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dad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363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368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3969360" y="5432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exã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DE6-60FF-4A11-BCFF-111C8B5A34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90040" y="1733040"/>
            <a:ext cx="450540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ncípios atrás dos serviços da camada de transpor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ltiplexação/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stanciação e implementação na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2409480"/>
            <a:ext cx="333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ximo capítu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aímos da “borda” da rede (camadas de aplicação e transpor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mos no “núcleo”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61C-7418-4F47-8BE6-6818C010FC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ais  sobre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4143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ito utilizado para apls. de meios contínuos (voz, víde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s de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is à taxa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e UDP (por quê?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 (no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 (gerenci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com UDP: incluir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à apl.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343480" y="244620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6240" y="254160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0920" y="2563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25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d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94156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48440" y="334152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905520" y="254160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35000" y="2111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2720" y="230832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2760" y="231768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39360" y="439740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d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08200" y="596412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o segmento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905520" y="2951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8360" y="29541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4600" y="294480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1320" y="641520"/>
            <a:ext cx="207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rimento 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i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8000" y="2077920"/>
            <a:ext cx="7920" cy="105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7E7-86A1-4588-B59C-A19BB48A5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UD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8280" y="241452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üência de inteiros de 16-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 checksum z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ecksum: soma (adição  usand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omplemento do valor da som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campo checksum de UD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checksum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checksum computado é zer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-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-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ainda pode ter erros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depois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tar “erro” (e.g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6E1-E852-4614-8E1D-C32EE86CB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4105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nsmissão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dos bi-direcional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troca de msgs de controle) inicia estado de remetente, receptor antes de troca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não será afog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680" y="154296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 remetente, 1 recept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de bytes, ordenados, confiável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estruturado em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t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. da janela ajustado por controle de fluxo e congestionamento 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uffers de envio e recep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04800" y="5421240"/>
          <a:ext cx="60260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0" y="5421240"/>
                    <a:ext cx="60260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222-F65F-4A05-90FB-C252406899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estrutura do segme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87760" y="1103400"/>
            <a:ext cx="4160880" cy="5330880"/>
            <a:chOff x="2687760" y="1103400"/>
            <a:chExt cx="4160880" cy="5330880"/>
          </a:xfrm>
        </p:grpSpPr>
        <p:sp>
          <p:nvSpPr>
            <p:cNvPr id="75" name=""/>
            <p:cNvSpPr/>
            <p:nvPr/>
          </p:nvSpPr>
          <p:spPr>
            <a:xfrm>
              <a:off x="2897280" y="1512720"/>
              <a:ext cx="3951360" cy="4824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1600" y="1628640"/>
              <a:ext cx="3951000" cy="480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7760" y="1593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ori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5480" y="159876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o. porta d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4480" y="2003400"/>
              <a:ext cx="3946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0836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754520" y="1628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7400" y="1344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789280" y="1355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34080" y="4573440"/>
              <a:ext cx="186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5760" y="1982880"/>
              <a:ext cx="269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seqü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7720" y="27637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4880" y="2382840"/>
              <a:ext cx="340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úmero de reconhe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3040" y="31590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0836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0836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768560" y="2766600"/>
              <a:ext cx="468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9560" y="2774880"/>
              <a:ext cx="180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anela re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1800" y="31701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dados ur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56480" y="31510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21280" y="276660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92600" y="277164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79040" y="27986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4080" y="279864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84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232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0920" y="2700360"/>
              <a:ext cx="55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am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55480" y="2700360"/>
              <a:ext cx="53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8788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1960" y="3654360"/>
              <a:ext cx="28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ções (tam. variáv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36000" y="14320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6720" y="21556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no.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2720" y="28321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envia dados j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uco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632040"/>
            <a:ext cx="245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ão de conex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andos d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tabelecimento, liberaçã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37240" y="301320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.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pt 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e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7320" y="152712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ag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dado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36360" y="528948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o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88F-7CF9-42F9-AB24-E5996AE10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nos. de seq. e 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Nos. de seq.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úmero”dentro do fluxo de bytes do primeiro byte de dados do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. de seq do próx. byte esperado do outro l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mo receptor trata segmentos fora da ord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: espec do TCP omissa - deixado ao implemen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5120" y="1460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7000" y="14508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13560" y="1932120"/>
            <a:ext cx="9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c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9720" y="404640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‘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co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5840" y="2589120"/>
            <a:ext cx="135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reconh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gad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 de 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180640" y="5527800"/>
            <a:ext cx="884880" cy="368280"/>
            <a:chOff x="8180640" y="5527800"/>
            <a:chExt cx="884880" cy="368280"/>
          </a:xfrm>
        </p:grpSpPr>
        <p:sp>
          <p:nvSpPr>
            <p:cNvPr id="144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0640" y="55278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214240" y="57942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simples de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0C4-DC0B-43D7-8C47-C94B1D93F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retransmiss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57240" y="2781360"/>
            <a:ext cx="1581120" cy="485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0574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1480" y="138924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7560" y="1407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706200">
            <a:off x="1096920" y="20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617200">
            <a:off x="2182320" y="27540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90320" y="33177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28440" y="286164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or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640" y="16956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40" y="5508720"/>
            <a:ext cx="884880" cy="368280"/>
            <a:chOff x="46440" y="5508720"/>
            <a:chExt cx="884880" cy="368280"/>
          </a:xfrm>
        </p:grpSpPr>
        <p:sp>
          <p:nvSpPr>
            <p:cNvPr id="163" name=""/>
            <p:cNvSpPr/>
            <p:nvPr/>
          </p:nvSpPr>
          <p:spPr>
            <a:xfrm>
              <a:off x="218880" y="55814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40" y="55087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420560" y="562284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ário 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per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59000" y="1398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9760" y="140796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açã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8480" y="304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92436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706200">
            <a:off x="1011240" y="386856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1838160"/>
            <a:ext cx="0" cy="384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23400" y="4705200"/>
            <a:ext cx="2495880" cy="752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0673000">
            <a:off x="1733760" y="47890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14240" y="2038320"/>
            <a:ext cx="190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960" y="3705120"/>
            <a:ext cx="19080" cy="2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808200">
            <a:off x="5785920" y="24210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850640" y="27777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p/ Seq=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07360" y="55753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rização prematu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706200">
            <a:off x="5869080" y="379260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706200">
            <a:off x="5897520" y="201132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e d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540320" y="320148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mp. p/ Seq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384880" y="2371320"/>
            <a:ext cx="9360" cy="19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2120" y="160020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80440" y="5442120"/>
            <a:ext cx="884880" cy="368280"/>
            <a:chOff x="4780440" y="5442120"/>
            <a:chExt cx="884880" cy="368280"/>
          </a:xfrm>
        </p:grpSpPr>
        <p:sp>
          <p:nvSpPr>
            <p:cNvPr id="205" name=""/>
            <p:cNvSpPr/>
            <p:nvPr/>
          </p:nvSpPr>
          <p:spPr>
            <a:xfrm>
              <a:off x="4952880" y="551484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80440" y="544212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E46-54CA-44E5-91E6-28811B3C0A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90400" y="1504800"/>
            <a:ext cx="36291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tente não esgotar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 do receptor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ir muito,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ito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14560" y="1276200"/>
            <a:ext cx="24476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4880" y="12366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Controle de Flux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plicitamente avisa o remetente da quantidade de espaço livre disponível (muda dinamicament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p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RcvWindow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mento T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a quantidade de dados transmitidos, porém ainda não reconhecidos, menor que o valor mais recent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54000" y="606420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ffering pelo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4960" y="3262320"/>
            <a:ext cx="398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tamanho do Buffer de recep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espaço vazio no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228-8E55-4B8B-A1D1-A2E35DADA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1960" y="275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enciamento de Conexõ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1520" y="1390680"/>
            <a:ext cx="420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, receptor TCP estabelecem “conexão” antes de trocar segmento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m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. de seq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 s/ controle de fluxo (p.ex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dor de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number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or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5040" y="1342800"/>
            <a:ext cx="4638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Inicialização em 3 temp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cliente envia segmento de controle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sso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servidor recebe SYN, responde com segmento de controle SYN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onhece SYN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no. inicial de seq. servidor-&gt;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8CB-5D96-4A9F-ADA7-34F193138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Fernando Andrade M. de Araújo</cp:lastModifiedBy>
  <cp:lastPrinted>2000-04-27T09:23:27Z</cp:lastPrinted>
  <dcterms:modified xsi:type="dcterms:W3CDTF">2004-10-29T10:40:27Z</dcterms:modified>
  <cp:revision>98</cp:revision>
  <dc:subject/>
  <dc:title>Part I: Introduction</dc:title>
</cp:coreProperties>
</file>