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075-9898-487C-9CFD-B752C271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260-BC5F-4E5C-A6E1-8A525391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EE7-C84E-4B02-9097-4E53A533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C66-F5BB-4F68-A3E8-AB383591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DF1-2C0F-4B3D-9F2B-33FA8F27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6C9-70F3-4AA3-B24D-7572EB9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931-7487-4D0F-914E-D912E689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356-F5D5-4CA6-AC74-89F9656C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159-751E-4200-B925-CFE880C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74C-2EDC-42AE-95BD-2C3E7C3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C64-8519-4EAC-865E-E957B6BD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014-2BBC-4F7A-8E8C-FA03918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b: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amada de Aplic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B6BE-FD15-4B70-964B-E13FE100C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567-551C-4231-9512-6F3DB512DE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Registros D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42520" y="1279080"/>
            <a:ext cx="8366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BD distribuído contendo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gistros de recursos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3440" y="3895560"/>
            <a:ext cx="400068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=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é domínio (p.ex. foo.com.b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é endereço IP de servidor oficial de nomes para este domín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98600" y="1879560"/>
            <a:ext cx="6125760" cy="571680"/>
            <a:chOff x="1398600" y="1879560"/>
            <a:chExt cx="6125760" cy="571680"/>
          </a:xfrm>
        </p:grpSpPr>
        <p:sp>
          <p:nvSpPr>
            <p:cNvPr id="260" name=""/>
            <p:cNvSpPr/>
            <p:nvPr/>
          </p:nvSpPr>
          <p:spPr>
            <a:xfrm>
              <a:off x="1398600" y="1891080"/>
              <a:ext cx="612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ormato RR: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nome, valor, tipo, sobrevid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0760" y="1879560"/>
              <a:ext cx="601524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3800" y="2657520"/>
            <a:ext cx="43070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é nome de hosped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o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 o seu endereço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14920" y="2647800"/>
            <a:ext cx="38098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=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é nome alternativo (alias) para algum nome “canônico” (verdadei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é o nome canô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95840" y="4809960"/>
            <a:ext cx="44481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=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é domíni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o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 nome do servidor de correio para este domí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7ED-6EE6-422B-97FD-C91111C1C9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protocolo e mensage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ensagens d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pedido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ambas com o mesmo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formato de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352600"/>
            <a:ext cx="380988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beçalho de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dentificaçã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D de 16 bit para pedido, resposta ao pedido usa mesmo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dido ou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ão desej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ão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sta é o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756320" y="221472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A74-8D80-42BC-AD40-115E50A1C9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protocolo e mensage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403880" y="150984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16760" y="1829520"/>
            <a:ext cx="258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mpos de nome,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tipo num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74240" y="2829600"/>
            <a:ext cx="216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Rs em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o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960" y="3715200"/>
            <a:ext cx="27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istros para ou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es ofi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57400" y="4515480"/>
            <a:ext cx="207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 adi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evante”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de ser u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1F9-9FC6-42AB-ACC4-52C4C3AB5B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6AF-52C8-4A6F-BE6E-7BD00B9CB9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04520" y="2295360"/>
            <a:ext cx="396252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I Socke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areceu no BSD4.1 UNIX em 198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ão explicitamente criados, usados e liberados por ap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is tipos de serviço de transporte via API So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tagrama não confiáve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luxo de bytes, confiá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49800" y="2024280"/>
            <a:ext cx="3394080" cy="4515840"/>
            <a:chOff x="5149800" y="2024280"/>
            <a:chExt cx="3394080" cy="4515840"/>
          </a:xfrm>
        </p:grpSpPr>
        <p:sp>
          <p:nvSpPr>
            <p:cNvPr id="285" name=""/>
            <p:cNvSpPr/>
            <p:nvPr/>
          </p:nvSpPr>
          <p:spPr>
            <a:xfrm>
              <a:off x="5149800" y="2482200"/>
              <a:ext cx="329904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uma interface (uma “porta”), 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local ao hospedeiro, criada por e pertencente à aplicação, e controlado pelo SO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, através da qual um processo de aplicação pode 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tanto enviar como receber 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ensagens para/de outro processo de aplicaçã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(remoto ou loc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9800" y="2253960"/>
              <a:ext cx="3394080" cy="39286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419800" y="2024280"/>
              <a:ext cx="1106640" cy="459720"/>
              <a:chOff x="5419800" y="2024280"/>
              <a:chExt cx="1106640" cy="459720"/>
            </a:xfrm>
          </p:grpSpPr>
          <p:sp>
            <p:nvSpPr>
              <p:cNvPr id="288" name=""/>
              <p:cNvSpPr/>
              <p:nvPr/>
            </p:nvSpPr>
            <p:spPr>
              <a:xfrm>
                <a:off x="5419800" y="2054160"/>
                <a:ext cx="1076040" cy="39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23760" y="2024280"/>
                <a:ext cx="110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sock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619200" y="1276200"/>
            <a:ext cx="81630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et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prender a construir aplicações cliente/servidor que se comunicam usando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6C9-16EE-4EC8-850D-B2889826D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 usando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99760" y="1419120"/>
            <a:ext cx="797076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ocke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uma porta entre o processo de aplicação e um protocolo de transporte fim-a-fim (UDP ou TC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nsferência confiável de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byte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 um processo para ou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73240" y="351324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2112480" y="3853800"/>
            <a:ext cx="1151640" cy="1585080"/>
            <a:chOff x="2112480" y="3853800"/>
            <a:chExt cx="1151640" cy="1585080"/>
          </a:xfrm>
        </p:grpSpPr>
        <p:sp>
          <p:nvSpPr>
            <p:cNvPr id="295" name=""/>
            <p:cNvSpPr/>
            <p:nvPr/>
          </p:nvSpPr>
          <p:spPr>
            <a:xfrm>
              <a:off x="2162160" y="388620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12480" y="38538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124000" y="4438800"/>
              <a:ext cx="1121040" cy="1000080"/>
              <a:chOff x="2124000" y="4438800"/>
              <a:chExt cx="1121040" cy="1000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124000" y="451404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71520" y="443880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70880" y="4234680"/>
              <a:ext cx="872640" cy="368280"/>
              <a:chOff x="2270880" y="4234680"/>
              <a:chExt cx="872640" cy="36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2305080" y="429552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70880" y="423468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225360" y="3682080"/>
            <a:ext cx="176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ado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3320" y="454896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43280" y="389556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933560" y="4476240"/>
            <a:ext cx="0" cy="100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40040" y="559980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ção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730840" y="340848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770080" y="3749040"/>
            <a:ext cx="1151640" cy="1585080"/>
            <a:chOff x="5770080" y="3749040"/>
            <a:chExt cx="1151640" cy="1585080"/>
          </a:xfrm>
        </p:grpSpPr>
        <p:sp>
          <p:nvSpPr>
            <p:cNvPr id="310" name=""/>
            <p:cNvSpPr/>
            <p:nvPr/>
          </p:nvSpPr>
          <p:spPr>
            <a:xfrm>
              <a:off x="5819760" y="378144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70080" y="374904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781600" y="4334040"/>
              <a:ext cx="1121040" cy="1000080"/>
              <a:chOff x="5781600" y="4334040"/>
              <a:chExt cx="1121040" cy="1000080"/>
            </a:xfrm>
          </p:grpSpPr>
          <p:sp>
            <p:nvSpPr>
              <p:cNvPr id="313" name=""/>
              <p:cNvSpPr/>
              <p:nvPr/>
            </p:nvSpPr>
            <p:spPr>
              <a:xfrm>
                <a:off x="5781600" y="440928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29120" y="433404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928480" y="4129920"/>
              <a:ext cx="872640" cy="368280"/>
              <a:chOff x="5928480" y="4129920"/>
              <a:chExt cx="872640" cy="368280"/>
            </a:xfrm>
          </p:grpSpPr>
          <p:sp>
            <p:nvSpPr>
              <p:cNvPr id="316" name=""/>
              <p:cNvSpPr/>
              <p:nvPr/>
            </p:nvSpPr>
            <p:spPr>
              <a:xfrm>
                <a:off x="5962680" y="419076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928480" y="412992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" name=""/>
          <p:cNvSpPr/>
          <p:nvPr/>
        </p:nvSpPr>
        <p:spPr>
          <a:xfrm>
            <a:off x="7080120" y="3520080"/>
            <a:ext cx="176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ado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04600" y="443448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029360" y="376200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020000" y="4343400"/>
            <a:ext cx="0" cy="100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96200" y="549504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ção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97120" y="42292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49200" y="483768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228840" y="4734000"/>
            <a:ext cx="2533680" cy="9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0B9-8262-4EC4-A377-DE9D546F90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99960" y="1352520"/>
            <a:ext cx="4057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deve contactar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servidor deve antes estar em execu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ve antes ter criado socket (porta) que aguarda contato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ontacta servidor par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ar socket TCP local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r endereço IP, número de porta do process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32320" y="1378080"/>
            <a:ext cx="46483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ria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TCP do cliente estabelece conexão com TCP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contatado pelo cliente,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o TCP 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rvidor cria socket nov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que o processo servidor possa se comunicar com 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que o servidor converse com múltiplos cl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4878720" y="4983840"/>
            <a:ext cx="365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TCP provê transferência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onfiável, ordenada de b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(“tubo”) entre cliente e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67400" y="4800600"/>
            <a:ext cx="4133880" cy="1419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790520" y="4555080"/>
            <a:ext cx="3423960" cy="398880"/>
            <a:chOff x="4790520" y="4555080"/>
            <a:chExt cx="3423960" cy="398880"/>
          </a:xfrm>
        </p:grpSpPr>
        <p:sp>
          <p:nvSpPr>
            <p:cNvPr id="331" name=""/>
            <p:cNvSpPr/>
            <p:nvPr/>
          </p:nvSpPr>
          <p:spPr>
            <a:xfrm>
              <a:off x="4830840" y="4709880"/>
              <a:ext cx="333684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90520" y="4555080"/>
              <a:ext cx="34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ponto de vista da aplic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3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 </a:t>
            </a:r>
            <a:r>
              <a:rPr b="0" lang="pt-BR" sz="3600" spc="-1" strike="noStrike" u="sng">
                <a:solidFill>
                  <a:srgbClr val="ff0000"/>
                </a:solidFill>
                <a:uFillTx/>
                <a:latin typeface="Comic Sans MS"/>
              </a:rPr>
              <a:t>usando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4E0-CBD2-440C-8BE0-A42D661D08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Jargão para Fluxo (</a:t>
            </a:r>
            <a:r>
              <a:rPr b="0" i="1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Stream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uxo (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tream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uma seqüência de caracteres que fluem de ou para um proces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uxo de 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conectado a alguma fonte de entrada para o processo, por exemplo, teclado ou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uxo de saí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conectado a uma fonte de saída, por exemplo, um monitor ou u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BB5-7A5F-439C-9C1F-F29D7A3863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omunicação entre socke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23800" y="1935000"/>
            <a:ext cx="7977240" cy="39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EE6-3574-449B-8BF2-00CA943872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aplicação cliente-servido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06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lê linha da entrada padrão (flux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suári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, envia para servidor via socket (flux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ra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lê linha do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converte linha para letras maiúsculas, devolve para 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lê linha modificada do socket (flux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, imprime-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059440" y="1397160"/>
          <a:ext cx="36702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9440" y="1397160"/>
                    <a:ext cx="36702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7132680" y="2806560"/>
            <a:ext cx="201132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Fluxo de entrad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üência de bytes recebidos pelo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56160" y="3362400"/>
            <a:ext cx="2184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Fluxo de saíd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üência de bytes transmitidos pelo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62840" y="4108320"/>
            <a:ext cx="450720" cy="25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6840360" y="3144960"/>
            <a:ext cx="301680" cy="26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32680" y="3386160"/>
            <a:ext cx="173160" cy="674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05320" y="2608200"/>
            <a:ext cx="1268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cess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42120" y="5076360"/>
            <a:ext cx="15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cket cliente 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8D2-E8CD-4B24-A1B3-4710AEDFAB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Domain Name Syste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ssoa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uitos identificado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PF, nome, no. da Ident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ospedeiros, roteadores Internet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IP (32 bit) - usado p/ endereçar datagra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”, ex., jambo.ic.uff.br - usado por g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mapear entre nome e endereço I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437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base de dados distribuíd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da na hierarquia de muitos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es de no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protocolo de camada de aplic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rmite que hospedeiros, roteadores, servidores de nomes se comuniquem para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resolver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(tradução endereço/no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: função imprescindível da Internet implementada como protocolo de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lexidade na borda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588-515C-4EFD-A754-5A7CC30D10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8000" y="22824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ões cliente/servidor usando 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277280" y="3216600"/>
            <a:ext cx="2198520" cy="929880"/>
            <a:chOff x="1277280" y="3216600"/>
            <a:chExt cx="2198520" cy="929880"/>
          </a:xfrm>
        </p:grpSpPr>
        <p:sp>
          <p:nvSpPr>
            <p:cNvPr id="351" name=""/>
            <p:cNvSpPr/>
            <p:nvPr/>
          </p:nvSpPr>
          <p:spPr>
            <a:xfrm>
              <a:off x="1277640" y="3216600"/>
              <a:ext cx="186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uarda chegada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dido de 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7280" y="3626280"/>
              <a:ext cx="219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onexã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Recepção.accep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236600" y="1879920"/>
            <a:ext cx="1706400" cy="1415880"/>
            <a:chOff x="1236600" y="1879920"/>
            <a:chExt cx="1706400" cy="1415880"/>
          </a:xfrm>
        </p:grpSpPr>
        <p:grpSp>
          <p:nvGrpSpPr>
            <p:cNvPr id="354" name=""/>
            <p:cNvGrpSpPr/>
            <p:nvPr/>
          </p:nvGrpSpPr>
          <p:grpSpPr>
            <a:xfrm>
              <a:off x="1236600" y="1879920"/>
              <a:ext cx="1706400" cy="1132920"/>
              <a:chOff x="1236600" y="1879920"/>
              <a:chExt cx="1706400" cy="1132920"/>
            </a:xfrm>
          </p:grpSpPr>
          <p:sp>
            <p:nvSpPr>
              <p:cNvPr id="355" name=""/>
              <p:cNvSpPr/>
              <p:nvPr/>
            </p:nvSpPr>
            <p:spPr>
              <a:xfrm>
                <a:off x="1299960" y="1879920"/>
                <a:ext cx="1421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a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p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ceber pedido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236600" y="2492640"/>
                <a:ext cx="1706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Recepção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erverSocket 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038320" y="297180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177880" y="3108600"/>
            <a:ext cx="3033720" cy="921960"/>
            <a:chOff x="5177880" y="3108600"/>
            <a:chExt cx="3033720" cy="921960"/>
          </a:xfrm>
        </p:grpSpPr>
        <p:sp>
          <p:nvSpPr>
            <p:cNvPr id="359" name=""/>
            <p:cNvSpPr/>
            <p:nvPr/>
          </p:nvSpPr>
          <p:spPr>
            <a:xfrm>
              <a:off x="5177880" y="3108600"/>
              <a:ext cx="30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ia socke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e conexão a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omeHos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a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08480" y="3510360"/>
              <a:ext cx="1458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liente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276200" y="3124080"/>
            <a:ext cx="5366160" cy="3353040"/>
            <a:chOff x="1276200" y="3124080"/>
            <a:chExt cx="5366160" cy="3353040"/>
          </a:xfrm>
        </p:grpSpPr>
        <p:sp>
          <p:nvSpPr>
            <p:cNvPr id="362" name=""/>
            <p:cNvSpPr/>
            <p:nvPr/>
          </p:nvSpPr>
          <p:spPr>
            <a:xfrm>
              <a:off x="1329120" y="5778720"/>
              <a:ext cx="141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c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48040" y="56577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6200" y="3124080"/>
              <a:ext cx="781200" cy="335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338440" y="5359680"/>
              <a:ext cx="1303920" cy="1101240"/>
              <a:chOff x="5338440" y="5359680"/>
              <a:chExt cx="1303920" cy="1101240"/>
            </a:xfrm>
          </p:grpSpPr>
          <p:sp>
            <p:nvSpPr>
              <p:cNvPr id="366" name=""/>
              <p:cNvSpPr/>
              <p:nvPr/>
            </p:nvSpPr>
            <p:spPr>
              <a:xfrm>
                <a:off x="5338440" y="5359680"/>
                <a:ext cx="130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ê resposta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Cl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78040" y="5940720"/>
                <a:ext cx="1253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ech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Cl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58080" y="5857920"/>
                <a:ext cx="0" cy="323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288360" y="131328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xecuta e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meHos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73560" y="1332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933640" y="4010040"/>
            <a:ext cx="4204440" cy="1371600"/>
            <a:chOff x="2933640" y="4010040"/>
            <a:chExt cx="4204440" cy="1371600"/>
          </a:xfrm>
        </p:grpSpPr>
        <p:sp>
          <p:nvSpPr>
            <p:cNvPr id="372" name=""/>
            <p:cNvSpPr/>
            <p:nvPr/>
          </p:nvSpPr>
          <p:spPr>
            <a:xfrm flipH="1">
              <a:off x="6019920" y="4705200"/>
              <a:ext cx="9360" cy="67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2933640" y="4010040"/>
              <a:ext cx="4204440" cy="755640"/>
              <a:chOff x="2933640" y="4010040"/>
              <a:chExt cx="4204440" cy="755640"/>
            </a:xfrm>
          </p:grpSpPr>
          <p:sp>
            <p:nvSpPr>
              <p:cNvPr id="374" name=""/>
              <p:cNvSpPr/>
              <p:nvPr/>
            </p:nvSpPr>
            <p:spPr>
              <a:xfrm>
                <a:off x="5290200" y="4245480"/>
                <a:ext cx="1847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via pedido usan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Cl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19920" y="401004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2933640" y="4429080"/>
                <a:ext cx="2409840" cy="18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1300320" y="4105440"/>
            <a:ext cx="4100400" cy="1488600"/>
            <a:chOff x="1300320" y="4105440"/>
            <a:chExt cx="4100400" cy="1488600"/>
          </a:xfrm>
        </p:grpSpPr>
        <p:sp>
          <p:nvSpPr>
            <p:cNvPr id="378" name=""/>
            <p:cNvSpPr/>
            <p:nvPr/>
          </p:nvSpPr>
          <p:spPr>
            <a:xfrm>
              <a:off x="1300320" y="4426200"/>
              <a:ext cx="141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ê pedid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6400" y="5073840"/>
              <a:ext cx="181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creve respos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a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28960" y="41054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037960" y="4905360"/>
              <a:ext cx="9720" cy="247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62440" y="5248440"/>
              <a:ext cx="243828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66480" y="3057120"/>
            <a:ext cx="2148480" cy="642600"/>
            <a:chOff x="3066480" y="3057120"/>
            <a:chExt cx="2148480" cy="642600"/>
          </a:xfrm>
        </p:grpSpPr>
        <p:sp>
          <p:nvSpPr>
            <p:cNvPr id="384" name=""/>
            <p:cNvSpPr/>
            <p:nvPr/>
          </p:nvSpPr>
          <p:spPr>
            <a:xfrm>
              <a:off x="3075120" y="3397320"/>
              <a:ext cx="21398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66480" y="3057120"/>
              <a:ext cx="207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setup da conex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D4A-1E44-4C2A-B9FC-928DB77821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TC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2189520" y="1510200"/>
            <a:ext cx="68191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lienteTCP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ra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raseModificad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doUsuario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socketCliente = new Socket(”nomeHosp", 678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OutputStream paraServido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taOutputStream(socketCliente.getOutputStream()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5040" y="3809520"/>
            <a:ext cx="19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uxo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92520" y="4505040"/>
            <a:ext cx="23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ocket de clien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exão a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120" y="5420880"/>
            <a:ext cx="19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uxo de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igado 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81160" y="3890880"/>
            <a:ext cx="123840" cy="542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214720" y="4152600"/>
            <a:ext cx="3618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81160" y="4605480"/>
            <a:ext cx="123840" cy="7668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4987800"/>
            <a:ext cx="424080" cy="3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09960" y="5519880"/>
            <a:ext cx="123480" cy="8046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238480" y="5619600"/>
            <a:ext cx="3618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242-DD30-40D6-817C-6BA8538161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TCP), cont.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493360" y="1852200"/>
            <a:ext cx="63133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edReader doServidor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treamReader(socketCliente.getInputStream()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se = doUsuario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ervidor.writeBytes(frase + '\n'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seModificada = doServidor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Do Servidor: " + fraseModific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Cliente.clos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4480" y="184896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uxo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igado 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8000" y="3320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ia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52080" y="41094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7080" y="1919160"/>
            <a:ext cx="114120" cy="790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581200" y="2324160"/>
            <a:ext cx="3430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05240" y="3357720"/>
            <a:ext cx="123840" cy="5857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633760" y="3666600"/>
            <a:ext cx="30960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3960" y="4186080"/>
            <a:ext cx="123840" cy="509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662200" y="4295520"/>
            <a:ext cx="2952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DBC-C9AB-4A71-89FB-5FD4377EE8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TC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2579400" y="1245960"/>
            <a:ext cx="6031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servidorTCP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Cl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fFraseMaiuscul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Socket socketRecepcao = new ServerSocket(6789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(true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 socketConexao = socketRecepcao.accep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edReader doCliente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StreamReader(socketConexao.getInputStream()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1040" y="3249360"/>
            <a:ext cx="17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a recep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 porta 6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8640" y="42606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guarda, n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a recepção,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tato do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2720" y="5277960"/>
            <a:ext cx="18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flux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trada, li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47840" y="3309840"/>
            <a:ext cx="152640" cy="800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19200" y="3843360"/>
            <a:ext cx="4194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14440" y="4348080"/>
            <a:ext cx="123840" cy="76680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52680" y="47880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386320"/>
            <a:ext cx="152280" cy="7383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443320" y="5581440"/>
            <a:ext cx="64764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2F5-7AF4-47FB-9852-7B8E28262B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TCP)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852920" y="1619280"/>
            <a:ext cx="71971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OutputStream  paraClient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taOutputStream(socketConexão.getOutputStream()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seCliente= doCliente.readLin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seEmMaiusculas= fraseCliente.toUpperCase() + '\n'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Client.writeBytes(fraseEmMaiusculas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08000" y="275868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7080" y="173484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flu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 saída, li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28960" y="2814480"/>
            <a:ext cx="161640" cy="5335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209680" y="311436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1795320"/>
            <a:ext cx="133200" cy="814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214720" y="2485800"/>
            <a:ext cx="28548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5720" y="39016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screve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9880" y="3957480"/>
            <a:ext cx="162000" cy="571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190600" y="421920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89960" y="488916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inal do elo whi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olta ao início e agua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exão de outro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783800">
            <a:off x="3190680" y="4879800"/>
            <a:ext cx="160200" cy="912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543040" y="4552920"/>
            <a:ext cx="64800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836-5CC7-4F09-B352-2A1646C2A4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F85-CF45-4871-80A0-B8D6660627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 </a:t>
            </a:r>
            <a:r>
              <a:rPr b="0" lang="pt-BR" sz="3600" spc="-1" strike="noStrike" u="sng">
                <a:solidFill>
                  <a:srgbClr val="ff0000"/>
                </a:solidFill>
                <a:uFillTx/>
                <a:latin typeface="Comic Sans MS"/>
              </a:rPr>
              <a:t>usando UD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DP: não tem “conexão”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tem “handshaking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loca explicitamente endereço IP e porta do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ve extrair endereço IP, porta do remetente do datagrama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DP: dados transmitidos podem ser recebidos fora de ordem, ou per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657680" y="2653200"/>
            <a:ext cx="4133880" cy="1956960"/>
            <a:chOff x="4657680" y="2653200"/>
            <a:chExt cx="4133880" cy="1956960"/>
          </a:xfrm>
        </p:grpSpPr>
        <p:sp>
          <p:nvSpPr>
            <p:cNvPr id="439" name=""/>
            <p:cNvSpPr/>
            <p:nvPr/>
          </p:nvSpPr>
          <p:spPr>
            <a:xfrm>
              <a:off x="4657680" y="2899440"/>
              <a:ext cx="4133880" cy="14428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5440" y="2991600"/>
              <a:ext cx="3024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UDP provê transferê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não confiável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 de grup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de bytes (“datagramas”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entre cliente e servi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745880" y="2653200"/>
              <a:ext cx="3423960" cy="401040"/>
              <a:chOff x="4745880" y="2653200"/>
              <a:chExt cx="3423960" cy="401040"/>
            </a:xfrm>
          </p:grpSpPr>
          <p:sp>
            <p:nvSpPr>
              <p:cNvPr id="442" name=""/>
              <p:cNvSpPr/>
              <p:nvPr/>
            </p:nvSpPr>
            <p:spPr>
              <a:xfrm>
                <a:off x="4786200" y="2807280"/>
                <a:ext cx="3336840" cy="24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5880" y="2653200"/>
                <a:ext cx="342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onto de vista da aplicaç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B46-CABD-446C-8F2F-46704FE011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836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ões cliente/servidor usando o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276200" y="3324240"/>
            <a:ext cx="5595840" cy="2546280"/>
            <a:chOff x="1276200" y="3324240"/>
            <a:chExt cx="5595840" cy="2546280"/>
          </a:xfrm>
        </p:grpSpPr>
        <p:sp>
          <p:nvSpPr>
            <p:cNvPr id="446" name=""/>
            <p:cNvSpPr/>
            <p:nvPr/>
          </p:nvSpPr>
          <p:spPr>
            <a:xfrm>
              <a:off x="1276200" y="3324240"/>
              <a:ext cx="876600" cy="254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68120" y="5350320"/>
              <a:ext cx="130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c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lien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48520" y="52671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88360" y="131328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xecuta e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meHos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530320" y="3933720"/>
            <a:ext cx="1253520" cy="1355760"/>
            <a:chOff x="5530320" y="3933720"/>
            <a:chExt cx="1253520" cy="1355760"/>
          </a:xfrm>
        </p:grpSpPr>
        <p:sp>
          <p:nvSpPr>
            <p:cNvPr id="451" name=""/>
            <p:cNvSpPr/>
            <p:nvPr/>
          </p:nvSpPr>
          <p:spPr>
            <a:xfrm>
              <a:off x="5530320" y="4769280"/>
              <a:ext cx="125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ê resposa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4040" y="3933720"/>
              <a:ext cx="0" cy="828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000240" y="1332360"/>
            <a:ext cx="5716080" cy="2596680"/>
            <a:chOff x="3000240" y="1332360"/>
            <a:chExt cx="5716080" cy="2596680"/>
          </a:xfrm>
        </p:grpSpPr>
        <p:grpSp>
          <p:nvGrpSpPr>
            <p:cNvPr id="454" name=""/>
            <p:cNvGrpSpPr/>
            <p:nvPr/>
          </p:nvGrpSpPr>
          <p:grpSpPr>
            <a:xfrm>
              <a:off x="5376960" y="2205360"/>
              <a:ext cx="1641600" cy="664560"/>
              <a:chOff x="5376960" y="2205360"/>
              <a:chExt cx="1641600" cy="664560"/>
            </a:xfrm>
          </p:grpSpPr>
          <p:sp>
            <p:nvSpPr>
              <p:cNvPr id="455" name=""/>
              <p:cNvSpPr/>
              <p:nvPr/>
            </p:nvSpPr>
            <p:spPr>
              <a:xfrm>
                <a:off x="5376960" y="2205360"/>
                <a:ext cx="1087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89920" y="234972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Cliente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173560" y="133236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73360" y="3195720"/>
              <a:ext cx="3342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ia, endereça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omeHosp, porta=x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a pedido em datagr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ando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298880" y="2079720"/>
            <a:ext cx="1649880" cy="2152440"/>
            <a:chOff x="1298880" y="2079720"/>
            <a:chExt cx="1649880" cy="2152440"/>
          </a:xfrm>
        </p:grpSpPr>
        <p:grpSp>
          <p:nvGrpSpPr>
            <p:cNvPr id="462" name=""/>
            <p:cNvGrpSpPr/>
            <p:nvPr/>
          </p:nvGrpSpPr>
          <p:grpSpPr>
            <a:xfrm>
              <a:off x="1298880" y="2079720"/>
              <a:ext cx="1649880" cy="1133280"/>
              <a:chOff x="1298880" y="2079720"/>
              <a:chExt cx="1649880" cy="1133280"/>
            </a:xfrm>
          </p:grpSpPr>
          <p:sp>
            <p:nvSpPr>
              <p:cNvPr id="463" name=""/>
              <p:cNvSpPr/>
              <p:nvPr/>
            </p:nvSpPr>
            <p:spPr>
              <a:xfrm>
                <a:off x="1298880" y="2079720"/>
                <a:ext cx="1649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a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pa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dido que chega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12920" y="269280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ocketServidor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2038320" y="3171960"/>
              <a:ext cx="0" cy="581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14800" y="3711960"/>
              <a:ext cx="136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ê pedido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Serv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21280" y="4229280"/>
            <a:ext cx="3979440" cy="1360800"/>
            <a:chOff x="1421280" y="4229280"/>
            <a:chExt cx="3979440" cy="1360800"/>
          </a:xfrm>
        </p:grpSpPr>
        <p:sp>
          <p:nvSpPr>
            <p:cNvPr id="468" name=""/>
            <p:cNvSpPr/>
            <p:nvPr/>
          </p:nvSpPr>
          <p:spPr>
            <a:xfrm>
              <a:off x="1421280" y="4430520"/>
              <a:ext cx="2067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creve respos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o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Servi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cificando 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, número de por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66760" y="4229280"/>
              <a:ext cx="0" cy="314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62440" y="4714920"/>
              <a:ext cx="2438280" cy="28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1CA-13D4-47A5-AA56-3EBFE09845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655720" y="1262160"/>
          <a:ext cx="406728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5720" y="1262160"/>
                    <a:ext cx="406728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474920" y="3408480"/>
            <a:ext cx="21841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aí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mite pacote (o TCP enviou uma “seqüência de byt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32440" y="2759040"/>
            <a:ext cx="22557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Entra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be pacote (o TCP recebeu uma “seqüência de byt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94000" y="3595680"/>
            <a:ext cx="952560" cy="43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388120" y="2971800"/>
            <a:ext cx="576000" cy="789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62360" y="2482920"/>
            <a:ext cx="12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cesso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051440" y="4768920"/>
            <a:ext cx="1625400" cy="509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87800" y="47001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cket cliente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235480" y="524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001-63B7-44D3-92CC-E781AD9A89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2193840" y="1589760"/>
            <a:ext cx="639576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lienteUDP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edReader doUsuario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Socket socketCliente = new DatagramSocke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tAddress IPAddress = InetAddress.getByName(”nomeHosp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dadosEnvio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dadosRecebidos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 = doUsuario.readLin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Envio = frase.getBytes(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5960" y="2933280"/>
            <a:ext cx="19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uxo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3240" y="363168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ocket de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0280" y="435888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aduz  nom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ospedeiro a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dereço 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ando 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71800" y="2986200"/>
            <a:ext cx="123840" cy="542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205000" y="3419280"/>
            <a:ext cx="3240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81160" y="3710160"/>
            <a:ext cx="123840" cy="571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200320" y="4159080"/>
            <a:ext cx="328680" cy="6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81160" y="4424400"/>
            <a:ext cx="123840" cy="1033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209680" y="4694040"/>
            <a:ext cx="36216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2D7-32C7-40D2-BE9C-63D7438356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D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da sobre UDP e usa a porta 5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do nas RFCs 1034 e 1035 e atualizado em outras RFC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serviç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elidos para hospedeiros (alias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elido para o servidor de mai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tribuição da car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877-1929-4C75-84FB-789875A2F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 cont.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2181240" y="1638360"/>
            <a:ext cx="662436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pacoteEnviado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dadosEnvio, dadosEnvio.lengt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Address, 9876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Cliente.send(pacoteEnviado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pacoteRecebido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dadosRecebidos, dadosRecebidos.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Cliente.receive(pacoteRecebido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Modificada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tring(pacoteRecebido.getData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Do Servidor:" + fraseModificada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Cliente.clos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1309680"/>
            <a:ext cx="239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datagrama com dados para envi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primento, endereço IP, p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9880" y="256500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ia 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0440" y="361404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ê 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28760" y="1284120"/>
            <a:ext cx="114480" cy="1219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343240" y="2044440"/>
            <a:ext cx="34272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6600" y="2585880"/>
            <a:ext cx="123840" cy="5860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260440" y="2800440"/>
            <a:ext cx="309600" cy="15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35080" y="3681360"/>
            <a:ext cx="123840" cy="5097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73320" y="4000320"/>
            <a:ext cx="2952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C04-2529-4CAB-ABCA-4627E8449D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dor UD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643040" y="1587600"/>
            <a:ext cx="5656320" cy="45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FA6-40C9-46D4-86B4-31E996D32F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UD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2572920" y="1549440"/>
            <a:ext cx="63010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servidorUDP 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Socket socketServidor = new DatagramSocket(9876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dadosRecebidos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[] dadosEnviados  = new byte[1024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(tru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pacoteRecebido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dadosRecebi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Recebidos.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Servidor.receive(pacoteRecebido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4440" y="2811240"/>
            <a:ext cx="20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ara datag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a porta 9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3160" y="501768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loca memóri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ceber 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84320" y="578736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ce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2871720"/>
            <a:ext cx="152280" cy="8002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57360" y="3405240"/>
            <a:ext cx="41904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62320" y="5072040"/>
            <a:ext cx="85680" cy="5475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71760" y="54072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52600" y="5805360"/>
            <a:ext cx="138240" cy="5860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490840" y="5972040"/>
            <a:ext cx="5922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499-39CE-4146-B506-0736974461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UDP)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1859040" y="1181880"/>
            <a:ext cx="585144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 = new String(pacoteRecebido.getData(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tAddress IPAddress = pacoteRecebido.getAddress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porta = pacoteRecebido.getPort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fraseEmMaiusculas = frase.toUpperCas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Enviados = fraseEmMaiusculas.getBytes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Packet pacoteEnviado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gramPacket(dadosEnvia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Enviados.length, IPAddress, porta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Servidor.send(pacoteEnviado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080" y="17362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Obtém endereço IP, no. de porta do reme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1795320"/>
            <a:ext cx="133200" cy="8146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214720" y="2533680"/>
            <a:ext cx="2854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4120" y="450828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scr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895400" y="4595760"/>
            <a:ext cx="162000" cy="8193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076480" y="499068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88880" y="5632200"/>
            <a:ext cx="28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im do elo whi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olta ao início e agua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hegar outro data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0783800">
            <a:off x="3209760" y="5622840"/>
            <a:ext cx="160560" cy="912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2561760" y="5295960"/>
            <a:ext cx="64764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205000" y="2095560"/>
            <a:ext cx="28584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24840" y="370152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ia datagrama 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viar ao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33560" y="3757680"/>
            <a:ext cx="162000" cy="5713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114640" y="4019400"/>
            <a:ext cx="333360" cy="5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128-AEB0-4A42-A98C-8C2C787192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A04-2526-4148-A7F9-321909DABA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dor Web Simpl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unções do servidor We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ta apenas um pedido HTTP por ve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eita e examina o pedid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pera o arquivo pedido do sistema de arquivos d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uma mensagem de resposta HTTP consistindo do arquivo solicitado precedido por linhas de cabeçal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via a resposta diretamente ao cli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C0E-4269-4916-8C1D-AA7FD12E36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rvidor Web Simpl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3306960" y="1278360"/>
            <a:ext cx="5412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 WebServ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ublic static void main(String argv[]) throws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ring requestMessageLi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ring fil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erSocket listenSocket = new ServerSocket(678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cket connectionSocket = listenSocket.accep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edReader inFromClient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BufferedReader(new InputStreamReader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nectionSocket.getInputStream()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taOutputStream outToClient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DataOutputStream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nectionSocket.getOut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61000" y="1228320"/>
            <a:ext cx="3009240" cy="1191240"/>
            <a:chOff x="261000" y="1228320"/>
            <a:chExt cx="3009240" cy="1191240"/>
          </a:xfrm>
        </p:grpSpPr>
        <p:sp>
          <p:nvSpPr>
            <p:cNvPr id="540" name=""/>
            <p:cNvSpPr/>
            <p:nvPr/>
          </p:nvSpPr>
          <p:spPr>
            <a:xfrm>
              <a:off x="261000" y="1228320"/>
              <a:ext cx="2533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ontém a clas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ringTokenizer que 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usada para examin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o pedi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54280" y="1322280"/>
              <a:ext cx="17784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51200" y="1957320"/>
              <a:ext cx="41904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970560" y="3735000"/>
            <a:ext cx="2626200" cy="642600"/>
            <a:chOff x="970560" y="3735000"/>
            <a:chExt cx="2626200" cy="642600"/>
          </a:xfrm>
        </p:grpSpPr>
        <p:sp>
          <p:nvSpPr>
            <p:cNvPr id="544" name=""/>
            <p:cNvSpPr/>
            <p:nvPr/>
          </p:nvSpPr>
          <p:spPr>
            <a:xfrm>
              <a:off x="970560" y="3735000"/>
              <a:ext cx="206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guarda conex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o 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82880" y="3789360"/>
              <a:ext cx="85320" cy="547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92320" y="4124520"/>
              <a:ext cx="60444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-54360" y="2643120"/>
            <a:ext cx="3654720" cy="1067040"/>
            <a:chOff x="-54360" y="2643120"/>
            <a:chExt cx="3654720" cy="1067040"/>
          </a:xfrm>
        </p:grpSpPr>
        <p:sp>
          <p:nvSpPr>
            <p:cNvPr id="548" name=""/>
            <p:cNvSpPr/>
            <p:nvPr/>
          </p:nvSpPr>
          <p:spPr>
            <a:xfrm>
              <a:off x="-54360" y="2687400"/>
              <a:ext cx="3280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rimeira linha da mensag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 pedido HTTP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Nome do arquivo solicita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84400" y="2643120"/>
              <a:ext cx="17784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1320" y="3278160"/>
              <a:ext cx="41904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56360" y="4471560"/>
            <a:ext cx="1953720" cy="642600"/>
            <a:chOff x="1656360" y="4471560"/>
            <a:chExt cx="1953720" cy="642600"/>
          </a:xfrm>
        </p:grpSpPr>
        <p:sp>
          <p:nvSpPr>
            <p:cNvPr id="552" name=""/>
            <p:cNvSpPr/>
            <p:nvPr/>
          </p:nvSpPr>
          <p:spPr>
            <a:xfrm>
              <a:off x="1656360" y="447156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ria flux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 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95840" y="4525920"/>
              <a:ext cx="85680" cy="547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05280" y="4861080"/>
              <a:ext cx="60480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730160" y="5461920"/>
            <a:ext cx="1879920" cy="642600"/>
            <a:chOff x="1730160" y="5461920"/>
            <a:chExt cx="1879920" cy="642600"/>
          </a:xfrm>
        </p:grpSpPr>
        <p:sp>
          <p:nvSpPr>
            <p:cNvPr id="556" name=""/>
            <p:cNvSpPr/>
            <p:nvPr/>
          </p:nvSpPr>
          <p:spPr>
            <a:xfrm>
              <a:off x="1730160" y="5461920"/>
              <a:ext cx="12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ria flux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 Saí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95840" y="5516280"/>
              <a:ext cx="85680" cy="54720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05280" y="5851440"/>
              <a:ext cx="604800" cy="12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3AE-EF16-47B7-AA78-FA7E7DB7B4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rvidor Web Simples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3575160" y="1774440"/>
            <a:ext cx="4879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questMessageLine = inFromClient.read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tringTokenizer tokenizedLine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w StringTokenizer(requestMessageL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 (tokenizedLine.nextToken().equals("GET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Name = tokenizedLine.nextToke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 (fileName.startsWith("/") == tru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Name = fileName.substring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 file = new File(file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 numOfBytes = (int) file.lengt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InputStream inFile = new FileInputStream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e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yte[] fileInBytes = new byte[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ile.read(fileInByt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47480" y="1230120"/>
            <a:ext cx="3327480" cy="1191240"/>
            <a:chOff x="447480" y="1230120"/>
            <a:chExt cx="3327480" cy="1191240"/>
          </a:xfrm>
        </p:grpSpPr>
        <p:sp>
          <p:nvSpPr>
            <p:cNvPr id="562" name=""/>
            <p:cNvSpPr/>
            <p:nvPr/>
          </p:nvSpPr>
          <p:spPr>
            <a:xfrm>
              <a:off x="447480" y="1230120"/>
              <a:ext cx="287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ê a primeira linha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edido HTTP que deve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er o seguinte format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GET file_name HTTP</a:t>
              </a:r>
              <a:r>
                <a:rPr b="0" lang="pt-BR" sz="1800" spc="-1" strike="noStrike">
                  <a:solidFill>
                    <a:srgbClr val="3333cc"/>
                  </a:solidFill>
                  <a:latin typeface="Arial"/>
                </a:rPr>
                <a:t>/1.0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59000" y="1322280"/>
              <a:ext cx="17784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55920" y="1957320"/>
              <a:ext cx="41904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18240" y="2744640"/>
            <a:ext cx="3456360" cy="1067040"/>
            <a:chOff x="318240" y="2744640"/>
            <a:chExt cx="3456360" cy="1067040"/>
          </a:xfrm>
        </p:grpSpPr>
        <p:sp>
          <p:nvSpPr>
            <p:cNvPr id="566" name=""/>
            <p:cNvSpPr/>
            <p:nvPr/>
          </p:nvSpPr>
          <p:spPr>
            <a:xfrm>
              <a:off x="318240" y="2790360"/>
              <a:ext cx="303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Examina a primeira linh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a mensagem para extr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o nome do arquiv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59000" y="2744640"/>
              <a:ext cx="17748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55920" y="3379680"/>
              <a:ext cx="41868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715320" y="4712760"/>
            <a:ext cx="3059640" cy="642600"/>
            <a:chOff x="715320" y="4712760"/>
            <a:chExt cx="3059640" cy="642600"/>
          </a:xfrm>
        </p:grpSpPr>
        <p:sp>
          <p:nvSpPr>
            <p:cNvPr id="570" name=""/>
            <p:cNvSpPr/>
            <p:nvPr/>
          </p:nvSpPr>
          <p:spPr>
            <a:xfrm>
              <a:off x="715320" y="4712760"/>
              <a:ext cx="244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ssocia o fluxo 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inFile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o arquivo 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file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60720" y="4767120"/>
              <a:ext cx="85680" cy="547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70160" y="5102280"/>
              <a:ext cx="60480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-72360" y="5439960"/>
            <a:ext cx="3847320" cy="916920"/>
            <a:chOff x="-72360" y="5439960"/>
            <a:chExt cx="3847320" cy="916920"/>
          </a:xfrm>
        </p:grpSpPr>
        <p:sp>
          <p:nvSpPr>
            <p:cNvPr id="574" name=""/>
            <p:cNvSpPr/>
            <p:nvPr/>
          </p:nvSpPr>
          <p:spPr>
            <a:xfrm>
              <a:off x="-72360" y="5439960"/>
              <a:ext cx="332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termina o tamanho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rquivo e constrói um ve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de bytes do mesmo tamanh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97360" y="5541840"/>
              <a:ext cx="149040" cy="78912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70160" y="5965920"/>
              <a:ext cx="60480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549-95D0-44ED-9158-C758807ECA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rvidor Web Simples, con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2971800" y="1650960"/>
            <a:ext cx="6586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"HTTP/1.0 200 Document Follows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 (fileName.endsWith(".jpg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"Content-Type: image/jpeg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 (fileName.endsWith(".gif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"Content-Typ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 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age/gif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"Content-Length: " + numOfBytes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    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"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Bytes("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ToClient.write(fileInBytes, 0, numOfByt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nectionSocke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se System.out.println("Bad Request Messag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51720" y="2744640"/>
            <a:ext cx="3029400" cy="1067040"/>
            <a:chOff x="351720" y="2744640"/>
            <a:chExt cx="3029400" cy="1067040"/>
          </a:xfrm>
        </p:grpSpPr>
        <p:sp>
          <p:nvSpPr>
            <p:cNvPr id="580" name=""/>
            <p:cNvSpPr/>
            <p:nvPr/>
          </p:nvSpPr>
          <p:spPr>
            <a:xfrm>
              <a:off x="351720" y="2792160"/>
              <a:ext cx="258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ransmissão 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abeçalho da re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HTTP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765160" y="2744640"/>
              <a:ext cx="177840" cy="106704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62080" y="3379680"/>
              <a:ext cx="419040" cy="4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52280" y="1639440"/>
            <a:ext cx="3305160" cy="642600"/>
            <a:chOff x="152280" y="1639440"/>
            <a:chExt cx="3305160" cy="642600"/>
          </a:xfrm>
        </p:grpSpPr>
        <p:sp>
          <p:nvSpPr>
            <p:cNvPr id="584" name=""/>
            <p:cNvSpPr/>
            <p:nvPr/>
          </p:nvSpPr>
          <p:spPr>
            <a:xfrm>
              <a:off x="152280" y="1639440"/>
              <a:ext cx="27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Inicia a construção 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ensagem  de re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43200" y="1693800"/>
              <a:ext cx="85680" cy="547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52640" y="2028960"/>
              <a:ext cx="604800" cy="12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16B-958C-48D4-A061-241A1C62F8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com sockets: referência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01240" y="1449360"/>
            <a:ext cx="864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utoriais Jav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ll About Sockets” (Tutorial da Sun), http://java.sun.com/docs/books/tutorial/networking/sockets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cket Programming in Java: a tutorial,” http://www.javaworld.com/javaworld/jw-12-1996/jw-12-sockets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7B2-8C2F-4A53-8DB4-16C998B607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rvidores de nomes D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20720" y="1466640"/>
            <a:ext cx="4822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nhum servidor mantém todos os mapeamento nome-para-endereç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 de nomes loc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rovedor, empresa tem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 de nomes local (defaul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ido DNS de hospedeiro vai primeiro ao servidor de nomes 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 de nomes ofici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/ hospedeiro: guarda nome, endereço IP de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realizar tradução  nome/endereço para este n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6280" y="15048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r que não centralizar o D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único de fal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lume de tráfe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se de dados centralizada e dis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utenção (da B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é escaláve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BA2-7CAB-4F2A-85BB-EBCAA66A8F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104-EE26-4F31-8319-D3DEF88BE42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che Web (servidor-procurador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36520" y="2009520"/>
            <a:ext cx="360216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configura browser: acessos WWW via procur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envia todos pedidos HTTP ao procur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objeto no cache do procurador, este o devolve imediatamente na resposta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não, solicita objeto do servidor de origem, depois devolve resposta HTTP a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600120" y="1428840"/>
            <a:ext cx="8145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ender pedido do cliente sem envolver servidor de 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080240" y="25588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4268880" y="4826160"/>
            <a:ext cx="515880" cy="4125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5661000" y="272736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u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600" name="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765680" y="3144960"/>
            <a:ext cx="1428840" cy="668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4803840" y="3284640"/>
            <a:ext cx="1350720" cy="627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480" y="53006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422000">
            <a:off x="4897440" y="319536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dido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9906800">
            <a:off x="4672800" y="42004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dido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411200">
            <a:off x="4682880" y="35622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9861800">
            <a:off x="4851720" y="451944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618" name="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627" name="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6692760" y="309564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6743880" y="3182760"/>
            <a:ext cx="140328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9906800">
            <a:off x="6606360" y="320040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dido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9861800">
            <a:off x="6785280" y="3519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36760" y="213192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67000" y="550080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C99-0079-41A3-B259-2E01BF81155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Mais sobre Caches Web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atua tanto como cliente quanto com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pode verificar a atualização usando cabeçalho HTTP: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-modified-si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estão: o cache pode passar um objeto sem verificar que ele ainda esteja atualizado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ão usadas heurístic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icamente o cache é instalado por um ISP (universidade, empresa, ISP residenci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ara que fazer cache We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ução do tempo de resposta para os pedidos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ução do tráfego no canal de acesso de uma institu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Internet cheia de caches permitem que provedores de conteúdo “pobres” efetivamente forneçam conteúd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03E-F504-444E-BD70-9F756A5704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e (1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Hipóte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 médio de um objeto = 100.000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xa média de solicitações d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browse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de uma instituição para os servidores originais = 15/se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do roteador institucional para qualquer servidor origem e de volta ao roteador = 2se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Conseqüênci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a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o canal de acesso =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e acesso + atraso na LAN = 2 seg + minutos + milisegun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648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657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666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675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684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7077960" y="65880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699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709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"/>
          <p:cNvSpPr/>
          <p:nvPr/>
        </p:nvSpPr>
        <p:spPr>
          <a:xfrm>
            <a:off x="5656680" y="19987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172120" y="4605480"/>
            <a:ext cx="156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724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734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776480" y="39466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de 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45600" y="42940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N 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9200" y="3322800"/>
            <a:ext cx="18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ce de acess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,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343-CB56-44BD-A2AF-F7A2E4E1C3F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e (2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Solução em poten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da largura de banda do canal de acesso para, por exemplo, 1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Conseqüênci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tilização da LAN = 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tilização do canal de acesso = 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total = atraso da Internet + atraso de acesso + atraso na LAN = 2 seg + msegs + mse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reqüentemente este é uma ampliação ca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746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755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764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773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782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7077960" y="65880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797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803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807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>
            <a:off x="5656680" y="19987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5172120" y="4605480"/>
            <a:ext cx="156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822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828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832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776480" y="39466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de 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645600" y="42940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N 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79200" y="3322800"/>
            <a:ext cx="18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ce de acess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85D-85C4-44BC-8D96-4B3BBF9692F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e (3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Instale uma cac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ssuma que a taxa de acerto seja de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Conseqüênci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40% dos pedidos serão atendidos quase que imediat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60% dos pedidos serão servidos pelos servidores de orig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o canal de acesso é reduzido para 60%, resultando em atrasos desprezíveis (ex. 10 mse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e acesso + atraso na LAN = ),6*2 seg + 0,6*0,01 segs + msegs &lt; 1,3 seg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844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853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862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871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880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7077960" y="658800"/>
            <a:ext cx="144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895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901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905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8" name=""/>
          <p:cNvSpPr/>
          <p:nvPr/>
        </p:nvSpPr>
        <p:spPr>
          <a:xfrm>
            <a:off x="5656680" y="19987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 flipV="1">
            <a:off x="5172120" y="4603320"/>
            <a:ext cx="220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920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930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3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776480" y="39466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de 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645600" y="42940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N 10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379200" y="3322800"/>
            <a:ext cx="18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lace de acess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,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367760" y="46054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7142040" y="4689360"/>
            <a:ext cx="347760" cy="695160"/>
            <a:chOff x="7142040" y="4689360"/>
            <a:chExt cx="347760" cy="695160"/>
          </a:xfrm>
        </p:grpSpPr>
        <p:sp>
          <p:nvSpPr>
            <p:cNvPr id="940" name=""/>
            <p:cNvSpPr/>
            <p:nvPr/>
          </p:nvSpPr>
          <p:spPr>
            <a:xfrm>
              <a:off x="7142040" y="468936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7207200" y="4770360"/>
              <a:ext cx="183960" cy="542520"/>
              <a:chOff x="7207200" y="4770360"/>
              <a:chExt cx="183960" cy="542520"/>
            </a:xfrm>
          </p:grpSpPr>
          <p:sp>
            <p:nvSpPr>
              <p:cNvPr id="942" name=""/>
              <p:cNvSpPr/>
              <p:nvPr/>
            </p:nvSpPr>
            <p:spPr>
              <a:xfrm>
                <a:off x="7207200" y="51876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300440" y="47739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208280" y="48920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207200" y="47703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391160" y="47790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7324920" y="51876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223040" y="49471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234200" y="50194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0" name=""/>
          <p:cNvSpPr/>
          <p:nvPr/>
        </p:nvSpPr>
        <p:spPr>
          <a:xfrm>
            <a:off x="6863400" y="537048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a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F19-1552-49F4-AE3F-49EFEE5D00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distribuição de conteúdos (CDNs -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ent distribution network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65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provedores de conteúdo são os clientes da CD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plica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empresa da CDN instala centenas de servidores através d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 ISPs próximos aos usuári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CDN replica o conteúdo de seus clientes nos servidores CDN. Quando o provedor atualiza o conteúdo, a CDN atualiza seus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6435720" y="1841400"/>
            <a:ext cx="184320" cy="542520"/>
            <a:chOff x="6435720" y="1841400"/>
            <a:chExt cx="184320" cy="542520"/>
          </a:xfrm>
        </p:grpSpPr>
        <p:sp>
          <p:nvSpPr>
            <p:cNvPr id="954" name=""/>
            <p:cNvSpPr/>
            <p:nvPr/>
          </p:nvSpPr>
          <p:spPr>
            <a:xfrm>
              <a:off x="6435720" y="2258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28960" y="1845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36800" y="1963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35720" y="1841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20040" y="1850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6553440" y="2258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51560" y="2018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62720" y="2090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5284800" y="4213080"/>
            <a:ext cx="347760" cy="695160"/>
            <a:chOff x="5284800" y="4213080"/>
            <a:chExt cx="347760" cy="695160"/>
          </a:xfrm>
        </p:grpSpPr>
        <p:sp>
          <p:nvSpPr>
            <p:cNvPr id="963" name=""/>
            <p:cNvSpPr/>
            <p:nvPr/>
          </p:nvSpPr>
          <p:spPr>
            <a:xfrm>
              <a:off x="5284800" y="421308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5349960" y="4294080"/>
              <a:ext cx="183960" cy="542520"/>
              <a:chOff x="5349960" y="4294080"/>
              <a:chExt cx="183960" cy="542520"/>
            </a:xfrm>
          </p:grpSpPr>
          <p:sp>
            <p:nvSpPr>
              <p:cNvPr id="965" name=""/>
              <p:cNvSpPr/>
              <p:nvPr/>
            </p:nvSpPr>
            <p:spPr>
              <a:xfrm>
                <a:off x="5349960" y="47113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443200" y="429768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51040" y="44157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349960" y="42940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33920" y="43027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5467680" y="471132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365800" y="447084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376960" y="454320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6426360" y="4524480"/>
            <a:ext cx="347400" cy="695160"/>
            <a:chOff x="6426360" y="4524480"/>
            <a:chExt cx="347400" cy="695160"/>
          </a:xfrm>
        </p:grpSpPr>
        <p:sp>
          <p:nvSpPr>
            <p:cNvPr id="974" name=""/>
            <p:cNvSpPr/>
            <p:nvPr/>
          </p:nvSpPr>
          <p:spPr>
            <a:xfrm>
              <a:off x="6426360" y="4524480"/>
              <a:ext cx="34740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6491160" y="4605480"/>
              <a:ext cx="183600" cy="542520"/>
              <a:chOff x="6491160" y="4605480"/>
              <a:chExt cx="183600" cy="542520"/>
            </a:xfrm>
          </p:grpSpPr>
          <p:sp>
            <p:nvSpPr>
              <p:cNvPr id="976" name=""/>
              <p:cNvSpPr/>
              <p:nvPr/>
            </p:nvSpPr>
            <p:spPr>
              <a:xfrm>
                <a:off x="6491160" y="502272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584040" y="4609080"/>
                <a:ext cx="8424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492240" y="4727160"/>
                <a:ext cx="11628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91160" y="460548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74760" y="46141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608160" y="5022720"/>
                <a:ext cx="6588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06640" y="4782240"/>
                <a:ext cx="7704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17800" y="485460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4" name=""/>
          <p:cNvGrpSpPr/>
          <p:nvPr/>
        </p:nvGrpSpPr>
        <p:grpSpPr>
          <a:xfrm>
            <a:off x="7421400" y="4335480"/>
            <a:ext cx="347760" cy="695160"/>
            <a:chOff x="7421400" y="4335480"/>
            <a:chExt cx="347760" cy="695160"/>
          </a:xfrm>
        </p:grpSpPr>
        <p:sp>
          <p:nvSpPr>
            <p:cNvPr id="985" name=""/>
            <p:cNvSpPr/>
            <p:nvPr/>
          </p:nvSpPr>
          <p:spPr>
            <a:xfrm>
              <a:off x="7421400" y="433548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7486560" y="4416480"/>
              <a:ext cx="183960" cy="542520"/>
              <a:chOff x="7486560" y="4416480"/>
              <a:chExt cx="183960" cy="542520"/>
            </a:xfrm>
          </p:grpSpPr>
          <p:sp>
            <p:nvSpPr>
              <p:cNvPr id="987" name=""/>
              <p:cNvSpPr/>
              <p:nvPr/>
            </p:nvSpPr>
            <p:spPr>
              <a:xfrm>
                <a:off x="7486560" y="48337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579800" y="442008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487640" y="45381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486560" y="44164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70520" y="44251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7604280" y="483372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02400" y="459324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13560" y="466560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5" name=""/>
          <p:cNvGrpSpPr/>
          <p:nvPr/>
        </p:nvGrpSpPr>
        <p:grpSpPr>
          <a:xfrm>
            <a:off x="6404040" y="3230640"/>
            <a:ext cx="347760" cy="695160"/>
            <a:chOff x="6404040" y="3230640"/>
            <a:chExt cx="347760" cy="695160"/>
          </a:xfrm>
        </p:grpSpPr>
        <p:sp>
          <p:nvSpPr>
            <p:cNvPr id="996" name=""/>
            <p:cNvSpPr/>
            <p:nvPr/>
          </p:nvSpPr>
          <p:spPr>
            <a:xfrm>
              <a:off x="6404040" y="323064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6469200" y="3311640"/>
              <a:ext cx="183960" cy="542520"/>
              <a:chOff x="6469200" y="3311640"/>
              <a:chExt cx="183960" cy="542520"/>
            </a:xfrm>
          </p:grpSpPr>
          <p:sp>
            <p:nvSpPr>
              <p:cNvPr id="998" name=""/>
              <p:cNvSpPr/>
              <p:nvPr/>
            </p:nvSpPr>
            <p:spPr>
              <a:xfrm>
                <a:off x="6469200" y="37288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562440" y="331524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470280" y="343332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469200" y="331164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53160" y="332028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86920" y="372888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485040" y="348840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496200" y="356076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6" name=""/>
          <p:cNvSpPr/>
          <p:nvPr/>
        </p:nvSpPr>
        <p:spPr>
          <a:xfrm>
            <a:off x="5734080" y="1249200"/>
            <a:ext cx="215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orig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 América do N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482080" y="286056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ó de distribuição C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508800" y="2394000"/>
            <a:ext cx="0" cy="4874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5629320" y="3736800"/>
            <a:ext cx="720720" cy="6955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81880" y="4016520"/>
            <a:ext cx="0" cy="452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800760" y="3711600"/>
            <a:ext cx="598680" cy="7081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47880" y="4962600"/>
            <a:ext cx="1488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 Am. do S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997600" y="5291280"/>
            <a:ext cx="1445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 Euro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348680" y="5113440"/>
            <a:ext cx="1445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 Á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16F-CD86-493E-9D57-8919B987A42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352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D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12280" y="3857400"/>
            <a:ext cx="494676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dor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ww.foo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 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stitu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ttp://www.foo.com/sports.ruth.g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               h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tp://www.cdn.com/www.foo.com/sports/ruth.gi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477800" y="541440"/>
            <a:ext cx="6326640" cy="3439440"/>
            <a:chOff x="1477800" y="541440"/>
            <a:chExt cx="6326640" cy="3439440"/>
          </a:xfrm>
        </p:grpSpPr>
        <p:pic>
          <p:nvPicPr>
            <p:cNvPr id="1018" name="" descr=""/>
            <p:cNvPicPr/>
            <p:nvPr/>
          </p:nvPicPr>
          <p:blipFill>
            <a:blip r:embed="rId1"/>
            <a:stretch/>
          </p:blipFill>
          <p:spPr>
            <a:xfrm>
              <a:off x="1477800" y="1644480"/>
              <a:ext cx="444600" cy="35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9" name=""/>
            <p:cNvGrpSpPr/>
            <p:nvPr/>
          </p:nvGrpSpPr>
          <p:grpSpPr>
            <a:xfrm>
              <a:off x="4055760" y="646200"/>
              <a:ext cx="184320" cy="542520"/>
              <a:chOff x="4055760" y="646200"/>
              <a:chExt cx="184320" cy="542520"/>
            </a:xfrm>
          </p:grpSpPr>
          <p:sp>
            <p:nvSpPr>
              <p:cNvPr id="1020" name=""/>
              <p:cNvSpPr/>
              <p:nvPr/>
            </p:nvSpPr>
            <p:spPr>
              <a:xfrm>
                <a:off x="4055760" y="1063440"/>
                <a:ext cx="184320" cy="125280"/>
              </a:xfrm>
              <a:prstGeom prst="parallelogram">
                <a:avLst>
                  <a:gd name="adj" fmla="val 5667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149000" y="64980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056840" y="76788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055760" y="646200"/>
                <a:ext cx="184320" cy="125280"/>
              </a:xfrm>
              <a:prstGeom prst="parallelogram">
                <a:avLst>
                  <a:gd name="adj" fmla="val 5667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240080" y="65484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4173480" y="106344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071600" y="82296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082760" y="89532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3867480" y="1761480"/>
              <a:ext cx="548280" cy="201240"/>
              <a:chOff x="3867480" y="1761480"/>
              <a:chExt cx="548280" cy="201240"/>
            </a:xfrm>
          </p:grpSpPr>
          <p:sp>
            <p:nvSpPr>
              <p:cNvPr id="1029" name=""/>
              <p:cNvSpPr/>
              <p:nvPr/>
            </p:nvSpPr>
            <p:spPr>
              <a:xfrm rot="5510400">
                <a:off x="3840840" y="179244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5510400">
                <a:off x="4156920" y="169884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5510400">
                <a:off x="4025160" y="16185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5510400">
                <a:off x="4258080" y="18057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flipV="1">
                <a:off x="3993120" y="1949400"/>
                <a:ext cx="40788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 flipV="1">
                <a:off x="3873240" y="1879200"/>
                <a:ext cx="11952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5510400">
                <a:off x="4078440" y="17035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5510400">
                <a:off x="4093200" y="178344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3928680" y="2638440"/>
              <a:ext cx="347760" cy="695160"/>
              <a:chOff x="3928680" y="2638440"/>
              <a:chExt cx="347760" cy="69516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28680" y="2638440"/>
                <a:ext cx="347760" cy="695160"/>
              </a:xfrm>
              <a:custGeom>
                <a:avLst/>
                <a:gdLst/>
                <a:ahLst/>
                <a:rect l="l" t="t" r="r" b="b"/>
                <a:pathLst>
                  <a:path w="219" h="438">
                    <a:moveTo>
                      <a:pt x="16" y="109"/>
                    </a:moveTo>
                    <a:cubicBezTo>
                      <a:pt x="31" y="58"/>
                      <a:pt x="67" y="14"/>
                      <a:pt x="94" y="7"/>
                    </a:cubicBezTo>
                    <a:cubicBezTo>
                      <a:pt x="121" y="0"/>
                      <a:pt x="161" y="5"/>
                      <a:pt x="178" y="67"/>
                    </a:cubicBezTo>
                    <a:cubicBezTo>
                      <a:pt x="195" y="129"/>
                      <a:pt x="219" y="320"/>
                      <a:pt x="196" y="379"/>
                    </a:cubicBezTo>
                    <a:cubicBezTo>
                      <a:pt x="173" y="438"/>
                      <a:pt x="72" y="432"/>
                      <a:pt x="40" y="421"/>
                    </a:cubicBezTo>
                    <a:cubicBezTo>
                      <a:pt x="8" y="410"/>
                      <a:pt x="8" y="365"/>
                      <a:pt x="4" y="313"/>
                    </a:cubicBezTo>
                    <a:cubicBezTo>
                      <a:pt x="0" y="261"/>
                      <a:pt x="1" y="160"/>
                      <a:pt x="16" y="109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3993840" y="2719440"/>
                <a:ext cx="183960" cy="542520"/>
                <a:chOff x="3993840" y="2719440"/>
                <a:chExt cx="183960" cy="54252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3993840" y="3136680"/>
                  <a:ext cx="183960" cy="125280"/>
                </a:xfrm>
                <a:prstGeom prst="parallelogram">
                  <a:avLst>
                    <a:gd name="adj" fmla="val 56567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087080" y="2723040"/>
                  <a:ext cx="84600" cy="41688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994920" y="2841120"/>
                  <a:ext cx="116640" cy="41724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993840" y="2719440"/>
                  <a:ext cx="183960" cy="125280"/>
                </a:xfrm>
                <a:prstGeom prst="parallelogram">
                  <a:avLst>
                    <a:gd name="adj" fmla="val 56567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177800" y="2728080"/>
                  <a:ext cx="0" cy="40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>
                  <a:off x="4111560" y="3136680"/>
                  <a:ext cx="66240" cy="12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009680" y="2896200"/>
                  <a:ext cx="77400" cy="240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020840" y="2968560"/>
                  <a:ext cx="58680" cy="84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8" name=""/>
            <p:cNvSpPr/>
            <p:nvPr/>
          </p:nvSpPr>
          <p:spPr>
            <a:xfrm flipV="1">
              <a:off x="2064960" y="1100160"/>
              <a:ext cx="1746360" cy="573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433760" y="541440"/>
              <a:ext cx="2533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dido HTTP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ww.foo.com/sports/sports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19440" y="1657440"/>
              <a:ext cx="26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sulta DNS para www.cdn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50680" y="2781360"/>
              <a:ext cx="33537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dido HTTP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ww.cdn.com/www.foo.com/sports/ruth.g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6880" y="1820880"/>
              <a:ext cx="16113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52360" y="2003400"/>
              <a:ext cx="1820880" cy="9414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09800" y="127152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41480" y="171612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98640" y="2370240"/>
              <a:ext cx="206280" cy="22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30520" y="1227240"/>
              <a:ext cx="175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idor orig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82680" y="1947960"/>
              <a:ext cx="386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idor D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ficial da CD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58880" y="3349440"/>
              <a:ext cx="14637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DN próx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5281560" y="3795840"/>
            <a:ext cx="33958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100480" y="3844800"/>
            <a:ext cx="38354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mpresa C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d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i arquivos 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a o seu servidor DNS oficial para redirecionar os ped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413-283D-4B4A-86C9-6538233051F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Mais sobre CD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9400" y="1430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oteamento de ped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CDN cria um “mapa”, indicando as distâncias entre os ISPs folhas e os nós C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a solicitação chega num servidor DNS oficial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servidor determina qual é o ISP de onde provém o ped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o “mapa” para determinar qual o melhor servidor CD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495680" y="1465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ão são apenas páginas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luxos de áudio/vídeo armaz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luxos de áudio/vídeo de tempo re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CDN criam uma rede sobreposta n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0E3-0A66-4FAB-A758-A44429C3BC1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ompartilhamento de arquivos P2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m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xecuta aplicação cliente P2P no seu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otebo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iodicamente ela se conecta à Internet e recebe um novo endereço IP a ca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e a música “Hey Jud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aplicação apresenta uma lista de outros parceiros que possuem uma cópia de Hey Jud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44640" y="1110960"/>
            <a:ext cx="38098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scolhe um dos parceiros,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arquivo é copiado do PC de Bob para 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otebook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 Alice: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quanto Alice está baixando a música, outros usuários podem estar pegando arquivos do seu computad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parceiro de Alice é tanto um cliente Web como um servidor Web temporár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Todos os parceiros são servidores = altamente escaláve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9D2-5F38-4C4D-B60C-B5774F23253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Servidores raiz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466640"/>
            <a:ext cx="77724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do por servidor local que não consegue resolver o n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rai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 servidor oficial se mapeamento desconhec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tém tradu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volve mapeamento ao servidor 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47760" y="3601440"/>
            <a:ext cx="6030720" cy="3148560"/>
            <a:chOff x="347760" y="3601440"/>
            <a:chExt cx="6030720" cy="31485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724400" y="4422240"/>
              <a:ext cx="4502520" cy="23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116800" y="3723120"/>
              <a:ext cx="672480" cy="1321560"/>
            </a:xfrm>
            <a:custGeom>
              <a:avLst/>
              <a:gdLst/>
              <a:ahLst/>
              <a:rect l="l" t="t" r="r" b="b"/>
              <a:pathLst>
                <a:path w="963" h="1893">
                  <a:moveTo>
                    <a:pt x="0" y="0"/>
                  </a:moveTo>
                  <a:lnTo>
                    <a:pt x="0" y="930"/>
                  </a:lnTo>
                  <a:lnTo>
                    <a:pt x="963" y="18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8160" y="5785920"/>
              <a:ext cx="21092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 USC-ISI Marina del Rey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 ICANN Marina del Rey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7840" y="5209200"/>
              <a:ext cx="794160" cy="582120"/>
            </a:xfrm>
            <a:custGeom>
              <a:avLst/>
              <a:gdLst/>
              <a:ahLst/>
              <a:rect l="l" t="t" r="r" b="b"/>
              <a:pathLst>
                <a:path w="582" h="426">
                  <a:moveTo>
                    <a:pt x="0" y="426"/>
                  </a:moveTo>
                  <a:lnTo>
                    <a:pt x="5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7760" y="4587480"/>
              <a:ext cx="2031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 NASA Mt View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 Internet Software C. Palo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Alto, 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330920" y="4946760"/>
              <a:ext cx="851760" cy="196560"/>
            </a:xfrm>
            <a:custGeom>
              <a:avLst/>
              <a:gdLst/>
              <a:ahLst/>
              <a:rect l="l" t="t" r="r" b="b"/>
              <a:pathLst>
                <a:path w="582" h="426">
                  <a:moveTo>
                    <a:pt x="0" y="426"/>
                  </a:moveTo>
                  <a:lnTo>
                    <a:pt x="5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62120" y="3943080"/>
              <a:ext cx="17402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 NORDUnet Stockhol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45240" y="4089600"/>
              <a:ext cx="464400" cy="701640"/>
            </a:xfrm>
            <a:custGeom>
              <a:avLst/>
              <a:gdLst/>
              <a:ahLst/>
              <a:rect l="l" t="t" r="r" b="b"/>
              <a:pathLst>
                <a:path w="666" h="1005">
                  <a:moveTo>
                    <a:pt x="666" y="0"/>
                  </a:moveTo>
                  <a:lnTo>
                    <a:pt x="0" y="10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51680" y="3735000"/>
              <a:ext cx="159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 RIPE Lon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55520" y="3870000"/>
              <a:ext cx="643680" cy="1010880"/>
            </a:xfrm>
            <a:custGeom>
              <a:avLst/>
              <a:gdLst/>
              <a:ahLst/>
              <a:rect l="l" t="t" r="r" b="b"/>
              <a:pathLst>
                <a:path w="922" h="1448">
                  <a:moveTo>
                    <a:pt x="922" y="0"/>
                  </a:moveTo>
                  <a:lnTo>
                    <a:pt x="0" y="14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73480" y="4301640"/>
              <a:ext cx="13050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WIDE Toky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57400" y="4487760"/>
              <a:ext cx="343800" cy="631440"/>
            </a:xfrm>
            <a:custGeom>
              <a:avLst/>
              <a:gdLst/>
              <a:ahLst/>
              <a:rect l="l" t="t" r="r" b="b"/>
              <a:pathLst>
                <a:path w="252" h="462">
                  <a:moveTo>
                    <a:pt x="252" y="0"/>
                  </a:moveTo>
                  <a:lnTo>
                    <a:pt x="0" y="4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5880" y="3601440"/>
              <a:ext cx="236700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NSI Herndon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PSInet Herndon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 U Maryland College Park, 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 DISA Vienna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ARL Aberdeen, 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  NSI (TBD) Herndon, 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186600" y="5032440"/>
            <a:ext cx="2681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3 servidores de nome raiz em todo o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2A2-CE55-45DD-A95B-7EAD3D6DD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diretório centralizad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jeto original do “Napst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um parceiro conecta ele informa ao servidor central o se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) Alice consulta sobre a música “Hey Ju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) Alice solicita o arquivo a B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4313160" y="838080"/>
            <a:ext cx="4527720" cy="5164200"/>
            <a:chOff x="4313160" y="838080"/>
            <a:chExt cx="4527720" cy="5164200"/>
          </a:xfrm>
        </p:grpSpPr>
        <p:graphicFrame>
          <p:nvGraphicFramePr>
            <p:cNvPr id="1071" name=""/>
            <p:cNvGraphicFramePr/>
            <p:nvPr/>
          </p:nvGraphicFramePr>
          <p:xfrm>
            <a:off x="6343560" y="4708440"/>
            <a:ext cx="833400" cy="72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3560" y="4708440"/>
                      <a:ext cx="833400" cy="7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3" name=""/>
            <p:cNvGrpSpPr/>
            <p:nvPr/>
          </p:nvGrpSpPr>
          <p:grpSpPr>
            <a:xfrm>
              <a:off x="5048280" y="2519280"/>
              <a:ext cx="371160" cy="748440"/>
              <a:chOff x="5048280" y="2519280"/>
              <a:chExt cx="371160" cy="748440"/>
            </a:xfrm>
          </p:grpSpPr>
          <p:sp>
            <p:nvSpPr>
              <p:cNvPr id="1074" name=""/>
              <p:cNvSpPr/>
              <p:nvPr/>
            </p:nvSpPr>
            <p:spPr>
              <a:xfrm>
                <a:off x="5048280" y="3094920"/>
                <a:ext cx="371160" cy="172800"/>
              </a:xfrm>
              <a:prstGeom prst="parallelogram">
                <a:avLst>
                  <a:gd name="adj" fmla="val 8274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236200" y="2523960"/>
                <a:ext cx="170640" cy="574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50440" y="2687400"/>
                <a:ext cx="235080" cy="575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48280" y="2519280"/>
                <a:ext cx="371160" cy="172800"/>
              </a:xfrm>
              <a:prstGeom prst="parallelogram">
                <a:avLst>
                  <a:gd name="adj" fmla="val 8274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419440" y="2531160"/>
                <a:ext cx="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5285520" y="3094920"/>
                <a:ext cx="13356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9960" y="2763000"/>
                <a:ext cx="155880" cy="331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102640" y="2863080"/>
                <a:ext cx="118440" cy="11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4925880" y="4708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3" name=""/>
            <p:cNvGraphicFramePr/>
            <p:nvPr/>
          </p:nvGraphicFramePr>
          <p:xfrm>
            <a:off x="8172360" y="2970000"/>
            <a:ext cx="668520" cy="58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72360" y="2970000"/>
                      <a:ext cx="668520" cy="58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5" name=""/>
            <p:cNvGraphicFramePr/>
            <p:nvPr/>
          </p:nvGraphicFramePr>
          <p:xfrm>
            <a:off x="7553160" y="3876480"/>
            <a:ext cx="681120" cy="59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3160" y="3876480"/>
                      <a:ext cx="6811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7" name=""/>
            <p:cNvGraphicFramePr/>
            <p:nvPr/>
          </p:nvGraphicFramePr>
          <p:xfrm>
            <a:off x="7440480" y="1780920"/>
            <a:ext cx="693720" cy="60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40480" y="1780920"/>
                      <a:ext cx="693720" cy="60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9" name=""/>
            <p:cNvSpPr/>
            <p:nvPr/>
          </p:nvSpPr>
          <p:spPr>
            <a:xfrm>
              <a:off x="4313160" y="1815840"/>
              <a:ext cx="1896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rvidor de diretó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entraliz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715880" y="251280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arcei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11680" y="2603520"/>
              <a:ext cx="1006560" cy="27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flipV="1">
              <a:off x="5521320" y="2878200"/>
              <a:ext cx="2558880" cy="366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611680" y="2512800"/>
              <a:ext cx="91440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611680" y="2512800"/>
              <a:ext cx="100656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5520960" y="3152520"/>
              <a:ext cx="2011320" cy="1006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521320" y="2055600"/>
              <a:ext cx="1828800" cy="639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78520" y="2512800"/>
              <a:ext cx="15541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428800" y="3244680"/>
              <a:ext cx="118908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46640" y="3335400"/>
              <a:ext cx="1189080" cy="14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165800" y="2421000"/>
              <a:ext cx="549360" cy="2377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50120" y="4616280"/>
              <a:ext cx="91296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588000" y="545148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945560" y="150660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27720" y="2273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70560" y="28652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75240" y="3544920"/>
              <a:ext cx="243000" cy="23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059520" y="398304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67480" y="392112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340400" y="3470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0" name="" descr=""/>
            <p:cNvPicPr/>
            <p:nvPr/>
          </p:nvPicPr>
          <p:blipFill>
            <a:blip r:embed="rId9"/>
            <a:stretch/>
          </p:blipFill>
          <p:spPr>
            <a:xfrm>
              <a:off x="7966080" y="838080"/>
              <a:ext cx="676080" cy="6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10"/>
            <a:stretch/>
          </p:blipFill>
          <p:spPr>
            <a:xfrm>
              <a:off x="7273800" y="5308560"/>
              <a:ext cx="561960" cy="6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FD3-46D0-4202-AAD1-3A6484B8995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2P: problemas com diretório centraliza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único de fal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argalo de desempen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olação de Direitos Autor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12840" y="1599840"/>
            <a:ext cx="3614760" cy="1646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 transferência de arquivo é descentralizada, mas a localização do conteúdo é altamente centralizad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FA9-E3A8-4440-BBBD-C5D65599F81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diretório descentralizad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parceiro é um líder de grupo ou está alocado a um líder de gru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líder de um grupo segue o conteúdo de todos os seus filh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ceiro consulta líder do grupo; este por sua vez pode consultar outros líderes de gru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4917960" y="1173240"/>
          <a:ext cx="349416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1173240"/>
                    <a:ext cx="349416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F51-5B59-45AF-B02F-E01C773A3BB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Mais sobre diretórios descentralizad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10760" y="1600200"/>
            <a:ext cx="3932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de sobre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ceiros são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cos entre os parceiros e seus líderes de gru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cos entre alguns pares de líderes de gru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zinhos virtu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nó de inicializaç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parceiro que está se conectando ou é alocado a um líder de grupo ou é designado como lí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4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vantagens da abord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sência de servidor de diretórios centraliz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ço de localização distribuído entre os parceir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s difícil de ser tirado do 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desvantagens da abord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necessário um nó de inicializ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líderes de grupo podem ficar sobrecarreg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E7D-0920-4F52-B493-A160E3A0902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Inundação de consult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nutell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hierarqui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nó de inicialização para aprender sobre os dem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m de união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joi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3864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consulta aos vizinh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zinhos encaminham a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o parceiro consultado possui o objeto, ele devolve a mensagem para o parceiro que fez a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915840" y="4308480"/>
            <a:ext cx="2680920" cy="1649520"/>
            <a:chOff x="915840" y="4308480"/>
            <a:chExt cx="2680920" cy="1649520"/>
          </a:xfrm>
        </p:grpSpPr>
        <p:sp>
          <p:nvSpPr>
            <p:cNvPr id="1126" name=""/>
            <p:cNvSpPr/>
            <p:nvPr/>
          </p:nvSpPr>
          <p:spPr>
            <a:xfrm>
              <a:off x="915840" y="494676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53600" y="52660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10240" y="43084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955520" y="484020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900800" y="585144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53600" y="462744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66520" y="44146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04640" y="5053680"/>
              <a:ext cx="109080" cy="105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9920" y="574488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487680" y="4627440"/>
              <a:ext cx="109080" cy="10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48000" y="5212800"/>
              <a:ext cx="109080" cy="10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1024920" y="4734000"/>
              <a:ext cx="32832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462680" y="4361400"/>
              <a:ext cx="54720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2009880" y="4414680"/>
              <a:ext cx="543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024920" y="5053680"/>
              <a:ext cx="32832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1462680" y="4946760"/>
              <a:ext cx="49248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064960" y="4893480"/>
              <a:ext cx="38304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2502360" y="4521240"/>
              <a:ext cx="218520" cy="69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75960" y="4467960"/>
              <a:ext cx="71172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75960" y="4521240"/>
              <a:ext cx="328320" cy="5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104640" y="4734000"/>
              <a:ext cx="437760" cy="10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104280" y="5159520"/>
              <a:ext cx="54360" cy="5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064960" y="4467960"/>
              <a:ext cx="601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010240" y="5372640"/>
              <a:ext cx="437760" cy="478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127960" y="5546520"/>
              <a:ext cx="48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Comic Sans MS"/>
                </a:rPr>
                <a:t>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4835520" y="4235400"/>
            <a:ext cx="3211560" cy="1752120"/>
            <a:chOff x="4835520" y="4235400"/>
            <a:chExt cx="3211560" cy="1752120"/>
          </a:xfrm>
        </p:grpSpPr>
        <p:sp>
          <p:nvSpPr>
            <p:cNvPr id="1152" name=""/>
            <p:cNvSpPr/>
            <p:nvPr/>
          </p:nvSpPr>
          <p:spPr>
            <a:xfrm>
              <a:off x="4835520" y="496044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59680" y="53229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46280" y="423540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81120" y="483984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81120" y="574596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59680" y="45975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932880" y="435564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457400" y="5081040"/>
              <a:ext cx="130680" cy="12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391880" y="5867280"/>
              <a:ext cx="13068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16400" y="459756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70800" y="5262480"/>
              <a:ext cx="13068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965840" y="4718520"/>
              <a:ext cx="39348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490000" y="4295520"/>
              <a:ext cx="65556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6145920" y="4355640"/>
              <a:ext cx="65160" cy="48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66200" y="5081040"/>
              <a:ext cx="39348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90360" y="4960440"/>
              <a:ext cx="5904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211800" y="4900320"/>
              <a:ext cx="4590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6211800" y="5383440"/>
              <a:ext cx="45900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736320" y="4477320"/>
              <a:ext cx="262080" cy="78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063560" y="4416840"/>
              <a:ext cx="85248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063560" y="4477320"/>
              <a:ext cx="393480" cy="6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457400" y="4718520"/>
              <a:ext cx="524160" cy="11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7457040" y="5202360"/>
              <a:ext cx="6516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211800" y="4416840"/>
              <a:ext cx="72108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900680" y="4658040"/>
              <a:ext cx="393480" cy="24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490360" y="4295520"/>
              <a:ext cx="524160" cy="241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32080" y="5020560"/>
              <a:ext cx="327600" cy="241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490360" y="4900320"/>
              <a:ext cx="524160" cy="362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211440" y="4416840"/>
              <a:ext cx="65160" cy="362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277320" y="4537080"/>
              <a:ext cx="590400" cy="302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77320" y="4900320"/>
              <a:ext cx="393480" cy="362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6211440" y="5383440"/>
              <a:ext cx="393480" cy="362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129800" y="4355640"/>
              <a:ext cx="786600" cy="241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129800" y="4477320"/>
              <a:ext cx="327240" cy="543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7522920" y="4779360"/>
              <a:ext cx="524160" cy="1087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7391520" y="5202360"/>
              <a:ext cx="65160" cy="603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6822720" y="4589280"/>
              <a:ext cx="219600" cy="621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13F-758C-40E1-A9C7-BFCD3CB1200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2P: mais sobre inundações de consult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ó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s parceiros têm responsabilidades similares: sem líderes de gru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tamente descentr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nhum parceiro mantém informação de diretó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áfego excessivo de consul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aio da consulta: pode não ter o conteúdo quando estiver pres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de inicial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utenção da rede sobrepo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E7D-DE4B-4D58-B25A-11D23815CAF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47640" y="2028600"/>
            <a:ext cx="381024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o serviço de aplic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fiabilidade, banda, retar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cliente-servid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de serviço do transporte orientado a conexão, confiável da Internet: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ão confiável, datagramas: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52600" y="1390680"/>
            <a:ext cx="81914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erminamos nosso estudo de aplicações de red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4772160" y="2124000"/>
            <a:ext cx="39621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os específ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, I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ação c/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ição de conteú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s, C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898-FA09-4037-8F19-2F3E09DE2FE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95360" y="2161800"/>
            <a:ext cx="41292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oca típica de mensagens pedido/respos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iente solicita info ou serviç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responde com dados, código de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s de mensage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beçalhos: campos com info sobre dados (metadad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: info sendo comunic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52240" y="1390680"/>
            <a:ext cx="79628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ais importante: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aprendemos sobre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4667400" y="2400480"/>
            <a:ext cx="428148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gs de controle X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banda, fora da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izado X descentraliz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/ estado X c/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ência de msgs confiável X não confiá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xidade na borda da re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ança: autent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B76-2CCE-4EC6-81C5-32F440BAB98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simples do D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anga.ic.uff.br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endereço IP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ww.cs.columbi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ta servidor DNS local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itomba.ic.uff.b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itomba.ic.uff.b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ta servidor raiz, se necess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vidor raiz contata servidor oficial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s.columbia.edu,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 necess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03720" y="46353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06160" y="522288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ga.ic.uff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95040" y="5324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970680" y="4597560"/>
            <a:ext cx="833400" cy="6379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5265720" y="2570040"/>
            <a:ext cx="369720" cy="657000"/>
            <a:chOff x="5265720" y="2570040"/>
            <a:chExt cx="369720" cy="657000"/>
          </a:xfrm>
        </p:grpSpPr>
        <p:sp>
          <p:nvSpPr>
            <p:cNvPr id="77" name=""/>
            <p:cNvSpPr/>
            <p:nvPr/>
          </p:nvSpPr>
          <p:spPr>
            <a:xfrm>
              <a:off x="5265720" y="30751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52920" y="25743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67880" y="27172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65720" y="25700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35440" y="25804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501880" y="3075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7400" y="278388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28717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781680" y="99684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de nomes ra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26600" y="33847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o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315040" y="325728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29160" y="156168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819480" y="1571400"/>
            <a:ext cx="647640" cy="93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619600" y="1771560"/>
            <a:ext cx="733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17480" y="3384720"/>
            <a:ext cx="2253240" cy="611640"/>
            <a:chOff x="4317480" y="3384720"/>
            <a:chExt cx="2253240" cy="611640"/>
          </a:xfrm>
        </p:grpSpPr>
        <p:sp>
          <p:nvSpPr>
            <p:cNvPr id="94" name=""/>
            <p:cNvSpPr/>
            <p:nvPr/>
          </p:nvSpPr>
          <p:spPr>
            <a:xfrm>
              <a:off x="4505400" y="345744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7480" y="3384720"/>
              <a:ext cx="2253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tomba.ic.uff.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027760" y="41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7100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14000" y="202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488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2160" y="2103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128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380280" y="1150920"/>
            <a:ext cx="369360" cy="657000"/>
            <a:chOff x="6380280" y="1150920"/>
            <a:chExt cx="369360" cy="657000"/>
          </a:xfrm>
        </p:grpSpPr>
        <p:sp>
          <p:nvSpPr>
            <p:cNvPr id="103" name=""/>
            <p:cNvSpPr/>
            <p:nvPr/>
          </p:nvSpPr>
          <p:spPr>
            <a:xfrm>
              <a:off x="6380280" y="16560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67480" y="11552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82440" y="12981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80280" y="11509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49640" y="11613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616080" y="16560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11960" y="13647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34280" y="14526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209000" y="2579760"/>
            <a:ext cx="369360" cy="656280"/>
            <a:chOff x="7209000" y="2579760"/>
            <a:chExt cx="369360" cy="656280"/>
          </a:xfrm>
        </p:grpSpPr>
        <p:sp>
          <p:nvSpPr>
            <p:cNvPr id="112" name=""/>
            <p:cNvSpPr/>
            <p:nvPr/>
          </p:nvSpPr>
          <p:spPr>
            <a:xfrm>
              <a:off x="7209000" y="30844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6200" y="2584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11160" y="272700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9000" y="257976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78360" y="2590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44800" y="3084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40680" y="279360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3000" y="2881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693-2193-4AD4-B134-150E341E9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D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316224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raiz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não conhecer o servidor de nomes ofi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conhecer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 de nomes intermedi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 quem contatar para descobrir o servidor de nomes ofi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18240" y="447372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04560" y="505152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ga.ic.uff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50520" y="5819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942240" y="527364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5065560" y="2398680"/>
            <a:ext cx="369720" cy="657000"/>
            <a:chOff x="5065560" y="2398680"/>
            <a:chExt cx="369720" cy="657000"/>
          </a:xfrm>
        </p:grpSpPr>
        <p:sp>
          <p:nvSpPr>
            <p:cNvPr id="127" name=""/>
            <p:cNvSpPr/>
            <p:nvPr/>
          </p:nvSpPr>
          <p:spPr>
            <a:xfrm>
              <a:off x="5065560" y="29037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2760" y="240300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7720" y="254592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5560" y="239868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35280" y="240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01720" y="290376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97240" y="261252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19560" y="270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34000" y="157176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619680" y="1399680"/>
            <a:ext cx="647640" cy="93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19440" y="160020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31840" y="3232080"/>
            <a:ext cx="2253240" cy="611640"/>
            <a:chOff x="3831840" y="3232080"/>
            <a:chExt cx="2253240" cy="611640"/>
          </a:xfrm>
        </p:grpSpPr>
        <p:sp>
          <p:nvSpPr>
            <p:cNvPr id="142" name=""/>
            <p:cNvSpPr/>
            <p:nvPr/>
          </p:nvSpPr>
          <p:spPr>
            <a:xfrm>
              <a:off x="401976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1840" y="3232080"/>
              <a:ext cx="2253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tomba.ic.uff.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3840" y="185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060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04400" y="373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3800" y="1569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180120" y="979560"/>
            <a:ext cx="369720" cy="656280"/>
            <a:chOff x="6180120" y="979560"/>
            <a:chExt cx="369720" cy="656280"/>
          </a:xfrm>
        </p:grpSpPr>
        <p:sp>
          <p:nvSpPr>
            <p:cNvPr id="151" name=""/>
            <p:cNvSpPr/>
            <p:nvPr/>
          </p:nvSpPr>
          <p:spPr>
            <a:xfrm>
              <a:off x="6180120" y="1484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67320" y="983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82280" y="1126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80120" y="979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49840" y="990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416280" y="1484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1800" y="11934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34120" y="1281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08840" y="2408400"/>
            <a:ext cx="369360" cy="656280"/>
            <a:chOff x="7008840" y="2408400"/>
            <a:chExt cx="369360" cy="656280"/>
          </a:xfrm>
        </p:grpSpPr>
        <p:sp>
          <p:nvSpPr>
            <p:cNvPr id="160" name=""/>
            <p:cNvSpPr/>
            <p:nvPr/>
          </p:nvSpPr>
          <p:spPr>
            <a:xfrm>
              <a:off x="7008840" y="2913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6040" y="2412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1000" y="2555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08840" y="2408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8200" y="2418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244640" y="2913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40520" y="2622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62840" y="2710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989760" y="4027320"/>
            <a:ext cx="369360" cy="657000"/>
            <a:chOff x="6989760" y="4027320"/>
            <a:chExt cx="369360" cy="657000"/>
          </a:xfrm>
        </p:grpSpPr>
        <p:sp>
          <p:nvSpPr>
            <p:cNvPr id="169" name=""/>
            <p:cNvSpPr/>
            <p:nvPr/>
          </p:nvSpPr>
          <p:spPr>
            <a:xfrm>
              <a:off x="6989760" y="45324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6960" y="4031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91920" y="41745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89760" y="40273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59120" y="4037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25560" y="4532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21440" y="42411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43760" y="4329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62920" y="45752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o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87960" y="3176640"/>
            <a:ext cx="3061080" cy="642600"/>
            <a:chOff x="6087960" y="3176640"/>
            <a:chExt cx="3061080" cy="642600"/>
          </a:xfrm>
        </p:grpSpPr>
        <p:sp>
          <p:nvSpPr>
            <p:cNvPr id="181" name=""/>
            <p:cNvSpPr/>
            <p:nvPr/>
          </p:nvSpPr>
          <p:spPr>
            <a:xfrm>
              <a:off x="6392880" y="3278160"/>
              <a:ext cx="239976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7960" y="317664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intermedi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aell.cc.columbia.e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799600" y="18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99684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de nomes ra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F60-15B6-4375-8AA1-A9D6C9468C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consultas interativa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3162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recursiv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e a responsabilidade de resolução do nome para o servidor de nomes conta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ga pesad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interativ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consultado responde com o nome de um servidor de cont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conheço este nome, mas pergunte para esse servido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18240" y="4473720"/>
            <a:ext cx="833400" cy="63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942240" y="527364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065560" y="2398680"/>
            <a:ext cx="369720" cy="657000"/>
            <a:chOff x="5065560" y="2398680"/>
            <a:chExt cx="369720" cy="657000"/>
          </a:xfrm>
        </p:grpSpPr>
        <p:sp>
          <p:nvSpPr>
            <p:cNvPr id="191" name=""/>
            <p:cNvSpPr/>
            <p:nvPr/>
          </p:nvSpPr>
          <p:spPr>
            <a:xfrm>
              <a:off x="5065560" y="29037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2760" y="240300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67720" y="254592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65560" y="239868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5280" y="240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01720" y="290376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97240" y="261252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19560" y="270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514840" y="2552760"/>
            <a:ext cx="14860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514480" y="272412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438520" y="161928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08960" y="184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23240" y="22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9492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425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80120" y="979560"/>
            <a:ext cx="369720" cy="656280"/>
            <a:chOff x="6180120" y="979560"/>
            <a:chExt cx="369720" cy="656280"/>
          </a:xfrm>
        </p:grpSpPr>
        <p:sp>
          <p:nvSpPr>
            <p:cNvPr id="212" name=""/>
            <p:cNvSpPr/>
            <p:nvPr/>
          </p:nvSpPr>
          <p:spPr>
            <a:xfrm>
              <a:off x="6180120" y="1484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67320" y="983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82280" y="1126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0120" y="979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49840" y="990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16280" y="1484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11800" y="11934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34120" y="1281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008840" y="2408400"/>
            <a:ext cx="369360" cy="656280"/>
            <a:chOff x="7008840" y="2408400"/>
            <a:chExt cx="369360" cy="656280"/>
          </a:xfrm>
        </p:grpSpPr>
        <p:sp>
          <p:nvSpPr>
            <p:cNvPr id="221" name=""/>
            <p:cNvSpPr/>
            <p:nvPr/>
          </p:nvSpPr>
          <p:spPr>
            <a:xfrm>
              <a:off x="7008840" y="2913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96040" y="2412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11000" y="2555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08840" y="2408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8200" y="2418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244640" y="2913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40520" y="2622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62840" y="2710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89760" y="4027320"/>
            <a:ext cx="369360" cy="657000"/>
            <a:chOff x="6989760" y="4027320"/>
            <a:chExt cx="369360" cy="657000"/>
          </a:xfrm>
        </p:grpSpPr>
        <p:sp>
          <p:nvSpPr>
            <p:cNvPr id="230" name=""/>
            <p:cNvSpPr/>
            <p:nvPr/>
          </p:nvSpPr>
          <p:spPr>
            <a:xfrm>
              <a:off x="6989760" y="45324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76960" y="4031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91920" y="41745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89760" y="40273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59120" y="4037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25560" y="4532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21440" y="42411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43760" y="4329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61400" y="277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7760" y="1666800"/>
            <a:ext cx="1013040" cy="266760"/>
          </a:xfrm>
          <a:custGeom>
            <a:avLst/>
            <a:gdLst/>
            <a:ahLst/>
            <a:rect l="l" t="t" r="r" b="b"/>
            <a:pathLst>
              <a:path w="638" h="168">
                <a:moveTo>
                  <a:pt x="304" y="108"/>
                </a:moveTo>
                <a:cubicBezTo>
                  <a:pt x="332" y="42"/>
                  <a:pt x="308" y="46"/>
                  <a:pt x="284" y="30"/>
                </a:cubicBezTo>
                <a:cubicBezTo>
                  <a:pt x="260" y="14"/>
                  <a:pt x="83" y="0"/>
                  <a:pt x="54" y="26"/>
                </a:cubicBezTo>
                <a:cubicBezTo>
                  <a:pt x="25" y="52"/>
                  <a:pt x="0" y="144"/>
                  <a:pt x="54" y="152"/>
                </a:cubicBezTo>
                <a:cubicBezTo>
                  <a:pt x="108" y="160"/>
                  <a:pt x="215" y="168"/>
                  <a:pt x="240" y="164"/>
                </a:cubicBezTo>
                <a:cubicBezTo>
                  <a:pt x="265" y="160"/>
                  <a:pt x="292" y="134"/>
                  <a:pt x="306" y="118"/>
                </a:cubicBezTo>
                <a:cubicBezTo>
                  <a:pt x="320" y="102"/>
                  <a:pt x="586" y="36"/>
                  <a:pt x="638" y="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04040" y="149544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ulta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69228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de nomes ra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31840" y="3232080"/>
            <a:ext cx="2253240" cy="611640"/>
            <a:chOff x="3831840" y="3232080"/>
            <a:chExt cx="2253240" cy="611640"/>
          </a:xfrm>
        </p:grpSpPr>
        <p:sp>
          <p:nvSpPr>
            <p:cNvPr id="246" name=""/>
            <p:cNvSpPr/>
            <p:nvPr/>
          </p:nvSpPr>
          <p:spPr>
            <a:xfrm>
              <a:off x="401976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31840" y="3232080"/>
              <a:ext cx="2253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tomba.ic.uff.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087960" y="3176640"/>
            <a:ext cx="3061080" cy="642600"/>
            <a:chOff x="6087960" y="3176640"/>
            <a:chExt cx="3061080" cy="642600"/>
          </a:xfrm>
        </p:grpSpPr>
        <p:sp>
          <p:nvSpPr>
            <p:cNvPr id="249" name=""/>
            <p:cNvSpPr/>
            <p:nvPr/>
          </p:nvSpPr>
          <p:spPr>
            <a:xfrm>
              <a:off x="6392880" y="3278160"/>
              <a:ext cx="239976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87960" y="317664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idor intermedi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aell.cc.columbia.e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62920" y="457524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o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04560" y="5051520"/>
            <a:ext cx="200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ga.ic.uff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50520" y="5819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olumbia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C2F-E9EC-4EC1-BC3E-4E7F35749F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uso de cache, atualização de dad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8840" y="143820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a vez que um servidor qualquer aprende um mapeamento, ele o coloca num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ch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turas consultas são resolvidas usando dados da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s na cache são sujeitas a temporização (desaparecem depois de um certo temp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ão sendo projetados pela IETF mecanismos de atualização/notificação dos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ttp://www.ietf.org/html.charters/dnsind-char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EB7-84B7-4EE0-8B2F-4859D7AEFC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BANCO BEG S/A</cp:lastModifiedBy>
  <dcterms:modified xsi:type="dcterms:W3CDTF">2004-09-17T16:38:32Z</dcterms:modified>
  <cp:revision>107</cp:revision>
  <dc:subject/>
  <dc:title>Part I: Introduction</dc:title>
</cp:coreProperties>
</file>