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F68-56AB-4572-9F6D-B7EB53F3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80F-DD2C-4A75-9665-B9F23CAD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E6A-B893-4162-B1D1-5687589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F51-172F-4246-ADBE-EBE90070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8D4-B7D2-4CD8-9B61-13D0B48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DC2-32F4-4E32-882A-B2675FE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0AF-2053-4A51-B191-02161BDD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2D7-D9F4-4A4B-A073-DF1BB1EA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725-62AA-40CC-A877-F5CE14A1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25A-5B97-490E-B719-170A4DB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A93-5641-4AE9-9978-0BAC77B8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ABC-5CCF-4854-B166-372D313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a: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amada de Aplic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50C-13FC-4627-A95E-96B2C0B25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Camada de Aplicaçã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eta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pectos conceituais e de implementação de protocolos de aplicação em re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s de serviço da camada de transpor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renda sobre protocolos através do estudo de protocolos populares d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4322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ais metas do capítu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específic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/ POP3/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programação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gramação usando a API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5B5-CAC0-470F-B28E-CB025EC430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Requisitos do serviço de transporte de apls comun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275400" y="1763640"/>
            <a:ext cx="257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erência de ar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cumentos 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udio/víde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udio/vídeo gra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gos inte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s finance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48040" y="1763640"/>
            <a:ext cx="151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m 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m 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m 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l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l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l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m per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73520" y="176364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udio: 5Kb-1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:10Kb-5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gt; alguns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30840" y="1455840"/>
            <a:ext cx="2124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ibilidade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, 100’s m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, alguns s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, 100’s m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 e 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95320" y="2133720"/>
            <a:ext cx="75628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00280" y="49053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CFB-7370-4926-BAF7-1256F76104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providos por protocolos de transporte Internet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rientado a conex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lização requerida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transporte confiável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 processos remetente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flux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metente não vai “afogar”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trangular remetente quando a rede estiver carreg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não provê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garantias temporais ou de banda míni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3640" y="1562040"/>
            <a:ext cx="392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não confiável entre processos remetente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provê: estabelecimento da conexão, confiabilidade, controle de fluxo, controle de congestionamento, garantias temporais ou de banda mínim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al é o interesse em ter um UD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317-A96B-45C8-9440-DB6BE179E6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ls Internet: seus protocolos e seus protocolos de transporte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266400" y="1743120"/>
            <a:ext cx="3211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cesso terminal rem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erência de arqu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reaming multimí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idor de arquivo rem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i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89200" y="1459080"/>
            <a:ext cx="256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mada de a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prie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.ex. RealNetwor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prie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.ex., Dialp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30800" y="1477800"/>
            <a:ext cx="262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nsporte u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 ou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 ou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icamente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71440" y="2152800"/>
            <a:ext cx="73342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23920" y="2743200"/>
            <a:ext cx="732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133640" y="3038400"/>
            <a:ext cx="72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333360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162080" y="3657600"/>
            <a:ext cx="72579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14560" y="425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14560" y="4581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61920" y="5181480"/>
            <a:ext cx="73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B86-F3B3-4AD9-A758-933562402A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D86-875D-415D-AB88-0F661BDEA5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WWW: algum jarg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ágina WW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iste de “objeto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da por uma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se todas as páginas WWW consistem 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ágina base HTML, 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ários objetos referencia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RL tem duas partes: nome de hospedeiro, e nome de caminh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47760" y="1419120"/>
            <a:ext cx="4023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de usuário para WWW se chama de brows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 Internet Explo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tscape Communic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para WWW se chama “servidor WWW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ache (domínio públ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 Internet Information Server (I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199800" y="5950080"/>
            <a:ext cx="49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ww.unip.br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algum-depto/pic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057-D555-48F8-91D1-3D3056908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WWW: o protocolo HTTP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a camada de aplicação para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rows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e pede, recebe, “visualiza” objetos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vidor WWW envia objetos em resposta a pe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1.0: RFC 19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1.1: RFC 206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740840" y="245592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exec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7534800" y="3836880"/>
            <a:ext cx="129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ecut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W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NC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640" name="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95280" y="521820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 exec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422000">
            <a:off x="6205680" y="22939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19906800">
            <a:off x="5993640" y="378936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dido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411200">
            <a:off x="5989320" y="27417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19861800">
            <a:off x="6169320" y="412272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C4D-9F67-42DB-A631-0C56B8E044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4781520" y="3400560"/>
            <a:ext cx="3838680" cy="272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Mais sobre o protocolo HTTP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Usa serviço de transporte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inicia conexão TCP (cri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ao servidor, porta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ceita conexão TCP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HTTP (mensagens do protocolo da camada de apl) trocadas entr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rows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cliente HTTP) e servidor Web (servidor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err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29200" y="1561680"/>
            <a:ext cx="333072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 é “sem estad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não mantém informação sobre pedidos anteriores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4809960" y="3419640"/>
            <a:ext cx="3753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s que mantêm “estado” são complexo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istória passada (estado) tem que ser guard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so caia servidor/cliente, suas visões do “estado” podem ser inconsistentes, devem ser reconcili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4080" y="31608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96B-7CA0-4574-9582-77FA079F70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onexões HTT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não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máximo um objeto é enviado numa conexão TC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TTP/1.0 usa o HTTP não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últiplos objetos podem ser enviados sobre uma única conexão TCP entre cliente e servid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TTP/1.1 usa conexões persistentes no seu mo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78B-8E11-4002-803E-6C8ADFC425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HTTP não persisten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23800" y="111456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mos que usuário digita a UR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algumaUniv.br/algumDepartmento/inicial.ind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57000" y="209556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inicia conexão TCP a servidor http (processo) 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algumaUniv.br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orta 80 é padrão para servidor htt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e http envia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mensagem de pedido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http (contendo URL) através do socket da conexão 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http no hospedeir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lgumaUniv.b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 por conexão TCP na porta 80.  “aceita” conexão, avisando ao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24280" y="4381560"/>
            <a:ext cx="3948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http recebe mensagem de pedido, formula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mensagem de respost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tendo objeto solicitado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mDepartmento/inicial.inde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, envia mensagem via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933360" y="51246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720" y="59421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019040" y="316224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51320" y="123660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ém text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ências a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ns jp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9A8-33F8-4DE2-9DC5-7903EF597A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Exemplo de HTTP não persistente (cont.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recebe mensagem de resposta contendo arquivo html, visualiza html.  Analisando arquivo html, encontra 10 objetos jpeg referenci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762120" y="3611520"/>
            <a:ext cx="38098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ssos 1 a 5 repetidos para cada um dos 10 objetos j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1123920"/>
            <a:ext cx="381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dor http encerra conexão TCP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28480" y="1162080"/>
            <a:ext cx="14400" cy="322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3162240"/>
            <a:ext cx="342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640" y="429264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A9B-0E3C-4FEB-8EB6-79E631690E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F4F-FB3A-4196-80AC-812374EF5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Modelagem do tempo de respost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finição de RTT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(Round Trip Time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tervalo de tempo entre a ida e a volta de um pequeno pacote entre um cliente e um servid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Tempo de respos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RTT para iniciar 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RTT para o pedido HTTP e o retorno dos primeiros bytes da resposta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e transmissão do 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otal = 2RTT+tempo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588560" y="1260360"/>
            <a:ext cx="4458960" cy="4413960"/>
            <a:chOff x="4588560" y="1260360"/>
            <a:chExt cx="4458960" cy="4413960"/>
          </a:xfrm>
        </p:grpSpPr>
        <p:pic>
          <p:nvPicPr>
            <p:cNvPr id="691" name="" descr=""/>
            <p:cNvPicPr/>
            <p:nvPr/>
          </p:nvPicPr>
          <p:blipFill>
            <a:blip r:embed="rId1"/>
            <a:stretch/>
          </p:blipFill>
          <p:spPr>
            <a:xfrm>
              <a:off x="5694480" y="1665360"/>
              <a:ext cx="752400" cy="59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"/>
            <p:cNvGrpSpPr/>
            <p:nvPr/>
          </p:nvGrpSpPr>
          <p:grpSpPr>
            <a:xfrm>
              <a:off x="7593120" y="1260360"/>
              <a:ext cx="504000" cy="1070640"/>
              <a:chOff x="7593120" y="1260360"/>
              <a:chExt cx="504000" cy="1070640"/>
            </a:xfrm>
          </p:grpSpPr>
          <p:sp>
            <p:nvSpPr>
              <p:cNvPr id="693" name=""/>
              <p:cNvSpPr/>
              <p:nvPr/>
            </p:nvSpPr>
            <p:spPr>
              <a:xfrm>
                <a:off x="7593120" y="208368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48360" y="1267200"/>
                <a:ext cx="231840" cy="822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96000" y="1500840"/>
                <a:ext cx="319680" cy="8233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93120" y="126036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97120" y="1277640"/>
                <a:ext cx="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7915680" y="2083680"/>
                <a:ext cx="181440" cy="24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36320" y="1609200"/>
                <a:ext cx="212040" cy="474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66920" y="1752480"/>
                <a:ext cx="16092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6105600" y="2490840"/>
              <a:ext cx="0" cy="28321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6160" y="2484360"/>
              <a:ext cx="0" cy="28814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19640" y="2722680"/>
              <a:ext cx="168444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105600" y="3160800"/>
              <a:ext cx="167328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3520" y="3668760"/>
              <a:ext cx="16844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129360" y="4151160"/>
              <a:ext cx="1673280" cy="3794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75720" y="4067280"/>
              <a:ext cx="74520" cy="18252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4680 h 182520"/>
                <a:gd name="textAreaBottom" fmla="*/ 17784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09560" y="3760920"/>
              <a:ext cx="113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empo pa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ransmit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o arqu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15000" y="2697120"/>
              <a:ext cx="390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88560" y="240660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nicia a conex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50000" y="2747880"/>
              <a:ext cx="128520" cy="8035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20880 h 803520"/>
                <a:gd name="textAreaBottom" fmla="*/ 782640 h 80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69040" y="29559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64320" y="360216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15160" y="3298680"/>
              <a:ext cx="80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solici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arqu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56120" y="3657600"/>
              <a:ext cx="128880" cy="803160"/>
            </a:xfrm>
            <a:custGeom>
              <a:avLst/>
              <a:gdLst>
                <a:gd name="textAreaLeft" fmla="*/ 82440 w 128880"/>
                <a:gd name="textAreaRight" fmla="*/ 128880 w 128880"/>
                <a:gd name="textAreaTop" fmla="*/ 20880 h 803160"/>
                <a:gd name="textAreaBottom" fmla="*/ 782280 h 80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87760" y="38782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775480" y="459108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35120" y="4435560"/>
              <a:ext cx="88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arqu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eceb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82760" y="53370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60720" y="53197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m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599-A030-4E45-AB14-60B7B34781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persis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Problemas com o HTTP não persisten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quer 2 RTTs para cada obje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O aloca recursos d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host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ara cada conexão 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browser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freqüentemente abrem conexões TCP paralelas para recuperar os objetos referenci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 servidor deixa a conexão aberta após enviar a respo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ensagens HTTP seguintes entre o mesmo cliente/servidor são enviadas nesta conex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428720" y="13921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ersistente sem </a:t>
            </a: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ipelining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cliente envia um novo pedido apenas quando a resposta anterior tiver sido receb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RTT para cada objeto referenc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ersistente com </a:t>
            </a: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ipelining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efaul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 HTTP/1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cliente envia os pedidos logo que encontra um objeto referenc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ser necessário apenas um RTT para todos os objetos referenci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95F-7F95-466C-8F01-536F0A3EFD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formato de mensagem HTTP: pedid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tipos de mensagem HTTP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edid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de pedido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CII (formato legível por pesso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2926080" y="3444840"/>
            <a:ext cx="62766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somedir/page.html HTTP/1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-agent: Mozilla/4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: text/html, image/gif,image/jpe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rriage return (CR), line feed(LF) adiciona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46600" y="3103560"/>
            <a:ext cx="21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ha do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comandos GET,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OST, 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38320" y="331488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43360" y="3753000"/>
            <a:ext cx="237960" cy="1066680"/>
          </a:xfrm>
          <a:custGeom>
            <a:avLst/>
            <a:gdLst/>
            <a:ahLst/>
            <a:rect l="l" t="t" r="r" b="b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83280" y="425592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has do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2162160" y="532404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6480" y="5208480"/>
            <a:ext cx="216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dicam fim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 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E10-9135-4832-B047-DCB0BA18D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pedido HTTP: formato ger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34" name="HTTPrequest" descr=""/>
          <p:cNvPicPr/>
          <p:nvPr/>
        </p:nvPicPr>
        <p:blipFill>
          <a:blip r:embed="rId1"/>
          <a:stretch/>
        </p:blipFill>
        <p:spPr>
          <a:xfrm>
            <a:off x="1120680" y="1649520"/>
            <a:ext cx="751212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173-6CDC-4BA5-8F2E-4ED09AB4A1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5320" y="228240"/>
            <a:ext cx="83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ulários e interação bidire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ulários transmitem informação do cliente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 permite enviar formulários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sta enviada como página HTML </a:t>
            </a: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dinâm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4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ulários processados usand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cript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GI (programas que executam no servidor WWW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GI - Common Gateway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cript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GI escondem acesso a diferentes serviç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WWW atua com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univers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73160" y="4994280"/>
            <a:ext cx="7182000" cy="1956240"/>
            <a:chOff x="1073160" y="4994280"/>
            <a:chExt cx="7182000" cy="1956240"/>
          </a:xfrm>
        </p:grpSpPr>
        <p:sp>
          <p:nvSpPr>
            <p:cNvPr id="739" name=""/>
            <p:cNvSpPr/>
            <p:nvPr/>
          </p:nvSpPr>
          <p:spPr>
            <a:xfrm>
              <a:off x="1073160" y="5416560"/>
              <a:ext cx="1359000" cy="82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br>
                <a:rPr sz="2400"/>
              </a:b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41880" y="5386320"/>
              <a:ext cx="1359000" cy="82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br>
                <a:rPr sz="2400"/>
              </a:b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88160" y="5416560"/>
              <a:ext cx="1467000" cy="82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Sistema de</a:t>
              </a:r>
              <a:br>
                <a:rPr sz="2400"/>
              </a:b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9680" y="57150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690280" y="591336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78040" y="4994280"/>
              <a:ext cx="206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/POST formulá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46520" y="5946840"/>
              <a:ext cx="1136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sposta: 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84680" y="58672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056-8E48-4096-AC37-7E99D15820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Uploading form inpu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ost metho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95680" y="2393640"/>
            <a:ext cx="381024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URL metho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035080" y="4822920"/>
            <a:ext cx="68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3CF-025E-4AD6-9EA6-53159AA1CB7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Method typ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ks server to leave requested object out of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ploads file in entity body to path specified in URL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letes file specified in the URL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6F6-BE72-40B9-BCA9-8EB316CE9F3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2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formato de mensagem HTTP: respos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3183120" y="1987560"/>
            <a:ext cx="5819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200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os dados dados dados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9040" y="1407960"/>
            <a:ext cx="221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ha de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rotocol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ódigo de statu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rase de stat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95360" y="191448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95640" y="2276640"/>
            <a:ext cx="257040" cy="163800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49880" y="301788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has de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2190600" y="438156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4920" y="436104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dos, p.ex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rquivo html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lici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043-7C6E-4225-BC45-5C7F9A7B00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ódigos de status da resposta HTT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49360" y="2009520"/>
            <a:ext cx="7934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cesso, objeto pedido segue mais adiante nest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o pedido mudou de lugar, nova localização especificado mais adiante nesta mensagem (Location: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de pedido não entendida pel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cumento pedido não se encontra nest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são de http do pedido não usada por est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523800" y="1262160"/>
            <a:ext cx="7686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primeira linha da mensagem de resposta servidor-&gt;cliente. Alguns códig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A3B-F496-4C2E-953D-4DB9B4EECC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18600" y="22824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perimente você com HTTP (do lado client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Use cliente telnet para seu servidor WWW favori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3930840" y="215568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re conexão TCP para a porta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orta padrão do servidor http) a www.unip.b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quer coisa digitada é enviada par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 80 do www.unip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640" y="219060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elnet www.unip.br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Digite um pedido GET HT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76560" y="420228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ET /topo.asp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59280" y="4098960"/>
            <a:ext cx="38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gitando isto (deve tec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ER duas vezes), está envi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e pedido GET mínimo (poré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to) ao servidor htt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Examine a mensagem de resposta enviada pelo servidor HTTP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6D0-D7A8-414C-979B-FE9455605B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licações de rede: algum jargão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ces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um programa que executa num hospedeir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 processos no mesmo hospedeiro se comunicam usando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municação entre processos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finida pelo sistema operacional (SO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 processos em hospedeiros distintos se comunicam usando u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 da camada de aplic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gente de usuário (UA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é uma interface entre o usuário “acima” e a rede “abaixo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 o protocolo d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WW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reio: leitor/compositor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treaming de áudio/vídeo: tocador de mí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666-99DE-4A6A-BBFE-0AB887DB75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ML (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yperText Markup Language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TML: uma linguagem simples para hiper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eçou como versão simples de SG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trução básica: cadeias de texto anot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trutores de formato operam sobre cade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b&gt; ..  &lt;/b&gt;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ol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negri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H1 ALIGN=CENTER&gt; ..título centrado .. &lt;/H1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BODY bgcolor=white text=black link=red ..&gt; .. &lt;/BODY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ários forma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stas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ullet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listas ordenadas, listas de defin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be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888-57F4-4A28-BCE6-485E79961D3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cadeamento de referênci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49000" y="15685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ferências &lt;A HREF=LinkRef&gt; ...  &lt;/A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omponentes do documento loca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A HREF=“importante”&gt; clique para uma dica 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documentos no servidor loca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A HREF=“../index.htm”&gt; voltar ao sumário 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documentos em outros servidor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A HREF=“http://www.uff.br”&gt; saiba sobre a UFF 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agem embutid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IMG SRC=“eclipse”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agem extern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A HREF=“eclipse.gif”&gt; imagem maior 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ídeo Mpeg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A HREF=“ByeByeBrasil.mpg”&gt; um bom filme 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&lt;A HREF=“http://www.sons.br/aniv.au”&gt; feliz niver 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7CB-94A3-47A3-A32B-AE1BD8CAB07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usuário-servidor: autent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200" y="1158480"/>
            <a:ext cx="43308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ta da autent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role de acesso aos documentos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m estad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iente deve apresentar autorização com cada ped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torização: tipicamente nome, 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uthorization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inha de cabeçalho no ped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não for apresentada autorização, servidor nega acesso, e coloca no cabeçalho da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199080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36920" y="14558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95320" y="1407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71880" y="1944720"/>
            <a:ext cx="2990880" cy="38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sg de pedido HTTP co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828680" y="243828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62400" y="2411280"/>
            <a:ext cx="2505240" cy="55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83200" y="23749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1: authorization 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809960" y="3581280"/>
            <a:ext cx="3305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4937040" y="3384720"/>
            <a:ext cx="3161880" cy="916920"/>
            <a:chOff x="4937040" y="3384720"/>
            <a:chExt cx="3161880" cy="916920"/>
          </a:xfrm>
        </p:grpSpPr>
        <p:sp>
          <p:nvSpPr>
            <p:cNvPr id="790" name=""/>
            <p:cNvSpPr/>
            <p:nvPr/>
          </p:nvSpPr>
          <p:spPr>
            <a:xfrm>
              <a:off x="5052600" y="3430800"/>
              <a:ext cx="2954520" cy="55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37040" y="3384720"/>
              <a:ext cx="316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sg de pedido HTTP co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horization: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 flipH="1">
            <a:off x="4800240" y="40672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4986360" y="4114800"/>
            <a:ext cx="3268440" cy="642600"/>
            <a:chOff x="4986360" y="4114800"/>
            <a:chExt cx="3268440" cy="642600"/>
          </a:xfrm>
        </p:grpSpPr>
        <p:sp>
          <p:nvSpPr>
            <p:cNvPr id="794" name=""/>
            <p:cNvSpPr/>
            <p:nvPr/>
          </p:nvSpPr>
          <p:spPr>
            <a:xfrm>
              <a:off x="5012640" y="4130640"/>
              <a:ext cx="3173040" cy="31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86360" y="4114800"/>
              <a:ext cx="32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sg de resposta http co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8467560" y="2019240"/>
            <a:ext cx="0" cy="414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988040" y="5504040"/>
            <a:ext cx="964080" cy="398880"/>
            <a:chOff x="7988040" y="5504040"/>
            <a:chExt cx="964080" cy="398880"/>
          </a:xfrm>
        </p:grpSpPr>
        <p:sp>
          <p:nvSpPr>
            <p:cNvPr id="798" name=""/>
            <p:cNvSpPr/>
            <p:nvPr/>
          </p:nvSpPr>
          <p:spPr>
            <a:xfrm>
              <a:off x="8200800" y="5600520"/>
              <a:ext cx="5713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88040" y="5504040"/>
              <a:ext cx="96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61560" y="5999040"/>
            <a:ext cx="629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Browse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guarda nome e senha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vitar que sejam pedidos ao usuário a cada ace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40200" y="525780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967280" y="5060880"/>
            <a:ext cx="3030120" cy="916920"/>
            <a:chOff x="4967280" y="5060880"/>
            <a:chExt cx="3030120" cy="916920"/>
          </a:xfrm>
        </p:grpSpPr>
        <p:sp>
          <p:nvSpPr>
            <p:cNvPr id="803" name=""/>
            <p:cNvSpPr/>
            <p:nvPr/>
          </p:nvSpPr>
          <p:spPr>
            <a:xfrm>
              <a:off x="5078160" y="5106960"/>
              <a:ext cx="2831400" cy="55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67280" y="5060880"/>
              <a:ext cx="303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sg de pedido http co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horization: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 flipH="1">
            <a:off x="4830480" y="574344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5016600" y="5791320"/>
            <a:ext cx="3268080" cy="642600"/>
            <a:chOff x="5016600" y="5791320"/>
            <a:chExt cx="3268080" cy="642600"/>
          </a:xfrm>
        </p:grpSpPr>
        <p:sp>
          <p:nvSpPr>
            <p:cNvPr id="807" name=""/>
            <p:cNvSpPr/>
            <p:nvPr/>
          </p:nvSpPr>
          <p:spPr>
            <a:xfrm>
              <a:off x="5042880" y="5806800"/>
              <a:ext cx="3172680" cy="31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16600" y="5791320"/>
              <a:ext cx="326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sg de resposta http co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493-94FC-4BE0-90C9-245259B457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ookies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: manutenção do “estado”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itos dos principais sítios Web usa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ook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Quatro component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) linha de cabeçalho d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oki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na mensagem de resposta HTT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2) linha de cabeçalho d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oki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na mensagem de pedido HTT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) arquivo d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oki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mantido no host do usuário e gerenciado pelo browser do usuá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) BD de retaguarda no sítio We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zana acessa a Internet sempre do mesmo P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a visita um sítio específico de comércio eletrônico pela primeira ve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os pedidos iniciais HTTP chegam no sítio, o sítio cria uma ID única e cria uma entrada para a ID no BD de retaguar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AFF-FBF8-4D2F-9501-597F9EBDF1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okie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: manutenção do “estado”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093760" y="1424160"/>
            <a:ext cx="5104800" cy="4619880"/>
            <a:chOff x="2093760" y="1424160"/>
            <a:chExt cx="5104800" cy="4619880"/>
          </a:xfrm>
        </p:grpSpPr>
        <p:sp>
          <p:nvSpPr>
            <p:cNvPr id="814" name=""/>
            <p:cNvSpPr/>
            <p:nvPr/>
          </p:nvSpPr>
          <p:spPr>
            <a:xfrm>
              <a:off x="2557440" y="200808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93760" y="14241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5680" y="14443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servi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95760" y="2008080"/>
              <a:ext cx="2685960" cy="31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01880" y="199224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sg usual pedido ht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585880" y="2455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919600" y="2428560"/>
              <a:ext cx="2504880" cy="55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40040" y="2392200"/>
              <a:ext cx="264312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sposta usual http 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67160" y="359856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2830680" y="3402000"/>
              <a:ext cx="2681280" cy="673200"/>
              <a:chOff x="2830680" y="3402000"/>
              <a:chExt cx="2681280" cy="673200"/>
            </a:xfrm>
          </p:grpSpPr>
          <p:sp>
            <p:nvSpPr>
              <p:cNvPr id="824" name=""/>
              <p:cNvSpPr/>
              <p:nvPr/>
            </p:nvSpPr>
            <p:spPr>
              <a:xfrm>
                <a:off x="2928960" y="3447720"/>
                <a:ext cx="2505240" cy="55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830680" y="34020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sg usual pedido ht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 flipH="1">
              <a:off x="2557080" y="408456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2773440" y="4116240"/>
              <a:ext cx="2766960" cy="368280"/>
              <a:chOff x="2773440" y="4116240"/>
              <a:chExt cx="2766960" cy="368280"/>
            </a:xfrm>
          </p:grpSpPr>
          <p:sp>
            <p:nvSpPr>
              <p:cNvPr id="828" name=""/>
              <p:cNvSpPr/>
              <p:nvPr/>
            </p:nvSpPr>
            <p:spPr>
              <a:xfrm>
                <a:off x="2795760" y="413172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73440" y="411624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sposta usual ht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538360" y="508464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2811600" y="4906800"/>
              <a:ext cx="2681280" cy="673200"/>
              <a:chOff x="2811600" y="4906800"/>
              <a:chExt cx="2681280" cy="673200"/>
            </a:xfrm>
          </p:grpSpPr>
          <p:sp>
            <p:nvSpPr>
              <p:cNvPr id="832" name=""/>
              <p:cNvSpPr/>
              <p:nvPr/>
            </p:nvSpPr>
            <p:spPr>
              <a:xfrm>
                <a:off x="2909880" y="4952880"/>
                <a:ext cx="2505240" cy="55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811600" y="4906800"/>
                <a:ext cx="2681280" cy="67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sg usual pedido ht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cookie: 167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 flipH="1">
              <a:off x="2566800" y="5580000"/>
              <a:ext cx="330516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2783160" y="5611680"/>
              <a:ext cx="2766960" cy="368280"/>
              <a:chOff x="2783160" y="5611680"/>
              <a:chExt cx="2766960" cy="368280"/>
            </a:xfrm>
          </p:grpSpPr>
          <p:sp>
            <p:nvSpPr>
              <p:cNvPr id="836" name=""/>
              <p:cNvSpPr/>
              <p:nvPr/>
            </p:nvSpPr>
            <p:spPr>
              <a:xfrm>
                <a:off x="2805480" y="5627160"/>
                <a:ext cx="2685960" cy="31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783160" y="56116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sposta usual htt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5796720" y="355896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o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cook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46040" y="503532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o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cook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5562360" y="2063880"/>
            <a:ext cx="191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ria a ID 167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ara o usu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8388360" y="3319560"/>
            <a:ext cx="293760" cy="395280"/>
            <a:chOff x="8388360" y="3319560"/>
            <a:chExt cx="293760" cy="395280"/>
          </a:xfrm>
        </p:grpSpPr>
        <p:sp>
          <p:nvSpPr>
            <p:cNvPr id="842" name=""/>
            <p:cNvSpPr/>
            <p:nvPr/>
          </p:nvSpPr>
          <p:spPr>
            <a:xfrm>
              <a:off x="8388360" y="3319560"/>
              <a:ext cx="280800" cy="109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94480" y="3605400"/>
              <a:ext cx="281160" cy="109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682120" y="33562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88360" y="33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7485120" y="2685960"/>
            <a:ext cx="8668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2224800">
            <a:off x="7295400" y="232200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ada no B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retaguar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107120" y="3614760"/>
            <a:ext cx="109872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0455800">
            <a:off x="7408080" y="3772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29520" y="3870000"/>
            <a:ext cx="119520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18871200">
            <a:off x="7670880" y="44546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0680" y="3321000"/>
            <a:ext cx="1787400" cy="914400"/>
            <a:chOff x="220680" y="3321000"/>
            <a:chExt cx="1787400" cy="914400"/>
          </a:xfrm>
        </p:grpSpPr>
        <p:sp>
          <p:nvSpPr>
            <p:cNvPr id="853" name=""/>
            <p:cNvSpPr/>
            <p:nvPr/>
          </p:nvSpPr>
          <p:spPr>
            <a:xfrm>
              <a:off x="220680" y="332100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394920" y="3335040"/>
              <a:ext cx="1343160" cy="872640"/>
              <a:chOff x="394920" y="3335040"/>
              <a:chExt cx="1343160" cy="872640"/>
            </a:xfrm>
          </p:grpSpPr>
          <p:sp>
            <p:nvSpPr>
              <p:cNvPr id="855" name=""/>
              <p:cNvSpPr/>
              <p:nvPr/>
            </p:nvSpPr>
            <p:spPr>
              <a:xfrm>
                <a:off x="737280" y="3335040"/>
                <a:ext cx="1000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rquivo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ok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94920" y="3687480"/>
                <a:ext cx="1191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287280" y="2057400"/>
            <a:ext cx="1787760" cy="914400"/>
          </a:xfrm>
          <a:prstGeom prst="parallelogram">
            <a:avLst>
              <a:gd name="adj" fmla="val 488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462240" y="2058840"/>
            <a:ext cx="1342080" cy="877680"/>
            <a:chOff x="462240" y="2058840"/>
            <a:chExt cx="1342080" cy="877680"/>
          </a:xfrm>
        </p:grpSpPr>
        <p:sp>
          <p:nvSpPr>
            <p:cNvPr id="859" name=""/>
            <p:cNvSpPr/>
            <p:nvPr/>
          </p:nvSpPr>
          <p:spPr>
            <a:xfrm>
              <a:off x="803520" y="2058840"/>
              <a:ext cx="100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quiv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ok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62240" y="2386080"/>
              <a:ext cx="973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bay: 873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262080" y="5000760"/>
            <a:ext cx="1787400" cy="914400"/>
            <a:chOff x="262080" y="5000760"/>
            <a:chExt cx="1787400" cy="914400"/>
          </a:xfrm>
        </p:grpSpPr>
        <p:sp>
          <p:nvSpPr>
            <p:cNvPr id="862" name=""/>
            <p:cNvSpPr/>
            <p:nvPr/>
          </p:nvSpPr>
          <p:spPr>
            <a:xfrm>
              <a:off x="262080" y="5000760"/>
              <a:ext cx="1787400" cy="914400"/>
            </a:xfrm>
            <a:prstGeom prst="parallelogram">
              <a:avLst>
                <a:gd name="adj" fmla="val 488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36320" y="5014800"/>
              <a:ext cx="1343160" cy="872640"/>
              <a:chOff x="436320" y="5014800"/>
              <a:chExt cx="1343160" cy="872640"/>
            </a:xfrm>
          </p:grpSpPr>
          <p:sp>
            <p:nvSpPr>
              <p:cNvPr id="864" name=""/>
              <p:cNvSpPr/>
              <p:nvPr/>
            </p:nvSpPr>
            <p:spPr>
              <a:xfrm>
                <a:off x="778680" y="5014800"/>
                <a:ext cx="1000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rquivo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ok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36320" y="5367240"/>
                <a:ext cx="1191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mazon: 167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bay: 87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"/>
          <p:cNvSpPr/>
          <p:nvPr/>
        </p:nvSpPr>
        <p:spPr>
          <a:xfrm>
            <a:off x="118800" y="448452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ma semana depo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240-28EB-4D04-AC15-4FE0316240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ookies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(continuação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160" y="14778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 que os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okies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podem obt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rrinhos de comp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gest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do da sessão do usuário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Webmail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4911840" y="1411200"/>
            <a:ext cx="3809880" cy="46483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ookie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e privaci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kies permitem que os sítios aprendam muito sobre voc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cê pode fornecer nome e e-mail para os sí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anismos de busca usam redirecionamen-to 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ok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a aprender ainda 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nhias de propaganda obtêm infos a partir dos sí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308360" y="1177920"/>
            <a:ext cx="72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F58-82D7-49E4-B86D-B0401E5D2B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43080" y="22824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usuário-servidor: GET condi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8000" y="2199960"/>
            <a:ext cx="38862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enviar objeto se cliente já tem (no cache) versão atu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 especifica data da cópia no cache no pedido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: resposta não contém objeto se cópia no cache é atual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427680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03400" y="14367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95320" y="1407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14760" y="2114640"/>
            <a:ext cx="2686320" cy="79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21240" y="2098800"/>
            <a:ext cx="2681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sg de pedido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295520" y="3105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502160" y="2975040"/>
            <a:ext cx="2643120" cy="855000"/>
            <a:chOff x="4502160" y="2975040"/>
            <a:chExt cx="2643120" cy="855000"/>
          </a:xfrm>
        </p:grpSpPr>
        <p:sp>
          <p:nvSpPr>
            <p:cNvPr id="880" name=""/>
            <p:cNvSpPr/>
            <p:nvPr/>
          </p:nvSpPr>
          <p:spPr>
            <a:xfrm>
              <a:off x="4600440" y="3030840"/>
              <a:ext cx="2504520" cy="73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02160" y="2975040"/>
              <a:ext cx="26431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sposta ht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7434720" y="2360520"/>
            <a:ext cx="152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00640" y="417204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43400" y="44672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81360" y="4467240"/>
            <a:ext cx="2686320" cy="79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87840" y="4451400"/>
            <a:ext cx="2681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sg de pedido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436212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667400" y="5383080"/>
            <a:ext cx="2504880" cy="104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68760" y="5327640"/>
            <a:ext cx="26431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sta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01320" y="4808520"/>
            <a:ext cx="15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84B-9254-4B65-A06F-D0188BE871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4F7-CB5B-4D0B-8D4D-995571D822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ftp: o protocolo de transferência de arquiv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28880" y="3704760"/>
            <a:ext cx="74577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ir arquivo de/para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ado que inicia transferência (pode ser de ou para o sistema remo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: RFC 95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: porta 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313080" y="157464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898" name=""/>
          <p:cNvGrpSpPr/>
          <p:nvPr/>
        </p:nvGrpSpPr>
        <p:grpSpPr>
          <a:xfrm>
            <a:off x="6764400" y="1413000"/>
            <a:ext cx="355320" cy="932760"/>
            <a:chOff x="6764400" y="1413000"/>
            <a:chExt cx="355320" cy="932760"/>
          </a:xfrm>
        </p:grpSpPr>
        <p:sp>
          <p:nvSpPr>
            <p:cNvPr id="899" name=""/>
            <p:cNvSpPr/>
            <p:nvPr/>
          </p:nvSpPr>
          <p:spPr>
            <a:xfrm>
              <a:off x="6764400" y="2130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44400" y="1419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66200" y="1622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64400" y="1413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19720" y="1428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91200" y="2130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95000" y="1716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16240" y="1841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352760" y="2190600"/>
            <a:ext cx="204480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275000" y="1646280"/>
            <a:ext cx="20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ransferência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o arqu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400440" y="1866960"/>
            <a:ext cx="962640" cy="828720"/>
            <a:chOff x="6400440" y="1866960"/>
            <a:chExt cx="962640" cy="828720"/>
          </a:xfrm>
        </p:grpSpPr>
        <p:sp>
          <p:nvSpPr>
            <p:cNvPr id="910" name=""/>
            <p:cNvSpPr/>
            <p:nvPr/>
          </p:nvSpPr>
          <p:spPr>
            <a:xfrm>
              <a:off x="6432480" y="1866960"/>
              <a:ext cx="90432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00440" y="198900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583000" y="1857240"/>
            <a:ext cx="1864440" cy="1094400"/>
            <a:chOff x="2583000" y="1857240"/>
            <a:chExt cx="1864440" cy="1094400"/>
          </a:xfrm>
        </p:grpSpPr>
        <p:sp>
          <p:nvSpPr>
            <p:cNvPr id="913" name=""/>
            <p:cNvSpPr/>
            <p:nvPr/>
          </p:nvSpPr>
          <p:spPr>
            <a:xfrm>
              <a:off x="3667320" y="185724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676600" y="1866960"/>
              <a:ext cx="96192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83000" y="1884240"/>
              <a:ext cx="1171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e do usuário 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5600" y="1979640"/>
              <a:ext cx="86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ient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19480" y="2695680"/>
            <a:ext cx="1947960" cy="955800"/>
            <a:chOff x="3219480" y="2695680"/>
            <a:chExt cx="1947960" cy="955800"/>
          </a:xfrm>
        </p:grpSpPr>
        <p:grpSp>
          <p:nvGrpSpPr>
            <p:cNvPr id="918" name=""/>
            <p:cNvGrpSpPr/>
            <p:nvPr/>
          </p:nvGrpSpPr>
          <p:grpSpPr>
            <a:xfrm>
              <a:off x="3363840" y="2805120"/>
              <a:ext cx="501480" cy="496440"/>
              <a:chOff x="3363840" y="2805120"/>
              <a:chExt cx="501480" cy="496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366720" y="3173040"/>
                <a:ext cx="492120" cy="128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68520" y="2898360"/>
                <a:ext cx="496800" cy="339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63840" y="2805120"/>
                <a:ext cx="496800" cy="150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58840" y="2881080"/>
                <a:ext cx="180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3363840" y="2887560"/>
                <a:ext cx="144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817800" y="2827440"/>
              <a:ext cx="13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istema de arquivos 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19480" y="2695680"/>
              <a:ext cx="32400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flipH="1">
            <a:off x="3714840" y="26859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6659640" y="2824200"/>
            <a:ext cx="501480" cy="496440"/>
            <a:chOff x="6659640" y="2824200"/>
            <a:chExt cx="501480" cy="496440"/>
          </a:xfrm>
        </p:grpSpPr>
        <p:sp>
          <p:nvSpPr>
            <p:cNvPr id="928" name=""/>
            <p:cNvSpPr/>
            <p:nvPr/>
          </p:nvSpPr>
          <p:spPr>
            <a:xfrm>
              <a:off x="6662520" y="3192120"/>
              <a:ext cx="492120" cy="128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64320" y="2917440"/>
              <a:ext cx="49680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59640" y="2824200"/>
              <a:ext cx="4968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54640" y="2900160"/>
              <a:ext cx="1800" cy="36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6659640" y="2906640"/>
              <a:ext cx="1440" cy="36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7161120" y="2789280"/>
            <a:ext cx="145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stema de arquivos re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915240" y="269568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Alice" descr=""/>
          <p:cNvPicPr/>
          <p:nvPr/>
        </p:nvPicPr>
        <p:blipFill>
          <a:blip r:embed="rId2"/>
          <a:stretch/>
        </p:blipFill>
        <p:spPr>
          <a:xfrm>
            <a:off x="1490760" y="1909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1379520" y="2617920"/>
            <a:ext cx="9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uário na es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028960" y="230508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5DA-58B5-49E2-8CAA-88A67DEB8A0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conexões separadas p/ controle,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38120" y="1266840"/>
            <a:ext cx="399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TP contata servidor FTP na porta 21, especificando o TCP como protocolo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cliente obtém autorização através da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cliente consulta o diretório remoto enviando comandos através da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o servidor recebe um comando para a transferência de um arquivo, ele abre uma conexão de dados TCP para 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a transmissão de um arquivo o servidor fecha 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495680" y="3476520"/>
            <a:ext cx="418464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servidor abre uma segunda conexão TCP para transferir outro 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exão de controle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fora da faix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 mantém o “estado”: diretório atual, autenticação ant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713480" y="1494000"/>
            <a:ext cx="4200480" cy="1884600"/>
            <a:chOff x="4713480" y="1494000"/>
            <a:chExt cx="4200480" cy="1884600"/>
          </a:xfrm>
        </p:grpSpPr>
        <p:pic>
          <p:nvPicPr>
            <p:cNvPr id="942" name="" descr=""/>
            <p:cNvPicPr/>
            <p:nvPr/>
          </p:nvPicPr>
          <p:blipFill>
            <a:blip r:embed="rId1"/>
            <a:stretch/>
          </p:blipFill>
          <p:spPr>
            <a:xfrm>
              <a:off x="4780080" y="1993680"/>
              <a:ext cx="776160" cy="62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3" name=""/>
            <p:cNvGrpSpPr/>
            <p:nvPr/>
          </p:nvGrpSpPr>
          <p:grpSpPr>
            <a:xfrm>
              <a:off x="8193240" y="1774800"/>
              <a:ext cx="354960" cy="932400"/>
              <a:chOff x="8193240" y="1774800"/>
              <a:chExt cx="354960" cy="932400"/>
            </a:xfrm>
          </p:grpSpPr>
          <p:sp>
            <p:nvSpPr>
              <p:cNvPr id="944" name=""/>
              <p:cNvSpPr/>
              <p:nvPr/>
            </p:nvSpPr>
            <p:spPr>
              <a:xfrm>
                <a:off x="8193240" y="2491920"/>
                <a:ext cx="354960" cy="215280"/>
              </a:xfrm>
              <a:prstGeom prst="parallelogram">
                <a:avLst>
                  <a:gd name="adj" fmla="val 635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372880" y="17809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195040" y="19839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193240" y="1774800"/>
                <a:ext cx="354960" cy="215280"/>
              </a:xfrm>
              <a:prstGeom prst="parallelogram">
                <a:avLst>
                  <a:gd name="adj" fmla="val 635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548200" y="17899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8420040" y="24919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223840" y="207828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245080" y="22032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4713480" y="2665080"/>
              <a:ext cx="103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ient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86360" y="2674800"/>
              <a:ext cx="122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idor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43640" y="2143080"/>
              <a:ext cx="25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5562720" y="2457000"/>
              <a:ext cx="2562120" cy="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37240" y="149400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conexão de 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CP, porta 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89720" y="253188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conexão de dados 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CP, porta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3D8-DE6B-42E5-91EA-40506B239A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licações e protocolos da camada de aplicação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1399680"/>
            <a:ext cx="42861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Aplicação: processos distribuídos em comunic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.ex., correio, Web, compartilhamento de arquivos P2P, mensagens instantânea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ecutam em hospedeiros no “espaço de usuário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ocam mensagens para implementar a aplic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Protocolos da camada de aplic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a “parte” da aplic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fine mensagens trocadas por apls e ações tomad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sam serviços providos por protocolos da camada inferior (TCP, UD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908600" y="1876320"/>
            <a:ext cx="3678120" cy="3670560"/>
            <a:chOff x="4908600" y="1876320"/>
            <a:chExt cx="3678120" cy="3670560"/>
          </a:xfrm>
        </p:grpSpPr>
        <p:sp>
          <p:nvSpPr>
            <p:cNvPr id="53" name=""/>
            <p:cNvSpPr/>
            <p:nvPr/>
          </p:nvSpPr>
          <p:spPr>
            <a:xfrm>
              <a:off x="6788160" y="201924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8600" y="187632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880" y="332748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025960" y="2011320"/>
              <a:ext cx="732960" cy="318960"/>
              <a:chOff x="5025960" y="2011320"/>
              <a:chExt cx="732960" cy="318960"/>
            </a:xfrm>
          </p:grpSpPr>
          <p:pic>
            <p:nvPicPr>
              <p:cNvPr id="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5960" y="20113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9560" y="21294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flipV="1">
                <a:off x="5432400" y="22528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5025960" y="2606760"/>
              <a:ext cx="732960" cy="318960"/>
              <a:chOff x="5025960" y="2606760"/>
              <a:chExt cx="732960" cy="318960"/>
            </a:xfrm>
          </p:grpSpPr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5960" y="260676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9560" y="27248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flipV="1">
                <a:off x="5432400" y="28483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402160" y="2394000"/>
              <a:ext cx="69480" cy="214200"/>
              <a:chOff x="5402160" y="2394000"/>
              <a:chExt cx="69480" cy="214200"/>
            </a:xfrm>
          </p:grpSpPr>
          <p:sp>
            <p:nvSpPr>
              <p:cNvPr id="65" name=""/>
              <p:cNvSpPr/>
              <p:nvPr/>
            </p:nvSpPr>
            <p:spPr>
              <a:xfrm>
                <a:off x="5402160" y="239400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04680" y="247104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07560" y="254808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72320" y="2897280"/>
              <a:ext cx="209520" cy="394920"/>
              <a:chOff x="5872320" y="2897280"/>
              <a:chExt cx="209520" cy="394920"/>
            </a:xfrm>
          </p:grpSpPr>
          <p:sp>
            <p:nvSpPr>
              <p:cNvPr id="69" name=""/>
              <p:cNvSpPr/>
              <p:nvPr/>
            </p:nvSpPr>
            <p:spPr>
              <a:xfrm>
                <a:off x="5872320" y="32011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78520" y="2899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73400" y="2985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72320" y="28972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81840" y="2903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005880" y="3201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90320" y="302580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02920" y="3078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108840" y="3050640"/>
              <a:ext cx="233280" cy="81000"/>
              <a:chOff x="6108840" y="3050640"/>
              <a:chExt cx="233280" cy="81000"/>
            </a:xfrm>
          </p:grpSpPr>
          <p:sp>
            <p:nvSpPr>
              <p:cNvPr id="78" name=""/>
              <p:cNvSpPr/>
              <p:nvPr/>
            </p:nvSpPr>
            <p:spPr>
              <a:xfrm rot="16200000">
                <a:off x="6104160" y="306144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6200000">
                <a:off x="6188040" y="30582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6200000">
                <a:off x="6271920" y="305496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008760" y="2805120"/>
              <a:ext cx="49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2000" y="28018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280044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8520" y="226548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721480" y="2550960"/>
              <a:ext cx="27612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248520" y="263700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6367320" y="2874960"/>
              <a:ext cx="209520" cy="394920"/>
              <a:chOff x="6367320" y="2874960"/>
              <a:chExt cx="209520" cy="394920"/>
            </a:xfrm>
          </p:grpSpPr>
          <p:sp>
            <p:nvSpPr>
              <p:cNvPr id="88" name=""/>
              <p:cNvSpPr/>
              <p:nvPr/>
            </p:nvSpPr>
            <p:spPr>
              <a:xfrm>
                <a:off x="6367320" y="31788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73520" y="287748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368400" y="296352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67320" y="2874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76840" y="288108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6500880" y="317880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85320" y="300348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97920" y="305640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410080" y="3494160"/>
              <a:ext cx="479160" cy="925200"/>
              <a:chOff x="5410080" y="3494160"/>
              <a:chExt cx="479160" cy="925200"/>
            </a:xfrm>
          </p:grpSpPr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34941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flipV="1">
                <a:off x="5816880" y="37407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0888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flipV="1">
                <a:off x="5816880" y="43390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5535360" y="3835440"/>
                <a:ext cx="70560" cy="222480"/>
                <a:chOff x="5535360" y="3835440"/>
                <a:chExt cx="70560" cy="2224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535360" y="383544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537880" y="391536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540760" y="399564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883840" y="37378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6278400" y="450360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8"/>
            <a:stretch/>
          </p:blipFill>
          <p:spPr>
            <a:xfrm>
              <a:off x="5664240" y="449280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6200000">
              <a:off x="6080760" y="4596480"/>
              <a:ext cx="6336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6165720" y="4593960"/>
              <a:ext cx="63720" cy="66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6243480" y="4598640"/>
              <a:ext cx="6192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532560" y="444960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908680" y="44388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910120" y="44449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889600" y="4070520"/>
              <a:ext cx="9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91160" y="4116240"/>
              <a:ext cx="3034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286760" y="4113360"/>
              <a:ext cx="2793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9"/>
            <a:stretch/>
          </p:blipFill>
          <p:spPr>
            <a:xfrm>
              <a:off x="7464600" y="3665520"/>
              <a:ext cx="203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0"/>
            <a:stretch/>
          </p:blipFill>
          <p:spPr>
            <a:xfrm>
              <a:off x="6127920" y="3746520"/>
              <a:ext cx="2030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208560" y="3521160"/>
              <a:ext cx="135432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475320" y="4943520"/>
              <a:ext cx="406080" cy="426960"/>
              <a:chOff x="6475320" y="4943520"/>
              <a:chExt cx="406080" cy="426960"/>
            </a:xfrm>
          </p:grpSpPr>
          <p:pic>
            <p:nvPicPr>
              <p:cNvPr id="12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75320" y="494352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35080" y="50554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7253280" y="4975200"/>
              <a:ext cx="406080" cy="426960"/>
              <a:chOff x="7253280" y="4975200"/>
              <a:chExt cx="406080" cy="426960"/>
            </a:xfrm>
          </p:grpSpPr>
          <p:pic>
            <p:nvPicPr>
              <p:cNvPr id="12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53280" y="49752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3040" y="50871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" name=""/>
            <p:cNvGrpSpPr/>
            <p:nvPr/>
          </p:nvGrpSpPr>
          <p:grpSpPr>
            <a:xfrm>
              <a:off x="6838920" y="4691160"/>
              <a:ext cx="379440" cy="376200"/>
              <a:chOff x="6838920" y="4691160"/>
              <a:chExt cx="379440" cy="376200"/>
            </a:xfrm>
          </p:grpSpPr>
          <p:pic>
            <p:nvPicPr>
              <p:cNvPr id="12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8920" y="469116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6949080" y="482328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145280" y="4594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866000" y="4017960"/>
              <a:ext cx="208080" cy="409680"/>
              <a:chOff x="7866000" y="4017960"/>
              <a:chExt cx="208080" cy="409680"/>
            </a:xfrm>
          </p:grpSpPr>
          <p:sp>
            <p:nvSpPr>
              <p:cNvPr id="131" name=""/>
              <p:cNvSpPr/>
              <p:nvPr/>
            </p:nvSpPr>
            <p:spPr>
              <a:xfrm>
                <a:off x="7866000" y="4332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71120" y="40204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67080" y="41097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66000" y="4017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074080" y="40244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998840" y="43329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83640" y="41511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896240" y="42058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853400" y="4462560"/>
              <a:ext cx="208080" cy="408960"/>
              <a:chOff x="7853400" y="4462560"/>
              <a:chExt cx="208080" cy="408960"/>
            </a:xfrm>
          </p:grpSpPr>
          <p:sp>
            <p:nvSpPr>
              <p:cNvPr id="140" name=""/>
              <p:cNvSpPr/>
              <p:nvPr/>
            </p:nvSpPr>
            <p:spPr>
              <a:xfrm>
                <a:off x="7853400" y="47772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58520" y="44650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54480" y="45543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53400" y="4462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61480" y="44690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986240" y="47772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71040" y="45957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83640" y="46504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V="1">
              <a:off x="7785000" y="4086000"/>
              <a:ext cx="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760" y="46958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8880" y="4219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502320" y="2315880"/>
              <a:ext cx="45900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37600" y="2300400"/>
              <a:ext cx="4856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956720" y="2637000"/>
              <a:ext cx="24120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86680" y="2413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11880" y="306072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671960" y="352584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445520" y="2604960"/>
              <a:ext cx="5601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454520" y="2044800"/>
              <a:ext cx="3510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8172360" y="2220840"/>
              <a:ext cx="2016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5983200" y="2413080"/>
              <a:ext cx="501840" cy="232920"/>
              <a:chOff x="5983200" y="2413080"/>
              <a:chExt cx="501840" cy="232920"/>
            </a:xfrm>
          </p:grpSpPr>
          <p:sp>
            <p:nvSpPr>
              <p:cNvPr id="161" name=""/>
              <p:cNvSpPr/>
              <p:nvPr/>
            </p:nvSpPr>
            <p:spPr>
              <a:xfrm>
                <a:off x="5987160" y="25171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8716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8504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87160" y="25059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3200" y="24130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6102720" y="2445840"/>
                <a:ext cx="246240" cy="88200"/>
                <a:chOff x="6102720" y="2445840"/>
                <a:chExt cx="246240" cy="882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6102720" y="244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271560" y="253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83720" y="244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102720" y="2445120"/>
                <a:ext cx="246240" cy="88200"/>
                <a:chOff x="6102720" y="2445120"/>
                <a:chExt cx="246240" cy="88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102720" y="253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271560" y="244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6183720" y="244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6935760" y="2184480"/>
              <a:ext cx="501840" cy="232920"/>
              <a:chOff x="6935760" y="2184480"/>
              <a:chExt cx="501840" cy="232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939720" y="22885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972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3760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39720" y="22773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35760" y="21844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7055280" y="2217240"/>
                <a:ext cx="246240" cy="88200"/>
                <a:chOff x="7055280" y="2217240"/>
                <a:chExt cx="246240" cy="88200"/>
              </a:xfrm>
            </p:grpSpPr>
            <p:sp>
              <p:nvSpPr>
                <p:cNvPr id="181" name=""/>
                <p:cNvSpPr/>
                <p:nvPr/>
              </p:nvSpPr>
              <p:spPr>
                <a:xfrm flipV="1">
                  <a:off x="7055280" y="2217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224120" y="230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136280" y="221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055280" y="2216520"/>
                <a:ext cx="246240" cy="88200"/>
                <a:chOff x="7055280" y="2216520"/>
                <a:chExt cx="246240" cy="882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055280" y="2302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224120" y="221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7136280" y="2216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6953400" y="2841480"/>
              <a:ext cx="501480" cy="233280"/>
              <a:chOff x="6953400" y="2841480"/>
              <a:chExt cx="501480" cy="233280"/>
            </a:xfrm>
          </p:grpSpPr>
          <p:sp>
            <p:nvSpPr>
              <p:cNvPr id="189" name=""/>
              <p:cNvSpPr/>
              <p:nvPr/>
            </p:nvSpPr>
            <p:spPr>
              <a:xfrm>
                <a:off x="6957360" y="29455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5736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5488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57360" y="29347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53400" y="28414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7072920" y="2874240"/>
                <a:ext cx="246240" cy="88560"/>
                <a:chOff x="7072920" y="2874240"/>
                <a:chExt cx="246240" cy="8856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7072920" y="2874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41760" y="29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53920" y="28764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072920" y="2873160"/>
                <a:ext cx="246240" cy="88560"/>
                <a:chOff x="7072920" y="2873160"/>
                <a:chExt cx="246240" cy="88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072920" y="2959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241760" y="28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7153920" y="28731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7923240" y="2392200"/>
              <a:ext cx="500040" cy="233280"/>
              <a:chOff x="7923240" y="2392200"/>
              <a:chExt cx="500040" cy="233280"/>
            </a:xfrm>
          </p:grpSpPr>
          <p:sp>
            <p:nvSpPr>
              <p:cNvPr id="203" name=""/>
              <p:cNvSpPr/>
              <p:nvPr/>
            </p:nvSpPr>
            <p:spPr>
              <a:xfrm>
                <a:off x="7927200" y="2496240"/>
                <a:ext cx="49572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720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2328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7200" y="248544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23240" y="2392200"/>
                <a:ext cx="4953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8042400" y="2424960"/>
                <a:ext cx="245520" cy="88560"/>
                <a:chOff x="8042400" y="2424960"/>
                <a:chExt cx="245520" cy="8856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8042400" y="242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0880" y="2513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123040" y="2427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8042400" y="2423880"/>
                <a:ext cx="245520" cy="88560"/>
                <a:chOff x="8042400" y="2423880"/>
                <a:chExt cx="245520" cy="885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8042400" y="251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10880" y="2423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8123040" y="24238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7729560" y="3289320"/>
              <a:ext cx="501480" cy="232920"/>
              <a:chOff x="7729560" y="3289320"/>
              <a:chExt cx="501480" cy="232920"/>
            </a:xfrm>
          </p:grpSpPr>
          <p:sp>
            <p:nvSpPr>
              <p:cNvPr id="217" name=""/>
              <p:cNvSpPr/>
              <p:nvPr/>
            </p:nvSpPr>
            <p:spPr>
              <a:xfrm>
                <a:off x="7733520" y="3393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3352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3104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33520" y="3382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29560" y="3289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7849080" y="3322080"/>
                <a:ext cx="246240" cy="88200"/>
                <a:chOff x="7849080" y="3322080"/>
                <a:chExt cx="246240" cy="88200"/>
              </a:xfrm>
            </p:grpSpPr>
            <p:sp>
              <p:nvSpPr>
                <p:cNvPr id="223" name=""/>
                <p:cNvSpPr/>
                <p:nvPr/>
              </p:nvSpPr>
              <p:spPr>
                <a:xfrm flipV="1">
                  <a:off x="7849080" y="332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017920" y="3410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30080" y="3324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849080" y="3321360"/>
                <a:ext cx="246240" cy="88200"/>
                <a:chOff x="7849080" y="3321360"/>
                <a:chExt cx="246240" cy="88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849080" y="340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017920" y="3321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7930080" y="3321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7396200" y="3873600"/>
              <a:ext cx="501480" cy="234360"/>
              <a:chOff x="7396200" y="3873600"/>
              <a:chExt cx="501480" cy="234360"/>
            </a:xfrm>
          </p:grpSpPr>
          <p:sp>
            <p:nvSpPr>
              <p:cNvPr id="231" name=""/>
              <p:cNvSpPr/>
              <p:nvPr/>
            </p:nvSpPr>
            <p:spPr>
              <a:xfrm>
                <a:off x="7400160" y="3978000"/>
                <a:ext cx="497160" cy="129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40016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89768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00160" y="3967200"/>
                <a:ext cx="492840" cy="79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96200" y="3873600"/>
                <a:ext cx="496800" cy="151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7515720" y="3906720"/>
                <a:ext cx="246240" cy="88920"/>
                <a:chOff x="7515720" y="3906720"/>
                <a:chExt cx="246240" cy="8892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7515720" y="390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684560" y="399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596720" y="390888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515720" y="3905640"/>
                <a:ext cx="246240" cy="88920"/>
                <a:chOff x="7515720" y="3905640"/>
                <a:chExt cx="246240" cy="88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515720" y="399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84560" y="390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7596720" y="39056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6786720" y="4362480"/>
              <a:ext cx="500040" cy="232920"/>
              <a:chOff x="6786720" y="4362480"/>
              <a:chExt cx="500040" cy="232920"/>
            </a:xfrm>
          </p:grpSpPr>
          <p:sp>
            <p:nvSpPr>
              <p:cNvPr id="245" name=""/>
              <p:cNvSpPr/>
              <p:nvPr/>
            </p:nvSpPr>
            <p:spPr>
              <a:xfrm>
                <a:off x="6790680" y="446652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9068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8676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90680" y="445536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86720" y="436248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6905880" y="4395240"/>
                <a:ext cx="245520" cy="88200"/>
                <a:chOff x="6905880" y="4395240"/>
                <a:chExt cx="245520" cy="88200"/>
              </a:xfrm>
            </p:grpSpPr>
            <p:sp>
              <p:nvSpPr>
                <p:cNvPr id="251" name=""/>
                <p:cNvSpPr/>
                <p:nvPr/>
              </p:nvSpPr>
              <p:spPr>
                <a:xfrm flipV="1">
                  <a:off x="6905880" y="4395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074360" y="4483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986520" y="4397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905880" y="4394520"/>
                <a:ext cx="245520" cy="88200"/>
                <a:chOff x="6905880" y="4394520"/>
                <a:chExt cx="245520" cy="88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905880" y="4480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074360" y="4394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6986520" y="4394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5983200" y="3986280"/>
              <a:ext cx="501840" cy="232920"/>
              <a:chOff x="5983200" y="3986280"/>
              <a:chExt cx="501840" cy="232920"/>
            </a:xfrm>
          </p:grpSpPr>
          <p:sp>
            <p:nvSpPr>
              <p:cNvPr id="259" name=""/>
              <p:cNvSpPr/>
              <p:nvPr/>
            </p:nvSpPr>
            <p:spPr>
              <a:xfrm>
                <a:off x="5987160" y="40903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8716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8504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87160" y="40791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83200" y="39862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102720" y="4019040"/>
                <a:ext cx="246240" cy="88200"/>
                <a:chOff x="6102720" y="4019040"/>
                <a:chExt cx="246240" cy="8820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6102720" y="4019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271560" y="4107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83720" y="4021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102720" y="4018320"/>
                <a:ext cx="246240" cy="88200"/>
                <a:chOff x="6102720" y="4018320"/>
                <a:chExt cx="246240" cy="88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102720" y="410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271560" y="40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183720" y="40183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 flipV="1">
              <a:off x="6238800" y="419904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740120" y="1500120"/>
            <a:ext cx="3800160" cy="3832200"/>
            <a:chOff x="4740120" y="1500120"/>
            <a:chExt cx="3800160" cy="3832200"/>
          </a:xfrm>
        </p:grpSpPr>
        <p:grpSp>
          <p:nvGrpSpPr>
            <p:cNvPr id="274" name=""/>
            <p:cNvGrpSpPr/>
            <p:nvPr/>
          </p:nvGrpSpPr>
          <p:grpSpPr>
            <a:xfrm>
              <a:off x="4740120" y="1500120"/>
              <a:ext cx="855360" cy="860400"/>
              <a:chOff x="4740120" y="1500120"/>
              <a:chExt cx="855360" cy="860400"/>
            </a:xfrm>
          </p:grpSpPr>
          <p:sp>
            <p:nvSpPr>
              <p:cNvPr id="275" name=""/>
              <p:cNvSpPr/>
              <p:nvPr/>
            </p:nvSpPr>
            <p:spPr>
              <a:xfrm>
                <a:off x="4843080" y="1500120"/>
                <a:ext cx="7106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8520" y="1524240"/>
                <a:ext cx="72540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13200" y="1528920"/>
                <a:ext cx="7102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40120" y="1505160"/>
                <a:ext cx="85536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08520" y="1866960"/>
                <a:ext cx="7254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18240" y="2005200"/>
                <a:ext cx="7254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18240" y="2143080"/>
                <a:ext cx="7254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7664400" y="4367160"/>
              <a:ext cx="875880" cy="860400"/>
              <a:chOff x="7664400" y="4367160"/>
              <a:chExt cx="875880" cy="860400"/>
            </a:xfrm>
          </p:grpSpPr>
          <p:sp>
            <p:nvSpPr>
              <p:cNvPr id="283" name=""/>
              <p:cNvSpPr/>
              <p:nvPr/>
            </p:nvSpPr>
            <p:spPr>
              <a:xfrm>
                <a:off x="7769880" y="4367160"/>
                <a:ext cx="72756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34240" y="4391280"/>
                <a:ext cx="7426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39280" y="4395960"/>
                <a:ext cx="72720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64400" y="4372200"/>
                <a:ext cx="87588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34240" y="4734000"/>
                <a:ext cx="742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44320" y="4872240"/>
                <a:ext cx="7426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44320" y="5010120"/>
                <a:ext cx="7426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270400" y="4471920"/>
              <a:ext cx="906120" cy="860400"/>
              <a:chOff x="5270400" y="4471920"/>
              <a:chExt cx="906120" cy="860400"/>
            </a:xfrm>
          </p:grpSpPr>
          <p:sp>
            <p:nvSpPr>
              <p:cNvPr id="291" name=""/>
              <p:cNvSpPr/>
              <p:nvPr/>
            </p:nvSpPr>
            <p:spPr>
              <a:xfrm>
                <a:off x="5379480" y="4471920"/>
                <a:ext cx="75276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42760" y="4496040"/>
                <a:ext cx="76824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47800" y="4500720"/>
                <a:ext cx="75240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70400" y="4476960"/>
                <a:ext cx="9061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42760" y="4838760"/>
                <a:ext cx="768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353200" y="4977000"/>
                <a:ext cx="7682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53200" y="5114880"/>
                <a:ext cx="7682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524560" y="1619280"/>
              <a:ext cx="2301840" cy="28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105600" y="4524480"/>
              <a:ext cx="167148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ECD-11B7-4172-A7D6-50A3F38D9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ftp: comandos, resposta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31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omandos típic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viados em texto ASCII pelo canal de contro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sen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olve lista de arquivos no diretório at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TR arquiv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pera (lê) arquivo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OR arquiv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mazena (escreve) arquivo no hospedeiro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88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ódigos de retorno típ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ódigo e frase de status (como para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25 Can’t open data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244-8D0F-4FC6-AD07-15AF4755DD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oteiro do Capítulo 2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os protocolos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s e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tos da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Web e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cket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Construindo um servi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9 Distribui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 Web n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istribuição de conteú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FED-3AFF-44EB-AA8B-D6E98ED021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43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ês grandes component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gentes de usuário (UA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874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 mail transfer protocol: sm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gente de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.k.a. “leitor de correi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or, editar, ler mensagens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ex., Eudora, Outlook, elm, Netscape Messe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de saída e chegando são armazenadas n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6710400" y="325440"/>
            <a:ext cx="217800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6969240" y="403200"/>
            <a:ext cx="1971720" cy="1366560"/>
            <a:chOff x="6969240" y="403200"/>
            <a:chExt cx="1971720" cy="1366560"/>
          </a:xfrm>
        </p:grpSpPr>
        <p:sp>
          <p:nvSpPr>
            <p:cNvPr id="968" name=""/>
            <p:cNvSpPr/>
            <p:nvPr/>
          </p:nvSpPr>
          <p:spPr>
            <a:xfrm>
              <a:off x="7012080" y="1189080"/>
              <a:ext cx="1928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ixa d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rreio do usuá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6969240" y="473040"/>
              <a:ext cx="714240" cy="190440"/>
              <a:chOff x="6969240" y="473040"/>
              <a:chExt cx="714240" cy="190440"/>
            </a:xfrm>
          </p:grpSpPr>
          <p:sp>
            <p:nvSpPr>
              <p:cNvPr id="970" name=""/>
              <p:cNvSpPr/>
              <p:nvPr/>
            </p:nvSpPr>
            <p:spPr>
              <a:xfrm>
                <a:off x="6969240" y="473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47000" y="517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7219440" y="51588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07280" y="5191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397640" y="51588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494480" y="51588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83400" y="51588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130880" y="517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6975360" y="12747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91240" y="403200"/>
              <a:ext cx="133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ila d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nsagen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 saí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8012160" y="3068640"/>
            <a:ext cx="866520" cy="885600"/>
            <a:chOff x="8012160" y="3068640"/>
            <a:chExt cx="866520" cy="885600"/>
          </a:xfrm>
        </p:grpSpPr>
        <p:pic>
          <p:nvPicPr>
            <p:cNvPr id="981" name="" descr=""/>
            <p:cNvPicPr/>
            <p:nvPr/>
          </p:nvPicPr>
          <p:blipFill>
            <a:blip r:embed="rId1"/>
            <a:stretch/>
          </p:blipFill>
          <p:spPr>
            <a:xfrm>
              <a:off x="8012160" y="3068640"/>
              <a:ext cx="622440" cy="51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2" name=""/>
            <p:cNvGrpSpPr/>
            <p:nvPr/>
          </p:nvGrpSpPr>
          <p:grpSpPr>
            <a:xfrm>
              <a:off x="8055000" y="3220920"/>
              <a:ext cx="823680" cy="733320"/>
              <a:chOff x="8055000" y="3220920"/>
              <a:chExt cx="823680" cy="733320"/>
            </a:xfrm>
          </p:grpSpPr>
          <p:sp>
            <p:nvSpPr>
              <p:cNvPr id="983" name=""/>
              <p:cNvSpPr/>
              <p:nvPr/>
            </p:nvSpPr>
            <p:spPr>
              <a:xfrm>
                <a:off x="8055000" y="3241800"/>
                <a:ext cx="774720" cy="69912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65440" y="3220920"/>
                <a:ext cx="813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gent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usuá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4486320" y="1270080"/>
            <a:ext cx="4103280" cy="5335200"/>
            <a:chOff x="4486320" y="1270080"/>
            <a:chExt cx="4103280" cy="5335200"/>
          </a:xfrm>
        </p:grpSpPr>
        <p:sp>
          <p:nvSpPr>
            <p:cNvPr id="986" name=""/>
            <p:cNvSpPr/>
            <p:nvPr/>
          </p:nvSpPr>
          <p:spPr>
            <a:xfrm>
              <a:off x="5724360" y="2552760"/>
              <a:ext cx="1124280" cy="79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703400" y="1631880"/>
              <a:ext cx="1148400" cy="1501920"/>
              <a:chOff x="4703400" y="1631880"/>
              <a:chExt cx="1148400" cy="150192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5106960" y="1631880"/>
                <a:ext cx="355320" cy="932760"/>
                <a:chOff x="5106960" y="1631880"/>
                <a:chExt cx="355320" cy="93276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5106960" y="234900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286960" y="1638000"/>
                  <a:ext cx="16344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108760" y="1841040"/>
                  <a:ext cx="22500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106960" y="163188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462280" y="164700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5333760" y="2349000"/>
                  <a:ext cx="12780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137560" y="1935720"/>
                  <a:ext cx="14940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158800" y="2060280"/>
                  <a:ext cx="11340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4703400" y="2084400"/>
                <a:ext cx="1148400" cy="1049400"/>
                <a:chOff x="4703400" y="2084400"/>
                <a:chExt cx="1148400" cy="10494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4764240" y="2124000"/>
                  <a:ext cx="1022040" cy="1009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703400" y="2084400"/>
                  <a:ext cx="11484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ido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e corre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924440" y="268596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002200" y="27306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17536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262480" y="273204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35320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45004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53896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086440" y="27306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937040" y="29512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073480" y="295128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210280" y="29494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364000" y="2946240"/>
                  <a:ext cx="10188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516640" y="2946240"/>
                  <a:ext cx="10152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5772240" y="1270080"/>
              <a:ext cx="866520" cy="885600"/>
              <a:chOff x="5772240" y="1270080"/>
              <a:chExt cx="866520" cy="885600"/>
            </a:xfrm>
          </p:grpSpPr>
          <p:pic>
            <p:nvPicPr>
              <p:cNvPr id="10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72240" y="1270080"/>
                <a:ext cx="62244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5" name=""/>
              <p:cNvGrpSpPr/>
              <p:nvPr/>
            </p:nvGrpSpPr>
            <p:grpSpPr>
              <a:xfrm>
                <a:off x="5815080" y="1422360"/>
                <a:ext cx="823680" cy="733320"/>
                <a:chOff x="5815080" y="1422360"/>
                <a:chExt cx="823680" cy="7333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5815080" y="1443240"/>
                  <a:ext cx="77472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825520" y="142236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8" name=""/>
            <p:cNvSpPr/>
            <p:nvPr/>
          </p:nvSpPr>
          <p:spPr>
            <a:xfrm flipV="1">
              <a:off x="5724360" y="3676680"/>
              <a:ext cx="1124280" cy="1085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4890960" y="315288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848200" y="3970440"/>
              <a:ext cx="977760" cy="459720"/>
              <a:chOff x="5848200" y="3970440"/>
              <a:chExt cx="977760" cy="459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5905440" y="403884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48200" y="3970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5810400" y="2712960"/>
              <a:ext cx="977760" cy="459720"/>
              <a:chOff x="5810400" y="2712960"/>
              <a:chExt cx="977760" cy="459720"/>
            </a:xfrm>
          </p:grpSpPr>
          <p:sp>
            <p:nvSpPr>
              <p:cNvPr id="1024" name=""/>
              <p:cNvSpPr/>
              <p:nvPr/>
            </p:nvSpPr>
            <p:spPr>
              <a:xfrm>
                <a:off x="5867280" y="2781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810400" y="271296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4486320" y="3427560"/>
              <a:ext cx="977760" cy="459720"/>
              <a:chOff x="4486320" y="3427560"/>
              <a:chExt cx="977760" cy="459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4543200" y="34959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486320" y="342756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7723080" y="1925640"/>
              <a:ext cx="866520" cy="885600"/>
              <a:chOff x="7723080" y="1925640"/>
              <a:chExt cx="866520" cy="885600"/>
            </a:xfrm>
          </p:grpSpPr>
          <p:pic>
            <p:nvPicPr>
              <p:cNvPr id="10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23080" y="1925640"/>
                <a:ext cx="62244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1" name=""/>
              <p:cNvGrpSpPr/>
              <p:nvPr/>
            </p:nvGrpSpPr>
            <p:grpSpPr>
              <a:xfrm>
                <a:off x="7765920" y="2077920"/>
                <a:ext cx="823680" cy="733320"/>
                <a:chOff x="7765920" y="2077920"/>
                <a:chExt cx="823680" cy="73332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7765920" y="2098800"/>
                  <a:ext cx="77472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776360" y="207792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"/>
            <p:cNvGrpSpPr/>
            <p:nvPr/>
          </p:nvGrpSpPr>
          <p:grpSpPr>
            <a:xfrm>
              <a:off x="7585200" y="4121280"/>
              <a:ext cx="865440" cy="885600"/>
              <a:chOff x="7585200" y="4121280"/>
              <a:chExt cx="865440" cy="885600"/>
            </a:xfrm>
          </p:grpSpPr>
          <p:pic>
            <p:nvPicPr>
              <p:cNvPr id="10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85200" y="4121280"/>
                <a:ext cx="62208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6" name=""/>
              <p:cNvGrpSpPr/>
              <p:nvPr/>
            </p:nvGrpSpPr>
            <p:grpSpPr>
              <a:xfrm>
                <a:off x="7627680" y="4273560"/>
                <a:ext cx="822960" cy="733320"/>
                <a:chOff x="7627680" y="4273560"/>
                <a:chExt cx="822960" cy="73332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7627680" y="4294440"/>
                  <a:ext cx="774360" cy="69876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637400" y="427356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9" name=""/>
            <p:cNvGrpSpPr/>
            <p:nvPr/>
          </p:nvGrpSpPr>
          <p:grpSpPr>
            <a:xfrm>
              <a:off x="5970600" y="5172120"/>
              <a:ext cx="866520" cy="885600"/>
              <a:chOff x="5970600" y="5172120"/>
              <a:chExt cx="866520" cy="885600"/>
            </a:xfrm>
          </p:grpSpPr>
          <p:pic>
            <p:nvPicPr>
              <p:cNvPr id="104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70600" y="5172120"/>
                <a:ext cx="62244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1" name=""/>
              <p:cNvGrpSpPr/>
              <p:nvPr/>
            </p:nvGrpSpPr>
            <p:grpSpPr>
              <a:xfrm>
                <a:off x="6013440" y="5324400"/>
                <a:ext cx="823680" cy="733320"/>
                <a:chOff x="6013440" y="5324400"/>
                <a:chExt cx="823680" cy="73332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6013440" y="5345280"/>
                  <a:ext cx="77472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023880" y="532440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4" name=""/>
            <p:cNvGrpSpPr/>
            <p:nvPr/>
          </p:nvGrpSpPr>
          <p:grpSpPr>
            <a:xfrm>
              <a:off x="4903920" y="5719680"/>
              <a:ext cx="865440" cy="885600"/>
              <a:chOff x="4903920" y="5719680"/>
              <a:chExt cx="865440" cy="885600"/>
            </a:xfrm>
          </p:grpSpPr>
          <p:pic>
            <p:nvPicPr>
              <p:cNvPr id="104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3920" y="5719680"/>
                <a:ext cx="62208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6" name=""/>
              <p:cNvGrpSpPr/>
              <p:nvPr/>
            </p:nvGrpSpPr>
            <p:grpSpPr>
              <a:xfrm>
                <a:off x="4946400" y="5871960"/>
                <a:ext cx="822960" cy="733320"/>
                <a:chOff x="4946400" y="5871960"/>
                <a:chExt cx="822960" cy="7333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946400" y="5892840"/>
                  <a:ext cx="77436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56120" y="587196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9" name=""/>
            <p:cNvGrpSpPr/>
            <p:nvPr/>
          </p:nvGrpSpPr>
          <p:grpSpPr>
            <a:xfrm>
              <a:off x="4576320" y="4038480"/>
              <a:ext cx="1148400" cy="1501920"/>
              <a:chOff x="4576320" y="4038480"/>
              <a:chExt cx="1148400" cy="1501920"/>
            </a:xfrm>
          </p:grpSpPr>
          <p:grpSp>
            <p:nvGrpSpPr>
              <p:cNvPr id="1050" name=""/>
              <p:cNvGrpSpPr/>
              <p:nvPr/>
            </p:nvGrpSpPr>
            <p:grpSpPr>
              <a:xfrm>
                <a:off x="4979880" y="4038480"/>
                <a:ext cx="355320" cy="932760"/>
                <a:chOff x="4979880" y="4038480"/>
                <a:chExt cx="355320" cy="93276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4979880" y="475560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159880" y="4044600"/>
                  <a:ext cx="16344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981680" y="4247640"/>
                  <a:ext cx="22500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979880" y="403848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335200" y="405360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5206680" y="4755600"/>
                  <a:ext cx="12780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010480" y="4342320"/>
                  <a:ext cx="14940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5031720" y="4466880"/>
                  <a:ext cx="11340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4576320" y="4491000"/>
                <a:ext cx="1148400" cy="1049400"/>
                <a:chOff x="4576320" y="4491000"/>
                <a:chExt cx="1148400" cy="10494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4637160" y="4530600"/>
                  <a:ext cx="1022040" cy="1009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576320" y="4491000"/>
                  <a:ext cx="11484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ido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e corre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797360" y="509256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875120" y="51372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04828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135400" y="513864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522612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32296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1188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959360" y="51372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809960" y="53578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946400" y="535788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083200" y="53560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236920" y="5352840"/>
                  <a:ext cx="10188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389560" y="5352840"/>
                  <a:ext cx="10152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5" name=""/>
            <p:cNvGrpSpPr/>
            <p:nvPr/>
          </p:nvGrpSpPr>
          <p:grpSpPr>
            <a:xfrm>
              <a:off x="6791040" y="2532240"/>
              <a:ext cx="1148400" cy="1500840"/>
              <a:chOff x="6791040" y="2532240"/>
              <a:chExt cx="1148400" cy="150084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7194600" y="2532240"/>
                <a:ext cx="355320" cy="932400"/>
                <a:chOff x="7194600" y="2532240"/>
                <a:chExt cx="355320" cy="9324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7194600" y="3249360"/>
                  <a:ext cx="355320" cy="215280"/>
                </a:xfrm>
                <a:prstGeom prst="parallelogram">
                  <a:avLst>
                    <a:gd name="adj" fmla="val 63582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374600" y="2538360"/>
                  <a:ext cx="16344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196400" y="2741400"/>
                  <a:ext cx="22500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194600" y="2532240"/>
                  <a:ext cx="355320" cy="215280"/>
                </a:xfrm>
                <a:prstGeom prst="parallelogram">
                  <a:avLst>
                    <a:gd name="adj" fmla="val 63582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549920" y="254736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7421400" y="3249360"/>
                  <a:ext cx="12780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225200" y="2835720"/>
                  <a:ext cx="14940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246440" y="2960640"/>
                  <a:ext cx="11340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6791040" y="2984400"/>
                <a:ext cx="1148400" cy="1048680"/>
                <a:chOff x="6791040" y="2984400"/>
                <a:chExt cx="1148400" cy="104868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851880" y="3023640"/>
                  <a:ext cx="1022040" cy="100944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791040" y="2984400"/>
                  <a:ext cx="11484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ido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e corre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012080" y="3585600"/>
                  <a:ext cx="714240" cy="19008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089840" y="3630240"/>
                  <a:ext cx="0" cy="113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26300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0120" y="363168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44084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53768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62660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174080" y="3630240"/>
                  <a:ext cx="0" cy="113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024680" y="3850920"/>
                  <a:ext cx="101520" cy="147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161120" y="3850920"/>
                  <a:ext cx="101880" cy="147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297920" y="3849120"/>
                  <a:ext cx="101520" cy="147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451640" y="384588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604280" y="38458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91E-7BD1-4953-8B6A-B93CD8A13D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servidores de correi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es de correi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ixa de correi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ém mensagens de chegada (ainda não lidas) p/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ila de mensagen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ém mensagens de saída (a serem enviad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 SMT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servidores de correio para transferir mensagens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 servidor de correio que env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”: servidor de correio que rece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486320" y="1270080"/>
            <a:ext cx="4103280" cy="5335200"/>
            <a:chOff x="4486320" y="1270080"/>
            <a:chExt cx="4103280" cy="5335200"/>
          </a:xfrm>
        </p:grpSpPr>
        <p:sp>
          <p:nvSpPr>
            <p:cNvPr id="1104" name=""/>
            <p:cNvSpPr/>
            <p:nvPr/>
          </p:nvSpPr>
          <p:spPr>
            <a:xfrm>
              <a:off x="5724360" y="2552760"/>
              <a:ext cx="1124280" cy="79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703400" y="1631880"/>
              <a:ext cx="1148400" cy="1501920"/>
              <a:chOff x="4703400" y="1631880"/>
              <a:chExt cx="1148400" cy="150192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5106960" y="1631880"/>
                <a:ext cx="355320" cy="932760"/>
                <a:chOff x="5106960" y="1631880"/>
                <a:chExt cx="355320" cy="9327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106960" y="234900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286960" y="1638000"/>
                  <a:ext cx="16344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108760" y="1841040"/>
                  <a:ext cx="22500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106960" y="163188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462280" y="164700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>
                  <a:off x="5333760" y="2349000"/>
                  <a:ext cx="12780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137560" y="1935720"/>
                  <a:ext cx="14940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158800" y="2060280"/>
                  <a:ext cx="11340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4703400" y="2084400"/>
                <a:ext cx="1148400" cy="1049400"/>
                <a:chOff x="4703400" y="2084400"/>
                <a:chExt cx="1148400" cy="104940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4764240" y="2124000"/>
                  <a:ext cx="1022040" cy="1009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703400" y="2084400"/>
                  <a:ext cx="11484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ido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e corre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24440" y="268596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002200" y="27306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17536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262480" y="273204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35320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45004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538960" y="27288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086440" y="27306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937040" y="29512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073480" y="295128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210280" y="29494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364000" y="2946240"/>
                  <a:ext cx="10188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516640" y="2946240"/>
                  <a:ext cx="10152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1" name=""/>
            <p:cNvGrpSpPr/>
            <p:nvPr/>
          </p:nvGrpSpPr>
          <p:grpSpPr>
            <a:xfrm>
              <a:off x="5772240" y="1270080"/>
              <a:ext cx="866520" cy="885600"/>
              <a:chOff x="5772240" y="1270080"/>
              <a:chExt cx="866520" cy="885600"/>
            </a:xfrm>
          </p:grpSpPr>
          <p:pic>
            <p:nvPicPr>
              <p:cNvPr id="11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72240" y="1270080"/>
                <a:ext cx="62244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33" name=""/>
              <p:cNvGrpSpPr/>
              <p:nvPr/>
            </p:nvGrpSpPr>
            <p:grpSpPr>
              <a:xfrm>
                <a:off x="5815080" y="1422360"/>
                <a:ext cx="823680" cy="733320"/>
                <a:chOff x="5815080" y="1422360"/>
                <a:chExt cx="823680" cy="7333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5815080" y="1443240"/>
                  <a:ext cx="77472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825520" y="142236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6" name=""/>
            <p:cNvSpPr/>
            <p:nvPr/>
          </p:nvSpPr>
          <p:spPr>
            <a:xfrm flipV="1">
              <a:off x="5724360" y="3676680"/>
              <a:ext cx="1124280" cy="1085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890960" y="315288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5848200" y="3970440"/>
              <a:ext cx="977760" cy="459720"/>
              <a:chOff x="5848200" y="3970440"/>
              <a:chExt cx="977760" cy="459720"/>
            </a:xfrm>
          </p:grpSpPr>
          <p:sp>
            <p:nvSpPr>
              <p:cNvPr id="1139" name=""/>
              <p:cNvSpPr/>
              <p:nvPr/>
            </p:nvSpPr>
            <p:spPr>
              <a:xfrm>
                <a:off x="5905440" y="403884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48200" y="3970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5810400" y="2712960"/>
              <a:ext cx="977760" cy="459720"/>
              <a:chOff x="5810400" y="2712960"/>
              <a:chExt cx="977760" cy="459720"/>
            </a:xfrm>
          </p:grpSpPr>
          <p:sp>
            <p:nvSpPr>
              <p:cNvPr id="1142" name=""/>
              <p:cNvSpPr/>
              <p:nvPr/>
            </p:nvSpPr>
            <p:spPr>
              <a:xfrm>
                <a:off x="5867280" y="2781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10400" y="271296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4486320" y="3427560"/>
              <a:ext cx="977760" cy="459720"/>
              <a:chOff x="4486320" y="3427560"/>
              <a:chExt cx="977760" cy="459720"/>
            </a:xfrm>
          </p:grpSpPr>
          <p:sp>
            <p:nvSpPr>
              <p:cNvPr id="1145" name=""/>
              <p:cNvSpPr/>
              <p:nvPr/>
            </p:nvSpPr>
            <p:spPr>
              <a:xfrm>
                <a:off x="4543200" y="34959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486320" y="342756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7723080" y="1925640"/>
              <a:ext cx="866520" cy="885600"/>
              <a:chOff x="7723080" y="1925640"/>
              <a:chExt cx="866520" cy="885600"/>
            </a:xfrm>
          </p:grpSpPr>
          <p:pic>
            <p:nvPicPr>
              <p:cNvPr id="11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23080" y="1925640"/>
                <a:ext cx="62244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9" name=""/>
              <p:cNvGrpSpPr/>
              <p:nvPr/>
            </p:nvGrpSpPr>
            <p:grpSpPr>
              <a:xfrm>
                <a:off x="7765920" y="2077920"/>
                <a:ext cx="823680" cy="733320"/>
                <a:chOff x="7765920" y="2077920"/>
                <a:chExt cx="823680" cy="73332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7765920" y="2098800"/>
                  <a:ext cx="77472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776360" y="207792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2" name=""/>
            <p:cNvGrpSpPr/>
            <p:nvPr/>
          </p:nvGrpSpPr>
          <p:grpSpPr>
            <a:xfrm>
              <a:off x="7585200" y="4121280"/>
              <a:ext cx="865440" cy="885600"/>
              <a:chOff x="7585200" y="4121280"/>
              <a:chExt cx="865440" cy="885600"/>
            </a:xfrm>
          </p:grpSpPr>
          <p:pic>
            <p:nvPicPr>
              <p:cNvPr id="11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85200" y="4121280"/>
                <a:ext cx="62208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4" name=""/>
              <p:cNvGrpSpPr/>
              <p:nvPr/>
            </p:nvGrpSpPr>
            <p:grpSpPr>
              <a:xfrm>
                <a:off x="7627680" y="4273560"/>
                <a:ext cx="822960" cy="733320"/>
                <a:chOff x="7627680" y="4273560"/>
                <a:chExt cx="822960" cy="7333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7627680" y="4294440"/>
                  <a:ext cx="774360" cy="69876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637400" y="427356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7" name=""/>
            <p:cNvGrpSpPr/>
            <p:nvPr/>
          </p:nvGrpSpPr>
          <p:grpSpPr>
            <a:xfrm>
              <a:off x="5970600" y="5172120"/>
              <a:ext cx="866520" cy="885600"/>
              <a:chOff x="5970600" y="5172120"/>
              <a:chExt cx="866520" cy="885600"/>
            </a:xfrm>
          </p:grpSpPr>
          <p:pic>
            <p:nvPicPr>
              <p:cNvPr id="11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70600" y="5172120"/>
                <a:ext cx="62244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9" name=""/>
              <p:cNvGrpSpPr/>
              <p:nvPr/>
            </p:nvGrpSpPr>
            <p:grpSpPr>
              <a:xfrm>
                <a:off x="6013440" y="5324400"/>
                <a:ext cx="823680" cy="733320"/>
                <a:chOff x="6013440" y="5324400"/>
                <a:chExt cx="823680" cy="73332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6013440" y="5345280"/>
                  <a:ext cx="77472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023880" y="532440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2" name=""/>
            <p:cNvGrpSpPr/>
            <p:nvPr/>
          </p:nvGrpSpPr>
          <p:grpSpPr>
            <a:xfrm>
              <a:off x="4903920" y="5719680"/>
              <a:ext cx="865440" cy="885600"/>
              <a:chOff x="4903920" y="5719680"/>
              <a:chExt cx="865440" cy="885600"/>
            </a:xfrm>
          </p:grpSpPr>
          <p:pic>
            <p:nvPicPr>
              <p:cNvPr id="11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03920" y="5719680"/>
                <a:ext cx="622080" cy="51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4" name=""/>
              <p:cNvGrpSpPr/>
              <p:nvPr/>
            </p:nvGrpSpPr>
            <p:grpSpPr>
              <a:xfrm>
                <a:off x="4946400" y="5871960"/>
                <a:ext cx="822960" cy="733320"/>
                <a:chOff x="4946400" y="5871960"/>
                <a:chExt cx="822960" cy="73332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946400" y="5892840"/>
                  <a:ext cx="774360" cy="69912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956120" y="5871960"/>
                  <a:ext cx="813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gent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e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7" name=""/>
            <p:cNvGrpSpPr/>
            <p:nvPr/>
          </p:nvGrpSpPr>
          <p:grpSpPr>
            <a:xfrm>
              <a:off x="4576320" y="4038480"/>
              <a:ext cx="1148400" cy="1501920"/>
              <a:chOff x="4576320" y="4038480"/>
              <a:chExt cx="1148400" cy="150192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4979880" y="4038480"/>
                <a:ext cx="355320" cy="932760"/>
                <a:chOff x="4979880" y="4038480"/>
                <a:chExt cx="355320" cy="93276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4979880" y="475560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159880" y="4044600"/>
                  <a:ext cx="16344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981680" y="4247640"/>
                  <a:ext cx="22500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979880" y="4038480"/>
                  <a:ext cx="355320" cy="215640"/>
                </a:xfrm>
                <a:prstGeom prst="parallelogram">
                  <a:avLst>
                    <a:gd name="adj" fmla="val 63476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335200" y="405360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5206680" y="4755600"/>
                  <a:ext cx="12780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010480" y="4342320"/>
                  <a:ext cx="14940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5031720" y="4466880"/>
                  <a:ext cx="11340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4576320" y="4491000"/>
                <a:ext cx="1148400" cy="1049400"/>
                <a:chOff x="4576320" y="4491000"/>
                <a:chExt cx="1148400" cy="104940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4637160" y="4530600"/>
                  <a:ext cx="1022040" cy="1009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576320" y="4491000"/>
                  <a:ext cx="11484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ido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e corre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797360" y="509256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875120" y="51372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504828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135400" y="513864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522612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532296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411880" y="51354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959360" y="51372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809960" y="53578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946400" y="535788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5083200" y="53560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5236920" y="5352840"/>
                  <a:ext cx="10188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389560" y="5352840"/>
                  <a:ext cx="101520" cy="147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"/>
            <p:cNvGrpSpPr/>
            <p:nvPr/>
          </p:nvGrpSpPr>
          <p:grpSpPr>
            <a:xfrm>
              <a:off x="6791040" y="2532240"/>
              <a:ext cx="1148400" cy="1500840"/>
              <a:chOff x="6791040" y="2532240"/>
              <a:chExt cx="1148400" cy="150084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7194600" y="2532240"/>
                <a:ext cx="355320" cy="932400"/>
                <a:chOff x="7194600" y="2532240"/>
                <a:chExt cx="355320" cy="9324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7194600" y="3249360"/>
                  <a:ext cx="355320" cy="215280"/>
                </a:xfrm>
                <a:prstGeom prst="parallelogram">
                  <a:avLst>
                    <a:gd name="adj" fmla="val 63582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374600" y="2538360"/>
                  <a:ext cx="16344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196400" y="2741400"/>
                  <a:ext cx="22500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7194600" y="2532240"/>
                  <a:ext cx="355320" cy="215280"/>
                </a:xfrm>
                <a:prstGeom prst="parallelogram">
                  <a:avLst>
                    <a:gd name="adj" fmla="val 63582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7549920" y="254736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7421400" y="3249360"/>
                  <a:ext cx="12780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225200" y="2835720"/>
                  <a:ext cx="14940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7246440" y="2960640"/>
                  <a:ext cx="11340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6791040" y="2984400"/>
                <a:ext cx="1148400" cy="1048680"/>
                <a:chOff x="6791040" y="2984400"/>
                <a:chExt cx="1148400" cy="104868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6851880" y="3023640"/>
                  <a:ext cx="1022040" cy="100944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6791040" y="2984400"/>
                  <a:ext cx="11484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ido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e corre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012080" y="3585600"/>
                  <a:ext cx="714240" cy="19008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089840" y="3630240"/>
                  <a:ext cx="0" cy="113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726300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7350120" y="363168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44084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53768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626600" y="362844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174080" y="3630240"/>
                  <a:ext cx="0" cy="113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7024680" y="3850920"/>
                  <a:ext cx="101520" cy="147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61120" y="3850920"/>
                  <a:ext cx="101880" cy="147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7297920" y="3849120"/>
                  <a:ext cx="101520" cy="147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451640" y="384588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604280" y="38458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A6E-4A1D-4688-A2F3-00A62F7FD1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MTP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[RFC 2821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24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tcp para a transferência confiável de msgs do correio do cliente ao servidor, porta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ireta: servidor remetente ao servidor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ês fases da trans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andshaking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cumpri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as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err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ação comando/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oman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x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spos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ódigo e frase de s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ns precisam ser em ASCII de 7-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7E2-4171-4CAD-B841-6A21FE71F26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82600" y="-3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enário: Alice envia uma msg para Bob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33160" y="1160640"/>
            <a:ext cx="3809880" cy="32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Alice usa o UA para compor uma mensagem “para”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O UA de Alice envia a mensagem para o seu servidor de correio; a mensagem é colocada na fila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O lado cliente do SMTP abre uma conexão TCP com o servidor de correio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08280" y="113508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O cliente SMTP envia a mensagem de Alice através d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5) O servidor de correio de Bob coloca a mensagem na caixa de entrada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6) Bob chama o seu UA para ler 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1258920" y="5062680"/>
            <a:ext cx="732240" cy="702720"/>
            <a:chOff x="1258920" y="5062680"/>
            <a:chExt cx="732240" cy="702720"/>
          </a:xfrm>
        </p:grpSpPr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1271520" y="506268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6" name=""/>
            <p:cNvGrpSpPr/>
            <p:nvPr/>
          </p:nvGrpSpPr>
          <p:grpSpPr>
            <a:xfrm>
              <a:off x="1258920" y="5184720"/>
              <a:ext cx="732240" cy="580680"/>
              <a:chOff x="1258920" y="5184720"/>
              <a:chExt cx="732240" cy="580680"/>
            </a:xfrm>
          </p:grpSpPr>
          <p:sp>
            <p:nvSpPr>
              <p:cNvPr id="1227" name=""/>
              <p:cNvSpPr/>
              <p:nvPr/>
            </p:nvSpPr>
            <p:spPr>
              <a:xfrm>
                <a:off x="1317600" y="523080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258920" y="518472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9" name=""/>
          <p:cNvGrpSpPr/>
          <p:nvPr/>
        </p:nvGrpSpPr>
        <p:grpSpPr>
          <a:xfrm>
            <a:off x="2806560" y="4503600"/>
            <a:ext cx="811440" cy="1501920"/>
            <a:chOff x="2806560" y="4503600"/>
            <a:chExt cx="811440" cy="1501920"/>
          </a:xfrm>
        </p:grpSpPr>
        <p:grpSp>
          <p:nvGrpSpPr>
            <p:cNvPr id="1230" name=""/>
            <p:cNvGrpSpPr/>
            <p:nvPr/>
          </p:nvGrpSpPr>
          <p:grpSpPr>
            <a:xfrm>
              <a:off x="3029040" y="4503600"/>
              <a:ext cx="354600" cy="932760"/>
              <a:chOff x="3029040" y="4503600"/>
              <a:chExt cx="354600" cy="932760"/>
            </a:xfrm>
          </p:grpSpPr>
          <p:sp>
            <p:nvSpPr>
              <p:cNvPr id="1231" name=""/>
              <p:cNvSpPr/>
              <p:nvPr/>
            </p:nvSpPr>
            <p:spPr>
              <a:xfrm>
                <a:off x="3029040" y="52207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208680" y="45097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030840" y="47127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29040" y="45036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383640" y="45187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3255840" y="52207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059280" y="48074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080880" y="49320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2806560" y="4956120"/>
              <a:ext cx="811440" cy="1049400"/>
              <a:chOff x="2806560" y="4956120"/>
              <a:chExt cx="811440" cy="1049400"/>
            </a:xfrm>
          </p:grpSpPr>
          <p:sp>
            <p:nvSpPr>
              <p:cNvPr id="1240" name=""/>
              <p:cNvSpPr/>
              <p:nvPr/>
            </p:nvSpPr>
            <p:spPr>
              <a:xfrm>
                <a:off x="2808360" y="49960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06560" y="495612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846520" y="5558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924280" y="5602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9744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184560" y="56041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27528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37212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6104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008520" y="5602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859120" y="5823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95920" y="5823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132360" y="5821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286080" y="5818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438720" y="5818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55" name="" descr="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1257" name=""/>
          <p:cNvGrpSpPr/>
          <p:nvPr/>
        </p:nvGrpSpPr>
        <p:grpSpPr>
          <a:xfrm>
            <a:off x="4997160" y="4449600"/>
            <a:ext cx="811440" cy="1501920"/>
            <a:chOff x="4997160" y="4449600"/>
            <a:chExt cx="811440" cy="1501920"/>
          </a:xfrm>
        </p:grpSpPr>
        <p:grpSp>
          <p:nvGrpSpPr>
            <p:cNvPr id="1258" name=""/>
            <p:cNvGrpSpPr/>
            <p:nvPr/>
          </p:nvGrpSpPr>
          <p:grpSpPr>
            <a:xfrm>
              <a:off x="5219640" y="4449600"/>
              <a:ext cx="354600" cy="932760"/>
              <a:chOff x="5219640" y="4449600"/>
              <a:chExt cx="354600" cy="932760"/>
            </a:xfrm>
          </p:grpSpPr>
          <p:sp>
            <p:nvSpPr>
              <p:cNvPr id="1259" name=""/>
              <p:cNvSpPr/>
              <p:nvPr/>
            </p:nvSpPr>
            <p:spPr>
              <a:xfrm>
                <a:off x="5219640" y="51667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399280" y="44557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221440" y="46587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219640" y="44496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574240" y="44647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446440" y="51667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249880" y="47534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271480" y="48780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4997160" y="4902120"/>
              <a:ext cx="811440" cy="1049400"/>
              <a:chOff x="4997160" y="4902120"/>
              <a:chExt cx="811440" cy="1049400"/>
            </a:xfrm>
          </p:grpSpPr>
          <p:sp>
            <p:nvSpPr>
              <p:cNvPr id="1268" name=""/>
              <p:cNvSpPr/>
              <p:nvPr/>
            </p:nvSpPr>
            <p:spPr>
              <a:xfrm>
                <a:off x="4998960" y="49420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997160" y="490212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037120" y="5504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114880" y="5548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28804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375160" y="55501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46588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56272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65164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199120" y="5548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049720" y="5769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186520" y="5769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322960" y="5767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76680" y="5764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629320" y="5764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3" name=""/>
          <p:cNvGrpSpPr/>
          <p:nvPr/>
        </p:nvGrpSpPr>
        <p:grpSpPr>
          <a:xfrm>
            <a:off x="6808680" y="4946760"/>
            <a:ext cx="732240" cy="702720"/>
            <a:chOff x="6808680" y="4946760"/>
            <a:chExt cx="732240" cy="702720"/>
          </a:xfrm>
        </p:grpSpPr>
        <p:pic>
          <p:nvPicPr>
            <p:cNvPr id="1284" name="" descr=""/>
            <p:cNvPicPr/>
            <p:nvPr/>
          </p:nvPicPr>
          <p:blipFill>
            <a:blip r:embed="rId4"/>
            <a:stretch/>
          </p:blipFill>
          <p:spPr>
            <a:xfrm>
              <a:off x="6821280" y="494676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5" name=""/>
            <p:cNvGrpSpPr/>
            <p:nvPr/>
          </p:nvGrpSpPr>
          <p:grpSpPr>
            <a:xfrm>
              <a:off x="6808680" y="5068800"/>
              <a:ext cx="732240" cy="580680"/>
              <a:chOff x="6808680" y="5068800"/>
              <a:chExt cx="732240" cy="580680"/>
            </a:xfrm>
          </p:grpSpPr>
          <p:sp>
            <p:nvSpPr>
              <p:cNvPr id="1286" name=""/>
              <p:cNvSpPr/>
              <p:nvPr/>
            </p:nvSpPr>
            <p:spPr>
              <a:xfrm>
                <a:off x="6867360" y="511488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808680" y="506880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8" name="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5F8-2815-4AC3-95FF-60323B1BCE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SMTP típic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doc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onsumidor.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onsumidor.br, pleased to meet y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na@consumidor.b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na@consumidor.br... Sender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ernardo@doces.b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ernardo@doces.br ... Recipient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Voce gosta de chocolat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  Que tal sorvet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doces.br closing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EEE-DFDF-45D9-9696-66511F4957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Experimente uma interação SMTP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net nomedoservidor 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ja resposta 220 d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e comandos HELO, MAIL FROM, RCPT TO, DATA, Q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es comandos permitem que você envie correio sem usar um cliente (leitor de corre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959-7B1C-4DCD-8D9C-FFCA1EE8099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SMTP: últimas palavr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98360" y="1600200"/>
            <a:ext cx="4160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usa conexões persist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requer que a mensagem (cabeçalho e corpo) sejam em ascii de 7-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umas cadeias de caracteres não são permitidas numa mensagem (p.ex.,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. Logo a mensagem pode ter que ser codificada (normalmente em base-64 ou “quoted printable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SMTP usa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reconhecer o final 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paração com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pul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puxa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push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empurra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mbos têm interação comando/resposta, códigos de status em ASCI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cada objeto é encapsulado em sua própria mensagem de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múltiplos objetos de mensagem enviados numa mensagem de múltiplas par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C88-70EE-4295-A9C8-F544F876E2E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Formato de uma mensage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protocolo para trocar msgs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822: padrão para formato de mensagem de tex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s de cabeçalho, p.ex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rom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ubjec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diferentes</a:t>
            </a:r>
            <a:r>
              <a:rPr b="0" i="1" lang="pt-BR" sz="18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dos comandos de smt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“mensagem”, somente de caracteres ASCI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beç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896240" y="211284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ha 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313-9E1E-4CA8-BA7F-9768AECBCEA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Os protocolos da camada de aplicação define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ipos de mensagens trocadas, ex. mensagens de pedido e respos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intaxe dos tipos das mensagens: campos presentes nas mensagens e como são identific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emântica dos campos, i.e., significado da informação nos camp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gras para quando os processos enviam e respondem às mensage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de domínio públic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dos em RF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item a interoper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, HTTP e 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proprietári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., KaZa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8A0-3392-4F4E-A727-B6A00C3280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e uma mensagem: extensões para multimíd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95000" y="1384200"/>
            <a:ext cx="732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IME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ultimedia mail extension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RFC 2045, 205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s adicionais no cabeçalho da msg declaram tipo do conteúdo M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3943440" y="2851200"/>
            <a:ext cx="5003280" cy="3111480"/>
            <a:chOff x="3943440" y="2851200"/>
            <a:chExt cx="5003280" cy="3111480"/>
          </a:xfrm>
        </p:grpSpPr>
        <p:sp>
          <p:nvSpPr>
            <p:cNvPr id="1316" name=""/>
            <p:cNvSpPr/>
            <p:nvPr/>
          </p:nvSpPr>
          <p:spPr>
            <a:xfrm>
              <a:off x="3968640" y="2851200"/>
              <a:ext cx="4978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om: ana@consumidor.b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: bernardo@doces.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ject: Imagem de uma bela tor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ME-Version: 1.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ent-Transfer-Encoding: base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ent-Type: image/jpe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se64 encoded data 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.................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...base64 encoded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943440" y="2851200"/>
              <a:ext cx="4736880" cy="292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27000" y="4348080"/>
            <a:ext cx="294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, subtipo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dos multimíd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laração parâ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5800" y="3560760"/>
            <a:ext cx="231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étodo u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/ codificar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032480" y="300204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são M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11800" y="552924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dos cod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57680" y="3276720"/>
            <a:ext cx="1155600" cy="546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32120" y="3911760"/>
            <a:ext cx="1181160" cy="190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2806560" y="4419360"/>
            <a:ext cx="1244880" cy="35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2844720" y="5168520"/>
            <a:ext cx="1003320" cy="50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71800" y="4809960"/>
            <a:ext cx="309600" cy="881280"/>
          </a:xfrm>
          <a:custGeom>
            <a:avLst/>
            <a:gdLst/>
            <a:ahLst/>
            <a:rect l="l" t="t" r="r" b="b"/>
            <a:pathLst>
              <a:path w="195" h="555">
                <a:moveTo>
                  <a:pt x="159" y="3"/>
                </a:moveTo>
                <a:lnTo>
                  <a:pt x="0" y="0"/>
                </a:lnTo>
                <a:lnTo>
                  <a:pt x="0" y="555"/>
                </a:lnTo>
                <a:lnTo>
                  <a:pt x="195" y="5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F7D-39AB-4B23-842D-1FB696BD9F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MIME </a:t>
            </a:r>
            <a:br>
              <a:rPr sz="3200"/>
            </a:b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Content-Type: tipo/subtipo; parâmetros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tipos exemplos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lain, 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arset=“iso-8859-1”, ascii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tipos exemplos 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peg, gif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tipos exemplos 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peg, quick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tipos exemplos 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asic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8-bit codificado mu-law)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2kadpc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dificação 32 k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tros dados que precisam ser processados por um leitor para serem “visualizado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tipos exemplos 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sword, octet-stre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1C1-2D50-4E8E-983F-70D09947C46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23800" y="266400"/>
            <a:ext cx="8382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 Multipar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1" name=""/>
          <p:cNvSpPr/>
          <p:nvPr/>
        </p:nvSpPr>
        <p:spPr>
          <a:xfrm>
            <a:off x="5950080" y="2889360"/>
            <a:ext cx="323640" cy="1390680"/>
          </a:xfrm>
          <a:custGeom>
            <a:avLst/>
            <a:gdLst/>
            <a:ahLst/>
            <a:rect l="l" t="t" r="r" b="b"/>
            <a:pathLst>
              <a:path w="204" h="806">
                <a:moveTo>
                  <a:pt x="32" y="0"/>
                </a:moveTo>
                <a:lnTo>
                  <a:pt x="204" y="0"/>
                </a:lnTo>
                <a:lnTo>
                  <a:pt x="203" y="806"/>
                </a:lnTo>
                <a:lnTo>
                  <a:pt x="0" y="8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929200" y="4365720"/>
            <a:ext cx="324000" cy="1600200"/>
          </a:xfrm>
          <a:custGeom>
            <a:avLst/>
            <a:gdLst/>
            <a:ahLst/>
            <a:rect l="l" t="t" r="r" b="b"/>
            <a:pathLst>
              <a:path w="204" h="806">
                <a:moveTo>
                  <a:pt x="32" y="0"/>
                </a:moveTo>
                <a:lnTo>
                  <a:pt x="204" y="0"/>
                </a:lnTo>
                <a:lnTo>
                  <a:pt x="203" y="806"/>
                </a:lnTo>
                <a:lnTo>
                  <a:pt x="0" y="8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73280" y="2573280"/>
            <a:ext cx="419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6160" y="1270080"/>
            <a:ext cx="73472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om: alice@crepes.f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: bob@hamburger.ed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ject: Picture of yummy crep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multipart/mixed; boundary=98766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98766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ransfer-Encoding: quoted-prin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ar Bo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ease find a picture of a cre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98766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ransfer-Encoding: base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image/j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64 encoded data 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..............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base64 encode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98766789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DEB-C4B3-49D5-BAD0-F714CBCB9A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ao correi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80680" y="321948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MTP: entrega/armazenamento no servidor do recep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tocolo de accesso ao correio: recupera d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P: Post Office Protocol [RFC 1939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utorização (agente &lt;--&gt;servidor) e transferênc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MAP: Internet Mail Access Protocol [RFC 1730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s comandos (mais complex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nuseio de msgs armazenadas n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TTP: Hotmail , Yahoo! Mail, Webmail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3135240" y="1631880"/>
            <a:ext cx="355320" cy="932760"/>
            <a:chOff x="3135240" y="1631880"/>
            <a:chExt cx="355320" cy="932760"/>
          </a:xfrm>
        </p:grpSpPr>
        <p:sp>
          <p:nvSpPr>
            <p:cNvPr id="1339" name=""/>
            <p:cNvSpPr/>
            <p:nvPr/>
          </p:nvSpPr>
          <p:spPr>
            <a:xfrm>
              <a:off x="313524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31524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3704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13524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9056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336204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16584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18708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1854000" y="2009880"/>
            <a:ext cx="2036880" cy="1226520"/>
            <a:chOff x="1854000" y="2009880"/>
            <a:chExt cx="2036880" cy="1226520"/>
          </a:xfrm>
        </p:grpSpPr>
        <p:sp>
          <p:nvSpPr>
            <p:cNvPr id="1348" name=""/>
            <p:cNvSpPr/>
            <p:nvPr/>
          </p:nvSpPr>
          <p:spPr>
            <a:xfrm>
              <a:off x="1854000" y="2655720"/>
              <a:ext cx="203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idor de correio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 remet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2886120" y="2009880"/>
              <a:ext cx="809640" cy="561960"/>
              <a:chOff x="2886120" y="2009880"/>
              <a:chExt cx="809640" cy="561960"/>
            </a:xfrm>
          </p:grpSpPr>
          <p:sp>
            <p:nvSpPr>
              <p:cNvPr id="1350" name=""/>
              <p:cNvSpPr/>
              <p:nvPr/>
            </p:nvSpPr>
            <p:spPr>
              <a:xfrm>
                <a:off x="2886120" y="200988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924280" y="21243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002040" y="216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17520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262320" y="217008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35304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44988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53880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086280" y="216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936880" y="2389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073320" y="2389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210120" y="23878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363840" y="23846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516480" y="2384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4" name=""/>
          <p:cNvGrpSpPr/>
          <p:nvPr/>
        </p:nvGrpSpPr>
        <p:grpSpPr>
          <a:xfrm>
            <a:off x="2200320" y="1389240"/>
            <a:ext cx="977760" cy="459720"/>
            <a:chOff x="2200320" y="1389240"/>
            <a:chExt cx="977760" cy="459720"/>
          </a:xfrm>
        </p:grpSpPr>
        <p:sp>
          <p:nvSpPr>
            <p:cNvPr id="1365" name=""/>
            <p:cNvSpPr/>
            <p:nvPr/>
          </p:nvSpPr>
          <p:spPr>
            <a:xfrm>
              <a:off x="2257200" y="14576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200320" y="13892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002200" y="1631880"/>
            <a:ext cx="355320" cy="932760"/>
            <a:chOff x="5002200" y="1631880"/>
            <a:chExt cx="355320" cy="932760"/>
          </a:xfrm>
        </p:grpSpPr>
        <p:sp>
          <p:nvSpPr>
            <p:cNvPr id="1368" name=""/>
            <p:cNvSpPr/>
            <p:nvPr/>
          </p:nvSpPr>
          <p:spPr>
            <a:xfrm>
              <a:off x="500220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8220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0400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0220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5752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522900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3280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5404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6" name="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2420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76760" y="147492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P3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82440" y="2644920"/>
            <a:ext cx="198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dor de correi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 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4734000" y="2000160"/>
            <a:ext cx="809640" cy="561960"/>
            <a:chOff x="4734000" y="2000160"/>
            <a:chExt cx="809640" cy="561960"/>
          </a:xfrm>
        </p:grpSpPr>
        <p:sp>
          <p:nvSpPr>
            <p:cNvPr id="1383" name=""/>
            <p:cNvSpPr/>
            <p:nvPr/>
          </p:nvSpPr>
          <p:spPr>
            <a:xfrm>
              <a:off x="47340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7721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8499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0230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1102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009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977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86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9341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7847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9212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580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117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643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7" name="Alice" descr=""/>
          <p:cNvPicPr/>
          <p:nvPr/>
        </p:nvPicPr>
        <p:blipFill>
          <a:blip r:embed="rId1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Bob" descr=""/>
          <p:cNvPicPr/>
          <p:nvPr/>
        </p:nvPicPr>
        <p:blipFill>
          <a:blip r:embed="rId2"/>
          <a:stretch/>
        </p:blipFill>
        <p:spPr>
          <a:xfrm>
            <a:off x="7891560" y="1571760"/>
            <a:ext cx="676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1401" name=""/>
          <p:cNvGrpSpPr/>
          <p:nvPr/>
        </p:nvGrpSpPr>
        <p:grpSpPr>
          <a:xfrm>
            <a:off x="1352520" y="1392120"/>
            <a:ext cx="866520" cy="885600"/>
            <a:chOff x="1352520" y="1392120"/>
            <a:chExt cx="866520" cy="885600"/>
          </a:xfrm>
        </p:grpSpPr>
        <p:pic>
          <p:nvPicPr>
            <p:cNvPr id="1402" name="" descr=""/>
            <p:cNvPicPr/>
            <p:nvPr/>
          </p:nvPicPr>
          <p:blipFill>
            <a:blip r:embed="rId3"/>
            <a:stretch/>
          </p:blipFill>
          <p:spPr>
            <a:xfrm>
              <a:off x="1352520" y="1392120"/>
              <a:ext cx="622440" cy="51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3" name=""/>
            <p:cNvGrpSpPr/>
            <p:nvPr/>
          </p:nvGrpSpPr>
          <p:grpSpPr>
            <a:xfrm>
              <a:off x="1395360" y="1544400"/>
              <a:ext cx="823680" cy="733320"/>
              <a:chOff x="1395360" y="1544400"/>
              <a:chExt cx="823680" cy="733320"/>
            </a:xfrm>
          </p:grpSpPr>
          <p:sp>
            <p:nvSpPr>
              <p:cNvPr id="1404" name=""/>
              <p:cNvSpPr/>
              <p:nvPr/>
            </p:nvSpPr>
            <p:spPr>
              <a:xfrm>
                <a:off x="1395360" y="1565280"/>
                <a:ext cx="774720" cy="69912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405800" y="1544400"/>
                <a:ext cx="813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gent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usuá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6" name=""/>
          <p:cNvGrpSpPr/>
          <p:nvPr/>
        </p:nvGrpSpPr>
        <p:grpSpPr>
          <a:xfrm>
            <a:off x="7007400" y="1438200"/>
            <a:ext cx="865440" cy="885600"/>
            <a:chOff x="7007400" y="1438200"/>
            <a:chExt cx="865440" cy="885600"/>
          </a:xfrm>
        </p:grpSpPr>
        <p:pic>
          <p:nvPicPr>
            <p:cNvPr id="1407" name="" descr=""/>
            <p:cNvPicPr/>
            <p:nvPr/>
          </p:nvPicPr>
          <p:blipFill>
            <a:blip r:embed="rId4"/>
            <a:stretch/>
          </p:blipFill>
          <p:spPr>
            <a:xfrm>
              <a:off x="7007400" y="1438200"/>
              <a:ext cx="622080" cy="51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8" name=""/>
            <p:cNvGrpSpPr/>
            <p:nvPr/>
          </p:nvGrpSpPr>
          <p:grpSpPr>
            <a:xfrm>
              <a:off x="7049880" y="1590480"/>
              <a:ext cx="822960" cy="733320"/>
              <a:chOff x="7049880" y="1590480"/>
              <a:chExt cx="822960" cy="733320"/>
            </a:xfrm>
          </p:grpSpPr>
          <p:sp>
            <p:nvSpPr>
              <p:cNvPr id="1409" name=""/>
              <p:cNvSpPr/>
              <p:nvPr/>
            </p:nvSpPr>
            <p:spPr>
              <a:xfrm>
                <a:off x="7049880" y="1611360"/>
                <a:ext cx="774360" cy="69912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059600" y="1590480"/>
                <a:ext cx="813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gent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e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usuá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94F-EE3E-4D72-AAF1-3D9CEAA341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o POP3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andos do clien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clara 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respon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transação,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ista números das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upera msg por núme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paga ms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"/>
          <p:cNvSpPr/>
          <p:nvPr/>
        </p:nvSpPr>
        <p:spPr>
          <a:xfrm>
            <a:off x="433440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fami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971960" y="847800"/>
            <a:ext cx="371520" cy="145728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962600" y="2428920"/>
            <a:ext cx="371520" cy="389556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C90-E9FA-40C2-8A64-A76B27265DD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OP3 (mais) e IMA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is sobre o PO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exemplo anterior usa o modo “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ownloa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 delete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 não pode reler as mensagens se mudar de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ownloa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e-mantenha”: copia as mensagens em clientes diferent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P3 não mantém estado entre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ntém todas as mensagens num único lugar: 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ao usuário organizar as mensagens em pas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IMAP mantém o estado do usuário entre sessõ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mes das pastas e mapeamentos entre as IDs das mensagens e o nome da pa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7C3-E317-4E2A-88B3-5BCF9DEB725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19200" y="1247760"/>
            <a:ext cx="363852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440" y="2376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Paradigma cliente-servidor (C-S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0240" y="1304640"/>
            <a:ext cx="41907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l. de rede típica tem duas partes: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898880" y="1847880"/>
            <a:ext cx="3678120" cy="3669840"/>
            <a:chOff x="4898880" y="1847880"/>
            <a:chExt cx="3678120" cy="3669840"/>
          </a:xfrm>
        </p:grpSpPr>
        <p:sp>
          <p:nvSpPr>
            <p:cNvPr id="307" name=""/>
            <p:cNvSpPr/>
            <p:nvPr/>
          </p:nvSpPr>
          <p:spPr>
            <a:xfrm>
              <a:off x="6778440" y="1990440"/>
              <a:ext cx="1798560" cy="167436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98880" y="1847880"/>
              <a:ext cx="1866960" cy="15886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67160" y="3298680"/>
              <a:ext cx="2975040" cy="22190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016240" y="1982520"/>
              <a:ext cx="732960" cy="318600"/>
              <a:chOff x="5016240" y="1982520"/>
              <a:chExt cx="732960" cy="318600"/>
            </a:xfrm>
          </p:grpSpPr>
          <p:pic>
            <p:nvPicPr>
              <p:cNvPr id="3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6240" y="1982520"/>
                <a:ext cx="416160" cy="31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9840" y="21002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flipV="1">
                <a:off x="5422680" y="22237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016240" y="2577960"/>
              <a:ext cx="732960" cy="318600"/>
              <a:chOff x="5016240" y="2577960"/>
              <a:chExt cx="732960" cy="318600"/>
            </a:xfrm>
          </p:grpSpPr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16240" y="2577960"/>
                <a:ext cx="416160" cy="31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9840" y="269568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 flipV="1">
                <a:off x="5422680" y="2819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392440" y="2365200"/>
              <a:ext cx="69480" cy="213480"/>
              <a:chOff x="5392440" y="2365200"/>
              <a:chExt cx="69480" cy="213480"/>
            </a:xfrm>
          </p:grpSpPr>
          <p:sp>
            <p:nvSpPr>
              <p:cNvPr id="319" name=""/>
              <p:cNvSpPr/>
              <p:nvPr/>
            </p:nvSpPr>
            <p:spPr>
              <a:xfrm>
                <a:off x="5392440" y="236520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94960" y="2441880"/>
                <a:ext cx="64080" cy="597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97840" y="2518920"/>
                <a:ext cx="64080" cy="597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862600" y="2868480"/>
              <a:ext cx="209520" cy="394560"/>
              <a:chOff x="5862600" y="2868480"/>
              <a:chExt cx="209520" cy="394560"/>
            </a:xfrm>
          </p:grpSpPr>
          <p:sp>
            <p:nvSpPr>
              <p:cNvPr id="323" name=""/>
              <p:cNvSpPr/>
              <p:nvPr/>
            </p:nvSpPr>
            <p:spPr>
              <a:xfrm>
                <a:off x="5862600" y="3171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68800" y="2871000"/>
                <a:ext cx="9612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3680" y="2957040"/>
                <a:ext cx="13248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2600" y="28684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2120" y="287460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996160" y="317196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80600" y="299700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93200" y="3049920"/>
                <a:ext cx="6660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099120" y="3022560"/>
              <a:ext cx="233280" cy="80280"/>
              <a:chOff x="6099120" y="3022560"/>
              <a:chExt cx="233280" cy="80280"/>
            </a:xfrm>
          </p:grpSpPr>
          <p:sp>
            <p:nvSpPr>
              <p:cNvPr id="332" name=""/>
              <p:cNvSpPr/>
              <p:nvPr/>
            </p:nvSpPr>
            <p:spPr>
              <a:xfrm rot="16200000">
                <a:off x="6094800" y="303300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200000">
                <a:off x="6178680" y="303012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200000">
                <a:off x="6262560" y="302688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5999040" y="2776320"/>
              <a:ext cx="495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02280" y="2773080"/>
              <a:ext cx="144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97280" y="2771640"/>
              <a:ext cx="180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98800" y="2236680"/>
              <a:ext cx="289080" cy="26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711760" y="2521800"/>
              <a:ext cx="2761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238800" y="2607840"/>
              <a:ext cx="14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6357600" y="2846160"/>
              <a:ext cx="209520" cy="394560"/>
              <a:chOff x="6357600" y="2846160"/>
              <a:chExt cx="209520" cy="394560"/>
            </a:xfrm>
          </p:grpSpPr>
          <p:sp>
            <p:nvSpPr>
              <p:cNvPr id="342" name=""/>
              <p:cNvSpPr/>
              <p:nvPr/>
            </p:nvSpPr>
            <p:spPr>
              <a:xfrm>
                <a:off x="6357600" y="314964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463800" y="2848680"/>
                <a:ext cx="9612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358680" y="2934720"/>
                <a:ext cx="13248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57600" y="28461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67120" y="285228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6491160" y="314964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75600" y="297468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388200" y="3027600"/>
                <a:ext cx="6660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400360" y="3465360"/>
              <a:ext cx="479160" cy="924840"/>
              <a:chOff x="5400360" y="3465360"/>
              <a:chExt cx="479160" cy="924840"/>
            </a:xfrm>
          </p:grpSpPr>
          <p:pic>
            <p:nvPicPr>
              <p:cNvPr id="35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0360" y="34653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flipV="1">
                <a:off x="5807160" y="37119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0360" y="405972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 flipV="1">
                <a:off x="5807160" y="430992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5525640" y="3806280"/>
                <a:ext cx="70560" cy="222120"/>
                <a:chOff x="5525640" y="3806280"/>
                <a:chExt cx="70560" cy="222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525640" y="380628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28160" y="3886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531040" y="396612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5874120" y="3709080"/>
                <a:ext cx="0" cy="59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0" name="" descr=""/>
            <p:cNvPicPr/>
            <p:nvPr/>
          </p:nvPicPr>
          <p:blipFill>
            <a:blip r:embed="rId7"/>
            <a:stretch/>
          </p:blipFill>
          <p:spPr>
            <a:xfrm>
              <a:off x="6268680" y="4474800"/>
              <a:ext cx="4176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8"/>
            <a:stretch/>
          </p:blipFill>
          <p:spPr>
            <a:xfrm>
              <a:off x="5654520" y="4464000"/>
              <a:ext cx="415800" cy="3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 rot="16200000">
              <a:off x="6071400" y="4567320"/>
              <a:ext cx="6300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6156000" y="4565160"/>
              <a:ext cx="63360" cy="66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6234120" y="4569480"/>
              <a:ext cx="6156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522840" y="4420440"/>
              <a:ext cx="144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898960" y="4409640"/>
              <a:ext cx="0" cy="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900400" y="44161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879880" y="4041360"/>
              <a:ext cx="93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81440" y="4087440"/>
              <a:ext cx="3034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277040" y="4084560"/>
              <a:ext cx="279360" cy="3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9"/>
            <a:stretch/>
          </p:blipFill>
          <p:spPr>
            <a:xfrm>
              <a:off x="7454880" y="3636720"/>
              <a:ext cx="2030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0"/>
            <a:stretch/>
          </p:blipFill>
          <p:spPr>
            <a:xfrm>
              <a:off x="6118200" y="3717720"/>
              <a:ext cx="20304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6198840" y="3492360"/>
              <a:ext cx="135432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6465600" y="4914720"/>
              <a:ext cx="406080" cy="426240"/>
              <a:chOff x="6465600" y="4914720"/>
              <a:chExt cx="406080" cy="426240"/>
            </a:xfrm>
          </p:grpSpPr>
          <p:pic>
            <p:nvPicPr>
              <p:cNvPr id="37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65600" y="491472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5360" y="502632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7" name=""/>
            <p:cNvGrpSpPr/>
            <p:nvPr/>
          </p:nvGrpSpPr>
          <p:grpSpPr>
            <a:xfrm>
              <a:off x="7243560" y="4946400"/>
              <a:ext cx="406080" cy="426240"/>
              <a:chOff x="7243560" y="4946400"/>
              <a:chExt cx="406080" cy="426240"/>
            </a:xfrm>
          </p:grpSpPr>
          <p:pic>
            <p:nvPicPr>
              <p:cNvPr id="37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43560" y="494640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03320" y="505800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0" name=""/>
            <p:cNvGrpSpPr/>
            <p:nvPr/>
          </p:nvGrpSpPr>
          <p:grpSpPr>
            <a:xfrm>
              <a:off x="6829200" y="4662360"/>
              <a:ext cx="379440" cy="375840"/>
              <a:chOff x="6829200" y="4662360"/>
              <a:chExt cx="379440" cy="375840"/>
            </a:xfrm>
          </p:grpSpPr>
          <p:pic>
            <p:nvPicPr>
              <p:cNvPr id="38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29200" y="4662360"/>
                <a:ext cx="379440" cy="37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6939360" y="4794120"/>
                <a:ext cx="267480" cy="243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135560" y="456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856280" y="3989160"/>
              <a:ext cx="208080" cy="408960"/>
              <a:chOff x="7856280" y="3989160"/>
              <a:chExt cx="208080" cy="408960"/>
            </a:xfrm>
          </p:grpSpPr>
          <p:sp>
            <p:nvSpPr>
              <p:cNvPr id="385" name=""/>
              <p:cNvSpPr/>
              <p:nvPr/>
            </p:nvSpPr>
            <p:spPr>
              <a:xfrm>
                <a:off x="7856280" y="43038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961400" y="39916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857360" y="40809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856280" y="39891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064360" y="39956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989120" y="43038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3920" y="41223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886520" y="41770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843680" y="4433760"/>
              <a:ext cx="208080" cy="408600"/>
              <a:chOff x="7843680" y="4433760"/>
              <a:chExt cx="208080" cy="408600"/>
            </a:xfrm>
          </p:grpSpPr>
          <p:sp>
            <p:nvSpPr>
              <p:cNvPr id="394" name=""/>
              <p:cNvSpPr/>
              <p:nvPr/>
            </p:nvSpPr>
            <p:spPr>
              <a:xfrm>
                <a:off x="7843680" y="474804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948800" y="4436280"/>
                <a:ext cx="95400" cy="313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844760" y="4525560"/>
                <a:ext cx="131760" cy="314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843680" y="44337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51760" y="44402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976520" y="47480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861320" y="45669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73920" y="46213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V="1">
              <a:off x="7775280" y="4057560"/>
              <a:ext cx="0" cy="61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72040" y="46670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69160" y="41907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492600" y="2287440"/>
              <a:ext cx="459000" cy="20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27880" y="2271600"/>
              <a:ext cx="485640" cy="20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947000" y="2608200"/>
              <a:ext cx="241200" cy="68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76960" y="238428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02160" y="3031920"/>
              <a:ext cx="53496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662240" y="3497040"/>
              <a:ext cx="266760" cy="36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435800" y="2576160"/>
              <a:ext cx="560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444800" y="2016000"/>
              <a:ext cx="35100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162640" y="2192040"/>
              <a:ext cx="20160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973480" y="2384280"/>
              <a:ext cx="501840" cy="232560"/>
              <a:chOff x="5973480" y="2384280"/>
              <a:chExt cx="501840" cy="232560"/>
            </a:xfrm>
          </p:grpSpPr>
          <p:sp>
            <p:nvSpPr>
              <p:cNvPr id="415" name=""/>
              <p:cNvSpPr/>
              <p:nvPr/>
            </p:nvSpPr>
            <p:spPr>
              <a:xfrm>
                <a:off x="5977440" y="24879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977440" y="2477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75320" y="2477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77440" y="24771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73480" y="23842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6093000" y="2417040"/>
                <a:ext cx="246240" cy="88200"/>
                <a:chOff x="6093000" y="2417040"/>
                <a:chExt cx="246240" cy="8820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6093000" y="241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261840" y="2505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174000" y="2419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093000" y="2415960"/>
                <a:ext cx="246240" cy="88200"/>
                <a:chOff x="6093000" y="2415960"/>
                <a:chExt cx="246240" cy="882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93000" y="2502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261840" y="2415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6174000" y="2415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8" name=""/>
            <p:cNvGrpSpPr/>
            <p:nvPr/>
          </p:nvGrpSpPr>
          <p:grpSpPr>
            <a:xfrm>
              <a:off x="6926040" y="2155680"/>
              <a:ext cx="501840" cy="232560"/>
              <a:chOff x="6926040" y="2155680"/>
              <a:chExt cx="501840" cy="232560"/>
            </a:xfrm>
          </p:grpSpPr>
          <p:sp>
            <p:nvSpPr>
              <p:cNvPr id="429" name=""/>
              <p:cNvSpPr/>
              <p:nvPr/>
            </p:nvSpPr>
            <p:spPr>
              <a:xfrm>
                <a:off x="6930000" y="22593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30000" y="224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7880" y="224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930000" y="22485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26040" y="2155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7045560" y="2188440"/>
                <a:ext cx="246240" cy="88200"/>
                <a:chOff x="7045560" y="2188440"/>
                <a:chExt cx="246240" cy="8820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7045560" y="218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214400" y="227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126560" y="219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045560" y="2187360"/>
                <a:ext cx="246240" cy="88200"/>
                <a:chOff x="7045560" y="2187360"/>
                <a:chExt cx="246240" cy="882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045560" y="2273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214400" y="2187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7126560" y="2187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6943680" y="2812680"/>
              <a:ext cx="501480" cy="232920"/>
              <a:chOff x="6943680" y="2812680"/>
              <a:chExt cx="501480" cy="232920"/>
            </a:xfrm>
          </p:grpSpPr>
          <p:sp>
            <p:nvSpPr>
              <p:cNvPr id="443" name=""/>
              <p:cNvSpPr/>
              <p:nvPr/>
            </p:nvSpPr>
            <p:spPr>
              <a:xfrm>
                <a:off x="69476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9476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451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476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436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7063200" y="2845440"/>
                <a:ext cx="246240" cy="88200"/>
                <a:chOff x="7063200" y="2845440"/>
                <a:chExt cx="246240" cy="88200"/>
              </a:xfrm>
            </p:grpSpPr>
            <p:sp>
              <p:nvSpPr>
                <p:cNvPr id="449" name=""/>
                <p:cNvSpPr/>
                <p:nvPr/>
              </p:nvSpPr>
              <p:spPr>
                <a:xfrm flipV="1">
                  <a:off x="70632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2320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1442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7063200" y="2844720"/>
                <a:ext cx="246240" cy="88200"/>
                <a:chOff x="7063200" y="2844720"/>
                <a:chExt cx="246240" cy="882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0632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2320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71442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6" name=""/>
            <p:cNvGrpSpPr/>
            <p:nvPr/>
          </p:nvGrpSpPr>
          <p:grpSpPr>
            <a:xfrm>
              <a:off x="7913520" y="2363400"/>
              <a:ext cx="500040" cy="232920"/>
              <a:chOff x="7913520" y="2363400"/>
              <a:chExt cx="500040" cy="232920"/>
            </a:xfrm>
          </p:grpSpPr>
          <p:sp>
            <p:nvSpPr>
              <p:cNvPr id="457" name=""/>
              <p:cNvSpPr/>
              <p:nvPr/>
            </p:nvSpPr>
            <p:spPr>
              <a:xfrm>
                <a:off x="7917480" y="246744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917480" y="245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13560" y="245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17480" y="245628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913520" y="236340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8032680" y="2396160"/>
                <a:ext cx="245520" cy="88200"/>
                <a:chOff x="8032680" y="2396160"/>
                <a:chExt cx="245520" cy="88200"/>
              </a:xfrm>
            </p:grpSpPr>
            <p:sp>
              <p:nvSpPr>
                <p:cNvPr id="463" name=""/>
                <p:cNvSpPr/>
                <p:nvPr/>
              </p:nvSpPr>
              <p:spPr>
                <a:xfrm flipV="1">
                  <a:off x="8032680" y="23961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201160" y="2484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13320" y="2398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8032680" y="2395440"/>
                <a:ext cx="245520" cy="88200"/>
                <a:chOff x="8032680" y="2395440"/>
                <a:chExt cx="245520" cy="882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032680" y="24818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01160" y="2395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8113320" y="239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7719840" y="3260520"/>
              <a:ext cx="501480" cy="232560"/>
              <a:chOff x="7719840" y="3260520"/>
              <a:chExt cx="501480" cy="232560"/>
            </a:xfrm>
          </p:grpSpPr>
          <p:sp>
            <p:nvSpPr>
              <p:cNvPr id="471" name=""/>
              <p:cNvSpPr/>
              <p:nvPr/>
            </p:nvSpPr>
            <p:spPr>
              <a:xfrm>
                <a:off x="7723800" y="33642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723800" y="33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21320" y="33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723800" y="33534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19840" y="32605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7839360" y="3293280"/>
                <a:ext cx="246240" cy="88200"/>
                <a:chOff x="7839360" y="3293280"/>
                <a:chExt cx="246240" cy="88200"/>
              </a:xfrm>
            </p:grpSpPr>
            <p:sp>
              <p:nvSpPr>
                <p:cNvPr id="477" name=""/>
                <p:cNvSpPr/>
                <p:nvPr/>
              </p:nvSpPr>
              <p:spPr>
                <a:xfrm flipV="1">
                  <a:off x="7839360" y="3293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008200" y="3381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20360" y="32954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7839360" y="3292200"/>
                <a:ext cx="246240" cy="88200"/>
                <a:chOff x="7839360" y="3292200"/>
                <a:chExt cx="246240" cy="88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7839360" y="3378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008200" y="3292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7920360" y="3292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4" name=""/>
            <p:cNvGrpSpPr/>
            <p:nvPr/>
          </p:nvGrpSpPr>
          <p:grpSpPr>
            <a:xfrm>
              <a:off x="7386480" y="3844800"/>
              <a:ext cx="501480" cy="234000"/>
              <a:chOff x="7386480" y="3844800"/>
              <a:chExt cx="501480" cy="234000"/>
            </a:xfrm>
          </p:grpSpPr>
          <p:sp>
            <p:nvSpPr>
              <p:cNvPr id="485" name=""/>
              <p:cNvSpPr/>
              <p:nvPr/>
            </p:nvSpPr>
            <p:spPr>
              <a:xfrm>
                <a:off x="7390440" y="3949200"/>
                <a:ext cx="497160" cy="129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90440" y="39384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87960" y="39384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90440" y="3938400"/>
                <a:ext cx="492840" cy="79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386480" y="3844800"/>
                <a:ext cx="496800" cy="151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7506000" y="3877560"/>
                <a:ext cx="246240" cy="88560"/>
                <a:chOff x="7506000" y="3877560"/>
                <a:chExt cx="246240" cy="88560"/>
              </a:xfrm>
            </p:grpSpPr>
            <p:sp>
              <p:nvSpPr>
                <p:cNvPr id="491" name=""/>
                <p:cNvSpPr/>
                <p:nvPr/>
              </p:nvSpPr>
              <p:spPr>
                <a:xfrm flipV="1">
                  <a:off x="7506000" y="3877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674840" y="3966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587000" y="387972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506000" y="3876480"/>
                <a:ext cx="246240" cy="88560"/>
                <a:chOff x="7506000" y="3876480"/>
                <a:chExt cx="246240" cy="885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506000" y="3963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674840" y="387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7587000" y="38764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6777000" y="4333680"/>
              <a:ext cx="500040" cy="232560"/>
              <a:chOff x="6777000" y="4333680"/>
              <a:chExt cx="500040" cy="232560"/>
            </a:xfrm>
          </p:grpSpPr>
          <p:sp>
            <p:nvSpPr>
              <p:cNvPr id="499" name=""/>
              <p:cNvSpPr/>
              <p:nvPr/>
            </p:nvSpPr>
            <p:spPr>
              <a:xfrm>
                <a:off x="6780960" y="443736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780960" y="4426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77040" y="4426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80960" y="442656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77000" y="433368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6896160" y="4366440"/>
                <a:ext cx="245520" cy="88200"/>
                <a:chOff x="6896160" y="4366440"/>
                <a:chExt cx="245520" cy="88200"/>
              </a:xfrm>
            </p:grpSpPr>
            <p:sp>
              <p:nvSpPr>
                <p:cNvPr id="505" name=""/>
                <p:cNvSpPr/>
                <p:nvPr/>
              </p:nvSpPr>
              <p:spPr>
                <a:xfrm flipV="1">
                  <a:off x="6896160" y="43664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064640" y="44546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976800" y="43686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896160" y="4365360"/>
                <a:ext cx="245520" cy="88200"/>
                <a:chOff x="6896160" y="4365360"/>
                <a:chExt cx="245520" cy="882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896160" y="44517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064640" y="4365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976800" y="4365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2" name=""/>
            <p:cNvGrpSpPr/>
            <p:nvPr/>
          </p:nvGrpSpPr>
          <p:grpSpPr>
            <a:xfrm>
              <a:off x="5973480" y="3957480"/>
              <a:ext cx="501840" cy="232560"/>
              <a:chOff x="5973480" y="3957480"/>
              <a:chExt cx="501840" cy="232560"/>
            </a:xfrm>
          </p:grpSpPr>
          <p:sp>
            <p:nvSpPr>
              <p:cNvPr id="513" name=""/>
              <p:cNvSpPr/>
              <p:nvPr/>
            </p:nvSpPr>
            <p:spPr>
              <a:xfrm>
                <a:off x="5977440" y="40611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77440" y="405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475320" y="405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977440" y="40503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73480" y="39574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6093000" y="3990240"/>
                <a:ext cx="246240" cy="88200"/>
                <a:chOff x="6093000" y="3990240"/>
                <a:chExt cx="246240" cy="88200"/>
              </a:xfrm>
            </p:grpSpPr>
            <p:sp>
              <p:nvSpPr>
                <p:cNvPr id="519" name=""/>
                <p:cNvSpPr/>
                <p:nvPr/>
              </p:nvSpPr>
              <p:spPr>
                <a:xfrm flipV="1">
                  <a:off x="6093000" y="3990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261840" y="4078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174000" y="3992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093000" y="3989160"/>
                <a:ext cx="246240" cy="88200"/>
                <a:chOff x="6093000" y="3989160"/>
                <a:chExt cx="246240" cy="882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093000" y="4075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261840" y="3989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6174000" y="3989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 flipV="1">
              <a:off x="6229080" y="4169880"/>
              <a:ext cx="180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710240" y="1500120"/>
            <a:ext cx="3818880" cy="3727440"/>
            <a:chOff x="4710240" y="1500120"/>
            <a:chExt cx="3818880" cy="3727440"/>
          </a:xfrm>
        </p:grpSpPr>
        <p:grpSp>
          <p:nvGrpSpPr>
            <p:cNvPr id="528" name=""/>
            <p:cNvGrpSpPr/>
            <p:nvPr/>
          </p:nvGrpSpPr>
          <p:grpSpPr>
            <a:xfrm>
              <a:off x="4710240" y="1500120"/>
              <a:ext cx="844200" cy="860400"/>
              <a:chOff x="4710240" y="1500120"/>
              <a:chExt cx="844200" cy="860400"/>
            </a:xfrm>
          </p:grpSpPr>
          <p:sp>
            <p:nvSpPr>
              <p:cNvPr id="529" name=""/>
              <p:cNvSpPr/>
              <p:nvPr/>
            </p:nvSpPr>
            <p:spPr>
              <a:xfrm>
                <a:off x="4812120" y="1500120"/>
                <a:ext cx="70128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77560" y="1524240"/>
                <a:ext cx="71604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82600" y="1528920"/>
                <a:ext cx="70092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10240" y="1505160"/>
                <a:ext cx="8442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77560" y="1866960"/>
                <a:ext cx="716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87280" y="2005200"/>
                <a:ext cx="7160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787280" y="2143080"/>
                <a:ext cx="7160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7634160" y="4367160"/>
              <a:ext cx="894960" cy="860400"/>
              <a:chOff x="7634160" y="4367160"/>
              <a:chExt cx="894960" cy="860400"/>
            </a:xfrm>
          </p:grpSpPr>
          <p:sp>
            <p:nvSpPr>
              <p:cNvPr id="537" name=""/>
              <p:cNvSpPr/>
              <p:nvPr/>
            </p:nvSpPr>
            <p:spPr>
              <a:xfrm>
                <a:off x="7742160" y="4367160"/>
                <a:ext cx="74340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705440" y="4391280"/>
                <a:ext cx="7588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710840" y="4395960"/>
                <a:ext cx="74304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634160" y="4372200"/>
                <a:ext cx="89496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05440" y="4734000"/>
                <a:ext cx="758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715880" y="4872240"/>
                <a:ext cx="7588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15880" y="5010120"/>
                <a:ext cx="7588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571680" y="2095560"/>
            <a:ext cx="4295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 contato com o servidor (“fala primeir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icamente solicita serviço do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WWW, cliente implementado no browser; para correio no leitor de mens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rvi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vê ao cliente o serviço requisi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ex., servidor WWW envia página solicitada; servidor de correio entrega mens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5495760" y="1724040"/>
            <a:ext cx="2219400" cy="2743200"/>
            <a:chOff x="5495760" y="1724040"/>
            <a:chExt cx="2219400" cy="2743200"/>
          </a:xfrm>
        </p:grpSpPr>
        <p:sp>
          <p:nvSpPr>
            <p:cNvPr id="546" name=""/>
            <p:cNvSpPr/>
            <p:nvPr/>
          </p:nvSpPr>
          <p:spPr>
            <a:xfrm>
              <a:off x="5495760" y="1724040"/>
              <a:ext cx="2219400" cy="274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5516640" y="2351160"/>
              <a:ext cx="1014480" cy="398880"/>
              <a:chOff x="5516640" y="2351160"/>
              <a:chExt cx="1014480" cy="398880"/>
            </a:xfrm>
          </p:grpSpPr>
          <p:sp>
            <p:nvSpPr>
              <p:cNvPr id="548" name=""/>
              <p:cNvSpPr/>
              <p:nvPr/>
            </p:nvSpPr>
            <p:spPr>
              <a:xfrm>
                <a:off x="5562360" y="2438280"/>
                <a:ext cx="94320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516640" y="2351160"/>
                <a:ext cx="101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edi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0" name=""/>
          <p:cNvGrpSpPr/>
          <p:nvPr/>
        </p:nvGrpSpPr>
        <p:grpSpPr>
          <a:xfrm>
            <a:off x="5572080" y="1609560"/>
            <a:ext cx="3041280" cy="2743200"/>
            <a:chOff x="5572080" y="1609560"/>
            <a:chExt cx="3041280" cy="2743200"/>
          </a:xfrm>
        </p:grpSpPr>
        <p:sp>
          <p:nvSpPr>
            <p:cNvPr id="551" name=""/>
            <p:cNvSpPr/>
            <p:nvPr/>
          </p:nvSpPr>
          <p:spPr>
            <a:xfrm>
              <a:off x="5572080" y="1609560"/>
              <a:ext cx="2286000" cy="274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394760" y="3789360"/>
              <a:ext cx="1218600" cy="398880"/>
              <a:chOff x="7394760" y="3789360"/>
              <a:chExt cx="1218600" cy="398880"/>
            </a:xfrm>
          </p:grpSpPr>
          <p:sp>
            <p:nvSpPr>
              <p:cNvPr id="553" name=""/>
              <p:cNvSpPr/>
              <p:nvPr/>
            </p:nvSpPr>
            <p:spPr>
              <a:xfrm>
                <a:off x="7543800" y="3876480"/>
                <a:ext cx="94320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94760" y="378936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respos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577-76B2-44DE-BBFB-F2849E842D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icação entre processos através da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7160" y="1563840"/>
            <a:ext cx="420192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processos enviam/ recebem mensagens para/ dos seus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Um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análogo a uma po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cesso transmissor envia a mensagem através da p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 processo transmissor assume a existência da infra-estrutura de transporte no outro lado da porta que faz com que a mensagem chegue a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socket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processo recep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5931000" y="3522600"/>
            <a:ext cx="1807920" cy="1031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692600" y="1492200"/>
            <a:ext cx="1062000" cy="3606840"/>
            <a:chOff x="4692600" y="1492200"/>
            <a:chExt cx="1062000" cy="3606840"/>
          </a:xfrm>
        </p:grpSpPr>
        <p:sp>
          <p:nvSpPr>
            <p:cNvPr id="559" name=""/>
            <p:cNvSpPr/>
            <p:nvPr/>
          </p:nvSpPr>
          <p:spPr>
            <a:xfrm>
              <a:off x="5371920" y="4641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1"/>
            <a:stretch/>
          </p:blipFill>
          <p:spPr>
            <a:xfrm>
              <a:off x="4860720" y="2095560"/>
              <a:ext cx="64296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"/>
            <p:cNvGrpSpPr/>
            <p:nvPr/>
          </p:nvGrpSpPr>
          <p:grpSpPr>
            <a:xfrm>
              <a:off x="4692600" y="2614680"/>
              <a:ext cx="1062000" cy="560160"/>
              <a:chOff x="4692600" y="2614680"/>
              <a:chExt cx="1062000" cy="560160"/>
            </a:xfrm>
          </p:grpSpPr>
          <p:sp>
            <p:nvSpPr>
              <p:cNvPr id="562" name=""/>
              <p:cNvSpPr/>
              <p:nvPr/>
            </p:nvSpPr>
            <p:spPr>
              <a:xfrm>
                <a:off x="4692600" y="2614680"/>
                <a:ext cx="1062000" cy="56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13920" y="2725920"/>
                <a:ext cx="89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proces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720320" y="3443400"/>
              <a:ext cx="957960" cy="1000080"/>
              <a:chOff x="4720320" y="3443400"/>
              <a:chExt cx="957960" cy="1000080"/>
            </a:xfrm>
          </p:grpSpPr>
          <p:sp>
            <p:nvSpPr>
              <p:cNvPr id="565" name=""/>
              <p:cNvSpPr/>
              <p:nvPr/>
            </p:nvSpPr>
            <p:spPr>
              <a:xfrm>
                <a:off x="4736880" y="3443400"/>
                <a:ext cx="941400" cy="1000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720320" y="3505320"/>
                <a:ext cx="951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TCP c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buffers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variáve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4884480" y="3140280"/>
              <a:ext cx="658800" cy="328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213160" y="299232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25760" y="34084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46320" y="1492200"/>
              <a:ext cx="84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host 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850160" y="1471680"/>
            <a:ext cx="1062000" cy="3606840"/>
            <a:chOff x="7850160" y="1471680"/>
            <a:chExt cx="1062000" cy="3606840"/>
          </a:xfrm>
        </p:grpSpPr>
        <p:sp>
          <p:nvSpPr>
            <p:cNvPr id="572" name=""/>
            <p:cNvSpPr/>
            <p:nvPr/>
          </p:nvSpPr>
          <p:spPr>
            <a:xfrm>
              <a:off x="8529480" y="4621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8018280" y="2075040"/>
              <a:ext cx="64296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7850160" y="2594160"/>
              <a:ext cx="1062000" cy="560160"/>
              <a:chOff x="7850160" y="2594160"/>
              <a:chExt cx="1062000" cy="560160"/>
            </a:xfrm>
          </p:grpSpPr>
          <p:sp>
            <p:nvSpPr>
              <p:cNvPr id="575" name=""/>
              <p:cNvSpPr/>
              <p:nvPr/>
            </p:nvSpPr>
            <p:spPr>
              <a:xfrm>
                <a:off x="7850160" y="2594160"/>
                <a:ext cx="1062000" cy="56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971480" y="2705400"/>
                <a:ext cx="89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process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7877880" y="3422880"/>
              <a:ext cx="957960" cy="1000080"/>
              <a:chOff x="7877880" y="3422880"/>
              <a:chExt cx="957960" cy="1000080"/>
            </a:xfrm>
          </p:grpSpPr>
          <p:sp>
            <p:nvSpPr>
              <p:cNvPr id="578" name=""/>
              <p:cNvSpPr/>
              <p:nvPr/>
            </p:nvSpPr>
            <p:spPr>
              <a:xfrm>
                <a:off x="7894440" y="3422880"/>
                <a:ext cx="941400" cy="1000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77880" y="3484800"/>
                <a:ext cx="951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TCP c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buffers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variáve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8042040" y="3119760"/>
              <a:ext cx="658800" cy="328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370720" y="297180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83320" y="338796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03880" y="1471680"/>
              <a:ext cx="84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host 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399720" y="36543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89440" y="4065480"/>
            <a:ext cx="221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22040" y="4667400"/>
            <a:ext cx="105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pelo 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470200" y="4444920"/>
            <a:ext cx="244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09040" y="2306520"/>
            <a:ext cx="16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 p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desenvolvedor 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678640" y="2589120"/>
            <a:ext cx="21888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0680" y="5405400"/>
            <a:ext cx="83041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I: (1) escolha do protocolo de transporte; (2) habilidade para fixar alguns parâmetros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(mais sobre isto posteriorm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F06-D221-4816-8D40-DEDCD6544D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ndo os processos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62040" y="1233360"/>
            <a:ext cx="392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que um processo receba mensagens ele deve possuir um identific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ssui um endereço IP único de 32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 endereço IP d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 qual o processo está sendo executado é suficiente para identificar o process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spos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, muitos processos podem estar executando no mesm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19600" y="1245960"/>
            <a:ext cx="3835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identificador inclui tanto o endereço IP quanto os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úmeros das porta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ociadas com o processo n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hos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 de números de port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HTTP: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 Correio: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ais sobre isto posterior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3C5-D3D1-46D9-BF50-3576CA73F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que serviço de transporte uma aplicação precis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75920" y="1390320"/>
            <a:ext cx="38862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rda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umas apls (p.ex. áudio) podem tolerar algumas per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tras (p.ex., transf. de arquivos, telnet) requerem transferência 100% confi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42800" y="4225680"/>
            <a:ext cx="38102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emp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umas apls (p.ex., telefonia Internet, jogos interativos) requerem baixo retardo para serem “viávei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0" y="1438200"/>
            <a:ext cx="38862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Largura de b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umas apls (p.ex., multimídia) requerem quantia mínima de banda para serem “viáve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tras apls (“apls elásticas”) conseguem usar qq quantia de banda disponí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616-8215-4428-AC76-29449F6908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Fernando Andrade M. de Araújo</cp:lastModifiedBy>
  <dcterms:modified xsi:type="dcterms:W3CDTF">2004-05-17T23:58:11Z</dcterms:modified>
  <cp:revision>112</cp:revision>
  <dc:subject/>
  <dc:title>Part I: Introduction</dc:title>
</cp:coreProperties>
</file>