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0.jpeg" ContentType="image/jpeg"/>
  <Override PartName="/ppt/media/image8.jpeg" ContentType="image/jpe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9.jpeg" ContentType="image/jpeg"/>
  <Override PartName="/ppt/media/image1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39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81080" y="704520"/>
            <a:ext cx="4697280" cy="352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move the slid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462560"/>
            <a:ext cx="502920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922960"/>
            <a:ext cx="29718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922960"/>
            <a:ext cx="29718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FFCB-FAB6-4C12-AA42-CA19910D6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PlaceHolder 1"/>
          <p:cNvSpPr>
            <a:spLocks noGrp="1"/>
          </p:cNvSpPr>
          <p:nvPr>
            <p:ph type="sldImg"/>
          </p:nvPr>
        </p:nvSpPr>
        <p:spPr>
          <a:xfrm>
            <a:off x="1082520" y="704880"/>
            <a:ext cx="4694400" cy="3522600"/>
          </a:xfrm>
          <a:prstGeom prst="rect">
            <a:avLst/>
          </a:prstGeom>
          <a:ln w="0">
            <a:noFill/>
          </a:ln>
        </p:spPr>
      </p:sp>
      <p:sp>
        <p:nvSpPr>
          <p:cNvPr id="3327" name="PlaceHolder 2"/>
          <p:cNvSpPr>
            <a:spLocks noGrp="1"/>
          </p:cNvSpPr>
          <p:nvPr>
            <p:ph type="body"/>
          </p:nvPr>
        </p:nvSpPr>
        <p:spPr>
          <a:xfrm>
            <a:off x="914400" y="4462560"/>
            <a:ext cx="502920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imple multiple access control techniq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mobile’s share of the bandwidth is divided into portions for the uplink and the downlink. Also, possibly, out of band signa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we will see, used in AMPS, GSM, IS-54/1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2A5B-7536-432D-890C-BDC23F676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30AD-4606-4DBF-A07E-FA274B62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1E78-D70C-41E4-9CDD-5DC9710D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CFD4-E2BB-420B-8A8E-CABABF010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04BE-14DE-48F9-97D0-553BC05C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5797-5EBD-40C8-8314-1108D746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11B8-C356-4699-BC6B-E6BF5337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6251-8620-485C-BB20-62CC2C7B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5BDC-F6C6-487B-ABDA-9652204D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3FBB-4FBC-4C8E-BE05-4B8B4CB4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5C32-9D6A-4728-94CA-7F7E8299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366D-4407-4E69-A10E-1A08974D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: Visão G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9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E80E-FDE6-4008-8A4E-AE176EE00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4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1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.wmf"/><Relationship Id="rId10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image" Target="../media/image1.wmf"/><Relationship Id="rId17" Type="http://schemas.openxmlformats.org/officeDocument/2006/relationships/image" Target="../media/image4.wmf"/><Relationship Id="rId18" Type="http://schemas.openxmlformats.org/officeDocument/2006/relationships/image" Target="../media/image5.wmf"/><Relationship Id="rId19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image" Target="../media/image1.wmf"/><Relationship Id="rId17" Type="http://schemas.openxmlformats.org/officeDocument/2006/relationships/image" Target="../media/image4.wmf"/><Relationship Id="rId18" Type="http://schemas.openxmlformats.org/officeDocument/2006/relationships/image" Target="../media/image5.wmf"/><Relationship Id="rId19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Redes de Computadores</a:t>
            </a:r>
            <a:br>
              <a:rPr sz="4000"/>
            </a:b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Visão Ger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9EF8-0C32-4DAE-8EC8-CD16FCF83E6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O Núcleo da Red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533160" y="133812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lha de roteadores interconect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a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 pergunta fundamental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mo os dados são transferidos através da red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omutação de circuitos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ircuito dedicado por chamada: rede telefônic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omutação de pacotes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os dados são enviados através da rede em pedaços discret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770520" y="2193840"/>
            <a:ext cx="179712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890960" y="2050920"/>
            <a:ext cx="186552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257800" y="350208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5006880" y="2185920"/>
            <a:ext cx="733680" cy="319320"/>
            <a:chOff x="5006880" y="2185920"/>
            <a:chExt cx="733680" cy="319320"/>
          </a:xfrm>
        </p:grpSpPr>
        <p:pic>
          <p:nvPicPr>
            <p:cNvPr id="1294" name="" descr=""/>
            <p:cNvPicPr/>
            <p:nvPr/>
          </p:nvPicPr>
          <p:blipFill>
            <a:blip r:embed="rId1"/>
            <a:stretch/>
          </p:blipFill>
          <p:spPr>
            <a:xfrm>
              <a:off x="5006880" y="2185920"/>
              <a:ext cx="41616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5" name="" descr=""/>
            <p:cNvPicPr/>
            <p:nvPr/>
          </p:nvPicPr>
          <p:blipFill>
            <a:blip r:embed="rId2"/>
            <a:stretch/>
          </p:blipFill>
          <p:spPr>
            <a:xfrm>
              <a:off x="5460840" y="2304000"/>
              <a:ext cx="27972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6" name=""/>
            <p:cNvSpPr/>
            <p:nvPr/>
          </p:nvSpPr>
          <p:spPr>
            <a:xfrm flipV="1">
              <a:off x="5413320" y="242748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5006880" y="2781360"/>
            <a:ext cx="733680" cy="318960"/>
            <a:chOff x="5006880" y="2781360"/>
            <a:chExt cx="733680" cy="318960"/>
          </a:xfrm>
        </p:grpSpPr>
        <p:pic>
          <p:nvPicPr>
            <p:cNvPr id="1298" name="" descr=""/>
            <p:cNvPicPr/>
            <p:nvPr/>
          </p:nvPicPr>
          <p:blipFill>
            <a:blip r:embed="rId3"/>
            <a:stretch/>
          </p:blipFill>
          <p:spPr>
            <a:xfrm>
              <a:off x="5006880" y="278136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9" name="" descr=""/>
            <p:cNvPicPr/>
            <p:nvPr/>
          </p:nvPicPr>
          <p:blipFill>
            <a:blip r:embed="rId4"/>
            <a:stretch/>
          </p:blipFill>
          <p:spPr>
            <a:xfrm>
              <a:off x="5460840" y="2899440"/>
              <a:ext cx="27972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0" name=""/>
            <p:cNvSpPr/>
            <p:nvPr/>
          </p:nvSpPr>
          <p:spPr>
            <a:xfrm flipV="1">
              <a:off x="5413320" y="302292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5383080" y="2568600"/>
            <a:ext cx="69480" cy="214200"/>
            <a:chOff x="5383080" y="2568600"/>
            <a:chExt cx="69480" cy="214200"/>
          </a:xfrm>
        </p:grpSpPr>
        <p:sp>
          <p:nvSpPr>
            <p:cNvPr id="1302" name=""/>
            <p:cNvSpPr/>
            <p:nvPr/>
          </p:nvSpPr>
          <p:spPr>
            <a:xfrm>
              <a:off x="5383080" y="256860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385600" y="264564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388480" y="272268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5" name=""/>
          <p:cNvGrpSpPr/>
          <p:nvPr/>
        </p:nvGrpSpPr>
        <p:grpSpPr>
          <a:xfrm>
            <a:off x="5853240" y="3071880"/>
            <a:ext cx="209520" cy="394920"/>
            <a:chOff x="5853240" y="3071880"/>
            <a:chExt cx="209520" cy="394920"/>
          </a:xfrm>
        </p:grpSpPr>
        <p:sp>
          <p:nvSpPr>
            <p:cNvPr id="1306" name=""/>
            <p:cNvSpPr/>
            <p:nvPr/>
          </p:nvSpPr>
          <p:spPr>
            <a:xfrm>
              <a:off x="5853240" y="337572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959440" y="307440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854320" y="316044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853240" y="307188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062760" y="307800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H="1">
              <a:off x="5986800" y="337572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871240" y="320040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883840" y="325332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6089760" y="3226320"/>
            <a:ext cx="233280" cy="80280"/>
            <a:chOff x="6089760" y="3226320"/>
            <a:chExt cx="233280" cy="80280"/>
          </a:xfrm>
        </p:grpSpPr>
        <p:sp>
          <p:nvSpPr>
            <p:cNvPr id="1315" name=""/>
            <p:cNvSpPr/>
            <p:nvPr/>
          </p:nvSpPr>
          <p:spPr>
            <a:xfrm rot="16200000">
              <a:off x="6085440" y="3236760"/>
              <a:ext cx="7416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rot="16200000">
              <a:off x="6169320" y="3233880"/>
              <a:ext cx="7416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rot="16200000">
              <a:off x="6253200" y="3230640"/>
              <a:ext cx="7416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8" name=""/>
          <p:cNvSpPr/>
          <p:nvPr/>
        </p:nvSpPr>
        <p:spPr>
          <a:xfrm>
            <a:off x="5989680" y="2979720"/>
            <a:ext cx="495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992920" y="2976480"/>
            <a:ext cx="144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488280" y="2975040"/>
            <a:ext cx="288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5689440" y="2440080"/>
            <a:ext cx="28908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V="1">
            <a:off x="5703840" y="2725560"/>
            <a:ext cx="274680" cy="33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V="1">
            <a:off x="6230880" y="2811600"/>
            <a:ext cx="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4" name=""/>
          <p:cNvGrpSpPr/>
          <p:nvPr/>
        </p:nvGrpSpPr>
        <p:grpSpPr>
          <a:xfrm>
            <a:off x="6348240" y="3049560"/>
            <a:ext cx="209880" cy="394920"/>
            <a:chOff x="6348240" y="3049560"/>
            <a:chExt cx="209880" cy="394920"/>
          </a:xfrm>
        </p:grpSpPr>
        <p:sp>
          <p:nvSpPr>
            <p:cNvPr id="1325" name=""/>
            <p:cNvSpPr/>
            <p:nvPr/>
          </p:nvSpPr>
          <p:spPr>
            <a:xfrm>
              <a:off x="6348240" y="335340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454440" y="3052080"/>
              <a:ext cx="9648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349320" y="3138120"/>
              <a:ext cx="13284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348240" y="304956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558120" y="30556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6482160" y="335340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66240" y="3178080"/>
              <a:ext cx="8820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378840" y="3231000"/>
              <a:ext cx="6696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3" name=""/>
          <p:cNvGrpSpPr/>
          <p:nvPr/>
        </p:nvGrpSpPr>
        <p:grpSpPr>
          <a:xfrm>
            <a:off x="5392800" y="3668760"/>
            <a:ext cx="477360" cy="925200"/>
            <a:chOff x="5392800" y="3668760"/>
            <a:chExt cx="477360" cy="925200"/>
          </a:xfrm>
        </p:grpSpPr>
        <p:pic>
          <p:nvPicPr>
            <p:cNvPr id="1334" name="" descr=""/>
            <p:cNvPicPr/>
            <p:nvPr/>
          </p:nvPicPr>
          <p:blipFill>
            <a:blip r:embed="rId5"/>
            <a:stretch/>
          </p:blipFill>
          <p:spPr>
            <a:xfrm>
              <a:off x="5392800" y="3668760"/>
              <a:ext cx="41508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5" name=""/>
            <p:cNvSpPr/>
            <p:nvPr/>
          </p:nvSpPr>
          <p:spPr>
            <a:xfrm flipV="1">
              <a:off x="5797800" y="391536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36" name="" descr=""/>
            <p:cNvPicPr/>
            <p:nvPr/>
          </p:nvPicPr>
          <p:blipFill>
            <a:blip r:embed="rId6"/>
            <a:stretch/>
          </p:blipFill>
          <p:spPr>
            <a:xfrm>
              <a:off x="5392800" y="4263480"/>
              <a:ext cx="41508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7" name=""/>
            <p:cNvSpPr/>
            <p:nvPr/>
          </p:nvSpPr>
          <p:spPr>
            <a:xfrm flipV="1">
              <a:off x="5797800" y="451368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8" name=""/>
            <p:cNvGrpSpPr/>
            <p:nvPr/>
          </p:nvGrpSpPr>
          <p:grpSpPr>
            <a:xfrm>
              <a:off x="5517720" y="4010040"/>
              <a:ext cx="70200" cy="222480"/>
              <a:chOff x="5517720" y="4010040"/>
              <a:chExt cx="70200" cy="222480"/>
            </a:xfrm>
          </p:grpSpPr>
          <p:sp>
            <p:nvSpPr>
              <p:cNvPr id="1339" name=""/>
              <p:cNvSpPr/>
              <p:nvPr/>
            </p:nvSpPr>
            <p:spPr>
              <a:xfrm>
                <a:off x="5517720" y="4010040"/>
                <a:ext cx="64800" cy="626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5520240" y="4089960"/>
                <a:ext cx="6480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5523120" y="4170240"/>
                <a:ext cx="6480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2" name=""/>
            <p:cNvSpPr/>
            <p:nvPr/>
          </p:nvSpPr>
          <p:spPr>
            <a:xfrm>
              <a:off x="5864760" y="391248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43" name="" descr=""/>
          <p:cNvPicPr/>
          <p:nvPr/>
        </p:nvPicPr>
        <p:blipFill>
          <a:blip r:embed="rId7"/>
          <a:stretch/>
        </p:blipFill>
        <p:spPr>
          <a:xfrm>
            <a:off x="6269040" y="4678200"/>
            <a:ext cx="398520" cy="331920"/>
          </a:xfrm>
          <a:prstGeom prst="rect">
            <a:avLst/>
          </a:prstGeom>
          <a:ln w="0">
            <a:noFill/>
          </a:ln>
        </p:spPr>
      </p:pic>
      <p:pic>
        <p:nvPicPr>
          <p:cNvPr id="1344" name="" descr=""/>
          <p:cNvPicPr/>
          <p:nvPr/>
        </p:nvPicPr>
        <p:blipFill>
          <a:blip r:embed="rId8"/>
          <a:stretch/>
        </p:blipFill>
        <p:spPr>
          <a:xfrm>
            <a:off x="5654520" y="4667400"/>
            <a:ext cx="397080" cy="330120"/>
          </a:xfrm>
          <a:prstGeom prst="rect">
            <a:avLst/>
          </a:prstGeom>
          <a:ln w="0">
            <a:noFill/>
          </a:ln>
        </p:spPr>
      </p:pic>
      <p:sp>
        <p:nvSpPr>
          <p:cNvPr id="1345" name=""/>
          <p:cNvSpPr/>
          <p:nvPr/>
        </p:nvSpPr>
        <p:spPr>
          <a:xfrm rot="16200000">
            <a:off x="6061680" y="4771080"/>
            <a:ext cx="6336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rot="16200000">
            <a:off x="6146640" y="4768560"/>
            <a:ext cx="63720" cy="66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rot="16200000">
            <a:off x="6224400" y="4773240"/>
            <a:ext cx="619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V="1">
            <a:off x="6513480" y="4624200"/>
            <a:ext cx="3240" cy="6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5889600" y="4613400"/>
            <a:ext cx="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H="1">
            <a:off x="5891040" y="461952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V="1">
            <a:off x="5870520" y="4245120"/>
            <a:ext cx="9360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472080" y="4290840"/>
            <a:ext cx="303480" cy="385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H="1">
            <a:off x="7267680" y="4287960"/>
            <a:ext cx="279360" cy="3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4" name="" descr=""/>
          <p:cNvPicPr/>
          <p:nvPr/>
        </p:nvPicPr>
        <p:blipFill>
          <a:blip r:embed="rId9"/>
          <a:stretch/>
        </p:blipFill>
        <p:spPr>
          <a:xfrm>
            <a:off x="7450200" y="3840120"/>
            <a:ext cx="195120" cy="241200"/>
          </a:xfrm>
          <a:prstGeom prst="rect">
            <a:avLst/>
          </a:prstGeom>
          <a:ln w="0">
            <a:noFill/>
          </a:ln>
        </p:spPr>
      </p:pic>
      <p:pic>
        <p:nvPicPr>
          <p:cNvPr id="1355" name="" descr=""/>
          <p:cNvPicPr/>
          <p:nvPr/>
        </p:nvPicPr>
        <p:blipFill>
          <a:blip r:embed="rId10"/>
          <a:stretch/>
        </p:blipFill>
        <p:spPr>
          <a:xfrm>
            <a:off x="6114960" y="3921120"/>
            <a:ext cx="193680" cy="239760"/>
          </a:xfrm>
          <a:prstGeom prst="rect">
            <a:avLst/>
          </a:prstGeom>
          <a:ln w="0">
            <a:noFill/>
          </a:ln>
        </p:spPr>
      </p:pic>
      <p:sp>
        <p:nvSpPr>
          <p:cNvPr id="1356" name=""/>
          <p:cNvSpPr/>
          <p:nvPr/>
        </p:nvSpPr>
        <p:spPr>
          <a:xfrm>
            <a:off x="6189840" y="3695760"/>
            <a:ext cx="1353960" cy="30492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7" name=""/>
          <p:cNvGrpSpPr/>
          <p:nvPr/>
        </p:nvGrpSpPr>
        <p:grpSpPr>
          <a:xfrm>
            <a:off x="6456240" y="5118120"/>
            <a:ext cx="406080" cy="426960"/>
            <a:chOff x="6456240" y="5118120"/>
            <a:chExt cx="406080" cy="426960"/>
          </a:xfrm>
        </p:grpSpPr>
        <p:pic>
          <p:nvPicPr>
            <p:cNvPr id="1358" name="" descr=""/>
            <p:cNvPicPr/>
            <p:nvPr/>
          </p:nvPicPr>
          <p:blipFill>
            <a:blip r:embed="rId11"/>
            <a:stretch/>
          </p:blipFill>
          <p:spPr>
            <a:xfrm>
              <a:off x="6456240" y="511812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9" name="" descr=""/>
            <p:cNvPicPr/>
            <p:nvPr/>
          </p:nvPicPr>
          <p:blipFill>
            <a:blip r:embed="rId12"/>
            <a:stretch/>
          </p:blipFill>
          <p:spPr>
            <a:xfrm>
              <a:off x="6516000" y="523008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0" name=""/>
          <p:cNvGrpSpPr/>
          <p:nvPr/>
        </p:nvGrpSpPr>
        <p:grpSpPr>
          <a:xfrm>
            <a:off x="7234200" y="5149800"/>
            <a:ext cx="406080" cy="426960"/>
            <a:chOff x="7234200" y="5149800"/>
            <a:chExt cx="406080" cy="426960"/>
          </a:xfrm>
        </p:grpSpPr>
        <p:pic>
          <p:nvPicPr>
            <p:cNvPr id="1361" name="" descr=""/>
            <p:cNvPicPr/>
            <p:nvPr/>
          </p:nvPicPr>
          <p:blipFill>
            <a:blip r:embed="rId13"/>
            <a:stretch/>
          </p:blipFill>
          <p:spPr>
            <a:xfrm>
              <a:off x="7234200" y="51498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2" name="" descr=""/>
            <p:cNvPicPr/>
            <p:nvPr/>
          </p:nvPicPr>
          <p:blipFill>
            <a:blip r:embed="rId14"/>
            <a:stretch/>
          </p:blipFill>
          <p:spPr>
            <a:xfrm>
              <a:off x="7293960" y="52617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3" name=""/>
          <p:cNvGrpSpPr/>
          <p:nvPr/>
        </p:nvGrpSpPr>
        <p:grpSpPr>
          <a:xfrm>
            <a:off x="6821640" y="4865760"/>
            <a:ext cx="377640" cy="376200"/>
            <a:chOff x="6821640" y="4865760"/>
            <a:chExt cx="377640" cy="376200"/>
          </a:xfrm>
        </p:grpSpPr>
        <p:pic>
          <p:nvPicPr>
            <p:cNvPr id="1364" name="" descr=""/>
            <p:cNvPicPr/>
            <p:nvPr/>
          </p:nvPicPr>
          <p:blipFill>
            <a:blip r:embed="rId15"/>
            <a:stretch/>
          </p:blipFill>
          <p:spPr>
            <a:xfrm>
              <a:off x="6821640" y="4865760"/>
              <a:ext cx="37764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5" name=""/>
            <p:cNvSpPr/>
            <p:nvPr/>
          </p:nvSpPr>
          <p:spPr>
            <a:xfrm>
              <a:off x="6931440" y="4997880"/>
              <a:ext cx="26604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6" name=""/>
          <p:cNvSpPr/>
          <p:nvPr/>
        </p:nvSpPr>
        <p:spPr>
          <a:xfrm>
            <a:off x="7126200" y="4768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7" name=""/>
          <p:cNvGrpSpPr/>
          <p:nvPr/>
        </p:nvGrpSpPr>
        <p:grpSpPr>
          <a:xfrm>
            <a:off x="7846920" y="4192560"/>
            <a:ext cx="208080" cy="409680"/>
            <a:chOff x="7846920" y="4192560"/>
            <a:chExt cx="208080" cy="409680"/>
          </a:xfrm>
        </p:grpSpPr>
        <p:sp>
          <p:nvSpPr>
            <p:cNvPr id="1368" name=""/>
            <p:cNvSpPr/>
            <p:nvPr/>
          </p:nvSpPr>
          <p:spPr>
            <a:xfrm>
              <a:off x="7846920" y="45075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952040" y="419508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848000" y="428436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846920" y="41925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8055000" y="419904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>
              <a:off x="7979760" y="450756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864560" y="4325760"/>
              <a:ext cx="8748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877160" y="438048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6" name=""/>
          <p:cNvGrpSpPr/>
          <p:nvPr/>
        </p:nvGrpSpPr>
        <p:grpSpPr>
          <a:xfrm>
            <a:off x="7834320" y="4637160"/>
            <a:ext cx="208080" cy="409680"/>
            <a:chOff x="7834320" y="4637160"/>
            <a:chExt cx="208080" cy="409680"/>
          </a:xfrm>
        </p:grpSpPr>
        <p:sp>
          <p:nvSpPr>
            <p:cNvPr id="1377" name=""/>
            <p:cNvSpPr/>
            <p:nvPr/>
          </p:nvSpPr>
          <p:spPr>
            <a:xfrm>
              <a:off x="7834320" y="49521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7939440" y="463968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835400" y="472896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834320" y="46371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8042400" y="464364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H="1">
              <a:off x="7967160" y="495216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851960" y="4770360"/>
              <a:ext cx="8748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864560" y="482508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5" name=""/>
          <p:cNvSpPr/>
          <p:nvPr/>
        </p:nvSpPr>
        <p:spPr>
          <a:xfrm flipV="1">
            <a:off x="7765920" y="4260600"/>
            <a:ext cx="0" cy="61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763040" y="4870440"/>
            <a:ext cx="10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761240" y="4394160"/>
            <a:ext cx="8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 flipV="1">
            <a:off x="6483240" y="2490840"/>
            <a:ext cx="459000" cy="20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7418520" y="2475000"/>
            <a:ext cx="485640" cy="207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H="1">
            <a:off x="7939080" y="2811600"/>
            <a:ext cx="239760" cy="680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7167600" y="258768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192800" y="3235320"/>
            <a:ext cx="535320" cy="368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 flipH="1">
            <a:off x="7652880" y="3700440"/>
            <a:ext cx="26676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 flipH="1">
            <a:off x="7426440" y="2779560"/>
            <a:ext cx="560160" cy="384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 flipH="1">
            <a:off x="7435440" y="2219400"/>
            <a:ext cx="351000" cy="255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H="1">
            <a:off x="8153280" y="2395440"/>
            <a:ext cx="201600" cy="176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7" name=""/>
          <p:cNvGrpSpPr/>
          <p:nvPr/>
        </p:nvGrpSpPr>
        <p:grpSpPr>
          <a:xfrm>
            <a:off x="7221600" y="4043520"/>
            <a:ext cx="671400" cy="387360"/>
            <a:chOff x="7221600" y="4043520"/>
            <a:chExt cx="671400" cy="387360"/>
          </a:xfrm>
        </p:grpSpPr>
        <p:sp>
          <p:nvSpPr>
            <p:cNvPr id="1398" name=""/>
            <p:cNvSpPr/>
            <p:nvPr/>
          </p:nvSpPr>
          <p:spPr>
            <a:xfrm>
              <a:off x="7221600" y="404352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9" name=""/>
            <p:cNvGrpSpPr/>
            <p:nvPr/>
          </p:nvGrpSpPr>
          <p:grpSpPr>
            <a:xfrm>
              <a:off x="7296120" y="4130640"/>
              <a:ext cx="501120" cy="232920"/>
              <a:chOff x="7296120" y="4130640"/>
              <a:chExt cx="501120" cy="232920"/>
            </a:xfrm>
          </p:grpSpPr>
          <p:sp>
            <p:nvSpPr>
              <p:cNvPr id="1400" name=""/>
              <p:cNvSpPr/>
              <p:nvPr/>
            </p:nvSpPr>
            <p:spPr>
              <a:xfrm>
                <a:off x="7300080" y="423468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300080" y="42235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7797240" y="42235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7300080" y="422352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7296120" y="413064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5" name=""/>
              <p:cNvGrpSpPr/>
              <p:nvPr/>
            </p:nvGrpSpPr>
            <p:grpSpPr>
              <a:xfrm>
                <a:off x="7415640" y="4163400"/>
                <a:ext cx="245880" cy="88200"/>
                <a:chOff x="7415640" y="4163400"/>
                <a:chExt cx="245880" cy="88200"/>
              </a:xfrm>
            </p:grpSpPr>
            <p:sp>
              <p:nvSpPr>
                <p:cNvPr id="1406" name=""/>
                <p:cNvSpPr/>
                <p:nvPr/>
              </p:nvSpPr>
              <p:spPr>
                <a:xfrm flipV="1">
                  <a:off x="7415640" y="41634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7584120" y="42516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7496640" y="41655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7415640" y="4162680"/>
                <a:ext cx="245880" cy="88200"/>
                <a:chOff x="7415640" y="4162680"/>
                <a:chExt cx="245880" cy="88200"/>
              </a:xfrm>
            </p:grpSpPr>
            <p:sp>
              <p:nvSpPr>
                <p:cNvPr id="1410" name=""/>
                <p:cNvSpPr/>
                <p:nvPr/>
              </p:nvSpPr>
              <p:spPr>
                <a:xfrm>
                  <a:off x="7415640" y="42490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7584120" y="41626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 flipV="1">
                  <a:off x="7496640" y="41626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13" name=""/>
          <p:cNvGrpSpPr/>
          <p:nvPr/>
        </p:nvGrpSpPr>
        <p:grpSpPr>
          <a:xfrm>
            <a:off x="7574040" y="3386160"/>
            <a:ext cx="671400" cy="387360"/>
            <a:chOff x="7574040" y="3386160"/>
            <a:chExt cx="671400" cy="387360"/>
          </a:xfrm>
        </p:grpSpPr>
        <p:sp>
          <p:nvSpPr>
            <p:cNvPr id="1414" name=""/>
            <p:cNvSpPr/>
            <p:nvPr/>
          </p:nvSpPr>
          <p:spPr>
            <a:xfrm>
              <a:off x="7574040" y="338616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5" name=""/>
            <p:cNvGrpSpPr/>
            <p:nvPr/>
          </p:nvGrpSpPr>
          <p:grpSpPr>
            <a:xfrm>
              <a:off x="7648560" y="3473280"/>
              <a:ext cx="501120" cy="232920"/>
              <a:chOff x="7648560" y="3473280"/>
              <a:chExt cx="501120" cy="232920"/>
            </a:xfrm>
          </p:grpSpPr>
          <p:sp>
            <p:nvSpPr>
              <p:cNvPr id="1416" name=""/>
              <p:cNvSpPr/>
              <p:nvPr/>
            </p:nvSpPr>
            <p:spPr>
              <a:xfrm>
                <a:off x="7652520" y="357732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652520" y="35661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8149680" y="35661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7652520" y="356616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7648560" y="347328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1" name=""/>
              <p:cNvGrpSpPr/>
              <p:nvPr/>
            </p:nvGrpSpPr>
            <p:grpSpPr>
              <a:xfrm>
                <a:off x="7768080" y="3506040"/>
                <a:ext cx="245880" cy="88200"/>
                <a:chOff x="7768080" y="3506040"/>
                <a:chExt cx="245880" cy="88200"/>
              </a:xfrm>
            </p:grpSpPr>
            <p:sp>
              <p:nvSpPr>
                <p:cNvPr id="1422" name=""/>
                <p:cNvSpPr/>
                <p:nvPr/>
              </p:nvSpPr>
              <p:spPr>
                <a:xfrm flipV="1">
                  <a:off x="7768080" y="35060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7936560" y="35942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7849080" y="350820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5" name=""/>
              <p:cNvGrpSpPr/>
              <p:nvPr/>
            </p:nvGrpSpPr>
            <p:grpSpPr>
              <a:xfrm>
                <a:off x="7768080" y="3505320"/>
                <a:ext cx="245880" cy="88200"/>
                <a:chOff x="7768080" y="3505320"/>
                <a:chExt cx="245880" cy="88200"/>
              </a:xfrm>
            </p:grpSpPr>
            <p:sp>
              <p:nvSpPr>
                <p:cNvPr id="1426" name=""/>
                <p:cNvSpPr/>
                <p:nvPr/>
              </p:nvSpPr>
              <p:spPr>
                <a:xfrm>
                  <a:off x="7768080" y="359172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7936560" y="35053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 flipV="1">
                  <a:off x="7849080" y="350532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29" name=""/>
          <p:cNvGrpSpPr/>
          <p:nvPr/>
        </p:nvGrpSpPr>
        <p:grpSpPr>
          <a:xfrm>
            <a:off x="6926400" y="2938320"/>
            <a:ext cx="671400" cy="387360"/>
            <a:chOff x="6926400" y="2938320"/>
            <a:chExt cx="671400" cy="387360"/>
          </a:xfrm>
        </p:grpSpPr>
        <p:sp>
          <p:nvSpPr>
            <p:cNvPr id="1430" name=""/>
            <p:cNvSpPr/>
            <p:nvPr/>
          </p:nvSpPr>
          <p:spPr>
            <a:xfrm>
              <a:off x="6926400" y="293832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1" name=""/>
            <p:cNvGrpSpPr/>
            <p:nvPr/>
          </p:nvGrpSpPr>
          <p:grpSpPr>
            <a:xfrm>
              <a:off x="7000920" y="3025440"/>
              <a:ext cx="501120" cy="232920"/>
              <a:chOff x="7000920" y="3025440"/>
              <a:chExt cx="501120" cy="232920"/>
            </a:xfrm>
          </p:grpSpPr>
          <p:sp>
            <p:nvSpPr>
              <p:cNvPr id="1432" name=""/>
              <p:cNvSpPr/>
              <p:nvPr/>
            </p:nvSpPr>
            <p:spPr>
              <a:xfrm>
                <a:off x="7004880" y="312948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7004880" y="31183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7502040" y="31183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7004880" y="311832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7000920" y="302544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7" name=""/>
              <p:cNvGrpSpPr/>
              <p:nvPr/>
            </p:nvGrpSpPr>
            <p:grpSpPr>
              <a:xfrm>
                <a:off x="7120440" y="3058200"/>
                <a:ext cx="245880" cy="88200"/>
                <a:chOff x="7120440" y="3058200"/>
                <a:chExt cx="245880" cy="88200"/>
              </a:xfrm>
            </p:grpSpPr>
            <p:sp>
              <p:nvSpPr>
                <p:cNvPr id="1438" name=""/>
                <p:cNvSpPr/>
                <p:nvPr/>
              </p:nvSpPr>
              <p:spPr>
                <a:xfrm flipV="1">
                  <a:off x="7120440" y="30582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7288920" y="31464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7201440" y="30603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1" name=""/>
              <p:cNvGrpSpPr/>
              <p:nvPr/>
            </p:nvGrpSpPr>
            <p:grpSpPr>
              <a:xfrm>
                <a:off x="7120440" y="3057480"/>
                <a:ext cx="245880" cy="88200"/>
                <a:chOff x="7120440" y="3057480"/>
                <a:chExt cx="245880" cy="88200"/>
              </a:xfrm>
            </p:grpSpPr>
            <p:sp>
              <p:nvSpPr>
                <p:cNvPr id="1442" name=""/>
                <p:cNvSpPr/>
                <p:nvPr/>
              </p:nvSpPr>
              <p:spPr>
                <a:xfrm>
                  <a:off x="7120440" y="31438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7288920" y="30574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 flipV="1">
                  <a:off x="7201440" y="30574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45" name=""/>
          <p:cNvGrpSpPr/>
          <p:nvPr/>
        </p:nvGrpSpPr>
        <p:grpSpPr>
          <a:xfrm>
            <a:off x="7745400" y="2462040"/>
            <a:ext cx="671400" cy="387360"/>
            <a:chOff x="7745400" y="2462040"/>
            <a:chExt cx="671400" cy="387360"/>
          </a:xfrm>
        </p:grpSpPr>
        <p:sp>
          <p:nvSpPr>
            <p:cNvPr id="1446" name=""/>
            <p:cNvSpPr/>
            <p:nvPr/>
          </p:nvSpPr>
          <p:spPr>
            <a:xfrm>
              <a:off x="7745400" y="246204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7" name=""/>
            <p:cNvGrpSpPr/>
            <p:nvPr/>
          </p:nvGrpSpPr>
          <p:grpSpPr>
            <a:xfrm>
              <a:off x="7819920" y="2549160"/>
              <a:ext cx="501120" cy="232920"/>
              <a:chOff x="7819920" y="2549160"/>
              <a:chExt cx="501120" cy="232920"/>
            </a:xfrm>
          </p:grpSpPr>
          <p:sp>
            <p:nvSpPr>
              <p:cNvPr id="1448" name=""/>
              <p:cNvSpPr/>
              <p:nvPr/>
            </p:nvSpPr>
            <p:spPr>
              <a:xfrm>
                <a:off x="7823880" y="265320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7823880" y="26420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8321040" y="26420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7823880" y="264204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7819920" y="254916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3" name=""/>
              <p:cNvGrpSpPr/>
              <p:nvPr/>
            </p:nvGrpSpPr>
            <p:grpSpPr>
              <a:xfrm>
                <a:off x="7939440" y="2581920"/>
                <a:ext cx="245880" cy="88200"/>
                <a:chOff x="7939440" y="2581920"/>
                <a:chExt cx="245880" cy="88200"/>
              </a:xfrm>
            </p:grpSpPr>
            <p:sp>
              <p:nvSpPr>
                <p:cNvPr id="1454" name=""/>
                <p:cNvSpPr/>
                <p:nvPr/>
              </p:nvSpPr>
              <p:spPr>
                <a:xfrm flipV="1">
                  <a:off x="7939440" y="258192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8107920" y="26701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8020440" y="25840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7" name=""/>
              <p:cNvGrpSpPr/>
              <p:nvPr/>
            </p:nvGrpSpPr>
            <p:grpSpPr>
              <a:xfrm>
                <a:off x="7939440" y="2581200"/>
                <a:ext cx="245880" cy="88200"/>
                <a:chOff x="7939440" y="2581200"/>
                <a:chExt cx="245880" cy="88200"/>
              </a:xfrm>
            </p:grpSpPr>
            <p:sp>
              <p:nvSpPr>
                <p:cNvPr id="1458" name=""/>
                <p:cNvSpPr/>
                <p:nvPr/>
              </p:nvSpPr>
              <p:spPr>
                <a:xfrm>
                  <a:off x="7939440" y="26676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8107920" y="25812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 flipV="1">
                  <a:off x="8020440" y="258120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61" name=""/>
          <p:cNvGrpSpPr/>
          <p:nvPr/>
        </p:nvGrpSpPr>
        <p:grpSpPr>
          <a:xfrm>
            <a:off x="6840360" y="2262240"/>
            <a:ext cx="671760" cy="387360"/>
            <a:chOff x="6840360" y="2262240"/>
            <a:chExt cx="671760" cy="387360"/>
          </a:xfrm>
        </p:grpSpPr>
        <p:sp>
          <p:nvSpPr>
            <p:cNvPr id="1462" name=""/>
            <p:cNvSpPr/>
            <p:nvPr/>
          </p:nvSpPr>
          <p:spPr>
            <a:xfrm>
              <a:off x="6840360" y="2262240"/>
              <a:ext cx="67176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3" name=""/>
            <p:cNvGrpSpPr/>
            <p:nvPr/>
          </p:nvGrpSpPr>
          <p:grpSpPr>
            <a:xfrm>
              <a:off x="6915240" y="2349360"/>
              <a:ext cx="501480" cy="232920"/>
              <a:chOff x="6915240" y="2349360"/>
              <a:chExt cx="501480" cy="232920"/>
            </a:xfrm>
          </p:grpSpPr>
          <p:sp>
            <p:nvSpPr>
              <p:cNvPr id="1464" name=""/>
              <p:cNvSpPr/>
              <p:nvPr/>
            </p:nvSpPr>
            <p:spPr>
              <a:xfrm>
                <a:off x="6919200" y="2453400"/>
                <a:ext cx="49716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6919200" y="24422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7416720" y="24422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6919200" y="244224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6915240" y="234936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9" name=""/>
              <p:cNvGrpSpPr/>
              <p:nvPr/>
            </p:nvGrpSpPr>
            <p:grpSpPr>
              <a:xfrm>
                <a:off x="7034760" y="2382120"/>
                <a:ext cx="246240" cy="88200"/>
                <a:chOff x="7034760" y="2382120"/>
                <a:chExt cx="246240" cy="88200"/>
              </a:xfrm>
            </p:grpSpPr>
            <p:sp>
              <p:nvSpPr>
                <p:cNvPr id="1470" name=""/>
                <p:cNvSpPr/>
                <p:nvPr/>
              </p:nvSpPr>
              <p:spPr>
                <a:xfrm flipV="1">
                  <a:off x="7034760" y="23821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7203600" y="24703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7115760" y="238428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3" name=""/>
              <p:cNvGrpSpPr/>
              <p:nvPr/>
            </p:nvGrpSpPr>
            <p:grpSpPr>
              <a:xfrm>
                <a:off x="7034760" y="2381400"/>
                <a:ext cx="246240" cy="88200"/>
                <a:chOff x="7034760" y="2381400"/>
                <a:chExt cx="246240" cy="88200"/>
              </a:xfrm>
            </p:grpSpPr>
            <p:sp>
              <p:nvSpPr>
                <p:cNvPr id="1474" name=""/>
                <p:cNvSpPr/>
                <p:nvPr/>
              </p:nvSpPr>
              <p:spPr>
                <a:xfrm>
                  <a:off x="7034760" y="24678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7203600" y="23814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 flipV="1">
                  <a:off x="7115760" y="23814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77" name=""/>
          <p:cNvGrpSpPr/>
          <p:nvPr/>
        </p:nvGrpSpPr>
        <p:grpSpPr>
          <a:xfrm>
            <a:off x="5897520" y="2471760"/>
            <a:ext cx="671400" cy="387360"/>
            <a:chOff x="5897520" y="2471760"/>
            <a:chExt cx="671400" cy="387360"/>
          </a:xfrm>
        </p:grpSpPr>
        <p:sp>
          <p:nvSpPr>
            <p:cNvPr id="1478" name=""/>
            <p:cNvSpPr/>
            <p:nvPr/>
          </p:nvSpPr>
          <p:spPr>
            <a:xfrm>
              <a:off x="5897520" y="247176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9" name=""/>
            <p:cNvGrpSpPr/>
            <p:nvPr/>
          </p:nvGrpSpPr>
          <p:grpSpPr>
            <a:xfrm>
              <a:off x="5972040" y="2558880"/>
              <a:ext cx="501120" cy="232920"/>
              <a:chOff x="5972040" y="2558880"/>
              <a:chExt cx="501120" cy="232920"/>
            </a:xfrm>
          </p:grpSpPr>
          <p:sp>
            <p:nvSpPr>
              <p:cNvPr id="1480" name=""/>
              <p:cNvSpPr/>
              <p:nvPr/>
            </p:nvSpPr>
            <p:spPr>
              <a:xfrm>
                <a:off x="5976000" y="266292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5976000" y="26517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6473160" y="26517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5976000" y="265176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5972040" y="255888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5" name=""/>
              <p:cNvGrpSpPr/>
              <p:nvPr/>
            </p:nvGrpSpPr>
            <p:grpSpPr>
              <a:xfrm>
                <a:off x="6091560" y="2591640"/>
                <a:ext cx="245880" cy="88200"/>
                <a:chOff x="6091560" y="2591640"/>
                <a:chExt cx="245880" cy="88200"/>
              </a:xfrm>
            </p:grpSpPr>
            <p:sp>
              <p:nvSpPr>
                <p:cNvPr id="1486" name=""/>
                <p:cNvSpPr/>
                <p:nvPr/>
              </p:nvSpPr>
              <p:spPr>
                <a:xfrm flipV="1">
                  <a:off x="6091560" y="25916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6260040" y="26798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>
                  <a:off x="6172560" y="259380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9" name=""/>
              <p:cNvGrpSpPr/>
              <p:nvPr/>
            </p:nvGrpSpPr>
            <p:grpSpPr>
              <a:xfrm>
                <a:off x="6091560" y="2590920"/>
                <a:ext cx="245880" cy="88200"/>
                <a:chOff x="6091560" y="2590920"/>
                <a:chExt cx="245880" cy="88200"/>
              </a:xfrm>
            </p:grpSpPr>
            <p:sp>
              <p:nvSpPr>
                <p:cNvPr id="1490" name=""/>
                <p:cNvSpPr/>
                <p:nvPr/>
              </p:nvSpPr>
              <p:spPr>
                <a:xfrm>
                  <a:off x="6091560" y="267732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>
                  <a:off x="6260040" y="25909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 flipV="1">
                  <a:off x="6172560" y="259092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93" name=""/>
          <p:cNvGrpSpPr/>
          <p:nvPr/>
        </p:nvGrpSpPr>
        <p:grpSpPr>
          <a:xfrm>
            <a:off x="5878440" y="4129200"/>
            <a:ext cx="671760" cy="387360"/>
            <a:chOff x="5878440" y="4129200"/>
            <a:chExt cx="671760" cy="387360"/>
          </a:xfrm>
        </p:grpSpPr>
        <p:sp>
          <p:nvSpPr>
            <p:cNvPr id="1494" name=""/>
            <p:cNvSpPr/>
            <p:nvPr/>
          </p:nvSpPr>
          <p:spPr>
            <a:xfrm>
              <a:off x="5878440" y="4129200"/>
              <a:ext cx="67176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5" name=""/>
            <p:cNvGrpSpPr/>
            <p:nvPr/>
          </p:nvGrpSpPr>
          <p:grpSpPr>
            <a:xfrm>
              <a:off x="5953320" y="4216320"/>
              <a:ext cx="501480" cy="232920"/>
              <a:chOff x="5953320" y="4216320"/>
              <a:chExt cx="501480" cy="232920"/>
            </a:xfrm>
          </p:grpSpPr>
          <p:sp>
            <p:nvSpPr>
              <p:cNvPr id="1496" name=""/>
              <p:cNvSpPr/>
              <p:nvPr/>
            </p:nvSpPr>
            <p:spPr>
              <a:xfrm>
                <a:off x="5957280" y="4320360"/>
                <a:ext cx="49716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5957280" y="4309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6454800" y="4309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5957280" y="430920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5953320" y="421632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1" name=""/>
              <p:cNvGrpSpPr/>
              <p:nvPr/>
            </p:nvGrpSpPr>
            <p:grpSpPr>
              <a:xfrm>
                <a:off x="6072840" y="4249080"/>
                <a:ext cx="246240" cy="88200"/>
                <a:chOff x="6072840" y="4249080"/>
                <a:chExt cx="246240" cy="88200"/>
              </a:xfrm>
            </p:grpSpPr>
            <p:sp>
              <p:nvSpPr>
                <p:cNvPr id="1502" name=""/>
                <p:cNvSpPr/>
                <p:nvPr/>
              </p:nvSpPr>
              <p:spPr>
                <a:xfrm flipV="1">
                  <a:off x="6072840" y="4249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6241680" y="43372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6153840" y="425124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5" name=""/>
              <p:cNvGrpSpPr/>
              <p:nvPr/>
            </p:nvGrpSpPr>
            <p:grpSpPr>
              <a:xfrm>
                <a:off x="6072840" y="4248360"/>
                <a:ext cx="246240" cy="88200"/>
                <a:chOff x="6072840" y="4248360"/>
                <a:chExt cx="246240" cy="88200"/>
              </a:xfrm>
            </p:grpSpPr>
            <p:sp>
              <p:nvSpPr>
                <p:cNvPr id="1506" name=""/>
                <p:cNvSpPr/>
                <p:nvPr/>
              </p:nvSpPr>
              <p:spPr>
                <a:xfrm>
                  <a:off x="6072840" y="43347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6241680" y="42483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 flipV="1">
                  <a:off x="6153840" y="424836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09" name=""/>
          <p:cNvGrpSpPr/>
          <p:nvPr/>
        </p:nvGrpSpPr>
        <p:grpSpPr>
          <a:xfrm>
            <a:off x="6688080" y="4471920"/>
            <a:ext cx="671400" cy="387360"/>
            <a:chOff x="6688080" y="4471920"/>
            <a:chExt cx="671400" cy="387360"/>
          </a:xfrm>
        </p:grpSpPr>
        <p:sp>
          <p:nvSpPr>
            <p:cNvPr id="1510" name=""/>
            <p:cNvSpPr/>
            <p:nvPr/>
          </p:nvSpPr>
          <p:spPr>
            <a:xfrm>
              <a:off x="6688080" y="447192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1" name=""/>
            <p:cNvGrpSpPr/>
            <p:nvPr/>
          </p:nvGrpSpPr>
          <p:grpSpPr>
            <a:xfrm>
              <a:off x="6762600" y="4559040"/>
              <a:ext cx="501120" cy="232920"/>
              <a:chOff x="6762600" y="4559040"/>
              <a:chExt cx="501120" cy="232920"/>
            </a:xfrm>
          </p:grpSpPr>
          <p:sp>
            <p:nvSpPr>
              <p:cNvPr id="1512" name=""/>
              <p:cNvSpPr/>
              <p:nvPr/>
            </p:nvSpPr>
            <p:spPr>
              <a:xfrm>
                <a:off x="6766560" y="466308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6766560" y="46519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7263720" y="46519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6766560" y="465192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6762600" y="455904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7" name=""/>
              <p:cNvGrpSpPr/>
              <p:nvPr/>
            </p:nvGrpSpPr>
            <p:grpSpPr>
              <a:xfrm>
                <a:off x="6882120" y="4591800"/>
                <a:ext cx="245880" cy="88200"/>
                <a:chOff x="6882120" y="4591800"/>
                <a:chExt cx="245880" cy="88200"/>
              </a:xfrm>
            </p:grpSpPr>
            <p:sp>
              <p:nvSpPr>
                <p:cNvPr id="1518" name=""/>
                <p:cNvSpPr/>
                <p:nvPr/>
              </p:nvSpPr>
              <p:spPr>
                <a:xfrm flipV="1">
                  <a:off x="6882120" y="45918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7050600" y="4680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6963120" y="45939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1" name=""/>
              <p:cNvGrpSpPr/>
              <p:nvPr/>
            </p:nvGrpSpPr>
            <p:grpSpPr>
              <a:xfrm>
                <a:off x="6882120" y="4591080"/>
                <a:ext cx="245880" cy="88200"/>
                <a:chOff x="6882120" y="4591080"/>
                <a:chExt cx="245880" cy="88200"/>
              </a:xfrm>
            </p:grpSpPr>
            <p:sp>
              <p:nvSpPr>
                <p:cNvPr id="1522" name=""/>
                <p:cNvSpPr/>
                <p:nvPr/>
              </p:nvSpPr>
              <p:spPr>
                <a:xfrm>
                  <a:off x="6882120" y="46774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7050600" y="45910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 flipV="1">
                  <a:off x="6963120" y="45910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25" name=""/>
          <p:cNvSpPr/>
          <p:nvPr/>
        </p:nvSpPr>
        <p:spPr>
          <a:xfrm flipV="1">
            <a:off x="6211800" y="4459320"/>
            <a:ext cx="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8145-9457-4D3B-BF1E-E5DB16BDB4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Núcleo da Rede: Comutação de Circuito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512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Recursos fim a fim são reservados para a chamad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anda do enlace,  capacidade dos comutado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cursos dedicados: sem compartilh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sempenho tipo circuito (garantid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ecessita estabelecimento de conex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8" name=""/>
          <p:cNvSpPr/>
          <p:nvPr/>
        </p:nvSpPr>
        <p:spPr>
          <a:xfrm>
            <a:off x="6711840" y="1717560"/>
            <a:ext cx="2046240" cy="204948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4575240" y="1542960"/>
            <a:ext cx="2122560" cy="194328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4994280" y="3317760"/>
            <a:ext cx="3382920" cy="271476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1" name=""/>
          <p:cNvGrpSpPr/>
          <p:nvPr/>
        </p:nvGrpSpPr>
        <p:grpSpPr>
          <a:xfrm>
            <a:off x="4708440" y="1708200"/>
            <a:ext cx="836640" cy="390600"/>
            <a:chOff x="4708440" y="1708200"/>
            <a:chExt cx="836640" cy="390600"/>
          </a:xfrm>
        </p:grpSpPr>
        <p:pic>
          <p:nvPicPr>
            <p:cNvPr id="1532" name="" descr=""/>
            <p:cNvPicPr/>
            <p:nvPr/>
          </p:nvPicPr>
          <p:blipFill>
            <a:blip r:embed="rId1"/>
            <a:stretch/>
          </p:blipFill>
          <p:spPr>
            <a:xfrm>
              <a:off x="4708440" y="1708200"/>
              <a:ext cx="47484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3" name="" descr=""/>
            <p:cNvPicPr/>
            <p:nvPr/>
          </p:nvPicPr>
          <p:blipFill>
            <a:blip r:embed="rId2"/>
            <a:stretch/>
          </p:blipFill>
          <p:spPr>
            <a:xfrm>
              <a:off x="5226120" y="1852920"/>
              <a:ext cx="3189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4" name=""/>
            <p:cNvSpPr/>
            <p:nvPr/>
          </p:nvSpPr>
          <p:spPr>
            <a:xfrm flipV="1">
              <a:off x="5172120" y="2004120"/>
              <a:ext cx="13032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5" name=""/>
          <p:cNvGrpSpPr/>
          <p:nvPr/>
        </p:nvGrpSpPr>
        <p:grpSpPr>
          <a:xfrm>
            <a:off x="4708440" y="2436840"/>
            <a:ext cx="836640" cy="390600"/>
            <a:chOff x="4708440" y="2436840"/>
            <a:chExt cx="836640" cy="390600"/>
          </a:xfrm>
        </p:grpSpPr>
        <p:pic>
          <p:nvPicPr>
            <p:cNvPr id="1536" name="" descr=""/>
            <p:cNvPicPr/>
            <p:nvPr/>
          </p:nvPicPr>
          <p:blipFill>
            <a:blip r:embed="rId3"/>
            <a:stretch/>
          </p:blipFill>
          <p:spPr>
            <a:xfrm>
              <a:off x="4708440" y="2436840"/>
              <a:ext cx="47484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7" name="" descr=""/>
            <p:cNvPicPr/>
            <p:nvPr/>
          </p:nvPicPr>
          <p:blipFill>
            <a:blip r:embed="rId4"/>
            <a:stretch/>
          </p:blipFill>
          <p:spPr>
            <a:xfrm>
              <a:off x="5226120" y="2581560"/>
              <a:ext cx="3189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8" name=""/>
            <p:cNvSpPr/>
            <p:nvPr/>
          </p:nvSpPr>
          <p:spPr>
            <a:xfrm flipV="1">
              <a:off x="5172120" y="2732760"/>
              <a:ext cx="13032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9" name=""/>
          <p:cNvGrpSpPr/>
          <p:nvPr/>
        </p:nvGrpSpPr>
        <p:grpSpPr>
          <a:xfrm>
            <a:off x="5137200" y="2176560"/>
            <a:ext cx="78840" cy="261360"/>
            <a:chOff x="5137200" y="2176560"/>
            <a:chExt cx="78840" cy="261360"/>
          </a:xfrm>
        </p:grpSpPr>
        <p:sp>
          <p:nvSpPr>
            <p:cNvPr id="1540" name=""/>
            <p:cNvSpPr/>
            <p:nvPr/>
          </p:nvSpPr>
          <p:spPr>
            <a:xfrm>
              <a:off x="5137200" y="2176560"/>
              <a:ext cx="72720" cy="738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140080" y="2270520"/>
              <a:ext cx="72720" cy="734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143320" y="2364480"/>
              <a:ext cx="72720" cy="734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5670720" y="2792520"/>
            <a:ext cx="237960" cy="482040"/>
            <a:chOff x="5670720" y="2792520"/>
            <a:chExt cx="237960" cy="482040"/>
          </a:xfrm>
        </p:grpSpPr>
        <p:sp>
          <p:nvSpPr>
            <p:cNvPr id="1544" name=""/>
            <p:cNvSpPr/>
            <p:nvPr/>
          </p:nvSpPr>
          <p:spPr>
            <a:xfrm>
              <a:off x="5670720" y="3163320"/>
              <a:ext cx="237960" cy="111240"/>
            </a:xfrm>
            <a:prstGeom prst="parallelogram">
              <a:avLst>
                <a:gd name="adj" fmla="val 8240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791320" y="2795400"/>
              <a:ext cx="109440" cy="3704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672160" y="2900520"/>
              <a:ext cx="150840" cy="3708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670720" y="2792520"/>
              <a:ext cx="237960" cy="111240"/>
            </a:xfrm>
            <a:prstGeom prst="parallelogram">
              <a:avLst>
                <a:gd name="adj" fmla="val 8240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908680" y="2800080"/>
              <a:ext cx="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5823000" y="3163320"/>
              <a:ext cx="8568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5691240" y="2949480"/>
              <a:ext cx="100080" cy="213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705640" y="3013920"/>
              <a:ext cx="7596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2" name=""/>
          <p:cNvGrpSpPr/>
          <p:nvPr/>
        </p:nvGrpSpPr>
        <p:grpSpPr>
          <a:xfrm>
            <a:off x="5940360" y="2980080"/>
            <a:ext cx="265320" cy="99720"/>
            <a:chOff x="5940360" y="2980080"/>
            <a:chExt cx="265320" cy="99720"/>
          </a:xfrm>
        </p:grpSpPr>
        <p:sp>
          <p:nvSpPr>
            <p:cNvPr id="1553" name=""/>
            <p:cNvSpPr/>
            <p:nvPr/>
          </p:nvSpPr>
          <p:spPr>
            <a:xfrm rot="16200000">
              <a:off x="5931720" y="2996280"/>
              <a:ext cx="91800" cy="748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rot="16200000">
              <a:off x="6027120" y="2992680"/>
              <a:ext cx="91800" cy="74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rot="16200000">
              <a:off x="6122520" y="2988720"/>
              <a:ext cx="91800" cy="74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6" name=""/>
          <p:cNvSpPr/>
          <p:nvPr/>
        </p:nvSpPr>
        <p:spPr>
          <a:xfrm>
            <a:off x="5826240" y="2679840"/>
            <a:ext cx="563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5830920" y="2674800"/>
            <a:ext cx="1440" cy="1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6392880" y="2673360"/>
            <a:ext cx="144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5484960" y="2019240"/>
            <a:ext cx="328320" cy="32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V="1">
            <a:off x="5500800" y="2368440"/>
            <a:ext cx="312480" cy="40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 flipV="1">
            <a:off x="6099120" y="2473200"/>
            <a:ext cx="180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2" name=""/>
          <p:cNvGrpSpPr/>
          <p:nvPr/>
        </p:nvGrpSpPr>
        <p:grpSpPr>
          <a:xfrm>
            <a:off x="6234120" y="2763720"/>
            <a:ext cx="237960" cy="483840"/>
            <a:chOff x="6234120" y="2763720"/>
            <a:chExt cx="237960" cy="483840"/>
          </a:xfrm>
        </p:grpSpPr>
        <p:sp>
          <p:nvSpPr>
            <p:cNvPr id="1563" name=""/>
            <p:cNvSpPr/>
            <p:nvPr/>
          </p:nvSpPr>
          <p:spPr>
            <a:xfrm>
              <a:off x="6234120" y="3135960"/>
              <a:ext cx="237960" cy="111600"/>
            </a:xfrm>
            <a:prstGeom prst="parallelogram">
              <a:avLst>
                <a:gd name="adj" fmla="val 8214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354720" y="2766600"/>
              <a:ext cx="109440" cy="371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235560" y="2872080"/>
              <a:ext cx="150840" cy="372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234120" y="2763720"/>
              <a:ext cx="237960" cy="111600"/>
            </a:xfrm>
            <a:prstGeom prst="parallelogram">
              <a:avLst>
                <a:gd name="adj" fmla="val 8214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472080" y="2771280"/>
              <a:ext cx="0" cy="36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6386400" y="3135960"/>
              <a:ext cx="85680" cy="1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254640" y="2921400"/>
              <a:ext cx="100080" cy="21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269040" y="2985840"/>
              <a:ext cx="7596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1" name=""/>
          <p:cNvGrpSpPr/>
          <p:nvPr/>
        </p:nvGrpSpPr>
        <p:grpSpPr>
          <a:xfrm>
            <a:off x="5145120" y="3521160"/>
            <a:ext cx="546120" cy="1132920"/>
            <a:chOff x="5145120" y="3521160"/>
            <a:chExt cx="546120" cy="1132920"/>
          </a:xfrm>
        </p:grpSpPr>
        <p:pic>
          <p:nvPicPr>
            <p:cNvPr id="1572" name="" descr=""/>
            <p:cNvPicPr/>
            <p:nvPr/>
          </p:nvPicPr>
          <p:blipFill>
            <a:blip r:embed="rId5"/>
            <a:stretch/>
          </p:blipFill>
          <p:spPr>
            <a:xfrm>
              <a:off x="5145120" y="3521160"/>
              <a:ext cx="474480" cy="4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3" name=""/>
            <p:cNvSpPr/>
            <p:nvPr/>
          </p:nvSpPr>
          <p:spPr>
            <a:xfrm flipV="1">
              <a:off x="5608440" y="3823200"/>
              <a:ext cx="8280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4" name="" descr=""/>
            <p:cNvPicPr/>
            <p:nvPr/>
          </p:nvPicPr>
          <p:blipFill>
            <a:blip r:embed="rId6"/>
            <a:stretch/>
          </p:blipFill>
          <p:spPr>
            <a:xfrm>
              <a:off x="5145120" y="4249080"/>
              <a:ext cx="474480" cy="4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5" name=""/>
            <p:cNvSpPr/>
            <p:nvPr/>
          </p:nvSpPr>
          <p:spPr>
            <a:xfrm flipV="1">
              <a:off x="5608440" y="4555800"/>
              <a:ext cx="828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6" name=""/>
            <p:cNvGrpSpPr/>
            <p:nvPr/>
          </p:nvGrpSpPr>
          <p:grpSpPr>
            <a:xfrm>
              <a:off x="5288040" y="3939120"/>
              <a:ext cx="81000" cy="272160"/>
              <a:chOff x="5288040" y="3939120"/>
              <a:chExt cx="81000" cy="272160"/>
            </a:xfrm>
          </p:grpSpPr>
          <p:sp>
            <p:nvSpPr>
              <p:cNvPr id="1577" name=""/>
              <p:cNvSpPr/>
              <p:nvPr/>
            </p:nvSpPr>
            <p:spPr>
              <a:xfrm>
                <a:off x="5288040" y="3939120"/>
                <a:ext cx="74520" cy="766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5291280" y="4037040"/>
                <a:ext cx="74520" cy="763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5294520" y="4134960"/>
                <a:ext cx="74520" cy="763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0" name=""/>
            <p:cNvSpPr/>
            <p:nvPr/>
          </p:nvSpPr>
          <p:spPr>
            <a:xfrm>
              <a:off x="5684760" y="3819600"/>
              <a:ext cx="0" cy="73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81" name="" descr=""/>
          <p:cNvPicPr/>
          <p:nvPr/>
        </p:nvPicPr>
        <p:blipFill>
          <a:blip r:embed="rId7"/>
          <a:stretch/>
        </p:blipFill>
        <p:spPr>
          <a:xfrm>
            <a:off x="6132600" y="4756320"/>
            <a:ext cx="476280" cy="406080"/>
          </a:xfrm>
          <a:prstGeom prst="rect">
            <a:avLst/>
          </a:prstGeom>
          <a:ln w="0">
            <a:noFill/>
          </a:ln>
        </p:spPr>
      </p:pic>
      <p:pic>
        <p:nvPicPr>
          <p:cNvPr id="1582" name="" descr=""/>
          <p:cNvPicPr/>
          <p:nvPr/>
        </p:nvPicPr>
        <p:blipFill>
          <a:blip r:embed="rId8"/>
          <a:stretch/>
        </p:blipFill>
        <p:spPr>
          <a:xfrm>
            <a:off x="5433840" y="4743360"/>
            <a:ext cx="473400" cy="403200"/>
          </a:xfrm>
          <a:prstGeom prst="rect">
            <a:avLst/>
          </a:prstGeom>
          <a:ln w="0">
            <a:noFill/>
          </a:ln>
        </p:spPr>
      </p:pic>
      <p:sp>
        <p:nvSpPr>
          <p:cNvPr id="1583" name=""/>
          <p:cNvSpPr/>
          <p:nvPr/>
        </p:nvSpPr>
        <p:spPr>
          <a:xfrm rot="16200000">
            <a:off x="5906880" y="4871880"/>
            <a:ext cx="76320" cy="759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 rot="16200000">
            <a:off x="6002280" y="4870440"/>
            <a:ext cx="77760" cy="745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 rot="16200000">
            <a:off x="6090120" y="4875840"/>
            <a:ext cx="76320" cy="745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flipV="1">
            <a:off x="6421320" y="4690800"/>
            <a:ext cx="324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 flipV="1">
            <a:off x="5711760" y="4676760"/>
            <a:ext cx="0" cy="77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flipH="1">
            <a:off x="5715000" y="4684680"/>
            <a:ext cx="71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flipV="1">
            <a:off x="5691240" y="4225680"/>
            <a:ext cx="10620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375240" y="4282920"/>
            <a:ext cx="344520" cy="4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flipH="1">
            <a:off x="7280280" y="4278240"/>
            <a:ext cx="31752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2" name="" descr=""/>
          <p:cNvPicPr/>
          <p:nvPr/>
        </p:nvPicPr>
        <p:blipFill>
          <a:blip r:embed="rId9"/>
          <a:stretch/>
        </p:blipFill>
        <p:spPr>
          <a:xfrm>
            <a:off x="7481880" y="3732120"/>
            <a:ext cx="231840" cy="293760"/>
          </a:xfrm>
          <a:prstGeom prst="rect">
            <a:avLst/>
          </a:prstGeom>
          <a:ln w="0">
            <a:noFill/>
          </a:ln>
        </p:spPr>
      </p:pic>
      <p:pic>
        <p:nvPicPr>
          <p:cNvPr id="1593" name="" descr=""/>
          <p:cNvPicPr/>
          <p:nvPr/>
        </p:nvPicPr>
        <p:blipFill>
          <a:blip r:embed="rId10"/>
          <a:stretch/>
        </p:blipFill>
        <p:spPr>
          <a:xfrm>
            <a:off x="5961240" y="3830760"/>
            <a:ext cx="231480" cy="293400"/>
          </a:xfrm>
          <a:prstGeom prst="rect">
            <a:avLst/>
          </a:prstGeom>
          <a:ln w="0">
            <a:noFill/>
          </a:ln>
        </p:spPr>
      </p:pic>
      <p:sp>
        <p:nvSpPr>
          <p:cNvPr id="1594" name=""/>
          <p:cNvSpPr/>
          <p:nvPr/>
        </p:nvSpPr>
        <p:spPr>
          <a:xfrm>
            <a:off x="6053040" y="3554280"/>
            <a:ext cx="1540080" cy="37332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5" name=""/>
          <p:cNvGrpSpPr/>
          <p:nvPr/>
        </p:nvGrpSpPr>
        <p:grpSpPr>
          <a:xfrm>
            <a:off x="6356520" y="5294160"/>
            <a:ext cx="464760" cy="522000"/>
            <a:chOff x="6356520" y="5294160"/>
            <a:chExt cx="464760" cy="522000"/>
          </a:xfrm>
        </p:grpSpPr>
        <p:pic>
          <p:nvPicPr>
            <p:cNvPr id="1596" name="" descr=""/>
            <p:cNvPicPr/>
            <p:nvPr/>
          </p:nvPicPr>
          <p:blipFill>
            <a:blip r:embed="rId11"/>
            <a:stretch/>
          </p:blipFill>
          <p:spPr>
            <a:xfrm>
              <a:off x="6356520" y="5294160"/>
              <a:ext cx="43272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7" name="" descr=""/>
            <p:cNvPicPr/>
            <p:nvPr/>
          </p:nvPicPr>
          <p:blipFill>
            <a:blip r:embed="rId12"/>
            <a:stretch/>
          </p:blipFill>
          <p:spPr>
            <a:xfrm>
              <a:off x="6424920" y="5430960"/>
              <a:ext cx="396360" cy="385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8" name=""/>
          <p:cNvGrpSpPr/>
          <p:nvPr/>
        </p:nvGrpSpPr>
        <p:grpSpPr>
          <a:xfrm>
            <a:off x="7242120" y="5334120"/>
            <a:ext cx="461520" cy="521640"/>
            <a:chOff x="7242120" y="5334120"/>
            <a:chExt cx="461520" cy="521640"/>
          </a:xfrm>
        </p:grpSpPr>
        <p:pic>
          <p:nvPicPr>
            <p:cNvPr id="1599" name="" descr=""/>
            <p:cNvPicPr/>
            <p:nvPr/>
          </p:nvPicPr>
          <p:blipFill>
            <a:blip r:embed="rId13"/>
            <a:stretch/>
          </p:blipFill>
          <p:spPr>
            <a:xfrm>
              <a:off x="7242120" y="5334120"/>
              <a:ext cx="42984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0" name="" descr=""/>
            <p:cNvPicPr/>
            <p:nvPr/>
          </p:nvPicPr>
          <p:blipFill>
            <a:blip r:embed="rId14"/>
            <a:stretch/>
          </p:blipFill>
          <p:spPr>
            <a:xfrm>
              <a:off x="7310160" y="5470920"/>
              <a:ext cx="393480" cy="384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1" name=""/>
          <p:cNvGrpSpPr/>
          <p:nvPr/>
        </p:nvGrpSpPr>
        <p:grpSpPr>
          <a:xfrm>
            <a:off x="6770520" y="4986360"/>
            <a:ext cx="432000" cy="460080"/>
            <a:chOff x="6770520" y="4986360"/>
            <a:chExt cx="432000" cy="460080"/>
          </a:xfrm>
        </p:grpSpPr>
        <p:pic>
          <p:nvPicPr>
            <p:cNvPr id="1602" name="" descr=""/>
            <p:cNvPicPr/>
            <p:nvPr/>
          </p:nvPicPr>
          <p:blipFill>
            <a:blip r:embed="rId15"/>
            <a:stretch/>
          </p:blipFill>
          <p:spPr>
            <a:xfrm>
              <a:off x="6770520" y="4986360"/>
              <a:ext cx="43200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3" name=""/>
            <p:cNvSpPr/>
            <p:nvPr/>
          </p:nvSpPr>
          <p:spPr>
            <a:xfrm>
              <a:off x="6896160" y="5148000"/>
              <a:ext cx="304560" cy="298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4" name=""/>
          <p:cNvSpPr/>
          <p:nvPr/>
        </p:nvSpPr>
        <p:spPr>
          <a:xfrm>
            <a:off x="7118280" y="486720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5" name=""/>
          <p:cNvGrpSpPr/>
          <p:nvPr/>
        </p:nvGrpSpPr>
        <p:grpSpPr>
          <a:xfrm>
            <a:off x="7939080" y="4162320"/>
            <a:ext cx="236520" cy="501480"/>
            <a:chOff x="7939080" y="4162320"/>
            <a:chExt cx="236520" cy="501480"/>
          </a:xfrm>
        </p:grpSpPr>
        <p:sp>
          <p:nvSpPr>
            <p:cNvPr id="1606" name=""/>
            <p:cNvSpPr/>
            <p:nvPr/>
          </p:nvSpPr>
          <p:spPr>
            <a:xfrm>
              <a:off x="7939080" y="4547880"/>
              <a:ext cx="236520" cy="115920"/>
            </a:xfrm>
            <a:prstGeom prst="parallelogram">
              <a:avLst>
                <a:gd name="adj" fmla="val 7860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058600" y="4165560"/>
              <a:ext cx="108720" cy="3852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940160" y="4274640"/>
              <a:ext cx="149760" cy="385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939080" y="4162320"/>
              <a:ext cx="236520" cy="115920"/>
            </a:xfrm>
            <a:prstGeom prst="parallelogram">
              <a:avLst>
                <a:gd name="adj" fmla="val 7860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8175600" y="417024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>
              <a:off x="8090280" y="4547880"/>
              <a:ext cx="8496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959240" y="4325760"/>
              <a:ext cx="99360" cy="2221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973640" y="4392720"/>
              <a:ext cx="75240" cy="7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4" name=""/>
          <p:cNvGrpSpPr/>
          <p:nvPr/>
        </p:nvGrpSpPr>
        <p:grpSpPr>
          <a:xfrm>
            <a:off x="7924680" y="4707000"/>
            <a:ext cx="236520" cy="499680"/>
            <a:chOff x="7924680" y="4707000"/>
            <a:chExt cx="236520" cy="499680"/>
          </a:xfrm>
        </p:grpSpPr>
        <p:sp>
          <p:nvSpPr>
            <p:cNvPr id="1615" name=""/>
            <p:cNvSpPr/>
            <p:nvPr/>
          </p:nvSpPr>
          <p:spPr>
            <a:xfrm>
              <a:off x="7924680" y="5091120"/>
              <a:ext cx="236520" cy="115560"/>
            </a:xfrm>
            <a:prstGeom prst="parallelogram">
              <a:avLst>
                <a:gd name="adj" fmla="val 7884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8044200" y="4710240"/>
              <a:ext cx="108720" cy="3837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925760" y="4818960"/>
              <a:ext cx="149760" cy="384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924680" y="4707000"/>
              <a:ext cx="236520" cy="115560"/>
            </a:xfrm>
            <a:prstGeom prst="parallelogram">
              <a:avLst>
                <a:gd name="adj" fmla="val 7884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8161200" y="4714920"/>
              <a:ext cx="0" cy="37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H="1">
              <a:off x="8075880" y="5091120"/>
              <a:ext cx="84960" cy="11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944840" y="4869720"/>
              <a:ext cx="99360" cy="221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959240" y="4936680"/>
              <a:ext cx="7524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3" name=""/>
          <p:cNvSpPr/>
          <p:nvPr/>
        </p:nvSpPr>
        <p:spPr>
          <a:xfrm flipV="1">
            <a:off x="7846920" y="4246200"/>
            <a:ext cx="0" cy="74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7842240" y="4991040"/>
            <a:ext cx="11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7839000" y="440856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 flipV="1">
            <a:off x="6389640" y="2081160"/>
            <a:ext cx="51912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7451640" y="2062080"/>
            <a:ext cx="55260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 flipH="1">
            <a:off x="8042400" y="2473200"/>
            <a:ext cx="272880" cy="83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7165800" y="2198520"/>
            <a:ext cx="0" cy="5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7194600" y="2990880"/>
            <a:ext cx="60804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 flipH="1">
            <a:off x="7718400" y="3560760"/>
            <a:ext cx="303120" cy="44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 flipH="1">
            <a:off x="7459200" y="2433600"/>
            <a:ext cx="63828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 flipH="1">
            <a:off x="7470360" y="1749600"/>
            <a:ext cx="398520" cy="31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>
            <a:off x="8287920" y="1963800"/>
            <a:ext cx="22860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5" name=""/>
          <p:cNvGrpSpPr/>
          <p:nvPr/>
        </p:nvGrpSpPr>
        <p:grpSpPr>
          <a:xfrm>
            <a:off x="5797440" y="2198520"/>
            <a:ext cx="569880" cy="285480"/>
            <a:chOff x="5797440" y="2198520"/>
            <a:chExt cx="569880" cy="285480"/>
          </a:xfrm>
        </p:grpSpPr>
        <p:sp>
          <p:nvSpPr>
            <p:cNvPr id="1636" name=""/>
            <p:cNvSpPr/>
            <p:nvPr/>
          </p:nvSpPr>
          <p:spPr>
            <a:xfrm>
              <a:off x="5801760" y="2325960"/>
              <a:ext cx="565200" cy="1580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801760" y="231264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367320" y="231264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801760" y="2312640"/>
              <a:ext cx="560160" cy="96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797440" y="2198520"/>
              <a:ext cx="564840" cy="184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1" name=""/>
            <p:cNvGrpSpPr/>
            <p:nvPr/>
          </p:nvGrpSpPr>
          <p:grpSpPr>
            <a:xfrm>
              <a:off x="5933160" y="2239200"/>
              <a:ext cx="279720" cy="107640"/>
              <a:chOff x="5933160" y="2239200"/>
              <a:chExt cx="279720" cy="107640"/>
            </a:xfrm>
          </p:grpSpPr>
          <p:sp>
            <p:nvSpPr>
              <p:cNvPr id="1642" name=""/>
              <p:cNvSpPr/>
              <p:nvPr/>
            </p:nvSpPr>
            <p:spPr>
              <a:xfrm flipV="1">
                <a:off x="5933160" y="223920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6125040" y="234684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6024960" y="2241360"/>
                <a:ext cx="10368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5" name=""/>
            <p:cNvGrpSpPr/>
            <p:nvPr/>
          </p:nvGrpSpPr>
          <p:grpSpPr>
            <a:xfrm>
              <a:off x="5933160" y="2237400"/>
              <a:ext cx="279720" cy="107640"/>
              <a:chOff x="5933160" y="2237400"/>
              <a:chExt cx="279720" cy="107640"/>
            </a:xfrm>
          </p:grpSpPr>
          <p:sp>
            <p:nvSpPr>
              <p:cNvPr id="1646" name=""/>
              <p:cNvSpPr/>
              <p:nvPr/>
            </p:nvSpPr>
            <p:spPr>
              <a:xfrm>
                <a:off x="5933160" y="234288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6125040" y="223740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 flipV="1">
                <a:off x="6024960" y="2237400"/>
                <a:ext cx="10368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49" name=""/>
          <p:cNvGrpSpPr/>
          <p:nvPr/>
        </p:nvGrpSpPr>
        <p:grpSpPr>
          <a:xfrm>
            <a:off x="6880320" y="1919160"/>
            <a:ext cx="571320" cy="285480"/>
            <a:chOff x="6880320" y="1919160"/>
            <a:chExt cx="571320" cy="285480"/>
          </a:xfrm>
        </p:grpSpPr>
        <p:sp>
          <p:nvSpPr>
            <p:cNvPr id="1650" name=""/>
            <p:cNvSpPr/>
            <p:nvPr/>
          </p:nvSpPr>
          <p:spPr>
            <a:xfrm>
              <a:off x="6884640" y="2046600"/>
              <a:ext cx="566640" cy="1580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6884640" y="203328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451640" y="203328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884640" y="2033280"/>
              <a:ext cx="561600" cy="96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880320" y="1919160"/>
              <a:ext cx="566280" cy="184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5" name=""/>
            <p:cNvGrpSpPr/>
            <p:nvPr/>
          </p:nvGrpSpPr>
          <p:grpSpPr>
            <a:xfrm>
              <a:off x="7016400" y="1959840"/>
              <a:ext cx="280440" cy="107640"/>
              <a:chOff x="7016400" y="1959840"/>
              <a:chExt cx="280440" cy="107640"/>
            </a:xfrm>
          </p:grpSpPr>
          <p:sp>
            <p:nvSpPr>
              <p:cNvPr id="1656" name=""/>
              <p:cNvSpPr/>
              <p:nvPr/>
            </p:nvSpPr>
            <p:spPr>
              <a:xfrm flipV="1">
                <a:off x="7016400" y="1959840"/>
                <a:ext cx="100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7208640" y="2067480"/>
                <a:ext cx="88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7108560" y="1962000"/>
                <a:ext cx="10404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9" name=""/>
            <p:cNvGrpSpPr/>
            <p:nvPr/>
          </p:nvGrpSpPr>
          <p:grpSpPr>
            <a:xfrm>
              <a:off x="7016400" y="1958040"/>
              <a:ext cx="280440" cy="107640"/>
              <a:chOff x="7016400" y="1958040"/>
              <a:chExt cx="280440" cy="107640"/>
            </a:xfrm>
          </p:grpSpPr>
          <p:sp>
            <p:nvSpPr>
              <p:cNvPr id="1660" name=""/>
              <p:cNvSpPr/>
              <p:nvPr/>
            </p:nvSpPr>
            <p:spPr>
              <a:xfrm>
                <a:off x="7016400" y="2063520"/>
                <a:ext cx="100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7208640" y="1958040"/>
                <a:ext cx="88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flipV="1">
                <a:off x="7108560" y="1958040"/>
                <a:ext cx="10404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3" name=""/>
          <p:cNvGrpSpPr/>
          <p:nvPr/>
        </p:nvGrpSpPr>
        <p:grpSpPr>
          <a:xfrm>
            <a:off x="6900840" y="2724120"/>
            <a:ext cx="569880" cy="285480"/>
            <a:chOff x="6900840" y="2724120"/>
            <a:chExt cx="569880" cy="285480"/>
          </a:xfrm>
        </p:grpSpPr>
        <p:sp>
          <p:nvSpPr>
            <p:cNvPr id="1664" name=""/>
            <p:cNvSpPr/>
            <p:nvPr/>
          </p:nvSpPr>
          <p:spPr>
            <a:xfrm>
              <a:off x="6905160" y="2851560"/>
              <a:ext cx="565200" cy="1580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905160" y="283824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470720" y="283824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905160" y="2838240"/>
              <a:ext cx="560160" cy="96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900840" y="2724120"/>
              <a:ext cx="564840" cy="184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9" name=""/>
            <p:cNvGrpSpPr/>
            <p:nvPr/>
          </p:nvGrpSpPr>
          <p:grpSpPr>
            <a:xfrm>
              <a:off x="7036560" y="2764800"/>
              <a:ext cx="279720" cy="107640"/>
              <a:chOff x="7036560" y="2764800"/>
              <a:chExt cx="279720" cy="107640"/>
            </a:xfrm>
          </p:grpSpPr>
          <p:sp>
            <p:nvSpPr>
              <p:cNvPr id="1670" name=""/>
              <p:cNvSpPr/>
              <p:nvPr/>
            </p:nvSpPr>
            <p:spPr>
              <a:xfrm flipV="1">
                <a:off x="7036560" y="276480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7228440" y="287244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7128360" y="2766960"/>
                <a:ext cx="10368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3" name=""/>
            <p:cNvGrpSpPr/>
            <p:nvPr/>
          </p:nvGrpSpPr>
          <p:grpSpPr>
            <a:xfrm>
              <a:off x="7036560" y="2763000"/>
              <a:ext cx="279720" cy="107640"/>
              <a:chOff x="7036560" y="2763000"/>
              <a:chExt cx="279720" cy="107640"/>
            </a:xfrm>
          </p:grpSpPr>
          <p:sp>
            <p:nvSpPr>
              <p:cNvPr id="1674" name=""/>
              <p:cNvSpPr/>
              <p:nvPr/>
            </p:nvSpPr>
            <p:spPr>
              <a:xfrm>
                <a:off x="7036560" y="286848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7228440" y="276300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flipV="1">
                <a:off x="7128360" y="2763000"/>
                <a:ext cx="10368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7" name=""/>
          <p:cNvGrpSpPr/>
          <p:nvPr/>
        </p:nvGrpSpPr>
        <p:grpSpPr>
          <a:xfrm>
            <a:off x="8004240" y="2174760"/>
            <a:ext cx="569880" cy="284040"/>
            <a:chOff x="8004240" y="2174760"/>
            <a:chExt cx="569880" cy="284040"/>
          </a:xfrm>
        </p:grpSpPr>
        <p:sp>
          <p:nvSpPr>
            <p:cNvPr id="1678" name=""/>
            <p:cNvSpPr/>
            <p:nvPr/>
          </p:nvSpPr>
          <p:spPr>
            <a:xfrm>
              <a:off x="8008560" y="2301480"/>
              <a:ext cx="565200" cy="157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8008560" y="228816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8574120" y="228816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8008560" y="2288160"/>
              <a:ext cx="560160" cy="96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8004240" y="2174760"/>
              <a:ext cx="564840" cy="183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3" name=""/>
            <p:cNvGrpSpPr/>
            <p:nvPr/>
          </p:nvGrpSpPr>
          <p:grpSpPr>
            <a:xfrm>
              <a:off x="8139960" y="2215080"/>
              <a:ext cx="279720" cy="107280"/>
              <a:chOff x="8139960" y="2215080"/>
              <a:chExt cx="279720" cy="107280"/>
            </a:xfrm>
          </p:grpSpPr>
          <p:sp>
            <p:nvSpPr>
              <p:cNvPr id="1684" name=""/>
              <p:cNvSpPr/>
              <p:nvPr/>
            </p:nvSpPr>
            <p:spPr>
              <a:xfrm flipV="1">
                <a:off x="8139960" y="221508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8331840" y="232236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8231760" y="221724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7" name=""/>
            <p:cNvGrpSpPr/>
            <p:nvPr/>
          </p:nvGrpSpPr>
          <p:grpSpPr>
            <a:xfrm>
              <a:off x="8139960" y="2213640"/>
              <a:ext cx="279720" cy="107280"/>
              <a:chOff x="8139960" y="2213640"/>
              <a:chExt cx="279720" cy="107280"/>
            </a:xfrm>
          </p:grpSpPr>
          <p:sp>
            <p:nvSpPr>
              <p:cNvPr id="1688" name=""/>
              <p:cNvSpPr/>
              <p:nvPr/>
            </p:nvSpPr>
            <p:spPr>
              <a:xfrm>
                <a:off x="8139960" y="231876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8331840" y="221364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 flipV="1">
                <a:off x="8231760" y="221364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1" name=""/>
          <p:cNvGrpSpPr/>
          <p:nvPr/>
        </p:nvGrpSpPr>
        <p:grpSpPr>
          <a:xfrm>
            <a:off x="7783560" y="3271680"/>
            <a:ext cx="569880" cy="284040"/>
            <a:chOff x="7783560" y="3271680"/>
            <a:chExt cx="569880" cy="284040"/>
          </a:xfrm>
        </p:grpSpPr>
        <p:sp>
          <p:nvSpPr>
            <p:cNvPr id="1692" name=""/>
            <p:cNvSpPr/>
            <p:nvPr/>
          </p:nvSpPr>
          <p:spPr>
            <a:xfrm>
              <a:off x="7787880" y="3398400"/>
              <a:ext cx="565200" cy="157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787880" y="338508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8353440" y="338508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787880" y="3385080"/>
              <a:ext cx="560160" cy="96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783560" y="3271680"/>
              <a:ext cx="564840" cy="183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7" name=""/>
            <p:cNvGrpSpPr/>
            <p:nvPr/>
          </p:nvGrpSpPr>
          <p:grpSpPr>
            <a:xfrm>
              <a:off x="7919280" y="3312000"/>
              <a:ext cx="279720" cy="107280"/>
              <a:chOff x="7919280" y="3312000"/>
              <a:chExt cx="279720" cy="107280"/>
            </a:xfrm>
          </p:grpSpPr>
          <p:sp>
            <p:nvSpPr>
              <p:cNvPr id="1698" name=""/>
              <p:cNvSpPr/>
              <p:nvPr/>
            </p:nvSpPr>
            <p:spPr>
              <a:xfrm flipV="1">
                <a:off x="7919280" y="331200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8111160" y="341928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8011080" y="331416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1" name=""/>
            <p:cNvGrpSpPr/>
            <p:nvPr/>
          </p:nvGrpSpPr>
          <p:grpSpPr>
            <a:xfrm>
              <a:off x="7919280" y="3310560"/>
              <a:ext cx="279720" cy="107280"/>
              <a:chOff x="7919280" y="3310560"/>
              <a:chExt cx="279720" cy="107280"/>
            </a:xfrm>
          </p:grpSpPr>
          <p:sp>
            <p:nvSpPr>
              <p:cNvPr id="1702" name=""/>
              <p:cNvSpPr/>
              <p:nvPr/>
            </p:nvSpPr>
            <p:spPr>
              <a:xfrm>
                <a:off x="7919280" y="341568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8111160" y="331056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V="1">
                <a:off x="8011080" y="331056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05" name=""/>
          <p:cNvGrpSpPr/>
          <p:nvPr/>
        </p:nvGrpSpPr>
        <p:grpSpPr>
          <a:xfrm>
            <a:off x="7405560" y="3986280"/>
            <a:ext cx="568440" cy="286920"/>
            <a:chOff x="7405560" y="3986280"/>
            <a:chExt cx="568440" cy="286920"/>
          </a:xfrm>
        </p:grpSpPr>
        <p:sp>
          <p:nvSpPr>
            <p:cNvPr id="1706" name=""/>
            <p:cNvSpPr/>
            <p:nvPr/>
          </p:nvSpPr>
          <p:spPr>
            <a:xfrm>
              <a:off x="7409880" y="4114440"/>
              <a:ext cx="563760" cy="1587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409880" y="410076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7974000" y="410076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7409880" y="4100760"/>
              <a:ext cx="558720" cy="97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405560" y="3986280"/>
              <a:ext cx="563400" cy="1854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1" name=""/>
            <p:cNvGrpSpPr/>
            <p:nvPr/>
          </p:nvGrpSpPr>
          <p:grpSpPr>
            <a:xfrm>
              <a:off x="7540920" y="4026960"/>
              <a:ext cx="278640" cy="108360"/>
              <a:chOff x="7540920" y="4026960"/>
              <a:chExt cx="278640" cy="108360"/>
            </a:xfrm>
          </p:grpSpPr>
          <p:sp>
            <p:nvSpPr>
              <p:cNvPr id="1712" name=""/>
              <p:cNvSpPr/>
              <p:nvPr/>
            </p:nvSpPr>
            <p:spPr>
              <a:xfrm flipV="1">
                <a:off x="7540920" y="4026960"/>
                <a:ext cx="99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7732080" y="413532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7632720" y="4029120"/>
                <a:ext cx="10332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5" name=""/>
            <p:cNvGrpSpPr/>
            <p:nvPr/>
          </p:nvGrpSpPr>
          <p:grpSpPr>
            <a:xfrm>
              <a:off x="7540920" y="4025160"/>
              <a:ext cx="278640" cy="108360"/>
              <a:chOff x="7540920" y="4025160"/>
              <a:chExt cx="278640" cy="108360"/>
            </a:xfrm>
          </p:grpSpPr>
          <p:sp>
            <p:nvSpPr>
              <p:cNvPr id="1716" name=""/>
              <p:cNvSpPr/>
              <p:nvPr/>
            </p:nvSpPr>
            <p:spPr>
              <a:xfrm>
                <a:off x="7540920" y="4131360"/>
                <a:ext cx="99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7732080" y="402516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 flipV="1">
                <a:off x="7632720" y="4025160"/>
                <a:ext cx="10332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19" name=""/>
          <p:cNvGrpSpPr/>
          <p:nvPr/>
        </p:nvGrpSpPr>
        <p:grpSpPr>
          <a:xfrm>
            <a:off x="6710400" y="4584600"/>
            <a:ext cx="569880" cy="284040"/>
            <a:chOff x="6710400" y="4584600"/>
            <a:chExt cx="569880" cy="284040"/>
          </a:xfrm>
        </p:grpSpPr>
        <p:sp>
          <p:nvSpPr>
            <p:cNvPr id="1720" name=""/>
            <p:cNvSpPr/>
            <p:nvPr/>
          </p:nvSpPr>
          <p:spPr>
            <a:xfrm>
              <a:off x="6714720" y="4711320"/>
              <a:ext cx="565200" cy="157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714720" y="469800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280280" y="469800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714720" y="4698000"/>
              <a:ext cx="560160" cy="96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710400" y="4584600"/>
              <a:ext cx="564840" cy="183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5" name=""/>
            <p:cNvGrpSpPr/>
            <p:nvPr/>
          </p:nvGrpSpPr>
          <p:grpSpPr>
            <a:xfrm>
              <a:off x="6846120" y="4624920"/>
              <a:ext cx="279720" cy="107280"/>
              <a:chOff x="6846120" y="4624920"/>
              <a:chExt cx="279720" cy="107280"/>
            </a:xfrm>
          </p:grpSpPr>
          <p:sp>
            <p:nvSpPr>
              <p:cNvPr id="1726" name=""/>
              <p:cNvSpPr/>
              <p:nvPr/>
            </p:nvSpPr>
            <p:spPr>
              <a:xfrm flipV="1">
                <a:off x="6846120" y="462492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7038000" y="473220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6937920" y="462708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9" name=""/>
            <p:cNvGrpSpPr/>
            <p:nvPr/>
          </p:nvGrpSpPr>
          <p:grpSpPr>
            <a:xfrm>
              <a:off x="6846120" y="4623480"/>
              <a:ext cx="279720" cy="107280"/>
              <a:chOff x="6846120" y="4623480"/>
              <a:chExt cx="279720" cy="107280"/>
            </a:xfrm>
          </p:grpSpPr>
          <p:sp>
            <p:nvSpPr>
              <p:cNvPr id="1730" name=""/>
              <p:cNvSpPr/>
              <p:nvPr/>
            </p:nvSpPr>
            <p:spPr>
              <a:xfrm>
                <a:off x="6846120" y="472860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038000" y="462348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 flipV="1">
                <a:off x="6937920" y="462348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33" name=""/>
          <p:cNvGrpSpPr/>
          <p:nvPr/>
        </p:nvGrpSpPr>
        <p:grpSpPr>
          <a:xfrm>
            <a:off x="5797440" y="4124160"/>
            <a:ext cx="569880" cy="284040"/>
            <a:chOff x="5797440" y="4124160"/>
            <a:chExt cx="569880" cy="284040"/>
          </a:xfrm>
        </p:grpSpPr>
        <p:sp>
          <p:nvSpPr>
            <p:cNvPr id="1734" name=""/>
            <p:cNvSpPr/>
            <p:nvPr/>
          </p:nvSpPr>
          <p:spPr>
            <a:xfrm>
              <a:off x="5801760" y="4250880"/>
              <a:ext cx="565200" cy="157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801760" y="423756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367320" y="423756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5801760" y="4237560"/>
              <a:ext cx="560160" cy="96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797440" y="4124160"/>
              <a:ext cx="564840" cy="183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9" name=""/>
            <p:cNvGrpSpPr/>
            <p:nvPr/>
          </p:nvGrpSpPr>
          <p:grpSpPr>
            <a:xfrm>
              <a:off x="5933160" y="4164480"/>
              <a:ext cx="279720" cy="107280"/>
              <a:chOff x="5933160" y="4164480"/>
              <a:chExt cx="279720" cy="107280"/>
            </a:xfrm>
          </p:grpSpPr>
          <p:sp>
            <p:nvSpPr>
              <p:cNvPr id="1740" name=""/>
              <p:cNvSpPr/>
              <p:nvPr/>
            </p:nvSpPr>
            <p:spPr>
              <a:xfrm flipV="1">
                <a:off x="5933160" y="416448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6125040" y="427176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6024960" y="416664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3" name=""/>
            <p:cNvGrpSpPr/>
            <p:nvPr/>
          </p:nvGrpSpPr>
          <p:grpSpPr>
            <a:xfrm>
              <a:off x="5933160" y="4163040"/>
              <a:ext cx="279720" cy="107280"/>
              <a:chOff x="5933160" y="4163040"/>
              <a:chExt cx="279720" cy="107280"/>
            </a:xfrm>
          </p:grpSpPr>
          <p:sp>
            <p:nvSpPr>
              <p:cNvPr id="1744" name=""/>
              <p:cNvSpPr/>
              <p:nvPr/>
            </p:nvSpPr>
            <p:spPr>
              <a:xfrm>
                <a:off x="5933160" y="426816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125040" y="416304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 flipV="1">
                <a:off x="6024960" y="416304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47" name=""/>
          <p:cNvSpPr/>
          <p:nvPr/>
        </p:nvSpPr>
        <p:spPr>
          <a:xfrm>
            <a:off x="5126040" y="1933560"/>
            <a:ext cx="3036960" cy="3114720"/>
          </a:xfrm>
          <a:custGeom>
            <a:avLst/>
            <a:gdLst/>
            <a:ahLst/>
            <a:rect l="l" t="t" r="r" b="b"/>
            <a:pathLst>
              <a:path w="1914" h="1962">
                <a:moveTo>
                  <a:pt x="0" y="0"/>
                </a:moveTo>
                <a:lnTo>
                  <a:pt x="258" y="12"/>
                </a:lnTo>
                <a:lnTo>
                  <a:pt x="426" y="198"/>
                </a:lnTo>
                <a:lnTo>
                  <a:pt x="768" y="204"/>
                </a:lnTo>
                <a:lnTo>
                  <a:pt x="1086" y="48"/>
                </a:lnTo>
                <a:lnTo>
                  <a:pt x="1326" y="48"/>
                </a:lnTo>
                <a:lnTo>
                  <a:pt x="1326" y="588"/>
                </a:lnTo>
                <a:lnTo>
                  <a:pt x="1890" y="990"/>
                </a:lnTo>
                <a:lnTo>
                  <a:pt x="1662" y="1320"/>
                </a:lnTo>
                <a:lnTo>
                  <a:pt x="1662" y="1944"/>
                </a:lnTo>
                <a:lnTo>
                  <a:pt x="1914" y="1962"/>
                </a:ln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5991120" y="2152800"/>
            <a:ext cx="1924200" cy="2990880"/>
          </a:xfrm>
          <a:custGeom>
            <a:avLst/>
            <a:gdLst/>
            <a:ahLst/>
            <a:rect l="l" t="t" r="r" b="b"/>
            <a:pathLst>
              <a:path w="1212" h="1884">
                <a:moveTo>
                  <a:pt x="0" y="702"/>
                </a:moveTo>
                <a:lnTo>
                  <a:pt x="0" y="228"/>
                </a:lnTo>
                <a:lnTo>
                  <a:pt x="156" y="228"/>
                </a:lnTo>
                <a:lnTo>
                  <a:pt x="612" y="0"/>
                </a:lnTo>
                <a:lnTo>
                  <a:pt x="714" y="0"/>
                </a:lnTo>
                <a:lnTo>
                  <a:pt x="714" y="558"/>
                </a:lnTo>
                <a:lnTo>
                  <a:pt x="1212" y="912"/>
                </a:lnTo>
                <a:lnTo>
                  <a:pt x="720" y="1668"/>
                </a:lnTo>
                <a:lnTo>
                  <a:pt x="720" y="1884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080040" y="4416480"/>
            <a:ext cx="1800" cy="2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3989-A774-45AD-9460-B9C3136E46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Núcleo da Rede: Comutação de Circuito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cursos da rede (ex., banda) são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divididos em “pedaço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edaços alocados às chamad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 pedaço do recurso fica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ocioso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se não for usado pelo seu dono (não há compartilhament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o é feita a divisão da banda de um canal em “pedaços” (multiplexaçã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ivisão de freqüênc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ivisão de temp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D2E8-6BE4-4F22-AB68-535D7BA577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39200" y="22680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Comutação de Circuitos: FDMA e TDMA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1754" name=""/>
          <p:cNvGrpSpPr/>
          <p:nvPr/>
        </p:nvGrpSpPr>
        <p:grpSpPr>
          <a:xfrm>
            <a:off x="397440" y="1585800"/>
            <a:ext cx="7236720" cy="2440800"/>
            <a:chOff x="397440" y="1585800"/>
            <a:chExt cx="7236720" cy="2440800"/>
          </a:xfrm>
        </p:grpSpPr>
        <p:sp>
          <p:nvSpPr>
            <p:cNvPr id="1755" name=""/>
            <p:cNvSpPr/>
            <p:nvPr/>
          </p:nvSpPr>
          <p:spPr>
            <a:xfrm>
              <a:off x="397440" y="158580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D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6" name=""/>
            <p:cNvGrpSpPr/>
            <p:nvPr/>
          </p:nvGrpSpPr>
          <p:grpSpPr>
            <a:xfrm>
              <a:off x="1084320" y="2196360"/>
              <a:ext cx="6549840" cy="1830240"/>
              <a:chOff x="1084320" y="2196360"/>
              <a:chExt cx="6549840" cy="1830240"/>
            </a:xfrm>
          </p:grpSpPr>
          <p:sp>
            <p:nvSpPr>
              <p:cNvPr id="1757" name=""/>
              <p:cNvSpPr/>
              <p:nvPr/>
            </p:nvSpPr>
            <p:spPr>
              <a:xfrm flipV="1">
                <a:off x="2681280" y="219636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1084320" y="2653920"/>
                <a:ext cx="1602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reqüênci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2681280" y="3492360"/>
                <a:ext cx="4952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4778640" y="3566880"/>
                <a:ext cx="102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mp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2757600" y="2501640"/>
                <a:ext cx="4572000" cy="914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2" name=""/>
          <p:cNvSpPr/>
          <p:nvPr/>
        </p:nvSpPr>
        <p:spPr>
          <a:xfrm>
            <a:off x="2743200" y="2514600"/>
            <a:ext cx="4572000" cy="228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2743200" y="2743200"/>
            <a:ext cx="457200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2743200" y="2971800"/>
            <a:ext cx="457200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2743200" y="3200400"/>
            <a:ext cx="4572000" cy="228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6" name=""/>
          <p:cNvGrpSpPr/>
          <p:nvPr/>
        </p:nvGrpSpPr>
        <p:grpSpPr>
          <a:xfrm>
            <a:off x="383040" y="4037040"/>
            <a:ext cx="7236720" cy="2518560"/>
            <a:chOff x="383040" y="4037040"/>
            <a:chExt cx="7236720" cy="2518560"/>
          </a:xfrm>
        </p:grpSpPr>
        <p:sp>
          <p:nvSpPr>
            <p:cNvPr id="1767" name=""/>
            <p:cNvSpPr/>
            <p:nvPr/>
          </p:nvSpPr>
          <p:spPr>
            <a:xfrm>
              <a:off x="383040" y="403704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D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V="1">
              <a:off x="2666880" y="472608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069920" y="5183280"/>
              <a:ext cx="160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reqüênc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666880" y="602136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4764240" y="6095880"/>
              <a:ext cx="102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mp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743200" y="5029200"/>
              <a:ext cx="457200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3" name=""/>
          <p:cNvGrpSpPr/>
          <p:nvPr/>
        </p:nvGrpSpPr>
        <p:grpSpPr>
          <a:xfrm>
            <a:off x="2743200" y="5029200"/>
            <a:ext cx="3886200" cy="914400"/>
            <a:chOff x="2743200" y="5029200"/>
            <a:chExt cx="3886200" cy="914400"/>
          </a:xfrm>
        </p:grpSpPr>
        <p:sp>
          <p:nvSpPr>
            <p:cNvPr id="1774" name=""/>
            <p:cNvSpPr/>
            <p:nvPr/>
          </p:nvSpPr>
          <p:spPr>
            <a:xfrm>
              <a:off x="2743200" y="502920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657600" y="502920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572000" y="502920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486400" y="502920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6400800" y="502920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9" name=""/>
          <p:cNvGrpSpPr/>
          <p:nvPr/>
        </p:nvGrpSpPr>
        <p:grpSpPr>
          <a:xfrm>
            <a:off x="2971800" y="5029200"/>
            <a:ext cx="3886200" cy="914400"/>
            <a:chOff x="2971800" y="5029200"/>
            <a:chExt cx="3886200" cy="914400"/>
          </a:xfrm>
        </p:grpSpPr>
        <p:sp>
          <p:nvSpPr>
            <p:cNvPr id="1780" name=""/>
            <p:cNvSpPr/>
            <p:nvPr/>
          </p:nvSpPr>
          <p:spPr>
            <a:xfrm>
              <a:off x="2971800" y="502920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3886200" y="502920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800600" y="502920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715000" y="502920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6629400" y="502920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5" name=""/>
          <p:cNvGrpSpPr/>
          <p:nvPr/>
        </p:nvGrpSpPr>
        <p:grpSpPr>
          <a:xfrm>
            <a:off x="3200400" y="5029200"/>
            <a:ext cx="3886200" cy="914400"/>
            <a:chOff x="3200400" y="5029200"/>
            <a:chExt cx="3886200" cy="914400"/>
          </a:xfrm>
        </p:grpSpPr>
        <p:sp>
          <p:nvSpPr>
            <p:cNvPr id="1786" name=""/>
            <p:cNvSpPr/>
            <p:nvPr/>
          </p:nvSpPr>
          <p:spPr>
            <a:xfrm>
              <a:off x="3200400" y="502920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4114800" y="502920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5029200" y="502920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943600" y="502920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6858000" y="502920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1" name=""/>
          <p:cNvGrpSpPr/>
          <p:nvPr/>
        </p:nvGrpSpPr>
        <p:grpSpPr>
          <a:xfrm>
            <a:off x="3429000" y="5029200"/>
            <a:ext cx="3886200" cy="914400"/>
            <a:chOff x="3429000" y="5029200"/>
            <a:chExt cx="3886200" cy="914400"/>
          </a:xfrm>
        </p:grpSpPr>
        <p:sp>
          <p:nvSpPr>
            <p:cNvPr id="1792" name=""/>
            <p:cNvSpPr/>
            <p:nvPr/>
          </p:nvSpPr>
          <p:spPr>
            <a:xfrm>
              <a:off x="3429000" y="502920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343400" y="502920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257800" y="502920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172200" y="502920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7086600" y="502920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7" name=""/>
          <p:cNvGrpSpPr/>
          <p:nvPr/>
        </p:nvGrpSpPr>
        <p:grpSpPr>
          <a:xfrm>
            <a:off x="2743200" y="2743200"/>
            <a:ext cx="4572000" cy="457200"/>
            <a:chOff x="2743200" y="2743200"/>
            <a:chExt cx="4572000" cy="457200"/>
          </a:xfrm>
        </p:grpSpPr>
        <p:sp>
          <p:nvSpPr>
            <p:cNvPr id="1798" name=""/>
            <p:cNvSpPr/>
            <p:nvPr/>
          </p:nvSpPr>
          <p:spPr>
            <a:xfrm>
              <a:off x="2743200" y="27432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2743200" y="29718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2743200" y="32004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1" name=""/>
          <p:cNvGrpSpPr/>
          <p:nvPr/>
        </p:nvGrpSpPr>
        <p:grpSpPr>
          <a:xfrm>
            <a:off x="2971800" y="5029200"/>
            <a:ext cx="4114800" cy="914400"/>
            <a:chOff x="2971800" y="5029200"/>
            <a:chExt cx="4114800" cy="914400"/>
          </a:xfrm>
        </p:grpSpPr>
        <p:sp>
          <p:nvSpPr>
            <p:cNvPr id="1802" name=""/>
            <p:cNvSpPr/>
            <p:nvPr/>
          </p:nvSpPr>
          <p:spPr>
            <a:xfrm>
              <a:off x="29718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32004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34290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36576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38862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1148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43434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5720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48006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0292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2578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4864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7150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9436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61722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64008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66294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68580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70866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1" name=""/>
          <p:cNvGrpSpPr/>
          <p:nvPr/>
        </p:nvGrpSpPr>
        <p:grpSpPr>
          <a:xfrm>
            <a:off x="2743200" y="2629080"/>
            <a:ext cx="4572000" cy="685800"/>
            <a:chOff x="2743200" y="2629080"/>
            <a:chExt cx="4572000" cy="685800"/>
          </a:xfrm>
        </p:grpSpPr>
        <p:sp>
          <p:nvSpPr>
            <p:cNvPr id="1822" name=""/>
            <p:cNvSpPr/>
            <p:nvPr/>
          </p:nvSpPr>
          <p:spPr>
            <a:xfrm>
              <a:off x="2743200" y="26290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2743200" y="28576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2743200" y="30862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743200" y="33148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6" name=""/>
          <p:cNvGrpSpPr/>
          <p:nvPr/>
        </p:nvGrpSpPr>
        <p:grpSpPr>
          <a:xfrm>
            <a:off x="2859120" y="5029200"/>
            <a:ext cx="4343400" cy="914400"/>
            <a:chOff x="2859120" y="5029200"/>
            <a:chExt cx="4343400" cy="914400"/>
          </a:xfrm>
        </p:grpSpPr>
        <p:sp>
          <p:nvSpPr>
            <p:cNvPr id="1827" name=""/>
            <p:cNvSpPr/>
            <p:nvPr/>
          </p:nvSpPr>
          <p:spPr>
            <a:xfrm>
              <a:off x="285912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308772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331632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354492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377352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400212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423072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445932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468792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491652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14512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537372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60232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83092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05952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28812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51672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74532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97392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720252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7" name=""/>
          <p:cNvGrpSpPr/>
          <p:nvPr/>
        </p:nvGrpSpPr>
        <p:grpSpPr>
          <a:xfrm>
            <a:off x="5372280" y="1257480"/>
            <a:ext cx="2706480" cy="954720"/>
            <a:chOff x="5372280" y="1257480"/>
            <a:chExt cx="2706480" cy="954720"/>
          </a:xfrm>
        </p:grpSpPr>
        <p:grpSp>
          <p:nvGrpSpPr>
            <p:cNvPr id="1848" name=""/>
            <p:cNvGrpSpPr/>
            <p:nvPr/>
          </p:nvGrpSpPr>
          <p:grpSpPr>
            <a:xfrm>
              <a:off x="5372280" y="1752480"/>
              <a:ext cx="2706480" cy="459720"/>
              <a:chOff x="5372280" y="1752480"/>
              <a:chExt cx="2706480" cy="459720"/>
            </a:xfrm>
          </p:grpSpPr>
          <p:sp>
            <p:nvSpPr>
              <p:cNvPr id="1849" name=""/>
              <p:cNvSpPr/>
              <p:nvPr/>
            </p:nvSpPr>
            <p:spPr>
              <a:xfrm>
                <a:off x="5372280" y="1752480"/>
                <a:ext cx="15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 usuário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935760" y="1854000"/>
                <a:ext cx="228600" cy="22860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7240680" y="1854000"/>
                <a:ext cx="228600" cy="2286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7545240" y="185400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7850160" y="1854000"/>
                <a:ext cx="228600" cy="2286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4" name=""/>
            <p:cNvSpPr/>
            <p:nvPr/>
          </p:nvSpPr>
          <p:spPr>
            <a:xfrm>
              <a:off x="5376600" y="125748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empl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8FD6-C5F1-44A8-90C9-1A4F7AFC14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Núcleo da Rede: Comutação de Pacote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ada fluxo de dados fim a fim é dividido em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paco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cotes dos usuários A, B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compartilham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os recursos da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da pacote usa toda a banda do canal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cursos são usados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quando necessário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7" name=""/>
          <p:cNvSpPr/>
          <p:nvPr/>
        </p:nvSpPr>
        <p:spPr>
          <a:xfrm>
            <a:off x="4799160" y="1179360"/>
            <a:ext cx="41162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Disputa por recurso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 demanda total pelos recursos pode superar a quantidade disponí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ngestionamento: pacotes são enfileirados, esperam para usar o en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rmazena e retransmite: pacotes se deslocam uma etapa por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ransmite num en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spera a vez no próx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8" name=""/>
          <p:cNvGrpSpPr/>
          <p:nvPr/>
        </p:nvGrpSpPr>
        <p:grpSpPr>
          <a:xfrm>
            <a:off x="533520" y="5100480"/>
            <a:ext cx="4038480" cy="1455840"/>
            <a:chOff x="533520" y="5100480"/>
            <a:chExt cx="4038480" cy="1455840"/>
          </a:xfrm>
        </p:grpSpPr>
        <p:sp>
          <p:nvSpPr>
            <p:cNvPr id="1859" name=""/>
            <p:cNvSpPr/>
            <p:nvPr/>
          </p:nvSpPr>
          <p:spPr>
            <a:xfrm>
              <a:off x="533520" y="5261040"/>
              <a:ext cx="403848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ivisão da banda em “pedaços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locação dedica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eserva de recurs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0" name=""/>
            <p:cNvGrpSpPr/>
            <p:nvPr/>
          </p:nvGrpSpPr>
          <p:grpSpPr>
            <a:xfrm>
              <a:off x="1743120" y="5100480"/>
              <a:ext cx="1533600" cy="1435320"/>
              <a:chOff x="1743120" y="5100480"/>
              <a:chExt cx="1533600" cy="1435320"/>
            </a:xfrm>
          </p:grpSpPr>
          <p:sp>
            <p:nvSpPr>
              <p:cNvPr id="1861" name=""/>
              <p:cNvSpPr/>
              <p:nvPr/>
            </p:nvSpPr>
            <p:spPr>
              <a:xfrm>
                <a:off x="1743120" y="5100480"/>
                <a:ext cx="1533600" cy="14353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2039760" y="5248800"/>
                <a:ext cx="989280" cy="10886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57BA-96A0-442B-8D58-7135D1283E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utação de Pacotes: Multiplexação Estatístic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838080" y="4876560"/>
            <a:ext cx="7467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 seqüência de pacotes A &amp; B não possuem um padrão constante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multiplexação estatíst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 TDM cada host utiliza o mesmo slot em cada um dos quadros TD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5" name="" descr=""/>
          <p:cNvPicPr/>
          <p:nvPr/>
        </p:nvPicPr>
        <p:blipFill>
          <a:blip r:embed="rId1"/>
          <a:stretch/>
        </p:blipFill>
        <p:spPr>
          <a:xfrm>
            <a:off x="1204920" y="2470320"/>
            <a:ext cx="641520" cy="533160"/>
          </a:xfrm>
          <a:prstGeom prst="rect">
            <a:avLst/>
          </a:prstGeom>
          <a:ln w="0">
            <a:noFill/>
          </a:ln>
        </p:spPr>
      </p:pic>
      <p:sp>
        <p:nvSpPr>
          <p:cNvPr id="1866" name=""/>
          <p:cNvSpPr/>
          <p:nvPr/>
        </p:nvSpPr>
        <p:spPr>
          <a:xfrm>
            <a:off x="3538440" y="230364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2320920" y="2333520"/>
            <a:ext cx="1198440" cy="3700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2320920" y="2265480"/>
            <a:ext cx="119844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2330280" y="2036880"/>
            <a:ext cx="119880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0" name=""/>
          <p:cNvGrpSpPr/>
          <p:nvPr/>
        </p:nvGrpSpPr>
        <p:grpSpPr>
          <a:xfrm>
            <a:off x="2676600" y="2066760"/>
            <a:ext cx="497160" cy="118800"/>
            <a:chOff x="2676600" y="2066760"/>
            <a:chExt cx="497160" cy="118800"/>
          </a:xfrm>
        </p:grpSpPr>
        <p:grpSp>
          <p:nvGrpSpPr>
            <p:cNvPr id="1871" name=""/>
            <p:cNvGrpSpPr/>
            <p:nvPr/>
          </p:nvGrpSpPr>
          <p:grpSpPr>
            <a:xfrm>
              <a:off x="2676600" y="2068200"/>
              <a:ext cx="497160" cy="117360"/>
              <a:chOff x="2676600" y="2068200"/>
              <a:chExt cx="497160" cy="117360"/>
            </a:xfrm>
          </p:grpSpPr>
          <p:sp>
            <p:nvSpPr>
              <p:cNvPr id="1872" name=""/>
              <p:cNvSpPr/>
              <p:nvPr/>
            </p:nvSpPr>
            <p:spPr>
              <a:xfrm flipV="1">
                <a:off x="2676600" y="206820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3017520" y="218556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2840040" y="207036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5" name=""/>
            <p:cNvGrpSpPr/>
            <p:nvPr/>
          </p:nvGrpSpPr>
          <p:grpSpPr>
            <a:xfrm>
              <a:off x="2676600" y="2066760"/>
              <a:ext cx="497160" cy="117360"/>
              <a:chOff x="2676600" y="2066760"/>
              <a:chExt cx="497160" cy="117360"/>
            </a:xfrm>
          </p:grpSpPr>
          <p:sp>
            <p:nvSpPr>
              <p:cNvPr id="1876" name=""/>
              <p:cNvSpPr/>
              <p:nvPr/>
            </p:nvSpPr>
            <p:spPr>
              <a:xfrm>
                <a:off x="2676600" y="218196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3017520" y="206676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 flipV="1">
                <a:off x="2840040" y="206712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79" name=""/>
          <p:cNvSpPr/>
          <p:nvPr/>
        </p:nvSpPr>
        <p:spPr>
          <a:xfrm>
            <a:off x="5416560" y="2352600"/>
            <a:ext cx="1198440" cy="3700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5425920" y="2332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5425920" y="2293920"/>
            <a:ext cx="119880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5435640" y="2065320"/>
            <a:ext cx="119844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3" name="" descr=""/>
          <p:cNvPicPr/>
          <p:nvPr/>
        </p:nvPicPr>
        <p:blipFill>
          <a:blip r:embed="rId2"/>
          <a:stretch/>
        </p:blipFill>
        <p:spPr>
          <a:xfrm>
            <a:off x="7007400" y="1546200"/>
            <a:ext cx="641160" cy="533520"/>
          </a:xfrm>
          <a:prstGeom prst="rect">
            <a:avLst/>
          </a:prstGeom>
          <a:ln w="0">
            <a:noFill/>
          </a:ln>
        </p:spPr>
      </p:pic>
      <p:pic>
        <p:nvPicPr>
          <p:cNvPr id="1884" name="" descr=""/>
          <p:cNvPicPr/>
          <p:nvPr/>
        </p:nvPicPr>
        <p:blipFill>
          <a:blip r:embed="rId3"/>
          <a:stretch/>
        </p:blipFill>
        <p:spPr>
          <a:xfrm>
            <a:off x="969840" y="1565280"/>
            <a:ext cx="641520" cy="533520"/>
          </a:xfrm>
          <a:prstGeom prst="rect">
            <a:avLst/>
          </a:prstGeom>
          <a:ln w="0">
            <a:noFill/>
          </a:ln>
        </p:spPr>
      </p:pic>
      <p:sp>
        <p:nvSpPr>
          <p:cNvPr id="1885" name=""/>
          <p:cNvSpPr/>
          <p:nvPr/>
        </p:nvSpPr>
        <p:spPr>
          <a:xfrm>
            <a:off x="1590840" y="1971720"/>
            <a:ext cx="506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 flipV="1">
            <a:off x="1895400" y="2957400"/>
            <a:ext cx="195480" cy="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3514680" y="2390760"/>
            <a:ext cx="193536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 flipV="1">
            <a:off x="5621400" y="2724120"/>
            <a:ext cx="141120" cy="65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 flipV="1">
            <a:off x="6593040" y="1952280"/>
            <a:ext cx="502920" cy="26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2097000" y="1962000"/>
            <a:ext cx="0" cy="1000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2104920" y="2395440"/>
            <a:ext cx="201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3548160" y="2185920"/>
            <a:ext cx="14904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3710160" y="218592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3871800" y="2185920"/>
            <a:ext cx="1494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4033800" y="218592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4195800" y="218592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4567320" y="218592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5005440" y="218124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9" name=""/>
          <p:cNvGrpSpPr/>
          <p:nvPr/>
        </p:nvGrpSpPr>
        <p:grpSpPr>
          <a:xfrm>
            <a:off x="2859120" y="2262240"/>
            <a:ext cx="631440" cy="199800"/>
            <a:chOff x="2859120" y="2262240"/>
            <a:chExt cx="631440" cy="199800"/>
          </a:xfrm>
        </p:grpSpPr>
        <p:sp>
          <p:nvSpPr>
            <p:cNvPr id="1900" name=""/>
            <p:cNvSpPr/>
            <p:nvPr/>
          </p:nvSpPr>
          <p:spPr>
            <a:xfrm>
              <a:off x="2859120" y="2262240"/>
              <a:ext cx="14724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020040" y="2262240"/>
              <a:ext cx="147240" cy="1998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181680" y="2262240"/>
              <a:ext cx="14724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343320" y="2262240"/>
              <a:ext cx="14724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4" name=""/>
          <p:cNvSpPr/>
          <p:nvPr/>
        </p:nvSpPr>
        <p:spPr>
          <a:xfrm>
            <a:off x="2128680" y="2162160"/>
            <a:ext cx="14796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1909800" y="2733840"/>
            <a:ext cx="147600" cy="199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2306520" y="2266920"/>
            <a:ext cx="24156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 flipV="1">
            <a:off x="1971720" y="2543040"/>
            <a:ext cx="0" cy="17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3929040" y="2076480"/>
            <a:ext cx="106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627840" y="158904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887760" y="26082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6602760" y="14652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1644480" y="1312920"/>
            <a:ext cx="127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thern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 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3752280" y="242712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 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6023520" y="304632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4 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5468760" y="2205000"/>
            <a:ext cx="146160" cy="20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5629320" y="2205000"/>
            <a:ext cx="147600" cy="20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5791320" y="2205000"/>
            <a:ext cx="147600" cy="20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8" name=""/>
          <p:cNvGrpSpPr/>
          <p:nvPr/>
        </p:nvGrpSpPr>
        <p:grpSpPr>
          <a:xfrm>
            <a:off x="5711400" y="2268720"/>
            <a:ext cx="640800" cy="510480"/>
            <a:chOff x="5711400" y="2268720"/>
            <a:chExt cx="640800" cy="510480"/>
          </a:xfrm>
        </p:grpSpPr>
        <p:sp>
          <p:nvSpPr>
            <p:cNvPr id="1919" name=""/>
            <p:cNvSpPr/>
            <p:nvPr/>
          </p:nvSpPr>
          <p:spPr>
            <a:xfrm rot="19637400">
              <a:off x="5753520" y="2555280"/>
              <a:ext cx="147600" cy="19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rot="19637400">
              <a:off x="5889600" y="2467800"/>
              <a:ext cx="147600" cy="19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 rot="19637400">
              <a:off x="6026040" y="2380320"/>
              <a:ext cx="147600" cy="19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 rot="19637400">
              <a:off x="6162120" y="2292840"/>
              <a:ext cx="147600" cy="19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3" name=""/>
          <p:cNvGrpSpPr/>
          <p:nvPr/>
        </p:nvGrpSpPr>
        <p:grpSpPr>
          <a:xfrm>
            <a:off x="3680640" y="3341520"/>
            <a:ext cx="3104280" cy="1471680"/>
            <a:chOff x="3680640" y="3341520"/>
            <a:chExt cx="3104280" cy="1471680"/>
          </a:xfrm>
        </p:grpSpPr>
        <p:pic>
          <p:nvPicPr>
            <p:cNvPr id="1924" name="" descr=""/>
            <p:cNvPicPr/>
            <p:nvPr/>
          </p:nvPicPr>
          <p:blipFill>
            <a:blip r:embed="rId4"/>
            <a:stretch/>
          </p:blipFill>
          <p:spPr>
            <a:xfrm>
              <a:off x="5765760" y="4279680"/>
              <a:ext cx="645840" cy="533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25" name=""/>
            <p:cNvGrpSpPr/>
            <p:nvPr/>
          </p:nvGrpSpPr>
          <p:grpSpPr>
            <a:xfrm>
              <a:off x="4921200" y="3341520"/>
              <a:ext cx="1207440" cy="666720"/>
              <a:chOff x="4921200" y="3341520"/>
              <a:chExt cx="1207440" cy="666720"/>
            </a:xfrm>
          </p:grpSpPr>
          <p:sp>
            <p:nvSpPr>
              <p:cNvPr id="1926" name=""/>
              <p:cNvSpPr/>
              <p:nvPr/>
            </p:nvSpPr>
            <p:spPr>
              <a:xfrm>
                <a:off x="4921200" y="3638160"/>
                <a:ext cx="1198080" cy="37008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4921200" y="36082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4921200" y="3570120"/>
                <a:ext cx="1198080" cy="263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4930200" y="3341520"/>
                <a:ext cx="1198440" cy="43020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30" name=""/>
              <p:cNvGrpSpPr/>
              <p:nvPr/>
            </p:nvGrpSpPr>
            <p:grpSpPr>
              <a:xfrm>
                <a:off x="5276520" y="3371400"/>
                <a:ext cx="496800" cy="118800"/>
                <a:chOff x="5276520" y="3371400"/>
                <a:chExt cx="496800" cy="118800"/>
              </a:xfrm>
            </p:grpSpPr>
            <p:grpSp>
              <p:nvGrpSpPr>
                <p:cNvPr id="1931" name=""/>
                <p:cNvGrpSpPr/>
                <p:nvPr/>
              </p:nvGrpSpPr>
              <p:grpSpPr>
                <a:xfrm>
                  <a:off x="5276520" y="3372840"/>
                  <a:ext cx="496800" cy="117360"/>
                  <a:chOff x="5276520" y="3372840"/>
                  <a:chExt cx="496800" cy="117360"/>
                </a:xfrm>
              </p:grpSpPr>
              <p:sp>
                <p:nvSpPr>
                  <p:cNvPr id="1932" name=""/>
                  <p:cNvSpPr/>
                  <p:nvPr/>
                </p:nvSpPr>
                <p:spPr>
                  <a:xfrm flipV="1">
                    <a:off x="5276520" y="3372840"/>
                    <a:ext cx="17712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3" name=""/>
                  <p:cNvSpPr/>
                  <p:nvPr/>
                </p:nvSpPr>
                <p:spPr>
                  <a:xfrm>
                    <a:off x="5617080" y="3490200"/>
                    <a:ext cx="1562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4" name=""/>
                  <p:cNvSpPr/>
                  <p:nvPr/>
                </p:nvSpPr>
                <p:spPr>
                  <a:xfrm>
                    <a:off x="5439960" y="3375000"/>
                    <a:ext cx="184320" cy="114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35" name=""/>
                <p:cNvGrpSpPr/>
                <p:nvPr/>
              </p:nvGrpSpPr>
              <p:grpSpPr>
                <a:xfrm>
                  <a:off x="5276520" y="3371400"/>
                  <a:ext cx="496800" cy="117360"/>
                  <a:chOff x="5276520" y="3371400"/>
                  <a:chExt cx="496800" cy="117360"/>
                </a:xfrm>
              </p:grpSpPr>
              <p:sp>
                <p:nvSpPr>
                  <p:cNvPr id="1936" name=""/>
                  <p:cNvSpPr/>
                  <p:nvPr/>
                </p:nvSpPr>
                <p:spPr>
                  <a:xfrm>
                    <a:off x="5276520" y="3486600"/>
                    <a:ext cx="17712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7" name=""/>
                  <p:cNvSpPr/>
                  <p:nvPr/>
                </p:nvSpPr>
                <p:spPr>
                  <a:xfrm>
                    <a:off x="5617080" y="3371400"/>
                    <a:ext cx="1562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8" name=""/>
                  <p:cNvSpPr/>
                  <p:nvPr/>
                </p:nvSpPr>
                <p:spPr>
                  <a:xfrm flipV="1">
                    <a:off x="5439960" y="3371760"/>
                    <a:ext cx="184320" cy="114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pic>
          <p:nvPicPr>
            <p:cNvPr id="1939" name="" descr=""/>
            <p:cNvPicPr/>
            <p:nvPr/>
          </p:nvPicPr>
          <p:blipFill>
            <a:blip r:embed="rId5"/>
            <a:stretch/>
          </p:blipFill>
          <p:spPr>
            <a:xfrm>
              <a:off x="4041720" y="4194000"/>
              <a:ext cx="6458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0" name=""/>
            <p:cNvSpPr/>
            <p:nvPr/>
          </p:nvSpPr>
          <p:spPr>
            <a:xfrm flipV="1">
              <a:off x="4581360" y="3914280"/>
              <a:ext cx="466560" cy="39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H="1" flipV="1">
              <a:off x="5771520" y="3971880"/>
              <a:ext cx="33300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680640" y="419868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435000" y="4265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4" name=""/>
            <p:cNvGrpSpPr/>
            <p:nvPr/>
          </p:nvGrpSpPr>
          <p:grpSpPr>
            <a:xfrm>
              <a:off x="5407560" y="3389400"/>
              <a:ext cx="637560" cy="517320"/>
              <a:chOff x="5407560" y="3389400"/>
              <a:chExt cx="637560" cy="517320"/>
            </a:xfrm>
          </p:grpSpPr>
          <p:sp>
            <p:nvSpPr>
              <p:cNvPr id="1945" name=""/>
              <p:cNvSpPr/>
              <p:nvPr/>
            </p:nvSpPr>
            <p:spPr>
              <a:xfrm rot="19581000">
                <a:off x="5450400" y="3682440"/>
                <a:ext cx="147240" cy="2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rot="19581000">
                <a:off x="5585040" y="3592800"/>
                <a:ext cx="147240" cy="2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 rot="19581000">
                <a:off x="5720040" y="3502800"/>
                <a:ext cx="147240" cy="2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 rot="19581000">
                <a:off x="5854320" y="3413520"/>
                <a:ext cx="147240" cy="2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9" name=""/>
          <p:cNvSpPr/>
          <p:nvPr/>
        </p:nvSpPr>
        <p:spPr>
          <a:xfrm>
            <a:off x="3252240" y="1636560"/>
            <a:ext cx="31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ltiplexação estat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2057400" y="2984400"/>
            <a:ext cx="19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la de paco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perando pel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lace de saí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 flipV="1">
            <a:off x="2890800" y="2514240"/>
            <a:ext cx="166680" cy="52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2ACF-3624-431F-9C46-FCEBE68E2B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utação de pacotes versus comutação de circuit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533160" y="2155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lace de 1 Mb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da usuário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100Kbps quando “ativo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tivo 10% do temp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utação por circuito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10 usuári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utação por pacote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 35 usuários, probabilidade &gt; 10 ativos menor que 0,00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592200" y="1390320"/>
            <a:ext cx="7619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 comutação de pacotes permite que mais usuários usem a rede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5" name=""/>
          <p:cNvSpPr/>
          <p:nvPr/>
        </p:nvSpPr>
        <p:spPr>
          <a:xfrm>
            <a:off x="4630680" y="3029040"/>
            <a:ext cx="30492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4630680" y="4629240"/>
            <a:ext cx="30492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4935600" y="3333600"/>
            <a:ext cx="838080" cy="4572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5773680" y="3790800"/>
            <a:ext cx="20383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5773680" y="3943440"/>
            <a:ext cx="20383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 flipV="1">
            <a:off x="5011560" y="3943080"/>
            <a:ext cx="762120" cy="609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3875760" y="3627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 usuá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7090560" y="4075200"/>
            <a:ext cx="154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lace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3" name=""/>
          <p:cNvGrpSpPr/>
          <p:nvPr/>
        </p:nvGrpSpPr>
        <p:grpSpPr>
          <a:xfrm>
            <a:off x="5864400" y="3503520"/>
            <a:ext cx="1207440" cy="666720"/>
            <a:chOff x="5864400" y="3503520"/>
            <a:chExt cx="1207440" cy="666720"/>
          </a:xfrm>
        </p:grpSpPr>
        <p:sp>
          <p:nvSpPr>
            <p:cNvPr id="1964" name=""/>
            <p:cNvSpPr/>
            <p:nvPr/>
          </p:nvSpPr>
          <p:spPr>
            <a:xfrm>
              <a:off x="5864400" y="3800520"/>
              <a:ext cx="1198440" cy="369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864400" y="3732120"/>
              <a:ext cx="1198440" cy="263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873760" y="3503520"/>
              <a:ext cx="1198080" cy="430200"/>
            </a:xfrm>
            <a:prstGeom prst="ellipse">
              <a:avLst/>
            </a:prstGeom>
            <a:solidFill>
              <a:srgbClr val="ccccff"/>
            </a:solidFill>
            <a:ln w="64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7" name=""/>
            <p:cNvGrpSpPr/>
            <p:nvPr/>
          </p:nvGrpSpPr>
          <p:grpSpPr>
            <a:xfrm>
              <a:off x="6229440" y="3628800"/>
              <a:ext cx="496800" cy="118800"/>
              <a:chOff x="6229440" y="3628800"/>
              <a:chExt cx="496800" cy="118800"/>
            </a:xfrm>
          </p:grpSpPr>
          <p:grpSp>
            <p:nvGrpSpPr>
              <p:cNvPr id="1968" name=""/>
              <p:cNvGrpSpPr/>
              <p:nvPr/>
            </p:nvGrpSpPr>
            <p:grpSpPr>
              <a:xfrm>
                <a:off x="6229440" y="3630600"/>
                <a:ext cx="496800" cy="117000"/>
                <a:chOff x="6229440" y="3630600"/>
                <a:chExt cx="496800" cy="117000"/>
              </a:xfrm>
            </p:grpSpPr>
            <p:sp>
              <p:nvSpPr>
                <p:cNvPr id="1969" name=""/>
                <p:cNvSpPr/>
                <p:nvPr/>
              </p:nvSpPr>
              <p:spPr>
                <a:xfrm flipV="1">
                  <a:off x="6229440" y="3630600"/>
                  <a:ext cx="1771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6570000" y="374760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6392880" y="3632760"/>
                  <a:ext cx="184320" cy="114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2" name=""/>
              <p:cNvGrpSpPr/>
              <p:nvPr/>
            </p:nvGrpSpPr>
            <p:grpSpPr>
              <a:xfrm>
                <a:off x="6229440" y="3628800"/>
                <a:ext cx="496800" cy="117000"/>
                <a:chOff x="6229440" y="3628800"/>
                <a:chExt cx="496800" cy="117000"/>
              </a:xfrm>
            </p:grpSpPr>
            <p:sp>
              <p:nvSpPr>
                <p:cNvPr id="1973" name=""/>
                <p:cNvSpPr/>
                <p:nvPr/>
              </p:nvSpPr>
              <p:spPr>
                <a:xfrm>
                  <a:off x="6229440" y="3743640"/>
                  <a:ext cx="1771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6570000" y="362880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 flipV="1">
                  <a:off x="6392880" y="3629160"/>
                  <a:ext cx="184320" cy="114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976" name=""/>
          <p:cNvSpPr/>
          <p:nvPr/>
        </p:nvSpPr>
        <p:spPr>
          <a:xfrm>
            <a:off x="7077240" y="3857760"/>
            <a:ext cx="1714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FE65-54F4-45B3-ADDF-56550C1561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utação de pacotes versus comutação de circuit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533160" y="18414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Ótima para dados em surt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partilhamento dos recurs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ão necessita estabelecimento de conex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ongestionamento excessiv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atraso e perda de paco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ecessita de protocolos para transferência confiável de dados, controle de congestion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: Como fornecer um comportamento do tipo circuito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ão necessárias garantias de banda para aplicações de áudio e víde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inda é um problema não resolvido (cap. 6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533520" y="1388880"/>
            <a:ext cx="7619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 comutação de pacotes ganha de lavagem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CEDC-91ED-4E2E-9C2B-AA589651A3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des comutadas por pacotes: encaminhament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533160" y="1444680"/>
            <a:ext cx="80010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Objetiv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over pacotes entre roteadores da origem até o desti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ão estudados diversos algoritmos de escolha de caminhos (capítulo 4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redes datagrama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o endereço do destin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etermina próxima etap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otas podem mudar durante a sess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nalogia: dirigir, pedindo informaçõ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redes de circuitos virtuais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da pacote contém uma marca (id. do circuito virtual), marca determina próxima etap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minho fixo determinado no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estabelecimento da chamad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, permanece fixo durante a cham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oteadores mantêm estados para cada cham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F139-6C73-4F08-B05C-A63A01F4DD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558720" y="0"/>
            <a:ext cx="77724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Taxonomia de Red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83" name=""/>
          <p:cNvSpPr/>
          <p:nvPr/>
        </p:nvSpPr>
        <p:spPr>
          <a:xfrm>
            <a:off x="3235320" y="1190520"/>
            <a:ext cx="2360520" cy="758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elecomunica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4" name=""/>
          <p:cNvGrpSpPr/>
          <p:nvPr/>
        </p:nvGrpSpPr>
        <p:grpSpPr>
          <a:xfrm>
            <a:off x="692280" y="2521080"/>
            <a:ext cx="3433680" cy="1957320"/>
            <a:chOff x="692280" y="2521080"/>
            <a:chExt cx="3433680" cy="1957320"/>
          </a:xfrm>
        </p:grpSpPr>
        <p:sp>
          <p:nvSpPr>
            <p:cNvPr id="1985" name=""/>
            <p:cNvSpPr/>
            <p:nvPr/>
          </p:nvSpPr>
          <p:spPr>
            <a:xfrm>
              <a:off x="1349280" y="2521080"/>
              <a:ext cx="2360880" cy="75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Redes comutad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por circui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692280" y="3819600"/>
              <a:ext cx="1274760" cy="633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FD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2851200" y="3845160"/>
              <a:ext cx="1274760" cy="633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TD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8" name=""/>
            <p:cNvGrpSpPr/>
            <p:nvPr/>
          </p:nvGrpSpPr>
          <p:grpSpPr>
            <a:xfrm>
              <a:off x="1585800" y="3286440"/>
              <a:ext cx="1879920" cy="573120"/>
              <a:chOff x="1585800" y="3286440"/>
              <a:chExt cx="1879920" cy="573120"/>
            </a:xfrm>
          </p:grpSpPr>
          <p:grpSp>
            <p:nvGrpSpPr>
              <p:cNvPr id="1989" name=""/>
              <p:cNvGrpSpPr/>
              <p:nvPr/>
            </p:nvGrpSpPr>
            <p:grpSpPr>
              <a:xfrm>
                <a:off x="1585800" y="3540240"/>
                <a:ext cx="1879920" cy="319320"/>
                <a:chOff x="1585800" y="3540240"/>
                <a:chExt cx="1879920" cy="319320"/>
              </a:xfrm>
            </p:grpSpPr>
            <p:sp>
              <p:nvSpPr>
                <p:cNvPr id="1990" name=""/>
                <p:cNvSpPr/>
                <p:nvPr/>
              </p:nvSpPr>
              <p:spPr>
                <a:xfrm>
                  <a:off x="1585800" y="3546720"/>
                  <a:ext cx="1871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3465720" y="3564000"/>
                  <a:ext cx="0" cy="295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1587600" y="3540240"/>
                  <a:ext cx="0" cy="29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93" name=""/>
              <p:cNvSpPr/>
              <p:nvPr/>
            </p:nvSpPr>
            <p:spPr>
              <a:xfrm>
                <a:off x="2505240" y="3286440"/>
                <a:ext cx="0" cy="26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94" name=""/>
          <p:cNvGrpSpPr/>
          <p:nvPr/>
        </p:nvGrpSpPr>
        <p:grpSpPr>
          <a:xfrm>
            <a:off x="5076720" y="2516040"/>
            <a:ext cx="3679920" cy="1981440"/>
            <a:chOff x="5076720" y="2516040"/>
            <a:chExt cx="3679920" cy="1981440"/>
          </a:xfrm>
        </p:grpSpPr>
        <p:sp>
          <p:nvSpPr>
            <p:cNvPr id="1995" name=""/>
            <p:cNvSpPr/>
            <p:nvPr/>
          </p:nvSpPr>
          <p:spPr>
            <a:xfrm>
              <a:off x="5665680" y="2516040"/>
              <a:ext cx="2360520" cy="75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Redes comutad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por paco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5076720" y="3863880"/>
              <a:ext cx="1595520" cy="633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Re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com CV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7161120" y="3855960"/>
              <a:ext cx="1595520" cy="633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Re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datagra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8" name=""/>
            <p:cNvGrpSpPr/>
            <p:nvPr/>
          </p:nvGrpSpPr>
          <p:grpSpPr>
            <a:xfrm>
              <a:off x="5968800" y="3289320"/>
              <a:ext cx="1879560" cy="573120"/>
              <a:chOff x="5968800" y="3289320"/>
              <a:chExt cx="1879560" cy="573120"/>
            </a:xfrm>
          </p:grpSpPr>
          <p:grpSp>
            <p:nvGrpSpPr>
              <p:cNvPr id="1999" name=""/>
              <p:cNvGrpSpPr/>
              <p:nvPr/>
            </p:nvGrpSpPr>
            <p:grpSpPr>
              <a:xfrm>
                <a:off x="5968800" y="3543120"/>
                <a:ext cx="1879560" cy="319320"/>
                <a:chOff x="5968800" y="3543120"/>
                <a:chExt cx="1879560" cy="319320"/>
              </a:xfrm>
            </p:grpSpPr>
            <p:sp>
              <p:nvSpPr>
                <p:cNvPr id="2000" name=""/>
                <p:cNvSpPr/>
                <p:nvPr/>
              </p:nvSpPr>
              <p:spPr>
                <a:xfrm>
                  <a:off x="5968800" y="3549600"/>
                  <a:ext cx="1871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7848360" y="3566880"/>
                  <a:ext cx="0" cy="295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5970240" y="3543120"/>
                  <a:ext cx="0" cy="29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3" name=""/>
              <p:cNvSpPr/>
              <p:nvPr/>
            </p:nvSpPr>
            <p:spPr>
              <a:xfrm>
                <a:off x="6887880" y="3289320"/>
                <a:ext cx="0" cy="26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04" name=""/>
          <p:cNvGrpSpPr/>
          <p:nvPr/>
        </p:nvGrpSpPr>
        <p:grpSpPr>
          <a:xfrm>
            <a:off x="2589120" y="1947960"/>
            <a:ext cx="3814920" cy="573120"/>
            <a:chOff x="2589120" y="1947960"/>
            <a:chExt cx="3814920" cy="573120"/>
          </a:xfrm>
        </p:grpSpPr>
        <p:grpSp>
          <p:nvGrpSpPr>
            <p:cNvPr id="2005" name=""/>
            <p:cNvGrpSpPr/>
            <p:nvPr/>
          </p:nvGrpSpPr>
          <p:grpSpPr>
            <a:xfrm>
              <a:off x="2589120" y="2201760"/>
              <a:ext cx="3814920" cy="319320"/>
              <a:chOff x="2589120" y="2201760"/>
              <a:chExt cx="3814920" cy="319320"/>
            </a:xfrm>
          </p:grpSpPr>
          <p:sp>
            <p:nvSpPr>
              <p:cNvPr id="2006" name=""/>
              <p:cNvSpPr/>
              <p:nvPr/>
            </p:nvSpPr>
            <p:spPr>
              <a:xfrm>
                <a:off x="2589120" y="2208240"/>
                <a:ext cx="379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6404040" y="2225520"/>
                <a:ext cx="0" cy="29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2592720" y="2201760"/>
                <a:ext cx="0" cy="29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9" name=""/>
            <p:cNvSpPr/>
            <p:nvPr/>
          </p:nvSpPr>
          <p:spPr>
            <a:xfrm>
              <a:off x="4455360" y="194796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0" name=""/>
          <p:cNvSpPr/>
          <p:nvPr/>
        </p:nvSpPr>
        <p:spPr>
          <a:xfrm>
            <a:off x="986040" y="4997520"/>
            <a:ext cx="74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 Internet provê tanto serviços orientados a conexão (TC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nto não-orientados a conexão (UDP) para as aplicaçõ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2E01-9222-4576-BF6F-71C6D3F40A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Parte I: Introduçã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Objetivo do capítul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tender o contexto, visão geral, “sacar” o que são re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aior profundidade, detalhes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posteriormente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no cur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bordage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scriti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so da Internet como exemp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14800" y="137160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Resum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 que é a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 que é um protocolo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 borda da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 núcleo da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de de acesso e meio fís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sempenho: perda, atra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madas de protocolos, modelos de serviç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ackbones, NAPs, IS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histór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7417-BA45-4D07-9557-F31877847B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des de acesso e meios físic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/>
          </p:nvPr>
        </p:nvSpPr>
        <p:spPr>
          <a:xfrm>
            <a:off x="411120" y="1371240"/>
            <a:ext cx="444816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P: Como conectar os sistemas finais aos roteadores de borda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des de acesso residenci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des de acesso institucional (escola, empres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des de acesso mó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Consider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argura de banda (bits por segundo) da rede de acesso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partilhada ou dedicada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3" name=""/>
          <p:cNvSpPr/>
          <p:nvPr/>
        </p:nvSpPr>
        <p:spPr>
          <a:xfrm>
            <a:off x="6807240" y="1800360"/>
            <a:ext cx="1989000" cy="20095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4727520" y="1628640"/>
            <a:ext cx="2065320" cy="190656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5126040" y="3357720"/>
            <a:ext cx="3289320" cy="26622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6" name="" descr=""/>
          <p:cNvPicPr/>
          <p:nvPr/>
        </p:nvPicPr>
        <p:blipFill>
          <a:blip r:embed="rId1"/>
          <a:stretch/>
        </p:blipFill>
        <p:spPr>
          <a:xfrm>
            <a:off x="4857840" y="1790640"/>
            <a:ext cx="460440" cy="382680"/>
          </a:xfrm>
          <a:prstGeom prst="rect">
            <a:avLst/>
          </a:prstGeom>
          <a:ln w="0">
            <a:noFill/>
          </a:ln>
        </p:spPr>
      </p:pic>
      <p:pic>
        <p:nvPicPr>
          <p:cNvPr id="2017" name="" descr=""/>
          <p:cNvPicPr/>
          <p:nvPr/>
        </p:nvPicPr>
        <p:blipFill>
          <a:blip r:embed="rId2"/>
          <a:stretch/>
        </p:blipFill>
        <p:spPr>
          <a:xfrm>
            <a:off x="5362560" y="1932120"/>
            <a:ext cx="309600" cy="222120"/>
          </a:xfrm>
          <a:prstGeom prst="rect">
            <a:avLst/>
          </a:prstGeom>
          <a:ln w="0">
            <a:noFill/>
          </a:ln>
        </p:spPr>
      </p:pic>
      <p:sp>
        <p:nvSpPr>
          <p:cNvPr id="2018" name=""/>
          <p:cNvSpPr/>
          <p:nvPr/>
        </p:nvSpPr>
        <p:spPr>
          <a:xfrm flipV="1">
            <a:off x="5307120" y="2080800"/>
            <a:ext cx="126720" cy="3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9" name="" descr=""/>
          <p:cNvPicPr/>
          <p:nvPr/>
        </p:nvPicPr>
        <p:blipFill>
          <a:blip r:embed="rId3"/>
          <a:stretch/>
        </p:blipFill>
        <p:spPr>
          <a:xfrm>
            <a:off x="4857840" y="2505240"/>
            <a:ext cx="460440" cy="382320"/>
          </a:xfrm>
          <a:prstGeom prst="rect">
            <a:avLst/>
          </a:prstGeom>
          <a:ln w="0">
            <a:noFill/>
          </a:ln>
        </p:spPr>
      </p:pic>
      <p:pic>
        <p:nvPicPr>
          <p:cNvPr id="2020" name="" descr=""/>
          <p:cNvPicPr/>
          <p:nvPr/>
        </p:nvPicPr>
        <p:blipFill>
          <a:blip r:embed="rId4"/>
          <a:stretch/>
        </p:blipFill>
        <p:spPr>
          <a:xfrm>
            <a:off x="5362560" y="2646360"/>
            <a:ext cx="309600" cy="222120"/>
          </a:xfrm>
          <a:prstGeom prst="rect">
            <a:avLst/>
          </a:prstGeom>
          <a:ln w="0">
            <a:noFill/>
          </a:ln>
        </p:spPr>
      </p:pic>
      <p:sp>
        <p:nvSpPr>
          <p:cNvPr id="2021" name=""/>
          <p:cNvSpPr/>
          <p:nvPr/>
        </p:nvSpPr>
        <p:spPr>
          <a:xfrm flipV="1">
            <a:off x="5307120" y="2795760"/>
            <a:ext cx="126720" cy="2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2" name=""/>
          <p:cNvGrpSpPr/>
          <p:nvPr/>
        </p:nvGrpSpPr>
        <p:grpSpPr>
          <a:xfrm>
            <a:off x="5273640" y="2249640"/>
            <a:ext cx="77400" cy="256680"/>
            <a:chOff x="5273640" y="2249640"/>
            <a:chExt cx="77400" cy="256680"/>
          </a:xfrm>
        </p:grpSpPr>
        <p:sp>
          <p:nvSpPr>
            <p:cNvPr id="2023" name=""/>
            <p:cNvSpPr/>
            <p:nvPr/>
          </p:nvSpPr>
          <p:spPr>
            <a:xfrm>
              <a:off x="5273640" y="2249640"/>
              <a:ext cx="71280" cy="723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5276520" y="2341800"/>
              <a:ext cx="71280" cy="720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5279760" y="2434320"/>
              <a:ext cx="71280" cy="720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6" name=""/>
          <p:cNvGrpSpPr/>
          <p:nvPr/>
        </p:nvGrpSpPr>
        <p:grpSpPr>
          <a:xfrm>
            <a:off x="5792760" y="2852640"/>
            <a:ext cx="231840" cy="474480"/>
            <a:chOff x="5792760" y="2852640"/>
            <a:chExt cx="231840" cy="474480"/>
          </a:xfrm>
        </p:grpSpPr>
        <p:sp>
          <p:nvSpPr>
            <p:cNvPr id="2027" name=""/>
            <p:cNvSpPr/>
            <p:nvPr/>
          </p:nvSpPr>
          <p:spPr>
            <a:xfrm>
              <a:off x="5792760" y="3217680"/>
              <a:ext cx="231840" cy="109440"/>
            </a:xfrm>
            <a:prstGeom prst="parallelogram">
              <a:avLst>
                <a:gd name="adj" fmla="val 8160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5910120" y="2855520"/>
              <a:ext cx="106560" cy="3646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5793840" y="2959200"/>
              <a:ext cx="146880" cy="3650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5792760" y="2852640"/>
              <a:ext cx="231840" cy="109440"/>
            </a:xfrm>
            <a:prstGeom prst="parallelogram">
              <a:avLst>
                <a:gd name="adj" fmla="val 8160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6024600" y="2860200"/>
              <a:ext cx="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 flipH="1">
              <a:off x="5940720" y="3217680"/>
              <a:ext cx="8316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812560" y="3007080"/>
              <a:ext cx="97200" cy="210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826600" y="3070440"/>
              <a:ext cx="73800" cy="7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5" name=""/>
          <p:cNvGrpSpPr/>
          <p:nvPr/>
        </p:nvGrpSpPr>
        <p:grpSpPr>
          <a:xfrm>
            <a:off x="6054840" y="3038400"/>
            <a:ext cx="258120" cy="96480"/>
            <a:chOff x="6054840" y="3038400"/>
            <a:chExt cx="258120" cy="96480"/>
          </a:xfrm>
        </p:grpSpPr>
        <p:sp>
          <p:nvSpPr>
            <p:cNvPr id="2036" name=""/>
            <p:cNvSpPr/>
            <p:nvPr/>
          </p:nvSpPr>
          <p:spPr>
            <a:xfrm rot="16200000">
              <a:off x="6046560" y="3053880"/>
              <a:ext cx="88920" cy="727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rot="16200000">
              <a:off x="6139440" y="3050640"/>
              <a:ext cx="88920" cy="723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rot="16200000">
              <a:off x="6232320" y="3046680"/>
              <a:ext cx="88920" cy="723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9" name=""/>
          <p:cNvSpPr/>
          <p:nvPr/>
        </p:nvSpPr>
        <p:spPr>
          <a:xfrm>
            <a:off x="5945040" y="2743200"/>
            <a:ext cx="5479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5948280" y="2738520"/>
            <a:ext cx="1800" cy="114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6497640" y="2736720"/>
            <a:ext cx="0" cy="100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5613480" y="2095560"/>
            <a:ext cx="318960" cy="317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 flipV="1">
            <a:off x="5627520" y="2438280"/>
            <a:ext cx="304920" cy="3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 flipV="1">
            <a:off x="6211800" y="2541600"/>
            <a:ext cx="0" cy="195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5" name=""/>
          <p:cNvGrpSpPr/>
          <p:nvPr/>
        </p:nvGrpSpPr>
        <p:grpSpPr>
          <a:xfrm>
            <a:off x="6342120" y="2827440"/>
            <a:ext cx="231840" cy="472680"/>
            <a:chOff x="6342120" y="2827440"/>
            <a:chExt cx="231840" cy="472680"/>
          </a:xfrm>
        </p:grpSpPr>
        <p:sp>
          <p:nvSpPr>
            <p:cNvPr id="2046" name=""/>
            <p:cNvSpPr/>
            <p:nvPr/>
          </p:nvSpPr>
          <p:spPr>
            <a:xfrm>
              <a:off x="6342120" y="3191040"/>
              <a:ext cx="231840" cy="109080"/>
            </a:xfrm>
            <a:prstGeom prst="parallelogram">
              <a:avLst>
                <a:gd name="adj" fmla="val 8187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6459480" y="2830320"/>
              <a:ext cx="106560" cy="363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6343200" y="2933640"/>
              <a:ext cx="146880" cy="363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342120" y="2827440"/>
              <a:ext cx="231840" cy="109080"/>
            </a:xfrm>
            <a:prstGeom prst="parallelogram">
              <a:avLst>
                <a:gd name="adj" fmla="val 8187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573960" y="283500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flipH="1">
              <a:off x="6490080" y="3191040"/>
              <a:ext cx="8316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361920" y="2981160"/>
              <a:ext cx="97200" cy="209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375960" y="3044520"/>
              <a:ext cx="73800" cy="7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54" name="" descr=""/>
          <p:cNvPicPr/>
          <p:nvPr/>
        </p:nvPicPr>
        <p:blipFill>
          <a:blip r:embed="rId5"/>
          <a:stretch/>
        </p:blipFill>
        <p:spPr>
          <a:xfrm>
            <a:off x="5283360" y="3570120"/>
            <a:ext cx="460080" cy="397080"/>
          </a:xfrm>
          <a:prstGeom prst="rect">
            <a:avLst/>
          </a:prstGeom>
          <a:ln w="0">
            <a:noFill/>
          </a:ln>
        </p:spPr>
      </p:pic>
      <p:sp>
        <p:nvSpPr>
          <p:cNvPr id="2055" name=""/>
          <p:cNvSpPr/>
          <p:nvPr/>
        </p:nvSpPr>
        <p:spPr>
          <a:xfrm flipV="1">
            <a:off x="5735520" y="3865680"/>
            <a:ext cx="77760" cy="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6" name="" descr=""/>
          <p:cNvPicPr/>
          <p:nvPr/>
        </p:nvPicPr>
        <p:blipFill>
          <a:blip r:embed="rId6"/>
          <a:stretch/>
        </p:blipFill>
        <p:spPr>
          <a:xfrm>
            <a:off x="5283360" y="4282920"/>
            <a:ext cx="460080" cy="397080"/>
          </a:xfrm>
          <a:prstGeom prst="rect">
            <a:avLst/>
          </a:prstGeom>
          <a:ln w="0">
            <a:noFill/>
          </a:ln>
        </p:spPr>
      </p:pic>
      <p:sp>
        <p:nvSpPr>
          <p:cNvPr id="2057" name=""/>
          <p:cNvSpPr/>
          <p:nvPr/>
        </p:nvSpPr>
        <p:spPr>
          <a:xfrm flipV="1">
            <a:off x="5735520" y="4584240"/>
            <a:ext cx="77760" cy="3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8" name=""/>
          <p:cNvGrpSpPr/>
          <p:nvPr/>
        </p:nvGrpSpPr>
        <p:grpSpPr>
          <a:xfrm>
            <a:off x="5421240" y="3979800"/>
            <a:ext cx="79200" cy="266400"/>
            <a:chOff x="5421240" y="3979800"/>
            <a:chExt cx="79200" cy="266400"/>
          </a:xfrm>
        </p:grpSpPr>
        <p:sp>
          <p:nvSpPr>
            <p:cNvPr id="2059" name=""/>
            <p:cNvSpPr/>
            <p:nvPr/>
          </p:nvSpPr>
          <p:spPr>
            <a:xfrm>
              <a:off x="5421240" y="3979800"/>
              <a:ext cx="73080" cy="752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424120" y="4075560"/>
              <a:ext cx="73080" cy="748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427360" y="4171320"/>
              <a:ext cx="73080" cy="748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2" name=""/>
          <p:cNvSpPr/>
          <p:nvPr/>
        </p:nvSpPr>
        <p:spPr>
          <a:xfrm>
            <a:off x="5807160" y="386244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3" name="" descr=""/>
          <p:cNvPicPr/>
          <p:nvPr/>
        </p:nvPicPr>
        <p:blipFill>
          <a:blip r:embed="rId7"/>
          <a:stretch/>
        </p:blipFill>
        <p:spPr>
          <a:xfrm>
            <a:off x="6243480" y="4781520"/>
            <a:ext cx="462240" cy="397080"/>
          </a:xfrm>
          <a:prstGeom prst="rect">
            <a:avLst/>
          </a:prstGeom>
          <a:ln w="0">
            <a:noFill/>
          </a:ln>
        </p:spPr>
      </p:pic>
      <p:pic>
        <p:nvPicPr>
          <p:cNvPr id="2064" name="" descr=""/>
          <p:cNvPicPr/>
          <p:nvPr/>
        </p:nvPicPr>
        <p:blipFill>
          <a:blip r:embed="rId8"/>
          <a:stretch/>
        </p:blipFill>
        <p:spPr>
          <a:xfrm>
            <a:off x="5564160" y="4767120"/>
            <a:ext cx="458640" cy="397080"/>
          </a:xfrm>
          <a:prstGeom prst="rect">
            <a:avLst/>
          </a:prstGeom>
          <a:ln w="0">
            <a:noFill/>
          </a:ln>
        </p:spPr>
      </p:pic>
      <p:sp>
        <p:nvSpPr>
          <p:cNvPr id="2065" name=""/>
          <p:cNvSpPr/>
          <p:nvPr/>
        </p:nvSpPr>
        <p:spPr>
          <a:xfrm flipV="1">
            <a:off x="6524640" y="4716000"/>
            <a:ext cx="1440" cy="7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 flipV="1">
            <a:off x="5834160" y="4703760"/>
            <a:ext cx="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 flipH="1">
            <a:off x="5835240" y="4710240"/>
            <a:ext cx="693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5805360" y="4255920"/>
            <a:ext cx="111240" cy="5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6478560" y="4316400"/>
            <a:ext cx="335160" cy="46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 flipH="1">
            <a:off x="7358040" y="4313160"/>
            <a:ext cx="30960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1" name="" descr=""/>
          <p:cNvPicPr/>
          <p:nvPr/>
        </p:nvPicPr>
        <p:blipFill>
          <a:blip r:embed="rId9"/>
          <a:stretch/>
        </p:blipFill>
        <p:spPr>
          <a:xfrm>
            <a:off x="7554960" y="3774960"/>
            <a:ext cx="225360" cy="290520"/>
          </a:xfrm>
          <a:prstGeom prst="rect">
            <a:avLst/>
          </a:prstGeom>
          <a:ln w="0">
            <a:noFill/>
          </a:ln>
        </p:spPr>
      </p:pic>
      <p:pic>
        <p:nvPicPr>
          <p:cNvPr id="2072" name="" descr=""/>
          <p:cNvPicPr/>
          <p:nvPr/>
        </p:nvPicPr>
        <p:blipFill>
          <a:blip r:embed="rId10"/>
          <a:stretch/>
        </p:blipFill>
        <p:spPr>
          <a:xfrm>
            <a:off x="6078600" y="3871800"/>
            <a:ext cx="222120" cy="289080"/>
          </a:xfrm>
          <a:prstGeom prst="rect">
            <a:avLst/>
          </a:prstGeom>
          <a:ln w="0">
            <a:noFill/>
          </a:ln>
        </p:spPr>
      </p:pic>
      <p:sp>
        <p:nvSpPr>
          <p:cNvPr id="2073" name=""/>
          <p:cNvSpPr/>
          <p:nvPr/>
        </p:nvSpPr>
        <p:spPr>
          <a:xfrm>
            <a:off x="6165720" y="3602160"/>
            <a:ext cx="1498680" cy="36504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4" name="" descr=""/>
          <p:cNvPicPr/>
          <p:nvPr/>
        </p:nvPicPr>
        <p:blipFill>
          <a:blip r:embed="rId11"/>
          <a:stretch/>
        </p:blipFill>
        <p:spPr>
          <a:xfrm>
            <a:off x="6461280" y="5308560"/>
            <a:ext cx="419040" cy="452520"/>
          </a:xfrm>
          <a:prstGeom prst="rect">
            <a:avLst/>
          </a:prstGeom>
          <a:ln w="0">
            <a:noFill/>
          </a:ln>
        </p:spPr>
      </p:pic>
      <p:pic>
        <p:nvPicPr>
          <p:cNvPr id="2075" name="" descr=""/>
          <p:cNvPicPr/>
          <p:nvPr/>
        </p:nvPicPr>
        <p:blipFill>
          <a:blip r:embed="rId12"/>
          <a:stretch/>
        </p:blipFill>
        <p:spPr>
          <a:xfrm>
            <a:off x="6527880" y="5443560"/>
            <a:ext cx="382680" cy="377640"/>
          </a:xfrm>
          <a:prstGeom prst="rect">
            <a:avLst/>
          </a:prstGeom>
          <a:ln w="0">
            <a:noFill/>
          </a:ln>
        </p:spPr>
      </p:pic>
      <p:grpSp>
        <p:nvGrpSpPr>
          <p:cNvPr id="2076" name=""/>
          <p:cNvGrpSpPr/>
          <p:nvPr/>
        </p:nvGrpSpPr>
        <p:grpSpPr>
          <a:xfrm>
            <a:off x="7321680" y="5346720"/>
            <a:ext cx="448920" cy="512280"/>
            <a:chOff x="7321680" y="5346720"/>
            <a:chExt cx="448920" cy="512280"/>
          </a:xfrm>
        </p:grpSpPr>
        <p:pic>
          <p:nvPicPr>
            <p:cNvPr id="2077" name="" descr=""/>
            <p:cNvPicPr/>
            <p:nvPr/>
          </p:nvPicPr>
          <p:blipFill>
            <a:blip r:embed="rId13"/>
            <a:stretch/>
          </p:blipFill>
          <p:spPr>
            <a:xfrm>
              <a:off x="7321680" y="5346720"/>
              <a:ext cx="417960" cy="45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8" name="" descr=""/>
            <p:cNvPicPr/>
            <p:nvPr/>
          </p:nvPicPr>
          <p:blipFill>
            <a:blip r:embed="rId14"/>
            <a:stretch/>
          </p:blipFill>
          <p:spPr>
            <a:xfrm>
              <a:off x="7387920" y="5481000"/>
              <a:ext cx="382680" cy="37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9" name=""/>
          <p:cNvGrpSpPr/>
          <p:nvPr/>
        </p:nvGrpSpPr>
        <p:grpSpPr>
          <a:xfrm>
            <a:off x="6862680" y="5005440"/>
            <a:ext cx="419040" cy="452160"/>
            <a:chOff x="6862680" y="5005440"/>
            <a:chExt cx="419040" cy="452160"/>
          </a:xfrm>
        </p:grpSpPr>
        <p:pic>
          <p:nvPicPr>
            <p:cNvPr id="2080" name="" descr=""/>
            <p:cNvPicPr/>
            <p:nvPr/>
          </p:nvPicPr>
          <p:blipFill>
            <a:blip r:embed="rId15"/>
            <a:stretch/>
          </p:blipFill>
          <p:spPr>
            <a:xfrm>
              <a:off x="6862680" y="5005440"/>
              <a:ext cx="419040" cy="45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1" name=""/>
            <p:cNvSpPr/>
            <p:nvPr/>
          </p:nvSpPr>
          <p:spPr>
            <a:xfrm>
              <a:off x="6984360" y="5164200"/>
              <a:ext cx="295200" cy="2934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2" name=""/>
          <p:cNvGrpSpPr/>
          <p:nvPr/>
        </p:nvGrpSpPr>
        <p:grpSpPr>
          <a:xfrm>
            <a:off x="7999560" y="4199040"/>
            <a:ext cx="230040" cy="489960"/>
            <a:chOff x="7999560" y="4199040"/>
            <a:chExt cx="230040" cy="489960"/>
          </a:xfrm>
        </p:grpSpPr>
        <p:sp>
          <p:nvSpPr>
            <p:cNvPr id="2083" name=""/>
            <p:cNvSpPr/>
            <p:nvPr/>
          </p:nvSpPr>
          <p:spPr>
            <a:xfrm>
              <a:off x="7999560" y="4575960"/>
              <a:ext cx="230040" cy="113040"/>
            </a:xfrm>
            <a:prstGeom prst="parallelogram">
              <a:avLst>
                <a:gd name="adj" fmla="val 7839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8115840" y="4202280"/>
              <a:ext cx="105480" cy="3765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8000640" y="4308840"/>
              <a:ext cx="145800" cy="3769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7999560" y="4199040"/>
              <a:ext cx="230040" cy="113040"/>
            </a:xfrm>
            <a:prstGeom prst="parallelogram">
              <a:avLst>
                <a:gd name="adj" fmla="val 7839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8229600" y="4206960"/>
              <a:ext cx="0" cy="36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flipH="1">
              <a:off x="8146440" y="4575960"/>
              <a:ext cx="8280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8019360" y="4358520"/>
              <a:ext cx="96480" cy="217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8033040" y="4424040"/>
              <a:ext cx="7308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1" name=""/>
          <p:cNvGrpSpPr/>
          <p:nvPr/>
        </p:nvGrpSpPr>
        <p:grpSpPr>
          <a:xfrm>
            <a:off x="7985160" y="4732200"/>
            <a:ext cx="230040" cy="490320"/>
            <a:chOff x="7985160" y="4732200"/>
            <a:chExt cx="230040" cy="490320"/>
          </a:xfrm>
        </p:grpSpPr>
        <p:sp>
          <p:nvSpPr>
            <p:cNvPr id="2092" name=""/>
            <p:cNvSpPr/>
            <p:nvPr/>
          </p:nvSpPr>
          <p:spPr>
            <a:xfrm>
              <a:off x="7985160" y="5109120"/>
              <a:ext cx="230040" cy="113400"/>
            </a:xfrm>
            <a:prstGeom prst="parallelogram">
              <a:avLst>
                <a:gd name="adj" fmla="val 7814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8101440" y="4735440"/>
              <a:ext cx="105480" cy="3765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7986240" y="4842360"/>
              <a:ext cx="145800" cy="3769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7985160" y="4732200"/>
              <a:ext cx="230040" cy="113400"/>
            </a:xfrm>
            <a:prstGeom prst="parallelogram">
              <a:avLst>
                <a:gd name="adj" fmla="val 7814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8215200" y="4740120"/>
              <a:ext cx="0" cy="36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H="1">
              <a:off x="8132040" y="5109120"/>
              <a:ext cx="82800" cy="11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8004960" y="4891680"/>
              <a:ext cx="96480" cy="217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8018640" y="4957560"/>
              <a:ext cx="7308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0" name=""/>
          <p:cNvSpPr/>
          <p:nvPr/>
        </p:nvSpPr>
        <p:spPr>
          <a:xfrm flipV="1">
            <a:off x="7908840" y="4279680"/>
            <a:ext cx="0" cy="733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7907400" y="5011560"/>
            <a:ext cx="114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7902720" y="4440240"/>
            <a:ext cx="98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V="1">
            <a:off x="6491160" y="2155320"/>
            <a:ext cx="50796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7526160" y="2136600"/>
            <a:ext cx="53676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 flipH="1">
            <a:off x="8098920" y="2541600"/>
            <a:ext cx="266760" cy="81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7246800" y="2273400"/>
            <a:ext cx="0" cy="51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7275600" y="3049560"/>
            <a:ext cx="593640" cy="44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 flipH="1">
            <a:off x="7786440" y="3608280"/>
            <a:ext cx="29340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 flipH="1">
            <a:off x="7534080" y="2503440"/>
            <a:ext cx="618840" cy="46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 flipH="1">
            <a:off x="7543800" y="1830240"/>
            <a:ext cx="38880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 flipH="1">
            <a:off x="8337600" y="2041560"/>
            <a:ext cx="22392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2" name=""/>
          <p:cNvGrpSpPr/>
          <p:nvPr/>
        </p:nvGrpSpPr>
        <p:grpSpPr>
          <a:xfrm>
            <a:off x="5916600" y="2273400"/>
            <a:ext cx="554040" cy="279000"/>
            <a:chOff x="5916600" y="2273400"/>
            <a:chExt cx="554040" cy="279000"/>
          </a:xfrm>
        </p:grpSpPr>
        <p:sp>
          <p:nvSpPr>
            <p:cNvPr id="2113" name=""/>
            <p:cNvSpPr/>
            <p:nvPr/>
          </p:nvSpPr>
          <p:spPr>
            <a:xfrm>
              <a:off x="5920920" y="2397960"/>
              <a:ext cx="549360" cy="154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920920" y="238464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470640" y="238464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920920" y="2384640"/>
              <a:ext cx="544320" cy="9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916600" y="2273400"/>
              <a:ext cx="549000" cy="180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8" name=""/>
            <p:cNvGrpSpPr/>
            <p:nvPr/>
          </p:nvGrpSpPr>
          <p:grpSpPr>
            <a:xfrm>
              <a:off x="6048720" y="2313000"/>
              <a:ext cx="271800" cy="105120"/>
              <a:chOff x="6048720" y="2313000"/>
              <a:chExt cx="271800" cy="105120"/>
            </a:xfrm>
          </p:grpSpPr>
          <p:sp>
            <p:nvSpPr>
              <p:cNvPr id="2119" name=""/>
              <p:cNvSpPr/>
              <p:nvPr/>
            </p:nvSpPr>
            <p:spPr>
              <a:xfrm flipV="1">
                <a:off x="6048720" y="231300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6235200" y="241812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6138000" y="231516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2" name=""/>
            <p:cNvGrpSpPr/>
            <p:nvPr/>
          </p:nvGrpSpPr>
          <p:grpSpPr>
            <a:xfrm>
              <a:off x="6048720" y="2311560"/>
              <a:ext cx="271800" cy="105120"/>
              <a:chOff x="6048720" y="2311560"/>
              <a:chExt cx="271800" cy="105120"/>
            </a:xfrm>
          </p:grpSpPr>
          <p:sp>
            <p:nvSpPr>
              <p:cNvPr id="2123" name=""/>
              <p:cNvSpPr/>
              <p:nvPr/>
            </p:nvSpPr>
            <p:spPr>
              <a:xfrm>
                <a:off x="6048720" y="241452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6235200" y="231156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 flipV="1">
                <a:off x="6138000" y="231156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26" name=""/>
          <p:cNvGrpSpPr/>
          <p:nvPr/>
        </p:nvGrpSpPr>
        <p:grpSpPr>
          <a:xfrm>
            <a:off x="6970680" y="1998720"/>
            <a:ext cx="555480" cy="279000"/>
            <a:chOff x="6970680" y="1998720"/>
            <a:chExt cx="555480" cy="279000"/>
          </a:xfrm>
        </p:grpSpPr>
        <p:sp>
          <p:nvSpPr>
            <p:cNvPr id="2127" name=""/>
            <p:cNvSpPr/>
            <p:nvPr/>
          </p:nvSpPr>
          <p:spPr>
            <a:xfrm>
              <a:off x="6975000" y="2123280"/>
              <a:ext cx="550800" cy="154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6975000" y="210996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526160" y="210996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975000" y="2109960"/>
              <a:ext cx="545760" cy="9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970680" y="1998720"/>
              <a:ext cx="550440" cy="180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2" name=""/>
            <p:cNvGrpSpPr/>
            <p:nvPr/>
          </p:nvGrpSpPr>
          <p:grpSpPr>
            <a:xfrm>
              <a:off x="7103160" y="2038320"/>
              <a:ext cx="272520" cy="105120"/>
              <a:chOff x="7103160" y="2038320"/>
              <a:chExt cx="272520" cy="105120"/>
            </a:xfrm>
          </p:grpSpPr>
          <p:sp>
            <p:nvSpPr>
              <p:cNvPr id="2133" name=""/>
              <p:cNvSpPr/>
              <p:nvPr/>
            </p:nvSpPr>
            <p:spPr>
              <a:xfrm flipV="1">
                <a:off x="7103160" y="2038320"/>
                <a:ext cx="972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7290000" y="2143440"/>
                <a:ext cx="85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7192800" y="2040480"/>
                <a:ext cx="10116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6" name=""/>
            <p:cNvGrpSpPr/>
            <p:nvPr/>
          </p:nvGrpSpPr>
          <p:grpSpPr>
            <a:xfrm>
              <a:off x="7103160" y="2036880"/>
              <a:ext cx="272520" cy="105120"/>
              <a:chOff x="7103160" y="2036880"/>
              <a:chExt cx="272520" cy="105120"/>
            </a:xfrm>
          </p:grpSpPr>
          <p:sp>
            <p:nvSpPr>
              <p:cNvPr id="2137" name=""/>
              <p:cNvSpPr/>
              <p:nvPr/>
            </p:nvSpPr>
            <p:spPr>
              <a:xfrm>
                <a:off x="7103160" y="2139840"/>
                <a:ext cx="972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7290000" y="2036880"/>
                <a:ext cx="85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 flipV="1">
                <a:off x="7192800" y="2036880"/>
                <a:ext cx="10116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40" name=""/>
          <p:cNvGrpSpPr/>
          <p:nvPr/>
        </p:nvGrpSpPr>
        <p:grpSpPr>
          <a:xfrm>
            <a:off x="6989760" y="2786040"/>
            <a:ext cx="554040" cy="280800"/>
            <a:chOff x="6989760" y="2786040"/>
            <a:chExt cx="554040" cy="280800"/>
          </a:xfrm>
        </p:grpSpPr>
        <p:sp>
          <p:nvSpPr>
            <p:cNvPr id="2141" name=""/>
            <p:cNvSpPr/>
            <p:nvPr/>
          </p:nvSpPr>
          <p:spPr>
            <a:xfrm>
              <a:off x="6994080" y="2911320"/>
              <a:ext cx="549360" cy="155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994080" y="2898000"/>
              <a:ext cx="0" cy="9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7543800" y="2898000"/>
              <a:ext cx="0" cy="9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994080" y="2898000"/>
              <a:ext cx="544320" cy="95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989760" y="2786040"/>
              <a:ext cx="549000" cy="181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6" name=""/>
            <p:cNvGrpSpPr/>
            <p:nvPr/>
          </p:nvGrpSpPr>
          <p:grpSpPr>
            <a:xfrm>
              <a:off x="7121880" y="2826000"/>
              <a:ext cx="271800" cy="105840"/>
              <a:chOff x="7121880" y="2826000"/>
              <a:chExt cx="271800" cy="105840"/>
            </a:xfrm>
          </p:grpSpPr>
          <p:sp>
            <p:nvSpPr>
              <p:cNvPr id="2147" name=""/>
              <p:cNvSpPr/>
              <p:nvPr/>
            </p:nvSpPr>
            <p:spPr>
              <a:xfrm flipV="1">
                <a:off x="7121880" y="282600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7308360" y="293184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7211160" y="2828160"/>
                <a:ext cx="100800" cy="10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0" name=""/>
            <p:cNvGrpSpPr/>
            <p:nvPr/>
          </p:nvGrpSpPr>
          <p:grpSpPr>
            <a:xfrm>
              <a:off x="7121880" y="2824560"/>
              <a:ext cx="271800" cy="105840"/>
              <a:chOff x="7121880" y="2824560"/>
              <a:chExt cx="271800" cy="105840"/>
            </a:xfrm>
          </p:grpSpPr>
          <p:sp>
            <p:nvSpPr>
              <p:cNvPr id="2151" name=""/>
              <p:cNvSpPr/>
              <p:nvPr/>
            </p:nvSpPr>
            <p:spPr>
              <a:xfrm>
                <a:off x="7121880" y="292824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7308360" y="282456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 flipV="1">
                <a:off x="7211160" y="2824560"/>
                <a:ext cx="100800" cy="10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54" name=""/>
          <p:cNvGrpSpPr/>
          <p:nvPr/>
        </p:nvGrpSpPr>
        <p:grpSpPr>
          <a:xfrm>
            <a:off x="8062920" y="2247840"/>
            <a:ext cx="552600" cy="279000"/>
            <a:chOff x="8062920" y="2247840"/>
            <a:chExt cx="552600" cy="279000"/>
          </a:xfrm>
        </p:grpSpPr>
        <p:sp>
          <p:nvSpPr>
            <p:cNvPr id="2155" name=""/>
            <p:cNvSpPr/>
            <p:nvPr/>
          </p:nvSpPr>
          <p:spPr>
            <a:xfrm>
              <a:off x="8067240" y="2372400"/>
              <a:ext cx="547920" cy="154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8067240" y="235908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8615520" y="235908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8067240" y="2359080"/>
              <a:ext cx="542880" cy="9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8062920" y="2247840"/>
              <a:ext cx="547560" cy="180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0" name=""/>
            <p:cNvGrpSpPr/>
            <p:nvPr/>
          </p:nvGrpSpPr>
          <p:grpSpPr>
            <a:xfrm>
              <a:off x="8194680" y="2287440"/>
              <a:ext cx="271080" cy="105120"/>
              <a:chOff x="8194680" y="2287440"/>
              <a:chExt cx="271080" cy="105120"/>
            </a:xfrm>
          </p:grpSpPr>
          <p:sp>
            <p:nvSpPr>
              <p:cNvPr id="2161" name=""/>
              <p:cNvSpPr/>
              <p:nvPr/>
            </p:nvSpPr>
            <p:spPr>
              <a:xfrm flipV="1">
                <a:off x="8194680" y="2287440"/>
                <a:ext cx="96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8380440" y="239256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8283960" y="2289600"/>
                <a:ext cx="10044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4" name=""/>
            <p:cNvGrpSpPr/>
            <p:nvPr/>
          </p:nvGrpSpPr>
          <p:grpSpPr>
            <a:xfrm>
              <a:off x="8194680" y="2286000"/>
              <a:ext cx="271080" cy="105120"/>
              <a:chOff x="8194680" y="2286000"/>
              <a:chExt cx="271080" cy="105120"/>
            </a:xfrm>
          </p:grpSpPr>
          <p:sp>
            <p:nvSpPr>
              <p:cNvPr id="2165" name=""/>
              <p:cNvSpPr/>
              <p:nvPr/>
            </p:nvSpPr>
            <p:spPr>
              <a:xfrm>
                <a:off x="8194680" y="2388960"/>
                <a:ext cx="96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8380440" y="228600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 flipV="1">
                <a:off x="8283960" y="2286000"/>
                <a:ext cx="10044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8" name=""/>
          <p:cNvGrpSpPr/>
          <p:nvPr/>
        </p:nvGrpSpPr>
        <p:grpSpPr>
          <a:xfrm>
            <a:off x="7848720" y="3324240"/>
            <a:ext cx="554040" cy="279000"/>
            <a:chOff x="7848720" y="3324240"/>
            <a:chExt cx="554040" cy="279000"/>
          </a:xfrm>
        </p:grpSpPr>
        <p:sp>
          <p:nvSpPr>
            <p:cNvPr id="2169" name=""/>
            <p:cNvSpPr/>
            <p:nvPr/>
          </p:nvSpPr>
          <p:spPr>
            <a:xfrm>
              <a:off x="7853040" y="3448800"/>
              <a:ext cx="549360" cy="154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7853040" y="343548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8402760" y="343548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7853040" y="3435480"/>
              <a:ext cx="544320" cy="9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7848720" y="3324240"/>
              <a:ext cx="549000" cy="180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4" name=""/>
            <p:cNvGrpSpPr/>
            <p:nvPr/>
          </p:nvGrpSpPr>
          <p:grpSpPr>
            <a:xfrm>
              <a:off x="7980840" y="3363840"/>
              <a:ext cx="271800" cy="105120"/>
              <a:chOff x="7980840" y="3363840"/>
              <a:chExt cx="271800" cy="105120"/>
            </a:xfrm>
          </p:grpSpPr>
          <p:sp>
            <p:nvSpPr>
              <p:cNvPr id="2175" name=""/>
              <p:cNvSpPr/>
              <p:nvPr/>
            </p:nvSpPr>
            <p:spPr>
              <a:xfrm flipV="1">
                <a:off x="7980840" y="336384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8167320" y="346896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8070120" y="336600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8" name=""/>
            <p:cNvGrpSpPr/>
            <p:nvPr/>
          </p:nvGrpSpPr>
          <p:grpSpPr>
            <a:xfrm>
              <a:off x="7980840" y="3362400"/>
              <a:ext cx="271800" cy="105120"/>
              <a:chOff x="7980840" y="3362400"/>
              <a:chExt cx="271800" cy="105120"/>
            </a:xfrm>
          </p:grpSpPr>
          <p:sp>
            <p:nvSpPr>
              <p:cNvPr id="2179" name=""/>
              <p:cNvSpPr/>
              <p:nvPr/>
            </p:nvSpPr>
            <p:spPr>
              <a:xfrm>
                <a:off x="7980840" y="346536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8167320" y="336240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flipV="1">
                <a:off x="8070120" y="336240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82" name=""/>
          <p:cNvGrpSpPr/>
          <p:nvPr/>
        </p:nvGrpSpPr>
        <p:grpSpPr>
          <a:xfrm>
            <a:off x="7478640" y="4024440"/>
            <a:ext cx="555840" cy="282240"/>
            <a:chOff x="7478640" y="4024440"/>
            <a:chExt cx="555840" cy="282240"/>
          </a:xfrm>
        </p:grpSpPr>
        <p:sp>
          <p:nvSpPr>
            <p:cNvPr id="2183" name=""/>
            <p:cNvSpPr/>
            <p:nvPr/>
          </p:nvSpPr>
          <p:spPr>
            <a:xfrm>
              <a:off x="7482960" y="4150440"/>
              <a:ext cx="551160" cy="156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7482960" y="413712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8034480" y="413712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7482960" y="4137120"/>
              <a:ext cx="546120" cy="95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7478640" y="4024440"/>
              <a:ext cx="550800" cy="182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8" name=""/>
            <p:cNvGrpSpPr/>
            <p:nvPr/>
          </p:nvGrpSpPr>
          <p:grpSpPr>
            <a:xfrm>
              <a:off x="7611120" y="4064400"/>
              <a:ext cx="272880" cy="106560"/>
              <a:chOff x="7611120" y="4064400"/>
              <a:chExt cx="272880" cy="106560"/>
            </a:xfrm>
          </p:grpSpPr>
          <p:sp>
            <p:nvSpPr>
              <p:cNvPr id="2189" name=""/>
              <p:cNvSpPr/>
              <p:nvPr/>
            </p:nvSpPr>
            <p:spPr>
              <a:xfrm flipV="1">
                <a:off x="7611120" y="4064400"/>
                <a:ext cx="972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7798320" y="4170960"/>
                <a:ext cx="85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7700760" y="4066560"/>
                <a:ext cx="10116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2" name=""/>
            <p:cNvGrpSpPr/>
            <p:nvPr/>
          </p:nvGrpSpPr>
          <p:grpSpPr>
            <a:xfrm>
              <a:off x="7611120" y="4062960"/>
              <a:ext cx="272880" cy="106560"/>
              <a:chOff x="7611120" y="4062960"/>
              <a:chExt cx="272880" cy="106560"/>
            </a:xfrm>
          </p:grpSpPr>
          <p:sp>
            <p:nvSpPr>
              <p:cNvPr id="2193" name=""/>
              <p:cNvSpPr/>
              <p:nvPr/>
            </p:nvSpPr>
            <p:spPr>
              <a:xfrm>
                <a:off x="7611120" y="4167360"/>
                <a:ext cx="972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7798320" y="4062960"/>
                <a:ext cx="85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 flipV="1">
                <a:off x="7700760" y="4062960"/>
                <a:ext cx="10116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6" name=""/>
          <p:cNvGrpSpPr/>
          <p:nvPr/>
        </p:nvGrpSpPr>
        <p:grpSpPr>
          <a:xfrm>
            <a:off x="6805440" y="4611600"/>
            <a:ext cx="552600" cy="279000"/>
            <a:chOff x="6805440" y="4611600"/>
            <a:chExt cx="552600" cy="279000"/>
          </a:xfrm>
        </p:grpSpPr>
        <p:sp>
          <p:nvSpPr>
            <p:cNvPr id="2197" name=""/>
            <p:cNvSpPr/>
            <p:nvPr/>
          </p:nvSpPr>
          <p:spPr>
            <a:xfrm>
              <a:off x="6809760" y="4736160"/>
              <a:ext cx="547920" cy="154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809760" y="472284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7358040" y="472284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6809760" y="4722840"/>
              <a:ext cx="542880" cy="9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6805440" y="4611600"/>
              <a:ext cx="547560" cy="180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2" name=""/>
            <p:cNvGrpSpPr/>
            <p:nvPr/>
          </p:nvGrpSpPr>
          <p:grpSpPr>
            <a:xfrm>
              <a:off x="6937200" y="4651200"/>
              <a:ext cx="271080" cy="105120"/>
              <a:chOff x="6937200" y="4651200"/>
              <a:chExt cx="271080" cy="105120"/>
            </a:xfrm>
          </p:grpSpPr>
          <p:sp>
            <p:nvSpPr>
              <p:cNvPr id="2203" name=""/>
              <p:cNvSpPr/>
              <p:nvPr/>
            </p:nvSpPr>
            <p:spPr>
              <a:xfrm flipV="1">
                <a:off x="6937200" y="4651200"/>
                <a:ext cx="96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7122960" y="475632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7026480" y="4653360"/>
                <a:ext cx="10044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6" name=""/>
            <p:cNvGrpSpPr/>
            <p:nvPr/>
          </p:nvGrpSpPr>
          <p:grpSpPr>
            <a:xfrm>
              <a:off x="6937200" y="4649760"/>
              <a:ext cx="271080" cy="105120"/>
              <a:chOff x="6937200" y="4649760"/>
              <a:chExt cx="271080" cy="105120"/>
            </a:xfrm>
          </p:grpSpPr>
          <p:sp>
            <p:nvSpPr>
              <p:cNvPr id="2207" name=""/>
              <p:cNvSpPr/>
              <p:nvPr/>
            </p:nvSpPr>
            <p:spPr>
              <a:xfrm>
                <a:off x="6937200" y="4752720"/>
                <a:ext cx="96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7122960" y="464976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 flipV="1">
                <a:off x="7026480" y="4649760"/>
                <a:ext cx="10044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10" name=""/>
          <p:cNvGrpSpPr/>
          <p:nvPr/>
        </p:nvGrpSpPr>
        <p:grpSpPr>
          <a:xfrm>
            <a:off x="5916600" y="4160880"/>
            <a:ext cx="554040" cy="279000"/>
            <a:chOff x="5916600" y="4160880"/>
            <a:chExt cx="554040" cy="279000"/>
          </a:xfrm>
        </p:grpSpPr>
        <p:sp>
          <p:nvSpPr>
            <p:cNvPr id="2211" name=""/>
            <p:cNvSpPr/>
            <p:nvPr/>
          </p:nvSpPr>
          <p:spPr>
            <a:xfrm>
              <a:off x="5920920" y="4285440"/>
              <a:ext cx="549360" cy="154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920920" y="427212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6470640" y="427212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920920" y="4272120"/>
              <a:ext cx="544320" cy="9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5916600" y="4160880"/>
              <a:ext cx="549000" cy="180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6" name=""/>
            <p:cNvGrpSpPr/>
            <p:nvPr/>
          </p:nvGrpSpPr>
          <p:grpSpPr>
            <a:xfrm>
              <a:off x="6048720" y="4200480"/>
              <a:ext cx="271800" cy="105120"/>
              <a:chOff x="6048720" y="4200480"/>
              <a:chExt cx="271800" cy="105120"/>
            </a:xfrm>
          </p:grpSpPr>
          <p:sp>
            <p:nvSpPr>
              <p:cNvPr id="2217" name=""/>
              <p:cNvSpPr/>
              <p:nvPr/>
            </p:nvSpPr>
            <p:spPr>
              <a:xfrm flipV="1">
                <a:off x="6048720" y="420048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6235200" y="430560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6138000" y="420264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0" name=""/>
            <p:cNvGrpSpPr/>
            <p:nvPr/>
          </p:nvGrpSpPr>
          <p:grpSpPr>
            <a:xfrm>
              <a:off x="6048720" y="4199040"/>
              <a:ext cx="271800" cy="105120"/>
              <a:chOff x="6048720" y="4199040"/>
              <a:chExt cx="271800" cy="105120"/>
            </a:xfrm>
          </p:grpSpPr>
          <p:sp>
            <p:nvSpPr>
              <p:cNvPr id="2221" name=""/>
              <p:cNvSpPr/>
              <p:nvPr/>
            </p:nvSpPr>
            <p:spPr>
              <a:xfrm>
                <a:off x="6048720" y="430200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235200" y="419904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 flipV="1">
                <a:off x="6138000" y="419904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24" name=""/>
          <p:cNvSpPr/>
          <p:nvPr/>
        </p:nvSpPr>
        <p:spPr>
          <a:xfrm>
            <a:off x="6192720" y="4430880"/>
            <a:ext cx="1800" cy="272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5" name=""/>
          <p:cNvGrpSpPr/>
          <p:nvPr/>
        </p:nvGrpSpPr>
        <p:grpSpPr>
          <a:xfrm>
            <a:off x="6022800" y="4889520"/>
            <a:ext cx="1179720" cy="287280"/>
            <a:chOff x="6022800" y="4889520"/>
            <a:chExt cx="1179720" cy="287280"/>
          </a:xfrm>
        </p:grpSpPr>
        <p:sp>
          <p:nvSpPr>
            <p:cNvPr id="2226" name=""/>
            <p:cNvSpPr/>
            <p:nvPr/>
          </p:nvSpPr>
          <p:spPr>
            <a:xfrm rot="16200000">
              <a:off x="6022080" y="4894560"/>
              <a:ext cx="74520" cy="730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 rot="16200000">
              <a:off x="6114960" y="4892400"/>
              <a:ext cx="76320" cy="730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 rot="16200000">
              <a:off x="6201720" y="4897800"/>
              <a:ext cx="74520" cy="730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7202520" y="48895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6931080" y="5038560"/>
              <a:ext cx="6516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6873840" y="5013360"/>
              <a:ext cx="92160" cy="13032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6818400" y="4997520"/>
              <a:ext cx="115920" cy="17928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 flipH="1" flipV="1">
              <a:off x="7020720" y="5023800"/>
              <a:ext cx="65160" cy="7596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H="1" flipV="1">
              <a:off x="7048440" y="4998960"/>
              <a:ext cx="92160" cy="13032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H="1" flipV="1">
              <a:off x="7070760" y="4963320"/>
              <a:ext cx="115920" cy="17964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6" name=""/>
          <p:cNvGrpSpPr/>
          <p:nvPr/>
        </p:nvGrpSpPr>
        <p:grpSpPr>
          <a:xfrm>
            <a:off x="7304040" y="5316480"/>
            <a:ext cx="367920" cy="212760"/>
            <a:chOff x="7304040" y="5316480"/>
            <a:chExt cx="367920" cy="212760"/>
          </a:xfrm>
        </p:grpSpPr>
        <p:sp>
          <p:nvSpPr>
            <p:cNvPr id="2237" name=""/>
            <p:cNvSpPr/>
            <p:nvPr/>
          </p:nvSpPr>
          <p:spPr>
            <a:xfrm>
              <a:off x="7417080" y="5391000"/>
              <a:ext cx="6480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7359840" y="5365800"/>
              <a:ext cx="92160" cy="12996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7304040" y="5349600"/>
              <a:ext cx="115920" cy="17964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 flipH="1" flipV="1">
              <a:off x="7506720" y="5376600"/>
              <a:ext cx="6516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 flipV="1">
              <a:off x="7534440" y="5350680"/>
              <a:ext cx="92160" cy="12996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H="1" flipV="1">
              <a:off x="7556040" y="5316480"/>
              <a:ext cx="115560" cy="17928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3" name=""/>
          <p:cNvGrpSpPr/>
          <p:nvPr/>
        </p:nvGrpSpPr>
        <p:grpSpPr>
          <a:xfrm>
            <a:off x="6399360" y="5268960"/>
            <a:ext cx="367920" cy="212760"/>
            <a:chOff x="6399360" y="5268960"/>
            <a:chExt cx="367920" cy="212760"/>
          </a:xfrm>
        </p:grpSpPr>
        <p:sp>
          <p:nvSpPr>
            <p:cNvPr id="2244" name=""/>
            <p:cNvSpPr/>
            <p:nvPr/>
          </p:nvSpPr>
          <p:spPr>
            <a:xfrm>
              <a:off x="6512400" y="5343480"/>
              <a:ext cx="6480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455160" y="5318280"/>
              <a:ext cx="92160" cy="12996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6399360" y="5302080"/>
              <a:ext cx="115920" cy="17964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H="1" flipV="1">
              <a:off x="6602040" y="5329080"/>
              <a:ext cx="6516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H="1" flipV="1">
              <a:off x="6629760" y="5303160"/>
              <a:ext cx="92160" cy="12996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 flipH="1" flipV="1">
              <a:off x="6651360" y="5268960"/>
              <a:ext cx="115560" cy="17928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C8C7-6AE1-4162-A55B-FA5F9D86E1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0" name=""/>
          <p:cNvGrpSpPr/>
          <p:nvPr/>
        </p:nvGrpSpPr>
        <p:grpSpPr>
          <a:xfrm>
            <a:off x="5137200" y="1477800"/>
            <a:ext cx="2554920" cy="1830240"/>
            <a:chOff x="5137200" y="1477800"/>
            <a:chExt cx="2554920" cy="1830240"/>
          </a:xfrm>
        </p:grpSpPr>
        <p:pic>
          <p:nvPicPr>
            <p:cNvPr id="2251" name="" descr=""/>
            <p:cNvPicPr/>
            <p:nvPr/>
          </p:nvPicPr>
          <p:blipFill>
            <a:blip r:embed="rId1"/>
            <a:stretch/>
          </p:blipFill>
          <p:spPr>
            <a:xfrm>
              <a:off x="5137200" y="1477800"/>
              <a:ext cx="729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2" name="" descr=""/>
            <p:cNvPicPr/>
            <p:nvPr/>
          </p:nvPicPr>
          <p:blipFill>
            <a:blip r:embed="rId2"/>
            <a:stretch/>
          </p:blipFill>
          <p:spPr>
            <a:xfrm>
              <a:off x="5931720" y="1713600"/>
              <a:ext cx="490320" cy="3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3" name=""/>
            <p:cNvSpPr/>
            <p:nvPr/>
          </p:nvSpPr>
          <p:spPr>
            <a:xfrm flipV="1">
              <a:off x="5848920" y="1962000"/>
              <a:ext cx="200520" cy="5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54" name="" descr=""/>
            <p:cNvPicPr/>
            <p:nvPr/>
          </p:nvPicPr>
          <p:blipFill>
            <a:blip r:embed="rId3"/>
            <a:stretch/>
          </p:blipFill>
          <p:spPr>
            <a:xfrm>
              <a:off x="5137200" y="2670120"/>
              <a:ext cx="729360" cy="63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5" name="" descr=""/>
            <p:cNvPicPr/>
            <p:nvPr/>
          </p:nvPicPr>
          <p:blipFill>
            <a:blip r:embed="rId4"/>
            <a:stretch/>
          </p:blipFill>
          <p:spPr>
            <a:xfrm>
              <a:off x="5931720" y="2905560"/>
              <a:ext cx="490320" cy="3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6" name=""/>
            <p:cNvSpPr/>
            <p:nvPr/>
          </p:nvSpPr>
          <p:spPr>
            <a:xfrm flipV="1">
              <a:off x="5848920" y="3154320"/>
              <a:ext cx="200520" cy="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7" name=""/>
            <p:cNvGrpSpPr/>
            <p:nvPr/>
          </p:nvGrpSpPr>
          <p:grpSpPr>
            <a:xfrm>
              <a:off x="5796000" y="2243520"/>
              <a:ext cx="122760" cy="428400"/>
              <a:chOff x="5796000" y="2243520"/>
              <a:chExt cx="122760" cy="428400"/>
            </a:xfrm>
          </p:grpSpPr>
          <p:sp>
            <p:nvSpPr>
              <p:cNvPr id="2258" name=""/>
              <p:cNvSpPr/>
              <p:nvPr/>
            </p:nvSpPr>
            <p:spPr>
              <a:xfrm>
                <a:off x="5796000" y="2243520"/>
                <a:ext cx="113040" cy="120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5800680" y="2397600"/>
                <a:ext cx="113040" cy="1202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5805720" y="2551680"/>
                <a:ext cx="113040" cy="1202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1" name=""/>
            <p:cNvSpPr/>
            <p:nvPr/>
          </p:nvSpPr>
          <p:spPr>
            <a:xfrm>
              <a:off x="6334560" y="1986480"/>
              <a:ext cx="505440" cy="529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 flipV="1">
              <a:off x="6354360" y="2558160"/>
              <a:ext cx="485280" cy="659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3" name=""/>
            <p:cNvGrpSpPr/>
            <p:nvPr/>
          </p:nvGrpSpPr>
          <p:grpSpPr>
            <a:xfrm>
              <a:off x="6814800" y="2283120"/>
              <a:ext cx="877320" cy="465480"/>
              <a:chOff x="6814800" y="2283120"/>
              <a:chExt cx="877320" cy="465480"/>
            </a:xfrm>
          </p:grpSpPr>
          <p:sp>
            <p:nvSpPr>
              <p:cNvPr id="2264" name=""/>
              <p:cNvSpPr/>
              <p:nvPr/>
            </p:nvSpPr>
            <p:spPr>
              <a:xfrm>
                <a:off x="6821640" y="2490840"/>
                <a:ext cx="870120" cy="2577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6821640" y="2468880"/>
                <a:ext cx="0" cy="15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7692120" y="2468880"/>
                <a:ext cx="0" cy="15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6821640" y="2468880"/>
                <a:ext cx="862560" cy="15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6814800" y="2283120"/>
                <a:ext cx="869400" cy="3006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69" name=""/>
              <p:cNvGrpSpPr/>
              <p:nvPr/>
            </p:nvGrpSpPr>
            <p:grpSpPr>
              <a:xfrm>
                <a:off x="7023960" y="2349360"/>
                <a:ext cx="430560" cy="175320"/>
                <a:chOff x="7023960" y="2349360"/>
                <a:chExt cx="430560" cy="175320"/>
              </a:xfrm>
            </p:grpSpPr>
            <p:sp>
              <p:nvSpPr>
                <p:cNvPr id="2270" name=""/>
                <p:cNvSpPr/>
                <p:nvPr/>
              </p:nvSpPr>
              <p:spPr>
                <a:xfrm flipV="1">
                  <a:off x="7023960" y="2349360"/>
                  <a:ext cx="153360" cy="3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>
                  <a:off x="7319160" y="2524680"/>
                  <a:ext cx="135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>
                  <a:off x="7165440" y="2352960"/>
                  <a:ext cx="159840" cy="171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3" name=""/>
              <p:cNvGrpSpPr/>
              <p:nvPr/>
            </p:nvGrpSpPr>
            <p:grpSpPr>
              <a:xfrm>
                <a:off x="7023960" y="2347200"/>
                <a:ext cx="430560" cy="175320"/>
                <a:chOff x="7023960" y="2347200"/>
                <a:chExt cx="430560" cy="175320"/>
              </a:xfrm>
            </p:grpSpPr>
            <p:sp>
              <p:nvSpPr>
                <p:cNvPr id="2274" name=""/>
                <p:cNvSpPr/>
                <p:nvPr/>
              </p:nvSpPr>
              <p:spPr>
                <a:xfrm>
                  <a:off x="7023960" y="2518920"/>
                  <a:ext cx="153360" cy="3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>
                  <a:off x="7319160" y="2347200"/>
                  <a:ext cx="135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 flipV="1">
                  <a:off x="7165440" y="2347200"/>
                  <a:ext cx="159840" cy="171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Acesso residencial: acesso ponto a pont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Discado (Dialup) via mod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cesso direto ao roteador de até 56Kbps (teoricament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RDSI/ISDN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 digital de serviços integrados: conexão digital de 128Kbps ao roteador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Serviço DVi (Digital Voice Image) da Telema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495680" y="3592440"/>
            <a:ext cx="3810240" cy="26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DSL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symmetric digital subscriber l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té 1 Mbps casa-ao-rotea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té 8 Mbps roteador-para-cas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Serviço Turbo da Brasil Teleco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958E-495D-41A2-B773-B8A108D85B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cesso residencial: cable modem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533160" y="1568520"/>
            <a:ext cx="785628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HFC: hybrid fiber coa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ssimétrico: até 10Mbps descida (downstream), 1 Mbps subida (upstream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rede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de cabos e fibra conectam as residências ao roteador do IS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cesso compartilhado ao roteador pelas residênci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estões: congestionamento, dimension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mplantação: disponível através de empresas de TV a cabo, ex.: </a:t>
            </a: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AJATO (TVA) e VIRTUA (Ne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1027-0F7A-4542-8EF6-91BBEC750D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cesso residencial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: cable modem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2283" name="" descr=""/>
          <p:cNvPicPr/>
          <p:nvPr/>
        </p:nvPicPr>
        <p:blipFill>
          <a:blip r:embed="rId1"/>
          <a:stretch/>
        </p:blipFill>
        <p:spPr>
          <a:xfrm>
            <a:off x="1189080" y="1246320"/>
            <a:ext cx="6465960" cy="4744800"/>
          </a:xfrm>
          <a:prstGeom prst="rect">
            <a:avLst/>
          </a:prstGeom>
          <a:ln w="0">
            <a:noFill/>
          </a:ln>
        </p:spPr>
      </p:pic>
      <p:sp>
        <p:nvSpPr>
          <p:cNvPr id="2284" name=""/>
          <p:cNvSpPr/>
          <p:nvPr/>
        </p:nvSpPr>
        <p:spPr>
          <a:xfrm>
            <a:off x="614520" y="6392880"/>
            <a:ext cx="460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a: http://www.cabledatacomnews.com/cmic/diagram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CCB3-DA89-458F-8CB6-EB9181307E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42084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Arquitetura de redes a cabo: Visão Geral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2286" name="" descr=""/>
          <p:cNvPicPr/>
          <p:nvPr/>
        </p:nvPicPr>
        <p:blipFill>
          <a:blip r:embed="rId1"/>
          <a:stretch/>
        </p:blipFill>
        <p:spPr>
          <a:xfrm>
            <a:off x="5416560" y="3873600"/>
            <a:ext cx="1019160" cy="279360"/>
          </a:xfrm>
          <a:prstGeom prst="rect">
            <a:avLst/>
          </a:prstGeom>
          <a:ln w="0">
            <a:noFill/>
          </a:ln>
        </p:spPr>
      </p:pic>
      <p:pic>
        <p:nvPicPr>
          <p:cNvPr id="2287" name="" descr=""/>
          <p:cNvPicPr/>
          <p:nvPr/>
        </p:nvPicPr>
        <p:blipFill>
          <a:blip r:embed="rId2"/>
          <a:stretch/>
        </p:blipFill>
        <p:spPr>
          <a:xfrm>
            <a:off x="5916600" y="4308480"/>
            <a:ext cx="1019160" cy="279360"/>
          </a:xfrm>
          <a:prstGeom prst="rect">
            <a:avLst/>
          </a:prstGeom>
          <a:ln w="0">
            <a:noFill/>
          </a:ln>
        </p:spPr>
      </p:pic>
      <p:pic>
        <p:nvPicPr>
          <p:cNvPr id="2288" name="" descr=""/>
          <p:cNvPicPr/>
          <p:nvPr/>
        </p:nvPicPr>
        <p:blipFill>
          <a:blip r:embed="rId3"/>
          <a:stretch/>
        </p:blipFill>
        <p:spPr>
          <a:xfrm>
            <a:off x="4097160" y="4064040"/>
            <a:ext cx="1000440" cy="274680"/>
          </a:xfrm>
          <a:prstGeom prst="rect">
            <a:avLst/>
          </a:prstGeom>
          <a:ln w="0">
            <a:noFill/>
          </a:ln>
        </p:spPr>
      </p:pic>
      <p:grpSp>
        <p:nvGrpSpPr>
          <p:cNvPr id="2289" name=""/>
          <p:cNvGrpSpPr/>
          <p:nvPr/>
        </p:nvGrpSpPr>
        <p:grpSpPr>
          <a:xfrm>
            <a:off x="3916440" y="4227480"/>
            <a:ext cx="256680" cy="633240"/>
            <a:chOff x="3916440" y="4227480"/>
            <a:chExt cx="256680" cy="633240"/>
          </a:xfrm>
        </p:grpSpPr>
        <p:sp>
          <p:nvSpPr>
            <p:cNvPr id="2290" name=""/>
            <p:cNvSpPr/>
            <p:nvPr/>
          </p:nvSpPr>
          <p:spPr>
            <a:xfrm rot="16200000">
              <a:off x="3621960" y="4523400"/>
              <a:ext cx="6318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3917880" y="4227480"/>
              <a:ext cx="25524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92" name="" descr=""/>
          <p:cNvPicPr/>
          <p:nvPr/>
        </p:nvPicPr>
        <p:blipFill>
          <a:blip r:embed="rId4"/>
          <a:stretch/>
        </p:blipFill>
        <p:spPr>
          <a:xfrm>
            <a:off x="7323120" y="4076640"/>
            <a:ext cx="1000080" cy="274680"/>
          </a:xfrm>
          <a:prstGeom prst="rect">
            <a:avLst/>
          </a:prstGeom>
          <a:ln w="0">
            <a:noFill/>
          </a:ln>
        </p:spPr>
      </p:pic>
      <p:pic>
        <p:nvPicPr>
          <p:cNvPr id="2293" name="" descr=""/>
          <p:cNvPicPr/>
          <p:nvPr/>
        </p:nvPicPr>
        <p:blipFill>
          <a:blip r:embed="rId5"/>
          <a:stretch/>
        </p:blipFill>
        <p:spPr>
          <a:xfrm>
            <a:off x="4262400" y="5334120"/>
            <a:ext cx="1000080" cy="274680"/>
          </a:xfrm>
          <a:prstGeom prst="rect">
            <a:avLst/>
          </a:prstGeom>
          <a:ln w="0">
            <a:noFill/>
          </a:ln>
        </p:spPr>
      </p:pic>
      <p:pic>
        <p:nvPicPr>
          <p:cNvPr id="2294" name="" descr=""/>
          <p:cNvPicPr/>
          <p:nvPr/>
        </p:nvPicPr>
        <p:blipFill>
          <a:blip r:embed="rId6"/>
          <a:stretch/>
        </p:blipFill>
        <p:spPr>
          <a:xfrm>
            <a:off x="5738760" y="5070600"/>
            <a:ext cx="1019160" cy="279360"/>
          </a:xfrm>
          <a:prstGeom prst="rect">
            <a:avLst/>
          </a:prstGeom>
          <a:ln w="0">
            <a:noFill/>
          </a:ln>
        </p:spPr>
      </p:pic>
      <p:pic>
        <p:nvPicPr>
          <p:cNvPr id="2295" name="" descr=""/>
          <p:cNvPicPr/>
          <p:nvPr/>
        </p:nvPicPr>
        <p:blipFill>
          <a:blip r:embed="rId7"/>
          <a:stretch/>
        </p:blipFill>
        <p:spPr>
          <a:xfrm>
            <a:off x="6954840" y="5524560"/>
            <a:ext cx="1000080" cy="274680"/>
          </a:xfrm>
          <a:prstGeom prst="rect">
            <a:avLst/>
          </a:prstGeom>
          <a:ln w="0">
            <a:noFill/>
          </a:ln>
        </p:spPr>
      </p:pic>
      <p:grpSp>
        <p:nvGrpSpPr>
          <p:cNvPr id="2296" name=""/>
          <p:cNvGrpSpPr/>
          <p:nvPr/>
        </p:nvGrpSpPr>
        <p:grpSpPr>
          <a:xfrm>
            <a:off x="6770520" y="4907160"/>
            <a:ext cx="255240" cy="820440"/>
            <a:chOff x="6770520" y="4907160"/>
            <a:chExt cx="255240" cy="820440"/>
          </a:xfrm>
        </p:grpSpPr>
        <p:sp>
          <p:nvSpPr>
            <p:cNvPr id="2297" name=""/>
            <p:cNvSpPr/>
            <p:nvPr/>
          </p:nvSpPr>
          <p:spPr>
            <a:xfrm flipV="1" rot="5400000">
              <a:off x="6382440" y="5294880"/>
              <a:ext cx="8190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 flipV="1">
              <a:off x="6771960" y="5684400"/>
              <a:ext cx="2538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9" name=""/>
          <p:cNvGrpSpPr/>
          <p:nvPr/>
        </p:nvGrpSpPr>
        <p:grpSpPr>
          <a:xfrm>
            <a:off x="5529240" y="4888440"/>
            <a:ext cx="255240" cy="378360"/>
            <a:chOff x="5529240" y="4888440"/>
            <a:chExt cx="255240" cy="378360"/>
          </a:xfrm>
        </p:grpSpPr>
        <p:sp>
          <p:nvSpPr>
            <p:cNvPr id="2300" name=""/>
            <p:cNvSpPr/>
            <p:nvPr/>
          </p:nvSpPr>
          <p:spPr>
            <a:xfrm flipV="1" rot="5400000">
              <a:off x="5361840" y="5055480"/>
              <a:ext cx="37764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 flipV="1">
              <a:off x="5530680" y="5224320"/>
              <a:ext cx="253800" cy="42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2" name=""/>
          <p:cNvGrpSpPr/>
          <p:nvPr/>
        </p:nvGrpSpPr>
        <p:grpSpPr>
          <a:xfrm>
            <a:off x="4094280" y="4900680"/>
            <a:ext cx="255600" cy="632880"/>
            <a:chOff x="4094280" y="4900680"/>
            <a:chExt cx="255600" cy="632880"/>
          </a:xfrm>
        </p:grpSpPr>
        <p:sp>
          <p:nvSpPr>
            <p:cNvPr id="2303" name=""/>
            <p:cNvSpPr/>
            <p:nvPr/>
          </p:nvSpPr>
          <p:spPr>
            <a:xfrm flipV="1" rot="5400000">
              <a:off x="3799800" y="5194800"/>
              <a:ext cx="63144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 flipV="1">
              <a:off x="4095720" y="5491080"/>
              <a:ext cx="254160" cy="42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5" name=""/>
          <p:cNvGrpSpPr/>
          <p:nvPr/>
        </p:nvGrpSpPr>
        <p:grpSpPr>
          <a:xfrm>
            <a:off x="7126200" y="4246560"/>
            <a:ext cx="255600" cy="630000"/>
            <a:chOff x="7126200" y="4246560"/>
            <a:chExt cx="255600" cy="630000"/>
          </a:xfrm>
        </p:grpSpPr>
        <p:sp>
          <p:nvSpPr>
            <p:cNvPr id="2306" name=""/>
            <p:cNvSpPr/>
            <p:nvPr/>
          </p:nvSpPr>
          <p:spPr>
            <a:xfrm rot="16200000">
              <a:off x="6833160" y="4540680"/>
              <a:ext cx="62892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7127640" y="4246560"/>
              <a:ext cx="25416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8" name=""/>
          <p:cNvGrpSpPr/>
          <p:nvPr/>
        </p:nvGrpSpPr>
        <p:grpSpPr>
          <a:xfrm>
            <a:off x="5757840" y="4468680"/>
            <a:ext cx="255240" cy="379440"/>
            <a:chOff x="5757840" y="4468680"/>
            <a:chExt cx="255240" cy="379440"/>
          </a:xfrm>
        </p:grpSpPr>
        <p:sp>
          <p:nvSpPr>
            <p:cNvPr id="2309" name=""/>
            <p:cNvSpPr/>
            <p:nvPr/>
          </p:nvSpPr>
          <p:spPr>
            <a:xfrm rot="16200000">
              <a:off x="5590080" y="4637520"/>
              <a:ext cx="3780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5759280" y="4468680"/>
              <a:ext cx="2538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1" name=""/>
          <p:cNvGrpSpPr/>
          <p:nvPr/>
        </p:nvGrpSpPr>
        <p:grpSpPr>
          <a:xfrm>
            <a:off x="5221440" y="4030560"/>
            <a:ext cx="255240" cy="820440"/>
            <a:chOff x="5221440" y="4030560"/>
            <a:chExt cx="255240" cy="820440"/>
          </a:xfrm>
        </p:grpSpPr>
        <p:sp>
          <p:nvSpPr>
            <p:cNvPr id="2312" name=""/>
            <p:cNvSpPr/>
            <p:nvPr/>
          </p:nvSpPr>
          <p:spPr>
            <a:xfrm rot="16200000">
              <a:off x="4833360" y="4420080"/>
              <a:ext cx="8190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5222880" y="4030560"/>
              <a:ext cx="2538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4" name=""/>
          <p:cNvSpPr/>
          <p:nvPr/>
        </p:nvSpPr>
        <p:spPr>
          <a:xfrm flipV="1">
            <a:off x="2612880" y="4845960"/>
            <a:ext cx="5092920" cy="428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4417560" y="558468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6" name="" descr=""/>
          <p:cNvPicPr/>
          <p:nvPr/>
        </p:nvPicPr>
        <p:blipFill>
          <a:blip r:embed="rId8"/>
          <a:stretch/>
        </p:blipFill>
        <p:spPr>
          <a:xfrm>
            <a:off x="1127160" y="4356000"/>
            <a:ext cx="1504800" cy="782640"/>
          </a:xfrm>
          <a:prstGeom prst="rect">
            <a:avLst/>
          </a:prstGeom>
          <a:ln w="0">
            <a:noFill/>
          </a:ln>
        </p:spPr>
      </p:pic>
      <p:sp>
        <p:nvSpPr>
          <p:cNvPr id="2317" name=""/>
          <p:cNvSpPr/>
          <p:nvPr/>
        </p:nvSpPr>
        <p:spPr>
          <a:xfrm>
            <a:off x="1127880" y="514044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ble head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2105280" y="5711760"/>
            <a:ext cx="203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e de distribui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implificad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 flipV="1">
            <a:off x="3124080" y="4939920"/>
            <a:ext cx="406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3416400" y="3057480"/>
            <a:ext cx="53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icamente entre 500 a 5.000 ca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7E31-B4F2-4E82-B75E-5C7D3964C35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42084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Arquitetura de redes a cabo: Visão Geral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2322" name="" descr=""/>
          <p:cNvPicPr/>
          <p:nvPr/>
        </p:nvPicPr>
        <p:blipFill>
          <a:blip r:embed="rId1"/>
          <a:stretch/>
        </p:blipFill>
        <p:spPr>
          <a:xfrm>
            <a:off x="5416560" y="3873600"/>
            <a:ext cx="1019160" cy="279360"/>
          </a:xfrm>
          <a:prstGeom prst="rect">
            <a:avLst/>
          </a:prstGeom>
          <a:ln w="0">
            <a:noFill/>
          </a:ln>
        </p:spPr>
      </p:pic>
      <p:pic>
        <p:nvPicPr>
          <p:cNvPr id="2323" name="" descr=""/>
          <p:cNvPicPr/>
          <p:nvPr/>
        </p:nvPicPr>
        <p:blipFill>
          <a:blip r:embed="rId2"/>
          <a:stretch/>
        </p:blipFill>
        <p:spPr>
          <a:xfrm>
            <a:off x="5916600" y="4308480"/>
            <a:ext cx="1019160" cy="279360"/>
          </a:xfrm>
          <a:prstGeom prst="rect">
            <a:avLst/>
          </a:prstGeom>
          <a:ln w="0">
            <a:noFill/>
          </a:ln>
        </p:spPr>
      </p:pic>
      <p:pic>
        <p:nvPicPr>
          <p:cNvPr id="2324" name="" descr=""/>
          <p:cNvPicPr/>
          <p:nvPr/>
        </p:nvPicPr>
        <p:blipFill>
          <a:blip r:embed="rId3"/>
          <a:stretch/>
        </p:blipFill>
        <p:spPr>
          <a:xfrm>
            <a:off x="4097160" y="4064040"/>
            <a:ext cx="1000440" cy="274680"/>
          </a:xfrm>
          <a:prstGeom prst="rect">
            <a:avLst/>
          </a:prstGeom>
          <a:ln w="0">
            <a:noFill/>
          </a:ln>
        </p:spPr>
      </p:pic>
      <p:grpSp>
        <p:nvGrpSpPr>
          <p:cNvPr id="2325" name=""/>
          <p:cNvGrpSpPr/>
          <p:nvPr/>
        </p:nvGrpSpPr>
        <p:grpSpPr>
          <a:xfrm>
            <a:off x="3916440" y="4227480"/>
            <a:ext cx="256680" cy="633240"/>
            <a:chOff x="3916440" y="4227480"/>
            <a:chExt cx="256680" cy="633240"/>
          </a:xfrm>
        </p:grpSpPr>
        <p:sp>
          <p:nvSpPr>
            <p:cNvPr id="2326" name=""/>
            <p:cNvSpPr/>
            <p:nvPr/>
          </p:nvSpPr>
          <p:spPr>
            <a:xfrm rot="16200000">
              <a:off x="3621960" y="4523400"/>
              <a:ext cx="6318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3917880" y="4227480"/>
              <a:ext cx="25524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28" name="" descr=""/>
          <p:cNvPicPr/>
          <p:nvPr/>
        </p:nvPicPr>
        <p:blipFill>
          <a:blip r:embed="rId4"/>
          <a:stretch/>
        </p:blipFill>
        <p:spPr>
          <a:xfrm>
            <a:off x="7323120" y="4076640"/>
            <a:ext cx="1000080" cy="274680"/>
          </a:xfrm>
          <a:prstGeom prst="rect">
            <a:avLst/>
          </a:prstGeom>
          <a:ln w="0">
            <a:noFill/>
          </a:ln>
        </p:spPr>
      </p:pic>
      <p:pic>
        <p:nvPicPr>
          <p:cNvPr id="2329" name="" descr=""/>
          <p:cNvPicPr/>
          <p:nvPr/>
        </p:nvPicPr>
        <p:blipFill>
          <a:blip r:embed="rId5"/>
          <a:stretch/>
        </p:blipFill>
        <p:spPr>
          <a:xfrm>
            <a:off x="4262400" y="5334120"/>
            <a:ext cx="1000080" cy="274680"/>
          </a:xfrm>
          <a:prstGeom prst="rect">
            <a:avLst/>
          </a:prstGeom>
          <a:ln w="0">
            <a:noFill/>
          </a:ln>
        </p:spPr>
      </p:pic>
      <p:pic>
        <p:nvPicPr>
          <p:cNvPr id="2330" name="" descr=""/>
          <p:cNvPicPr/>
          <p:nvPr/>
        </p:nvPicPr>
        <p:blipFill>
          <a:blip r:embed="rId6"/>
          <a:stretch/>
        </p:blipFill>
        <p:spPr>
          <a:xfrm>
            <a:off x="5738760" y="5070600"/>
            <a:ext cx="1019160" cy="279360"/>
          </a:xfrm>
          <a:prstGeom prst="rect">
            <a:avLst/>
          </a:prstGeom>
          <a:ln w="0">
            <a:noFill/>
          </a:ln>
        </p:spPr>
      </p:pic>
      <p:pic>
        <p:nvPicPr>
          <p:cNvPr id="2331" name="" descr=""/>
          <p:cNvPicPr/>
          <p:nvPr/>
        </p:nvPicPr>
        <p:blipFill>
          <a:blip r:embed="rId7"/>
          <a:stretch/>
        </p:blipFill>
        <p:spPr>
          <a:xfrm>
            <a:off x="6954840" y="5524560"/>
            <a:ext cx="1000080" cy="274680"/>
          </a:xfrm>
          <a:prstGeom prst="rect">
            <a:avLst/>
          </a:prstGeom>
          <a:ln w="0">
            <a:noFill/>
          </a:ln>
        </p:spPr>
      </p:pic>
      <p:grpSp>
        <p:nvGrpSpPr>
          <p:cNvPr id="2332" name=""/>
          <p:cNvGrpSpPr/>
          <p:nvPr/>
        </p:nvGrpSpPr>
        <p:grpSpPr>
          <a:xfrm>
            <a:off x="6770520" y="4907160"/>
            <a:ext cx="255240" cy="820440"/>
            <a:chOff x="6770520" y="4907160"/>
            <a:chExt cx="255240" cy="820440"/>
          </a:xfrm>
        </p:grpSpPr>
        <p:sp>
          <p:nvSpPr>
            <p:cNvPr id="2333" name=""/>
            <p:cNvSpPr/>
            <p:nvPr/>
          </p:nvSpPr>
          <p:spPr>
            <a:xfrm flipV="1" rot="5400000">
              <a:off x="6382440" y="5294880"/>
              <a:ext cx="8190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 flipV="1">
              <a:off x="6771960" y="5684400"/>
              <a:ext cx="2538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5" name=""/>
          <p:cNvGrpSpPr/>
          <p:nvPr/>
        </p:nvGrpSpPr>
        <p:grpSpPr>
          <a:xfrm>
            <a:off x="5529240" y="4888440"/>
            <a:ext cx="255240" cy="378360"/>
            <a:chOff x="5529240" y="4888440"/>
            <a:chExt cx="255240" cy="378360"/>
          </a:xfrm>
        </p:grpSpPr>
        <p:sp>
          <p:nvSpPr>
            <p:cNvPr id="2336" name=""/>
            <p:cNvSpPr/>
            <p:nvPr/>
          </p:nvSpPr>
          <p:spPr>
            <a:xfrm flipV="1" rot="5400000">
              <a:off x="5361840" y="5055480"/>
              <a:ext cx="37764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V="1">
              <a:off x="5530680" y="5224320"/>
              <a:ext cx="253800" cy="42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8" name=""/>
          <p:cNvGrpSpPr/>
          <p:nvPr/>
        </p:nvGrpSpPr>
        <p:grpSpPr>
          <a:xfrm>
            <a:off x="4094280" y="4900680"/>
            <a:ext cx="255600" cy="632880"/>
            <a:chOff x="4094280" y="4900680"/>
            <a:chExt cx="255600" cy="632880"/>
          </a:xfrm>
        </p:grpSpPr>
        <p:sp>
          <p:nvSpPr>
            <p:cNvPr id="2339" name=""/>
            <p:cNvSpPr/>
            <p:nvPr/>
          </p:nvSpPr>
          <p:spPr>
            <a:xfrm flipV="1" rot="5400000">
              <a:off x="3799800" y="5194800"/>
              <a:ext cx="63144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 flipV="1">
              <a:off x="4095720" y="5491080"/>
              <a:ext cx="254160" cy="42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1" name=""/>
          <p:cNvGrpSpPr/>
          <p:nvPr/>
        </p:nvGrpSpPr>
        <p:grpSpPr>
          <a:xfrm>
            <a:off x="7126200" y="4246560"/>
            <a:ext cx="255600" cy="630000"/>
            <a:chOff x="7126200" y="4246560"/>
            <a:chExt cx="255600" cy="630000"/>
          </a:xfrm>
        </p:grpSpPr>
        <p:sp>
          <p:nvSpPr>
            <p:cNvPr id="2342" name=""/>
            <p:cNvSpPr/>
            <p:nvPr/>
          </p:nvSpPr>
          <p:spPr>
            <a:xfrm rot="16200000">
              <a:off x="6833160" y="4540680"/>
              <a:ext cx="62892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7127640" y="4246560"/>
              <a:ext cx="25416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4" name=""/>
          <p:cNvGrpSpPr/>
          <p:nvPr/>
        </p:nvGrpSpPr>
        <p:grpSpPr>
          <a:xfrm>
            <a:off x="5757840" y="4468680"/>
            <a:ext cx="255240" cy="379440"/>
            <a:chOff x="5757840" y="4468680"/>
            <a:chExt cx="255240" cy="379440"/>
          </a:xfrm>
        </p:grpSpPr>
        <p:sp>
          <p:nvSpPr>
            <p:cNvPr id="2345" name=""/>
            <p:cNvSpPr/>
            <p:nvPr/>
          </p:nvSpPr>
          <p:spPr>
            <a:xfrm rot="16200000">
              <a:off x="5590080" y="4637520"/>
              <a:ext cx="3780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5759280" y="4468680"/>
              <a:ext cx="2538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7" name=""/>
          <p:cNvGrpSpPr/>
          <p:nvPr/>
        </p:nvGrpSpPr>
        <p:grpSpPr>
          <a:xfrm>
            <a:off x="5221440" y="4030560"/>
            <a:ext cx="255240" cy="820440"/>
            <a:chOff x="5221440" y="4030560"/>
            <a:chExt cx="255240" cy="820440"/>
          </a:xfrm>
        </p:grpSpPr>
        <p:sp>
          <p:nvSpPr>
            <p:cNvPr id="2348" name=""/>
            <p:cNvSpPr/>
            <p:nvPr/>
          </p:nvSpPr>
          <p:spPr>
            <a:xfrm rot="16200000">
              <a:off x="4833360" y="4420080"/>
              <a:ext cx="8190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5222880" y="4030560"/>
              <a:ext cx="2538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0" name=""/>
          <p:cNvSpPr/>
          <p:nvPr/>
        </p:nvSpPr>
        <p:spPr>
          <a:xfrm flipV="1">
            <a:off x="2612880" y="4845960"/>
            <a:ext cx="5092920" cy="428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1" name="" descr=""/>
          <p:cNvPicPr/>
          <p:nvPr/>
        </p:nvPicPr>
        <p:blipFill>
          <a:blip r:embed="rId8"/>
          <a:stretch/>
        </p:blipFill>
        <p:spPr>
          <a:xfrm>
            <a:off x="1127160" y="4356000"/>
            <a:ext cx="1504800" cy="782640"/>
          </a:xfrm>
          <a:prstGeom prst="rect">
            <a:avLst/>
          </a:prstGeom>
          <a:ln w="0">
            <a:noFill/>
          </a:ln>
        </p:spPr>
      </p:pic>
      <p:sp>
        <p:nvSpPr>
          <p:cNvPr id="2352" name=""/>
          <p:cNvSpPr/>
          <p:nvPr/>
        </p:nvSpPr>
        <p:spPr>
          <a:xfrm>
            <a:off x="1127880" y="514044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ble head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 flipV="1">
            <a:off x="3124080" y="4939920"/>
            <a:ext cx="406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4" name=""/>
          <p:cNvGrpSpPr/>
          <p:nvPr/>
        </p:nvGrpSpPr>
        <p:grpSpPr>
          <a:xfrm>
            <a:off x="3429000" y="1181160"/>
            <a:ext cx="5232240" cy="2806560"/>
            <a:chOff x="3429000" y="1181160"/>
            <a:chExt cx="5232240" cy="2806560"/>
          </a:xfrm>
        </p:grpSpPr>
        <p:sp>
          <p:nvSpPr>
            <p:cNvPr id="2355" name=""/>
            <p:cNvSpPr/>
            <p:nvPr/>
          </p:nvSpPr>
          <p:spPr>
            <a:xfrm>
              <a:off x="4038480" y="3251160"/>
              <a:ext cx="3861000" cy="736560"/>
            </a:xfrm>
            <a:custGeom>
              <a:avLst/>
              <a:gdLst/>
              <a:ahLst/>
              <a:rect l="l" t="t" r="r" b="b"/>
              <a:pathLst>
                <a:path w="2432" h="464">
                  <a:moveTo>
                    <a:pt x="912" y="448"/>
                  </a:moveTo>
                  <a:lnTo>
                    <a:pt x="1496" y="464"/>
                  </a:lnTo>
                  <a:lnTo>
                    <a:pt x="2432" y="48"/>
                  </a:lnTo>
                  <a:lnTo>
                    <a:pt x="1784" y="176"/>
                  </a:lnTo>
                  <a:lnTo>
                    <a:pt x="864" y="20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3429000" y="1181160"/>
              <a:ext cx="5232240" cy="248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57" name="" descr=""/>
            <p:cNvPicPr/>
            <p:nvPr/>
          </p:nvPicPr>
          <p:blipFill>
            <a:blip r:embed="rId9"/>
            <a:stretch/>
          </p:blipFill>
          <p:spPr>
            <a:xfrm>
              <a:off x="3686040" y="1657440"/>
              <a:ext cx="4691160" cy="163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8" name=""/>
          <p:cNvSpPr/>
          <p:nvPr/>
        </p:nvSpPr>
        <p:spPr>
          <a:xfrm>
            <a:off x="2105280" y="5711760"/>
            <a:ext cx="203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e de distribui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implificad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4417560" y="558468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592B-912D-4DB5-9631-47229CDFD7D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42084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Arquitetura de redes a cabo: Visão Geral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2361" name="" descr=""/>
          <p:cNvPicPr/>
          <p:nvPr/>
        </p:nvPicPr>
        <p:blipFill>
          <a:blip r:embed="rId1"/>
          <a:stretch/>
        </p:blipFill>
        <p:spPr>
          <a:xfrm>
            <a:off x="5416560" y="3873600"/>
            <a:ext cx="1019160" cy="279360"/>
          </a:xfrm>
          <a:prstGeom prst="rect">
            <a:avLst/>
          </a:prstGeom>
          <a:ln w="0">
            <a:noFill/>
          </a:ln>
        </p:spPr>
      </p:pic>
      <p:pic>
        <p:nvPicPr>
          <p:cNvPr id="2362" name="" descr=""/>
          <p:cNvPicPr/>
          <p:nvPr/>
        </p:nvPicPr>
        <p:blipFill>
          <a:blip r:embed="rId2"/>
          <a:stretch/>
        </p:blipFill>
        <p:spPr>
          <a:xfrm>
            <a:off x="5916600" y="4308480"/>
            <a:ext cx="1019160" cy="279360"/>
          </a:xfrm>
          <a:prstGeom prst="rect">
            <a:avLst/>
          </a:prstGeom>
          <a:ln w="0">
            <a:noFill/>
          </a:ln>
        </p:spPr>
      </p:pic>
      <p:pic>
        <p:nvPicPr>
          <p:cNvPr id="2363" name="" descr=""/>
          <p:cNvPicPr/>
          <p:nvPr/>
        </p:nvPicPr>
        <p:blipFill>
          <a:blip r:embed="rId3"/>
          <a:stretch/>
        </p:blipFill>
        <p:spPr>
          <a:xfrm>
            <a:off x="4097160" y="4064040"/>
            <a:ext cx="1000440" cy="274680"/>
          </a:xfrm>
          <a:prstGeom prst="rect">
            <a:avLst/>
          </a:prstGeom>
          <a:ln w="0">
            <a:noFill/>
          </a:ln>
        </p:spPr>
      </p:pic>
      <p:grpSp>
        <p:nvGrpSpPr>
          <p:cNvPr id="2364" name=""/>
          <p:cNvGrpSpPr/>
          <p:nvPr/>
        </p:nvGrpSpPr>
        <p:grpSpPr>
          <a:xfrm>
            <a:off x="3916440" y="4227480"/>
            <a:ext cx="256680" cy="633240"/>
            <a:chOff x="3916440" y="4227480"/>
            <a:chExt cx="256680" cy="633240"/>
          </a:xfrm>
        </p:grpSpPr>
        <p:sp>
          <p:nvSpPr>
            <p:cNvPr id="2365" name=""/>
            <p:cNvSpPr/>
            <p:nvPr/>
          </p:nvSpPr>
          <p:spPr>
            <a:xfrm rot="16200000">
              <a:off x="3621960" y="4523400"/>
              <a:ext cx="6318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3917880" y="4227480"/>
              <a:ext cx="25524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67" name="" descr=""/>
          <p:cNvPicPr/>
          <p:nvPr/>
        </p:nvPicPr>
        <p:blipFill>
          <a:blip r:embed="rId4"/>
          <a:stretch/>
        </p:blipFill>
        <p:spPr>
          <a:xfrm>
            <a:off x="7323120" y="4076640"/>
            <a:ext cx="1000080" cy="274680"/>
          </a:xfrm>
          <a:prstGeom prst="rect">
            <a:avLst/>
          </a:prstGeom>
          <a:ln w="0">
            <a:noFill/>
          </a:ln>
        </p:spPr>
      </p:pic>
      <p:pic>
        <p:nvPicPr>
          <p:cNvPr id="2368" name="" descr=""/>
          <p:cNvPicPr/>
          <p:nvPr/>
        </p:nvPicPr>
        <p:blipFill>
          <a:blip r:embed="rId5"/>
          <a:stretch/>
        </p:blipFill>
        <p:spPr>
          <a:xfrm>
            <a:off x="4262400" y="5334120"/>
            <a:ext cx="1000080" cy="274680"/>
          </a:xfrm>
          <a:prstGeom prst="rect">
            <a:avLst/>
          </a:prstGeom>
          <a:ln w="0">
            <a:noFill/>
          </a:ln>
        </p:spPr>
      </p:pic>
      <p:pic>
        <p:nvPicPr>
          <p:cNvPr id="2369" name="" descr=""/>
          <p:cNvPicPr/>
          <p:nvPr/>
        </p:nvPicPr>
        <p:blipFill>
          <a:blip r:embed="rId6"/>
          <a:stretch/>
        </p:blipFill>
        <p:spPr>
          <a:xfrm>
            <a:off x="5738760" y="5070600"/>
            <a:ext cx="1019160" cy="279360"/>
          </a:xfrm>
          <a:prstGeom prst="rect">
            <a:avLst/>
          </a:prstGeom>
          <a:ln w="0">
            <a:noFill/>
          </a:ln>
        </p:spPr>
      </p:pic>
      <p:pic>
        <p:nvPicPr>
          <p:cNvPr id="2370" name="" descr=""/>
          <p:cNvPicPr/>
          <p:nvPr/>
        </p:nvPicPr>
        <p:blipFill>
          <a:blip r:embed="rId7"/>
          <a:stretch/>
        </p:blipFill>
        <p:spPr>
          <a:xfrm>
            <a:off x="6954840" y="5524560"/>
            <a:ext cx="1000080" cy="274680"/>
          </a:xfrm>
          <a:prstGeom prst="rect">
            <a:avLst/>
          </a:prstGeom>
          <a:ln w="0">
            <a:noFill/>
          </a:ln>
        </p:spPr>
      </p:pic>
      <p:grpSp>
        <p:nvGrpSpPr>
          <p:cNvPr id="2371" name=""/>
          <p:cNvGrpSpPr/>
          <p:nvPr/>
        </p:nvGrpSpPr>
        <p:grpSpPr>
          <a:xfrm>
            <a:off x="6770520" y="4907160"/>
            <a:ext cx="255240" cy="820440"/>
            <a:chOff x="6770520" y="4907160"/>
            <a:chExt cx="255240" cy="820440"/>
          </a:xfrm>
        </p:grpSpPr>
        <p:sp>
          <p:nvSpPr>
            <p:cNvPr id="2372" name=""/>
            <p:cNvSpPr/>
            <p:nvPr/>
          </p:nvSpPr>
          <p:spPr>
            <a:xfrm flipV="1" rot="5400000">
              <a:off x="6382440" y="5294880"/>
              <a:ext cx="8190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V="1">
              <a:off x="6771960" y="5684400"/>
              <a:ext cx="2538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4" name=""/>
          <p:cNvGrpSpPr/>
          <p:nvPr/>
        </p:nvGrpSpPr>
        <p:grpSpPr>
          <a:xfrm>
            <a:off x="5529240" y="4888440"/>
            <a:ext cx="255240" cy="378360"/>
            <a:chOff x="5529240" y="4888440"/>
            <a:chExt cx="255240" cy="378360"/>
          </a:xfrm>
        </p:grpSpPr>
        <p:sp>
          <p:nvSpPr>
            <p:cNvPr id="2375" name=""/>
            <p:cNvSpPr/>
            <p:nvPr/>
          </p:nvSpPr>
          <p:spPr>
            <a:xfrm flipV="1" rot="5400000">
              <a:off x="5361840" y="5055480"/>
              <a:ext cx="37764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 flipV="1">
              <a:off x="5530680" y="5224320"/>
              <a:ext cx="253800" cy="42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7" name=""/>
          <p:cNvGrpSpPr/>
          <p:nvPr/>
        </p:nvGrpSpPr>
        <p:grpSpPr>
          <a:xfrm>
            <a:off x="4094280" y="4900680"/>
            <a:ext cx="255600" cy="632880"/>
            <a:chOff x="4094280" y="4900680"/>
            <a:chExt cx="255600" cy="632880"/>
          </a:xfrm>
        </p:grpSpPr>
        <p:sp>
          <p:nvSpPr>
            <p:cNvPr id="2378" name=""/>
            <p:cNvSpPr/>
            <p:nvPr/>
          </p:nvSpPr>
          <p:spPr>
            <a:xfrm flipV="1" rot="5400000">
              <a:off x="3799800" y="5194800"/>
              <a:ext cx="63144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 flipV="1">
              <a:off x="4095720" y="5491080"/>
              <a:ext cx="254160" cy="42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0" name=""/>
          <p:cNvGrpSpPr/>
          <p:nvPr/>
        </p:nvGrpSpPr>
        <p:grpSpPr>
          <a:xfrm>
            <a:off x="7126200" y="4246560"/>
            <a:ext cx="255600" cy="630000"/>
            <a:chOff x="7126200" y="4246560"/>
            <a:chExt cx="255600" cy="630000"/>
          </a:xfrm>
        </p:grpSpPr>
        <p:sp>
          <p:nvSpPr>
            <p:cNvPr id="2381" name=""/>
            <p:cNvSpPr/>
            <p:nvPr/>
          </p:nvSpPr>
          <p:spPr>
            <a:xfrm rot="16200000">
              <a:off x="6833160" y="4540680"/>
              <a:ext cx="62892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7127640" y="4246560"/>
              <a:ext cx="25416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3" name=""/>
          <p:cNvGrpSpPr/>
          <p:nvPr/>
        </p:nvGrpSpPr>
        <p:grpSpPr>
          <a:xfrm>
            <a:off x="5757840" y="4468680"/>
            <a:ext cx="255240" cy="379440"/>
            <a:chOff x="5757840" y="4468680"/>
            <a:chExt cx="255240" cy="379440"/>
          </a:xfrm>
        </p:grpSpPr>
        <p:sp>
          <p:nvSpPr>
            <p:cNvPr id="2384" name=""/>
            <p:cNvSpPr/>
            <p:nvPr/>
          </p:nvSpPr>
          <p:spPr>
            <a:xfrm rot="16200000">
              <a:off x="5590080" y="4637520"/>
              <a:ext cx="3780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759280" y="4468680"/>
              <a:ext cx="2538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6" name=""/>
          <p:cNvGrpSpPr/>
          <p:nvPr/>
        </p:nvGrpSpPr>
        <p:grpSpPr>
          <a:xfrm>
            <a:off x="5221440" y="4030560"/>
            <a:ext cx="255240" cy="820440"/>
            <a:chOff x="5221440" y="4030560"/>
            <a:chExt cx="255240" cy="820440"/>
          </a:xfrm>
        </p:grpSpPr>
        <p:sp>
          <p:nvSpPr>
            <p:cNvPr id="2387" name=""/>
            <p:cNvSpPr/>
            <p:nvPr/>
          </p:nvSpPr>
          <p:spPr>
            <a:xfrm rot="16200000">
              <a:off x="4833360" y="4420080"/>
              <a:ext cx="8190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5222880" y="4030560"/>
              <a:ext cx="2538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9" name=""/>
          <p:cNvSpPr/>
          <p:nvPr/>
        </p:nvSpPr>
        <p:spPr>
          <a:xfrm flipV="1">
            <a:off x="2612880" y="4845960"/>
            <a:ext cx="5092920" cy="428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0" name="" descr=""/>
          <p:cNvPicPr/>
          <p:nvPr/>
        </p:nvPicPr>
        <p:blipFill>
          <a:blip r:embed="rId8"/>
          <a:stretch/>
        </p:blipFill>
        <p:spPr>
          <a:xfrm>
            <a:off x="1127160" y="4356000"/>
            <a:ext cx="1504800" cy="782640"/>
          </a:xfrm>
          <a:prstGeom prst="rect">
            <a:avLst/>
          </a:prstGeom>
          <a:ln w="0">
            <a:noFill/>
          </a:ln>
        </p:spPr>
      </p:pic>
      <p:sp>
        <p:nvSpPr>
          <p:cNvPr id="2391" name=""/>
          <p:cNvSpPr/>
          <p:nvPr/>
        </p:nvSpPr>
        <p:spPr>
          <a:xfrm>
            <a:off x="1127880" y="514044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ble head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 flipV="1">
            <a:off x="3124080" y="4939920"/>
            <a:ext cx="406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3" name=""/>
          <p:cNvGrpSpPr/>
          <p:nvPr/>
        </p:nvGrpSpPr>
        <p:grpSpPr>
          <a:xfrm>
            <a:off x="4846680" y="1352520"/>
            <a:ext cx="2042640" cy="959040"/>
            <a:chOff x="4846680" y="1352520"/>
            <a:chExt cx="2042640" cy="959040"/>
          </a:xfrm>
        </p:grpSpPr>
        <p:sp>
          <p:nvSpPr>
            <p:cNvPr id="2394" name=""/>
            <p:cNvSpPr/>
            <p:nvPr/>
          </p:nvSpPr>
          <p:spPr>
            <a:xfrm flipH="1">
              <a:off x="4846680" y="1811520"/>
              <a:ext cx="203040" cy="4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4914720" y="1352520"/>
              <a:ext cx="891720" cy="422280"/>
            </a:xfrm>
            <a:custGeom>
              <a:avLst/>
              <a:gdLst/>
              <a:ahLst/>
              <a:rect l="l" t="t" r="r" b="b"/>
              <a:pathLst>
                <a:path w="562" h="266">
                  <a:moveTo>
                    <a:pt x="4" y="264"/>
                  </a:moveTo>
                  <a:cubicBezTo>
                    <a:pt x="4" y="212"/>
                    <a:pt x="0" y="4"/>
                    <a:pt x="52" y="6"/>
                  </a:cubicBezTo>
                  <a:cubicBezTo>
                    <a:pt x="106" y="4"/>
                    <a:pt x="58" y="266"/>
                    <a:pt x="108" y="266"/>
                  </a:cubicBezTo>
                  <a:cubicBezTo>
                    <a:pt x="158" y="266"/>
                    <a:pt x="126" y="0"/>
                    <a:pt x="174" y="0"/>
                  </a:cubicBezTo>
                  <a:cubicBezTo>
                    <a:pt x="222" y="0"/>
                    <a:pt x="184" y="266"/>
                    <a:pt x="228" y="264"/>
                  </a:cubicBezTo>
                  <a:cubicBezTo>
                    <a:pt x="272" y="262"/>
                    <a:pt x="244" y="8"/>
                    <a:pt x="288" y="8"/>
                  </a:cubicBezTo>
                  <a:cubicBezTo>
                    <a:pt x="332" y="8"/>
                    <a:pt x="304" y="266"/>
                    <a:pt x="354" y="266"/>
                  </a:cubicBezTo>
                  <a:cubicBezTo>
                    <a:pt x="404" y="266"/>
                    <a:pt x="336" y="8"/>
                    <a:pt x="402" y="8"/>
                  </a:cubicBezTo>
                  <a:cubicBezTo>
                    <a:pt x="468" y="8"/>
                    <a:pt x="416" y="266"/>
                    <a:pt x="464" y="264"/>
                  </a:cubicBezTo>
                  <a:cubicBezTo>
                    <a:pt x="512" y="262"/>
                    <a:pt x="450" y="4"/>
                    <a:pt x="506" y="6"/>
                  </a:cubicBezTo>
                  <a:cubicBezTo>
                    <a:pt x="562" y="8"/>
                    <a:pt x="546" y="192"/>
                    <a:pt x="556" y="26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6462360" y="1359000"/>
              <a:ext cx="426960" cy="422280"/>
            </a:xfrm>
            <a:custGeom>
              <a:avLst/>
              <a:gdLst/>
              <a:ahLst/>
              <a:rect l="l" t="t" r="r" b="b"/>
              <a:pathLst>
                <a:path w="562" h="266">
                  <a:moveTo>
                    <a:pt x="4" y="264"/>
                  </a:moveTo>
                  <a:cubicBezTo>
                    <a:pt x="4" y="212"/>
                    <a:pt x="0" y="4"/>
                    <a:pt x="52" y="6"/>
                  </a:cubicBezTo>
                  <a:cubicBezTo>
                    <a:pt x="106" y="4"/>
                    <a:pt x="58" y="266"/>
                    <a:pt x="108" y="266"/>
                  </a:cubicBezTo>
                  <a:cubicBezTo>
                    <a:pt x="158" y="266"/>
                    <a:pt x="126" y="0"/>
                    <a:pt x="174" y="0"/>
                  </a:cubicBezTo>
                  <a:cubicBezTo>
                    <a:pt x="222" y="0"/>
                    <a:pt x="184" y="266"/>
                    <a:pt x="228" y="264"/>
                  </a:cubicBezTo>
                  <a:cubicBezTo>
                    <a:pt x="272" y="262"/>
                    <a:pt x="244" y="8"/>
                    <a:pt x="288" y="8"/>
                  </a:cubicBezTo>
                  <a:cubicBezTo>
                    <a:pt x="332" y="8"/>
                    <a:pt x="304" y="266"/>
                    <a:pt x="354" y="266"/>
                  </a:cubicBezTo>
                  <a:cubicBezTo>
                    <a:pt x="404" y="266"/>
                    <a:pt x="336" y="8"/>
                    <a:pt x="402" y="8"/>
                  </a:cubicBezTo>
                  <a:cubicBezTo>
                    <a:pt x="468" y="8"/>
                    <a:pt x="416" y="266"/>
                    <a:pt x="464" y="264"/>
                  </a:cubicBezTo>
                  <a:cubicBezTo>
                    <a:pt x="512" y="262"/>
                    <a:pt x="450" y="4"/>
                    <a:pt x="506" y="6"/>
                  </a:cubicBezTo>
                  <a:cubicBezTo>
                    <a:pt x="562" y="8"/>
                    <a:pt x="546" y="192"/>
                    <a:pt x="556" y="26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>
              <a:off x="6319440" y="1846440"/>
              <a:ext cx="202680" cy="4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8" name=""/>
          <p:cNvGrpSpPr/>
          <p:nvPr/>
        </p:nvGrpSpPr>
        <p:grpSpPr>
          <a:xfrm>
            <a:off x="4137120" y="1509840"/>
            <a:ext cx="3019320" cy="2115360"/>
            <a:chOff x="4137120" y="1509840"/>
            <a:chExt cx="3019320" cy="2115360"/>
          </a:xfrm>
        </p:grpSpPr>
        <p:sp>
          <p:nvSpPr>
            <p:cNvPr id="2399" name=""/>
            <p:cNvSpPr/>
            <p:nvPr/>
          </p:nvSpPr>
          <p:spPr>
            <a:xfrm>
              <a:off x="5477400" y="3287880"/>
              <a:ext cx="81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ana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4753080" y="1509840"/>
              <a:ext cx="0" cy="15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4743360" y="3071880"/>
              <a:ext cx="232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4728960" y="2235240"/>
              <a:ext cx="27972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000760" y="2957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5005080" y="2235240"/>
              <a:ext cx="27972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5300640" y="2235240"/>
              <a:ext cx="27972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5595840" y="2235240"/>
              <a:ext cx="27972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5891040" y="2235240"/>
              <a:ext cx="27972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6186240" y="2235240"/>
              <a:ext cx="27972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6444000" y="2225520"/>
              <a:ext cx="2721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6672600" y="2225520"/>
              <a:ext cx="2721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6875280" y="1768320"/>
              <a:ext cx="27972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5292720" y="2957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5578560" y="2957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870520" y="2957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6168960" y="2957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6448320" y="2970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6696000" y="2963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6924600" y="2951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4740120" y="31114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5006880" y="31114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5311800" y="31114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5584680" y="31114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5883120" y="31050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6181560" y="31050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6441840" y="31050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6676920" y="31050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6905520" y="31050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4137120" y="1538280"/>
              <a:ext cx="595080" cy="1538280"/>
            </a:xfrm>
            <a:custGeom>
              <a:avLst/>
              <a:gdLst/>
              <a:ahLst/>
              <a:rect l="l" t="t" r="r" b="b"/>
              <a:pathLst>
                <a:path w="375" h="969">
                  <a:moveTo>
                    <a:pt x="375" y="0"/>
                  </a:moveTo>
                  <a:lnTo>
                    <a:pt x="0" y="485"/>
                  </a:lnTo>
                  <a:lnTo>
                    <a:pt x="375" y="969"/>
                  </a:lnTo>
                  <a:lnTo>
                    <a:pt x="375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9" name=""/>
          <p:cNvGrpSpPr/>
          <p:nvPr/>
        </p:nvGrpSpPr>
        <p:grpSpPr>
          <a:xfrm>
            <a:off x="2398680" y="2176560"/>
            <a:ext cx="1666440" cy="2062080"/>
            <a:chOff x="2398680" y="2176560"/>
            <a:chExt cx="1666440" cy="2062080"/>
          </a:xfrm>
        </p:grpSpPr>
        <p:grpSp>
          <p:nvGrpSpPr>
            <p:cNvPr id="2430" name=""/>
            <p:cNvGrpSpPr/>
            <p:nvPr/>
          </p:nvGrpSpPr>
          <p:grpSpPr>
            <a:xfrm>
              <a:off x="2398680" y="2176560"/>
              <a:ext cx="1666440" cy="314280"/>
              <a:chOff x="2398680" y="2176560"/>
              <a:chExt cx="1666440" cy="314280"/>
            </a:xfrm>
          </p:grpSpPr>
          <p:sp>
            <p:nvSpPr>
              <p:cNvPr id="2431" name=""/>
              <p:cNvSpPr/>
              <p:nvPr/>
            </p:nvSpPr>
            <p:spPr>
              <a:xfrm>
                <a:off x="3579480" y="2186280"/>
                <a:ext cx="266400" cy="276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2398680" y="2176560"/>
                <a:ext cx="1422000" cy="314280"/>
              </a:xfrm>
              <a:custGeom>
                <a:avLst/>
                <a:gdLst/>
                <a:ahLst/>
                <a:rect l="l" t="t" r="r" b="b"/>
                <a:pathLst>
                  <a:path w="896" h="198">
                    <a:moveTo>
                      <a:pt x="18" y="0"/>
                    </a:moveTo>
                    <a:lnTo>
                      <a:pt x="0" y="96"/>
                    </a:lnTo>
                    <a:lnTo>
                      <a:pt x="18" y="198"/>
                    </a:lnTo>
                    <a:lnTo>
                      <a:pt x="774" y="198"/>
                    </a:lnTo>
                    <a:cubicBezTo>
                      <a:pt x="896" y="180"/>
                      <a:pt x="750" y="123"/>
                      <a:pt x="750" y="90"/>
                    </a:cubicBezTo>
                    <a:cubicBezTo>
                      <a:pt x="750" y="57"/>
                      <a:pt x="896" y="15"/>
                      <a:pt x="774" y="0"/>
                    </a:cubicBezTo>
                    <a:lnTo>
                      <a:pt x="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3808080" y="2195640"/>
                <a:ext cx="98280" cy="266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3846240" y="2319480"/>
                <a:ext cx="21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5" name=""/>
            <p:cNvSpPr/>
            <p:nvPr/>
          </p:nvSpPr>
          <p:spPr>
            <a:xfrm>
              <a:off x="2438280" y="2481120"/>
              <a:ext cx="1611360" cy="1757520"/>
            </a:xfrm>
            <a:custGeom>
              <a:avLst/>
              <a:gdLst/>
              <a:ahLst/>
              <a:rect l="l" t="t" r="r" b="b"/>
              <a:pathLst>
                <a:path w="1015" h="1107">
                  <a:moveTo>
                    <a:pt x="1015" y="1107"/>
                  </a:moveTo>
                  <a:lnTo>
                    <a:pt x="0" y="0"/>
                  </a:lnTo>
                  <a:lnTo>
                    <a:pt x="905" y="0"/>
                  </a:lnTo>
                  <a:lnTo>
                    <a:pt x="1015" y="11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6" name=""/>
          <p:cNvSpPr/>
          <p:nvPr/>
        </p:nvSpPr>
        <p:spPr>
          <a:xfrm>
            <a:off x="1963440" y="1360440"/>
            <a:ext cx="9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D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2105280" y="5711760"/>
            <a:ext cx="203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e de distribui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implificad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4417560" y="558468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3CFF-9657-4286-A799-435EB293BB8E}" type="slidenum">
              <a:t>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cesso institucional: rede loca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46623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rede local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(LAN -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Local Area Network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) da empresa/univ. conecta sistemas finais ao roteador de bor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Ethernet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bos compartilhados ou dedicados conectam o sistema final ao rotead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10 Mbs, 100Mbps, Gigabit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instalaçã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instituições, brevemente nas residênci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ANs:  serão vistas no capítulo 5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41" name=""/>
          <p:cNvGrpSpPr/>
          <p:nvPr/>
        </p:nvGrpSpPr>
        <p:grpSpPr>
          <a:xfrm>
            <a:off x="5416560" y="2427120"/>
            <a:ext cx="2797920" cy="2350800"/>
            <a:chOff x="5416560" y="2427120"/>
            <a:chExt cx="2797920" cy="2350800"/>
          </a:xfrm>
        </p:grpSpPr>
        <p:pic>
          <p:nvPicPr>
            <p:cNvPr id="2442" name="" descr=""/>
            <p:cNvPicPr/>
            <p:nvPr/>
          </p:nvPicPr>
          <p:blipFill>
            <a:blip r:embed="rId1"/>
            <a:stretch/>
          </p:blipFill>
          <p:spPr>
            <a:xfrm>
              <a:off x="5416560" y="2427120"/>
              <a:ext cx="598320" cy="58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3" name=""/>
            <p:cNvSpPr/>
            <p:nvPr/>
          </p:nvSpPr>
          <p:spPr>
            <a:xfrm flipV="1">
              <a:off x="6002640" y="2858760"/>
              <a:ext cx="102960" cy="1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44" name="" descr=""/>
            <p:cNvPicPr/>
            <p:nvPr/>
          </p:nvPicPr>
          <p:blipFill>
            <a:blip r:embed="rId2"/>
            <a:stretch/>
          </p:blipFill>
          <p:spPr>
            <a:xfrm>
              <a:off x="5416560" y="3468960"/>
              <a:ext cx="598320" cy="58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5" name=""/>
            <p:cNvSpPr/>
            <p:nvPr/>
          </p:nvSpPr>
          <p:spPr>
            <a:xfrm flipV="1">
              <a:off x="6002640" y="3909240"/>
              <a:ext cx="102960" cy="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6" name=""/>
            <p:cNvGrpSpPr/>
            <p:nvPr/>
          </p:nvGrpSpPr>
          <p:grpSpPr>
            <a:xfrm>
              <a:off x="5595840" y="3025800"/>
              <a:ext cx="102600" cy="389520"/>
              <a:chOff x="5595840" y="3025800"/>
              <a:chExt cx="102600" cy="389520"/>
            </a:xfrm>
          </p:grpSpPr>
          <p:sp>
            <p:nvSpPr>
              <p:cNvPr id="2447" name=""/>
              <p:cNvSpPr/>
              <p:nvPr/>
            </p:nvSpPr>
            <p:spPr>
              <a:xfrm>
                <a:off x="5595840" y="3025800"/>
                <a:ext cx="94680" cy="1098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5599800" y="3165840"/>
                <a:ext cx="94680" cy="1094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5603760" y="3305880"/>
                <a:ext cx="94680" cy="1094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0" name=""/>
            <p:cNvSpPr/>
            <p:nvPr/>
          </p:nvSpPr>
          <p:spPr>
            <a:xfrm>
              <a:off x="6098040" y="2854080"/>
              <a:ext cx="0" cy="1053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51" name="" descr=""/>
            <p:cNvPicPr/>
            <p:nvPr/>
          </p:nvPicPr>
          <p:blipFill>
            <a:blip r:embed="rId3"/>
            <a:stretch/>
          </p:blipFill>
          <p:spPr>
            <a:xfrm>
              <a:off x="6665400" y="4197600"/>
              <a:ext cx="601200" cy="58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2" name="" descr=""/>
            <p:cNvPicPr/>
            <p:nvPr/>
          </p:nvPicPr>
          <p:blipFill>
            <a:blip r:embed="rId4"/>
            <a:stretch/>
          </p:blipFill>
          <p:spPr>
            <a:xfrm>
              <a:off x="5781600" y="4176360"/>
              <a:ext cx="596520" cy="58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3" name=""/>
            <p:cNvSpPr/>
            <p:nvPr/>
          </p:nvSpPr>
          <p:spPr>
            <a:xfrm flipV="1">
              <a:off x="7031160" y="4102200"/>
              <a:ext cx="1800" cy="106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 flipV="1">
              <a:off x="6132960" y="4083480"/>
              <a:ext cx="0" cy="11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 flipH="1">
              <a:off x="6134400" y="4093200"/>
              <a:ext cx="902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6093720" y="3429360"/>
              <a:ext cx="146520" cy="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7" name=""/>
            <p:cNvGrpSpPr/>
            <p:nvPr/>
          </p:nvGrpSpPr>
          <p:grpSpPr>
            <a:xfrm>
              <a:off x="7512480" y="3749760"/>
              <a:ext cx="299160" cy="716760"/>
              <a:chOff x="7512480" y="3749760"/>
              <a:chExt cx="299160" cy="716760"/>
            </a:xfrm>
          </p:grpSpPr>
          <p:sp>
            <p:nvSpPr>
              <p:cNvPr id="2458" name=""/>
              <p:cNvSpPr/>
              <p:nvPr/>
            </p:nvSpPr>
            <p:spPr>
              <a:xfrm>
                <a:off x="7512480" y="4300920"/>
                <a:ext cx="299160" cy="165600"/>
              </a:xfrm>
              <a:prstGeom prst="parallelogram">
                <a:avLst>
                  <a:gd name="adj" fmla="val 6959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7664040" y="3754440"/>
                <a:ext cx="137520" cy="5504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7514280" y="3910680"/>
                <a:ext cx="189720" cy="5511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7512480" y="3749760"/>
                <a:ext cx="299160" cy="165600"/>
              </a:xfrm>
              <a:prstGeom prst="parallelogram">
                <a:avLst>
                  <a:gd name="adj" fmla="val 6959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7811640" y="3761280"/>
                <a:ext cx="0" cy="53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H="1">
                <a:off x="7703640" y="4300920"/>
                <a:ext cx="10764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7538040" y="3983040"/>
                <a:ext cx="125640" cy="3175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7556400" y="4078800"/>
                <a:ext cx="95400" cy="11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6" name=""/>
            <p:cNvGrpSpPr/>
            <p:nvPr/>
          </p:nvGrpSpPr>
          <p:grpSpPr>
            <a:xfrm>
              <a:off x="7915320" y="3749760"/>
              <a:ext cx="299160" cy="716760"/>
              <a:chOff x="7915320" y="3749760"/>
              <a:chExt cx="299160" cy="716760"/>
            </a:xfrm>
          </p:grpSpPr>
          <p:sp>
            <p:nvSpPr>
              <p:cNvPr id="2467" name=""/>
              <p:cNvSpPr/>
              <p:nvPr/>
            </p:nvSpPr>
            <p:spPr>
              <a:xfrm>
                <a:off x="7915320" y="4300920"/>
                <a:ext cx="299160" cy="165600"/>
              </a:xfrm>
              <a:prstGeom prst="parallelogram">
                <a:avLst>
                  <a:gd name="adj" fmla="val 6959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8066880" y="3754440"/>
                <a:ext cx="137520" cy="5504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7917120" y="3910680"/>
                <a:ext cx="189720" cy="5511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7915320" y="3749760"/>
                <a:ext cx="299160" cy="165600"/>
              </a:xfrm>
              <a:prstGeom prst="parallelogram">
                <a:avLst>
                  <a:gd name="adj" fmla="val 6959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8214480" y="3761280"/>
                <a:ext cx="0" cy="53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 flipH="1">
                <a:off x="8106480" y="4300920"/>
                <a:ext cx="10764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7940880" y="3983040"/>
                <a:ext cx="125640" cy="3175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7959240" y="4078800"/>
                <a:ext cx="95400" cy="11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5" name=""/>
            <p:cNvSpPr/>
            <p:nvPr/>
          </p:nvSpPr>
          <p:spPr>
            <a:xfrm>
              <a:off x="6960960" y="3506040"/>
              <a:ext cx="1127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 flipV="1">
              <a:off x="7725600" y="3489840"/>
              <a:ext cx="0" cy="282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7" name=""/>
            <p:cNvGrpSpPr/>
            <p:nvPr/>
          </p:nvGrpSpPr>
          <p:grpSpPr>
            <a:xfrm>
              <a:off x="6240240" y="3290400"/>
              <a:ext cx="720360" cy="407520"/>
              <a:chOff x="6240240" y="3290400"/>
              <a:chExt cx="720360" cy="407520"/>
            </a:xfrm>
          </p:grpSpPr>
          <p:sp>
            <p:nvSpPr>
              <p:cNvPr id="2478" name=""/>
              <p:cNvSpPr/>
              <p:nvPr/>
            </p:nvSpPr>
            <p:spPr>
              <a:xfrm>
                <a:off x="6246000" y="3472200"/>
                <a:ext cx="714600" cy="2257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6246000" y="3453120"/>
                <a:ext cx="0" cy="14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6960600" y="3453120"/>
                <a:ext cx="0" cy="14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6246000" y="3453120"/>
                <a:ext cx="708120" cy="1378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6240240" y="3290400"/>
                <a:ext cx="714240" cy="263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83" name=""/>
              <p:cNvGrpSpPr/>
              <p:nvPr/>
            </p:nvGrpSpPr>
            <p:grpSpPr>
              <a:xfrm>
                <a:off x="6411960" y="3348360"/>
                <a:ext cx="353880" cy="153720"/>
                <a:chOff x="6411960" y="3348360"/>
                <a:chExt cx="353880" cy="153720"/>
              </a:xfrm>
            </p:grpSpPr>
            <p:sp>
              <p:nvSpPr>
                <p:cNvPr id="2484" name=""/>
                <p:cNvSpPr/>
                <p:nvPr/>
              </p:nvSpPr>
              <p:spPr>
                <a:xfrm flipV="1">
                  <a:off x="6411960" y="3348360"/>
                  <a:ext cx="12600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>
                  <a:off x="6654600" y="3502080"/>
                  <a:ext cx="11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>
                  <a:off x="6528240" y="3351240"/>
                  <a:ext cx="131040" cy="150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7" name=""/>
              <p:cNvGrpSpPr/>
              <p:nvPr/>
            </p:nvGrpSpPr>
            <p:grpSpPr>
              <a:xfrm>
                <a:off x="6411960" y="3345840"/>
                <a:ext cx="353880" cy="153720"/>
                <a:chOff x="6411960" y="3345840"/>
                <a:chExt cx="353880" cy="153720"/>
              </a:xfrm>
            </p:grpSpPr>
            <p:sp>
              <p:nvSpPr>
                <p:cNvPr id="2488" name=""/>
                <p:cNvSpPr/>
                <p:nvPr/>
              </p:nvSpPr>
              <p:spPr>
                <a:xfrm>
                  <a:off x="6411960" y="3496680"/>
                  <a:ext cx="12600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>
                  <a:off x="6654600" y="3345840"/>
                  <a:ext cx="11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 flipV="1">
                  <a:off x="6528240" y="3346200"/>
                  <a:ext cx="131040" cy="150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91" name=""/>
            <p:cNvSpPr/>
            <p:nvPr/>
          </p:nvSpPr>
          <p:spPr>
            <a:xfrm>
              <a:off x="6599520" y="3684960"/>
              <a:ext cx="2160" cy="398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 flipV="1">
              <a:off x="8084880" y="3489840"/>
              <a:ext cx="0" cy="282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CE8A-8048-4320-BED8-BF95CE50CA1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des de acesso sem fio </a:t>
            </a:r>
            <a:r>
              <a:rPr b="0" i="1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(wireless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419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de de acesso compartilhado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sem fio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necta o sistema final ao rotead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LANs sem fi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ndas de rádio substituem os fi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802.11b (WiFi): 11 M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cesso sem fio com maior cobertur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vido por uma operado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3G ~ 384 k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rá usado?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WAP/GPRS na Europ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95" name=""/>
          <p:cNvGrpSpPr/>
          <p:nvPr/>
        </p:nvGrpSpPr>
        <p:grpSpPr>
          <a:xfrm>
            <a:off x="4646160" y="1779120"/>
            <a:ext cx="3619440" cy="3949920"/>
            <a:chOff x="4646160" y="1779120"/>
            <a:chExt cx="3619440" cy="3949920"/>
          </a:xfrm>
        </p:grpSpPr>
        <p:grpSp>
          <p:nvGrpSpPr>
            <p:cNvPr id="2496" name=""/>
            <p:cNvGrpSpPr/>
            <p:nvPr/>
          </p:nvGrpSpPr>
          <p:grpSpPr>
            <a:xfrm>
              <a:off x="5794200" y="4084560"/>
              <a:ext cx="622440" cy="793800"/>
              <a:chOff x="5794200" y="4084560"/>
              <a:chExt cx="622440" cy="793800"/>
            </a:xfrm>
          </p:grpSpPr>
          <p:pic>
            <p:nvPicPr>
              <p:cNvPr id="249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794200" y="4084560"/>
                <a:ext cx="581040" cy="70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886360" y="4292640"/>
                <a:ext cx="530280" cy="585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99" name=""/>
            <p:cNvGrpSpPr/>
            <p:nvPr/>
          </p:nvGrpSpPr>
          <p:grpSpPr>
            <a:xfrm>
              <a:off x="6949800" y="3998880"/>
              <a:ext cx="622080" cy="793440"/>
              <a:chOff x="6949800" y="3998880"/>
              <a:chExt cx="622080" cy="793440"/>
            </a:xfrm>
          </p:grpSpPr>
          <p:pic>
            <p:nvPicPr>
              <p:cNvPr id="250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949800" y="3998880"/>
                <a:ext cx="579240" cy="69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041600" y="4206960"/>
                <a:ext cx="530280" cy="585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02" name=""/>
            <p:cNvGrpSpPr/>
            <p:nvPr/>
          </p:nvGrpSpPr>
          <p:grpSpPr>
            <a:xfrm>
              <a:off x="6029280" y="2840040"/>
              <a:ext cx="580680" cy="701280"/>
              <a:chOff x="6029280" y="2840040"/>
              <a:chExt cx="580680" cy="701280"/>
            </a:xfrm>
          </p:grpSpPr>
          <p:pic>
            <p:nvPicPr>
              <p:cNvPr id="250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029280" y="2840040"/>
                <a:ext cx="58068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4" name=""/>
              <p:cNvSpPr/>
              <p:nvPr/>
            </p:nvSpPr>
            <p:spPr>
              <a:xfrm>
                <a:off x="6198120" y="3086280"/>
                <a:ext cx="409320" cy="4546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5" name=""/>
            <p:cNvGrpSpPr/>
            <p:nvPr/>
          </p:nvGrpSpPr>
          <p:grpSpPr>
            <a:xfrm>
              <a:off x="6062400" y="2230200"/>
              <a:ext cx="766440" cy="432720"/>
              <a:chOff x="6062400" y="2230200"/>
              <a:chExt cx="766440" cy="432720"/>
            </a:xfrm>
          </p:grpSpPr>
          <p:sp>
            <p:nvSpPr>
              <p:cNvPr id="2506" name=""/>
              <p:cNvSpPr/>
              <p:nvPr/>
            </p:nvSpPr>
            <p:spPr>
              <a:xfrm>
                <a:off x="6068520" y="2423160"/>
                <a:ext cx="760320" cy="2397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6068520" y="2403000"/>
                <a:ext cx="0" cy="14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6828840" y="2403000"/>
                <a:ext cx="0" cy="14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6068520" y="2403000"/>
                <a:ext cx="753480" cy="146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6062400" y="2230200"/>
                <a:ext cx="759600" cy="2797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11" name=""/>
              <p:cNvGrpSpPr/>
              <p:nvPr/>
            </p:nvGrpSpPr>
            <p:grpSpPr>
              <a:xfrm>
                <a:off x="6245280" y="2291400"/>
                <a:ext cx="376200" cy="163440"/>
                <a:chOff x="6245280" y="2291400"/>
                <a:chExt cx="376200" cy="163440"/>
              </a:xfrm>
            </p:grpSpPr>
            <p:sp>
              <p:nvSpPr>
                <p:cNvPr id="2512" name=""/>
                <p:cNvSpPr/>
                <p:nvPr/>
              </p:nvSpPr>
              <p:spPr>
                <a:xfrm flipV="1">
                  <a:off x="6245280" y="2291400"/>
                  <a:ext cx="13428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>
                  <a:off x="6503400" y="2454840"/>
                  <a:ext cx="118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>
                  <a:off x="6369120" y="2295000"/>
                  <a:ext cx="139680" cy="159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5" name=""/>
              <p:cNvGrpSpPr/>
              <p:nvPr/>
            </p:nvGrpSpPr>
            <p:grpSpPr>
              <a:xfrm>
                <a:off x="6245280" y="2289960"/>
                <a:ext cx="376200" cy="163440"/>
                <a:chOff x="6245280" y="2289960"/>
                <a:chExt cx="376200" cy="163440"/>
              </a:xfrm>
            </p:grpSpPr>
            <p:sp>
              <p:nvSpPr>
                <p:cNvPr id="2516" name=""/>
                <p:cNvSpPr/>
                <p:nvPr/>
              </p:nvSpPr>
              <p:spPr>
                <a:xfrm>
                  <a:off x="6245280" y="2450160"/>
                  <a:ext cx="13428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>
                  <a:off x="6503400" y="2289960"/>
                  <a:ext cx="118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 flipV="1">
                  <a:off x="6369120" y="2289960"/>
                  <a:ext cx="139680" cy="159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19" name=""/>
            <p:cNvSpPr/>
            <p:nvPr/>
          </p:nvSpPr>
          <p:spPr>
            <a:xfrm flipV="1">
              <a:off x="6459480" y="2655360"/>
              <a:ext cx="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0" name=""/>
            <p:cNvGrpSpPr/>
            <p:nvPr/>
          </p:nvGrpSpPr>
          <p:grpSpPr>
            <a:xfrm>
              <a:off x="7194240" y="2395440"/>
              <a:ext cx="622080" cy="793440"/>
              <a:chOff x="7194240" y="2395440"/>
              <a:chExt cx="622080" cy="793440"/>
            </a:xfrm>
          </p:grpSpPr>
          <p:pic>
            <p:nvPicPr>
              <p:cNvPr id="252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4240" y="2395440"/>
                <a:ext cx="579240" cy="69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286040" y="2603520"/>
                <a:ext cx="530280" cy="585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23" name=""/>
            <p:cNvGrpSpPr/>
            <p:nvPr/>
          </p:nvGrpSpPr>
          <p:grpSpPr>
            <a:xfrm>
              <a:off x="7643520" y="3457440"/>
              <a:ext cx="622080" cy="793440"/>
              <a:chOff x="7643520" y="3457440"/>
              <a:chExt cx="622080" cy="793440"/>
            </a:xfrm>
          </p:grpSpPr>
          <p:pic>
            <p:nvPicPr>
              <p:cNvPr id="252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643520" y="3457440"/>
                <a:ext cx="579240" cy="69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735320" y="3665520"/>
                <a:ext cx="530280" cy="585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26" name=""/>
            <p:cNvSpPr/>
            <p:nvPr/>
          </p:nvSpPr>
          <p:spPr>
            <a:xfrm>
              <a:off x="4822560" y="2884320"/>
              <a:ext cx="136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staçã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6941160" y="4903560"/>
              <a:ext cx="1203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ost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óve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 flipV="1">
              <a:off x="6402240" y="1779120"/>
              <a:ext cx="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4646160" y="2198520"/>
              <a:ext cx="144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otead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2454-C2F5-4B90-9639-6657FB70A85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276120" y="1868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Redes doméstica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439560" y="1266480"/>
            <a:ext cx="7769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mponentes típicos da rede doméstic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SL ou cable mod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teador/firewall/N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nto de acesso wirel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32" name=""/>
          <p:cNvGrpSpPr/>
          <p:nvPr/>
        </p:nvGrpSpPr>
        <p:grpSpPr>
          <a:xfrm>
            <a:off x="6753240" y="3371760"/>
            <a:ext cx="622440" cy="793800"/>
            <a:chOff x="6753240" y="3371760"/>
            <a:chExt cx="622440" cy="793800"/>
          </a:xfrm>
        </p:grpSpPr>
        <p:pic>
          <p:nvPicPr>
            <p:cNvPr id="2533" name="" descr=""/>
            <p:cNvPicPr/>
            <p:nvPr/>
          </p:nvPicPr>
          <p:blipFill>
            <a:blip r:embed="rId1"/>
            <a:stretch/>
          </p:blipFill>
          <p:spPr>
            <a:xfrm>
              <a:off x="6753240" y="3371760"/>
              <a:ext cx="58104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4" name="" descr=""/>
            <p:cNvPicPr/>
            <p:nvPr/>
          </p:nvPicPr>
          <p:blipFill>
            <a:blip r:embed="rId2"/>
            <a:stretch/>
          </p:blipFill>
          <p:spPr>
            <a:xfrm>
              <a:off x="6845400" y="3579840"/>
              <a:ext cx="530280" cy="585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35" name=""/>
          <p:cNvGrpSpPr/>
          <p:nvPr/>
        </p:nvGrpSpPr>
        <p:grpSpPr>
          <a:xfrm>
            <a:off x="6802560" y="4330800"/>
            <a:ext cx="620280" cy="793440"/>
            <a:chOff x="6802560" y="4330800"/>
            <a:chExt cx="620280" cy="793440"/>
          </a:xfrm>
        </p:grpSpPr>
        <p:pic>
          <p:nvPicPr>
            <p:cNvPr id="2536" name="" descr=""/>
            <p:cNvPicPr/>
            <p:nvPr/>
          </p:nvPicPr>
          <p:blipFill>
            <a:blip r:embed="rId3"/>
            <a:stretch/>
          </p:blipFill>
          <p:spPr>
            <a:xfrm>
              <a:off x="6802560" y="4330800"/>
              <a:ext cx="577440" cy="69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7" name="" descr=""/>
            <p:cNvPicPr/>
            <p:nvPr/>
          </p:nvPicPr>
          <p:blipFill>
            <a:blip r:embed="rId4"/>
            <a:stretch/>
          </p:blipFill>
          <p:spPr>
            <a:xfrm>
              <a:off x="6894000" y="4538880"/>
              <a:ext cx="528840" cy="58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38" name=""/>
          <p:cNvGrpSpPr/>
          <p:nvPr/>
        </p:nvGrpSpPr>
        <p:grpSpPr>
          <a:xfrm>
            <a:off x="6110280" y="3936960"/>
            <a:ext cx="539280" cy="633240"/>
            <a:chOff x="6110280" y="3936960"/>
            <a:chExt cx="539280" cy="633240"/>
          </a:xfrm>
        </p:grpSpPr>
        <p:pic>
          <p:nvPicPr>
            <p:cNvPr id="2539" name="" descr=""/>
            <p:cNvPicPr/>
            <p:nvPr/>
          </p:nvPicPr>
          <p:blipFill>
            <a:blip r:embed="rId5"/>
            <a:stretch/>
          </p:blipFill>
          <p:spPr>
            <a:xfrm>
              <a:off x="6110280" y="3936960"/>
              <a:ext cx="5392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0" name=""/>
            <p:cNvSpPr/>
            <p:nvPr/>
          </p:nvSpPr>
          <p:spPr>
            <a:xfrm>
              <a:off x="6266880" y="4159440"/>
              <a:ext cx="380160" cy="4107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1" name=""/>
          <p:cNvSpPr/>
          <p:nvPr/>
        </p:nvSpPr>
        <p:spPr>
          <a:xfrm>
            <a:off x="6424920" y="5133960"/>
            <a:ext cx="125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ont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ce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7538400" y="3981600"/>
            <a:ext cx="121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apt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356280" y="4498920"/>
            <a:ext cx="132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oteador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irew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4821120" y="4448160"/>
            <a:ext cx="776520" cy="677880"/>
          </a:xfrm>
          <a:custGeom>
            <a:avLst/>
            <a:gdLst/>
            <a:ahLst/>
            <a:rect l="l" t="t" r="r" b="b"/>
            <a:pathLst>
              <a:path w="489" h="427">
                <a:moveTo>
                  <a:pt x="489" y="427"/>
                </a:moveTo>
                <a:lnTo>
                  <a:pt x="166" y="427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5" name=""/>
          <p:cNvGraphicFramePr/>
          <p:nvPr/>
        </p:nvGraphicFramePr>
        <p:xfrm>
          <a:off x="5526000" y="3222720"/>
          <a:ext cx="598680" cy="579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4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26000" y="3222720"/>
                    <a:ext cx="59868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7" name=""/>
          <p:cNvSpPr/>
          <p:nvPr/>
        </p:nvSpPr>
        <p:spPr>
          <a:xfrm flipV="1">
            <a:off x="5021280" y="4237920"/>
            <a:ext cx="1244520" cy="98280"/>
          </a:xfrm>
          <a:custGeom>
            <a:avLst/>
            <a:gdLst/>
            <a:ahLst/>
            <a:rect l="l" t="t" r="r" b="b"/>
            <a:pathLst>
              <a:path w="513" h="1">
                <a:moveTo>
                  <a:pt x="0" y="0"/>
                </a:moveTo>
                <a:lnTo>
                  <a:pt x="51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8" name=""/>
          <p:cNvGraphicFramePr/>
          <p:nvPr/>
        </p:nvGraphicFramePr>
        <p:xfrm>
          <a:off x="5553000" y="4951440"/>
          <a:ext cx="598680" cy="579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4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553000" y="4951440"/>
                    <a:ext cx="59868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0" name="modem"/>
          <p:cNvSpPr/>
          <p:nvPr/>
        </p:nvSpPr>
        <p:spPr>
          <a:xfrm>
            <a:off x="2435400" y="4232160"/>
            <a:ext cx="1033200" cy="2080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3470400" y="4368960"/>
            <a:ext cx="814320" cy="1440"/>
          </a:xfrm>
          <a:custGeom>
            <a:avLst/>
            <a:gdLst/>
            <a:ahLst/>
            <a:rect l="l" t="t" r="r" b="b"/>
            <a:pathLst>
              <a:path w="513" h="1">
                <a:moveTo>
                  <a:pt x="0" y="0"/>
                </a:moveTo>
                <a:lnTo>
                  <a:pt x="51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 flipV="1">
            <a:off x="4765680" y="3591720"/>
            <a:ext cx="776160" cy="677880"/>
          </a:xfrm>
          <a:custGeom>
            <a:avLst/>
            <a:gdLst/>
            <a:ahLst/>
            <a:rect l="l" t="t" r="r" b="b"/>
            <a:pathLst>
              <a:path w="489" h="427">
                <a:moveTo>
                  <a:pt x="489" y="427"/>
                </a:moveTo>
                <a:lnTo>
                  <a:pt x="166" y="427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 flipH="1" flipV="1">
            <a:off x="6512040" y="4613400"/>
            <a:ext cx="123840" cy="58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2373840" y="4484520"/>
            <a:ext cx="111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o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1870200" y="4351320"/>
            <a:ext cx="56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1062720" y="4305240"/>
            <a:ext cx="1238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/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ad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7" name=""/>
          <p:cNvGrpSpPr/>
          <p:nvPr/>
        </p:nvGrpSpPr>
        <p:grpSpPr>
          <a:xfrm>
            <a:off x="4246560" y="4146480"/>
            <a:ext cx="766440" cy="432720"/>
            <a:chOff x="4246560" y="4146480"/>
            <a:chExt cx="766440" cy="432720"/>
          </a:xfrm>
        </p:grpSpPr>
        <p:sp>
          <p:nvSpPr>
            <p:cNvPr id="2558" name=""/>
            <p:cNvSpPr/>
            <p:nvPr/>
          </p:nvSpPr>
          <p:spPr>
            <a:xfrm>
              <a:off x="4252680" y="4339440"/>
              <a:ext cx="760320" cy="2397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4252680" y="4319280"/>
              <a:ext cx="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5013000" y="4319280"/>
              <a:ext cx="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4252680" y="4319280"/>
              <a:ext cx="753480" cy="146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4246560" y="4146480"/>
              <a:ext cx="759600" cy="2797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3" name=""/>
            <p:cNvGrpSpPr/>
            <p:nvPr/>
          </p:nvGrpSpPr>
          <p:grpSpPr>
            <a:xfrm>
              <a:off x="4429440" y="4207680"/>
              <a:ext cx="376200" cy="163440"/>
              <a:chOff x="4429440" y="4207680"/>
              <a:chExt cx="376200" cy="163440"/>
            </a:xfrm>
          </p:grpSpPr>
          <p:sp>
            <p:nvSpPr>
              <p:cNvPr id="2564" name=""/>
              <p:cNvSpPr/>
              <p:nvPr/>
            </p:nvSpPr>
            <p:spPr>
              <a:xfrm flipV="1">
                <a:off x="4429440" y="4207680"/>
                <a:ext cx="13428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4687560" y="4371120"/>
                <a:ext cx="11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4553280" y="4211280"/>
                <a:ext cx="139680" cy="15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7" name=""/>
            <p:cNvGrpSpPr/>
            <p:nvPr/>
          </p:nvGrpSpPr>
          <p:grpSpPr>
            <a:xfrm>
              <a:off x="4429440" y="4206240"/>
              <a:ext cx="376200" cy="163440"/>
              <a:chOff x="4429440" y="4206240"/>
              <a:chExt cx="376200" cy="163440"/>
            </a:xfrm>
          </p:grpSpPr>
          <p:sp>
            <p:nvSpPr>
              <p:cNvPr id="2568" name=""/>
              <p:cNvSpPr/>
              <p:nvPr/>
            </p:nvSpPr>
            <p:spPr>
              <a:xfrm>
                <a:off x="4429440" y="4366440"/>
                <a:ext cx="13428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4687560" y="4206240"/>
                <a:ext cx="11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 flipV="1">
                <a:off x="4553280" y="4206240"/>
                <a:ext cx="139680" cy="15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71" name=""/>
          <p:cNvSpPr/>
          <p:nvPr/>
        </p:nvSpPr>
        <p:spPr>
          <a:xfrm>
            <a:off x="4064040" y="5632560"/>
            <a:ext cx="154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(comut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 flipV="1">
            <a:off x="4862520" y="4875120"/>
            <a:ext cx="69840" cy="819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 flipV="1">
            <a:off x="4875120" y="3586320"/>
            <a:ext cx="444600" cy="2093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 flipV="1">
            <a:off x="4861080" y="5124600"/>
            <a:ext cx="347400" cy="528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A1C5-DE14-44E5-8D91-A145ECA6B75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O que é a Internet: visão dos component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390680"/>
            <a:ext cx="4510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ilhões de dispositivos de computação conectados: </a:t>
            </a: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hosts, sistemas fina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workstations de pcs, servido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elefones com PDA’s, torradeir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odando </a:t>
            </a: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aplicações de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enlaces (canais) de comunic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fibra, cobre, rádio, satéli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roteadores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ncaminham pacotes (pedaços) de dados através da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6797520" y="2647800"/>
            <a:ext cx="1798920" cy="167508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17960" y="250524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286240" y="395604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5035680" y="2639880"/>
            <a:ext cx="732960" cy="319320"/>
            <a:chOff x="5035680" y="2639880"/>
            <a:chExt cx="732960" cy="319320"/>
          </a:xfrm>
        </p:grpSpPr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5035680" y="2639880"/>
              <a:ext cx="41616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5489280" y="2757960"/>
              <a:ext cx="27936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 flipV="1">
              <a:off x="5442120" y="288144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035680" y="3235320"/>
            <a:ext cx="732960" cy="318960"/>
            <a:chOff x="5035680" y="3235320"/>
            <a:chExt cx="732960" cy="318960"/>
          </a:xfrm>
        </p:grpSpPr>
        <p:pic>
          <p:nvPicPr>
            <p:cNvPr id="63" name="" descr=""/>
            <p:cNvPicPr/>
            <p:nvPr/>
          </p:nvPicPr>
          <p:blipFill>
            <a:blip r:embed="rId3"/>
            <a:stretch/>
          </p:blipFill>
          <p:spPr>
            <a:xfrm>
              <a:off x="5035680" y="323532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4"/>
            <a:stretch/>
          </p:blipFill>
          <p:spPr>
            <a:xfrm>
              <a:off x="5489280" y="335340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 flipV="1">
              <a:off x="5442120" y="347688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411880" y="3022560"/>
            <a:ext cx="69480" cy="214200"/>
            <a:chOff x="5411880" y="3022560"/>
            <a:chExt cx="69480" cy="214200"/>
          </a:xfrm>
        </p:grpSpPr>
        <p:sp>
          <p:nvSpPr>
            <p:cNvPr id="67" name=""/>
            <p:cNvSpPr/>
            <p:nvPr/>
          </p:nvSpPr>
          <p:spPr>
            <a:xfrm>
              <a:off x="5411880" y="302256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14400" y="309960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417280" y="317664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881680" y="3525840"/>
            <a:ext cx="209520" cy="394920"/>
            <a:chOff x="5881680" y="3525840"/>
            <a:chExt cx="209520" cy="394920"/>
          </a:xfrm>
        </p:grpSpPr>
        <p:sp>
          <p:nvSpPr>
            <p:cNvPr id="71" name=""/>
            <p:cNvSpPr/>
            <p:nvPr/>
          </p:nvSpPr>
          <p:spPr>
            <a:xfrm>
              <a:off x="5881680" y="382968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87880" y="352836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882760" y="361440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81680" y="352584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091200" y="353196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6015240" y="382968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899680" y="365436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912280" y="370728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6118200" y="3679560"/>
            <a:ext cx="233280" cy="81000"/>
            <a:chOff x="6118200" y="3679560"/>
            <a:chExt cx="233280" cy="81000"/>
          </a:xfrm>
        </p:grpSpPr>
        <p:sp>
          <p:nvSpPr>
            <p:cNvPr id="80" name=""/>
            <p:cNvSpPr/>
            <p:nvPr/>
          </p:nvSpPr>
          <p:spPr>
            <a:xfrm rot="16200000">
              <a:off x="6113520" y="369036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6200000">
              <a:off x="6197400" y="368712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6200000">
              <a:off x="6281280" y="368388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6018120" y="3433680"/>
            <a:ext cx="4953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21360" y="3430440"/>
            <a:ext cx="144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16720" y="3429000"/>
            <a:ext cx="144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18240" y="2894040"/>
            <a:ext cx="29052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730840" y="3179520"/>
            <a:ext cx="27792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257880" y="3265560"/>
            <a:ext cx="180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386400" y="3513240"/>
            <a:ext cx="209520" cy="394920"/>
            <a:chOff x="6386400" y="3513240"/>
            <a:chExt cx="209520" cy="394920"/>
          </a:xfrm>
        </p:grpSpPr>
        <p:sp>
          <p:nvSpPr>
            <p:cNvPr id="90" name=""/>
            <p:cNvSpPr/>
            <p:nvPr/>
          </p:nvSpPr>
          <p:spPr>
            <a:xfrm>
              <a:off x="6386400" y="381708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92600" y="351576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87480" y="360180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86400" y="351324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95920" y="351936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519960" y="381708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04400" y="364176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17000" y="369468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419800" y="4122720"/>
            <a:ext cx="479160" cy="925200"/>
            <a:chOff x="5419800" y="4122720"/>
            <a:chExt cx="479160" cy="925200"/>
          </a:xfrm>
        </p:grpSpPr>
        <p:pic>
          <p:nvPicPr>
            <p:cNvPr id="99" name="" descr=""/>
            <p:cNvPicPr/>
            <p:nvPr/>
          </p:nvPicPr>
          <p:blipFill>
            <a:blip r:embed="rId5"/>
            <a:stretch/>
          </p:blipFill>
          <p:spPr>
            <a:xfrm>
              <a:off x="5419800" y="412272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flipV="1">
              <a:off x="5826600" y="436932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6"/>
            <a:stretch/>
          </p:blipFill>
          <p:spPr>
            <a:xfrm>
              <a:off x="5419800" y="471744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 flipV="1">
              <a:off x="5826600" y="496764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5545080" y="4464000"/>
              <a:ext cx="70560" cy="222480"/>
              <a:chOff x="5545080" y="4464000"/>
              <a:chExt cx="70560" cy="222480"/>
            </a:xfrm>
          </p:grpSpPr>
          <p:sp>
            <p:nvSpPr>
              <p:cNvPr id="104" name=""/>
              <p:cNvSpPr/>
              <p:nvPr/>
            </p:nvSpPr>
            <p:spPr>
              <a:xfrm>
                <a:off x="5545080" y="4464000"/>
                <a:ext cx="65160" cy="626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547600" y="454392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550480" y="462420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5893560" y="436644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6297480" y="5132520"/>
            <a:ext cx="398520" cy="331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5683320" y="5121360"/>
            <a:ext cx="396720" cy="330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rot="16200000">
            <a:off x="6090480" y="5225400"/>
            <a:ext cx="63360" cy="648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6175080" y="5222160"/>
            <a:ext cx="63720" cy="669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6252840" y="5227560"/>
            <a:ext cx="619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541920" y="5078160"/>
            <a:ext cx="1800" cy="6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918040" y="5067360"/>
            <a:ext cx="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919840" y="507348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899320" y="469872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0880" y="4745160"/>
            <a:ext cx="303120" cy="38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7297560" y="4741920"/>
            <a:ext cx="277920" cy="39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9"/>
          <a:stretch/>
        </p:blipFill>
        <p:spPr>
          <a:xfrm>
            <a:off x="7478640" y="4294080"/>
            <a:ext cx="195480" cy="241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0"/>
          <a:stretch/>
        </p:blipFill>
        <p:spPr>
          <a:xfrm>
            <a:off x="6141960" y="4375080"/>
            <a:ext cx="193680" cy="2397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218280" y="4149720"/>
            <a:ext cx="1353960" cy="30492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485040" y="5572080"/>
            <a:ext cx="406080" cy="426960"/>
            <a:chOff x="6485040" y="5572080"/>
            <a:chExt cx="406080" cy="426960"/>
          </a:xfrm>
        </p:grpSpPr>
        <p:pic>
          <p:nvPicPr>
            <p:cNvPr id="123" name="" descr=""/>
            <p:cNvPicPr/>
            <p:nvPr/>
          </p:nvPicPr>
          <p:blipFill>
            <a:blip r:embed="rId11"/>
            <a:stretch/>
          </p:blipFill>
          <p:spPr>
            <a:xfrm>
              <a:off x="6485040" y="557208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12"/>
            <a:stretch/>
          </p:blipFill>
          <p:spPr>
            <a:xfrm>
              <a:off x="6544800" y="568404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"/>
          <p:cNvGrpSpPr/>
          <p:nvPr/>
        </p:nvGrpSpPr>
        <p:grpSpPr>
          <a:xfrm>
            <a:off x="7262640" y="5603760"/>
            <a:ext cx="406080" cy="426960"/>
            <a:chOff x="7262640" y="5603760"/>
            <a:chExt cx="406080" cy="426960"/>
          </a:xfrm>
        </p:grpSpPr>
        <p:pic>
          <p:nvPicPr>
            <p:cNvPr id="126" name="" descr=""/>
            <p:cNvPicPr/>
            <p:nvPr/>
          </p:nvPicPr>
          <p:blipFill>
            <a:blip r:embed="rId13"/>
            <a:stretch/>
          </p:blipFill>
          <p:spPr>
            <a:xfrm>
              <a:off x="7262640" y="5603760"/>
              <a:ext cx="378360" cy="37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14"/>
            <a:stretch/>
          </p:blipFill>
          <p:spPr>
            <a:xfrm>
              <a:off x="7322400" y="571572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"/>
          <p:cNvGrpSpPr/>
          <p:nvPr/>
        </p:nvGrpSpPr>
        <p:grpSpPr>
          <a:xfrm>
            <a:off x="6848640" y="5319720"/>
            <a:ext cx="379080" cy="376200"/>
            <a:chOff x="6848640" y="5319720"/>
            <a:chExt cx="379080" cy="376200"/>
          </a:xfrm>
        </p:grpSpPr>
        <p:pic>
          <p:nvPicPr>
            <p:cNvPr id="129" name="" descr=""/>
            <p:cNvPicPr/>
            <p:nvPr/>
          </p:nvPicPr>
          <p:blipFill>
            <a:blip r:embed="rId15"/>
            <a:stretch/>
          </p:blipFill>
          <p:spPr>
            <a:xfrm>
              <a:off x="6848640" y="5319720"/>
              <a:ext cx="37908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6958800" y="5451840"/>
              <a:ext cx="26712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7155000" y="522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7875720" y="4646520"/>
            <a:ext cx="207720" cy="409680"/>
            <a:chOff x="7875720" y="4646520"/>
            <a:chExt cx="207720" cy="409680"/>
          </a:xfrm>
        </p:grpSpPr>
        <p:sp>
          <p:nvSpPr>
            <p:cNvPr id="133" name=""/>
            <p:cNvSpPr/>
            <p:nvPr/>
          </p:nvSpPr>
          <p:spPr>
            <a:xfrm>
              <a:off x="7875720" y="4961520"/>
              <a:ext cx="207720" cy="94680"/>
            </a:xfrm>
            <a:prstGeom prst="parallelogram">
              <a:avLst>
                <a:gd name="adj" fmla="val 8451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80840" y="464904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876800" y="4738320"/>
              <a:ext cx="13140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875720" y="4646520"/>
              <a:ext cx="207720" cy="94680"/>
            </a:xfrm>
            <a:prstGeom prst="parallelogram">
              <a:avLst>
                <a:gd name="adj" fmla="val 8451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083440" y="465300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8008200" y="4961520"/>
              <a:ext cx="7452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893360" y="4779720"/>
              <a:ext cx="8712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05960" y="483444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7862760" y="5091120"/>
            <a:ext cx="208080" cy="409680"/>
            <a:chOff x="7862760" y="5091120"/>
            <a:chExt cx="208080" cy="409680"/>
          </a:xfrm>
        </p:grpSpPr>
        <p:sp>
          <p:nvSpPr>
            <p:cNvPr id="142" name=""/>
            <p:cNvSpPr/>
            <p:nvPr/>
          </p:nvSpPr>
          <p:spPr>
            <a:xfrm>
              <a:off x="7862760" y="540612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67880" y="509364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863840" y="518292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862760" y="509112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070840" y="509760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7995600" y="540612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0400" y="5224320"/>
              <a:ext cx="8748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93000" y="527904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 flipV="1">
            <a:off x="7794720" y="4714920"/>
            <a:ext cx="0" cy="6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92920" y="5324400"/>
            <a:ext cx="10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788240" y="484812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512040" y="2944800"/>
            <a:ext cx="458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46960" y="2928960"/>
            <a:ext cx="485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7966080" y="3265560"/>
            <a:ext cx="241200" cy="68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196040" y="304164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21600" y="3689280"/>
            <a:ext cx="53496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7682040" y="4154400"/>
            <a:ext cx="26640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7455960" y="3233880"/>
            <a:ext cx="559080" cy="38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7464600" y="2673360"/>
            <a:ext cx="35064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8182080" y="2849400"/>
            <a:ext cx="201600" cy="1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56160" y="24876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SP loc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24400" y="5499000"/>
            <a:ext cx="123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de 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965640" y="3639960"/>
            <a:ext cx="16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SP regio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5851440" y="1243080"/>
            <a:ext cx="501840" cy="232920"/>
            <a:chOff x="5851440" y="1243080"/>
            <a:chExt cx="501840" cy="232920"/>
          </a:xfrm>
        </p:grpSpPr>
        <p:sp>
          <p:nvSpPr>
            <p:cNvPr id="166" name=""/>
            <p:cNvSpPr/>
            <p:nvPr/>
          </p:nvSpPr>
          <p:spPr>
            <a:xfrm>
              <a:off x="5855400" y="134712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855400" y="1335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353280" y="1335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55400" y="133596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51440" y="124308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970960" y="1275840"/>
              <a:ext cx="246240" cy="88200"/>
              <a:chOff x="5970960" y="1275840"/>
              <a:chExt cx="246240" cy="88200"/>
            </a:xfrm>
          </p:grpSpPr>
          <p:sp>
            <p:nvSpPr>
              <p:cNvPr id="172" name=""/>
              <p:cNvSpPr/>
              <p:nvPr/>
            </p:nvSpPr>
            <p:spPr>
              <a:xfrm flipV="1">
                <a:off x="5970960" y="1275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139800" y="1364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051960" y="1278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5970960" y="1275120"/>
              <a:ext cx="246240" cy="88200"/>
              <a:chOff x="5970960" y="1275120"/>
              <a:chExt cx="246240" cy="88200"/>
            </a:xfrm>
          </p:grpSpPr>
          <p:sp>
            <p:nvSpPr>
              <p:cNvPr id="176" name=""/>
              <p:cNvSpPr/>
              <p:nvPr/>
            </p:nvSpPr>
            <p:spPr>
              <a:xfrm>
                <a:off x="5970960" y="1361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139800" y="1275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6051960" y="12751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9" name=""/>
          <p:cNvGrpSpPr/>
          <p:nvPr/>
        </p:nvGrpSpPr>
        <p:grpSpPr>
          <a:xfrm>
            <a:off x="5861160" y="1819440"/>
            <a:ext cx="209520" cy="408960"/>
            <a:chOff x="5861160" y="1819440"/>
            <a:chExt cx="209520" cy="408960"/>
          </a:xfrm>
        </p:grpSpPr>
        <p:sp>
          <p:nvSpPr>
            <p:cNvPr id="180" name=""/>
            <p:cNvSpPr/>
            <p:nvPr/>
          </p:nvSpPr>
          <p:spPr>
            <a:xfrm>
              <a:off x="5861160" y="2134080"/>
              <a:ext cx="209520" cy="94320"/>
            </a:xfrm>
            <a:prstGeom prst="parallelogram">
              <a:avLst>
                <a:gd name="adj" fmla="val 85574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67360" y="1821960"/>
              <a:ext cx="9612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62240" y="1911240"/>
              <a:ext cx="13248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61160" y="1819440"/>
              <a:ext cx="209520" cy="94320"/>
            </a:xfrm>
            <a:prstGeom prst="parallelogram">
              <a:avLst>
                <a:gd name="adj" fmla="val 8557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70680" y="182592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5994720" y="2134080"/>
              <a:ext cx="7524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79160" y="1952640"/>
              <a:ext cx="87840" cy="181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91760" y="2007360"/>
              <a:ext cx="6660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8" name="" descr=""/>
          <p:cNvPicPr/>
          <p:nvPr/>
        </p:nvPicPr>
        <p:blipFill>
          <a:blip r:embed="rId16"/>
          <a:stretch/>
        </p:blipFill>
        <p:spPr>
          <a:xfrm>
            <a:off x="7115040" y="1297080"/>
            <a:ext cx="417600" cy="318960"/>
          </a:xfrm>
          <a:prstGeom prst="rect">
            <a:avLst/>
          </a:prstGeom>
          <a:ln w="0">
            <a:noFill/>
          </a:ln>
        </p:spPr>
      </p:pic>
      <p:grpSp>
        <p:nvGrpSpPr>
          <p:cNvPr id="189" name=""/>
          <p:cNvGrpSpPr/>
          <p:nvPr/>
        </p:nvGrpSpPr>
        <p:grpSpPr>
          <a:xfrm>
            <a:off x="7053120" y="1903320"/>
            <a:ext cx="406080" cy="426960"/>
            <a:chOff x="7053120" y="1903320"/>
            <a:chExt cx="406080" cy="426960"/>
          </a:xfrm>
        </p:grpSpPr>
        <p:pic>
          <p:nvPicPr>
            <p:cNvPr id="190" name="" descr=""/>
            <p:cNvPicPr/>
            <p:nvPr/>
          </p:nvPicPr>
          <p:blipFill>
            <a:blip r:embed="rId17"/>
            <a:stretch/>
          </p:blipFill>
          <p:spPr>
            <a:xfrm>
              <a:off x="7053120" y="190332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18"/>
            <a:stretch/>
          </p:blipFill>
          <p:spPr>
            <a:xfrm>
              <a:off x="7112880" y="201528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"/>
          <p:cNvGrpSpPr/>
          <p:nvPr/>
        </p:nvGrpSpPr>
        <p:grpSpPr>
          <a:xfrm>
            <a:off x="5992920" y="3041640"/>
            <a:ext cx="501480" cy="232920"/>
            <a:chOff x="5992920" y="3041640"/>
            <a:chExt cx="501480" cy="232920"/>
          </a:xfrm>
        </p:grpSpPr>
        <p:sp>
          <p:nvSpPr>
            <p:cNvPr id="193" name=""/>
            <p:cNvSpPr/>
            <p:nvPr/>
          </p:nvSpPr>
          <p:spPr>
            <a:xfrm>
              <a:off x="5996880" y="314568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96880" y="3134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494400" y="3134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996880" y="313452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92920" y="30416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6112440" y="3074400"/>
              <a:ext cx="246240" cy="88200"/>
              <a:chOff x="6112440" y="3074400"/>
              <a:chExt cx="246240" cy="88200"/>
            </a:xfrm>
          </p:grpSpPr>
          <p:sp>
            <p:nvSpPr>
              <p:cNvPr id="199" name=""/>
              <p:cNvSpPr/>
              <p:nvPr/>
            </p:nvSpPr>
            <p:spPr>
              <a:xfrm flipV="1">
                <a:off x="6112440" y="30744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281280" y="3162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193440" y="30765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6112440" y="3073680"/>
              <a:ext cx="246240" cy="88200"/>
              <a:chOff x="6112440" y="3073680"/>
              <a:chExt cx="246240" cy="88200"/>
            </a:xfrm>
          </p:grpSpPr>
          <p:sp>
            <p:nvSpPr>
              <p:cNvPr id="203" name=""/>
              <p:cNvSpPr/>
              <p:nvPr/>
            </p:nvSpPr>
            <p:spPr>
              <a:xfrm>
                <a:off x="6112440" y="31600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281280" y="3073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6193440" y="30736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6945480" y="2813040"/>
            <a:ext cx="501480" cy="232920"/>
            <a:chOff x="6945480" y="2813040"/>
            <a:chExt cx="501480" cy="232920"/>
          </a:xfrm>
        </p:grpSpPr>
        <p:sp>
          <p:nvSpPr>
            <p:cNvPr id="207" name=""/>
            <p:cNvSpPr/>
            <p:nvPr/>
          </p:nvSpPr>
          <p:spPr>
            <a:xfrm>
              <a:off x="6949440" y="291708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949440" y="2905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46960" y="2905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49440" y="290592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45480" y="28130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7065000" y="2845800"/>
              <a:ext cx="246240" cy="88200"/>
              <a:chOff x="7065000" y="2845800"/>
              <a:chExt cx="246240" cy="88200"/>
            </a:xfrm>
          </p:grpSpPr>
          <p:sp>
            <p:nvSpPr>
              <p:cNvPr id="213" name=""/>
              <p:cNvSpPr/>
              <p:nvPr/>
            </p:nvSpPr>
            <p:spPr>
              <a:xfrm flipV="1">
                <a:off x="7065000" y="2845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233840" y="29340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146000" y="28479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7065000" y="2845080"/>
              <a:ext cx="246240" cy="88200"/>
              <a:chOff x="7065000" y="2845080"/>
              <a:chExt cx="246240" cy="88200"/>
            </a:xfrm>
          </p:grpSpPr>
          <p:sp>
            <p:nvSpPr>
              <p:cNvPr id="217" name=""/>
              <p:cNvSpPr/>
              <p:nvPr/>
            </p:nvSpPr>
            <p:spPr>
              <a:xfrm>
                <a:off x="7065000" y="2931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233840" y="2845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146000" y="28450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0" name=""/>
          <p:cNvGrpSpPr/>
          <p:nvPr/>
        </p:nvGrpSpPr>
        <p:grpSpPr>
          <a:xfrm>
            <a:off x="6962760" y="3470400"/>
            <a:ext cx="501840" cy="232920"/>
            <a:chOff x="6962760" y="3470400"/>
            <a:chExt cx="501840" cy="232920"/>
          </a:xfrm>
        </p:grpSpPr>
        <p:sp>
          <p:nvSpPr>
            <p:cNvPr id="221" name=""/>
            <p:cNvSpPr/>
            <p:nvPr/>
          </p:nvSpPr>
          <p:spPr>
            <a:xfrm>
              <a:off x="6966720" y="357444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96672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6460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966720" y="356328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962760" y="34704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7082280" y="3503160"/>
              <a:ext cx="246240" cy="88200"/>
              <a:chOff x="7082280" y="3503160"/>
              <a:chExt cx="246240" cy="88200"/>
            </a:xfrm>
          </p:grpSpPr>
          <p:sp>
            <p:nvSpPr>
              <p:cNvPr id="227" name=""/>
              <p:cNvSpPr/>
              <p:nvPr/>
            </p:nvSpPr>
            <p:spPr>
              <a:xfrm flipV="1">
                <a:off x="7082280" y="3503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251120" y="3591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163280" y="3505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7082280" y="3502440"/>
              <a:ext cx="246240" cy="88200"/>
              <a:chOff x="7082280" y="3502440"/>
              <a:chExt cx="246240" cy="88200"/>
            </a:xfrm>
          </p:grpSpPr>
          <p:sp>
            <p:nvSpPr>
              <p:cNvPr id="231" name=""/>
              <p:cNvSpPr/>
              <p:nvPr/>
            </p:nvSpPr>
            <p:spPr>
              <a:xfrm>
                <a:off x="7082280" y="3588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251120" y="3502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7163280" y="35024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4" name=""/>
          <p:cNvGrpSpPr/>
          <p:nvPr/>
        </p:nvGrpSpPr>
        <p:grpSpPr>
          <a:xfrm>
            <a:off x="7932600" y="3021120"/>
            <a:ext cx="500040" cy="232920"/>
            <a:chOff x="7932600" y="3021120"/>
            <a:chExt cx="500040" cy="232920"/>
          </a:xfrm>
        </p:grpSpPr>
        <p:sp>
          <p:nvSpPr>
            <p:cNvPr id="235" name=""/>
            <p:cNvSpPr/>
            <p:nvPr/>
          </p:nvSpPr>
          <p:spPr>
            <a:xfrm>
              <a:off x="7936560" y="312516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936560" y="31140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432640" y="31140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36560" y="311400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932600" y="302112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8051760" y="3053880"/>
              <a:ext cx="245520" cy="88200"/>
              <a:chOff x="8051760" y="3053880"/>
              <a:chExt cx="245520" cy="88200"/>
            </a:xfrm>
          </p:grpSpPr>
          <p:sp>
            <p:nvSpPr>
              <p:cNvPr id="241" name=""/>
              <p:cNvSpPr/>
              <p:nvPr/>
            </p:nvSpPr>
            <p:spPr>
              <a:xfrm flipV="1">
                <a:off x="8051760" y="305388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220240" y="31420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132400" y="305604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8051760" y="3053160"/>
              <a:ext cx="245520" cy="88200"/>
              <a:chOff x="8051760" y="3053160"/>
              <a:chExt cx="245520" cy="88200"/>
            </a:xfrm>
          </p:grpSpPr>
          <p:sp>
            <p:nvSpPr>
              <p:cNvPr id="245" name=""/>
              <p:cNvSpPr/>
              <p:nvPr/>
            </p:nvSpPr>
            <p:spPr>
              <a:xfrm>
                <a:off x="8051760" y="313956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220240" y="305316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8132400" y="305316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8" name=""/>
          <p:cNvGrpSpPr/>
          <p:nvPr/>
        </p:nvGrpSpPr>
        <p:grpSpPr>
          <a:xfrm>
            <a:off x="7738920" y="3917880"/>
            <a:ext cx="501840" cy="232920"/>
            <a:chOff x="7738920" y="3917880"/>
            <a:chExt cx="501840" cy="232920"/>
          </a:xfrm>
        </p:grpSpPr>
        <p:sp>
          <p:nvSpPr>
            <p:cNvPr id="249" name=""/>
            <p:cNvSpPr/>
            <p:nvPr/>
          </p:nvSpPr>
          <p:spPr>
            <a:xfrm>
              <a:off x="7742880" y="402192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742880" y="40107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240760" y="40107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742880" y="401076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738920" y="391788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7858440" y="3950640"/>
              <a:ext cx="246240" cy="88200"/>
              <a:chOff x="7858440" y="3950640"/>
              <a:chExt cx="246240" cy="88200"/>
            </a:xfrm>
          </p:grpSpPr>
          <p:sp>
            <p:nvSpPr>
              <p:cNvPr id="255" name=""/>
              <p:cNvSpPr/>
              <p:nvPr/>
            </p:nvSpPr>
            <p:spPr>
              <a:xfrm flipV="1">
                <a:off x="7858440" y="3950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027280" y="4038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939440" y="39528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7858440" y="3949920"/>
              <a:ext cx="246240" cy="88200"/>
              <a:chOff x="7858440" y="3949920"/>
              <a:chExt cx="246240" cy="88200"/>
            </a:xfrm>
          </p:grpSpPr>
          <p:sp>
            <p:nvSpPr>
              <p:cNvPr id="259" name=""/>
              <p:cNvSpPr/>
              <p:nvPr/>
            </p:nvSpPr>
            <p:spPr>
              <a:xfrm>
                <a:off x="7858440" y="4036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027280" y="3949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7939440" y="39499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2" name=""/>
          <p:cNvGrpSpPr/>
          <p:nvPr/>
        </p:nvGrpSpPr>
        <p:grpSpPr>
          <a:xfrm>
            <a:off x="7405560" y="4502160"/>
            <a:ext cx="501840" cy="234720"/>
            <a:chOff x="7405560" y="4502160"/>
            <a:chExt cx="501840" cy="234720"/>
          </a:xfrm>
        </p:grpSpPr>
        <p:sp>
          <p:nvSpPr>
            <p:cNvPr id="263" name=""/>
            <p:cNvSpPr/>
            <p:nvPr/>
          </p:nvSpPr>
          <p:spPr>
            <a:xfrm>
              <a:off x="7409520" y="4606920"/>
              <a:ext cx="497520" cy="129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409520" y="45957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907400" y="45957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09520" y="4595760"/>
              <a:ext cx="493200" cy="79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05560" y="4502160"/>
              <a:ext cx="497160" cy="151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7525080" y="4535280"/>
              <a:ext cx="246240" cy="88920"/>
              <a:chOff x="7525080" y="4535280"/>
              <a:chExt cx="246240" cy="88920"/>
            </a:xfrm>
          </p:grpSpPr>
          <p:sp>
            <p:nvSpPr>
              <p:cNvPr id="269" name=""/>
              <p:cNvSpPr/>
              <p:nvPr/>
            </p:nvSpPr>
            <p:spPr>
              <a:xfrm flipV="1">
                <a:off x="7525080" y="45352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93920" y="46242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606080" y="45374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7525080" y="4534200"/>
              <a:ext cx="246240" cy="88920"/>
              <a:chOff x="7525080" y="4534200"/>
              <a:chExt cx="246240" cy="88920"/>
            </a:xfrm>
          </p:grpSpPr>
          <p:sp>
            <p:nvSpPr>
              <p:cNvPr id="273" name=""/>
              <p:cNvSpPr/>
              <p:nvPr/>
            </p:nvSpPr>
            <p:spPr>
              <a:xfrm>
                <a:off x="7525080" y="4621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693920" y="45342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606080" y="45342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6" name=""/>
          <p:cNvGrpSpPr/>
          <p:nvPr/>
        </p:nvGrpSpPr>
        <p:grpSpPr>
          <a:xfrm>
            <a:off x="6796080" y="4991040"/>
            <a:ext cx="501480" cy="232920"/>
            <a:chOff x="6796080" y="4991040"/>
            <a:chExt cx="501480" cy="232920"/>
          </a:xfrm>
        </p:grpSpPr>
        <p:sp>
          <p:nvSpPr>
            <p:cNvPr id="277" name=""/>
            <p:cNvSpPr/>
            <p:nvPr/>
          </p:nvSpPr>
          <p:spPr>
            <a:xfrm>
              <a:off x="6800040" y="509508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800040" y="5083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297560" y="5083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00040" y="508392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796080" y="49910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6915600" y="5023800"/>
              <a:ext cx="246240" cy="88200"/>
              <a:chOff x="6915600" y="5023800"/>
              <a:chExt cx="246240" cy="88200"/>
            </a:xfrm>
          </p:grpSpPr>
          <p:sp>
            <p:nvSpPr>
              <p:cNvPr id="283" name=""/>
              <p:cNvSpPr/>
              <p:nvPr/>
            </p:nvSpPr>
            <p:spPr>
              <a:xfrm flipV="1">
                <a:off x="6915600" y="5023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084440" y="51120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996600" y="50259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6915600" y="5023080"/>
              <a:ext cx="246240" cy="88200"/>
              <a:chOff x="6915600" y="5023080"/>
              <a:chExt cx="246240" cy="88200"/>
            </a:xfrm>
          </p:grpSpPr>
          <p:sp>
            <p:nvSpPr>
              <p:cNvPr id="287" name=""/>
              <p:cNvSpPr/>
              <p:nvPr/>
            </p:nvSpPr>
            <p:spPr>
              <a:xfrm>
                <a:off x="6915600" y="5109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084440" y="5023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6996600" y="50230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0" name=""/>
          <p:cNvGrpSpPr/>
          <p:nvPr/>
        </p:nvGrpSpPr>
        <p:grpSpPr>
          <a:xfrm>
            <a:off x="5992920" y="4614840"/>
            <a:ext cx="501480" cy="232920"/>
            <a:chOff x="5992920" y="4614840"/>
            <a:chExt cx="501480" cy="232920"/>
          </a:xfrm>
        </p:grpSpPr>
        <p:sp>
          <p:nvSpPr>
            <p:cNvPr id="291" name=""/>
            <p:cNvSpPr/>
            <p:nvPr/>
          </p:nvSpPr>
          <p:spPr>
            <a:xfrm>
              <a:off x="5996880" y="471888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996880" y="47077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94400" y="47077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996880" y="470772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92920" y="46148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6112440" y="4647600"/>
              <a:ext cx="246240" cy="88200"/>
              <a:chOff x="6112440" y="4647600"/>
              <a:chExt cx="246240" cy="88200"/>
            </a:xfrm>
          </p:grpSpPr>
          <p:sp>
            <p:nvSpPr>
              <p:cNvPr id="297" name=""/>
              <p:cNvSpPr/>
              <p:nvPr/>
            </p:nvSpPr>
            <p:spPr>
              <a:xfrm flipV="1">
                <a:off x="6112440" y="46476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281280" y="4735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193440" y="46497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6112440" y="4646880"/>
              <a:ext cx="246240" cy="88200"/>
              <a:chOff x="6112440" y="4646880"/>
              <a:chExt cx="246240" cy="88200"/>
            </a:xfrm>
          </p:grpSpPr>
          <p:sp>
            <p:nvSpPr>
              <p:cNvPr id="301" name=""/>
              <p:cNvSpPr/>
              <p:nvPr/>
            </p:nvSpPr>
            <p:spPr>
              <a:xfrm>
                <a:off x="6112440" y="47332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281280" y="4646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6193440" y="46468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4" name=""/>
          <p:cNvSpPr/>
          <p:nvPr/>
        </p:nvSpPr>
        <p:spPr>
          <a:xfrm>
            <a:off x="5804640" y="1406520"/>
            <a:ext cx="12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te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05240" y="1533600"/>
            <a:ext cx="159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25320" y="1917720"/>
            <a:ext cx="11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368120" y="2103480"/>
            <a:ext cx="91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ó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6248520" y="4827600"/>
            <a:ext cx="144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A253-17D3-464A-8958-9DC30FA303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Meios Físico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0988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Bit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Propaga-se entre o transmissor e o recept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enlace físic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o que está entre o transmissor e o recept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meios guiados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s sinais se propagam em meios sólidos: cobre, fib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meios não guiados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s sinais se propagam livremente, ex. rád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4516200" y="140004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ar Trançado (TP - </a:t>
            </a:r>
            <a:r>
              <a:rPr b="0" i="1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Twisted Pair</a:t>
            </a: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ois fios de cobre isol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tegoria 3: fios tradicionais de telefonia, 10 Mbps Eth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tegoria 5 TP: 100Mbps Eth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78" name="grentwist" descr=""/>
          <p:cNvPicPr/>
          <p:nvPr/>
        </p:nvPicPr>
        <p:blipFill>
          <a:blip r:embed="rId1"/>
          <a:stretch/>
        </p:blipFill>
        <p:spPr>
          <a:xfrm>
            <a:off x="4219560" y="5153040"/>
            <a:ext cx="4111560" cy="3715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9EA9-F4A7-4833-A14C-8FDCCB89014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eios físicos: cabo coaxial, fibr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8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62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Cabo coaxial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io (transporta o sinal) dentro de outro fio (blindage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anda básica (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baseband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): canal único no cab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anda larga (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broadband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): múltiplos canais num cab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idirecio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so comum em Ethernet 10Mb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81" name="coax" descr=""/>
          <p:cNvPicPr/>
          <p:nvPr/>
        </p:nvPicPr>
        <p:blipFill>
          <a:blip r:embed="rId1"/>
          <a:stretch/>
        </p:blipFill>
        <p:spPr>
          <a:xfrm>
            <a:off x="1239840" y="5629320"/>
            <a:ext cx="2500200" cy="1085760"/>
          </a:xfrm>
          <a:prstGeom prst="rect">
            <a:avLst/>
          </a:prstGeom>
          <a:ln w="0">
            <a:noFill/>
          </a:ln>
        </p:spPr>
      </p:pic>
      <p:sp>
        <p:nvSpPr>
          <p:cNvPr id="2582" name=""/>
          <p:cNvSpPr/>
          <p:nvPr/>
        </p:nvSpPr>
        <p:spPr>
          <a:xfrm>
            <a:off x="4800600" y="1390680"/>
            <a:ext cx="4137120" cy="34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Cabo de fibra óp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ibra de vidro transporta pulsos de lu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pera em alta velocida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thernet 100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missão ponto a ponto de alta velocidade (ex., 10 Gb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aixa taxa de er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3" name="f-pict" descr=""/>
          <p:cNvPicPr/>
          <p:nvPr/>
        </p:nvPicPr>
        <p:blipFill>
          <a:blip r:embed="rId2"/>
          <a:stretch/>
        </p:blipFill>
        <p:spPr>
          <a:xfrm>
            <a:off x="5437080" y="4863960"/>
            <a:ext cx="2371680" cy="146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7148-8C76-4F38-BBE5-D42A0E26F8B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eios físicos: rád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85" name="PlaceHolder 2"/>
          <p:cNvSpPr>
            <a:spLocks noGrp="1"/>
          </p:cNvSpPr>
          <p:nvPr>
            <p:ph/>
          </p:nvPr>
        </p:nvSpPr>
        <p:spPr>
          <a:xfrm>
            <a:off x="433080" y="1371240"/>
            <a:ext cx="3962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inal transportado em ondas eletromagnétic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ão há “fio” fís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idirecio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feitos do ambiente de propagaçã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flexão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bstrução por objet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terferênc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6" name=""/>
          <p:cNvSpPr/>
          <p:nvPr/>
        </p:nvSpPr>
        <p:spPr>
          <a:xfrm>
            <a:off x="4505400" y="1238400"/>
            <a:ext cx="4538520" cy="34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Tipos de enlaces de rá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microon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x.: canais de até 45 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LAN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(ex., waveL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2Mbps, 11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longa distância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(ex., celul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x. 3G, 100’s k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saté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nal de até 50Mbps (ou múltiplos canais meno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traso fim a fim de 270 mse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eosíncrono versus LE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818B-2BD4-4F1C-8EAF-623FAF9FEB5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9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strutura da Internet: rede de red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/>
          </p:nvPr>
        </p:nvSpPr>
        <p:spPr>
          <a:xfrm>
            <a:off x="352440" y="1428480"/>
            <a:ext cx="4362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se hierárquic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rovedores de backbones nationais/internacionais (NBPs) – </a:t>
            </a: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“tier-1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x. Embratel, Banco Rural, Global O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interconecta (</a:t>
            </a: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peer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) com cada um dos outros de forma privada, ou em pontos de troca de tráfego (PTTs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ISPs regionais – </a:t>
            </a: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“tier-2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nectam a NB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ISP local – </a:t>
            </a: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“tier-3”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, empres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necta a um ISP region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9" name=""/>
          <p:cNvSpPr/>
          <p:nvPr/>
        </p:nvSpPr>
        <p:spPr>
          <a:xfrm>
            <a:off x="4924440" y="4191120"/>
            <a:ext cx="384804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BP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4981680" y="2962440"/>
            <a:ext cx="3848040" cy="790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BP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1" name=""/>
          <p:cNvGrpSpPr/>
          <p:nvPr/>
        </p:nvGrpSpPr>
        <p:grpSpPr>
          <a:xfrm>
            <a:off x="4790880" y="3751200"/>
            <a:ext cx="800280" cy="459720"/>
            <a:chOff x="4790880" y="3751200"/>
            <a:chExt cx="800280" cy="459720"/>
          </a:xfrm>
        </p:grpSpPr>
        <p:sp>
          <p:nvSpPr>
            <p:cNvPr id="2592" name=""/>
            <p:cNvSpPr/>
            <p:nvPr/>
          </p:nvSpPr>
          <p:spPr>
            <a:xfrm>
              <a:off x="4790880" y="3781080"/>
              <a:ext cx="800280" cy="39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4812120" y="3751200"/>
              <a:ext cx="70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PT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4" name=""/>
          <p:cNvGrpSpPr/>
          <p:nvPr/>
        </p:nvGrpSpPr>
        <p:grpSpPr>
          <a:xfrm>
            <a:off x="8086320" y="3760920"/>
            <a:ext cx="800280" cy="459720"/>
            <a:chOff x="8086320" y="3760920"/>
            <a:chExt cx="800280" cy="459720"/>
          </a:xfrm>
        </p:grpSpPr>
        <p:sp>
          <p:nvSpPr>
            <p:cNvPr id="2595" name=""/>
            <p:cNvSpPr/>
            <p:nvPr/>
          </p:nvSpPr>
          <p:spPr>
            <a:xfrm>
              <a:off x="8086320" y="3790800"/>
              <a:ext cx="800280" cy="39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8107560" y="3760920"/>
              <a:ext cx="70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PT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7" name=""/>
          <p:cNvSpPr/>
          <p:nvPr/>
        </p:nvSpPr>
        <p:spPr>
          <a:xfrm>
            <a:off x="6753240" y="3848040"/>
            <a:ext cx="181080" cy="190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 flipV="1">
            <a:off x="5240160" y="3524400"/>
            <a:ext cx="398520" cy="2570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 flipH="1" flipV="1">
            <a:off x="8211600" y="3590640"/>
            <a:ext cx="343080" cy="199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 flipH="1" flipV="1">
            <a:off x="6810120" y="3647880"/>
            <a:ext cx="2988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5229360" y="4152960"/>
            <a:ext cx="392040" cy="3333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 flipH="1">
            <a:off x="8478720" y="4181400"/>
            <a:ext cx="247680" cy="19044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6829560" y="4057560"/>
            <a:ext cx="0" cy="2667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6772320" y="2600280"/>
            <a:ext cx="1954080" cy="59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7010280" y="2952720"/>
            <a:ext cx="135000" cy="142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7123680" y="2717640"/>
            <a:ext cx="15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SP region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5087880" y="4695840"/>
            <a:ext cx="1951200" cy="590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6296040" y="4724280"/>
            <a:ext cx="13320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5266080" y="4813200"/>
            <a:ext cx="15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SP region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0" name=""/>
          <p:cNvGrpSpPr/>
          <p:nvPr/>
        </p:nvGrpSpPr>
        <p:grpSpPr>
          <a:xfrm>
            <a:off x="7419960" y="2066760"/>
            <a:ext cx="1058400" cy="695160"/>
            <a:chOff x="7419960" y="2066760"/>
            <a:chExt cx="1058400" cy="695160"/>
          </a:xfrm>
        </p:grpSpPr>
        <p:sp>
          <p:nvSpPr>
            <p:cNvPr id="2611" name=""/>
            <p:cNvSpPr/>
            <p:nvPr/>
          </p:nvSpPr>
          <p:spPr>
            <a:xfrm>
              <a:off x="7419960" y="2066760"/>
              <a:ext cx="105840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7526880" y="2098440"/>
              <a:ext cx="67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3" name=""/>
          <p:cNvGrpSpPr/>
          <p:nvPr/>
        </p:nvGrpSpPr>
        <p:grpSpPr>
          <a:xfrm>
            <a:off x="5430960" y="5133960"/>
            <a:ext cx="1055520" cy="695160"/>
            <a:chOff x="5430960" y="5133960"/>
            <a:chExt cx="1055520" cy="695160"/>
          </a:xfrm>
        </p:grpSpPr>
        <p:sp>
          <p:nvSpPr>
            <p:cNvPr id="2614" name=""/>
            <p:cNvSpPr/>
            <p:nvPr/>
          </p:nvSpPr>
          <p:spPr>
            <a:xfrm>
              <a:off x="5430960" y="5133960"/>
              <a:ext cx="105552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5534640" y="5165640"/>
              <a:ext cx="67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SP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6" name=""/>
          <p:cNvSpPr/>
          <p:nvPr/>
        </p:nvSpPr>
        <p:spPr>
          <a:xfrm>
            <a:off x="6124680" y="5181480"/>
            <a:ext cx="10620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8010360" y="2610000"/>
            <a:ext cx="10656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681B-ACAB-4B36-B610-12441FD8630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PlaceHolder 1"/>
          <p:cNvSpPr>
            <a:spLocks noGrp="1"/>
          </p:cNvSpPr>
          <p:nvPr>
            <p:ph/>
          </p:nvPr>
        </p:nvSpPr>
        <p:spPr>
          <a:xfrm>
            <a:off x="352440" y="142884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m pacote passa através de diversas rede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9" name=""/>
          <p:cNvSpPr/>
          <p:nvPr/>
        </p:nvSpPr>
        <p:spPr>
          <a:xfrm>
            <a:off x="2432160" y="4883040"/>
            <a:ext cx="1863720" cy="790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ier 1 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3530520" y="3679920"/>
            <a:ext cx="1863720" cy="790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ier 1 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4800600" y="4844880"/>
            <a:ext cx="1863720" cy="790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ier 1 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5121360" y="4851360"/>
            <a:ext cx="13320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4670280" y="4381560"/>
            <a:ext cx="13356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4206960" y="4406760"/>
            <a:ext cx="13320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3736800" y="4863960"/>
            <a:ext cx="13356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4232160" y="5181480"/>
            <a:ext cx="13356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4746600" y="5168880"/>
            <a:ext cx="13320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 flipV="1">
            <a:off x="4368960" y="5238720"/>
            <a:ext cx="38088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4778280" y="4495680"/>
            <a:ext cx="368280" cy="368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 flipV="1">
            <a:off x="3835440" y="4527360"/>
            <a:ext cx="395280" cy="35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1" name=""/>
          <p:cNvGrpSpPr/>
          <p:nvPr/>
        </p:nvGrpSpPr>
        <p:grpSpPr>
          <a:xfrm>
            <a:off x="5677200" y="4178160"/>
            <a:ext cx="712080" cy="398880"/>
            <a:chOff x="5677200" y="4178160"/>
            <a:chExt cx="712080" cy="398880"/>
          </a:xfrm>
        </p:grpSpPr>
        <p:sp>
          <p:nvSpPr>
            <p:cNvPr id="2632" name=""/>
            <p:cNvSpPr/>
            <p:nvPr/>
          </p:nvSpPr>
          <p:spPr>
            <a:xfrm>
              <a:off x="5694480" y="4184280"/>
              <a:ext cx="694800" cy="314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5677200" y="4178160"/>
              <a:ext cx="691200" cy="3988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N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4" name=""/>
          <p:cNvSpPr/>
          <p:nvPr/>
        </p:nvSpPr>
        <p:spPr>
          <a:xfrm flipH="1">
            <a:off x="5222520" y="4444920"/>
            <a:ext cx="501480" cy="42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 flipH="1">
            <a:off x="4791240" y="4362480"/>
            <a:ext cx="90144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 flipH="1">
            <a:off x="3876840" y="4419720"/>
            <a:ext cx="1815840" cy="48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7" name=""/>
          <p:cNvGrpSpPr/>
          <p:nvPr/>
        </p:nvGrpSpPr>
        <p:grpSpPr>
          <a:xfrm>
            <a:off x="1946160" y="3286080"/>
            <a:ext cx="6220800" cy="2838240"/>
            <a:chOff x="1946160" y="3286080"/>
            <a:chExt cx="6220800" cy="2838240"/>
          </a:xfrm>
        </p:grpSpPr>
        <p:grpSp>
          <p:nvGrpSpPr>
            <p:cNvPr id="2638" name=""/>
            <p:cNvGrpSpPr/>
            <p:nvPr/>
          </p:nvGrpSpPr>
          <p:grpSpPr>
            <a:xfrm>
              <a:off x="4829400" y="3336840"/>
              <a:ext cx="1673280" cy="590760"/>
              <a:chOff x="4829400" y="3336840"/>
              <a:chExt cx="1673280" cy="590760"/>
            </a:xfrm>
          </p:grpSpPr>
          <p:sp>
            <p:nvSpPr>
              <p:cNvPr id="2639" name=""/>
              <p:cNvSpPr/>
              <p:nvPr/>
            </p:nvSpPr>
            <p:spPr>
              <a:xfrm>
                <a:off x="4829400" y="3336840"/>
                <a:ext cx="1673280" cy="590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5126400" y="3454560"/>
                <a:ext cx="119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Comic Sans MS"/>
                  </a:rPr>
                  <a:t>Tier-2 IS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5055120" y="3714840"/>
                <a:ext cx="133200" cy="14292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2" name=""/>
            <p:cNvGrpSpPr/>
            <p:nvPr/>
          </p:nvGrpSpPr>
          <p:grpSpPr>
            <a:xfrm>
              <a:off x="2556000" y="3286080"/>
              <a:ext cx="1673280" cy="590760"/>
              <a:chOff x="2556000" y="3286080"/>
              <a:chExt cx="1673280" cy="590760"/>
            </a:xfrm>
          </p:grpSpPr>
          <p:sp>
            <p:nvSpPr>
              <p:cNvPr id="2643" name=""/>
              <p:cNvSpPr/>
              <p:nvPr/>
            </p:nvSpPr>
            <p:spPr>
              <a:xfrm>
                <a:off x="2556000" y="3286080"/>
                <a:ext cx="1673280" cy="590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2852640" y="3403800"/>
                <a:ext cx="119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Comic Sans MS"/>
                  </a:rPr>
                  <a:t>Tier-2 IS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3772080" y="3714840"/>
                <a:ext cx="133200" cy="14292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6" name=""/>
            <p:cNvGrpSpPr/>
            <p:nvPr/>
          </p:nvGrpSpPr>
          <p:grpSpPr>
            <a:xfrm>
              <a:off x="1946160" y="5518080"/>
              <a:ext cx="1673280" cy="593640"/>
              <a:chOff x="1946160" y="5518080"/>
              <a:chExt cx="1673280" cy="593640"/>
            </a:xfrm>
          </p:grpSpPr>
          <p:sp>
            <p:nvSpPr>
              <p:cNvPr id="2647" name=""/>
              <p:cNvSpPr/>
              <p:nvPr/>
            </p:nvSpPr>
            <p:spPr>
              <a:xfrm>
                <a:off x="1946160" y="5520960"/>
                <a:ext cx="1673280" cy="590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2242800" y="5638680"/>
                <a:ext cx="119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Comic Sans MS"/>
                  </a:rPr>
                  <a:t>Tier-2 IS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2679480" y="5518080"/>
                <a:ext cx="133560" cy="14292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0" name=""/>
            <p:cNvGrpSpPr/>
            <p:nvPr/>
          </p:nvGrpSpPr>
          <p:grpSpPr>
            <a:xfrm>
              <a:off x="4245480" y="5533920"/>
              <a:ext cx="1673280" cy="590400"/>
              <a:chOff x="4245480" y="5533920"/>
              <a:chExt cx="1673280" cy="590400"/>
            </a:xfrm>
          </p:grpSpPr>
          <p:sp>
            <p:nvSpPr>
              <p:cNvPr id="2651" name=""/>
              <p:cNvSpPr/>
              <p:nvPr/>
            </p:nvSpPr>
            <p:spPr>
              <a:xfrm>
                <a:off x="4245480" y="5533920"/>
                <a:ext cx="1673280" cy="590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4542480" y="5651280"/>
                <a:ext cx="119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Comic Sans MS"/>
                  </a:rPr>
                  <a:t>Tier-2 IS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5372640" y="5543640"/>
                <a:ext cx="133560" cy="14256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4" name=""/>
            <p:cNvGrpSpPr/>
            <p:nvPr/>
          </p:nvGrpSpPr>
          <p:grpSpPr>
            <a:xfrm>
              <a:off x="6493680" y="5051520"/>
              <a:ext cx="1673280" cy="590400"/>
              <a:chOff x="6493680" y="5051520"/>
              <a:chExt cx="1673280" cy="590400"/>
            </a:xfrm>
          </p:grpSpPr>
          <p:sp>
            <p:nvSpPr>
              <p:cNvPr id="2655" name=""/>
              <p:cNvSpPr/>
              <p:nvPr/>
            </p:nvSpPr>
            <p:spPr>
              <a:xfrm>
                <a:off x="6493680" y="5051520"/>
                <a:ext cx="1673280" cy="590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790320" y="5168880"/>
                <a:ext cx="119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Comic Sans MS"/>
                  </a:rPr>
                  <a:t>Tier-2 IS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6579360" y="5251320"/>
                <a:ext cx="133200" cy="14292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8" name=""/>
            <p:cNvSpPr/>
            <p:nvPr/>
          </p:nvSpPr>
          <p:spPr>
            <a:xfrm>
              <a:off x="2717640" y="3695760"/>
              <a:ext cx="152640" cy="1396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2806560" y="3809880"/>
              <a:ext cx="317520" cy="108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3060720" y="4832280"/>
              <a:ext cx="152280" cy="1396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1" name=""/>
          <p:cNvSpPr/>
          <p:nvPr/>
        </p:nvSpPr>
        <p:spPr>
          <a:xfrm>
            <a:off x="6338880" y="3683160"/>
            <a:ext cx="152280" cy="16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7304040" y="4991040"/>
            <a:ext cx="152280" cy="165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6451560" y="3822840"/>
            <a:ext cx="878040" cy="1155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6008760" y="3797280"/>
            <a:ext cx="152280" cy="165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6084720" y="3949560"/>
            <a:ext cx="0" cy="24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6" name=""/>
          <p:cNvGrpSpPr/>
          <p:nvPr/>
        </p:nvGrpSpPr>
        <p:grpSpPr>
          <a:xfrm>
            <a:off x="5273640" y="2676600"/>
            <a:ext cx="1056960" cy="695160"/>
            <a:chOff x="5273640" y="2676600"/>
            <a:chExt cx="1056960" cy="695160"/>
          </a:xfrm>
        </p:grpSpPr>
        <p:sp>
          <p:nvSpPr>
            <p:cNvPr id="2667" name=""/>
            <p:cNvSpPr/>
            <p:nvPr/>
          </p:nvSpPr>
          <p:spPr>
            <a:xfrm>
              <a:off x="5273640" y="2676600"/>
              <a:ext cx="105696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5378400" y="2708280"/>
              <a:ext cx="67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Comic Sans M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Comic Sans MS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9" name=""/>
          <p:cNvGrpSpPr/>
          <p:nvPr/>
        </p:nvGrpSpPr>
        <p:grpSpPr>
          <a:xfrm>
            <a:off x="4308480" y="2828880"/>
            <a:ext cx="1056960" cy="695160"/>
            <a:chOff x="4308480" y="2828880"/>
            <a:chExt cx="1056960" cy="695160"/>
          </a:xfrm>
        </p:grpSpPr>
        <p:sp>
          <p:nvSpPr>
            <p:cNvPr id="2670" name=""/>
            <p:cNvSpPr/>
            <p:nvPr/>
          </p:nvSpPr>
          <p:spPr>
            <a:xfrm>
              <a:off x="4308480" y="2828880"/>
              <a:ext cx="105696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4413240" y="2860560"/>
              <a:ext cx="67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Comic Sans M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Comic Sans MS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2" name=""/>
          <p:cNvGrpSpPr/>
          <p:nvPr/>
        </p:nvGrpSpPr>
        <p:grpSpPr>
          <a:xfrm>
            <a:off x="6022800" y="2816280"/>
            <a:ext cx="1056960" cy="695160"/>
            <a:chOff x="6022800" y="2816280"/>
            <a:chExt cx="1056960" cy="695160"/>
          </a:xfrm>
        </p:grpSpPr>
        <p:sp>
          <p:nvSpPr>
            <p:cNvPr id="2673" name=""/>
            <p:cNvSpPr/>
            <p:nvPr/>
          </p:nvSpPr>
          <p:spPr>
            <a:xfrm>
              <a:off x="6022800" y="2816280"/>
              <a:ext cx="105696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6127560" y="2847960"/>
              <a:ext cx="67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Comic Sans M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Comic Sans MS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5" name=""/>
          <p:cNvGrpSpPr/>
          <p:nvPr/>
        </p:nvGrpSpPr>
        <p:grpSpPr>
          <a:xfrm>
            <a:off x="1539720" y="5877000"/>
            <a:ext cx="1056960" cy="695160"/>
            <a:chOff x="1539720" y="5877000"/>
            <a:chExt cx="1056960" cy="695160"/>
          </a:xfrm>
        </p:grpSpPr>
        <p:sp>
          <p:nvSpPr>
            <p:cNvPr id="2676" name=""/>
            <p:cNvSpPr/>
            <p:nvPr/>
          </p:nvSpPr>
          <p:spPr>
            <a:xfrm>
              <a:off x="1539720" y="5877000"/>
              <a:ext cx="105696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1644480" y="5908680"/>
              <a:ext cx="67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Comic Sans M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Comic Sans MS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8" name=""/>
          <p:cNvGrpSpPr/>
          <p:nvPr/>
        </p:nvGrpSpPr>
        <p:grpSpPr>
          <a:xfrm>
            <a:off x="1882800" y="2473200"/>
            <a:ext cx="1056960" cy="695160"/>
            <a:chOff x="1882800" y="2473200"/>
            <a:chExt cx="1056960" cy="695160"/>
          </a:xfrm>
        </p:grpSpPr>
        <p:sp>
          <p:nvSpPr>
            <p:cNvPr id="2679" name=""/>
            <p:cNvSpPr/>
            <p:nvPr/>
          </p:nvSpPr>
          <p:spPr>
            <a:xfrm>
              <a:off x="1882800" y="2473200"/>
              <a:ext cx="105696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1987560" y="2504880"/>
              <a:ext cx="67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Comic Sans M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Comic Sans MS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1" name=""/>
          <p:cNvGrpSpPr/>
          <p:nvPr/>
        </p:nvGrpSpPr>
        <p:grpSpPr>
          <a:xfrm>
            <a:off x="2746440" y="2714760"/>
            <a:ext cx="1056960" cy="695160"/>
            <a:chOff x="2746440" y="2714760"/>
            <a:chExt cx="1056960" cy="695160"/>
          </a:xfrm>
        </p:grpSpPr>
        <p:sp>
          <p:nvSpPr>
            <p:cNvPr id="2682" name=""/>
            <p:cNvSpPr/>
            <p:nvPr/>
          </p:nvSpPr>
          <p:spPr>
            <a:xfrm>
              <a:off x="2746440" y="2714760"/>
              <a:ext cx="105696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2800800" y="2746440"/>
              <a:ext cx="78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Comic Sans MS"/>
                </a:rPr>
                <a:t>Tier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Comic Sans MS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4" name=""/>
          <p:cNvGrpSpPr/>
          <p:nvPr/>
        </p:nvGrpSpPr>
        <p:grpSpPr>
          <a:xfrm>
            <a:off x="2898720" y="5940360"/>
            <a:ext cx="1056960" cy="695160"/>
            <a:chOff x="2898720" y="5940360"/>
            <a:chExt cx="1056960" cy="695160"/>
          </a:xfrm>
        </p:grpSpPr>
        <p:sp>
          <p:nvSpPr>
            <p:cNvPr id="2685" name=""/>
            <p:cNvSpPr/>
            <p:nvPr/>
          </p:nvSpPr>
          <p:spPr>
            <a:xfrm>
              <a:off x="2898720" y="5940360"/>
              <a:ext cx="105696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3003480" y="5972040"/>
              <a:ext cx="67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Comic Sans M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Comic Sans MS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7" name=""/>
          <p:cNvGrpSpPr/>
          <p:nvPr/>
        </p:nvGrpSpPr>
        <p:grpSpPr>
          <a:xfrm>
            <a:off x="4600440" y="5940360"/>
            <a:ext cx="1058760" cy="695160"/>
            <a:chOff x="4600440" y="5940360"/>
            <a:chExt cx="1058760" cy="695160"/>
          </a:xfrm>
        </p:grpSpPr>
        <p:sp>
          <p:nvSpPr>
            <p:cNvPr id="2688" name=""/>
            <p:cNvSpPr/>
            <p:nvPr/>
          </p:nvSpPr>
          <p:spPr>
            <a:xfrm>
              <a:off x="4600440" y="5940360"/>
              <a:ext cx="105876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4705560" y="5972040"/>
              <a:ext cx="67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Comic Sans M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Comic Sans MS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0" name=""/>
          <p:cNvGrpSpPr/>
          <p:nvPr/>
        </p:nvGrpSpPr>
        <p:grpSpPr>
          <a:xfrm>
            <a:off x="7305840" y="5483160"/>
            <a:ext cx="1058400" cy="695160"/>
            <a:chOff x="7305840" y="5483160"/>
            <a:chExt cx="1058400" cy="695160"/>
          </a:xfrm>
        </p:grpSpPr>
        <p:sp>
          <p:nvSpPr>
            <p:cNvPr id="2691" name=""/>
            <p:cNvSpPr/>
            <p:nvPr/>
          </p:nvSpPr>
          <p:spPr>
            <a:xfrm>
              <a:off x="7305840" y="5483160"/>
              <a:ext cx="105840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7410960" y="5514840"/>
              <a:ext cx="67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Comic Sans M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Comic Sans MS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93" name="" descr=""/>
          <p:cNvPicPr/>
          <p:nvPr/>
        </p:nvPicPr>
        <p:blipFill>
          <a:blip r:embed="rId1"/>
          <a:stretch/>
        </p:blipFill>
        <p:spPr>
          <a:xfrm>
            <a:off x="1512720" y="2197080"/>
            <a:ext cx="417600" cy="318960"/>
          </a:xfrm>
          <a:prstGeom prst="rect">
            <a:avLst/>
          </a:prstGeom>
          <a:ln w="0">
            <a:noFill/>
          </a:ln>
        </p:spPr>
      </p:pic>
      <p:pic>
        <p:nvPicPr>
          <p:cNvPr id="2694" name="" descr=""/>
          <p:cNvPicPr/>
          <p:nvPr/>
        </p:nvPicPr>
        <p:blipFill>
          <a:blip r:embed="rId2"/>
          <a:stretch/>
        </p:blipFill>
        <p:spPr>
          <a:xfrm>
            <a:off x="8486640" y="6006960"/>
            <a:ext cx="417600" cy="319320"/>
          </a:xfrm>
          <a:prstGeom prst="rect">
            <a:avLst/>
          </a:prstGeom>
          <a:ln w="0">
            <a:noFill/>
          </a:ln>
        </p:spPr>
      </p:pic>
      <p:sp>
        <p:nvSpPr>
          <p:cNvPr id="2695" name=""/>
          <p:cNvSpPr/>
          <p:nvPr/>
        </p:nvSpPr>
        <p:spPr>
          <a:xfrm>
            <a:off x="1879560" y="2476440"/>
            <a:ext cx="6654960" cy="3619440"/>
          </a:xfrm>
          <a:custGeom>
            <a:avLst/>
            <a:gdLst/>
            <a:ahLst/>
            <a:rect l="l" t="t" r="r" b="b"/>
            <a:pathLst>
              <a:path w="4192" h="2280">
                <a:moveTo>
                  <a:pt x="0" y="0"/>
                </a:moveTo>
                <a:lnTo>
                  <a:pt x="568" y="264"/>
                </a:lnTo>
                <a:lnTo>
                  <a:pt x="920" y="592"/>
                </a:lnTo>
                <a:lnTo>
                  <a:pt x="1232" y="840"/>
                </a:lnTo>
                <a:lnTo>
                  <a:pt x="1792" y="1248"/>
                </a:lnTo>
                <a:lnTo>
                  <a:pt x="2096" y="1560"/>
                </a:lnTo>
                <a:lnTo>
                  <a:pt x="3008" y="1800"/>
                </a:lnTo>
                <a:lnTo>
                  <a:pt x="3632" y="1912"/>
                </a:lnTo>
                <a:lnTo>
                  <a:pt x="4040" y="2240"/>
                </a:lnTo>
                <a:lnTo>
                  <a:pt x="4192" y="2280"/>
                </a:lnTo>
              </a:path>
            </a:pathLst>
          </a:custGeom>
          <a:noFill/>
          <a:ln w="572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strutura da Internet: rede de red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9DA5-C09D-4117-AC9C-ECFF550308C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PlaceHolder 1"/>
          <p:cNvSpPr>
            <a:spLocks noGrp="1"/>
          </p:cNvSpPr>
          <p:nvPr>
            <p:ph type="title"/>
          </p:nvPr>
        </p:nvSpPr>
        <p:spPr>
          <a:xfrm>
            <a:off x="47772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Atraso em redes comutadas por pacote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98" name="PlaceHolder 2"/>
          <p:cNvSpPr>
            <a:spLocks noGrp="1"/>
          </p:cNvSpPr>
          <p:nvPr>
            <p:ph/>
          </p:nvPr>
        </p:nvSpPr>
        <p:spPr>
          <a:xfrm>
            <a:off x="523800" y="1371240"/>
            <a:ext cx="381024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s pacotes experimentam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atraso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 caminho fim a fi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quatr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fontes de atraso em cada etap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9" name="PlaceHolder 3"/>
          <p:cNvSpPr>
            <a:spLocks noGrp="1"/>
          </p:cNvSpPr>
          <p:nvPr>
            <p:ph/>
          </p:nvPr>
        </p:nvSpPr>
        <p:spPr>
          <a:xfrm>
            <a:off x="4404960" y="1324080"/>
            <a:ext cx="473868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cessamento no nó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verificação de bits com er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dentif. do enlace de saí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fileir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empo de espera no enlace de saída até a transmiss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pende do nível de congestionamento do rotea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00" name=""/>
          <p:cNvGrpSpPr/>
          <p:nvPr/>
        </p:nvGrpSpPr>
        <p:grpSpPr>
          <a:xfrm>
            <a:off x="646920" y="3965400"/>
            <a:ext cx="6006240" cy="2176200"/>
            <a:chOff x="646920" y="3965400"/>
            <a:chExt cx="6006240" cy="2176200"/>
          </a:xfrm>
        </p:grpSpPr>
        <p:pic>
          <p:nvPicPr>
            <p:cNvPr id="2701" name="" descr=""/>
            <p:cNvPicPr/>
            <p:nvPr/>
          </p:nvPicPr>
          <p:blipFill>
            <a:blip r:embed="rId1"/>
            <a:stretch/>
          </p:blipFill>
          <p:spPr>
            <a:xfrm>
              <a:off x="1298520" y="5155920"/>
              <a:ext cx="64620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2" name=""/>
            <p:cNvSpPr/>
            <p:nvPr/>
          </p:nvSpPr>
          <p:spPr>
            <a:xfrm>
              <a:off x="2340000" y="4914720"/>
              <a:ext cx="1198800" cy="3700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2340000" y="4846320"/>
              <a:ext cx="1198800" cy="263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2349720" y="4617720"/>
              <a:ext cx="1198440" cy="4305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5" name=""/>
            <p:cNvGrpSpPr/>
            <p:nvPr/>
          </p:nvGrpSpPr>
          <p:grpSpPr>
            <a:xfrm>
              <a:off x="2695680" y="4647960"/>
              <a:ext cx="497160" cy="118800"/>
              <a:chOff x="2695680" y="4647960"/>
              <a:chExt cx="497160" cy="118800"/>
            </a:xfrm>
          </p:grpSpPr>
          <p:grpSp>
            <p:nvGrpSpPr>
              <p:cNvPr id="2706" name=""/>
              <p:cNvGrpSpPr/>
              <p:nvPr/>
            </p:nvGrpSpPr>
            <p:grpSpPr>
              <a:xfrm>
                <a:off x="2695680" y="4649400"/>
                <a:ext cx="497160" cy="117360"/>
                <a:chOff x="2695680" y="4649400"/>
                <a:chExt cx="497160" cy="117360"/>
              </a:xfrm>
            </p:grpSpPr>
            <p:sp>
              <p:nvSpPr>
                <p:cNvPr id="2707" name=""/>
                <p:cNvSpPr/>
                <p:nvPr/>
              </p:nvSpPr>
              <p:spPr>
                <a:xfrm flipV="1">
                  <a:off x="2695680" y="4649400"/>
                  <a:ext cx="17748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>
                  <a:off x="3036600" y="476676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9" name=""/>
                <p:cNvSpPr/>
                <p:nvPr/>
              </p:nvSpPr>
              <p:spPr>
                <a:xfrm>
                  <a:off x="2859120" y="4651560"/>
                  <a:ext cx="18468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0" name=""/>
              <p:cNvGrpSpPr/>
              <p:nvPr/>
            </p:nvGrpSpPr>
            <p:grpSpPr>
              <a:xfrm>
                <a:off x="2695680" y="4647960"/>
                <a:ext cx="497160" cy="117360"/>
                <a:chOff x="2695680" y="4647960"/>
                <a:chExt cx="497160" cy="117360"/>
              </a:xfrm>
            </p:grpSpPr>
            <p:sp>
              <p:nvSpPr>
                <p:cNvPr id="2711" name=""/>
                <p:cNvSpPr/>
                <p:nvPr/>
              </p:nvSpPr>
              <p:spPr>
                <a:xfrm>
                  <a:off x="2695680" y="4763160"/>
                  <a:ext cx="17748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2" name=""/>
                <p:cNvSpPr/>
                <p:nvPr/>
              </p:nvSpPr>
              <p:spPr>
                <a:xfrm>
                  <a:off x="3036600" y="464796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3" name=""/>
                <p:cNvSpPr/>
                <p:nvPr/>
              </p:nvSpPr>
              <p:spPr>
                <a:xfrm flipV="1">
                  <a:off x="2859120" y="4648320"/>
                  <a:ext cx="18468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14" name=""/>
            <p:cNvSpPr/>
            <p:nvPr/>
          </p:nvSpPr>
          <p:spPr>
            <a:xfrm>
              <a:off x="5435640" y="4933800"/>
              <a:ext cx="1198800" cy="369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5445360" y="49132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5445360" y="4875120"/>
              <a:ext cx="1198440" cy="263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5454720" y="4646520"/>
              <a:ext cx="1198440" cy="4302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18" name="" descr=""/>
            <p:cNvPicPr/>
            <p:nvPr/>
          </p:nvPicPr>
          <p:blipFill>
            <a:blip r:embed="rId2"/>
            <a:stretch/>
          </p:blipFill>
          <p:spPr>
            <a:xfrm>
              <a:off x="984240" y="4146480"/>
              <a:ext cx="64620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9" name=""/>
            <p:cNvSpPr/>
            <p:nvPr/>
          </p:nvSpPr>
          <p:spPr>
            <a:xfrm>
              <a:off x="1609920" y="4552920"/>
              <a:ext cx="50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 flipV="1">
              <a:off x="1914480" y="5538240"/>
              <a:ext cx="19548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3533760" y="4971960"/>
              <a:ext cx="19335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2114640" y="4543200"/>
              <a:ext cx="0" cy="1000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2124360" y="4976640"/>
              <a:ext cx="199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4453200" y="4771800"/>
              <a:ext cx="147600" cy="200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3200400" y="484344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3362400" y="4843440"/>
              <a:ext cx="147600" cy="1998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2148120" y="474336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2324160" y="4848120"/>
              <a:ext cx="2430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 flipV="1">
              <a:off x="1990800" y="5124240"/>
              <a:ext cx="0" cy="1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5224680" y="4572000"/>
              <a:ext cx="36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646920" y="417024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907200" y="518940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3490920" y="478152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3831480" y="438444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propag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 flipH="1">
              <a:off x="3633480" y="4572000"/>
              <a:ext cx="3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1962000" y="3965400"/>
              <a:ext cx="149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transmiss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3056760" y="4237920"/>
              <a:ext cx="5288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1838520" y="5499000"/>
              <a:ext cx="1846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processam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no n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 flipH="1">
              <a:off x="2366640" y="5543280"/>
              <a:ext cx="83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 flipH="1">
              <a:off x="3176640" y="5305320"/>
              <a:ext cx="38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3570120" y="5756040"/>
              <a:ext cx="176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enfileiram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 flipH="1" flipV="1">
              <a:off x="3338640" y="5305320"/>
              <a:ext cx="595440" cy="55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3" name=""/>
            <p:cNvGrpSpPr/>
            <p:nvPr/>
          </p:nvGrpSpPr>
          <p:grpSpPr>
            <a:xfrm>
              <a:off x="5781960" y="4705200"/>
              <a:ext cx="497160" cy="118800"/>
              <a:chOff x="5781960" y="4705200"/>
              <a:chExt cx="497160" cy="118800"/>
            </a:xfrm>
          </p:grpSpPr>
          <p:grpSp>
            <p:nvGrpSpPr>
              <p:cNvPr id="2744" name=""/>
              <p:cNvGrpSpPr/>
              <p:nvPr/>
            </p:nvGrpSpPr>
            <p:grpSpPr>
              <a:xfrm>
                <a:off x="5781960" y="4706640"/>
                <a:ext cx="497160" cy="117360"/>
                <a:chOff x="5781960" y="4706640"/>
                <a:chExt cx="497160" cy="117360"/>
              </a:xfrm>
            </p:grpSpPr>
            <p:sp>
              <p:nvSpPr>
                <p:cNvPr id="2745" name=""/>
                <p:cNvSpPr/>
                <p:nvPr/>
              </p:nvSpPr>
              <p:spPr>
                <a:xfrm flipV="1">
                  <a:off x="5781960" y="4706640"/>
                  <a:ext cx="1771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6" name=""/>
                <p:cNvSpPr/>
                <p:nvPr/>
              </p:nvSpPr>
              <p:spPr>
                <a:xfrm>
                  <a:off x="6122880" y="482400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7" name=""/>
                <p:cNvSpPr/>
                <p:nvPr/>
              </p:nvSpPr>
              <p:spPr>
                <a:xfrm>
                  <a:off x="5945400" y="4708800"/>
                  <a:ext cx="18432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8" name=""/>
              <p:cNvGrpSpPr/>
              <p:nvPr/>
            </p:nvGrpSpPr>
            <p:grpSpPr>
              <a:xfrm>
                <a:off x="5781960" y="4705200"/>
                <a:ext cx="497160" cy="117360"/>
                <a:chOff x="5781960" y="4705200"/>
                <a:chExt cx="497160" cy="117360"/>
              </a:xfrm>
            </p:grpSpPr>
            <p:sp>
              <p:nvSpPr>
                <p:cNvPr id="2749" name=""/>
                <p:cNvSpPr/>
                <p:nvPr/>
              </p:nvSpPr>
              <p:spPr>
                <a:xfrm>
                  <a:off x="5781960" y="4820400"/>
                  <a:ext cx="1771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0" name=""/>
                <p:cNvSpPr/>
                <p:nvPr/>
              </p:nvSpPr>
              <p:spPr>
                <a:xfrm>
                  <a:off x="6122880" y="470520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 flipV="1">
                  <a:off x="5945400" y="4705560"/>
                  <a:ext cx="18432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7B68-D616-4473-B61B-AAC6794BE5B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522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nalogia com uma Caravana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/>
          </p:nvPr>
        </p:nvSpPr>
        <p:spPr>
          <a:xfrm>
            <a:off x="279360" y="2679840"/>
            <a:ext cx="4216320" cy="33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s carros se “propagam” a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 km/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 pedágio leva 12 seg para atender um carro (tempo de transmissã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arro~bit; caravana ~ paco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: Quanto tempo leva até que a caravana esteja enfileirada antes do segundo pedágio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4" name="PlaceHolder 3"/>
          <p:cNvSpPr>
            <a:spLocks noGrp="1"/>
          </p:cNvSpPr>
          <p:nvPr>
            <p:ph/>
          </p:nvPr>
        </p:nvSpPr>
        <p:spPr>
          <a:xfrm>
            <a:off x="4739760" y="2631600"/>
            <a:ext cx="416412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mpo para “atravessar” toda a caravana através do pedágio para a estrada = 12*10 = 120 se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mpo para que o último carro se propaga do primeiro para o segundo pedágio: 100km/(100km/h)= 1 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: 62 minut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55" name=""/>
          <p:cNvGrpSpPr/>
          <p:nvPr/>
        </p:nvGrpSpPr>
        <p:grpSpPr>
          <a:xfrm>
            <a:off x="5443920" y="1239840"/>
            <a:ext cx="1157760" cy="1089720"/>
            <a:chOff x="5443920" y="1239840"/>
            <a:chExt cx="1157760" cy="1089720"/>
          </a:xfrm>
        </p:grpSpPr>
        <p:sp>
          <p:nvSpPr>
            <p:cNvPr id="2756" name=""/>
            <p:cNvSpPr/>
            <p:nvPr/>
          </p:nvSpPr>
          <p:spPr>
            <a:xfrm>
              <a:off x="5946480" y="1239840"/>
              <a:ext cx="74880" cy="67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5443920" y="1930680"/>
              <a:ext cx="115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edág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8" name=""/>
          <p:cNvGrpSpPr/>
          <p:nvPr/>
        </p:nvGrpSpPr>
        <p:grpSpPr>
          <a:xfrm>
            <a:off x="2591280" y="1239840"/>
            <a:ext cx="1157760" cy="1089720"/>
            <a:chOff x="2591280" y="1239840"/>
            <a:chExt cx="1157760" cy="1089720"/>
          </a:xfrm>
        </p:grpSpPr>
        <p:sp>
          <p:nvSpPr>
            <p:cNvPr id="2759" name=""/>
            <p:cNvSpPr/>
            <p:nvPr/>
          </p:nvSpPr>
          <p:spPr>
            <a:xfrm>
              <a:off x="3093840" y="1239840"/>
              <a:ext cx="74880" cy="67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2591280" y="1930680"/>
              <a:ext cx="115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edág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1" name=""/>
          <p:cNvGrpSpPr/>
          <p:nvPr/>
        </p:nvGrpSpPr>
        <p:grpSpPr>
          <a:xfrm>
            <a:off x="279360" y="1501920"/>
            <a:ext cx="293760" cy="244440"/>
            <a:chOff x="279360" y="1501920"/>
            <a:chExt cx="293760" cy="244440"/>
          </a:xfrm>
        </p:grpSpPr>
        <p:sp>
          <p:nvSpPr>
            <p:cNvPr id="2762" name=""/>
            <p:cNvSpPr/>
            <p:nvPr/>
          </p:nvSpPr>
          <p:spPr>
            <a:xfrm>
              <a:off x="279360" y="1623960"/>
              <a:ext cx="293760" cy="122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279360" y="1501920"/>
              <a:ext cx="122400" cy="122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4" name=""/>
          <p:cNvGrpSpPr/>
          <p:nvPr/>
        </p:nvGrpSpPr>
        <p:grpSpPr>
          <a:xfrm>
            <a:off x="1836720" y="1501920"/>
            <a:ext cx="293760" cy="244440"/>
            <a:chOff x="1836720" y="1501920"/>
            <a:chExt cx="293760" cy="244440"/>
          </a:xfrm>
        </p:grpSpPr>
        <p:sp>
          <p:nvSpPr>
            <p:cNvPr id="2765" name=""/>
            <p:cNvSpPr/>
            <p:nvPr/>
          </p:nvSpPr>
          <p:spPr>
            <a:xfrm>
              <a:off x="1836720" y="1623960"/>
              <a:ext cx="293760" cy="122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1836720" y="1501920"/>
              <a:ext cx="122400" cy="122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7" name=""/>
          <p:cNvGrpSpPr/>
          <p:nvPr/>
        </p:nvGrpSpPr>
        <p:grpSpPr>
          <a:xfrm>
            <a:off x="2293920" y="1501920"/>
            <a:ext cx="293760" cy="244440"/>
            <a:chOff x="2293920" y="1501920"/>
            <a:chExt cx="293760" cy="244440"/>
          </a:xfrm>
        </p:grpSpPr>
        <p:sp>
          <p:nvSpPr>
            <p:cNvPr id="2768" name=""/>
            <p:cNvSpPr/>
            <p:nvPr/>
          </p:nvSpPr>
          <p:spPr>
            <a:xfrm>
              <a:off x="2293920" y="1623960"/>
              <a:ext cx="293760" cy="122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2293920" y="1501920"/>
              <a:ext cx="122400" cy="122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0" name=""/>
          <p:cNvGrpSpPr/>
          <p:nvPr/>
        </p:nvGrpSpPr>
        <p:grpSpPr>
          <a:xfrm>
            <a:off x="2735280" y="1501920"/>
            <a:ext cx="294840" cy="244440"/>
            <a:chOff x="2735280" y="1501920"/>
            <a:chExt cx="294840" cy="244440"/>
          </a:xfrm>
        </p:grpSpPr>
        <p:sp>
          <p:nvSpPr>
            <p:cNvPr id="2771" name=""/>
            <p:cNvSpPr/>
            <p:nvPr/>
          </p:nvSpPr>
          <p:spPr>
            <a:xfrm>
              <a:off x="2735280" y="1623960"/>
              <a:ext cx="294840" cy="122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2735280" y="1501920"/>
              <a:ext cx="122760" cy="122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3" name=""/>
          <p:cNvGrpSpPr/>
          <p:nvPr/>
        </p:nvGrpSpPr>
        <p:grpSpPr>
          <a:xfrm>
            <a:off x="730080" y="1501920"/>
            <a:ext cx="293760" cy="244440"/>
            <a:chOff x="730080" y="1501920"/>
            <a:chExt cx="293760" cy="244440"/>
          </a:xfrm>
        </p:grpSpPr>
        <p:sp>
          <p:nvSpPr>
            <p:cNvPr id="2774" name=""/>
            <p:cNvSpPr/>
            <p:nvPr/>
          </p:nvSpPr>
          <p:spPr>
            <a:xfrm>
              <a:off x="730080" y="1623960"/>
              <a:ext cx="293760" cy="122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730080" y="1501920"/>
              <a:ext cx="122400" cy="122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6" name=""/>
          <p:cNvSpPr/>
          <p:nvPr/>
        </p:nvSpPr>
        <p:spPr>
          <a:xfrm>
            <a:off x="1173240" y="1549440"/>
            <a:ext cx="7452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1325520" y="1549440"/>
            <a:ext cx="7452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1549440" y="1549440"/>
            <a:ext cx="7452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 rot="16200000">
            <a:off x="1606680" y="487440"/>
            <a:ext cx="79200" cy="2768400"/>
          </a:xfrm>
          <a:custGeom>
            <a:avLst/>
            <a:gdLst>
              <a:gd name="textAreaLeft" fmla="*/ 50760 w 79200"/>
              <a:gd name="textAreaRight" fmla="*/ 79560 w 79200"/>
              <a:gd name="textAreaTop" fmla="*/ 72000 h 2768400"/>
              <a:gd name="textAreaBottom" fmla="*/ 2696400 h 276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791280" y="1819440"/>
            <a:ext cx="178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rav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dez car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 flipH="1">
            <a:off x="3168720" y="1549440"/>
            <a:ext cx="82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5072040" y="154944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3992400" y="1349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 flipH="1">
            <a:off x="6021000" y="154944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6948360" y="1349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8028000" y="1549440"/>
            <a:ext cx="27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D7B6-8B6B-4061-827B-9823324B8F0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522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nalogia com uma caravana (mais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/>
          </p:nvPr>
        </p:nvSpPr>
        <p:spPr>
          <a:xfrm>
            <a:off x="401400" y="2930040"/>
            <a:ext cx="3941640" cy="33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s carros agora se “propagam” a 1000 km/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s pedágios agora levam em torno de 1 min para atender um car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: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Os carros chegarão ao segundo pedágio antes que todos os carros tenham sido atendidos no primeiro pedágio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9" name="PlaceHolder 3"/>
          <p:cNvSpPr>
            <a:spLocks noGrp="1"/>
          </p:cNvSpPr>
          <p:nvPr>
            <p:ph/>
          </p:nvPr>
        </p:nvSpPr>
        <p:spPr>
          <a:xfrm>
            <a:off x="4495680" y="2631600"/>
            <a:ext cx="4368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im!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pós 7 min, o 1o. Carro chega ao 2o. Pedágio e ainda há 3 carros no 1o. pedági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O 1o. bit do pacote pode chegar ao 2o. Roteador antes que o pacote tenha sido totalmente transmitido no 1o. roteador!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Veja o applet Ethernet no site da AW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90" name=""/>
          <p:cNvGrpSpPr/>
          <p:nvPr/>
        </p:nvGrpSpPr>
        <p:grpSpPr>
          <a:xfrm>
            <a:off x="5443920" y="1239840"/>
            <a:ext cx="1157760" cy="1089720"/>
            <a:chOff x="5443920" y="1239840"/>
            <a:chExt cx="1157760" cy="1089720"/>
          </a:xfrm>
        </p:grpSpPr>
        <p:sp>
          <p:nvSpPr>
            <p:cNvPr id="2791" name=""/>
            <p:cNvSpPr/>
            <p:nvPr/>
          </p:nvSpPr>
          <p:spPr>
            <a:xfrm>
              <a:off x="5946480" y="1239840"/>
              <a:ext cx="74880" cy="67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5443920" y="1930680"/>
              <a:ext cx="115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edág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3" name=""/>
          <p:cNvGrpSpPr/>
          <p:nvPr/>
        </p:nvGrpSpPr>
        <p:grpSpPr>
          <a:xfrm>
            <a:off x="2591280" y="1239840"/>
            <a:ext cx="1157760" cy="1089720"/>
            <a:chOff x="2591280" y="1239840"/>
            <a:chExt cx="1157760" cy="1089720"/>
          </a:xfrm>
        </p:grpSpPr>
        <p:sp>
          <p:nvSpPr>
            <p:cNvPr id="2794" name=""/>
            <p:cNvSpPr/>
            <p:nvPr/>
          </p:nvSpPr>
          <p:spPr>
            <a:xfrm>
              <a:off x="3093840" y="1239840"/>
              <a:ext cx="74880" cy="67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2591280" y="1930680"/>
              <a:ext cx="115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edág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6" name=""/>
          <p:cNvGrpSpPr/>
          <p:nvPr/>
        </p:nvGrpSpPr>
        <p:grpSpPr>
          <a:xfrm>
            <a:off x="279360" y="1501920"/>
            <a:ext cx="293760" cy="244440"/>
            <a:chOff x="279360" y="1501920"/>
            <a:chExt cx="293760" cy="244440"/>
          </a:xfrm>
        </p:grpSpPr>
        <p:sp>
          <p:nvSpPr>
            <p:cNvPr id="2797" name=""/>
            <p:cNvSpPr/>
            <p:nvPr/>
          </p:nvSpPr>
          <p:spPr>
            <a:xfrm>
              <a:off x="279360" y="1623960"/>
              <a:ext cx="293760" cy="122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279360" y="1501920"/>
              <a:ext cx="122400" cy="122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9" name=""/>
          <p:cNvGrpSpPr/>
          <p:nvPr/>
        </p:nvGrpSpPr>
        <p:grpSpPr>
          <a:xfrm>
            <a:off x="1836720" y="1501920"/>
            <a:ext cx="293760" cy="244440"/>
            <a:chOff x="1836720" y="1501920"/>
            <a:chExt cx="293760" cy="244440"/>
          </a:xfrm>
        </p:grpSpPr>
        <p:sp>
          <p:nvSpPr>
            <p:cNvPr id="2800" name=""/>
            <p:cNvSpPr/>
            <p:nvPr/>
          </p:nvSpPr>
          <p:spPr>
            <a:xfrm>
              <a:off x="1836720" y="1623960"/>
              <a:ext cx="293760" cy="122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1836720" y="1501920"/>
              <a:ext cx="122400" cy="122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2" name=""/>
          <p:cNvGrpSpPr/>
          <p:nvPr/>
        </p:nvGrpSpPr>
        <p:grpSpPr>
          <a:xfrm>
            <a:off x="2293920" y="1501920"/>
            <a:ext cx="293760" cy="244440"/>
            <a:chOff x="2293920" y="1501920"/>
            <a:chExt cx="293760" cy="244440"/>
          </a:xfrm>
        </p:grpSpPr>
        <p:sp>
          <p:nvSpPr>
            <p:cNvPr id="2803" name=""/>
            <p:cNvSpPr/>
            <p:nvPr/>
          </p:nvSpPr>
          <p:spPr>
            <a:xfrm>
              <a:off x="2293920" y="1623960"/>
              <a:ext cx="293760" cy="122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2293920" y="1501920"/>
              <a:ext cx="122400" cy="122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5" name=""/>
          <p:cNvGrpSpPr/>
          <p:nvPr/>
        </p:nvGrpSpPr>
        <p:grpSpPr>
          <a:xfrm>
            <a:off x="2735280" y="1501920"/>
            <a:ext cx="294840" cy="244440"/>
            <a:chOff x="2735280" y="1501920"/>
            <a:chExt cx="294840" cy="244440"/>
          </a:xfrm>
        </p:grpSpPr>
        <p:sp>
          <p:nvSpPr>
            <p:cNvPr id="2806" name=""/>
            <p:cNvSpPr/>
            <p:nvPr/>
          </p:nvSpPr>
          <p:spPr>
            <a:xfrm>
              <a:off x="2735280" y="1623960"/>
              <a:ext cx="294840" cy="122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2735280" y="1501920"/>
              <a:ext cx="122760" cy="122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8" name=""/>
          <p:cNvGrpSpPr/>
          <p:nvPr/>
        </p:nvGrpSpPr>
        <p:grpSpPr>
          <a:xfrm>
            <a:off x="730080" y="1501920"/>
            <a:ext cx="293760" cy="244440"/>
            <a:chOff x="730080" y="1501920"/>
            <a:chExt cx="293760" cy="244440"/>
          </a:xfrm>
        </p:grpSpPr>
        <p:sp>
          <p:nvSpPr>
            <p:cNvPr id="2809" name=""/>
            <p:cNvSpPr/>
            <p:nvPr/>
          </p:nvSpPr>
          <p:spPr>
            <a:xfrm>
              <a:off x="730080" y="1623960"/>
              <a:ext cx="293760" cy="122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730080" y="1501920"/>
              <a:ext cx="122400" cy="122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1" name=""/>
          <p:cNvSpPr/>
          <p:nvPr/>
        </p:nvSpPr>
        <p:spPr>
          <a:xfrm>
            <a:off x="1173240" y="1549440"/>
            <a:ext cx="7452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1325520" y="1549440"/>
            <a:ext cx="7452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1549440" y="1549440"/>
            <a:ext cx="7452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 rot="16200000">
            <a:off x="1606680" y="487440"/>
            <a:ext cx="79200" cy="2768400"/>
          </a:xfrm>
          <a:custGeom>
            <a:avLst/>
            <a:gdLst>
              <a:gd name="textAreaLeft" fmla="*/ 50760 w 79200"/>
              <a:gd name="textAreaRight" fmla="*/ 79560 w 79200"/>
              <a:gd name="textAreaTop" fmla="*/ 72000 h 2768400"/>
              <a:gd name="textAreaBottom" fmla="*/ 2696400 h 276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791280" y="1819440"/>
            <a:ext cx="178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rav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dez car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 flipH="1">
            <a:off x="3168720" y="1549440"/>
            <a:ext cx="82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5072040" y="154944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3992400" y="1349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 flipH="1">
            <a:off x="6021000" y="154944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6948360" y="1349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8028000" y="1549440"/>
            <a:ext cx="27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77D7-83C9-4832-AA52-0100E54F31D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traso no nó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23" name="PlaceHolder 2"/>
          <p:cNvSpPr>
            <a:spLocks noGrp="1"/>
          </p:cNvSpPr>
          <p:nvPr>
            <p:ph/>
          </p:nvPr>
        </p:nvSpPr>
        <p:spPr>
          <a:xfrm>
            <a:off x="533520" y="2547720"/>
            <a:ext cx="7772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atraso de process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picamente de poucos microsegs ou men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que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atraso de enfileir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pende do congestion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tra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atraso de transmiss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L/R, significativo para canais de baixa velocidade f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pro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atraso de propag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ucos microsegs a centenas de mse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4" name=""/>
              <p:cNvSpPr txBox="1"/>
              <p:nvPr/>
            </p:nvSpPr>
            <p:spPr>
              <a:xfrm>
                <a:off x="2089080" y="1371600"/>
                <a:ext cx="49100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ó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ro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fi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an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ro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7862-548E-4AA8-9C1B-64E5884BBF8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Atrasos e rotas “reais”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26" name=""/>
          <p:cNvSpPr/>
          <p:nvPr/>
        </p:nvSpPr>
        <p:spPr>
          <a:xfrm>
            <a:off x="733320" y="2522520"/>
            <a:ext cx="8229600" cy="38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 cs-gw (128.119.240.254)  1 ms  1 ms  2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 border1-rt-fa5-1-0.gw.umass.edu (128.119.3.145)  1 ms  1 ms  2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 cht-vbns.gw.umass.edu (128.119.3.130)  6 ms 5 ms 5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 jn1-at1-0-0-19.wor.vbns.net (204.147.132.129)  16 ms 11 ms 13 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  jn1-so7-0-0-0.wae.vbns.net (204.147.136.136)  21 ms 18 ms 18 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 abilene-vbns.abilene.ucaid.edu (198.32.11.9)  22 ms  18 ms  22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 nycm-wash.abilene.ucaid.edu (198.32.8.46)  22 ms  22 ms  22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  62.40.103.253 (62.40.103.253)  104 ms 109 ms 106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  de2-1.de1.de.geant.net (62.40.96.129)  109 ms 102 ms 104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  de.fr1.fr.geant.net (62.40.96.50)  113 ms 121 ms 114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  renater-gw.fr1.fr.geant.net (62.40.103.54)  112 ms  114 ms  112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  nio-n2.cssi.renater.fr (193.51.206.13)  111 ms  114 ms  116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  nice.cssi.renater.fr (195.220.98.102)  123 ms  125 ms  124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  r3t2-nice.cssi.renater.fr (195.220.98.110)  126 ms  126 ms  124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  eurecom-valbonne.r3t2.ft.net (193.48.50.54)  135 ms  128 ms  133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  194.214.211.25 (194.214.211.25)  126 ms  128 ms  126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  * * 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  * * 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  fantasia.eurecom.fr (193.55.113.142)  132 ms  128 ms  1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312840" y="1220760"/>
            <a:ext cx="855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acerout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oteadores, atrasos de ida e volta no caminho da origem até o destino  source-dest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mbém: pingplotter, vários programas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C856-22C7-43EE-8DA1-490D1B1E2E0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O que é a Internet: visão dos component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4419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protocolos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ntrola o envio e recepção de mensage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x., TCP, IP, HTTP, FTP,  PP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Internet: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“rede de rede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livremente hierárquic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ternet pública versus intranet privad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drões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FC: Request for com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ETF: Internet Engineering Task For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6797520" y="2647800"/>
            <a:ext cx="1798920" cy="167508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917960" y="250524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86240" y="395604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5035680" y="2639880"/>
            <a:ext cx="732960" cy="319320"/>
            <a:chOff x="5035680" y="2639880"/>
            <a:chExt cx="732960" cy="319320"/>
          </a:xfrm>
        </p:grpSpPr>
        <p:pic>
          <p:nvPicPr>
            <p:cNvPr id="315" name="" descr=""/>
            <p:cNvPicPr/>
            <p:nvPr/>
          </p:nvPicPr>
          <p:blipFill>
            <a:blip r:embed="rId1"/>
            <a:stretch/>
          </p:blipFill>
          <p:spPr>
            <a:xfrm>
              <a:off x="5035680" y="2639880"/>
              <a:ext cx="41616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2"/>
            <a:stretch/>
          </p:blipFill>
          <p:spPr>
            <a:xfrm>
              <a:off x="5489280" y="2757960"/>
              <a:ext cx="27936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 flipV="1">
              <a:off x="5442120" y="288144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5035680" y="3235320"/>
            <a:ext cx="732960" cy="318960"/>
            <a:chOff x="5035680" y="3235320"/>
            <a:chExt cx="732960" cy="318960"/>
          </a:xfrm>
        </p:grpSpPr>
        <p:pic>
          <p:nvPicPr>
            <p:cNvPr id="319" name="" descr=""/>
            <p:cNvPicPr/>
            <p:nvPr/>
          </p:nvPicPr>
          <p:blipFill>
            <a:blip r:embed="rId3"/>
            <a:stretch/>
          </p:blipFill>
          <p:spPr>
            <a:xfrm>
              <a:off x="5035680" y="323532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4"/>
            <a:stretch/>
          </p:blipFill>
          <p:spPr>
            <a:xfrm>
              <a:off x="5489280" y="335340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 flipV="1">
              <a:off x="5442120" y="347688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411880" y="3022560"/>
            <a:ext cx="69480" cy="214200"/>
            <a:chOff x="5411880" y="3022560"/>
            <a:chExt cx="69480" cy="214200"/>
          </a:xfrm>
        </p:grpSpPr>
        <p:sp>
          <p:nvSpPr>
            <p:cNvPr id="323" name=""/>
            <p:cNvSpPr/>
            <p:nvPr/>
          </p:nvSpPr>
          <p:spPr>
            <a:xfrm>
              <a:off x="5411880" y="302256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14400" y="309960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417280" y="317664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5881680" y="3525840"/>
            <a:ext cx="209520" cy="394920"/>
            <a:chOff x="5881680" y="3525840"/>
            <a:chExt cx="209520" cy="394920"/>
          </a:xfrm>
        </p:grpSpPr>
        <p:sp>
          <p:nvSpPr>
            <p:cNvPr id="327" name=""/>
            <p:cNvSpPr/>
            <p:nvPr/>
          </p:nvSpPr>
          <p:spPr>
            <a:xfrm>
              <a:off x="5881680" y="382968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87880" y="352836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882760" y="361440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881680" y="352584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91200" y="353196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6015240" y="382968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899680" y="365436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912280" y="370728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6118200" y="3679560"/>
            <a:ext cx="233280" cy="81000"/>
            <a:chOff x="6118200" y="3679560"/>
            <a:chExt cx="233280" cy="81000"/>
          </a:xfrm>
        </p:grpSpPr>
        <p:sp>
          <p:nvSpPr>
            <p:cNvPr id="336" name=""/>
            <p:cNvSpPr/>
            <p:nvPr/>
          </p:nvSpPr>
          <p:spPr>
            <a:xfrm rot="16200000">
              <a:off x="6113520" y="369036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6200000">
              <a:off x="6197400" y="368712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16200000">
              <a:off x="6281280" y="368388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6018120" y="3433680"/>
            <a:ext cx="4953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21360" y="3430440"/>
            <a:ext cx="144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516720" y="3429000"/>
            <a:ext cx="144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718240" y="2894040"/>
            <a:ext cx="29052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5730840" y="3179520"/>
            <a:ext cx="27792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6257880" y="3265560"/>
            <a:ext cx="180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386400" y="3513240"/>
            <a:ext cx="209520" cy="394920"/>
            <a:chOff x="6386400" y="3513240"/>
            <a:chExt cx="209520" cy="394920"/>
          </a:xfrm>
        </p:grpSpPr>
        <p:sp>
          <p:nvSpPr>
            <p:cNvPr id="346" name=""/>
            <p:cNvSpPr/>
            <p:nvPr/>
          </p:nvSpPr>
          <p:spPr>
            <a:xfrm>
              <a:off x="6386400" y="381708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492600" y="351576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387480" y="360180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86400" y="351324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595920" y="351936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6519960" y="381708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404400" y="364176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417000" y="369468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5419800" y="4122720"/>
            <a:ext cx="479160" cy="925200"/>
            <a:chOff x="5419800" y="4122720"/>
            <a:chExt cx="479160" cy="925200"/>
          </a:xfrm>
        </p:grpSpPr>
        <p:pic>
          <p:nvPicPr>
            <p:cNvPr id="355" name="" descr=""/>
            <p:cNvPicPr/>
            <p:nvPr/>
          </p:nvPicPr>
          <p:blipFill>
            <a:blip r:embed="rId5"/>
            <a:stretch/>
          </p:blipFill>
          <p:spPr>
            <a:xfrm>
              <a:off x="5419800" y="412272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 flipV="1">
              <a:off x="5826600" y="436932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7" name="" descr=""/>
            <p:cNvPicPr/>
            <p:nvPr/>
          </p:nvPicPr>
          <p:blipFill>
            <a:blip r:embed="rId6"/>
            <a:stretch/>
          </p:blipFill>
          <p:spPr>
            <a:xfrm>
              <a:off x="5419800" y="471744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 flipV="1">
              <a:off x="5826600" y="496764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5545080" y="4464000"/>
              <a:ext cx="70560" cy="222480"/>
              <a:chOff x="5545080" y="4464000"/>
              <a:chExt cx="70560" cy="222480"/>
            </a:xfrm>
          </p:grpSpPr>
          <p:sp>
            <p:nvSpPr>
              <p:cNvPr id="360" name=""/>
              <p:cNvSpPr/>
              <p:nvPr/>
            </p:nvSpPr>
            <p:spPr>
              <a:xfrm>
                <a:off x="5545080" y="4464000"/>
                <a:ext cx="65160" cy="626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547600" y="454392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550480" y="462420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5893560" y="436644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4" name="" descr=""/>
          <p:cNvPicPr/>
          <p:nvPr/>
        </p:nvPicPr>
        <p:blipFill>
          <a:blip r:embed="rId7"/>
          <a:stretch/>
        </p:blipFill>
        <p:spPr>
          <a:xfrm>
            <a:off x="6297480" y="5132520"/>
            <a:ext cx="398520" cy="3315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8"/>
          <a:stretch/>
        </p:blipFill>
        <p:spPr>
          <a:xfrm>
            <a:off x="5683320" y="5121360"/>
            <a:ext cx="396720" cy="33012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 rot="16200000">
            <a:off x="6090480" y="5225400"/>
            <a:ext cx="63360" cy="648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16200000">
            <a:off x="6175080" y="5222160"/>
            <a:ext cx="63720" cy="669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16200000">
            <a:off x="6252840" y="5227560"/>
            <a:ext cx="619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6541920" y="5078160"/>
            <a:ext cx="1800" cy="6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5918040" y="5067360"/>
            <a:ext cx="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5919840" y="507348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899320" y="469872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500880" y="4745160"/>
            <a:ext cx="303120" cy="38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7297560" y="4741920"/>
            <a:ext cx="277920" cy="39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9"/>
          <a:stretch/>
        </p:blipFill>
        <p:spPr>
          <a:xfrm>
            <a:off x="7478640" y="4294080"/>
            <a:ext cx="195480" cy="2415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10"/>
          <a:stretch/>
        </p:blipFill>
        <p:spPr>
          <a:xfrm>
            <a:off x="6141960" y="4375080"/>
            <a:ext cx="193680" cy="2397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6218280" y="4149720"/>
            <a:ext cx="1353960" cy="30492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6485040" y="5572080"/>
            <a:ext cx="406080" cy="426960"/>
            <a:chOff x="6485040" y="5572080"/>
            <a:chExt cx="406080" cy="426960"/>
          </a:xfrm>
        </p:grpSpPr>
        <p:pic>
          <p:nvPicPr>
            <p:cNvPr id="379" name="" descr=""/>
            <p:cNvPicPr/>
            <p:nvPr/>
          </p:nvPicPr>
          <p:blipFill>
            <a:blip r:embed="rId11"/>
            <a:stretch/>
          </p:blipFill>
          <p:spPr>
            <a:xfrm>
              <a:off x="6485040" y="557208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" descr=""/>
            <p:cNvPicPr/>
            <p:nvPr/>
          </p:nvPicPr>
          <p:blipFill>
            <a:blip r:embed="rId12"/>
            <a:stretch/>
          </p:blipFill>
          <p:spPr>
            <a:xfrm>
              <a:off x="6544800" y="568404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1" name=""/>
          <p:cNvGrpSpPr/>
          <p:nvPr/>
        </p:nvGrpSpPr>
        <p:grpSpPr>
          <a:xfrm>
            <a:off x="7262640" y="5603760"/>
            <a:ext cx="406080" cy="426960"/>
            <a:chOff x="7262640" y="5603760"/>
            <a:chExt cx="406080" cy="426960"/>
          </a:xfrm>
        </p:grpSpPr>
        <p:pic>
          <p:nvPicPr>
            <p:cNvPr id="382" name="" descr=""/>
            <p:cNvPicPr/>
            <p:nvPr/>
          </p:nvPicPr>
          <p:blipFill>
            <a:blip r:embed="rId13"/>
            <a:stretch/>
          </p:blipFill>
          <p:spPr>
            <a:xfrm>
              <a:off x="7262640" y="5603760"/>
              <a:ext cx="378360" cy="37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" descr=""/>
            <p:cNvPicPr/>
            <p:nvPr/>
          </p:nvPicPr>
          <p:blipFill>
            <a:blip r:embed="rId14"/>
            <a:stretch/>
          </p:blipFill>
          <p:spPr>
            <a:xfrm>
              <a:off x="7322400" y="571572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4" name=""/>
          <p:cNvGrpSpPr/>
          <p:nvPr/>
        </p:nvGrpSpPr>
        <p:grpSpPr>
          <a:xfrm>
            <a:off x="6848640" y="5319720"/>
            <a:ext cx="379080" cy="376200"/>
            <a:chOff x="6848640" y="5319720"/>
            <a:chExt cx="379080" cy="376200"/>
          </a:xfrm>
        </p:grpSpPr>
        <p:pic>
          <p:nvPicPr>
            <p:cNvPr id="385" name="" descr=""/>
            <p:cNvPicPr/>
            <p:nvPr/>
          </p:nvPicPr>
          <p:blipFill>
            <a:blip r:embed="rId15"/>
            <a:stretch/>
          </p:blipFill>
          <p:spPr>
            <a:xfrm>
              <a:off x="6848640" y="5319720"/>
              <a:ext cx="37908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6958800" y="5451840"/>
              <a:ext cx="26712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7155000" y="522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7875720" y="4646520"/>
            <a:ext cx="207720" cy="409680"/>
            <a:chOff x="7875720" y="4646520"/>
            <a:chExt cx="207720" cy="409680"/>
          </a:xfrm>
        </p:grpSpPr>
        <p:sp>
          <p:nvSpPr>
            <p:cNvPr id="389" name=""/>
            <p:cNvSpPr/>
            <p:nvPr/>
          </p:nvSpPr>
          <p:spPr>
            <a:xfrm>
              <a:off x="7875720" y="4961520"/>
              <a:ext cx="207720" cy="94680"/>
            </a:xfrm>
            <a:prstGeom prst="parallelogram">
              <a:avLst>
                <a:gd name="adj" fmla="val 8451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980840" y="464904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76800" y="4738320"/>
              <a:ext cx="13140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875720" y="4646520"/>
              <a:ext cx="207720" cy="94680"/>
            </a:xfrm>
            <a:prstGeom prst="parallelogram">
              <a:avLst>
                <a:gd name="adj" fmla="val 8451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083440" y="465300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8008200" y="4961520"/>
              <a:ext cx="7452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893360" y="4779720"/>
              <a:ext cx="8712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905960" y="483444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7862760" y="5091120"/>
            <a:ext cx="208080" cy="409680"/>
            <a:chOff x="7862760" y="5091120"/>
            <a:chExt cx="208080" cy="409680"/>
          </a:xfrm>
        </p:grpSpPr>
        <p:sp>
          <p:nvSpPr>
            <p:cNvPr id="398" name=""/>
            <p:cNvSpPr/>
            <p:nvPr/>
          </p:nvSpPr>
          <p:spPr>
            <a:xfrm>
              <a:off x="7862760" y="540612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967880" y="509364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863840" y="518292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862760" y="509112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070840" y="509760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7995600" y="540612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880400" y="5224320"/>
              <a:ext cx="8748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893000" y="527904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 flipV="1">
            <a:off x="7794720" y="4714920"/>
            <a:ext cx="0" cy="6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792920" y="5324400"/>
            <a:ext cx="10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788240" y="484812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6512040" y="2944800"/>
            <a:ext cx="458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446960" y="2928960"/>
            <a:ext cx="485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7966080" y="3265560"/>
            <a:ext cx="241200" cy="68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196040" y="304164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221600" y="3689280"/>
            <a:ext cx="53496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7682040" y="4154400"/>
            <a:ext cx="26640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7455960" y="3233880"/>
            <a:ext cx="559080" cy="38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7464600" y="2673360"/>
            <a:ext cx="35064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8182080" y="2849400"/>
            <a:ext cx="201600" cy="1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456160" y="24876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SP loc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324400" y="5499000"/>
            <a:ext cx="123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de 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965640" y="3639960"/>
            <a:ext cx="16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SP regio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5851440" y="1243080"/>
            <a:ext cx="501840" cy="232920"/>
            <a:chOff x="5851440" y="1243080"/>
            <a:chExt cx="501840" cy="232920"/>
          </a:xfrm>
        </p:grpSpPr>
        <p:sp>
          <p:nvSpPr>
            <p:cNvPr id="422" name=""/>
            <p:cNvSpPr/>
            <p:nvPr/>
          </p:nvSpPr>
          <p:spPr>
            <a:xfrm>
              <a:off x="5855400" y="134712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55400" y="1335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353280" y="1335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55400" y="133596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51440" y="124308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5970960" y="1275840"/>
              <a:ext cx="246240" cy="88200"/>
              <a:chOff x="5970960" y="1275840"/>
              <a:chExt cx="246240" cy="88200"/>
            </a:xfrm>
          </p:grpSpPr>
          <p:sp>
            <p:nvSpPr>
              <p:cNvPr id="428" name=""/>
              <p:cNvSpPr/>
              <p:nvPr/>
            </p:nvSpPr>
            <p:spPr>
              <a:xfrm flipV="1">
                <a:off x="5970960" y="1275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139800" y="1364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051960" y="1278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5970960" y="1275120"/>
              <a:ext cx="246240" cy="88200"/>
              <a:chOff x="5970960" y="1275120"/>
              <a:chExt cx="246240" cy="88200"/>
            </a:xfrm>
          </p:grpSpPr>
          <p:sp>
            <p:nvSpPr>
              <p:cNvPr id="432" name=""/>
              <p:cNvSpPr/>
              <p:nvPr/>
            </p:nvSpPr>
            <p:spPr>
              <a:xfrm>
                <a:off x="5970960" y="1361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139800" y="1275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6051960" y="12751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5" name=""/>
          <p:cNvGrpSpPr/>
          <p:nvPr/>
        </p:nvGrpSpPr>
        <p:grpSpPr>
          <a:xfrm>
            <a:off x="5861160" y="1819440"/>
            <a:ext cx="209520" cy="408960"/>
            <a:chOff x="5861160" y="1819440"/>
            <a:chExt cx="209520" cy="408960"/>
          </a:xfrm>
        </p:grpSpPr>
        <p:sp>
          <p:nvSpPr>
            <p:cNvPr id="436" name=""/>
            <p:cNvSpPr/>
            <p:nvPr/>
          </p:nvSpPr>
          <p:spPr>
            <a:xfrm>
              <a:off x="5861160" y="2134080"/>
              <a:ext cx="209520" cy="94320"/>
            </a:xfrm>
            <a:prstGeom prst="parallelogram">
              <a:avLst>
                <a:gd name="adj" fmla="val 85574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967360" y="1821960"/>
              <a:ext cx="9612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862240" y="1911240"/>
              <a:ext cx="13248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861160" y="1819440"/>
              <a:ext cx="209520" cy="94320"/>
            </a:xfrm>
            <a:prstGeom prst="parallelogram">
              <a:avLst>
                <a:gd name="adj" fmla="val 8557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070680" y="182592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5994720" y="2134080"/>
              <a:ext cx="7524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879160" y="1952640"/>
              <a:ext cx="87840" cy="181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891760" y="2007360"/>
              <a:ext cx="6660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4" name="" descr=""/>
          <p:cNvPicPr/>
          <p:nvPr/>
        </p:nvPicPr>
        <p:blipFill>
          <a:blip r:embed="rId16"/>
          <a:stretch/>
        </p:blipFill>
        <p:spPr>
          <a:xfrm>
            <a:off x="7115040" y="1297080"/>
            <a:ext cx="417600" cy="318960"/>
          </a:xfrm>
          <a:prstGeom prst="rect">
            <a:avLst/>
          </a:prstGeom>
          <a:ln w="0">
            <a:noFill/>
          </a:ln>
        </p:spPr>
      </p:pic>
      <p:grpSp>
        <p:nvGrpSpPr>
          <p:cNvPr id="445" name=""/>
          <p:cNvGrpSpPr/>
          <p:nvPr/>
        </p:nvGrpSpPr>
        <p:grpSpPr>
          <a:xfrm>
            <a:off x="7053120" y="1903320"/>
            <a:ext cx="406080" cy="426960"/>
            <a:chOff x="7053120" y="1903320"/>
            <a:chExt cx="406080" cy="426960"/>
          </a:xfrm>
        </p:grpSpPr>
        <p:pic>
          <p:nvPicPr>
            <p:cNvPr id="446" name="" descr=""/>
            <p:cNvPicPr/>
            <p:nvPr/>
          </p:nvPicPr>
          <p:blipFill>
            <a:blip r:embed="rId17"/>
            <a:stretch/>
          </p:blipFill>
          <p:spPr>
            <a:xfrm>
              <a:off x="7053120" y="190332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" descr=""/>
            <p:cNvPicPr/>
            <p:nvPr/>
          </p:nvPicPr>
          <p:blipFill>
            <a:blip r:embed="rId18"/>
            <a:stretch/>
          </p:blipFill>
          <p:spPr>
            <a:xfrm>
              <a:off x="7112880" y="201528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8" name=""/>
          <p:cNvGrpSpPr/>
          <p:nvPr/>
        </p:nvGrpSpPr>
        <p:grpSpPr>
          <a:xfrm>
            <a:off x="5992920" y="3041640"/>
            <a:ext cx="501480" cy="232920"/>
            <a:chOff x="5992920" y="3041640"/>
            <a:chExt cx="501480" cy="232920"/>
          </a:xfrm>
        </p:grpSpPr>
        <p:sp>
          <p:nvSpPr>
            <p:cNvPr id="449" name=""/>
            <p:cNvSpPr/>
            <p:nvPr/>
          </p:nvSpPr>
          <p:spPr>
            <a:xfrm>
              <a:off x="5996880" y="314568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996880" y="3134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494400" y="3134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996880" y="313452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92920" y="30416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6112440" y="3074400"/>
              <a:ext cx="246240" cy="88200"/>
              <a:chOff x="6112440" y="3074400"/>
              <a:chExt cx="246240" cy="8820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6112440" y="30744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281280" y="3162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193440" y="30765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6112440" y="3073680"/>
              <a:ext cx="246240" cy="88200"/>
              <a:chOff x="6112440" y="3073680"/>
              <a:chExt cx="246240" cy="88200"/>
            </a:xfrm>
          </p:grpSpPr>
          <p:sp>
            <p:nvSpPr>
              <p:cNvPr id="459" name=""/>
              <p:cNvSpPr/>
              <p:nvPr/>
            </p:nvSpPr>
            <p:spPr>
              <a:xfrm>
                <a:off x="6112440" y="31600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281280" y="3073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6193440" y="30736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2" name=""/>
          <p:cNvGrpSpPr/>
          <p:nvPr/>
        </p:nvGrpSpPr>
        <p:grpSpPr>
          <a:xfrm>
            <a:off x="6945480" y="2813040"/>
            <a:ext cx="501480" cy="232920"/>
            <a:chOff x="6945480" y="2813040"/>
            <a:chExt cx="501480" cy="232920"/>
          </a:xfrm>
        </p:grpSpPr>
        <p:sp>
          <p:nvSpPr>
            <p:cNvPr id="463" name=""/>
            <p:cNvSpPr/>
            <p:nvPr/>
          </p:nvSpPr>
          <p:spPr>
            <a:xfrm>
              <a:off x="6949440" y="291708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949440" y="2905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446960" y="2905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949440" y="290592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945480" y="28130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7065000" y="2845800"/>
              <a:ext cx="246240" cy="88200"/>
              <a:chOff x="7065000" y="2845800"/>
              <a:chExt cx="246240" cy="88200"/>
            </a:xfrm>
          </p:grpSpPr>
          <p:sp>
            <p:nvSpPr>
              <p:cNvPr id="469" name=""/>
              <p:cNvSpPr/>
              <p:nvPr/>
            </p:nvSpPr>
            <p:spPr>
              <a:xfrm flipV="1">
                <a:off x="7065000" y="2845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233840" y="29340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146000" y="28479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7065000" y="2845080"/>
              <a:ext cx="246240" cy="88200"/>
              <a:chOff x="7065000" y="2845080"/>
              <a:chExt cx="246240" cy="88200"/>
            </a:xfrm>
          </p:grpSpPr>
          <p:sp>
            <p:nvSpPr>
              <p:cNvPr id="473" name=""/>
              <p:cNvSpPr/>
              <p:nvPr/>
            </p:nvSpPr>
            <p:spPr>
              <a:xfrm>
                <a:off x="7065000" y="2931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233840" y="2845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V="1">
                <a:off x="7146000" y="28450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6" name=""/>
          <p:cNvGrpSpPr/>
          <p:nvPr/>
        </p:nvGrpSpPr>
        <p:grpSpPr>
          <a:xfrm>
            <a:off x="6962760" y="3470400"/>
            <a:ext cx="501840" cy="232920"/>
            <a:chOff x="6962760" y="3470400"/>
            <a:chExt cx="501840" cy="232920"/>
          </a:xfrm>
        </p:grpSpPr>
        <p:sp>
          <p:nvSpPr>
            <p:cNvPr id="477" name=""/>
            <p:cNvSpPr/>
            <p:nvPr/>
          </p:nvSpPr>
          <p:spPr>
            <a:xfrm>
              <a:off x="6966720" y="357444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96672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46460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966720" y="356328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962760" y="34704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7082280" y="3503160"/>
              <a:ext cx="246240" cy="88200"/>
              <a:chOff x="7082280" y="3503160"/>
              <a:chExt cx="246240" cy="88200"/>
            </a:xfrm>
          </p:grpSpPr>
          <p:sp>
            <p:nvSpPr>
              <p:cNvPr id="483" name=""/>
              <p:cNvSpPr/>
              <p:nvPr/>
            </p:nvSpPr>
            <p:spPr>
              <a:xfrm flipV="1">
                <a:off x="7082280" y="3503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251120" y="3591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163280" y="3505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7082280" y="3502440"/>
              <a:ext cx="246240" cy="88200"/>
              <a:chOff x="7082280" y="3502440"/>
              <a:chExt cx="246240" cy="88200"/>
            </a:xfrm>
          </p:grpSpPr>
          <p:sp>
            <p:nvSpPr>
              <p:cNvPr id="487" name=""/>
              <p:cNvSpPr/>
              <p:nvPr/>
            </p:nvSpPr>
            <p:spPr>
              <a:xfrm>
                <a:off x="7082280" y="3588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251120" y="3502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V="1">
                <a:off x="7163280" y="35024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0" name=""/>
          <p:cNvGrpSpPr/>
          <p:nvPr/>
        </p:nvGrpSpPr>
        <p:grpSpPr>
          <a:xfrm>
            <a:off x="7932600" y="3021120"/>
            <a:ext cx="500040" cy="232920"/>
            <a:chOff x="7932600" y="3021120"/>
            <a:chExt cx="500040" cy="232920"/>
          </a:xfrm>
        </p:grpSpPr>
        <p:sp>
          <p:nvSpPr>
            <p:cNvPr id="491" name=""/>
            <p:cNvSpPr/>
            <p:nvPr/>
          </p:nvSpPr>
          <p:spPr>
            <a:xfrm>
              <a:off x="7936560" y="312516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936560" y="31140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432640" y="31140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936560" y="311400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932600" y="302112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8051760" y="3053880"/>
              <a:ext cx="245520" cy="88200"/>
              <a:chOff x="8051760" y="3053880"/>
              <a:chExt cx="245520" cy="88200"/>
            </a:xfrm>
          </p:grpSpPr>
          <p:sp>
            <p:nvSpPr>
              <p:cNvPr id="497" name=""/>
              <p:cNvSpPr/>
              <p:nvPr/>
            </p:nvSpPr>
            <p:spPr>
              <a:xfrm flipV="1">
                <a:off x="8051760" y="305388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8220240" y="31420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8132400" y="305604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8051760" y="3053160"/>
              <a:ext cx="245520" cy="88200"/>
              <a:chOff x="8051760" y="3053160"/>
              <a:chExt cx="245520" cy="88200"/>
            </a:xfrm>
          </p:grpSpPr>
          <p:sp>
            <p:nvSpPr>
              <p:cNvPr id="501" name=""/>
              <p:cNvSpPr/>
              <p:nvPr/>
            </p:nvSpPr>
            <p:spPr>
              <a:xfrm>
                <a:off x="8051760" y="313956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8220240" y="305316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8132400" y="305316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4" name=""/>
          <p:cNvGrpSpPr/>
          <p:nvPr/>
        </p:nvGrpSpPr>
        <p:grpSpPr>
          <a:xfrm>
            <a:off x="7738920" y="3917880"/>
            <a:ext cx="501840" cy="232920"/>
            <a:chOff x="7738920" y="3917880"/>
            <a:chExt cx="501840" cy="232920"/>
          </a:xfrm>
        </p:grpSpPr>
        <p:sp>
          <p:nvSpPr>
            <p:cNvPr id="505" name=""/>
            <p:cNvSpPr/>
            <p:nvPr/>
          </p:nvSpPr>
          <p:spPr>
            <a:xfrm>
              <a:off x="7742880" y="402192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742880" y="40107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240760" y="40107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742880" y="401076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738920" y="391788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7858440" y="3950640"/>
              <a:ext cx="246240" cy="88200"/>
              <a:chOff x="7858440" y="3950640"/>
              <a:chExt cx="246240" cy="88200"/>
            </a:xfrm>
          </p:grpSpPr>
          <p:sp>
            <p:nvSpPr>
              <p:cNvPr id="511" name=""/>
              <p:cNvSpPr/>
              <p:nvPr/>
            </p:nvSpPr>
            <p:spPr>
              <a:xfrm flipV="1">
                <a:off x="7858440" y="3950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8027280" y="4038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939440" y="39528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7858440" y="3949920"/>
              <a:ext cx="246240" cy="88200"/>
              <a:chOff x="7858440" y="3949920"/>
              <a:chExt cx="246240" cy="88200"/>
            </a:xfrm>
          </p:grpSpPr>
          <p:sp>
            <p:nvSpPr>
              <p:cNvPr id="515" name=""/>
              <p:cNvSpPr/>
              <p:nvPr/>
            </p:nvSpPr>
            <p:spPr>
              <a:xfrm>
                <a:off x="7858440" y="4036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027280" y="3949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7939440" y="39499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8" name=""/>
          <p:cNvGrpSpPr/>
          <p:nvPr/>
        </p:nvGrpSpPr>
        <p:grpSpPr>
          <a:xfrm>
            <a:off x="7405560" y="4502160"/>
            <a:ext cx="501840" cy="234720"/>
            <a:chOff x="7405560" y="4502160"/>
            <a:chExt cx="501840" cy="234720"/>
          </a:xfrm>
        </p:grpSpPr>
        <p:sp>
          <p:nvSpPr>
            <p:cNvPr id="519" name=""/>
            <p:cNvSpPr/>
            <p:nvPr/>
          </p:nvSpPr>
          <p:spPr>
            <a:xfrm>
              <a:off x="7409520" y="4606920"/>
              <a:ext cx="497520" cy="129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409520" y="45957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907400" y="45957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409520" y="4595760"/>
              <a:ext cx="493200" cy="79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405560" y="4502160"/>
              <a:ext cx="497160" cy="151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7525080" y="4535280"/>
              <a:ext cx="246240" cy="88920"/>
              <a:chOff x="7525080" y="4535280"/>
              <a:chExt cx="246240" cy="88920"/>
            </a:xfrm>
          </p:grpSpPr>
          <p:sp>
            <p:nvSpPr>
              <p:cNvPr id="525" name=""/>
              <p:cNvSpPr/>
              <p:nvPr/>
            </p:nvSpPr>
            <p:spPr>
              <a:xfrm flipV="1">
                <a:off x="7525080" y="45352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693920" y="46242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606080" y="45374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7525080" y="4534200"/>
              <a:ext cx="246240" cy="88920"/>
              <a:chOff x="7525080" y="4534200"/>
              <a:chExt cx="246240" cy="88920"/>
            </a:xfrm>
          </p:grpSpPr>
          <p:sp>
            <p:nvSpPr>
              <p:cNvPr id="529" name=""/>
              <p:cNvSpPr/>
              <p:nvPr/>
            </p:nvSpPr>
            <p:spPr>
              <a:xfrm>
                <a:off x="7525080" y="4621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693920" y="45342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7606080" y="45342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2" name=""/>
          <p:cNvGrpSpPr/>
          <p:nvPr/>
        </p:nvGrpSpPr>
        <p:grpSpPr>
          <a:xfrm>
            <a:off x="6796080" y="4991040"/>
            <a:ext cx="501480" cy="232920"/>
            <a:chOff x="6796080" y="4991040"/>
            <a:chExt cx="501480" cy="232920"/>
          </a:xfrm>
        </p:grpSpPr>
        <p:sp>
          <p:nvSpPr>
            <p:cNvPr id="533" name=""/>
            <p:cNvSpPr/>
            <p:nvPr/>
          </p:nvSpPr>
          <p:spPr>
            <a:xfrm>
              <a:off x="6800040" y="509508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800040" y="5083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297560" y="5083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800040" y="508392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796080" y="49910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8" name=""/>
            <p:cNvGrpSpPr/>
            <p:nvPr/>
          </p:nvGrpSpPr>
          <p:grpSpPr>
            <a:xfrm>
              <a:off x="6915600" y="5023800"/>
              <a:ext cx="246240" cy="88200"/>
              <a:chOff x="6915600" y="5023800"/>
              <a:chExt cx="246240" cy="88200"/>
            </a:xfrm>
          </p:grpSpPr>
          <p:sp>
            <p:nvSpPr>
              <p:cNvPr id="539" name=""/>
              <p:cNvSpPr/>
              <p:nvPr/>
            </p:nvSpPr>
            <p:spPr>
              <a:xfrm flipV="1">
                <a:off x="6915600" y="5023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084440" y="51120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996600" y="50259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6915600" y="5023080"/>
              <a:ext cx="246240" cy="88200"/>
              <a:chOff x="6915600" y="5023080"/>
              <a:chExt cx="246240" cy="88200"/>
            </a:xfrm>
          </p:grpSpPr>
          <p:sp>
            <p:nvSpPr>
              <p:cNvPr id="543" name=""/>
              <p:cNvSpPr/>
              <p:nvPr/>
            </p:nvSpPr>
            <p:spPr>
              <a:xfrm>
                <a:off x="6915600" y="5109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084440" y="5023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6996600" y="50230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6" name=""/>
          <p:cNvGrpSpPr/>
          <p:nvPr/>
        </p:nvGrpSpPr>
        <p:grpSpPr>
          <a:xfrm>
            <a:off x="5992920" y="4614840"/>
            <a:ext cx="501480" cy="232920"/>
            <a:chOff x="5992920" y="4614840"/>
            <a:chExt cx="501480" cy="232920"/>
          </a:xfrm>
        </p:grpSpPr>
        <p:sp>
          <p:nvSpPr>
            <p:cNvPr id="547" name=""/>
            <p:cNvSpPr/>
            <p:nvPr/>
          </p:nvSpPr>
          <p:spPr>
            <a:xfrm>
              <a:off x="5996880" y="471888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996880" y="47077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94400" y="47077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996880" y="470772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992920" y="46148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6112440" y="4647600"/>
              <a:ext cx="246240" cy="88200"/>
              <a:chOff x="6112440" y="4647600"/>
              <a:chExt cx="246240" cy="88200"/>
            </a:xfrm>
          </p:grpSpPr>
          <p:sp>
            <p:nvSpPr>
              <p:cNvPr id="553" name=""/>
              <p:cNvSpPr/>
              <p:nvPr/>
            </p:nvSpPr>
            <p:spPr>
              <a:xfrm flipV="1">
                <a:off x="6112440" y="46476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281280" y="4735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193440" y="46497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6112440" y="4646880"/>
              <a:ext cx="246240" cy="88200"/>
              <a:chOff x="6112440" y="4646880"/>
              <a:chExt cx="246240" cy="88200"/>
            </a:xfrm>
          </p:grpSpPr>
          <p:sp>
            <p:nvSpPr>
              <p:cNvPr id="557" name=""/>
              <p:cNvSpPr/>
              <p:nvPr/>
            </p:nvSpPr>
            <p:spPr>
              <a:xfrm>
                <a:off x="6112440" y="47332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281280" y="4646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V="1">
                <a:off x="6193440" y="46468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0" name=""/>
          <p:cNvSpPr/>
          <p:nvPr/>
        </p:nvSpPr>
        <p:spPr>
          <a:xfrm>
            <a:off x="5804640" y="1406520"/>
            <a:ext cx="12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te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005240" y="1533600"/>
            <a:ext cx="159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025320" y="1917720"/>
            <a:ext cx="11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368120" y="2103480"/>
            <a:ext cx="91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ó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6248520" y="4827600"/>
            <a:ext cx="144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3B27-686A-42D6-98CC-4F8745FC20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erda de pacot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la (buffer) anterior a um canal possui capacidade fini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ando um pacote chega numa fila cheia, o pacote é descartado (perdido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 pacote perdido pode ser retransmitido pelo nó anterior, pelo sistema origem, ou não ser retransmiti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587D-17AF-4649-A613-9BFC206E61B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“</a:t>
            </a: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Camadas” de Protocolo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3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67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As redes são complexas!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uitos “pedaços”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hos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oteado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laces de diversos mei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plicaçõ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tocol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hardware, softwa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2" name="PlaceHolder 3"/>
          <p:cNvSpPr>
            <a:spLocks noGrp="1"/>
          </p:cNvSpPr>
          <p:nvPr>
            <p:ph/>
          </p:nvPr>
        </p:nvSpPr>
        <p:spPr>
          <a:xfrm>
            <a:off x="4554360" y="2266560"/>
            <a:ext cx="3943440" cy="32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Pergunta:</a:t>
            </a: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Há alguma esperança em conseguirmos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organizar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a estrutura da red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u pelo menos a nossa discussão sobre rede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B9A2-E4F9-41DD-87ED-2EE1E229CB0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Organização de uma viagem aérea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/>
          </p:nvPr>
        </p:nvSpPr>
        <p:spPr>
          <a:xfrm>
            <a:off x="838080" y="548964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uma série de etap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5" name=""/>
          <p:cNvSpPr/>
          <p:nvPr/>
        </p:nvSpPr>
        <p:spPr>
          <a:xfrm>
            <a:off x="1291320" y="1598760"/>
            <a:ext cx="2678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lhete (comp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gagem (check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tão (embarq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b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teamento do avi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4712400" y="1589040"/>
            <a:ext cx="2869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lhete (reclamaçã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gagem (recu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tão (desembarq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errissag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teamento do avi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3240720" y="4484520"/>
            <a:ext cx="267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teamento do avi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1111320" y="1587600"/>
            <a:ext cx="6508800" cy="3289320"/>
          </a:xfrm>
          <a:custGeom>
            <a:avLst/>
            <a:gdLst/>
            <a:ahLst/>
            <a:rect l="l" t="t" r="r" b="b"/>
            <a:pathLst>
              <a:path w="4100" h="2072">
                <a:moveTo>
                  <a:pt x="0" y="0"/>
                </a:moveTo>
                <a:lnTo>
                  <a:pt x="4" y="1736"/>
                </a:lnTo>
                <a:lnTo>
                  <a:pt x="804" y="2064"/>
                </a:lnTo>
                <a:lnTo>
                  <a:pt x="3468" y="2072"/>
                </a:lnTo>
                <a:lnTo>
                  <a:pt x="4100" y="1736"/>
                </a:lnTo>
                <a:lnTo>
                  <a:pt x="4100" y="96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E73D-6C97-4A10-B14B-97DF9ADE5C0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Organização de uma viagem aérea</a:t>
            </a:r>
            <a:r>
              <a:rPr b="0" lang="pt-BR" sz="2400" spc="-1" strike="noStrike" u="sng">
                <a:solidFill>
                  <a:srgbClr val="3333cc"/>
                </a:solidFill>
                <a:uFillTx/>
                <a:latin typeface="Comic Sans MS"/>
              </a:rPr>
              <a:t>: uma visão diferente</a:t>
            </a:r>
            <a:endParaRPr b="0" lang="en-US" sz="24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/>
          </p:nvPr>
        </p:nvSpPr>
        <p:spPr>
          <a:xfrm>
            <a:off x="515880" y="50068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amadas: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da camada implementa um serviç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49200" indent="-134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través de ações internas à cam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49200" indent="-134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pende dos serviços providos pela camada inferi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41" name=""/>
          <p:cNvGrpSpPr/>
          <p:nvPr/>
        </p:nvGrpSpPr>
        <p:grpSpPr>
          <a:xfrm>
            <a:off x="1233360" y="1523880"/>
            <a:ext cx="6159240" cy="3359520"/>
            <a:chOff x="1233360" y="1523880"/>
            <a:chExt cx="6159240" cy="3359520"/>
          </a:xfrm>
        </p:grpSpPr>
        <p:sp>
          <p:nvSpPr>
            <p:cNvPr id="2842" name=""/>
            <p:cNvSpPr/>
            <p:nvPr/>
          </p:nvSpPr>
          <p:spPr>
            <a:xfrm>
              <a:off x="1292040" y="1598760"/>
              <a:ext cx="267840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ilhete (compr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agagem (check i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ortão (embarq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ubi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oteamento do avi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523400" y="1589040"/>
              <a:ext cx="286920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ilhete (reclamação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agagem (recup.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ortão (desembarq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terrissag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oteamento do avi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3052440" y="4484520"/>
              <a:ext cx="267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oteamento do avi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1271160" y="1523880"/>
              <a:ext cx="6043680" cy="5335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1271160" y="2120760"/>
              <a:ext cx="6043680" cy="5335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1258560" y="2768760"/>
              <a:ext cx="6043680" cy="53316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1258560" y="3378240"/>
              <a:ext cx="6043680" cy="5335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1233360" y="4000680"/>
              <a:ext cx="6043680" cy="86328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3E7A-7946-476A-9B55-7CA1DD1FEC0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Viagem aérea em camadas: serviço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51" name=""/>
          <p:cNvSpPr/>
          <p:nvPr/>
        </p:nvSpPr>
        <p:spPr>
          <a:xfrm>
            <a:off x="1266840" y="1598760"/>
            <a:ext cx="6030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orte balcão a balcão de pessoas+bagag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orte de bagag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ferência de pessoas: entre port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orte do avião de pista a p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1565280" y="4255920"/>
            <a:ext cx="539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teamento do avião da origem ao dest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1270080" y="1523880"/>
            <a:ext cx="6045120" cy="5335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1270080" y="2120760"/>
            <a:ext cx="6045120" cy="5335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1258920" y="2768760"/>
            <a:ext cx="6045120" cy="5331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1258920" y="3378240"/>
            <a:ext cx="6045120" cy="5335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1233360" y="4000680"/>
            <a:ext cx="6045480" cy="8632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EBDD-F926-4A2F-A318-341AE320B20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279360" y="22824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Implementação </a:t>
            </a: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distribuída</a:t>
            </a: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 da funcionalidade das camadas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59" name=""/>
          <p:cNvSpPr/>
          <p:nvPr/>
        </p:nvSpPr>
        <p:spPr>
          <a:xfrm>
            <a:off x="1169280" y="1598760"/>
            <a:ext cx="2678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lhete (comp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gagem (check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tão (embarq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b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teamento do avi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4807800" y="1557360"/>
            <a:ext cx="2869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lhete (reclamaçã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gagem (recu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tão (desembarq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errissag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teamento do avi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1" name=""/>
          <p:cNvGrpSpPr/>
          <p:nvPr/>
        </p:nvGrpSpPr>
        <p:grpSpPr>
          <a:xfrm>
            <a:off x="1258920" y="1523880"/>
            <a:ext cx="2568240" cy="2387880"/>
            <a:chOff x="1258920" y="1523880"/>
            <a:chExt cx="2568240" cy="2387880"/>
          </a:xfrm>
        </p:grpSpPr>
        <p:sp>
          <p:nvSpPr>
            <p:cNvPr id="2862" name=""/>
            <p:cNvSpPr/>
            <p:nvPr/>
          </p:nvSpPr>
          <p:spPr>
            <a:xfrm>
              <a:off x="1263960" y="1523880"/>
              <a:ext cx="2563200" cy="5335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1263960" y="2120760"/>
              <a:ext cx="2563200" cy="5335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1258920" y="2768760"/>
              <a:ext cx="2563200" cy="53316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1258920" y="3378240"/>
              <a:ext cx="2563200" cy="5335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6" name=""/>
          <p:cNvSpPr/>
          <p:nvPr/>
        </p:nvSpPr>
        <p:spPr>
          <a:xfrm>
            <a:off x="1233360" y="4000680"/>
            <a:ext cx="2584440" cy="5457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7" name=""/>
          <p:cNvGrpSpPr/>
          <p:nvPr/>
        </p:nvGrpSpPr>
        <p:grpSpPr>
          <a:xfrm>
            <a:off x="4870440" y="1523880"/>
            <a:ext cx="2734920" cy="2387880"/>
            <a:chOff x="4870440" y="1523880"/>
            <a:chExt cx="2734920" cy="2387880"/>
          </a:xfrm>
        </p:grpSpPr>
        <p:sp>
          <p:nvSpPr>
            <p:cNvPr id="2868" name=""/>
            <p:cNvSpPr/>
            <p:nvPr/>
          </p:nvSpPr>
          <p:spPr>
            <a:xfrm>
              <a:off x="4875840" y="1523880"/>
              <a:ext cx="2729520" cy="5335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4875840" y="2120760"/>
              <a:ext cx="2729520" cy="5335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4870440" y="2768760"/>
              <a:ext cx="2729520" cy="53316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4870440" y="3378240"/>
              <a:ext cx="2729520" cy="5335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2" name=""/>
          <p:cNvSpPr/>
          <p:nvPr/>
        </p:nvSpPr>
        <p:spPr>
          <a:xfrm>
            <a:off x="4844880" y="4000680"/>
            <a:ext cx="2749680" cy="5457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3" name=""/>
          <p:cNvGrpSpPr/>
          <p:nvPr/>
        </p:nvGrpSpPr>
        <p:grpSpPr>
          <a:xfrm>
            <a:off x="3290760" y="6006960"/>
            <a:ext cx="1992600" cy="545760"/>
            <a:chOff x="3290760" y="6006960"/>
            <a:chExt cx="1992600" cy="545760"/>
          </a:xfrm>
        </p:grpSpPr>
        <p:sp>
          <p:nvSpPr>
            <p:cNvPr id="2874" name=""/>
            <p:cNvSpPr/>
            <p:nvPr/>
          </p:nvSpPr>
          <p:spPr>
            <a:xfrm>
              <a:off x="3369240" y="6095520"/>
              <a:ext cx="176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oteam. aviõ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3290760" y="6006960"/>
              <a:ext cx="1992600" cy="54576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6" name=""/>
          <p:cNvSpPr/>
          <p:nvPr/>
        </p:nvSpPr>
        <p:spPr>
          <a:xfrm rot="16200000">
            <a:off x="-807120" y="2715480"/>
            <a:ext cx="33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eroporto de saí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 rot="16200000">
            <a:off x="6281280" y="2506680"/>
            <a:ext cx="379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eroporto de cheg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1233360" y="4799160"/>
            <a:ext cx="64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ocalidades intermediárias de tráfego aér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9" name=""/>
          <p:cNvGrpSpPr/>
          <p:nvPr/>
        </p:nvGrpSpPr>
        <p:grpSpPr>
          <a:xfrm>
            <a:off x="2108160" y="5295960"/>
            <a:ext cx="1995120" cy="545760"/>
            <a:chOff x="2108160" y="5295960"/>
            <a:chExt cx="1995120" cy="545760"/>
          </a:xfrm>
        </p:grpSpPr>
        <p:sp>
          <p:nvSpPr>
            <p:cNvPr id="2880" name=""/>
            <p:cNvSpPr/>
            <p:nvPr/>
          </p:nvSpPr>
          <p:spPr>
            <a:xfrm>
              <a:off x="2188080" y="5384520"/>
              <a:ext cx="176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oteam. aviõ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2108160" y="5295960"/>
              <a:ext cx="1995120" cy="54576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2" name=""/>
          <p:cNvGrpSpPr/>
          <p:nvPr/>
        </p:nvGrpSpPr>
        <p:grpSpPr>
          <a:xfrm>
            <a:off x="4433760" y="5321160"/>
            <a:ext cx="1992600" cy="545760"/>
            <a:chOff x="4433760" y="5321160"/>
            <a:chExt cx="1992600" cy="545760"/>
          </a:xfrm>
        </p:grpSpPr>
        <p:sp>
          <p:nvSpPr>
            <p:cNvPr id="2883" name=""/>
            <p:cNvSpPr/>
            <p:nvPr/>
          </p:nvSpPr>
          <p:spPr>
            <a:xfrm>
              <a:off x="4512240" y="5409720"/>
              <a:ext cx="176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oteam. aviõ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4433760" y="5321160"/>
              <a:ext cx="1992600" cy="54576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ECCC-8D04-416F-8AE8-621831579DC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Por que dividir em camadas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86" name="PlaceHolder 2"/>
          <p:cNvSpPr>
            <a:spLocks noGrp="1"/>
          </p:cNvSpPr>
          <p:nvPr>
            <p:ph/>
          </p:nvPr>
        </p:nvSpPr>
        <p:spPr>
          <a:xfrm>
            <a:off x="547200" y="134604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Lidar com sistemas complexo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strutura explícita permite a identificação e relacionamento entre as partes do sistema complex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modelo de referência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em camadas para discuss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odularização facilita a manutenção e atualização do siste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udança na implementação do serviço da camada é transparente para o resto do siste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x., mudança no procedimento no portão não afeta o resto do siste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ivisão em camadas é considerada prejudicia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A3A3-831A-4525-948A-EAD53E643D3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"/>
          <p:cNvSpPr/>
          <p:nvPr/>
        </p:nvSpPr>
        <p:spPr>
          <a:xfrm>
            <a:off x="6578640" y="1714680"/>
            <a:ext cx="1893960" cy="3530520"/>
          </a:xfrm>
          <a:prstGeom prst="rect">
            <a:avLst/>
          </a:prstGeom>
          <a:solidFill>
            <a:srgbClr val="3333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Pilha de protocolos Interne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572760" y="1422360"/>
            <a:ext cx="5715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aplicaçã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á suporte a aplicações de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FTP, SMTP, HTT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transport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transferência de dados host-a-ho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CP, UD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red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roteamento de datagramas da origem até o destin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IP, protocolos de roteamento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enlac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transferência de dados entre elementos de rede vizinh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pp, ether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física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bits “no fio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90" name=""/>
          <p:cNvGrpSpPr/>
          <p:nvPr/>
        </p:nvGrpSpPr>
        <p:grpSpPr>
          <a:xfrm>
            <a:off x="6508800" y="1828800"/>
            <a:ext cx="1898640" cy="3530520"/>
            <a:chOff x="6508800" y="1828800"/>
            <a:chExt cx="1898640" cy="3530520"/>
          </a:xfrm>
        </p:grpSpPr>
        <p:sp>
          <p:nvSpPr>
            <p:cNvPr id="2891" name=""/>
            <p:cNvSpPr/>
            <p:nvPr/>
          </p:nvSpPr>
          <p:spPr>
            <a:xfrm>
              <a:off x="6515280" y="1828800"/>
              <a:ext cx="1892160" cy="3530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6624720" y="1925640"/>
              <a:ext cx="170316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plic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ranspor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e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nl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ís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6508800" y="2520720"/>
              <a:ext cx="18860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6508800" y="3225600"/>
              <a:ext cx="18860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6508800" y="3936960"/>
              <a:ext cx="18860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6508800" y="4648320"/>
              <a:ext cx="18860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12A6-A828-4381-8CFE-00173982255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madas: comunicação lógic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2898" name=""/>
          <p:cNvGrpSpPr/>
          <p:nvPr/>
        </p:nvGrpSpPr>
        <p:grpSpPr>
          <a:xfrm>
            <a:off x="3002040" y="1601640"/>
            <a:ext cx="5943600" cy="4451400"/>
            <a:chOff x="3002040" y="1601640"/>
            <a:chExt cx="5943600" cy="4451400"/>
          </a:xfrm>
        </p:grpSpPr>
        <p:sp>
          <p:nvSpPr>
            <p:cNvPr id="2899" name=""/>
            <p:cNvSpPr/>
            <p:nvPr/>
          </p:nvSpPr>
          <p:spPr>
            <a:xfrm>
              <a:off x="3002040" y="1601640"/>
              <a:ext cx="5943600" cy="4451400"/>
            </a:xfrm>
            <a:custGeom>
              <a:avLst/>
              <a:gdLst/>
              <a:ahLst/>
              <a:rect l="l" t="t" r="r" b="b"/>
              <a:pathLst>
                <a:path w="1340" h="1191">
                  <a:moveTo>
                    <a:pt x="550" y="42"/>
                  </a:moveTo>
                  <a:cubicBezTo>
                    <a:pt x="437" y="4"/>
                    <a:pt x="164" y="0"/>
                    <a:pt x="82" y="60"/>
                  </a:cubicBezTo>
                  <a:cubicBezTo>
                    <a:pt x="0" y="120"/>
                    <a:pt x="67" y="292"/>
                    <a:pt x="58" y="402"/>
                  </a:cubicBezTo>
                  <a:cubicBezTo>
                    <a:pt x="49" y="512"/>
                    <a:pt x="19" y="642"/>
                    <a:pt x="28" y="720"/>
                  </a:cubicBezTo>
                  <a:cubicBezTo>
                    <a:pt x="37" y="798"/>
                    <a:pt x="27" y="844"/>
                    <a:pt x="112" y="870"/>
                  </a:cubicBezTo>
                  <a:cubicBezTo>
                    <a:pt x="197" y="896"/>
                    <a:pt x="450" y="833"/>
                    <a:pt x="538" y="876"/>
                  </a:cubicBezTo>
                  <a:cubicBezTo>
                    <a:pt x="626" y="919"/>
                    <a:pt x="524" y="1091"/>
                    <a:pt x="640" y="1128"/>
                  </a:cubicBezTo>
                  <a:cubicBezTo>
                    <a:pt x="756" y="1165"/>
                    <a:pt x="1128" y="1191"/>
                    <a:pt x="1234" y="1098"/>
                  </a:cubicBezTo>
                  <a:cubicBezTo>
                    <a:pt x="1340" y="1005"/>
                    <a:pt x="1281" y="696"/>
                    <a:pt x="1276" y="570"/>
                  </a:cubicBezTo>
                  <a:cubicBezTo>
                    <a:pt x="1271" y="444"/>
                    <a:pt x="1290" y="389"/>
                    <a:pt x="1204" y="342"/>
                  </a:cubicBezTo>
                  <a:cubicBezTo>
                    <a:pt x="1118" y="295"/>
                    <a:pt x="868" y="338"/>
                    <a:pt x="760" y="288"/>
                  </a:cubicBezTo>
                  <a:cubicBezTo>
                    <a:pt x="652" y="238"/>
                    <a:pt x="663" y="80"/>
                    <a:pt x="550" y="42"/>
                  </a:cubicBezTo>
                  <a:close/>
                </a:path>
              </a:pathLst>
            </a:cu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0" name=""/>
            <p:cNvGrpSpPr/>
            <p:nvPr/>
          </p:nvGrpSpPr>
          <p:grpSpPr>
            <a:xfrm>
              <a:off x="3361320" y="1951560"/>
              <a:ext cx="2333520" cy="891720"/>
              <a:chOff x="3361320" y="1951560"/>
              <a:chExt cx="2333520" cy="891720"/>
            </a:xfrm>
          </p:grpSpPr>
          <p:pic>
            <p:nvPicPr>
              <p:cNvPr id="290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61320" y="1951560"/>
                <a:ext cx="1324440" cy="89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0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05280" y="2282040"/>
                <a:ext cx="889560" cy="51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3" name=""/>
              <p:cNvSpPr/>
              <p:nvPr/>
            </p:nvSpPr>
            <p:spPr>
              <a:xfrm flipV="1">
                <a:off x="4654800" y="2628000"/>
                <a:ext cx="363240" cy="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4" name=""/>
            <p:cNvGrpSpPr/>
            <p:nvPr/>
          </p:nvGrpSpPr>
          <p:grpSpPr>
            <a:xfrm>
              <a:off x="3361320" y="3618720"/>
              <a:ext cx="2333520" cy="893160"/>
              <a:chOff x="3361320" y="3618720"/>
              <a:chExt cx="2333520" cy="893160"/>
            </a:xfrm>
          </p:grpSpPr>
          <p:pic>
            <p:nvPicPr>
              <p:cNvPr id="290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361320" y="3618720"/>
                <a:ext cx="1324440" cy="89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0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805280" y="3949560"/>
                <a:ext cx="889560" cy="51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7" name=""/>
              <p:cNvSpPr/>
              <p:nvPr/>
            </p:nvSpPr>
            <p:spPr>
              <a:xfrm flipV="1">
                <a:off x="4654800" y="4296240"/>
                <a:ext cx="363240" cy="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8" name=""/>
            <p:cNvGrpSpPr/>
            <p:nvPr/>
          </p:nvGrpSpPr>
          <p:grpSpPr>
            <a:xfrm>
              <a:off x="5061960" y="2994840"/>
              <a:ext cx="164880" cy="599040"/>
              <a:chOff x="5061960" y="2994840"/>
              <a:chExt cx="164880" cy="599040"/>
            </a:xfrm>
          </p:grpSpPr>
          <p:sp>
            <p:nvSpPr>
              <p:cNvPr id="2909" name=""/>
              <p:cNvSpPr/>
              <p:nvPr/>
            </p:nvSpPr>
            <p:spPr>
              <a:xfrm>
                <a:off x="5061960" y="2994840"/>
                <a:ext cx="151920" cy="1692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5068440" y="3210120"/>
                <a:ext cx="151920" cy="1681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5074920" y="3425760"/>
                <a:ext cx="151920" cy="1681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2" name=""/>
            <p:cNvGrpSpPr/>
            <p:nvPr/>
          </p:nvGrpSpPr>
          <p:grpSpPr>
            <a:xfrm>
              <a:off x="6055560" y="4432680"/>
              <a:ext cx="666720" cy="1107000"/>
              <a:chOff x="6055560" y="4432680"/>
              <a:chExt cx="666720" cy="1107000"/>
            </a:xfrm>
          </p:grpSpPr>
          <p:sp>
            <p:nvSpPr>
              <p:cNvPr id="2913" name=""/>
              <p:cNvSpPr/>
              <p:nvPr/>
            </p:nvSpPr>
            <p:spPr>
              <a:xfrm>
                <a:off x="6055560" y="5283720"/>
                <a:ext cx="666720" cy="255960"/>
              </a:xfrm>
              <a:prstGeom prst="parallelogram">
                <a:avLst>
                  <a:gd name="adj" fmla="val 100344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6393240" y="4439880"/>
                <a:ext cx="306360" cy="85032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6059520" y="4681080"/>
                <a:ext cx="422640" cy="8510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6055560" y="4432680"/>
                <a:ext cx="666720" cy="255960"/>
              </a:xfrm>
              <a:prstGeom prst="parallelogram">
                <a:avLst>
                  <a:gd name="adj" fmla="val 100344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6722280" y="4450320"/>
                <a:ext cx="0" cy="83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H="1">
                <a:off x="6482160" y="5283720"/>
                <a:ext cx="239760" cy="24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6112800" y="4793040"/>
                <a:ext cx="280080" cy="4903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6153120" y="4941000"/>
                <a:ext cx="212760" cy="172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1" name=""/>
            <p:cNvGrpSpPr/>
            <p:nvPr/>
          </p:nvGrpSpPr>
          <p:grpSpPr>
            <a:xfrm>
              <a:off x="6808320" y="4864680"/>
              <a:ext cx="741600" cy="226440"/>
              <a:chOff x="6808320" y="4864680"/>
              <a:chExt cx="741600" cy="226440"/>
            </a:xfrm>
          </p:grpSpPr>
          <p:sp>
            <p:nvSpPr>
              <p:cNvPr id="2922" name=""/>
              <p:cNvSpPr/>
              <p:nvPr/>
            </p:nvSpPr>
            <p:spPr>
              <a:xfrm rot="16200000">
                <a:off x="6808680" y="4882320"/>
                <a:ext cx="208440" cy="2091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rot="16200000">
                <a:off x="7074720" y="4873680"/>
                <a:ext cx="208440" cy="2080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rot="16200000">
                <a:off x="7341480" y="4864680"/>
                <a:ext cx="208440" cy="2080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5" name=""/>
            <p:cNvSpPr/>
            <p:nvPr/>
          </p:nvSpPr>
          <p:spPr>
            <a:xfrm>
              <a:off x="6489360" y="4175280"/>
              <a:ext cx="15771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6500520" y="4165920"/>
              <a:ext cx="4320" cy="26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8077680" y="4160880"/>
              <a:ext cx="4680" cy="23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5535000" y="2662200"/>
              <a:ext cx="919440" cy="74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 flipV="1">
              <a:off x="5574600" y="3463200"/>
              <a:ext cx="880200" cy="9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 flipV="1">
              <a:off x="7252920" y="3703320"/>
              <a:ext cx="4320" cy="45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1" name=""/>
            <p:cNvGrpSpPr/>
            <p:nvPr/>
          </p:nvGrpSpPr>
          <p:grpSpPr>
            <a:xfrm>
              <a:off x="7662960" y="4396680"/>
              <a:ext cx="666360" cy="1107000"/>
              <a:chOff x="7662960" y="4396680"/>
              <a:chExt cx="666360" cy="1107000"/>
            </a:xfrm>
          </p:grpSpPr>
          <p:sp>
            <p:nvSpPr>
              <p:cNvPr id="2932" name=""/>
              <p:cNvSpPr/>
              <p:nvPr/>
            </p:nvSpPr>
            <p:spPr>
              <a:xfrm>
                <a:off x="7662960" y="5247720"/>
                <a:ext cx="666360" cy="255960"/>
              </a:xfrm>
              <a:prstGeom prst="parallelogram">
                <a:avLst>
                  <a:gd name="adj" fmla="val 100290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8000640" y="4403880"/>
                <a:ext cx="306360" cy="85032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7666920" y="4645080"/>
                <a:ext cx="422280" cy="8510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7662960" y="4396680"/>
                <a:ext cx="666360" cy="255960"/>
              </a:xfrm>
              <a:prstGeom prst="parallelogram">
                <a:avLst>
                  <a:gd name="adj" fmla="val 100290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8329320" y="4414320"/>
                <a:ext cx="0" cy="83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H="1">
                <a:off x="8089200" y="5247720"/>
                <a:ext cx="239760" cy="24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7720200" y="4757040"/>
                <a:ext cx="280080" cy="4903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7760520" y="4905000"/>
                <a:ext cx="212400" cy="172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0" name=""/>
            <p:cNvGrpSpPr/>
            <p:nvPr/>
          </p:nvGrpSpPr>
          <p:grpSpPr>
            <a:xfrm>
              <a:off x="6409080" y="3076920"/>
              <a:ext cx="1596960" cy="652680"/>
              <a:chOff x="6409080" y="3076920"/>
              <a:chExt cx="1596960" cy="652680"/>
            </a:xfrm>
          </p:grpSpPr>
          <p:sp>
            <p:nvSpPr>
              <p:cNvPr id="2941" name=""/>
              <p:cNvSpPr/>
              <p:nvPr/>
            </p:nvSpPr>
            <p:spPr>
              <a:xfrm>
                <a:off x="6422040" y="3368160"/>
                <a:ext cx="1583640" cy="3614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6422040" y="3337560"/>
                <a:ext cx="0" cy="22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8006040" y="3337560"/>
                <a:ext cx="0" cy="22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6422040" y="3337560"/>
                <a:ext cx="1569600" cy="2206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6409080" y="3076920"/>
                <a:ext cx="1582920" cy="4215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6" name=""/>
              <p:cNvGrpSpPr/>
              <p:nvPr/>
            </p:nvGrpSpPr>
            <p:grpSpPr>
              <a:xfrm>
                <a:off x="6789960" y="3169800"/>
                <a:ext cx="783720" cy="245880"/>
                <a:chOff x="6789960" y="3169800"/>
                <a:chExt cx="783720" cy="245880"/>
              </a:xfrm>
            </p:grpSpPr>
            <p:sp>
              <p:nvSpPr>
                <p:cNvPr id="2947" name=""/>
                <p:cNvSpPr/>
                <p:nvPr/>
              </p:nvSpPr>
              <p:spPr>
                <a:xfrm flipV="1">
                  <a:off x="6789960" y="3169800"/>
                  <a:ext cx="279360" cy="5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8" name=""/>
                <p:cNvSpPr/>
                <p:nvPr/>
              </p:nvSpPr>
              <p:spPr>
                <a:xfrm>
                  <a:off x="7327440" y="3415680"/>
                  <a:ext cx="24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9" name=""/>
                <p:cNvSpPr/>
                <p:nvPr/>
              </p:nvSpPr>
              <p:spPr>
                <a:xfrm>
                  <a:off x="7047720" y="3174840"/>
                  <a:ext cx="290880" cy="240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0" name=""/>
              <p:cNvGrpSpPr/>
              <p:nvPr/>
            </p:nvGrpSpPr>
            <p:grpSpPr>
              <a:xfrm>
                <a:off x="6789960" y="3166920"/>
                <a:ext cx="783720" cy="245880"/>
                <a:chOff x="6789960" y="3166920"/>
                <a:chExt cx="783720" cy="245880"/>
              </a:xfrm>
            </p:grpSpPr>
            <p:sp>
              <p:nvSpPr>
                <p:cNvPr id="2951" name=""/>
                <p:cNvSpPr/>
                <p:nvPr/>
              </p:nvSpPr>
              <p:spPr>
                <a:xfrm>
                  <a:off x="6789960" y="3407760"/>
                  <a:ext cx="279360" cy="5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2" name=""/>
                <p:cNvSpPr/>
                <p:nvPr/>
              </p:nvSpPr>
              <p:spPr>
                <a:xfrm>
                  <a:off x="7327440" y="3166920"/>
                  <a:ext cx="24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3" name=""/>
                <p:cNvSpPr/>
                <p:nvPr/>
              </p:nvSpPr>
              <p:spPr>
                <a:xfrm flipV="1">
                  <a:off x="7047720" y="3166920"/>
                  <a:ext cx="290880" cy="240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54" name=""/>
          <p:cNvGrpSpPr/>
          <p:nvPr/>
        </p:nvGrpSpPr>
        <p:grpSpPr>
          <a:xfrm>
            <a:off x="3299760" y="1362240"/>
            <a:ext cx="5516640" cy="4471200"/>
            <a:chOff x="3299760" y="1362240"/>
            <a:chExt cx="5516640" cy="4471200"/>
          </a:xfrm>
        </p:grpSpPr>
        <p:grpSp>
          <p:nvGrpSpPr>
            <p:cNvPr id="2955" name=""/>
            <p:cNvGrpSpPr/>
            <p:nvPr/>
          </p:nvGrpSpPr>
          <p:grpSpPr>
            <a:xfrm>
              <a:off x="3379320" y="1362240"/>
              <a:ext cx="1339920" cy="1515600"/>
              <a:chOff x="3379320" y="1362240"/>
              <a:chExt cx="1339920" cy="1515600"/>
            </a:xfrm>
          </p:grpSpPr>
          <p:sp>
            <p:nvSpPr>
              <p:cNvPr id="2956" name=""/>
              <p:cNvSpPr/>
              <p:nvPr/>
            </p:nvSpPr>
            <p:spPr>
              <a:xfrm>
                <a:off x="3460680" y="1362240"/>
                <a:ext cx="1258560" cy="141804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3413520" y="1423440"/>
                <a:ext cx="1258560" cy="1418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3379320" y="1412280"/>
                <a:ext cx="132228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plicaçã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ranspor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re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enla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ísic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V="1">
                <a:off x="3408840" y="173880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flipV="1">
                <a:off x="3427920" y="202176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 flipV="1">
                <a:off x="3427920" y="2275560"/>
                <a:ext cx="124416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 flipV="1">
                <a:off x="3403800" y="2554200"/>
                <a:ext cx="124452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3" name=""/>
            <p:cNvGrpSpPr/>
            <p:nvPr/>
          </p:nvGrpSpPr>
          <p:grpSpPr>
            <a:xfrm>
              <a:off x="3299760" y="3070800"/>
              <a:ext cx="1342440" cy="1520280"/>
              <a:chOff x="3299760" y="3070800"/>
              <a:chExt cx="1342440" cy="1520280"/>
            </a:xfrm>
          </p:grpSpPr>
          <p:sp>
            <p:nvSpPr>
              <p:cNvPr id="2964" name=""/>
              <p:cNvSpPr/>
              <p:nvPr/>
            </p:nvSpPr>
            <p:spPr>
              <a:xfrm>
                <a:off x="3383640" y="3070800"/>
                <a:ext cx="1258560" cy="14184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3336480" y="3132000"/>
                <a:ext cx="1258560" cy="1418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3299760" y="3125520"/>
                <a:ext cx="132228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plicaçã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ranspor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re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enla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ísic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V="1">
                <a:off x="3331800" y="344772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V="1">
                <a:off x="3350520" y="373032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3350520" y="3984480"/>
                <a:ext cx="124416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V="1">
                <a:off x="3326760" y="4263120"/>
                <a:ext cx="124452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1" name=""/>
            <p:cNvGrpSpPr/>
            <p:nvPr/>
          </p:nvGrpSpPr>
          <p:grpSpPr>
            <a:xfrm>
              <a:off x="5702400" y="4321080"/>
              <a:ext cx="1342440" cy="1512360"/>
              <a:chOff x="5702400" y="4321080"/>
              <a:chExt cx="1342440" cy="1512360"/>
            </a:xfrm>
          </p:grpSpPr>
          <p:sp>
            <p:nvSpPr>
              <p:cNvPr id="2972" name=""/>
              <p:cNvSpPr/>
              <p:nvPr/>
            </p:nvSpPr>
            <p:spPr>
              <a:xfrm>
                <a:off x="5786280" y="4321080"/>
                <a:ext cx="1258560" cy="14184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5739120" y="4382280"/>
                <a:ext cx="1258560" cy="1418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5702400" y="4367880"/>
                <a:ext cx="132228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plicaçã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ranspor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re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enla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ísic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V="1">
                <a:off x="5734440" y="469800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V="1">
                <a:off x="5753160" y="498060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V="1">
                <a:off x="5753160" y="5234760"/>
                <a:ext cx="124416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 flipV="1">
                <a:off x="5729400" y="5513400"/>
                <a:ext cx="124452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9" name=""/>
            <p:cNvGrpSpPr/>
            <p:nvPr/>
          </p:nvGrpSpPr>
          <p:grpSpPr>
            <a:xfrm>
              <a:off x="7473960" y="4314960"/>
              <a:ext cx="1342440" cy="1515600"/>
              <a:chOff x="7473960" y="4314960"/>
              <a:chExt cx="1342440" cy="1515600"/>
            </a:xfrm>
          </p:grpSpPr>
          <p:sp>
            <p:nvSpPr>
              <p:cNvPr id="2980" name=""/>
              <p:cNvSpPr/>
              <p:nvPr/>
            </p:nvSpPr>
            <p:spPr>
              <a:xfrm>
                <a:off x="7557840" y="4314960"/>
                <a:ext cx="1258560" cy="141804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7510680" y="4376160"/>
                <a:ext cx="1258560" cy="1418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7473960" y="4365000"/>
                <a:ext cx="132228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plicaçã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ranspor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re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enla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ísic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 flipV="1">
                <a:off x="7506000" y="469152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7524720" y="497448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V="1">
                <a:off x="7524720" y="5228280"/>
                <a:ext cx="124416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V="1">
                <a:off x="7500960" y="5506920"/>
                <a:ext cx="124452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7" name=""/>
            <p:cNvGrpSpPr/>
            <p:nvPr/>
          </p:nvGrpSpPr>
          <p:grpSpPr>
            <a:xfrm>
              <a:off x="6535800" y="2804040"/>
              <a:ext cx="1312200" cy="966960"/>
              <a:chOff x="6535800" y="2804040"/>
              <a:chExt cx="1312200" cy="966960"/>
            </a:xfrm>
          </p:grpSpPr>
          <p:sp>
            <p:nvSpPr>
              <p:cNvPr id="2988" name=""/>
              <p:cNvSpPr/>
              <p:nvPr/>
            </p:nvSpPr>
            <p:spPr>
              <a:xfrm>
                <a:off x="6589440" y="2804040"/>
                <a:ext cx="1258560" cy="91548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6535800" y="2865240"/>
                <a:ext cx="1258560" cy="88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6728400" y="2854080"/>
                <a:ext cx="878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re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enla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ísic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 flipV="1">
                <a:off x="6536880" y="3180240"/>
                <a:ext cx="124488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6555960" y="3463560"/>
                <a:ext cx="124488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93" name="PlaceHolder 2"/>
          <p:cNvSpPr>
            <a:spLocks noGrp="1"/>
          </p:cNvSpPr>
          <p:nvPr>
            <p:ph/>
          </p:nvPr>
        </p:nvSpPr>
        <p:spPr>
          <a:xfrm>
            <a:off x="254160" y="1396800"/>
            <a:ext cx="2743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da camad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istribuí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s “entidades” implementam as funções das camadas em cada nó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s entidades executam ações, trocam mensagens entre parceir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34A6-0A7B-4218-8E6D-2A04CC5C623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304560" y="132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madas: comunicação </a:t>
            </a:r>
            <a:r>
              <a:rPr b="0" i="1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lógic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95" name=""/>
          <p:cNvSpPr/>
          <p:nvPr/>
        </p:nvSpPr>
        <p:spPr>
          <a:xfrm>
            <a:off x="3002040" y="1601640"/>
            <a:ext cx="5943600" cy="445140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6" name="" descr=""/>
          <p:cNvPicPr/>
          <p:nvPr/>
        </p:nvPicPr>
        <p:blipFill>
          <a:blip r:embed="rId1"/>
          <a:stretch/>
        </p:blipFill>
        <p:spPr>
          <a:xfrm>
            <a:off x="3362400" y="1952640"/>
            <a:ext cx="1325520" cy="892080"/>
          </a:xfrm>
          <a:prstGeom prst="rect">
            <a:avLst/>
          </a:prstGeom>
          <a:ln w="0">
            <a:noFill/>
          </a:ln>
        </p:spPr>
      </p:pic>
      <p:sp>
        <p:nvSpPr>
          <p:cNvPr id="2997" name=""/>
          <p:cNvSpPr/>
          <p:nvPr/>
        </p:nvSpPr>
        <p:spPr>
          <a:xfrm flipV="1">
            <a:off x="4654440" y="2629080"/>
            <a:ext cx="36360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8" name=""/>
          <p:cNvGrpSpPr/>
          <p:nvPr/>
        </p:nvGrpSpPr>
        <p:grpSpPr>
          <a:xfrm>
            <a:off x="3362400" y="3619440"/>
            <a:ext cx="1655640" cy="893880"/>
            <a:chOff x="3362400" y="3619440"/>
            <a:chExt cx="1655640" cy="893880"/>
          </a:xfrm>
        </p:grpSpPr>
        <p:pic>
          <p:nvPicPr>
            <p:cNvPr id="2999" name="" descr=""/>
            <p:cNvPicPr/>
            <p:nvPr/>
          </p:nvPicPr>
          <p:blipFill>
            <a:blip r:embed="rId2"/>
            <a:stretch/>
          </p:blipFill>
          <p:spPr>
            <a:xfrm>
              <a:off x="3362400" y="3619440"/>
              <a:ext cx="1324080" cy="8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0" name=""/>
            <p:cNvSpPr/>
            <p:nvPr/>
          </p:nvSpPr>
          <p:spPr>
            <a:xfrm flipV="1">
              <a:off x="4654440" y="4297320"/>
              <a:ext cx="3636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1" name=""/>
          <p:cNvGrpSpPr/>
          <p:nvPr/>
        </p:nvGrpSpPr>
        <p:grpSpPr>
          <a:xfrm>
            <a:off x="5062680" y="2995560"/>
            <a:ext cx="164160" cy="599040"/>
            <a:chOff x="5062680" y="2995560"/>
            <a:chExt cx="164160" cy="599040"/>
          </a:xfrm>
        </p:grpSpPr>
        <p:sp>
          <p:nvSpPr>
            <p:cNvPr id="3002" name=""/>
            <p:cNvSpPr/>
            <p:nvPr/>
          </p:nvSpPr>
          <p:spPr>
            <a:xfrm>
              <a:off x="5062680" y="2995560"/>
              <a:ext cx="151200" cy="1692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5069160" y="3210840"/>
              <a:ext cx="151200" cy="168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5075640" y="3426480"/>
              <a:ext cx="151200" cy="168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5" name=""/>
          <p:cNvGrpSpPr/>
          <p:nvPr/>
        </p:nvGrpSpPr>
        <p:grpSpPr>
          <a:xfrm>
            <a:off x="6056280" y="4433760"/>
            <a:ext cx="666000" cy="1105920"/>
            <a:chOff x="6056280" y="4433760"/>
            <a:chExt cx="666000" cy="1105920"/>
          </a:xfrm>
        </p:grpSpPr>
        <p:sp>
          <p:nvSpPr>
            <p:cNvPr id="3006" name=""/>
            <p:cNvSpPr/>
            <p:nvPr/>
          </p:nvSpPr>
          <p:spPr>
            <a:xfrm>
              <a:off x="6056280" y="5284080"/>
              <a:ext cx="666000" cy="255600"/>
            </a:xfrm>
            <a:prstGeom prst="parallelogram">
              <a:avLst>
                <a:gd name="adj" fmla="val 10037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6393600" y="4440960"/>
              <a:ext cx="306000" cy="8496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6060240" y="4681800"/>
              <a:ext cx="421920" cy="8503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6056280" y="4433760"/>
              <a:ext cx="666000" cy="255600"/>
            </a:xfrm>
            <a:prstGeom prst="parallelogram">
              <a:avLst>
                <a:gd name="adj" fmla="val 10037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6722280" y="4451400"/>
              <a:ext cx="0" cy="83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 flipH="1">
              <a:off x="6482520" y="5284080"/>
              <a:ext cx="239760" cy="24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6113520" y="4793760"/>
              <a:ext cx="280080" cy="489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6153840" y="4941720"/>
              <a:ext cx="212400" cy="17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4" name=""/>
          <p:cNvGrpSpPr/>
          <p:nvPr/>
        </p:nvGrpSpPr>
        <p:grpSpPr>
          <a:xfrm>
            <a:off x="6808680" y="4864680"/>
            <a:ext cx="741960" cy="226080"/>
            <a:chOff x="6808680" y="4864680"/>
            <a:chExt cx="741960" cy="226080"/>
          </a:xfrm>
        </p:grpSpPr>
        <p:sp>
          <p:nvSpPr>
            <p:cNvPr id="3015" name=""/>
            <p:cNvSpPr/>
            <p:nvPr/>
          </p:nvSpPr>
          <p:spPr>
            <a:xfrm rot="16200000">
              <a:off x="6809400" y="4881960"/>
              <a:ext cx="208080" cy="209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 rot="16200000">
              <a:off x="7075440" y="4873320"/>
              <a:ext cx="208080" cy="2084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 rot="16200000">
              <a:off x="7342200" y="4864320"/>
              <a:ext cx="208080" cy="2084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8" name=""/>
          <p:cNvSpPr/>
          <p:nvPr/>
        </p:nvSpPr>
        <p:spPr>
          <a:xfrm>
            <a:off x="6491160" y="4175280"/>
            <a:ext cx="157644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6500880" y="4165560"/>
            <a:ext cx="46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>
            <a:off x="8078760" y="4160880"/>
            <a:ext cx="324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>
            <a:off x="5535720" y="2662200"/>
            <a:ext cx="919080" cy="74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 flipV="1">
            <a:off x="5576760" y="3463920"/>
            <a:ext cx="878040" cy="9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"/>
          <p:cNvSpPr/>
          <p:nvPr/>
        </p:nvSpPr>
        <p:spPr>
          <a:xfrm flipV="1">
            <a:off x="7253280" y="3703680"/>
            <a:ext cx="64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4" name=""/>
          <p:cNvGrpSpPr/>
          <p:nvPr/>
        </p:nvGrpSpPr>
        <p:grpSpPr>
          <a:xfrm>
            <a:off x="7662960" y="4397400"/>
            <a:ext cx="666000" cy="1107360"/>
            <a:chOff x="7662960" y="4397400"/>
            <a:chExt cx="666000" cy="1107360"/>
          </a:xfrm>
        </p:grpSpPr>
        <p:sp>
          <p:nvSpPr>
            <p:cNvPr id="3025" name=""/>
            <p:cNvSpPr/>
            <p:nvPr/>
          </p:nvSpPr>
          <p:spPr>
            <a:xfrm>
              <a:off x="7662960" y="5248800"/>
              <a:ext cx="666000" cy="255960"/>
            </a:xfrm>
            <a:prstGeom prst="parallelogram">
              <a:avLst>
                <a:gd name="adj" fmla="val 10023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8000280" y="4404600"/>
              <a:ext cx="306000" cy="8506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7666920" y="4645800"/>
              <a:ext cx="421920" cy="8514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7662960" y="4397400"/>
              <a:ext cx="666000" cy="255960"/>
            </a:xfrm>
            <a:prstGeom prst="parallelogram">
              <a:avLst>
                <a:gd name="adj" fmla="val 10023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8328960" y="4415040"/>
              <a:ext cx="0" cy="83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 flipH="1">
              <a:off x="8089200" y="5248800"/>
              <a:ext cx="239760" cy="24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7720200" y="4758120"/>
              <a:ext cx="280080" cy="4906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7760520" y="4906080"/>
              <a:ext cx="212400" cy="17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3" name=""/>
          <p:cNvGrpSpPr/>
          <p:nvPr/>
        </p:nvGrpSpPr>
        <p:grpSpPr>
          <a:xfrm>
            <a:off x="6408720" y="3076560"/>
            <a:ext cx="1598040" cy="653400"/>
            <a:chOff x="6408720" y="3076560"/>
            <a:chExt cx="1598040" cy="653400"/>
          </a:xfrm>
        </p:grpSpPr>
        <p:sp>
          <p:nvSpPr>
            <p:cNvPr id="3034" name=""/>
            <p:cNvSpPr/>
            <p:nvPr/>
          </p:nvSpPr>
          <p:spPr>
            <a:xfrm>
              <a:off x="6421680" y="3368160"/>
              <a:ext cx="1584720" cy="361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6421680" y="3337560"/>
              <a:ext cx="0" cy="22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8006760" y="3337560"/>
              <a:ext cx="0" cy="22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6421680" y="3337560"/>
              <a:ext cx="1570680" cy="221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6408720" y="3076560"/>
              <a:ext cx="1584000" cy="4219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9" name=""/>
            <p:cNvGrpSpPr/>
            <p:nvPr/>
          </p:nvGrpSpPr>
          <p:grpSpPr>
            <a:xfrm>
              <a:off x="6789960" y="3169800"/>
              <a:ext cx="784440" cy="246240"/>
              <a:chOff x="6789960" y="3169800"/>
              <a:chExt cx="784440" cy="246240"/>
            </a:xfrm>
          </p:grpSpPr>
          <p:sp>
            <p:nvSpPr>
              <p:cNvPr id="3040" name=""/>
              <p:cNvSpPr/>
              <p:nvPr/>
            </p:nvSpPr>
            <p:spPr>
              <a:xfrm flipV="1">
                <a:off x="6789960" y="3169800"/>
                <a:ext cx="279720" cy="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7327800" y="3416040"/>
                <a:ext cx="24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7048080" y="3174840"/>
                <a:ext cx="291240" cy="24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3" name=""/>
            <p:cNvGrpSpPr/>
            <p:nvPr/>
          </p:nvGrpSpPr>
          <p:grpSpPr>
            <a:xfrm>
              <a:off x="6789960" y="3166200"/>
              <a:ext cx="784440" cy="246240"/>
              <a:chOff x="6789960" y="3166200"/>
              <a:chExt cx="784440" cy="246240"/>
            </a:xfrm>
          </p:grpSpPr>
          <p:sp>
            <p:nvSpPr>
              <p:cNvPr id="3044" name=""/>
              <p:cNvSpPr/>
              <p:nvPr/>
            </p:nvSpPr>
            <p:spPr>
              <a:xfrm>
                <a:off x="6789960" y="3407400"/>
                <a:ext cx="279720" cy="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7327800" y="3166200"/>
                <a:ext cx="24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V="1">
                <a:off x="7048080" y="3166200"/>
                <a:ext cx="291240" cy="24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7" name=""/>
          <p:cNvGrpSpPr/>
          <p:nvPr/>
        </p:nvGrpSpPr>
        <p:grpSpPr>
          <a:xfrm>
            <a:off x="3299760" y="1362240"/>
            <a:ext cx="5516640" cy="4471200"/>
            <a:chOff x="3299760" y="1362240"/>
            <a:chExt cx="5516640" cy="4471200"/>
          </a:xfrm>
        </p:grpSpPr>
        <p:grpSp>
          <p:nvGrpSpPr>
            <p:cNvPr id="3048" name=""/>
            <p:cNvGrpSpPr/>
            <p:nvPr/>
          </p:nvGrpSpPr>
          <p:grpSpPr>
            <a:xfrm>
              <a:off x="3379320" y="1362240"/>
              <a:ext cx="1339920" cy="1515600"/>
              <a:chOff x="3379320" y="1362240"/>
              <a:chExt cx="1339920" cy="1515600"/>
            </a:xfrm>
          </p:grpSpPr>
          <p:sp>
            <p:nvSpPr>
              <p:cNvPr id="3049" name=""/>
              <p:cNvSpPr/>
              <p:nvPr/>
            </p:nvSpPr>
            <p:spPr>
              <a:xfrm>
                <a:off x="3460680" y="1362240"/>
                <a:ext cx="1258560" cy="141804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3413520" y="1423440"/>
                <a:ext cx="1258560" cy="1418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3379320" y="1412280"/>
                <a:ext cx="132228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plicaçã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ranspor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re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enla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ísic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 flipV="1">
                <a:off x="3408840" y="173880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 flipV="1">
                <a:off x="3427920" y="202176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 flipV="1">
                <a:off x="3427920" y="2275560"/>
                <a:ext cx="124416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 flipV="1">
                <a:off x="3403800" y="2554200"/>
                <a:ext cx="124452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6" name=""/>
            <p:cNvGrpSpPr/>
            <p:nvPr/>
          </p:nvGrpSpPr>
          <p:grpSpPr>
            <a:xfrm>
              <a:off x="3299760" y="3070800"/>
              <a:ext cx="1342440" cy="1520280"/>
              <a:chOff x="3299760" y="3070800"/>
              <a:chExt cx="1342440" cy="1520280"/>
            </a:xfrm>
          </p:grpSpPr>
          <p:sp>
            <p:nvSpPr>
              <p:cNvPr id="3057" name=""/>
              <p:cNvSpPr/>
              <p:nvPr/>
            </p:nvSpPr>
            <p:spPr>
              <a:xfrm>
                <a:off x="3383640" y="3070800"/>
                <a:ext cx="1258560" cy="14184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3336480" y="3132000"/>
                <a:ext cx="1258560" cy="1418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3299760" y="3125520"/>
                <a:ext cx="132228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plicaçã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ranspor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re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enla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ísic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V="1">
                <a:off x="3331800" y="344772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3350520" y="373032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V="1">
                <a:off x="3350520" y="3984480"/>
                <a:ext cx="124416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 flipV="1">
                <a:off x="3326760" y="4263120"/>
                <a:ext cx="124452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4" name=""/>
            <p:cNvGrpSpPr/>
            <p:nvPr/>
          </p:nvGrpSpPr>
          <p:grpSpPr>
            <a:xfrm>
              <a:off x="5702400" y="4321080"/>
              <a:ext cx="1342440" cy="1512360"/>
              <a:chOff x="5702400" y="4321080"/>
              <a:chExt cx="1342440" cy="1512360"/>
            </a:xfrm>
          </p:grpSpPr>
          <p:sp>
            <p:nvSpPr>
              <p:cNvPr id="3065" name=""/>
              <p:cNvSpPr/>
              <p:nvPr/>
            </p:nvSpPr>
            <p:spPr>
              <a:xfrm>
                <a:off x="5786280" y="4321080"/>
                <a:ext cx="1258560" cy="14184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5739120" y="4382280"/>
                <a:ext cx="1258560" cy="1418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5702400" y="4367880"/>
                <a:ext cx="132228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plicaçã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ranspor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re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enla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ísic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 flipV="1">
                <a:off x="5734440" y="469800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 flipV="1">
                <a:off x="5753160" y="498060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 flipV="1">
                <a:off x="5753160" y="5234760"/>
                <a:ext cx="124416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 flipV="1">
                <a:off x="5729400" y="5513400"/>
                <a:ext cx="124452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2" name=""/>
            <p:cNvGrpSpPr/>
            <p:nvPr/>
          </p:nvGrpSpPr>
          <p:grpSpPr>
            <a:xfrm>
              <a:off x="7473960" y="4314960"/>
              <a:ext cx="1342440" cy="1515600"/>
              <a:chOff x="7473960" y="4314960"/>
              <a:chExt cx="1342440" cy="1515600"/>
            </a:xfrm>
          </p:grpSpPr>
          <p:sp>
            <p:nvSpPr>
              <p:cNvPr id="3073" name=""/>
              <p:cNvSpPr/>
              <p:nvPr/>
            </p:nvSpPr>
            <p:spPr>
              <a:xfrm>
                <a:off x="7557840" y="4314960"/>
                <a:ext cx="1258560" cy="141804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7510680" y="4376160"/>
                <a:ext cx="1258560" cy="1418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7473960" y="4365000"/>
                <a:ext cx="132228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plicaçã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ranspor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re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enla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ísic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 flipV="1">
                <a:off x="7506000" y="469152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 flipV="1">
                <a:off x="7524720" y="497448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 flipV="1">
                <a:off x="7524720" y="5228280"/>
                <a:ext cx="124416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 flipV="1">
                <a:off x="7500960" y="5506920"/>
                <a:ext cx="124452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0" name=""/>
            <p:cNvGrpSpPr/>
            <p:nvPr/>
          </p:nvGrpSpPr>
          <p:grpSpPr>
            <a:xfrm>
              <a:off x="6535800" y="2804040"/>
              <a:ext cx="1312200" cy="966960"/>
              <a:chOff x="6535800" y="2804040"/>
              <a:chExt cx="1312200" cy="966960"/>
            </a:xfrm>
          </p:grpSpPr>
          <p:sp>
            <p:nvSpPr>
              <p:cNvPr id="3081" name=""/>
              <p:cNvSpPr/>
              <p:nvPr/>
            </p:nvSpPr>
            <p:spPr>
              <a:xfrm>
                <a:off x="6589440" y="2804040"/>
                <a:ext cx="1258560" cy="91548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6535800" y="2865240"/>
                <a:ext cx="1258560" cy="88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6728400" y="2854080"/>
                <a:ext cx="878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re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enla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ísic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 flipV="1">
                <a:off x="6536880" y="3180240"/>
                <a:ext cx="124488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 flipV="1">
                <a:off x="6555960" y="3463560"/>
                <a:ext cx="124488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86" name=""/>
          <p:cNvSpPr/>
          <p:nvPr/>
        </p:nvSpPr>
        <p:spPr>
          <a:xfrm>
            <a:off x="3830760" y="1514520"/>
            <a:ext cx="3722400" cy="3162240"/>
          </a:xfrm>
          <a:custGeom>
            <a:avLst/>
            <a:gdLst/>
            <a:ahLst/>
            <a:rect l="l" t="t" r="r" b="b"/>
            <a:pathLst>
              <a:path w="2346" h="1992">
                <a:moveTo>
                  <a:pt x="12" y="0"/>
                </a:moveTo>
                <a:lnTo>
                  <a:pt x="0" y="288"/>
                </a:lnTo>
                <a:lnTo>
                  <a:pt x="2112" y="1812"/>
                </a:lnTo>
                <a:lnTo>
                  <a:pt x="2346" y="1992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7" name=""/>
          <p:cNvGrpSpPr/>
          <p:nvPr/>
        </p:nvGrpSpPr>
        <p:grpSpPr>
          <a:xfrm>
            <a:off x="7901280" y="4046400"/>
            <a:ext cx="837720" cy="383760"/>
            <a:chOff x="7901280" y="4046400"/>
            <a:chExt cx="837720" cy="383760"/>
          </a:xfrm>
        </p:grpSpPr>
        <p:sp>
          <p:nvSpPr>
            <p:cNvPr id="3088" name=""/>
            <p:cNvSpPr/>
            <p:nvPr/>
          </p:nvSpPr>
          <p:spPr>
            <a:xfrm>
              <a:off x="7966080" y="4046400"/>
              <a:ext cx="700200" cy="376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7901280" y="4061880"/>
              <a:ext cx="83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d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0" name=""/>
          <p:cNvGrpSpPr/>
          <p:nvPr/>
        </p:nvGrpSpPr>
        <p:grpSpPr>
          <a:xfrm>
            <a:off x="3386520" y="1114560"/>
            <a:ext cx="837720" cy="384120"/>
            <a:chOff x="3386520" y="1114560"/>
            <a:chExt cx="837720" cy="384120"/>
          </a:xfrm>
        </p:grpSpPr>
        <p:sp>
          <p:nvSpPr>
            <p:cNvPr id="3091" name=""/>
            <p:cNvSpPr/>
            <p:nvPr/>
          </p:nvSpPr>
          <p:spPr>
            <a:xfrm>
              <a:off x="3451320" y="1114560"/>
              <a:ext cx="701640" cy="376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3386520" y="1130400"/>
              <a:ext cx="83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d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3" name="PlaceHolder 2"/>
          <p:cNvSpPr>
            <a:spLocks noGrp="1"/>
          </p:cNvSpPr>
          <p:nvPr>
            <p:ph/>
          </p:nvPr>
        </p:nvSpPr>
        <p:spPr>
          <a:xfrm>
            <a:off x="254160" y="1396800"/>
            <a:ext cx="2814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Ex.: transpor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cebe dados da aplic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diciona endereço e verificação de erro para formar o “datagrama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via o datagrama para a parcei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pera que a parceira acuse o recebimento (ack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nalogia: corre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94" name=""/>
          <p:cNvGrpSpPr/>
          <p:nvPr/>
        </p:nvGrpSpPr>
        <p:grpSpPr>
          <a:xfrm>
            <a:off x="5243760" y="3408480"/>
            <a:ext cx="837720" cy="383760"/>
            <a:chOff x="5243760" y="3408480"/>
            <a:chExt cx="837720" cy="383760"/>
          </a:xfrm>
        </p:grpSpPr>
        <p:sp>
          <p:nvSpPr>
            <p:cNvPr id="3095" name=""/>
            <p:cNvSpPr/>
            <p:nvPr/>
          </p:nvSpPr>
          <p:spPr>
            <a:xfrm>
              <a:off x="5308560" y="3408480"/>
              <a:ext cx="700200" cy="376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5243760" y="3423960"/>
              <a:ext cx="83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d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7" name=""/>
          <p:cNvSpPr/>
          <p:nvPr/>
        </p:nvSpPr>
        <p:spPr>
          <a:xfrm>
            <a:off x="6019920" y="3753000"/>
            <a:ext cx="287280" cy="218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 flipH="1" flipV="1">
            <a:off x="5449680" y="2790720"/>
            <a:ext cx="198360" cy="16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>
            <a:off x="7526160" y="4714920"/>
            <a:ext cx="1257480" cy="276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>
            <a:off x="3438360" y="1762200"/>
            <a:ext cx="1257480" cy="276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>
            <a:off x="8440560" y="4419720"/>
            <a:ext cx="8280" cy="361800"/>
          </a:xfrm>
          <a:custGeom>
            <a:avLst/>
            <a:gdLst/>
            <a:ahLst/>
            <a:rect l="l" t="t" r="r" b="b"/>
            <a:pathLst>
              <a:path w="6" h="228">
                <a:moveTo>
                  <a:pt x="6" y="22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>
            <a:off x="4824360" y="2206800"/>
            <a:ext cx="890640" cy="518760"/>
          </a:xfrm>
          <a:custGeom>
            <a:avLst/>
            <a:gdLst/>
            <a:ahLst/>
            <a:rect l="l" t="t" r="r" b="b"/>
            <a:pathLst>
              <a:path w="1122" h="981">
                <a:moveTo>
                  <a:pt x="986" y="98"/>
                </a:moveTo>
                <a:lnTo>
                  <a:pt x="964" y="84"/>
                </a:lnTo>
                <a:lnTo>
                  <a:pt x="941" y="72"/>
                </a:lnTo>
                <a:lnTo>
                  <a:pt x="918" y="61"/>
                </a:lnTo>
                <a:lnTo>
                  <a:pt x="894" y="52"/>
                </a:lnTo>
                <a:lnTo>
                  <a:pt x="870" y="42"/>
                </a:lnTo>
                <a:lnTo>
                  <a:pt x="847" y="35"/>
                </a:lnTo>
                <a:lnTo>
                  <a:pt x="821" y="28"/>
                </a:lnTo>
                <a:lnTo>
                  <a:pt x="796" y="21"/>
                </a:lnTo>
                <a:lnTo>
                  <a:pt x="770" y="15"/>
                </a:lnTo>
                <a:lnTo>
                  <a:pt x="744" y="11"/>
                </a:lnTo>
                <a:lnTo>
                  <a:pt x="715" y="8"/>
                </a:lnTo>
                <a:lnTo>
                  <a:pt x="687" y="4"/>
                </a:lnTo>
                <a:lnTo>
                  <a:pt x="657" y="3"/>
                </a:lnTo>
                <a:lnTo>
                  <a:pt x="627" y="1"/>
                </a:lnTo>
                <a:lnTo>
                  <a:pt x="594" y="0"/>
                </a:lnTo>
                <a:lnTo>
                  <a:pt x="562" y="0"/>
                </a:lnTo>
                <a:lnTo>
                  <a:pt x="528" y="0"/>
                </a:lnTo>
                <a:lnTo>
                  <a:pt x="496" y="1"/>
                </a:lnTo>
                <a:lnTo>
                  <a:pt x="465" y="3"/>
                </a:lnTo>
                <a:lnTo>
                  <a:pt x="436" y="4"/>
                </a:lnTo>
                <a:lnTo>
                  <a:pt x="407" y="8"/>
                </a:lnTo>
                <a:lnTo>
                  <a:pt x="378" y="11"/>
                </a:lnTo>
                <a:lnTo>
                  <a:pt x="352" y="15"/>
                </a:lnTo>
                <a:lnTo>
                  <a:pt x="326" y="21"/>
                </a:lnTo>
                <a:lnTo>
                  <a:pt x="300" y="28"/>
                </a:lnTo>
                <a:lnTo>
                  <a:pt x="275" y="35"/>
                </a:lnTo>
                <a:lnTo>
                  <a:pt x="252" y="42"/>
                </a:lnTo>
                <a:lnTo>
                  <a:pt x="227" y="52"/>
                </a:lnTo>
                <a:lnTo>
                  <a:pt x="203" y="61"/>
                </a:lnTo>
                <a:lnTo>
                  <a:pt x="181" y="72"/>
                </a:lnTo>
                <a:lnTo>
                  <a:pt x="157" y="84"/>
                </a:lnTo>
                <a:lnTo>
                  <a:pt x="135" y="98"/>
                </a:lnTo>
                <a:lnTo>
                  <a:pt x="94" y="127"/>
                </a:lnTo>
                <a:lnTo>
                  <a:pt x="63" y="160"/>
                </a:lnTo>
                <a:lnTo>
                  <a:pt x="39" y="196"/>
                </a:lnTo>
                <a:lnTo>
                  <a:pt x="22" y="233"/>
                </a:lnTo>
                <a:lnTo>
                  <a:pt x="11" y="269"/>
                </a:lnTo>
                <a:lnTo>
                  <a:pt x="4" y="304"/>
                </a:lnTo>
                <a:lnTo>
                  <a:pt x="1" y="336"/>
                </a:lnTo>
                <a:lnTo>
                  <a:pt x="0" y="364"/>
                </a:lnTo>
                <a:lnTo>
                  <a:pt x="1" y="386"/>
                </a:lnTo>
                <a:lnTo>
                  <a:pt x="6" y="405"/>
                </a:lnTo>
                <a:lnTo>
                  <a:pt x="11" y="421"/>
                </a:lnTo>
                <a:lnTo>
                  <a:pt x="20" y="432"/>
                </a:lnTo>
                <a:lnTo>
                  <a:pt x="30" y="442"/>
                </a:lnTo>
                <a:lnTo>
                  <a:pt x="43" y="447"/>
                </a:lnTo>
                <a:lnTo>
                  <a:pt x="57" y="453"/>
                </a:lnTo>
                <a:lnTo>
                  <a:pt x="73" y="456"/>
                </a:lnTo>
                <a:lnTo>
                  <a:pt x="86" y="457"/>
                </a:lnTo>
                <a:lnTo>
                  <a:pt x="99" y="457"/>
                </a:lnTo>
                <a:lnTo>
                  <a:pt x="113" y="456"/>
                </a:lnTo>
                <a:lnTo>
                  <a:pt x="127" y="453"/>
                </a:lnTo>
                <a:lnTo>
                  <a:pt x="142" y="450"/>
                </a:lnTo>
                <a:lnTo>
                  <a:pt x="155" y="447"/>
                </a:lnTo>
                <a:lnTo>
                  <a:pt x="168" y="442"/>
                </a:lnTo>
                <a:lnTo>
                  <a:pt x="183" y="438"/>
                </a:lnTo>
                <a:lnTo>
                  <a:pt x="195" y="432"/>
                </a:lnTo>
                <a:lnTo>
                  <a:pt x="208" y="426"/>
                </a:lnTo>
                <a:lnTo>
                  <a:pt x="220" y="421"/>
                </a:lnTo>
                <a:lnTo>
                  <a:pt x="231" y="414"/>
                </a:lnTo>
                <a:lnTo>
                  <a:pt x="241" y="408"/>
                </a:lnTo>
                <a:lnTo>
                  <a:pt x="250" y="403"/>
                </a:lnTo>
                <a:lnTo>
                  <a:pt x="258" y="396"/>
                </a:lnTo>
                <a:lnTo>
                  <a:pt x="265" y="390"/>
                </a:lnTo>
                <a:lnTo>
                  <a:pt x="276" y="379"/>
                </a:lnTo>
                <a:lnTo>
                  <a:pt x="286" y="368"/>
                </a:lnTo>
                <a:lnTo>
                  <a:pt x="294" y="357"/>
                </a:lnTo>
                <a:lnTo>
                  <a:pt x="300" y="346"/>
                </a:lnTo>
                <a:lnTo>
                  <a:pt x="304" y="336"/>
                </a:lnTo>
                <a:lnTo>
                  <a:pt x="308" y="325"/>
                </a:lnTo>
                <a:lnTo>
                  <a:pt x="309" y="315"/>
                </a:lnTo>
                <a:lnTo>
                  <a:pt x="308" y="305"/>
                </a:lnTo>
                <a:lnTo>
                  <a:pt x="302" y="283"/>
                </a:lnTo>
                <a:lnTo>
                  <a:pt x="297" y="255"/>
                </a:lnTo>
                <a:lnTo>
                  <a:pt x="294" y="231"/>
                </a:lnTo>
                <a:lnTo>
                  <a:pt x="300" y="216"/>
                </a:lnTo>
                <a:lnTo>
                  <a:pt x="310" y="215"/>
                </a:lnTo>
                <a:lnTo>
                  <a:pt x="318" y="222"/>
                </a:lnTo>
                <a:lnTo>
                  <a:pt x="323" y="237"/>
                </a:lnTo>
                <a:lnTo>
                  <a:pt x="327" y="259"/>
                </a:lnTo>
                <a:lnTo>
                  <a:pt x="328" y="295"/>
                </a:lnTo>
                <a:lnTo>
                  <a:pt x="326" y="332"/>
                </a:lnTo>
                <a:lnTo>
                  <a:pt x="322" y="365"/>
                </a:lnTo>
                <a:lnTo>
                  <a:pt x="317" y="389"/>
                </a:lnTo>
                <a:lnTo>
                  <a:pt x="312" y="401"/>
                </a:lnTo>
                <a:lnTo>
                  <a:pt x="302" y="419"/>
                </a:lnTo>
                <a:lnTo>
                  <a:pt x="290" y="440"/>
                </a:lnTo>
                <a:lnTo>
                  <a:pt x="275" y="464"/>
                </a:lnTo>
                <a:lnTo>
                  <a:pt x="258" y="489"/>
                </a:lnTo>
                <a:lnTo>
                  <a:pt x="243" y="513"/>
                </a:lnTo>
                <a:lnTo>
                  <a:pt x="227" y="535"/>
                </a:lnTo>
                <a:lnTo>
                  <a:pt x="213" y="553"/>
                </a:lnTo>
                <a:lnTo>
                  <a:pt x="200" y="574"/>
                </a:lnTo>
                <a:lnTo>
                  <a:pt x="185" y="606"/>
                </a:lnTo>
                <a:lnTo>
                  <a:pt x="170" y="644"/>
                </a:lnTo>
                <a:lnTo>
                  <a:pt x="154" y="686"/>
                </a:lnTo>
                <a:lnTo>
                  <a:pt x="138" y="730"/>
                </a:lnTo>
                <a:lnTo>
                  <a:pt x="126" y="772"/>
                </a:lnTo>
                <a:lnTo>
                  <a:pt x="116" y="810"/>
                </a:lnTo>
                <a:lnTo>
                  <a:pt x="110" y="840"/>
                </a:lnTo>
                <a:lnTo>
                  <a:pt x="107" y="882"/>
                </a:lnTo>
                <a:lnTo>
                  <a:pt x="108" y="916"/>
                </a:lnTo>
                <a:lnTo>
                  <a:pt x="113" y="941"/>
                </a:lnTo>
                <a:lnTo>
                  <a:pt x="124" y="957"/>
                </a:lnTo>
                <a:lnTo>
                  <a:pt x="139" y="970"/>
                </a:lnTo>
                <a:lnTo>
                  <a:pt x="159" y="977"/>
                </a:lnTo>
                <a:lnTo>
                  <a:pt x="185" y="980"/>
                </a:lnTo>
                <a:lnTo>
                  <a:pt x="217" y="981"/>
                </a:lnTo>
                <a:lnTo>
                  <a:pt x="235" y="981"/>
                </a:lnTo>
                <a:lnTo>
                  <a:pt x="255" y="981"/>
                </a:lnTo>
                <a:lnTo>
                  <a:pt x="277" y="981"/>
                </a:lnTo>
                <a:lnTo>
                  <a:pt x="301" y="981"/>
                </a:lnTo>
                <a:lnTo>
                  <a:pt x="326" y="981"/>
                </a:lnTo>
                <a:lnTo>
                  <a:pt x="352" y="981"/>
                </a:lnTo>
                <a:lnTo>
                  <a:pt x="378" y="981"/>
                </a:lnTo>
                <a:lnTo>
                  <a:pt x="404" y="981"/>
                </a:lnTo>
                <a:lnTo>
                  <a:pt x="430" y="981"/>
                </a:lnTo>
                <a:lnTo>
                  <a:pt x="455" y="981"/>
                </a:lnTo>
                <a:lnTo>
                  <a:pt x="477" y="981"/>
                </a:lnTo>
                <a:lnTo>
                  <a:pt x="499" y="981"/>
                </a:lnTo>
                <a:lnTo>
                  <a:pt x="518" y="981"/>
                </a:lnTo>
                <a:lnTo>
                  <a:pt x="533" y="981"/>
                </a:lnTo>
                <a:lnTo>
                  <a:pt x="546" y="981"/>
                </a:lnTo>
                <a:lnTo>
                  <a:pt x="555" y="981"/>
                </a:lnTo>
                <a:lnTo>
                  <a:pt x="555" y="872"/>
                </a:lnTo>
                <a:lnTo>
                  <a:pt x="535" y="871"/>
                </a:lnTo>
                <a:lnTo>
                  <a:pt x="514" y="867"/>
                </a:lnTo>
                <a:lnTo>
                  <a:pt x="495" y="860"/>
                </a:lnTo>
                <a:lnTo>
                  <a:pt x="477" y="851"/>
                </a:lnTo>
                <a:lnTo>
                  <a:pt x="459" y="842"/>
                </a:lnTo>
                <a:lnTo>
                  <a:pt x="444" y="828"/>
                </a:lnTo>
                <a:lnTo>
                  <a:pt x="428" y="814"/>
                </a:lnTo>
                <a:lnTo>
                  <a:pt x="413" y="797"/>
                </a:lnTo>
                <a:lnTo>
                  <a:pt x="401" y="779"/>
                </a:lnTo>
                <a:lnTo>
                  <a:pt x="389" y="761"/>
                </a:lnTo>
                <a:lnTo>
                  <a:pt x="380" y="740"/>
                </a:lnTo>
                <a:lnTo>
                  <a:pt x="371" y="718"/>
                </a:lnTo>
                <a:lnTo>
                  <a:pt x="364" y="694"/>
                </a:lnTo>
                <a:lnTo>
                  <a:pt x="359" y="670"/>
                </a:lnTo>
                <a:lnTo>
                  <a:pt x="356" y="645"/>
                </a:lnTo>
                <a:lnTo>
                  <a:pt x="355" y="620"/>
                </a:lnTo>
                <a:lnTo>
                  <a:pt x="356" y="595"/>
                </a:lnTo>
                <a:lnTo>
                  <a:pt x="359" y="570"/>
                </a:lnTo>
                <a:lnTo>
                  <a:pt x="364" y="546"/>
                </a:lnTo>
                <a:lnTo>
                  <a:pt x="371" y="523"/>
                </a:lnTo>
                <a:lnTo>
                  <a:pt x="380" y="500"/>
                </a:lnTo>
                <a:lnTo>
                  <a:pt x="389" y="479"/>
                </a:lnTo>
                <a:lnTo>
                  <a:pt x="401" y="461"/>
                </a:lnTo>
                <a:lnTo>
                  <a:pt x="413" y="443"/>
                </a:lnTo>
                <a:lnTo>
                  <a:pt x="428" y="426"/>
                </a:lnTo>
                <a:lnTo>
                  <a:pt x="444" y="412"/>
                </a:lnTo>
                <a:lnTo>
                  <a:pt x="459" y="399"/>
                </a:lnTo>
                <a:lnTo>
                  <a:pt x="477" y="389"/>
                </a:lnTo>
                <a:lnTo>
                  <a:pt x="495" y="380"/>
                </a:lnTo>
                <a:lnTo>
                  <a:pt x="514" y="373"/>
                </a:lnTo>
                <a:lnTo>
                  <a:pt x="535" y="369"/>
                </a:lnTo>
                <a:lnTo>
                  <a:pt x="555" y="368"/>
                </a:lnTo>
                <a:lnTo>
                  <a:pt x="555" y="241"/>
                </a:lnTo>
                <a:lnTo>
                  <a:pt x="546" y="241"/>
                </a:lnTo>
                <a:lnTo>
                  <a:pt x="536" y="241"/>
                </a:lnTo>
                <a:lnTo>
                  <a:pt x="524" y="242"/>
                </a:lnTo>
                <a:lnTo>
                  <a:pt x="513" y="242"/>
                </a:lnTo>
                <a:lnTo>
                  <a:pt x="503" y="242"/>
                </a:lnTo>
                <a:lnTo>
                  <a:pt x="493" y="244"/>
                </a:lnTo>
                <a:lnTo>
                  <a:pt x="484" y="244"/>
                </a:lnTo>
                <a:lnTo>
                  <a:pt x="477" y="244"/>
                </a:lnTo>
                <a:lnTo>
                  <a:pt x="467" y="237"/>
                </a:lnTo>
                <a:lnTo>
                  <a:pt x="462" y="220"/>
                </a:lnTo>
                <a:lnTo>
                  <a:pt x="460" y="203"/>
                </a:lnTo>
                <a:lnTo>
                  <a:pt x="465" y="195"/>
                </a:lnTo>
                <a:lnTo>
                  <a:pt x="471" y="194"/>
                </a:lnTo>
                <a:lnTo>
                  <a:pt x="478" y="194"/>
                </a:lnTo>
                <a:lnTo>
                  <a:pt x="489" y="194"/>
                </a:lnTo>
                <a:lnTo>
                  <a:pt x="501" y="194"/>
                </a:lnTo>
                <a:lnTo>
                  <a:pt x="514" y="194"/>
                </a:lnTo>
                <a:lnTo>
                  <a:pt x="530" y="195"/>
                </a:lnTo>
                <a:lnTo>
                  <a:pt x="546" y="195"/>
                </a:lnTo>
                <a:lnTo>
                  <a:pt x="562" y="195"/>
                </a:lnTo>
                <a:lnTo>
                  <a:pt x="577" y="195"/>
                </a:lnTo>
                <a:lnTo>
                  <a:pt x="593" y="195"/>
                </a:lnTo>
                <a:lnTo>
                  <a:pt x="608" y="194"/>
                </a:lnTo>
                <a:lnTo>
                  <a:pt x="621" y="194"/>
                </a:lnTo>
                <a:lnTo>
                  <a:pt x="633" y="194"/>
                </a:lnTo>
                <a:lnTo>
                  <a:pt x="644" y="194"/>
                </a:lnTo>
                <a:lnTo>
                  <a:pt x="651" y="194"/>
                </a:lnTo>
                <a:lnTo>
                  <a:pt x="657" y="195"/>
                </a:lnTo>
                <a:lnTo>
                  <a:pt x="662" y="203"/>
                </a:lnTo>
                <a:lnTo>
                  <a:pt x="662" y="220"/>
                </a:lnTo>
                <a:lnTo>
                  <a:pt x="655" y="237"/>
                </a:lnTo>
                <a:lnTo>
                  <a:pt x="645" y="244"/>
                </a:lnTo>
                <a:lnTo>
                  <a:pt x="637" y="244"/>
                </a:lnTo>
                <a:lnTo>
                  <a:pt x="628" y="244"/>
                </a:lnTo>
                <a:lnTo>
                  <a:pt x="617" y="242"/>
                </a:lnTo>
                <a:lnTo>
                  <a:pt x="605" y="242"/>
                </a:lnTo>
                <a:lnTo>
                  <a:pt x="593" y="242"/>
                </a:lnTo>
                <a:lnTo>
                  <a:pt x="581" y="241"/>
                </a:lnTo>
                <a:lnTo>
                  <a:pt x="571" y="241"/>
                </a:lnTo>
                <a:lnTo>
                  <a:pt x="562" y="241"/>
                </a:lnTo>
                <a:lnTo>
                  <a:pt x="560" y="241"/>
                </a:lnTo>
                <a:lnTo>
                  <a:pt x="558" y="241"/>
                </a:lnTo>
                <a:lnTo>
                  <a:pt x="557" y="241"/>
                </a:lnTo>
                <a:lnTo>
                  <a:pt x="555" y="241"/>
                </a:lnTo>
                <a:lnTo>
                  <a:pt x="555" y="368"/>
                </a:lnTo>
                <a:lnTo>
                  <a:pt x="556" y="368"/>
                </a:lnTo>
                <a:lnTo>
                  <a:pt x="557" y="368"/>
                </a:lnTo>
                <a:lnTo>
                  <a:pt x="557" y="368"/>
                </a:lnTo>
                <a:lnTo>
                  <a:pt x="558" y="368"/>
                </a:lnTo>
                <a:lnTo>
                  <a:pt x="580" y="369"/>
                </a:lnTo>
                <a:lnTo>
                  <a:pt x="600" y="373"/>
                </a:lnTo>
                <a:lnTo>
                  <a:pt x="619" y="379"/>
                </a:lnTo>
                <a:lnTo>
                  <a:pt x="638" y="387"/>
                </a:lnTo>
                <a:lnTo>
                  <a:pt x="656" y="399"/>
                </a:lnTo>
                <a:lnTo>
                  <a:pt x="673" y="411"/>
                </a:lnTo>
                <a:lnTo>
                  <a:pt x="688" y="425"/>
                </a:lnTo>
                <a:lnTo>
                  <a:pt x="703" y="442"/>
                </a:lnTo>
                <a:lnTo>
                  <a:pt x="717" y="460"/>
                </a:lnTo>
                <a:lnTo>
                  <a:pt x="728" y="479"/>
                </a:lnTo>
                <a:lnTo>
                  <a:pt x="738" y="500"/>
                </a:lnTo>
                <a:lnTo>
                  <a:pt x="747" y="523"/>
                </a:lnTo>
                <a:lnTo>
                  <a:pt x="754" y="545"/>
                </a:lnTo>
                <a:lnTo>
                  <a:pt x="758" y="570"/>
                </a:lnTo>
                <a:lnTo>
                  <a:pt x="761" y="594"/>
                </a:lnTo>
                <a:lnTo>
                  <a:pt x="763" y="620"/>
                </a:lnTo>
                <a:lnTo>
                  <a:pt x="761" y="647"/>
                </a:lnTo>
                <a:lnTo>
                  <a:pt x="758" y="670"/>
                </a:lnTo>
                <a:lnTo>
                  <a:pt x="754" y="695"/>
                </a:lnTo>
                <a:lnTo>
                  <a:pt x="747" y="718"/>
                </a:lnTo>
                <a:lnTo>
                  <a:pt x="738" y="740"/>
                </a:lnTo>
                <a:lnTo>
                  <a:pt x="728" y="761"/>
                </a:lnTo>
                <a:lnTo>
                  <a:pt x="717" y="780"/>
                </a:lnTo>
                <a:lnTo>
                  <a:pt x="703" y="798"/>
                </a:lnTo>
                <a:lnTo>
                  <a:pt x="688" y="815"/>
                </a:lnTo>
                <a:lnTo>
                  <a:pt x="673" y="829"/>
                </a:lnTo>
                <a:lnTo>
                  <a:pt x="656" y="842"/>
                </a:lnTo>
                <a:lnTo>
                  <a:pt x="638" y="853"/>
                </a:lnTo>
                <a:lnTo>
                  <a:pt x="619" y="861"/>
                </a:lnTo>
                <a:lnTo>
                  <a:pt x="600" y="867"/>
                </a:lnTo>
                <a:lnTo>
                  <a:pt x="580" y="871"/>
                </a:lnTo>
                <a:lnTo>
                  <a:pt x="558" y="872"/>
                </a:lnTo>
                <a:lnTo>
                  <a:pt x="557" y="872"/>
                </a:lnTo>
                <a:lnTo>
                  <a:pt x="557" y="872"/>
                </a:lnTo>
                <a:lnTo>
                  <a:pt x="556" y="872"/>
                </a:lnTo>
                <a:lnTo>
                  <a:pt x="555" y="872"/>
                </a:lnTo>
                <a:lnTo>
                  <a:pt x="555" y="981"/>
                </a:lnTo>
                <a:lnTo>
                  <a:pt x="558" y="981"/>
                </a:lnTo>
                <a:lnTo>
                  <a:pt x="560" y="981"/>
                </a:lnTo>
                <a:lnTo>
                  <a:pt x="562" y="981"/>
                </a:lnTo>
                <a:lnTo>
                  <a:pt x="562" y="981"/>
                </a:lnTo>
                <a:lnTo>
                  <a:pt x="564" y="981"/>
                </a:lnTo>
                <a:lnTo>
                  <a:pt x="573" y="981"/>
                </a:lnTo>
                <a:lnTo>
                  <a:pt x="585" y="981"/>
                </a:lnTo>
                <a:lnTo>
                  <a:pt x="602" y="981"/>
                </a:lnTo>
                <a:lnTo>
                  <a:pt x="622" y="981"/>
                </a:lnTo>
                <a:lnTo>
                  <a:pt x="645" y="981"/>
                </a:lnTo>
                <a:lnTo>
                  <a:pt x="671" y="981"/>
                </a:lnTo>
                <a:lnTo>
                  <a:pt x="697" y="981"/>
                </a:lnTo>
                <a:lnTo>
                  <a:pt x="726" y="981"/>
                </a:lnTo>
                <a:lnTo>
                  <a:pt x="754" y="981"/>
                </a:lnTo>
                <a:lnTo>
                  <a:pt x="783" y="981"/>
                </a:lnTo>
                <a:lnTo>
                  <a:pt x="811" y="981"/>
                </a:lnTo>
                <a:lnTo>
                  <a:pt x="838" y="981"/>
                </a:lnTo>
                <a:lnTo>
                  <a:pt x="863" y="981"/>
                </a:lnTo>
                <a:lnTo>
                  <a:pt x="885" y="981"/>
                </a:lnTo>
                <a:lnTo>
                  <a:pt x="905" y="981"/>
                </a:lnTo>
                <a:lnTo>
                  <a:pt x="937" y="980"/>
                </a:lnTo>
                <a:lnTo>
                  <a:pt x="961" y="977"/>
                </a:lnTo>
                <a:lnTo>
                  <a:pt x="983" y="970"/>
                </a:lnTo>
                <a:lnTo>
                  <a:pt x="997" y="957"/>
                </a:lnTo>
                <a:lnTo>
                  <a:pt x="1009" y="941"/>
                </a:lnTo>
                <a:lnTo>
                  <a:pt x="1013" y="916"/>
                </a:lnTo>
                <a:lnTo>
                  <a:pt x="1014" y="882"/>
                </a:lnTo>
                <a:lnTo>
                  <a:pt x="1011" y="840"/>
                </a:lnTo>
                <a:lnTo>
                  <a:pt x="1005" y="810"/>
                </a:lnTo>
                <a:lnTo>
                  <a:pt x="995" y="772"/>
                </a:lnTo>
                <a:lnTo>
                  <a:pt x="983" y="730"/>
                </a:lnTo>
                <a:lnTo>
                  <a:pt x="968" y="686"/>
                </a:lnTo>
                <a:lnTo>
                  <a:pt x="951" y="644"/>
                </a:lnTo>
                <a:lnTo>
                  <a:pt x="936" y="606"/>
                </a:lnTo>
                <a:lnTo>
                  <a:pt x="921" y="574"/>
                </a:lnTo>
                <a:lnTo>
                  <a:pt x="907" y="553"/>
                </a:lnTo>
                <a:lnTo>
                  <a:pt x="894" y="535"/>
                </a:lnTo>
                <a:lnTo>
                  <a:pt x="878" y="513"/>
                </a:lnTo>
                <a:lnTo>
                  <a:pt x="863" y="489"/>
                </a:lnTo>
                <a:lnTo>
                  <a:pt x="846" y="464"/>
                </a:lnTo>
                <a:lnTo>
                  <a:pt x="831" y="440"/>
                </a:lnTo>
                <a:lnTo>
                  <a:pt x="819" y="419"/>
                </a:lnTo>
                <a:lnTo>
                  <a:pt x="809" y="401"/>
                </a:lnTo>
                <a:lnTo>
                  <a:pt x="804" y="389"/>
                </a:lnTo>
                <a:lnTo>
                  <a:pt x="799" y="365"/>
                </a:lnTo>
                <a:lnTo>
                  <a:pt x="795" y="332"/>
                </a:lnTo>
                <a:lnTo>
                  <a:pt x="794" y="295"/>
                </a:lnTo>
                <a:lnTo>
                  <a:pt x="794" y="259"/>
                </a:lnTo>
                <a:lnTo>
                  <a:pt x="797" y="237"/>
                </a:lnTo>
                <a:lnTo>
                  <a:pt x="803" y="222"/>
                </a:lnTo>
                <a:lnTo>
                  <a:pt x="811" y="215"/>
                </a:lnTo>
                <a:lnTo>
                  <a:pt x="821" y="216"/>
                </a:lnTo>
                <a:lnTo>
                  <a:pt x="827" y="231"/>
                </a:lnTo>
                <a:lnTo>
                  <a:pt x="824" y="255"/>
                </a:lnTo>
                <a:lnTo>
                  <a:pt x="819" y="283"/>
                </a:lnTo>
                <a:lnTo>
                  <a:pt x="813" y="305"/>
                </a:lnTo>
                <a:lnTo>
                  <a:pt x="812" y="315"/>
                </a:lnTo>
                <a:lnTo>
                  <a:pt x="813" y="325"/>
                </a:lnTo>
                <a:lnTo>
                  <a:pt x="817" y="336"/>
                </a:lnTo>
                <a:lnTo>
                  <a:pt x="821" y="346"/>
                </a:lnTo>
                <a:lnTo>
                  <a:pt x="827" y="357"/>
                </a:lnTo>
                <a:lnTo>
                  <a:pt x="834" y="368"/>
                </a:lnTo>
                <a:lnTo>
                  <a:pt x="845" y="379"/>
                </a:lnTo>
                <a:lnTo>
                  <a:pt x="856" y="390"/>
                </a:lnTo>
                <a:lnTo>
                  <a:pt x="863" y="396"/>
                </a:lnTo>
                <a:lnTo>
                  <a:pt x="870" y="403"/>
                </a:lnTo>
                <a:lnTo>
                  <a:pt x="879" y="408"/>
                </a:lnTo>
                <a:lnTo>
                  <a:pt x="890" y="414"/>
                </a:lnTo>
                <a:lnTo>
                  <a:pt x="901" y="421"/>
                </a:lnTo>
                <a:lnTo>
                  <a:pt x="913" y="426"/>
                </a:lnTo>
                <a:lnTo>
                  <a:pt x="925" y="432"/>
                </a:lnTo>
                <a:lnTo>
                  <a:pt x="939" y="438"/>
                </a:lnTo>
                <a:lnTo>
                  <a:pt x="952" y="442"/>
                </a:lnTo>
                <a:lnTo>
                  <a:pt x="966" y="447"/>
                </a:lnTo>
                <a:lnTo>
                  <a:pt x="980" y="450"/>
                </a:lnTo>
                <a:lnTo>
                  <a:pt x="994" y="453"/>
                </a:lnTo>
                <a:lnTo>
                  <a:pt x="1009" y="456"/>
                </a:lnTo>
                <a:lnTo>
                  <a:pt x="1022" y="457"/>
                </a:lnTo>
                <a:lnTo>
                  <a:pt x="1036" y="457"/>
                </a:lnTo>
                <a:lnTo>
                  <a:pt x="1048" y="456"/>
                </a:lnTo>
                <a:lnTo>
                  <a:pt x="1064" y="453"/>
                </a:lnTo>
                <a:lnTo>
                  <a:pt x="1078" y="447"/>
                </a:lnTo>
                <a:lnTo>
                  <a:pt x="1091" y="442"/>
                </a:lnTo>
                <a:lnTo>
                  <a:pt x="1102" y="432"/>
                </a:lnTo>
                <a:lnTo>
                  <a:pt x="1110" y="421"/>
                </a:lnTo>
                <a:lnTo>
                  <a:pt x="1116" y="405"/>
                </a:lnTo>
                <a:lnTo>
                  <a:pt x="1121" y="386"/>
                </a:lnTo>
                <a:lnTo>
                  <a:pt x="1122" y="364"/>
                </a:lnTo>
                <a:lnTo>
                  <a:pt x="1121" y="336"/>
                </a:lnTo>
                <a:lnTo>
                  <a:pt x="1118" y="304"/>
                </a:lnTo>
                <a:lnTo>
                  <a:pt x="1111" y="269"/>
                </a:lnTo>
                <a:lnTo>
                  <a:pt x="1100" y="233"/>
                </a:lnTo>
                <a:lnTo>
                  <a:pt x="1082" y="196"/>
                </a:lnTo>
                <a:lnTo>
                  <a:pt x="1058" y="160"/>
                </a:lnTo>
                <a:lnTo>
                  <a:pt x="1027" y="127"/>
                </a:lnTo>
                <a:lnTo>
                  <a:pt x="986" y="98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>
            <a:off x="4495680" y="2048040"/>
            <a:ext cx="3824280" cy="2892240"/>
          </a:xfrm>
          <a:custGeom>
            <a:avLst/>
            <a:gdLst/>
            <a:ahLst/>
            <a:rect l="l" t="t" r="r" b="b"/>
            <a:pathLst>
              <a:path w="2408" h="1822">
                <a:moveTo>
                  <a:pt x="0" y="0"/>
                </a:moveTo>
                <a:lnTo>
                  <a:pt x="6" y="126"/>
                </a:lnTo>
                <a:lnTo>
                  <a:pt x="2408" y="18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4" name=""/>
          <p:cNvGrpSpPr/>
          <p:nvPr/>
        </p:nvGrpSpPr>
        <p:grpSpPr>
          <a:xfrm>
            <a:off x="5670720" y="2836800"/>
            <a:ext cx="699840" cy="383760"/>
            <a:chOff x="5670720" y="2836800"/>
            <a:chExt cx="699840" cy="383760"/>
          </a:xfrm>
        </p:grpSpPr>
        <p:sp>
          <p:nvSpPr>
            <p:cNvPr id="3105" name=""/>
            <p:cNvSpPr/>
            <p:nvPr/>
          </p:nvSpPr>
          <p:spPr>
            <a:xfrm>
              <a:off x="5670720" y="2836800"/>
              <a:ext cx="699840" cy="376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5693040" y="2852280"/>
              <a:ext cx="5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a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7" name=""/>
          <p:cNvSpPr/>
          <p:nvPr/>
        </p:nvSpPr>
        <p:spPr>
          <a:xfrm>
            <a:off x="4843440" y="3911760"/>
            <a:ext cx="892080" cy="519120"/>
          </a:xfrm>
          <a:custGeom>
            <a:avLst/>
            <a:gdLst/>
            <a:ahLst/>
            <a:rect l="l" t="t" r="r" b="b"/>
            <a:pathLst>
              <a:path w="1122" h="981">
                <a:moveTo>
                  <a:pt x="986" y="98"/>
                </a:moveTo>
                <a:lnTo>
                  <a:pt x="964" y="84"/>
                </a:lnTo>
                <a:lnTo>
                  <a:pt x="941" y="72"/>
                </a:lnTo>
                <a:lnTo>
                  <a:pt x="918" y="61"/>
                </a:lnTo>
                <a:lnTo>
                  <a:pt x="894" y="52"/>
                </a:lnTo>
                <a:lnTo>
                  <a:pt x="870" y="42"/>
                </a:lnTo>
                <a:lnTo>
                  <a:pt x="847" y="35"/>
                </a:lnTo>
                <a:lnTo>
                  <a:pt x="821" y="28"/>
                </a:lnTo>
                <a:lnTo>
                  <a:pt x="796" y="21"/>
                </a:lnTo>
                <a:lnTo>
                  <a:pt x="770" y="15"/>
                </a:lnTo>
                <a:lnTo>
                  <a:pt x="744" y="11"/>
                </a:lnTo>
                <a:lnTo>
                  <a:pt x="715" y="8"/>
                </a:lnTo>
                <a:lnTo>
                  <a:pt x="687" y="4"/>
                </a:lnTo>
                <a:lnTo>
                  <a:pt x="657" y="3"/>
                </a:lnTo>
                <a:lnTo>
                  <a:pt x="627" y="1"/>
                </a:lnTo>
                <a:lnTo>
                  <a:pt x="594" y="0"/>
                </a:lnTo>
                <a:lnTo>
                  <a:pt x="562" y="0"/>
                </a:lnTo>
                <a:lnTo>
                  <a:pt x="528" y="0"/>
                </a:lnTo>
                <a:lnTo>
                  <a:pt x="496" y="1"/>
                </a:lnTo>
                <a:lnTo>
                  <a:pt x="465" y="3"/>
                </a:lnTo>
                <a:lnTo>
                  <a:pt x="436" y="4"/>
                </a:lnTo>
                <a:lnTo>
                  <a:pt x="407" y="8"/>
                </a:lnTo>
                <a:lnTo>
                  <a:pt x="378" y="11"/>
                </a:lnTo>
                <a:lnTo>
                  <a:pt x="352" y="15"/>
                </a:lnTo>
                <a:lnTo>
                  <a:pt x="326" y="21"/>
                </a:lnTo>
                <a:lnTo>
                  <a:pt x="300" y="28"/>
                </a:lnTo>
                <a:lnTo>
                  <a:pt x="275" y="35"/>
                </a:lnTo>
                <a:lnTo>
                  <a:pt x="252" y="42"/>
                </a:lnTo>
                <a:lnTo>
                  <a:pt x="227" y="52"/>
                </a:lnTo>
                <a:lnTo>
                  <a:pt x="203" y="61"/>
                </a:lnTo>
                <a:lnTo>
                  <a:pt x="181" y="72"/>
                </a:lnTo>
                <a:lnTo>
                  <a:pt x="157" y="84"/>
                </a:lnTo>
                <a:lnTo>
                  <a:pt x="135" y="98"/>
                </a:lnTo>
                <a:lnTo>
                  <a:pt x="94" y="127"/>
                </a:lnTo>
                <a:lnTo>
                  <a:pt x="63" y="160"/>
                </a:lnTo>
                <a:lnTo>
                  <a:pt x="39" y="196"/>
                </a:lnTo>
                <a:lnTo>
                  <a:pt x="22" y="233"/>
                </a:lnTo>
                <a:lnTo>
                  <a:pt x="11" y="269"/>
                </a:lnTo>
                <a:lnTo>
                  <a:pt x="4" y="304"/>
                </a:lnTo>
                <a:lnTo>
                  <a:pt x="1" y="336"/>
                </a:lnTo>
                <a:lnTo>
                  <a:pt x="0" y="364"/>
                </a:lnTo>
                <a:lnTo>
                  <a:pt x="1" y="386"/>
                </a:lnTo>
                <a:lnTo>
                  <a:pt x="6" y="405"/>
                </a:lnTo>
                <a:lnTo>
                  <a:pt x="11" y="421"/>
                </a:lnTo>
                <a:lnTo>
                  <a:pt x="20" y="432"/>
                </a:lnTo>
                <a:lnTo>
                  <a:pt x="30" y="442"/>
                </a:lnTo>
                <a:lnTo>
                  <a:pt x="43" y="447"/>
                </a:lnTo>
                <a:lnTo>
                  <a:pt x="57" y="453"/>
                </a:lnTo>
                <a:lnTo>
                  <a:pt x="73" y="456"/>
                </a:lnTo>
                <a:lnTo>
                  <a:pt x="86" y="457"/>
                </a:lnTo>
                <a:lnTo>
                  <a:pt x="99" y="457"/>
                </a:lnTo>
                <a:lnTo>
                  <a:pt x="113" y="456"/>
                </a:lnTo>
                <a:lnTo>
                  <a:pt x="127" y="453"/>
                </a:lnTo>
                <a:lnTo>
                  <a:pt x="142" y="450"/>
                </a:lnTo>
                <a:lnTo>
                  <a:pt x="155" y="447"/>
                </a:lnTo>
                <a:lnTo>
                  <a:pt x="168" y="442"/>
                </a:lnTo>
                <a:lnTo>
                  <a:pt x="183" y="438"/>
                </a:lnTo>
                <a:lnTo>
                  <a:pt x="195" y="432"/>
                </a:lnTo>
                <a:lnTo>
                  <a:pt x="208" y="426"/>
                </a:lnTo>
                <a:lnTo>
                  <a:pt x="220" y="421"/>
                </a:lnTo>
                <a:lnTo>
                  <a:pt x="231" y="414"/>
                </a:lnTo>
                <a:lnTo>
                  <a:pt x="241" y="408"/>
                </a:lnTo>
                <a:lnTo>
                  <a:pt x="250" y="403"/>
                </a:lnTo>
                <a:lnTo>
                  <a:pt x="258" y="396"/>
                </a:lnTo>
                <a:lnTo>
                  <a:pt x="265" y="390"/>
                </a:lnTo>
                <a:lnTo>
                  <a:pt x="276" y="379"/>
                </a:lnTo>
                <a:lnTo>
                  <a:pt x="286" y="368"/>
                </a:lnTo>
                <a:lnTo>
                  <a:pt x="294" y="357"/>
                </a:lnTo>
                <a:lnTo>
                  <a:pt x="300" y="346"/>
                </a:lnTo>
                <a:lnTo>
                  <a:pt x="304" y="336"/>
                </a:lnTo>
                <a:lnTo>
                  <a:pt x="308" y="325"/>
                </a:lnTo>
                <a:lnTo>
                  <a:pt x="309" y="315"/>
                </a:lnTo>
                <a:lnTo>
                  <a:pt x="308" y="305"/>
                </a:lnTo>
                <a:lnTo>
                  <a:pt x="302" y="283"/>
                </a:lnTo>
                <a:lnTo>
                  <a:pt x="297" y="255"/>
                </a:lnTo>
                <a:lnTo>
                  <a:pt x="294" y="231"/>
                </a:lnTo>
                <a:lnTo>
                  <a:pt x="300" y="216"/>
                </a:lnTo>
                <a:lnTo>
                  <a:pt x="310" y="215"/>
                </a:lnTo>
                <a:lnTo>
                  <a:pt x="318" y="222"/>
                </a:lnTo>
                <a:lnTo>
                  <a:pt x="323" y="237"/>
                </a:lnTo>
                <a:lnTo>
                  <a:pt x="327" y="259"/>
                </a:lnTo>
                <a:lnTo>
                  <a:pt x="328" y="295"/>
                </a:lnTo>
                <a:lnTo>
                  <a:pt x="326" y="332"/>
                </a:lnTo>
                <a:lnTo>
                  <a:pt x="322" y="365"/>
                </a:lnTo>
                <a:lnTo>
                  <a:pt x="317" y="389"/>
                </a:lnTo>
                <a:lnTo>
                  <a:pt x="312" y="401"/>
                </a:lnTo>
                <a:lnTo>
                  <a:pt x="302" y="419"/>
                </a:lnTo>
                <a:lnTo>
                  <a:pt x="290" y="440"/>
                </a:lnTo>
                <a:lnTo>
                  <a:pt x="275" y="464"/>
                </a:lnTo>
                <a:lnTo>
                  <a:pt x="258" y="489"/>
                </a:lnTo>
                <a:lnTo>
                  <a:pt x="243" y="513"/>
                </a:lnTo>
                <a:lnTo>
                  <a:pt x="227" y="535"/>
                </a:lnTo>
                <a:lnTo>
                  <a:pt x="213" y="553"/>
                </a:lnTo>
                <a:lnTo>
                  <a:pt x="200" y="574"/>
                </a:lnTo>
                <a:lnTo>
                  <a:pt x="185" y="606"/>
                </a:lnTo>
                <a:lnTo>
                  <a:pt x="170" y="644"/>
                </a:lnTo>
                <a:lnTo>
                  <a:pt x="154" y="686"/>
                </a:lnTo>
                <a:lnTo>
                  <a:pt x="138" y="730"/>
                </a:lnTo>
                <a:lnTo>
                  <a:pt x="126" y="772"/>
                </a:lnTo>
                <a:lnTo>
                  <a:pt x="116" y="810"/>
                </a:lnTo>
                <a:lnTo>
                  <a:pt x="110" y="840"/>
                </a:lnTo>
                <a:lnTo>
                  <a:pt x="107" y="882"/>
                </a:lnTo>
                <a:lnTo>
                  <a:pt x="108" y="916"/>
                </a:lnTo>
                <a:lnTo>
                  <a:pt x="113" y="941"/>
                </a:lnTo>
                <a:lnTo>
                  <a:pt x="124" y="957"/>
                </a:lnTo>
                <a:lnTo>
                  <a:pt x="139" y="970"/>
                </a:lnTo>
                <a:lnTo>
                  <a:pt x="159" y="977"/>
                </a:lnTo>
                <a:lnTo>
                  <a:pt x="185" y="980"/>
                </a:lnTo>
                <a:lnTo>
                  <a:pt x="217" y="981"/>
                </a:lnTo>
                <a:lnTo>
                  <a:pt x="235" y="981"/>
                </a:lnTo>
                <a:lnTo>
                  <a:pt x="255" y="981"/>
                </a:lnTo>
                <a:lnTo>
                  <a:pt x="277" y="981"/>
                </a:lnTo>
                <a:lnTo>
                  <a:pt x="301" y="981"/>
                </a:lnTo>
                <a:lnTo>
                  <a:pt x="326" y="981"/>
                </a:lnTo>
                <a:lnTo>
                  <a:pt x="352" y="981"/>
                </a:lnTo>
                <a:lnTo>
                  <a:pt x="378" y="981"/>
                </a:lnTo>
                <a:lnTo>
                  <a:pt x="404" y="981"/>
                </a:lnTo>
                <a:lnTo>
                  <a:pt x="430" y="981"/>
                </a:lnTo>
                <a:lnTo>
                  <a:pt x="455" y="981"/>
                </a:lnTo>
                <a:lnTo>
                  <a:pt x="477" y="981"/>
                </a:lnTo>
                <a:lnTo>
                  <a:pt x="499" y="981"/>
                </a:lnTo>
                <a:lnTo>
                  <a:pt x="518" y="981"/>
                </a:lnTo>
                <a:lnTo>
                  <a:pt x="533" y="981"/>
                </a:lnTo>
                <a:lnTo>
                  <a:pt x="546" y="981"/>
                </a:lnTo>
                <a:lnTo>
                  <a:pt x="555" y="981"/>
                </a:lnTo>
                <a:lnTo>
                  <a:pt x="555" y="872"/>
                </a:lnTo>
                <a:lnTo>
                  <a:pt x="535" y="871"/>
                </a:lnTo>
                <a:lnTo>
                  <a:pt x="514" y="867"/>
                </a:lnTo>
                <a:lnTo>
                  <a:pt x="495" y="860"/>
                </a:lnTo>
                <a:lnTo>
                  <a:pt x="477" y="851"/>
                </a:lnTo>
                <a:lnTo>
                  <a:pt x="459" y="842"/>
                </a:lnTo>
                <a:lnTo>
                  <a:pt x="444" y="828"/>
                </a:lnTo>
                <a:lnTo>
                  <a:pt x="428" y="814"/>
                </a:lnTo>
                <a:lnTo>
                  <a:pt x="413" y="797"/>
                </a:lnTo>
                <a:lnTo>
                  <a:pt x="401" y="779"/>
                </a:lnTo>
                <a:lnTo>
                  <a:pt x="389" y="761"/>
                </a:lnTo>
                <a:lnTo>
                  <a:pt x="380" y="740"/>
                </a:lnTo>
                <a:lnTo>
                  <a:pt x="371" y="718"/>
                </a:lnTo>
                <a:lnTo>
                  <a:pt x="364" y="694"/>
                </a:lnTo>
                <a:lnTo>
                  <a:pt x="359" y="670"/>
                </a:lnTo>
                <a:lnTo>
                  <a:pt x="356" y="645"/>
                </a:lnTo>
                <a:lnTo>
                  <a:pt x="355" y="620"/>
                </a:lnTo>
                <a:lnTo>
                  <a:pt x="356" y="595"/>
                </a:lnTo>
                <a:lnTo>
                  <a:pt x="359" y="570"/>
                </a:lnTo>
                <a:lnTo>
                  <a:pt x="364" y="546"/>
                </a:lnTo>
                <a:lnTo>
                  <a:pt x="371" y="523"/>
                </a:lnTo>
                <a:lnTo>
                  <a:pt x="380" y="500"/>
                </a:lnTo>
                <a:lnTo>
                  <a:pt x="389" y="479"/>
                </a:lnTo>
                <a:lnTo>
                  <a:pt x="401" y="461"/>
                </a:lnTo>
                <a:lnTo>
                  <a:pt x="413" y="443"/>
                </a:lnTo>
                <a:lnTo>
                  <a:pt x="428" y="426"/>
                </a:lnTo>
                <a:lnTo>
                  <a:pt x="444" y="412"/>
                </a:lnTo>
                <a:lnTo>
                  <a:pt x="459" y="399"/>
                </a:lnTo>
                <a:lnTo>
                  <a:pt x="477" y="389"/>
                </a:lnTo>
                <a:lnTo>
                  <a:pt x="495" y="380"/>
                </a:lnTo>
                <a:lnTo>
                  <a:pt x="514" y="373"/>
                </a:lnTo>
                <a:lnTo>
                  <a:pt x="535" y="369"/>
                </a:lnTo>
                <a:lnTo>
                  <a:pt x="555" y="368"/>
                </a:lnTo>
                <a:lnTo>
                  <a:pt x="555" y="241"/>
                </a:lnTo>
                <a:lnTo>
                  <a:pt x="546" y="241"/>
                </a:lnTo>
                <a:lnTo>
                  <a:pt x="536" y="241"/>
                </a:lnTo>
                <a:lnTo>
                  <a:pt x="524" y="242"/>
                </a:lnTo>
                <a:lnTo>
                  <a:pt x="513" y="242"/>
                </a:lnTo>
                <a:lnTo>
                  <a:pt x="503" y="242"/>
                </a:lnTo>
                <a:lnTo>
                  <a:pt x="493" y="244"/>
                </a:lnTo>
                <a:lnTo>
                  <a:pt x="484" y="244"/>
                </a:lnTo>
                <a:lnTo>
                  <a:pt x="477" y="244"/>
                </a:lnTo>
                <a:lnTo>
                  <a:pt x="467" y="237"/>
                </a:lnTo>
                <a:lnTo>
                  <a:pt x="462" y="220"/>
                </a:lnTo>
                <a:lnTo>
                  <a:pt x="460" y="203"/>
                </a:lnTo>
                <a:lnTo>
                  <a:pt x="465" y="195"/>
                </a:lnTo>
                <a:lnTo>
                  <a:pt x="471" y="194"/>
                </a:lnTo>
                <a:lnTo>
                  <a:pt x="478" y="194"/>
                </a:lnTo>
                <a:lnTo>
                  <a:pt x="489" y="194"/>
                </a:lnTo>
                <a:lnTo>
                  <a:pt x="501" y="194"/>
                </a:lnTo>
                <a:lnTo>
                  <a:pt x="514" y="194"/>
                </a:lnTo>
                <a:lnTo>
                  <a:pt x="530" y="195"/>
                </a:lnTo>
                <a:lnTo>
                  <a:pt x="546" y="195"/>
                </a:lnTo>
                <a:lnTo>
                  <a:pt x="562" y="195"/>
                </a:lnTo>
                <a:lnTo>
                  <a:pt x="577" y="195"/>
                </a:lnTo>
                <a:lnTo>
                  <a:pt x="593" y="195"/>
                </a:lnTo>
                <a:lnTo>
                  <a:pt x="608" y="194"/>
                </a:lnTo>
                <a:lnTo>
                  <a:pt x="621" y="194"/>
                </a:lnTo>
                <a:lnTo>
                  <a:pt x="633" y="194"/>
                </a:lnTo>
                <a:lnTo>
                  <a:pt x="644" y="194"/>
                </a:lnTo>
                <a:lnTo>
                  <a:pt x="651" y="194"/>
                </a:lnTo>
                <a:lnTo>
                  <a:pt x="657" y="195"/>
                </a:lnTo>
                <a:lnTo>
                  <a:pt x="662" y="203"/>
                </a:lnTo>
                <a:lnTo>
                  <a:pt x="662" y="220"/>
                </a:lnTo>
                <a:lnTo>
                  <a:pt x="655" y="237"/>
                </a:lnTo>
                <a:lnTo>
                  <a:pt x="645" y="244"/>
                </a:lnTo>
                <a:lnTo>
                  <a:pt x="637" y="244"/>
                </a:lnTo>
                <a:lnTo>
                  <a:pt x="628" y="244"/>
                </a:lnTo>
                <a:lnTo>
                  <a:pt x="617" y="242"/>
                </a:lnTo>
                <a:lnTo>
                  <a:pt x="605" y="242"/>
                </a:lnTo>
                <a:lnTo>
                  <a:pt x="593" y="242"/>
                </a:lnTo>
                <a:lnTo>
                  <a:pt x="581" y="241"/>
                </a:lnTo>
                <a:lnTo>
                  <a:pt x="571" y="241"/>
                </a:lnTo>
                <a:lnTo>
                  <a:pt x="562" y="241"/>
                </a:lnTo>
                <a:lnTo>
                  <a:pt x="560" y="241"/>
                </a:lnTo>
                <a:lnTo>
                  <a:pt x="558" y="241"/>
                </a:lnTo>
                <a:lnTo>
                  <a:pt x="557" y="241"/>
                </a:lnTo>
                <a:lnTo>
                  <a:pt x="555" y="241"/>
                </a:lnTo>
                <a:lnTo>
                  <a:pt x="555" y="368"/>
                </a:lnTo>
                <a:lnTo>
                  <a:pt x="556" y="368"/>
                </a:lnTo>
                <a:lnTo>
                  <a:pt x="557" y="368"/>
                </a:lnTo>
                <a:lnTo>
                  <a:pt x="557" y="368"/>
                </a:lnTo>
                <a:lnTo>
                  <a:pt x="558" y="368"/>
                </a:lnTo>
                <a:lnTo>
                  <a:pt x="580" y="369"/>
                </a:lnTo>
                <a:lnTo>
                  <a:pt x="600" y="373"/>
                </a:lnTo>
                <a:lnTo>
                  <a:pt x="619" y="379"/>
                </a:lnTo>
                <a:lnTo>
                  <a:pt x="638" y="387"/>
                </a:lnTo>
                <a:lnTo>
                  <a:pt x="656" y="399"/>
                </a:lnTo>
                <a:lnTo>
                  <a:pt x="673" y="411"/>
                </a:lnTo>
                <a:lnTo>
                  <a:pt x="688" y="425"/>
                </a:lnTo>
                <a:lnTo>
                  <a:pt x="703" y="442"/>
                </a:lnTo>
                <a:lnTo>
                  <a:pt x="717" y="460"/>
                </a:lnTo>
                <a:lnTo>
                  <a:pt x="728" y="479"/>
                </a:lnTo>
                <a:lnTo>
                  <a:pt x="738" y="500"/>
                </a:lnTo>
                <a:lnTo>
                  <a:pt x="747" y="523"/>
                </a:lnTo>
                <a:lnTo>
                  <a:pt x="754" y="545"/>
                </a:lnTo>
                <a:lnTo>
                  <a:pt x="758" y="570"/>
                </a:lnTo>
                <a:lnTo>
                  <a:pt x="761" y="594"/>
                </a:lnTo>
                <a:lnTo>
                  <a:pt x="763" y="620"/>
                </a:lnTo>
                <a:lnTo>
                  <a:pt x="761" y="647"/>
                </a:lnTo>
                <a:lnTo>
                  <a:pt x="758" y="670"/>
                </a:lnTo>
                <a:lnTo>
                  <a:pt x="754" y="695"/>
                </a:lnTo>
                <a:lnTo>
                  <a:pt x="747" y="718"/>
                </a:lnTo>
                <a:lnTo>
                  <a:pt x="738" y="740"/>
                </a:lnTo>
                <a:lnTo>
                  <a:pt x="728" y="761"/>
                </a:lnTo>
                <a:lnTo>
                  <a:pt x="717" y="780"/>
                </a:lnTo>
                <a:lnTo>
                  <a:pt x="703" y="798"/>
                </a:lnTo>
                <a:lnTo>
                  <a:pt x="688" y="815"/>
                </a:lnTo>
                <a:lnTo>
                  <a:pt x="673" y="829"/>
                </a:lnTo>
                <a:lnTo>
                  <a:pt x="656" y="842"/>
                </a:lnTo>
                <a:lnTo>
                  <a:pt x="638" y="853"/>
                </a:lnTo>
                <a:lnTo>
                  <a:pt x="619" y="861"/>
                </a:lnTo>
                <a:lnTo>
                  <a:pt x="600" y="867"/>
                </a:lnTo>
                <a:lnTo>
                  <a:pt x="580" y="871"/>
                </a:lnTo>
                <a:lnTo>
                  <a:pt x="558" y="872"/>
                </a:lnTo>
                <a:lnTo>
                  <a:pt x="557" y="872"/>
                </a:lnTo>
                <a:lnTo>
                  <a:pt x="557" y="872"/>
                </a:lnTo>
                <a:lnTo>
                  <a:pt x="556" y="872"/>
                </a:lnTo>
                <a:lnTo>
                  <a:pt x="555" y="872"/>
                </a:lnTo>
                <a:lnTo>
                  <a:pt x="555" y="981"/>
                </a:lnTo>
                <a:lnTo>
                  <a:pt x="558" y="981"/>
                </a:lnTo>
                <a:lnTo>
                  <a:pt x="560" y="981"/>
                </a:lnTo>
                <a:lnTo>
                  <a:pt x="562" y="981"/>
                </a:lnTo>
                <a:lnTo>
                  <a:pt x="562" y="981"/>
                </a:lnTo>
                <a:lnTo>
                  <a:pt x="564" y="981"/>
                </a:lnTo>
                <a:lnTo>
                  <a:pt x="573" y="981"/>
                </a:lnTo>
                <a:lnTo>
                  <a:pt x="585" y="981"/>
                </a:lnTo>
                <a:lnTo>
                  <a:pt x="602" y="981"/>
                </a:lnTo>
                <a:lnTo>
                  <a:pt x="622" y="981"/>
                </a:lnTo>
                <a:lnTo>
                  <a:pt x="645" y="981"/>
                </a:lnTo>
                <a:lnTo>
                  <a:pt x="671" y="981"/>
                </a:lnTo>
                <a:lnTo>
                  <a:pt x="697" y="981"/>
                </a:lnTo>
                <a:lnTo>
                  <a:pt x="726" y="981"/>
                </a:lnTo>
                <a:lnTo>
                  <a:pt x="754" y="981"/>
                </a:lnTo>
                <a:lnTo>
                  <a:pt x="783" y="981"/>
                </a:lnTo>
                <a:lnTo>
                  <a:pt x="811" y="981"/>
                </a:lnTo>
                <a:lnTo>
                  <a:pt x="838" y="981"/>
                </a:lnTo>
                <a:lnTo>
                  <a:pt x="863" y="981"/>
                </a:lnTo>
                <a:lnTo>
                  <a:pt x="885" y="981"/>
                </a:lnTo>
                <a:lnTo>
                  <a:pt x="905" y="981"/>
                </a:lnTo>
                <a:lnTo>
                  <a:pt x="937" y="980"/>
                </a:lnTo>
                <a:lnTo>
                  <a:pt x="961" y="977"/>
                </a:lnTo>
                <a:lnTo>
                  <a:pt x="983" y="970"/>
                </a:lnTo>
                <a:lnTo>
                  <a:pt x="997" y="957"/>
                </a:lnTo>
                <a:lnTo>
                  <a:pt x="1009" y="941"/>
                </a:lnTo>
                <a:lnTo>
                  <a:pt x="1013" y="916"/>
                </a:lnTo>
                <a:lnTo>
                  <a:pt x="1014" y="882"/>
                </a:lnTo>
                <a:lnTo>
                  <a:pt x="1011" y="840"/>
                </a:lnTo>
                <a:lnTo>
                  <a:pt x="1005" y="810"/>
                </a:lnTo>
                <a:lnTo>
                  <a:pt x="995" y="772"/>
                </a:lnTo>
                <a:lnTo>
                  <a:pt x="983" y="730"/>
                </a:lnTo>
                <a:lnTo>
                  <a:pt x="968" y="686"/>
                </a:lnTo>
                <a:lnTo>
                  <a:pt x="951" y="644"/>
                </a:lnTo>
                <a:lnTo>
                  <a:pt x="936" y="606"/>
                </a:lnTo>
                <a:lnTo>
                  <a:pt x="921" y="574"/>
                </a:lnTo>
                <a:lnTo>
                  <a:pt x="907" y="553"/>
                </a:lnTo>
                <a:lnTo>
                  <a:pt x="894" y="535"/>
                </a:lnTo>
                <a:lnTo>
                  <a:pt x="878" y="513"/>
                </a:lnTo>
                <a:lnTo>
                  <a:pt x="863" y="489"/>
                </a:lnTo>
                <a:lnTo>
                  <a:pt x="846" y="464"/>
                </a:lnTo>
                <a:lnTo>
                  <a:pt x="831" y="440"/>
                </a:lnTo>
                <a:lnTo>
                  <a:pt x="819" y="419"/>
                </a:lnTo>
                <a:lnTo>
                  <a:pt x="809" y="401"/>
                </a:lnTo>
                <a:lnTo>
                  <a:pt x="804" y="389"/>
                </a:lnTo>
                <a:lnTo>
                  <a:pt x="799" y="365"/>
                </a:lnTo>
                <a:lnTo>
                  <a:pt x="795" y="332"/>
                </a:lnTo>
                <a:lnTo>
                  <a:pt x="794" y="295"/>
                </a:lnTo>
                <a:lnTo>
                  <a:pt x="794" y="259"/>
                </a:lnTo>
                <a:lnTo>
                  <a:pt x="797" y="237"/>
                </a:lnTo>
                <a:lnTo>
                  <a:pt x="803" y="222"/>
                </a:lnTo>
                <a:lnTo>
                  <a:pt x="811" y="215"/>
                </a:lnTo>
                <a:lnTo>
                  <a:pt x="821" y="216"/>
                </a:lnTo>
                <a:lnTo>
                  <a:pt x="827" y="231"/>
                </a:lnTo>
                <a:lnTo>
                  <a:pt x="824" y="255"/>
                </a:lnTo>
                <a:lnTo>
                  <a:pt x="819" y="283"/>
                </a:lnTo>
                <a:lnTo>
                  <a:pt x="813" y="305"/>
                </a:lnTo>
                <a:lnTo>
                  <a:pt x="812" y="315"/>
                </a:lnTo>
                <a:lnTo>
                  <a:pt x="813" y="325"/>
                </a:lnTo>
                <a:lnTo>
                  <a:pt x="817" y="336"/>
                </a:lnTo>
                <a:lnTo>
                  <a:pt x="821" y="346"/>
                </a:lnTo>
                <a:lnTo>
                  <a:pt x="827" y="357"/>
                </a:lnTo>
                <a:lnTo>
                  <a:pt x="834" y="368"/>
                </a:lnTo>
                <a:lnTo>
                  <a:pt x="845" y="379"/>
                </a:lnTo>
                <a:lnTo>
                  <a:pt x="856" y="390"/>
                </a:lnTo>
                <a:lnTo>
                  <a:pt x="863" y="396"/>
                </a:lnTo>
                <a:lnTo>
                  <a:pt x="870" y="403"/>
                </a:lnTo>
                <a:lnTo>
                  <a:pt x="879" y="408"/>
                </a:lnTo>
                <a:lnTo>
                  <a:pt x="890" y="414"/>
                </a:lnTo>
                <a:lnTo>
                  <a:pt x="901" y="421"/>
                </a:lnTo>
                <a:lnTo>
                  <a:pt x="913" y="426"/>
                </a:lnTo>
                <a:lnTo>
                  <a:pt x="925" y="432"/>
                </a:lnTo>
                <a:lnTo>
                  <a:pt x="939" y="438"/>
                </a:lnTo>
                <a:lnTo>
                  <a:pt x="952" y="442"/>
                </a:lnTo>
                <a:lnTo>
                  <a:pt x="966" y="447"/>
                </a:lnTo>
                <a:lnTo>
                  <a:pt x="980" y="450"/>
                </a:lnTo>
                <a:lnTo>
                  <a:pt x="994" y="453"/>
                </a:lnTo>
                <a:lnTo>
                  <a:pt x="1009" y="456"/>
                </a:lnTo>
                <a:lnTo>
                  <a:pt x="1022" y="457"/>
                </a:lnTo>
                <a:lnTo>
                  <a:pt x="1036" y="457"/>
                </a:lnTo>
                <a:lnTo>
                  <a:pt x="1048" y="456"/>
                </a:lnTo>
                <a:lnTo>
                  <a:pt x="1064" y="453"/>
                </a:lnTo>
                <a:lnTo>
                  <a:pt x="1078" y="447"/>
                </a:lnTo>
                <a:lnTo>
                  <a:pt x="1091" y="442"/>
                </a:lnTo>
                <a:lnTo>
                  <a:pt x="1102" y="432"/>
                </a:lnTo>
                <a:lnTo>
                  <a:pt x="1110" y="421"/>
                </a:lnTo>
                <a:lnTo>
                  <a:pt x="1116" y="405"/>
                </a:lnTo>
                <a:lnTo>
                  <a:pt x="1121" y="386"/>
                </a:lnTo>
                <a:lnTo>
                  <a:pt x="1122" y="364"/>
                </a:lnTo>
                <a:lnTo>
                  <a:pt x="1121" y="336"/>
                </a:lnTo>
                <a:lnTo>
                  <a:pt x="1118" y="304"/>
                </a:lnTo>
                <a:lnTo>
                  <a:pt x="1111" y="269"/>
                </a:lnTo>
                <a:lnTo>
                  <a:pt x="1100" y="233"/>
                </a:lnTo>
                <a:lnTo>
                  <a:pt x="1082" y="196"/>
                </a:lnTo>
                <a:lnTo>
                  <a:pt x="1058" y="160"/>
                </a:lnTo>
                <a:lnTo>
                  <a:pt x="1027" y="127"/>
                </a:lnTo>
                <a:lnTo>
                  <a:pt x="986" y="98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8090-D0E2-4988-80B4-239EA3D6111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O que é a Internet: visão dos serviç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33160" y="124920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infra-estrutura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 de comunicação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ermite o uso de aplicações distribuíd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WWW, email, jogos, comércio eletrônico, bd., votações, compartilhamento de arquivos (MP3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serviços de comunicação disponibilizad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 conex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rientado a conex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yberspace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[Gibson]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6770520" y="2200320"/>
            <a:ext cx="179712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890960" y="2057400"/>
            <a:ext cx="186552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257800" y="350820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006880" y="2192400"/>
            <a:ext cx="733680" cy="318960"/>
            <a:chOff x="5006880" y="2192400"/>
            <a:chExt cx="733680" cy="318960"/>
          </a:xfrm>
        </p:grpSpPr>
        <p:pic>
          <p:nvPicPr>
            <p:cNvPr id="571" name="" descr=""/>
            <p:cNvPicPr/>
            <p:nvPr/>
          </p:nvPicPr>
          <p:blipFill>
            <a:blip r:embed="rId1"/>
            <a:stretch/>
          </p:blipFill>
          <p:spPr>
            <a:xfrm>
              <a:off x="5006880" y="219240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" descr=""/>
            <p:cNvPicPr/>
            <p:nvPr/>
          </p:nvPicPr>
          <p:blipFill>
            <a:blip r:embed="rId2"/>
            <a:stretch/>
          </p:blipFill>
          <p:spPr>
            <a:xfrm>
              <a:off x="5460840" y="2310480"/>
              <a:ext cx="27972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 flipV="1">
              <a:off x="5413320" y="243396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006880" y="2787480"/>
            <a:ext cx="733680" cy="319320"/>
            <a:chOff x="5006880" y="2787480"/>
            <a:chExt cx="733680" cy="319320"/>
          </a:xfrm>
        </p:grpSpPr>
        <p:pic>
          <p:nvPicPr>
            <p:cNvPr id="575" name="" descr=""/>
            <p:cNvPicPr/>
            <p:nvPr/>
          </p:nvPicPr>
          <p:blipFill>
            <a:blip r:embed="rId3"/>
            <a:stretch/>
          </p:blipFill>
          <p:spPr>
            <a:xfrm>
              <a:off x="5006880" y="2787480"/>
              <a:ext cx="41616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" descr=""/>
            <p:cNvPicPr/>
            <p:nvPr/>
          </p:nvPicPr>
          <p:blipFill>
            <a:blip r:embed="rId4"/>
            <a:stretch/>
          </p:blipFill>
          <p:spPr>
            <a:xfrm>
              <a:off x="5460840" y="2905560"/>
              <a:ext cx="27972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 flipV="1">
              <a:off x="5413320" y="302904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5383080" y="2575080"/>
            <a:ext cx="69480" cy="214200"/>
            <a:chOff x="5383080" y="2575080"/>
            <a:chExt cx="69480" cy="214200"/>
          </a:xfrm>
        </p:grpSpPr>
        <p:sp>
          <p:nvSpPr>
            <p:cNvPr id="579" name=""/>
            <p:cNvSpPr/>
            <p:nvPr/>
          </p:nvSpPr>
          <p:spPr>
            <a:xfrm>
              <a:off x="5383080" y="257508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385600" y="265212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388480" y="272916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5853240" y="3078000"/>
            <a:ext cx="209520" cy="394920"/>
            <a:chOff x="5853240" y="3078000"/>
            <a:chExt cx="209520" cy="394920"/>
          </a:xfrm>
        </p:grpSpPr>
        <p:sp>
          <p:nvSpPr>
            <p:cNvPr id="583" name=""/>
            <p:cNvSpPr/>
            <p:nvPr/>
          </p:nvSpPr>
          <p:spPr>
            <a:xfrm>
              <a:off x="5853240" y="338184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959440" y="308052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854320" y="316656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853240" y="307800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062760" y="308412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5986800" y="338184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871240" y="320652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883840" y="325944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6089760" y="3231720"/>
            <a:ext cx="233280" cy="81000"/>
            <a:chOff x="6089760" y="3231720"/>
            <a:chExt cx="233280" cy="81000"/>
          </a:xfrm>
        </p:grpSpPr>
        <p:sp>
          <p:nvSpPr>
            <p:cNvPr id="592" name=""/>
            <p:cNvSpPr/>
            <p:nvPr/>
          </p:nvSpPr>
          <p:spPr>
            <a:xfrm rot="16200000">
              <a:off x="6085080" y="324252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16200000">
              <a:off x="6168960" y="323928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16200000">
              <a:off x="6252840" y="323604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5989680" y="2986200"/>
            <a:ext cx="495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992920" y="2982960"/>
            <a:ext cx="144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488280" y="2981160"/>
            <a:ext cx="2880" cy="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689440" y="2446200"/>
            <a:ext cx="289080" cy="26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5703840" y="2731680"/>
            <a:ext cx="27468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230880" y="2817720"/>
            <a:ext cx="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6348240" y="3056040"/>
            <a:ext cx="209880" cy="394920"/>
            <a:chOff x="6348240" y="3056040"/>
            <a:chExt cx="209880" cy="394920"/>
          </a:xfrm>
        </p:grpSpPr>
        <p:sp>
          <p:nvSpPr>
            <p:cNvPr id="602" name=""/>
            <p:cNvSpPr/>
            <p:nvPr/>
          </p:nvSpPr>
          <p:spPr>
            <a:xfrm>
              <a:off x="6348240" y="335988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454440" y="3058560"/>
              <a:ext cx="9648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349320" y="3144600"/>
              <a:ext cx="13284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348240" y="305604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558120" y="306216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6482160" y="335988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366240" y="3184560"/>
              <a:ext cx="8820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378840" y="3237480"/>
              <a:ext cx="6696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5392800" y="3675240"/>
            <a:ext cx="477360" cy="924840"/>
            <a:chOff x="5392800" y="3675240"/>
            <a:chExt cx="477360" cy="924840"/>
          </a:xfrm>
        </p:grpSpPr>
        <p:pic>
          <p:nvPicPr>
            <p:cNvPr id="611" name="" descr=""/>
            <p:cNvPicPr/>
            <p:nvPr/>
          </p:nvPicPr>
          <p:blipFill>
            <a:blip r:embed="rId5"/>
            <a:stretch/>
          </p:blipFill>
          <p:spPr>
            <a:xfrm>
              <a:off x="5392800" y="3675240"/>
              <a:ext cx="41508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 flipV="1">
              <a:off x="5797800" y="392184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3" name="" descr=""/>
            <p:cNvPicPr/>
            <p:nvPr/>
          </p:nvPicPr>
          <p:blipFill>
            <a:blip r:embed="rId6"/>
            <a:stretch/>
          </p:blipFill>
          <p:spPr>
            <a:xfrm>
              <a:off x="5392800" y="4269600"/>
              <a:ext cx="41508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 flipV="1">
              <a:off x="5797800" y="451980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5517720" y="4016160"/>
              <a:ext cx="70200" cy="222120"/>
              <a:chOff x="5517720" y="4016160"/>
              <a:chExt cx="70200" cy="222120"/>
            </a:xfrm>
          </p:grpSpPr>
          <p:sp>
            <p:nvSpPr>
              <p:cNvPr id="616" name=""/>
              <p:cNvSpPr/>
              <p:nvPr/>
            </p:nvSpPr>
            <p:spPr>
              <a:xfrm>
                <a:off x="5517720" y="4016160"/>
                <a:ext cx="64800" cy="626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520240" y="4096080"/>
                <a:ext cx="6480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523120" y="4176000"/>
                <a:ext cx="6480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5864760" y="3918960"/>
              <a:ext cx="0" cy="59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0" name="" descr=""/>
          <p:cNvPicPr/>
          <p:nvPr/>
        </p:nvPicPr>
        <p:blipFill>
          <a:blip r:embed="rId7"/>
          <a:stretch/>
        </p:blipFill>
        <p:spPr>
          <a:xfrm>
            <a:off x="6269040" y="4684680"/>
            <a:ext cx="398520" cy="33192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8"/>
          <a:stretch/>
        </p:blipFill>
        <p:spPr>
          <a:xfrm>
            <a:off x="5654520" y="4673520"/>
            <a:ext cx="397080" cy="33012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/>
          <p:nvPr/>
        </p:nvSpPr>
        <p:spPr>
          <a:xfrm rot="16200000">
            <a:off x="6061680" y="4777200"/>
            <a:ext cx="637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rot="16200000">
            <a:off x="6146640" y="4775040"/>
            <a:ext cx="63360" cy="66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16200000">
            <a:off x="6224400" y="4779720"/>
            <a:ext cx="619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6513480" y="4630680"/>
            <a:ext cx="3240" cy="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5889600" y="4619160"/>
            <a:ext cx="0" cy="6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5891040" y="461628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5870520" y="425088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472080" y="4297320"/>
            <a:ext cx="30348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7267680" y="4294080"/>
            <a:ext cx="279360" cy="39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9"/>
          <a:stretch/>
        </p:blipFill>
        <p:spPr>
          <a:xfrm>
            <a:off x="7450200" y="3846600"/>
            <a:ext cx="195120" cy="24120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10"/>
          <a:stretch/>
        </p:blipFill>
        <p:spPr>
          <a:xfrm>
            <a:off x="6114960" y="3927600"/>
            <a:ext cx="193680" cy="23976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6189840" y="3701880"/>
            <a:ext cx="1353960" cy="30492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6456240" y="5124600"/>
            <a:ext cx="406080" cy="426960"/>
            <a:chOff x="6456240" y="5124600"/>
            <a:chExt cx="406080" cy="426960"/>
          </a:xfrm>
        </p:grpSpPr>
        <p:pic>
          <p:nvPicPr>
            <p:cNvPr id="635" name="" descr=""/>
            <p:cNvPicPr/>
            <p:nvPr/>
          </p:nvPicPr>
          <p:blipFill>
            <a:blip r:embed="rId11"/>
            <a:stretch/>
          </p:blipFill>
          <p:spPr>
            <a:xfrm>
              <a:off x="6456240" y="51246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" descr=""/>
            <p:cNvPicPr/>
            <p:nvPr/>
          </p:nvPicPr>
          <p:blipFill>
            <a:blip r:embed="rId12"/>
            <a:stretch/>
          </p:blipFill>
          <p:spPr>
            <a:xfrm>
              <a:off x="6516000" y="52365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7" name=""/>
          <p:cNvGrpSpPr/>
          <p:nvPr/>
        </p:nvGrpSpPr>
        <p:grpSpPr>
          <a:xfrm>
            <a:off x="7234200" y="5156280"/>
            <a:ext cx="406080" cy="426960"/>
            <a:chOff x="7234200" y="5156280"/>
            <a:chExt cx="406080" cy="426960"/>
          </a:xfrm>
        </p:grpSpPr>
        <p:pic>
          <p:nvPicPr>
            <p:cNvPr id="638" name="" descr=""/>
            <p:cNvPicPr/>
            <p:nvPr/>
          </p:nvPicPr>
          <p:blipFill>
            <a:blip r:embed="rId13"/>
            <a:stretch/>
          </p:blipFill>
          <p:spPr>
            <a:xfrm>
              <a:off x="7234200" y="515628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" descr=""/>
            <p:cNvPicPr/>
            <p:nvPr/>
          </p:nvPicPr>
          <p:blipFill>
            <a:blip r:embed="rId14"/>
            <a:stretch/>
          </p:blipFill>
          <p:spPr>
            <a:xfrm>
              <a:off x="7293960" y="526824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0" name=""/>
          <p:cNvGrpSpPr/>
          <p:nvPr/>
        </p:nvGrpSpPr>
        <p:grpSpPr>
          <a:xfrm>
            <a:off x="6821640" y="4871880"/>
            <a:ext cx="377640" cy="376560"/>
            <a:chOff x="6821640" y="4871880"/>
            <a:chExt cx="377640" cy="376560"/>
          </a:xfrm>
        </p:grpSpPr>
        <p:pic>
          <p:nvPicPr>
            <p:cNvPr id="641" name="" descr=""/>
            <p:cNvPicPr/>
            <p:nvPr/>
          </p:nvPicPr>
          <p:blipFill>
            <a:blip r:embed="rId15"/>
            <a:stretch/>
          </p:blipFill>
          <p:spPr>
            <a:xfrm>
              <a:off x="6821640" y="4871880"/>
              <a:ext cx="377640" cy="3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6931440" y="5004000"/>
              <a:ext cx="26604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7126200" y="4775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846920" y="4199040"/>
            <a:ext cx="208080" cy="408960"/>
            <a:chOff x="7846920" y="4199040"/>
            <a:chExt cx="208080" cy="408960"/>
          </a:xfrm>
        </p:grpSpPr>
        <p:sp>
          <p:nvSpPr>
            <p:cNvPr id="645" name=""/>
            <p:cNvSpPr/>
            <p:nvPr/>
          </p:nvSpPr>
          <p:spPr>
            <a:xfrm>
              <a:off x="7846920" y="451368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952040" y="4201560"/>
              <a:ext cx="9540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848000" y="4290840"/>
              <a:ext cx="13176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846920" y="419904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055000" y="420552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7979760" y="451368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864560" y="4332240"/>
              <a:ext cx="87480" cy="181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877160" y="438696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7834320" y="4643280"/>
            <a:ext cx="208080" cy="409680"/>
            <a:chOff x="7834320" y="4643280"/>
            <a:chExt cx="208080" cy="409680"/>
          </a:xfrm>
        </p:grpSpPr>
        <p:sp>
          <p:nvSpPr>
            <p:cNvPr id="654" name=""/>
            <p:cNvSpPr/>
            <p:nvPr/>
          </p:nvSpPr>
          <p:spPr>
            <a:xfrm>
              <a:off x="7834320" y="495828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939440" y="464580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835400" y="473508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834320" y="464328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042400" y="464976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967160" y="495828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851960" y="4776480"/>
              <a:ext cx="8748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864560" y="483120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"/>
          <p:cNvSpPr/>
          <p:nvPr/>
        </p:nvSpPr>
        <p:spPr>
          <a:xfrm flipV="1">
            <a:off x="7765920" y="4267080"/>
            <a:ext cx="0" cy="6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763040" y="4876920"/>
            <a:ext cx="10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761240" y="4400640"/>
            <a:ext cx="8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6483240" y="2496960"/>
            <a:ext cx="45900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418520" y="2481120"/>
            <a:ext cx="485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7939080" y="2817720"/>
            <a:ext cx="239760" cy="68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167600" y="25938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192800" y="3241800"/>
            <a:ext cx="53532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7652880" y="3706920"/>
            <a:ext cx="26676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7426440" y="2786040"/>
            <a:ext cx="560160" cy="38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7435440" y="2225520"/>
            <a:ext cx="35100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8153280" y="2401920"/>
            <a:ext cx="201600" cy="17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5964120" y="2593800"/>
            <a:ext cx="501840" cy="233280"/>
            <a:chOff x="5964120" y="2593800"/>
            <a:chExt cx="501840" cy="233280"/>
          </a:xfrm>
        </p:grpSpPr>
        <p:sp>
          <p:nvSpPr>
            <p:cNvPr id="675" name=""/>
            <p:cNvSpPr/>
            <p:nvPr/>
          </p:nvSpPr>
          <p:spPr>
            <a:xfrm>
              <a:off x="5968080" y="2697840"/>
              <a:ext cx="49752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968080" y="26870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465960" y="26870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68080" y="268704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964120" y="259380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6083640" y="2626560"/>
              <a:ext cx="246240" cy="88560"/>
              <a:chOff x="6083640" y="2626560"/>
              <a:chExt cx="246240" cy="88560"/>
            </a:xfrm>
          </p:grpSpPr>
          <p:sp>
            <p:nvSpPr>
              <p:cNvPr id="681" name=""/>
              <p:cNvSpPr/>
              <p:nvPr/>
            </p:nvSpPr>
            <p:spPr>
              <a:xfrm flipV="1">
                <a:off x="6083640" y="2626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252480" y="2715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164640" y="26287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6083640" y="2625480"/>
              <a:ext cx="246240" cy="88560"/>
              <a:chOff x="6083640" y="2625480"/>
              <a:chExt cx="246240" cy="88560"/>
            </a:xfrm>
          </p:grpSpPr>
          <p:sp>
            <p:nvSpPr>
              <p:cNvPr id="685" name=""/>
              <p:cNvSpPr/>
              <p:nvPr/>
            </p:nvSpPr>
            <p:spPr>
              <a:xfrm>
                <a:off x="6083640" y="2712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252480" y="26254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V="1">
                <a:off x="6164640" y="26254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8" name=""/>
          <p:cNvGrpSpPr/>
          <p:nvPr/>
        </p:nvGrpSpPr>
        <p:grpSpPr>
          <a:xfrm>
            <a:off x="6916680" y="2365200"/>
            <a:ext cx="501840" cy="233280"/>
            <a:chOff x="6916680" y="2365200"/>
            <a:chExt cx="501840" cy="233280"/>
          </a:xfrm>
        </p:grpSpPr>
        <p:sp>
          <p:nvSpPr>
            <p:cNvPr id="689" name=""/>
            <p:cNvSpPr/>
            <p:nvPr/>
          </p:nvSpPr>
          <p:spPr>
            <a:xfrm>
              <a:off x="6920640" y="2469240"/>
              <a:ext cx="49752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920640" y="2458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418520" y="2458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920640" y="245844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16680" y="236520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4" name=""/>
            <p:cNvGrpSpPr/>
            <p:nvPr/>
          </p:nvGrpSpPr>
          <p:grpSpPr>
            <a:xfrm>
              <a:off x="7036200" y="2397960"/>
              <a:ext cx="246240" cy="88560"/>
              <a:chOff x="7036200" y="2397960"/>
              <a:chExt cx="246240" cy="88560"/>
            </a:xfrm>
          </p:grpSpPr>
          <p:sp>
            <p:nvSpPr>
              <p:cNvPr id="695" name=""/>
              <p:cNvSpPr/>
              <p:nvPr/>
            </p:nvSpPr>
            <p:spPr>
              <a:xfrm flipV="1">
                <a:off x="7036200" y="2397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205040" y="2486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117200" y="24001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7036200" y="2396880"/>
              <a:ext cx="246240" cy="88560"/>
              <a:chOff x="7036200" y="2396880"/>
              <a:chExt cx="246240" cy="88560"/>
            </a:xfrm>
          </p:grpSpPr>
          <p:sp>
            <p:nvSpPr>
              <p:cNvPr id="699" name=""/>
              <p:cNvSpPr/>
              <p:nvPr/>
            </p:nvSpPr>
            <p:spPr>
              <a:xfrm>
                <a:off x="7036200" y="2483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205040" y="2396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7117200" y="23968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2" name=""/>
          <p:cNvGrpSpPr/>
          <p:nvPr/>
        </p:nvGrpSpPr>
        <p:grpSpPr>
          <a:xfrm>
            <a:off x="6934320" y="3022560"/>
            <a:ext cx="501480" cy="232920"/>
            <a:chOff x="6934320" y="3022560"/>
            <a:chExt cx="501480" cy="232920"/>
          </a:xfrm>
        </p:grpSpPr>
        <p:sp>
          <p:nvSpPr>
            <p:cNvPr id="703" name=""/>
            <p:cNvSpPr/>
            <p:nvPr/>
          </p:nvSpPr>
          <p:spPr>
            <a:xfrm>
              <a:off x="6938280" y="312660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938280" y="3115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35800" y="3115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938280" y="311544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934320" y="302256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7053840" y="3055320"/>
              <a:ext cx="246240" cy="88200"/>
              <a:chOff x="7053840" y="3055320"/>
              <a:chExt cx="246240" cy="88200"/>
            </a:xfrm>
          </p:grpSpPr>
          <p:sp>
            <p:nvSpPr>
              <p:cNvPr id="709" name=""/>
              <p:cNvSpPr/>
              <p:nvPr/>
            </p:nvSpPr>
            <p:spPr>
              <a:xfrm flipV="1">
                <a:off x="7053840" y="3055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222680" y="3143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134840" y="30574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7053840" y="3054600"/>
              <a:ext cx="246240" cy="88200"/>
              <a:chOff x="7053840" y="3054600"/>
              <a:chExt cx="246240" cy="88200"/>
            </a:xfrm>
          </p:grpSpPr>
          <p:sp>
            <p:nvSpPr>
              <p:cNvPr id="713" name=""/>
              <p:cNvSpPr/>
              <p:nvPr/>
            </p:nvSpPr>
            <p:spPr>
              <a:xfrm>
                <a:off x="7053840" y="3141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222680" y="3054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7134840" y="30546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6" name=""/>
          <p:cNvGrpSpPr/>
          <p:nvPr/>
        </p:nvGrpSpPr>
        <p:grpSpPr>
          <a:xfrm>
            <a:off x="7904160" y="2573280"/>
            <a:ext cx="500040" cy="232920"/>
            <a:chOff x="7904160" y="2573280"/>
            <a:chExt cx="500040" cy="232920"/>
          </a:xfrm>
        </p:grpSpPr>
        <p:sp>
          <p:nvSpPr>
            <p:cNvPr id="717" name=""/>
            <p:cNvSpPr/>
            <p:nvPr/>
          </p:nvSpPr>
          <p:spPr>
            <a:xfrm>
              <a:off x="7908120" y="267732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908120" y="2666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404200" y="2666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08120" y="266616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904160" y="257328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2" name=""/>
            <p:cNvGrpSpPr/>
            <p:nvPr/>
          </p:nvGrpSpPr>
          <p:grpSpPr>
            <a:xfrm>
              <a:off x="8023320" y="2606040"/>
              <a:ext cx="245520" cy="88200"/>
              <a:chOff x="8023320" y="2606040"/>
              <a:chExt cx="245520" cy="88200"/>
            </a:xfrm>
          </p:grpSpPr>
          <p:sp>
            <p:nvSpPr>
              <p:cNvPr id="723" name=""/>
              <p:cNvSpPr/>
              <p:nvPr/>
            </p:nvSpPr>
            <p:spPr>
              <a:xfrm flipV="1">
                <a:off x="8023320" y="26060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191800" y="269424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103960" y="26082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8023320" y="2605320"/>
              <a:ext cx="245520" cy="88200"/>
              <a:chOff x="8023320" y="2605320"/>
              <a:chExt cx="245520" cy="88200"/>
            </a:xfrm>
          </p:grpSpPr>
          <p:sp>
            <p:nvSpPr>
              <p:cNvPr id="727" name=""/>
              <p:cNvSpPr/>
              <p:nvPr/>
            </p:nvSpPr>
            <p:spPr>
              <a:xfrm>
                <a:off x="8023320" y="26917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191800" y="26053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8103960" y="260532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0" name=""/>
          <p:cNvGrpSpPr/>
          <p:nvPr/>
        </p:nvGrpSpPr>
        <p:grpSpPr>
          <a:xfrm>
            <a:off x="7710480" y="3470400"/>
            <a:ext cx="501480" cy="232920"/>
            <a:chOff x="7710480" y="3470400"/>
            <a:chExt cx="501480" cy="232920"/>
          </a:xfrm>
        </p:grpSpPr>
        <p:sp>
          <p:nvSpPr>
            <p:cNvPr id="731" name=""/>
            <p:cNvSpPr/>
            <p:nvPr/>
          </p:nvSpPr>
          <p:spPr>
            <a:xfrm>
              <a:off x="7714440" y="357444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71444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21196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714440" y="356328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710480" y="347040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6" name=""/>
            <p:cNvGrpSpPr/>
            <p:nvPr/>
          </p:nvGrpSpPr>
          <p:grpSpPr>
            <a:xfrm>
              <a:off x="7830000" y="3503160"/>
              <a:ext cx="246240" cy="88200"/>
              <a:chOff x="7830000" y="3503160"/>
              <a:chExt cx="246240" cy="88200"/>
            </a:xfrm>
          </p:grpSpPr>
          <p:sp>
            <p:nvSpPr>
              <p:cNvPr id="737" name=""/>
              <p:cNvSpPr/>
              <p:nvPr/>
            </p:nvSpPr>
            <p:spPr>
              <a:xfrm flipV="1">
                <a:off x="7830000" y="3503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998840" y="3591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911000" y="3505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7830000" y="3502440"/>
              <a:ext cx="246240" cy="88200"/>
              <a:chOff x="7830000" y="3502440"/>
              <a:chExt cx="246240" cy="88200"/>
            </a:xfrm>
          </p:grpSpPr>
          <p:sp>
            <p:nvSpPr>
              <p:cNvPr id="741" name=""/>
              <p:cNvSpPr/>
              <p:nvPr/>
            </p:nvSpPr>
            <p:spPr>
              <a:xfrm>
                <a:off x="7830000" y="3588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998840" y="3502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7911000" y="35024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4" name=""/>
          <p:cNvGrpSpPr/>
          <p:nvPr/>
        </p:nvGrpSpPr>
        <p:grpSpPr>
          <a:xfrm>
            <a:off x="7377120" y="4054320"/>
            <a:ext cx="501480" cy="234720"/>
            <a:chOff x="7377120" y="4054320"/>
            <a:chExt cx="501480" cy="234720"/>
          </a:xfrm>
        </p:grpSpPr>
        <p:sp>
          <p:nvSpPr>
            <p:cNvPr id="745" name=""/>
            <p:cNvSpPr/>
            <p:nvPr/>
          </p:nvSpPr>
          <p:spPr>
            <a:xfrm>
              <a:off x="7381080" y="4159080"/>
              <a:ext cx="497160" cy="129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381080" y="41479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878600" y="41479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381080" y="4147920"/>
              <a:ext cx="492840" cy="79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377120" y="4054320"/>
              <a:ext cx="496800" cy="151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7496640" y="4087440"/>
              <a:ext cx="246240" cy="88920"/>
              <a:chOff x="7496640" y="4087440"/>
              <a:chExt cx="246240" cy="88920"/>
            </a:xfrm>
          </p:grpSpPr>
          <p:sp>
            <p:nvSpPr>
              <p:cNvPr id="751" name=""/>
              <p:cNvSpPr/>
              <p:nvPr/>
            </p:nvSpPr>
            <p:spPr>
              <a:xfrm flipV="1">
                <a:off x="7496640" y="40874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665480" y="4176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577640" y="40896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4" name=""/>
            <p:cNvGrpSpPr/>
            <p:nvPr/>
          </p:nvGrpSpPr>
          <p:grpSpPr>
            <a:xfrm>
              <a:off x="7496640" y="4086360"/>
              <a:ext cx="246240" cy="88920"/>
              <a:chOff x="7496640" y="4086360"/>
              <a:chExt cx="246240" cy="88920"/>
            </a:xfrm>
          </p:grpSpPr>
          <p:sp>
            <p:nvSpPr>
              <p:cNvPr id="755" name=""/>
              <p:cNvSpPr/>
              <p:nvPr/>
            </p:nvSpPr>
            <p:spPr>
              <a:xfrm>
                <a:off x="7496640" y="4173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65480" y="4086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V="1">
                <a:off x="7577640" y="40863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8" name=""/>
          <p:cNvGrpSpPr/>
          <p:nvPr/>
        </p:nvGrpSpPr>
        <p:grpSpPr>
          <a:xfrm>
            <a:off x="6767640" y="4543560"/>
            <a:ext cx="500040" cy="232920"/>
            <a:chOff x="6767640" y="4543560"/>
            <a:chExt cx="500040" cy="232920"/>
          </a:xfrm>
        </p:grpSpPr>
        <p:sp>
          <p:nvSpPr>
            <p:cNvPr id="759" name=""/>
            <p:cNvSpPr/>
            <p:nvPr/>
          </p:nvSpPr>
          <p:spPr>
            <a:xfrm>
              <a:off x="6771600" y="464760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771600" y="46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267680" y="46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771600" y="463644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767640" y="454356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6886800" y="4576320"/>
              <a:ext cx="245520" cy="88200"/>
              <a:chOff x="6886800" y="4576320"/>
              <a:chExt cx="245520" cy="88200"/>
            </a:xfrm>
          </p:grpSpPr>
          <p:sp>
            <p:nvSpPr>
              <p:cNvPr id="765" name=""/>
              <p:cNvSpPr/>
              <p:nvPr/>
            </p:nvSpPr>
            <p:spPr>
              <a:xfrm flipV="1">
                <a:off x="6886800" y="45763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055280" y="46645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967440" y="457848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6886800" y="4575600"/>
              <a:ext cx="245520" cy="88200"/>
              <a:chOff x="6886800" y="4575600"/>
              <a:chExt cx="245520" cy="88200"/>
            </a:xfrm>
          </p:grpSpPr>
          <p:sp>
            <p:nvSpPr>
              <p:cNvPr id="769" name=""/>
              <p:cNvSpPr/>
              <p:nvPr/>
            </p:nvSpPr>
            <p:spPr>
              <a:xfrm>
                <a:off x="6886800" y="46620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055280" y="45756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V="1">
                <a:off x="6967440" y="45756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2" name=""/>
          <p:cNvGrpSpPr/>
          <p:nvPr/>
        </p:nvGrpSpPr>
        <p:grpSpPr>
          <a:xfrm>
            <a:off x="5964120" y="4167360"/>
            <a:ext cx="501840" cy="232920"/>
            <a:chOff x="5964120" y="4167360"/>
            <a:chExt cx="501840" cy="232920"/>
          </a:xfrm>
        </p:grpSpPr>
        <p:sp>
          <p:nvSpPr>
            <p:cNvPr id="773" name=""/>
            <p:cNvSpPr/>
            <p:nvPr/>
          </p:nvSpPr>
          <p:spPr>
            <a:xfrm>
              <a:off x="5968080" y="427140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968080" y="4260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465960" y="4260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968080" y="426024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964120" y="416736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8" name=""/>
            <p:cNvGrpSpPr/>
            <p:nvPr/>
          </p:nvGrpSpPr>
          <p:grpSpPr>
            <a:xfrm>
              <a:off x="6083640" y="4200120"/>
              <a:ext cx="246240" cy="88200"/>
              <a:chOff x="6083640" y="4200120"/>
              <a:chExt cx="246240" cy="88200"/>
            </a:xfrm>
          </p:grpSpPr>
          <p:sp>
            <p:nvSpPr>
              <p:cNvPr id="779" name=""/>
              <p:cNvSpPr/>
              <p:nvPr/>
            </p:nvSpPr>
            <p:spPr>
              <a:xfrm flipV="1">
                <a:off x="6083640" y="42001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252480" y="42883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164640" y="42022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6083640" y="4199400"/>
              <a:ext cx="246240" cy="88200"/>
              <a:chOff x="6083640" y="4199400"/>
              <a:chExt cx="246240" cy="88200"/>
            </a:xfrm>
          </p:grpSpPr>
          <p:sp>
            <p:nvSpPr>
              <p:cNvPr id="783" name=""/>
              <p:cNvSpPr/>
              <p:nvPr/>
            </p:nvSpPr>
            <p:spPr>
              <a:xfrm>
                <a:off x="6083640" y="4285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252480" y="41994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V="1">
                <a:off x="6164640" y="41994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6" name=""/>
          <p:cNvSpPr/>
          <p:nvPr/>
        </p:nvSpPr>
        <p:spPr>
          <a:xfrm flipV="1">
            <a:off x="6219720" y="4398840"/>
            <a:ext cx="180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880" y="5656320"/>
            <a:ext cx="889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ma alucinação consensual experimentada diariamente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ilhões de operadores, em todas as nações, ..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9BD5-B2DF-4401-8BB2-596B00C36E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madas: comunicação físic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3109" name=""/>
          <p:cNvGrpSpPr/>
          <p:nvPr/>
        </p:nvGrpSpPr>
        <p:grpSpPr>
          <a:xfrm>
            <a:off x="1731960" y="1670040"/>
            <a:ext cx="5981760" cy="4497480"/>
            <a:chOff x="1731960" y="1670040"/>
            <a:chExt cx="5981760" cy="4497480"/>
          </a:xfrm>
        </p:grpSpPr>
        <p:sp>
          <p:nvSpPr>
            <p:cNvPr id="3110" name=""/>
            <p:cNvSpPr/>
            <p:nvPr/>
          </p:nvSpPr>
          <p:spPr>
            <a:xfrm>
              <a:off x="1731960" y="1670040"/>
              <a:ext cx="5981760" cy="4497480"/>
            </a:xfrm>
            <a:custGeom>
              <a:avLst/>
              <a:gdLst/>
              <a:ahLst/>
              <a:rect l="l" t="t" r="r" b="b"/>
              <a:pathLst>
                <a:path w="1340" h="1191">
                  <a:moveTo>
                    <a:pt x="550" y="42"/>
                  </a:moveTo>
                  <a:cubicBezTo>
                    <a:pt x="437" y="4"/>
                    <a:pt x="164" y="0"/>
                    <a:pt x="82" y="60"/>
                  </a:cubicBezTo>
                  <a:cubicBezTo>
                    <a:pt x="0" y="120"/>
                    <a:pt x="67" y="292"/>
                    <a:pt x="58" y="402"/>
                  </a:cubicBezTo>
                  <a:cubicBezTo>
                    <a:pt x="49" y="512"/>
                    <a:pt x="19" y="642"/>
                    <a:pt x="28" y="720"/>
                  </a:cubicBezTo>
                  <a:cubicBezTo>
                    <a:pt x="37" y="798"/>
                    <a:pt x="27" y="844"/>
                    <a:pt x="112" y="870"/>
                  </a:cubicBezTo>
                  <a:cubicBezTo>
                    <a:pt x="197" y="896"/>
                    <a:pt x="450" y="833"/>
                    <a:pt x="538" y="876"/>
                  </a:cubicBezTo>
                  <a:cubicBezTo>
                    <a:pt x="626" y="919"/>
                    <a:pt x="524" y="1091"/>
                    <a:pt x="640" y="1128"/>
                  </a:cubicBezTo>
                  <a:cubicBezTo>
                    <a:pt x="756" y="1165"/>
                    <a:pt x="1128" y="1191"/>
                    <a:pt x="1234" y="1098"/>
                  </a:cubicBezTo>
                  <a:cubicBezTo>
                    <a:pt x="1340" y="1005"/>
                    <a:pt x="1281" y="696"/>
                    <a:pt x="1276" y="570"/>
                  </a:cubicBezTo>
                  <a:cubicBezTo>
                    <a:pt x="1271" y="444"/>
                    <a:pt x="1290" y="389"/>
                    <a:pt x="1204" y="342"/>
                  </a:cubicBezTo>
                  <a:cubicBezTo>
                    <a:pt x="1118" y="295"/>
                    <a:pt x="868" y="338"/>
                    <a:pt x="760" y="288"/>
                  </a:cubicBezTo>
                  <a:cubicBezTo>
                    <a:pt x="652" y="238"/>
                    <a:pt x="663" y="80"/>
                    <a:pt x="550" y="42"/>
                  </a:cubicBezTo>
                  <a:close/>
                </a:path>
              </a:pathLst>
            </a:cu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1" name=""/>
            <p:cNvGrpSpPr/>
            <p:nvPr/>
          </p:nvGrpSpPr>
          <p:grpSpPr>
            <a:xfrm>
              <a:off x="2093760" y="2023920"/>
              <a:ext cx="2348640" cy="901080"/>
              <a:chOff x="2093760" y="2023920"/>
              <a:chExt cx="2348640" cy="901080"/>
            </a:xfrm>
          </p:grpSpPr>
          <p:pic>
            <p:nvPicPr>
              <p:cNvPr id="31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93760" y="2023920"/>
                <a:ext cx="1333080" cy="90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1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547080" y="2357640"/>
                <a:ext cx="895320" cy="52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4" name=""/>
              <p:cNvSpPr/>
              <p:nvPr/>
            </p:nvSpPr>
            <p:spPr>
              <a:xfrm flipV="1">
                <a:off x="3395520" y="2707200"/>
                <a:ext cx="365760" cy="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5" name=""/>
            <p:cNvGrpSpPr/>
            <p:nvPr/>
          </p:nvGrpSpPr>
          <p:grpSpPr>
            <a:xfrm>
              <a:off x="2093760" y="3708360"/>
              <a:ext cx="2348640" cy="902520"/>
              <a:chOff x="2093760" y="3708360"/>
              <a:chExt cx="2348640" cy="902520"/>
            </a:xfrm>
          </p:grpSpPr>
          <p:pic>
            <p:nvPicPr>
              <p:cNvPr id="311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093760" y="3708360"/>
                <a:ext cx="1333080" cy="902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1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547080" y="4042800"/>
                <a:ext cx="895320" cy="52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8" name=""/>
              <p:cNvSpPr/>
              <p:nvPr/>
            </p:nvSpPr>
            <p:spPr>
              <a:xfrm flipV="1">
                <a:off x="3395520" y="4393080"/>
                <a:ext cx="365760" cy="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9" name=""/>
            <p:cNvGrpSpPr/>
            <p:nvPr/>
          </p:nvGrpSpPr>
          <p:grpSpPr>
            <a:xfrm>
              <a:off x="3805200" y="3078000"/>
              <a:ext cx="165600" cy="605520"/>
              <a:chOff x="3805200" y="3078000"/>
              <a:chExt cx="165600" cy="605520"/>
            </a:xfrm>
          </p:grpSpPr>
          <p:sp>
            <p:nvSpPr>
              <p:cNvPr id="3120" name=""/>
              <p:cNvSpPr/>
              <p:nvPr/>
            </p:nvSpPr>
            <p:spPr>
              <a:xfrm>
                <a:off x="3805200" y="3078000"/>
                <a:ext cx="152640" cy="1710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3811680" y="3295800"/>
                <a:ext cx="152640" cy="1699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3818160" y="3513600"/>
                <a:ext cx="152640" cy="1699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3" name=""/>
            <p:cNvGrpSpPr/>
            <p:nvPr/>
          </p:nvGrpSpPr>
          <p:grpSpPr>
            <a:xfrm>
              <a:off x="4805280" y="4530600"/>
              <a:ext cx="671040" cy="1118520"/>
              <a:chOff x="4805280" y="4530600"/>
              <a:chExt cx="671040" cy="1118520"/>
            </a:xfrm>
          </p:grpSpPr>
          <p:sp>
            <p:nvSpPr>
              <p:cNvPr id="3124" name=""/>
              <p:cNvSpPr/>
              <p:nvPr/>
            </p:nvSpPr>
            <p:spPr>
              <a:xfrm>
                <a:off x="4805280" y="5390640"/>
                <a:ext cx="671040" cy="258480"/>
              </a:xfrm>
              <a:prstGeom prst="parallelogram">
                <a:avLst>
                  <a:gd name="adj" fmla="val 100010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5145120" y="4537800"/>
                <a:ext cx="308520" cy="85932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4809240" y="4781520"/>
                <a:ext cx="425160" cy="8600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4805280" y="4530600"/>
                <a:ext cx="671040" cy="258480"/>
              </a:xfrm>
              <a:prstGeom prst="parallelogram">
                <a:avLst>
                  <a:gd name="adj" fmla="val 100010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5476320" y="4548600"/>
                <a:ext cx="0" cy="84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 flipH="1">
                <a:off x="5234040" y="5390640"/>
                <a:ext cx="241560" cy="25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4862880" y="4894920"/>
                <a:ext cx="282240" cy="495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4903560" y="5044320"/>
                <a:ext cx="214200" cy="17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2" name=""/>
            <p:cNvGrpSpPr/>
            <p:nvPr/>
          </p:nvGrpSpPr>
          <p:grpSpPr>
            <a:xfrm>
              <a:off x="5562720" y="4966560"/>
              <a:ext cx="746640" cy="228960"/>
              <a:chOff x="5562720" y="4966560"/>
              <a:chExt cx="746640" cy="228960"/>
            </a:xfrm>
          </p:grpSpPr>
          <p:sp>
            <p:nvSpPr>
              <p:cNvPr id="3133" name=""/>
              <p:cNvSpPr/>
              <p:nvPr/>
            </p:nvSpPr>
            <p:spPr>
              <a:xfrm rot="16200000">
                <a:off x="5562360" y="4984560"/>
                <a:ext cx="210960" cy="210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 rot="16200000">
                <a:off x="5830560" y="4976280"/>
                <a:ext cx="210960" cy="209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 rot="16200000">
                <a:off x="6099120" y="4967280"/>
                <a:ext cx="210960" cy="209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6" name=""/>
            <p:cNvSpPr/>
            <p:nvPr/>
          </p:nvSpPr>
          <p:spPr>
            <a:xfrm>
              <a:off x="5241960" y="4270320"/>
              <a:ext cx="15876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5253120" y="4260960"/>
              <a:ext cx="4680" cy="26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6840360" y="4255920"/>
              <a:ext cx="5040" cy="23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4281480" y="2741760"/>
              <a:ext cx="925560" cy="75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 flipV="1">
              <a:off x="4321080" y="3551400"/>
              <a:ext cx="885960" cy="9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 flipV="1">
              <a:off x="6010200" y="3793680"/>
              <a:ext cx="4680" cy="46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2" name=""/>
            <p:cNvGrpSpPr/>
            <p:nvPr/>
          </p:nvGrpSpPr>
          <p:grpSpPr>
            <a:xfrm>
              <a:off x="6423120" y="4494240"/>
              <a:ext cx="670680" cy="1118520"/>
              <a:chOff x="6423120" y="4494240"/>
              <a:chExt cx="670680" cy="1118520"/>
            </a:xfrm>
          </p:grpSpPr>
          <p:sp>
            <p:nvSpPr>
              <p:cNvPr id="3143" name=""/>
              <p:cNvSpPr/>
              <p:nvPr/>
            </p:nvSpPr>
            <p:spPr>
              <a:xfrm>
                <a:off x="6423120" y="5354280"/>
                <a:ext cx="670680" cy="258480"/>
              </a:xfrm>
              <a:prstGeom prst="parallelogram">
                <a:avLst>
                  <a:gd name="adj" fmla="val 99956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6762960" y="4501440"/>
                <a:ext cx="308160" cy="85932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6427080" y="4745160"/>
                <a:ext cx="425160" cy="8600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6423120" y="4494240"/>
                <a:ext cx="670680" cy="258480"/>
              </a:xfrm>
              <a:prstGeom prst="parallelogram">
                <a:avLst>
                  <a:gd name="adj" fmla="val 99956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7093800" y="4512240"/>
                <a:ext cx="0" cy="84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 flipH="1">
                <a:off x="6852240" y="5354280"/>
                <a:ext cx="241200" cy="25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6480720" y="4858560"/>
                <a:ext cx="281880" cy="495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6521400" y="5007960"/>
                <a:ext cx="213840" cy="17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1" name=""/>
            <p:cNvGrpSpPr/>
            <p:nvPr/>
          </p:nvGrpSpPr>
          <p:grpSpPr>
            <a:xfrm>
              <a:off x="5160960" y="3160800"/>
              <a:ext cx="1607400" cy="659160"/>
              <a:chOff x="5160960" y="3160800"/>
              <a:chExt cx="1607400" cy="659160"/>
            </a:xfrm>
          </p:grpSpPr>
          <p:sp>
            <p:nvSpPr>
              <p:cNvPr id="3152" name=""/>
              <p:cNvSpPr/>
              <p:nvPr/>
            </p:nvSpPr>
            <p:spPr>
              <a:xfrm>
                <a:off x="5173920" y="3454920"/>
                <a:ext cx="1594080" cy="3650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5173920" y="3424320"/>
                <a:ext cx="0" cy="22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6768360" y="3424320"/>
                <a:ext cx="0" cy="22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5173920" y="3424320"/>
                <a:ext cx="1580040" cy="2232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5160960" y="3160800"/>
                <a:ext cx="1593000" cy="425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57" name=""/>
              <p:cNvGrpSpPr/>
              <p:nvPr/>
            </p:nvGrpSpPr>
            <p:grpSpPr>
              <a:xfrm>
                <a:off x="5544360" y="3254760"/>
                <a:ext cx="789120" cy="248400"/>
                <a:chOff x="5544360" y="3254760"/>
                <a:chExt cx="789120" cy="248400"/>
              </a:xfrm>
            </p:grpSpPr>
            <p:sp>
              <p:nvSpPr>
                <p:cNvPr id="3158" name=""/>
                <p:cNvSpPr/>
                <p:nvPr/>
              </p:nvSpPr>
              <p:spPr>
                <a:xfrm flipV="1">
                  <a:off x="5544360" y="3254760"/>
                  <a:ext cx="281520" cy="5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9" name=""/>
                <p:cNvSpPr/>
                <p:nvPr/>
              </p:nvSpPr>
              <p:spPr>
                <a:xfrm>
                  <a:off x="6085440" y="3503160"/>
                  <a:ext cx="248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0" name=""/>
                <p:cNvSpPr/>
                <p:nvPr/>
              </p:nvSpPr>
              <p:spPr>
                <a:xfrm>
                  <a:off x="5803920" y="3259800"/>
                  <a:ext cx="293040" cy="243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1" name=""/>
              <p:cNvGrpSpPr/>
              <p:nvPr/>
            </p:nvGrpSpPr>
            <p:grpSpPr>
              <a:xfrm>
                <a:off x="5544360" y="3251160"/>
                <a:ext cx="789120" cy="248400"/>
                <a:chOff x="5544360" y="3251160"/>
                <a:chExt cx="789120" cy="248400"/>
              </a:xfrm>
            </p:grpSpPr>
            <p:sp>
              <p:nvSpPr>
                <p:cNvPr id="3162" name=""/>
                <p:cNvSpPr/>
                <p:nvPr/>
              </p:nvSpPr>
              <p:spPr>
                <a:xfrm>
                  <a:off x="5544360" y="3494520"/>
                  <a:ext cx="281520" cy="5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3" name=""/>
                <p:cNvSpPr/>
                <p:nvPr/>
              </p:nvSpPr>
              <p:spPr>
                <a:xfrm>
                  <a:off x="6085440" y="3251160"/>
                  <a:ext cx="248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4" name=""/>
                <p:cNvSpPr/>
                <p:nvPr/>
              </p:nvSpPr>
              <p:spPr>
                <a:xfrm flipV="1">
                  <a:off x="5803920" y="3251160"/>
                  <a:ext cx="293040" cy="243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65" name=""/>
          <p:cNvGrpSpPr/>
          <p:nvPr/>
        </p:nvGrpSpPr>
        <p:grpSpPr>
          <a:xfrm>
            <a:off x="2114640" y="1427040"/>
            <a:ext cx="1346040" cy="1513080"/>
            <a:chOff x="2114640" y="1427040"/>
            <a:chExt cx="1346040" cy="1513080"/>
          </a:xfrm>
        </p:grpSpPr>
        <p:sp>
          <p:nvSpPr>
            <p:cNvPr id="3166" name=""/>
            <p:cNvSpPr/>
            <p:nvPr/>
          </p:nvSpPr>
          <p:spPr>
            <a:xfrm>
              <a:off x="2193840" y="1427040"/>
              <a:ext cx="1266840" cy="1433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146320" y="1488960"/>
              <a:ext cx="1266840" cy="14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114640" y="1474560"/>
              <a:ext cx="13222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plic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ranspor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e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nl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ís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 flipV="1">
              <a:off x="2141640" y="180756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 flipV="1">
              <a:off x="2160720" y="209340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 flipV="1">
              <a:off x="2160720" y="2350800"/>
              <a:ext cx="125244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 flipV="1">
              <a:off x="2136600" y="2631600"/>
              <a:ext cx="12528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3" name=""/>
          <p:cNvGrpSpPr/>
          <p:nvPr/>
        </p:nvGrpSpPr>
        <p:grpSpPr>
          <a:xfrm>
            <a:off x="2036880" y="3154320"/>
            <a:ext cx="1346040" cy="1513080"/>
            <a:chOff x="2036880" y="3154320"/>
            <a:chExt cx="1346040" cy="1513080"/>
          </a:xfrm>
        </p:grpSpPr>
        <p:sp>
          <p:nvSpPr>
            <p:cNvPr id="3174" name=""/>
            <p:cNvSpPr/>
            <p:nvPr/>
          </p:nvSpPr>
          <p:spPr>
            <a:xfrm>
              <a:off x="2116080" y="3154320"/>
              <a:ext cx="1266840" cy="1433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2068560" y="3216240"/>
              <a:ext cx="1266840" cy="14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2036880" y="3201840"/>
              <a:ext cx="13222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plic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ranspor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e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nl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ís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 flipV="1">
              <a:off x="2063880" y="353484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 flipV="1">
              <a:off x="2082960" y="382068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 flipV="1">
              <a:off x="2082960" y="4078080"/>
              <a:ext cx="125244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 flipV="1">
              <a:off x="2058840" y="4358880"/>
              <a:ext cx="12528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1" name=""/>
          <p:cNvGrpSpPr/>
          <p:nvPr/>
        </p:nvGrpSpPr>
        <p:grpSpPr>
          <a:xfrm>
            <a:off x="4454640" y="4417920"/>
            <a:ext cx="1346040" cy="1513080"/>
            <a:chOff x="4454640" y="4417920"/>
            <a:chExt cx="1346040" cy="1513080"/>
          </a:xfrm>
        </p:grpSpPr>
        <p:sp>
          <p:nvSpPr>
            <p:cNvPr id="3182" name=""/>
            <p:cNvSpPr/>
            <p:nvPr/>
          </p:nvSpPr>
          <p:spPr>
            <a:xfrm>
              <a:off x="4533840" y="4417920"/>
              <a:ext cx="1266840" cy="1433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4486320" y="4479840"/>
              <a:ext cx="1266840" cy="14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4454640" y="4465440"/>
              <a:ext cx="13222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plic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ranspor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e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nl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ís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 flipV="1">
              <a:off x="4481640" y="479844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 flipV="1">
              <a:off x="4500720" y="508428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 flipV="1">
              <a:off x="4500720" y="5341680"/>
              <a:ext cx="125244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 flipV="1">
              <a:off x="4476600" y="5622480"/>
              <a:ext cx="12528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9" name=""/>
          <p:cNvGrpSpPr/>
          <p:nvPr/>
        </p:nvGrpSpPr>
        <p:grpSpPr>
          <a:xfrm>
            <a:off x="6237360" y="4411800"/>
            <a:ext cx="1346040" cy="1513080"/>
            <a:chOff x="6237360" y="4411800"/>
            <a:chExt cx="1346040" cy="1513080"/>
          </a:xfrm>
        </p:grpSpPr>
        <p:sp>
          <p:nvSpPr>
            <p:cNvPr id="3190" name=""/>
            <p:cNvSpPr/>
            <p:nvPr/>
          </p:nvSpPr>
          <p:spPr>
            <a:xfrm>
              <a:off x="6316560" y="4411800"/>
              <a:ext cx="1266840" cy="1433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6269040" y="4473720"/>
              <a:ext cx="1266840" cy="14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6237360" y="4459320"/>
              <a:ext cx="13222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plic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ranspor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e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nl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ís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 flipV="1">
              <a:off x="6264360" y="479232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 flipV="1">
              <a:off x="6283440" y="507816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 flipV="1">
              <a:off x="6283440" y="5335560"/>
              <a:ext cx="125244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 flipV="1">
              <a:off x="6259320" y="5616360"/>
              <a:ext cx="12528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7" name=""/>
          <p:cNvGrpSpPr/>
          <p:nvPr/>
        </p:nvGrpSpPr>
        <p:grpSpPr>
          <a:xfrm>
            <a:off x="5288040" y="2884320"/>
            <a:ext cx="1320840" cy="964440"/>
            <a:chOff x="5288040" y="2884320"/>
            <a:chExt cx="1320840" cy="964440"/>
          </a:xfrm>
        </p:grpSpPr>
        <p:sp>
          <p:nvSpPr>
            <p:cNvPr id="3198" name=""/>
            <p:cNvSpPr/>
            <p:nvPr/>
          </p:nvSpPr>
          <p:spPr>
            <a:xfrm>
              <a:off x="5342040" y="2884320"/>
              <a:ext cx="1266840" cy="9255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5288040" y="2946240"/>
              <a:ext cx="1266840" cy="893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5483880" y="2931840"/>
              <a:ext cx="878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e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nl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ís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 flipV="1">
              <a:off x="5289480" y="3265200"/>
              <a:ext cx="125280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 flipV="1">
              <a:off x="5308560" y="3550680"/>
              <a:ext cx="12528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3" name=""/>
          <p:cNvSpPr/>
          <p:nvPr/>
        </p:nvSpPr>
        <p:spPr>
          <a:xfrm>
            <a:off x="2940120" y="1638360"/>
            <a:ext cx="6120" cy="1028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>
            <a:off x="6165720" y="3048120"/>
            <a:ext cx="6480" cy="2730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 flipV="1">
            <a:off x="5551560" y="3015720"/>
            <a:ext cx="0" cy="615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>
            <a:off x="5545080" y="3035160"/>
            <a:ext cx="623880" cy="3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>
            <a:off x="6165720" y="5765760"/>
            <a:ext cx="789120" cy="9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"/>
          <p:cNvSpPr/>
          <p:nvPr/>
        </p:nvSpPr>
        <p:spPr>
          <a:xfrm flipV="1">
            <a:off x="6954840" y="4606920"/>
            <a:ext cx="11160" cy="1168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 flipV="1">
            <a:off x="2971800" y="2682720"/>
            <a:ext cx="1403280" cy="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>
            <a:off x="4346640" y="2698920"/>
            <a:ext cx="1212840" cy="965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1" name=""/>
          <p:cNvGrpSpPr/>
          <p:nvPr/>
        </p:nvGrpSpPr>
        <p:grpSpPr>
          <a:xfrm>
            <a:off x="6596280" y="4178160"/>
            <a:ext cx="837720" cy="384120"/>
            <a:chOff x="6596280" y="4178160"/>
            <a:chExt cx="837720" cy="384120"/>
          </a:xfrm>
        </p:grpSpPr>
        <p:sp>
          <p:nvSpPr>
            <p:cNvPr id="3212" name=""/>
            <p:cNvSpPr/>
            <p:nvPr/>
          </p:nvSpPr>
          <p:spPr>
            <a:xfrm>
              <a:off x="6661080" y="4178160"/>
              <a:ext cx="704520" cy="380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6596280" y="4194000"/>
              <a:ext cx="83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d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4" name=""/>
          <p:cNvGrpSpPr/>
          <p:nvPr/>
        </p:nvGrpSpPr>
        <p:grpSpPr>
          <a:xfrm>
            <a:off x="2545560" y="1257480"/>
            <a:ext cx="837720" cy="384120"/>
            <a:chOff x="2545560" y="1257480"/>
            <a:chExt cx="837720" cy="384120"/>
          </a:xfrm>
        </p:grpSpPr>
        <p:sp>
          <p:nvSpPr>
            <p:cNvPr id="3215" name=""/>
            <p:cNvSpPr/>
            <p:nvPr/>
          </p:nvSpPr>
          <p:spPr>
            <a:xfrm>
              <a:off x="2610000" y="1257480"/>
              <a:ext cx="705960" cy="380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2545560" y="1273320"/>
              <a:ext cx="83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d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8CC7-24A0-4305-9239-11B3AFEBE55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title"/>
          </p:nvPr>
        </p:nvSpPr>
        <p:spPr>
          <a:xfrm>
            <a:off x="54756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madas de protocolos e dado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18" name="PlaceHolder 2"/>
          <p:cNvSpPr>
            <a:spLocks noGrp="1"/>
          </p:cNvSpPr>
          <p:nvPr>
            <p:ph/>
          </p:nvPr>
        </p:nvSpPr>
        <p:spPr>
          <a:xfrm>
            <a:off x="592200" y="1407600"/>
            <a:ext cx="824688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da camada recebe dados da camada superi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diciona informação no cabeçalho para criar uma nova unidade de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ssa a nova unidade de dados para a camada inferi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19" name=""/>
          <p:cNvGrpSpPr/>
          <p:nvPr/>
        </p:nvGrpSpPr>
        <p:grpSpPr>
          <a:xfrm>
            <a:off x="1879560" y="3618000"/>
            <a:ext cx="1745280" cy="2022840"/>
            <a:chOff x="1879560" y="3618000"/>
            <a:chExt cx="1745280" cy="2022840"/>
          </a:xfrm>
        </p:grpSpPr>
        <p:grpSp>
          <p:nvGrpSpPr>
            <p:cNvPr id="3220" name=""/>
            <p:cNvGrpSpPr/>
            <p:nvPr/>
          </p:nvGrpSpPr>
          <p:grpSpPr>
            <a:xfrm>
              <a:off x="1892160" y="3618000"/>
              <a:ext cx="1732680" cy="2009520"/>
              <a:chOff x="1892160" y="3618000"/>
              <a:chExt cx="1732680" cy="2009520"/>
            </a:xfrm>
          </p:grpSpPr>
          <p:sp>
            <p:nvSpPr>
              <p:cNvPr id="3221" name=""/>
              <p:cNvSpPr/>
              <p:nvPr/>
            </p:nvSpPr>
            <p:spPr>
              <a:xfrm>
                <a:off x="1966320" y="3618000"/>
                <a:ext cx="1658520" cy="1926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1904400" y="3701160"/>
                <a:ext cx="1658520" cy="1926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 flipV="1">
                <a:off x="1898280" y="4129920"/>
                <a:ext cx="1639800" cy="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 flipV="1">
                <a:off x="1923120" y="4513680"/>
                <a:ext cx="16398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 flipV="1">
                <a:off x="1923120" y="4859280"/>
                <a:ext cx="1639800" cy="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 flipV="1">
                <a:off x="1892160" y="5237280"/>
                <a:ext cx="16398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7" name=""/>
            <p:cNvSpPr/>
            <p:nvPr/>
          </p:nvSpPr>
          <p:spPr>
            <a:xfrm>
              <a:off x="1879560" y="3718080"/>
              <a:ext cx="17031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plic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ranspor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e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nl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ís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8" name=""/>
          <p:cNvGrpSpPr/>
          <p:nvPr/>
        </p:nvGrpSpPr>
        <p:grpSpPr>
          <a:xfrm>
            <a:off x="4256280" y="3598920"/>
            <a:ext cx="1745280" cy="2022840"/>
            <a:chOff x="4256280" y="3598920"/>
            <a:chExt cx="1745280" cy="2022840"/>
          </a:xfrm>
        </p:grpSpPr>
        <p:grpSp>
          <p:nvGrpSpPr>
            <p:cNvPr id="3229" name=""/>
            <p:cNvGrpSpPr/>
            <p:nvPr/>
          </p:nvGrpSpPr>
          <p:grpSpPr>
            <a:xfrm>
              <a:off x="4268880" y="3598920"/>
              <a:ext cx="1732680" cy="2009520"/>
              <a:chOff x="4268880" y="3598920"/>
              <a:chExt cx="1732680" cy="2009520"/>
            </a:xfrm>
          </p:grpSpPr>
          <p:sp>
            <p:nvSpPr>
              <p:cNvPr id="3230" name=""/>
              <p:cNvSpPr/>
              <p:nvPr/>
            </p:nvSpPr>
            <p:spPr>
              <a:xfrm>
                <a:off x="4343040" y="3598920"/>
                <a:ext cx="1658520" cy="1926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4281120" y="3682080"/>
                <a:ext cx="1658520" cy="1926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 flipV="1">
                <a:off x="4275000" y="4110840"/>
                <a:ext cx="1639800" cy="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 flipV="1">
                <a:off x="4299840" y="4494600"/>
                <a:ext cx="16398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 flipV="1">
                <a:off x="4299840" y="4840200"/>
                <a:ext cx="1639800" cy="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 flipV="1">
                <a:off x="4268880" y="5218200"/>
                <a:ext cx="16398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6" name=""/>
            <p:cNvSpPr/>
            <p:nvPr/>
          </p:nvSpPr>
          <p:spPr>
            <a:xfrm>
              <a:off x="4256280" y="3699000"/>
              <a:ext cx="17031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plic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ranspor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e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nl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ís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7" name=""/>
          <p:cNvSpPr/>
          <p:nvPr/>
        </p:nvSpPr>
        <p:spPr>
          <a:xfrm>
            <a:off x="2227320" y="308448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o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>
            <a:off x="4534920" y="3141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>
            <a:off x="1076400" y="3181320"/>
            <a:ext cx="5848200" cy="2828880"/>
          </a:xfrm>
          <a:custGeom>
            <a:avLst/>
            <a:gdLst/>
            <a:ahLst/>
            <a:rect l="l" t="t" r="r" b="b"/>
            <a:pathLst>
              <a:path w="4572" h="1752">
                <a:moveTo>
                  <a:pt x="0" y="264"/>
                </a:moveTo>
                <a:lnTo>
                  <a:pt x="0" y="1752"/>
                </a:lnTo>
                <a:lnTo>
                  <a:pt x="4572" y="1746"/>
                </a:lnTo>
                <a:lnTo>
                  <a:pt x="4572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0" name=""/>
          <p:cNvGrpSpPr/>
          <p:nvPr/>
        </p:nvGrpSpPr>
        <p:grpSpPr>
          <a:xfrm>
            <a:off x="166680" y="3753000"/>
            <a:ext cx="1666440" cy="1553040"/>
            <a:chOff x="166680" y="3753000"/>
            <a:chExt cx="1666440" cy="1553040"/>
          </a:xfrm>
        </p:grpSpPr>
        <p:sp>
          <p:nvSpPr>
            <p:cNvPr id="3241" name=""/>
            <p:cNvSpPr/>
            <p:nvPr/>
          </p:nvSpPr>
          <p:spPr>
            <a:xfrm>
              <a:off x="1216080" y="3753000"/>
              <a:ext cx="599400" cy="31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1216080" y="4162320"/>
              <a:ext cx="599400" cy="314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1233720" y="4546800"/>
              <a:ext cx="599400" cy="31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1233720" y="4927680"/>
              <a:ext cx="599400" cy="31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5" name=""/>
            <p:cNvGrpSpPr/>
            <p:nvPr/>
          </p:nvGrpSpPr>
          <p:grpSpPr>
            <a:xfrm>
              <a:off x="805680" y="4133880"/>
              <a:ext cx="486360" cy="407160"/>
              <a:chOff x="805680" y="4133880"/>
              <a:chExt cx="486360" cy="407160"/>
            </a:xfrm>
          </p:grpSpPr>
          <p:sp>
            <p:nvSpPr>
              <p:cNvPr id="3246" name=""/>
              <p:cNvSpPr/>
              <p:nvPr/>
            </p:nvSpPr>
            <p:spPr>
              <a:xfrm>
                <a:off x="881640" y="4162680"/>
                <a:ext cx="32940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805680" y="4133880"/>
                <a:ext cx="312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995760" y="4203720"/>
                <a:ext cx="296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9" name=""/>
            <p:cNvGrpSpPr/>
            <p:nvPr/>
          </p:nvGrpSpPr>
          <p:grpSpPr>
            <a:xfrm>
              <a:off x="826560" y="4518000"/>
              <a:ext cx="486000" cy="407160"/>
              <a:chOff x="826560" y="4518000"/>
              <a:chExt cx="486000" cy="407160"/>
            </a:xfrm>
          </p:grpSpPr>
          <p:sp>
            <p:nvSpPr>
              <p:cNvPr id="3250" name=""/>
              <p:cNvSpPr/>
              <p:nvPr/>
            </p:nvSpPr>
            <p:spPr>
              <a:xfrm>
                <a:off x="902520" y="4546800"/>
                <a:ext cx="32904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826560" y="4518000"/>
                <a:ext cx="312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1016280" y="4587840"/>
                <a:ext cx="296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3" name=""/>
            <p:cNvGrpSpPr/>
            <p:nvPr/>
          </p:nvGrpSpPr>
          <p:grpSpPr>
            <a:xfrm>
              <a:off x="499680" y="4518000"/>
              <a:ext cx="486360" cy="407160"/>
              <a:chOff x="499680" y="4518000"/>
              <a:chExt cx="486360" cy="407160"/>
            </a:xfrm>
          </p:grpSpPr>
          <p:sp>
            <p:nvSpPr>
              <p:cNvPr id="3254" name=""/>
              <p:cNvSpPr/>
              <p:nvPr/>
            </p:nvSpPr>
            <p:spPr>
              <a:xfrm>
                <a:off x="575640" y="4546800"/>
                <a:ext cx="32940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499680" y="4518000"/>
                <a:ext cx="312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689760" y="4587840"/>
                <a:ext cx="296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7" name=""/>
            <p:cNvGrpSpPr/>
            <p:nvPr/>
          </p:nvGrpSpPr>
          <p:grpSpPr>
            <a:xfrm>
              <a:off x="499680" y="4897440"/>
              <a:ext cx="812520" cy="407160"/>
              <a:chOff x="499680" y="4897440"/>
              <a:chExt cx="812520" cy="407160"/>
            </a:xfrm>
          </p:grpSpPr>
          <p:grpSp>
            <p:nvGrpSpPr>
              <p:cNvPr id="3258" name=""/>
              <p:cNvGrpSpPr/>
              <p:nvPr/>
            </p:nvGrpSpPr>
            <p:grpSpPr>
              <a:xfrm>
                <a:off x="826200" y="4897440"/>
                <a:ext cx="486000" cy="407160"/>
                <a:chOff x="826200" y="4897440"/>
                <a:chExt cx="486000" cy="407160"/>
              </a:xfrm>
            </p:grpSpPr>
            <p:sp>
              <p:nvSpPr>
                <p:cNvPr id="3259" name=""/>
                <p:cNvSpPr/>
                <p:nvPr/>
              </p:nvSpPr>
              <p:spPr>
                <a:xfrm>
                  <a:off x="902160" y="4926240"/>
                  <a:ext cx="329040" cy="314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0" name=""/>
                <p:cNvSpPr/>
                <p:nvPr/>
              </p:nvSpPr>
              <p:spPr>
                <a:xfrm>
                  <a:off x="826200" y="4897440"/>
                  <a:ext cx="312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1" name=""/>
                <p:cNvSpPr/>
                <p:nvPr/>
              </p:nvSpPr>
              <p:spPr>
                <a:xfrm>
                  <a:off x="1015920" y="4967280"/>
                  <a:ext cx="296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2" name=""/>
              <p:cNvGrpSpPr/>
              <p:nvPr/>
            </p:nvGrpSpPr>
            <p:grpSpPr>
              <a:xfrm>
                <a:off x="499680" y="4897440"/>
                <a:ext cx="486360" cy="407160"/>
                <a:chOff x="499680" y="4897440"/>
                <a:chExt cx="486360" cy="407160"/>
              </a:xfrm>
            </p:grpSpPr>
            <p:sp>
              <p:nvSpPr>
                <p:cNvPr id="3263" name=""/>
                <p:cNvSpPr/>
                <p:nvPr/>
              </p:nvSpPr>
              <p:spPr>
                <a:xfrm>
                  <a:off x="575640" y="4926240"/>
                  <a:ext cx="329400" cy="314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4" name=""/>
                <p:cNvSpPr/>
                <p:nvPr/>
              </p:nvSpPr>
              <p:spPr>
                <a:xfrm>
                  <a:off x="499680" y="4897440"/>
                  <a:ext cx="312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5" name=""/>
                <p:cNvSpPr/>
                <p:nvPr/>
              </p:nvSpPr>
              <p:spPr>
                <a:xfrm>
                  <a:off x="689760" y="4967280"/>
                  <a:ext cx="296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66" name=""/>
            <p:cNvGrpSpPr/>
            <p:nvPr/>
          </p:nvGrpSpPr>
          <p:grpSpPr>
            <a:xfrm>
              <a:off x="166680" y="4898880"/>
              <a:ext cx="486360" cy="407160"/>
              <a:chOff x="166680" y="4898880"/>
              <a:chExt cx="486360" cy="407160"/>
            </a:xfrm>
          </p:grpSpPr>
          <p:sp>
            <p:nvSpPr>
              <p:cNvPr id="3267" name=""/>
              <p:cNvSpPr/>
              <p:nvPr/>
            </p:nvSpPr>
            <p:spPr>
              <a:xfrm>
                <a:off x="242640" y="4927680"/>
                <a:ext cx="32940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166680" y="4898880"/>
                <a:ext cx="312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356760" y="4968720"/>
                <a:ext cx="296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70" name=""/>
          <p:cNvGrpSpPr/>
          <p:nvPr/>
        </p:nvGrpSpPr>
        <p:grpSpPr>
          <a:xfrm>
            <a:off x="6051600" y="3695760"/>
            <a:ext cx="1667880" cy="1553040"/>
            <a:chOff x="6051600" y="3695760"/>
            <a:chExt cx="1667880" cy="1553040"/>
          </a:xfrm>
        </p:grpSpPr>
        <p:sp>
          <p:nvSpPr>
            <p:cNvPr id="3271" name=""/>
            <p:cNvSpPr/>
            <p:nvPr/>
          </p:nvSpPr>
          <p:spPr>
            <a:xfrm>
              <a:off x="7102080" y="3695760"/>
              <a:ext cx="599760" cy="31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7102080" y="4105080"/>
              <a:ext cx="599760" cy="314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7119720" y="4489560"/>
              <a:ext cx="599760" cy="31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7119720" y="4870440"/>
              <a:ext cx="599760" cy="31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5" name=""/>
            <p:cNvGrpSpPr/>
            <p:nvPr/>
          </p:nvGrpSpPr>
          <p:grpSpPr>
            <a:xfrm>
              <a:off x="6690960" y="4076640"/>
              <a:ext cx="486720" cy="407160"/>
              <a:chOff x="6690960" y="4076640"/>
              <a:chExt cx="486720" cy="407160"/>
            </a:xfrm>
          </p:grpSpPr>
          <p:sp>
            <p:nvSpPr>
              <p:cNvPr id="3276" name=""/>
              <p:cNvSpPr/>
              <p:nvPr/>
            </p:nvSpPr>
            <p:spPr>
              <a:xfrm>
                <a:off x="6766920" y="4105440"/>
                <a:ext cx="32976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6690960" y="407664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6881040" y="4146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9" name=""/>
            <p:cNvGrpSpPr/>
            <p:nvPr/>
          </p:nvGrpSpPr>
          <p:grpSpPr>
            <a:xfrm>
              <a:off x="6711840" y="4460760"/>
              <a:ext cx="486360" cy="407160"/>
              <a:chOff x="6711840" y="4460760"/>
              <a:chExt cx="486360" cy="407160"/>
            </a:xfrm>
          </p:grpSpPr>
          <p:sp>
            <p:nvSpPr>
              <p:cNvPr id="3280" name=""/>
              <p:cNvSpPr/>
              <p:nvPr/>
            </p:nvSpPr>
            <p:spPr>
              <a:xfrm>
                <a:off x="6787800" y="4489560"/>
                <a:ext cx="32940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6711840" y="4460760"/>
                <a:ext cx="312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6901920" y="4530600"/>
                <a:ext cx="296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3" name=""/>
            <p:cNvGrpSpPr/>
            <p:nvPr/>
          </p:nvGrpSpPr>
          <p:grpSpPr>
            <a:xfrm>
              <a:off x="6384600" y="4460760"/>
              <a:ext cx="486720" cy="407160"/>
              <a:chOff x="6384600" y="4460760"/>
              <a:chExt cx="486720" cy="407160"/>
            </a:xfrm>
          </p:grpSpPr>
          <p:sp>
            <p:nvSpPr>
              <p:cNvPr id="3284" name=""/>
              <p:cNvSpPr/>
              <p:nvPr/>
            </p:nvSpPr>
            <p:spPr>
              <a:xfrm>
                <a:off x="6460560" y="4489560"/>
                <a:ext cx="32976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6384600" y="446076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6574680" y="4530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7" name=""/>
            <p:cNvGrpSpPr/>
            <p:nvPr/>
          </p:nvGrpSpPr>
          <p:grpSpPr>
            <a:xfrm>
              <a:off x="6384600" y="4840200"/>
              <a:ext cx="813240" cy="407160"/>
              <a:chOff x="6384600" y="4840200"/>
              <a:chExt cx="813240" cy="407160"/>
            </a:xfrm>
          </p:grpSpPr>
          <p:grpSp>
            <p:nvGrpSpPr>
              <p:cNvPr id="3288" name=""/>
              <p:cNvGrpSpPr/>
              <p:nvPr/>
            </p:nvGrpSpPr>
            <p:grpSpPr>
              <a:xfrm>
                <a:off x="6711480" y="4840200"/>
                <a:ext cx="486360" cy="407160"/>
                <a:chOff x="6711480" y="4840200"/>
                <a:chExt cx="486360" cy="407160"/>
              </a:xfrm>
            </p:grpSpPr>
            <p:sp>
              <p:nvSpPr>
                <p:cNvPr id="3289" name=""/>
                <p:cNvSpPr/>
                <p:nvPr/>
              </p:nvSpPr>
              <p:spPr>
                <a:xfrm>
                  <a:off x="6787440" y="4869000"/>
                  <a:ext cx="329400" cy="314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0" name=""/>
                <p:cNvSpPr/>
                <p:nvPr/>
              </p:nvSpPr>
              <p:spPr>
                <a:xfrm>
                  <a:off x="6711480" y="4840200"/>
                  <a:ext cx="312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1" name=""/>
                <p:cNvSpPr/>
                <p:nvPr/>
              </p:nvSpPr>
              <p:spPr>
                <a:xfrm>
                  <a:off x="6901560" y="4910040"/>
                  <a:ext cx="296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2" name=""/>
              <p:cNvGrpSpPr/>
              <p:nvPr/>
            </p:nvGrpSpPr>
            <p:grpSpPr>
              <a:xfrm>
                <a:off x="6384600" y="4840200"/>
                <a:ext cx="486720" cy="407160"/>
                <a:chOff x="6384600" y="4840200"/>
                <a:chExt cx="486720" cy="407160"/>
              </a:xfrm>
            </p:grpSpPr>
            <p:sp>
              <p:nvSpPr>
                <p:cNvPr id="3293" name=""/>
                <p:cNvSpPr/>
                <p:nvPr/>
              </p:nvSpPr>
              <p:spPr>
                <a:xfrm>
                  <a:off x="6460560" y="4869000"/>
                  <a:ext cx="329760" cy="314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4" name=""/>
                <p:cNvSpPr/>
                <p:nvPr/>
              </p:nvSpPr>
              <p:spPr>
                <a:xfrm>
                  <a:off x="6384600" y="4840200"/>
                  <a:ext cx="31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5" name=""/>
                <p:cNvSpPr/>
                <p:nvPr/>
              </p:nvSpPr>
              <p:spPr>
                <a:xfrm>
                  <a:off x="6574680" y="49100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96" name=""/>
            <p:cNvGrpSpPr/>
            <p:nvPr/>
          </p:nvGrpSpPr>
          <p:grpSpPr>
            <a:xfrm>
              <a:off x="6051600" y="4841640"/>
              <a:ext cx="486720" cy="407160"/>
              <a:chOff x="6051600" y="4841640"/>
              <a:chExt cx="486720" cy="407160"/>
            </a:xfrm>
          </p:grpSpPr>
          <p:sp>
            <p:nvSpPr>
              <p:cNvPr id="3297" name=""/>
              <p:cNvSpPr/>
              <p:nvPr/>
            </p:nvSpPr>
            <p:spPr>
              <a:xfrm>
                <a:off x="6127560" y="4870440"/>
                <a:ext cx="32976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6051600" y="484164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6241680" y="4911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00" name=""/>
          <p:cNvSpPr/>
          <p:nvPr/>
        </p:nvSpPr>
        <p:spPr>
          <a:xfrm>
            <a:off x="7704720" y="364644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ensag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>
            <a:off x="7735680" y="4046400"/>
            <a:ext cx="13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>
            <a:off x="7738200" y="445608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ata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7740000" y="4865760"/>
            <a:ext cx="105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quad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43E9-A478-4153-9F3C-2495FF9C104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4" name="PlaceHolder 1"/>
          <p:cNvSpPr>
            <a:spLocks noGrp="1"/>
          </p:cNvSpPr>
          <p:nvPr>
            <p:ph type="title"/>
          </p:nvPr>
        </p:nvSpPr>
        <p:spPr>
          <a:xfrm>
            <a:off x="47772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História da Internet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05" name="PlaceHolder 2"/>
          <p:cNvSpPr>
            <a:spLocks noGrp="1"/>
          </p:cNvSpPr>
          <p:nvPr>
            <p:ph/>
          </p:nvPr>
        </p:nvSpPr>
        <p:spPr>
          <a:xfrm>
            <a:off x="533520" y="1790280"/>
            <a:ext cx="36972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1961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Kleinrock - teoria das filas demonstra eficiência da comutação por paco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1964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Baran - comutação de pacotes em redes milita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1967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ncepção da ARPAnet pela ARPA (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Advanced Research Projects Agency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1969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ntra em operação o primeiro nó da ARPA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6" name="PlaceHolder 3"/>
          <p:cNvSpPr>
            <a:spLocks noGrp="1"/>
          </p:cNvSpPr>
          <p:nvPr>
            <p:ph/>
          </p:nvPr>
        </p:nvSpPr>
        <p:spPr>
          <a:xfrm>
            <a:off x="4495680" y="1800360"/>
            <a:ext cx="38102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1972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monstração pública da ARPA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CP (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Network Control Protocol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) primeiro protocolo host-ho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imeiro programa de  e-mai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RPAnet com 15 nó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7" name=""/>
          <p:cNvSpPr/>
          <p:nvPr/>
        </p:nvSpPr>
        <p:spPr>
          <a:xfrm>
            <a:off x="523800" y="102888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1961-1972: Estréia da comutação de pac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54E2-5C92-4868-96E2-8B706434C12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/>
          </p:nvPr>
        </p:nvSpPr>
        <p:spPr>
          <a:xfrm>
            <a:off x="4478040" y="1833480"/>
            <a:ext cx="380988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rincípios de interconexão de Cerf e Kah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inimalismo, autonomia - não é necessária nenhuma mudança interna para interconectar re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odelo de serviço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best effo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oteadores sem est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descentraliz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definem a arquitetura atual da Int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 type="title"/>
          </p:nvPr>
        </p:nvSpPr>
        <p:spPr>
          <a:xfrm>
            <a:off x="47772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História da Internet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10" name="PlaceHolder 3"/>
          <p:cNvSpPr>
            <a:spLocks noGrp="1"/>
          </p:cNvSpPr>
          <p:nvPr>
            <p:ph/>
          </p:nvPr>
        </p:nvSpPr>
        <p:spPr>
          <a:xfrm>
            <a:off x="228600" y="1695600"/>
            <a:ext cx="415440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1970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rede de satélite ALOHAnet no Hava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1973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Metcalfe propõe a  Ethernet em sua tese de doutor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1974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erf e Kahn - arquitetura para a interconexão de re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fim dos anos 70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arquiteturas proprietárias: DECnet, SNA, XN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fim dos anos 70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mutação de pacotes de comprimento fixo (precursor do AT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1979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ARPAnet tem 200 nó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1" name=""/>
          <p:cNvSpPr/>
          <p:nvPr/>
        </p:nvSpPr>
        <p:spPr>
          <a:xfrm>
            <a:off x="523800" y="1028880"/>
            <a:ext cx="797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1972-1980: Interconexão de redes novas e proprietá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4459320" y="1771560"/>
            <a:ext cx="3809880" cy="44355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535F-7069-410C-8239-6D391E7D732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47772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História da Internet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14" name="PlaceHolder 2"/>
          <p:cNvSpPr>
            <a:spLocks noGrp="1"/>
          </p:cNvSpPr>
          <p:nvPr>
            <p:ph/>
          </p:nvPr>
        </p:nvSpPr>
        <p:spPr>
          <a:xfrm>
            <a:off x="533160" y="1790280"/>
            <a:ext cx="38098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1983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implantação do TCP/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1982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efinição do protocolo SMTP para e-mai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1983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efinição do DNS para tradução de nome para endereço 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1985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efinição do protocolo FT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1988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ntrole de congestionamento do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5" name="PlaceHolder 3"/>
          <p:cNvSpPr>
            <a:spLocks noGrp="1"/>
          </p:cNvSpPr>
          <p:nvPr>
            <p:ph/>
          </p:nvPr>
        </p:nvSpPr>
        <p:spPr>
          <a:xfrm>
            <a:off x="4495680" y="1800360"/>
            <a:ext cx="38102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vas redes nacionais: Csnet, BITnet, NSFnet, Minit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100.000 hosts conectados numa confederação de re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6" name=""/>
          <p:cNvSpPr/>
          <p:nvPr/>
        </p:nvSpPr>
        <p:spPr>
          <a:xfrm>
            <a:off x="523800" y="1028880"/>
            <a:ext cx="7962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1980-1990: novos protocolos, proliferação de r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3A30-8264-47EA-B4C9-A48D5724A15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7" name="PlaceHolder 1"/>
          <p:cNvSpPr>
            <a:spLocks noGrp="1"/>
          </p:cNvSpPr>
          <p:nvPr>
            <p:ph type="title"/>
          </p:nvPr>
        </p:nvSpPr>
        <p:spPr>
          <a:xfrm>
            <a:off x="47772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História da Internet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18" name="PlaceHolder 2"/>
          <p:cNvSpPr>
            <a:spLocks noGrp="1"/>
          </p:cNvSpPr>
          <p:nvPr>
            <p:ph/>
          </p:nvPr>
        </p:nvSpPr>
        <p:spPr>
          <a:xfrm>
            <a:off x="420480" y="1790280"/>
            <a:ext cx="409572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início dos anos 90: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RPAnet desativ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1991: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SF remove restrições ao uso comercial da NSFnet (desativada em 1995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início dos anos 90 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WW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ypertexto [Bush 1945, Nelson 1960’s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TML, http: Berners-Le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1994: Mosaic, posteriormente Netsca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im dos anos 90: comercialização da W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9" name="PlaceHolder 3"/>
          <p:cNvSpPr>
            <a:spLocks noGrp="1"/>
          </p:cNvSpPr>
          <p:nvPr>
            <p:ph/>
          </p:nvPr>
        </p:nvSpPr>
        <p:spPr>
          <a:xfrm>
            <a:off x="4876560" y="1800360"/>
            <a:ext cx="34290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Final dos anos 90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. 50 milhões de computadores na Int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. mais de 100 milhões de usuári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laces de backbone a 1 G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1996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riação do projeto INTERNET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0" name=""/>
          <p:cNvSpPr/>
          <p:nvPr/>
        </p:nvSpPr>
        <p:spPr>
          <a:xfrm>
            <a:off x="523800" y="1028880"/>
            <a:ext cx="7962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Anos 90: comercialização, a WW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6754-7EFC-4CCE-84A5-E2776BC7046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Internet/BR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 Rede Nacional de Pesquisa (RNP) teve início em 1989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berta para uso comercial em 199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osição absolut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(Network Wizards, 01/03)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úmero de hosts: 2.237.52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baseline="30000">
                <a:solidFill>
                  <a:srgbClr val="000000"/>
                </a:solidFill>
                <a:latin typeface="Comic Sans MS"/>
              </a:rPr>
              <a:t>9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o Mun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pt-BR" sz="20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as Américas (México em 16 lugar com 1.107.795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pt-BR" sz="20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a América do Sul (Argentina em 22 lugar com 495.920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7,8 Milhões de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ternautas domésticos ativos (7/0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4D54-BAC7-40B7-B93A-5DFFC69071C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Introdução: Resum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2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Foi coberta uma tonelada de material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visão geral da Int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 que é um protocolo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orda da rede, núcleo, rede de acess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mutação de pacotes vs. Comutação de circuit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sempenho: perda, atras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madas e modelos de serviç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ackbones, PTTs, IS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istór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5" name="PlaceHolder 3"/>
          <p:cNvSpPr>
            <a:spLocks noGrp="1"/>
          </p:cNvSpPr>
          <p:nvPr>
            <p:ph/>
          </p:nvPr>
        </p:nvSpPr>
        <p:spPr>
          <a:xfrm>
            <a:off x="4295520" y="1371600"/>
            <a:ext cx="3725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speramos que agora você possua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ntexto, visão geral, “sentimento” do que sejam re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aior profundidade, detalhes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posteriormente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 cur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F866-4FAE-43D6-9FD9-2C52E3C2D01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O que é um protocolo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33520" y="119700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rotocolos human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e horas são?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enho uma dúvida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presentaçõ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sgs específicas são enviad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ções específicas são realizadas quando as msgs são recebidas, ou acontecem outros event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495320" y="1196640"/>
            <a:ext cx="4303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rotocolos de red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áquinas ao invés de pesso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odas as atividades de comunicação na Internet são governadas por protocol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"/>
          <p:cNvSpPr/>
          <p:nvPr/>
        </p:nvSpPr>
        <p:spPr>
          <a:xfrm>
            <a:off x="3973680" y="4049640"/>
            <a:ext cx="49323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protocolos definem o formato, ordem das msgs enviadas e recebidas pelas entidades da rede, e ações tomadas quando da transmissão ou recepção de  ms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264200" y="4049640"/>
            <a:ext cx="4628880" cy="23623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0342-838A-4034-A845-1A96A5B56A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O que é um protocolo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m protocolo humano e um protocolo de red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"/>
          <p:cNvSpPr/>
          <p:nvPr/>
        </p:nvSpPr>
        <p:spPr>
          <a:xfrm>
            <a:off x="685800" y="5943600"/>
            <a:ext cx="588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P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presente outro protocolo humano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258920" y="2771640"/>
            <a:ext cx="1760400" cy="276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7174080" y="2917800"/>
            <a:ext cx="354960" cy="932760"/>
            <a:chOff x="7174080" y="2917800"/>
            <a:chExt cx="354960" cy="932760"/>
          </a:xfrm>
        </p:grpSpPr>
        <p:sp>
          <p:nvSpPr>
            <p:cNvPr id="798" name=""/>
            <p:cNvSpPr/>
            <p:nvPr/>
          </p:nvSpPr>
          <p:spPr>
            <a:xfrm>
              <a:off x="7174080" y="3634920"/>
              <a:ext cx="354960" cy="215640"/>
            </a:xfrm>
            <a:prstGeom prst="parallelogram">
              <a:avLst>
                <a:gd name="adj" fmla="val 6341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353720" y="2923920"/>
              <a:ext cx="163080" cy="716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175880" y="3126960"/>
              <a:ext cx="225000" cy="717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174080" y="2917800"/>
              <a:ext cx="354960" cy="215640"/>
            </a:xfrm>
            <a:prstGeom prst="parallelogram">
              <a:avLst>
                <a:gd name="adj" fmla="val 63412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529040" y="2932920"/>
              <a:ext cx="0" cy="7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7400880" y="3634920"/>
              <a:ext cx="127800" cy="2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204680" y="3221640"/>
              <a:ext cx="149040" cy="413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225920" y="3346200"/>
              <a:ext cx="113040" cy="1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4543560" y="2631960"/>
            <a:ext cx="622080" cy="500040"/>
          </a:xfrm>
          <a:prstGeom prst="rect">
            <a:avLst/>
          </a:prstGeom>
          <a:ln w="0">
            <a:noFill/>
          </a:ln>
        </p:spPr>
      </p:pic>
      <p:pic>
        <p:nvPicPr>
          <p:cNvPr id="807" name="Alice" descr=""/>
          <p:cNvPicPr/>
          <p:nvPr/>
        </p:nvPicPr>
        <p:blipFill>
          <a:blip r:embed="rId2"/>
          <a:stretch/>
        </p:blipFill>
        <p:spPr>
          <a:xfrm>
            <a:off x="709560" y="2376360"/>
            <a:ext cx="561960" cy="693720"/>
          </a:xfrm>
          <a:prstGeom prst="rect">
            <a:avLst/>
          </a:prstGeom>
          <a:ln w="0">
            <a:noFill/>
          </a:ln>
        </p:spPr>
      </p:pic>
      <p:pic>
        <p:nvPicPr>
          <p:cNvPr id="808" name="Bob" descr=""/>
          <p:cNvPicPr/>
          <p:nvPr/>
        </p:nvPicPr>
        <p:blipFill>
          <a:blip r:embed="rId3"/>
          <a:stretch/>
        </p:blipFill>
        <p:spPr>
          <a:xfrm>
            <a:off x="3129120" y="2771640"/>
            <a:ext cx="676080" cy="690840"/>
          </a:xfrm>
          <a:prstGeom prst="rect">
            <a:avLst/>
          </a:prstGeom>
          <a:ln w="0">
            <a:noFill/>
          </a:ln>
        </p:spPr>
      </p:pic>
      <p:sp>
        <p:nvSpPr>
          <p:cNvPr id="809" name=""/>
          <p:cNvSpPr/>
          <p:nvPr/>
        </p:nvSpPr>
        <p:spPr>
          <a:xfrm>
            <a:off x="1706040" y="2484360"/>
            <a:ext cx="4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973080" y="3352680"/>
            <a:ext cx="2084400" cy="3621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697040" y="3141720"/>
            <a:ext cx="4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934920" y="3762360"/>
            <a:ext cx="2160720" cy="438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1155600" y="3693960"/>
            <a:ext cx="1425960" cy="703800"/>
            <a:chOff x="1155600" y="3693960"/>
            <a:chExt cx="1425960" cy="703800"/>
          </a:xfrm>
        </p:grpSpPr>
        <p:sp>
          <p:nvSpPr>
            <p:cNvPr id="814" name=""/>
            <p:cNvSpPr/>
            <p:nvPr/>
          </p:nvSpPr>
          <p:spPr>
            <a:xfrm>
              <a:off x="1400040" y="3762000"/>
              <a:ext cx="9334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155600" y="3693960"/>
              <a:ext cx="142596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Que hor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ão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 flipV="1">
            <a:off x="1095480" y="4334040"/>
            <a:ext cx="1952640" cy="333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1455840" y="4361040"/>
            <a:ext cx="784080" cy="459720"/>
            <a:chOff x="1455840" y="4361040"/>
            <a:chExt cx="784080" cy="459720"/>
          </a:xfrm>
        </p:grpSpPr>
        <p:sp>
          <p:nvSpPr>
            <p:cNvPr id="818" name=""/>
            <p:cNvSpPr/>
            <p:nvPr/>
          </p:nvSpPr>
          <p:spPr>
            <a:xfrm>
              <a:off x="1523880" y="4438800"/>
              <a:ext cx="704880" cy="29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455840" y="436104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: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5150520" y="2655720"/>
            <a:ext cx="202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CP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q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4943520" y="4648320"/>
            <a:ext cx="2343240" cy="4284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221440" y="2981160"/>
            <a:ext cx="1760400" cy="276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4897440" y="3476520"/>
            <a:ext cx="2084400" cy="3621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5130360" y="3408480"/>
            <a:ext cx="2026440" cy="703800"/>
            <a:chOff x="5130360" y="3408480"/>
            <a:chExt cx="2026440" cy="703800"/>
          </a:xfrm>
        </p:grpSpPr>
        <p:sp>
          <p:nvSpPr>
            <p:cNvPr id="825" name=""/>
            <p:cNvSpPr/>
            <p:nvPr/>
          </p:nvSpPr>
          <p:spPr>
            <a:xfrm>
              <a:off x="5248440" y="3476520"/>
              <a:ext cx="143820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130360" y="3408480"/>
              <a:ext cx="2026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CP 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reply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"/>
          <p:cNvSpPr/>
          <p:nvPr/>
        </p:nvSpPr>
        <p:spPr>
          <a:xfrm>
            <a:off x="4943520" y="4086360"/>
            <a:ext cx="2400120" cy="419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5156280" y="4151160"/>
            <a:ext cx="3794040" cy="307080"/>
            <a:chOff x="5156280" y="4151160"/>
            <a:chExt cx="3794040" cy="307080"/>
          </a:xfrm>
        </p:grpSpPr>
        <p:sp>
          <p:nvSpPr>
            <p:cNvPr id="829" name=""/>
            <p:cNvSpPr/>
            <p:nvPr/>
          </p:nvSpPr>
          <p:spPr>
            <a:xfrm>
              <a:off x="5219640" y="4200480"/>
              <a:ext cx="333396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156280" y="4151160"/>
              <a:ext cx="379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</a:rPr>
                <a:t>Get http://gaia.cs.umass.edu/index.ht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5356800" y="4656240"/>
            <a:ext cx="1621080" cy="459720"/>
            <a:chOff x="5356800" y="4656240"/>
            <a:chExt cx="1621080" cy="459720"/>
          </a:xfrm>
        </p:grpSpPr>
        <p:sp>
          <p:nvSpPr>
            <p:cNvPr id="832" name=""/>
            <p:cNvSpPr/>
            <p:nvPr/>
          </p:nvSpPr>
          <p:spPr>
            <a:xfrm>
              <a:off x="5544720" y="4734000"/>
              <a:ext cx="704880" cy="29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356800" y="4656240"/>
              <a:ext cx="16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&lt;arquivo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"/>
          <p:cNvSpPr/>
          <p:nvPr/>
        </p:nvSpPr>
        <p:spPr>
          <a:xfrm>
            <a:off x="4059360" y="1962000"/>
            <a:ext cx="0" cy="38577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3489840" y="5094360"/>
            <a:ext cx="1119600" cy="459720"/>
            <a:chOff x="3489840" y="5094360"/>
            <a:chExt cx="1119600" cy="459720"/>
          </a:xfrm>
        </p:grpSpPr>
        <p:sp>
          <p:nvSpPr>
            <p:cNvPr id="836" name=""/>
            <p:cNvSpPr/>
            <p:nvPr/>
          </p:nvSpPr>
          <p:spPr>
            <a:xfrm>
              <a:off x="3595320" y="5191200"/>
              <a:ext cx="64800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89840" y="5094360"/>
              <a:ext cx="111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temp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C8AA-8047-4098-8661-539768CFDD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Uma olhada mais de perto na estrutura da rede: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Borda da red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aplicações e hospedeiros (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host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núcleo da red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oteado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de de red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redes de acesso, meio físic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nlaces de comunic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"/>
          <p:cNvSpPr/>
          <p:nvPr/>
        </p:nvSpPr>
        <p:spPr>
          <a:xfrm>
            <a:off x="6770520" y="2200320"/>
            <a:ext cx="179712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890960" y="2057400"/>
            <a:ext cx="186552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257800" y="350820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5006880" y="2192400"/>
            <a:ext cx="733680" cy="318960"/>
            <a:chOff x="5006880" y="2192400"/>
            <a:chExt cx="733680" cy="318960"/>
          </a:xfrm>
        </p:grpSpPr>
        <p:pic>
          <p:nvPicPr>
            <p:cNvPr id="844" name="" descr=""/>
            <p:cNvPicPr/>
            <p:nvPr/>
          </p:nvPicPr>
          <p:blipFill>
            <a:blip r:embed="rId1"/>
            <a:stretch/>
          </p:blipFill>
          <p:spPr>
            <a:xfrm>
              <a:off x="5006880" y="219240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5" name="" descr=""/>
            <p:cNvPicPr/>
            <p:nvPr/>
          </p:nvPicPr>
          <p:blipFill>
            <a:blip r:embed="rId2"/>
            <a:stretch/>
          </p:blipFill>
          <p:spPr>
            <a:xfrm>
              <a:off x="5460840" y="2310480"/>
              <a:ext cx="27972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"/>
            <p:cNvSpPr/>
            <p:nvPr/>
          </p:nvSpPr>
          <p:spPr>
            <a:xfrm flipV="1">
              <a:off x="5413320" y="243396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5006880" y="2787480"/>
            <a:ext cx="733680" cy="319320"/>
            <a:chOff x="5006880" y="2787480"/>
            <a:chExt cx="733680" cy="319320"/>
          </a:xfrm>
        </p:grpSpPr>
        <p:pic>
          <p:nvPicPr>
            <p:cNvPr id="848" name="" descr=""/>
            <p:cNvPicPr/>
            <p:nvPr/>
          </p:nvPicPr>
          <p:blipFill>
            <a:blip r:embed="rId3"/>
            <a:stretch/>
          </p:blipFill>
          <p:spPr>
            <a:xfrm>
              <a:off x="5006880" y="2787480"/>
              <a:ext cx="41616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9" name="" descr=""/>
            <p:cNvPicPr/>
            <p:nvPr/>
          </p:nvPicPr>
          <p:blipFill>
            <a:blip r:embed="rId4"/>
            <a:stretch/>
          </p:blipFill>
          <p:spPr>
            <a:xfrm>
              <a:off x="5460840" y="2905560"/>
              <a:ext cx="27972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0" name=""/>
            <p:cNvSpPr/>
            <p:nvPr/>
          </p:nvSpPr>
          <p:spPr>
            <a:xfrm flipV="1">
              <a:off x="5413320" y="302904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5383080" y="2575080"/>
            <a:ext cx="69480" cy="214200"/>
            <a:chOff x="5383080" y="2575080"/>
            <a:chExt cx="69480" cy="214200"/>
          </a:xfrm>
        </p:grpSpPr>
        <p:sp>
          <p:nvSpPr>
            <p:cNvPr id="852" name=""/>
            <p:cNvSpPr/>
            <p:nvPr/>
          </p:nvSpPr>
          <p:spPr>
            <a:xfrm>
              <a:off x="5383080" y="257508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385600" y="265212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388480" y="272916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5853240" y="3078000"/>
            <a:ext cx="209520" cy="394920"/>
            <a:chOff x="5853240" y="3078000"/>
            <a:chExt cx="209520" cy="394920"/>
          </a:xfrm>
        </p:grpSpPr>
        <p:sp>
          <p:nvSpPr>
            <p:cNvPr id="856" name=""/>
            <p:cNvSpPr/>
            <p:nvPr/>
          </p:nvSpPr>
          <p:spPr>
            <a:xfrm>
              <a:off x="5853240" y="338184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959440" y="308052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854320" y="316656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853240" y="307800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062760" y="308412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5986800" y="338184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871240" y="320652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883840" y="325944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6089760" y="3231720"/>
            <a:ext cx="233280" cy="81000"/>
            <a:chOff x="6089760" y="3231720"/>
            <a:chExt cx="233280" cy="81000"/>
          </a:xfrm>
        </p:grpSpPr>
        <p:sp>
          <p:nvSpPr>
            <p:cNvPr id="865" name=""/>
            <p:cNvSpPr/>
            <p:nvPr/>
          </p:nvSpPr>
          <p:spPr>
            <a:xfrm rot="16200000">
              <a:off x="6085080" y="324252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16200000">
              <a:off x="6168960" y="323928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rot="16200000">
              <a:off x="6252840" y="323604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5989680" y="2986200"/>
            <a:ext cx="495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992920" y="2982960"/>
            <a:ext cx="144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488280" y="2981160"/>
            <a:ext cx="2880" cy="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689440" y="2446200"/>
            <a:ext cx="289080" cy="26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5703840" y="2731680"/>
            <a:ext cx="27468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6230880" y="2817720"/>
            <a:ext cx="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6348240" y="3056040"/>
            <a:ext cx="209880" cy="394920"/>
            <a:chOff x="6348240" y="3056040"/>
            <a:chExt cx="209880" cy="394920"/>
          </a:xfrm>
        </p:grpSpPr>
        <p:sp>
          <p:nvSpPr>
            <p:cNvPr id="875" name=""/>
            <p:cNvSpPr/>
            <p:nvPr/>
          </p:nvSpPr>
          <p:spPr>
            <a:xfrm>
              <a:off x="6348240" y="335988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454440" y="3058560"/>
              <a:ext cx="9648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349320" y="3144600"/>
              <a:ext cx="13284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348240" y="305604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558120" y="306216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6482160" y="335988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366240" y="3184560"/>
              <a:ext cx="8820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378840" y="3237480"/>
              <a:ext cx="6696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5392800" y="3675240"/>
            <a:ext cx="477360" cy="924840"/>
            <a:chOff x="5392800" y="3675240"/>
            <a:chExt cx="477360" cy="924840"/>
          </a:xfrm>
        </p:grpSpPr>
        <p:pic>
          <p:nvPicPr>
            <p:cNvPr id="884" name="" descr=""/>
            <p:cNvPicPr/>
            <p:nvPr/>
          </p:nvPicPr>
          <p:blipFill>
            <a:blip r:embed="rId5"/>
            <a:stretch/>
          </p:blipFill>
          <p:spPr>
            <a:xfrm>
              <a:off x="5392800" y="3675240"/>
              <a:ext cx="41508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 flipV="1">
              <a:off x="5797800" y="392184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6" name="" descr=""/>
            <p:cNvPicPr/>
            <p:nvPr/>
          </p:nvPicPr>
          <p:blipFill>
            <a:blip r:embed="rId6"/>
            <a:stretch/>
          </p:blipFill>
          <p:spPr>
            <a:xfrm>
              <a:off x="5392800" y="4269600"/>
              <a:ext cx="41508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"/>
            <p:cNvSpPr/>
            <p:nvPr/>
          </p:nvSpPr>
          <p:spPr>
            <a:xfrm flipV="1">
              <a:off x="5797800" y="451980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8" name=""/>
            <p:cNvGrpSpPr/>
            <p:nvPr/>
          </p:nvGrpSpPr>
          <p:grpSpPr>
            <a:xfrm>
              <a:off x="5517720" y="4016160"/>
              <a:ext cx="70200" cy="222120"/>
              <a:chOff x="5517720" y="4016160"/>
              <a:chExt cx="70200" cy="222120"/>
            </a:xfrm>
          </p:grpSpPr>
          <p:sp>
            <p:nvSpPr>
              <p:cNvPr id="889" name=""/>
              <p:cNvSpPr/>
              <p:nvPr/>
            </p:nvSpPr>
            <p:spPr>
              <a:xfrm>
                <a:off x="5517720" y="4016160"/>
                <a:ext cx="64800" cy="626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520240" y="4096080"/>
                <a:ext cx="6480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523120" y="4176000"/>
                <a:ext cx="6480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2" name=""/>
            <p:cNvSpPr/>
            <p:nvPr/>
          </p:nvSpPr>
          <p:spPr>
            <a:xfrm>
              <a:off x="5864760" y="3918960"/>
              <a:ext cx="0" cy="59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3" name="" descr=""/>
          <p:cNvPicPr/>
          <p:nvPr/>
        </p:nvPicPr>
        <p:blipFill>
          <a:blip r:embed="rId7"/>
          <a:stretch/>
        </p:blipFill>
        <p:spPr>
          <a:xfrm>
            <a:off x="6269040" y="4684680"/>
            <a:ext cx="398520" cy="33192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8"/>
          <a:stretch/>
        </p:blipFill>
        <p:spPr>
          <a:xfrm>
            <a:off x="5654520" y="4673520"/>
            <a:ext cx="397080" cy="33012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 rot="16200000">
            <a:off x="6061680" y="4777200"/>
            <a:ext cx="637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rot="16200000">
            <a:off x="6146640" y="4775040"/>
            <a:ext cx="63360" cy="66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rot="16200000">
            <a:off x="6224400" y="4779720"/>
            <a:ext cx="619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6513480" y="4630680"/>
            <a:ext cx="3240" cy="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5889600" y="4619160"/>
            <a:ext cx="0" cy="6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5891040" y="462600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5870520" y="425088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472080" y="4297320"/>
            <a:ext cx="30348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7267680" y="4294080"/>
            <a:ext cx="279360" cy="39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4" name="" descr=""/>
          <p:cNvPicPr/>
          <p:nvPr/>
        </p:nvPicPr>
        <p:blipFill>
          <a:blip r:embed="rId9"/>
          <a:stretch/>
        </p:blipFill>
        <p:spPr>
          <a:xfrm>
            <a:off x="7450200" y="3846600"/>
            <a:ext cx="195120" cy="241200"/>
          </a:xfrm>
          <a:prstGeom prst="rect">
            <a:avLst/>
          </a:prstGeom>
          <a:ln w="0">
            <a:noFill/>
          </a:ln>
        </p:spPr>
      </p:pic>
      <p:pic>
        <p:nvPicPr>
          <p:cNvPr id="905" name="" descr=""/>
          <p:cNvPicPr/>
          <p:nvPr/>
        </p:nvPicPr>
        <p:blipFill>
          <a:blip r:embed="rId10"/>
          <a:stretch/>
        </p:blipFill>
        <p:spPr>
          <a:xfrm>
            <a:off x="6114960" y="3927600"/>
            <a:ext cx="193680" cy="239760"/>
          </a:xfrm>
          <a:prstGeom prst="rect">
            <a:avLst/>
          </a:prstGeom>
          <a:ln w="0">
            <a:noFill/>
          </a:ln>
        </p:spPr>
      </p:pic>
      <p:sp>
        <p:nvSpPr>
          <p:cNvPr id="906" name=""/>
          <p:cNvSpPr/>
          <p:nvPr/>
        </p:nvSpPr>
        <p:spPr>
          <a:xfrm>
            <a:off x="6189840" y="3701880"/>
            <a:ext cx="1353960" cy="30492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6456240" y="5124600"/>
            <a:ext cx="406080" cy="426960"/>
            <a:chOff x="6456240" y="5124600"/>
            <a:chExt cx="406080" cy="426960"/>
          </a:xfrm>
        </p:grpSpPr>
        <p:pic>
          <p:nvPicPr>
            <p:cNvPr id="908" name="" descr=""/>
            <p:cNvPicPr/>
            <p:nvPr/>
          </p:nvPicPr>
          <p:blipFill>
            <a:blip r:embed="rId11"/>
            <a:stretch/>
          </p:blipFill>
          <p:spPr>
            <a:xfrm>
              <a:off x="6456240" y="51246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" descr=""/>
            <p:cNvPicPr/>
            <p:nvPr/>
          </p:nvPicPr>
          <p:blipFill>
            <a:blip r:embed="rId12"/>
            <a:stretch/>
          </p:blipFill>
          <p:spPr>
            <a:xfrm>
              <a:off x="6516000" y="52365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0" name=""/>
          <p:cNvGrpSpPr/>
          <p:nvPr/>
        </p:nvGrpSpPr>
        <p:grpSpPr>
          <a:xfrm>
            <a:off x="7234200" y="5156280"/>
            <a:ext cx="406080" cy="426960"/>
            <a:chOff x="7234200" y="5156280"/>
            <a:chExt cx="406080" cy="426960"/>
          </a:xfrm>
        </p:grpSpPr>
        <p:pic>
          <p:nvPicPr>
            <p:cNvPr id="911" name="" descr=""/>
            <p:cNvPicPr/>
            <p:nvPr/>
          </p:nvPicPr>
          <p:blipFill>
            <a:blip r:embed="rId13"/>
            <a:stretch/>
          </p:blipFill>
          <p:spPr>
            <a:xfrm>
              <a:off x="7234200" y="515628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2" name="" descr=""/>
            <p:cNvPicPr/>
            <p:nvPr/>
          </p:nvPicPr>
          <p:blipFill>
            <a:blip r:embed="rId14"/>
            <a:stretch/>
          </p:blipFill>
          <p:spPr>
            <a:xfrm>
              <a:off x="7293960" y="526824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3" name=""/>
          <p:cNvGrpSpPr/>
          <p:nvPr/>
        </p:nvGrpSpPr>
        <p:grpSpPr>
          <a:xfrm>
            <a:off x="6821640" y="4871880"/>
            <a:ext cx="377640" cy="376560"/>
            <a:chOff x="6821640" y="4871880"/>
            <a:chExt cx="377640" cy="376560"/>
          </a:xfrm>
        </p:grpSpPr>
        <p:pic>
          <p:nvPicPr>
            <p:cNvPr id="914" name="" descr=""/>
            <p:cNvPicPr/>
            <p:nvPr/>
          </p:nvPicPr>
          <p:blipFill>
            <a:blip r:embed="rId15"/>
            <a:stretch/>
          </p:blipFill>
          <p:spPr>
            <a:xfrm>
              <a:off x="6821640" y="4871880"/>
              <a:ext cx="377640" cy="3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"/>
            <p:cNvSpPr/>
            <p:nvPr/>
          </p:nvSpPr>
          <p:spPr>
            <a:xfrm>
              <a:off x="6931440" y="5004000"/>
              <a:ext cx="26604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" name=""/>
          <p:cNvSpPr/>
          <p:nvPr/>
        </p:nvSpPr>
        <p:spPr>
          <a:xfrm>
            <a:off x="7126200" y="4775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7846920" y="4199040"/>
            <a:ext cx="208080" cy="408960"/>
            <a:chOff x="7846920" y="4199040"/>
            <a:chExt cx="208080" cy="408960"/>
          </a:xfrm>
        </p:grpSpPr>
        <p:sp>
          <p:nvSpPr>
            <p:cNvPr id="918" name=""/>
            <p:cNvSpPr/>
            <p:nvPr/>
          </p:nvSpPr>
          <p:spPr>
            <a:xfrm>
              <a:off x="7846920" y="451368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952040" y="4201560"/>
              <a:ext cx="9540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848000" y="4290840"/>
              <a:ext cx="13176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846920" y="419904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055000" y="420552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7979760" y="451368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864560" y="4332240"/>
              <a:ext cx="87480" cy="181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877160" y="438696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7834320" y="4643280"/>
            <a:ext cx="208080" cy="409680"/>
            <a:chOff x="7834320" y="4643280"/>
            <a:chExt cx="208080" cy="409680"/>
          </a:xfrm>
        </p:grpSpPr>
        <p:sp>
          <p:nvSpPr>
            <p:cNvPr id="927" name=""/>
            <p:cNvSpPr/>
            <p:nvPr/>
          </p:nvSpPr>
          <p:spPr>
            <a:xfrm>
              <a:off x="7834320" y="495828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939440" y="464580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835400" y="473508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834320" y="464328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8042400" y="464976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7967160" y="495828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851960" y="4776480"/>
              <a:ext cx="8748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864560" y="483120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 flipV="1">
            <a:off x="7765920" y="4267080"/>
            <a:ext cx="0" cy="6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763040" y="4876920"/>
            <a:ext cx="10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761240" y="4400640"/>
            <a:ext cx="8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6483240" y="2496960"/>
            <a:ext cx="45900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418520" y="2481120"/>
            <a:ext cx="485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7939080" y="2817720"/>
            <a:ext cx="239760" cy="68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7167600" y="25938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192800" y="3241800"/>
            <a:ext cx="53532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7652880" y="3706920"/>
            <a:ext cx="26676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7426440" y="2786040"/>
            <a:ext cx="560160" cy="38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7435440" y="2225520"/>
            <a:ext cx="35100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8153280" y="2401920"/>
            <a:ext cx="201600" cy="17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5964120" y="2593800"/>
            <a:ext cx="501840" cy="233280"/>
            <a:chOff x="5964120" y="2593800"/>
            <a:chExt cx="501840" cy="233280"/>
          </a:xfrm>
        </p:grpSpPr>
        <p:sp>
          <p:nvSpPr>
            <p:cNvPr id="948" name=""/>
            <p:cNvSpPr/>
            <p:nvPr/>
          </p:nvSpPr>
          <p:spPr>
            <a:xfrm>
              <a:off x="5968080" y="2697840"/>
              <a:ext cx="49752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968080" y="26870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465960" y="26870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968080" y="268704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964120" y="259380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3" name=""/>
            <p:cNvGrpSpPr/>
            <p:nvPr/>
          </p:nvGrpSpPr>
          <p:grpSpPr>
            <a:xfrm>
              <a:off x="6083640" y="2626560"/>
              <a:ext cx="246240" cy="88560"/>
              <a:chOff x="6083640" y="2626560"/>
              <a:chExt cx="246240" cy="88560"/>
            </a:xfrm>
          </p:grpSpPr>
          <p:sp>
            <p:nvSpPr>
              <p:cNvPr id="954" name=""/>
              <p:cNvSpPr/>
              <p:nvPr/>
            </p:nvSpPr>
            <p:spPr>
              <a:xfrm flipV="1">
                <a:off x="6083640" y="2626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252480" y="2715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164640" y="26287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6083640" y="2625480"/>
              <a:ext cx="246240" cy="88560"/>
              <a:chOff x="6083640" y="2625480"/>
              <a:chExt cx="246240" cy="88560"/>
            </a:xfrm>
          </p:grpSpPr>
          <p:sp>
            <p:nvSpPr>
              <p:cNvPr id="958" name=""/>
              <p:cNvSpPr/>
              <p:nvPr/>
            </p:nvSpPr>
            <p:spPr>
              <a:xfrm>
                <a:off x="6083640" y="2712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252480" y="26254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flipV="1">
                <a:off x="6164640" y="26254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1" name=""/>
          <p:cNvGrpSpPr/>
          <p:nvPr/>
        </p:nvGrpSpPr>
        <p:grpSpPr>
          <a:xfrm>
            <a:off x="6916680" y="2365200"/>
            <a:ext cx="501840" cy="233280"/>
            <a:chOff x="6916680" y="2365200"/>
            <a:chExt cx="501840" cy="233280"/>
          </a:xfrm>
        </p:grpSpPr>
        <p:sp>
          <p:nvSpPr>
            <p:cNvPr id="962" name=""/>
            <p:cNvSpPr/>
            <p:nvPr/>
          </p:nvSpPr>
          <p:spPr>
            <a:xfrm>
              <a:off x="6920640" y="2469240"/>
              <a:ext cx="49752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920640" y="2458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418520" y="2458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920640" y="245844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916680" y="236520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7" name=""/>
            <p:cNvGrpSpPr/>
            <p:nvPr/>
          </p:nvGrpSpPr>
          <p:grpSpPr>
            <a:xfrm>
              <a:off x="7036200" y="2397960"/>
              <a:ext cx="246240" cy="88560"/>
              <a:chOff x="7036200" y="2397960"/>
              <a:chExt cx="246240" cy="88560"/>
            </a:xfrm>
          </p:grpSpPr>
          <p:sp>
            <p:nvSpPr>
              <p:cNvPr id="968" name=""/>
              <p:cNvSpPr/>
              <p:nvPr/>
            </p:nvSpPr>
            <p:spPr>
              <a:xfrm flipV="1">
                <a:off x="7036200" y="2397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205040" y="2486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117200" y="24001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1" name=""/>
            <p:cNvGrpSpPr/>
            <p:nvPr/>
          </p:nvGrpSpPr>
          <p:grpSpPr>
            <a:xfrm>
              <a:off x="7036200" y="2396880"/>
              <a:ext cx="246240" cy="88560"/>
              <a:chOff x="7036200" y="2396880"/>
              <a:chExt cx="246240" cy="88560"/>
            </a:xfrm>
          </p:grpSpPr>
          <p:sp>
            <p:nvSpPr>
              <p:cNvPr id="972" name=""/>
              <p:cNvSpPr/>
              <p:nvPr/>
            </p:nvSpPr>
            <p:spPr>
              <a:xfrm>
                <a:off x="7036200" y="2483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205040" y="2396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V="1">
                <a:off x="7117200" y="23968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5" name=""/>
          <p:cNvGrpSpPr/>
          <p:nvPr/>
        </p:nvGrpSpPr>
        <p:grpSpPr>
          <a:xfrm>
            <a:off x="6934320" y="3022560"/>
            <a:ext cx="501480" cy="232920"/>
            <a:chOff x="6934320" y="3022560"/>
            <a:chExt cx="501480" cy="232920"/>
          </a:xfrm>
        </p:grpSpPr>
        <p:sp>
          <p:nvSpPr>
            <p:cNvPr id="976" name=""/>
            <p:cNvSpPr/>
            <p:nvPr/>
          </p:nvSpPr>
          <p:spPr>
            <a:xfrm>
              <a:off x="6938280" y="312660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938280" y="3115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435800" y="3115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938280" y="311544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934320" y="302256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1" name=""/>
            <p:cNvGrpSpPr/>
            <p:nvPr/>
          </p:nvGrpSpPr>
          <p:grpSpPr>
            <a:xfrm>
              <a:off x="7053840" y="3055320"/>
              <a:ext cx="246240" cy="88200"/>
              <a:chOff x="7053840" y="3055320"/>
              <a:chExt cx="246240" cy="88200"/>
            </a:xfrm>
          </p:grpSpPr>
          <p:sp>
            <p:nvSpPr>
              <p:cNvPr id="982" name=""/>
              <p:cNvSpPr/>
              <p:nvPr/>
            </p:nvSpPr>
            <p:spPr>
              <a:xfrm flipV="1">
                <a:off x="7053840" y="3055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222680" y="3143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134840" y="30574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7053840" y="3054600"/>
              <a:ext cx="246240" cy="88200"/>
              <a:chOff x="7053840" y="3054600"/>
              <a:chExt cx="246240" cy="88200"/>
            </a:xfrm>
          </p:grpSpPr>
          <p:sp>
            <p:nvSpPr>
              <p:cNvPr id="986" name=""/>
              <p:cNvSpPr/>
              <p:nvPr/>
            </p:nvSpPr>
            <p:spPr>
              <a:xfrm>
                <a:off x="7053840" y="3141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7222680" y="3054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V="1">
                <a:off x="7134840" y="30546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9" name=""/>
          <p:cNvGrpSpPr/>
          <p:nvPr/>
        </p:nvGrpSpPr>
        <p:grpSpPr>
          <a:xfrm>
            <a:off x="7904160" y="2573280"/>
            <a:ext cx="500040" cy="232920"/>
            <a:chOff x="7904160" y="2573280"/>
            <a:chExt cx="500040" cy="232920"/>
          </a:xfrm>
        </p:grpSpPr>
        <p:sp>
          <p:nvSpPr>
            <p:cNvPr id="990" name=""/>
            <p:cNvSpPr/>
            <p:nvPr/>
          </p:nvSpPr>
          <p:spPr>
            <a:xfrm>
              <a:off x="7908120" y="267732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908120" y="2666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8404200" y="2666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908120" y="266616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904160" y="257328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5" name=""/>
            <p:cNvGrpSpPr/>
            <p:nvPr/>
          </p:nvGrpSpPr>
          <p:grpSpPr>
            <a:xfrm>
              <a:off x="8023320" y="2606040"/>
              <a:ext cx="245520" cy="88200"/>
              <a:chOff x="8023320" y="2606040"/>
              <a:chExt cx="245520" cy="88200"/>
            </a:xfrm>
          </p:grpSpPr>
          <p:sp>
            <p:nvSpPr>
              <p:cNvPr id="996" name=""/>
              <p:cNvSpPr/>
              <p:nvPr/>
            </p:nvSpPr>
            <p:spPr>
              <a:xfrm flipV="1">
                <a:off x="8023320" y="26060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8191800" y="269424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103960" y="26082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9" name=""/>
            <p:cNvGrpSpPr/>
            <p:nvPr/>
          </p:nvGrpSpPr>
          <p:grpSpPr>
            <a:xfrm>
              <a:off x="8023320" y="2605320"/>
              <a:ext cx="245520" cy="88200"/>
              <a:chOff x="8023320" y="2605320"/>
              <a:chExt cx="245520" cy="88200"/>
            </a:xfrm>
          </p:grpSpPr>
          <p:sp>
            <p:nvSpPr>
              <p:cNvPr id="1000" name=""/>
              <p:cNvSpPr/>
              <p:nvPr/>
            </p:nvSpPr>
            <p:spPr>
              <a:xfrm>
                <a:off x="8023320" y="26917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8191800" y="26053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V="1">
                <a:off x="8103960" y="260532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3" name=""/>
          <p:cNvGrpSpPr/>
          <p:nvPr/>
        </p:nvGrpSpPr>
        <p:grpSpPr>
          <a:xfrm>
            <a:off x="7710480" y="3470400"/>
            <a:ext cx="501480" cy="232920"/>
            <a:chOff x="7710480" y="3470400"/>
            <a:chExt cx="501480" cy="232920"/>
          </a:xfrm>
        </p:grpSpPr>
        <p:sp>
          <p:nvSpPr>
            <p:cNvPr id="1004" name=""/>
            <p:cNvSpPr/>
            <p:nvPr/>
          </p:nvSpPr>
          <p:spPr>
            <a:xfrm>
              <a:off x="7714440" y="357444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71444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821196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714440" y="356328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710480" y="347040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9" name=""/>
            <p:cNvGrpSpPr/>
            <p:nvPr/>
          </p:nvGrpSpPr>
          <p:grpSpPr>
            <a:xfrm>
              <a:off x="7830000" y="3503160"/>
              <a:ext cx="246240" cy="88200"/>
              <a:chOff x="7830000" y="3503160"/>
              <a:chExt cx="246240" cy="88200"/>
            </a:xfrm>
          </p:grpSpPr>
          <p:sp>
            <p:nvSpPr>
              <p:cNvPr id="1010" name=""/>
              <p:cNvSpPr/>
              <p:nvPr/>
            </p:nvSpPr>
            <p:spPr>
              <a:xfrm flipV="1">
                <a:off x="7830000" y="3503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998840" y="3591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911000" y="3505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7830000" y="3502440"/>
              <a:ext cx="246240" cy="88200"/>
              <a:chOff x="7830000" y="3502440"/>
              <a:chExt cx="246240" cy="88200"/>
            </a:xfrm>
          </p:grpSpPr>
          <p:sp>
            <p:nvSpPr>
              <p:cNvPr id="1014" name=""/>
              <p:cNvSpPr/>
              <p:nvPr/>
            </p:nvSpPr>
            <p:spPr>
              <a:xfrm>
                <a:off x="7830000" y="3588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998840" y="3502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flipV="1">
                <a:off x="7911000" y="35024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7" name=""/>
          <p:cNvGrpSpPr/>
          <p:nvPr/>
        </p:nvGrpSpPr>
        <p:grpSpPr>
          <a:xfrm>
            <a:off x="7377120" y="4054320"/>
            <a:ext cx="501480" cy="234720"/>
            <a:chOff x="7377120" y="4054320"/>
            <a:chExt cx="501480" cy="234720"/>
          </a:xfrm>
        </p:grpSpPr>
        <p:sp>
          <p:nvSpPr>
            <p:cNvPr id="1018" name=""/>
            <p:cNvSpPr/>
            <p:nvPr/>
          </p:nvSpPr>
          <p:spPr>
            <a:xfrm>
              <a:off x="7381080" y="4159080"/>
              <a:ext cx="497160" cy="129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381080" y="41479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878600" y="41479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381080" y="4147920"/>
              <a:ext cx="492840" cy="79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377120" y="4054320"/>
              <a:ext cx="496800" cy="151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7496640" y="4087440"/>
              <a:ext cx="246240" cy="88920"/>
              <a:chOff x="7496640" y="4087440"/>
              <a:chExt cx="246240" cy="88920"/>
            </a:xfrm>
          </p:grpSpPr>
          <p:sp>
            <p:nvSpPr>
              <p:cNvPr id="1024" name=""/>
              <p:cNvSpPr/>
              <p:nvPr/>
            </p:nvSpPr>
            <p:spPr>
              <a:xfrm flipV="1">
                <a:off x="7496640" y="40874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665480" y="4176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577640" y="40896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7" name=""/>
            <p:cNvGrpSpPr/>
            <p:nvPr/>
          </p:nvGrpSpPr>
          <p:grpSpPr>
            <a:xfrm>
              <a:off x="7496640" y="4086360"/>
              <a:ext cx="246240" cy="88920"/>
              <a:chOff x="7496640" y="4086360"/>
              <a:chExt cx="246240" cy="88920"/>
            </a:xfrm>
          </p:grpSpPr>
          <p:sp>
            <p:nvSpPr>
              <p:cNvPr id="1028" name=""/>
              <p:cNvSpPr/>
              <p:nvPr/>
            </p:nvSpPr>
            <p:spPr>
              <a:xfrm>
                <a:off x="7496640" y="4173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665480" y="4086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V="1">
                <a:off x="7577640" y="40863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1" name=""/>
          <p:cNvGrpSpPr/>
          <p:nvPr/>
        </p:nvGrpSpPr>
        <p:grpSpPr>
          <a:xfrm>
            <a:off x="6767640" y="4543560"/>
            <a:ext cx="500040" cy="232920"/>
            <a:chOff x="6767640" y="4543560"/>
            <a:chExt cx="500040" cy="232920"/>
          </a:xfrm>
        </p:grpSpPr>
        <p:sp>
          <p:nvSpPr>
            <p:cNvPr id="1032" name=""/>
            <p:cNvSpPr/>
            <p:nvPr/>
          </p:nvSpPr>
          <p:spPr>
            <a:xfrm>
              <a:off x="6771600" y="464760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771600" y="46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267680" y="46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771600" y="463644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767640" y="454356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7" name=""/>
            <p:cNvGrpSpPr/>
            <p:nvPr/>
          </p:nvGrpSpPr>
          <p:grpSpPr>
            <a:xfrm>
              <a:off x="6886800" y="4576320"/>
              <a:ext cx="245520" cy="88200"/>
              <a:chOff x="6886800" y="4576320"/>
              <a:chExt cx="245520" cy="88200"/>
            </a:xfrm>
          </p:grpSpPr>
          <p:sp>
            <p:nvSpPr>
              <p:cNvPr id="1038" name=""/>
              <p:cNvSpPr/>
              <p:nvPr/>
            </p:nvSpPr>
            <p:spPr>
              <a:xfrm flipV="1">
                <a:off x="6886800" y="45763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055280" y="46645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967440" y="457848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1" name=""/>
            <p:cNvGrpSpPr/>
            <p:nvPr/>
          </p:nvGrpSpPr>
          <p:grpSpPr>
            <a:xfrm>
              <a:off x="6886800" y="4575600"/>
              <a:ext cx="245520" cy="88200"/>
              <a:chOff x="6886800" y="4575600"/>
              <a:chExt cx="245520" cy="88200"/>
            </a:xfrm>
          </p:grpSpPr>
          <p:sp>
            <p:nvSpPr>
              <p:cNvPr id="1042" name=""/>
              <p:cNvSpPr/>
              <p:nvPr/>
            </p:nvSpPr>
            <p:spPr>
              <a:xfrm>
                <a:off x="6886800" y="46620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055280" y="45756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V="1">
                <a:off x="6967440" y="45756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5" name=""/>
          <p:cNvGrpSpPr/>
          <p:nvPr/>
        </p:nvGrpSpPr>
        <p:grpSpPr>
          <a:xfrm>
            <a:off x="5964120" y="4167360"/>
            <a:ext cx="501840" cy="232920"/>
            <a:chOff x="5964120" y="4167360"/>
            <a:chExt cx="501840" cy="232920"/>
          </a:xfrm>
        </p:grpSpPr>
        <p:sp>
          <p:nvSpPr>
            <p:cNvPr id="1046" name=""/>
            <p:cNvSpPr/>
            <p:nvPr/>
          </p:nvSpPr>
          <p:spPr>
            <a:xfrm>
              <a:off x="5968080" y="427140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968080" y="4260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465960" y="4260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968080" y="426024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964120" y="416736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1" name=""/>
            <p:cNvGrpSpPr/>
            <p:nvPr/>
          </p:nvGrpSpPr>
          <p:grpSpPr>
            <a:xfrm>
              <a:off x="6083640" y="4200120"/>
              <a:ext cx="246240" cy="88200"/>
              <a:chOff x="6083640" y="4200120"/>
              <a:chExt cx="246240" cy="88200"/>
            </a:xfrm>
          </p:grpSpPr>
          <p:sp>
            <p:nvSpPr>
              <p:cNvPr id="1052" name=""/>
              <p:cNvSpPr/>
              <p:nvPr/>
            </p:nvSpPr>
            <p:spPr>
              <a:xfrm flipV="1">
                <a:off x="6083640" y="42001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6252480" y="42883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164640" y="42022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6083640" y="4199400"/>
              <a:ext cx="246240" cy="88200"/>
              <a:chOff x="6083640" y="4199400"/>
              <a:chExt cx="246240" cy="88200"/>
            </a:xfrm>
          </p:grpSpPr>
          <p:sp>
            <p:nvSpPr>
              <p:cNvPr id="1056" name=""/>
              <p:cNvSpPr/>
              <p:nvPr/>
            </p:nvSpPr>
            <p:spPr>
              <a:xfrm>
                <a:off x="6083640" y="4285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6252480" y="41994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6164640" y="41994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9" name=""/>
          <p:cNvSpPr/>
          <p:nvPr/>
        </p:nvSpPr>
        <p:spPr>
          <a:xfrm flipV="1">
            <a:off x="6200640" y="4389120"/>
            <a:ext cx="1800" cy="23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D7F1-7DA6-4338-A298-43EA9B9F41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A borda da rede: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200160" y="1127160"/>
            <a:ext cx="4743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Sistemas finais (hosts)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odam programs de aplic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x., WWW, emai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a “borda da rede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modelo cliente/servid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 host cliente faz os pedidos, são atendidos pelos servido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x., cliente WWW (browser)/ servidor; cliente/servidor de emai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modelo peer-peer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teração simétrica entre os hos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x.: Gnutella, KaZa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2" name=""/>
          <p:cNvSpPr/>
          <p:nvPr/>
        </p:nvSpPr>
        <p:spPr>
          <a:xfrm>
            <a:off x="6770520" y="2200320"/>
            <a:ext cx="179712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890960" y="2057400"/>
            <a:ext cx="186552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257800" y="350820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4316400" y="1785960"/>
            <a:ext cx="1100160" cy="874800"/>
            <a:chOff x="4316400" y="1785960"/>
            <a:chExt cx="1100160" cy="874800"/>
          </a:xfrm>
        </p:grpSpPr>
        <p:sp>
          <p:nvSpPr>
            <p:cNvPr id="1066" name=""/>
            <p:cNvSpPr/>
            <p:nvPr/>
          </p:nvSpPr>
          <p:spPr>
            <a:xfrm>
              <a:off x="4316400" y="1785960"/>
              <a:ext cx="1100160" cy="874800"/>
            </a:xfrm>
            <a:custGeom>
              <a:avLst/>
              <a:gdLst/>
              <a:ahLst/>
              <a:rect l="l" t="t" r="r" b="b"/>
              <a:pathLst>
                <a:path w="693" h="551">
                  <a:moveTo>
                    <a:pt x="77" y="63"/>
                  </a:moveTo>
                  <a:cubicBezTo>
                    <a:pt x="31" y="105"/>
                    <a:pt x="42" y="191"/>
                    <a:pt x="35" y="255"/>
                  </a:cubicBezTo>
                  <a:cubicBezTo>
                    <a:pt x="28" y="319"/>
                    <a:pt x="0" y="404"/>
                    <a:pt x="35" y="447"/>
                  </a:cubicBezTo>
                  <a:cubicBezTo>
                    <a:pt x="70" y="490"/>
                    <a:pt x="179" y="497"/>
                    <a:pt x="245" y="513"/>
                  </a:cubicBezTo>
                  <a:cubicBezTo>
                    <a:pt x="311" y="529"/>
                    <a:pt x="364" y="551"/>
                    <a:pt x="431" y="543"/>
                  </a:cubicBezTo>
                  <a:cubicBezTo>
                    <a:pt x="498" y="535"/>
                    <a:pt x="604" y="505"/>
                    <a:pt x="647" y="465"/>
                  </a:cubicBezTo>
                  <a:cubicBezTo>
                    <a:pt x="690" y="425"/>
                    <a:pt x="685" y="363"/>
                    <a:pt x="689" y="303"/>
                  </a:cubicBezTo>
                  <a:cubicBezTo>
                    <a:pt x="693" y="243"/>
                    <a:pt x="683" y="149"/>
                    <a:pt x="671" y="105"/>
                  </a:cubicBezTo>
                  <a:cubicBezTo>
                    <a:pt x="659" y="61"/>
                    <a:pt x="677" y="56"/>
                    <a:pt x="617" y="39"/>
                  </a:cubicBezTo>
                  <a:cubicBezTo>
                    <a:pt x="557" y="22"/>
                    <a:pt x="401" y="0"/>
                    <a:pt x="311" y="3"/>
                  </a:cubicBezTo>
                  <a:cubicBezTo>
                    <a:pt x="221" y="6"/>
                    <a:pt x="123" y="21"/>
                    <a:pt x="77" y="63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7" name="" descr=""/>
            <p:cNvPicPr/>
            <p:nvPr/>
          </p:nvPicPr>
          <p:blipFill>
            <a:blip r:embed="rId1"/>
            <a:stretch/>
          </p:blipFill>
          <p:spPr>
            <a:xfrm>
              <a:off x="4397400" y="1863720"/>
              <a:ext cx="930240" cy="71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68" name="" descr=""/>
          <p:cNvPicPr/>
          <p:nvPr/>
        </p:nvPicPr>
        <p:blipFill>
          <a:blip r:embed="rId2"/>
          <a:stretch/>
        </p:blipFill>
        <p:spPr>
          <a:xfrm>
            <a:off x="5460840" y="2311560"/>
            <a:ext cx="279720" cy="183960"/>
          </a:xfrm>
          <a:prstGeom prst="rect">
            <a:avLst/>
          </a:prstGeom>
          <a:ln w="0">
            <a:noFill/>
          </a:ln>
        </p:spPr>
      </p:pic>
      <p:sp>
        <p:nvSpPr>
          <p:cNvPr id="1069" name=""/>
          <p:cNvSpPr/>
          <p:nvPr/>
        </p:nvSpPr>
        <p:spPr>
          <a:xfrm flipV="1">
            <a:off x="5413320" y="2433240"/>
            <a:ext cx="1144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5006880" y="2787480"/>
            <a:ext cx="733680" cy="319320"/>
            <a:chOff x="5006880" y="2787480"/>
            <a:chExt cx="733680" cy="319320"/>
          </a:xfrm>
        </p:grpSpPr>
        <p:pic>
          <p:nvPicPr>
            <p:cNvPr id="1071" name="" descr=""/>
            <p:cNvPicPr/>
            <p:nvPr/>
          </p:nvPicPr>
          <p:blipFill>
            <a:blip r:embed="rId3"/>
            <a:stretch/>
          </p:blipFill>
          <p:spPr>
            <a:xfrm>
              <a:off x="5006880" y="2787480"/>
              <a:ext cx="41616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2" name="" descr=""/>
            <p:cNvPicPr/>
            <p:nvPr/>
          </p:nvPicPr>
          <p:blipFill>
            <a:blip r:embed="rId4"/>
            <a:stretch/>
          </p:blipFill>
          <p:spPr>
            <a:xfrm>
              <a:off x="5460840" y="2905560"/>
              <a:ext cx="27972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3" name=""/>
            <p:cNvSpPr/>
            <p:nvPr/>
          </p:nvSpPr>
          <p:spPr>
            <a:xfrm flipV="1">
              <a:off x="5413320" y="302904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5383080" y="2575080"/>
            <a:ext cx="69480" cy="214200"/>
            <a:chOff x="5383080" y="2575080"/>
            <a:chExt cx="69480" cy="214200"/>
          </a:xfrm>
        </p:grpSpPr>
        <p:sp>
          <p:nvSpPr>
            <p:cNvPr id="1075" name=""/>
            <p:cNvSpPr/>
            <p:nvPr/>
          </p:nvSpPr>
          <p:spPr>
            <a:xfrm>
              <a:off x="5383080" y="257508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385600" y="265212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388480" y="272916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5853240" y="3078000"/>
            <a:ext cx="209520" cy="394920"/>
            <a:chOff x="5853240" y="3078000"/>
            <a:chExt cx="209520" cy="394920"/>
          </a:xfrm>
        </p:grpSpPr>
        <p:sp>
          <p:nvSpPr>
            <p:cNvPr id="1079" name=""/>
            <p:cNvSpPr/>
            <p:nvPr/>
          </p:nvSpPr>
          <p:spPr>
            <a:xfrm>
              <a:off x="5853240" y="338184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959440" y="308052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854320" y="316656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853240" y="307800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062760" y="308412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5986800" y="338184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871240" y="320652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883840" y="325944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6089760" y="3231720"/>
            <a:ext cx="233280" cy="81000"/>
            <a:chOff x="6089760" y="3231720"/>
            <a:chExt cx="233280" cy="81000"/>
          </a:xfrm>
        </p:grpSpPr>
        <p:sp>
          <p:nvSpPr>
            <p:cNvPr id="1088" name=""/>
            <p:cNvSpPr/>
            <p:nvPr/>
          </p:nvSpPr>
          <p:spPr>
            <a:xfrm rot="16200000">
              <a:off x="6085080" y="324252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rot="16200000">
              <a:off x="6168960" y="323928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rot="16200000">
              <a:off x="6252840" y="323604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1" name=""/>
          <p:cNvSpPr/>
          <p:nvPr/>
        </p:nvSpPr>
        <p:spPr>
          <a:xfrm>
            <a:off x="5989680" y="2986200"/>
            <a:ext cx="495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992920" y="2982960"/>
            <a:ext cx="144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488280" y="2981160"/>
            <a:ext cx="2880" cy="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689440" y="2446200"/>
            <a:ext cx="289080" cy="26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V="1">
            <a:off x="5703840" y="2731680"/>
            <a:ext cx="27468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6230880" y="2817720"/>
            <a:ext cx="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6348240" y="3056040"/>
            <a:ext cx="209880" cy="394920"/>
            <a:chOff x="6348240" y="3056040"/>
            <a:chExt cx="209880" cy="394920"/>
          </a:xfrm>
        </p:grpSpPr>
        <p:sp>
          <p:nvSpPr>
            <p:cNvPr id="1098" name=""/>
            <p:cNvSpPr/>
            <p:nvPr/>
          </p:nvSpPr>
          <p:spPr>
            <a:xfrm>
              <a:off x="6348240" y="335988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454440" y="3058560"/>
              <a:ext cx="9648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349320" y="3144600"/>
              <a:ext cx="13284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348240" y="305604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558120" y="306216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6482160" y="335988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366240" y="3184560"/>
              <a:ext cx="8820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378840" y="3237480"/>
              <a:ext cx="6696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5392800" y="3675240"/>
            <a:ext cx="477360" cy="924840"/>
            <a:chOff x="5392800" y="3675240"/>
            <a:chExt cx="477360" cy="924840"/>
          </a:xfrm>
        </p:grpSpPr>
        <p:pic>
          <p:nvPicPr>
            <p:cNvPr id="1107" name="" descr=""/>
            <p:cNvPicPr/>
            <p:nvPr/>
          </p:nvPicPr>
          <p:blipFill>
            <a:blip r:embed="rId5"/>
            <a:stretch/>
          </p:blipFill>
          <p:spPr>
            <a:xfrm>
              <a:off x="5392800" y="3675240"/>
              <a:ext cx="41508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8" name=""/>
            <p:cNvSpPr/>
            <p:nvPr/>
          </p:nvSpPr>
          <p:spPr>
            <a:xfrm flipV="1">
              <a:off x="5797800" y="392184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9" name="" descr=""/>
            <p:cNvPicPr/>
            <p:nvPr/>
          </p:nvPicPr>
          <p:blipFill>
            <a:blip r:embed="rId6"/>
            <a:stretch/>
          </p:blipFill>
          <p:spPr>
            <a:xfrm>
              <a:off x="5392800" y="4269600"/>
              <a:ext cx="41508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0" name=""/>
            <p:cNvSpPr/>
            <p:nvPr/>
          </p:nvSpPr>
          <p:spPr>
            <a:xfrm flipV="1">
              <a:off x="5797800" y="451980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1" name=""/>
            <p:cNvGrpSpPr/>
            <p:nvPr/>
          </p:nvGrpSpPr>
          <p:grpSpPr>
            <a:xfrm>
              <a:off x="5517720" y="4016160"/>
              <a:ext cx="70200" cy="222120"/>
              <a:chOff x="5517720" y="4016160"/>
              <a:chExt cx="70200" cy="222120"/>
            </a:xfrm>
          </p:grpSpPr>
          <p:sp>
            <p:nvSpPr>
              <p:cNvPr id="1112" name=""/>
              <p:cNvSpPr/>
              <p:nvPr/>
            </p:nvSpPr>
            <p:spPr>
              <a:xfrm>
                <a:off x="5517720" y="4016160"/>
                <a:ext cx="64800" cy="626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520240" y="4096080"/>
                <a:ext cx="6480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523120" y="4176000"/>
                <a:ext cx="6480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5" name=""/>
            <p:cNvSpPr/>
            <p:nvPr/>
          </p:nvSpPr>
          <p:spPr>
            <a:xfrm>
              <a:off x="5864760" y="3918960"/>
              <a:ext cx="0" cy="59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6" name="" descr=""/>
          <p:cNvPicPr/>
          <p:nvPr/>
        </p:nvPicPr>
        <p:blipFill>
          <a:blip r:embed="rId7"/>
          <a:stretch/>
        </p:blipFill>
        <p:spPr>
          <a:xfrm>
            <a:off x="6269040" y="4684680"/>
            <a:ext cx="398520" cy="331920"/>
          </a:xfrm>
          <a:prstGeom prst="rect">
            <a:avLst/>
          </a:prstGeom>
          <a:ln w="0">
            <a:noFill/>
          </a:ln>
        </p:spPr>
      </p:pic>
      <p:pic>
        <p:nvPicPr>
          <p:cNvPr id="1117" name="" descr=""/>
          <p:cNvPicPr/>
          <p:nvPr/>
        </p:nvPicPr>
        <p:blipFill>
          <a:blip r:embed="rId8"/>
          <a:stretch/>
        </p:blipFill>
        <p:spPr>
          <a:xfrm>
            <a:off x="5654520" y="4673520"/>
            <a:ext cx="397080" cy="330120"/>
          </a:xfrm>
          <a:prstGeom prst="rect">
            <a:avLst/>
          </a:prstGeom>
          <a:ln w="0">
            <a:noFill/>
          </a:ln>
        </p:spPr>
      </p:pic>
      <p:sp>
        <p:nvSpPr>
          <p:cNvPr id="1118" name=""/>
          <p:cNvSpPr/>
          <p:nvPr/>
        </p:nvSpPr>
        <p:spPr>
          <a:xfrm rot="16200000">
            <a:off x="6061680" y="4777200"/>
            <a:ext cx="637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rot="16200000">
            <a:off x="6146640" y="4775040"/>
            <a:ext cx="63360" cy="66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rot="16200000">
            <a:off x="6224400" y="4779720"/>
            <a:ext cx="619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6513480" y="4630680"/>
            <a:ext cx="3240" cy="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5889600" y="4619160"/>
            <a:ext cx="0" cy="6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5891040" y="462600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V="1">
            <a:off x="5870520" y="425088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472080" y="4297320"/>
            <a:ext cx="30348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H="1">
            <a:off x="7267680" y="4294080"/>
            <a:ext cx="279360" cy="39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7" name="" descr=""/>
          <p:cNvPicPr/>
          <p:nvPr/>
        </p:nvPicPr>
        <p:blipFill>
          <a:blip r:embed="rId9"/>
          <a:stretch/>
        </p:blipFill>
        <p:spPr>
          <a:xfrm>
            <a:off x="7450200" y="3846600"/>
            <a:ext cx="195120" cy="241200"/>
          </a:xfrm>
          <a:prstGeom prst="rect">
            <a:avLst/>
          </a:prstGeom>
          <a:ln w="0">
            <a:noFill/>
          </a:ln>
        </p:spPr>
      </p:pic>
      <p:pic>
        <p:nvPicPr>
          <p:cNvPr id="1128" name="" descr=""/>
          <p:cNvPicPr/>
          <p:nvPr/>
        </p:nvPicPr>
        <p:blipFill>
          <a:blip r:embed="rId10"/>
          <a:stretch/>
        </p:blipFill>
        <p:spPr>
          <a:xfrm>
            <a:off x="6114960" y="3927600"/>
            <a:ext cx="193680" cy="239760"/>
          </a:xfrm>
          <a:prstGeom prst="rect">
            <a:avLst/>
          </a:prstGeom>
          <a:ln w="0">
            <a:noFill/>
          </a:ln>
        </p:spPr>
      </p:pic>
      <p:sp>
        <p:nvSpPr>
          <p:cNvPr id="1129" name=""/>
          <p:cNvSpPr/>
          <p:nvPr/>
        </p:nvSpPr>
        <p:spPr>
          <a:xfrm>
            <a:off x="6189840" y="3701880"/>
            <a:ext cx="1353960" cy="30492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6456240" y="5124600"/>
            <a:ext cx="406080" cy="426960"/>
            <a:chOff x="6456240" y="5124600"/>
            <a:chExt cx="406080" cy="426960"/>
          </a:xfrm>
        </p:grpSpPr>
        <p:pic>
          <p:nvPicPr>
            <p:cNvPr id="1131" name="" descr=""/>
            <p:cNvPicPr/>
            <p:nvPr/>
          </p:nvPicPr>
          <p:blipFill>
            <a:blip r:embed="rId11"/>
            <a:stretch/>
          </p:blipFill>
          <p:spPr>
            <a:xfrm>
              <a:off x="6456240" y="51246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2" name="" descr=""/>
            <p:cNvPicPr/>
            <p:nvPr/>
          </p:nvPicPr>
          <p:blipFill>
            <a:blip r:embed="rId12"/>
            <a:stretch/>
          </p:blipFill>
          <p:spPr>
            <a:xfrm>
              <a:off x="6516000" y="52365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3" name=""/>
          <p:cNvGrpSpPr/>
          <p:nvPr/>
        </p:nvGrpSpPr>
        <p:grpSpPr>
          <a:xfrm>
            <a:off x="7234200" y="5156280"/>
            <a:ext cx="406080" cy="426960"/>
            <a:chOff x="7234200" y="5156280"/>
            <a:chExt cx="406080" cy="426960"/>
          </a:xfrm>
        </p:grpSpPr>
        <p:pic>
          <p:nvPicPr>
            <p:cNvPr id="1134" name="" descr=""/>
            <p:cNvPicPr/>
            <p:nvPr/>
          </p:nvPicPr>
          <p:blipFill>
            <a:blip r:embed="rId13"/>
            <a:stretch/>
          </p:blipFill>
          <p:spPr>
            <a:xfrm>
              <a:off x="7234200" y="515628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5" name="" descr=""/>
            <p:cNvPicPr/>
            <p:nvPr/>
          </p:nvPicPr>
          <p:blipFill>
            <a:blip r:embed="rId14"/>
            <a:stretch/>
          </p:blipFill>
          <p:spPr>
            <a:xfrm>
              <a:off x="7293960" y="526824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6" name=""/>
          <p:cNvGrpSpPr/>
          <p:nvPr/>
        </p:nvGrpSpPr>
        <p:grpSpPr>
          <a:xfrm>
            <a:off x="6821640" y="4871880"/>
            <a:ext cx="377640" cy="376560"/>
            <a:chOff x="6821640" y="4871880"/>
            <a:chExt cx="377640" cy="376560"/>
          </a:xfrm>
        </p:grpSpPr>
        <p:pic>
          <p:nvPicPr>
            <p:cNvPr id="1137" name="" descr=""/>
            <p:cNvPicPr/>
            <p:nvPr/>
          </p:nvPicPr>
          <p:blipFill>
            <a:blip r:embed="rId15"/>
            <a:stretch/>
          </p:blipFill>
          <p:spPr>
            <a:xfrm>
              <a:off x="6821640" y="4871880"/>
              <a:ext cx="377640" cy="3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8" name=""/>
            <p:cNvSpPr/>
            <p:nvPr/>
          </p:nvSpPr>
          <p:spPr>
            <a:xfrm>
              <a:off x="6931440" y="5004000"/>
              <a:ext cx="26604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9" name=""/>
          <p:cNvSpPr/>
          <p:nvPr/>
        </p:nvSpPr>
        <p:spPr>
          <a:xfrm>
            <a:off x="7126200" y="4775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0" name=""/>
          <p:cNvGrpSpPr/>
          <p:nvPr/>
        </p:nvGrpSpPr>
        <p:grpSpPr>
          <a:xfrm>
            <a:off x="7846920" y="4199040"/>
            <a:ext cx="208080" cy="408960"/>
            <a:chOff x="7846920" y="4199040"/>
            <a:chExt cx="208080" cy="408960"/>
          </a:xfrm>
        </p:grpSpPr>
        <p:sp>
          <p:nvSpPr>
            <p:cNvPr id="1141" name=""/>
            <p:cNvSpPr/>
            <p:nvPr/>
          </p:nvSpPr>
          <p:spPr>
            <a:xfrm>
              <a:off x="7846920" y="451368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952040" y="4201560"/>
              <a:ext cx="9540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848000" y="4290840"/>
              <a:ext cx="13176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846920" y="419904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8055000" y="420552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7979760" y="451368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864560" y="4332240"/>
              <a:ext cx="87480" cy="181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877160" y="438696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9" name=""/>
          <p:cNvGrpSpPr/>
          <p:nvPr/>
        </p:nvGrpSpPr>
        <p:grpSpPr>
          <a:xfrm>
            <a:off x="7808760" y="4653000"/>
            <a:ext cx="797040" cy="1260360"/>
            <a:chOff x="7808760" y="4653000"/>
            <a:chExt cx="797040" cy="1260360"/>
          </a:xfrm>
        </p:grpSpPr>
        <p:sp>
          <p:nvSpPr>
            <p:cNvPr id="1150" name=""/>
            <p:cNvSpPr/>
            <p:nvPr/>
          </p:nvSpPr>
          <p:spPr>
            <a:xfrm>
              <a:off x="7808760" y="4653000"/>
              <a:ext cx="797040" cy="1260360"/>
            </a:xfrm>
            <a:custGeom>
              <a:avLst/>
              <a:gdLst/>
              <a:ahLst/>
              <a:rect l="l" t="t" r="r" b="b"/>
              <a:pathLst>
                <a:path w="502" h="794">
                  <a:moveTo>
                    <a:pt x="289" y="9"/>
                  </a:moveTo>
                  <a:cubicBezTo>
                    <a:pt x="232" y="0"/>
                    <a:pt x="171" y="0"/>
                    <a:pt x="127" y="33"/>
                  </a:cubicBezTo>
                  <a:cubicBezTo>
                    <a:pt x="83" y="66"/>
                    <a:pt x="44" y="109"/>
                    <a:pt x="25" y="207"/>
                  </a:cubicBezTo>
                  <a:cubicBezTo>
                    <a:pt x="6" y="305"/>
                    <a:pt x="0" y="527"/>
                    <a:pt x="13" y="621"/>
                  </a:cubicBezTo>
                  <a:cubicBezTo>
                    <a:pt x="26" y="715"/>
                    <a:pt x="60" y="748"/>
                    <a:pt x="103" y="771"/>
                  </a:cubicBezTo>
                  <a:cubicBezTo>
                    <a:pt x="146" y="794"/>
                    <a:pt x="218" y="765"/>
                    <a:pt x="271" y="759"/>
                  </a:cubicBezTo>
                  <a:cubicBezTo>
                    <a:pt x="324" y="753"/>
                    <a:pt x="388" y="765"/>
                    <a:pt x="421" y="735"/>
                  </a:cubicBezTo>
                  <a:cubicBezTo>
                    <a:pt x="454" y="705"/>
                    <a:pt x="458" y="623"/>
                    <a:pt x="469" y="579"/>
                  </a:cubicBezTo>
                  <a:cubicBezTo>
                    <a:pt x="480" y="535"/>
                    <a:pt x="487" y="553"/>
                    <a:pt x="487" y="471"/>
                  </a:cubicBezTo>
                  <a:cubicBezTo>
                    <a:pt x="487" y="389"/>
                    <a:pt x="502" y="164"/>
                    <a:pt x="469" y="87"/>
                  </a:cubicBezTo>
                  <a:cubicBezTo>
                    <a:pt x="436" y="10"/>
                    <a:pt x="346" y="18"/>
                    <a:pt x="289" y="9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1" name=""/>
            <p:cNvGrpSpPr/>
            <p:nvPr/>
          </p:nvGrpSpPr>
          <p:grpSpPr>
            <a:xfrm>
              <a:off x="7920000" y="4748400"/>
              <a:ext cx="550800" cy="1038240"/>
              <a:chOff x="7920000" y="4748400"/>
              <a:chExt cx="550800" cy="1038240"/>
            </a:xfrm>
          </p:grpSpPr>
          <p:sp>
            <p:nvSpPr>
              <p:cNvPr id="1152" name=""/>
              <p:cNvSpPr/>
              <p:nvPr/>
            </p:nvSpPr>
            <p:spPr>
              <a:xfrm>
                <a:off x="7920000" y="5547240"/>
                <a:ext cx="550800" cy="239400"/>
              </a:xfrm>
              <a:prstGeom prst="parallelogram">
                <a:avLst>
                  <a:gd name="adj" fmla="val 88632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8199360" y="4754880"/>
                <a:ext cx="262080" cy="7984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923240" y="4982040"/>
                <a:ext cx="349200" cy="7984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920000" y="4748400"/>
                <a:ext cx="550800" cy="239760"/>
              </a:xfrm>
              <a:prstGeom prst="parallelogram">
                <a:avLst>
                  <a:gd name="adj" fmla="val 88499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8470800" y="4766040"/>
                <a:ext cx="0" cy="78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flipH="1">
                <a:off x="8272080" y="5547240"/>
                <a:ext cx="19836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967520" y="5086800"/>
                <a:ext cx="231840" cy="460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8001000" y="5224680"/>
                <a:ext cx="176040" cy="16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0" name=""/>
          <p:cNvSpPr/>
          <p:nvPr/>
        </p:nvSpPr>
        <p:spPr>
          <a:xfrm flipV="1">
            <a:off x="7765920" y="4267080"/>
            <a:ext cx="0" cy="6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763040" y="4876920"/>
            <a:ext cx="10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761240" y="4400640"/>
            <a:ext cx="8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6483240" y="2496960"/>
            <a:ext cx="45900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7418520" y="2481120"/>
            <a:ext cx="485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H="1">
            <a:off x="7939080" y="2817720"/>
            <a:ext cx="239760" cy="68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167600" y="25938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192800" y="3241800"/>
            <a:ext cx="53532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>
            <a:off x="7652880" y="3706920"/>
            <a:ext cx="26676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H="1">
            <a:off x="7426440" y="2786040"/>
            <a:ext cx="560160" cy="38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H="1">
            <a:off x="7435440" y="2225520"/>
            <a:ext cx="35100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H="1">
            <a:off x="8153280" y="2401920"/>
            <a:ext cx="201600" cy="17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5964120" y="2593800"/>
            <a:ext cx="501840" cy="233280"/>
            <a:chOff x="5964120" y="2593800"/>
            <a:chExt cx="501840" cy="233280"/>
          </a:xfrm>
        </p:grpSpPr>
        <p:sp>
          <p:nvSpPr>
            <p:cNvPr id="1173" name=""/>
            <p:cNvSpPr/>
            <p:nvPr/>
          </p:nvSpPr>
          <p:spPr>
            <a:xfrm>
              <a:off x="5968080" y="2697840"/>
              <a:ext cx="49752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968080" y="26870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465960" y="26870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968080" y="268704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964120" y="259380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8" name=""/>
            <p:cNvGrpSpPr/>
            <p:nvPr/>
          </p:nvGrpSpPr>
          <p:grpSpPr>
            <a:xfrm>
              <a:off x="6083640" y="2626560"/>
              <a:ext cx="246240" cy="88560"/>
              <a:chOff x="6083640" y="2626560"/>
              <a:chExt cx="246240" cy="88560"/>
            </a:xfrm>
          </p:grpSpPr>
          <p:sp>
            <p:nvSpPr>
              <p:cNvPr id="1179" name=""/>
              <p:cNvSpPr/>
              <p:nvPr/>
            </p:nvSpPr>
            <p:spPr>
              <a:xfrm flipV="1">
                <a:off x="6083640" y="2626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252480" y="2715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164640" y="26287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2" name=""/>
            <p:cNvGrpSpPr/>
            <p:nvPr/>
          </p:nvGrpSpPr>
          <p:grpSpPr>
            <a:xfrm>
              <a:off x="6083640" y="2625480"/>
              <a:ext cx="246240" cy="88560"/>
              <a:chOff x="6083640" y="2625480"/>
              <a:chExt cx="246240" cy="88560"/>
            </a:xfrm>
          </p:grpSpPr>
          <p:sp>
            <p:nvSpPr>
              <p:cNvPr id="1183" name=""/>
              <p:cNvSpPr/>
              <p:nvPr/>
            </p:nvSpPr>
            <p:spPr>
              <a:xfrm>
                <a:off x="6083640" y="2712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252480" y="26254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flipV="1">
                <a:off x="6164640" y="26254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6" name=""/>
          <p:cNvGrpSpPr/>
          <p:nvPr/>
        </p:nvGrpSpPr>
        <p:grpSpPr>
          <a:xfrm>
            <a:off x="6916680" y="2365200"/>
            <a:ext cx="501840" cy="233280"/>
            <a:chOff x="6916680" y="2365200"/>
            <a:chExt cx="501840" cy="233280"/>
          </a:xfrm>
        </p:grpSpPr>
        <p:sp>
          <p:nvSpPr>
            <p:cNvPr id="1187" name=""/>
            <p:cNvSpPr/>
            <p:nvPr/>
          </p:nvSpPr>
          <p:spPr>
            <a:xfrm>
              <a:off x="6920640" y="2469240"/>
              <a:ext cx="49752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920640" y="2458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418520" y="2458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920640" y="245844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916680" y="236520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2" name=""/>
            <p:cNvGrpSpPr/>
            <p:nvPr/>
          </p:nvGrpSpPr>
          <p:grpSpPr>
            <a:xfrm>
              <a:off x="7036200" y="2397960"/>
              <a:ext cx="246240" cy="88560"/>
              <a:chOff x="7036200" y="2397960"/>
              <a:chExt cx="246240" cy="88560"/>
            </a:xfrm>
          </p:grpSpPr>
          <p:sp>
            <p:nvSpPr>
              <p:cNvPr id="1193" name=""/>
              <p:cNvSpPr/>
              <p:nvPr/>
            </p:nvSpPr>
            <p:spPr>
              <a:xfrm flipV="1">
                <a:off x="7036200" y="2397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7205040" y="2486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117200" y="24001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7036200" y="2396880"/>
              <a:ext cx="246240" cy="88560"/>
              <a:chOff x="7036200" y="2396880"/>
              <a:chExt cx="246240" cy="88560"/>
            </a:xfrm>
          </p:grpSpPr>
          <p:sp>
            <p:nvSpPr>
              <p:cNvPr id="1197" name=""/>
              <p:cNvSpPr/>
              <p:nvPr/>
            </p:nvSpPr>
            <p:spPr>
              <a:xfrm>
                <a:off x="7036200" y="2483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7205040" y="2396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flipV="1">
                <a:off x="7117200" y="23968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0" name=""/>
          <p:cNvGrpSpPr/>
          <p:nvPr/>
        </p:nvGrpSpPr>
        <p:grpSpPr>
          <a:xfrm>
            <a:off x="6934320" y="3022560"/>
            <a:ext cx="501480" cy="232920"/>
            <a:chOff x="6934320" y="3022560"/>
            <a:chExt cx="501480" cy="232920"/>
          </a:xfrm>
        </p:grpSpPr>
        <p:sp>
          <p:nvSpPr>
            <p:cNvPr id="1201" name=""/>
            <p:cNvSpPr/>
            <p:nvPr/>
          </p:nvSpPr>
          <p:spPr>
            <a:xfrm>
              <a:off x="6938280" y="312660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938280" y="3115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435800" y="3115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938280" y="311544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934320" y="302256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6" name=""/>
            <p:cNvGrpSpPr/>
            <p:nvPr/>
          </p:nvGrpSpPr>
          <p:grpSpPr>
            <a:xfrm>
              <a:off x="7053840" y="3055320"/>
              <a:ext cx="246240" cy="88200"/>
              <a:chOff x="7053840" y="3055320"/>
              <a:chExt cx="246240" cy="88200"/>
            </a:xfrm>
          </p:grpSpPr>
          <p:sp>
            <p:nvSpPr>
              <p:cNvPr id="1207" name=""/>
              <p:cNvSpPr/>
              <p:nvPr/>
            </p:nvSpPr>
            <p:spPr>
              <a:xfrm flipV="1">
                <a:off x="7053840" y="3055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222680" y="3143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134840" y="30574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0" name=""/>
            <p:cNvGrpSpPr/>
            <p:nvPr/>
          </p:nvGrpSpPr>
          <p:grpSpPr>
            <a:xfrm>
              <a:off x="7053840" y="3054600"/>
              <a:ext cx="246240" cy="88200"/>
              <a:chOff x="7053840" y="3054600"/>
              <a:chExt cx="246240" cy="88200"/>
            </a:xfrm>
          </p:grpSpPr>
          <p:sp>
            <p:nvSpPr>
              <p:cNvPr id="1211" name=""/>
              <p:cNvSpPr/>
              <p:nvPr/>
            </p:nvSpPr>
            <p:spPr>
              <a:xfrm>
                <a:off x="7053840" y="3141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222680" y="3054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flipV="1">
                <a:off x="7134840" y="30546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4" name=""/>
          <p:cNvGrpSpPr/>
          <p:nvPr/>
        </p:nvGrpSpPr>
        <p:grpSpPr>
          <a:xfrm>
            <a:off x="7904160" y="2573280"/>
            <a:ext cx="500040" cy="232920"/>
            <a:chOff x="7904160" y="2573280"/>
            <a:chExt cx="500040" cy="232920"/>
          </a:xfrm>
        </p:grpSpPr>
        <p:sp>
          <p:nvSpPr>
            <p:cNvPr id="1215" name=""/>
            <p:cNvSpPr/>
            <p:nvPr/>
          </p:nvSpPr>
          <p:spPr>
            <a:xfrm>
              <a:off x="7908120" y="267732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908120" y="2666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8404200" y="2666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908120" y="266616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904160" y="257328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0" name=""/>
            <p:cNvGrpSpPr/>
            <p:nvPr/>
          </p:nvGrpSpPr>
          <p:grpSpPr>
            <a:xfrm>
              <a:off x="8023320" y="2606040"/>
              <a:ext cx="245520" cy="88200"/>
              <a:chOff x="8023320" y="2606040"/>
              <a:chExt cx="245520" cy="88200"/>
            </a:xfrm>
          </p:grpSpPr>
          <p:sp>
            <p:nvSpPr>
              <p:cNvPr id="1221" name=""/>
              <p:cNvSpPr/>
              <p:nvPr/>
            </p:nvSpPr>
            <p:spPr>
              <a:xfrm flipV="1">
                <a:off x="8023320" y="26060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8191800" y="269424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8103960" y="26082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4" name=""/>
            <p:cNvGrpSpPr/>
            <p:nvPr/>
          </p:nvGrpSpPr>
          <p:grpSpPr>
            <a:xfrm>
              <a:off x="8023320" y="2605320"/>
              <a:ext cx="245520" cy="88200"/>
              <a:chOff x="8023320" y="2605320"/>
              <a:chExt cx="245520" cy="88200"/>
            </a:xfrm>
          </p:grpSpPr>
          <p:sp>
            <p:nvSpPr>
              <p:cNvPr id="1225" name=""/>
              <p:cNvSpPr/>
              <p:nvPr/>
            </p:nvSpPr>
            <p:spPr>
              <a:xfrm>
                <a:off x="8023320" y="26917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8191800" y="26053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flipV="1">
                <a:off x="8103960" y="260532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8" name=""/>
          <p:cNvGrpSpPr/>
          <p:nvPr/>
        </p:nvGrpSpPr>
        <p:grpSpPr>
          <a:xfrm>
            <a:off x="7710480" y="3470400"/>
            <a:ext cx="501480" cy="232920"/>
            <a:chOff x="7710480" y="3470400"/>
            <a:chExt cx="501480" cy="232920"/>
          </a:xfrm>
        </p:grpSpPr>
        <p:sp>
          <p:nvSpPr>
            <p:cNvPr id="1229" name=""/>
            <p:cNvSpPr/>
            <p:nvPr/>
          </p:nvSpPr>
          <p:spPr>
            <a:xfrm>
              <a:off x="7714440" y="357444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71444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821196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714440" y="356328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710480" y="347040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4" name=""/>
            <p:cNvGrpSpPr/>
            <p:nvPr/>
          </p:nvGrpSpPr>
          <p:grpSpPr>
            <a:xfrm>
              <a:off x="7830000" y="3503160"/>
              <a:ext cx="246240" cy="88200"/>
              <a:chOff x="7830000" y="3503160"/>
              <a:chExt cx="246240" cy="88200"/>
            </a:xfrm>
          </p:grpSpPr>
          <p:sp>
            <p:nvSpPr>
              <p:cNvPr id="1235" name=""/>
              <p:cNvSpPr/>
              <p:nvPr/>
            </p:nvSpPr>
            <p:spPr>
              <a:xfrm flipV="1">
                <a:off x="7830000" y="3503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7998840" y="3591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7911000" y="3505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8" name=""/>
            <p:cNvGrpSpPr/>
            <p:nvPr/>
          </p:nvGrpSpPr>
          <p:grpSpPr>
            <a:xfrm>
              <a:off x="7830000" y="3502440"/>
              <a:ext cx="246240" cy="88200"/>
              <a:chOff x="7830000" y="3502440"/>
              <a:chExt cx="246240" cy="88200"/>
            </a:xfrm>
          </p:grpSpPr>
          <p:sp>
            <p:nvSpPr>
              <p:cNvPr id="1239" name=""/>
              <p:cNvSpPr/>
              <p:nvPr/>
            </p:nvSpPr>
            <p:spPr>
              <a:xfrm>
                <a:off x="7830000" y="3588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7998840" y="3502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 flipV="1">
                <a:off x="7911000" y="35024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2" name=""/>
          <p:cNvGrpSpPr/>
          <p:nvPr/>
        </p:nvGrpSpPr>
        <p:grpSpPr>
          <a:xfrm>
            <a:off x="7377120" y="4054320"/>
            <a:ext cx="501480" cy="234720"/>
            <a:chOff x="7377120" y="4054320"/>
            <a:chExt cx="501480" cy="234720"/>
          </a:xfrm>
        </p:grpSpPr>
        <p:sp>
          <p:nvSpPr>
            <p:cNvPr id="1243" name=""/>
            <p:cNvSpPr/>
            <p:nvPr/>
          </p:nvSpPr>
          <p:spPr>
            <a:xfrm>
              <a:off x="7381080" y="4159080"/>
              <a:ext cx="497160" cy="129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381080" y="41479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878600" y="41479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381080" y="4147920"/>
              <a:ext cx="492840" cy="79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377120" y="4054320"/>
              <a:ext cx="496800" cy="151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8" name=""/>
            <p:cNvGrpSpPr/>
            <p:nvPr/>
          </p:nvGrpSpPr>
          <p:grpSpPr>
            <a:xfrm>
              <a:off x="7496640" y="4087440"/>
              <a:ext cx="246240" cy="88920"/>
              <a:chOff x="7496640" y="4087440"/>
              <a:chExt cx="246240" cy="88920"/>
            </a:xfrm>
          </p:grpSpPr>
          <p:sp>
            <p:nvSpPr>
              <p:cNvPr id="1249" name=""/>
              <p:cNvSpPr/>
              <p:nvPr/>
            </p:nvSpPr>
            <p:spPr>
              <a:xfrm flipV="1">
                <a:off x="7496640" y="40874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7665480" y="4176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7577640" y="40896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2" name=""/>
            <p:cNvGrpSpPr/>
            <p:nvPr/>
          </p:nvGrpSpPr>
          <p:grpSpPr>
            <a:xfrm>
              <a:off x="7496640" y="4086360"/>
              <a:ext cx="246240" cy="88920"/>
              <a:chOff x="7496640" y="4086360"/>
              <a:chExt cx="246240" cy="88920"/>
            </a:xfrm>
          </p:grpSpPr>
          <p:sp>
            <p:nvSpPr>
              <p:cNvPr id="1253" name=""/>
              <p:cNvSpPr/>
              <p:nvPr/>
            </p:nvSpPr>
            <p:spPr>
              <a:xfrm>
                <a:off x="7496640" y="4173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7665480" y="4086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flipV="1">
                <a:off x="7577640" y="40863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6" name=""/>
          <p:cNvGrpSpPr/>
          <p:nvPr/>
        </p:nvGrpSpPr>
        <p:grpSpPr>
          <a:xfrm>
            <a:off x="6767640" y="4543560"/>
            <a:ext cx="500040" cy="232920"/>
            <a:chOff x="6767640" y="4543560"/>
            <a:chExt cx="500040" cy="232920"/>
          </a:xfrm>
        </p:grpSpPr>
        <p:sp>
          <p:nvSpPr>
            <p:cNvPr id="1257" name=""/>
            <p:cNvSpPr/>
            <p:nvPr/>
          </p:nvSpPr>
          <p:spPr>
            <a:xfrm>
              <a:off x="6771600" y="464760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771600" y="46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267680" y="46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771600" y="463644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767640" y="454356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2" name=""/>
            <p:cNvGrpSpPr/>
            <p:nvPr/>
          </p:nvGrpSpPr>
          <p:grpSpPr>
            <a:xfrm>
              <a:off x="6886800" y="4576320"/>
              <a:ext cx="245520" cy="88200"/>
              <a:chOff x="6886800" y="4576320"/>
              <a:chExt cx="245520" cy="88200"/>
            </a:xfrm>
          </p:grpSpPr>
          <p:sp>
            <p:nvSpPr>
              <p:cNvPr id="1263" name=""/>
              <p:cNvSpPr/>
              <p:nvPr/>
            </p:nvSpPr>
            <p:spPr>
              <a:xfrm flipV="1">
                <a:off x="6886800" y="45763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7055280" y="46645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967440" y="457848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6" name=""/>
            <p:cNvGrpSpPr/>
            <p:nvPr/>
          </p:nvGrpSpPr>
          <p:grpSpPr>
            <a:xfrm>
              <a:off x="6886800" y="4575600"/>
              <a:ext cx="245520" cy="88200"/>
              <a:chOff x="6886800" y="4575600"/>
              <a:chExt cx="245520" cy="88200"/>
            </a:xfrm>
          </p:grpSpPr>
          <p:sp>
            <p:nvSpPr>
              <p:cNvPr id="1267" name=""/>
              <p:cNvSpPr/>
              <p:nvPr/>
            </p:nvSpPr>
            <p:spPr>
              <a:xfrm>
                <a:off x="6886800" y="46620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055280" y="45756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flipV="1">
                <a:off x="6967440" y="45756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0" name=""/>
          <p:cNvGrpSpPr/>
          <p:nvPr/>
        </p:nvGrpSpPr>
        <p:grpSpPr>
          <a:xfrm>
            <a:off x="5964120" y="4167360"/>
            <a:ext cx="501840" cy="232920"/>
            <a:chOff x="5964120" y="4167360"/>
            <a:chExt cx="501840" cy="232920"/>
          </a:xfrm>
        </p:grpSpPr>
        <p:sp>
          <p:nvSpPr>
            <p:cNvPr id="1271" name=""/>
            <p:cNvSpPr/>
            <p:nvPr/>
          </p:nvSpPr>
          <p:spPr>
            <a:xfrm>
              <a:off x="5968080" y="427140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968080" y="4260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465960" y="4260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968080" y="426024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964120" y="416736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6" name=""/>
            <p:cNvGrpSpPr/>
            <p:nvPr/>
          </p:nvGrpSpPr>
          <p:grpSpPr>
            <a:xfrm>
              <a:off x="6083640" y="4200120"/>
              <a:ext cx="246240" cy="88200"/>
              <a:chOff x="6083640" y="4200120"/>
              <a:chExt cx="246240" cy="88200"/>
            </a:xfrm>
          </p:grpSpPr>
          <p:sp>
            <p:nvSpPr>
              <p:cNvPr id="1277" name=""/>
              <p:cNvSpPr/>
              <p:nvPr/>
            </p:nvSpPr>
            <p:spPr>
              <a:xfrm flipV="1">
                <a:off x="6083640" y="42001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252480" y="42883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164640" y="42022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0" name=""/>
            <p:cNvGrpSpPr/>
            <p:nvPr/>
          </p:nvGrpSpPr>
          <p:grpSpPr>
            <a:xfrm>
              <a:off x="6083640" y="4199400"/>
              <a:ext cx="246240" cy="88200"/>
              <a:chOff x="6083640" y="4199400"/>
              <a:chExt cx="246240" cy="88200"/>
            </a:xfrm>
          </p:grpSpPr>
          <p:sp>
            <p:nvSpPr>
              <p:cNvPr id="1281" name=""/>
              <p:cNvSpPr/>
              <p:nvPr/>
            </p:nvSpPr>
            <p:spPr>
              <a:xfrm>
                <a:off x="6083640" y="4285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6252480" y="41994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V="1">
                <a:off x="6164640" y="41994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4" name=""/>
          <p:cNvSpPr/>
          <p:nvPr/>
        </p:nvSpPr>
        <p:spPr>
          <a:xfrm>
            <a:off x="5392800" y="2266920"/>
            <a:ext cx="2724120" cy="2448000"/>
          </a:xfrm>
          <a:custGeom>
            <a:avLst/>
            <a:gdLst/>
            <a:ahLst/>
            <a:rect l="l" t="t" r="r" b="b"/>
            <a:pathLst>
              <a:path w="1716" h="1542">
                <a:moveTo>
                  <a:pt x="0" y="0"/>
                </a:moveTo>
                <a:cubicBezTo>
                  <a:pt x="62" y="7"/>
                  <a:pt x="230" y="4"/>
                  <a:pt x="372" y="42"/>
                </a:cubicBezTo>
                <a:cubicBezTo>
                  <a:pt x="514" y="80"/>
                  <a:pt x="672" y="114"/>
                  <a:pt x="852" y="228"/>
                </a:cubicBezTo>
                <a:cubicBezTo>
                  <a:pt x="1032" y="342"/>
                  <a:pt x="1308" y="507"/>
                  <a:pt x="1452" y="726"/>
                </a:cubicBezTo>
                <a:cubicBezTo>
                  <a:pt x="1596" y="945"/>
                  <a:pt x="1661" y="1372"/>
                  <a:pt x="1716" y="154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6211800" y="4398480"/>
            <a:ext cx="0" cy="22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29E0-F246-4418-A5EB-AF3595EA3B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Don Towsley (tradução: Suruagy)</dc:creator>
  <dc:description/>
  <dc:language>en-US</dc:language>
  <cp:lastModifiedBy>Fernando Andrade M. de Araújo</cp:lastModifiedBy>
  <dcterms:modified xsi:type="dcterms:W3CDTF">2004-03-16T00:22:12Z</dcterms:modified>
  <cp:revision>79</cp:revision>
  <dc:subject/>
  <dc:title>Parte  I: Introdução</dc:title>
</cp:coreProperties>
</file>