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6858000" cy="9907588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5555520"/>
            <a:ext cx="611496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298404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48240" y="2066760"/>
            <a:ext cx="298404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5555520"/>
            <a:ext cx="298404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48240" y="5555520"/>
            <a:ext cx="298404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196884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82280" y="2066760"/>
            <a:ext cx="196884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49760" y="2066760"/>
            <a:ext cx="196884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5555520"/>
            <a:ext cx="196884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82280" y="5555520"/>
            <a:ext cx="196884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649760" y="5555520"/>
            <a:ext cx="196884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298404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48240" y="2066760"/>
            <a:ext cx="298404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44080"/>
            <a:ext cx="582912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298404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8240" y="2066760"/>
            <a:ext cx="298404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5555520"/>
            <a:ext cx="298404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298404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8240" y="2066760"/>
            <a:ext cx="298404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48240" y="5555520"/>
            <a:ext cx="298404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298404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8240" y="2066760"/>
            <a:ext cx="298404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5555520"/>
            <a:ext cx="6114960" cy="318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650960"/>
            <a:ext cx="6850080" cy="220680"/>
            <a:chOff x="0" y="1650960"/>
            <a:chExt cx="6850080" cy="220680"/>
          </a:xfrm>
        </p:grpSpPr>
        <p:sp>
          <p:nvSpPr>
            <p:cNvPr id="1" name=""/>
            <p:cNvSpPr/>
            <p:nvPr/>
          </p:nvSpPr>
          <p:spPr>
            <a:xfrm>
              <a:off x="0" y="1650960"/>
              <a:ext cx="6850080" cy="108000"/>
            </a:xfrm>
            <a:prstGeom prst="rect">
              <a:avLst/>
            </a:prstGeom>
            <a:gradFill rotWithShape="0">
              <a:gsLst>
                <a:gs pos="0">
                  <a:srgbClr val="d2d2d2"/>
                </a:gs>
                <a:gs pos="50000">
                  <a:srgbClr val="ebebeb"/>
                </a:gs>
                <a:gs pos="100000">
                  <a:srgbClr val="d2d2d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16200"/>
              <a:ext cx="6850080" cy="554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"/>
          <p:cNvSpPr/>
          <p:nvPr/>
        </p:nvSpPr>
        <p:spPr>
          <a:xfrm>
            <a:off x="6061320" y="949320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9C00-C7A6-4F75-B6E1-9851F7A1590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bbd-sbes2005.ufu.br/arquivos/19-%209560.pdf" TargetMode="External"/><Relationship Id="rId2" Type="http://schemas.openxmlformats.org/officeDocument/2006/relationships/hyperlink" Target="http://www.sbbd-sbes2005.ufu.br/arquivos/19-%209560.pdf" TargetMode="External"/><Relationship Id="rId3" Type="http://schemas.openxmlformats.org/officeDocument/2006/relationships/hyperlink" Target="http://www.sbbd-sbes2005.ufu.br/arquivos/19-%209560.pdf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213000"/>
            <a:ext cx="5829120" cy="164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Gestão de Projeto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28520" y="5553000"/>
            <a:ext cx="4800600" cy="253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idade Pau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62360" y="7367400"/>
            <a:ext cx="293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. Fernando Araú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blemas Freqüentes em Projetos (2)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rasos sérios nos cron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falta de conveniente de controle de progr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m ocorrer atrasos nos projetos, muitas vezes tornando-os obsol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s exces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falta de uma estrutura adequada de estimativa e controle de cu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to costumam superar, em muito, seus orçamentos ini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á dir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falta de inexistência de um sistema de informações conven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gerente de projetos não dispõe, em tempo útil, dos dados necessários às ações requeridas ao andamento d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incipais Fatores que Levam um Projeto a Falhar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estimar a complexidade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ficiência de acesso às inform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ta de medidas de controle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danças constantes de 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tégia de implementação insu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de software de gerenciamento de projetos como se fosse a sol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tes expectativas entre contratante e fornec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uso de atitude do tipo ganha-ga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ta de liderança, comprometimento e patroc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visão de oportunidade de novos negócios ou projetos - sucessivas expansões do mesmo projeto indefinidamente ou por mais tempo do que o necessá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incipais Fatores de Risco de Projetos de Software (1)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sponibilidade do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ta de comprometimento f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rasos nos compromissos agen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idade do Proje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o envolvendo novas tecnolo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idade de interação entre sis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o nível de complexidade téc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ão familiarizada com ferram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ção do conhecimento dos memb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xper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ção de pess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ão familiarizada com o negócio do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ão familiarizada com o processo da organ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ão familiarizada com os métodos de engenharia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ência de Proje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ão excessiva de pr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incipais Fatores de Risco de Projetos de Software (2)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-estru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ixo desempenho das ferramentas disponí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sponibilidade da equipe de su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sponibilidade d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c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olvimento dos membros com vários projetos simultân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 redução de mão-de-obra da equ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ção de recursos por alteração de prior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to motivado por questões polí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sit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danças contínuas de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dança de escopo d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sitório de projetos e controle de configuração inadequ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odologia de estimativa de custos inadeq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drões, políticas e metodologias de engenharia de software inadequ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incipais Fatores de Risco de Projetos de Software (3)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ente do proje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ente inexper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ção in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ixa produ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cos advindos de tais fa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raso n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ometimento da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uro de or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lament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atisfação do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Estatísticas sobre Projetos que Falham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Medina, 2003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de 30% dos projetos são cancelados antes de serem comple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de 70% dos projetos falham na entrega das funcionalidades espe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mé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ouro de orçamento em mais de 18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trapolamento de 222% em relação ao cronograma prev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seguintes fatores ajud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lta de informações dos usuários -  12,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quisitos / especificações incompletos -12,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sência de gerência de mudanças e especificações - 11,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Requisitos Para um Projeto Bem Sucedido (1)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claro de produtos (entregáveis) e metas bem cl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ou-se os produtos e as datas esperadas para as suas entreg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m patrocinador? que realmente deseja que o projeto seja realiz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essoas e os recursos financeiros estão disponíve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e liderança na cond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ção da pessoa certa p/ g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te com apoio do patrocinador e dos principais envolv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te com experiência anterior em projetos de magnitude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Requisitos Para um Projeto Bem Sucedido (2)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 dimensão 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sso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são important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iênc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hec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itu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 dimensão 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étod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são importan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rramen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o de técnicas e instrumentos de gerenciamento de 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 dimensão d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rutura da organização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ão importan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polít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aturidade em gerência de 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ância dada aos gerentes de projetos (salários, incentivos, treinamentos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Referências Bibliográfica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OS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Rômulo. Introdução a Projetos - Planos de Aula. Disponível em &lt;http://www.analisenoiteb.hpg.ig.com.br/Aula%2001-%20Introdu%E7%E3o%20a%20Ger%20Projetos.doc&gt; Acesso em 24/02/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NEIR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Margareth Fabíola dos Santos. Metodologia de Gerenciamento de Projetos. Disponível em &lt;http://www.pma.com.br/pdf/ARTIGO-metodologia.pdf&gt;. Acesso em 24/02/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RME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Eliane. Microsoft Project 2002 - A Bíblia. Rio de Janeiro: Campus, 2.002. p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DIN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Maurício. Os requisitos e o sucesso do seu projeto. Artigo da coluna “Ciclo de Desenvolvimento” do site MSDN Brasil. Disponível em &lt;http://www.msdnbrasil.com.br/colunas/ciclo/&gt;. Acesso em 11/03/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INH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Viviane;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NDONÇA NE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M. Análise do tratamento de riscos em projetos de software de uma organização. Artigo em PDF. Disponível em &lt;</a:t>
            </a:r>
            <a:r>
              <a:rPr b="0" lang="pt-BR" sz="1800" spc="-1" strike="noStrike" u="sng">
                <a:solidFill>
                  <a:srgbClr val="9c9c9c"/>
                </a:solidFill>
                <a:uFillTx/>
                <a:latin typeface="Arial"/>
                <a:hlinkClick r:id="rId1"/>
              </a:rPr>
              <a:t>http://www.sbbd-sbes2005.ufu.br/arquivos/19-</a:t>
            </a:r>
            <a:r>
              <a:rPr b="0" lang="pt-BR" sz="1800" spc="-1" strike="noStrike" u="sng">
                <a:solidFill>
                  <a:srgbClr val="9c9c9c"/>
                </a:solidFill>
                <a:uFillTx/>
                <a:latin typeface="Arial"/>
                <a:hlinkClick r:id="rId2"/>
              </a:rPr>
              <a:t>%209560.</a:t>
            </a:r>
            <a:r>
              <a:rPr b="0" lang="pt-BR" sz="1800" spc="-1" strike="noStrike" u="sng">
                <a:solidFill>
                  <a:srgbClr val="9c9c9c"/>
                </a:solidFill>
                <a:uFillTx/>
                <a:latin typeface="Arial"/>
                <a:hlinkClick r:id="rId3"/>
              </a:rPr>
              <a:t>pdf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. Acesso em 20/02/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Introdução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066400"/>
            <a:ext cx="6114960" cy="707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são executados apenas na área de desenvolviment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executados em todas as áreas da ec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m um conjunto de esforços complexos interdepen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gem elevado esforço de gerenc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o não possui um significado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 geralmente relacionado com o conjunto de planos, especificações e desenhos de engenh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ão definidos como um conjunto de atividades interdisciplinares, interdependentes, finitas, não repet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am a um objetivo claro com cronograma e orçamento preestabele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utras Definiçõe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mínimo de esforços para os quais é possí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r responsabil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car recursos; 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ar custos, de forma a gerenciar sua exec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ividades interdepend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tividades componentes de um projeto não possuem unicamente uma relação linear na ordem de exec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são executadas apenas em série, mas também paralel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ividades finitas, não repetitiv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uem um início e um fim bem definidos no tempo, e não se repe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to - comportamento dinâ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ência de um ciclo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jeto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Características (1)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ivo específico e mensur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rojeto termina quando atende com sucesso seu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utura de tempo 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esso quase sempre medido pela conclusão dentro do p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m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soas, dinheiro, maquinário, materiai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iciência do uso desses recursos é outra medida de sucesso de um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em em etapas interdependentes, embora individuais, chamad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traso ou estouro de orçamento de uma atividade, geralmente afeta as demais e também a programação g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jeto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Características (2)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ão dinâ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m durar meses ou 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em a crescer, mudar e se comportar de forma imprevis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erente de um projeto precisa permanecer alerta para o progresso e as extravagâncias do projeto, caso contrário, nunca atingirá 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ocumentação e a comunicação são as principais ferramentas de controle de um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Gerenciamento de Projetos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renciamento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ciplina que examina a natureza dos projetos e oferece maneiras de controlar o seu progres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ar o progresso não é documentar passivamente os freqüentes e prováveis atrasos ou estouro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tuar proativamente e ou corretivamente para evitar os desvios / confl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nta organizar e sistematizar os procedimentos de um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fim de minimizar o número de surpresas que possam ocor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iclo de Vida de um Projeto (1)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 1 - Identificação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ção do escop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e do meio ambiente e delimitação da área de atu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imento de alternativas para a solução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 2 - Planejamento preli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r, para cada alternativa de 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custos, tempos e benefí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ção da melhor altern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 3 - Planejamento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ção da melhor altern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tição das estimativas da fase anterior, com um nível maior de precisão e detalh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iclo de Vida de um Projeto (2)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 4 -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tividades planejadas anteriormente entram em 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procedimentos de controle são inic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 5 - Teste e op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 e avaliação d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ção e correção de possíveis falhas de planej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mensionamento de recursos e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dinâmica de op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 6 -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é uma fase cro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ções contínuas em todas as fase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ção de desvios de 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ção para correção dos desv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244080"/>
            <a:ext cx="5829120" cy="111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blemas Freqüentes em Projetos (1)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2066760"/>
            <a:ext cx="6114960" cy="667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etividade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falta de controle de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zem sistemas com qualidade aquém dos requisitos exig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dos não relacionados com as necessidades re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ocupação excessiva dos participantes do projeto com a solução do problema do ponto de vista té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resultante desvinculado dos objetivos que se pretendia ating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o ocorre por falt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definição clara do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e avaliação conven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0:30:06Z</dcterms:created>
  <dc:creator>Fernando Andrade Martins de Araújo</dc:creator>
  <dc:description>Curso ministrado aos alunos de Graduação em Análise de Sistemas da Universidade Paulista.</dc:description>
  <cp:keywords>Planejamento Controle Gerenciamento Projetos</cp:keywords>
  <dc:language>en-US</dc:language>
  <cp:lastModifiedBy>USER</cp:lastModifiedBy>
  <cp:lastPrinted>2003-03-12T01:32:55Z</cp:lastPrinted>
  <dcterms:modified xsi:type="dcterms:W3CDTF">2006-02-21T00:30:57Z</dcterms:modified>
  <cp:revision>187</cp:revision>
  <dc:subject>Planejamento e Controle de Projetos</dc:subject>
  <dc:title>Curso de Planejamento e Controle de Projetos</dc:title>
</cp:coreProperties>
</file>