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7A41-1510-4927-A81D-22065C601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BEAD-7646-41B4-8EA2-2017B6B8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76E2-8508-49BE-87C0-702FAFD5D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A298-1F04-4447-A58B-013BB9795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A09B-9326-49AB-B26F-361E29CA1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1F7E-89B5-4C4C-96AE-58E9AEE6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B5BC-6432-4BEE-A10E-E8AB60CB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8FAC-8A17-425C-BFD3-FAD9EB5A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3EC5-C700-4A61-9EF7-0628CC23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173A-10AF-49EB-BF60-3ECF202C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5D3B-6111-401C-9577-4A6CE811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DE2C-242C-4DD5-918F-2D7E8414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6F4F-CCC5-4D17-BE61-399A1FDA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FA5C-5227-4048-ACAC-27CC8C43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E619-9B33-422C-BAEA-52E15803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1528-B715-4ABF-9B18-E6594D4CA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510C-773B-4EBD-B819-64E41285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76DA-ED32-44A1-B3CB-20893E30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7468-7EFB-497B-84F1-E71D878E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85C7-4C41-4358-8550-0AE07E6B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30C7-4072-4ABA-83F1-710FD9A0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5B40-4776-44FE-8CF9-C77A49ED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5E83-3FFE-421F-8EF5-CA9C3D84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8F58-AAEF-4293-B8DC-727BAA71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2D83-79E1-4927-AED7-4C00DB3684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4D02-167C-4F41-A74D-0C14560528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uaranteed ATM: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esign, Verification, and Performance Optimizatio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5280" y="37335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Highest Honors Thesi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urvesh B. Thakker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July 2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Black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, 1998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tructure of Buffe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aded areas indicated partially filled fram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acknowledged data between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begi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cu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ark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sent data between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cu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ark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Frame structure need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received but not retrieved by application between begin and end mark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4572000"/>
            <a:ext cx="838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81760" y="2816280"/>
            <a:ext cx="2836800" cy="142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621400" y="2816280"/>
            <a:ext cx="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56400" y="2816280"/>
            <a:ext cx="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892840" y="2816280"/>
            <a:ext cx="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27840" y="2816280"/>
            <a:ext cx="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161040" y="2816280"/>
            <a:ext cx="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96040" y="2816280"/>
            <a:ext cx="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431040" y="2816280"/>
            <a:ext cx="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567480" y="2816280"/>
            <a:ext cx="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702480" y="2816280"/>
            <a:ext cx="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37480" y="2816280"/>
            <a:ext cx="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972480" y="2816280"/>
            <a:ext cx="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107120" y="2816280"/>
            <a:ext cx="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242120" y="2816280"/>
            <a:ext cx="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377120" y="2816280"/>
            <a:ext cx="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512120" y="2816280"/>
            <a:ext cx="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431040" y="2816280"/>
            <a:ext cx="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288120" y="1901880"/>
            <a:ext cx="676080" cy="22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5959440" y="3038400"/>
            <a:ext cx="6840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876920" y="3200400"/>
            <a:ext cx="1523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66cc"/>
                </a:solidFill>
                <a:latin typeface="Times New Roman"/>
              </a:rPr>
              <a:t>Out_buffer_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6430680" y="3038040"/>
            <a:ext cx="122040" cy="4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943600" y="3505320"/>
            <a:ext cx="1295280" cy="22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66cc"/>
                </a:solidFill>
                <a:latin typeface="Times New Roman"/>
              </a:rPr>
              <a:t>Out_buffer_c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781680" y="3184560"/>
            <a:ext cx="137160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66cc"/>
                </a:solidFill>
                <a:latin typeface="Times New Roman"/>
              </a:rPr>
              <a:t>Out_buffer_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7241760" y="3038400"/>
            <a:ext cx="6660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5081760" y="2149560"/>
            <a:ext cx="1265040" cy="58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37480" y="2151000"/>
            <a:ext cx="1081080" cy="585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248520" y="2362320"/>
            <a:ext cx="81756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6027480" y="2666880"/>
            <a:ext cx="601560" cy="1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29400" y="2666880"/>
            <a:ext cx="612720" cy="1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985160" y="2886120"/>
            <a:ext cx="6660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120160" y="2886120"/>
            <a:ext cx="6660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255160" y="2886120"/>
            <a:ext cx="6660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081760" y="5102280"/>
            <a:ext cx="2836800" cy="120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4440" y="5102280"/>
            <a:ext cx="1147680" cy="141120"/>
          </a:xfrm>
          <a:prstGeom prst="rect">
            <a:avLst/>
          </a:prstGeom>
          <a:noFill/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48520" y="41911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6027840" y="5317920"/>
            <a:ext cx="6660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5464080"/>
            <a:ext cx="1401840" cy="23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66cc"/>
                </a:solidFill>
                <a:latin typeface="Times New Roman"/>
              </a:rPr>
              <a:t>In_buffer_be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05720" y="5464080"/>
            <a:ext cx="1295280" cy="22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66cc"/>
                </a:solidFill>
                <a:latin typeface="Times New Roman"/>
              </a:rPr>
              <a:t>In_buffer_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 flipV="1">
            <a:off x="7241760" y="5317920"/>
            <a:ext cx="6660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5081760" y="4495680"/>
            <a:ext cx="1242720" cy="52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781680" y="4495680"/>
            <a:ext cx="1000080" cy="52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6094440" y="4876920"/>
            <a:ext cx="534960" cy="14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985160" y="5149800"/>
            <a:ext cx="6660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120160" y="5149800"/>
            <a:ext cx="6660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255160" y="5149800"/>
            <a:ext cx="6660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629400" y="4876920"/>
            <a:ext cx="612720" cy="14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27840" y="2819520"/>
            <a:ext cx="74520" cy="139680"/>
          </a:xfrm>
          <a:prstGeom prst="rect">
            <a:avLst/>
          </a:prstGeom>
          <a:solidFill>
            <a:srgbClr val="0066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61040" y="2819520"/>
            <a:ext cx="87480" cy="141120"/>
          </a:xfrm>
          <a:prstGeom prst="rect">
            <a:avLst/>
          </a:prstGeom>
          <a:solidFill>
            <a:srgbClr val="0066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296040" y="2819520"/>
            <a:ext cx="104760" cy="152280"/>
          </a:xfrm>
          <a:prstGeom prst="rect">
            <a:avLst/>
          </a:prstGeom>
          <a:solidFill>
            <a:srgbClr val="0066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431040" y="2819520"/>
            <a:ext cx="122040" cy="142920"/>
          </a:xfrm>
          <a:prstGeom prst="rect">
            <a:avLst/>
          </a:prstGeom>
          <a:solidFill>
            <a:srgbClr val="0066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553080" y="2819520"/>
            <a:ext cx="76320" cy="142920"/>
          </a:xfrm>
          <a:prstGeom prst="rect">
            <a:avLst/>
          </a:prstGeom>
          <a:solidFill>
            <a:srgbClr val="0066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699240" y="2817720"/>
            <a:ext cx="127080" cy="142920"/>
          </a:xfrm>
          <a:prstGeom prst="rect">
            <a:avLst/>
          </a:prstGeom>
          <a:solidFill>
            <a:srgbClr val="0066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26320" y="2822400"/>
            <a:ext cx="101520" cy="133560"/>
          </a:xfrm>
          <a:prstGeom prst="rect">
            <a:avLst/>
          </a:prstGeom>
          <a:solidFill>
            <a:srgbClr val="0066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973920" y="2822400"/>
            <a:ext cx="111240" cy="138240"/>
          </a:xfrm>
          <a:prstGeom prst="rect">
            <a:avLst/>
          </a:prstGeom>
          <a:solidFill>
            <a:srgbClr val="0066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086600" y="2819520"/>
            <a:ext cx="115920" cy="144360"/>
          </a:xfrm>
          <a:prstGeom prst="rect">
            <a:avLst/>
          </a:prstGeom>
          <a:solidFill>
            <a:srgbClr val="0066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19920" y="2816280"/>
            <a:ext cx="1222200" cy="155520"/>
          </a:xfrm>
          <a:prstGeom prst="rect">
            <a:avLst/>
          </a:prstGeom>
          <a:noFill/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7715160" y="2362320"/>
            <a:ext cx="285840" cy="523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924680" y="20574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351400" y="2811600"/>
            <a:ext cx="0" cy="147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486400" y="2811600"/>
            <a:ext cx="0" cy="147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216400" y="2811600"/>
            <a:ext cx="0" cy="147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647120" y="2811600"/>
            <a:ext cx="0" cy="147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781760" y="2811600"/>
            <a:ext cx="0" cy="147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389800" y="2811600"/>
            <a:ext cx="144720" cy="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534520" y="281952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4724280" y="3962520"/>
            <a:ext cx="381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4724280" y="2895480"/>
            <a:ext cx="0" cy="106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724280" y="2890440"/>
            <a:ext cx="290520" cy="4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389800" y="5108400"/>
            <a:ext cx="13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524800" y="5108400"/>
            <a:ext cx="0" cy="95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4743360" y="6060960"/>
            <a:ext cx="378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4743360" y="5187600"/>
            <a:ext cx="0" cy="87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743360" y="5187960"/>
            <a:ext cx="271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ifi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lf-Duplex 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ll-Duplex 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reme Condition T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twork Err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Anomal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3733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knowled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"/>
          <p:cNvSpPr/>
          <p:nvPr/>
        </p:nvSpPr>
        <p:spPr>
          <a:xfrm>
            <a:off x="4572000" y="1981080"/>
            <a:ext cx="3987720" cy="893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-Mhz UltraSPARC works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6 MB of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eRunner SBA-200 ATM adap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6553080" y="2895480"/>
            <a:ext cx="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257800" y="3505320"/>
            <a:ext cx="259092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eRunner ASX-200BX ATM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724280" y="3048120"/>
            <a:ext cx="1752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155 Mb/s, full-dupl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724280" y="4267080"/>
            <a:ext cx="175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155 Mb/s, full-dupl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0" y="4724280"/>
            <a:ext cx="3987720" cy="893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-Mhz UltraSPARC works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6 MB of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eRunner SBA-200 ATM adap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uffer copy optimiz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copies originally took 50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each allowing performance of 15 Mb/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optimized memory-to-memory copy written in assembly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64-byte aligned and in multiples of 64-by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shot up to 75 Mb/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ecksum Optimiz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sums do not have to be sum of byt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dded up in eight by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 half and bottom half added to give four byte checks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increased to 100 Mb/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knowledgement Optimiz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4740120" y="1905120"/>
          <a:ext cx="3905280" cy="418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0120" y="1905120"/>
                    <a:ext cx="3905280" cy="41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ggyback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c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ce 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m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eld techniq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k coun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lf -duplex throughput increased to 119 Mb/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ader Optimiz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originally sent separately from payload.  Small messages take longer so bandwidth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ed header requires leaving space in output buffer at beginning of each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most doubled throughput for 64-by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indow Optimiz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4711680" y="1908000"/>
          <a:ext cx="4138560" cy="414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1680" y="1908000"/>
                    <a:ext cx="4138560" cy="41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dow of size eight requires over 72-kB buff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ly determine minimum window size that provides maximum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rformance Benchmar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lf-duplex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-duplex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 Breakdow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alf-duplex Throughpu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tra overhead processing for small messag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racuse University: Fore API max throughput of 121.8 Mb/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uaranteed ATM shows max throughput of 119.0 Mb/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P performance superi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rnell’s Active Messages originally achieved similar results, then modified Fore API to achieve dramatic improvemen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4632480" y="1938240"/>
          <a:ext cx="3992400" cy="395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2480" y="1938240"/>
                    <a:ext cx="399240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network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s LAN/W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s many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ergistic opportun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elivery guarant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ull-duplex Throughpu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quite double half- duplex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x throughput of 216 Mb/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4632480" y="1947960"/>
          <a:ext cx="3985920" cy="409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2480" y="1947960"/>
                    <a:ext cx="398592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One-way Latenc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r messages take longer to transm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um latency of .89 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nell’s Active Messa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iginally achieved similar results using Fore AP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ed that Fore API yields one-way latency of .85ms without guaranteed deliver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ventually modified Fore API to work well with small messag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modifications achieved latencies of 71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 without guaranteed delivery, and 157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 with TCP guaranteed deliver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4646520" y="1886040"/>
          <a:ext cx="3963960" cy="417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6520" y="1886040"/>
                    <a:ext cx="396396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tency Breakdown, 8-kB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asurements made using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gethrti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e API / network take 74% of Lat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versity of Illinois at Urbana-Champaign indicates that network should take 30% of lat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chronization loss between 12% and 18%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ximum throughput still possible because of buffer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4952880" y="1887480"/>
          <a:ext cx="3394080" cy="4172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887480"/>
                    <a:ext cx="339408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tency Breakdown, 64-B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e API / network still take 73% of Lat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versity of Illinois at Urbana-Champaign indicates that network should 30% for small sized messages als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chronization loss of 12% to 14%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tency times scale down from 8-kB message.  Overhead does not yet dominate lat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4678200" y="1889280"/>
          <a:ext cx="3598920" cy="416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78200" y="1889280"/>
                    <a:ext cx="3598920" cy="41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ture Integration with SCAL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d few demands on pro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uaranteed ATM channel should be non-block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data passed should be 64-byte aligned and multiples of 64-by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aranteed ATM designed to be used with any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uses go-Back-N ARQ window-based error and flow contr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erification through torture tes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lf-duplex framework and Full-duplex framewor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mulation of network errors and application anomali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m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64-byte buffer copy and checksum optimizat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knowledgement, Header, and Window optimizat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ture Researc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ghten integration with layers of code above and be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e API provides excessive features such as quality of service and multicast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e API does not take advantage of 64-byte align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tter coordination between two buffers at Guaranteed ATM and Fore API leve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uce synchronization lo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ghten Integration with higher layers of SCA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esentation Over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ct Go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Benchma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and Future Re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ject Goa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ized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ture Integration with SC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Outside Worl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111720" y="3413160"/>
            <a:ext cx="0" cy="1006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819520" y="3413160"/>
            <a:ext cx="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837400" y="3413160"/>
            <a:ext cx="0" cy="1006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094200" y="3321000"/>
            <a:ext cx="0" cy="109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96920" y="3048120"/>
            <a:ext cx="1828800" cy="365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96920" y="3505320"/>
            <a:ext cx="1828800" cy="365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uaranteed 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96920" y="4419720"/>
            <a:ext cx="1828800" cy="36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twork Ad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81080" y="2362320"/>
            <a:ext cx="17528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2362320"/>
            <a:ext cx="1752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3048120"/>
            <a:ext cx="1828800" cy="365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3505320"/>
            <a:ext cx="1828800" cy="365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uaranteed 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4419720"/>
            <a:ext cx="1828800" cy="363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twork Ad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25720" y="4968720"/>
            <a:ext cx="1279800" cy="3654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M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96920" y="3962520"/>
            <a:ext cx="1828800" cy="365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e 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3962520"/>
            <a:ext cx="1828800" cy="365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e 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5241960"/>
            <a:ext cx="1006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94200" y="5059440"/>
            <a:ext cx="7315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05520" y="5059440"/>
            <a:ext cx="731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5241960"/>
            <a:ext cx="1006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094200" y="4784400"/>
            <a:ext cx="0" cy="274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37400" y="4784760"/>
            <a:ext cx="0" cy="274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111720" y="4784760"/>
            <a:ext cx="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ig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op-and-wa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gative Acknowledg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ward Error Corre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ed implementation of 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 ingred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itive Acknowledg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-back-N ARQ versus Selective Reject ARQ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o-back-N ARQ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663480" y="2685960"/>
            <a:ext cx="395280" cy="4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22280" y="2685960"/>
            <a:ext cx="395280" cy="4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2685960"/>
            <a:ext cx="395280" cy="4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39880" y="2685960"/>
            <a:ext cx="395280" cy="4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98680" y="2685960"/>
            <a:ext cx="395280" cy="4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57480" y="2685960"/>
            <a:ext cx="395280" cy="4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16280" y="2685960"/>
            <a:ext cx="395280" cy="4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75440" y="2685960"/>
            <a:ext cx="395280" cy="4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34240" y="2685960"/>
            <a:ext cx="395280" cy="4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93040" y="2685960"/>
            <a:ext cx="395280" cy="4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910640" y="2685960"/>
            <a:ext cx="395280" cy="4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51840" y="2685960"/>
            <a:ext cx="395280" cy="4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81080" y="4732200"/>
            <a:ext cx="395280" cy="4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93040" y="4732200"/>
            <a:ext cx="395280" cy="4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51840" y="4732200"/>
            <a:ext cx="395280" cy="4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910640" y="4732200"/>
            <a:ext cx="395280" cy="4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27000" y="3230640"/>
            <a:ext cx="1187640" cy="1363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85800" y="3230640"/>
            <a:ext cx="1187640" cy="1363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44600" y="3230640"/>
            <a:ext cx="1187640" cy="1363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03400" y="3230640"/>
            <a:ext cx="1187640" cy="1363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2200" y="3230640"/>
            <a:ext cx="1185840" cy="1363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21000" y="3230640"/>
            <a:ext cx="1186200" cy="1363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9800" y="3230640"/>
            <a:ext cx="1186200" cy="1363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38960" y="3230640"/>
            <a:ext cx="1185840" cy="1363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97760" y="3230640"/>
            <a:ext cx="1185840" cy="1363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6560" y="3230640"/>
            <a:ext cx="1185840" cy="1363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244600" y="3230640"/>
            <a:ext cx="1187640" cy="13636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903400" y="3230640"/>
            <a:ext cx="1187640" cy="13636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562200" y="3230640"/>
            <a:ext cx="1185840" cy="13636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97760" y="3230640"/>
            <a:ext cx="1185840" cy="13636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856560" y="3230640"/>
            <a:ext cx="1185840" cy="13636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513560" y="3777840"/>
            <a:ext cx="792360" cy="8161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8172360" y="4458960"/>
            <a:ext cx="133560" cy="1350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 rot="18501000">
            <a:off x="2368800" y="3644280"/>
            <a:ext cx="546120" cy="2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CK0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 rot="18501000">
            <a:off x="3027600" y="3644280"/>
            <a:ext cx="546120" cy="2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CK1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 rot="18501000">
            <a:off x="3656520" y="3591720"/>
            <a:ext cx="681120" cy="2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ACK2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 rot="18501000">
            <a:off x="6320520" y="3645360"/>
            <a:ext cx="54612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CK2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 rot="18768000">
            <a:off x="6979320" y="3645000"/>
            <a:ext cx="54612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CK3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 rot="18700200">
            <a:off x="7638840" y="3780720"/>
            <a:ext cx="544680" cy="2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CK4</a:t>
            </a:r>
            <a:endParaRPr b="0" lang="en-US" sz="24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2130480"/>
            <a:ext cx="105228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ion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3480" y="4719600"/>
            <a:ext cx="105408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on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14640" y="2265480"/>
            <a:ext cx="539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21000" y="1981080"/>
            <a:ext cx="79056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14640" y="5994360"/>
            <a:ext cx="1054080" cy="40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ram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2244240" y="5175000"/>
            <a:ext cx="265320" cy="819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509920" y="5175000"/>
            <a:ext cx="263520" cy="819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35160" y="4719600"/>
            <a:ext cx="774720" cy="3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62200" y="4719600"/>
            <a:ext cx="92412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52760" y="4719600"/>
            <a:ext cx="9226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45120" y="4719600"/>
            <a:ext cx="9208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34240" y="4732200"/>
            <a:ext cx="395280" cy="4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39880" y="4732200"/>
            <a:ext cx="395280" cy="409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36960" y="4173480"/>
            <a:ext cx="318600" cy="1778040"/>
            <a:chOff x="3036960" y="4173480"/>
            <a:chExt cx="318600" cy="1778040"/>
          </a:xfrm>
        </p:grpSpPr>
        <p:sp>
          <p:nvSpPr>
            <p:cNvPr id="174" name=""/>
            <p:cNvSpPr/>
            <p:nvPr/>
          </p:nvSpPr>
          <p:spPr>
            <a:xfrm>
              <a:off x="3151080" y="4173480"/>
              <a:ext cx="92520" cy="1573200"/>
            </a:xfrm>
            <a:prstGeom prst="rect">
              <a:avLst/>
            </a:prstGeom>
            <a:solidFill>
              <a:srgbClr val="0066cc"/>
            </a:solidFill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036960" y="5745240"/>
              <a:ext cx="318600" cy="206280"/>
            </a:xfrm>
            <a:custGeom>
              <a:avLst/>
              <a:gdLst/>
              <a:ahLst/>
              <a:rect l="l" t="t" r="r" b="b"/>
              <a:pathLst>
                <a:path w="261" h="259">
                  <a:moveTo>
                    <a:pt x="0" y="0"/>
                  </a:moveTo>
                  <a:lnTo>
                    <a:pt x="131" y="259"/>
                  </a:lnTo>
                  <a:lnTo>
                    <a:pt x="2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cc"/>
            </a:solidFill>
            <a:ln w="3816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5977080" y="4173480"/>
            <a:ext cx="317160" cy="1778040"/>
            <a:chOff x="5977080" y="4173480"/>
            <a:chExt cx="317160" cy="1778040"/>
          </a:xfrm>
        </p:grpSpPr>
        <p:sp>
          <p:nvSpPr>
            <p:cNvPr id="177" name=""/>
            <p:cNvSpPr/>
            <p:nvPr/>
          </p:nvSpPr>
          <p:spPr>
            <a:xfrm>
              <a:off x="6091200" y="4173480"/>
              <a:ext cx="89280" cy="1573200"/>
            </a:xfrm>
            <a:prstGeom prst="rect">
              <a:avLst/>
            </a:prstGeom>
            <a:solidFill>
              <a:srgbClr val="0066cc"/>
            </a:solidFill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977080" y="5745240"/>
              <a:ext cx="317160" cy="206280"/>
            </a:xfrm>
            <a:custGeom>
              <a:avLst/>
              <a:gdLst/>
              <a:ahLst/>
              <a:rect l="l" t="t" r="r" b="b"/>
              <a:pathLst>
                <a:path w="261" h="259">
                  <a:moveTo>
                    <a:pt x="0" y="0"/>
                  </a:moveTo>
                  <a:lnTo>
                    <a:pt x="132" y="259"/>
                  </a:lnTo>
                  <a:lnTo>
                    <a:pt x="2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cc"/>
            </a:solidFill>
            <a:ln w="3816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977080" y="2112840"/>
            <a:ext cx="317160" cy="1776600"/>
            <a:chOff x="5977080" y="2112840"/>
            <a:chExt cx="317160" cy="1776600"/>
          </a:xfrm>
        </p:grpSpPr>
        <p:sp>
          <p:nvSpPr>
            <p:cNvPr id="180" name=""/>
            <p:cNvSpPr/>
            <p:nvPr/>
          </p:nvSpPr>
          <p:spPr>
            <a:xfrm>
              <a:off x="6091200" y="2112840"/>
              <a:ext cx="89280" cy="1573200"/>
            </a:xfrm>
            <a:prstGeom prst="rect">
              <a:avLst/>
            </a:prstGeom>
            <a:solidFill>
              <a:srgbClr val="0066cc"/>
            </a:solidFill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77080" y="3684600"/>
              <a:ext cx="317160" cy="204840"/>
            </a:xfrm>
            <a:custGeom>
              <a:avLst/>
              <a:gdLst/>
              <a:ahLst/>
              <a:rect l="l" t="t" r="r" b="b"/>
              <a:pathLst>
                <a:path w="261" h="260">
                  <a:moveTo>
                    <a:pt x="0" y="0"/>
                  </a:moveTo>
                  <a:lnTo>
                    <a:pt x="132" y="260"/>
                  </a:lnTo>
                  <a:lnTo>
                    <a:pt x="2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cc"/>
            </a:solidFill>
            <a:ln w="3816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036960" y="2112840"/>
            <a:ext cx="318600" cy="1776600"/>
            <a:chOff x="3036960" y="2112840"/>
            <a:chExt cx="318600" cy="1776600"/>
          </a:xfrm>
        </p:grpSpPr>
        <p:sp>
          <p:nvSpPr>
            <p:cNvPr id="183" name=""/>
            <p:cNvSpPr/>
            <p:nvPr/>
          </p:nvSpPr>
          <p:spPr>
            <a:xfrm>
              <a:off x="3151080" y="2112840"/>
              <a:ext cx="92520" cy="1573200"/>
            </a:xfrm>
            <a:prstGeom prst="rect">
              <a:avLst/>
            </a:prstGeom>
            <a:solidFill>
              <a:srgbClr val="0066cc"/>
            </a:solidFill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36960" y="3684600"/>
              <a:ext cx="318600" cy="204840"/>
            </a:xfrm>
            <a:custGeom>
              <a:avLst/>
              <a:gdLst/>
              <a:ahLst/>
              <a:rect l="l" t="t" r="r" b="b"/>
              <a:pathLst>
                <a:path w="261" h="260">
                  <a:moveTo>
                    <a:pt x="0" y="0"/>
                  </a:moveTo>
                  <a:lnTo>
                    <a:pt x="131" y="260"/>
                  </a:lnTo>
                  <a:lnTo>
                    <a:pt x="26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cc"/>
            </a:solidFill>
            <a:ln w="3816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4121280" y="4064040"/>
            <a:ext cx="969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Times New Roman"/>
              </a:rPr>
              <a:t>Fore API /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88160" y="5808600"/>
            <a:ext cx="9810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84440" y="5562720"/>
            <a:ext cx="90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Message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57280" y="5808600"/>
            <a:ext cx="97956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3120" y="5562720"/>
            <a:ext cx="90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Message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905120" y="3426840"/>
            <a:ext cx="224280" cy="1495800"/>
            <a:chOff x="1905120" y="3426840"/>
            <a:chExt cx="224280" cy="1495800"/>
          </a:xfrm>
        </p:grpSpPr>
        <p:sp>
          <p:nvSpPr>
            <p:cNvPr id="191" name=""/>
            <p:cNvSpPr/>
            <p:nvPr/>
          </p:nvSpPr>
          <p:spPr>
            <a:xfrm rot="16200000">
              <a:off x="1831680" y="4624920"/>
              <a:ext cx="381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Times New Roman"/>
                </a:rPr>
                <a:t>Ack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6200000">
              <a:off x="1865880" y="4285080"/>
              <a:ext cx="313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(In)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6200000">
              <a:off x="1952640" y="389484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6200000">
              <a:off x="1796040" y="3822120"/>
              <a:ext cx="45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Times New Roman"/>
                </a:rPr>
                <a:t>nack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6200000">
              <a:off x="1877400" y="3454560"/>
              <a:ext cx="26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(I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7007400" y="3605040"/>
            <a:ext cx="434880" cy="99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6200000">
            <a:off x="2368440" y="4051440"/>
            <a:ext cx="26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133720" y="3349800"/>
            <a:ext cx="213480" cy="1603440"/>
            <a:chOff x="2133720" y="3349800"/>
            <a:chExt cx="213480" cy="1603440"/>
          </a:xfrm>
        </p:grpSpPr>
        <p:sp>
          <p:nvSpPr>
            <p:cNvPr id="199" name=""/>
            <p:cNvSpPr/>
            <p:nvPr/>
          </p:nvSpPr>
          <p:spPr>
            <a:xfrm rot="16200000">
              <a:off x="2049480" y="4655520"/>
              <a:ext cx="381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Times New Roman"/>
                </a:rPr>
                <a:t>Ack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2043360" y="4278600"/>
              <a:ext cx="393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(out)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2013840" y="3776040"/>
              <a:ext cx="45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Times New Roman"/>
                </a:rPr>
                <a:t>nack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6200000">
              <a:off x="2065680" y="3417840"/>
              <a:ext cx="34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(ou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6681960" y="2752560"/>
            <a:ext cx="76032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1680" y="2666880"/>
            <a:ext cx="50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92160" y="2752560"/>
            <a:ext cx="76068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81080" y="2666880"/>
            <a:ext cx="50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885120" y="3657600"/>
            <a:ext cx="1443960" cy="247320"/>
            <a:chOff x="3885120" y="3657600"/>
            <a:chExt cx="1443960" cy="247320"/>
          </a:xfrm>
        </p:grpSpPr>
        <p:sp>
          <p:nvSpPr>
            <p:cNvPr id="208" name=""/>
            <p:cNvSpPr/>
            <p:nvPr/>
          </p:nvSpPr>
          <p:spPr>
            <a:xfrm>
              <a:off x="3885120" y="3657600"/>
              <a:ext cx="614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Frames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494960" y="3657600"/>
              <a:ext cx="36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Times New Roman"/>
                </a:rPr>
                <a:t>acks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93760" y="378288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75840" y="3657600"/>
              <a:ext cx="45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Times New Roman"/>
                </a:rPr>
                <a:t>nack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43040" y="2468520"/>
            <a:ext cx="1202040" cy="285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98360" y="2511360"/>
            <a:ext cx="49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43040" y="2895480"/>
            <a:ext cx="1202040" cy="28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43560" y="2889360"/>
            <a:ext cx="86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t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72520" y="3013200"/>
            <a:ext cx="39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43040" y="3321000"/>
            <a:ext cx="1202040" cy="285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780280" y="3363840"/>
            <a:ext cx="732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38400" y="2895480"/>
            <a:ext cx="763560" cy="355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2320" y="289548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04720" y="3051000"/>
            <a:ext cx="43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43040" y="4459320"/>
            <a:ext cx="1202040" cy="284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90640" y="4500720"/>
            <a:ext cx="91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43040" y="4884840"/>
            <a:ext cx="1202040" cy="28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120" y="4876920"/>
            <a:ext cx="57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 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14040" y="5002200"/>
            <a:ext cx="864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ffer 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43040" y="5311800"/>
            <a:ext cx="1202040" cy="285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847600" y="5354640"/>
            <a:ext cx="59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108160" y="5097600"/>
            <a:ext cx="434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2108160" y="3108240"/>
            <a:ext cx="3240" cy="198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108160" y="3070080"/>
            <a:ext cx="434520" cy="76320"/>
            <a:chOff x="2108160" y="3070080"/>
            <a:chExt cx="434520" cy="76320"/>
          </a:xfrm>
        </p:grpSpPr>
        <p:sp>
          <p:nvSpPr>
            <p:cNvPr id="232" name=""/>
            <p:cNvSpPr/>
            <p:nvPr/>
          </p:nvSpPr>
          <p:spPr>
            <a:xfrm>
              <a:off x="2108160" y="3108240"/>
              <a:ext cx="3204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426040" y="3070080"/>
              <a:ext cx="116640" cy="7632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97"/>
                  </a:moveTo>
                  <a:lnTo>
                    <a:pt x="97" y="48"/>
                  </a:lnTo>
                  <a:lnTo>
                    <a:pt x="0" y="0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327400" y="3425760"/>
            <a:ext cx="214920" cy="76320"/>
            <a:chOff x="2327400" y="3425760"/>
            <a:chExt cx="214920" cy="76320"/>
          </a:xfrm>
        </p:grpSpPr>
        <p:sp>
          <p:nvSpPr>
            <p:cNvPr id="235" name=""/>
            <p:cNvSpPr/>
            <p:nvPr/>
          </p:nvSpPr>
          <p:spPr>
            <a:xfrm>
              <a:off x="2327400" y="3463920"/>
              <a:ext cx="101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26400" y="3425760"/>
              <a:ext cx="115920" cy="7632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97"/>
                  </a:moveTo>
                  <a:lnTo>
                    <a:pt x="97" y="47"/>
                  </a:lnTo>
                  <a:lnTo>
                    <a:pt x="0" y="0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998720" y="2927520"/>
            <a:ext cx="543960" cy="77760"/>
            <a:chOff x="1998720" y="2927520"/>
            <a:chExt cx="543960" cy="77760"/>
          </a:xfrm>
        </p:grpSpPr>
        <p:sp>
          <p:nvSpPr>
            <p:cNvPr id="238" name=""/>
            <p:cNvSpPr/>
            <p:nvPr/>
          </p:nvSpPr>
          <p:spPr>
            <a:xfrm>
              <a:off x="1998720" y="2965320"/>
              <a:ext cx="4298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26040" y="2927520"/>
              <a:ext cx="11664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97"/>
                  </a:moveTo>
                  <a:lnTo>
                    <a:pt x="97" y="48"/>
                  </a:lnTo>
                  <a:lnTo>
                    <a:pt x="0" y="0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3137040" y="2752560"/>
            <a:ext cx="126360" cy="142920"/>
            <a:chOff x="3137040" y="2752560"/>
            <a:chExt cx="126360" cy="142920"/>
          </a:xfrm>
        </p:grpSpPr>
        <p:sp>
          <p:nvSpPr>
            <p:cNvPr id="241" name=""/>
            <p:cNvSpPr/>
            <p:nvPr/>
          </p:nvSpPr>
          <p:spPr>
            <a:xfrm>
              <a:off x="3201120" y="2752560"/>
              <a:ext cx="288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37040" y="2817720"/>
              <a:ext cx="1263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49" y="97"/>
                  </a:lnTo>
                  <a:lnTo>
                    <a:pt x="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137040" y="3187800"/>
            <a:ext cx="126360" cy="132840"/>
            <a:chOff x="3137040" y="3187800"/>
            <a:chExt cx="126360" cy="132840"/>
          </a:xfrm>
        </p:grpSpPr>
        <p:sp>
          <p:nvSpPr>
            <p:cNvPr id="244" name=""/>
            <p:cNvSpPr/>
            <p:nvPr/>
          </p:nvSpPr>
          <p:spPr>
            <a:xfrm>
              <a:off x="3201120" y="3187800"/>
              <a:ext cx="2880" cy="6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137040" y="3248640"/>
              <a:ext cx="126360" cy="720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49" y="97"/>
                  </a:lnTo>
                  <a:lnTo>
                    <a:pt x="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137040" y="4743360"/>
            <a:ext cx="118440" cy="141480"/>
            <a:chOff x="3137040" y="4743360"/>
            <a:chExt cx="118440" cy="141480"/>
          </a:xfrm>
        </p:grpSpPr>
        <p:sp>
          <p:nvSpPr>
            <p:cNvPr id="247" name=""/>
            <p:cNvSpPr/>
            <p:nvPr/>
          </p:nvSpPr>
          <p:spPr>
            <a:xfrm>
              <a:off x="3197160" y="4743360"/>
              <a:ext cx="252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37040" y="4808520"/>
              <a:ext cx="118440" cy="7632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49" y="97"/>
                  </a:lnTo>
                  <a:lnTo>
                    <a:pt x="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3137040" y="5168880"/>
            <a:ext cx="118440" cy="142920"/>
            <a:chOff x="3137040" y="5168880"/>
            <a:chExt cx="118440" cy="142920"/>
          </a:xfrm>
        </p:grpSpPr>
        <p:sp>
          <p:nvSpPr>
            <p:cNvPr id="250" name=""/>
            <p:cNvSpPr/>
            <p:nvPr/>
          </p:nvSpPr>
          <p:spPr>
            <a:xfrm>
              <a:off x="3197160" y="5168880"/>
              <a:ext cx="252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37040" y="5234040"/>
              <a:ext cx="11844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49" y="97"/>
                  </a:lnTo>
                  <a:lnTo>
                    <a:pt x="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689040" y="2133720"/>
            <a:ext cx="436320" cy="3838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rot="16200000">
            <a:off x="403560" y="3864600"/>
            <a:ext cx="96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Times New Roman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28600" y="2255760"/>
            <a:ext cx="20685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137040" y="2255760"/>
            <a:ext cx="126360" cy="212760"/>
            <a:chOff x="3137040" y="2255760"/>
            <a:chExt cx="126360" cy="212760"/>
          </a:xfrm>
        </p:grpSpPr>
        <p:sp>
          <p:nvSpPr>
            <p:cNvPr id="256" name=""/>
            <p:cNvSpPr/>
            <p:nvPr/>
          </p:nvSpPr>
          <p:spPr>
            <a:xfrm>
              <a:off x="3201120" y="2255760"/>
              <a:ext cx="28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37040" y="2390760"/>
              <a:ext cx="1263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49" y="97"/>
                  </a:lnTo>
                  <a:lnTo>
                    <a:pt x="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197160" y="5594400"/>
            <a:ext cx="3240" cy="212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128600" y="5770440"/>
            <a:ext cx="2067840" cy="76320"/>
            <a:chOff x="1128600" y="5770440"/>
            <a:chExt cx="2067840" cy="76320"/>
          </a:xfrm>
        </p:grpSpPr>
        <p:sp>
          <p:nvSpPr>
            <p:cNvPr id="260" name=""/>
            <p:cNvSpPr/>
            <p:nvPr/>
          </p:nvSpPr>
          <p:spPr>
            <a:xfrm flipH="1">
              <a:off x="1242720" y="5808600"/>
              <a:ext cx="195372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28600" y="5770440"/>
              <a:ext cx="119520" cy="7632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7" y="0"/>
                  </a:moveTo>
                  <a:lnTo>
                    <a:pt x="0" y="49"/>
                  </a:lnTo>
                  <a:lnTo>
                    <a:pt x="97" y="97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7226280" y="2895480"/>
            <a:ext cx="763560" cy="355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50840" y="290196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91160" y="3051000"/>
            <a:ext cx="43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681960" y="5097600"/>
            <a:ext cx="434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7119720" y="3108240"/>
            <a:ext cx="4680" cy="198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6681960" y="3068640"/>
            <a:ext cx="433800" cy="77760"/>
            <a:chOff x="6681960" y="3068640"/>
            <a:chExt cx="433800" cy="77760"/>
          </a:xfrm>
        </p:grpSpPr>
        <p:sp>
          <p:nvSpPr>
            <p:cNvPr id="268" name=""/>
            <p:cNvSpPr/>
            <p:nvPr/>
          </p:nvSpPr>
          <p:spPr>
            <a:xfrm flipH="1">
              <a:off x="6795720" y="3108240"/>
              <a:ext cx="3200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681960" y="3068640"/>
              <a:ext cx="11664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7" y="0"/>
                  </a:moveTo>
                  <a:lnTo>
                    <a:pt x="0" y="50"/>
                  </a:lnTo>
                  <a:lnTo>
                    <a:pt x="97" y="97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6681960" y="3424320"/>
            <a:ext cx="214560" cy="77760"/>
            <a:chOff x="6681960" y="3424320"/>
            <a:chExt cx="214560" cy="77760"/>
          </a:xfrm>
        </p:grpSpPr>
        <p:sp>
          <p:nvSpPr>
            <p:cNvPr id="271" name=""/>
            <p:cNvSpPr/>
            <p:nvPr/>
          </p:nvSpPr>
          <p:spPr>
            <a:xfrm flipH="1">
              <a:off x="6795360" y="3463920"/>
              <a:ext cx="101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681960" y="3424320"/>
              <a:ext cx="11592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7" y="0"/>
                  </a:moveTo>
                  <a:lnTo>
                    <a:pt x="0" y="49"/>
                  </a:lnTo>
                  <a:lnTo>
                    <a:pt x="97" y="97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681960" y="2927520"/>
            <a:ext cx="543600" cy="75960"/>
            <a:chOff x="6681960" y="2927520"/>
            <a:chExt cx="543600" cy="75960"/>
          </a:xfrm>
        </p:grpSpPr>
        <p:sp>
          <p:nvSpPr>
            <p:cNvPr id="274" name=""/>
            <p:cNvSpPr/>
            <p:nvPr/>
          </p:nvSpPr>
          <p:spPr>
            <a:xfrm flipH="1">
              <a:off x="6796080" y="2965320"/>
              <a:ext cx="42948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681960" y="2927520"/>
              <a:ext cx="116640" cy="759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7" y="0"/>
                  </a:moveTo>
                  <a:lnTo>
                    <a:pt x="0" y="50"/>
                  </a:lnTo>
                  <a:lnTo>
                    <a:pt x="97" y="97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8096400" y="2112840"/>
            <a:ext cx="438120" cy="3838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7871400" y="3864240"/>
            <a:ext cx="96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Times New Roman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6137280" y="2255760"/>
            <a:ext cx="19591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137280" y="5770440"/>
            <a:ext cx="1958400" cy="77760"/>
            <a:chOff x="6137280" y="5770440"/>
            <a:chExt cx="1958400" cy="77760"/>
          </a:xfrm>
        </p:grpSpPr>
        <p:sp>
          <p:nvSpPr>
            <p:cNvPr id="280" name=""/>
            <p:cNvSpPr/>
            <p:nvPr/>
          </p:nvSpPr>
          <p:spPr>
            <a:xfrm>
              <a:off x="6137280" y="5808600"/>
              <a:ext cx="18446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976880" y="5770440"/>
              <a:ext cx="11880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97"/>
                  </a:moveTo>
                  <a:lnTo>
                    <a:pt x="97" y="47"/>
                  </a:lnTo>
                  <a:lnTo>
                    <a:pt x="0" y="0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3741840" y="4459320"/>
            <a:ext cx="438120" cy="1138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611520" y="4923360"/>
            <a:ext cx="73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41840" y="2468520"/>
            <a:ext cx="438120" cy="1138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5400000">
            <a:off x="3560400" y="2916720"/>
            <a:ext cx="832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83160" y="2468520"/>
            <a:ext cx="1198800" cy="285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837040" y="2511360"/>
            <a:ext cx="49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83160" y="2895480"/>
            <a:ext cx="1198800" cy="28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39040" y="2886120"/>
            <a:ext cx="86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ty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68000" y="3022560"/>
            <a:ext cx="39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83160" y="3319560"/>
            <a:ext cx="1198800" cy="28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18600" y="3362400"/>
            <a:ext cx="732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83160" y="4459320"/>
            <a:ext cx="1198800" cy="284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628960" y="4500720"/>
            <a:ext cx="91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83160" y="4884840"/>
            <a:ext cx="1198800" cy="28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90960" y="4876920"/>
            <a:ext cx="57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 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54160" y="4994280"/>
            <a:ext cx="864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ffer 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83160" y="5311800"/>
            <a:ext cx="1198800" cy="2858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85920" y="5354640"/>
            <a:ext cx="59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6076800" y="2752560"/>
            <a:ext cx="118800" cy="142920"/>
            <a:chOff x="6076800" y="2752560"/>
            <a:chExt cx="118800" cy="142920"/>
          </a:xfrm>
        </p:grpSpPr>
        <p:sp>
          <p:nvSpPr>
            <p:cNvPr id="301" name=""/>
            <p:cNvSpPr/>
            <p:nvPr/>
          </p:nvSpPr>
          <p:spPr>
            <a:xfrm>
              <a:off x="6137640" y="2752560"/>
              <a:ext cx="216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76800" y="2817720"/>
              <a:ext cx="11880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50" y="97"/>
                  </a:lnTo>
                  <a:lnTo>
                    <a:pt x="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076800" y="3179880"/>
            <a:ext cx="118800" cy="141120"/>
            <a:chOff x="6076800" y="3179880"/>
            <a:chExt cx="118800" cy="141120"/>
          </a:xfrm>
        </p:grpSpPr>
        <p:sp>
          <p:nvSpPr>
            <p:cNvPr id="304" name=""/>
            <p:cNvSpPr/>
            <p:nvPr/>
          </p:nvSpPr>
          <p:spPr>
            <a:xfrm>
              <a:off x="6137640" y="3179880"/>
              <a:ext cx="216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76800" y="3244680"/>
              <a:ext cx="118800" cy="7632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50" y="97"/>
                  </a:lnTo>
                  <a:lnTo>
                    <a:pt x="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6076800" y="4743360"/>
            <a:ext cx="118800" cy="141480"/>
            <a:chOff x="6076800" y="4743360"/>
            <a:chExt cx="118800" cy="141480"/>
          </a:xfrm>
        </p:grpSpPr>
        <p:sp>
          <p:nvSpPr>
            <p:cNvPr id="307" name=""/>
            <p:cNvSpPr/>
            <p:nvPr/>
          </p:nvSpPr>
          <p:spPr>
            <a:xfrm>
              <a:off x="6137640" y="4743360"/>
              <a:ext cx="2160" cy="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76800" y="4808520"/>
              <a:ext cx="118800" cy="7632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50" y="97"/>
                  </a:lnTo>
                  <a:lnTo>
                    <a:pt x="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6076800" y="5168880"/>
            <a:ext cx="118800" cy="142920"/>
            <a:chOff x="6076800" y="5168880"/>
            <a:chExt cx="118800" cy="142920"/>
          </a:xfrm>
        </p:grpSpPr>
        <p:sp>
          <p:nvSpPr>
            <p:cNvPr id="310" name=""/>
            <p:cNvSpPr/>
            <p:nvPr/>
          </p:nvSpPr>
          <p:spPr>
            <a:xfrm>
              <a:off x="6137640" y="5168880"/>
              <a:ext cx="216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76800" y="5234040"/>
              <a:ext cx="11880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50" y="97"/>
                  </a:lnTo>
                  <a:lnTo>
                    <a:pt x="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076800" y="2255760"/>
            <a:ext cx="118800" cy="212760"/>
            <a:chOff x="6076800" y="2255760"/>
            <a:chExt cx="118800" cy="212760"/>
          </a:xfrm>
        </p:grpSpPr>
        <p:sp>
          <p:nvSpPr>
            <p:cNvPr id="313" name=""/>
            <p:cNvSpPr/>
            <p:nvPr/>
          </p:nvSpPr>
          <p:spPr>
            <a:xfrm>
              <a:off x="6137640" y="2255760"/>
              <a:ext cx="216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76800" y="2390760"/>
              <a:ext cx="11880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50" y="97"/>
                  </a:lnTo>
                  <a:lnTo>
                    <a:pt x="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6137280" y="5595840"/>
            <a:ext cx="1440" cy="21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48280" y="4459320"/>
            <a:ext cx="436680" cy="1138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5400000">
            <a:off x="4906800" y="4923360"/>
            <a:ext cx="73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048280" y="2468520"/>
            <a:ext cx="436680" cy="1138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4855680" y="2916720"/>
            <a:ext cx="832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27400" y="3462480"/>
            <a:ext cx="1440" cy="14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27400" y="4956120"/>
            <a:ext cx="215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892560" y="3463920"/>
            <a:ext cx="4680" cy="1492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681960" y="4956120"/>
            <a:ext cx="215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652840" y="1828800"/>
            <a:ext cx="10890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89080" y="1752480"/>
            <a:ext cx="2217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Send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592600" y="1828800"/>
            <a:ext cx="108936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69200" y="6095880"/>
            <a:ext cx="1603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Receive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87000" y="6095880"/>
            <a:ext cx="1603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Receive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93840" y="228600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Message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161120" y="228600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Message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006880" y="1752480"/>
            <a:ext cx="221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Send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00400" y="3894120"/>
            <a:ext cx="2879640" cy="27324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208320" y="3903840"/>
            <a:ext cx="2928960" cy="26172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6933240" y="3428280"/>
            <a:ext cx="213480" cy="1603440"/>
            <a:chOff x="6933240" y="3428280"/>
            <a:chExt cx="213480" cy="1603440"/>
          </a:xfrm>
        </p:grpSpPr>
        <p:sp>
          <p:nvSpPr>
            <p:cNvPr id="335" name=""/>
            <p:cNvSpPr/>
            <p:nvPr/>
          </p:nvSpPr>
          <p:spPr>
            <a:xfrm flipH="1" flipV="1" rot="16200000">
              <a:off x="6848640" y="3512160"/>
              <a:ext cx="381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Times New Roman"/>
                </a:rPr>
                <a:t>Ack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flipV="1" rot="16200000">
              <a:off x="6842520" y="3889080"/>
              <a:ext cx="393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(out)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 rot="16200000">
              <a:off x="6813000" y="4391640"/>
              <a:ext cx="45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Times New Roman"/>
                </a:rPr>
                <a:t>nack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 flipV="1" rot="16200000">
              <a:off x="6864840" y="4749840"/>
              <a:ext cx="34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(ou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7161840" y="3504960"/>
            <a:ext cx="224280" cy="1495800"/>
            <a:chOff x="7161840" y="3504960"/>
            <a:chExt cx="224280" cy="1495800"/>
          </a:xfrm>
        </p:grpSpPr>
        <p:sp>
          <p:nvSpPr>
            <p:cNvPr id="340" name=""/>
            <p:cNvSpPr/>
            <p:nvPr/>
          </p:nvSpPr>
          <p:spPr>
            <a:xfrm rot="5400000">
              <a:off x="7077600" y="3588840"/>
              <a:ext cx="381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Times New Roman"/>
                </a:rPr>
                <a:t>Ack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5400000">
              <a:off x="7111800" y="3929760"/>
              <a:ext cx="313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(In)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5400000">
              <a:off x="7311600" y="441144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5400000">
              <a:off x="7041960" y="4392720"/>
              <a:ext cx="45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ff0000"/>
                  </a:solidFill>
                  <a:latin typeface="Times New Roman"/>
                </a:rPr>
                <a:t>nack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5400000">
              <a:off x="7144920" y="4759560"/>
              <a:ext cx="26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</a:rPr>
                <a:t>(I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3200400" y="3894120"/>
            <a:ext cx="752400" cy="77760"/>
          </a:xfrm>
          <a:prstGeom prst="line">
            <a:avLst/>
          </a:prstGeom>
          <a:ln w="12600">
            <a:solidFill>
              <a:srgbClr val="0066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5520960" y="3903840"/>
            <a:ext cx="609480" cy="55440"/>
          </a:xfrm>
          <a:prstGeom prst="line">
            <a:avLst/>
          </a:prstGeom>
          <a:ln w="12600">
            <a:solidFill>
              <a:srgbClr val="0066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2T23:52:32Z</dcterms:created>
  <dc:creator>thakker</dc:creator>
  <dc:description/>
  <dc:language>en-US</dc:language>
  <cp:lastModifiedBy>thakker</cp:lastModifiedBy>
  <dcterms:modified xsi:type="dcterms:W3CDTF">1998-07-23T00:50:36Z</dcterms:modified>
  <cp:revision>1</cp:revision>
  <dc:subject/>
  <dc:title>Guaranteed ATM:  Design, Verification, and Performance Optimization</dc:title>
</cp:coreProperties>
</file>