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Global Acc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PropertyUser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82880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ropertyUser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useProperty(String prop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ies theProps = PropertyExample1a.m_prop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ropName + "=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Props.getProperty(propNam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ies duplicateProps = new Properties(theProp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e to use/modify duplicateProps to heart's cont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69960" y="4281480"/>
            <a:ext cx="77119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achieved global access but we have not prevented du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Props is modified, duplicateProps will be unaffected --- inconsistent behavior could a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e Factory Method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ctory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global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be easily available anywhere where construction must be per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globally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ily available throughout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ctory is on the right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ovides a global point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new instance ever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provide the same single instance over and over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opsis: The Singleton pattern ensures that only one instance of a class is created.  All objects that use an instance of that class use the same in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used when a single resource (such as configuration info) needs to be shared throughout an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Info on Single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desired class can be made a singl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andi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ies, configuration objects, manager classes (such as a stock exchange object, a bank object, wink, wink, hint, hint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tons are characteriz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ngle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private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Singleton4.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Propert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io.FileInputStre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ropertySingleton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extends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ropertySingleton4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Instanc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Singleton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Insta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heInstanc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Instance = new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PropertySingleton4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theInst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// end getInstanc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PropertySingleton4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(new FileInputStream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PropertyExample.ini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/* Handle exception */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// end co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// end class PropertySingleton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7524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ic method getInstance()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access through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n demand (building of object can be postponed until its first us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ime only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constructors private en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ethod or class other than getInstance() can construct a PropertySingleton4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only one will ever b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Example4.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ropertyExampl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User4 myUser = new PropertyUser4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Singleton4 myProps = PropertySingleton4.ge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eration e = myProps.propertyName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.hasMoreElement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rop = (String) e.nextEle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User.useProperty(pro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User.useProperty(pro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Example4.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ropertyUser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useProperty(String propNam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Singleton4 theProps = PropertySingleton4.ge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oldProp = theProps.getProperty(prop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ewProp = "New" + oldPr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Props.setProperty(propName, newPro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hanged " + propName + " from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ldProp + " to " + newPro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following lines of code will not comp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opertySingleton4 myOwnProps = new PropertySingleton4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opertySingleton4 duplicateProps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   new PropertySingleton4(theProp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rovides global access to a shared re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events duplicate instances of key resources from being constr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easy to imp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to protect shared resources as well as providing global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applications use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sources are "hard" (e.g.: speakers, audio play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sources are "soft" (e.g.: configuration information, large bit map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might be used in different areas of the application, by different threa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6-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Classing of Singlet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Grand98] sta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ub-classing a singleton class is awkward and results in imperfectly encapsulated classes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s must be protected instead of priv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ton building may need to be done directly at startup or using a fa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6-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Classing of Singlet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Grand98] sta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ou will want the subclass to override the singleton's getInstance() method … … Java does not allow …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need to override getInstance(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ton variable in base class can be set by subclass (using base class construct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Instance() will then work 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of the application try to simultaneously access the sam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duplication can be inefficient or even disastrous (e.g.: loading a large bit map tw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st way to avoid resource conflicts is to not let them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applications load configuration information from di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information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components (e.g.: ConsoleEditor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ore and track user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recent workspa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pplication st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tool: java.util.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.util.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DK provides class java.util.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Windows95/NT registry entries but closer to Windows3.1 .ini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ssociative array (a.k.a.: map, diction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ing "key" is associated with another string "valu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t (has methods for loading/storing from/to d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vide consistent way to deal with applet "tags" and application "command line arg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Example1.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Propert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util.Enumera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java.io.FileInputStre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ropertyExample1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ies myProps = new Propertie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Props.loa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ew FileInputStream("PropertyExample.ini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 e) { /* handle exception */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eration 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Props.propertyNames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.hasMoreElements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rop = (String) e.nextEle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prop + "=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Props.getProperty(prop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Example.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57400" y="1828800"/>
            <a:ext cx="5105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perty Files can be com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n Oct 03 18:44:17 PDT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C=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B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A=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6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93640" y="4281480"/>
            <a:ext cx="7711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file can provide configuration info for entire application (e.g.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itor=ConsoleEditor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evious example, PropertyExample1 was only class to use the Properties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resource needs to be shared by many o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 use a glob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Java doesn't use glob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does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Example1a.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ropertyExample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Properties m_props = new Propertie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props.load(new FileInputStream("PropertyExample.ini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 (Exception e) { /* handle exception */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eration e = m_props.propertyName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.hasMoreElement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rop = (String) e.nextEle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pertyUser1a myUser = new PropertyUser1a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User.useProperty(pro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