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60CE1A-C589-4541-B37B-E95BDE89C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 has a reference to the component but does not necessarily ow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 is w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d instances MUST belong to only one composite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perations on the composite are delegated to the aggregated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4610 - Topic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ed Model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Ma', No C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79840" y="5546880"/>
            <a:ext cx="3840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ed Reading:  Chapters 2,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(exten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9810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heritance relationship between classes is shown using a solid line with a triangular arrow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rowhead points at the bas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03240" y="2108160"/>
            <a:ext cx="1549440" cy="1104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ou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2240" y="5318280"/>
            <a:ext cx="7483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, when designing or simply expressing a concept, details such as visibility, data types, attributes are omit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5146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3240" y="3784680"/>
            <a:ext cx="1549440" cy="1104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ou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9092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14600" y="3200400"/>
            <a:ext cx="152280" cy="228600"/>
            <a:chOff x="2514600" y="3200400"/>
            <a:chExt cx="152280" cy="228600"/>
          </a:xfrm>
        </p:grpSpPr>
        <p:sp>
          <p:nvSpPr>
            <p:cNvPr id="84" name=""/>
            <p:cNvSpPr/>
            <p:nvPr/>
          </p:nvSpPr>
          <p:spPr>
            <a:xfrm flipH="1">
              <a:off x="2514600" y="32004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32004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342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9810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an interface is illustrated using a "dashed" inheritance a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803240" y="2108160"/>
            <a:ext cx="2158920" cy="1104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interfac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lWa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Tail(speed :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03240" y="3784680"/>
            <a:ext cx="2158920" cy="1104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Tail(speed :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8954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19520" y="3200400"/>
            <a:ext cx="152280" cy="228600"/>
            <a:chOff x="2819520" y="3200400"/>
            <a:chExt cx="152280" cy="228600"/>
          </a:xfrm>
        </p:grpSpPr>
        <p:sp>
          <p:nvSpPr>
            <p:cNvPr id="95" name=""/>
            <p:cNvSpPr/>
            <p:nvPr/>
          </p:nvSpPr>
          <p:spPr>
            <a:xfrm flipH="1">
              <a:off x="2819520" y="32004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32004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9520" y="342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822240" y="5546880"/>
            <a:ext cx="7483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es of method arguments can be optionally specified for any class (abstract or concrete) and for any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769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one class is part of another class, it is aggreg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ed with a diam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ardin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2031840"/>
            <a:ext cx="1295280" cy="1654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ch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siz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17640" y="2031840"/>
            <a:ext cx="1930320" cy="1654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743200"/>
            <a:ext cx="228960" cy="152640"/>
          </a:xfrm>
          <a:custGeom>
            <a:avLst/>
            <a:gdLst/>
            <a:ahLst/>
            <a:rect l="0" t="0" r="r" b="b"/>
            <a:pathLst>
              <a:path fill="none"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256068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4165560"/>
            <a:ext cx="1066680" cy="1654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5720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641680" y="4317840"/>
            <a:ext cx="1930320" cy="1379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eashCurre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4876920"/>
            <a:ext cx="228960" cy="152640"/>
          </a:xfrm>
          <a:custGeom>
            <a:avLst/>
            <a:gdLst/>
            <a:ahLst/>
            <a:rect l="0" t="0" r="r" b="b"/>
            <a:pathLst>
              <a:path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422440" y="469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3962520" cy="439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ro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ector workUni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roject()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... other methods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dd(Programmer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kUnits.addElement(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downsiz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workUnits.s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 &gt;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kUnits.removeElementAt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 -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 Project contains Programmer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re is no guarantee that a Programmer only belongs to this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3809880" cy="413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ar owns battery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mposite aggreg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attery batte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ar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ttery = new Batter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drive()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start(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charg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battery.charg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 owns the battery and no other component shar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Car class' behavior is deferred (or delegated) to Battery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 Associations (U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lasses can be related only through us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e uses othe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can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520" y="2031840"/>
            <a:ext cx="1295280" cy="1654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Bu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Hom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Wor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108160" y="4317840"/>
            <a:ext cx="1930320" cy="1379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Passeng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oadPasseng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64832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05320" y="400860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55960" y="253692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71800" y="286560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27360" y="4060800"/>
            <a:ext cx="657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352680" y="41911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41911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 is a notation for drawing object-oriented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llows for the expression of an object-oriented system in a simple, visual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 is a large and complex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ML subset addressed in this section should be sufficient for most patt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He Promised Desig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there were design patterns, there was object-oriente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needed a language to discuss object oriented des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and code too detai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tures are 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diagrams ar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ming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y Booch provid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ego problems 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(I think James Rumbaugh) provid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Modeling Tech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M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ually the two groups got together and creat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ed Modeling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U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is Relates to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patterns discussed in the textbook and in this course are expressed using a diagramming language called U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knowledge of UML class diagrams is indispensable for understanding patter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 provides a visual technique for expressing class and object relationshi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ques within U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Dia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s show "compile-time" relationships between clas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for illustra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: names, attributes, metho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: names, metho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: use, inheritance, implement, composition,  aggre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attribu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metho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typ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93760" y="2565360"/>
            <a:ext cx="2692440" cy="2066760"/>
            <a:chOff x="1193760" y="2565360"/>
            <a:chExt cx="2692440" cy="2066760"/>
          </a:xfrm>
        </p:grpSpPr>
        <p:sp>
          <p:nvSpPr>
            <p:cNvPr id="61" name=""/>
            <p:cNvSpPr txBox="1"/>
            <p:nvPr/>
          </p:nvSpPr>
          <p:spPr>
            <a:xfrm>
              <a:off x="1193760" y="2565360"/>
              <a:ext cx="2692440" cy="2066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y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yAttribute : 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yOtherAttribute : flo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My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set(:int, :float) : boole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oIt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2971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9320" y="36576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bstract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(italic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attribu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metho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typ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(ital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93760" y="2565360"/>
            <a:ext cx="2692440" cy="2066760"/>
            <a:chOff x="1193760" y="2565360"/>
            <a:chExt cx="2692440" cy="2066760"/>
          </a:xfrm>
        </p:grpSpPr>
        <p:sp>
          <p:nvSpPr>
            <p:cNvPr id="67" name=""/>
            <p:cNvSpPr txBox="1"/>
            <p:nvPr/>
          </p:nvSpPr>
          <p:spPr>
            <a:xfrm>
              <a:off x="1193760" y="2565360"/>
              <a:ext cx="2692440" cy="2066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yAbstract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yAttribute : 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yOtherAttribute : flo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My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set(:int, :float) : boole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I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2971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9320" y="36576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e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(ital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metho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typ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93760" y="2565360"/>
            <a:ext cx="2692440" cy="1379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interfac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takeTur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sWinner(:b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200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74880" y="5234040"/>
            <a:ext cx="7331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ntly, since all interface methods must be abstract, having them in italics is redunda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othy J Dudra</dc:creator>
  <dc:description/>
  <dc:language>en-US</dc:language>
  <cp:lastModifiedBy>Timothy J Dudra</cp:lastModifiedBy>
  <cp:revision>0</cp:revision>
  <dc:subject/>
  <dc:title>MMSD4610 - Topic 1</dc:title>
</cp:coreProperties>
</file>