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99C64-6C40-4C63-8F7F-A3C84608C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talk about bullets of OO benefits for a long time.  I'd prefer to show by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nefits of Object Oriented Applic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gic 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ools/models have been presented as the magic balm for extensible and/or distribute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Java, C++, COM, JINI, RMI, XML, AWT, Swing,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se tools will come an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have advantages and dis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all of these tools (or parts thereof) are built using, or to enable the use of, design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NI, RMI: Interface,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: Interface, Abstract Factory,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T: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rse is not about tools, it is about the stuff that tools are mad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scale applications must be ad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ools exist to aid construction of adaptive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ools are all past/present/future magic balms.  None will la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 are the core of most of these too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ing patterns enables knowing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O there was fire and the wh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only fire and the wheel, ancient programmers were forced to use a methodology called "procedural programming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Procedural programming tended toward large "in-house"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, Wheel and the Silicon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grammers, these applications were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grammer could control all aspects of the application, since it was all developed in-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ck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ftware U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want software that is easy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roductivity, not redu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intosh and Windows showed the user how easy to use software could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became more dem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programming paradigm started to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code is highly inter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arge scale applications that fail or become unmaintainable do so because their components are too inter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A is implemented to work with part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B is designed to work with part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C is designed to work with part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 makes a system rigid (inflexible) and fragile (bugg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ng Interdepen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ne slide?  Not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ntire course is about eliminating interdependenc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ols we will use to do this are object-oriented programming, design patterns and some common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problem with common sense is that it is not so common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rk Twain or Oscar Wilde or George Bernard Shaw o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O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current "paradigm" in computer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d software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large applications to be sub-divided into smaller components o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reuse of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ore seamless integration of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y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struction in the 00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ly component ori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dial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built by integrating components from (possibly) many different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Beans, Component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distributed across local networks, intranet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/DCOM, Corba, JINI, R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struction in the 00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istributed world-w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must be adaptive and able to evolve, or it will become extin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ly, it can be a Microsoft product and be rammed down our throats because their operating system can't function with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