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71680" y="3864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54360" y="171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680" y="3864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4360" y="3864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9680" y="171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27320" y="171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71680" y="3864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9680" y="3864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27320" y="3864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54360" y="1714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81160" y="1710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54360" y="1714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71680" y="3864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54360" y="171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4360" y="3864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4360" y="171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71680" y="3864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480" y="1268280"/>
            <a:ext cx="9119880" cy="139680"/>
            <a:chOff x="6480" y="1268280"/>
            <a:chExt cx="9119880" cy="139680"/>
          </a:xfrm>
        </p:grpSpPr>
        <p:sp>
          <p:nvSpPr>
            <p:cNvPr id="1" name=""/>
            <p:cNvSpPr/>
            <p:nvPr/>
          </p:nvSpPr>
          <p:spPr>
            <a:xfrm>
              <a:off x="6480" y="1268280"/>
              <a:ext cx="9119880" cy="61920"/>
            </a:xfrm>
            <a:prstGeom prst="rect">
              <a:avLst/>
            </a:prstGeom>
            <a:solidFill>
              <a:srgbClr val="d40000"/>
            </a:solidFill>
            <a:ln w="12600">
              <a:solidFill>
                <a:srgbClr val="d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480" y="1382760"/>
              <a:ext cx="9119880" cy="25200"/>
            </a:xfrm>
            <a:prstGeom prst="rect">
              <a:avLst/>
            </a:prstGeom>
            <a:solidFill>
              <a:srgbClr val="d40000"/>
            </a:solidFill>
            <a:ln w="12600">
              <a:solidFill>
                <a:srgbClr val="d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aphicFrame>
        <p:nvGraphicFramePr>
          <p:cNvPr id="3" name=""/>
          <p:cNvGraphicFramePr/>
          <p:nvPr/>
        </p:nvGraphicFramePr>
        <p:xfrm>
          <a:off x="119160" y="119160"/>
          <a:ext cx="1049400" cy="1042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9160" y="119160"/>
                    <a:ext cx="104940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"/>
          <p:cNvSpPr/>
          <p:nvPr/>
        </p:nvSpPr>
        <p:spPr>
          <a:xfrm>
            <a:off x="4162320" y="1440"/>
            <a:ext cx="1436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01fe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20120" y="6661080"/>
            <a:ext cx="756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2BD27-10BD-4F34-B855-B8F69C877E13}" type="slidenum">
              <a:rPr b="0" lang="en-US" sz="1000" spc="-1" strike="noStrike">
                <a:solidFill>
                  <a:srgbClr val="1701fe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479840" y="3002040"/>
            <a:ext cx="360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Click to edit the title text format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799"/>
              </a:spcBef>
              <a:buClr>
                <a:srgbClr val="0000ff"/>
              </a:buClr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371600" indent="-28584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714680" indent="-22860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06668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Integrated Process Improvement -  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What, Why, How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CG Times (W1)"/>
              </a:rPr>
              <a:t>(Is </a:t>
            </a:r>
            <a:r>
              <a:rPr b="0" i="1" lang="en-US" sz="3200" spc="-1" strike="noStrike">
                <a:solidFill>
                  <a:srgbClr val="000000"/>
                </a:solidFill>
                <a:latin typeface="CG Times (W1)"/>
              </a:rPr>
              <a:t>Software</a:t>
            </a:r>
            <a:r>
              <a:rPr b="0" lang="en-US" sz="3200" spc="-1" strike="noStrike">
                <a:solidFill>
                  <a:srgbClr val="000000"/>
                </a:solidFill>
                <a:latin typeface="CG Times (W1)"/>
              </a:rPr>
              <a:t> Process Improvement Enough? )</a:t>
            </a:r>
            <a:endParaRPr b="0" lang="en-US" sz="32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8840" y="3886200"/>
            <a:ext cx="350532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Dr. Linda Ibrahim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Federal Aviation Administration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Times New Roman"/>
              </a:rPr>
              <a:t>Presented at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 SPI 99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Barcelona, Spain 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Times New Roman"/>
              </a:rPr>
              <a:t>2 December 1999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838080" y="3200400"/>
            <a:ext cx="3657600" cy="3200400"/>
            <a:chOff x="838080" y="3200400"/>
            <a:chExt cx="3657600" cy="3200400"/>
          </a:xfrm>
        </p:grpSpPr>
        <p:grpSp>
          <p:nvGrpSpPr>
            <p:cNvPr id="49" name=""/>
            <p:cNvGrpSpPr/>
            <p:nvPr/>
          </p:nvGrpSpPr>
          <p:grpSpPr>
            <a:xfrm>
              <a:off x="838080" y="3200400"/>
              <a:ext cx="3657600" cy="3200400"/>
              <a:chOff x="838080" y="3200400"/>
              <a:chExt cx="3657600" cy="3200400"/>
            </a:xfrm>
          </p:grpSpPr>
          <p:sp>
            <p:nvSpPr>
              <p:cNvPr id="50" name=""/>
              <p:cNvSpPr/>
              <p:nvPr/>
            </p:nvSpPr>
            <p:spPr>
              <a:xfrm>
                <a:off x="838080" y="3200400"/>
                <a:ext cx="2281320" cy="2200320"/>
              </a:xfrm>
              <a:prstGeom prst="ellipse">
                <a:avLst/>
              </a:prstGeom>
              <a:blipFill rotWithShape="0">
                <a:blip r:embed="rId1"/>
                <a:srcRect/>
                <a:stretch/>
              </a:blip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214720" y="3255840"/>
                <a:ext cx="2280960" cy="219888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530360" y="4200480"/>
                <a:ext cx="2282760" cy="2200320"/>
              </a:xfrm>
              <a:prstGeom prst="ellipse">
                <a:avLst/>
              </a:prstGeom>
              <a:gradFill rotWithShape="0">
                <a:gsLst>
                  <a:gs pos="0">
                    <a:srgbClr val="afc6fd"/>
                  </a:gs>
                  <a:gs pos="100000">
                    <a:srgbClr val="618ffd"/>
                  </a:gs>
                </a:gsLst>
                <a:lin ang="5400000"/>
              </a:gra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pic>
            <p:nvPicPr>
              <p:cNvPr id="5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373480" y="4348080"/>
                <a:ext cx="576000" cy="57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>
                <a:off x="2214720" y="3255840"/>
                <a:ext cx="2280960" cy="2198880"/>
              </a:xfrm>
              <a:prstGeom prst="ellipse">
                <a:avLst/>
              </a:prstGeom>
              <a:noFill/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38080" y="3200400"/>
                <a:ext cx="2281320" cy="2200320"/>
              </a:xfrm>
              <a:prstGeom prst="ellipse">
                <a:avLst/>
              </a:prstGeom>
              <a:noFill/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1124280" y="3749760"/>
              <a:ext cx="586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SA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710160" y="3664080"/>
              <a:ext cx="586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SE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408040" y="5856120"/>
              <a:ext cx="672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SW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Improving Integrated Processes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What’s an integrated process?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An integrated process includes supportive processes to the software development processe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Supportive Integrated Processes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ome examples: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Information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: managing data and configuration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3" marL="1714680" indent="-228600">
              <a:spcBef>
                <a:spcPts val="499"/>
              </a:spcBef>
              <a:buClr>
                <a:srgbClr val="0000ff"/>
              </a:buClr>
              <a:buFont typeface="Symbol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ocuments, systems, software components, measure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ompliance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:  quality assurance and managemen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371600" indent="-285840">
              <a:spcBef>
                <a:spcPts val="601"/>
              </a:spcBef>
              <a:buClr>
                <a:srgbClr val="0000ff"/>
              </a:buClr>
              <a:buFont typeface="Symbol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ll processes, all work products, all the tim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People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:  human resource managemen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Some Other Integrated Processes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1680" y="1752120"/>
            <a:ext cx="803880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readth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:  Enterprise wide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cross core areas of your busines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ff"/>
              </a:buClr>
              <a:buFont typeface="Symbol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e.g. leadership, strategic planning, investment management; research, development, marketing, ..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epth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:  Multilevel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Executives, directors, managers, practitioner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ff"/>
              </a:buClr>
              <a:buFont typeface="Symbol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e.g. enterprise management, division management, program management, project management, task manageme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2. Improving Processes in an Integrated Way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71320" y="1714680"/>
            <a:ext cx="8267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What’s integrated 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process improvement?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pproach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:  using the same approach to improving any process; the same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process improvement proces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erminology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: using the same process improvement terminology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Measures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:  measuring process improvement progress in a common way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Goals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:  seeking common process improvement goal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Integrated Process Improvement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ff"/>
                </a:solidFill>
                <a:latin typeface="Times New Roman"/>
              </a:rPr>
              <a:t>Why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1. Why Improve Integrated Processes?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71680" y="144756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Effectivenes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void suboptimization, e.g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96040" indent="-447840">
              <a:spcBef>
                <a:spcPts val="499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it may be a system problem, not a software problem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896040" indent="-447840">
              <a:spcBef>
                <a:spcPts val="499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focusing on development measures may adversely impact maintenance 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896040" indent="-447840">
              <a:spcBef>
                <a:spcPts val="499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meeting the software specification may not satisfy the customer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ddress interfaces and interrelationships, e.g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96040" indent="-447840">
              <a:spcBef>
                <a:spcPts val="499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o you develop/deliver/maintain/acquire 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software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or 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systems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896040" indent="-447840">
              <a:spcBef>
                <a:spcPts val="499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Integrated processes specifically consider interfaces to hardware, other systems, operators, environment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896040" indent="-447840">
              <a:spcBef>
                <a:spcPts val="499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Specifically handle potential gaps when transitioning across phases 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Why Improve Integrated Processes? </a:t>
            </a:r>
            <a:r>
              <a:rPr b="0" lang="en-US" sz="2400" spc="-1" strike="noStrike">
                <a:solidFill>
                  <a:srgbClr val="0000ff"/>
                </a:solidFill>
                <a:latin typeface="CG Times (W1)"/>
              </a:rPr>
              <a:t>(continued)</a:t>
            </a:r>
            <a:endParaRPr b="0" lang="en-US" sz="24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Effectivenes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eaming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499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o you work in integrated product team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499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o they perform integrated processes? 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onsider effectiveness of the enterpris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499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align processes with business objectives, then integrate across the busines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499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work towards corporate culture of continuous process improvement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499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teamwork and involvement across lines of business, and from executives to practitioner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2. Why Integrate Process Improvement Efforts?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8115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Efficiency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499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training, appraisal, fewer processes to improve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Reduce complexity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499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same terminology, same approach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ision, focus and clarity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499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common goals, measures, terminology, approach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nvolveme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499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everyone’s working to improve their processes, in the same way, towards the same goal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Integrated Process Improvement Why not ?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Don’t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go there unless …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you are seriously motivated and committed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you are willing to foster cooperation and collaboration across organizational lines and across disciplines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you are willing to invest the resources and effort to do i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Integrated Process Improvement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ff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CG Times (W1)"/>
              </a:rPr>
              <a:t>Software</a:t>
            </a: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 Process Improvement SPI 99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001000" cy="438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cess Improvement Enough?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850320" indent="-42516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What % of your organization’s processes are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software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processes?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850320" indent="-42516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What other processes affect software and your success in software projects?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850320" indent="-42516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What if software processes are improved and others aren’t?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275480" indent="-26568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o other processes need improvement?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850320" indent="-42516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hould you pursue “integrated process improvement”?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Integrated Process Improvement </a:t>
            </a:r>
            <a:r>
              <a:rPr b="0" i="1" lang="en-US" sz="4000" spc="-1" strike="noStrike">
                <a:solidFill>
                  <a:srgbClr val="0000ff"/>
                </a:solidFill>
                <a:latin typeface="CG Times (W1)"/>
              </a:rPr>
              <a:t>How?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rst consider: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Your organization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Your current process improvement effort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Are your current improvement efforts meeting organizational needs?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CG Times (W1)"/>
              </a:rPr>
              <a:t>How</a:t>
            </a: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: Examine your organization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What does your organization do?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813600" indent="-40680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What is your life cycle?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Examine your life cycle processe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813600" indent="-40680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What processes are carried out?  by whom?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813600" indent="-40680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What processes cross disciplines? cross organizations? 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Examine your team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813600" indent="-40680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re they multidisciplinary, integrated product teams?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CG Times (W1)"/>
              </a:rPr>
              <a:t>How</a:t>
            </a: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: Examine your process improvement process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Are different parts of the enterprise currently involved in process improvement?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840960" indent="-4204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o these efforts cover your life cycle?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840960" indent="-4204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s there overlap?  Are there gaps?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What models or standards are being used?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840960" indent="-4204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o they support your enterprise-wide needs?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840960" indent="-4204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s there consistency across the approaches?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Are process improvement efforts aligned and focused to support enterprise-wide needs?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CG Times (W1)"/>
              </a:rPr>
              <a:t>How</a:t>
            </a: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: What does it take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f you’ve discovered a need for integrated process improvement, next consider what it takes to make it happen: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process improvement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guidance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that relates to what you do across your enterprise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n enterprise-wide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vision and goal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strategy and a plan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to realize those goal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he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right resource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CG Times (W1)"/>
              </a:rPr>
              <a:t>How</a:t>
            </a: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: Process Improvement Guidance 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An integrated Capability Maturity Model was the FAA choic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n 1997, FAA developed the FAA-iCMM</a:t>
            </a:r>
            <a:r>
              <a:rPr b="0" lang="en-US" sz="2800" spc="-1" strike="noStrike" baseline="30000">
                <a:solidFill>
                  <a:srgbClr val="0000ff"/>
                </a:solidFill>
                <a:latin typeface="Times New Roman"/>
              </a:rPr>
              <a:t>®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hat integrates software, systems engineering and software acquisition CMM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AA-iCMM covers most life cycle activities and practices carried out by FAA integrated product team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Integrated Process Improvement Guidance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71680" y="1523880"/>
            <a:ext cx="7772400" cy="430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AA-iCMM provides guidance regarding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859320" indent="-429480">
              <a:spcBef>
                <a:spcPts val="601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Process areas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(what you do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289160" indent="-26856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base practices that are cross disciplinary, best practice specific to a process area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59320" indent="-429480">
              <a:spcBef>
                <a:spcPts val="601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apability levels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(how well you do it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289160" indent="-26856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generic practices that apply to any process to improve process capability and manageme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59320" indent="-429480">
              <a:spcBef>
                <a:spcPts val="601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Maturity levels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(what to focus on next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59320" indent="-429480">
              <a:spcBef>
                <a:spcPts val="601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 variety of integrated appraisal methods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(to know where you are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Why Integrate CMMs? - 1 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71680" y="144756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ffectivenes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831960" indent="-415800">
              <a:spcBef>
                <a:spcPts val="601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one model across full enterprise lifecycl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31960" indent="-415800">
              <a:spcBef>
                <a:spcPts val="601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orporate perspective for FAA-wide improveme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31960" indent="-415800">
              <a:spcBef>
                <a:spcPts val="601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ntegrated processes for integrated product team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31960" indent="-415800">
              <a:spcBef>
                <a:spcPts val="601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one model, one architecture, consistent terminology, common process assets, common goal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daptability to enterprise need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831960" indent="-415800">
              <a:spcBef>
                <a:spcPts val="601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designed for evolvability to meet current and future enterprise-wide process improvement need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31960" indent="-415800">
              <a:spcBef>
                <a:spcPts val="601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an add new process areas, generic improvement approach still applie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Why Integrate CMMs? - 2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680" y="144756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fficiency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859320" indent="-429480">
              <a:spcBef>
                <a:spcPts val="601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less costly, less confusing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59320" indent="-429480">
              <a:spcBef>
                <a:spcPts val="601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23 integrated process areas (not 52 separate process areas of the source CMMs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59320" indent="-429480">
              <a:spcBef>
                <a:spcPts val="601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one appraisal (not 3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atalys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859320" indent="-429480">
              <a:spcBef>
                <a:spcPts val="601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AA-iCMM is becoming known as the integrat</a:t>
            </a:r>
            <a:r>
              <a:rPr b="0" i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ing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MM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59320" indent="-429480">
              <a:spcBef>
                <a:spcPts val="601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AA-iCMM is becoming a catalyst for bringing together various initiative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289160" indent="-26856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e.g. Malcolm Baldrige, ISO9000, 12207, DO178B 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CG Times (W1)"/>
              </a:rPr>
              <a:t>How</a:t>
            </a: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: Vision, Goals, Strategy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71320" y="1523880"/>
            <a:ext cx="8420040" cy="430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Management set aggressive improvement goal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AA-iCMM provides common framework for establishing consistent goals across the enterpris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Personal performance evaluations tied to goal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Goal achievement requires cross-organizational cooperation 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trategy and plan developed -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o support organizations in achieving FAA-iCMM related goal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80800" y="17100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CG Times (W1)"/>
              </a:rPr>
              <a:t>How</a:t>
            </a: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: Resources and Infrastructure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Management: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o sponsor, motivate, advocate the effor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Process people: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with expertise, persistence and determination to lead the effor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Practitioners: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mpowered to improve their own processe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Is </a:t>
            </a:r>
            <a:r>
              <a:rPr b="0" i="1" lang="en-US" sz="4000" spc="-1" strike="noStrike">
                <a:solidFill>
                  <a:srgbClr val="0000ff"/>
                </a:solidFill>
                <a:latin typeface="CG Times (W1)"/>
              </a:rPr>
              <a:t>Software</a:t>
            </a: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 Process Improvement Enough?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8038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Let’s consider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35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ff"/>
                </a:solidFill>
                <a:latin typeface="Times New Roman"/>
              </a:rPr>
              <a:t>Integrated Process Improvemen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  <a:p>
            <a:pPr marL="335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  <a:p>
            <a:pPr marL="335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ff"/>
                </a:solidFill>
                <a:latin typeface="Times New Roman"/>
              </a:rPr>
              <a:t>What?  Why?  How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OK - Then Just Do It!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81914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Approach: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elect the model that matches your enterprise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Goals: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stablish your goals, strategy, plan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nfrastructure: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stablish your integrated, enterprise-wide, process improvement infrastructur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ommitment: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ommit the resource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How else? 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Lastly ...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mprove the integrated process improvement proces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ncorporate lessons learned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CG Times (W1)"/>
              </a:rPr>
              <a:t>How</a:t>
            </a: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:  Some Lessons Learned  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AA experience and lessons learned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Performance goal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Roles and responsibilitie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raining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ransitioning to an integrated mod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Appraisal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Performance Goals - 1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71320" y="1714680"/>
            <a:ext cx="8267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ifferent FAA lines of business and directorates adopted performance goals based on the FAA-iCMM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hey seek to institutionalize mature processes that enable high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quality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solutions to FAA and user needs,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predictable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cost and schedule, and increased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productivity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hey seek cross functional, full life cycle improvemen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Performance Goals - 2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8038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ome are based on achieving a maturity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ome are based on achieving a capability level in selected process area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ome are by program or team, some are by organization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ome are additional “stretch goals”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The architecture of the model affords flexibility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Regarding Performance Goals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1680" y="1600200"/>
            <a:ext cx="7772400" cy="422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Goals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ynchronize goals across lines of busines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elect target programs carefully; seek full life cycle, cross functional improvemen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ntegrate process improvement with other initiatives and goal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810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Regarding Roles &amp; Responsibilities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ntegrated Process Group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868680" indent="-43416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stablish corporate process group staffed with executives and senior people who are cross-disciplinary, motivated and empowered to represent their organization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Managemen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868680" indent="-43416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ecure top management sponsorship and commitment to successfully integrate across disciplines and lines of busines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Regarding Training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71320" y="1371240"/>
            <a:ext cx="8343720" cy="445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ntegrated training group manages training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859320" indent="-42948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nvolve multidisciplinary experts in course selection/developmen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Process improvement training by in-house staff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859320" indent="-42948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AA-iCMM, appraisal method, workshops...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omain specific training typically outsourced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859320" indent="-42948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Requirements engineering, project management, configuration management, quality assurance, …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Over 2600 trained,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xternal training also offered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Transitioning to the FAA-iCMM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71320" y="1447560"/>
            <a:ext cx="8267400" cy="438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Mapping table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804600" indent="-40212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you know where each source practice i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Principle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804600" indent="-40212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ll CMM features and principles are captured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ontinuous representation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804600" indent="-40212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has proven easy to understand and apply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804600" indent="-40212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generic practices make sense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804600" indent="-40212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they can be applied to any process at all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taging is also provided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Regarding Transitioning 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714680"/>
            <a:ext cx="8039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Nothing is los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mprovements using a source model are not lost! 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ll practices and process areas are in the integrated model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mproving an integrated process improves against all 3 disciplines at once, as applicabl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Integrated Process Improvement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ff"/>
                </a:solidFill>
                <a:latin typeface="Times New Roman"/>
              </a:rPr>
              <a:t>What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FAA-iCMM Appraisals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71680" y="144756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Many appraisals have been conducted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896040" indent="-44784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ifferent variations have been used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343880" indent="-28008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ull internal method, questionnaire-based, facilitated discussion, document- intensive, interview-based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96040" indent="-44784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Methods tailored and scoped to sponsor need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343880" indent="-28008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 program, an organization, selected process areas, full maturity level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Appraisal teams are cross-organizational and have included external participants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Regarding Appraisals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763120" cy="430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Variety: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he variety of methods helps meet sponsor need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nterface: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ppraisals point out gaps and previously unrecognized interface problem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ssues: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ross-organizational are raised for cross-organizational action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Roles: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ntegrated roles and responsibilities become clear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ponsorship: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eek high level appraisal sponsorship for full life cycle coverag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Learning: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ppraisals are a major learning experience!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Some Early Integration Results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ommunication -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etter communication, shared information, fewer misunderstanding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eaming -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management and practitioners working together to improv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Productivity -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work effort more streamlined, easier training of new hire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osts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- cost reductions, cost savings being realized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Continuous Integration?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Evolving the FAA-iCMM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he model is evolving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ypes of evolution include maintenance and expansion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Next release being planned now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Maintaining the Model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71680" y="1523880"/>
            <a:ext cx="8115120" cy="430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ypes of Maintenanc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Minor enhancements to existing process area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Upgrades to current best practice in systems engineering, software engineering, acquisition; process management and process improvement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Corrections, clarifications, formatting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ources for maintenance of current conten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Change requests based on use of version 1.0 and appraisal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Evolving standards such as ISO/IEC 15504, EIA/IS 731, and ISO/IEC 15288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Related standards such as ISO 9000, DO178B, ISO/IEEE 12207,MBNQA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Validated products resulting from the CMMI effort 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Expanding the Model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38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Potential expansion of current content to integrate additional disciplines or processes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451"/>
              </a:spcBef>
              <a:buClr>
                <a:srgbClr val="0000ff"/>
              </a:buClr>
              <a:buFont typeface="Symbol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Wider life cycle coverage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, e.g. operations, deployment, logistics, …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451"/>
              </a:spcBef>
              <a:buClr>
                <a:srgbClr val="0000ff"/>
              </a:buClr>
              <a:buFont typeface="Symbol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Specialty engineering fields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, e.g. safety, security, …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451"/>
              </a:spcBef>
              <a:buClr>
                <a:srgbClr val="0000ff"/>
              </a:buClr>
              <a:buFont typeface="Symbol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Additional management areas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, e.g. strategic planning, leadership, investment management, human resource management, integrated product development, …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New areas are piloted prior to inclusion in model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Human Factors Engineering addendum developed and in trial use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Relationships with CMMI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680" y="1371240"/>
            <a:ext cx="7772400" cy="445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Proof of concep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896040" indent="-44784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AA-iCMM is proof of concept that CMM integration work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Participation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896040" indent="-44784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AA has been participating in CMMI effor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343880" indent="-28008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teering group, product development team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96040" indent="-44784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AA-iCMM lessons learned being shared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896040" indent="-44784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AA-iCMM and FAM are reference documents for CMMI effort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Relationships with CMMI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81914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AA-iCMM meets FAA business needs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or integrated process guidance in engineering, management,  and acquisition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e planned initial CMMI products support some FAA business need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AA will use relevant CMMI products when they are developed and validated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Using the Model Outside FAA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81914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AA-iCMM is not specific to the FAA.  It can benefit any organization where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905040" indent="-45252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ystems engineering, software engineering and acquisition are performed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905040" indent="-45252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ntegration of engineering processes is a goal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905040" indent="-45252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ntegrated product teams carry out engineering, management and acquisition activitie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FAA-iCMM is tailorable and expandable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FAA Critical Factors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Most critical in launching FAA’s integrated process improvement effort were: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905040" indent="-45252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ntegrated model, the FAA-iCMM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357560" indent="-28296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o guide integrated process improvement across the discipline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905040" indent="-452520">
              <a:spcBef>
                <a:spcPts val="700"/>
              </a:spcBef>
              <a:buClr>
                <a:srgbClr val="0000ff"/>
              </a:buClr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Performance goals, tied to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integrated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process improvement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357560" indent="-28296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o provide focus and demonstrate management commitment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Integrated Process Improvement</a:t>
            </a:r>
            <a:br>
              <a:rPr sz="4000"/>
            </a:br>
            <a:r>
              <a:rPr b="0" i="1" lang="en-US" sz="4000" spc="-1" strike="noStrike">
                <a:solidFill>
                  <a:srgbClr val="0000ff"/>
                </a:solidFill>
                <a:latin typeface="CG Times (W1)"/>
              </a:rPr>
              <a:t>What?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What do we mean by integrated process improvement? 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wo things: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1 - 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integrated process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improvement    (improving integrated processes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2 - integrated 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process improvement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(improving processes in an integrated way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Conclusions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s 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Software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Process Improvement enough?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t wasn’t for us.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Integrated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Process Improvement can work!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Questions?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For more information, contact 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Dr. Linda Ibrahim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ederal Aviation Administration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800 Independence Ave SW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Washington, DC 20591  USA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el: 202-267-7443  Fax: 202-267-5080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email: linda.ibrahim@faa.gov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e FAA-iCMM® and its Appraisal Method are available at: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faa.gov/aio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1. Improving Integrated Processes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What’s an integrated process?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An integrated process requires the participation of experts from more than one functional area or discipline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t’s multidisciplinary 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(not just software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Multidisciplinary Integrated Processes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ome examples: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Requirements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:  A process that involves systems and software engineers – e.g. requirements engineering a software-intensive system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cquisition Management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:  A process that involves acquisition program managers and technical project managers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Outsourcing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: A process that involves procurement and legal experts, plus engineer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Improving Integrated Processes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What’s an integrated process?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An integrated process requires the participation of experts across the full life cycl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t’s full life cycle (not just development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811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G Times (W1)"/>
              </a:rPr>
              <a:t>Full Life Cycle Integrated Processes</a:t>
            </a:r>
            <a:endParaRPr b="0" lang="en-US" sz="4000" spc="-1" strike="noStrike">
              <a:solidFill>
                <a:srgbClr val="0000ff"/>
              </a:solidFill>
              <a:latin typeface="CG Times (W1)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71680" y="1523880"/>
            <a:ext cx="8191440" cy="430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ome example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cross phases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:  A process performed across life cycle phases, e.g.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850320" indent="-425160">
              <a:spcBef>
                <a:spcPts val="601"/>
              </a:spcBef>
              <a:buClr>
                <a:srgbClr val="0000ff"/>
              </a:buClr>
              <a:buFont typeface="Symbol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ransition from a supplier/developer to a maintenance/ support organization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50320" indent="-425160">
              <a:spcBef>
                <a:spcPts val="601"/>
              </a:spcBef>
              <a:buClr>
                <a:srgbClr val="0000ff"/>
              </a:buClr>
              <a:buFont typeface="Symbol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deployment from a supplier/developer to operations. 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503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(Or just throw it over the fence – not my problem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In all phases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: A process performed continuously across all life cycle phases,e.g.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850320" indent="-425160">
              <a:spcBef>
                <a:spcPts val="601"/>
              </a:spcBef>
              <a:buClr>
                <a:srgbClr val="0000ff"/>
              </a:buClr>
              <a:buFont typeface="Symbol" charset="2"/>
              <a:buChar char="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ommunication with the customer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24T11:12:32Z</dcterms:created>
  <dc:creator>linda</dc:creator>
  <dc:description/>
  <dc:language>en-US</dc:language>
  <cp:lastModifiedBy>AIO</cp:lastModifiedBy>
  <cp:lastPrinted>1999-11-26T14:51:45Z</cp:lastPrinted>
  <dcterms:modified xsi:type="dcterms:W3CDTF">1999-11-26T15:55:51Z</dcterms:modified>
  <cp:revision>185</cp:revision>
  <dc:subject>Exec class</dc:subject>
  <dc:title>Process Improvement at the FAA</dc:title>
</cp:coreProperties>
</file>