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16A-9A4E-4936-8B2B-C9ABAE47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06D-3140-4823-814F-18AB4D33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FFA-C03B-46CC-A7BF-8396F94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BD3-35A7-4695-B757-4E6678B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1B9-984E-4045-BCEE-87DA91F3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289-CD65-4A7C-927D-C14B9A9D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51B-9AF2-4B95-85D2-BF9D531E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6B4-07BA-46C8-AEB5-FF6E5F4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6EA-AD08-43AD-83C0-94020EB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7DC-6384-4D7B-A79A-14F6B9D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B67-C2A6-477A-9515-CBE6B54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251-AF6B-427B-ADAF-9584B82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2D1-C13B-4093-ADE4-9CCE4B8E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image" Target="../media/image10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IT Ownership Cos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nual IT cost across enterprise boundaries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captured in a way to show IT investment impac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2480000">
            <a:off x="5032440" y="2799720"/>
            <a:ext cx="922320" cy="191880"/>
          </a:xfrm>
          <a:prstGeom prst="rightArrow">
            <a:avLst>
              <a:gd name="adj1" fmla="val 50000"/>
              <a:gd name="adj2" fmla="val 12016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1262160" cy="132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24382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256600">
            <a:off x="3198600" y="2127240"/>
            <a:ext cx="990360" cy="181080"/>
          </a:xfrm>
          <a:prstGeom prst="rightArrow">
            <a:avLst>
              <a:gd name="adj1" fmla="val 50000"/>
              <a:gd name="adj2" fmla="val 13673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181480" y="2437920"/>
            <a:ext cx="1447920" cy="228600"/>
          </a:xfrm>
          <a:prstGeom prst="rightArrow">
            <a:avLst>
              <a:gd name="adj1" fmla="val 48611"/>
              <a:gd name="adj2" fmla="val 148464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99800">
            <a:off x="5028840" y="2133360"/>
            <a:ext cx="846000" cy="206280"/>
          </a:xfrm>
          <a:prstGeom prst="rightArrow">
            <a:avLst>
              <a:gd name="adj1" fmla="val 50000"/>
              <a:gd name="adj2" fmla="val 10253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005000">
            <a:off x="3200400" y="2819160"/>
            <a:ext cx="1057320" cy="204840"/>
          </a:xfrm>
          <a:prstGeom prst="rightArrow">
            <a:avLst>
              <a:gd name="adj1" fmla="val 50000"/>
              <a:gd name="adj2" fmla="val 129042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828800"/>
            <a:ext cx="175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nform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2680" y="30481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8360" y="2438280"/>
            <a:ext cx="192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xternal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1960" y="190512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T Ven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3560" y="312408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ystem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7600" y="2438280"/>
            <a:ext cx="181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ther Business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9880"/>
            <a:ext cx="8229600" cy="281952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038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HW,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876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gmt, Tech., &amp; Admi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5410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dden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(or indirect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334120"/>
            <a:ext cx="44197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25909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624852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End User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6248520"/>
            <a:ext cx="556272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Peer and self support, casual learning, and application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86728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Down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5867280"/>
            <a:ext cx="4572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Lost productivity due to network and system un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838440" cy="72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4114800"/>
            <a:ext cx="15242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 = Information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W =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W =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S = Inform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3800" y="990360"/>
            <a:ext cx="8661240" cy="570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9360" y="152280"/>
            <a:ext cx="86742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 of IT Ownership Cost to D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48360" y="1066680"/>
          <a:ext cx="357480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66680"/>
                    <a:ext cx="3574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2920" y="106668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066680"/>
            <a:ext cx="3574800" cy="1219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1066680"/>
            <a:ext cx="10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762120"/>
            <a:ext cx="1524240" cy="1218960"/>
          </a:xfrm>
          <a:prstGeom prst="cloudCallout">
            <a:avLst>
              <a:gd name="adj1" fmla="val -95000"/>
              <a:gd name="adj2" fmla="val 7604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9907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de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558600">
            <a:off x="1142640" y="342828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18181"/>
                <a:lnTo>
                  <a:pt x="383" y="13650"/>
                </a:lnTo>
                <a:arcTo wR="10800" hR="10800" stAng="9881819" swAng="1171818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715000"/>
            <a:ext cx="2743200" cy="762120"/>
          </a:xfrm>
          <a:prstGeom prst="wedgeRoundRectCallout">
            <a:avLst>
              <a:gd name="adj1" fmla="val -44384"/>
              <a:gd name="adj2" fmla="val -105000"/>
              <a:gd name="adj3" fmla="val 16667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organization, IS process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-user organ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/HW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2640" y="3657600"/>
            <a:ext cx="2514600" cy="2743200"/>
          </a:xfrm>
          <a:prstGeom prst="wedgeRectCallout">
            <a:avLst>
              <a:gd name="adj1" fmla="val -61236"/>
              <a:gd name="adj2" fmla="val -62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38960" y="3809880"/>
            <a:ext cx="2365200" cy="2414880"/>
            <a:chOff x="6438960" y="3809880"/>
            <a:chExt cx="2365200" cy="2414880"/>
          </a:xfrm>
        </p:grpSpPr>
        <p:sp>
          <p:nvSpPr>
            <p:cNvPr id="93" name=""/>
            <p:cNvSpPr/>
            <p:nvPr/>
          </p:nvSpPr>
          <p:spPr>
            <a:xfrm>
              <a:off x="6438960" y="38098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Technology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8960" y="41144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tralized network management; scalable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0400" y="47242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rocess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0400" y="50288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aster/recovery planning; procurement centralization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38960" y="556236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eople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8960" y="586728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nd end-user training on operating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774720" cy="80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1245800">
            <a:off x="380520" y="4952160"/>
            <a:ext cx="1295640" cy="1219320"/>
          </a:xfrm>
          <a:prstGeom prst="cloudCallout">
            <a:avLst>
              <a:gd name="adj1" fmla="val -6037"/>
              <a:gd name="adj2" fmla="val 90078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981080" cy="1447920"/>
          </a:xfrm>
          <a:prstGeom prst="hexagon">
            <a:avLst>
              <a:gd name="adj" fmla="val 19123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Compile IT Ownership Cos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5651000">
            <a:off x="202320" y="235116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2477821"/>
                <a:lnTo>
                  <a:pt x="1077" y="15501"/>
                </a:lnTo>
                <a:arcTo wR="10800" hR="10800" stAng="9251803" swAng="12477821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048120"/>
            <a:ext cx="2057400" cy="1447560"/>
          </a:xfrm>
          <a:prstGeom prst="hexagon">
            <a:avLst>
              <a:gd name="adj" fmla="val 16996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Free up capital funds for IT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3162800">
            <a:off x="1714320" y="426168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886200"/>
            <a:ext cx="2057400" cy="1447920"/>
          </a:xfrm>
          <a:prstGeom prst="hexagon">
            <a:avLst>
              <a:gd name="adj" fmla="val 18748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Reduce Enterpris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9427200">
            <a:off x="4330080" y="416052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7840" y="3124080"/>
            <a:ext cx="1981440" cy="1393920"/>
          </a:xfrm>
          <a:prstGeom prst="hexagon">
            <a:avLst>
              <a:gd name="adj" fmla="val 16999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mplement IT Ownership Cost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20400">
            <a:off x="4190760" y="239544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362320"/>
            <a:ext cx="1981080" cy="1447560"/>
          </a:xfrm>
          <a:prstGeom prst="hexagon">
            <a:avLst>
              <a:gd name="adj" fmla="val 18095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dentify avoidable IT cost d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143600">
            <a:off x="2120400" y="153792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0381367"/>
                <a:lnTo>
                  <a:pt x="137" y="9085"/>
                </a:lnTo>
                <a:arcTo wR="10800" hR="10800" stAng="-10251743" swAng="10381367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960" y="6492960"/>
            <a:ext cx="23749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dapted from GartnerGroup TCOManager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Ques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 TOC computations and methodologies emerging from commercial industry translate to the DOD environment th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port investment strategies by providing an IT investment cost baseline effective for DOD infrastructure modernization decision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uce the likelihood of overlooking critical DOD IT cost drivers associated with planned or existing IT infrastructure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tinguish DOD IT expenditures that are avoidable from those that are essential to required operational and organizational performanc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6134040"/>
            <a:ext cx="1523880" cy="4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C = Total Ownership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Roadma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5040" y="2247840"/>
            <a:ext cx="4419720" cy="10051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nvestigate current IT Ownership Cost initiati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DOD and commercial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CC vs TOC vs TCO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st-of-breed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619440"/>
            <a:ext cx="4415040" cy="100512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Evaluate IT Ownership Cost tools/approa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a technical and business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Case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40280"/>
            <a:ext cx="4415040" cy="1004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Develop DOD-relevant context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pre- and post-framework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3360" y="3213000"/>
            <a:ext cx="533160" cy="1576440"/>
          </a:xfrm>
          <a:prstGeom prst="rightArrow">
            <a:avLst>
              <a:gd name="adj1" fmla="val 37565"/>
              <a:gd name="adj2" fmla="val 4523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720" y="176544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880" y="1600200"/>
            <a:ext cx="2264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27813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1529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47380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27280"/>
            <a:ext cx="4800600" cy="45464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238560"/>
            <a:ext cx="457200" cy="38088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610160"/>
            <a:ext cx="457200" cy="34272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886200"/>
            <a:ext cx="2057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2971800" cy="37339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96200" y="2770200"/>
            <a:ext cx="415800" cy="32688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352680"/>
            <a:ext cx="496800" cy="489240"/>
          </a:xfrm>
          <a:prstGeom prst="diamond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880" y="293364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29560" y="309708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27840" y="2770200"/>
            <a:ext cx="331920" cy="326880"/>
          </a:xfrm>
          <a:prstGeom prst="can">
            <a:avLst>
              <a:gd name="adj" fmla="val 250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2933640"/>
            <a:ext cx="5000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3543480"/>
            <a:ext cx="1127160" cy="23652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3886200"/>
            <a:ext cx="2286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putation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(i.e., W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3360" y="3251160"/>
            <a:ext cx="417600" cy="246240"/>
          </a:xfrm>
          <a:prstGeom prst="flowChartPunchedTap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9880" y="2133720"/>
            <a:ext cx="2193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Eval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0" y="4495680"/>
          <a:ext cx="914400" cy="83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495680"/>
                    <a:ext cx="9144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946920" y="5929200"/>
            <a:ext cx="1942920" cy="77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CC = Life Cycle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CO = Total Cost of Own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BS = Work Breakdown 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ison of DoD Vs Commercial Ownership Cost Techniqu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0640" y="2224080"/>
            <a:ext cx="2259000" cy="3919680"/>
            <a:chOff x="6200640" y="2224080"/>
            <a:chExt cx="2259000" cy="3919680"/>
          </a:xfrm>
        </p:grpSpPr>
        <p:grpSp>
          <p:nvGrpSpPr>
            <p:cNvPr id="147" name=""/>
            <p:cNvGrpSpPr/>
            <p:nvPr/>
          </p:nvGrpSpPr>
          <p:grpSpPr>
            <a:xfrm>
              <a:off x="6375240" y="2224080"/>
              <a:ext cx="2084400" cy="3919680"/>
              <a:chOff x="6375240" y="2224080"/>
              <a:chExt cx="2084400" cy="3919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6375240" y="2224080"/>
                <a:ext cx="2084400" cy="3753000"/>
                <a:chOff x="6375240" y="2224080"/>
                <a:chExt cx="2084400" cy="37530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6375240" y="2224080"/>
                  <a:ext cx="2084400" cy="3753000"/>
                  <a:chOff x="6375240" y="2224080"/>
                  <a:chExt cx="2084400" cy="37530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3299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194680" y="2224080"/>
                    <a:ext cx="26496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364">
                        <a:moveTo>
                          <a:pt x="0" y="168"/>
                        </a:moveTo>
                        <a:lnTo>
                          <a:pt x="167" y="0"/>
                        </a:lnTo>
                        <a:lnTo>
                          <a:pt x="167" y="2196"/>
                        </a:lnTo>
                        <a:lnTo>
                          <a:pt x="0" y="2364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00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8194680" y="2490840"/>
                    <a:ext cx="1440" cy="3486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6991200" y="2254320"/>
                  <a:ext cx="982800" cy="54000"/>
                </a:xfrm>
                <a:custGeom>
                  <a:avLst/>
                  <a:gdLst/>
                  <a:ahLst/>
                  <a:rect l="l" t="t" r="r" b="b"/>
                  <a:pathLst>
                    <a:path w="619" h="34">
                      <a:moveTo>
                        <a:pt x="0" y="34"/>
                      </a:moveTo>
                      <a:lnTo>
                        <a:pt x="39" y="29"/>
                      </a:lnTo>
                      <a:lnTo>
                        <a:pt x="58" y="19"/>
                      </a:lnTo>
                      <a:lnTo>
                        <a:pt x="72" y="10"/>
                      </a:lnTo>
                      <a:lnTo>
                        <a:pt x="120" y="19"/>
                      </a:lnTo>
                      <a:lnTo>
                        <a:pt x="144" y="24"/>
                      </a:lnTo>
                      <a:lnTo>
                        <a:pt x="168" y="24"/>
                      </a:lnTo>
                      <a:lnTo>
                        <a:pt x="187" y="29"/>
                      </a:lnTo>
                      <a:lnTo>
                        <a:pt x="202" y="24"/>
                      </a:lnTo>
                      <a:lnTo>
                        <a:pt x="230" y="10"/>
                      </a:lnTo>
                      <a:lnTo>
                        <a:pt x="245" y="15"/>
                      </a:lnTo>
                      <a:lnTo>
                        <a:pt x="254" y="19"/>
                      </a:lnTo>
                      <a:lnTo>
                        <a:pt x="264" y="19"/>
                      </a:lnTo>
                      <a:lnTo>
                        <a:pt x="283" y="19"/>
                      </a:lnTo>
                      <a:lnTo>
                        <a:pt x="307" y="29"/>
                      </a:lnTo>
                      <a:lnTo>
                        <a:pt x="317" y="24"/>
                      </a:lnTo>
                      <a:lnTo>
                        <a:pt x="331" y="19"/>
                      </a:lnTo>
                      <a:lnTo>
                        <a:pt x="345" y="24"/>
                      </a:lnTo>
                      <a:lnTo>
                        <a:pt x="350" y="29"/>
                      </a:lnTo>
                      <a:lnTo>
                        <a:pt x="350" y="34"/>
                      </a:lnTo>
                      <a:lnTo>
                        <a:pt x="350" y="34"/>
                      </a:lnTo>
                      <a:lnTo>
                        <a:pt x="355" y="34"/>
                      </a:lnTo>
                      <a:lnTo>
                        <a:pt x="365" y="29"/>
                      </a:lnTo>
                      <a:lnTo>
                        <a:pt x="379" y="24"/>
                      </a:lnTo>
                      <a:lnTo>
                        <a:pt x="393" y="29"/>
                      </a:lnTo>
                      <a:lnTo>
                        <a:pt x="408" y="29"/>
                      </a:lnTo>
                      <a:lnTo>
                        <a:pt x="422" y="29"/>
                      </a:lnTo>
                      <a:lnTo>
                        <a:pt x="436" y="34"/>
                      </a:lnTo>
                      <a:lnTo>
                        <a:pt x="465" y="29"/>
                      </a:lnTo>
                      <a:lnTo>
                        <a:pt x="494" y="29"/>
                      </a:lnTo>
                      <a:lnTo>
                        <a:pt x="508" y="24"/>
                      </a:lnTo>
                      <a:lnTo>
                        <a:pt x="518" y="24"/>
                      </a:lnTo>
                      <a:lnTo>
                        <a:pt x="528" y="24"/>
                      </a:lnTo>
                      <a:lnTo>
                        <a:pt x="537" y="34"/>
                      </a:lnTo>
                      <a:lnTo>
                        <a:pt x="552" y="29"/>
                      </a:lnTo>
                      <a:lnTo>
                        <a:pt x="561" y="24"/>
                      </a:lnTo>
                      <a:lnTo>
                        <a:pt x="571" y="24"/>
                      </a:lnTo>
                      <a:lnTo>
                        <a:pt x="590" y="24"/>
                      </a:lnTo>
                      <a:lnTo>
                        <a:pt x="604" y="24"/>
                      </a:lnTo>
                      <a:lnTo>
                        <a:pt x="614" y="19"/>
                      </a:lnTo>
                      <a:lnTo>
                        <a:pt x="619" y="15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05680" y="2360520"/>
                <a:ext cx="1217520" cy="3783240"/>
                <a:chOff x="7105680" y="2360520"/>
                <a:chExt cx="1217520" cy="37832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7105680" y="4948200"/>
                  <a:ext cx="1217520" cy="1195560"/>
                  <a:chOff x="7105680" y="4948200"/>
                  <a:chExt cx="1217520" cy="1195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026560" y="494820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8026560" y="524520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105680" y="4089240"/>
                  <a:ext cx="1217520" cy="1194120"/>
                  <a:chOff x="7105680" y="4089240"/>
                  <a:chExt cx="1217520" cy="1194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026560" y="4089240"/>
                    <a:ext cx="29664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2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5"/>
                        </a:lnTo>
                        <a:lnTo>
                          <a:pt x="0" y="752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26560" y="4386240"/>
                    <a:ext cx="1440" cy="897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05680" y="3228840"/>
                  <a:ext cx="1217520" cy="1195560"/>
                  <a:chOff x="7105680" y="3228840"/>
                  <a:chExt cx="1217520" cy="11955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26560" y="322884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026560" y="352584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105680" y="2360520"/>
                  <a:ext cx="1217520" cy="1195560"/>
                  <a:chOff x="7105680" y="2360520"/>
                  <a:chExt cx="1217520" cy="11955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026560" y="236052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026560" y="265752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" name=""/>
            <p:cNvGrpSpPr/>
            <p:nvPr/>
          </p:nvGrpSpPr>
          <p:grpSpPr>
            <a:xfrm>
              <a:off x="6200640" y="2360520"/>
              <a:ext cx="2122560" cy="549360"/>
              <a:chOff x="6200640" y="2360520"/>
              <a:chExt cx="2122560" cy="549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200640" y="2505240"/>
                <a:ext cx="1986120" cy="404640"/>
                <a:chOff x="6200640" y="2505240"/>
                <a:chExt cx="1986120" cy="404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6200640" y="2505240"/>
                  <a:ext cx="1986120" cy="404640"/>
                  <a:chOff x="6200640" y="2505240"/>
                  <a:chExt cx="1986120" cy="4046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ffd6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18640" y="2505240"/>
                    <a:ext cx="168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5">
                        <a:moveTo>
                          <a:pt x="0" y="106"/>
                        </a:moveTo>
                        <a:lnTo>
                          <a:pt x="106" y="0"/>
                        </a:lnTo>
                        <a:lnTo>
                          <a:pt x="106" y="149"/>
                        </a:lnTo>
                        <a:lnTo>
                          <a:pt x="0" y="255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cda4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018640" y="2673360"/>
                    <a:ext cx="1440" cy="236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6451560" y="2521080"/>
                  <a:ext cx="13780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5240" y="2529000"/>
                  <a:ext cx="1164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ormation Techn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59400" y="2360520"/>
                <a:ext cx="1963800" cy="152640"/>
                <a:chOff x="6359400" y="2360520"/>
                <a:chExt cx="1963800" cy="15264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359400" y="2360520"/>
                  <a:ext cx="1963800" cy="144720"/>
                  <a:chOff x="6359400" y="2360520"/>
                  <a:chExt cx="1963800" cy="144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186760" y="2360520"/>
                    <a:ext cx="136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1">
                        <a:moveTo>
                          <a:pt x="0" y="87"/>
                        </a:moveTo>
                        <a:lnTo>
                          <a:pt x="86" y="0"/>
                        </a:lnTo>
                        <a:lnTo>
                          <a:pt x="86" y="5"/>
                        </a:lnTo>
                        <a:lnTo>
                          <a:pt x="0" y="91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9a9a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86760" y="2498760"/>
                    <a:ext cx="1440" cy="6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6595920" y="2360520"/>
                  <a:ext cx="1378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14960" y="2368440"/>
                  <a:ext cx="538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per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8012160" y="2513160"/>
            <a:ext cx="174600" cy="3638520"/>
            <a:chOff x="8012160" y="2513160"/>
            <a:chExt cx="174600" cy="3638520"/>
          </a:xfrm>
        </p:grpSpPr>
        <p:sp>
          <p:nvSpPr>
            <p:cNvPr id="208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0" y="110"/>
                  </a:moveTo>
                  <a:lnTo>
                    <a:pt x="110" y="0"/>
                  </a:lnTo>
                  <a:lnTo>
                    <a:pt x="110" y="2182"/>
                  </a:lnTo>
                  <a:lnTo>
                    <a:pt x="0" y="229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2160" y="2687760"/>
              <a:ext cx="1440" cy="346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00640" y="2673360"/>
            <a:ext cx="1825920" cy="3486240"/>
            <a:chOff x="6200640" y="2673360"/>
            <a:chExt cx="1825920" cy="3486240"/>
          </a:xfrm>
        </p:grpSpPr>
        <p:sp>
          <p:nvSpPr>
            <p:cNvPr id="215" name=""/>
            <p:cNvSpPr/>
            <p:nvPr/>
          </p:nvSpPr>
          <p:spPr>
            <a:xfrm>
              <a:off x="7097760" y="2673360"/>
              <a:ext cx="92880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2120" y="2681280"/>
              <a:ext cx="66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00640" y="2673360"/>
              <a:ext cx="90504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7080" y="26812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9840" y="280980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0640" y="3548160"/>
              <a:ext cx="92736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07120" y="4446720"/>
              <a:ext cx="920880" cy="8902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7760" y="4438800"/>
              <a:ext cx="920880" cy="852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7760" y="3548160"/>
              <a:ext cx="92088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5268960"/>
              <a:ext cx="93528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7120" y="5268960"/>
              <a:ext cx="89856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089840" y="2681280"/>
            <a:ext cx="914400" cy="85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681280"/>
            <a:ext cx="928800" cy="86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15040" y="4438800"/>
            <a:ext cx="874800" cy="822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438800"/>
            <a:ext cx="905040" cy="836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13320" y="31226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9960" y="3122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1360" y="3860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996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50200" y="556560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5080" y="56102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39"/>
                </a:lnTo>
                <a:lnTo>
                  <a:pt x="58" y="106"/>
                </a:lnTo>
                <a:lnTo>
                  <a:pt x="96" y="139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5080" y="4757760"/>
            <a:ext cx="19080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3920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19800" y="386856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2464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35920" y="1523880"/>
            <a:ext cx="1538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1480" y="1539720"/>
            <a:ext cx="117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T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3280" y="1722600"/>
            <a:ext cx="109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OIE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64120" y="3168720"/>
            <a:ext cx="243000" cy="112680"/>
            <a:chOff x="5964120" y="3168720"/>
            <a:chExt cx="243000" cy="112680"/>
          </a:xfrm>
        </p:grpSpPr>
        <p:sp>
          <p:nvSpPr>
            <p:cNvPr id="244" name=""/>
            <p:cNvSpPr/>
            <p:nvPr/>
          </p:nvSpPr>
          <p:spPr>
            <a:xfrm>
              <a:off x="5964120" y="3205080"/>
              <a:ext cx="144720" cy="3168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0"/>
                  </a:moveTo>
                  <a:lnTo>
                    <a:pt x="0" y="15"/>
                  </a:lnTo>
                  <a:lnTo>
                    <a:pt x="91" y="20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3000" y="316872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71"/>
                  </a:moveTo>
                  <a:lnTo>
                    <a:pt x="72" y="33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445600" y="16304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7" y="106"/>
                </a:lnTo>
                <a:lnTo>
                  <a:pt x="96" y="139"/>
                </a:lnTo>
                <a:lnTo>
                  <a:pt x="81" y="86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5156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7"/>
                </a:lnTo>
                <a:lnTo>
                  <a:pt x="24" y="140"/>
                </a:lnTo>
                <a:lnTo>
                  <a:pt x="57" y="106"/>
                </a:lnTo>
                <a:lnTo>
                  <a:pt x="96" y="140"/>
                </a:lnTo>
                <a:lnTo>
                  <a:pt x="81" y="87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3080" y="3776760"/>
            <a:ext cx="17589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8760" y="381492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6160" y="397512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1320" y="4127400"/>
            <a:ext cx="151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server in contracts offic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9280" y="4621320"/>
            <a:ext cx="17571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43040" y="4651200"/>
            <a:ext cx="164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Un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8340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1640" y="498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4973760"/>
            <a:ext cx="167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orkstation in base hospit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5580000"/>
            <a:ext cx="17589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0520" y="571032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Hidden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6560" y="5862600"/>
            <a:ext cx="137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End User Inefficiency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9040" y="2946240"/>
            <a:ext cx="17571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0765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Dir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1320" y="3254400"/>
            <a:ext cx="163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eapons system process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79960" y="1676520"/>
            <a:ext cx="433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169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972040" y="3959280"/>
            <a:ext cx="243000" cy="114120"/>
            <a:chOff x="5972040" y="3959280"/>
            <a:chExt cx="243000" cy="114120"/>
          </a:xfrm>
        </p:grpSpPr>
        <p:sp>
          <p:nvSpPr>
            <p:cNvPr id="266" name=""/>
            <p:cNvSpPr/>
            <p:nvPr/>
          </p:nvSpPr>
          <p:spPr>
            <a:xfrm>
              <a:off x="5972040" y="39974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0920" y="3959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79960" y="4811760"/>
            <a:ext cx="243000" cy="114120"/>
            <a:chOff x="5979960" y="4811760"/>
            <a:chExt cx="243000" cy="114120"/>
          </a:xfrm>
        </p:grpSpPr>
        <p:sp>
          <p:nvSpPr>
            <p:cNvPr id="269" name=""/>
            <p:cNvSpPr/>
            <p:nvPr/>
          </p:nvSpPr>
          <p:spPr>
            <a:xfrm>
              <a:off x="5979960" y="48499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08840" y="48117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972040" y="5800680"/>
            <a:ext cx="243000" cy="114480"/>
            <a:chOff x="5972040" y="5800680"/>
            <a:chExt cx="243000" cy="114480"/>
          </a:xfrm>
        </p:grpSpPr>
        <p:sp>
          <p:nvSpPr>
            <p:cNvPr id="272" name=""/>
            <p:cNvSpPr/>
            <p:nvPr/>
          </p:nvSpPr>
          <p:spPr>
            <a:xfrm>
              <a:off x="5972040" y="58388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5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0920" y="58006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054320" y="1949400"/>
            <a:ext cx="4748400" cy="4444920"/>
          </a:xfrm>
          <a:prstGeom prst="rect">
            <a:avLst/>
          </a:prstGeom>
          <a:noFill/>
          <a:ln w="30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54320" y="1943280"/>
            <a:ext cx="227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06320" y="205740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cc"/>
                </a:solidFill>
                <a:latin typeface="Arial"/>
              </a:rPr>
              <a:t>Total DoD C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96320" y="3122640"/>
            <a:ext cx="471240" cy="2176560"/>
            <a:chOff x="7996320" y="3122640"/>
            <a:chExt cx="471240" cy="2176560"/>
          </a:xfrm>
        </p:grpSpPr>
        <p:sp>
          <p:nvSpPr>
            <p:cNvPr id="278" name=""/>
            <p:cNvSpPr/>
            <p:nvPr/>
          </p:nvSpPr>
          <p:spPr>
            <a:xfrm flipV="1">
              <a:off x="8018640" y="3122640"/>
              <a:ext cx="448920" cy="43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996320" y="3989520"/>
              <a:ext cx="471240" cy="45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018640" y="4849920"/>
              <a:ext cx="434880" cy="4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9480" y="3962520"/>
            <a:ext cx="3048120" cy="2566440"/>
            <a:chOff x="609480" y="3962520"/>
            <a:chExt cx="3048120" cy="2566440"/>
          </a:xfrm>
        </p:grpSpPr>
        <p:grpSp>
          <p:nvGrpSpPr>
            <p:cNvPr id="282" name=""/>
            <p:cNvGrpSpPr/>
            <p:nvPr/>
          </p:nvGrpSpPr>
          <p:grpSpPr>
            <a:xfrm>
              <a:off x="609480" y="3962520"/>
              <a:ext cx="3047760" cy="2566440"/>
              <a:chOff x="609480" y="3962520"/>
              <a:chExt cx="3047760" cy="256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2130120" y="5214600"/>
                <a:ext cx="1527120" cy="1314360"/>
              </a:xfrm>
              <a:custGeom>
                <a:avLst/>
                <a:gdLst/>
                <a:ahLst/>
                <a:rect l="l" t="t" r="r" b="b"/>
                <a:pathLst>
                  <a:path w="2152" h="1571">
                    <a:moveTo>
                      <a:pt x="0" y="1242"/>
                    </a:moveTo>
                    <a:lnTo>
                      <a:pt x="0" y="1571"/>
                    </a:lnTo>
                    <a:lnTo>
                      <a:pt x="2152" y="1571"/>
                    </a:lnTo>
                    <a:lnTo>
                      <a:pt x="2150" y="0"/>
                    </a:lnTo>
                    <a:lnTo>
                      <a:pt x="1958" y="0"/>
                    </a:lnTo>
                    <a:lnTo>
                      <a:pt x="1949" y="30"/>
                    </a:lnTo>
                    <a:lnTo>
                      <a:pt x="1949" y="52"/>
                    </a:lnTo>
                    <a:lnTo>
                      <a:pt x="1955" y="82"/>
                    </a:lnTo>
                    <a:lnTo>
                      <a:pt x="1966" y="114"/>
                    </a:lnTo>
                    <a:lnTo>
                      <a:pt x="1977" y="152"/>
                    </a:lnTo>
                    <a:lnTo>
                      <a:pt x="1983" y="182"/>
                    </a:lnTo>
                    <a:lnTo>
                      <a:pt x="1983" y="209"/>
                    </a:lnTo>
                    <a:lnTo>
                      <a:pt x="1979" y="239"/>
                    </a:lnTo>
                    <a:lnTo>
                      <a:pt x="1970" y="267"/>
                    </a:lnTo>
                    <a:lnTo>
                      <a:pt x="1949" y="294"/>
                    </a:lnTo>
                    <a:lnTo>
                      <a:pt x="1925" y="318"/>
                    </a:lnTo>
                    <a:lnTo>
                      <a:pt x="1899" y="339"/>
                    </a:lnTo>
                    <a:lnTo>
                      <a:pt x="1869" y="354"/>
                    </a:lnTo>
                    <a:lnTo>
                      <a:pt x="1834" y="366"/>
                    </a:lnTo>
                    <a:lnTo>
                      <a:pt x="1802" y="373"/>
                    </a:lnTo>
                    <a:lnTo>
                      <a:pt x="1758" y="374"/>
                    </a:lnTo>
                    <a:lnTo>
                      <a:pt x="1706" y="371"/>
                    </a:lnTo>
                    <a:lnTo>
                      <a:pt x="1672" y="366"/>
                    </a:lnTo>
                    <a:lnTo>
                      <a:pt x="1643" y="359"/>
                    </a:lnTo>
                    <a:lnTo>
                      <a:pt x="1615" y="344"/>
                    </a:lnTo>
                    <a:lnTo>
                      <a:pt x="1579" y="319"/>
                    </a:lnTo>
                    <a:lnTo>
                      <a:pt x="1557" y="296"/>
                    </a:lnTo>
                    <a:lnTo>
                      <a:pt x="1537" y="271"/>
                    </a:lnTo>
                    <a:lnTo>
                      <a:pt x="1526" y="244"/>
                    </a:lnTo>
                    <a:lnTo>
                      <a:pt x="1518" y="219"/>
                    </a:lnTo>
                    <a:lnTo>
                      <a:pt x="1518" y="191"/>
                    </a:lnTo>
                    <a:lnTo>
                      <a:pt x="1522" y="162"/>
                    </a:lnTo>
                    <a:lnTo>
                      <a:pt x="1529" y="135"/>
                    </a:lnTo>
                    <a:lnTo>
                      <a:pt x="1537" y="110"/>
                    </a:lnTo>
                    <a:lnTo>
                      <a:pt x="1546" y="84"/>
                    </a:lnTo>
                    <a:lnTo>
                      <a:pt x="1552" y="57"/>
                    </a:lnTo>
                    <a:lnTo>
                      <a:pt x="1552" y="33"/>
                    </a:lnTo>
                    <a:lnTo>
                      <a:pt x="1544" y="7"/>
                    </a:lnTo>
                    <a:lnTo>
                      <a:pt x="1184" y="7"/>
                    </a:lnTo>
                    <a:lnTo>
                      <a:pt x="1187" y="62"/>
                    </a:lnTo>
                    <a:lnTo>
                      <a:pt x="1184" y="100"/>
                    </a:lnTo>
                    <a:lnTo>
                      <a:pt x="1182" y="132"/>
                    </a:lnTo>
                    <a:lnTo>
                      <a:pt x="1182" y="160"/>
                    </a:lnTo>
                    <a:lnTo>
                      <a:pt x="1178" y="191"/>
                    </a:lnTo>
                    <a:lnTo>
                      <a:pt x="1171" y="221"/>
                    </a:lnTo>
                    <a:lnTo>
                      <a:pt x="1161" y="241"/>
                    </a:lnTo>
                    <a:lnTo>
                      <a:pt x="1148" y="259"/>
                    </a:lnTo>
                    <a:lnTo>
                      <a:pt x="1130" y="274"/>
                    </a:lnTo>
                    <a:lnTo>
                      <a:pt x="1109" y="286"/>
                    </a:lnTo>
                    <a:lnTo>
                      <a:pt x="1085" y="292"/>
                    </a:lnTo>
                    <a:lnTo>
                      <a:pt x="1059" y="296"/>
                    </a:lnTo>
                    <a:lnTo>
                      <a:pt x="1035" y="298"/>
                    </a:lnTo>
                    <a:lnTo>
                      <a:pt x="1003" y="298"/>
                    </a:lnTo>
                    <a:lnTo>
                      <a:pt x="974" y="294"/>
                    </a:lnTo>
                    <a:lnTo>
                      <a:pt x="950" y="292"/>
                    </a:lnTo>
                    <a:lnTo>
                      <a:pt x="918" y="291"/>
                    </a:lnTo>
                    <a:lnTo>
                      <a:pt x="885" y="287"/>
                    </a:lnTo>
                    <a:lnTo>
                      <a:pt x="847" y="287"/>
                    </a:lnTo>
                    <a:lnTo>
                      <a:pt x="816" y="291"/>
                    </a:lnTo>
                    <a:lnTo>
                      <a:pt x="784" y="294"/>
                    </a:lnTo>
                    <a:lnTo>
                      <a:pt x="751" y="303"/>
                    </a:lnTo>
                    <a:lnTo>
                      <a:pt x="727" y="314"/>
                    </a:lnTo>
                    <a:lnTo>
                      <a:pt x="701" y="329"/>
                    </a:lnTo>
                    <a:lnTo>
                      <a:pt x="684" y="349"/>
                    </a:lnTo>
                    <a:lnTo>
                      <a:pt x="667" y="371"/>
                    </a:lnTo>
                    <a:lnTo>
                      <a:pt x="660" y="393"/>
                    </a:lnTo>
                    <a:lnTo>
                      <a:pt x="656" y="418"/>
                    </a:lnTo>
                    <a:lnTo>
                      <a:pt x="660" y="443"/>
                    </a:lnTo>
                    <a:lnTo>
                      <a:pt x="662" y="470"/>
                    </a:lnTo>
                    <a:lnTo>
                      <a:pt x="660" y="498"/>
                    </a:lnTo>
                    <a:lnTo>
                      <a:pt x="654" y="520"/>
                    </a:lnTo>
                    <a:lnTo>
                      <a:pt x="647" y="543"/>
                    </a:lnTo>
                    <a:lnTo>
                      <a:pt x="636" y="565"/>
                    </a:lnTo>
                    <a:lnTo>
                      <a:pt x="621" y="580"/>
                    </a:lnTo>
                    <a:lnTo>
                      <a:pt x="597" y="595"/>
                    </a:lnTo>
                    <a:lnTo>
                      <a:pt x="567" y="605"/>
                    </a:lnTo>
                    <a:lnTo>
                      <a:pt x="537" y="613"/>
                    </a:lnTo>
                    <a:lnTo>
                      <a:pt x="509" y="620"/>
                    </a:lnTo>
                    <a:lnTo>
                      <a:pt x="480" y="627"/>
                    </a:lnTo>
                    <a:lnTo>
                      <a:pt x="441" y="633"/>
                    </a:lnTo>
                    <a:lnTo>
                      <a:pt x="411" y="638"/>
                    </a:lnTo>
                    <a:lnTo>
                      <a:pt x="379" y="647"/>
                    </a:lnTo>
                    <a:lnTo>
                      <a:pt x="353" y="655"/>
                    </a:lnTo>
                    <a:lnTo>
                      <a:pt x="327" y="665"/>
                    </a:lnTo>
                    <a:lnTo>
                      <a:pt x="307" y="679"/>
                    </a:lnTo>
                    <a:lnTo>
                      <a:pt x="288" y="692"/>
                    </a:lnTo>
                    <a:lnTo>
                      <a:pt x="268" y="714"/>
                    </a:lnTo>
                    <a:lnTo>
                      <a:pt x="255" y="734"/>
                    </a:lnTo>
                    <a:lnTo>
                      <a:pt x="244" y="757"/>
                    </a:lnTo>
                    <a:lnTo>
                      <a:pt x="238" y="785"/>
                    </a:lnTo>
                    <a:lnTo>
                      <a:pt x="242" y="812"/>
                    </a:lnTo>
                    <a:lnTo>
                      <a:pt x="245" y="839"/>
                    </a:lnTo>
                    <a:lnTo>
                      <a:pt x="255" y="871"/>
                    </a:lnTo>
                    <a:lnTo>
                      <a:pt x="264" y="906"/>
                    </a:lnTo>
                    <a:lnTo>
                      <a:pt x="271" y="938"/>
                    </a:lnTo>
                    <a:lnTo>
                      <a:pt x="275" y="963"/>
                    </a:lnTo>
                    <a:lnTo>
                      <a:pt x="275" y="986"/>
                    </a:lnTo>
                    <a:lnTo>
                      <a:pt x="271" y="1018"/>
                    </a:lnTo>
                    <a:lnTo>
                      <a:pt x="262" y="1045"/>
                    </a:lnTo>
                    <a:lnTo>
                      <a:pt x="255" y="1068"/>
                    </a:lnTo>
                    <a:lnTo>
                      <a:pt x="244" y="1090"/>
                    </a:lnTo>
                    <a:lnTo>
                      <a:pt x="229" y="1118"/>
                    </a:lnTo>
                    <a:lnTo>
                      <a:pt x="208" y="1150"/>
                    </a:lnTo>
                    <a:lnTo>
                      <a:pt x="186" y="1173"/>
                    </a:lnTo>
                    <a:lnTo>
                      <a:pt x="164" y="1192"/>
                    </a:lnTo>
                    <a:lnTo>
                      <a:pt x="143" y="1208"/>
                    </a:lnTo>
                    <a:lnTo>
                      <a:pt x="121" y="1222"/>
                    </a:lnTo>
                    <a:lnTo>
                      <a:pt x="99" y="1230"/>
                    </a:lnTo>
                    <a:lnTo>
                      <a:pt x="67" y="1237"/>
                    </a:lnTo>
                    <a:lnTo>
                      <a:pt x="32" y="1242"/>
                    </a:lnTo>
                    <a:lnTo>
                      <a:pt x="0" y="1242"/>
                    </a:lnTo>
                    <a:close/>
                  </a:path>
                </a:pathLst>
              </a:custGeom>
              <a:solidFill>
                <a:srgbClr val="ffcc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609480" y="3962520"/>
                <a:ext cx="3047760" cy="2566440"/>
                <a:chOff x="609480" y="3962520"/>
                <a:chExt cx="3047760" cy="2566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136600" y="3962520"/>
                  <a:ext cx="1520640" cy="1569600"/>
                </a:xfrm>
                <a:custGeom>
                  <a:avLst/>
                  <a:gdLst/>
                  <a:ahLst/>
                  <a:rect l="l" t="t" r="r" b="b"/>
                  <a:pathLst>
                    <a:path w="2143" h="1875">
                      <a:moveTo>
                        <a:pt x="0" y="391"/>
                      </a:moveTo>
                      <a:lnTo>
                        <a:pt x="0" y="0"/>
                      </a:lnTo>
                      <a:lnTo>
                        <a:pt x="2141" y="0"/>
                      </a:lnTo>
                      <a:lnTo>
                        <a:pt x="2143" y="1498"/>
                      </a:lnTo>
                      <a:lnTo>
                        <a:pt x="1957" y="1498"/>
                      </a:lnTo>
                      <a:lnTo>
                        <a:pt x="1949" y="1511"/>
                      </a:lnTo>
                      <a:lnTo>
                        <a:pt x="1944" y="1529"/>
                      </a:lnTo>
                      <a:lnTo>
                        <a:pt x="1944" y="1545"/>
                      </a:lnTo>
                      <a:lnTo>
                        <a:pt x="1946" y="1563"/>
                      </a:lnTo>
                      <a:lnTo>
                        <a:pt x="1953" y="1586"/>
                      </a:lnTo>
                      <a:lnTo>
                        <a:pt x="1961" y="1616"/>
                      </a:lnTo>
                      <a:lnTo>
                        <a:pt x="1968" y="1636"/>
                      </a:lnTo>
                      <a:lnTo>
                        <a:pt x="1974" y="1661"/>
                      </a:lnTo>
                      <a:lnTo>
                        <a:pt x="1977" y="1685"/>
                      </a:lnTo>
                      <a:lnTo>
                        <a:pt x="1977" y="1708"/>
                      </a:lnTo>
                      <a:lnTo>
                        <a:pt x="1974" y="1730"/>
                      </a:lnTo>
                      <a:lnTo>
                        <a:pt x="1968" y="1753"/>
                      </a:lnTo>
                      <a:lnTo>
                        <a:pt x="1959" y="1775"/>
                      </a:lnTo>
                      <a:lnTo>
                        <a:pt x="1944" y="1792"/>
                      </a:lnTo>
                      <a:lnTo>
                        <a:pt x="1923" y="1812"/>
                      </a:lnTo>
                      <a:lnTo>
                        <a:pt x="1903" y="1827"/>
                      </a:lnTo>
                      <a:lnTo>
                        <a:pt x="1884" y="1842"/>
                      </a:lnTo>
                      <a:lnTo>
                        <a:pt x="1862" y="1854"/>
                      </a:lnTo>
                      <a:lnTo>
                        <a:pt x="1836" y="1862"/>
                      </a:lnTo>
                      <a:lnTo>
                        <a:pt x="1805" y="1870"/>
                      </a:lnTo>
                      <a:lnTo>
                        <a:pt x="1775" y="1874"/>
                      </a:lnTo>
                      <a:lnTo>
                        <a:pt x="1749" y="1875"/>
                      </a:lnTo>
                      <a:lnTo>
                        <a:pt x="1721" y="1875"/>
                      </a:lnTo>
                      <a:lnTo>
                        <a:pt x="1695" y="1874"/>
                      </a:lnTo>
                      <a:lnTo>
                        <a:pt x="1674" y="1870"/>
                      </a:lnTo>
                      <a:lnTo>
                        <a:pt x="1650" y="1864"/>
                      </a:lnTo>
                      <a:lnTo>
                        <a:pt x="1626" y="1857"/>
                      </a:lnTo>
                      <a:lnTo>
                        <a:pt x="1608" y="1847"/>
                      </a:lnTo>
                      <a:lnTo>
                        <a:pt x="1587" y="1834"/>
                      </a:lnTo>
                      <a:lnTo>
                        <a:pt x="1569" y="1817"/>
                      </a:lnTo>
                      <a:lnTo>
                        <a:pt x="1550" y="1799"/>
                      </a:lnTo>
                      <a:lnTo>
                        <a:pt x="1533" y="1780"/>
                      </a:lnTo>
                      <a:lnTo>
                        <a:pt x="1520" y="1760"/>
                      </a:lnTo>
                      <a:lnTo>
                        <a:pt x="1511" y="1735"/>
                      </a:lnTo>
                      <a:lnTo>
                        <a:pt x="1504" y="1707"/>
                      </a:lnTo>
                      <a:lnTo>
                        <a:pt x="1504" y="1680"/>
                      </a:lnTo>
                      <a:lnTo>
                        <a:pt x="1511" y="1653"/>
                      </a:lnTo>
                      <a:lnTo>
                        <a:pt x="1518" y="1626"/>
                      </a:lnTo>
                      <a:lnTo>
                        <a:pt x="1526" y="1600"/>
                      </a:lnTo>
                      <a:lnTo>
                        <a:pt x="1535" y="1570"/>
                      </a:lnTo>
                      <a:lnTo>
                        <a:pt x="1539" y="1546"/>
                      </a:lnTo>
                      <a:lnTo>
                        <a:pt x="1539" y="1533"/>
                      </a:lnTo>
                      <a:lnTo>
                        <a:pt x="1537" y="1521"/>
                      </a:lnTo>
                      <a:lnTo>
                        <a:pt x="1531" y="1508"/>
                      </a:lnTo>
                      <a:lnTo>
                        <a:pt x="1175" y="1508"/>
                      </a:lnTo>
                      <a:lnTo>
                        <a:pt x="1180" y="1451"/>
                      </a:lnTo>
                      <a:lnTo>
                        <a:pt x="1178" y="1419"/>
                      </a:lnTo>
                      <a:lnTo>
                        <a:pt x="1175" y="1389"/>
                      </a:lnTo>
                      <a:lnTo>
                        <a:pt x="1171" y="1361"/>
                      </a:lnTo>
                      <a:lnTo>
                        <a:pt x="1165" y="1342"/>
                      </a:lnTo>
                      <a:lnTo>
                        <a:pt x="1156" y="1326"/>
                      </a:lnTo>
                      <a:lnTo>
                        <a:pt x="1145" y="1311"/>
                      </a:lnTo>
                      <a:lnTo>
                        <a:pt x="1126" y="1297"/>
                      </a:lnTo>
                      <a:lnTo>
                        <a:pt x="1106" y="1285"/>
                      </a:lnTo>
                      <a:lnTo>
                        <a:pt x="1086" y="1279"/>
                      </a:lnTo>
                      <a:lnTo>
                        <a:pt x="1067" y="1275"/>
                      </a:lnTo>
                      <a:lnTo>
                        <a:pt x="1035" y="1274"/>
                      </a:lnTo>
                      <a:lnTo>
                        <a:pt x="998" y="1274"/>
                      </a:lnTo>
                      <a:lnTo>
                        <a:pt x="963" y="1277"/>
                      </a:lnTo>
                      <a:lnTo>
                        <a:pt x="924" y="1279"/>
                      </a:lnTo>
                      <a:lnTo>
                        <a:pt x="894" y="1282"/>
                      </a:lnTo>
                      <a:lnTo>
                        <a:pt x="855" y="1284"/>
                      </a:lnTo>
                      <a:lnTo>
                        <a:pt x="824" y="1282"/>
                      </a:lnTo>
                      <a:lnTo>
                        <a:pt x="796" y="1279"/>
                      </a:lnTo>
                      <a:lnTo>
                        <a:pt x="753" y="1270"/>
                      </a:lnTo>
                      <a:lnTo>
                        <a:pt x="725" y="1259"/>
                      </a:lnTo>
                      <a:lnTo>
                        <a:pt x="699" y="1242"/>
                      </a:lnTo>
                      <a:lnTo>
                        <a:pt x="682" y="1224"/>
                      </a:lnTo>
                      <a:lnTo>
                        <a:pt x="667" y="1204"/>
                      </a:lnTo>
                      <a:lnTo>
                        <a:pt x="656" y="1179"/>
                      </a:lnTo>
                      <a:lnTo>
                        <a:pt x="654" y="1152"/>
                      </a:lnTo>
                      <a:lnTo>
                        <a:pt x="654" y="1118"/>
                      </a:lnTo>
                      <a:lnTo>
                        <a:pt x="656" y="1093"/>
                      </a:lnTo>
                      <a:lnTo>
                        <a:pt x="654" y="1068"/>
                      </a:lnTo>
                      <a:lnTo>
                        <a:pt x="647" y="1040"/>
                      </a:lnTo>
                      <a:lnTo>
                        <a:pt x="641" y="1023"/>
                      </a:lnTo>
                      <a:lnTo>
                        <a:pt x="632" y="1006"/>
                      </a:lnTo>
                      <a:lnTo>
                        <a:pt x="621" y="995"/>
                      </a:lnTo>
                      <a:lnTo>
                        <a:pt x="610" y="985"/>
                      </a:lnTo>
                      <a:lnTo>
                        <a:pt x="586" y="975"/>
                      </a:lnTo>
                      <a:lnTo>
                        <a:pt x="558" y="963"/>
                      </a:lnTo>
                      <a:lnTo>
                        <a:pt x="526" y="955"/>
                      </a:lnTo>
                      <a:lnTo>
                        <a:pt x="489" y="946"/>
                      </a:lnTo>
                      <a:lnTo>
                        <a:pt x="452" y="940"/>
                      </a:lnTo>
                      <a:lnTo>
                        <a:pt x="413" y="935"/>
                      </a:lnTo>
                      <a:lnTo>
                        <a:pt x="385" y="926"/>
                      </a:lnTo>
                      <a:lnTo>
                        <a:pt x="355" y="918"/>
                      </a:lnTo>
                      <a:lnTo>
                        <a:pt x="326" y="908"/>
                      </a:lnTo>
                      <a:lnTo>
                        <a:pt x="305" y="893"/>
                      </a:lnTo>
                      <a:lnTo>
                        <a:pt x="281" y="874"/>
                      </a:lnTo>
                      <a:lnTo>
                        <a:pt x="264" y="858"/>
                      </a:lnTo>
                      <a:lnTo>
                        <a:pt x="249" y="838"/>
                      </a:lnTo>
                      <a:lnTo>
                        <a:pt x="238" y="814"/>
                      </a:lnTo>
                      <a:lnTo>
                        <a:pt x="235" y="789"/>
                      </a:lnTo>
                      <a:lnTo>
                        <a:pt x="235" y="766"/>
                      </a:lnTo>
                      <a:lnTo>
                        <a:pt x="240" y="744"/>
                      </a:lnTo>
                      <a:lnTo>
                        <a:pt x="249" y="712"/>
                      </a:lnTo>
                      <a:lnTo>
                        <a:pt x="259" y="681"/>
                      </a:lnTo>
                      <a:lnTo>
                        <a:pt x="262" y="652"/>
                      </a:lnTo>
                      <a:lnTo>
                        <a:pt x="270" y="624"/>
                      </a:lnTo>
                      <a:lnTo>
                        <a:pt x="274" y="595"/>
                      </a:lnTo>
                      <a:lnTo>
                        <a:pt x="270" y="565"/>
                      </a:lnTo>
                      <a:lnTo>
                        <a:pt x="262" y="538"/>
                      </a:lnTo>
                      <a:lnTo>
                        <a:pt x="251" y="512"/>
                      </a:lnTo>
                      <a:lnTo>
                        <a:pt x="236" y="487"/>
                      </a:lnTo>
                      <a:lnTo>
                        <a:pt x="220" y="467"/>
                      </a:lnTo>
                      <a:lnTo>
                        <a:pt x="210" y="455"/>
                      </a:lnTo>
                      <a:lnTo>
                        <a:pt x="194" y="440"/>
                      </a:lnTo>
                      <a:lnTo>
                        <a:pt x="177" y="427"/>
                      </a:lnTo>
                      <a:lnTo>
                        <a:pt x="160" y="416"/>
                      </a:lnTo>
                      <a:lnTo>
                        <a:pt x="138" y="406"/>
                      </a:lnTo>
                      <a:lnTo>
                        <a:pt x="116" y="400"/>
                      </a:lnTo>
                      <a:lnTo>
                        <a:pt x="88" y="393"/>
                      </a:lnTo>
                      <a:lnTo>
                        <a:pt x="56" y="391"/>
                      </a:lnTo>
                      <a:lnTo>
                        <a:pt x="28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609480" y="3962520"/>
                  <a:ext cx="2368440" cy="2566440"/>
                  <a:chOff x="609480" y="3962520"/>
                  <a:chExt cx="2368440" cy="25664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9480" y="4960800"/>
                    <a:ext cx="1520640" cy="15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2" h="1875">
                        <a:moveTo>
                          <a:pt x="2142" y="1544"/>
                        </a:moveTo>
                        <a:lnTo>
                          <a:pt x="2142" y="1875"/>
                        </a:lnTo>
                        <a:lnTo>
                          <a:pt x="2" y="1875"/>
                        </a:lnTo>
                        <a:lnTo>
                          <a:pt x="0" y="378"/>
                        </a:lnTo>
                        <a:lnTo>
                          <a:pt x="186" y="378"/>
                        </a:lnTo>
                        <a:lnTo>
                          <a:pt x="193" y="364"/>
                        </a:lnTo>
                        <a:lnTo>
                          <a:pt x="199" y="346"/>
                        </a:lnTo>
                        <a:lnTo>
                          <a:pt x="199" y="331"/>
                        </a:lnTo>
                        <a:lnTo>
                          <a:pt x="197" y="312"/>
                        </a:lnTo>
                        <a:lnTo>
                          <a:pt x="190" y="289"/>
                        </a:lnTo>
                        <a:lnTo>
                          <a:pt x="182" y="259"/>
                        </a:lnTo>
                        <a:lnTo>
                          <a:pt x="175" y="239"/>
                        </a:lnTo>
                        <a:lnTo>
                          <a:pt x="167" y="214"/>
                        </a:lnTo>
                        <a:lnTo>
                          <a:pt x="165" y="190"/>
                        </a:lnTo>
                        <a:lnTo>
                          <a:pt x="165" y="167"/>
                        </a:lnTo>
                        <a:lnTo>
                          <a:pt x="167" y="145"/>
                        </a:lnTo>
                        <a:lnTo>
                          <a:pt x="175" y="122"/>
                        </a:lnTo>
                        <a:lnTo>
                          <a:pt x="184" y="100"/>
                        </a:lnTo>
                        <a:lnTo>
                          <a:pt x="199" y="83"/>
                        </a:lnTo>
                        <a:lnTo>
                          <a:pt x="219" y="63"/>
                        </a:lnTo>
                        <a:lnTo>
                          <a:pt x="238" y="48"/>
                        </a:lnTo>
                        <a:lnTo>
                          <a:pt x="258" y="33"/>
                        </a:lnTo>
                        <a:lnTo>
                          <a:pt x="281" y="22"/>
                        </a:lnTo>
                        <a:lnTo>
                          <a:pt x="307" y="12"/>
                        </a:lnTo>
                        <a:lnTo>
                          <a:pt x="336" y="5"/>
                        </a:lnTo>
                        <a:lnTo>
                          <a:pt x="368" y="2"/>
                        </a:lnTo>
                        <a:lnTo>
                          <a:pt x="394" y="0"/>
                        </a:lnTo>
                        <a:lnTo>
                          <a:pt x="422" y="0"/>
                        </a:lnTo>
                        <a:lnTo>
                          <a:pt x="448" y="2"/>
                        </a:lnTo>
                        <a:lnTo>
                          <a:pt x="468" y="5"/>
                        </a:lnTo>
                        <a:lnTo>
                          <a:pt x="492" y="12"/>
                        </a:lnTo>
                        <a:lnTo>
                          <a:pt x="517" y="18"/>
                        </a:lnTo>
                        <a:lnTo>
                          <a:pt x="535" y="28"/>
                        </a:lnTo>
                        <a:lnTo>
                          <a:pt x="556" y="42"/>
                        </a:lnTo>
                        <a:lnTo>
                          <a:pt x="574" y="58"/>
                        </a:lnTo>
                        <a:lnTo>
                          <a:pt x="593" y="77"/>
                        </a:lnTo>
                        <a:lnTo>
                          <a:pt x="609" y="95"/>
                        </a:lnTo>
                        <a:lnTo>
                          <a:pt x="622" y="115"/>
                        </a:lnTo>
                        <a:lnTo>
                          <a:pt x="632" y="140"/>
                        </a:lnTo>
                        <a:lnTo>
                          <a:pt x="639" y="169"/>
                        </a:lnTo>
                        <a:lnTo>
                          <a:pt x="639" y="195"/>
                        </a:lnTo>
                        <a:lnTo>
                          <a:pt x="632" y="222"/>
                        </a:lnTo>
                        <a:lnTo>
                          <a:pt x="624" y="249"/>
                        </a:lnTo>
                        <a:lnTo>
                          <a:pt x="617" y="276"/>
                        </a:lnTo>
                        <a:lnTo>
                          <a:pt x="608" y="306"/>
                        </a:lnTo>
                        <a:lnTo>
                          <a:pt x="602" y="329"/>
                        </a:lnTo>
                        <a:lnTo>
                          <a:pt x="602" y="342"/>
                        </a:lnTo>
                        <a:lnTo>
                          <a:pt x="606" y="354"/>
                        </a:lnTo>
                        <a:lnTo>
                          <a:pt x="611" y="368"/>
                        </a:lnTo>
                        <a:lnTo>
                          <a:pt x="966" y="368"/>
                        </a:lnTo>
                        <a:lnTo>
                          <a:pt x="959" y="429"/>
                        </a:lnTo>
                        <a:lnTo>
                          <a:pt x="957" y="466"/>
                        </a:lnTo>
                        <a:lnTo>
                          <a:pt x="959" y="496"/>
                        </a:lnTo>
                        <a:lnTo>
                          <a:pt x="961" y="525"/>
                        </a:lnTo>
                        <a:lnTo>
                          <a:pt x="964" y="555"/>
                        </a:lnTo>
                        <a:lnTo>
                          <a:pt x="970" y="585"/>
                        </a:lnTo>
                        <a:lnTo>
                          <a:pt x="981" y="605"/>
                        </a:lnTo>
                        <a:lnTo>
                          <a:pt x="994" y="622"/>
                        </a:lnTo>
                        <a:lnTo>
                          <a:pt x="1011" y="637"/>
                        </a:lnTo>
                        <a:lnTo>
                          <a:pt x="1033" y="648"/>
                        </a:lnTo>
                        <a:lnTo>
                          <a:pt x="1057" y="657"/>
                        </a:lnTo>
                        <a:lnTo>
                          <a:pt x="1081" y="660"/>
                        </a:lnTo>
                        <a:lnTo>
                          <a:pt x="1107" y="662"/>
                        </a:lnTo>
                        <a:lnTo>
                          <a:pt x="1137" y="662"/>
                        </a:lnTo>
                        <a:lnTo>
                          <a:pt x="1169" y="658"/>
                        </a:lnTo>
                        <a:lnTo>
                          <a:pt x="1191" y="657"/>
                        </a:lnTo>
                        <a:lnTo>
                          <a:pt x="1224" y="653"/>
                        </a:lnTo>
                        <a:lnTo>
                          <a:pt x="1258" y="650"/>
                        </a:lnTo>
                        <a:lnTo>
                          <a:pt x="1295" y="650"/>
                        </a:lnTo>
                        <a:lnTo>
                          <a:pt x="1327" y="653"/>
                        </a:lnTo>
                        <a:lnTo>
                          <a:pt x="1358" y="658"/>
                        </a:lnTo>
                        <a:lnTo>
                          <a:pt x="1390" y="668"/>
                        </a:lnTo>
                        <a:lnTo>
                          <a:pt x="1416" y="678"/>
                        </a:lnTo>
                        <a:lnTo>
                          <a:pt x="1442" y="695"/>
                        </a:lnTo>
                        <a:lnTo>
                          <a:pt x="1458" y="713"/>
                        </a:lnTo>
                        <a:lnTo>
                          <a:pt x="1473" y="735"/>
                        </a:lnTo>
                        <a:lnTo>
                          <a:pt x="1483" y="759"/>
                        </a:lnTo>
                        <a:lnTo>
                          <a:pt x="1486" y="782"/>
                        </a:lnTo>
                        <a:lnTo>
                          <a:pt x="1483" y="809"/>
                        </a:lnTo>
                        <a:lnTo>
                          <a:pt x="1481" y="835"/>
                        </a:lnTo>
                        <a:lnTo>
                          <a:pt x="1483" y="862"/>
                        </a:lnTo>
                        <a:lnTo>
                          <a:pt x="1486" y="886"/>
                        </a:lnTo>
                        <a:lnTo>
                          <a:pt x="1496" y="907"/>
                        </a:lnTo>
                        <a:lnTo>
                          <a:pt x="1507" y="929"/>
                        </a:lnTo>
                        <a:lnTo>
                          <a:pt x="1522" y="944"/>
                        </a:lnTo>
                        <a:lnTo>
                          <a:pt x="1544" y="959"/>
                        </a:lnTo>
                        <a:lnTo>
                          <a:pt x="1574" y="969"/>
                        </a:lnTo>
                        <a:lnTo>
                          <a:pt x="1605" y="978"/>
                        </a:lnTo>
                        <a:lnTo>
                          <a:pt x="1631" y="984"/>
                        </a:lnTo>
                        <a:lnTo>
                          <a:pt x="1663" y="991"/>
                        </a:lnTo>
                        <a:lnTo>
                          <a:pt x="1700" y="998"/>
                        </a:lnTo>
                        <a:lnTo>
                          <a:pt x="1732" y="1003"/>
                        </a:lnTo>
                        <a:lnTo>
                          <a:pt x="1763" y="1011"/>
                        </a:lnTo>
                        <a:lnTo>
                          <a:pt x="1789" y="1019"/>
                        </a:lnTo>
                        <a:lnTo>
                          <a:pt x="1815" y="1029"/>
                        </a:lnTo>
                        <a:lnTo>
                          <a:pt x="1836" y="1043"/>
                        </a:lnTo>
                        <a:lnTo>
                          <a:pt x="1852" y="1056"/>
                        </a:lnTo>
                        <a:lnTo>
                          <a:pt x="1875" y="1078"/>
                        </a:lnTo>
                        <a:lnTo>
                          <a:pt x="1888" y="1098"/>
                        </a:lnTo>
                        <a:lnTo>
                          <a:pt x="1899" y="1120"/>
                        </a:lnTo>
                        <a:lnTo>
                          <a:pt x="1904" y="1150"/>
                        </a:lnTo>
                        <a:lnTo>
                          <a:pt x="1901" y="1178"/>
                        </a:lnTo>
                        <a:lnTo>
                          <a:pt x="1895" y="1203"/>
                        </a:lnTo>
                        <a:lnTo>
                          <a:pt x="1888" y="1235"/>
                        </a:lnTo>
                        <a:lnTo>
                          <a:pt x="1878" y="1270"/>
                        </a:lnTo>
                        <a:lnTo>
                          <a:pt x="1869" y="1302"/>
                        </a:lnTo>
                        <a:lnTo>
                          <a:pt x="1865" y="1328"/>
                        </a:lnTo>
                        <a:lnTo>
                          <a:pt x="1865" y="1350"/>
                        </a:lnTo>
                        <a:lnTo>
                          <a:pt x="1871" y="1382"/>
                        </a:lnTo>
                        <a:lnTo>
                          <a:pt x="1878" y="1409"/>
                        </a:lnTo>
                        <a:lnTo>
                          <a:pt x="1890" y="1429"/>
                        </a:lnTo>
                        <a:lnTo>
                          <a:pt x="1903" y="1449"/>
                        </a:lnTo>
                        <a:lnTo>
                          <a:pt x="1921" y="1470"/>
                        </a:lnTo>
                        <a:lnTo>
                          <a:pt x="1942" y="1492"/>
                        </a:lnTo>
                        <a:lnTo>
                          <a:pt x="1966" y="1511"/>
                        </a:lnTo>
                        <a:lnTo>
                          <a:pt x="1994" y="1526"/>
                        </a:lnTo>
                        <a:lnTo>
                          <a:pt x="2020" y="1534"/>
                        </a:lnTo>
                        <a:lnTo>
                          <a:pt x="2047" y="1541"/>
                        </a:lnTo>
                        <a:lnTo>
                          <a:pt x="2075" y="1544"/>
                        </a:lnTo>
                        <a:lnTo>
                          <a:pt x="2109" y="1546"/>
                        </a:lnTo>
                        <a:lnTo>
                          <a:pt x="2142" y="1544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609480" y="3962520"/>
                    <a:ext cx="2368440" cy="2293200"/>
                    <a:chOff x="609480" y="3962520"/>
                    <a:chExt cx="2368440" cy="229320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480" y="3962520"/>
                      <a:ext cx="1527120" cy="13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1" h="1571">
                          <a:moveTo>
                            <a:pt x="2151" y="391"/>
                          </a:moveTo>
                          <a:lnTo>
                            <a:pt x="2151" y="0"/>
                          </a:lnTo>
                          <a:lnTo>
                            <a:pt x="0" y="0"/>
                          </a:lnTo>
                          <a:lnTo>
                            <a:pt x="2" y="1571"/>
                          </a:lnTo>
                          <a:lnTo>
                            <a:pt x="193" y="1571"/>
                          </a:lnTo>
                          <a:lnTo>
                            <a:pt x="203" y="1541"/>
                          </a:lnTo>
                          <a:lnTo>
                            <a:pt x="203" y="1519"/>
                          </a:lnTo>
                          <a:lnTo>
                            <a:pt x="197" y="1489"/>
                          </a:lnTo>
                          <a:lnTo>
                            <a:pt x="186" y="1458"/>
                          </a:lnTo>
                          <a:lnTo>
                            <a:pt x="175" y="1419"/>
                          </a:lnTo>
                          <a:lnTo>
                            <a:pt x="169" y="1389"/>
                          </a:lnTo>
                          <a:lnTo>
                            <a:pt x="167" y="1362"/>
                          </a:lnTo>
                          <a:lnTo>
                            <a:pt x="173" y="1332"/>
                          </a:lnTo>
                          <a:lnTo>
                            <a:pt x="182" y="1304"/>
                          </a:lnTo>
                          <a:lnTo>
                            <a:pt x="203" y="1275"/>
                          </a:lnTo>
                          <a:lnTo>
                            <a:pt x="227" y="1254"/>
                          </a:lnTo>
                          <a:lnTo>
                            <a:pt x="253" y="1232"/>
                          </a:lnTo>
                          <a:lnTo>
                            <a:pt x="282" y="1217"/>
                          </a:lnTo>
                          <a:lnTo>
                            <a:pt x="318" y="1204"/>
                          </a:lnTo>
                          <a:lnTo>
                            <a:pt x="349" y="1199"/>
                          </a:lnTo>
                          <a:lnTo>
                            <a:pt x="394" y="1197"/>
                          </a:lnTo>
                          <a:lnTo>
                            <a:pt x="446" y="1200"/>
                          </a:lnTo>
                          <a:lnTo>
                            <a:pt x="479" y="1204"/>
                          </a:lnTo>
                          <a:lnTo>
                            <a:pt x="509" y="1212"/>
                          </a:lnTo>
                          <a:lnTo>
                            <a:pt x="537" y="1227"/>
                          </a:lnTo>
                          <a:lnTo>
                            <a:pt x="572" y="1252"/>
                          </a:lnTo>
                          <a:lnTo>
                            <a:pt x="595" y="1275"/>
                          </a:lnTo>
                          <a:lnTo>
                            <a:pt x="615" y="1301"/>
                          </a:lnTo>
                          <a:lnTo>
                            <a:pt x="626" y="1327"/>
                          </a:lnTo>
                          <a:lnTo>
                            <a:pt x="634" y="1352"/>
                          </a:lnTo>
                          <a:lnTo>
                            <a:pt x="634" y="1381"/>
                          </a:lnTo>
                          <a:lnTo>
                            <a:pt x="630" y="1409"/>
                          </a:lnTo>
                          <a:lnTo>
                            <a:pt x="622" y="1436"/>
                          </a:lnTo>
                          <a:lnTo>
                            <a:pt x="615" y="1461"/>
                          </a:lnTo>
                          <a:lnTo>
                            <a:pt x="606" y="1488"/>
                          </a:lnTo>
                          <a:lnTo>
                            <a:pt x="600" y="1514"/>
                          </a:lnTo>
                          <a:lnTo>
                            <a:pt x="600" y="1538"/>
                          </a:lnTo>
                          <a:lnTo>
                            <a:pt x="608" y="1565"/>
                          </a:lnTo>
                          <a:lnTo>
                            <a:pt x="968" y="1565"/>
                          </a:lnTo>
                          <a:lnTo>
                            <a:pt x="964" y="1509"/>
                          </a:lnTo>
                          <a:lnTo>
                            <a:pt x="968" y="1469"/>
                          </a:lnTo>
                          <a:lnTo>
                            <a:pt x="968" y="1439"/>
                          </a:lnTo>
                          <a:lnTo>
                            <a:pt x="970" y="1411"/>
                          </a:lnTo>
                          <a:lnTo>
                            <a:pt x="974" y="1381"/>
                          </a:lnTo>
                          <a:lnTo>
                            <a:pt x="981" y="1351"/>
                          </a:lnTo>
                          <a:lnTo>
                            <a:pt x="990" y="1331"/>
                          </a:lnTo>
                          <a:lnTo>
                            <a:pt x="1003" y="1312"/>
                          </a:lnTo>
                          <a:lnTo>
                            <a:pt x="1022" y="1297"/>
                          </a:lnTo>
                          <a:lnTo>
                            <a:pt x="1042" y="1285"/>
                          </a:lnTo>
                          <a:lnTo>
                            <a:pt x="1066" y="1279"/>
                          </a:lnTo>
                          <a:lnTo>
                            <a:pt x="1092" y="1275"/>
                          </a:lnTo>
                          <a:lnTo>
                            <a:pt x="1117" y="1274"/>
                          </a:lnTo>
                          <a:lnTo>
                            <a:pt x="1148" y="1274"/>
                          </a:lnTo>
                          <a:lnTo>
                            <a:pt x="1178" y="1275"/>
                          </a:lnTo>
                          <a:lnTo>
                            <a:pt x="1202" y="1279"/>
                          </a:lnTo>
                          <a:lnTo>
                            <a:pt x="1234" y="1280"/>
                          </a:lnTo>
                          <a:lnTo>
                            <a:pt x="1267" y="1284"/>
                          </a:lnTo>
                          <a:lnTo>
                            <a:pt x="1304" y="1284"/>
                          </a:lnTo>
                          <a:lnTo>
                            <a:pt x="1336" y="1280"/>
                          </a:lnTo>
                          <a:lnTo>
                            <a:pt x="1367" y="1275"/>
                          </a:lnTo>
                          <a:lnTo>
                            <a:pt x="1401" y="1269"/>
                          </a:lnTo>
                          <a:lnTo>
                            <a:pt x="1425" y="1257"/>
                          </a:lnTo>
                          <a:lnTo>
                            <a:pt x="1451" y="1242"/>
                          </a:lnTo>
                          <a:lnTo>
                            <a:pt x="1468" y="1222"/>
                          </a:lnTo>
                          <a:lnTo>
                            <a:pt x="1484" y="1200"/>
                          </a:lnTo>
                          <a:lnTo>
                            <a:pt x="1492" y="1179"/>
                          </a:lnTo>
                          <a:lnTo>
                            <a:pt x="1496" y="1153"/>
                          </a:lnTo>
                          <a:lnTo>
                            <a:pt x="1492" y="1128"/>
                          </a:lnTo>
                          <a:lnTo>
                            <a:pt x="1490" y="1102"/>
                          </a:lnTo>
                          <a:lnTo>
                            <a:pt x="1492" y="1073"/>
                          </a:lnTo>
                          <a:lnTo>
                            <a:pt x="1498" y="1052"/>
                          </a:lnTo>
                          <a:lnTo>
                            <a:pt x="1505" y="1028"/>
                          </a:lnTo>
                          <a:lnTo>
                            <a:pt x="1516" y="1006"/>
                          </a:lnTo>
                          <a:lnTo>
                            <a:pt x="1531" y="991"/>
                          </a:lnTo>
                          <a:lnTo>
                            <a:pt x="1555" y="976"/>
                          </a:lnTo>
                          <a:lnTo>
                            <a:pt x="1585" y="966"/>
                          </a:lnTo>
                          <a:lnTo>
                            <a:pt x="1615" y="958"/>
                          </a:lnTo>
                          <a:lnTo>
                            <a:pt x="1642" y="951"/>
                          </a:lnTo>
                          <a:lnTo>
                            <a:pt x="1672" y="945"/>
                          </a:lnTo>
                          <a:lnTo>
                            <a:pt x="1711" y="938"/>
                          </a:lnTo>
                          <a:lnTo>
                            <a:pt x="1741" y="933"/>
                          </a:lnTo>
                          <a:lnTo>
                            <a:pt x="1772" y="925"/>
                          </a:lnTo>
                          <a:lnTo>
                            <a:pt x="1798" y="916"/>
                          </a:lnTo>
                          <a:lnTo>
                            <a:pt x="1825" y="906"/>
                          </a:lnTo>
                          <a:lnTo>
                            <a:pt x="1845" y="893"/>
                          </a:lnTo>
                          <a:lnTo>
                            <a:pt x="1864" y="879"/>
                          </a:lnTo>
                          <a:lnTo>
                            <a:pt x="1884" y="858"/>
                          </a:lnTo>
                          <a:lnTo>
                            <a:pt x="1897" y="838"/>
                          </a:lnTo>
                          <a:lnTo>
                            <a:pt x="1908" y="814"/>
                          </a:lnTo>
                          <a:lnTo>
                            <a:pt x="1914" y="784"/>
                          </a:lnTo>
                          <a:lnTo>
                            <a:pt x="1910" y="759"/>
                          </a:lnTo>
                          <a:lnTo>
                            <a:pt x="1906" y="732"/>
                          </a:lnTo>
                          <a:lnTo>
                            <a:pt x="1897" y="701"/>
                          </a:lnTo>
                          <a:lnTo>
                            <a:pt x="1888" y="665"/>
                          </a:lnTo>
                          <a:lnTo>
                            <a:pt x="1878" y="634"/>
                          </a:lnTo>
                          <a:lnTo>
                            <a:pt x="1877" y="609"/>
                          </a:lnTo>
                          <a:lnTo>
                            <a:pt x="1877" y="585"/>
                          </a:lnTo>
                          <a:lnTo>
                            <a:pt x="1880" y="554"/>
                          </a:lnTo>
                          <a:lnTo>
                            <a:pt x="1890" y="527"/>
                          </a:lnTo>
                          <a:lnTo>
                            <a:pt x="1899" y="507"/>
                          </a:lnTo>
                          <a:lnTo>
                            <a:pt x="1912" y="487"/>
                          </a:lnTo>
                          <a:lnTo>
                            <a:pt x="1930" y="465"/>
                          </a:lnTo>
                          <a:lnTo>
                            <a:pt x="1951" y="443"/>
                          </a:lnTo>
                          <a:lnTo>
                            <a:pt x="1977" y="425"/>
                          </a:lnTo>
                          <a:lnTo>
                            <a:pt x="2005" y="410"/>
                          </a:lnTo>
                          <a:lnTo>
                            <a:pt x="2031" y="401"/>
                          </a:lnTo>
                          <a:lnTo>
                            <a:pt x="2057" y="395"/>
                          </a:lnTo>
                          <a:lnTo>
                            <a:pt x="2085" y="391"/>
                          </a:lnTo>
                          <a:lnTo>
                            <a:pt x="2118" y="391"/>
                          </a:lnTo>
                          <a:lnTo>
                            <a:pt x="2151" y="39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282320" y="4287600"/>
                      <a:ext cx="1695600" cy="19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6" h="2351">
                          <a:moveTo>
                            <a:pt x="909" y="491"/>
                          </a:moveTo>
                          <a:lnTo>
                            <a:pt x="933" y="465"/>
                          </a:lnTo>
                          <a:lnTo>
                            <a:pt x="950" y="440"/>
                          </a:lnTo>
                          <a:lnTo>
                            <a:pt x="959" y="411"/>
                          </a:lnTo>
                          <a:lnTo>
                            <a:pt x="959" y="374"/>
                          </a:lnTo>
                          <a:lnTo>
                            <a:pt x="948" y="333"/>
                          </a:lnTo>
                          <a:lnTo>
                            <a:pt x="939" y="298"/>
                          </a:lnTo>
                          <a:lnTo>
                            <a:pt x="926" y="254"/>
                          </a:lnTo>
                          <a:lnTo>
                            <a:pt x="920" y="207"/>
                          </a:lnTo>
                          <a:lnTo>
                            <a:pt x="926" y="179"/>
                          </a:lnTo>
                          <a:lnTo>
                            <a:pt x="935" y="144"/>
                          </a:lnTo>
                          <a:lnTo>
                            <a:pt x="954" y="107"/>
                          </a:lnTo>
                          <a:lnTo>
                            <a:pt x="980" y="72"/>
                          </a:lnTo>
                          <a:lnTo>
                            <a:pt x="1013" y="44"/>
                          </a:lnTo>
                          <a:lnTo>
                            <a:pt x="1043" y="22"/>
                          </a:lnTo>
                          <a:lnTo>
                            <a:pt x="1084" y="8"/>
                          </a:lnTo>
                          <a:lnTo>
                            <a:pt x="1132" y="2"/>
                          </a:lnTo>
                          <a:lnTo>
                            <a:pt x="1184" y="0"/>
                          </a:lnTo>
                          <a:lnTo>
                            <a:pt x="1255" y="0"/>
                          </a:lnTo>
                          <a:lnTo>
                            <a:pt x="1310" y="5"/>
                          </a:lnTo>
                          <a:lnTo>
                            <a:pt x="1342" y="15"/>
                          </a:lnTo>
                          <a:lnTo>
                            <a:pt x="1366" y="28"/>
                          </a:lnTo>
                          <a:lnTo>
                            <a:pt x="1392" y="44"/>
                          </a:lnTo>
                          <a:lnTo>
                            <a:pt x="1418" y="67"/>
                          </a:lnTo>
                          <a:lnTo>
                            <a:pt x="1442" y="97"/>
                          </a:lnTo>
                          <a:lnTo>
                            <a:pt x="1461" y="124"/>
                          </a:lnTo>
                          <a:lnTo>
                            <a:pt x="1470" y="147"/>
                          </a:lnTo>
                          <a:lnTo>
                            <a:pt x="1477" y="187"/>
                          </a:lnTo>
                          <a:lnTo>
                            <a:pt x="1477" y="222"/>
                          </a:lnTo>
                          <a:lnTo>
                            <a:pt x="1472" y="257"/>
                          </a:lnTo>
                          <a:lnTo>
                            <a:pt x="1464" y="284"/>
                          </a:lnTo>
                          <a:lnTo>
                            <a:pt x="1455" y="328"/>
                          </a:lnTo>
                          <a:lnTo>
                            <a:pt x="1442" y="373"/>
                          </a:lnTo>
                          <a:lnTo>
                            <a:pt x="1437" y="401"/>
                          </a:lnTo>
                          <a:lnTo>
                            <a:pt x="1446" y="430"/>
                          </a:lnTo>
                          <a:lnTo>
                            <a:pt x="1457" y="450"/>
                          </a:lnTo>
                          <a:lnTo>
                            <a:pt x="1477" y="476"/>
                          </a:lnTo>
                          <a:lnTo>
                            <a:pt x="1507" y="498"/>
                          </a:lnTo>
                          <a:lnTo>
                            <a:pt x="1535" y="516"/>
                          </a:lnTo>
                          <a:lnTo>
                            <a:pt x="1576" y="532"/>
                          </a:lnTo>
                          <a:lnTo>
                            <a:pt x="1617" y="542"/>
                          </a:lnTo>
                          <a:lnTo>
                            <a:pt x="1656" y="550"/>
                          </a:lnTo>
                          <a:lnTo>
                            <a:pt x="1697" y="555"/>
                          </a:lnTo>
                          <a:lnTo>
                            <a:pt x="1739" y="565"/>
                          </a:lnTo>
                          <a:lnTo>
                            <a:pt x="1773" y="575"/>
                          </a:lnTo>
                          <a:lnTo>
                            <a:pt x="1799" y="587"/>
                          </a:lnTo>
                          <a:lnTo>
                            <a:pt x="1819" y="600"/>
                          </a:lnTo>
                          <a:lnTo>
                            <a:pt x="1834" y="615"/>
                          </a:lnTo>
                          <a:lnTo>
                            <a:pt x="1845" y="633"/>
                          </a:lnTo>
                          <a:lnTo>
                            <a:pt x="1855" y="655"/>
                          </a:lnTo>
                          <a:lnTo>
                            <a:pt x="1858" y="675"/>
                          </a:lnTo>
                          <a:lnTo>
                            <a:pt x="1862" y="694"/>
                          </a:lnTo>
                          <a:lnTo>
                            <a:pt x="1862" y="719"/>
                          </a:lnTo>
                          <a:lnTo>
                            <a:pt x="1858" y="747"/>
                          </a:lnTo>
                          <a:lnTo>
                            <a:pt x="1858" y="769"/>
                          </a:lnTo>
                          <a:lnTo>
                            <a:pt x="1864" y="796"/>
                          </a:lnTo>
                          <a:lnTo>
                            <a:pt x="1877" y="819"/>
                          </a:lnTo>
                          <a:lnTo>
                            <a:pt x="1892" y="839"/>
                          </a:lnTo>
                          <a:lnTo>
                            <a:pt x="1910" y="854"/>
                          </a:lnTo>
                          <a:lnTo>
                            <a:pt x="1935" y="871"/>
                          </a:lnTo>
                          <a:lnTo>
                            <a:pt x="1959" y="881"/>
                          </a:lnTo>
                          <a:lnTo>
                            <a:pt x="1996" y="887"/>
                          </a:lnTo>
                          <a:lnTo>
                            <a:pt x="2027" y="891"/>
                          </a:lnTo>
                          <a:lnTo>
                            <a:pt x="2057" y="892"/>
                          </a:lnTo>
                          <a:lnTo>
                            <a:pt x="2091" y="891"/>
                          </a:lnTo>
                          <a:lnTo>
                            <a:pt x="2131" y="887"/>
                          </a:lnTo>
                          <a:lnTo>
                            <a:pt x="2163" y="886"/>
                          </a:lnTo>
                          <a:lnTo>
                            <a:pt x="2195" y="882"/>
                          </a:lnTo>
                          <a:lnTo>
                            <a:pt x="2224" y="881"/>
                          </a:lnTo>
                          <a:lnTo>
                            <a:pt x="2260" y="882"/>
                          </a:lnTo>
                          <a:lnTo>
                            <a:pt x="2278" y="886"/>
                          </a:lnTo>
                          <a:lnTo>
                            <a:pt x="2301" y="891"/>
                          </a:lnTo>
                          <a:lnTo>
                            <a:pt x="2321" y="901"/>
                          </a:lnTo>
                          <a:lnTo>
                            <a:pt x="2343" y="916"/>
                          </a:lnTo>
                          <a:lnTo>
                            <a:pt x="2360" y="933"/>
                          </a:lnTo>
                          <a:lnTo>
                            <a:pt x="2373" y="958"/>
                          </a:lnTo>
                          <a:lnTo>
                            <a:pt x="2379" y="979"/>
                          </a:lnTo>
                          <a:lnTo>
                            <a:pt x="2382" y="1006"/>
                          </a:lnTo>
                          <a:lnTo>
                            <a:pt x="2386" y="1055"/>
                          </a:lnTo>
                          <a:lnTo>
                            <a:pt x="2384" y="1111"/>
                          </a:lnTo>
                          <a:lnTo>
                            <a:pt x="2386" y="1172"/>
                          </a:lnTo>
                          <a:lnTo>
                            <a:pt x="2380" y="1242"/>
                          </a:lnTo>
                          <a:lnTo>
                            <a:pt x="2375" y="1290"/>
                          </a:lnTo>
                          <a:lnTo>
                            <a:pt x="2369" y="1329"/>
                          </a:lnTo>
                          <a:lnTo>
                            <a:pt x="2360" y="1350"/>
                          </a:lnTo>
                          <a:lnTo>
                            <a:pt x="2345" y="1370"/>
                          </a:lnTo>
                          <a:lnTo>
                            <a:pt x="2328" y="1384"/>
                          </a:lnTo>
                          <a:lnTo>
                            <a:pt x="2306" y="1395"/>
                          </a:lnTo>
                          <a:lnTo>
                            <a:pt x="2280" y="1402"/>
                          </a:lnTo>
                          <a:lnTo>
                            <a:pt x="2258" y="1407"/>
                          </a:lnTo>
                          <a:lnTo>
                            <a:pt x="2211" y="1409"/>
                          </a:lnTo>
                          <a:lnTo>
                            <a:pt x="2170" y="1407"/>
                          </a:lnTo>
                          <a:lnTo>
                            <a:pt x="2137" y="1402"/>
                          </a:lnTo>
                          <a:lnTo>
                            <a:pt x="2107" y="1400"/>
                          </a:lnTo>
                          <a:lnTo>
                            <a:pt x="2074" y="1399"/>
                          </a:lnTo>
                          <a:lnTo>
                            <a:pt x="2044" y="1399"/>
                          </a:lnTo>
                          <a:lnTo>
                            <a:pt x="2018" y="1400"/>
                          </a:lnTo>
                          <a:lnTo>
                            <a:pt x="1990" y="1402"/>
                          </a:lnTo>
                          <a:lnTo>
                            <a:pt x="1957" y="1411"/>
                          </a:lnTo>
                          <a:lnTo>
                            <a:pt x="1938" y="1417"/>
                          </a:lnTo>
                          <a:lnTo>
                            <a:pt x="1922" y="1424"/>
                          </a:lnTo>
                          <a:lnTo>
                            <a:pt x="1899" y="1437"/>
                          </a:lnTo>
                          <a:lnTo>
                            <a:pt x="1884" y="1454"/>
                          </a:lnTo>
                          <a:lnTo>
                            <a:pt x="1873" y="1469"/>
                          </a:lnTo>
                          <a:lnTo>
                            <a:pt x="1862" y="1487"/>
                          </a:lnTo>
                          <a:lnTo>
                            <a:pt x="1856" y="1506"/>
                          </a:lnTo>
                          <a:lnTo>
                            <a:pt x="1855" y="1526"/>
                          </a:lnTo>
                          <a:lnTo>
                            <a:pt x="1856" y="1548"/>
                          </a:lnTo>
                          <a:lnTo>
                            <a:pt x="1856" y="1584"/>
                          </a:lnTo>
                          <a:lnTo>
                            <a:pt x="1855" y="1623"/>
                          </a:lnTo>
                          <a:lnTo>
                            <a:pt x="1843" y="1651"/>
                          </a:lnTo>
                          <a:lnTo>
                            <a:pt x="1832" y="1675"/>
                          </a:lnTo>
                          <a:lnTo>
                            <a:pt x="1816" y="1691"/>
                          </a:lnTo>
                          <a:lnTo>
                            <a:pt x="1791" y="1705"/>
                          </a:lnTo>
                          <a:lnTo>
                            <a:pt x="1767" y="1716"/>
                          </a:lnTo>
                          <a:lnTo>
                            <a:pt x="1739" y="1723"/>
                          </a:lnTo>
                          <a:lnTo>
                            <a:pt x="1704" y="1730"/>
                          </a:lnTo>
                          <a:lnTo>
                            <a:pt x="1674" y="1738"/>
                          </a:lnTo>
                          <a:lnTo>
                            <a:pt x="1639" y="1743"/>
                          </a:lnTo>
                          <a:lnTo>
                            <a:pt x="1609" y="1748"/>
                          </a:lnTo>
                          <a:lnTo>
                            <a:pt x="1576" y="1755"/>
                          </a:lnTo>
                          <a:lnTo>
                            <a:pt x="1550" y="1766"/>
                          </a:lnTo>
                          <a:lnTo>
                            <a:pt x="1520" y="1778"/>
                          </a:lnTo>
                          <a:lnTo>
                            <a:pt x="1492" y="1793"/>
                          </a:lnTo>
                          <a:lnTo>
                            <a:pt x="1472" y="1813"/>
                          </a:lnTo>
                          <a:lnTo>
                            <a:pt x="1453" y="1837"/>
                          </a:lnTo>
                          <a:lnTo>
                            <a:pt x="1438" y="1865"/>
                          </a:lnTo>
                          <a:lnTo>
                            <a:pt x="1435" y="1890"/>
                          </a:lnTo>
                          <a:lnTo>
                            <a:pt x="1437" y="1919"/>
                          </a:lnTo>
                          <a:lnTo>
                            <a:pt x="1442" y="1945"/>
                          </a:lnTo>
                          <a:lnTo>
                            <a:pt x="1451" y="1974"/>
                          </a:lnTo>
                          <a:lnTo>
                            <a:pt x="1459" y="2005"/>
                          </a:lnTo>
                          <a:lnTo>
                            <a:pt x="1464" y="2034"/>
                          </a:lnTo>
                          <a:lnTo>
                            <a:pt x="1472" y="2071"/>
                          </a:lnTo>
                          <a:lnTo>
                            <a:pt x="1472" y="2107"/>
                          </a:lnTo>
                          <a:lnTo>
                            <a:pt x="1463" y="2144"/>
                          </a:lnTo>
                          <a:lnTo>
                            <a:pt x="1453" y="2173"/>
                          </a:lnTo>
                          <a:lnTo>
                            <a:pt x="1442" y="2201"/>
                          </a:lnTo>
                          <a:lnTo>
                            <a:pt x="1427" y="2228"/>
                          </a:lnTo>
                          <a:lnTo>
                            <a:pt x="1407" y="2261"/>
                          </a:lnTo>
                          <a:lnTo>
                            <a:pt x="1385" y="2283"/>
                          </a:lnTo>
                          <a:lnTo>
                            <a:pt x="1366" y="2298"/>
                          </a:lnTo>
                          <a:lnTo>
                            <a:pt x="1342" y="2316"/>
                          </a:lnTo>
                          <a:lnTo>
                            <a:pt x="1316" y="2333"/>
                          </a:lnTo>
                          <a:lnTo>
                            <a:pt x="1292" y="2341"/>
                          </a:lnTo>
                          <a:lnTo>
                            <a:pt x="1269" y="2346"/>
                          </a:lnTo>
                          <a:lnTo>
                            <a:pt x="1232" y="2350"/>
                          </a:lnTo>
                          <a:lnTo>
                            <a:pt x="1189" y="2351"/>
                          </a:lnTo>
                          <a:lnTo>
                            <a:pt x="1137" y="2350"/>
                          </a:lnTo>
                          <a:lnTo>
                            <a:pt x="1113" y="2350"/>
                          </a:lnTo>
                          <a:lnTo>
                            <a:pt x="1082" y="2345"/>
                          </a:lnTo>
                          <a:lnTo>
                            <a:pt x="1048" y="2336"/>
                          </a:lnTo>
                          <a:lnTo>
                            <a:pt x="1019" y="2321"/>
                          </a:lnTo>
                          <a:lnTo>
                            <a:pt x="1000" y="2308"/>
                          </a:lnTo>
                          <a:lnTo>
                            <a:pt x="980" y="2290"/>
                          </a:lnTo>
                          <a:lnTo>
                            <a:pt x="963" y="2273"/>
                          </a:lnTo>
                          <a:lnTo>
                            <a:pt x="946" y="2251"/>
                          </a:lnTo>
                          <a:lnTo>
                            <a:pt x="933" y="2229"/>
                          </a:lnTo>
                          <a:lnTo>
                            <a:pt x="922" y="2203"/>
                          </a:lnTo>
                          <a:lnTo>
                            <a:pt x="916" y="2174"/>
                          </a:lnTo>
                          <a:lnTo>
                            <a:pt x="915" y="2153"/>
                          </a:lnTo>
                          <a:lnTo>
                            <a:pt x="915" y="2122"/>
                          </a:lnTo>
                          <a:lnTo>
                            <a:pt x="916" y="2097"/>
                          </a:lnTo>
                          <a:lnTo>
                            <a:pt x="926" y="2071"/>
                          </a:lnTo>
                          <a:lnTo>
                            <a:pt x="933" y="2039"/>
                          </a:lnTo>
                          <a:lnTo>
                            <a:pt x="942" y="2009"/>
                          </a:lnTo>
                          <a:lnTo>
                            <a:pt x="948" y="1982"/>
                          </a:lnTo>
                          <a:lnTo>
                            <a:pt x="950" y="1957"/>
                          </a:lnTo>
                          <a:lnTo>
                            <a:pt x="948" y="1937"/>
                          </a:lnTo>
                          <a:lnTo>
                            <a:pt x="942" y="1917"/>
                          </a:lnTo>
                          <a:lnTo>
                            <a:pt x="928" y="1892"/>
                          </a:lnTo>
                          <a:lnTo>
                            <a:pt x="913" y="1875"/>
                          </a:lnTo>
                          <a:lnTo>
                            <a:pt x="894" y="1857"/>
                          </a:lnTo>
                          <a:lnTo>
                            <a:pt x="874" y="1843"/>
                          </a:lnTo>
                          <a:lnTo>
                            <a:pt x="853" y="1830"/>
                          </a:lnTo>
                          <a:lnTo>
                            <a:pt x="823" y="1820"/>
                          </a:lnTo>
                          <a:lnTo>
                            <a:pt x="797" y="1813"/>
                          </a:lnTo>
                          <a:lnTo>
                            <a:pt x="764" y="1807"/>
                          </a:lnTo>
                          <a:lnTo>
                            <a:pt x="734" y="1803"/>
                          </a:lnTo>
                          <a:lnTo>
                            <a:pt x="706" y="1797"/>
                          </a:lnTo>
                          <a:lnTo>
                            <a:pt x="673" y="1790"/>
                          </a:lnTo>
                          <a:lnTo>
                            <a:pt x="645" y="1780"/>
                          </a:lnTo>
                          <a:lnTo>
                            <a:pt x="612" y="1771"/>
                          </a:lnTo>
                          <a:lnTo>
                            <a:pt x="586" y="1761"/>
                          </a:lnTo>
                          <a:lnTo>
                            <a:pt x="565" y="1746"/>
                          </a:lnTo>
                          <a:lnTo>
                            <a:pt x="549" y="1726"/>
                          </a:lnTo>
                          <a:lnTo>
                            <a:pt x="537" y="1701"/>
                          </a:lnTo>
                          <a:lnTo>
                            <a:pt x="528" y="1668"/>
                          </a:lnTo>
                          <a:lnTo>
                            <a:pt x="526" y="1641"/>
                          </a:lnTo>
                          <a:lnTo>
                            <a:pt x="528" y="1611"/>
                          </a:lnTo>
                          <a:lnTo>
                            <a:pt x="532" y="1588"/>
                          </a:lnTo>
                          <a:lnTo>
                            <a:pt x="528" y="1559"/>
                          </a:lnTo>
                          <a:lnTo>
                            <a:pt x="519" y="1538"/>
                          </a:lnTo>
                          <a:lnTo>
                            <a:pt x="502" y="1514"/>
                          </a:lnTo>
                          <a:lnTo>
                            <a:pt x="485" y="1499"/>
                          </a:lnTo>
                          <a:lnTo>
                            <a:pt x="465" y="1484"/>
                          </a:lnTo>
                          <a:lnTo>
                            <a:pt x="437" y="1474"/>
                          </a:lnTo>
                          <a:lnTo>
                            <a:pt x="405" y="1464"/>
                          </a:lnTo>
                          <a:lnTo>
                            <a:pt x="372" y="1461"/>
                          </a:lnTo>
                          <a:lnTo>
                            <a:pt x="344" y="1457"/>
                          </a:lnTo>
                          <a:lnTo>
                            <a:pt x="313" y="1457"/>
                          </a:lnTo>
                          <a:lnTo>
                            <a:pt x="285" y="1461"/>
                          </a:lnTo>
                          <a:lnTo>
                            <a:pt x="257" y="1462"/>
                          </a:lnTo>
                          <a:lnTo>
                            <a:pt x="229" y="1466"/>
                          </a:lnTo>
                          <a:lnTo>
                            <a:pt x="201" y="1469"/>
                          </a:lnTo>
                          <a:lnTo>
                            <a:pt x="155" y="1469"/>
                          </a:lnTo>
                          <a:lnTo>
                            <a:pt x="125" y="1467"/>
                          </a:lnTo>
                          <a:lnTo>
                            <a:pt x="93" y="1461"/>
                          </a:lnTo>
                          <a:lnTo>
                            <a:pt x="71" y="1451"/>
                          </a:lnTo>
                          <a:lnTo>
                            <a:pt x="47" y="1434"/>
                          </a:lnTo>
                          <a:lnTo>
                            <a:pt x="30" y="1416"/>
                          </a:lnTo>
                          <a:lnTo>
                            <a:pt x="19" y="1395"/>
                          </a:lnTo>
                          <a:lnTo>
                            <a:pt x="6" y="1357"/>
                          </a:lnTo>
                          <a:lnTo>
                            <a:pt x="4" y="1317"/>
                          </a:lnTo>
                          <a:lnTo>
                            <a:pt x="2" y="1277"/>
                          </a:lnTo>
                          <a:lnTo>
                            <a:pt x="0" y="1227"/>
                          </a:lnTo>
                          <a:lnTo>
                            <a:pt x="4" y="1183"/>
                          </a:lnTo>
                          <a:lnTo>
                            <a:pt x="6" y="1136"/>
                          </a:lnTo>
                          <a:lnTo>
                            <a:pt x="8" y="1095"/>
                          </a:lnTo>
                          <a:lnTo>
                            <a:pt x="12" y="1051"/>
                          </a:lnTo>
                          <a:lnTo>
                            <a:pt x="17" y="1018"/>
                          </a:lnTo>
                          <a:lnTo>
                            <a:pt x="23" y="981"/>
                          </a:lnTo>
                          <a:lnTo>
                            <a:pt x="30" y="953"/>
                          </a:lnTo>
                          <a:lnTo>
                            <a:pt x="41" y="934"/>
                          </a:lnTo>
                          <a:lnTo>
                            <a:pt x="58" y="916"/>
                          </a:lnTo>
                          <a:lnTo>
                            <a:pt x="75" y="904"/>
                          </a:lnTo>
                          <a:lnTo>
                            <a:pt x="97" y="891"/>
                          </a:lnTo>
                          <a:lnTo>
                            <a:pt x="117" y="887"/>
                          </a:lnTo>
                          <a:lnTo>
                            <a:pt x="143" y="882"/>
                          </a:lnTo>
                          <a:lnTo>
                            <a:pt x="177" y="881"/>
                          </a:lnTo>
                          <a:lnTo>
                            <a:pt x="207" y="882"/>
                          </a:lnTo>
                          <a:lnTo>
                            <a:pt x="248" y="887"/>
                          </a:lnTo>
                          <a:lnTo>
                            <a:pt x="283" y="889"/>
                          </a:lnTo>
                          <a:lnTo>
                            <a:pt x="313" y="891"/>
                          </a:lnTo>
                          <a:lnTo>
                            <a:pt x="353" y="892"/>
                          </a:lnTo>
                          <a:lnTo>
                            <a:pt x="396" y="887"/>
                          </a:lnTo>
                          <a:lnTo>
                            <a:pt x="431" y="881"/>
                          </a:lnTo>
                          <a:lnTo>
                            <a:pt x="465" y="869"/>
                          </a:lnTo>
                          <a:lnTo>
                            <a:pt x="487" y="857"/>
                          </a:lnTo>
                          <a:lnTo>
                            <a:pt x="509" y="839"/>
                          </a:lnTo>
                          <a:lnTo>
                            <a:pt x="526" y="816"/>
                          </a:lnTo>
                          <a:lnTo>
                            <a:pt x="537" y="792"/>
                          </a:lnTo>
                          <a:lnTo>
                            <a:pt x="541" y="767"/>
                          </a:lnTo>
                          <a:lnTo>
                            <a:pt x="539" y="749"/>
                          </a:lnTo>
                          <a:lnTo>
                            <a:pt x="537" y="714"/>
                          </a:lnTo>
                          <a:lnTo>
                            <a:pt x="539" y="679"/>
                          </a:lnTo>
                          <a:lnTo>
                            <a:pt x="547" y="652"/>
                          </a:lnTo>
                          <a:lnTo>
                            <a:pt x="556" y="627"/>
                          </a:lnTo>
                          <a:lnTo>
                            <a:pt x="569" y="608"/>
                          </a:lnTo>
                          <a:lnTo>
                            <a:pt x="595" y="590"/>
                          </a:lnTo>
                          <a:lnTo>
                            <a:pt x="623" y="577"/>
                          </a:lnTo>
                          <a:lnTo>
                            <a:pt x="658" y="567"/>
                          </a:lnTo>
                          <a:lnTo>
                            <a:pt x="693" y="558"/>
                          </a:lnTo>
                          <a:lnTo>
                            <a:pt x="723" y="552"/>
                          </a:lnTo>
                          <a:lnTo>
                            <a:pt x="760" y="547"/>
                          </a:lnTo>
                          <a:lnTo>
                            <a:pt x="796" y="540"/>
                          </a:lnTo>
                          <a:lnTo>
                            <a:pt x="836" y="530"/>
                          </a:lnTo>
                          <a:lnTo>
                            <a:pt x="876" y="515"/>
                          </a:lnTo>
                          <a:lnTo>
                            <a:pt x="909" y="49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38080" y="4114800"/>
              <a:ext cx="2819520" cy="2205360"/>
              <a:chOff x="838080" y="4114800"/>
              <a:chExt cx="2819520" cy="2205360"/>
            </a:xfrm>
          </p:grpSpPr>
          <p:sp>
            <p:nvSpPr>
              <p:cNvPr id="292" name=""/>
              <p:cNvSpPr/>
              <p:nvPr/>
            </p:nvSpPr>
            <p:spPr>
              <a:xfrm>
                <a:off x="838080" y="4114800"/>
                <a:ext cx="94464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ardware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93880" y="5827680"/>
                <a:ext cx="8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02920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irect Co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8280" y="434340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86000" y="567864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 Development and Com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609480" y="3733920"/>
            <a:ext cx="3048120" cy="288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T Ownershi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78160" y="1689120"/>
            <a:ext cx="1014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D T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680" y="170172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al, LCC approaches can be used to compile DOD T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IE IT Ownership Cost focus is infrastructure IT, similar to commercial industry T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O is unique in that hidden costs are a significan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562720"/>
            <a:ext cx="3045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289320" y="597384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765360" cy="550800"/>
          </a:xfrm>
          <a:prstGeom prst="rect">
            <a:avLst/>
          </a:prstGeom>
          <a:ln w="0">
            <a:noFill/>
          </a:ln>
        </p:spPr>
      </p:pic>
      <p:pic>
        <p:nvPicPr>
          <p:cNvPr id="303" name="B0521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1164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905120"/>
            <a:ext cx="2435400" cy="4572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otal DO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88884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siness Case Analysi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1752480"/>
          <a:ext cx="5486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5486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82880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74320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S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327672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809880"/>
            <a:ext cx="1447560" cy="457200"/>
          </a:xfrm>
          <a:custGeom>
            <a:avLst/>
            <a:gdLst>
              <a:gd name="textAreaLeft" fmla="*/ 0 w 1447560"/>
              <a:gd name="textAreaRight" fmla="*/ 1447920 w 14475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56480" y="44197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58000" y="2666880"/>
            <a:ext cx="264960" cy="536760"/>
            <a:chOff x="6858000" y="2666880"/>
            <a:chExt cx="264960" cy="53676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6858000" y="2666880"/>
              <a:ext cx="264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33960" y="29156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5760" y="27601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3276720"/>
            <a:ext cx="266760" cy="536400"/>
            <a:chOff x="7238880" y="3276720"/>
            <a:chExt cx="266760" cy="5364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238880" y="3276720"/>
              <a:ext cx="266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315200" y="352512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0960" y="366768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543800" y="3733920"/>
            <a:ext cx="264960" cy="536400"/>
            <a:chOff x="7543800" y="3733920"/>
            <a:chExt cx="264960" cy="53640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7543800" y="373392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19760" y="39823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560" y="382716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305920" y="5931000"/>
            <a:ext cx="264960" cy="536400"/>
            <a:chOff x="8305920" y="5931000"/>
            <a:chExt cx="264960" cy="53640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8305920" y="593100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381880" y="617940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3680" y="60242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715000" y="1981080"/>
            <a:ext cx="2438280" cy="609840"/>
          </a:xfrm>
          <a:prstGeom prst="downArrowCallout">
            <a:avLst>
              <a:gd name="adj1" fmla="val 40097"/>
              <a:gd name="adj2" fmla="val 51273"/>
              <a:gd name="adj3" fmla="val 22222"/>
              <a:gd name="adj4" fmla="val 4884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TS PRODUCT “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21360" y="473724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61040" y="504180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26280" y="530856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04120" y="55879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9080" y="598176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“black box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2600" y="60948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-Framework Case Stud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FMC case study incorporates 3 dimensions of IT Ownership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alidate IT Ownership Cost as a means of justifying new IT investment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ssess the feasibility of compiling IT Ownership Cost for one specific base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roximate costs not previously baselined (e.g., hidden costs)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3600" y="4857840"/>
            <a:ext cx="374760" cy="29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06800" y="3220920"/>
            <a:ext cx="2171880" cy="1803600"/>
          </a:xfrm>
          <a:custGeom>
            <a:avLst/>
            <a:gdLst/>
            <a:ahLst/>
            <a:rect l="l" t="t" r="r" b="b"/>
            <a:pathLst>
              <a:path w="1368" h="1136">
                <a:moveTo>
                  <a:pt x="0" y="1035"/>
                </a:moveTo>
                <a:lnTo>
                  <a:pt x="84" y="1136"/>
                </a:lnTo>
                <a:lnTo>
                  <a:pt x="1368" y="101"/>
                </a:lnTo>
                <a:lnTo>
                  <a:pt x="1284" y="0"/>
                </a:lnTo>
                <a:lnTo>
                  <a:pt x="0" y="103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2840" y="3105000"/>
            <a:ext cx="2125800" cy="1746360"/>
          </a:xfrm>
          <a:custGeom>
            <a:avLst/>
            <a:gdLst/>
            <a:ahLst/>
            <a:rect l="l" t="t" r="r" b="b"/>
            <a:pathLst>
              <a:path w="1339" h="1100">
                <a:moveTo>
                  <a:pt x="1252" y="0"/>
                </a:moveTo>
                <a:lnTo>
                  <a:pt x="0" y="988"/>
                </a:lnTo>
                <a:lnTo>
                  <a:pt x="87" y="1100"/>
                </a:lnTo>
                <a:lnTo>
                  <a:pt x="1339" y="113"/>
                </a:lnTo>
                <a:lnTo>
                  <a:pt x="125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55920" y="3093840"/>
            <a:ext cx="222228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55920" y="4857840"/>
            <a:ext cx="1440" cy="1776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8360" y="4851360"/>
            <a:ext cx="144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55920" y="4857840"/>
            <a:ext cx="3328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55920" y="5146560"/>
            <a:ext cx="33289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62040" y="5445000"/>
            <a:ext cx="330984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66720" y="5740560"/>
            <a:ext cx="33181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920" y="6039000"/>
            <a:ext cx="33289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62040" y="6327720"/>
            <a:ext cx="33163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55920" y="6621480"/>
            <a:ext cx="33159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1880" y="4851000"/>
            <a:ext cx="221148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30320" y="4557600"/>
            <a:ext cx="3316320" cy="64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33680" y="3381480"/>
            <a:ext cx="32990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35160" y="3681360"/>
            <a:ext cx="3318120" cy="18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3975120"/>
            <a:ext cx="3294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98600" y="4263840"/>
            <a:ext cx="33116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6800" y="3699000"/>
            <a:ext cx="1440" cy="17460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15080" y="3398760"/>
            <a:ext cx="6480" cy="174168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78360" y="4557600"/>
            <a:ext cx="2217600" cy="17640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84840" y="4269960"/>
            <a:ext cx="2198520" cy="17636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8360" y="3981600"/>
            <a:ext cx="2205000" cy="17589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878360" y="3681000"/>
            <a:ext cx="221148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78360" y="3381120"/>
            <a:ext cx="22050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498560" y="4857840"/>
            <a:ext cx="468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5160" y="4863960"/>
            <a:ext cx="18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03440" y="4857840"/>
            <a:ext cx="180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6704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18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66880" y="3093840"/>
            <a:ext cx="221796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41640" y="3093840"/>
            <a:ext cx="220500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398760" y="3093840"/>
            <a:ext cx="221616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67040" y="3094200"/>
            <a:ext cx="2217960" cy="17697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6480" y="3093840"/>
            <a:ext cx="220032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92480" y="3087360"/>
            <a:ext cx="221112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19160" y="3098880"/>
            <a:ext cx="221148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48751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90640" y="546876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90640" y="605628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57625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95680" y="635652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21080" y="4863960"/>
            <a:ext cx="3398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4480" y="492768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27560" y="546264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66800" y="55260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33680" y="6056280"/>
            <a:ext cx="523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5640" y="61196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16400" y="5762520"/>
            <a:ext cx="396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38000" y="58262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33680" y="6338880"/>
            <a:ext cx="443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52040" y="6415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6397560"/>
            <a:ext cx="916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0200" y="646128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irect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080" y="61088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10160" y="6172200"/>
            <a:ext cx="85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End User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30840" y="5821200"/>
            <a:ext cx="916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52960" y="588312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own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68960" y="5526000"/>
            <a:ext cx="914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67600" y="558972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32480" y="52610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14640" y="532440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56160" y="4684680"/>
            <a:ext cx="357120" cy="155520"/>
          </a:xfrm>
          <a:custGeom>
            <a:avLst/>
            <a:gdLst/>
            <a:ahLst/>
            <a:rect l="l" t="t" r="r" b="b"/>
            <a:pathLst>
              <a:path w="225" h="98">
                <a:moveTo>
                  <a:pt x="112" y="0"/>
                </a:moveTo>
                <a:lnTo>
                  <a:pt x="0" y="98"/>
                </a:lnTo>
                <a:lnTo>
                  <a:pt x="225" y="98"/>
                </a:lnTo>
                <a:lnTo>
                  <a:pt x="11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3320" y="3059280"/>
            <a:ext cx="495360" cy="328320"/>
          </a:xfrm>
          <a:custGeom>
            <a:avLst/>
            <a:gdLst/>
            <a:ahLst/>
            <a:rect l="l" t="t" r="r" b="b"/>
            <a:pathLst>
              <a:path w="312" h="207">
                <a:moveTo>
                  <a:pt x="141" y="207"/>
                </a:moveTo>
                <a:lnTo>
                  <a:pt x="312" y="22"/>
                </a:lnTo>
                <a:lnTo>
                  <a:pt x="0" y="0"/>
                </a:lnTo>
                <a:lnTo>
                  <a:pt x="141" y="20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89160" y="5203800"/>
            <a:ext cx="2235240" cy="155520"/>
            <a:chOff x="2189160" y="5203800"/>
            <a:chExt cx="2235240" cy="155520"/>
          </a:xfrm>
        </p:grpSpPr>
        <p:sp>
          <p:nvSpPr>
            <p:cNvPr id="410" name=""/>
            <p:cNvSpPr/>
            <p:nvPr/>
          </p:nvSpPr>
          <p:spPr>
            <a:xfrm flipV="1">
              <a:off x="2189160" y="5278320"/>
              <a:ext cx="2090880" cy="648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8880" y="52038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8"/>
                  </a:moveTo>
                  <a:lnTo>
                    <a:pt x="98" y="47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42160" y="3560760"/>
            <a:ext cx="155520" cy="1089000"/>
            <a:chOff x="6842160" y="3560760"/>
            <a:chExt cx="155520" cy="1089000"/>
          </a:xfrm>
        </p:grpSpPr>
        <p:sp>
          <p:nvSpPr>
            <p:cNvPr id="413" name=""/>
            <p:cNvSpPr/>
            <p:nvPr/>
          </p:nvSpPr>
          <p:spPr>
            <a:xfrm flipH="1" flipV="1">
              <a:off x="6916680" y="3705120"/>
              <a:ext cx="6480" cy="944640"/>
            </a:xfrm>
            <a:prstGeom prst="line">
              <a:avLst/>
            </a:prstGeom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2160" y="35607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98"/>
                  </a:moveTo>
                  <a:lnTo>
                    <a:pt x="47" y="0"/>
                  </a:lnTo>
                  <a:lnTo>
                    <a:pt x="0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896000" y="4875120"/>
            <a:ext cx="20772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0" y="0"/>
                </a:moveTo>
                <a:lnTo>
                  <a:pt x="22" y="142"/>
                </a:lnTo>
                <a:lnTo>
                  <a:pt x="131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73200" y="4782960"/>
            <a:ext cx="1490760" cy="1049400"/>
          </a:xfrm>
          <a:custGeom>
            <a:avLst/>
            <a:gdLst/>
            <a:ahLst/>
            <a:rect l="l" t="t" r="r" b="b"/>
            <a:pathLst>
              <a:path w="259" h="182">
                <a:moveTo>
                  <a:pt x="129" y="49"/>
                </a:moveTo>
                <a:lnTo>
                  <a:pt x="100" y="19"/>
                </a:lnTo>
                <a:lnTo>
                  <a:pt x="88" y="53"/>
                </a:lnTo>
                <a:lnTo>
                  <a:pt x="4" y="19"/>
                </a:lnTo>
                <a:lnTo>
                  <a:pt x="55" y="64"/>
                </a:lnTo>
                <a:lnTo>
                  <a:pt x="0" y="73"/>
                </a:lnTo>
                <a:lnTo>
                  <a:pt x="45" y="99"/>
                </a:lnTo>
                <a:lnTo>
                  <a:pt x="2" y="123"/>
                </a:lnTo>
                <a:lnTo>
                  <a:pt x="68" y="117"/>
                </a:lnTo>
                <a:lnTo>
                  <a:pt x="57" y="148"/>
                </a:lnTo>
                <a:lnTo>
                  <a:pt x="93" y="132"/>
                </a:lnTo>
                <a:lnTo>
                  <a:pt x="102" y="182"/>
                </a:lnTo>
                <a:lnTo>
                  <a:pt x="126" y="126"/>
                </a:lnTo>
                <a:lnTo>
                  <a:pt x="159" y="166"/>
                </a:lnTo>
                <a:lnTo>
                  <a:pt x="168" y="122"/>
                </a:lnTo>
                <a:lnTo>
                  <a:pt x="218" y="152"/>
                </a:lnTo>
                <a:lnTo>
                  <a:pt x="202" y="109"/>
                </a:lnTo>
                <a:lnTo>
                  <a:pt x="259" y="112"/>
                </a:lnTo>
                <a:lnTo>
                  <a:pt x="211" y="88"/>
                </a:lnTo>
                <a:lnTo>
                  <a:pt x="253" y="69"/>
                </a:lnTo>
                <a:lnTo>
                  <a:pt x="200" y="62"/>
                </a:lnTo>
                <a:lnTo>
                  <a:pt x="220" y="38"/>
                </a:lnTo>
                <a:lnTo>
                  <a:pt x="170" y="45"/>
                </a:lnTo>
                <a:lnTo>
                  <a:pt x="174" y="0"/>
                </a:lnTo>
                <a:lnTo>
                  <a:pt x="129" y="49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08880" y="510552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Dimensio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39760" y="5203800"/>
            <a:ext cx="546120" cy="1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21040" y="5226120"/>
            <a:ext cx="756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IT TOC on a Base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7840" y="5348160"/>
            <a:ext cx="60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by-Bas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9520" y="488160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37" y="105"/>
                </a:moveTo>
                <a:lnTo>
                  <a:pt x="156" y="21"/>
                </a:lnTo>
                <a:lnTo>
                  <a:pt x="0" y="0"/>
                </a:lnTo>
                <a:lnTo>
                  <a:pt x="37" y="1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89520" y="4875120"/>
            <a:ext cx="76320" cy="19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96000" y="5037120"/>
            <a:ext cx="69840" cy="92160"/>
          </a:xfrm>
          <a:custGeom>
            <a:avLst/>
            <a:gdLst/>
            <a:ahLst/>
            <a:rect l="l" t="t" r="r" b="b"/>
            <a:pathLst>
              <a:path w="12" h="16">
                <a:moveTo>
                  <a:pt x="1" y="0"/>
                </a:moveTo>
                <a:cubicBezTo>
                  <a:pt x="0" y="13"/>
                  <a:pt x="0" y="8"/>
                  <a:pt x="0" y="16"/>
                </a:cubicBezTo>
                <a:cubicBezTo>
                  <a:pt x="4" y="15"/>
                  <a:pt x="7" y="13"/>
                  <a:pt x="10" y="11"/>
                </a:cubicBezTo>
                <a:cubicBezTo>
                  <a:pt x="12" y="6"/>
                  <a:pt x="6" y="2"/>
                  <a:pt x="1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45480" y="3111480"/>
            <a:ext cx="144360" cy="28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24" y="0"/>
                </a:moveTo>
                <a:cubicBezTo>
                  <a:pt x="17" y="7"/>
                  <a:pt x="14" y="8"/>
                  <a:pt x="7" y="12"/>
                </a:cubicBezTo>
                <a:cubicBezTo>
                  <a:pt x="5" y="16"/>
                  <a:pt x="0" y="22"/>
                  <a:pt x="0" y="22"/>
                </a:cubicBezTo>
                <a:cubicBezTo>
                  <a:pt x="2" y="33"/>
                  <a:pt x="17" y="42"/>
                  <a:pt x="25" y="50"/>
                </a:cubicBezTo>
                <a:cubicBezTo>
                  <a:pt x="25" y="46"/>
                  <a:pt x="22" y="33"/>
                  <a:pt x="24" y="28"/>
                </a:cubicBezTo>
                <a:cubicBezTo>
                  <a:pt x="25" y="18"/>
                  <a:pt x="24" y="10"/>
                  <a:pt x="24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89840" y="3111480"/>
            <a:ext cx="1440" cy="173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61120" y="3917880"/>
            <a:ext cx="1485720" cy="1338480"/>
          </a:xfrm>
          <a:custGeom>
            <a:avLst/>
            <a:gdLst/>
            <a:ahLst/>
            <a:rect l="l" t="t" r="r" b="b"/>
            <a:pathLst>
              <a:path w="258" h="232">
                <a:moveTo>
                  <a:pt x="129" y="62"/>
                </a:moveTo>
                <a:lnTo>
                  <a:pt x="100" y="25"/>
                </a:lnTo>
                <a:lnTo>
                  <a:pt x="87" y="68"/>
                </a:lnTo>
                <a:lnTo>
                  <a:pt x="4" y="25"/>
                </a:lnTo>
                <a:lnTo>
                  <a:pt x="55" y="82"/>
                </a:lnTo>
                <a:lnTo>
                  <a:pt x="0" y="93"/>
                </a:lnTo>
                <a:lnTo>
                  <a:pt x="44" y="126"/>
                </a:lnTo>
                <a:lnTo>
                  <a:pt x="2" y="157"/>
                </a:lnTo>
                <a:lnTo>
                  <a:pt x="68" y="150"/>
                </a:lnTo>
                <a:lnTo>
                  <a:pt x="57" y="189"/>
                </a:lnTo>
                <a:lnTo>
                  <a:pt x="92" y="168"/>
                </a:lnTo>
                <a:lnTo>
                  <a:pt x="101" y="232"/>
                </a:lnTo>
                <a:lnTo>
                  <a:pt x="126" y="160"/>
                </a:lnTo>
                <a:lnTo>
                  <a:pt x="158" y="212"/>
                </a:lnTo>
                <a:lnTo>
                  <a:pt x="167" y="155"/>
                </a:lnTo>
                <a:lnTo>
                  <a:pt x="217" y="194"/>
                </a:lnTo>
                <a:lnTo>
                  <a:pt x="201" y="139"/>
                </a:lnTo>
                <a:lnTo>
                  <a:pt x="258" y="143"/>
                </a:lnTo>
                <a:lnTo>
                  <a:pt x="210" y="113"/>
                </a:lnTo>
                <a:lnTo>
                  <a:pt x="252" y="87"/>
                </a:lnTo>
                <a:lnTo>
                  <a:pt x="199" y="79"/>
                </a:lnTo>
                <a:lnTo>
                  <a:pt x="220" y="48"/>
                </a:lnTo>
                <a:lnTo>
                  <a:pt x="169" y="57"/>
                </a:lnTo>
                <a:lnTo>
                  <a:pt x="173" y="0"/>
                </a:lnTo>
                <a:lnTo>
                  <a:pt x="129" y="62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90680" y="432756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Dimension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1560" y="4425840"/>
            <a:ext cx="5461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17960" y="4448160"/>
            <a:ext cx="72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T TOC on a TO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92840" y="4568760"/>
            <a:ext cx="51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50360" y="4691160"/>
            <a:ext cx="61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7200">
            <a:off x="6591240" y="2985840"/>
            <a:ext cx="114480" cy="311040"/>
          </a:xfrm>
          <a:custGeom>
            <a:avLst/>
            <a:gdLst/>
            <a:ahLst/>
            <a:rect l="l" t="t" r="r" b="b"/>
            <a:pathLst>
              <a:path w="53" h="54">
                <a:moveTo>
                  <a:pt x="4" y="17"/>
                </a:moveTo>
                <a:cubicBezTo>
                  <a:pt x="0" y="21"/>
                  <a:pt x="2" y="28"/>
                  <a:pt x="3" y="34"/>
                </a:cubicBezTo>
                <a:cubicBezTo>
                  <a:pt x="4" y="35"/>
                  <a:pt x="4" y="37"/>
                  <a:pt x="4" y="37"/>
                </a:cubicBezTo>
                <a:cubicBezTo>
                  <a:pt x="16" y="54"/>
                  <a:pt x="13" y="47"/>
                  <a:pt x="34" y="33"/>
                </a:cubicBezTo>
                <a:cubicBezTo>
                  <a:pt x="40" y="26"/>
                  <a:pt x="48" y="22"/>
                  <a:pt x="53" y="14"/>
                </a:cubicBezTo>
                <a:cubicBezTo>
                  <a:pt x="43" y="0"/>
                  <a:pt x="29" y="6"/>
                  <a:pt x="13" y="12"/>
                </a:cubicBezTo>
                <a:cubicBezTo>
                  <a:pt x="5" y="17"/>
                  <a:pt x="9" y="16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3094200"/>
            <a:ext cx="33400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8920" y="3098880"/>
            <a:ext cx="222264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1320" y="3411360"/>
            <a:ext cx="1640880" cy="1308240"/>
            <a:chOff x="2281320" y="3411360"/>
            <a:chExt cx="1640880" cy="1308240"/>
          </a:xfrm>
        </p:grpSpPr>
        <p:sp>
          <p:nvSpPr>
            <p:cNvPr id="436" name=""/>
            <p:cNvSpPr/>
            <p:nvPr/>
          </p:nvSpPr>
          <p:spPr>
            <a:xfrm flipH="1">
              <a:off x="2390400" y="3411360"/>
              <a:ext cx="1531800" cy="1221120"/>
            </a:xfrm>
            <a:prstGeom prst="line">
              <a:avLst/>
            </a:prstGeom>
            <a:ln w="46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1320" y="455760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44" y="0"/>
                  </a:moveTo>
                  <a:lnTo>
                    <a:pt x="0" y="102"/>
                  </a:lnTo>
                  <a:lnTo>
                    <a:pt x="105" y="7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57720" y="2448000"/>
            <a:ext cx="1463400" cy="1355760"/>
          </a:xfrm>
          <a:custGeom>
            <a:avLst/>
            <a:gdLst/>
            <a:ahLst/>
            <a:rect l="l" t="t" r="r" b="b"/>
            <a:pathLst>
              <a:path w="254" h="235">
                <a:moveTo>
                  <a:pt x="127" y="63"/>
                </a:moveTo>
                <a:lnTo>
                  <a:pt x="98" y="25"/>
                </a:lnTo>
                <a:lnTo>
                  <a:pt x="86" y="69"/>
                </a:lnTo>
                <a:lnTo>
                  <a:pt x="4" y="25"/>
                </a:lnTo>
                <a:lnTo>
                  <a:pt x="54" y="83"/>
                </a:lnTo>
                <a:lnTo>
                  <a:pt x="0" y="94"/>
                </a:lnTo>
                <a:lnTo>
                  <a:pt x="44" y="128"/>
                </a:lnTo>
                <a:lnTo>
                  <a:pt x="2" y="159"/>
                </a:lnTo>
                <a:lnTo>
                  <a:pt x="67" y="152"/>
                </a:lnTo>
                <a:lnTo>
                  <a:pt x="56" y="192"/>
                </a:lnTo>
                <a:lnTo>
                  <a:pt x="91" y="170"/>
                </a:lnTo>
                <a:lnTo>
                  <a:pt x="100" y="235"/>
                </a:lnTo>
                <a:lnTo>
                  <a:pt x="124" y="162"/>
                </a:lnTo>
                <a:lnTo>
                  <a:pt x="156" y="215"/>
                </a:lnTo>
                <a:lnTo>
                  <a:pt x="165" y="157"/>
                </a:lnTo>
                <a:lnTo>
                  <a:pt x="213" y="197"/>
                </a:lnTo>
                <a:lnTo>
                  <a:pt x="198" y="141"/>
                </a:lnTo>
                <a:lnTo>
                  <a:pt x="254" y="145"/>
                </a:lnTo>
                <a:lnTo>
                  <a:pt x="207" y="114"/>
                </a:lnTo>
                <a:lnTo>
                  <a:pt x="248" y="89"/>
                </a:lnTo>
                <a:lnTo>
                  <a:pt x="196" y="80"/>
                </a:lnTo>
                <a:lnTo>
                  <a:pt x="216" y="48"/>
                </a:lnTo>
                <a:lnTo>
                  <a:pt x="166" y="58"/>
                </a:lnTo>
                <a:lnTo>
                  <a:pt x="171" y="0"/>
                </a:lnTo>
                <a:lnTo>
                  <a:pt x="127" y="63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2240" y="285768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Dimension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3120" y="2955960"/>
            <a:ext cx="54792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3200" y="2978280"/>
            <a:ext cx="69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T TOC on a C&amp;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86120" y="309888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Utility Initiative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2280" y="3220920"/>
            <a:ext cx="614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nitiativ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0280" y="2476440"/>
            <a:ext cx="1658880" cy="600120"/>
          </a:xfrm>
          <a:custGeom>
            <a:avLst/>
            <a:gdLst/>
            <a:ahLst/>
            <a:rect l="l" t="t" r="r" b="b"/>
            <a:pathLst>
              <a:path w="1045" h="378">
                <a:moveTo>
                  <a:pt x="0" y="0"/>
                </a:moveTo>
                <a:lnTo>
                  <a:pt x="1045" y="0"/>
                </a:lnTo>
                <a:lnTo>
                  <a:pt x="1045" y="251"/>
                </a:lnTo>
                <a:lnTo>
                  <a:pt x="592" y="251"/>
                </a:lnTo>
                <a:lnTo>
                  <a:pt x="592" y="324"/>
                </a:lnTo>
                <a:lnTo>
                  <a:pt x="715" y="324"/>
                </a:lnTo>
                <a:lnTo>
                  <a:pt x="523" y="378"/>
                </a:lnTo>
                <a:lnTo>
                  <a:pt x="330" y="324"/>
                </a:lnTo>
                <a:lnTo>
                  <a:pt x="454" y="324"/>
                </a:lnTo>
                <a:lnTo>
                  <a:pt x="454" y="251"/>
                </a:lnTo>
                <a:lnTo>
                  <a:pt x="0" y="251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87120" y="2489040"/>
            <a:ext cx="13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posed AFMC case study wil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8080" y="2610000"/>
            <a:ext cx="149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orporate all three approaches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7240" y="2730600"/>
            <a:ext cx="1210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 TOC for one particular s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38760" y="4022640"/>
            <a:ext cx="1093680" cy="835200"/>
          </a:xfrm>
          <a:custGeom>
            <a:avLst/>
            <a:gdLst/>
            <a:ahLst/>
            <a:rect l="l" t="t" r="r" b="b"/>
            <a:pathLst>
              <a:path w="689" h="526">
                <a:moveTo>
                  <a:pt x="0" y="493"/>
                </a:moveTo>
                <a:lnTo>
                  <a:pt x="25" y="526"/>
                </a:lnTo>
                <a:lnTo>
                  <a:pt x="689" y="32"/>
                </a:lnTo>
                <a:lnTo>
                  <a:pt x="664" y="0"/>
                </a:lnTo>
                <a:lnTo>
                  <a:pt x="0" y="4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884840" y="3093840"/>
            <a:ext cx="221112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1960" y="4564080"/>
            <a:ext cx="1440" cy="17636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14920" y="4292640"/>
            <a:ext cx="1800" cy="17352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78520" y="4010040"/>
            <a:ext cx="1440" cy="17240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0" y="52056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1231920"/>
            <a:ext cx="8686800" cy="5423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87600" y="1346040"/>
            <a:ext cx="7148160" cy="5216400"/>
            <a:chOff x="1587600" y="1346040"/>
            <a:chExt cx="7148160" cy="5216400"/>
          </a:xfrm>
        </p:grpSpPr>
        <p:sp>
          <p:nvSpPr>
            <p:cNvPr id="456" name=""/>
            <p:cNvSpPr/>
            <p:nvPr/>
          </p:nvSpPr>
          <p:spPr>
            <a:xfrm>
              <a:off x="2245320" y="2392200"/>
              <a:ext cx="4435560" cy="941400"/>
            </a:xfrm>
            <a:prstGeom prst="hexagon">
              <a:avLst>
                <a:gd name="adj" fmla="val 2624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ich particular products and services are most appropriate and cost-effective under specific condi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87600" y="1346040"/>
              <a:ext cx="4435560" cy="941400"/>
            </a:xfrm>
            <a:prstGeom prst="hexagon">
              <a:avLst>
                <a:gd name="adj" fmla="val 21442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Is IT Ownership Cost relevant for DOD IT investment decisions across DOD organiza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0200" y="5621040"/>
              <a:ext cx="4435560" cy="941400"/>
            </a:xfrm>
            <a:prstGeom prst="hexagon">
              <a:avLst>
                <a:gd name="adj" fmla="val 2491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at obstacles </a:t>
              </a:r>
              <a:r>
                <a:rPr b="0" i="1" lang="en-US" sz="1200" spc="-1" strike="noStrike" u="sng">
                  <a:solidFill>
                    <a:srgbClr val="ffff99"/>
                  </a:solidFill>
                  <a:uFillTx/>
                  <a:latin typeface="Arial"/>
                </a:rPr>
                <a:t>(e.g., cultural, procedural)</a:t>
              </a: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 must be overcome to ensure success of an IT Ownership Cost projec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8160" y="4538160"/>
              <a:ext cx="4435560" cy="941400"/>
            </a:xfrm>
            <a:prstGeom prst="hexagon">
              <a:avLst>
                <a:gd name="adj" fmla="val 20875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 typical DOD cost categories map to the IT Ownership Cost WB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03040" y="3478320"/>
              <a:ext cx="4435560" cy="941040"/>
            </a:xfrm>
            <a:prstGeom prst="hexagon">
              <a:avLst>
                <a:gd name="adj" fmla="val 25117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es one compile IT Ownership Cost using the computation standard (I.e., WB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90440" y="241200"/>
            <a:ext cx="868680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on Evaluation Framework and Computatio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440" y="939960"/>
            <a:ext cx="2222640" cy="2806560"/>
          </a:xfrm>
          <a:prstGeom prst="irregularSeal1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6160" y="1257480"/>
            <a:ext cx="1942920" cy="2145960"/>
          </a:xfrm>
          <a:prstGeom prst="wedgeRectCallout">
            <a:avLst>
              <a:gd name="adj1" fmla="val -96569"/>
              <a:gd name="adj2" fmla="val -1624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719760" y="1320840"/>
          <a:ext cx="242424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9760" y="1320840"/>
                    <a:ext cx="24242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444600" y="4356000"/>
            <a:ext cx="2273040" cy="2146320"/>
          </a:xfrm>
          <a:prstGeom prst="wedgeRectCallout">
            <a:avLst>
              <a:gd name="adj1" fmla="val 85615"/>
              <a:gd name="adj2" fmla="val -21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22440" y="4444920"/>
            <a:ext cx="199368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907920" y="2274840"/>
            <a:ext cx="757080" cy="601560"/>
            <a:chOff x="907920" y="2274840"/>
            <a:chExt cx="757080" cy="601560"/>
          </a:xfrm>
        </p:grpSpPr>
        <p:sp>
          <p:nvSpPr>
            <p:cNvPr id="469" name=""/>
            <p:cNvSpPr/>
            <p:nvPr/>
          </p:nvSpPr>
          <p:spPr>
            <a:xfrm>
              <a:off x="907920" y="2274840"/>
              <a:ext cx="177480" cy="1832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2960" y="2601720"/>
              <a:ext cx="212040" cy="274680"/>
            </a:xfrm>
            <a:prstGeom prst="diamond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8840" y="23662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50120" y="24580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76720" y="2274840"/>
              <a:ext cx="141480" cy="183240"/>
            </a:xfrm>
            <a:prstGeom prst="can">
              <a:avLst>
                <a:gd name="adj" fmla="val 25000"/>
              </a:avLst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27960" y="2366280"/>
              <a:ext cx="213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74040" y="2544840"/>
              <a:ext cx="178200" cy="138240"/>
            </a:xfrm>
            <a:prstGeom prst="flowChartPunchedTap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18:56:38Z</dcterms:created>
  <dc:creator>MITRE</dc:creator>
  <dc:description/>
  <dc:language>en-US</dc:language>
  <cp:lastModifiedBy>MITRE User</cp:lastModifiedBy>
  <cp:lastPrinted>1999-04-06T11:44:40Z</cp:lastPrinted>
  <dcterms:modified xsi:type="dcterms:W3CDTF">1999-05-06T17:01:58Z</dcterms:modified>
  <cp:revision>163</cp:revision>
  <dc:subject/>
  <dc:title>No Slide Title</dc:title>
</cp:coreProperties>
</file>