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DE54-62DA-4582-B50E-C1935409E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D700-72F4-4192-A070-4C5B37EB9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098F-BEEA-4F61-9D3E-BBA4D99A0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3424-E83D-4551-B8FC-3489D9D2F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E27D8-7F3F-49C0-8001-4BFCF745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1FBA8-3F96-4D48-80C3-27A860BB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07401-0BEC-40AE-93A4-2600504B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742FE-7E45-4342-A381-399F1249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F30B6-0150-4944-A850-A2635ACA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2C6D3-0394-40BC-80A3-A9202FBA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F97D3-1FA3-44B6-86CE-1C56CF40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479C-8291-4E0E-B168-A019789AF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980E7-2FB6-4B45-A2D1-208C2F1B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69AE5-118B-4937-A82D-5480473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89130-7278-48C5-B5F4-D72C8FE3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2B27B-8CB3-4CB7-8DF2-453238FC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60769-84FB-4330-8E85-D8A0EBB5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D169-6AB4-40F1-9142-682610E59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0191-7E81-4F50-BD1B-B1547920B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6BF2-CC7C-42B3-ABD4-7AF2B689B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F755-6737-4FC8-88E6-9618C62FE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90CC-ACDC-4278-AB30-6450E5293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5911-4927-4ECB-B92C-46535AE32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3745-852E-42D7-BA35-05F26F1D3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595-EFC0-483A-BF0B-701C22AA1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0453-F80F-4901-8990-03C1C8C33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Fig9-2.mpp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ig9-3.mpp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Fig9-4.htm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9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Communications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862AA-758B-4B26-805A-ACAE13EADB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formance Repor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ance reporting keeps stakeholders informed about how resources are being used to achieve project objectiv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tatus reports describe where the project stands at a specific point in tim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gress reports describe what the project team has accomplished during a certain period of tim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ject forecasting predicts future project status and progress based on past information and trend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tatus review meetings often include performance reportin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E543-20E6-4DBA-9DAE-75F9982118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ministrative Clos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roject or phase of a project requires closu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dministrative closure produ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archiv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mal accepta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66A7-D7C4-4339-9565-0D4C9453B1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ggestions for Improving Project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lve conflicts effectivel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velop better communication skil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un effective meeting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e templates for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5174-01B8-42B9-9FAC-6CB135113E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flict Handling Modes, in Preference Ord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frontation or problem-solving: directly face a confli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romise: use a give-and-take approach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moothing: de-emphasize areas of differences and emphasize areas of agre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cing: the win-lose approach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ithdrawal: retreat or withdraw from an actual or potential disagre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59B0-6864-4401-915A-0D791A0160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9-2. Sample Template for a Project Descrip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33520"/>
            <a:ext cx="80773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Describe the objective of the project in one or two sentences.  Focus on the business benefits of doing the projec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cope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Briefly describe the scope of the project.  What business functions are involved, and what are the main products the project will produ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Assumptions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Summarize the most critical assumptions for the projec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Cost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Provide the total estimated cost of the project.  If desired, list the total cost each year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chedule: 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Provide summary information from the project’s Gantt chart as shown.  Focus on summary tasks and milestones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8105760" cy="2459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0320" y="60958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972E-1F26-402E-A04B-5B50801566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2. Sample Template for a Monthly Progress Re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38080" y="1554120"/>
          <a:ext cx="8305920" cy="417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54120"/>
                    <a:ext cx="830592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5BA1-466C-4D30-B3D7-D08D2F5322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ble 9-3. Sample Template for a Letter of Agreement for a Class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43000" y="1281240"/>
          <a:ext cx="769608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81240"/>
                    <a:ext cx="76960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497F-1A55-4DE3-A423-98853177C6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4. Outline for a Final Project Re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14400" y="1920960"/>
          <a:ext cx="8229600" cy="339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20960"/>
                    <a:ext cx="822960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4B3A-641B-44ED-8B11-741AE9B08C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5. Final Project Documentation I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1487520"/>
          <a:ext cx="7772400" cy="43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87520"/>
                    <a:ext cx="77724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3934-3D4F-4508-B8A6-783A41C2E1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9-3.  Gantt Chart Template for a Class Proje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6280" y="60199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82720" y="533520"/>
            <a:ext cx="8261280" cy="53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2631-2A97-471B-98C6-A83D4F2A67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ortance of Good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greatest threat to many projects is a failure to communic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ur culture does not portray IT professionals as being good communicato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earch shows that IT professionals must be able to communicate effectively to succeed in their posi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rong verbal skills are a key factor in career advancement for IT profession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5D78-9EB3-4953-A156-DD3ABC3E28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ble 9-6. Guidance for Student’s Lessons Learned Re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289160"/>
            <a:ext cx="76960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very two weeks or after a major event in your group project, write a brief journal entry describing what happened and how you felt about it. At the end of the term, write a 2-3 page paper describing your lessons learned based on your group project. Answer the following questions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were your roles and responsibilities on the team? How were they decided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ike/dislike about the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earn about project management and yourself by doing the group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earn about teamwork and yourself by doing the group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would you have done differently? What will you remember to do on the next project you work on after this experience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1744-2F5C-437B-A8B4-5A551FDBD1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8390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Communications Infrastruc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845820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communications infrastructure is a set of tools, techniques, and principles that provide a foundation for the effective transfer of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ools include e-mail, project management software, groupware, fax machines, telephones, teleconferencing systems, document management systems, and word processor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echniques include reporting guidelines and templates, meeting ground rules and procedures, decision-making processes, problem-solving approaches, and conflict resolution and negotiation techniqu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inciples include using open dialog and an agreed upon work ethic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EE4B-CDED-4217-A476-AC8200A38C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Software to Assist in Project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are many software tools to aid in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What Went Right? Example describes several new web-based and wireless communications too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icrosoft Project 98 includes several features to enhance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57DD-3EB9-4FCC-9083-8C6A781F0A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9-4.  MS Project 98 Information Saved as HTML F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742000" cy="5803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12600" y="60958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D4BD-7BE0-4FB0-8D0A-BB5FC63D99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56880" y="3805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2" marL="1085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examples of media that poke fun at the communications skills of technical professionals. How does poking fun at technical professionals' communications skills impact the industry and educational program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the advantages and disadvantages of different ways to distribute project information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w can software assist in project communications? How can it hurt project communication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AB0D-7F0F-4B7A-9563-D7CDC77A5F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Communications Management Proce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munications planning: determining the information and communications needs of the stakehol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formation distribution: making needed information available in a timely mann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ance reporting: collecting and disseminating performance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dministrative closure: generating, gathering, and disseminating information to formalize phase or project comple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C9F1-342F-49AC-A511-853FA0DE63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s Plan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ry project should include some type of communications management plan, a document that guides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reating a stakeholder analysis for project communications also aids in communications plann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1747-7A75-447B-B34E-82F19FC1B3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s Management Plan Cont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description of a collection and filing structure for gathering and storing various types of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distribution structure describing what information goes to whom, when, and how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format for communicating key project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project schedule for producing th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ccess methods for obtaining th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method for updating the communications management plans as the project progresses and develop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stakeholder communications analys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8133-0B3C-4232-BBBA-B742DD660B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ble 9-1. Sample Stakeholder Analysis for Project Commun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66680" y="1143000"/>
          <a:ext cx="7162920" cy="52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716292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F17E-7E04-4C21-B417-C9CD63A051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Distrib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etting the right information to the right people at the right time and in a useful format is just as important as developing the information in the first pla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ortant consideration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ing technology to enhance information distribu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mal and informal methods for distributing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B916-A699-4BFD-8CA6-2358090368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ent Wrong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7621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well publicized example of misuse of e-mail comes from the 1998 Justice Department's high profile, antitrust suit against Microsoft. E-mail emerged as a star witness in the case. Many executives sent messages that should never have been put in writing. The court used e-mail as evidence, even though the senders of the notes said the information was being interpreted out of context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ome companies, such as Amazon.com, have established policies to encourage employees to watch their use of e-mail and delete it often. Their "Sweep and Clean" program instructed employees to purge e-mails that were no longer required for business or legal purposes. They even offered free café lattes to employees who complied immediately. 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6400" y="6243480"/>
            <a:ext cx="49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Harmon, Amy, "E-mail comes back to haunt companies," November 29, 1998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65A1-FF74-4F1B-B7F9-634B1C73CC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9-1. The Impact of the Number of People on Communications Channe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689960" cy="49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309B-4B7D-4036-B546-56B41AE434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8-16T19:01:19Z</cp:lastPrinted>
  <dcterms:modified xsi:type="dcterms:W3CDTF">1999-08-16T19:19:49Z</dcterms:modified>
  <cp:revision>146</cp:revision>
  <dc:subject/>
  <dc:title>No Slide Title</dc:title>
</cp:coreProperties>
</file>