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7415A-E945-45CE-9A28-67302683A5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914040" y="3950280"/>
            <a:ext cx="818676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BAD7E-5129-45A9-8C63-E7D488E619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04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912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4C349-079C-44FC-86E2-8347E03AC1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82080" y="144792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450120" y="144792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914040" y="395028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82080" y="395028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450120" y="395028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91293-B706-46DC-B5A1-FD22EB27D5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E2915C-DB50-4E0F-B966-1D0B71343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B513B7-32CB-4ED1-B79E-282FEE033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5731E9-AC9C-448D-A100-F0C836C06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635437-C7F7-47E0-B56B-677D57FCF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5DC5BF-A3C8-410B-AA5E-C52F06031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82296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9601AF-25A8-406F-ABEF-740BFD630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91404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881F21-0482-41D4-A5C0-F3472AE9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5E88C-5E40-4344-8518-155F40DD86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10912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ACD31C-4E05-498B-B326-4422024A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914040" y="3950280"/>
            <a:ext cx="818676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C8065C-AA55-4860-9136-B24D50EF5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914040" y="3950280"/>
            <a:ext cx="818676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2F0D4E-4A72-4FDF-87BB-5E55C266B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04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510912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C4C7DE-9310-457C-BA31-A981913EA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682080" y="144792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450120" y="144792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914040" y="395028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682080" y="395028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450120" y="395028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1B5D21-3777-432D-B1FA-7917228E4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B743F-4A03-45D0-A2F8-25FB59102E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0982F-2C3C-40A9-AA61-55B657FB9B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974DC-0038-45F8-B23E-DBF57A7EBD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82296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2D9BC-F204-4C97-B0FA-3994FC90D1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91404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7A115-432F-4E68-98B4-FF69922CEE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912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7FA27-D18D-43BA-BE2C-2A03060C8D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040" y="3950280"/>
            <a:ext cx="818676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06C8E-38AA-4E9A-937D-AAE2762B14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90720" y="6416640"/>
            <a:ext cx="266688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5866920" y="6424560"/>
            <a:ext cx="1481400" cy="4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07CD0-9CBB-4A9A-95B8-11A034A93F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0"/>
            <a:ext cx="914040" cy="6878520"/>
            <a:chOff x="0" y="0"/>
            <a:chExt cx="914040" cy="6878520"/>
          </a:xfrm>
        </p:grpSpPr>
        <p:sp>
          <p:nvSpPr>
            <p:cNvPr id="5" name=""/>
            <p:cNvSpPr/>
            <p:nvPr/>
          </p:nvSpPr>
          <p:spPr>
            <a:xfrm>
              <a:off x="422280" y="3423960"/>
              <a:ext cx="10584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3423960"/>
              <a:ext cx="2059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06640" y="3423960"/>
              <a:ext cx="21528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28480" y="3438360"/>
              <a:ext cx="19008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06640" y="4194000"/>
              <a:ext cx="32040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06640" y="4625640"/>
              <a:ext cx="32040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06640" y="5033880"/>
              <a:ext cx="32040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6640" y="5438520"/>
              <a:ext cx="32040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06640" y="5846760"/>
              <a:ext cx="32040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80440" y="6251400"/>
              <a:ext cx="24696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06640" y="3765240"/>
              <a:ext cx="32040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06640" y="3423960"/>
              <a:ext cx="3225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22280" y="4680"/>
              <a:ext cx="10584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0" y="4680"/>
              <a:ext cx="2059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06640" y="4680"/>
              <a:ext cx="21528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28480" y="4680"/>
              <a:ext cx="19008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206640" y="798480"/>
              <a:ext cx="32040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06640" y="1206360"/>
              <a:ext cx="32040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206640" y="1612800"/>
              <a:ext cx="32040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206640" y="2019240"/>
              <a:ext cx="32040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06640" y="2425680"/>
              <a:ext cx="32040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04120" y="6642000"/>
              <a:ext cx="32508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6640" y="344160"/>
              <a:ext cx="32040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06640" y="4680"/>
              <a:ext cx="3225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08800" y="0"/>
              <a:ext cx="14328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06640" y="2860560"/>
              <a:ext cx="32040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718560" y="9360"/>
              <a:ext cx="19548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256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01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4" name=""/>
          <p:cNvSpPr/>
          <p:nvPr/>
        </p:nvSpPr>
        <p:spPr>
          <a:xfrm>
            <a:off x="1676520" y="3429000"/>
            <a:ext cx="539280" cy="5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365" y="21585"/>
                </a:moveTo>
                <a:arcTo wR="10800" hR="10800" stAng="5220000" swAng="10980000"/>
                <a:lnTo>
                  <a:pt x="10800" y="10800"/>
                </a:lnTo>
                <a:close/>
              </a:path>
              <a:path fill="none" w="21600" h="21600">
                <a:moveTo>
                  <a:pt x="11365" y="21585"/>
                </a:moveTo>
                <a:arcTo wR="10800" hR="10800" stAng="5220000" swAng="10980000"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grpSp>
        <p:nvGrpSpPr>
          <p:cNvPr id="35" name=""/>
          <p:cNvGrpSpPr/>
          <p:nvPr/>
        </p:nvGrpSpPr>
        <p:grpSpPr>
          <a:xfrm>
            <a:off x="8248680" y="6186600"/>
            <a:ext cx="609480" cy="592200"/>
            <a:chOff x="8248680" y="6186600"/>
            <a:chExt cx="609480" cy="592200"/>
          </a:xfrm>
        </p:grpSpPr>
        <p:sp>
          <p:nvSpPr>
            <p:cNvPr id="36" name=""/>
            <p:cNvSpPr/>
            <p:nvPr/>
          </p:nvSpPr>
          <p:spPr>
            <a:xfrm>
              <a:off x="8248680" y="6186600"/>
              <a:ext cx="609480" cy="59220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307720" y="6242400"/>
              <a:ext cx="491040" cy="479880"/>
            </a:xfrm>
            <a:prstGeom prst="ellipse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8358840" y="6291360"/>
              <a:ext cx="388440" cy="38196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9" name="">
            <a:hlinkClick r:id="" action="ppaction://hlinkshowjump?jump=nextslide"/>
          </p:cNvPr>
          <p:cNvSpPr/>
          <p:nvPr/>
        </p:nvSpPr>
        <p:spPr>
          <a:xfrm rot="5400000">
            <a:off x="8426160" y="6308640"/>
            <a:ext cx="304920" cy="333360"/>
          </a:xfrm>
          <a:prstGeom prst="triangle">
            <a:avLst>
              <a:gd name="adj" fmla="val 50000"/>
            </a:avLst>
          </a:prstGeom>
          <a:solidFill>
            <a:srgbClr val="e5d58a"/>
          </a:solidFill>
          <a:ln cap="sq" w="1260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grpSp>
        <p:nvGrpSpPr>
          <p:cNvPr id="40" name=""/>
          <p:cNvGrpSpPr/>
          <p:nvPr/>
        </p:nvGrpSpPr>
        <p:grpSpPr>
          <a:xfrm>
            <a:off x="7380360" y="6186600"/>
            <a:ext cx="609480" cy="592200"/>
            <a:chOff x="7380360" y="6186600"/>
            <a:chExt cx="609480" cy="592200"/>
          </a:xfrm>
        </p:grpSpPr>
        <p:sp>
          <p:nvSpPr>
            <p:cNvPr id="41" name=""/>
            <p:cNvSpPr/>
            <p:nvPr/>
          </p:nvSpPr>
          <p:spPr>
            <a:xfrm>
              <a:off x="7380360" y="6186600"/>
              <a:ext cx="609480" cy="59220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7439400" y="6242400"/>
              <a:ext cx="491040" cy="479880"/>
            </a:xfrm>
            <a:prstGeom prst="ellipse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7490520" y="6291360"/>
              <a:ext cx="388440" cy="38196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44" name="">
            <a:hlinkClick r:id="" action="ppaction://hlinkshowjump?jump=previousslide"/>
          </p:cNvPr>
          <p:cNvSpPr/>
          <p:nvPr/>
        </p:nvSpPr>
        <p:spPr>
          <a:xfrm flipH="1" rot="16200000">
            <a:off x="7481520" y="6310080"/>
            <a:ext cx="304920" cy="333360"/>
          </a:xfrm>
          <a:prstGeom prst="triangle">
            <a:avLst>
              <a:gd name="adj" fmla="val 50000"/>
            </a:avLst>
          </a:prstGeom>
          <a:solidFill>
            <a:srgbClr val="e5d58a"/>
          </a:solidFill>
          <a:ln cap="sq" w="1260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38160" y="1380600"/>
            <a:ext cx="640404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2819160" y="54100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4"/>
          </p:nvPr>
        </p:nvSpPr>
        <p:spPr>
          <a:xfrm>
            <a:off x="3362040" y="6319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400800" y="6330960"/>
            <a:ext cx="1481040" cy="4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BF329-EF08-4EF8-9BAF-C325C708AF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86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16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19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20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5" name=""/>
          <p:cNvGrpSpPr/>
          <p:nvPr/>
        </p:nvGrpSpPr>
        <p:grpSpPr>
          <a:xfrm>
            <a:off x="8178840" y="6073920"/>
            <a:ext cx="669960" cy="650880"/>
            <a:chOff x="8178840" y="6073920"/>
            <a:chExt cx="669960" cy="650880"/>
          </a:xfrm>
        </p:grpSpPr>
        <p:sp>
          <p:nvSpPr>
            <p:cNvPr id="136" name=""/>
            <p:cNvSpPr/>
            <p:nvPr/>
          </p:nvSpPr>
          <p:spPr>
            <a:xfrm>
              <a:off x="8178840" y="6073920"/>
              <a:ext cx="669960" cy="65088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244000" y="6135480"/>
              <a:ext cx="539640" cy="527400"/>
            </a:xfrm>
            <a:prstGeom prst="ellipse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300160" y="6189120"/>
              <a:ext cx="426960" cy="41976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139" name="">
            <a:hlinkClick r:id="" action="ppaction://hlinkshowjump?jump=nextslide"/>
          </p:cNvPr>
          <p:cNvSpPr/>
          <p:nvPr/>
        </p:nvSpPr>
        <p:spPr>
          <a:xfrm rot="5400000">
            <a:off x="8380440" y="6240240"/>
            <a:ext cx="323640" cy="301680"/>
          </a:xfrm>
          <a:prstGeom prst="triangle">
            <a:avLst>
              <a:gd name="adj" fmla="val 50000"/>
            </a:avLst>
          </a:prstGeom>
          <a:solidFill>
            <a:srgbClr val="e5d58a"/>
          </a:solidFill>
          <a:ln cap="sq" w="1260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hyperlink" Target="file:///Fig8-6.xls" TargetMode="External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file:///Fig8-7.mpp" TargetMode="External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keirsey.com/" TargetMode="External"/><Relationship Id="rId2" Type="http://schemas.openxmlformats.org/officeDocument/2006/relationships/hyperlink" Target="http://www.keirsey.com/" TargetMode="External"/><Relationship Id="rId3" Type="http://schemas.openxmlformats.org/officeDocument/2006/relationships/hyperlink" Target="http://www.keirsey.com/" TargetMode="External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738160" y="1380600"/>
            <a:ext cx="640404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apter 8: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roject Human Resource Management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4E3E55-6623-4545-9119-55D63592AF4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ys to Influence that Help and Hurt Project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56880" y="1294920"/>
            <a:ext cx="8186760" cy="479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Projects are more likely to succeed when project managers influence with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expertise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work challenge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Projects are more likely to fail when project managers rely too heavily on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authority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money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penalty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A829E-5FD5-47B1-B7D5-B5972620AA2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Power is the potential ability to influence behavior to get people to do things they would not otherwise do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ypes of power includ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Coercive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Legitimate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Expert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Reward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Referent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9A131-8F62-4F6B-82D3-DA820CB876D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mproving Effectiveness - Covey’s 7 Habit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Project managers can apply Covey’s 7 habits to improve effectiveness on project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Be proactive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Begin with the end in mind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Put first things firs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nk win/win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Seek first to understand, then to be understood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Synergize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Sharpen the saw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8EDDF-D118-41A0-AF5E-77F8FA9BE74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mpathic Listening and Rappor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56880" y="1142640"/>
            <a:ext cx="8186760" cy="479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Good project managers are empathic listeners; they listen with the intent to understand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Before you can communicate with others, you have to have rapport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Mirroring is a technique to help establish rapport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IT professionals often need to develop empathic listening and other people skills to improve relationships with users and other stakeholder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27777-E52C-48E1-8228-FBF231941B5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mproving Relationships Between Users and Developer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ome organizations require business people, not IT people, to take the lead in determining and justifying investments in new computer system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IOs push their staff to recognize that the needs of the business must drive all technology decision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ome companies reshape their IT units to look and perform like consulting firm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1B850-1A21-472A-8B98-708DB096D6D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ganizational Planning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56880" y="1142640"/>
            <a:ext cx="8186760" cy="479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Organizational planning involves identifying, documenting, and assigning project roles, responsibilities, and reporting relationship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Outputs and processes includ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project organizational chart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work definition and assignment proces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responsibility assignment matrixe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resource histogram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8C36E-114B-4544-805D-05774A1C037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gure 8-2. Sample Organizational Chart for a Large IT Projec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8229600" cy="458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A05BC-0544-4C39-BF27-25EAB3D186B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gure 8-3. Work Definition and Assignment Proces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838080" y="1514520"/>
            <a:ext cx="8301240" cy="4268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4F434-86EB-4F12-A321-6D49477AFD5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gure 8-4. Sample Responsibility Assignment Matrix (RAM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914400" y="1666800"/>
            <a:ext cx="8224920" cy="3975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469EB-EF99-46FF-8599-46008FC79FC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gure 8-5. RAM Showing Stakeholder Rol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7848720" cy="4811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24FD6-311B-480A-932C-8AAFAD36EE2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Importance of Human Resource Managemen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People determine the success and failure of organizations and project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The shortage of good IT workers makes human resource management even more challenging for IT project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AA calculated that there were over 345,000 openings for IT jobs - about 10% of programmer, systems analysts, and computer engineering positions are open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70% of CEOs in high-tech firms listed the lack of highly skilled, trained workers as the number one barrier to growth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33BD0-ED16-446E-BDA0-B0728AC4AE8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gure 8-6. Sample Resource Histogram for a Large IT Projec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838080" y="1371600"/>
          <a:ext cx="8305920" cy="4294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371600"/>
                    <a:ext cx="8305920" cy="42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1143000" y="5867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9933"/>
                </a:solidFill>
                <a:uFillTx/>
                <a:latin typeface="Times New Roman"/>
                <a:hlinkClick r:id="rId3"/>
              </a:rPr>
              <a:t>Excel fil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6CC71-CAAD-45FE-800A-9DCFDD00452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ssues in Project Staff Acquisition and Team Developmen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taffing plans and good hiring procedures are important in staff acquisition, as are incentives for recruiting and retention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ome companies give their employees one dollar for every hour a new person they helped hire work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ome organizations allow people to work from home as an incentiv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0F7F2-98A4-43D7-A543-4964C254B46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source Loading and Leveling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Resource loading refers to the amount of individual resources an existing project schedule requires during specific time period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Resource histograms show resource loading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Over-allocation means more resources than are available are assigned to perform work at a given tim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14EA9-522C-4AE5-953F-8AA29D142B1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igure 8-7. Sample Histogram Showing an Over-allocated Individua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7550280" cy="476424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73080" y="5985000"/>
            <a:ext cx="19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9933"/>
                </a:solidFill>
                <a:uFillTx/>
                <a:latin typeface="Times New Roman"/>
                <a:hlinkClick r:id="rId2"/>
              </a:rPr>
              <a:t>Project 98 fil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7B1CA-FEDD-49F6-801C-CA19DFDB13A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source Leveling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Resource leveling is a technique for resolving resource conflicts by delaying task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e main purpose of resource leveling is to create a smoother distribution of resource usage and reduce over-allocation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12560-14E0-4BCB-B683-810AF241A2D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igure 8-8. Resource Leveling Exampl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523880" y="1038240"/>
            <a:ext cx="6553440" cy="514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A2351-10B0-4C52-A9C0-8B203AE4564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am Developmen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It takes teamwork to successfully complete most project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raining can help people understand themselves, each other, and how to work better in team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eam building activities includ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physical challenge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psychological preference indicator tool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4CB36-4B3C-4276-97DC-9B1242BF667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eyers-Briggs Type Indicator (MBTI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56880" y="837720"/>
            <a:ext cx="8186760" cy="479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MBTI is a popular tool for determining personality preferences and helping teammates understand each other (</a:t>
            </a:r>
            <a:r>
              <a:rPr b="1" lang="en-US" sz="28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www.</a:t>
            </a:r>
            <a:r>
              <a:rPr b="1" lang="en-US" sz="28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keirsey</a:t>
            </a:r>
            <a:r>
              <a:rPr b="1" lang="en-US" sz="2800" spc="-1" strike="noStrike" u="sng">
                <a:solidFill>
                  <a:srgbClr val="999933"/>
                </a:solidFill>
                <a:uFillTx/>
                <a:latin typeface="Arial"/>
                <a:hlinkClick r:id="rId3"/>
              </a:rPr>
              <a:t>.com</a:t>
            </a:r>
            <a:r>
              <a:rPr b="1" lang="en-US" sz="2800" spc="-1" strike="noStrike" u="sng">
                <a:solidFill>
                  <a:srgbClr val="333300"/>
                </a:solidFill>
                <a:uFillTx/>
                <a:latin typeface="Arial"/>
              </a:rPr>
              <a:t>)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Four dimensions include: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Extrovert/Introvert (E/I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Sensation/Intuition (S/N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nking/Feeling (T/F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dgment/Perception (J/P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Most IT professionals are NTs or rational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Vary most from general population in not being extroverted or sensing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251B8-3751-4914-921E-3CB39BDD2E6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838080" y="22860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ick Team Development Exercise*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295280" y="1600200"/>
            <a:ext cx="7489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Rank from 1 to 5 which figures you like the best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247760" y="2819520"/>
            <a:ext cx="961920" cy="914400"/>
          </a:xfrm>
          <a:prstGeom prst="rect">
            <a:avLst/>
          </a:prstGeom>
          <a:noFill/>
          <a:ln w="255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727360" y="2819520"/>
            <a:ext cx="549360" cy="1218960"/>
          </a:xfrm>
          <a:prstGeom prst="rect">
            <a:avLst/>
          </a:prstGeom>
          <a:noFill/>
          <a:ln w="255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059360" y="2819520"/>
            <a:ext cx="893520" cy="990360"/>
          </a:xfrm>
          <a:prstGeom prst="ellipse">
            <a:avLst/>
          </a:prstGeom>
          <a:noFill/>
          <a:ln w="255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979960" y="2819520"/>
            <a:ext cx="1030320" cy="91440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7786440" y="2819520"/>
            <a:ext cx="137880" cy="228600"/>
          </a:xfrm>
          <a:prstGeom prst="line">
            <a:avLst/>
          </a:prstGeom>
          <a:ln w="255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7816680" y="2819160"/>
            <a:ext cx="412920" cy="228600"/>
          </a:xfrm>
          <a:prstGeom prst="line">
            <a:avLst/>
          </a:prstGeom>
          <a:ln w="255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7748640" y="2819520"/>
            <a:ext cx="480960" cy="609480"/>
          </a:xfrm>
          <a:prstGeom prst="line">
            <a:avLst/>
          </a:prstGeom>
          <a:ln w="255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7786800" y="3123720"/>
            <a:ext cx="823680" cy="304920"/>
          </a:xfrm>
          <a:prstGeom prst="line">
            <a:avLst/>
          </a:prstGeom>
          <a:ln w="255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7854480" y="3124080"/>
            <a:ext cx="755640" cy="533520"/>
          </a:xfrm>
          <a:prstGeom prst="line">
            <a:avLst/>
          </a:prstGeom>
          <a:ln w="255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7839000" y="3504960"/>
            <a:ext cx="619200" cy="152280"/>
          </a:xfrm>
          <a:prstGeom prst="line">
            <a:avLst/>
          </a:prstGeom>
          <a:ln w="255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8115480" y="3505320"/>
            <a:ext cx="342720" cy="304560"/>
          </a:xfrm>
          <a:prstGeom prst="line">
            <a:avLst/>
          </a:prstGeom>
          <a:ln w="255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8107200" y="3733560"/>
            <a:ext cx="274680" cy="75960"/>
          </a:xfrm>
          <a:prstGeom prst="line">
            <a:avLst/>
          </a:prstGeom>
          <a:ln w="255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84520" y="5729400"/>
            <a:ext cx="623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*Dellinger, Susan, Psycho-Geometrics, Prentice Hall, 1989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C7845-A1CD-49D6-925F-BFE85FCD452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ehavioral Style Differences*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06840" y="6248520"/>
            <a:ext cx="350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*David Merril and Larry Wilson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1828800" y="716040"/>
          <a:ext cx="5638680" cy="5576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716040"/>
                    <a:ext cx="5638680" cy="55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BA6BD-C6AE-4189-B71B-18EDD6AAF5D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ong Hours and Stereotypes of IT Workers Hurt Recruiting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56880" y="12193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Many people are struggling with how to increase the IT labor pool.  Noted problems includ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The fact that many IT professionals work long hours and must constantly stay abreast of changes in the field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Undesirable stereotypes that keep certain people away from the career field, like women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The need for better human resource management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DF9F0-6476-4BCC-BE99-D4956EAC5AC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ward and Recognition System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eam-based reward and recognition systems can promote teamwork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cus on rewarding teams for achieving specific goal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Allow time for team members to mentor and help each other to meet project goals and develop human resource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D4078-84D7-4DCB-BE5F-256ED51792F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neral Advice on Team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56880" y="12193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cus on meeting project objectives and producing positive result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x the problem instead of blaming peopl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Establish regular, effective meeting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Nurture team members and encourage them to help each other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Acknowledge individual and group accomplishment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8C9F4-1C57-4B0F-81BB-46786FF0566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Software to Assist in Human Resource Managemen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oftware can help in producing RAMS and resource histograms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Project management software includes several features related to human resource management such as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viewing resource usage information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identifying under and over-allocated resource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leveling resource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8943A-C657-41DB-B1F0-7F39160A2AA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scussion Question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440" y="609120"/>
            <a:ext cx="8186760" cy="479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lvl="2" marL="109728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Discuss the evidence pointing to a shortage of IT workers. How has Y2K affected the labor shortage? Why are there not more students majoring in computer science or MIS if there is such a labor shortage? Speculate about whether the IT labor shortage will continue into the first decade of the 21st century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Give examples of different ways to have influence on projects. Which do you think would be most effective with you?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0DA10-394C-4B79-A86D-3FD7515F2AC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is Project Human Resource Management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Project human resource management includes the processes required to make the most effective use of the people involved with a project. Processes includ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Organizational planning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taff acquisition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Team development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907C5-AF17-4E05-B027-E730BF35319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eys to Managing Peopl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Psychologists and management theorists have devoted much research and thought to the field of managing people at work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Important areas related to project management includ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influence and power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effectivenes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A77FC-A286-441E-A3FA-6FA38C796F0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tivati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Abraham Maslow developed a hierarchy of needs to illustrate his theory that people’s behaviors are guided by a sequence of need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Maslow argued that humans possess unique qualities that enable them to make independent choices, thus giving them control of their destiny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36B45-ECEE-4F55-B5E7-0268034A2E3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gure 8-1. Maslow’s Hierarchy of Need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8153640" cy="443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043FD-3967-4B1E-B280-5715AC5C14C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erzberg’s Motivational and Hygiene Factor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Frederick Herzberg wrote several famous books and articles about worker motivation.  He distinguished between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motivational factors: achievement, recognition, the work itself, responsibility, advancement, and growth, which produce job satisfaction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hygiene factors: cause dissatisfaction if not present, but do not motivate workers to do more.  Examples include larger salaries, more supervision, and a more attractive work environmen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93D70-98A6-48FF-93FD-FCAAB0399B2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mhain and Wilemon’s Ways to Have Influence on Project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56880" y="1142640"/>
            <a:ext cx="8186760" cy="479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1. Authority: the legitimate hierarchical right to issue orders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2. Assignment: the project manager's perceived ability to influence a worker's later work assignments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3. Budget: the project manager's perceived ability to authorize others' use of discretionary funds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4. Promotion: the ability to improve a worker's position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5. Money: the ability to increase a worker's pay and benefits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6. Penalty: the project manager's perceived ability to dispense or cause punishment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7. Work challenge: the ability to assign work that capitalizes on a worker's enjoyment of doing a particular task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8. Expertise: the project manager's perceived special knowledge that others deem important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9. Friendship: the ability to establish friendly personal relationships between the project manager and others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89075-5571-4E40-8800-7F8BA264465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5T15:22:49Z</dcterms:created>
  <dc:creator>Scott Schwalbe</dc:creator>
  <dc:description/>
  <dc:language>en-US</dc:language>
  <cp:lastModifiedBy>Kathy Schwalbe</cp:lastModifiedBy>
  <cp:lastPrinted>1999-03-08T14:43:06Z</cp:lastPrinted>
  <dcterms:modified xsi:type="dcterms:W3CDTF">1999-10-27T18:37:22Z</dcterms:modified>
  <cp:revision>148</cp:revision>
  <dc:subject/>
  <dc:title>No Slide Title</dc:title>
</cp:coreProperties>
</file>