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2C856B-6946-4973-AFBF-F2583AE008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4934CD-B9B3-4B8A-8F27-09BAC8ABC5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350732-AF80-4266-B740-E8AC10E40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0C2EC8-835C-4189-95A1-493F080C0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EE6DF-A9FB-468C-A24A-8C9E92E144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943B8-80E2-46B6-A0C1-1801DBF60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F358D-12E4-465A-9EA3-DDA6D2A5F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21BB7-BEB4-4A0A-B88F-874FF9934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67CEF-89FB-4E35-97F1-B8E479DC9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E7B43-8F96-4F76-B715-A91D99A5E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7FC50-EC1A-448C-84CC-5E03C2E79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EA89EA-3BCD-495D-A9C8-0C7A4C7BC9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AABC0-0241-4828-81F5-28EF7C05B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26C34-ED64-47CB-B870-72CDFA24C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30DC2-132C-48A9-BBD0-82253C619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E90976-E66F-4D8B-B250-F248614036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4C1E6-F252-458B-9FB3-E93228398B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044C2C-714B-44ED-9BB1-B91A0B11EC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B2877E-98C4-4F86-A900-60282C6700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527A86-E4FA-4EB8-B4E7-86C85D468C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601F57-01DF-4EC1-9D47-44C575F33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842852-9BB1-4EBB-BD95-CBB1AD6DF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72E22-BBED-4ACD-A03D-D49AA8469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79ECBA-14C5-4C7C-B083-5DAC2F25D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701E-DE74-4DF0-9CE1-FF399318B1B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512C-7875-479D-95D1-C8FBA44B020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1:</a:t>
            </a:r>
            <a:br>
              <a:rPr sz="4800"/>
            </a:br>
            <a:r>
              <a:rPr b="1" lang="en-US" sz="4800" spc="-1" strike="noStrike">
                <a:solidFill>
                  <a:srgbClr val="000000"/>
                </a:solidFill>
                <a:latin typeface="Times New Roman"/>
              </a:rPr>
              <a:t>Project Procuremen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936EE030-F136-4722-AD0B-9B16606CC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Reimbursable Contrac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incentive fee (CPIF): the buyer pays the seller for allowable performance costs plus a predetermined fee and an incentive bonu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fixed fee (CPFF): the buyer pays the seller for allowable performance costs plus a fixed fee payment usually based on a percentage of estimated cos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percentage of costs (CPPC): the buyer pays the seller for allowable performance costs plus a predetermined percentage based on total costs</a:t>
            </a:r>
            <a:endParaRPr b="1" lang="en-US" sz="2800" spc="-1" strike="noStrike">
              <a:solidFill>
                <a:srgbClr val="3333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F0EEE78-BF08-433F-86AC-A580F9764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2. Contract Types Versus Risk</a:t>
            </a:r>
            <a:endParaRPr b="1" lang="en-US" sz="4400" spc="-1" strike="noStrike">
              <a:solidFill>
                <a:srgbClr val="000000"/>
              </a:solidFill>
              <a:latin typeface="Times New Roman"/>
            </a:endParaRPr>
          </a:p>
        </p:txBody>
      </p:sp>
      <p:pic>
        <p:nvPicPr>
          <p:cNvPr id="197" name="" descr=""/>
          <p:cNvPicPr/>
          <p:nvPr/>
        </p:nvPicPr>
        <p:blipFill>
          <a:blip r:embed="rId1"/>
          <a:stretch/>
        </p:blipFill>
        <p:spPr>
          <a:xfrm>
            <a:off x="838080" y="1752480"/>
            <a:ext cx="8305920" cy="286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A891EBD-66D8-4AB9-ABD9-D02D033EB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ment of Work (SOW)</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tatement of work is a description of the work required for the procure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ntracts, mutually binding agreements, include S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good SOW gives bidders a better understanding of the buyer’s expect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C619F59-AD4F-4C62-8AFE-CD9956FFE2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3. Statement of Work (SOW) Template</a:t>
            </a:r>
            <a:endParaRPr b="1" lang="en-US" sz="4400" spc="-1" strike="noStrike">
              <a:solidFill>
                <a:srgbClr val="000000"/>
              </a:solidFill>
              <a:latin typeface="Times New Roman"/>
            </a:endParaRPr>
          </a:p>
        </p:txBody>
      </p:sp>
      <p:graphicFrame>
        <p:nvGraphicFramePr>
          <p:cNvPr id="201" name=""/>
          <p:cNvGraphicFramePr/>
          <p:nvPr/>
        </p:nvGraphicFramePr>
        <p:xfrm>
          <a:off x="838080" y="1371600"/>
          <a:ext cx="7772400" cy="4649760"/>
        </p:xfrm>
        <a:graphic>
          <a:graphicData uri="http://schemas.openxmlformats.org/presentationml/2006/ole">
            <p:oleObj progId="Word.Document.12" r:id="rId1" spid="">
              <p:embed/>
              <p:pic>
                <p:nvPicPr>
                  <p:cNvPr id="202" name="" descr=""/>
                  <p:cNvPicPr/>
                  <p:nvPr/>
                </p:nvPicPr>
                <p:blipFill>
                  <a:blip r:embed="rId2"/>
                  <a:stretch/>
                </p:blipFill>
                <p:spPr>
                  <a:xfrm>
                    <a:off x="838080" y="1371600"/>
                    <a:ext cx="7772400" cy="464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33D44C-ADEA-45AA-9418-7D70DA23CE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 Planning</a:t>
            </a:r>
            <a:endParaRPr b="1" lang="en-US" sz="4400" spc="-1" strike="noStrike">
              <a:solidFill>
                <a:srgbClr val="000000"/>
              </a:solidFill>
              <a:latin typeface="Times New Roman"/>
            </a:endParaRPr>
          </a:p>
        </p:txBody>
      </p:sp>
      <p:sp>
        <p:nvSpPr>
          <p:cNvPr id="204"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planning involves preparing several documents:</a:t>
            </a:r>
            <a:endParaRPr b="1" lang="en-US" sz="32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 for Proposals: used to solicit proposals from prospective sellers where there are several ways to meet the sellers’ need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s for Quotes: used to solicit quotes for well-defined procurement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vitations for bid or negotiation and initial contractor responses are also part of solicitation planning</a:t>
            </a:r>
            <a:endParaRPr b="1" lang="en-US" sz="2800" spc="-1" strike="noStrike">
              <a:solidFill>
                <a:srgbClr val="333300"/>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A909667-E08B-46AF-8690-D88A7E8C14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4. Outline for a Request for Proposal (RFP)</a:t>
            </a:r>
            <a:endParaRPr b="1" lang="en-US" sz="4400" spc="-1" strike="noStrike">
              <a:solidFill>
                <a:srgbClr val="000000"/>
              </a:solidFill>
              <a:latin typeface="Times New Roman"/>
            </a:endParaRPr>
          </a:p>
        </p:txBody>
      </p:sp>
      <p:graphicFrame>
        <p:nvGraphicFramePr>
          <p:cNvPr id="206" name=""/>
          <p:cNvGraphicFramePr/>
          <p:nvPr/>
        </p:nvGraphicFramePr>
        <p:xfrm>
          <a:off x="990720" y="1600200"/>
          <a:ext cx="8153280" cy="4368960"/>
        </p:xfrm>
        <a:graphic>
          <a:graphicData uri="http://schemas.openxmlformats.org/presentationml/2006/ole">
            <p:oleObj progId="Word.Document.12" r:id="rId1" spid="">
              <p:embed/>
              <p:pic>
                <p:nvPicPr>
                  <p:cNvPr id="207" name="" descr=""/>
                  <p:cNvPicPr/>
                  <p:nvPr/>
                </p:nvPicPr>
                <p:blipFill>
                  <a:blip r:embed="rId2"/>
                  <a:stretch/>
                </p:blipFill>
                <p:spPr>
                  <a:xfrm>
                    <a:off x="990720" y="1600200"/>
                    <a:ext cx="8153280" cy="4368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3F8F35F-1637-4F6D-8714-1E543B2CBB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involves obtaining proposals or bids from prospective seller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rganizations can advertise to procure goods and services in several ways</a:t>
            </a:r>
            <a:endParaRPr b="1" lang="en-US" sz="32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the preferred vendor</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several potential vendors</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vertising to anyone interested</a:t>
            </a:r>
            <a:endParaRPr b="1" lang="en-US" sz="28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bidders’ conference can help clarify the buyer’s expectation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B7773AC-6692-4EB7-A8AE-7AF879FE6E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urce Selec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urce selection involves</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ng bidders’ proposals</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oosing the best on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ng the contract</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warding the contract</a:t>
            </a:r>
            <a:r>
              <a:rPr b="1" lang="en-US" sz="2800" spc="-1" strike="noStrike">
                <a:solidFill>
                  <a:srgbClr val="333300"/>
                </a:solidFill>
                <a:latin typeface="Arial"/>
              </a:rPr>
              <a:t>	</a:t>
            </a:r>
            <a:r>
              <a:rPr b="1" lang="en-US" sz="2800" spc="-1" strike="noStrike">
                <a:solidFill>
                  <a:srgbClr val="333300"/>
                </a:solidFill>
                <a:latin typeface="Arial"/>
              </a:rPr>
              <a:t>	</a:t>
            </a:r>
            <a:endParaRPr b="1" lang="en-US" sz="28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helpful to prepare formal evaluation procedures for selecting vendor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yers often create a “short lis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228C987-017D-4AE1-A4AC-4ED5B2A1B6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5. Sample Proposal Evaluation Sheet</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838080" y="1552680"/>
            <a:ext cx="8305920" cy="38196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0B92463-AED5-41E7-9EF5-9F5F35C110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6. Detailed Criteria for Selecting Vendors</a:t>
            </a:r>
            <a:endParaRPr b="1" lang="en-US" sz="4400" spc="-1" strike="noStrike">
              <a:solidFill>
                <a:srgbClr val="000000"/>
              </a:solidFill>
              <a:latin typeface="Times New Roman"/>
            </a:endParaRPr>
          </a:p>
        </p:txBody>
      </p:sp>
      <p:pic>
        <p:nvPicPr>
          <p:cNvPr id="215" name="" descr=""/>
          <p:cNvPicPr/>
          <p:nvPr/>
        </p:nvPicPr>
        <p:blipFill>
          <a:blip r:embed="rId1"/>
          <a:stretch/>
        </p:blipFill>
        <p:spPr>
          <a:xfrm>
            <a:off x="762120" y="1371600"/>
            <a:ext cx="7772400" cy="4925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A9FD2BB-5F78-4816-A772-43B9A90DC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Procuremen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means acquiring goods and/or services from an outside sour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terms include purchasing and outsour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predict that by the year 2000 the worldwide information technology outsourcing market will grow to over $100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4C07920-6DB2-458B-A4C3-12162392E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Administr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administration ensures that the seller’s performance meets contractual requiremen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s are legal relationships, so it is important that legal and contracting professionals be involved in writing and administering contrac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roject managers ignore contractual issues, which can result in serious problems (see What Went Wro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B672189-1A93-4310-A47F-C9F948026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on Change Control for Contracts</a:t>
            </a:r>
            <a:endParaRPr b="1" lang="en-US" sz="3200" spc="-1" strike="noStrike">
              <a:solidFill>
                <a:srgbClr val="000000"/>
              </a:solidFill>
              <a:latin typeface="Times New Roman"/>
            </a:endParaRPr>
          </a:p>
        </p:txBody>
      </p:sp>
      <p:sp>
        <p:nvSpPr>
          <p:cNvPr id="21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to any part of the project need to be reviewed, approved, and documented by the same people in the same way that the original part of the plan was approved</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on of any change should include an impact analysis. How will the change affect the scope, time, cost, and quality of the goods or services being provided? </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must be documented in writing. Project team members should also document all important meetings and telephone phone calls</a:t>
            </a: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B6E5845-E879-45C7-804A-5A2154539A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Close-out</a:t>
            </a:r>
            <a:endParaRPr b="1" lang="en-US" sz="4400" spc="-1" strike="noStrike">
              <a:solidFill>
                <a:srgbClr val="000000"/>
              </a:solidFill>
              <a:latin typeface="Times New Roman"/>
            </a:endParaRPr>
          </a:p>
        </p:txBody>
      </p:sp>
      <p:sp>
        <p:nvSpPr>
          <p:cNvPr id="22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close-out includes</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duct verification to determine if all work was completed correctly and satisfactori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ministrative activities to update records to reflect final resul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information for future use</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audits identify lessons learned in the procurement proc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9DF7E90-BAD6-4F9F-8937-8247A6A4F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3" name="PlaceHolder 2"/>
          <p:cNvSpPr>
            <a:spLocks noGrp="1"/>
          </p:cNvSpPr>
          <p:nvPr>
            <p:ph/>
          </p:nvPr>
        </p:nvSpPr>
        <p:spPr>
          <a:xfrm>
            <a:off x="685440" y="228240"/>
            <a:ext cx="8186760" cy="4791240"/>
          </a:xfrm>
          <a:prstGeom prst="rect">
            <a:avLst/>
          </a:prstGeom>
          <a:noFill/>
          <a:ln w="0">
            <a:noFill/>
          </a:ln>
        </p:spPr>
        <p:txBody>
          <a:bodyPr lIns="92160" rIns="92160" tIns="46080" bIns="46080" anchor="t">
            <a:normAutofit fontScale="88000"/>
          </a:bodyPr>
          <a:p>
            <a:pPr lvl="2" marL="100584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uss the scenario in the opening case. Have you experienced similar situations? How did the parties involved handle the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vide examples of information technology goods and services that were outsourced. Which were for information technology projects and which were parts of on-going operations? Was it advantageous for the organization to use outsourcing?</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experts recommend working with preferred vendors, even if their prices may be higher than other vendors.  Why do you think this is the case?</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59FA527-4BC7-4727-A80A-45B6E572503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Outsourc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reduce both fixed and recurren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llow the client organization to focus on its core busin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ccess skills and technolog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provide flexibi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increase accountability</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BCAF046-42D7-43CC-AE61-577C7BCB7E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Procurement Management Process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curement planning: determining what to procure and when</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planning: documenting product requirements and identifying potential source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obtaining quotations, bids, offers, or proposals as appropriate</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urce selection: choosing from among potential vendor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administration: managing the relationship with the vendor</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close-out: completion and settlement of the contra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57E0E4-E971-47D2-AB1D-FCDD43DF0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1-1. Project Procurement Management Processes and Key Outputs</a:t>
            </a:r>
            <a:endParaRPr b="1" lang="en-US" sz="3600" spc="-1" strike="noStrike">
              <a:solidFill>
                <a:srgbClr val="000000"/>
              </a:solidFill>
              <a:latin typeface="Times New Roman"/>
            </a:endParaRPr>
          </a:p>
        </p:txBody>
      </p:sp>
      <p:pic>
        <p:nvPicPr>
          <p:cNvPr id="185" name="" descr=""/>
          <p:cNvPicPr/>
          <p:nvPr/>
        </p:nvPicPr>
        <p:blipFill>
          <a:blip r:embed="rId1"/>
          <a:stretch/>
        </p:blipFill>
        <p:spPr>
          <a:xfrm>
            <a:off x="838080" y="1752480"/>
            <a:ext cx="8305920" cy="2371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945C61D-C097-4F61-8256-D2D4A3E3BB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a:t>
            </a:r>
            <a:endParaRPr b="1" lang="en-US" sz="4400" spc="-1" strike="noStrike">
              <a:solidFill>
                <a:srgbClr val="000000"/>
              </a:solidFill>
              <a:latin typeface="Times New Roman"/>
            </a:endParaRPr>
          </a:p>
        </p:txBody>
      </p:sp>
      <p:sp>
        <p:nvSpPr>
          <p:cNvPr id="18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planning involves identifying which project needs can be best met by using products or services outside the organization.  It includes deciding</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ther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much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n to procur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BBDC640-3BA5-4CB1-B650-34A2F77AE4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laborative Procur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organizations, even competitors, have found that it makes sense to collaborate on procurement for some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odak worked with several competitors to develop the Advantix Advanced Photo System (see What Went Righ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3556428-159B-4EC4-9ACD-811142164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 Tools and Techniqu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e-or-buy analysis: determining whether a particular product or service should be made or performed inside the organization or purchased from someone else.  Often involves financial analysi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both internal and external, can provide valuable inputs in procurement decis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5A0F34C-5929-4059-8062-0CDE9289D7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Contracts</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xed price or lump sum: involve a fixed total price for a well-defined product or servi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reimbursable: involve payment to the seller for direct and indirec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it price contracts: require the buyer to pay the seller a predetermined amount per unit of servi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43EC349-E448-4740-A5A7-4D719C340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8:55:26Z</dcterms:modified>
  <cp:revision>210</cp:revision>
  <dc:subject/>
  <dc:title>No Slide Title</dc:title>
</cp:coreProperties>
</file>