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FD2A7-842D-4EA1-967D-C27C4B5DDC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A13FE-3880-4DD5-80A2-76F0FF5604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E17F4-150B-4960-B685-2CEB63ACCD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07016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4020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07016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4020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7FE83-420B-4216-AE81-20DF56E784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B8D03-3231-4812-9C9B-90C26A1078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84B45B-1C28-4558-876F-5E3135C8C9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B86306-2070-4A3C-94DF-1E33D5449E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CA43B5-E1C0-42ED-A5A4-6F63D0B1C1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11D8A-0AE7-4E63-809C-07BE21EEBC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60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E14AE-73FD-480B-82F9-4C5600F441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B3C08-AFFF-4727-886C-4768174C0B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74D30-D708-46EE-8AE0-F46E4AFBE9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421B9-3211-48BA-88CE-DBD6F61919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9F6F2-C923-4304-92A8-ABBD786D3E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43057-B012-4DDB-BA8A-4F03B6F49C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3BFF8-C446-4910-819E-0F0F00B1F5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7016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64020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07016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64020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41E45C-0D5D-4C55-B30E-2D32D3673E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4612F-E93F-4936-A0A5-B101A6FF75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089B3-C2E7-4226-B469-693C86C495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CFCD9-2008-4985-BABD-4B52B172FE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60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EDAA1-C37A-40A6-B3AE-B56D37235E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39AEA-63A9-41E4-880B-B1B9CCB5DB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F4B97-87DC-4AAB-9F9C-8ED67CCF18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A468B-2EB8-49BD-A6C8-95AD105617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77840" y="6319800"/>
            <a:ext cx="201924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838720" y="6424200"/>
            <a:ext cx="304920" cy="2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786F-510A-47AA-AEEC-3087FCE5DA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5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4" name=""/>
          <p:cNvSpPr/>
          <p:nvPr/>
        </p:nvSpPr>
        <p:spPr>
          <a:xfrm>
            <a:off x="1676520" y="3429000"/>
            <a:ext cx="5392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65" y="21585"/>
                </a:moveTo>
                <a:arcTo wR="10800" hR="10800" stAng="5220000" swAng="10980000"/>
                <a:lnTo>
                  <a:pt x="10800" y="10800"/>
                </a:lnTo>
                <a:close/>
              </a:path>
              <a:path fill="none" w="21600" h="21600">
                <a:moveTo>
                  <a:pt x="11365" y="21585"/>
                </a:moveTo>
                <a:arcTo wR="10800" hR="10800" stAng="5220000" swAng="10980000"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35" name=""/>
          <p:cNvGrpSpPr/>
          <p:nvPr/>
        </p:nvGrpSpPr>
        <p:grpSpPr>
          <a:xfrm>
            <a:off x="8248680" y="6186600"/>
            <a:ext cx="609480" cy="592200"/>
            <a:chOff x="8248680" y="6186600"/>
            <a:chExt cx="609480" cy="592200"/>
          </a:xfrm>
        </p:grpSpPr>
        <p:sp>
          <p:nvSpPr>
            <p:cNvPr id="36" name=""/>
            <p:cNvSpPr/>
            <p:nvPr/>
          </p:nvSpPr>
          <p:spPr>
            <a:xfrm>
              <a:off x="8248680" y="6186600"/>
              <a:ext cx="609480" cy="59220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307720" y="6242400"/>
              <a:ext cx="491040" cy="47988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358840" y="6291360"/>
              <a:ext cx="388440" cy="3819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9" name="">
            <a:hlinkClick r:id="" action="ppaction://hlinkshowjump?jump=nextslide"/>
          </p:cNvPr>
          <p:cNvSpPr/>
          <p:nvPr/>
        </p:nvSpPr>
        <p:spPr>
          <a:xfrm rot="5400000">
            <a:off x="8426160" y="6308640"/>
            <a:ext cx="304920" cy="33336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7380360" y="6186600"/>
            <a:ext cx="609480" cy="592200"/>
            <a:chOff x="7380360" y="6186600"/>
            <a:chExt cx="609480" cy="592200"/>
          </a:xfrm>
        </p:grpSpPr>
        <p:sp>
          <p:nvSpPr>
            <p:cNvPr id="41" name=""/>
            <p:cNvSpPr/>
            <p:nvPr/>
          </p:nvSpPr>
          <p:spPr>
            <a:xfrm>
              <a:off x="7380360" y="6186600"/>
              <a:ext cx="609480" cy="59220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439400" y="6242400"/>
              <a:ext cx="491040" cy="47988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490520" y="6291360"/>
              <a:ext cx="388440" cy="3819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44" name="">
            <a:hlinkClick r:id="" action="ppaction://hlinkshowjump?jump=previousslide"/>
          </p:cNvPr>
          <p:cNvSpPr/>
          <p:nvPr/>
        </p:nvSpPr>
        <p:spPr>
          <a:xfrm flipH="1" rot="16200000">
            <a:off x="7481520" y="6310080"/>
            <a:ext cx="304920" cy="33336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3"/>
          </p:nvPr>
        </p:nvSpPr>
        <p:spPr>
          <a:xfrm>
            <a:off x="3362040" y="6319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4"/>
          </p:nvPr>
        </p:nvSpPr>
        <p:spPr>
          <a:xfrm>
            <a:off x="6400800" y="6330960"/>
            <a:ext cx="148104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A358-6EF5-47D5-9605-A1766579B3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85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15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18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19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4" name=""/>
          <p:cNvGrpSpPr/>
          <p:nvPr/>
        </p:nvGrpSpPr>
        <p:grpSpPr>
          <a:xfrm>
            <a:off x="8178840" y="6073920"/>
            <a:ext cx="669960" cy="650880"/>
            <a:chOff x="8178840" y="6073920"/>
            <a:chExt cx="669960" cy="650880"/>
          </a:xfrm>
        </p:grpSpPr>
        <p:sp>
          <p:nvSpPr>
            <p:cNvPr id="135" name=""/>
            <p:cNvSpPr/>
            <p:nvPr/>
          </p:nvSpPr>
          <p:spPr>
            <a:xfrm>
              <a:off x="8178840" y="6073920"/>
              <a:ext cx="669960" cy="65088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244000" y="6135480"/>
              <a:ext cx="539640" cy="52740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300160" y="6189120"/>
              <a:ext cx="426960" cy="4197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138" name="">
            <a:hlinkClick r:id="" action="ppaction://hlinkshowjump?jump=nextslide"/>
          </p:cNvPr>
          <p:cNvSpPr/>
          <p:nvPr/>
        </p:nvSpPr>
        <p:spPr>
          <a:xfrm rot="5400000">
            <a:off x="8380440" y="6240240"/>
            <a:ext cx="323640" cy="30168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tandishgroup.com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andishgroup.com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7920" y="1143000"/>
            <a:ext cx="6404040" cy="23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Microsoft Project 98 to Assist in Managing Information Technology (IT)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523520" y="4114800"/>
            <a:ext cx="5715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Kathy Schwalbe, Ph.D., PMP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ssociate Professor, Business/MI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ugsburg College, Minneapolis, M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resented 3/26/99 at CTI Conferenc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schwalbe@augsburg.edu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www.augsburg.edu/ppages/schwalb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E3B3D3-F646-40DD-B6AB-0EA9A4EEE7C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Key PM Conce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333300"/>
                </a:solidFill>
                <a:latin typeface="Arial"/>
              </a:rPr>
              <a:t>network diagram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(also referred to as a PERT chart) shows the sequence in which tasks must be performed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333300"/>
                </a:solidFill>
                <a:latin typeface="Arial"/>
              </a:rPr>
              <a:t>critical path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is the longest path through a network diagram that determines the earliest completion of a project.  It has no slack tim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333300"/>
                </a:solidFill>
                <a:latin typeface="Arial"/>
              </a:rPr>
              <a:t>baseline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is a project plan that serves as the basis for measuring performanc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D5E6F-1D97-46EC-B760-2699EEAB21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BS for Intranet Project in Chart 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237960" y="1920960"/>
          <a:ext cx="8896680" cy="31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1920960"/>
                    <a:ext cx="8896680" cy="31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6417B-1F84-45E8-9E96-F9BD049F3C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42960" y="-360"/>
            <a:ext cx="76010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mple Intranet WBS and Gantt Chart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7562880" cy="48387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347120" y="5958000"/>
            <a:ext cx="443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*This template file comes with Project 98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76880" y="57456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B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232680" y="574560"/>
            <a:ext cx="16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Gantt Char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CD212-F167-4C16-B755-D36A250570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42960" y="-360"/>
            <a:ext cx="76010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BS and Gantt Chart for Software Launch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343160" y="838080"/>
            <a:ext cx="7648560" cy="53229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362600" y="6248520"/>
            <a:ext cx="450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*This template file comes with Project 98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057400" y="4572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B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57200"/>
            <a:ext cx="16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Gantt Char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30A4D-EF3C-420E-81C1-D85549B5B3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Network Diagram or PERT Ch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7848720" cy="30592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726920" y="5146560"/>
            <a:ext cx="689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 tasks in red are on the critical path.  If any of them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ake longer than planned, the whole project will slip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unless something is done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68160" y="914400"/>
            <a:ext cx="398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ach box is a project task from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 WBS.  Arrows show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pendencies between task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13707-0857-4380-8F9A-8EF5D81240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37760" y="-360"/>
            <a:ext cx="780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 of Microsoft Project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23520" y="990360"/>
            <a:ext cx="73724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roject 98 is the clear leader in the desktop market for PM softwar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Gartner Group estimates it accounts for 2/3 of sale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 recent survey of 1,000 PMs found it was used by 48% of the respondents.  Next listed tool only used by 13.8% of respondents*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C Magazine gave it the Editor’s Choice award in 6/30/98 issu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42160" y="5942160"/>
            <a:ext cx="606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Fox, Terry L. and Spence, J. Wayne, "Tools of the Trade: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A Survey of Project Management Tools," Project Managemen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Journal, September 1998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25B6F-CB37-4C19-9548-A1A477450A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Errors in Using Project 98 or other P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eople do not understand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what a WBS is, and they are hard to creat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need to link tasks or know what a critical path i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need to set a baseline in order to track progres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at Project 98 is a powerful and complicated tool, and training is needed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8BCEE-7ABC-484B-9BC5-0C28C06FA2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-By-Step Example Using Project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152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rst I’ll show help information and basics about the softwar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n I’ll create a new file for a project to create a project tracking databas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562720" y="5867280"/>
          <a:ext cx="1523880" cy="8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5867280"/>
                    <a:ext cx="152388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606CB-4F48-40E8-9D39-E84FC40690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Get Sample 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icrosoft Project 98 comes with sample files that should be loaded in Program Files/Microsoft Office, Templates, Microsoft Project.  The Intranet and Software Launch files are sample fil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veral vendors provide sample files, and many companies keep a repository of fil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icrosoft provides links to Y2K and IT template files (next slide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38557-4247-490C-A32A-0729498DB4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ww.microsoft.com/products/msoffice/project/download/template.ht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447920" y="1220760"/>
            <a:ext cx="7467480" cy="563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C7201-D333-4B15-9E1C-6E0C8E5A49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2960" y="-36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 of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990360"/>
            <a:ext cx="77724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udience background and interest in this topic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ersonal background on IT projects and using Microsoft Projec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ntroduction to project managemen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Overview of Project 98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tep-by-step example using Project 98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here to get sample fil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E6D4E-76DC-454B-84F1-8DF7B0C754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Project Management (P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42960" y="1676520"/>
            <a:ext cx="722016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roject management is “the application of knowledge, skills, tools, and techniques to project activities in order to meet or exceed stakeholder needs and expectations from a project” (PMI*, PM Body of Knowledge (PMBOK), 1996, p. 6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09840" y="5562720"/>
            <a:ext cx="6355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*The Project Management Institute (PMI) is an international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professional society.  Their web site is www.pmi.org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AF799-1F2C-4825-9F11-2A16777D17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 Management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08000" y="2971800"/>
            <a:ext cx="6248520" cy="1371600"/>
          </a:xfrm>
          <a:prstGeom prst="rightArrow">
            <a:avLst>
              <a:gd name="adj1" fmla="val 50000"/>
              <a:gd name="adj2" fmla="val 113891"/>
            </a:avLst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6200" y="3352680"/>
            <a:ext cx="446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Project Management Integ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978680" y="3276720"/>
            <a:ext cx="116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Pro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Succes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00160" y="2195640"/>
            <a:ext cx="990720" cy="609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5040" y="2133720"/>
            <a:ext cx="81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Scope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Mgt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19480" y="2195640"/>
            <a:ext cx="990720" cy="609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5080" y="2133720"/>
            <a:ext cx="74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Time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Mgt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62480" y="2195640"/>
            <a:ext cx="990720" cy="609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46640" y="2133720"/>
            <a:ext cx="69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Cost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Mgt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81800" y="2195640"/>
            <a:ext cx="990360" cy="609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64880" y="2133720"/>
            <a:ext cx="10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Quality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Mgt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2734800">
            <a:off x="2323440" y="2888280"/>
            <a:ext cx="451080" cy="239760"/>
          </a:xfrm>
          <a:prstGeom prst="rightArrow">
            <a:avLst>
              <a:gd name="adj1" fmla="val 50000"/>
              <a:gd name="adj2" fmla="val 47035"/>
            </a:avLst>
          </a:prstGeom>
          <a:solidFill>
            <a:srgbClr val="cc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2734800">
            <a:off x="3479040" y="2925000"/>
            <a:ext cx="450720" cy="239760"/>
          </a:xfrm>
          <a:prstGeom prst="rightArrow">
            <a:avLst>
              <a:gd name="adj1" fmla="val 50000"/>
              <a:gd name="adj2" fmla="val 46997"/>
            </a:avLst>
          </a:prstGeom>
          <a:solidFill>
            <a:srgbClr val="cc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2734800">
            <a:off x="4545720" y="2925000"/>
            <a:ext cx="450720" cy="239760"/>
          </a:xfrm>
          <a:prstGeom prst="rightArrow">
            <a:avLst>
              <a:gd name="adj1" fmla="val 50000"/>
              <a:gd name="adj2" fmla="val 46997"/>
            </a:avLst>
          </a:prstGeom>
          <a:solidFill>
            <a:srgbClr val="cc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2734800">
            <a:off x="5765040" y="2925000"/>
            <a:ext cx="450720" cy="239760"/>
          </a:xfrm>
          <a:prstGeom prst="rightArrow">
            <a:avLst>
              <a:gd name="adj1" fmla="val 50000"/>
              <a:gd name="adj2" fmla="val 46997"/>
            </a:avLst>
          </a:prstGeom>
          <a:solidFill>
            <a:srgbClr val="cc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24200" y="4633920"/>
            <a:ext cx="990360" cy="609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08000" y="4572000"/>
            <a:ext cx="69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HR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Mgt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43160" y="4633920"/>
            <a:ext cx="990720" cy="609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7320" y="4572000"/>
            <a:ext cx="98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Comm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Mgt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86160" y="4633920"/>
            <a:ext cx="990720" cy="609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0320" y="4572000"/>
            <a:ext cx="69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Risk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Mgt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05480" y="4633920"/>
            <a:ext cx="1127160" cy="609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90000" y="4572000"/>
            <a:ext cx="112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Procure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Mgt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8609000">
            <a:off x="2323440" y="4183920"/>
            <a:ext cx="450720" cy="239760"/>
          </a:xfrm>
          <a:prstGeom prst="rightArrow">
            <a:avLst>
              <a:gd name="adj1" fmla="val 50000"/>
              <a:gd name="adj2" fmla="val 46997"/>
            </a:avLst>
          </a:prstGeom>
          <a:solidFill>
            <a:srgbClr val="cc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8609000">
            <a:off x="3479040" y="4220280"/>
            <a:ext cx="450720" cy="239760"/>
          </a:xfrm>
          <a:prstGeom prst="rightArrow">
            <a:avLst>
              <a:gd name="adj1" fmla="val 50000"/>
              <a:gd name="adj2" fmla="val 46997"/>
            </a:avLst>
          </a:prstGeom>
          <a:solidFill>
            <a:srgbClr val="cc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8609000">
            <a:off x="4545720" y="4220280"/>
            <a:ext cx="450720" cy="239760"/>
          </a:xfrm>
          <a:prstGeom prst="rightArrow">
            <a:avLst>
              <a:gd name="adj1" fmla="val 50000"/>
              <a:gd name="adj2" fmla="val 46997"/>
            </a:avLst>
          </a:prstGeom>
          <a:solidFill>
            <a:srgbClr val="cc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18609000">
            <a:off x="5765040" y="4220280"/>
            <a:ext cx="450720" cy="239760"/>
          </a:xfrm>
          <a:prstGeom prst="rightArrow">
            <a:avLst>
              <a:gd name="adj1" fmla="val 50000"/>
              <a:gd name="adj2" fmla="val 46997"/>
            </a:avLst>
          </a:prstGeom>
          <a:solidFill>
            <a:srgbClr val="cc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98720" y="1295280"/>
            <a:ext cx="35053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9 Knowledge Areas</a:t>
            </a:r>
            <a:br>
              <a:rPr sz="2800"/>
            </a:b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    Core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Function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46440" y="54100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Facilitating Function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55520" y="2666880"/>
            <a:ext cx="1600200" cy="12286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0" y="3962520"/>
            <a:ext cx="18288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takeholder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eeds and expectation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555600" y="3276720"/>
            <a:ext cx="127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Tools and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techniques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6" name="gantt" descr=""/>
          <p:cNvPicPr/>
          <p:nvPr/>
        </p:nvPicPr>
        <p:blipFill>
          <a:blip r:embed="rId2"/>
          <a:stretch/>
        </p:blipFill>
        <p:spPr>
          <a:xfrm>
            <a:off x="7089840" y="2743200"/>
            <a:ext cx="990360" cy="409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7470720" y="4038480"/>
          <a:ext cx="5112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70720" y="4038480"/>
                    <a:ext cx="5112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1908000" y="1295280"/>
            <a:ext cx="4724640" cy="480060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EAD1D-5B5B-4E3B-B2C7-B75BC78801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00120" y="15192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Projects Have a Terrible Track Rec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42960" y="1447560"/>
            <a:ext cx="72201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roject “success” is often defined as meeting project scope on time and within budge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Standish Group’s famous “CHAOS” reports* document the horrible IT track record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Only 16% of IT projects were successful from 1995 CHAOS survey (up to 26% in 1998 study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31% of IT projects were cancelled in 1995, costing the U.S. over $81 billio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352160" y="6134040"/>
            <a:ext cx="48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* 1995 report available at </a:t>
            </a:r>
            <a:r>
              <a:rPr b="0" lang="en-US" sz="18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www.standishgroup.com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4CC27-5CEC-4A86-96C0-CF8F8AF440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, Cost, and Scope Problems of IT Projects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42600" y="1676160"/>
            <a:ext cx="69915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verage schedule overrun for IT projects was 222%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verage cost overrun was 189%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Large companies’ IT projects have 42% of the originally-proposed features and function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52160" y="6134040"/>
            <a:ext cx="48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* 1995 report available at </a:t>
            </a:r>
            <a:r>
              <a:rPr b="0" lang="en-US" sz="18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www.standishgroup.com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C3F25-3F43-4676-8F98-116D67DB64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 Management Can Hel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rove Success If Used W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ositive leadership is the most significant factor associated with successful project managers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Using software is just one tool of project management.  You must understand several PM concepts before using PM softwar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199E8-E339-4D24-87DF-DC14C41FB6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Using P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oftware alone can not improve projects, but it can help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define and manage the scope of project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reate and manage project schedul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anage resources and cost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facilitate communication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151E8-723A-4CEC-B485-90FDEF85EA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PM Concepts Needed Before Using Project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240" y="1752120"/>
            <a:ext cx="7543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Work Breakdown Structure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(WBS) is an outcome-oriented structure that defines the total scope of the projec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Gantt chart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is a tool for communicating project schedules using a calendar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31D52-DD6D-46EC-ACA3-A3866F4184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0T18:49:01Z</dcterms:created>
  <dc:creator>Scott Schwalbe</dc:creator>
  <dc:description/>
  <dc:language>en-US</dc:language>
  <cp:lastModifiedBy>Scott Schwalbe</cp:lastModifiedBy>
  <cp:lastPrinted>1999-03-02T12:24:43Z</cp:lastPrinted>
  <dcterms:modified xsi:type="dcterms:W3CDTF">1999-03-02T12:26:29Z</dcterms:modified>
  <cp:revision>78</cp:revision>
  <dc:subject/>
  <dc:title>Using Microsoft Project 98 to Assist in Managing Information Technology (IT) Projec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schwalbe@augsburg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Kathy\conferences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