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9736-CFD9-456D-9C1B-6947A36CC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EE4F-B0A9-4635-81E2-64A91B6B7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53FC-DA88-4C4C-855B-2C42DB6C5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6E79-1E7C-4B7A-82B7-4265A9AE2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60BDA-59AD-418A-8029-692E218B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92913-3E5F-403E-A55E-6B7297EA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BCD6F-BCF6-4E85-8EB9-C9C29CA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78F56-30C2-46F8-83B0-700E8A9E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582A4-F0D4-4798-8046-5066714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50F90-0D61-4C92-B023-FECC69BA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D4691-7016-4F28-9B03-9348D3B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B9CF-AEDF-47BC-8000-8F5A913E8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54529-B652-4BAE-BE56-442558D0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547B0-A723-4C83-B5CD-B38160F5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94996-71F1-4C1A-AAB9-757F9377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91907-CB19-4531-95D1-382C31D2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42666-0E43-4CDE-8C74-8135353B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8DB2-EDD0-40D3-93F8-2AFE9D464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7216-2086-455D-9AFE-E537E8AB3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2646-F79A-48B1-BBFA-889B47C38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7D40-B4BF-4594-9408-91BA33074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2ED1-16AF-42D0-882C-FB0C65D75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47DB-94AE-4908-B7BF-28C5AFEFB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1D01-B44D-48B4-B751-C9E35798C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15BB-8540-4927-B4E2-3F3B39AF2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DDB9-CAD1-4A95-A5EE-65179845C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ppendix A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uide to Using Microsoft Project 98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C9C96-AB38-4213-BC8E-ED5214CE77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icrosoft Project is the clear market leader among desktop project management appl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ccording to the Gartner Group, it accounts for about two-thirds of all project management software sa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survey of 1,000 project managers showed that Project was by far the most used computerized project management too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D857-7DE2-47A4-86C1-210A4F5DAD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rs of Project 9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n with its popularity, however, Project is not nearly as widespread in its use as products like Word or Exc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December 1998 Microsoft press release stated that they had reached the 3 millionth-customer ma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 must understand basic project management concepts befor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F53B-1165-43C6-9285-A501129026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vice on Using Appendix 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pendix A is meant to be read and followed whil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r text should include a 120-day copy of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Load Project 98 and follow the steps in Appendix A to learn how to use this powerful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38E0-B989-453F-889C-CD97BB559D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8-17T20:27:08Z</cp:lastPrinted>
  <dcterms:modified xsi:type="dcterms:W3CDTF">1999-08-17T21:44:23Z</dcterms:modified>
  <cp:revision>297</cp:revision>
  <dc:subject/>
  <dc:title>No Slide Title</dc:title>
</cp:coreProperties>
</file>