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0096-66EA-45DF-AD8F-C73CEBB8C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CDA1D-14F0-4079-908D-D6680829C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C653E-41E1-42C2-B5A3-F3754111D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AB34-0C94-43B6-8A3C-3BBAF75CB1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9B720-D2BB-4AC5-A106-320E055D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DF1708-DE1E-4712-88F7-A22666E4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333BA-0EF8-4E31-BD5C-8A23B7CF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D3DA05-9897-488B-819F-96343C09E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4659A-03C5-4964-BAE4-B2E68CC9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3561B-54FF-4466-83EB-A7DF3030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C34C1-F98E-4B61-948E-D029D2F1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3F0CE-B37E-4955-98C5-CDA9F68AB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D1171-0755-402A-90A1-63209150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ED0F-DE59-4EA9-9666-0DA0B573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A1BA8-1055-428E-A867-4FAECF71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335B3-AD5C-459E-841A-0A759FBB5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68208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450120" y="144792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91404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68208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450120" y="3950280"/>
            <a:ext cx="2635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45F9C-C78E-42E6-A9AB-DFC8C784A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7C6EC-6146-4081-B4CA-70D34EC3C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DF0D9-0C91-43A0-96A3-657692B64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76CD5-52D9-452D-AFCB-516392C7ED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14400" y="152280"/>
            <a:ext cx="82296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B67B7-C2AD-440E-8102-C192A9182F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879DD-F063-4FEE-9C48-D6AFA945B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9120" y="395028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7DF94-2AD3-46E1-9D30-194341998E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9120" y="1447920"/>
            <a:ext cx="399492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3950280"/>
            <a:ext cx="8186760" cy="228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1D49-272A-4784-8D96-E542232834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90720" y="6416640"/>
            <a:ext cx="266688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5866920" y="6424560"/>
            <a:ext cx="1481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7B56B-D116-4905-8751-126C9CBD7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0"/>
            <a:ext cx="914040" cy="6878520"/>
            <a:chOff x="0" y="0"/>
            <a:chExt cx="914040" cy="6878520"/>
          </a:xfrm>
        </p:grpSpPr>
        <p:sp>
          <p:nvSpPr>
            <p:cNvPr id="5" name=""/>
            <p:cNvSpPr/>
            <p:nvPr/>
          </p:nvSpPr>
          <p:spPr>
            <a:xfrm>
              <a:off x="422280" y="342396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342396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06640" y="342396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28480" y="3438360"/>
              <a:ext cx="19008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06640" y="419400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06640" y="46256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06640" y="503388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6640" y="543852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06640" y="584676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80440" y="6251400"/>
              <a:ext cx="24696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06640" y="3765240"/>
              <a:ext cx="32040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06640" y="3423960"/>
              <a:ext cx="3225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22280" y="4680"/>
              <a:ext cx="10584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4680"/>
              <a:ext cx="2059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06640" y="4680"/>
              <a:ext cx="2152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28480" y="4680"/>
              <a:ext cx="19008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06640" y="79848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06640" y="120636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06640" y="1612800"/>
              <a:ext cx="32040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06640" y="2019240"/>
              <a:ext cx="32040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6640" y="2425680"/>
              <a:ext cx="32040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120" y="6642000"/>
              <a:ext cx="32508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6640" y="3441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6640" y="4680"/>
              <a:ext cx="3225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8800" y="0"/>
              <a:ext cx="14328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6640" y="2860560"/>
              <a:ext cx="32040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718560" y="9360"/>
              <a:ext cx="19548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256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01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4" name=""/>
          <p:cNvSpPr/>
          <p:nvPr/>
        </p:nvSpPr>
        <p:spPr>
          <a:xfrm>
            <a:off x="1676520" y="3429000"/>
            <a:ext cx="53928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365" y="21585"/>
                </a:moveTo>
                <a:arcTo wR="10800" hR="10800" stAng="5220000" swAng="10980000"/>
                <a:lnTo>
                  <a:pt x="10800" y="10800"/>
                </a:lnTo>
                <a:close/>
              </a:path>
              <a:path fill="none" w="21600" h="21600">
                <a:moveTo>
                  <a:pt x="11365" y="21585"/>
                </a:moveTo>
                <a:arcTo wR="10800" hR="10800" stAng="5220000" swAng="10980000"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35" name=""/>
          <p:cNvGrpSpPr/>
          <p:nvPr/>
        </p:nvGrpSpPr>
        <p:grpSpPr>
          <a:xfrm>
            <a:off x="8248680" y="6186600"/>
            <a:ext cx="609480" cy="592200"/>
            <a:chOff x="8248680" y="6186600"/>
            <a:chExt cx="609480" cy="592200"/>
          </a:xfrm>
        </p:grpSpPr>
        <p:sp>
          <p:nvSpPr>
            <p:cNvPr id="36" name=""/>
            <p:cNvSpPr/>
            <p:nvPr/>
          </p:nvSpPr>
          <p:spPr>
            <a:xfrm>
              <a:off x="824868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30772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835884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9" name="">
            <a:hlinkClick r:id="" action="ppaction://hlinkshowjump?jump=nextslide"/>
          </p:cNvPr>
          <p:cNvSpPr/>
          <p:nvPr/>
        </p:nvSpPr>
        <p:spPr>
          <a:xfrm rot="5400000">
            <a:off x="8426160" y="630864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7380360" y="6186600"/>
            <a:ext cx="609480" cy="592200"/>
            <a:chOff x="7380360" y="6186600"/>
            <a:chExt cx="609480" cy="592200"/>
          </a:xfrm>
        </p:grpSpPr>
        <p:sp>
          <p:nvSpPr>
            <p:cNvPr id="41" name=""/>
            <p:cNvSpPr/>
            <p:nvPr/>
          </p:nvSpPr>
          <p:spPr>
            <a:xfrm>
              <a:off x="7380360" y="6186600"/>
              <a:ext cx="609480" cy="59220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439400" y="6242400"/>
              <a:ext cx="491040" cy="47988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7490520" y="6291360"/>
              <a:ext cx="388440" cy="3819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44" name="">
            <a:hlinkClick r:id="" action="ppaction://hlinkshowjump?jump=previousslide"/>
          </p:cNvPr>
          <p:cNvSpPr/>
          <p:nvPr/>
        </p:nvSpPr>
        <p:spPr>
          <a:xfrm flipH="1" rot="16200000">
            <a:off x="7481520" y="6310080"/>
            <a:ext cx="304920" cy="33336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2819160" y="5410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4"/>
          </p:nvPr>
        </p:nvSpPr>
        <p:spPr>
          <a:xfrm>
            <a:off x="3362040" y="6319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400800" y="6330960"/>
            <a:ext cx="14810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D565-5CE6-4E96-9096-3EFAA1DC98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86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16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19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20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" name=""/>
          <p:cNvGrpSpPr/>
          <p:nvPr/>
        </p:nvGrpSpPr>
        <p:grpSpPr>
          <a:xfrm>
            <a:off x="8178840" y="6073920"/>
            <a:ext cx="669960" cy="650880"/>
            <a:chOff x="8178840" y="6073920"/>
            <a:chExt cx="669960" cy="650880"/>
          </a:xfrm>
        </p:grpSpPr>
        <p:sp>
          <p:nvSpPr>
            <p:cNvPr id="136" name=""/>
            <p:cNvSpPr/>
            <p:nvPr/>
          </p:nvSpPr>
          <p:spPr>
            <a:xfrm>
              <a:off x="8178840" y="6073920"/>
              <a:ext cx="669960" cy="65088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244000" y="6135480"/>
              <a:ext cx="539640" cy="527400"/>
            </a:xfrm>
            <a:prstGeom prst="ellipse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00160" y="6189120"/>
              <a:ext cx="426960" cy="419760"/>
            </a:xfrm>
            <a:prstGeom prst="ellipse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139" name="">
            <a:hlinkClick r:id="" action="ppaction://hlinkshowjump?jump=nextslide"/>
          </p:cNvPr>
          <p:cNvSpPr/>
          <p:nvPr/>
        </p:nvSpPr>
        <p:spPr>
          <a:xfrm rot="5400000">
            <a:off x="8380440" y="6240240"/>
            <a:ext cx="323640" cy="301680"/>
          </a:xfrm>
          <a:prstGeom prst="triangle">
            <a:avLst>
              <a:gd name="adj" fmla="val 50000"/>
            </a:avLst>
          </a:prstGeom>
          <a:solidFill>
            <a:srgbClr val="e5d58a"/>
          </a:solidFill>
          <a:ln cap="sq" w="1260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mi.org/certification/code.htm" TargetMode="External"/><Relationship Id="rId2" Type="http://schemas.openxmlformats.org/officeDocument/2006/relationships/hyperlink" Target="http://www.pmi.org/certification/code.htm" TargetMode="External"/><Relationship Id="rId3" Type="http://schemas.openxmlformats.org/officeDocument/2006/relationships/hyperlink" Target="http://www.pmi.org/certification/code.htm" TargetMode="External"/><Relationship Id="rId4" Type="http://schemas.openxmlformats.org/officeDocument/2006/relationships/hyperlink" Target="http://www.pmi.org/certification/code.htm" TargetMode="External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38160" y="1380600"/>
            <a:ext cx="640404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hapter 1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 to Project Managemen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A14C5-F57C-4179-92FE-284DA7E4EF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2. Project Management Framework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9880" y="2590920"/>
            <a:ext cx="2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8229600" cy="38955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507120" y="23623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6AD5-E632-41E0-90E2-FB3AB44905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Stakeholder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are the people involved in or affected by project activiti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takeholder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project sponsor and project te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ort staff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ustom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s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upplier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pponents to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201" name="pe01561_" descr=""/>
          <p:cNvPicPr/>
          <p:nvPr/>
        </p:nvPicPr>
        <p:blipFill>
          <a:blip r:embed="rId1"/>
          <a:stretch/>
        </p:blipFill>
        <p:spPr>
          <a:xfrm>
            <a:off x="5181480" y="3505320"/>
            <a:ext cx="3124440" cy="207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0012F-127B-4503-9978-B933E61DEFC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 Project Management Knowledge Area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Knowledge areas describe the key competencies that project managers must develo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core knowledge areas lead to specific project objectives (scope, time, cost, and quality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4 facilitating knowledge areas are the means through which the project objectives are achieved (human resources, communication, risk, and procurement management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1 knowledge area (project integration management) affects and is affected by all of the other knowledge areas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72752-9585-4BC6-BAA0-B056946550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Tools and Techniqu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tools and techniques assist project managers and their teams in various aspects of project managemen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ome specific ones includ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Charter and WBS (scop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antt charts, PERT charts, critical path analysis (time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estimates and Earned Value Analysis (cost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6BA13-040A-4372-BCF8-BDA1C39F4E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 WBS for Intranet Project in Chart Form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250920" y="1924200"/>
          <a:ext cx="8869320" cy="31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924200"/>
                    <a:ext cx="8869320" cy="31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9805-9E21-464A-ABA1-D6959D839A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gure 1-4. Sample Gantt Chart*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562880" cy="48387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982080" y="601992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*This template file comes with Project 98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43760" y="5745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00280" y="57456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C231-1E7C-4B52-A024-AB716117FC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-152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5. Sample PERT Chart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47960" y="4648320"/>
            <a:ext cx="77691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Each box is a project task from the WBS.  Arrows show dependencies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between tasks.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The tasks in red are on the critical path.  If any tasks on the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critical path take longer than planned, the whole project will slip 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00"/>
                </a:solidFill>
                <a:uFillTx/>
                <a:latin typeface="Times New Roman"/>
              </a:rPr>
              <a:t>unless</a:t>
            </a:r>
            <a:r>
              <a:rPr b="0" lang="en-US" sz="2000" spc="-1" strike="noStrike">
                <a:solidFill>
                  <a:srgbClr val="333300"/>
                </a:solidFill>
                <a:latin typeface="Times New Roman"/>
              </a:rPr>
              <a:t> something is done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6476760" cy="39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A216-5980-43A9-AAE6-DBCE379B4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7" name=""/>
          <p:cNvGraphicFramePr/>
          <p:nvPr/>
        </p:nvGraphicFramePr>
        <p:xfrm>
          <a:off x="457200" y="1224000"/>
          <a:ext cx="8686800" cy="506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24000"/>
                    <a:ext cx="86868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1066680" y="152280"/>
            <a:ext cx="8077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Times New Roman"/>
              </a:rPr>
              <a:t>Sample Earned Value Chart</a:t>
            </a:r>
            <a:endParaRPr b="0" lang="en-US" sz="44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AF97-B9FA-41E1-B389-8166DDE055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4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dvantages of Project Management*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62120" y="685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osses, customers, and other stakeholders do not like surprise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ood project management (PM) provides assurance and reduces risk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the tools and environment to plan, monitor, track, and manage schedules, resources, costs, and quality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 provides a history or metrics base for future planning as well as good documentation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-26064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ject members learn and grow by working in a cross-functional team environ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*Source:  Knutson, Joan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M Networ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December 1997, p. 13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260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D243-A247-4002-9D3E-7812BBB92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w Project Management (PM) Relates to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Much of the knowledge needed to manage projects is unique to P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ever, project managers must also have knowledge and experience in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general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application area of th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rs must focus on meeting specific project objectiv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7D9B-94D7-4549-AC52-E6F0D4379A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56880" y="1523880"/>
            <a:ext cx="8186760" cy="50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T Projects have a terrible track record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A 1995 Standish Group study found that only 16.2% of IT projects were successfu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Over 31% of IT projects were canceled before completion, costing over $81 B in the U.S. alon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9 ComputerWorld article listed project manager as the #1 position IT managers say they need most for contract hel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eed for IT projects keeps increasing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mpanies in general are emphasizing projec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tivation for Studying Information Technology (IT) Project Managemen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B22F9-150C-4958-80B3-4F384FB911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3. Project Management and Other Disciplin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087640" y="1467000"/>
            <a:ext cx="5532480" cy="437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DD45B-E09C-4926-B24D-6E16AA2EDA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-30492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story of Project Management*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609120"/>
            <a:ext cx="788184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odern project management began with the Manhattan Project, which the U.S. military led to develop the atomic bomb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17 Henry Gantt developed the Gantt chart as a tool for scheduling work in job shop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1958, the Navy developed PERT chart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 the 1970s, the military began using project management software, as did the construction indust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By the 1990s, virtually every industry was using some form of project managemen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* </a:t>
            </a: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August 1999 PM Network has good articles on history of 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5A95-0BA3-4AAE-8ACC-1F7E4ED7155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41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Project Management Profess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7238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1996 Fortune article called project management the “number one career choice”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authors like Tom Peters and Thomas Stewart stress that projects are what add value to organization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rofessional societies like the Project Management Institute have grown tremendous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22F49-7351-4CE5-B1B0-1163576B367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 Management Certificati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MI provides certification as a Project Management Professional (PMP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A PMP has documented sufficient project experience, agreed to follow a code of ethics, and passed the PMP ex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umber of people earning PMP certification is increasing quickl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Other groups, like the Gartner Group and the Singapore Computer Society, have their own IT PM Certification program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11BF6-303A-4BBB-840F-C3BD4B393D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6. Growth in PMP Certification, 1993-1998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7619760" cy="440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208640" y="838080"/>
            <a:ext cx="19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ver 12,500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by May 1999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709D-8CA5-459B-9897-89B9AB7E509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de of Ethic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MI developed a project management code of ethics that all PMPs must agree to abide by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nducting work in an ethical manner helps the profession earn confidenc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thics are on the web at 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www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pmi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org/certification/code.</a:t>
            </a:r>
            <a:r>
              <a:rPr b="1" lang="en-US" sz="32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htm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D0A2B-F75B-4819-8E68-9B373D5DE8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scussion Question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lvl="2" marL="1131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Give three examples of activities that are projects and three examples of activities that are not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How is project management different from general managemen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hy do you think so many projects are unsuccessful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s a high failure rate unique to certain types of projects, like IT projects?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7565C-5A4B-4316-81AF-53EF519DEB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a Project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 project is a temporary endeavor undertaken to accomplish a unique purpos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ttributes of projec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unique purpo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emporar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require resources, often from various area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hould have a primary sponsor and/or customer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involve uncertaint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E5B84-46CA-4616-A365-133D27B685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mples of Project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orthwest Airlines developed a new reservation system called ResNet (see chapters 11-1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ank of America created a system to integrate check processing, checking accounts, and savings accounts in various states (p. 130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Kodak created the Advantix Advanced Photo System in one of their most ambitious projects ever (p. 302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4D05A-D1B6-4756-9095-1E997EF791A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jects I’ve Worked On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this book!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Writing a web-based CBT cours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academic program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Purchasing a risk management system for an oil company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tarting a new internal consulting grou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Managing a beta test for new softwar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National Aerospace Plane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High Reliability Fighter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he Local Online Network System Project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etc., etc., etc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52580-ACF0-4DC2-932B-F6FB5E89250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14479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Every project is constrained in different ways by it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cop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Time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Cost goals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It is the project manager’s duty to balance these three often competing goal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DADA-307F-438B-9FE6-12100D26D1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gure 1-1. The Triple Constraint of Project Manageme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562720" cy="49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0BD76-CFD1-4FFF-8585-2C0D91BCDC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ercise on the Triple Constrain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air up and instructor assign roles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layer” describe in your own words what the triple constraint really means, then give an example of it on a real project you’re familiar with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oach” listen and ask questions, then be ready to share what your partner sai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Was the project “successful?”  Why or why not?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1010A-EB15-419F-9201-8B7A4A9207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Project Management?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956360" cy="312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Project management is “the application of knowledge, skills, tools, and techniques to project activities in order to meet or exceed stakeholder needs and expectations from a project” (PMI*, Project Management Body of Knowledge (PMBOK Guide), 1996, p. 6)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25780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</a:rPr>
              <a:t>*The Project Management Institute (PMI) is an international professional society.  Their web site is www.pmi.org.  Over 315,000 copies of the PMBOK Guide were in circulation by June 1999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3183-031D-4D98-97D1-78C9D47D92F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Scott Schwalbe</cp:lastModifiedBy>
  <cp:lastPrinted>1999-03-08T14:43:06Z</cp:lastPrinted>
  <dcterms:modified xsi:type="dcterms:W3CDTF">1999-09-05T19:56:26Z</dcterms:modified>
  <cp:revision>10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www.augsburg.edu/ppages/schwalbe</vt:lpwstr>
  </property>
  <property fmtid="{D5CDD505-2E9C-101B-9397-08002B2CF9AE}" pid="9" name="LinkColor">
    <vt:r8>16711782</vt:r8>
  </property>
  <property fmtid="{D5CDD505-2E9C-101B-9397-08002B2CF9AE}" pid="10" name="MailAddress">
    <vt:lpwstr>schwalbe@augsburg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Kathy\U of M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