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14.wmf" ContentType="image/x-wmf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6EF3-BAB8-481B-9D23-4E45395DB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066680" y="3839040"/>
            <a:ext cx="7848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966E-617F-4EE0-891D-AD22468FB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8600" y="13712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38390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088600" y="38390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6DFE-34B3-4FE9-B2D6-A210D5550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20600" y="13712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74520" y="13712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066680" y="38390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720600" y="38390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374520" y="38390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5D82-5350-4989-A216-EA47E63DB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9A3FF-0E97-4399-A224-D783271B9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68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3CF45-D2F0-42B4-AD39-562FB4AA3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783E6-477B-4471-B56F-9F4FAA3C0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383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88600" y="1371240"/>
            <a:ext cx="383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5F0E0-7AC7-463D-B62A-490773545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30DA6-E284-402A-9AA5-154189BB4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066680" y="-360"/>
            <a:ext cx="777240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63752-C3A0-4233-B51D-68A0B2A95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88600" y="1371240"/>
            <a:ext cx="383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680" y="38390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A9676-CA15-47A5-9D36-FDD3F659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06668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9CC6-C0EA-4604-8719-0D0D013CD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383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88600" y="13712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88600" y="38390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31274-53C2-4BB9-9BC5-0859CB8B4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88600" y="13712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680" y="3839040"/>
            <a:ext cx="7848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D570B-EA16-459D-A3B8-6A2AC7925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6680" y="3839040"/>
            <a:ext cx="7848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06FF3-963C-4138-9ECD-86BDC2012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88600" y="13712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680" y="38390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88600" y="38390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A18EE-1BD1-47C4-B810-B75005BF6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720600" y="13712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74520" y="13712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6680" y="38390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720600" y="38390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374520" y="3839040"/>
            <a:ext cx="25272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84C11-D3FE-4B67-AAA2-5CDB24A7B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773C-77EE-4115-9EBE-F52D357EB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383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371240"/>
            <a:ext cx="383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FAA2-6413-41CE-9CE3-7D9C6D454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F5EC-C396-48A2-889B-6B474DCAB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066680" y="-360"/>
            <a:ext cx="777240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DA12-67CC-4C29-9B41-542095325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88600" y="1371240"/>
            <a:ext cx="383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38390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832F-696D-4B36-B926-6085C8B4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38300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88600" y="13712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88600" y="38390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5361-77CB-46DD-8297-9B010679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88600" y="1371240"/>
            <a:ext cx="38300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66680" y="3839040"/>
            <a:ext cx="7848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0298-24C4-43EE-BC7C-2DBD98B4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1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546840" y="1066680"/>
            <a:ext cx="8596440" cy="10188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101880"/>
              <a:gd name="textAreaBottom" fmla="*/ 102240 h 10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839080" y="990720"/>
            <a:ext cx="30492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06668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12E00-DE2A-48A7-88C5-0A3B239CEC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8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4160" y="200016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5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6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0C103-9D08-4BCD-AEE9-D5D9077FB5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Fig4-2.xls" TargetMode="External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file:///Fig4-3.xls" TargetMode="External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file:///Fig4-4.xls" TargetMode="External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file:///Fig4-5.xls" TargetMode="External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file:///Fig4-7.mpp" TargetMode="External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4160" y="72216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Chapter 4: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Project Scope Management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132" name="magnify" descr=""/>
          <p:cNvPicPr/>
          <p:nvPr/>
        </p:nvPicPr>
        <p:blipFill>
          <a:blip r:embed="rId1"/>
          <a:stretch/>
        </p:blipFill>
        <p:spPr>
          <a:xfrm>
            <a:off x="5029200" y="0"/>
            <a:ext cx="4076640" cy="4495680"/>
          </a:xfrm>
          <a:prstGeom prst="rect">
            <a:avLst/>
          </a:prstGeom>
          <a:ln w="0">
            <a:noFill/>
          </a:ln>
        </p:spPr>
      </p:pic>
      <p:pic>
        <p:nvPicPr>
          <p:cNvPr id="133" name="bd06662_" descr=""/>
          <p:cNvPicPr/>
          <p:nvPr/>
        </p:nvPicPr>
        <p:blipFill>
          <a:blip r:embed="rId2"/>
          <a:stretch/>
        </p:blipFill>
        <p:spPr>
          <a:xfrm>
            <a:off x="5562720" y="380880"/>
            <a:ext cx="2195280" cy="1943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E0677-B888-46FB-AAF1-0DACFD5F555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-10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 Black"/>
              </a:rPr>
              <a:t>Focusing on Broad Organizational Needs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t is often difficult to provide strong justification for many IT projects, but everyone agrees they have a high valu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t is better to measure gold roughly than to count pennies precisely”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ree important criteria for projects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ere is a </a:t>
            </a:r>
            <a:r>
              <a:rPr b="0" i="1" lang="en-US" sz="2400" spc="-1" strike="noStrike">
                <a:solidFill>
                  <a:srgbClr val="ffff00"/>
                </a:solidFill>
                <a:latin typeface="Arial Black"/>
              </a:rPr>
              <a:t>need</a:t>
            </a:r>
            <a:r>
              <a:rPr b="0" lang="en-US" sz="2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for the projec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ere are </a:t>
            </a:r>
            <a:r>
              <a:rPr b="0" i="1" lang="en-US" sz="2400" spc="-1" strike="noStrike">
                <a:solidFill>
                  <a:srgbClr val="ffff00"/>
                </a:solidFill>
                <a:latin typeface="Arial Black"/>
              </a:rPr>
              <a:t>funds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availabl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ere’s a strong </a:t>
            </a:r>
            <a:r>
              <a:rPr b="0" i="1" lang="en-US" sz="2400" spc="-1" strike="noStrike">
                <a:solidFill>
                  <a:srgbClr val="ffff00"/>
                </a:solidFill>
                <a:latin typeface="Arial Black"/>
              </a:rPr>
              <a:t>will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to make the project succeed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00DA-A243-4A0C-8A04-3A8709ED4E7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2422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Categorizing IT Projects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One categorization is whether the project address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 problem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n opportunity, or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 directiv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nother categorization is how long it will take to do and when it is neede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nother is the overall priority of the projec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D54C-BA3C-4F1F-92EE-FB33E85A903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3798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 Black"/>
              </a:rPr>
              <a:t>Financial Analysis of Projects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830592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nancial considerations are often an important consideration in selecting project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ree primary methods for determining the projected financial value of projects: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Net present value (NPV) analysi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Return on investment (ROI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ayback analysi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F20E-9CF4-438E-A925-32CEE172997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37980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 Black"/>
              </a:rPr>
              <a:t>Net Present Value Analysis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56880" y="1142640"/>
            <a:ext cx="818676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Net present value (NPV) analysis is a method of calculating the expected net monetary gain or loss from a project by discounting all expected future cash inflows and outflows to the present point in tim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rojects with a positive NPV should be considered if financial value is a key criterio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 higher the NPV, the better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7289-2A24-4376-A69C-02591D55A03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393840"/>
            <a:ext cx="7848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Figure 4-2.  Net Present Value Example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58880" y="1038240"/>
            <a:ext cx="8080200" cy="47815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217880" y="586728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cc"/>
                </a:solidFill>
                <a:uFillTx/>
                <a:latin typeface="Times New Roman"/>
                <a:hlinkClick r:id="rId2"/>
              </a:rPr>
              <a:t>Excel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076C-6625-46DA-9EBE-67DE5E17720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27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Return on Investment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Return on investment (ROI) is income divided by investmen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I = (total discounted benefits - total discounted costs) / discounted cost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e higher the ROI, the better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Many organizations have a required rate of return or minimum acceptable rate of return on investment for project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6EF7-7964-45F1-A808-E20059E483A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27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Payback Analysis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nother important financial consideration is payback analysi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 payback period is the amount of time it will take to recoup, in the form of net cash inflows, the net dollars invested in a projec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ayback occurs when the cumulative discounted benefits and costs are greater than zero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any organizations want IT projects to have a fairly short payback period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F16B-CC23-45D5-99AB-FAFD5C084AB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13920" y="-8280"/>
            <a:ext cx="747252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Figure 4-3. NPV, ROI, and Payback Analysis for Project 1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8381880" cy="38210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125720" y="529920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cc"/>
                </a:solidFill>
                <a:uFillTx/>
                <a:latin typeface="Times New Roman"/>
                <a:hlinkClick r:id="rId2"/>
              </a:rPr>
              <a:t>Excel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FB8C-1C42-4B4B-95A5-1C0A7349320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680" y="-2520"/>
            <a:ext cx="77724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Figure 4-4. NPV, ROI, and Payback Analysis for Project 2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8381880" cy="38052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973440" y="545148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cc"/>
                </a:solidFill>
                <a:uFillTx/>
                <a:latin typeface="Times New Roman"/>
                <a:hlinkClick r:id="rId2"/>
              </a:rPr>
              <a:t>Excel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1786-DEFE-4371-9799-DE4E22EA737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186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Weighted Scoring Model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56880" y="1142640"/>
            <a:ext cx="818676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 weighted scoring model is a tool that provides a systematic process for selecting projects based on many criteria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First identify criteria important to the project selection proces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en assign weights (percentages) to each criterion so they add up to 100%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hen assign scores to each criterion for each projec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ultiply the scores by the weights and get the total weighted scor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he higher the weighted score, the better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See “What Went Right?” for a description of how a mortgage finance agency uses a weighted scoring model for IT project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8730-1B91-4640-BF65-015112F5023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-10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 Black"/>
              </a:rPr>
              <a:t>Importance of Good Project Scope Management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995 CHAOS study cited user involvement, a clear project mission, a clear statement of requirements, and proper planning as being important for project succes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 program manager of Keller Graduate School of Management cites proper project definition and scope as the main reasons projects fail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37F0-B565-4A0E-81CF-18E554F518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14280" y="118080"/>
            <a:ext cx="770112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Figure 4-5. Sample Weighted Scoring Model for Project Selection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7391520" cy="49528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989280" y="617220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cc"/>
                </a:solidFill>
                <a:uFillTx/>
                <a:latin typeface="Times New Roman"/>
                <a:hlinkClick r:id="rId2"/>
              </a:rPr>
              <a:t>Excel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4652-E4A2-4D1F-9591-FDF8731FB28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680" y="54756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 Black"/>
              </a:rPr>
              <a:t>Class Activity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reate a weighted scoring model for selecting a mat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Determine 4-5 important criteria, then determine their weight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ick a few candidate mates and apply scoring mod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alculate weighted score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4536-DDA4-4154-9B3F-1E30176FABA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680" y="166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Project Charters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56880" y="1142640"/>
            <a:ext cx="818676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fter deciding what project to work on, it is important to formalize project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 project charter is a document that formally recognizes the existence of a project and provides direction on the project’s objectives and managemen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Key project stakeholders should sign a project charter to acknowledge agreement on the need and intent of the projec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F297-0C28-469E-8333-8C6E9CA230D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a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3E10D-D54F-487C-BF51-F0187632C3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680" y="-18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6d9a"/>
                </a:solidFill>
                <a:latin typeface="Arial Black"/>
              </a:rPr>
              <a:t>Table 4-2. Sample Project Charter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990720" y="1371600"/>
          <a:ext cx="8153280" cy="364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371600"/>
                    <a:ext cx="8153280" cy="36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d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40D30-7A45-4B4E-AB8D-AA22CCD53D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90720" y="-2520"/>
            <a:ext cx="81532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6d9a"/>
                </a:solidFill>
                <a:latin typeface="Arial Black"/>
              </a:rPr>
              <a:t>Table 4-2. Sample Project Charter (continued)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219320" y="1523880"/>
          <a:ext cx="9164520" cy="5508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523880"/>
                    <a:ext cx="916452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"/>
          <p:cNvSpPr/>
          <p:nvPr/>
        </p:nvSpPr>
        <p:spPr>
          <a:xfrm>
            <a:off x="1061640" y="1143000"/>
            <a:ext cx="316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oles and Responsibilitie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-12240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Scope Planning and the Scope Statement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 scope statement is a document used to develop and confirm a common understanding of the project scope.  It should includ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 project justification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 brief description of the project’s product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 summary of all project deliverable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 statement of what determines project succes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DB16-ACC3-4B4A-9A66-EFB4387B7F7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680" y="-10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 Black"/>
              </a:rPr>
              <a:t>Scope Planning and the Work Breakdown Structure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fter completing scope planning, the next step is to further define the work by breaking it into manageable piec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Good scope definitio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helps improve the accuracy of time, cost, and resource estimate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efines a baseline for performance measurement and project control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ids in communicating clear work responsibilitie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8A9B-E893-4025-A772-BBB1A7136BA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The Work Breakdown Structure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 work breakdown structure (WBS) is an outcome-oriented analysis of the work involved in a project that defines the total scope of the projec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t is a foundation document in project management because it provides the basis for planning and managing project schedules, costs, and change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4850-FE26-4ADD-996F-648AD681909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3000" y="-10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 Black"/>
              </a:rPr>
              <a:t>Figure 4-6a. Sample Intranet WBS Organized by Product 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8381880" cy="284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4289-BA7F-4D40-AAD9-B9F54917610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43000" y="-10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 Black"/>
              </a:rPr>
              <a:t>Figure 4-6b. Sample Intranet WBS Organized by Phase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838188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0CE5-E7BF-4BD2-AAE0-A65AE879A72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-124200"/>
            <a:ext cx="86868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 Black"/>
              </a:rPr>
              <a:t>What is Project Scope Management?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28640" y="1066320"/>
            <a:ext cx="841536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cope refers to all the work involved in creating the products of the project and the processes used to create them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Project scope management includes the processes involved in defining and controlling what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s or </a:t>
            </a:r>
            <a:r>
              <a:rPr b="0" i="1" lang="en-US" sz="2800" spc="-1" strike="noStrike">
                <a:solidFill>
                  <a:srgbClr val="ffffff"/>
                </a:solidFill>
                <a:latin typeface="Arial Black"/>
              </a:rPr>
              <a:t>is not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included in the projec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 project team and stakeholders must have the same understanding of what products will be produces as a result of a project and what processes will be used in producing them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C9CE-5F48-49C2-9C99-C33562D146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680" y="-124920"/>
            <a:ext cx="83822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 Black"/>
              </a:rPr>
              <a:t>Table 4-3. Intranet WBS in Tabular Form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3" name=""/>
          <p:cNvSpPr/>
          <p:nvPr/>
        </p:nvSpPr>
        <p:spPr>
          <a:xfrm>
            <a:off x="990720" y="1219320"/>
            <a:ext cx="69087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0 Conce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1 Evaluate current syst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2 Define Requir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2.1 Define user requir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2.2 Define content requir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2.3 Define system requir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2.4 Define server owner requir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3 Define specific functiona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4 Define risks and risk management approa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5 Develop project pl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6 Brief web development tea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0 Web Site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0 Web Site Develop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0 Roll 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0 Sup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40E2-8FC9-4E2E-95AA-F02E7DBBDA7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87000" y="149760"/>
            <a:ext cx="717876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Figure 4-7. Intranet WBS and Gantt Chart in Project 98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5" name=""/>
          <p:cNvSpPr/>
          <p:nvPr/>
        </p:nvSpPr>
        <p:spPr>
          <a:xfrm>
            <a:off x="992880" y="12193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B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258880" y="1219320"/>
            <a:ext cx="179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antt Cha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32893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1293480" y="5410080"/>
            <a:ext cx="19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cc"/>
                </a:solidFill>
                <a:uFillTx/>
                <a:latin typeface="Times New Roman"/>
                <a:hlinkClick r:id="rId2"/>
              </a:rPr>
              <a:t>Project 98 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401E-FBD1-426F-9D70-1E2BB2DBC3C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95280" y="-154080"/>
            <a:ext cx="784872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Approaches to Developing WBSs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56880" y="1294920"/>
            <a:ext cx="8186760" cy="44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Using guidelines: Some organizations, like the DOD, provide guidelines for preparing WBS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 analogy approach: It often helps to review WBSs of similar project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 top-down approach: Start with the largest items of the project and keep breaking them dow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 bottoms-up approach: Start with the detailed tasks and roll them up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169F-A00F-424E-9F7B-A175D92C699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56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Basic Principles for Creating WBSs*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56880" y="1371600"/>
            <a:ext cx="8186760" cy="44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1. A unit of work should appear at only one place in the WBS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2. The work content of a WBS item is the sum of the WBS items below it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3. A WBS item is the responsibility of only one individual, even though many people may be working on it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4. The WBS must be consistent with the way in which work is actually going to be performed; it should serve the project team first and other purposes only if practical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5. Project team members should be involved in developing the WBS to ensure consistency and buy-in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6. Each WBS item must be documented to ensure accurate understanding of the scope of work included and not included in that item.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7. The WBS must be a flexible tool to accommodate inevitable changes while properly maintaining control of the work content in the project according to the scope statement. 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" name=""/>
          <p:cNvSpPr/>
          <p:nvPr/>
        </p:nvSpPr>
        <p:spPr>
          <a:xfrm>
            <a:off x="1066680" y="6035760"/>
            <a:ext cx="80773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leland, David I.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Project Management:  Strategic Design and Implementation</a:t>
            </a: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99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6F3C-3285-47C5-B80E-DAD7A0A6418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680" y="54756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 Black"/>
              </a:rPr>
              <a:t>Class Exercise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reate a WBS for building a dream hous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Get into groups of 3-4 and have one person describe his/her dream home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Group decide how to organize the work involved in making the home a reality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ake one WBS item down to level 3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D283-4B3E-4007-93BF-7FDF51B49F1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66680" y="-10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 Black"/>
              </a:rPr>
              <a:t>Scope Verification and Scope Change Control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830592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t is very difficult to create a good scope statement and WBS for a projec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t is even more difficult to verify project scope and minimize scope chang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any IT projects suffer from scope creep and poor scope verification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FoxMeyer Drug filed for bankruptcy after scope creep on a robotic warehous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ngineers at Grumman called a system “Naziware” and refused to use i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6C75-F5A5-44BC-9DB0-859402A80C7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f3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724EE-F6C2-482A-9A0F-849435D887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43000" y="-10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6d9a"/>
                </a:solidFill>
                <a:latin typeface="Arial Black"/>
              </a:rPr>
              <a:t>Table 4-4. Factors Causing IT Project Problems*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990720" y="1600200"/>
          <a:ext cx="8153280" cy="3156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00200"/>
                    <a:ext cx="8153280" cy="31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1066680" y="5181480"/>
            <a:ext cx="754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Johnson, Jim, "CHAOS:  The Dollar Drain of IT Project Failures," Application Development Trends, January 1995, www.stadishgroup.com/chaos.ht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66680" y="-12240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 Black"/>
              </a:rPr>
              <a:t>Suggestions for Improving User Input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sist that all projects have a sponsor from the user organizatio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Have users on the project team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Have regular meeting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eliver something to project users and sponsor on a regular basi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o-locate users with the developer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5E85-78B5-45F8-9FEC-63A03A8E79A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66320" y="-1080"/>
            <a:ext cx="807732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Suggestions for Reducing Incomplete and Changing Requirements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evelop and follow a requirements management proces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mploy techniques such as prototyping, use case modeling, and Joint Application Design to thoroughly understand user requirement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ut all requirements in writing and curren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reate a requirements management databas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Provide adequate testing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Use a process for reviewing requested changes from a systems perspective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mphasize completion dates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5F5B-B09E-4443-94F2-DCDFED40D43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66680" y="257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Discussion Questions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56880" y="1066320"/>
            <a:ext cx="818676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Give examples of IT projects and why they were or were not selected for implementation.  What type of project selection process did the organization use?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iscuss the theory and practice behind using project charters, scope statements, and WBSs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Describe a project that suffered from scope creep.  Could it have been avoided?  How?  Can scope creep be a good thing?  When?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FA04-8C7A-4E02-83CF-F1D7CE1EEEB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5461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 Black"/>
              </a:rPr>
              <a:t>Project Scope Management Processes</a:t>
            </a:r>
            <a:endParaRPr b="0" lang="en-US" sz="28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56880" y="1142640"/>
            <a:ext cx="8186760" cy="47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nitiation: beginning a project or continuing to the next phas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cope planning: developing documents to provide the basis for future project decision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cope definition: subdividing the major project deliverables into smaller, more manageable component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cope verification: formalizing acceptance of the project scop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cope change control: controlling changes to project scop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9E37-8D80-41E7-BDF1-E55A1DA6684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-2520"/>
            <a:ext cx="77724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 Black"/>
              </a:rPr>
              <a:t>Project Initiation: Strategic Planning and Project Selection</a:t>
            </a:r>
            <a:endParaRPr b="0" lang="en-US" sz="32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e first step in initiating projects is to look at the big picture or strategic plan of an organizatio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trategic planning involves determining long-term business objective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T projects should support strategic and financial business objective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7E23-C25B-4400-8C4A-66817974015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-10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 Black"/>
              </a:rPr>
              <a:t>Table 4-1. Why Firms Invest in Information Technology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838080" y="1676520"/>
          <a:ext cx="8305920" cy="4554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76520"/>
                    <a:ext cx="8305920" cy="45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BC70-3D44-4B11-9D9B-E28075FD93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54756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 Black"/>
              </a:rPr>
              <a:t>Identifying Potential Projects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56880" y="1219320"/>
            <a:ext cx="8186760" cy="47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any organizations follow a planning process for selecting IT project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irst develop an IT strategic plan based on the organization’s overall strategic plan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n perform a business area analysi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n define potential project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en select IT projects and assign resourc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1E0F-C2D4-450A-807E-63FD94760C9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-10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 Black"/>
              </a:rPr>
              <a:t>Figure 4-1. Information Technology Planning Process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7391520" cy="477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9679-148C-43A4-A9DA-A22ECCAB9B1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 Black"/>
              </a:rPr>
              <a:t>Methods for Selecting Projects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ere are usually more projects than available time and resources to implement them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It is important to follow a logical process for selecting IT projects to work on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Methods include focusing on broad needs, categorizing projects, financial methods, and weighted scoring models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Course Technology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C8E3-486B-488A-8ED6-FD4AD9F9E58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25T15:22:49Z</dcterms:created>
  <dc:creator>Scott Schwalbe</dc:creator>
  <dc:description/>
  <dc:language>en-US</dc:language>
  <cp:lastModifiedBy>Kathy Schwalbe</cp:lastModifiedBy>
  <cp:lastPrinted>1999-03-08T14:43:06Z</cp:lastPrinted>
  <dcterms:modified xsi:type="dcterms:W3CDTF">1999-09-10T14:58:53Z</dcterms:modified>
  <cp:revision>225</cp:revision>
  <dc:subject/>
  <dc:title>No Slide Title</dc:title>
</cp:coreProperties>
</file>