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D36-43E2-4B3C-AD30-490854A9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35C-A398-4D82-A508-555A4833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11A-26C2-4766-8456-18BBEAF1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EB9-C309-4466-B836-F50CCC59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4F96-3A06-443A-9C53-0E4B2B09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56D0-6E70-4448-B1D5-0DB13BF7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3D47-3113-4CA8-A7AD-02A2E2F1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2816-4B07-41F4-AC05-0284327F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045C-3848-4BA0-8628-F12CC42B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1667-92DB-40EB-B6C7-D961AB2B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01D5-44DC-49E3-BC86-C615C582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657-337C-4CAE-88A5-9C8EA53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0EB6-0A1D-4F0A-B276-77F1CD6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866A-32D6-4B68-B5EB-1C8706DB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C20C-611D-4CC9-8881-290710D8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9903-04FC-48A0-875D-A13292F8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FE69-BA7D-48BA-B954-DAE97320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BA9-19A8-498C-82D8-005B7AC0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F35-753B-435A-82D9-4B707C86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FC0-DB50-479A-93FD-CD0745B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7DF-3746-4DB2-93C5-69C317EF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7ED-DE27-436C-BAAA-0BBFDA3F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6E4-31E9-4D8E-B985-3461EFF2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494-A4D9-4E43-A070-66F6A75F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A392-2A6A-472E-8A91-36BEFB502E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F2FA-9277-4355-AC4C-E103517468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tmp\nam\nam-sepa.bat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Verdana"/>
              </a:rPr>
              <a:t>NS – Network Simulator </a:t>
            </a: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Ferramenta de Simulação de Redes de Computado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203080" y="4889520"/>
            <a:ext cx="31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os Portn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fael G. B.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ientador:  Prof. Sérgio B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ns –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acterísticas e plataform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esenvolvido em C++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ornecido em código-f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Uso gratuito e liv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oltado para Unix (FreeBSD, SunOS, Linux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utura do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úcleo do simulador </a:t>
            </a:r>
            <a:r>
              <a:rPr b="0" lang="pt-B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++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Veloc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Implementação de protoco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com usuário </a:t>
            </a:r>
            <a:r>
              <a:rPr b="0" lang="pt-B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OT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inguagem script interpreta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rientada a obje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lexibilidade e facilidade na mudança de parâme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2060640"/>
            <a:ext cx="5904000" cy="3673440"/>
          </a:xfrm>
          <a:prstGeom prst="roundRect">
            <a:avLst>
              <a:gd name="adj" fmla="val 16667"/>
            </a:avLst>
          </a:prstGeom>
          <a:solidFill>
            <a:srgbClr val="a3b2c1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3000" y="642960"/>
            <a:ext cx="4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03360" y="1808280"/>
            <a:ext cx="2303640" cy="2016000"/>
          </a:xfrm>
          <a:prstGeom prst="rect">
            <a:avLst/>
          </a:prstGeom>
          <a:solidFill>
            <a:srgbClr val="acb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cl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1808280"/>
            <a:ext cx="1584360" cy="936360"/>
          </a:xfrm>
          <a:prstGeom prst="rect">
            <a:avLst/>
          </a:prstGeom>
          <a:solidFill>
            <a:srgbClr val="b6c2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utura do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9600" y="4894200"/>
            <a:ext cx="2173320" cy="406440"/>
            <a:chOff x="309600" y="4894200"/>
            <a:chExt cx="2173320" cy="406440"/>
          </a:xfrm>
        </p:grpSpPr>
        <p:sp>
          <p:nvSpPr>
            <p:cNvPr id="125" name=""/>
            <p:cNvSpPr/>
            <p:nvPr/>
          </p:nvSpPr>
          <p:spPr>
            <a:xfrm>
              <a:off x="1187280" y="4941720"/>
              <a:ext cx="1295640" cy="35892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89640 h 358920"/>
                <a:gd name="textAreaBottom" fmla="*/ 269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9600" y="489420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Verdana"/>
                </a:rPr>
                <a:t>scri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0920" y="1808280"/>
            <a:ext cx="1079280" cy="504720"/>
          </a:xfrm>
          <a:prstGeom prst="rect">
            <a:avLst/>
          </a:prstGeom>
          <a:solidFill>
            <a:srgbClr val="c4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1808280"/>
            <a:ext cx="2303280" cy="1008000"/>
          </a:xfrm>
          <a:prstGeom prst="rect">
            <a:avLst/>
          </a:prstGeom>
          <a:solidFill>
            <a:srgbClr val="8a9d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onador d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1080" y="3933720"/>
            <a:ext cx="2303280" cy="2016360"/>
          </a:xfrm>
          <a:prstGeom prst="rect">
            <a:avLst/>
          </a:prstGeom>
          <a:solidFill>
            <a:srgbClr val="8a9d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es de 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23760" y="5950080"/>
            <a:ext cx="7423200" cy="703800"/>
          </a:xfrm>
          <a:prstGeom prst="rect">
            <a:avLst/>
          </a:prstGeom>
          <a:gradFill rotWithShape="0">
            <a:gsLst>
              <a:gs pos="0">
                <a:srgbClr val="bdc8d3">
                  <a:alpha val="90196"/>
                </a:srgbClr>
              </a:gs>
              <a:gs pos="100000">
                <a:srgbClr val="d8d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pretador de OTcl com bibliotecas de simulação para redes de compu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2725E-006 C -0.0007 0.0336 -0.00139 0.06742 1.66667E-006 0.0943 C 0.00139 0.12118 0.00642 0.13786 0.00798 0.16196 C 0.00955 0.18605 0.00382 0.20992 0.00937 0.23842 C 0.01493 0.26692 0.0243 0.30306 0.04132 0.33272 C 0.05833 0.36237 0.07812 0.39759 0.11198 0.41636 C 0.14583 0.43513 0.21667 0.43883 0.24427 0.44486 E">
                                      <p:cBhvr>
                                        <p:cTn id="10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08526E-006 C 0.01511 0.0387 0.03021 0.07739 0.04931 0.12095 C 0.0684 0.16451 0.09983 0.21224 0.11476 0.26159 C 0.12969 0.31094 0.13889 0.37048 0.13872 0.41636 C 0.13854 0.46224 0.13386 0.50765 0.11337 0.53731 C 0.09288 0.56696 0.05781 0.58619 0.01597 0.5943 C -0.02587 0.60241 -0.10399 0.59755 -0.13733 0.5855 C -0.17066 0.57345 -0.17934 0.55515 -0.18403 0.52132 C -0.18871 0.48749 -0.16892 0.41173 -0.16493 0.383 E">
                                      <p:cBhvr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26969E-006 C 0.06944 0.00371 0.13889 0.00764 0.19739 0.01066 C 0.2559 0.01367 0.29514 0.00579 0.35069 0.01784 C 0.40521 0.02989 0.49653 0.05607 0.53073 0.08364 C 0.56493 0.11121 0.56354 0.155 0.55607 0.18327 C 0.54861 0.21154 0.5276 0.24119 0.48541 0.25255 C 0.44323 0.2639 0.36562 0.25533 0.30278 0.25093 C 0.23993 0.24652 0.14878 0.23123 0.10833 0.2259 E">
                                      <p:cBhvr>
                                        <p:cTn id="11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05839E-007 C 0.02743 0.01019 0.05486 0.02062 0.0974 0.04611 C 0.13993 0.07159 0.19809 0.12234 0.25469 0.15292 C 0.31111 0.1835 0.38559 0.22544 0.43594 0.22961 C 0.48628 0.23378 0.54062 0.20829 0.55556 0.17794 C 0.57153 0.14759 0.5375 0.09175 0.52917 0.04796 C 0.52066 0.00417 0.51007 -0.05677 0.50503 -0.08434 E">
                                      <p:cBhvr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6.0241E-007 C -0.00521 -0.06928 -0.01041 -0.13879 -0.03732 -0.18513 C -0.06423 -0.2317 -0.1151 -0.26529 -0.16128 -0.27943 C -0.20746 -0.29356 -0.27257 -0.28823 -0.31458 -0.27039 C -0.35659 -0.25255 -0.40555 -0.23054 -0.41337 -0.17261 C -0.42118 -0.11469 -0.37205 0.02502 -0.36111 0.07715 E">
                                      <p:cBhvr>
                                        <p:cTn id="11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4.03151E-006 C -0.004 0.01877 -0.00782 0.03776 -0.00261 0.04796 C 0.0026 0.05815 0.01527 0.05908 0.03072 0.06047 C 0.04617 0.06186 0.06371 0.06047 0.09062 0.057 C 0.11753 0.05352 0.15885 0.04518 0.19201 0.03915 C 0.22517 0.03313 0.25364 0.01598 0.2894 0.02131 C 0.32517 0.02664 0.37742 0.04564 0.40659 0.07113 C 0.43576 0.09662 0.45798 0.13299 0.46406 0.17446 C 0.47013 0.21594 0.46579 0.28452 0.4427 0.3202 C 0.41961 0.35588 0.36666 0.39573 0.32534 0.38786 C 0.28402 0.37998 0.23923 0.32599 0.19461 0.27224 E">
                                      <p:cBhvr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Interf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3120" y="2394000"/>
            <a:ext cx="827244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-135000" y="3068640"/>
            <a:ext cx="135000" cy="9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16640" y="3068640"/>
            <a:ext cx="135000" cy="9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3240" y="3159000"/>
            <a:ext cx="135000" cy="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66667E-006 -4.91196E-006 C 0.0276 0.00348 0.0552 0.00718 0.08142 0.00904 C 0.10763 0.01089 0.13576 0.0102 0.15729 0.01066 C 0.17881 0.01112 0.19201 0.01367 0.21076 0.01251 C 0.22951 0.01135 0.25069 -0.00765 0.26944 0.00371 C 0.28819 0.01506 0.31024 0.06094 0.32274 0.08017 C 0.33524 0.0994 0.3342 0.11261 0.34409 0.11932 C 0.35399 0.12604 0.37222 0.12535 0.38263 0.12118 C 0.39305 0.11701 0.39861 0.10589 0.40677 0.0943 C 0.41493 0.08272 0.42326 0.06511 0.43211 0.05167 C 0.44097 0.03823 0.44947 0.02387 0.46006 0.01437 C 0.47065 0.00487 0.48298 -0.00208 0.496 -0.00533 C 0.50902 -0.00857 0.5243 -0.00556 0.53871 -0.00533 C 0.55312 -0.0051 0.56753 -0.00417 0.58263 -0.00347 C 0.59774 -0.00278 0.61718 -0.00208 0.62934 -0.00162 C 0.64149 -0.00116 0.6467 -0.00046 0.65607 -4.91196E-006 C 0.66545 0.00046 0.67517 0.00116 0.68541 0.00185 C 0.69565 0.00255 0.70642 0.00301 0.71736 0.00371 E">
                                      <p:cBhvr>
                                        <p:cTn id="14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11492E-006 C 0.00712 -0.00232 0.01423 -0.00464 0.01875 -0.00904 C 0.02326 -0.01344 0.02274 -0.02341 0.02673 -0.02665 C 0.03073 -0.02989 0.03628 -0.02827 0.04271 -0.0285 C 0.04913 -0.02873 0.05573 -0.02897 0.06528 -0.0285 C 0.07482 -0.02804 0.09028 -0.02804 0.1 -0.02503 C 0.10972 -0.02202 0.11962 -0.01553 0.12396 -0.01066 C 0.1283 -0.0058 0.12535 0.00139 0.12569 0.00463 E">
                                      <p:cBhvr>
                                        <p:cTn id="15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76089E-007 C 0.00469 0.00695 0.00955 0.0139 0.01198 0.02132 C 0.01441 0.02873 0.01476 0.03592 0.01476 0.04449 C 0.01476 0.05306 0.01216 0.06326 0.01198 0.07299 C 0.01181 0.08272 0.01111 0.09407 0.01337 0.10334 C 0.01563 0.11261 0.02136 0.11979 0.02535 0.12813 C 0.02934 0.13647 0.03143 0.14319 0.03733 0.15315 C 0.04323 0.16312 0.05156 0.17679 0.06129 0.1886 C 0.07101 0.20042 0.08472 0.21733 0.09601 0.22428 C 0.10729 0.23124 0.12136 0.23263 0.12934 0.22961 C 0.13733 0.2266 0.14063 0.21641 0.1441 0.20644 E">
                                      <p:cBhvr>
                                        <p:cTn id="15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so de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nfecção do 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script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OTcl (arquivo tex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ção do 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trac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ger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pós conclusão da simulaçã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primir estatísticas calculadas no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sualizar eventos no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n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r resultados através dos 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trac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com ferramentas apropriadas (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awk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ção de um Mode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mposição do modelo prop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2 geradores de tráfeg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CBR (Constant Bit Rate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Exponencial on-off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1 sorvedou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2 tipos de fil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SFQ (Stochastic Fair Queueing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76240"/>
            <a:ext cx="80010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74880" indent="-748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-748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554120" y="2422440"/>
            <a:ext cx="31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ns [new Simulat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MAX_TIME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0" y="439884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nf [open out.nam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tr [open out.tr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trace-all $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namtrace-all $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2170800" y="3870360"/>
            <a:ext cx="4249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0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1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2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3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0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1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2 $n3 10Mb 10ms SF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gerais do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iliz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emplo de uma pequena 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70800" y="3859200"/>
            <a:ext cx="4249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0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1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2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3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0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1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2 $n3 10Mb 10ms SF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46280" y="1854360"/>
            <a:ext cx="539640" cy="495000"/>
            <a:chOff x="1646280" y="1854360"/>
            <a:chExt cx="539640" cy="495000"/>
          </a:xfrm>
        </p:grpSpPr>
        <p:sp>
          <p:nvSpPr>
            <p:cNvPr id="155" name=""/>
            <p:cNvSpPr/>
            <p:nvPr/>
          </p:nvSpPr>
          <p:spPr>
            <a:xfrm>
              <a:off x="164628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3280" y="190008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32000" y="1854360"/>
            <a:ext cx="539640" cy="495000"/>
            <a:chOff x="2232000" y="1854360"/>
            <a:chExt cx="539640" cy="495000"/>
          </a:xfrm>
        </p:grpSpPr>
        <p:sp>
          <p:nvSpPr>
            <p:cNvPr id="158" name=""/>
            <p:cNvSpPr/>
            <p:nvPr/>
          </p:nvSpPr>
          <p:spPr>
            <a:xfrm>
              <a:off x="223200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78080" y="18936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17720" y="1854360"/>
            <a:ext cx="539640" cy="495000"/>
            <a:chOff x="2817720" y="1854360"/>
            <a:chExt cx="539640" cy="495000"/>
          </a:xfrm>
        </p:grpSpPr>
        <p:sp>
          <p:nvSpPr>
            <p:cNvPr id="161" name=""/>
            <p:cNvSpPr/>
            <p:nvPr/>
          </p:nvSpPr>
          <p:spPr>
            <a:xfrm>
              <a:off x="281772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50840" y="190476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02000" y="1854360"/>
            <a:ext cx="539640" cy="495000"/>
            <a:chOff x="3402000" y="1854360"/>
            <a:chExt cx="539640" cy="495000"/>
          </a:xfrm>
        </p:grpSpPr>
        <p:sp>
          <p:nvSpPr>
            <p:cNvPr id="164" name=""/>
            <p:cNvSpPr/>
            <p:nvPr/>
          </p:nvSpPr>
          <p:spPr>
            <a:xfrm>
              <a:off x="340200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5120" y="189864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V="1">
            <a:off x="2232000" y="2979720"/>
            <a:ext cx="1844640" cy="628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8520" y="2136600"/>
            <a:ext cx="1890720" cy="662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97560" y="2921040"/>
            <a:ext cx="135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46280" y="198900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46280" y="338472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43440" y="2709720"/>
            <a:ext cx="71928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F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4921E-006 L -5.55556E-007 0.05028 E">
                                      <p:cBhvr>
                                        <p:cTn id="30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3.6608E-006 L -0.05903 0.23331 E">
                                      <p:cBhvr>
                                        <p:cTn id="340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3.6608E-006 L 0.13768 0.12164 E">
                                      <p:cBhvr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3.6608E-006 L 0.28056 0.12164 E">
                                      <p:cBhvr>
                                        <p:cTn id="346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1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658880" y="2652840"/>
            <a:ext cx="52923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proc attach-expoo-traffic {node sink size burst idle rate class color}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ns [Simulator instanc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source [new Agent/UD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attach-agent $node $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source set class_ $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color $class $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traffic [new Application/Traffic/Exponential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packetSize_ $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burst_time_ $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idle_rate_ $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rate_ $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attach-agent $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connect $source $s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return $traf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traffgen0 [attach-expoo-traffic $n0 $sink0 1000 800ms 2ms 5M 1 G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249960" y="5216400"/>
            <a:ext cx="1195200" cy="495000"/>
            <a:chOff x="6249960" y="5216400"/>
            <a:chExt cx="1195200" cy="495000"/>
          </a:xfrm>
        </p:grpSpPr>
        <p:grpSp>
          <p:nvGrpSpPr>
            <p:cNvPr id="176" name=""/>
            <p:cNvGrpSpPr/>
            <p:nvPr/>
          </p:nvGrpSpPr>
          <p:grpSpPr>
            <a:xfrm>
              <a:off x="6249960" y="5216400"/>
              <a:ext cx="539640" cy="495000"/>
              <a:chOff x="6249960" y="5216400"/>
              <a:chExt cx="539640" cy="495000"/>
            </a:xfrm>
          </p:grpSpPr>
          <p:sp>
            <p:nvSpPr>
              <p:cNvPr id="177" name=""/>
              <p:cNvSpPr/>
              <p:nvPr/>
            </p:nvSpPr>
            <p:spPr>
              <a:xfrm>
                <a:off x="6249960" y="5216400"/>
                <a:ext cx="539640" cy="495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6960" y="526212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n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777000" y="5473440"/>
              <a:ext cx="668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305840" y="3984480"/>
            <a:ext cx="145224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. o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29600" y="461484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95920" y="39607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97360" y="4584600"/>
            <a:ext cx="16401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>
            <a:off x="6516720" y="436716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185" name=""/>
          <p:cNvCxnSpPr>
            <a:stCxn id="183" idx="2"/>
            <a:endCxn id="177" idx="0"/>
          </p:cNvCxnSpPr>
          <p:nvPr/>
        </p:nvCxnSpPr>
        <p:spPr>
          <a:xfrm>
            <a:off x="6517800" y="4991040"/>
            <a:ext cx="252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1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29920" y="3159000"/>
            <a:ext cx="3561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udp1 [new Agent/UD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udp1 set class_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attach-agent $n1 $ud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cbr0 [new Application/Traffic/CB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set packetSize_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set interval_ 0.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attach-agent $ud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connect $udp1 $sink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249960" y="5216400"/>
            <a:ext cx="1195200" cy="495000"/>
            <a:chOff x="6249960" y="5216400"/>
            <a:chExt cx="1195200" cy="495000"/>
          </a:xfrm>
        </p:grpSpPr>
        <p:grpSp>
          <p:nvGrpSpPr>
            <p:cNvPr id="190" name=""/>
            <p:cNvGrpSpPr/>
            <p:nvPr/>
          </p:nvGrpSpPr>
          <p:grpSpPr>
            <a:xfrm>
              <a:off x="6249960" y="5216400"/>
              <a:ext cx="539640" cy="495000"/>
              <a:chOff x="6249960" y="5216400"/>
              <a:chExt cx="539640" cy="495000"/>
            </a:xfrm>
          </p:grpSpPr>
          <p:sp>
            <p:nvSpPr>
              <p:cNvPr id="191" name=""/>
              <p:cNvSpPr/>
              <p:nvPr/>
            </p:nvSpPr>
            <p:spPr>
              <a:xfrm>
                <a:off x="6249960" y="5216400"/>
                <a:ext cx="539640" cy="495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76960" y="526212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Verdana"/>
                  </a:rPr>
                  <a:t>n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777000" y="5473440"/>
              <a:ext cx="668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305840" y="398448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29600" y="461484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95920" y="39607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97360" y="4584600"/>
            <a:ext cx="16401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2"/>
            <a:endCxn id="197" idx="0"/>
          </p:cNvCxnSpPr>
          <p:nvPr/>
        </p:nvCxnSpPr>
        <p:spPr>
          <a:xfrm>
            <a:off x="6516720" y="436716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199" name=""/>
          <p:cNvCxnSpPr>
            <a:stCxn id="197" idx="2"/>
            <a:endCxn id="191" idx="0"/>
          </p:cNvCxnSpPr>
          <p:nvPr/>
        </p:nvCxnSpPr>
        <p:spPr>
          <a:xfrm>
            <a:off x="6517800" y="4991040"/>
            <a:ext cx="252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509120" y="3159000"/>
            <a:ext cx="415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0.0 "$traffgen0 sta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1.0 "$cbr0 sta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[expr $MAX_TIME-1] "$traffgen0 st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[expr $MAX_TIME-1] "$cbr0 st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$MAX_TIME "finis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190880" y="2708280"/>
            <a:ext cx="6827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c finish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global ns nf tr MAX_TIME sin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$ns flush-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lose $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lose $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t now [$ns now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Estatisticas: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Tempo Simulacao:  $now 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Pacotes recebidos no nodo 3:  [$sink0 set npkts_]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Bytes recebidos no nodo 3:  [$sink0 set bytes_]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Utilizacao do link:  [expr [$sink0 set bytes_]*8./(10000000.*$now)*100.]%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ec nam out.nam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it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$ns 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264360" y="503244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57880" y="439884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Simul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65320" y="3011400"/>
            <a:ext cx="539640" cy="495360"/>
            <a:chOff x="1165320" y="3011400"/>
            <a:chExt cx="539640" cy="495360"/>
          </a:xfrm>
        </p:grpSpPr>
        <p:sp>
          <p:nvSpPr>
            <p:cNvPr id="210" name=""/>
            <p:cNvSpPr/>
            <p:nvPr/>
          </p:nvSpPr>
          <p:spPr>
            <a:xfrm>
              <a:off x="1165320" y="301140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2320" y="305748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65320" y="4330800"/>
            <a:ext cx="539640" cy="495360"/>
            <a:chOff x="1165320" y="4330800"/>
            <a:chExt cx="539640" cy="495360"/>
          </a:xfrm>
        </p:grpSpPr>
        <p:sp>
          <p:nvSpPr>
            <p:cNvPr id="213" name=""/>
            <p:cNvSpPr/>
            <p:nvPr/>
          </p:nvSpPr>
          <p:spPr>
            <a:xfrm>
              <a:off x="1165320" y="433080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1400" y="43704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57720" y="3654360"/>
            <a:ext cx="539640" cy="495360"/>
            <a:chOff x="4257720" y="3654360"/>
            <a:chExt cx="539640" cy="495360"/>
          </a:xfrm>
        </p:grpSpPr>
        <p:sp>
          <p:nvSpPr>
            <p:cNvPr id="216" name=""/>
            <p:cNvSpPr/>
            <p:nvPr/>
          </p:nvSpPr>
          <p:spPr>
            <a:xfrm>
              <a:off x="4257720" y="365436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90840" y="370512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540560" y="3654360"/>
            <a:ext cx="539640" cy="495360"/>
            <a:chOff x="7540560" y="3654360"/>
            <a:chExt cx="539640" cy="495360"/>
          </a:xfrm>
        </p:grpSpPr>
        <p:sp>
          <p:nvSpPr>
            <p:cNvPr id="219" name=""/>
            <p:cNvSpPr/>
            <p:nvPr/>
          </p:nvSpPr>
          <p:spPr>
            <a:xfrm>
              <a:off x="7540560" y="365436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73680" y="369900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20840" y="1787400"/>
            <a:ext cx="145260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. o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44600" y="241776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1763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2720" y="23875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23" idx="2"/>
            <a:endCxn id="224" idx="0"/>
          </p:cNvCxnSpPr>
          <p:nvPr/>
        </p:nvCxnSpPr>
        <p:spPr>
          <a:xfrm>
            <a:off x="1432080" y="217008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26" name=""/>
          <p:cNvCxnSpPr>
            <a:stCxn id="224" idx="2"/>
          </p:cNvCxnSpPr>
          <p:nvPr/>
        </p:nvCxnSpPr>
        <p:spPr>
          <a:xfrm>
            <a:off x="1433520" y="2793960"/>
            <a:ext cx="216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2220840" y="507852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44600" y="570852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505476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2720" y="5678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9" idx="2"/>
            <a:endCxn id="230" idx="0"/>
          </p:cNvCxnSpPr>
          <p:nvPr/>
        </p:nvCxnSpPr>
        <p:spPr>
          <a:xfrm>
            <a:off x="1432080" y="5460480"/>
            <a:ext cx="2160" cy="21852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32" name=""/>
          <p:cNvCxnSpPr/>
          <p:nvPr/>
        </p:nvCxnSpPr>
        <p:spPr>
          <a:xfrm>
            <a:off x="1433520" y="4826160"/>
            <a:ext cx="216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33" name=""/>
          <p:cNvCxnSpPr>
            <a:stCxn id="210" idx="6"/>
            <a:endCxn id="216" idx="2"/>
          </p:cNvCxnSpPr>
          <p:nvPr/>
        </p:nvCxnSpPr>
        <p:spPr>
          <a:xfrm>
            <a:off x="1704600" y="3259080"/>
            <a:ext cx="2553120" cy="6433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13" idx="6"/>
            <a:endCxn id="216" idx="2"/>
          </p:cNvCxnSpPr>
          <p:nvPr/>
        </p:nvCxnSpPr>
        <p:spPr>
          <a:xfrm flipV="1">
            <a:off x="1704600" y="3901320"/>
            <a:ext cx="2553120" cy="67716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16" idx="6"/>
            <a:endCxn id="219" idx="2"/>
          </p:cNvCxnSpPr>
          <p:nvPr/>
        </p:nvCxnSpPr>
        <p:spPr>
          <a:xfrm>
            <a:off x="4797360" y="390168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1886040" y="297972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6280" y="3538440"/>
            <a:ext cx="71928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F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86040" y="453564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80400" y="239220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81840" y="301608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39" idx="2"/>
            <a:endCxn id="240" idx="0"/>
          </p:cNvCxnSpPr>
          <p:nvPr/>
        </p:nvCxnSpPr>
        <p:spPr>
          <a:xfrm>
            <a:off x="7800480" y="2798640"/>
            <a:ext cx="252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2" name=""/>
          <p:cNvCxnSpPr>
            <a:stCxn id="240" idx="2"/>
          </p:cNvCxnSpPr>
          <p:nvPr/>
        </p:nvCxnSpPr>
        <p:spPr>
          <a:xfrm>
            <a:off x="7802640" y="3422160"/>
            <a:ext cx="2160" cy="2264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6235560" y="2405160"/>
            <a:ext cx="74484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8800" y="303696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94440" y="500220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4373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19" idx="4"/>
            <a:endCxn id="246" idx="0"/>
          </p:cNvCxnSpPr>
          <p:nvPr/>
        </p:nvCxnSpPr>
        <p:spPr>
          <a:xfrm>
            <a:off x="7810200" y="4149720"/>
            <a:ext cx="3960" cy="2246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8" name=""/>
          <p:cNvCxnSpPr>
            <a:stCxn id="246" idx="2"/>
            <a:endCxn id="245" idx="0"/>
          </p:cNvCxnSpPr>
          <p:nvPr/>
        </p:nvCxnSpPr>
        <p:spPr>
          <a:xfrm>
            <a:off x="7813800" y="4779720"/>
            <a:ext cx="2160" cy="2228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9" name=""/>
          <p:cNvCxnSpPr>
            <a:stCxn id="227" idx="3"/>
            <a:endCxn id="207" idx="1"/>
          </p:cNvCxnSpPr>
          <p:nvPr/>
        </p:nvCxnSpPr>
        <p:spPr>
          <a:xfrm flipV="1">
            <a:off x="2965320" y="4581000"/>
            <a:ext cx="3293280" cy="68040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0" name=""/>
          <p:cNvCxnSpPr>
            <a:stCxn id="228" idx="3"/>
            <a:endCxn id="206" idx="1"/>
          </p:cNvCxnSpPr>
          <p:nvPr/>
        </p:nvCxnSpPr>
        <p:spPr>
          <a:xfrm flipV="1">
            <a:off x="2965320" y="5214600"/>
            <a:ext cx="3299760" cy="67680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1" name=""/>
          <p:cNvCxnSpPr>
            <a:stCxn id="222" idx="3"/>
            <a:endCxn id="244" idx="1"/>
          </p:cNvCxnSpPr>
          <p:nvPr/>
        </p:nvCxnSpPr>
        <p:spPr>
          <a:xfrm>
            <a:off x="2964960" y="2600280"/>
            <a:ext cx="3274200" cy="61992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2" name=""/>
          <p:cNvCxnSpPr>
            <a:stCxn id="221" idx="3"/>
            <a:endCxn id="243" idx="1"/>
          </p:cNvCxnSpPr>
          <p:nvPr/>
        </p:nvCxnSpPr>
        <p:spPr>
          <a:xfrm>
            <a:off x="3673080" y="1969920"/>
            <a:ext cx="2562840" cy="61848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35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85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Simul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6431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statísticas coletadas durante a simulaçã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216160" y="309420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empo Simulação: 5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acotes recebidos no nodo 3: 3843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ytes recebidos no nodo 3: 334576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tilização do link: 53.5322399999999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65920" y="4759200"/>
            <a:ext cx="13507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700"/>
                            </p:stCondLst>
                            <p:childTnLst>
                              <p:par>
                                <p:cTn id="7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056040" y="3213000"/>
            <a:ext cx="2506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9200" y="3213000"/>
            <a:ext cx="390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Clr clrSpc="rgb">
                                      <p:cBhvr>
                                        <p:cTn id="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genharia:  Solução de Problem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2924280"/>
            <a:ext cx="2592360" cy="6429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2760" y="4149360"/>
            <a:ext cx="2495880" cy="6440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8480" y="5300640"/>
            <a:ext cx="2629080" cy="6429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177440" y="2528280"/>
            <a:ext cx="503280" cy="288720"/>
          </a:xfrm>
          <a:custGeom>
            <a:avLst/>
            <a:gdLst>
              <a:gd name="textAreaLeft" fmla="*/ 78480 w 503280"/>
              <a:gd name="textAreaRight" fmla="*/ 440640 w 503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140720" y="3717000"/>
            <a:ext cx="576360" cy="288720"/>
          </a:xfrm>
          <a:custGeom>
            <a:avLst/>
            <a:gdLst>
              <a:gd name="textAreaLeft" fmla="*/ 90000 w 576360"/>
              <a:gd name="textAreaRight" fmla="*/ 504360 w 576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177440" y="4904640"/>
            <a:ext cx="503280" cy="288720"/>
          </a:xfrm>
          <a:custGeom>
            <a:avLst/>
            <a:gdLst>
              <a:gd name="textAreaLeft" fmla="*/ 78480 w 503280"/>
              <a:gd name="textAreaRight" fmla="*/ 440640 w 503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80" y="1773360"/>
            <a:ext cx="1189440" cy="1496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4823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060280"/>
            <a:ext cx="2592360" cy="6440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55960" y="3278160"/>
            <a:ext cx="27954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autoRev="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1156 L 0.14462 -0.0726 L 0.30764 -0.04347 E">
                                      <p:cBhvr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écnicas de Tra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étodos Anal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envolvimento algébr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totipação e Te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étodos numér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écnicas de Tra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6640" y="1752480"/>
          <a:ext cx="8001000" cy="43405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nta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vanta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todo Anal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tid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tip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ados re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 cu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zo l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ul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er comput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dade do mod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V="1">
            <a:off x="574560" y="1708560"/>
            <a:ext cx="8001000" cy="42840"/>
          </a:xfrm>
          <a:prstGeom prst="rect">
            <a:avLst/>
          </a:prstGeom>
          <a:solidFill>
            <a:srgbClr val="d3d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27247E-006 L 2.77778E-006 0.63578 E">
                                      <p:cBhvr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00"/>
                </a:solidFill>
                <a:latin typeface="Verdana"/>
              </a:rPr>
              <a:t>ns – network simulator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mulador de eventos discretos, focado para pesquisas em redes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rivado do REAL Network Simulator (Cornell University, 1989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envolvido pela University of Southern California (USC)/Information Sciences Institute (IS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uportado pelo DARPA e NS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esquisadores usuários nos EUA, Índia, Inglaterra, Itália, Taiwan, Espanha, Bras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83640" y="11541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www.isi.edu/nsn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18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 -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uporte a TCP e variantes (Tahoe, Reno, New Reno, Vegas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ultic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irel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atél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tocolos de roteamento (Distance Vector, Dijkstra SPF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ilas tipo droptail, Diffserv RED, FQ, SFQ, CBQ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Geradores de tráfego (FTP, CBR, exponencia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 -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dados da simulação para anál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am (network animat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imers e escalon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odelos para Controle de Er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erramentas matemá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ador números randôm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tegrais para cálculos estatíst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Xgrap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erramenta para plotag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8:55:11Z</dcterms:created>
  <dc:creator>Marcos Portnoi</dc:creator>
  <dc:description/>
  <dc:language>en-US</dc:language>
  <cp:lastModifiedBy>Marcos Portnoi</cp:lastModifiedBy>
  <dcterms:modified xsi:type="dcterms:W3CDTF">2002-10-17T03:19:53Z</dcterms:modified>
  <cp:revision>54</cp:revision>
  <dc:subject/>
  <dc:title>Ferramenta de Simulação de Redes NS – Network Simulator</dc:title>
</cp:coreProperties>
</file>