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65C-C91A-4D17-9F8E-786D9207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678-C7DB-4AF8-91F6-B4A84B6D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579-A649-422A-BB64-3DF9153E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980A-7C2D-4A17-90BC-8250D65B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1244-5530-49AF-B7A9-CC60CECF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5BB4-A150-49B3-A9BF-E9F2D848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2E04-E478-4482-BC6D-8B5104D0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5CC0-85E5-405B-ACD5-718EC0BC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E2CB-E456-4127-B78C-280F03DC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B9FB-8CAA-4199-9052-9F62BF0B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A2DF-B0EC-4464-A09C-41E761AF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C35-BD37-44D2-BC0C-6A73FA78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125B-856B-4739-8298-7D183A95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BC87-DFD8-4C1F-B76D-8CF990D8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6A9C-CE06-48AC-9355-8BEA73CB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0DDD-D9DA-42FB-8522-2BE89D30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51EE-CA76-4421-BCA4-B37C2B15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D57D-AE19-4491-8673-10819041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B656-43B0-425E-BAB7-D39B5CEB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78C-CD81-4BCD-8000-F1A8665C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4D9-97BB-416A-B3B9-341B8B38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865-DFC5-4A0F-967F-76DDCCEF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FC5-CD02-4514-908C-90992CBB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A29D-9336-4653-AD76-F0EAA508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92F3-32F7-4507-85AF-9327CB7BCAFB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E9D2-1012-4E08-8F92-75635F055484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96960"/>
            <a:ext cx="76788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ISDN o RDSI </a:t>
            </a:r>
            <a:br>
              <a:rPr sz="4400"/>
            </a:b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1" lang="es-ES" sz="4400" spc="-1" strike="noStrike">
                <a:solidFill>
                  <a:srgbClr val="003366"/>
                </a:solidFill>
                <a:latin typeface="Verdana"/>
              </a:rPr>
              <a:t>I</a:t>
            </a: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ntegrated </a:t>
            </a:r>
            <a:r>
              <a:rPr b="1" lang="es-ES" sz="4400" spc="-1" strike="noStrike">
                <a:solidFill>
                  <a:srgbClr val="003366"/>
                </a:solidFill>
                <a:latin typeface="Verdana"/>
              </a:rPr>
              <a:t>S</a:t>
            </a: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ervices </a:t>
            </a:r>
            <a:r>
              <a:rPr b="1" lang="es-ES" sz="4400" spc="-1" strike="noStrike">
                <a:solidFill>
                  <a:srgbClr val="003366"/>
                </a:solidFill>
                <a:latin typeface="Verdana"/>
              </a:rPr>
              <a:t>D</a:t>
            </a: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igital </a:t>
            </a:r>
            <a:r>
              <a:rPr b="1" lang="es-ES" sz="4400" spc="-1" strike="noStrike">
                <a:solidFill>
                  <a:srgbClr val="003366"/>
                </a:solidFill>
                <a:latin typeface="Verdana"/>
              </a:rPr>
              <a:t>N</a:t>
            </a: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etwork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o  </a:t>
            </a:r>
            <a:r>
              <a:rPr b="1" lang="es-ES_tradnl" sz="4400" spc="-1" strike="noStrike">
                <a:solidFill>
                  <a:srgbClr val="003366"/>
                </a:solidFill>
                <a:latin typeface="Verdana"/>
              </a:rPr>
              <a:t>R</a:t>
            </a: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ed </a:t>
            </a:r>
            <a:r>
              <a:rPr b="1" lang="es-ES_tradnl" sz="4400" spc="-1" strike="noStrike">
                <a:solidFill>
                  <a:srgbClr val="003366"/>
                </a:solidFill>
                <a:latin typeface="Verdana"/>
              </a:rPr>
              <a:t>D</a:t>
            </a: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igital de </a:t>
            </a:r>
            <a:r>
              <a:rPr b="1" lang="es-ES_tradnl" sz="4400" spc="-1" strike="noStrike">
                <a:solidFill>
                  <a:srgbClr val="003366"/>
                </a:solidFill>
                <a:latin typeface="Verdana"/>
              </a:rPr>
              <a:t>S</a:t>
            </a: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istemas </a:t>
            </a:r>
            <a:r>
              <a:rPr b="1" lang="es-ES_tradnl" sz="4400" spc="-1" strike="noStrike">
                <a:solidFill>
                  <a:srgbClr val="003366"/>
                </a:solidFill>
                <a:latin typeface="Verdana"/>
              </a:rPr>
              <a:t>I</a:t>
            </a: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ntegrados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Ventajas: Conexión de múltiples dispositivos</a:t>
            </a: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Verdana"/>
                <a:ea typeface="Arial Unicode MS"/>
              </a:rPr>
              <a:t>Con la RDSI es posible combinar diferentes fuentes de datos digitales y hacer que la información llegue al destino correc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E</a:t>
            </a:r>
            <a:r>
              <a:rPr b="0" lang="es-ES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s fácil controlar el ruido y las interferencias producidos al combinar las señal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Ventajas: Señalizació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  <a:ea typeface="Arial Unicode MS"/>
              </a:rPr>
              <a:t>La</a:t>
            </a:r>
            <a:r>
              <a:rPr b="0" lang="es-ES" sz="2400" spc="-1" strike="noStrike">
                <a:solidFill>
                  <a:srgbClr val="003366"/>
                </a:solidFill>
                <a:latin typeface="Verdana"/>
                <a:ea typeface="Arial Unicode MS"/>
              </a:rPr>
              <a:t> llamada se establece enviando un paquete de datos especial a través de un canal independiente de los canales para datos. Este método se engloba dentro de una serie de opciones de control de la RDSI conocidas como señalización, y permite establecer la llamada en un par de segundos. Además informa al destinatario del tipo de conexión (voz o datos) y desde que número se ha llamado, y puede ser gestionado fácilmente por equipos inteligentes como un ordenad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Ventajas: Servici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T</a:t>
            </a:r>
            <a:r>
              <a:rPr b="0" lang="es-ES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ransmisión de datos informáticos</a:t>
            </a:r>
            <a:r>
              <a:rPr b="0" lang="es-ES_tradnl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,</a:t>
            </a:r>
            <a:r>
              <a:rPr b="0" lang="es-ES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 tele</a:t>
            </a:r>
            <a:r>
              <a:rPr b="0" lang="es-ES_tradnl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x</a:t>
            </a:r>
            <a:r>
              <a:rPr b="0" lang="es-ES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, facsímil, videoconferencia, conexión a Internet</a:t>
            </a:r>
            <a:r>
              <a:rPr b="0" lang="es-ES_tradnl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, etc;</a:t>
            </a:r>
            <a:r>
              <a:rPr b="0" lang="es-ES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 y opciones como llamada en espera, identidad del origen</a:t>
            </a:r>
            <a:r>
              <a:rPr b="0" lang="es-ES_tradnl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, entre otr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Los servicios portadores permiten enviar datos mediante conmutación de circuitos o mediante conmutación de paquetes</a:t>
            </a:r>
            <a:r>
              <a:rPr b="0" lang="es-ES_tradnl" sz="2600" spc="-1" strike="noStrike">
                <a:solidFill>
                  <a:srgbClr val="003366"/>
                </a:solidFill>
                <a:latin typeface="Verdana"/>
                <a:ea typeface="Arial Unicode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529560"/>
            <a:ext cx="81626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Dos características que distinguen a la RDSI de las redes telefónicas convencionales son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Es un sistema completamente digital de extremo a extrem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Tiene definidos Internacionalmente protocolos e interfaces, que permiten conectar equipos convencionales (fax, computador, teléfono análogo, etc) y equipos RDSI (Videoteléfono, teléfonos digitales, etc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ISDN EN  COSTA RICA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Es ofrecido por el 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Transmisiones a 128Kbps: Conexión ISDN (RDSI) 2x64K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st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95360" y="2057400"/>
          <a:ext cx="8153280" cy="441972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Tipo de Servic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Costo Total Línea Nue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Tarifa básica Mens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Residen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174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41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Comer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277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a0000"/>
                          </a:solidFill>
                          <a:latin typeface="Verdana"/>
                        </a:rPr>
                        <a:t>48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o del impulso en exceso ¢3.60 por minuto + I.V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80640" y="53100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Prueba de factibilida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33200" y="15238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Disponibilidad de líneas RDSI en la central telefónica loc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Existencia de un par de cobre desde la central hasta el inmueble del cli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Distancia a la que se encuentra el inmueble del cliente de la central telefónic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Disponibilidad de equipos terminales 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Instalació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Se instala el equipo terminal NT sobre la línea de cobre del client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Verdana"/>
              </a:rPr>
              <a:t>La instalación la realiza personal técnico del I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ISD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DEFINIC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COSTA R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Definició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ISDN es una línea digital compuesta de una programación de dos canales a 64K, capaces de recibir información de voz y dat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os</a:t>
            </a:r>
            <a:r>
              <a:rPr b="0" lang="es-ES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 simultáneamente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Se compone de un canal B para transmisión de datos a una velocidad de 64 Kbps y un canal D de control, con una velocidad de 16 Kbps.</a:t>
            </a:r>
            <a:r>
              <a:rPr b="0" lang="es-ES" sz="2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480" y="2774880"/>
            <a:ext cx="89154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209680"/>
            <a:ext cx="1149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b3d91"/>
                </a:solidFill>
                <a:latin typeface="Verdana"/>
              </a:rPr>
              <a:t>Red: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7f8485"/>
                </a:solidFill>
                <a:latin typeface="Verdana"/>
              </a:rPr>
              <a:t>Posibilidad de conexión a distintos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b3d91"/>
                </a:solidFill>
                <a:latin typeface="Verdana"/>
              </a:rPr>
              <a:t>Digital</a:t>
            </a:r>
            <a:r>
              <a:rPr b="0" lang="es-ES" sz="2400" spc="-1" strike="noStrike">
                <a:solidFill>
                  <a:srgbClr val="0b3d91"/>
                </a:solidFill>
                <a:latin typeface="Verdana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7f8485"/>
                </a:solidFill>
                <a:latin typeface="Verdana"/>
              </a:rPr>
              <a:t>La información se transmiten en form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8485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7f8485"/>
                </a:solidFill>
                <a:latin typeface="Verdana"/>
              </a:rPr>
              <a:t>códigos binarios (bi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b3d91"/>
                </a:solidFill>
                <a:latin typeface="Verdana"/>
              </a:rPr>
              <a:t>Servicios: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7f8485"/>
                </a:solidFill>
                <a:latin typeface="Verdana"/>
              </a:rPr>
              <a:t>Voz, Datos y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b3d91"/>
                </a:solidFill>
                <a:latin typeface="Verdana"/>
              </a:rPr>
              <a:t>Integrados: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7f8485"/>
                </a:solidFill>
                <a:latin typeface="Verdana"/>
              </a:rPr>
              <a:t>En un solo medio de trans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93400" y="314280"/>
            <a:ext cx="44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DSI Signifi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Histori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003366"/>
                </a:solidFill>
                <a:uFillTx/>
                <a:latin typeface="Verdana"/>
              </a:rPr>
              <a:t>Año 1984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Asamblea general de la CCITT. En esta reunión se habla de los canales digitales, aumento de las comunicaciones por ordenador y de las nuevas demandas y se toma una decisión: la red telefónica mundial deberá reconvertirse en una red de transmisión de dato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Histori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66"/>
                </a:solidFill>
                <a:latin typeface="Verdana"/>
              </a:rPr>
              <a:t>La idea era que para el siglo XXI,l</a:t>
            </a:r>
            <a:r>
              <a:rPr b="0" lang="es-ES" sz="2200" spc="-1" strike="noStrike">
                <a:solidFill>
                  <a:srgbClr val="003366"/>
                </a:solidFill>
                <a:latin typeface="Verdana"/>
              </a:rPr>
              <a:t>as líneas analógicas se habr</a:t>
            </a:r>
            <a:r>
              <a:rPr b="0" lang="es-ES_tradnl" sz="2200" spc="-1" strike="noStrike">
                <a:solidFill>
                  <a:srgbClr val="003366"/>
                </a:solidFill>
                <a:latin typeface="Verdana"/>
              </a:rPr>
              <a:t>iá</a:t>
            </a:r>
            <a:r>
              <a:rPr b="0" lang="es-ES" sz="2200" spc="-1" strike="noStrike">
                <a:solidFill>
                  <a:srgbClr val="003366"/>
                </a:solidFill>
                <a:latin typeface="Verdana"/>
              </a:rPr>
              <a:t>n sustituido por líneas digitales capaces de ofrecer cualquier tipo de servicio, RDSI (Red Digital de Servicios Integrados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Verdana"/>
              </a:rPr>
              <a:t>El esquema </a:t>
            </a:r>
            <a:r>
              <a:rPr b="0" lang="es-ES_tradnl" sz="2200" spc="-1" strike="noStrike">
                <a:solidFill>
                  <a:srgbClr val="003366"/>
                </a:solidFill>
                <a:latin typeface="Verdana"/>
              </a:rPr>
              <a:t>se</a:t>
            </a:r>
            <a:r>
              <a:rPr b="0" lang="es-ES" sz="2200" spc="-1" strike="noStrike">
                <a:solidFill>
                  <a:srgbClr val="003366"/>
                </a:solidFill>
                <a:latin typeface="Verdana"/>
              </a:rPr>
              <a:t> desarroll</a:t>
            </a:r>
            <a:r>
              <a:rPr b="0" lang="es-ES_tradnl" sz="2200" spc="-1" strike="noStrike">
                <a:solidFill>
                  <a:srgbClr val="003366"/>
                </a:solidFill>
                <a:latin typeface="Verdana"/>
              </a:rPr>
              <a:t>ó</a:t>
            </a:r>
            <a:r>
              <a:rPr b="0" lang="es-ES" sz="2200" spc="-1" strike="noStrike">
                <a:solidFill>
                  <a:srgbClr val="003366"/>
                </a:solidFill>
                <a:latin typeface="Verdana"/>
              </a:rPr>
              <a:t> en dos fases; en una primera fase se sustituirían las viejas centrales de re</a:t>
            </a:r>
            <a:r>
              <a:rPr b="0" lang="es-ES_tradnl" sz="2200" spc="-1" strike="noStrike">
                <a:solidFill>
                  <a:srgbClr val="003366"/>
                </a:solidFill>
                <a:latin typeface="Verdana"/>
              </a:rPr>
              <a:t>d</a:t>
            </a:r>
            <a:r>
              <a:rPr b="0" lang="es-ES" sz="2200" spc="-1" strike="noStrike">
                <a:solidFill>
                  <a:srgbClr val="003366"/>
                </a:solidFill>
                <a:latin typeface="Verdana"/>
              </a:rPr>
              <a:t>es por nuevas centrales computarizadas, compatibles con los sistemas antiguos; paralelamente, todos los canales de comunicación se irían reconvirtiendo en canales digital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Histori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Permitiría</a:t>
            </a:r>
            <a:r>
              <a:rPr b="0" lang="es-ES" sz="2400" spc="-1" strike="noStrike">
                <a:solidFill>
                  <a:srgbClr val="003366"/>
                </a:solidFill>
                <a:latin typeface="Verdana"/>
              </a:rPr>
              <a:t> la existencia de un período de transición durante el cual estarían entremezclados enlaces analógicos y digitales y que concluiría en la RDI (Red Digital Integrada), una red en la que el único enlace analógico sería el que une el teléfono del abonado con la centr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S</a:t>
            </a:r>
            <a:r>
              <a:rPr b="0" lang="es-ES" sz="2400" spc="-1" strike="noStrike">
                <a:solidFill>
                  <a:srgbClr val="003366"/>
                </a:solidFill>
                <a:latin typeface="Verdana"/>
              </a:rPr>
              <a:t>egunda fase, alargar los enlaces digitales hasta los abonados; la RDSI habría naci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VENTAJA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Velocid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Conexión de múltiples dispositiv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Señaliz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Servici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245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Ventajas: Velocidad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La RDSI ofrece múltiples canales digitales que pueden operar simultáneamente a través de la misma conexión telefónica entre central y usuario</a:t>
            </a: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Este esquema permite una transferencia de datos a velocidad mucho mayor, puede alcanzar una velocidad de datos sin comprimir de unos 128 Kbps.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l tiempo necesario para establecer una comunicación en RDSI es cerca de la mitad del tiempo empleado con una línea con señal analógica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16:53:58Z</dcterms:created>
  <dc:creator>Sanders Pacheco Araya</dc:creator>
  <dc:description/>
  <dc:language>en-US</dc:language>
  <cp:lastModifiedBy>PAR3</cp:lastModifiedBy>
  <dcterms:modified xsi:type="dcterms:W3CDTF">2004-12-09T16:25:42Z</dcterms:modified>
  <cp:revision>28</cp:revision>
  <dc:subject/>
  <dc:title>ISDN</dc:title>
</cp:coreProperties>
</file>