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1F2-8F53-40AD-82EB-537E7F4A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C73-57E7-43C0-9165-B38518EB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ED2-A164-4E2A-B144-ECB9F488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D00-D19F-4859-ADA3-1BAF0CCC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0C3B-5BF5-4B3D-BE9F-4D68554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B929-F305-4956-A2C8-DF972FBD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3FB-E62A-408E-AA34-DEDA7D81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8FB-941B-4767-88E0-2B20EC0F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E815-E42D-4B2B-B285-0D0A70AD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AB5-38E0-4548-ACAA-F959502A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6DE5-7FB0-4A84-A037-E5A13DE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B66-7122-45BB-BD59-F2066A3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15FF-801B-4DC2-8CA7-F1EA9B9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5FD7-1B02-4C49-88BD-2585073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560E-C0DA-44AC-8A2A-C664A7D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EEB-99F9-45BA-BD4F-A40C125B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2B3-78FB-4EF6-A3C9-EE58C706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858-9D5A-4448-9164-75B107DD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834-8325-43F2-83A3-6AA9B47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F9D-F1D9-4E9B-BC09-E683CB86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B7E-43E0-4D50-A4E5-4DCBD16F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B2F-CE7D-4964-B83B-633ECA4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2AE-069E-4C78-8080-93D4E1BB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6A8-5491-43E4-8A18-4DB42BC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62E-FCDB-455A-BCAA-47BEAF6F3F8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BFFF-ABBB-40F4-8939-5BBF846424F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ng authority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ship between authority and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o deleg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 assignment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BEA-A8A5-4BD7-89D7-5D39B4054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o deleg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canno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 decisions which affect the overall efficiency and morale of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 actions which by regulation or law you must carry out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D28-AE09-402B-A10D-512607BDD4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hat to deleg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ty to develop important initiatives and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sight over certain staff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9C1-47A9-4791-83A7-714285BF3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ogeneous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tting the right person in the right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2E4-9724-4339-833A-1A4191EA06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ings to keep in mi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on is a matter of persp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on is a flu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o hire the right person for the right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when assigning more than one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dvantage of individual 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B87-26A0-4DD7-B9DE-D7FD446D8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4D2-DC30-4A8C-B4AD-28B9F806E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ave you understand and be comfortable with delegating authority to your staff members and empowering them to do their jobs  with a maximum of initiative and minimum of interfere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9B4-4BE2-48FA-8B4F-B29D68465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is meant by delegation of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relationship between authority and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ern when and who to delegate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homogeneous assignment” in their ow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2D8-3FA1-4E30-A6E9-F68BD1ABF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not do everything yourself, and must allow your staff to assist you - to delegate autho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100-B6AC-4C25-9EB3-43715FCE7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legating authority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tend an umbrella of authority over your staff to complete required tasks, while empowering them with the freedom to get the job d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993-E504-4A54-BEDF-ECB9FDBDB3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ithout delegation, yo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bottlen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e the effectiveness of you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 to have someone ready to stand in for you in an emerg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C09-3883-4599-9EA1-6400C038B8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thority vs.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ty means the power to carry ou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y means one is accountable for what happens to a particular task, thing, or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2A4-8082-471B-A2CA-87C524DF9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thority vs.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not have authority withou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have responsibility without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you won’t get anything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out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1E2-54D0-4831-85DF-A9ACE70DA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and respons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delegate authority, but not your responsibilities as a comma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B35-721A-4BB2-970E-B1FDCF1A2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2-28T20:44:28Z</dcterms:modified>
  <cp:revision>29</cp:revision>
  <dc:subject/>
  <dc:title>Unit Commander's Course Your Role in the Missions</dc:title>
</cp:coreProperties>
</file>