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357-F43B-4E3A-A988-A8A67161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64A-3972-4333-A037-6C266DD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5C6-9E7B-4371-8C01-A03FD90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D40-EDA1-4504-91D3-A6701624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BD29-9D96-43EA-A8D4-2742C31C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113-A488-4DC3-BC71-41036D95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0EFA-768A-40EE-8FD7-613EB7B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ECA7-8E05-4F51-BC38-0352E648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66E3-B735-43BF-A9E2-415AF9DE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3954-D8E5-45F2-8572-C51B059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0ECB-5B1D-432E-A961-337FD01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5F9-7125-4010-B778-E6D87ED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B35-CA57-435B-AA6F-E34DA5F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A5FC-76E9-405A-A86D-4D4CE7A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8A7B-9957-4CBD-9044-41A23DA0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35C-745B-46DD-9EE1-04B34A91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FDD4-3761-488A-A37A-7FF89E57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211-D23D-4A1D-90CE-902256F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CA7-5DE1-4B5C-A985-D68693CC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973-889E-4A2E-ADE8-F586080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49B-96C3-4541-9CEE-C558D6F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FF0-06AC-4795-AAA4-AEBD50C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E56-64C0-482B-8482-97FFD32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491-F7CF-47E5-91F4-C4ABAA9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277F-E014-4056-BAD6-F303FCB3F44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220-7143-453B-89C6-9FD6745CDCD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motivation is impor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low’s hierarchy of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vational techniques fo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354-C69A-497C-BDF6-0CC1BE9EE2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ivational Techniques for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ntuate the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participative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loyal to you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you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 “Thank you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EE4-C7D9-47E3-9DFA-F2BC3E36C8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BDB-C0A5-48C6-85D2-12F1CC540F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impress upon you the importance of motivating your members, how motivation takes place, and showing you techniques to motivate your people more effective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F6A-4AEE-490E-962C-0C592EDCB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ir ow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why motivation is important to the CAP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Maslow’s hierarchy of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motivational techniques fo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F7F-627A-411D-9646-9D56794081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key to your effectiveness as a commander is the ability to build in members support for the squadron’s objectives and have them work towards that goal.  This is “motivatio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11E-43F1-4804-82C1-4F1095483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ivation authority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 and art of creating an atmosphere where your members will want to achieve the objectives which are set for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124-628C-4E1F-83E1-4C37A4301B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hy motivate your peop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ll people have an inner drive guiding what they 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rything is done for survival, protection, or pleasu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tivation is the factor which sets leadership apart from managem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ople make choices, and motivation is a key facto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ople want to have goa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F27-AE52-4739-8336-D7AA08543C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otivation build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unified effort towards achieving squadron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6C9-B105-4BD3-B95B-8F5531622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aslow’s hierarchy of nee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Physiologic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Safety (security)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I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Soci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Esteem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Self fulfillment (self-actualiz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55E-5840-49CE-90AD-74F439B8C3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ivational techniques for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eir physiological needs are m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nd sustain a feeling of self-confidence in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dequate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gnize the uniqueness of individual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6A5-A96F-4724-93B8-4385CC117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2000-02-28T20:44:50Z</cp:lastPrinted>
  <dcterms:modified xsi:type="dcterms:W3CDTF">2000-02-28T21:03:20Z</dcterms:modified>
  <cp:revision>32</cp:revision>
  <dc:subject/>
  <dc:title>Unit Commander's Course Your Role in the Missions</dc:title>
</cp:coreProperties>
</file>