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40EF-202F-49BC-9A34-5419BDFB2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0EE9-3D64-44A4-8445-A844D206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2B82-F882-4783-8390-F29B94540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F133-BF74-4F0C-BC5C-A480D3E8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5C7D-9DAC-485B-9E54-F4B2CF46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55C0-21F9-4975-8A62-9A5D7F73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068A-CF0D-40D0-B5F3-9331E284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264D-5F4E-41AB-B038-D6E252D2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A646-8230-4DB4-A734-D2CDEC89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4F9F-1128-4410-8EA4-46D0EA46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AB0B-E276-45F8-BBD0-10F092FD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042D-A4DA-48C0-A6C6-8AD81896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9CFE-56C4-4114-93F7-80B35B68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4AEE-C3C7-4D91-B9F4-56189DE3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1D28-399B-495E-9169-D6A172A2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03AB-B090-4916-9E57-A9C89B38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C305-46B4-4FD2-9F90-0D084E839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7190-E480-42F9-8063-0A176D55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D885-EFB8-42A3-8BCC-10A8FCEB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39CA-FE7C-46A7-AF39-2FEB7E28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057A-6700-47EC-A5F0-A46F3974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BE9A-A562-487E-8DC8-6B892415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DC14-7258-4088-8616-07FD85D4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35AA-0381-4CED-A398-585383CC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7EA2-E906-4E56-81FB-2CD3A4C0DD9E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23EB-352C-4DC2-968E-020CA1738434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ffective Liste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ective listening defin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ributes of effective list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ve types of list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chniques to improve listening hab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onsibilities as a listen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8E91-2A6C-4311-9748-7253A1E538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ffective Liste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Effective listening techniqu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ing about list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tablish eye contact with the speak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ke effective no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 a physically involved listen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oid negative manneris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ercise your listening mus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llow the “golden rule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5384-0F74-4008-9423-8F8BC712DA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ffective Liste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6CBB-A9A0-4956-BF0C-864CD15DD2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ffective Liste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s segment is designed to help you understand the importance of improving your listening skills, and giving you the techniques to improve this vital skill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E714-9576-4E2D-B426-6B426ACCD3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ffective Liste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rticipants will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the concept of effective list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the attributes of effective list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ain the five types of list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techniques to improve listening ski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ain their responsibilities as a listen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3761-2697-4D68-B33F-BF47F3CC56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ffective Liste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may hear the words people say, but do you understand what they are trying to SA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0E42-20A3-42BF-81E3-DE68FB3ABB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ffective Liste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515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ffective listening defin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rocess of receiving, attending, and understanding auditory messag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677F-0F71-4721-99AE-AF6C1B74E4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ffective Liste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684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Attributes of Effective listening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itical attribu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e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en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derstan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riable attribu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pon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membe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CBE8-5370-4EF1-95C6-F0315DA9C2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ffective Liste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Five Types of listeni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ation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reci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itical list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rimin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5861-C6A4-447F-AA70-530B7252C6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ffective Liste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684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Effective listening techniqu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nking about list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derstand the complexities of liste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pare to lis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just to the situ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cus on ideas and key poi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pitalize on speed different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ganize the material for lear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B3C3-3535-4766-846F-9D92DEA80C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ffective Liste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Effective listening techniqu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eling about list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nt to lis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lay judg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mit your bi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’t tune out “dry” subje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ept responsibility for understan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courage others to tal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9EDA-F541-4F2A-AA91-12BFBDC9AE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Information Systems</dc:creator>
  <dc:description/>
  <dc:language>en-US</dc:language>
  <cp:lastModifiedBy>Bobbie Tourville</cp:lastModifiedBy>
  <cp:lastPrinted>1999-07-09T21:18:02Z</cp:lastPrinted>
  <dcterms:modified xsi:type="dcterms:W3CDTF">2000-04-05T20:16:19Z</dcterms:modified>
  <cp:revision>32</cp:revision>
  <dc:subject/>
  <dc:title>Unit Commander's Course Your Role in the Missions</dc:title>
</cp:coreProperties>
</file>