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9FB-E7EA-4092-9801-F310F7BB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9CC-8862-41BC-921F-0ABEBFF6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387-69F8-4623-9A60-E8D050E0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4F7-E4B3-46E4-A371-66B50948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C4BB-3BD7-40BF-92E4-C70DB177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C9F1-F74C-435A-A1CB-E468972E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4E0A-C26F-42CA-BAE5-CB30AA3D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D378-3B2D-4FC6-8256-DE9666FE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1223-53F2-4EFC-BA76-B7B36F10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79F6-E058-4202-AC19-B07F999B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058A-107E-4BA4-A0D4-5F5637C1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583-2B4D-4BFC-B715-D744418B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8BB3-108A-4E13-88DD-B0A76C55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6BD2-019B-4A4D-B304-403BB75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2449-BA94-4DA7-8795-40F4FE94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ABEA-B28F-44F2-BA59-69CAD981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28AD-79B7-4A9B-8866-6A610E06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6AF-F64E-45D2-8B82-F364A6E8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513-ED05-4880-BB4F-C4EA1CE4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234-F76C-4ACC-9B92-8128CDD0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BD6-5718-4616-B3DF-C674C28F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8F0-ADFD-4957-8F2F-E95CFA96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C8B-ADDA-4BB6-9A66-469EE0D7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8CD-E8C3-485E-8889-38274FF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A504-EFB6-4E75-8197-C7D4F91B9EB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CE84-B0FE-40DF-BA30-0853BEDA6AA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ts of mana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ts of lea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ces between leaders and mana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cation: the critical success f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ve critical questions that help to assess leadership potent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7D8-9B3F-4B6E-A131-06DCA3BF90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027-9369-4BC7-AECB-EC4170D928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help you become more aware about the traits that successful leaders share, and help you assess your own leadership abilit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AF7-419B-484D-A59E-CF4BC46DEE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basic traits of a mana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basic traits of a successful l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difference between managers and lea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why communication is leadership’s critical success f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five questions to ask when evaluating leadership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E1B-297C-4D14-B9C0-A7AE101E53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makes a leader successful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96B-F3A7-4E32-841A-CD28AD2C2A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nagerial tra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manag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equated with things and programs, not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DA5-3B2F-45B3-B52F-7A28D1620A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raits of successful leader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Leader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cate, strategize, and c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able to effectively deleg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the larger pi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good foll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ign goals with those of the org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good mana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518-F4C9-4886-969B-9B75179E33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fferences between managers and lead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nagers work with objects and programs, logic and analys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aders succeed with people -- they motivate and inspi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nagers are not necessarily leaders, and vice vers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uccessful leaders however, also cultivate their managerial skills, and focus their efforts to accomplish the missio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234-A960-4759-8BD6-2616B3719D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ommunication: the critical success facto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lking to your me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ing to your me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893-5614-4C81-8964-08AE6D388A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Five Question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you a manager, leader, or bot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kills will you sha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kills will you impro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you accomplish the miss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ill you do differently next wee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D01-C242-413C-B6B0-71F2B29C63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Information Systems</cp:lastModifiedBy>
  <cp:lastPrinted>1999-07-09T21:18:02Z</cp:lastPrinted>
  <dcterms:modified xsi:type="dcterms:W3CDTF">2000-06-14T14:19:02Z</dcterms:modified>
  <cp:revision>36</cp:revision>
  <dc:subject/>
  <dc:title>Unit Commander's Course Your Role in the Missions</dc:title>
</cp:coreProperties>
</file>