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F92-3E25-4957-B957-04CD7E90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385-2D77-42F7-B4D5-D389B93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E30-7BFD-42F8-AF37-5A5FD4BB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CBE-7EEF-4AA5-A3F0-8DEF4965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B90-AAEF-42B2-9538-9E6EF3CD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C12-2866-49AB-84E0-D50A691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CD8-EF5F-4D60-89D9-C98CBC4D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781-2FED-43B3-B98E-2E9F7507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A34-CA60-4149-BEE2-7846E99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3CD8-1115-45F0-8953-83A5286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3DE1-64D5-4F84-88B8-9984F90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903-E3C5-4436-A094-2FC07C3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EABC-C351-4CFC-B9AF-8E91ED9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45A3-0F97-43B4-92F2-DDFCF44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F0AE-308A-440E-AEA8-FC22EEA3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E81D-1556-4F8C-8883-E05F5F9E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C1A-44DE-49C8-9CE9-B7ADA20E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DCA-AEAC-446A-A892-DF09CCE7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383-A57B-4CF7-B2DF-2F9A01AC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677-5530-4DFD-BAC2-658401E2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1B5-F8EB-4D97-8602-A71CFB65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E5A-B882-45EE-805C-16BA216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F20-D709-499B-962E-9EBFA48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034-6FD2-4A48-B1FB-468CB5D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463C-5D89-40A6-AE90-57676951876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A19-D461-4D30-8756-71A0E1024E8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blem solv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se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67C-F8B0-4B12-B89E-48AF4720BC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make you more aware of the problem solving model and to encourage you to use the model when dealing with problems in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F9D-885E-4BF4-A1BF-626DE3049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problem solv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a sample problem using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B78-81B3-49E9-87FE-28F0A3A5B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ability to command will be measured in large part on how you can solve problems - both by yourself and with your staf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825-1A5D-4AD1-9D70-0E1A4E284F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28640" y="1752120"/>
            <a:ext cx="7515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roblem solving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cognize the probl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individual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obstac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go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ather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st possible solu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st possible solu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lect the bes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plement the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FC7-BA65-4173-93EF-9A6ACA8C92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ample Probl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B9D-062C-4C0E-A0D0-7756103C4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B9B-D45E-4A6D-A670-8FAB7AAE8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2000-02-28T21:03:26Z</cp:lastPrinted>
  <dcterms:modified xsi:type="dcterms:W3CDTF">2000-02-28T21:12:23Z</dcterms:modified>
  <cp:revision>34</cp:revision>
  <dc:subject/>
  <dc:title>Unit Commander's Course Your Role in the Missions</dc:title>
</cp:coreProperties>
</file>