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18B-D439-4C73-88E7-A8E5DF8A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C0C-E1B9-45C0-AAFE-7E4965E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369-FB59-45D1-BFB3-B8FB0FFA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A89-0A34-470B-993A-FE985C51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2A7-DA3C-4641-8D70-893EA218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6A0-4593-4487-8ABE-B4EB8504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9F7-20CF-48E5-8793-3DD44048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B2E7-AB68-47CA-B843-5C87276F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A052-9422-47B8-B4F6-2F52E50B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F352-27CE-4AD5-9E29-5720DB9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87D4-CCBF-47B7-A970-24DED7D0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3D5-6FFE-4984-898C-312B2E0A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2433-D480-457D-9AB3-726B5A16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836-637F-46E8-A9F9-795FE3A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C152-3B64-40F7-939B-8F951E45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C23-8A59-4DBB-88D4-9CF0C61D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5656-71C0-46EE-9935-8E6C5B87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98D-5DC1-4D8C-90F1-654779D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191-D963-4BD2-9315-59C61BF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5E2-4CD0-481C-A191-75487E7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D49-7164-4001-A9AB-8E6A9744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C38-AC16-4747-9195-BAAD1BF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CB9-4B3F-43FB-94E4-CD37C21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49E-110B-4A85-BC6D-39EE791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DB43-D3C8-4166-A79A-BEDDF9491FBE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2A45-AEB7-4DCC-922F-E1DCE14E495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1AD-B927-4FFD-81F1-79EBD3390FBD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2FD-1F22-4E73-BF67-A467C68301B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ction 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tional liability (accountabi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stical conc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ial conc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t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CD0-475C-4430-B68A-3BDF6871F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1440" y="1676520"/>
            <a:ext cx="7972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ngs to think about (CAPM 67-1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onduct a fresh inventory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time supply officers chang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can’t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screen from DRMO, only the wing LO ca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onations are encouraged, but can only be accepted by the WG/CC or high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You must conduct an annual inventory against the S-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ll disposed of property is documented on a CAP Form 37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72A-87F9-46C9-8EEA-DE80218E43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ngs to think abou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t, stolen, or damaged property must be immediately reported to the WG/CC who will appoint an investig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n doubt, consult CAPM 67-1 or your wing logistics &amp; supply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2CB-E478-46BA-8668-1141570F3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ation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craft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08B-C0B9-4E35-AAD1-F1FB08F30D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funds you receive or generate belong to the CAP corp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ensure the solvency of the unit, prompt payment of debts, and proper budg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1E4-BDE0-4E34-9222-D99580AD6B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 appointment of a finance officer and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horough knowledge of the unit’s financial status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FA9-3D31-4A89-8BEF-E689A7C36D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ps (CAPM 173-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he financial plan is mandatory, &amp; of primary importanc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onsider generating income by charging unit du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ll units must have a checking account, signed by you and one other (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not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pouse!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stablish a finance committee, and use i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he finance officer prepares at least one detailed statement annually for the committee, with one copy going to the wing annually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622-7CA3-4C7D-9F7D-26B04BD050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i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udits are completed at the end of the fiscal year, or when commanders or finance officers chang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he unit must maintain only one checking accoun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ad CAPM 173-1 to know your responsibilities.  Call the wing finance officer for a brief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Once you take command, change account signatures, begin the audit, and cut the PA’s.  The sooner the bet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9A7-A13E-434F-92EA-CA256C738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afety problems are some of the most troublesome in CA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ss of life and equip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B30-79C6-42E8-B536-C59B85B4CD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ne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afety conscious at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s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ttle hard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ack the safety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oint a safety offi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sure they get the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 the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FB4-0301-401D-8972-F8A737EDE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R 62-1 specifically states that establishing the program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mander’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sponsi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fety officer is your point person and advi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ADA-2D66-4A01-BEBF-4919197072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ction A (Cont’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tional li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ne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/Discrimination/Sexual Harass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det Protection Poli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1D6-618B-4877-ABFC-5130B14E4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Safety Officers are mandated, appointments made in wr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 officers administer unit safety education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commanders will publish supplements to safety regulations 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at an internal safety survey is completed annually (cys to w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1F3-1532-4A25-9F1B-DAA39EAED2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lying units will be subject to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short-notic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safety inspection annually by the w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inspection count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340-F45A-41AC-83FD-2EC2533700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whole purpose of the CAP safet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gram is to prev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161-8F94-4180-A753-87923C4F0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ishap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ly injuries, property damage, and other incidents occurring during a CAP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13C-5BC2-4953-9D91-398ADE52A1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 accident occu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commanders will immediately notify the wing commander and safety offi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/CCs will then have 48 hours to complete and forward a CAPF 78 Mishap Report Form to the 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cidents occu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commander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ill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itiate investigations on their own.  It is the wing’s respo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67F-63C0-479D-90A6-10F835DF00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rd about member owned vehic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nly Unit/CC’s can authorize the use of POV’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ansportation to/from CAP meetings, encampments, and other routine activities is considered personal transportation and i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CAP’s responsi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694-241F-4549-AB34-6187C84353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ual ha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ual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C2F-4FDE-49DB-AE4B-3D4CD8C437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will not tolerate discrimination or harassment, based upon applicable laws and sound moral judgment.  Commanders are the point people for ensuring fair and just treatmen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EF5-0DDD-499C-B93C-1A93932476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ose members who come forward with an allegation should be treated with dignity, respect, and in the strictest confide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48E-B16F-4CDB-992F-B4AFFD08ED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ose members who are harassing or discriminating should be reported immediate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ould you run into a situation like this, immediately contact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you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mander for advice and assista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41E-7903-4EB2-96C8-35E29F26FE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ction 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and responsibility/obl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e 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sibility to Mission &amp;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Respo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ing by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63B-06C5-4609-8DE9-1DE3E69B2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best way to carry out this policy is to enforce its provision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something happen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F49-0592-4852-8168-C0EA61AC83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68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fore it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You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must know the Cadet Protection Policy &amp; reporting procedures co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ke sure your members receive this train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ider working with SPO to schedule refresher train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n’t let seniors work with cadets until they’ve been check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ercise care when selecting seniors to work w/cadet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B99-6938-4446-A48B-A9C290517E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fore it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remember the 2 senior member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mmended alw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datory for an overnight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parents informed about CAP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et Protection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 Pamphlet 50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recurring orientation s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67F-C176-4964-B89E-AF4AE25C37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something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ort it to the WG/CC or Wing Legal Officer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mmediately!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They will contact HQ CAP’s General Couns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y aren’t available, call GC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 back brief your WG/CC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s soon as possib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53B-0925-4E5B-9168-D91636BAA0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something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is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your place to pass judg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your place to report 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C84-B142-41C4-B2F6-D5ECAB7C6A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something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ake any action yourself unless or until directed to do so be GC or the wing legal officer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l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action is necessary to insur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mmediate pro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ad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.e.- attack in progr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92F-EB58-411D-9E7A-B05AB46E5F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word about physical abuse -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does not permit hazing or physical abuse of any kind.  If you know about it, stop it, call your WG/CC and take proper action to ensure the safety of the member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5B9-5A2C-4F57-B3B8-1B4DFEBD3F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mming 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ke another, critical look at CPPT materials, then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a common sense approac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4D5-0358-4AE4-B499-B21DABF309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e Values are the ethical foundation which you build your comman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36A-8E1E-4709-A43F-59C6C983DB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are the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Core Val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ee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ll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E3D-1B72-4FBA-8D78-1C7A9555E7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alerts you to the issues and jobs which can leave you the most vulnerable, &amp; reminds you of the moral and ethical obligations you have when you take comman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BBA-99A4-4285-858F-4846B8DBE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e values are the tenets of CAP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should not be debated, nor sacrificed for exped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ead by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don’t follow Core Values, don’t expect your people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46D-D68B-4E0E-81F1-F97E3B6BB4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ottom line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e Values = fair treatment and common sense, defined and institutionaliz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E8A-0829-4C35-8893-8696AC758B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wo overriding responsibil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477-6432-4B56-B9F1-B46A093C8D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s of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bjectives of the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40E-E70D-4B16-B180-BF5DE62BF7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sions aren’t done withou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eople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DB5-910F-45E9-BF7C-C6C625059A1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ory &amp; moral responsibility to protect the physical and mental welfare of you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enough people to effectively do the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ing that members are only in CAP because the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be, just like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AAD-EFB7-480F-B2C5-4AC23298AC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s commander you bear the final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this reason, you must be ethical, competent, informed, and educ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B1E-38DB-4C39-A98B-3AB4B243E7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this mean you are directly responsible for everything that happe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responsible for education, examples set, and for the success of th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C67-669A-44B6-824D-2042C36CFF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 it wrong once, shame on you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 it twice, shame on me.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71D-BD0D-4F26-AE4C-78E6DBB036D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the best you 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pro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ignore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v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eep your boss in the da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5BA-DF95-4992-B4BD-A696A2C833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Section A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 special issues concerning the accounting of CAP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 obligations of financial management of the uni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 need for a strong safety progr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CAP policies concerning sexual harassment and discrimination, equal opportunity, cadet protection, and their enforcement responsibil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06D-F02F-4520-9AE1-F7FC45FAB5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eading by Exam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 are much more attuned to what you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s commander rather than what you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sa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C7B-A561-4803-9754-2FE8EF7F5C8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what you p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why discipline is so important, but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goes beyond discipline - it applies to every policy you ma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be afraid of living in a fish bow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it as an opportunity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hat you want -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647-CADD-446D-9087-126CEAF07E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Section B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cuss CAP’s Core Values, &amp; their role in upholding these val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ir command responsibilities to the CAP missions, and the members under their comm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and discuss their place as ultimately responsible for all that occu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ir un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final responsibility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and discuss the concept of “leading by example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CDC-A68C-45A5-A48A-5FC1DE2EF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158760"/>
            <a:ext cx="79182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’re not expected to be per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heighten your situational awareness and judg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053-3A91-4A59-99E6-57B8F87EC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really owns i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equipment belongs to the CAP corp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unit, and you have cust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935-B9ED-4C80-B612-225387CA53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best way to avoid problems is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llow proper procedures in the first pla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DEA-2D86-40E7-AE63-B22A47104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9-04-15T18:37:37Z</cp:lastPrinted>
  <dcterms:modified xsi:type="dcterms:W3CDTF">2000-07-14T19:25:11Z</dcterms:modified>
  <cp:revision>67</cp:revision>
  <dc:subject/>
  <dc:title>Unit Commander's Course How to Deal with Group and Wing</dc:title>
</cp:coreProperties>
</file>