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70231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C9C1-C5B0-4126-9776-1F5CAB7BF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B1FC-D169-4E62-A9EF-1353D829D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3E35-01A6-48F6-83B8-0B9B64624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22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66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22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04B9-8A8D-460F-9505-70F97366C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7265E-42B8-42FD-8B37-4ED51E2C1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D3C43-9597-4972-9A99-BD6795EB1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11B52-C086-4165-8382-5E44E01C4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4FD76-309F-4D16-87EB-9B47A089D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B5E50-50FB-4EE8-90A9-B98C566C1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4AC79-9E54-4E24-AC9C-250B818EF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0F912-D9C9-433D-AFA0-BD387E274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E59E-E120-4771-87F6-193092946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CB00B-811A-45F9-870F-56C2E1AE9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3369A-6ED9-4A85-9C49-C26779E9E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732F3-F0C3-4612-A631-21AED7DDE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EC03D-980C-45FC-A534-D62A976AA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94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522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266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94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522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80927-C7DC-441A-8D7C-1403885EF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9A2F-F360-4C17-A7C3-90EDD5B5E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EBA8-748A-432B-99D1-371224EFD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C010-2AE4-48F7-A08C-0F7FC72C1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E6E3-66E4-40A4-BD69-D37707144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A1CA-E02C-4B1E-AC6E-691F8FBCB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7149-F37F-4DF3-8C7E-8DE262A41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0C6B-8D1D-42DD-B769-D21121D7D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1600200" y="0"/>
              <a:ext cx="7543800" cy="68580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1600200" cy="685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9144000" cy="1905120"/>
            </a:xfrm>
            <a:custGeom>
              <a:avLst/>
              <a:gdLst/>
              <a:ahLst/>
              <a:rect l="l" t="t" r="r" b="b"/>
              <a:pathLst>
                <a:path w="5760" h="1200">
                  <a:moveTo>
                    <a:pt x="0" y="0"/>
                  </a:moveTo>
                  <a:lnTo>
                    <a:pt x="1008" y="1200"/>
                  </a:lnTo>
                  <a:lnTo>
                    <a:pt x="5760" y="336"/>
                  </a:lnTo>
                  <a:lnTo>
                    <a:pt x="576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600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8858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162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00B0B-57AF-491B-B6FA-B48F36FE03E1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6" name=""/>
            <p:cNvSpPr/>
            <p:nvPr/>
          </p:nvSpPr>
          <p:spPr>
            <a:xfrm>
              <a:off x="1600200" y="0"/>
              <a:ext cx="7543800" cy="68580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0"/>
              <a:ext cx="1600200" cy="685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0"/>
              <a:ext cx="9144000" cy="3809880"/>
            </a:xfrm>
            <a:custGeom>
              <a:avLst/>
              <a:gdLst/>
              <a:ahLst/>
              <a:rect l="l" t="t" r="r" b="b"/>
              <a:pathLst>
                <a:path w="5760" h="2400">
                  <a:moveTo>
                    <a:pt x="0" y="1200"/>
                  </a:moveTo>
                  <a:lnTo>
                    <a:pt x="1008" y="2400"/>
                  </a:lnTo>
                  <a:lnTo>
                    <a:pt x="5760" y="1536"/>
                  </a:lnTo>
                  <a:lnTo>
                    <a:pt x="5760" y="0"/>
                  </a:lnTo>
                  <a:lnTo>
                    <a:pt x="0" y="0"/>
                  </a:lnTo>
                  <a:lnTo>
                    <a:pt x="0" y="120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6761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BCB51-203F-4CB1-BF0C-B4585E07220A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eamwork Techniq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Main Poi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mportance of the group effor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am building techniqu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intaining unit cohes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4C6B-06F5-4E75-96F8-152F572E936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eamwork Techniq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43000" y="1752480"/>
            <a:ext cx="73152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Teamwork Do’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rticulate a goal everyone can identify wit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vide a plan or job for each memb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vide a mechanism for communic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reate an environment conducive to teamwor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vide effective feedbac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vide Motiv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D539-8CE7-4B6B-8433-0F87116C1B4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eamwork Techniq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74674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Maintaining Unit Cohesion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Use the team, exercise it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Avoid having one or two members constantly support the team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Handle problems within the team quickly and fairly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Remember that building a team is an ongoing proces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When possible, communicate with the smaller teams in t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unit by using their team lea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F1B5-975A-47FE-BCB4-641E6E1CD26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eamwork Techniq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49FD-575E-4F33-B161-67CE8C02EC8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eamwork Techniq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6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is segment is designed to get you thinking about your unit as a team, and giving you ways to foster teamwork for your unit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AFD6-6BF8-4AA2-8C24-B29D62CB7A7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eamwork Techniq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6684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Participants will: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scribe the concept of teamwor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scuss the importance and cite specific examples of teamwork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scuss different ways to encourage teamwork and build team spir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derstand and discuss how to maintain teamwork, or unit cohesion, once it is establish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6276-E66E-4243-85E4-12A4A0157E1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eamwork Techniq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Inherent in any effort to build a more efficient squadron is the importance of building the team.  The unit must become as one to be effective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E09B-ABE0-4B7B-9583-42E1050C817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eamwork Techniq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Importance of the Group Effo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y is this important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w important is it to me, the commander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30B2-8C6F-4708-8AEB-2BFCC26EA9D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eamwork Techniq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Importance of the Group Effort 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Historical Perspective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orld War I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Team: Ameri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Coach: President Franklin D. Roosevel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B1ED-73CE-4A19-975E-604A47133BF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eamwork Techniq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Importance of the Group Effort 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What it Means to You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 are the coach of your tea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ut, units are not teams automatically, you must make it s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A876-A97D-469E-89F1-F077B5992E6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eamwork Techniq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eam Building Techn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asic foundation for motiv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group is a collection of people; binding agent is a purpose, task or ev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team is a group taken to a higher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0871-CC12-4B61-A29F-80617AE3485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eamwork Techniq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Teamwork Don’t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n’t Micromana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n’t withhold information, or work around memb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6A4E-6A9B-44A8-B0F1-67B7FD61E95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Information Systems</dc:creator>
  <dc:description/>
  <dc:language>en-US</dc:language>
  <cp:lastModifiedBy>Bobbie Tourville</cp:lastModifiedBy>
  <cp:lastPrinted>1999-07-12T15:55:55Z</cp:lastPrinted>
  <dcterms:modified xsi:type="dcterms:W3CDTF">1999-07-12T21:35:14Z</dcterms:modified>
  <cp:revision>18</cp:revision>
  <dc:subject/>
  <dc:title>Unit Commander's Course Teamwork Techniques</dc:title>
</cp:coreProperties>
</file>