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3085-A357-467A-BB47-604A77E9F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0752-2F2E-4C05-9550-8770CB84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D63A-2A77-4FB0-BE2E-8A22EAE7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E948-7FA4-43AB-86CC-3786557E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3697-B0CA-4CF7-B355-79E84463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82F2-E342-446E-818D-57EB3B52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C876-09DB-4FEE-A2BB-52433C41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920B-D8B7-4FA1-A096-B53168B3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97EC-2F4D-4F11-AD36-D3B4B08D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D9A9-C37D-4D78-8914-C8283284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CCDA-20B7-4D4A-A2ED-DE7A8782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3CBB-384E-48DD-A6DB-FF013CD4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838A-EA13-4343-A898-E490DBA6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EC45-FB95-4C3B-92B4-85723725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E0DF-AD5E-4F1C-B908-689AF973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FF85-B853-4FDE-AB78-66AB8C97B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CF76-DEF7-4364-AA35-A006C2E62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C9A8-8706-4C5C-830F-F04C3CC9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442C-95A1-469B-AD73-4D0D15DF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38C6-A239-45A1-B10C-D7A146F7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B984-8030-4D80-BCF1-D4F04BB2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EC9F-AD6B-4B11-8FA3-15F36FF0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14E1-64E4-473E-AB1C-3F792E91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DC64-54A2-48D8-938E-07273A28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2B85-78CB-4543-B823-2DB32065260A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EF11-2152-487D-A8CB-F55A9C57CF70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udg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ortance of budgeting at the unit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rmining your assets and n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ising fu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D45F-D92B-478C-B5A2-2FAC3D8EC2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udg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82880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Fundraising Don’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Sponsoring or flying in airshows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carrying aircraft passengers for charge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dropping objects from aircraft or spot landing contests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percentage professional fundraising (unless specifically approved from HQ CAP)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activities for which CAP members receive personal financial gai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13DC-59C8-40D5-BD9B-5699AE6C8B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udg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Donation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quipment donations an attractive alternative to fundrais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solicit the donation, the wing commander (or higher) accepts the donation on behalf of C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297A-2DF9-44CD-BAD0-5A813EF2AB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udg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B960-C4F1-4BD0-8993-AC05A631B1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udg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515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s segment will explore the need for sound fiscal management and to help to develop budgeting skill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50CE-83C4-4C13-8B98-9A0555F82E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udg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articipants will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stand the importance of budgeting at the unit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 how to determine unit assets and n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techniques for raising fu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ete the exerc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C1C4-FE0D-40D7-A34C-3B87FEA8CE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udg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ne of your most important responsibilities as a commander is to ensure that your unit is fiscally sound.  You ensure that the unit is accountable to its creditors, the wing, HQ CAP, and your membership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CF46-6B87-40A0-B3DA-5590966336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udg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he Importance of Budgeting at the Unit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must budget because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need to know how much money your unit h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need to know how much it needs to spe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..so you can prioritize what you want with what you can affor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47DF-983D-46F9-8CBB-0ADF6B8607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udg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72388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Determining Your Assets and Need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t together with your finance committ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your annual financial statement as a gu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rmine what you have (asset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rmine what you need money f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4933-BD49-45C0-8ADA-FADB15D1EB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udg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Determining Your Assets and Need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d the difference between what you have and what you will ne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rmine how you will make up the differ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you spending money efficientl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2D52-80D9-4F12-9683-4DBD7AB7E1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udg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2388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aising Fund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efer to CAPR 173-4 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Fundraising/Dona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ethod you choose should fit with the amount of money you want to raise and how long you want to sustain the campaig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wo must do’s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tain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writte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ermission from your wing comman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ly with local and state fundraising laws and re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B500-7377-4E85-AD97-AD5DB49B4A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udg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Fundraising idea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orefront col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ke sales/pancake breakfa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mmage s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cally contracted merchandise (t-shirts, hats, et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/aircraft wash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ercial sponso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6511-973C-489F-9C26-8AC985D6F2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Information Systems</dc:creator>
  <dc:description/>
  <dc:language>en-US</dc:language>
  <cp:lastModifiedBy>Bobbie Tourville</cp:lastModifiedBy>
  <cp:lastPrinted>1999-07-12T14:10:52Z</cp:lastPrinted>
  <dcterms:modified xsi:type="dcterms:W3CDTF">1999-07-12T21:35:10Z</dcterms:modified>
  <cp:revision>22</cp:revision>
  <dc:subject/>
  <dc:title>Unit Commander's Course Budgeting</dc:title>
</cp:coreProperties>
</file>