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D11-1333-44F9-AEFA-8151FB8E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7A0-1A7F-413F-9031-414FEC8B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D27-A8EB-45F5-86B7-595BF858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0B8-30CE-4CED-9310-2788CF95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671E-FC9B-4729-9799-7110AC48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50BD-7FF7-423A-83B9-27E01F7C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08ED-B52A-4602-8017-64E0959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EBAD-EB1A-4CE3-949E-66551BAE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CD4B-AD7A-4A69-9129-895C8637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3509-52FA-43C0-A6A1-9566FB60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6DE2-9A08-45F8-811F-779D9821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5D7-6F6E-4DFF-AAFF-8A7134A9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28A7-959C-457A-87B3-3003F76B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80F3-3D44-4906-9B19-AC0290CA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CFE0-BE92-406F-9912-D427262B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739D-5715-4D7D-A61A-B265F7B4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5780-2CD4-481B-83C4-1C224081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096-EF3E-4A93-B271-4DD88C0D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3EE-543F-4948-AABE-A71490FE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62B-D98B-477D-ADC4-74B20E6D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EF3-E9E4-4068-84A5-4EAF7DF3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D9D-0AA3-43CA-A344-07CD34D0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044-A1FF-491B-AAFA-097B80C7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06C-014D-4718-A6A4-8ED579F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93D7-EF29-4B91-B013-31B19E34609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80B5-87BF-4469-80D0-41F0A148D65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get families involv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explain the mi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ing family invol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E65-80E5-49A1-AC82-20D59DF48C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couraging Family Involvemen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 Squadron Activ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families whenever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es can also have a valuable voice in planning and assi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5EA-7AEE-4B42-BB84-26FC485EE9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nally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underestimate the value of family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es are the member’s number one prior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6C8-AB21-4929-ABAC-AD4860C560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947-5793-4EEC-9388-8811EB7739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seeks to show you how valuable families can be because of the support they can provide both their members and you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369-26A0-43CE-BDDF-B9D0A3C3F9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basic need for family involvement in C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missions of CAP to family memb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places to encourage family invol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DF9-3622-4DF6-ACD8-3E8BB369E9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 members families are an invaluable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sour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D56-240A-4098-B1D8-B4972A04AF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 Include Famil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r approval of membership influences the amount and quality of member particip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can provide non-member assistance to the unit in a variety of w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596-54F4-4D6A-A033-AD3A9D560A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laining the Mi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 the effort when recruits and their families walks in the do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them in the member’s orientation as much as po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gn a member to the family to answer ques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the family with promotional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5CC-DAF7-4BEC-94AF-3D9DD77BA5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819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laining the Mi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commander, send a letter to the 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members to share their experiences with their fami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 the squadron newsletter to the entire 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welcome family members when they visi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5D4-879D-486D-ABAF-767BEA3DD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couraging Family Invol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king Families Welcome at the First Mee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ignore family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, include them in the ori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lk to them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825-A899-40D6-B8D0-BCEA71B6A3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couraging Family Invol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pport and Booster Grou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able to Officers’ Wives Clu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s provide feedback about the effects squadrons’ have on fami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ster groups can provide excellent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026-1790-430E-B088-E893F0EF20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3-24T21:22:48Z</cp:lastPrinted>
  <dcterms:modified xsi:type="dcterms:W3CDTF">1999-06-09T16:21:37Z</dcterms:modified>
  <cp:revision>32</cp:revision>
  <dc:subject/>
  <dc:title>Unit Commander's Course Working with Families</dc:title>
</cp:coreProperties>
</file>