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5B4-2D7A-426F-A701-E3CDF93B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8C5-F6BA-4A72-B177-6D912AE4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A21-3BC1-49FD-A026-4CEA7677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9A8-1FB4-4746-9D97-6E361600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A91F-E404-4454-9237-F6FA9B93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7BFB-4DC5-431B-B3AF-A6C644B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340B-A3C2-46DE-8213-C243943A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3F5A-14FC-4D2D-9611-6D87C4F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A90-9207-456F-ACCF-3221EF9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10A3-5AF7-425D-8A7B-114F9AC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B5C7-084E-4181-B65D-1154218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859-33EF-439E-8A71-88978F64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DF7-EF93-4D76-BFC3-E3DD5A5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B13-DF81-46B7-B914-0E90E6E7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AEC-DF16-4F3E-87B0-18A19BB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B009-A1C2-4CAB-A683-D3DB678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74C2-280A-4C19-95DD-D59923D6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D15-E66A-4347-A998-BAC0767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C8E-76F6-4F0F-830C-3BD2C73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396-FF5F-4A82-B126-56212BA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94D-E249-417E-B26E-692B8939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685-09F3-4A9A-A439-E6750FC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29E-06F5-4933-A801-1E2BF3E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D84-986E-4681-B0EC-F5E4310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74ED-1C1E-4C09-A5D4-21DD773D15B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E5CE-04EB-4571-820D-964D8E8E9C8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asic composite squadr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r staff helps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can support your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DEC-B2D0-405D-851F-AD5D30D045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r Detailed Descriptions Consul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Manual 20-1 Organization of Civil Air Pa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Pamphlet 50-1 Commander’s Gu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66-B7A6-4DC9-9578-163C46459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will familiarize you with your staff, what they do, and how you can b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their effor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A16-2C8C-4345-8466-E4CE4D4DA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familiar with the different staff offices within the squad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staff officers can directly assist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they can best support their staf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EF9-43F2-48E9-9235-3BC652028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n’t need to know every staff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tail; you just need to know whe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ok for hel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D95-51FA-4D80-8161-73C6E1B03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ic Composite Squadron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uty Commander for Sen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uty Commander for Cad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on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Affair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F3E-51EA-4CD4-8AA1-B9AD4564B1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ic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space Education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Seni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Cad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Program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stic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ie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F30-7DE3-47FE-8E8E-58F9D486CF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ic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Staff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ru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039-C169-42A0-8BA6-723330013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Your Staff Helps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eyes, ears, and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t advis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nding bo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1A7-E0AD-4629-AE65-803A9270B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You Can Support Your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them as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them opportunities to grow profession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training programs eve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participatory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cross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jobs and fami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43A-738E-4D22-8C18-22F530E2EA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0:00:04Z</cp:lastPrinted>
  <dcterms:modified xsi:type="dcterms:W3CDTF">1999-07-11T08:19:54Z</dcterms:modified>
  <cp:revision>23</cp:revision>
  <dc:subject/>
  <dc:title>Unit Commander's Course Your Staff: What They do for You</dc:title>
</cp:coreProperties>
</file>