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33D-7CB0-47FC-BE29-30914FF6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424-4301-4252-87B5-A5F7AA89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130-C13D-4F47-86FD-04889CF7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9F5-6134-4EF2-92F4-A467C9F5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71B3-8D1C-4B2D-A42D-FDF163AD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9905-D931-4BEA-91B0-B47E82F4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7D19-33E0-4E75-ABB0-F009D634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D3F9-817D-4F52-BD6B-DBB83AE8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9D3A-5BC1-40AF-AAA3-D6700898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50DE-D9B1-4F4D-90B3-61125733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9FB9-83D7-46D8-8A19-4120AD78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5CB-D1EA-4F10-92A8-49628184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F31D-9F89-4EC8-8111-577576AD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7952-11AB-40C1-B3B4-50070E28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F027-5990-479C-9A07-6CD954ED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B743-7274-4610-8F69-4D2AB4CC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1935-817B-42C2-B2AA-10346E85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A56-5674-4638-96FD-1FB7E249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684-182B-45A5-A88B-FED92458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824-DE39-4184-BA22-A41C12FF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15F-E34A-4884-9BE2-51C8EF50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375-DEE5-49EC-828E-86B9AE20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1A8-136B-4AE1-A4B1-34A70B8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35A-28AA-4547-B634-4FF3ED1E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5254-FAD3-456B-BF95-B39D38C1810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E883-091F-415F-9CC8-362D9E807D7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 of a successful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s necessary for unit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 questions that define a successful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ing unit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CB4-671F-4071-BD51-FB8D737C32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easure succes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past perform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the wing’s similar uni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wing goals and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squadron goals and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the four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28E-33E1-4B0A-A3CC-A0D700585F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E28-8770-425E-BBC9-F300F42482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help you find ways to make your unit more successful, by helping you find ways to measure unit succes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573-7F95-48B6-AFD0-9C036E468A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characteristics of a successful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resources necessary to contribute to a successful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four questions to ask when defining a successful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how a unit measures its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AD3-CE58-40B2-BB85-C792FF833D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you know if your unit is successful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F42-B711-4B9B-9CD4-7BD4F6730B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racteristics of a successful uni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s all three facets of CAP’s mis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e participation from unit me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retention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ll-developed staf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A57-DFB5-4537-92C0-4AA03B7AB2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haracteristics of a successful unit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, positive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ability to embrace meaningfu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B25-EE99-4B96-BC73-257E5D3D7B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sources necessary for unit succes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D13-BDE3-462A-9AA3-4EEF0CC1E6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sources necessary for unit succes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headquart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AF 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CAP squadr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 and local agen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hoo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C62-80A4-4001-9527-90F9ADF4C2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our Question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es the unit accomplis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es the unit interact with its partn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members 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members intera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0BC-82B5-4E92-BA08-54CAF0B584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09T21:18:02Z</cp:lastPrinted>
  <dcterms:modified xsi:type="dcterms:W3CDTF">2000-06-06T19:56:00Z</dcterms:modified>
  <cp:revision>34</cp:revision>
  <dc:subject/>
  <dc:title>Unit Commander's Course Your Role in the Missions</dc:title>
</cp:coreProperties>
</file>