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886D-87DE-456A-8FB8-D523148B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807-552E-4F23-955D-921CB8AE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18F-629A-4EE9-91C7-32B082F8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1B1-FF7B-4609-8443-6A2CCE6A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0D34-236C-4324-8EA6-CA34F498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CF16-46F6-4467-86BE-9768AECE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7D8C-1C1A-45FF-BE0D-E6569A28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A51B-055C-4CCE-84BF-8874496A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CA89-2EBE-41D6-8AE0-B3099946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9E8A-C048-4C0F-ABDB-86F8CC3D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9104-43BA-4C8E-8947-C06B2581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3E6-86BE-4919-9146-D6DFA707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779A-A442-45EC-AD36-352D0D62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99F3-3B62-4AC7-A728-808D3DDF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CC2E-7CC3-4627-AFA9-13B83370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4F9E-6D4D-42F3-A6DF-C1416A5E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996B-BF7A-4E90-89B5-DBFDCE9C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3CD-0FF5-4D6F-883F-35836CE9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0BE-82AF-47A2-BFD9-B6ED663F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3D8-8B04-42BC-B318-7B6CF106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C44-63C5-4026-B341-2F99D374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9D2-0FA9-4E18-95C2-8EBBA6F9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C98-8A31-43E4-83E3-F03B0215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AC7C-03D6-4168-ADF1-3250DEEB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DB81-4D85-4B3B-ABEF-740974474F9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F2C0-37B7-4E95-828C-25B13398F4B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 of haz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vil Air Patrol hazing polic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 reporting procedu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ative measu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106-2AC5-4CB6-918D-51D260FC09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921-4AFB-4B66-AF43-31B3F7310D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will help make you familiar with the Civil Air Patrol hazing polic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809-DF75-4E16-94C1-4503D28DB2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hazing in their own wo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Civil Air Patrol’s hazing polic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CAP’s reporting procedures with regard to haz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steps commanders should take to prevent hazing in their uni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5C1-BD20-447E-B9A5-59CFEE2D20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zing, sometimes thought of as harmless team-building, is actually very harmful -- both to the cadets involved and to the overall cohesion of the unit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ABF5-7D87-44F1-BC3B-577BC457D0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28640" y="1676520"/>
            <a:ext cx="75153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finition of haz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conduct whereby someone causes another to suffer or be exposed to any activity that is cruel, abusive, humiliating, oppressive, demeaning, or harmful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ual or implied consent to hazing does not make it permis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s/Non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2DC-449C-4815-A230-38912A37C3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ivil Air Patrol hazing polic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vil Air Patrol will not condone or tolerate haz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 treats hazing as a form of physical abuse under the Cadet Protection Polic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904-9865-482A-B6C5-E77D9EAE22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P reporting proced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s who believe they have been hazed may file a complaint IAW CAPR 123-2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ompla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 commanders who learn of or suspect hazing has taken place will notify their wing comman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F53-92B6-45EE-A111-E920D0949E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AP reporting proced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ing commander will consult with the wing legal officer before starting an investig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physical injury is involved, also follow reporting procedures outlined in CAPR 62-2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ishap Reporting and Investig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9AB6-9D93-4B84-B56A-1A818AA465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reventative Meas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nd in CAPR 52-10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AP Cadet Protection Polic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printed in Student Gui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6CF-857A-4CCB-876A-416AC129E6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Information Systems</cp:lastModifiedBy>
  <cp:lastPrinted>2000-06-19T20:49:39Z</cp:lastPrinted>
  <dcterms:modified xsi:type="dcterms:W3CDTF">2000-06-20T13:16:52Z</dcterms:modified>
  <cp:revision>43</cp:revision>
  <dc:subject/>
  <dc:title>Unit Commander's Course Your Role in the Missions</dc:title>
</cp:coreProperties>
</file>