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231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62E2-BD14-4286-BCC6-9087F4E0D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F44C-C7B3-4658-AC06-C3357B8EA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22C5-84B7-4B51-B77B-E0F485B23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B487-E458-458B-940D-93D956515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ECE7A-D049-43CA-AEAC-8801D9850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B10B1-2BDE-4875-B515-49CF5A160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9001E-6F20-4129-8E14-0DC5D8BBB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2F7E9-292F-4DB2-A34D-C543B07C8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03AA7-E5B9-4DF7-89F5-2E80BABCF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7B620-D51F-4A2C-883D-31EF38AD8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B03F0-3854-477D-9527-E9898636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3C5E-A66C-48BA-83F1-95A46E7A7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989B2-5BF5-4B9D-BD97-7F60D9948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28A96-4F78-4272-B683-E5167748B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05FEF-5FFE-4A3B-8FAD-5894858D5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EA71E-290B-4396-A2D9-198F50830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4CB41-7367-413D-88FD-45155D127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4471-1DB4-4360-8CA1-14207B3D2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DBB8-2992-4AE0-9F18-47646D3C2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EA3B-81FB-4A2C-85B9-78D113006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D84E-5DD3-4015-B944-59840F3AF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23A8-C049-44F7-98E0-6981B881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111F-D6AB-4D8F-9268-87025497B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06BE-0399-4E9B-B07A-FEE3D5987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9144000" cy="1905120"/>
            </a:xfrm>
            <a:custGeom>
              <a:avLst/>
              <a:gdLst/>
              <a:ahLst/>
              <a:rect l="l" t="t" r="r" b="b"/>
              <a:pathLst>
                <a:path w="5760" h="1200">
                  <a:moveTo>
                    <a:pt x="0" y="0"/>
                  </a:moveTo>
                  <a:lnTo>
                    <a:pt x="1008" y="1200"/>
                  </a:lnTo>
                  <a:lnTo>
                    <a:pt x="5760" y="336"/>
                  </a:lnTo>
                  <a:lnTo>
                    <a:pt x="57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600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8858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9FDC6-45A6-42C8-9AC3-B589F6D9BEF1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0"/>
              <a:ext cx="9144000" cy="3809880"/>
            </a:xfrm>
            <a:custGeom>
              <a:avLst/>
              <a:gdLst/>
              <a:ahLst/>
              <a:rect l="l" t="t" r="r" b="b"/>
              <a:pathLst>
                <a:path w="5760" h="2400">
                  <a:moveTo>
                    <a:pt x="0" y="1200"/>
                  </a:moveTo>
                  <a:lnTo>
                    <a:pt x="1008" y="2400"/>
                  </a:lnTo>
                  <a:lnTo>
                    <a:pt x="5760" y="1536"/>
                  </a:lnTo>
                  <a:lnTo>
                    <a:pt x="5760" y="0"/>
                  </a:lnTo>
                  <a:lnTo>
                    <a:pt x="0" y="0"/>
                  </a:lnTo>
                  <a:lnTo>
                    <a:pt x="0" y="120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676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64C0B-A257-4CE5-B97F-50569334F561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eeting Plan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ain Poi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y plan your meeting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det meeting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nior meeting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7F11-A2DE-4260-B1CB-1A6A1631BFF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eeting Plan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7439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s segment is designed to have you think about the importance of advanced planning in your meeting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CA4A-AB01-44BA-94AF-821840ABF35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eeting Plan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Participants will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cuss the importance of planning meetin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n a schedule using the cadet meeting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n a schedule for senior me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C2D6-508E-4D93-84A5-4D4C87CDF68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eeting Plan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Planning is important to all commanders.  Meeting planning sets a routine, makes the meeting more professional, and can be a team building exercise for the staff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1007-1E3A-44C3-B59B-9C537A98802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eeting Plan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523880"/>
            <a:ext cx="7238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hy plan your meeting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fessional meetings attract and retain me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 planning meetings cheats your squadron out of activities using outside sour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may run out of ideas because you’re capability will be limi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C06F-3274-4F73-85A8-FA0A31594EE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eeting Plan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hy plan your meetings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can design training time to meet squadron n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can make the meetings more fu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time you spend in the meetings will be more effici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D3D0-9BFC-4465-8CBD-7FEBAC823DD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eeting Plan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adet Meeting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datory requirements (see shee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F58D-DC7E-4DCB-9274-D57C80DE373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eeting Plan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3880" y="1828440"/>
            <a:ext cx="6934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nior Meeting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se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lude joint activities with cade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nthly safety brief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i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BBA5-A48C-4F5E-BE17-CB4C440E21E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eeting Plan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DD78-3CCB-4D0A-947D-712843DC39D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20:29:16Z</dcterms:created>
  <dc:creator>Bobbie Tourville</dc:creator>
  <dc:description/>
  <dc:language>en-US</dc:language>
  <cp:lastModifiedBy>Bobbie Tourville</cp:lastModifiedBy>
  <cp:lastPrinted>1999-07-12T14:18:35Z</cp:lastPrinted>
  <dcterms:modified xsi:type="dcterms:W3CDTF">1999-07-12T21:35:12Z</dcterms:modified>
  <cp:revision>4</cp:revision>
  <dc:subject/>
  <dc:title>Meeting Planning</dc:title>
</cp:coreProperties>
</file>