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F97-979B-4546-BB37-075FD442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EA9-D921-4557-98E9-EA8E0085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E36-50AE-416E-AD22-AD63FF16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B86-7A1B-446F-8163-5F9EC66B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0309-CFEF-4B11-ACCB-EA68EEE7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23A4-AF10-4A3C-B4D3-39192736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A29A-78AD-4AD7-B96F-47E872CF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0A85-4BDF-4CBA-9C98-066D99CF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F05F-42D6-471C-B0D0-72485684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D770-FE5D-4437-B2A2-B2C59037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F716-53BE-418E-8F34-B2C23135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743-E41A-422A-917B-82F96300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F9F3-9F69-4953-BF3C-2A052055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4716-81BE-4561-9902-85DE97D8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AE5B-FAE2-4F39-976F-AF0ED36D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9B49-3B51-4EF9-BD53-A4CCCF26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28D6-7629-423B-9D4E-504FB787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6C0-C88C-41BD-97B4-B4EADBF4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521-5886-4E47-95F6-1F2C7D2D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033-313B-4208-8781-B27F4027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A29-E9E1-45E6-A831-4023E18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C73-27AB-48E1-85FD-2F16ADD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668-E9E9-4518-A8C6-731376A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FF7-41D4-4C4C-B097-08FFFBA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2967-B2D6-4FE4-A0A3-50EE754ED0D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CF57-6265-4B29-87C0-71F7D82DDEB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mportance of setting goals and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 go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 of go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n objec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 of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ing effective objectives and go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70A-2FD2-4E12-9A7D-DDF5163069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etting effective goals and objectiv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tting a g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ting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maintenance and follow-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A1C-1E34-4AA7-87AE-C79486E649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FA0-5030-49B9-98B0-DE025F54F0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examine what goals and objectives are, and how they can help you more effectively manage your un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85F-41CE-4388-B228-4DEA38C2B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importance of setting goals and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the term goal in their own w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haracteristics of a go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the term objective in their own w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haracteristics of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how to set effective goals and objec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095-A1DB-4584-8A10-903E49A43D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and objectives provide the framework that makes achievement possibl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6DB-D18E-4847-8EBE-58F869FB02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importance of setting goals and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share 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ing goals and publicizing them communicates your vi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motivate members toward achie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and objectives provide a roadmap to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C23-9BE0-42BE-9998-1340A590FA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efinition of a go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oal is a broad-scoped end -- the desired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nd result to reach f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ream with a dead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are generally strategic in n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BDC-29D0-4E0C-B570-DBEFCB8492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aracteristics of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MAC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ecific (understandabl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asurable (know when it’s don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chievable (within capabilitie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atible (fits CAP’s mission and wing goal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amples/Nonexamp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355-5917-46FF-BA17-BD636CE13A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efinition of an objecti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objective is an action step intended to reach a go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are tactic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6B8-6E11-4391-8ED7-5BA98B582D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haracteristics of objectiv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tible (with the goal the objective suppor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/Non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153-1642-4BE0-A3BE-783BB75A5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1999-07-09T21:18:02Z</cp:lastPrinted>
  <dcterms:modified xsi:type="dcterms:W3CDTF">2000-06-16T17:37:05Z</dcterms:modified>
  <cp:revision>39</cp:revision>
  <dc:subject/>
  <dc:title>Unit Commander's Course Your Role in the Missions</dc:title>
</cp:coreProperties>
</file>