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4F6-A938-4FE2-9931-C65AEC87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DFB-6DD2-417F-BE14-98C98A0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457-02A2-4FF5-AD2E-178AD5B6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99A-E37B-4601-A260-CF7BAFF8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8A3A-0AEF-4F5B-B157-928AB266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E2EF-AED7-4291-B253-C6CC4F0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358C-2D2D-4047-9C11-88EBE71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B5C-EEE0-470E-A6D3-B56505A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E8C3-9597-4C7B-8879-67BCAB5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F9C-9272-4053-BD87-B677395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A5DB-EBE0-40A1-9842-C20B297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9CB-1AF1-4333-BE9D-1E4FE7F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3F44-31A7-43EB-A71F-2A1437D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B7DD-E2F8-4C51-AAE5-4D3555F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B91-C0D7-478E-AEEE-0CC3D43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F29-E43A-4E73-80AB-745457B7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A922-586E-4467-8126-48ED2018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1A2-DBBB-4264-9C0E-0AF9548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DC5-5997-4E73-805B-68F87E4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028-DEBC-4AF0-AD0E-34C86D28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F3F-E107-4BF3-8FD2-7B971F5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A8A-CE53-4223-A2D6-5BC1D69E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0F9-F339-426A-9BE4-7F3DF80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FB6-EC3F-4955-8A9F-2ACEE83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0B7-9F59-4F2C-8B56-52EA73C10D9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BB6-9928-416E-8DF4-B2433C462AB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/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o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340-64D3-437B-9D1E-7B4E36496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ng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uthority over all the units within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successfully accomplishing the missions with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to the Region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BE8-ACEE-445C-B456-FFF37B171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porate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Commander is a CAP corporate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ne CAP representative 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negotiate agreements with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primarily responsible for corporate as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C37-0FEC-41C6-BA49-2BAAA0B29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Relationshi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ssist the wing commander to carry out the wings mission through your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 out lawful or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reliabl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EBF-4CF7-4AF5-AFC9-F05084F2B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ing Air Force Liaison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vice, liaison, and oversi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s and activities in which the LO plays a ro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ours and orientation ride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aatz exam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arifying procedure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LOs should be inform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henever participating in activities w/the USAF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hen requesting Air Force assistance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 visits, and the Civil Air Patrol-Reserve Assistance Progr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199-2AE7-4889-B53F-2171EC322E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functions of the group or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e importance of effective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d ask for feedback from your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interface between your staff and group and wing sta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DF9-5774-47A2-A84D-0955764BFA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5A4-CB14-4861-8208-2806FAF3B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is designed to not only let you understand what group and wings do, but also your relationships with your boss, and his or her staf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42D-B4C8-46C6-B225-7285957CA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function of groups and w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group and wing staff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functions and authority of the group and wing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unit commander’s relationship with the 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importance of and different techniques for working together with group and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852-C968-4DBE-975D-45DFC7F89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ile you are the commander of your squadron, you can’t work alone.  You are part of a larger organization, and your first link is the group or w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A2E-9666-4E77-A08E-CA5ED954F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is to oversee operations of squadrons assigned to it, and is subordinate to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when there are too many squadrons, or when squadrons are dispersed over a wider area than the wing can manage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46B-93B5-42D0-9D6F-4F5049AC0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is to oversee the operations of the groups and squadrons assigned 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level on the “corporate ladd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see all aspects of operations, training, and support for the state, and is responsible to its CAP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0C6-B227-4B2B-84B8-1022EEAAB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is to assist the group/wing commander in operating the un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d by CAP directives to be responsible for certain wing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order you to do anything, but can pass on orders concerning their functional area from their commander to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4C2-EF8F-4436-8292-61BCC8E81E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/wing commanders will tell you how much authority they have delegated to thei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obligation is to keep the group or wing staff advised about the fitness of your unit in their areas, in accordance with CAP dir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hould keep you informed about changes in their areas and make sure you get the information you need about their ar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F2F-B88E-48A0-BCA7-D21CFF326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Your Bo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commander is your immediate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commander is particularly important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EFB-E50C-40A7-891D-62B5C65BB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8-11-24T16:15:39Z</cp:lastPrinted>
  <dcterms:modified xsi:type="dcterms:W3CDTF">2000-08-09T13:22:11Z</dcterms:modified>
  <cp:revision>27</cp:revision>
  <dc:subject/>
  <dc:title>Unit Commander's Course How to Deal with Group and Wing</dc:title>
</cp:coreProperties>
</file>