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191-9720-45B5-B103-04E05539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F4D-DCB7-4AC6-9004-362983DC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63E-03EA-41DB-95A0-DE793CF7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AB0-CF51-4FB3-A168-5AD702C2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C13F-A762-4366-A8BE-473CEF83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ADE8-EED1-4A53-BA7B-89EA5289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703D-E19D-4A72-939C-7D6FDA66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8407-1968-460D-A6B2-B7FEF533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1218-4BB3-4FF0-B6F0-917F1BB5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6E65-F6C9-4E58-8D12-D47AF972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CE3A-76D9-48DA-823B-2CE15261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182-452C-46D2-AB6A-8DF857BA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2A02-87D9-417B-8ECB-6C6400E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305C-CBBE-45A9-9817-F596FA4C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CBB-22B2-4F15-B97B-3180AE96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6DC8-012E-4525-9AD4-01A03837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386C-DA46-4DEA-A2D7-0B0036CA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0BF-8B37-4C97-817A-9AF61542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A00-6E6D-4EDC-BF1A-6538C462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C69-594E-4524-A7D7-DCBC0144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07D-B067-4E58-87C7-9071BD84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CF3-CA13-4335-A5D1-8A894B9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4B7-73D1-4ECC-B9C0-0CF781A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961-DC1A-443E-B3B4-2F54047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FBD-AD6C-48CC-B973-6876FA6E801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8A0B-5ADF-4A9A-86A7-A90107D9AD3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recru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ruiting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ention is vital beca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ention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ruiting cadets to turn sen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313-2944-40CD-9EF4-18C705E9A2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tention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administrative matters are handled effectiv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nd stick to a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members to participate in the process of running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85E-6BD4-4041-82DF-1F772ACC60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ruiting Cadet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for cadet and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s advantage of cadet’s existing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dets need to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rui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senior 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ets aren’t introduced to the senior program in present cadet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ior program different in structure and learning sty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44A-4052-428F-B3B2-DA5EC93D67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803-8693-4F1A-A6D9-6BB06A9700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is designed to get you to think in terms of designing programs around what is needed to attract and retain senior and cadet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5D7-2B22-4357-9762-E28DCFC11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of local recru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e and apply recruiting techniques for cadets and sen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reten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and discuss the importance of retention in maintaining quality and continuity in their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043-EF2D-436D-B95C-83DE59E12B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e and apply retention techniques for cadets and sen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the importance of recruiting their maturing cadet corps into the senior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70-F3B4-4149-B04F-CE51A5A01A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o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mportant resource you have in your unit is not your materiel, but you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641-5BD3-4039-802C-0429FADC4A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Recruiting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a good foundation of people for your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roaden the unit’s base of knowledge and speci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ally brings new blood into the unit to stimulate cre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laces unit turn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acts member burn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8F4-BF8E-4D9D-8BCD-6B613C0236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ruiting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velop a Unit home page on the WW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ld several open houses annual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tend career days at local schoo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ncourage cadets to wear their uniforms once a month at scho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play recruiting materials at stores, shopping malls, and air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 recruiting for members with special skil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ncourage parents to jo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179-7E7C-49D6-8FC7-A6D5690C9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tention is vital becau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reduces the need to constantly train new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vides for corporate memory and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counteracts member burnout by keeping more people in pos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9B7-34C4-4081-BCBE-6EF31433D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ten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full use of a unit awards and decorations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vigorous but useful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dule occasional activities away from the squad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effective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0C2-35A2-4F8F-925F-1FBD778960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7T15:44:14Z</dcterms:created>
  <dc:creator>Information Systems</dc:creator>
  <dc:description/>
  <dc:language>en-US</dc:language>
  <cp:lastModifiedBy>Bobbie Tourville</cp:lastModifiedBy>
  <cp:lastPrinted>1999-07-09T20:03:41Z</cp:lastPrinted>
  <dcterms:modified xsi:type="dcterms:W3CDTF">1999-07-11T08:19:56Z</dcterms:modified>
  <cp:revision>15</cp:revision>
  <dc:subject/>
  <dc:title>Unit Commander's Course Recruiting and Retention</dc:title>
</cp:coreProperties>
</file>