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2663F-21AA-400C-9A13-DA5D08A1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FC31-2683-4A42-9192-DB37BE4D0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0A70-105C-4F49-AAAE-19E4D1A9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0AFB0-47A5-4CE6-ABB9-B77078EF7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C8753-2C9E-4550-9F34-5F8CDC0CF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1447D-056E-40AA-93A2-175F6D661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DF7FA-B306-4E2F-A0FF-7316BDFDE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1C25-381F-4B73-8CE8-1D27AB36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8AF24-48F1-4679-8924-1D422A2C9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FEE0C-BB09-4027-A57C-0E5C6B6BA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83FB-FB0E-4625-8E2D-0546ED590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A87A-9E8C-44EF-9064-78A7F5B8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FFBF3-1BF6-4D9D-94C4-D63F1165B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C55D-78A4-4F8E-886E-E18B5269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D86CE-9374-43DE-BAC7-4FBFF296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66BF5-F9AC-4B0B-A7E0-E5761908A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3"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E2B8F-5B79-4C0C-B9A0-96D20CAB9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E235C-7C67-4E69-B0A4-4C0183B1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E01E-1A5D-4586-BD88-61EC07BE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CCC7-52F3-4508-9C8D-FED62331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3C60-B4BC-4FBF-A627-F8EEACCB3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8B01-042F-4482-979E-237BB967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38B1-6644-4DD9-82DD-C412FABD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8279-96F9-4894-88CA-AA9DAB780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43A9-388C-40D2-B09D-F6ED15114830}"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D710-9A1A-4F56-9BA3-1D1EF27C5DCE}"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in Poin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rospace Education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Services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et Programs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on Relationship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FEF998A2-BC4B-4A80-9829-0F717A7EC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8" name="PlaceHolder 2"/>
          <p:cNvSpPr>
            <a:spLocks noGrp="1"/>
          </p:cNvSpPr>
          <p:nvPr>
            <p:ph/>
          </p:nvPr>
        </p:nvSpPr>
        <p:spPr>
          <a:xfrm>
            <a:off x="1219320" y="1676520"/>
            <a:ext cx="7238880" cy="48765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ergency Service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 of Aerospace Education</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ery focus of most of our SAR is a link to AE</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of the technology CAP uses in SAR has roots within the aerospace industry: aircraft, GPS, microcomputer technology in radios, video equipment, digital imaging, and satellite radio communication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B4ACCFAA-9B98-43FB-9593-FE2BB6F51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a:t>
            </a:r>
            <a:endParaRPr b="0" lang="en-US" sz="3000" spc="-1" strike="noStrike">
              <a:solidFill>
                <a:srgbClr val="ffffff"/>
              </a:solidFill>
              <a:latin typeface="Tahoma"/>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trained, plentiful resources to assist in:</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nd Search</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9D1F92B4-4204-4509-98EF-8F34860B2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 </a:t>
            </a:r>
            <a:endParaRPr b="0" lang="en-US" sz="30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ground search cadets provide another dimension of search capability - pilot’s loiter time is limited, if the target is found, pilots can’t jump out of the plane to make sure.</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s senior members to do more specialized and complicated task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30010F56-C8E3-4F94-9A31-6BA025F6B4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det Programs</a:t>
            </a:r>
            <a:endParaRPr b="0" lang="en-US" sz="3200" spc="-1" strike="noStrike">
              <a:solidFill>
                <a:srgbClr val="ffffff"/>
              </a:solidFill>
              <a:latin typeface="Tahoma"/>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Aerospace Education</a:t>
            </a:r>
            <a:endParaRPr b="0" lang="en-US" sz="3000" spc="-1" strike="noStrike">
              <a:solidFill>
                <a:srgbClr val="ffffff"/>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ndatory component of the cadet achievement program</a:t>
            </a:r>
            <a:endParaRPr b="0" lang="en-US" sz="2800" spc="-1" strike="noStrike">
              <a:solidFill>
                <a:srgbClr val="ffffff"/>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et Flight Orientation Program an outstanding practical application of aerospace powe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40AC08DD-557D-4D45-B915-C45567127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det Program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Emergency Services</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adets with vital skills and team trai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ills a sense of public responsibility and servic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37027511-FEB1-42D1-A53A-A497FED59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ission Relationship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ercise</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other mission relationships can you think of?</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4BE7661B-4B22-476B-9D2B-4F329E3C4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0" name="PlaceHolder 2"/>
          <p:cNvSpPr>
            <a:spLocks noGrp="1"/>
          </p:cNvSpPr>
          <p:nvPr>
            <p:ph/>
          </p:nvPr>
        </p:nvSpPr>
        <p:spPr>
          <a:xfrm>
            <a:off x="1294920" y="1752480"/>
            <a:ext cx="7162920" cy="472464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ission Relationships</a:t>
            </a:r>
            <a:endParaRPr b="0" lang="en-US" sz="3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quadron specialties are not an inhibitor to integrating missions</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r unit will be better at its particular specialty if you understand how the other missions relat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struct your programs to support the three missions together.  Success comes with balance.</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4AFC8DEF-8DDC-46DE-94A9-2C77C1FA1A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Integrated Plan</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ercise</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your instructor, develop plans and activities which will celebrate the three missions within your unit.</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rainstorm, there’s no wrong answer!</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DE64CC14-D141-49DD-A377-C1DF4F2CD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Questions</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mp;</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nswers</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83745DF6-6CDE-4632-8DC5-7120FA75966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view</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segment is designed to have you recognize how the three primary missions of CAP are integrated, how you can, and why you must promote healthy working relationships between them in your program.</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DCBD20E4-0AE2-4A95-AFAF-4DE17008EE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4" name="PlaceHolder 2"/>
          <p:cNvSpPr>
            <a:spLocks noGrp="1"/>
          </p:cNvSpPr>
          <p:nvPr>
            <p:ph/>
          </p:nvPr>
        </p:nvSpPr>
        <p:spPr>
          <a:xfrm>
            <a:off x="1219320" y="1447560"/>
            <a:ext cx="7819920" cy="4647960"/>
          </a:xfrm>
          <a:prstGeom prst="rect">
            <a:avLst/>
          </a:prstGeom>
          <a:noFill/>
          <a:ln w="0">
            <a:noFill/>
          </a:ln>
        </p:spPr>
        <p:txBody>
          <a:bodyPr lIns="92160" rIns="92160" tIns="46080" bIns="4608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icipants Will:</a:t>
            </a:r>
            <a:endParaRPr b="0" lang="en-US" sz="2800" spc="-1" strike="noStrike">
              <a:solidFill>
                <a:srgbClr val="ffffff"/>
              </a:solidFill>
              <a:latin typeface="Tahoma"/>
            </a:endParaRPr>
          </a:p>
          <a:p>
            <a:pPr marL="322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know what is meant by </a:t>
            </a:r>
            <a:r>
              <a:rPr b="0" i="1" lang="en-US" sz="2500" spc="-1" strike="noStrike">
                <a:solidFill>
                  <a:srgbClr val="ffffff"/>
                </a:solidFill>
                <a:latin typeface="Tahoma"/>
              </a:rPr>
              <a:t>integrated missions</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understand how CAP’s missions are integrated naturally</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be able to describe what happens when missions aren’t being integrated</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ke own examples of integration based on unit’s individual specialty</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evelop an integrated plan to take advantage of the natural relationship between CAP’s three missions</a:t>
            </a:r>
            <a:endParaRPr b="0" lang="en-US" sz="25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00AA485D-3388-4D7C-ABC0-F26A13C690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r unit’s charter says that you must support the three missions of Civil Air Patrol.</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8B60CA6F-B6EB-45BD-BAAD-5A35768C0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8" name="PlaceHolder 2"/>
          <p:cNvSpPr>
            <a:spLocks noGrp="1"/>
          </p:cNvSpPr>
          <p:nvPr>
            <p:ph/>
          </p:nvPr>
        </p:nvSpPr>
        <p:spPr>
          <a:xfrm>
            <a:off x="1371240" y="1981080"/>
            <a:ext cx="7667640" cy="4114800"/>
          </a:xfrm>
          <a:prstGeom prst="rect">
            <a:avLst/>
          </a:prstGeom>
          <a:noFill/>
          <a:ln w="0">
            <a:noFill/>
          </a:ln>
        </p:spPr>
        <p:txBody>
          <a:bodyPr lIns="92160" rIns="92160" tIns="46080" bIns="46080" anchor="t">
            <a:normAutofit fontScale="99000"/>
          </a:bodyPr>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le each mission has components unique to it, in the end, each one helps to reinforce the other.</a:t>
            </a: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is what we mean by </a:t>
            </a:r>
            <a:r>
              <a:rPr b="0" i="1" lang="en-US" sz="3000" spc="-1" strike="noStrike">
                <a:solidFill>
                  <a:srgbClr val="ffffff"/>
                </a:solidFill>
                <a:latin typeface="Tahoma"/>
              </a:rPr>
              <a:t>integrated mission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36EF1434-A53B-4D4E-BA0D-1B60D5EFD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s members about the aerospace environm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Public - concentrating on the nation’s childre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D80D3102-4128-4405-8E21-D71E3C3079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a:t>
            </a:r>
            <a:endParaRPr b="0" lang="en-US" sz="3200" spc="-1" strike="noStrike">
              <a:solidFill>
                <a:srgbClr val="ffffff"/>
              </a:solidFill>
              <a:latin typeface="Tahoma"/>
            </a:endParaRPr>
          </a:p>
          <a:p>
            <a:pPr marL="3085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a:t>
            </a:r>
            <a:endParaRPr b="0" lang="en-US" sz="30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link in academic portion of Cadet Program </a:t>
            </a:r>
            <a:endParaRPr b="0" lang="en-US" sz="2800" spc="-1" strike="noStrike">
              <a:solidFill>
                <a:srgbClr val="ffffff"/>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through cadet orientation flights</a:t>
            </a:r>
            <a:endParaRPr b="0" lang="en-US" sz="2800" spc="-1" strike="noStrike">
              <a:solidFill>
                <a:srgbClr val="ffffff"/>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in national special activities such as AETCFC, AFSCFC, NFE, NGE, Etc.</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6354496A-5F1B-48B5-9F6A-620247F7B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act of</a:t>
            </a:r>
            <a:r>
              <a:rPr b="1" lang="en-US" sz="3200" spc="-1" strike="noStrike">
                <a:solidFill>
                  <a:srgbClr val="ffffff"/>
                </a:solidFill>
                <a:latin typeface="Tahoma"/>
              </a:rPr>
              <a:t> </a:t>
            </a:r>
            <a:r>
              <a:rPr b="0" lang="en-US" sz="3200" spc="-1" strike="noStrike">
                <a:solidFill>
                  <a:srgbClr val="ffffff"/>
                </a:solidFill>
                <a:latin typeface="Tahoma"/>
              </a:rPr>
              <a:t>Emergency Services</a:t>
            </a:r>
            <a:endParaRPr b="0" lang="en-US" sz="32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rial search and rescu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ellite navigation and communication link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SAT to lead to lost aircraft</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PS assistance in ground search</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21875E1C-67BE-4E6E-9962-B195E229F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most well known facet of the CAP program.  </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embers dedicated to saving live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ECBE0149-E04B-4733-9973-C244A18AE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nformation Systems</dc:creator>
  <dc:description/>
  <dc:language>en-US</dc:language>
  <cp:lastModifiedBy>Bobbie Tourville</cp:lastModifiedBy>
  <cp:lastPrinted>1999-07-12T15:59:39Z</cp:lastPrinted>
  <dcterms:modified xsi:type="dcterms:W3CDTF">1999-07-12T21:35:17Z</dcterms:modified>
  <cp:revision>29</cp:revision>
  <dc:subject/>
  <dc:title>Unit Commander's Course Integrating Missions</dc:title>
</cp:coreProperties>
</file>