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41E-26B6-46DF-88E0-9E0B1ECE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909A-3297-4E45-9474-6E68136D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7D4-D14E-4081-AB92-A8A1944B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8E8-80E1-48F1-9240-4C2E3B1A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C8CA-CF86-4AD4-89CC-0780A697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051D-50EB-4D14-953D-F8226EDD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B4B6-1B99-4F4F-97C3-16869365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F917-D804-4C4E-A1D4-2C7BA6DA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0746-9235-448C-9E9C-50B6CA07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23DA-F817-4744-A1B9-1D328C69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7300-5C4D-4E99-8829-7858E58B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C35-23F4-43C4-8691-E97DBCDF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9ECA-3AD6-4134-89D4-05F07372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29FA-F150-46C0-BA3E-E713CCF6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9139-F3F1-45D5-994F-772927B9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1BDF-F461-4C39-89AC-DD831687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5B00-84E9-47FF-AFD8-54C66C60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CB8-4600-4625-AFD9-7285A942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448-2790-4E43-9770-41F79E40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462-8536-430F-AF6D-A4EF202B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49B6-96FE-4E97-8A93-80ACB466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623-062F-42DD-9BC5-9BDB6D3A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DF2-0A85-441F-8F4F-BED7AF45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C94-E8A1-421F-A678-3C43AC13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FCC8-7707-4A61-B434-07080C59D64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8B46-4683-4D01-BC53-9FEA1F1122E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members jo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racting motivated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unteer obligations after jo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stering a sense of commi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o let 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x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erse member 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E97-F9A0-4A32-8E61-026142D67A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olunteer Obligations After Jo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ct professional quality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loyers expect the same from their employ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remember though, a member’s service to CAP is in addition to work and family.  Those come fir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unit is only as good as the members, their talent, and your managerial abi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E3D-4D4D-4AEC-9230-F0BD8B71B6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stering a Sense of Commi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bring a sense of commitment with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must tap th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B2C-9AF8-4DEE-9531-E886C7F818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stering a Sense of Commi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 the stand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 them to participate in the decision ma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ote team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ward right, correct wr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7B0-90A3-40DF-AEA5-B55CA82F67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en to Let 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atten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ch for the following signs of trou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 tardiness or absentee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attention to det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or grooming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per uniform w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har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420-B67B-4951-9F09-40EB79532A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en to Let 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Ex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why they are lea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ve the member with the best possible im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 parting is under poor circumstances, be profes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A34-3F98-45D5-A557-47D1F5BAB5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egment will give you insight into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unteer member.  This will help you to deal with the special challenges of leading volunte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B1C-E0E9-4A7E-B74A-261E7F9A8C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what motivates members to join C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how to attract motivated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volunteer obligations after joining C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2AD-3ACB-4054-B411-51EC7AABF9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how to foster a sense of commitment in their volunteer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inguish when it is best to let go of a volunt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ys to exit gracefu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5760-915B-42FC-AAA7-E7730B5D49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 why you first joined, then think about how you want to be treated, this is the essence of creating the committed volunte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B3F-24B9-489E-97D4-30F660D040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y Members Jo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 member has a specific, personal reason for jo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an be grouped i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ense of belong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ire to help child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duit to f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C57-CFDF-4E21-BBC2-2F66C64EF1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y Members Jo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members share a desire for public service as part of their 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reasons are important to you because you have to integrate their goals and ambitions with the mission in order to be successf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3C9-5FB5-4D8E-AE0C-48FF39DABC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tracting Motivated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aware of what CAP is doesn’t always lead people to jo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make the decision to commit when they see you and th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CDF-F8E8-473D-9C0A-A8AC2F785B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tracting Motivated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honest with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into account why they want to jo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 them you will treat them as profession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an efficient, well thought op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 them where they will f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694-AB6A-4A23-960A-E07B440EB7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09T20:31:44Z</cp:lastPrinted>
  <dcterms:modified xsi:type="dcterms:W3CDTF">1999-07-11T08:19:57Z</dcterms:modified>
  <cp:revision>29</cp:revision>
  <dc:subject/>
  <dc:title>Unit Commander's Course The "Committed Volunteer"</dc:title>
</cp:coreProperties>
</file>