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93E6-8220-4E2A-9252-54ADF1BA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935-44B2-4D93-A389-E628B437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ACB-3784-4F37-AF04-12D18F30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35F-9FB5-4267-BC50-2E833FE4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FADC-2580-4BB7-99FE-7DF85F8B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791C-ABC4-455D-849E-CC7411D1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B13D-E889-458B-BCC9-ADEE3DA3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FA8F-0D69-4664-8B3C-D4E2A775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C862-E7EC-4145-8C74-7A6F039E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EA82-7FD2-42B6-AE70-B337E6C1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3C67-43A5-4807-8E12-58BBAC9A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C4A9-541C-476C-8540-17A1D65E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1C0B-B48F-4689-82B5-B2416133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4983-BFD8-4E83-A21C-053CFA10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A557-EA8B-48C5-B889-BB69EFF3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7957-779F-4773-BD28-5EBE52E4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B12E-D18D-4E0E-9AD2-F5D1D39B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CD0-728F-4925-9DD5-B564F26F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FF1-57CD-4BC9-8585-16F039F2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706A-DD02-4288-A83A-59FF8716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640-F672-4902-8CAC-B5669DB1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AF87-E8C2-401C-9F6D-3EBB25C6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BF3-9DBD-4B7A-8A48-D8305533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3C22-FAE7-442C-BA13-18E2EC33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926A-75B4-40AE-8516-280C5699A27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707B-9751-416B-ACBD-CFA3CD97542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squadron’s imp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contribution to the larger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you can best contribu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5983-1F6C-4B9A-AC29-06940589ED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termining Unit Special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yourself: “What does my unit do well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lk to your people and ask 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y answer, ask w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at squadron rec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3A1-3A2B-4B9E-8E56-3233937027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lending Unit Missions with Wing Prior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alk to your Wing Command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l him/her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l him where you think your unit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you feel the unit’s good 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DA3-EFB3-4D0A-B250-37143F25B1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alk to Your Wing Commander (Cont’d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/He should tell you-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/her observations about your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/he exp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pproaches s/he recomm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make the relationship b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EF8-158D-4C5B-90F6-D25B5B7B8E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lending Mission Priorities (Cont’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alking to Wing Staff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 how they can help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ing how you can help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526-E79D-40DC-9793-1874525F6B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339-6335-4DAA-A1E6-3B864F4513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is designed to help you understand how your unit fits into the “big picture” and focus your work into overall efforts, especially at Wing level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641-FE83-4F56-A09B-460BD9BD91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how their unit impacts CAP on a large sc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how their unit’s unique talents and qualities make them special to the larger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 to determine their unit’s special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 how to blend their efforts into the Wing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919-87B8-470F-90C0-99AB099D31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Your unit has a special part of CAP’s total commitment to its three missions.  You are where “the rubber meets the road”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6D8-EDF7-4949-8677-5D4B0D3A54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 has three missions chartered to it by Congr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fulfills these by working through its echelons a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quad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FA3-1231-4669-B818-F9B97D5E63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en CAP takes on a mission it looks to uni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can best accomplish the jo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minimum amount of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st econom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the least ris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569-58A6-4455-B875-97FB35F349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termined 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ographic 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ze of the activity to be suppor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t’s particular area of expert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B7F6-DB87-425E-9EDC-47EA78A7FF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quadrons contribute to other units’ effectiveness 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bining similar eff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ibuting unique but needed efforts to the total mi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860-36CB-494A-AD20-9C451563C8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ou Can Best Contribute to the Effort 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entrating on your strong p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ening the impact of your weakne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ing outside the unit (Looking at the big pictur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lking to other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ing your priorities compatible with accomplishing the total 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C1E-B34E-425A-BB60-DF98AE28E2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9-07-12T13:20:51Z</cp:lastPrinted>
  <dcterms:modified xsi:type="dcterms:W3CDTF">1999-07-12T21:35:07Z</dcterms:modified>
  <cp:revision>22</cp:revision>
  <dc:subject/>
  <dc:title>Unit Commander's Course Your Role in the Missions</dc:title>
</cp:coreProperties>
</file>