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B37-3EA9-4AC8-9EA8-B5CAD3B1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AE7-FA1C-4B0A-BC7B-AF4E308A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F77-6195-41FF-9E85-DD3A45EC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799-0624-407F-B294-48E075C7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4BA7-FF19-4DE4-97A5-149F085F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A7A5-4894-47BE-A633-6DAF4AD4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DC84-2EDE-47ED-B683-CACBC8D0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502E-A674-4A15-BB7F-55B1A6BC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A4E3-7956-4070-B027-A7BFE616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32D8-0471-4A2A-AECE-BFFC1FC8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BCD1-9E40-412D-B699-0BF94E9F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94B-5C52-4A48-82F4-6B4BB83F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098D-5C23-49E6-A3D0-723B078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7CF1-5E27-44CB-AC6A-4677A3B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31C1-79EF-48DC-9A4E-E49D15B0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5E13-77CC-41AC-B0CD-A9641252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0BBB-76C6-4440-A806-6BC3E1FF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E02-4CB9-440A-AF3F-1BA822C3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4F5-96DF-4826-BA24-2EF6708B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E59-6A1D-4F7A-AD3B-4628E775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584-29FF-418E-9ABC-DB4F0718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E08-9E95-4BC2-95FF-2522DC8A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E34-F392-43B9-BD04-A44BE33B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86B-BE8B-42D6-AFBE-455ABE7E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25DC-CC55-45B8-A760-B351FB7E3DD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6044-F8B6-4A61-9DA2-967282934A8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124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 training def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unit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ting individual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ive training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 training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al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, Wing, Region, and National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ment of com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967-F738-4442-B985-3638799511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I correspondence cour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pgrade training for individual achie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15E-C84A-4F85-B974-A913AEBB75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ssive Training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vision exists in passive training but is not as di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 who participate may choose their own personal objectives, focus, and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40C-0D08-43A8-B8A5-92494A4DCC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ve Training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programs which require support from people and organizations outside of the individual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group efforts, more than one student particip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549-D87F-43DA-8A4B-432B04B416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ght cli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 rocketry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field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-the-job training (senior member specialty training, cadet leadership training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3A1-82ED-43AA-B833-F4C8B2D974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ve Training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-the-job training is an 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active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training progr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ers to the learning environment of the student, not the level of outside support or i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6C0-2FD8-4909-A712-09450DA9DC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n-the-job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is task-b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in the 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senior members, is the ideal way of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0FC-AE98-4A00-AE25-A0077357EC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upervisor responsibil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ting a plan of action and objectives for the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ing the skills to the student in the work setting (having the student do as much as possi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ing immediate feedback to the student throughout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A83-70C1-433A-B588-86027A963C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inual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our programs must be constantly on the move, changing as the unit’s mission, skill level, and needs chang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0DF-A9E5-476C-839C-03C8A2DBB9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68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should you train your people f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ain them to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the CAP program as a wh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 the jobs necessary to effectively run th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ce their professional and personal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B03-7C75-4C2A-ABAD-A6D5F1D622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do you have time to tr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reate time by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legating training planning and tasking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training time into your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edules provide a ready-made matr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use the matr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60DD-00ED-4940-A1BD-E4422D34CE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will discuss the importance and formulation of effective unit training programs.  It also explains the different approaches to unit training and CAP schools which augment unit train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4E3-6410-4308-AD8D-BDBEE1B5BE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oup, Wing, Region, and National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ose programs which require more resources than any one unit h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ose programs requiring a broader found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s mandated to be administered at a higher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CE7-046E-434D-A4F8-12B51014A6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oup, Wing, Region, and National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programs are CAP-wide programs which are administered at lower levels of com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are designed and administered entirely by that echel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490-95E2-416A-BF20-EB0FFE2F78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The common thread through all CAP training programs is commitmen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For the unit, it must begin with the command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228-AF80-4FAD-9ACC-7EEFDE82E3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-Commanders-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tinue your own training, set the examp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Leadership in CAP really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es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 from the top dow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55A-C59D-4B9E-9760-DCB95AF835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AE6-EE3E-4B73-A969-EC5A6BA254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2388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able to define unit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 the difference between active and passive training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 the importance of continual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now how to utilize a meeting schedule when planning their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see where group. wing, region, and national schools fit into their individual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 why the command must be a strong advocate and participant in unit training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DAC-1E54-43C1-B460-3D845349E7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nit training programs are the heart of CAP training.  It is at the unit level where the “rubber meets the road”.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B6A-DE16-4127-8BB5-C6E6489B2D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it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fined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An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activity which enhances the capability and/or readiness of the unit through the practice or acquisition of new skill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2BE-CF2E-4F63-9981-3122DEC6D7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ffective Unit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ou need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lan for training in the areas desi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 responsible for carrying out the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ffective support structure to ensure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488-57E8-48DC-B457-6F48EF20CD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8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deas for </a:t>
            </a:r>
            <a:r>
              <a:rPr b="1" i="1" lang="en-US" sz="3000" spc="-1" strike="noStrike">
                <a:solidFill>
                  <a:srgbClr val="ffffff"/>
                </a:solidFill>
                <a:latin typeface="Tahoma"/>
              </a:rPr>
              <a:t>Spice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in Unit Trai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est spea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 training with other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nsor or participate in a SAR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eaching aids such as: view-graphs, videos, films, and audio ta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other people help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ther than CAP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161-22B1-4568-9AB3-0E3A0FED7A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grating Individual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raft individual training functions to meet the overall training needs of the 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dividual member trai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sk Trai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oup trai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20D-EF47-419D-BC15-F2FCFFCEDA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ssive Training Progra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rely on much outside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s heavily on individual motivation and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for members with a thorough basic knowledge of subject matter, or to instruct about uncomplicated ta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962-7037-41FB-87BC-4DC3CE323E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8-11-24T15:26:00Z</cp:lastPrinted>
  <dcterms:modified xsi:type="dcterms:W3CDTF">1999-06-09T15:28:45Z</dcterms:modified>
  <cp:revision>34</cp:revision>
  <dc:subject/>
  <dc:title>Unit Commander's Course Unit Training Programs</dc:title>
</cp:coreProperties>
</file>