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28E-057B-4964-A177-7693E7AC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E8E-9563-4BBE-AE7B-E4C67495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B78-FB97-4107-99CC-130B5DEB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E44-8700-4595-94E0-6537783C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7378-ACEC-4D0B-A2FE-4A919BA0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F4BB-296A-4B2A-B4E9-E7F72B86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E691-1A33-4FD4-8B89-182CFE7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D35-98F1-45D8-B1D8-67BC7A4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29D-51B4-4021-9C15-0EEBB62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E47C-39CD-4215-9E51-5535775E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800-B90B-476D-9F21-FA02489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FE8-0FF3-44C9-A912-F869B02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9BD6-661D-49A1-9259-FBC832F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8F0-C3AA-417F-AB29-6C40090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A0C-B88C-4226-9F75-ACCFAD1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80C0-4205-4AEB-AB4E-7962CEC3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BC4-05C6-4F1F-95B3-9A1F3A1F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9F1-BA98-46CE-91E1-53FCB05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EC4-E939-4DA3-AE5E-32AEFAF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1AC-1BB0-4289-B586-950D38EA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67A-043D-4C01-97DC-E374E10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C88-05DE-45F6-96C8-471EA34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6E9-A391-44EA-BEB0-60179C1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36F-5AA7-4F91-B5C1-75ADE32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A9A6-AB4E-4D1C-A1C0-47B9FF83F2E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9A19-102D-4699-920E-27688570E54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def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Mistake”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 of mis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l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79B-A9AE-4BFD-96EC-A3D87D7F80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hand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cha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Legal Officer/Director of Perso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dir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R 35-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 CAPM 39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R 35-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 CAPM 60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4D2-3A2E-4BF7-BE65-664CEE26A6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verse Member Action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s of repri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sion of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sion of flying privi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renew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8BD-B513-44D4-AE60-BD0211030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with Title 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 Act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911-7D98-4D54-BF45-313D40D74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ander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morandums for rec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tt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 lo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ms, etc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86-559C-46B2-A973-B95ECBEA8C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s a picture of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rves du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member, commander, and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ssent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proces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977-9D69-4F0E-95DE-7A679F0EC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F01-A61D-4DE8-ABFA-B0B9C748C0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introduce you to the CAP Adverse Member Actions program and shows you the tools available to you in handling difficult personnel issu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C9B-147F-41AA-948F-9E412BBE4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adverse member acti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common member disciplinary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ools and resources you may use to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A71-0335-4ABD-B5C7-B486BF5C7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dverse member actions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commander’s responsibility concerning nondiscrimination in adverse member 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why documentation is necessary to the adverse member actions proces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DCB-3903-4C79-BD2A-22C082F26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’s Adverse Member Actions program gives you the tools you needs to navigate through difficult personnel 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C4C-2B00-4727-AEA5-9C4987360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verse member actions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encompasses disciplinary actions against members for improper conduct.  They 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n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enew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hip termin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209-8D12-4071-8AA3-F8203C69D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e Mistak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075-EF11-49BA-A0E9-19FC35C133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ypes of Probl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uniform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ment relation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mentative, insubordinate, or disruptive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ping the chain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checks/financial ir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 protection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EF9-C379-4053-9F24-F53466959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ypes of Probl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-cutting training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tly late on paperwork deadlines and substandard work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udulent information on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ctive skills (safety haz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egal behavior (reported or actu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al mis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CB9-AF42-4530-87FD-1A6F9328D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1999-07-11T08:19:51Z</dcterms:modified>
  <cp:revision>25</cp:revision>
  <dc:subject/>
  <dc:title>Unit Commander's Course Your Role in the Missions</dc:title>
</cp:coreProperties>
</file>