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C04-6EDC-49CD-9F5E-9E0E6911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D60-6D2C-4077-958D-E9175DD3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3DC-9C44-4E9F-9166-82C41CC1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206-FCB0-4A1F-84D8-3115CDB6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078-6535-48AC-9F7E-41F8FD8F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F59-ACAE-4B08-A582-FE4CF913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CEC-3675-49C5-8583-1A8AFC99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479-DA51-4CA6-A33D-B24BC7DF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7DF-3232-4AEB-A2F9-0AADC9A3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300-BE68-4734-ABA8-C39583C9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248-2584-4DC3-9097-0F36547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80E-877A-4492-A7A5-0C21A36A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EBA3-6FD9-47B2-95E8-7F1F84CE3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457200"/>
            <a:ext cx="2286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pplet3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981080"/>
            <a:ext cx="20574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that wa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581280"/>
            <a:ext cx="221004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with a ski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t waves 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23623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that wa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hand really hig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28195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pping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that wa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my han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37339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la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girl pers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cane that wa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6" idx="1"/>
            <a:endCxn id="41" idx="2"/>
          </p:cNvCxnSpPr>
          <p:nvPr/>
        </p:nvCxnSpPr>
        <p:spPr>
          <a:xfrm rot="10800000">
            <a:off x="3733920" y="1371240"/>
            <a:ext cx="3124440" cy="289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5" idx="1"/>
            <a:endCxn id="41" idx="2"/>
          </p:cNvCxnSpPr>
          <p:nvPr/>
        </p:nvCxnSpPr>
        <p:spPr>
          <a:xfrm rot="10800000">
            <a:off x="3733560" y="1371240"/>
            <a:ext cx="609840" cy="1981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0"/>
            <a:endCxn id="41" idx="2"/>
          </p:cNvCxnSpPr>
          <p:nvPr/>
        </p:nvCxnSpPr>
        <p:spPr>
          <a:xfrm flipV="1" rot="16200000">
            <a:off x="5314680" y="-209520"/>
            <a:ext cx="991080" cy="4152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2" idx="3"/>
            <a:endCxn id="41" idx="2"/>
          </p:cNvCxnSpPr>
          <p:nvPr/>
        </p:nvCxnSpPr>
        <p:spPr>
          <a:xfrm flipV="1">
            <a:off x="2362320" y="1371600"/>
            <a:ext cx="1371960" cy="114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1" idx="2"/>
          </p:cNvCxnSpPr>
          <p:nvPr/>
        </p:nvCxnSpPr>
        <p:spPr>
          <a:xfrm flipV="1">
            <a:off x="2590920" y="1371600"/>
            <a:ext cx="1143360" cy="2743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095880" y="0"/>
            <a:ext cx="2743200" cy="1523880"/>
          </a:xfrm>
          <a:prstGeom prst="cloudCallout">
            <a:avLst>
              <a:gd name="adj1" fmla="val -84259"/>
              <a:gd name="adj2" fmla="val 303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want to create persons that can draw themsel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C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105520"/>
            <a:ext cx="60958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f the persons in PersonApplet3da need to hav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ollowing methods: draw(), act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they are all stored in a single Person arr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457200"/>
            <a:ext cx="2286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s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81080"/>
            <a:ext cx="20574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that wa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581280"/>
            <a:ext cx="221004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with a ski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t waves 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23623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Square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square that grow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8195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Circle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circle that grow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733920"/>
            <a:ext cx="213372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Square2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square like grow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 to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1"/>
            <a:endCxn id="54" idx="2"/>
          </p:cNvCxnSpPr>
          <p:nvPr/>
        </p:nvCxnSpPr>
        <p:spPr>
          <a:xfrm rot="10800000">
            <a:off x="3733200" y="1370880"/>
            <a:ext cx="3048480" cy="289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8" idx="1"/>
            <a:endCxn id="54" idx="2"/>
          </p:cNvCxnSpPr>
          <p:nvPr/>
        </p:nvCxnSpPr>
        <p:spPr>
          <a:xfrm rot="10800000">
            <a:off x="3733200" y="1370880"/>
            <a:ext cx="610200" cy="1981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7" idx="0"/>
            <a:endCxn id="54" idx="2"/>
          </p:cNvCxnSpPr>
          <p:nvPr/>
        </p:nvCxnSpPr>
        <p:spPr>
          <a:xfrm flipV="1" rot="16200000">
            <a:off x="5314680" y="-210240"/>
            <a:ext cx="991440" cy="41536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5" idx="3"/>
            <a:endCxn id="54" idx="2"/>
          </p:cNvCxnSpPr>
          <p:nvPr/>
        </p:nvCxnSpPr>
        <p:spPr>
          <a:xfrm flipV="1">
            <a:off x="2362320" y="1370880"/>
            <a:ext cx="137232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6" idx="3"/>
            <a:endCxn id="54" idx="2"/>
          </p:cNvCxnSpPr>
          <p:nvPr/>
        </p:nvCxnSpPr>
        <p:spPr>
          <a:xfrm flipV="1">
            <a:off x="2590560" y="1371240"/>
            <a:ext cx="1143720" cy="274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6095880" y="0"/>
            <a:ext cx="2743200" cy="1523880"/>
          </a:xfrm>
          <a:prstGeom prst="cloudCallout">
            <a:avLst>
              <a:gd name="adj1" fmla="val -84259"/>
              <a:gd name="adj2" fmla="val 303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want to create shapes that can draw themsel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C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105520"/>
            <a:ext cx="60958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f the shapes in ShapesApplet need to hav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ollowing methods: draw(), act(), getX(), getY(), et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we ensure that all of them will have these method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array do we store them 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457200"/>
            <a:ext cx="2286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s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981080"/>
            <a:ext cx="20574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that wa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581280"/>
            <a:ext cx="221004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with a ski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t waves 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23623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Square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square that grow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8195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Circle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circle that grow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3733920"/>
            <a:ext cx="213372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Square2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square like grow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 to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1"/>
            <a:endCxn id="67" idx="2"/>
          </p:cNvCxnSpPr>
          <p:nvPr/>
        </p:nvCxnSpPr>
        <p:spPr>
          <a:xfrm rot="10800000">
            <a:off x="3733200" y="1370880"/>
            <a:ext cx="3048480" cy="289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1" idx="1"/>
            <a:endCxn id="67" idx="2"/>
          </p:cNvCxnSpPr>
          <p:nvPr/>
        </p:nvCxnSpPr>
        <p:spPr>
          <a:xfrm rot="10800000">
            <a:off x="3733200" y="1370880"/>
            <a:ext cx="610200" cy="1981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0"/>
            <a:endCxn id="67" idx="2"/>
          </p:cNvCxnSpPr>
          <p:nvPr/>
        </p:nvCxnSpPr>
        <p:spPr>
          <a:xfrm flipV="1" rot="16200000">
            <a:off x="5314680" y="-210240"/>
            <a:ext cx="991440" cy="41536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67" idx="2"/>
          </p:cNvCxnSpPr>
          <p:nvPr/>
        </p:nvCxnSpPr>
        <p:spPr>
          <a:xfrm flipV="1">
            <a:off x="2362320" y="1370880"/>
            <a:ext cx="137232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9" idx="3"/>
            <a:endCxn id="67" idx="2"/>
          </p:cNvCxnSpPr>
          <p:nvPr/>
        </p:nvCxnSpPr>
        <p:spPr>
          <a:xfrm flipV="1">
            <a:off x="2590560" y="1371240"/>
            <a:ext cx="1143720" cy="274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095880" y="0"/>
            <a:ext cx="2743200" cy="1523880"/>
          </a:xfrm>
          <a:prstGeom prst="cloudCallout">
            <a:avLst>
              <a:gd name="adj1" fmla="val -84259"/>
              <a:gd name="adj2" fmla="val 303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want to create shapes that can draw themsel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AC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5105520"/>
            <a:ext cx="60958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f the shapes in ShapesApplet need to hav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ollowing methods: draw(), act(), getX(), getY(), et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we ensure that all of them will have these method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array do we store them 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4952880"/>
            <a:ext cx="2362320" cy="914400"/>
          </a:xfrm>
          <a:prstGeom prst="cloudCallout">
            <a:avLst>
              <a:gd name="adj1" fmla="val -58870"/>
              <a:gd name="adj2" fmla="val 39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30492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ic Outline of Shap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2193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014480"/>
            <a:ext cx="2759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ublic class </a:t>
            </a:r>
            <a:r>
              <a:rPr b="0" lang="en-US" sz="1800" spc="-1" strike="noStrike">
                <a:solidFill>
                  <a:srgbClr val="3333cc"/>
                </a:solidFill>
                <a:latin typeface="Arial Unicode MS"/>
              </a:rPr>
              <a:t>DancingCirc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implements ActingSh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Circle(…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XY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X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Y()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aw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ode on how to draw a circle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c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de on changing parameters of the circ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990720"/>
            <a:ext cx="2759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ublic class </a:t>
            </a:r>
            <a:r>
              <a:rPr b="0" lang="en-US" sz="1800" spc="-1" strike="noStrike">
                <a:solidFill>
                  <a:srgbClr val="3333cc"/>
                </a:solidFill>
                <a:latin typeface="Arial Unicode MS"/>
              </a:rPr>
              <a:t>DancingSquar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implements ActingSh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Square(…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XY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X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Y()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aw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ode on how to draw a circle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c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de on changing parameters of the circ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426708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1066680"/>
            <a:ext cx="12193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609480"/>
            <a:ext cx="2286000" cy="1067040"/>
          </a:xfrm>
          <a:prstGeom prst="cloudCallout">
            <a:avLst>
              <a:gd name="adj1" fmla="val -41666"/>
              <a:gd name="adj2" fmla="val 686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implement Acting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743200"/>
            <a:ext cx="2362320" cy="1219320"/>
          </a:xfrm>
          <a:prstGeom prst="cloudCallout">
            <a:avLst>
              <a:gd name="adj1" fmla="val 41935"/>
              <a:gd name="adj2" fmla="val 678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implement ActingShape TO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2193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914400"/>
            <a:ext cx="275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ublic class </a:t>
            </a:r>
            <a:r>
              <a:rPr b="0" lang="en-US" sz="1800" spc="-1" strike="noStrike">
                <a:solidFill>
                  <a:srgbClr val="3333cc"/>
                </a:solidFill>
                <a:latin typeface="Arial Unicode MS"/>
              </a:rPr>
              <a:t>Squ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(…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XY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X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Y()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aw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ode on how to draw a circ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914400"/>
            <a:ext cx="40384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ublic class </a:t>
            </a:r>
            <a:r>
              <a:rPr b="0" lang="en-US" sz="1800" spc="-1" strike="noStrike">
                <a:solidFill>
                  <a:srgbClr val="3333cc"/>
                </a:solidFill>
                <a:latin typeface="Arial Unicode MS"/>
              </a:rPr>
              <a:t>DancingSquare2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xtends Square implements ActingShape 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(…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methods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ct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ode that changes the parameters of the squ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334120"/>
            <a:ext cx="9907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4038480"/>
            <a:ext cx="3657600" cy="1828800"/>
          </a:xfrm>
          <a:prstGeom prst="cloudCallout">
            <a:avLst>
              <a:gd name="adj1" fmla="val -78125"/>
              <a:gd name="adj2" fmla="val 48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inherit my “square-ness” from class Square and implement Acting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0492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ic Outline of Shap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personapplet3da and try to create a “kick” action which makes the person move his right foot when you click a “kick” button while maintaining the waving feature when you click the “mov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your own acting shape. Eg. Stars, Triang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3:06:33Z</dcterms:created>
  <dc:creator>Ronald Abigan</dc:creator>
  <dc:description/>
  <dc:language>en-US</dc:language>
  <cp:lastModifiedBy>Ronald Abigan</cp:lastModifiedBy>
  <dcterms:modified xsi:type="dcterms:W3CDTF">2003-01-06T13:49:41Z</dcterms:modified>
  <cp:revision>3</cp:revision>
  <dc:subject/>
  <dc:title>PowerPoint Presentation</dc:title>
</cp:coreProperties>
</file>