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58920" y="0"/>
            <a:ext cx="3252960" cy="6845760"/>
            <a:chOff x="358920" y="0"/>
            <a:chExt cx="3252960" cy="6845760"/>
          </a:xfrm>
        </p:grpSpPr>
        <p:grpSp>
          <p:nvGrpSpPr>
            <p:cNvPr id="1" name=""/>
            <p:cNvGrpSpPr/>
            <p:nvPr/>
          </p:nvGrpSpPr>
          <p:grpSpPr>
            <a:xfrm>
              <a:off x="422280" y="9360"/>
              <a:ext cx="3189600" cy="6836040"/>
              <a:chOff x="422280" y="9360"/>
              <a:chExt cx="318960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644480" y="13780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093760" y="996840"/>
                <a:ext cx="22320" cy="255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2320" y="936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84240" y="6734160"/>
                <a:ext cx="87480" cy="666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076560" y="460440"/>
                <a:ext cx="73080" cy="824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22280" y="2890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971640" y="123840"/>
                <a:ext cx="88920" cy="633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39720" y="44280"/>
                <a:ext cx="84240" cy="954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309680" y="6676920"/>
                <a:ext cx="85680" cy="666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57328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784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697120" y="6676920"/>
                <a:ext cx="87480" cy="666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384120" y="0"/>
              <a:ext cx="2976480" cy="6845760"/>
              <a:chOff x="384120" y="0"/>
              <a:chExt cx="2976480" cy="6845760"/>
            </a:xfrm>
          </p:grpSpPr>
          <p:sp>
            <p:nvSpPr>
              <p:cNvPr id="15" name=""/>
              <p:cNvSpPr/>
              <p:nvPr/>
            </p:nvSpPr>
            <p:spPr>
              <a:xfrm>
                <a:off x="2039760" y="16002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332000" y="1168560"/>
                <a:ext cx="84240" cy="95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279600" y="307800"/>
                <a:ext cx="81000" cy="936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351080" y="162396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941400" y="6426360"/>
                <a:ext cx="8568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77960" y="1695600"/>
                <a:ext cx="8748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592200" y="1449360"/>
                <a:ext cx="22320" cy="651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319040" y="24624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84200" y="673200"/>
                <a:ext cx="88920" cy="651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74720" y="0"/>
                <a:ext cx="88920" cy="651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335320" y="1206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084400" y="596880"/>
                <a:ext cx="84240" cy="95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66720" y="6635880"/>
                <a:ext cx="8748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820880" y="6654960"/>
                <a:ext cx="8748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680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84120" y="3595680"/>
                <a:ext cx="4932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955960" y="6635880"/>
                <a:ext cx="8568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358920" y="73080"/>
              <a:ext cx="2789640" cy="6772680"/>
              <a:chOff x="358920" y="73080"/>
              <a:chExt cx="2789640" cy="6772680"/>
            </a:xfrm>
          </p:grpSpPr>
          <p:sp>
            <p:nvSpPr>
              <p:cNvPr id="33" name=""/>
              <p:cNvSpPr/>
              <p:nvPr/>
            </p:nvSpPr>
            <p:spPr>
              <a:xfrm>
                <a:off x="2238480" y="120492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13040" y="969840"/>
                <a:ext cx="88920" cy="6660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279520" y="787320"/>
                <a:ext cx="34920" cy="3816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839960" y="10922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8240" y="2516040"/>
                <a:ext cx="82800" cy="92520"/>
              </a:xfrm>
              <a:custGeom>
                <a:avLst/>
                <a:gdLst/>
                <a:ahLst/>
                <a:rect l="0" t="0" r="r" b="b"/>
                <a:pathLst>
                  <a:path w="230" h="257">
                    <a:moveTo>
                      <a:pt x="114" y="257"/>
                    </a:moveTo>
                    <a:lnTo>
                      <a:pt x="230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7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689120" y="1746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1127160" y="1825560"/>
                <a:ext cx="84600" cy="70200"/>
              </a:xfrm>
              <a:custGeom>
                <a:avLst/>
                <a:gdLst/>
                <a:ahLst/>
                <a:rect l="0" t="0" r="r" b="b"/>
                <a:pathLst>
                  <a:path w="235" h="195">
                    <a:moveTo>
                      <a:pt x="117" y="195"/>
                    </a:moveTo>
                    <a:lnTo>
                      <a:pt x="235" y="98"/>
                    </a:lnTo>
                    <a:lnTo>
                      <a:pt x="117" y="0"/>
                    </a:lnTo>
                    <a:lnTo>
                      <a:pt x="0" y="98"/>
                    </a:lnTo>
                    <a:lnTo>
                      <a:pt x="117" y="195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98320" y="387360"/>
                <a:ext cx="88920" cy="6516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019160" y="390600"/>
                <a:ext cx="38160" cy="2700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959120" y="632160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50880" y="1429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20760" y="730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108080" y="124920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60400" y="142704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68280" y="6271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470320" y="463680"/>
                <a:ext cx="34920" cy="3816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792520" y="311040"/>
                <a:ext cx="84240" cy="9540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09720" y="3110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81160" y="349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63800" y="59691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403280" y="67118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7472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58920" y="67546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33640" y="667368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004840" y="6734160"/>
                <a:ext cx="116280" cy="111600"/>
              </a:xfrm>
              <a:custGeom>
                <a:avLst/>
                <a:gdLst/>
                <a:ahLst/>
                <a:rect l="0" t="0" r="r" b="b"/>
                <a:pathLst>
                  <a:path w="323" h="310">
                    <a:moveTo>
                      <a:pt x="161" y="310"/>
                    </a:moveTo>
                    <a:lnTo>
                      <a:pt x="323" y="155"/>
                    </a:lnTo>
                    <a:lnTo>
                      <a:pt x="161" y="0"/>
                    </a:lnTo>
                    <a:lnTo>
                      <a:pt x="0" y="155"/>
                    </a:lnTo>
                    <a:lnTo>
                      <a:pt x="161" y="31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66920" y="675000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12920" y="655632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55560" y="6599160"/>
                <a:ext cx="114840" cy="93960"/>
              </a:xfrm>
              <a:custGeom>
                <a:avLst/>
                <a:gdLst/>
                <a:ahLst/>
                <a:rect l="0" t="0" r="r" b="b"/>
                <a:pathLst>
                  <a:path w="319" h="261">
                    <a:moveTo>
                      <a:pt x="159" y="261"/>
                    </a:moveTo>
                    <a:lnTo>
                      <a:pt x="319" y="131"/>
                    </a:lnTo>
                    <a:lnTo>
                      <a:pt x="159" y="0"/>
                    </a:lnTo>
                    <a:lnTo>
                      <a:pt x="0" y="131"/>
                    </a:lnTo>
                    <a:lnTo>
                      <a:pt x="159" y="26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92520" y="67118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06396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21080" y="66736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9720" y="1368360"/>
                <a:ext cx="86040" cy="70200"/>
              </a:xfrm>
              <a:custGeom>
                <a:avLst/>
                <a:gdLst/>
                <a:ahLst/>
                <a:rect l="0" t="0" r="r" b="b"/>
                <a:pathLst>
                  <a:path w="239" h="195">
                    <a:moveTo>
                      <a:pt x="120" y="195"/>
                    </a:moveTo>
                    <a:lnTo>
                      <a:pt x="239" y="98"/>
                    </a:lnTo>
                    <a:lnTo>
                      <a:pt x="120" y="0"/>
                    </a:lnTo>
                    <a:lnTo>
                      <a:pt x="0" y="98"/>
                    </a:lnTo>
                    <a:lnTo>
                      <a:pt x="120" y="195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53960" y="25560"/>
              <a:ext cx="2305440" cy="6791760"/>
              <a:chOff x="453960" y="25560"/>
              <a:chExt cx="2305440" cy="6791760"/>
            </a:xfrm>
          </p:grpSpPr>
          <p:sp>
            <p:nvSpPr>
              <p:cNvPr id="66" name=""/>
              <p:cNvSpPr/>
              <p:nvPr/>
            </p:nvSpPr>
            <p:spPr>
              <a:xfrm>
                <a:off x="1101600" y="1492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67080" y="939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49320" y="2852640"/>
                <a:ext cx="81000" cy="936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6400" y="305928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3960" y="2046240"/>
                <a:ext cx="84240" cy="666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301840" y="3175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33400" y="701640"/>
                <a:ext cx="87480" cy="633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8720" y="24912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71640" y="97164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9236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5752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79400" y="601992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003320" y="6743880"/>
                <a:ext cx="79560" cy="73440"/>
              </a:xfrm>
              <a:custGeom>
                <a:avLst/>
                <a:gdLst/>
                <a:ahLst/>
                <a:rect l="0" t="0" r="r" b="b"/>
                <a:pathLst>
                  <a:path w="221" h="204">
                    <a:moveTo>
                      <a:pt x="111" y="204"/>
                    </a:moveTo>
                    <a:lnTo>
                      <a:pt x="221" y="102"/>
                    </a:lnTo>
                    <a:lnTo>
                      <a:pt x="111" y="0"/>
                    </a:lnTo>
                    <a:lnTo>
                      <a:pt x="0" y="102"/>
                    </a:lnTo>
                    <a:lnTo>
                      <a:pt x="111" y="20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0360" y="54864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90640" y="25560"/>
                <a:ext cx="68760" cy="76680"/>
              </a:xfrm>
              <a:custGeom>
                <a:avLst/>
                <a:gdLst/>
                <a:ahLst/>
                <a:rect l="0" t="0" r="r" b="b"/>
                <a:pathLst>
                  <a:path w="191" h="213">
                    <a:moveTo>
                      <a:pt x="95" y="213"/>
                    </a:moveTo>
                    <a:lnTo>
                      <a:pt x="191" y="106"/>
                    </a:lnTo>
                    <a:lnTo>
                      <a:pt x="95" y="0"/>
                    </a:lnTo>
                    <a:lnTo>
                      <a:pt x="0" y="106"/>
                    </a:lnTo>
                    <a:lnTo>
                      <a:pt x="95" y="213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1960" y="63342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25680" y="6496200"/>
                <a:ext cx="79560" cy="92520"/>
              </a:xfrm>
              <a:custGeom>
                <a:avLst/>
                <a:gdLst/>
                <a:ahLst/>
                <a:rect l="0" t="0" r="r" b="b"/>
                <a:pathLst>
                  <a:path w="221" h="257">
                    <a:moveTo>
                      <a:pt x="111" y="257"/>
                    </a:moveTo>
                    <a:lnTo>
                      <a:pt x="221" y="128"/>
                    </a:lnTo>
                    <a:lnTo>
                      <a:pt x="111" y="0"/>
                    </a:lnTo>
                    <a:lnTo>
                      <a:pt x="0" y="128"/>
                    </a:lnTo>
                    <a:lnTo>
                      <a:pt x="111" y="25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71440" y="659124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47840" y="82440"/>
              <a:ext cx="2856240" cy="6763320"/>
              <a:chOff x="447840" y="82440"/>
              <a:chExt cx="2856240" cy="6763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455760" y="82440"/>
                <a:ext cx="2725920" cy="6698160"/>
                <a:chOff x="455760" y="82440"/>
                <a:chExt cx="2725920" cy="6698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79480" y="3606840"/>
                  <a:ext cx="81360" cy="93960"/>
                </a:xfrm>
                <a:custGeom>
                  <a:avLst/>
                  <a:gdLst/>
                  <a:ahLst/>
                  <a:rect l="0" t="0" r="r" b="b"/>
                  <a:pathLst>
                    <a:path w="226" h="261">
                      <a:moveTo>
                        <a:pt x="113" y="261"/>
                      </a:moveTo>
                      <a:lnTo>
                        <a:pt x="226" y="131"/>
                      </a:lnTo>
                      <a:lnTo>
                        <a:pt x="113" y="0"/>
                      </a:lnTo>
                      <a:lnTo>
                        <a:pt x="0" y="131"/>
                      </a:lnTo>
                      <a:lnTo>
                        <a:pt x="113" y="26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3280" y="4427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163520" y="784080"/>
                  <a:ext cx="88920" cy="6516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5760" y="993600"/>
                  <a:ext cx="89280" cy="63720"/>
                </a:xfrm>
                <a:custGeom>
                  <a:avLst/>
                  <a:gdLst/>
                  <a:ahLst/>
                  <a:rect l="0" t="0" r="r" b="b"/>
                  <a:pathLst>
                    <a:path w="248" h="177">
                      <a:moveTo>
                        <a:pt x="124" y="177"/>
                      </a:moveTo>
                      <a:lnTo>
                        <a:pt x="248" y="89"/>
                      </a:lnTo>
                      <a:lnTo>
                        <a:pt x="124" y="0"/>
                      </a:lnTo>
                      <a:lnTo>
                        <a:pt x="0" y="89"/>
                      </a:lnTo>
                      <a:lnTo>
                        <a:pt x="124" y="17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488960" y="349200"/>
                  <a:ext cx="84240" cy="954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63960" y="8244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708200" y="6445080"/>
                  <a:ext cx="86040" cy="95760"/>
                </a:xfrm>
                <a:custGeom>
                  <a:avLst/>
                  <a:gdLst/>
                  <a:ahLst/>
                  <a:rect l="0" t="0" r="r" b="b"/>
                  <a:pathLst>
                    <a:path w="239" h="266">
                      <a:moveTo>
                        <a:pt x="120" y="266"/>
                      </a:moveTo>
                      <a:lnTo>
                        <a:pt x="239" y="133"/>
                      </a:lnTo>
                      <a:lnTo>
                        <a:pt x="120" y="0"/>
                      </a:lnTo>
                      <a:lnTo>
                        <a:pt x="0" y="133"/>
                      </a:lnTo>
                      <a:lnTo>
                        <a:pt x="120" y="26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416320" y="6713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680" y="6642000"/>
                  <a:ext cx="52920" cy="105120"/>
                </a:xfrm>
                <a:custGeom>
                  <a:avLst/>
                  <a:gdLst/>
                  <a:ahLst/>
                  <a:rect l="0" t="0" r="r" b="b"/>
                  <a:pathLst>
                    <a:path w="147" h="292">
                      <a:moveTo>
                        <a:pt x="73" y="292"/>
                      </a:moveTo>
                      <a:lnTo>
                        <a:pt x="147" y="145"/>
                      </a:lnTo>
                      <a:lnTo>
                        <a:pt x="73" y="0"/>
                      </a:lnTo>
                      <a:lnTo>
                        <a:pt x="0" y="145"/>
                      </a:lnTo>
                      <a:lnTo>
                        <a:pt x="73" y="29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097080" y="644508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473120" y="631188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20720" y="1149480"/>
                <a:ext cx="88920" cy="666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9640" y="53640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27360" y="120600"/>
                <a:ext cx="50760" cy="572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743120" y="66927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09680" y="67518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7960" y="667872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74560" y="593568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7840" y="64929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1624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97120" y="67518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68280" y="25560"/>
              <a:ext cx="2625840" cy="6781680"/>
              <a:chOff x="36828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448000" y="1546200"/>
                <a:ext cx="73080" cy="824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44720" y="4192560"/>
                <a:ext cx="39600" cy="44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08200" y="326880"/>
                <a:ext cx="87480" cy="698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62040" y="18255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393920" y="6541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15960" y="6702480"/>
                <a:ext cx="88920" cy="6336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8280" y="61920"/>
                <a:ext cx="87480" cy="6516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17520" y="406440"/>
                <a:ext cx="84240" cy="954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1160" y="255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22280" y="6527880"/>
                <a:ext cx="55440" cy="666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44880" y="6735600"/>
                <a:ext cx="84240" cy="684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7120" y="6759720"/>
                <a:ext cx="74520" cy="475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0840" y="6264360"/>
                <a:ext cx="33480" cy="968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7440" y="6064200"/>
                <a:ext cx="22320" cy="730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905200" y="6702480"/>
                <a:ext cx="88920" cy="6336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09720" y="6527880"/>
                <a:ext cx="57240" cy="666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60600" y="993600"/>
                <a:ext cx="68400" cy="698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"/>
          <p:cNvSpPr txBox="1"/>
          <p:nvPr/>
        </p:nvSpPr>
        <p:spPr>
          <a:xfrm>
            <a:off x="404640" y="6485040"/>
            <a:ext cx="1517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,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85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368520" y="502920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mpany/other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00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 the desired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multiple points if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ustomer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00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 the needs of the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rm the audience’s needs if you are not 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eting the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00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st the products and features, and how each addresses a specific need or solves a specific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section may require multiple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s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00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int out financial benefits to the custo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are cost-benefits between you and your compet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62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962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ur Str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00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14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icle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er’s profile (IQ, race, religion, habits, economical status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ey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00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mmarize the key benefits provided by the product, service, or idea being promo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00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cify the actions required of you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smito Adibowo</dc:creator>
  <dc:description/>
  <dc:language>en-US</dc:language>
  <cp:lastModifiedBy>EDP Department</cp:lastModifiedBy>
  <cp:revision>0</cp:revision>
  <dc:subject>Misirest</dc:subject>
  <dc:title>Misirest's Advertisement Proposal</dc:title>
</cp:coreProperties>
</file>