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187-A5D6-4EA7-9217-7D27F2BA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3BF-C248-437D-ACCC-8582B064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DB5-6108-41D4-AED9-BCC6A544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3AF-820A-4B31-8490-FB03D846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40B-74D4-45BA-ACC0-70D727C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5A2-EF95-4617-AA35-6BC6FBD8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B56-CA42-49BB-880A-E6542FD3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0AB-14D5-406A-A4D5-5431D638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E27-6FF8-452B-807A-1EA68CF8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4BD-5E82-4C03-A50E-373881AB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DB2-45C2-4D36-A95A-D9D12211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749-04D2-49E7-AA4A-1ED9586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D064-4732-4A52-B74B-3519338B3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343320" y="4032360"/>
            <a:ext cx="458136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Capitulo III.I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1:El enfoque de la igual ignoran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3360" y="1757160"/>
            <a:ext cx="9931680" cy="61452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28440" y="2184120"/>
            <a:ext cx="5765760" cy="18288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...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895480" y="3875040"/>
            <a:ext cx="6677280" cy="2211120"/>
            <a:chOff x="2895480" y="3875040"/>
            <a:chExt cx="6677280" cy="2211120"/>
          </a:xfrm>
        </p:grpSpPr>
        <p:sp>
          <p:nvSpPr>
            <p:cNvPr id="496" name=""/>
            <p:cNvSpPr/>
            <p:nvPr/>
          </p:nvSpPr>
          <p:spPr>
            <a:xfrm flipV="1">
              <a:off x="2895480" y="4113720"/>
              <a:ext cx="6677280" cy="1971720"/>
            </a:xfrm>
            <a:prstGeom prst="roundRect">
              <a:avLst>
                <a:gd name="adj" fmla="val 4162"/>
              </a:avLst>
            </a:prstGeom>
            <a:solidFill>
              <a:srgbClr val="ffffff"/>
            </a:solidFill>
            <a:ln w="4752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4214880" y="3875040"/>
              <a:ext cx="3043080" cy="2160720"/>
              <a:chOff x="4214880" y="3875040"/>
              <a:chExt cx="3043080" cy="2160720"/>
            </a:xfrm>
          </p:grpSpPr>
          <p:sp>
            <p:nvSpPr>
              <p:cNvPr id="498" name=""/>
              <p:cNvSpPr/>
              <p:nvPr/>
            </p:nvSpPr>
            <p:spPr>
              <a:xfrm>
                <a:off x="5178600" y="4226040"/>
                <a:ext cx="483840" cy="10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6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473880" y="4384800"/>
                <a:ext cx="442800" cy="9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6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96240" y="4438800"/>
                <a:ext cx="261720" cy="54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214880" y="3875040"/>
                <a:ext cx="933480" cy="161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0" lang="en-US" sz="9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79920" y="5492880"/>
                <a:ext cx="263520" cy="54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97440" y="4827600"/>
                <a:ext cx="262080" cy="54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4" name=""/>
          <p:cNvSpPr/>
          <p:nvPr/>
        </p:nvSpPr>
        <p:spPr>
          <a:xfrm>
            <a:off x="187200" y="6327720"/>
            <a:ext cx="7051680" cy="1444680"/>
          </a:xfrm>
          <a:prstGeom prst="rect">
            <a:avLst/>
          </a:prstGeom>
          <a:solidFill>
            <a:srgbClr val="ffffc2"/>
          </a:solidFill>
          <a:ln w="316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El bienestar es la utilidad esperada de una “lotería de identidad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-228600" y="2057400"/>
            <a:ext cx="632448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1:El enfoque de la igual ignoran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3360" y="1371240"/>
            <a:ext cx="9931680" cy="65311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520" y="2143080"/>
            <a:ext cx="4573800" cy="2928960"/>
          </a:xfrm>
          <a:prstGeom prst="rect">
            <a:avLst/>
          </a:prstGeom>
          <a:solidFill>
            <a:srgbClr val="ffffc2"/>
          </a:solidFill>
          <a:ln w="316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Pero ¿deberíamos hacer el supuesto de igual ignoranc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716360" y="1948320"/>
            <a:ext cx="5224680" cy="51944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7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1337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07280" y="6680160"/>
            <a:ext cx="1470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dent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108400" y="2622240"/>
            <a:ext cx="0" cy="366084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16680" y="6318360"/>
            <a:ext cx="428760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308560" y="6178320"/>
            <a:ext cx="3724200" cy="118800"/>
            <a:chOff x="5308560" y="6178320"/>
            <a:chExt cx="3724200" cy="118800"/>
          </a:xfrm>
        </p:grpSpPr>
        <p:sp>
          <p:nvSpPr>
            <p:cNvPr id="515" name=""/>
            <p:cNvSpPr/>
            <p:nvPr/>
          </p:nvSpPr>
          <p:spPr>
            <a:xfrm flipV="1">
              <a:off x="5308560" y="6192360"/>
              <a:ext cx="0" cy="1047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5495760" y="6190920"/>
              <a:ext cx="0" cy="1047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5683320" y="6190920"/>
              <a:ext cx="0" cy="1047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5870520" y="6189840"/>
              <a:ext cx="0" cy="1029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6048360" y="6187680"/>
              <a:ext cx="0" cy="1033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6235560" y="6187680"/>
              <a:ext cx="0" cy="1047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426360" y="6189840"/>
              <a:ext cx="0" cy="1029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613560" y="6187680"/>
              <a:ext cx="0" cy="1033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800760" y="6187680"/>
              <a:ext cx="0" cy="1047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986520" y="6184440"/>
              <a:ext cx="0" cy="1047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165800" y="6183000"/>
              <a:ext cx="0" cy="1033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353360" y="6184440"/>
              <a:ext cx="0" cy="1033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7542360" y="6184440"/>
              <a:ext cx="0" cy="1047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729560" y="6183000"/>
              <a:ext cx="0" cy="1033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7916760" y="6184440"/>
              <a:ext cx="0" cy="1033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8102520" y="6181200"/>
              <a:ext cx="0" cy="1033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282160" y="6178320"/>
              <a:ext cx="0" cy="1047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8469360" y="6179760"/>
              <a:ext cx="0" cy="1033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8658360" y="6181200"/>
              <a:ext cx="0" cy="1033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8845560" y="6178320"/>
              <a:ext cx="0" cy="1047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9032760" y="6179760"/>
              <a:ext cx="0" cy="1033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256360" y="6454800"/>
            <a:ext cx="1047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52920" y="6453360"/>
            <a:ext cx="104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73600" y="6453360"/>
            <a:ext cx="104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95960" y="5562720"/>
            <a:ext cx="3740040" cy="753840"/>
          </a:xfrm>
          <a:custGeom>
            <a:avLst/>
            <a:gdLst/>
            <a:ahLst/>
            <a:rect l="l" t="t" r="r" b="b"/>
            <a:pathLst>
              <a:path w="2356" h="475">
                <a:moveTo>
                  <a:pt x="0" y="474"/>
                </a:moveTo>
                <a:lnTo>
                  <a:pt x="0" y="0"/>
                </a:lnTo>
                <a:lnTo>
                  <a:pt x="2355" y="1"/>
                </a:lnTo>
                <a:lnTo>
                  <a:pt x="2355" y="469"/>
                </a:lnTo>
              </a:path>
            </a:pathLst>
          </a:custGeom>
          <a:noFill/>
          <a:ln w="50760">
            <a:solidFill>
              <a:srgbClr val="418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2209680"/>
            <a:ext cx="4572000" cy="2928960"/>
          </a:xfrm>
          <a:prstGeom prst="rect">
            <a:avLst/>
          </a:prstGeom>
          <a:solidFill>
            <a:srgbClr val="ffffc2"/>
          </a:solidFill>
          <a:ln w="316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O deberíamos suponer que (algunas) personas conocen su identidad con certez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746840" y="3736440"/>
            <a:ext cx="0" cy="2527560"/>
          </a:xfrm>
          <a:prstGeom prst="line">
            <a:avLst/>
          </a:prstGeom>
          <a:ln w="1270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2209680"/>
            <a:ext cx="4572000" cy="2928960"/>
          </a:xfrm>
          <a:prstGeom prst="rect">
            <a:avLst/>
          </a:prstGeom>
          <a:solidFill>
            <a:srgbClr val="ffffc2"/>
          </a:solidFill>
          <a:ln w="316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O está la “verdad”en algun punto intermedio.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2320" y="3649680"/>
            <a:ext cx="3753000" cy="2619360"/>
          </a:xfrm>
          <a:custGeom>
            <a:avLst/>
            <a:gdLst/>
            <a:ahLst/>
            <a:rect l="l" t="t" r="r" b="b"/>
            <a:pathLst>
              <a:path w="2364" h="1650">
                <a:moveTo>
                  <a:pt x="0" y="1648"/>
                </a:moveTo>
                <a:lnTo>
                  <a:pt x="2" y="1649"/>
                </a:lnTo>
                <a:lnTo>
                  <a:pt x="5" y="1649"/>
                </a:lnTo>
                <a:lnTo>
                  <a:pt x="7" y="1649"/>
                </a:lnTo>
                <a:lnTo>
                  <a:pt x="11" y="1649"/>
                </a:lnTo>
                <a:lnTo>
                  <a:pt x="12" y="1649"/>
                </a:lnTo>
                <a:lnTo>
                  <a:pt x="16" y="1649"/>
                </a:lnTo>
                <a:lnTo>
                  <a:pt x="20" y="1649"/>
                </a:lnTo>
                <a:lnTo>
                  <a:pt x="23" y="1649"/>
                </a:lnTo>
                <a:lnTo>
                  <a:pt x="25" y="1649"/>
                </a:lnTo>
                <a:lnTo>
                  <a:pt x="29" y="1649"/>
                </a:lnTo>
                <a:lnTo>
                  <a:pt x="33" y="1649"/>
                </a:lnTo>
                <a:lnTo>
                  <a:pt x="37" y="1649"/>
                </a:lnTo>
                <a:lnTo>
                  <a:pt x="39" y="1649"/>
                </a:lnTo>
                <a:lnTo>
                  <a:pt x="42" y="1649"/>
                </a:lnTo>
                <a:lnTo>
                  <a:pt x="44" y="1649"/>
                </a:lnTo>
                <a:lnTo>
                  <a:pt x="48" y="1648"/>
                </a:lnTo>
                <a:lnTo>
                  <a:pt x="51" y="1648"/>
                </a:lnTo>
                <a:lnTo>
                  <a:pt x="57" y="1648"/>
                </a:lnTo>
                <a:lnTo>
                  <a:pt x="64" y="1648"/>
                </a:lnTo>
                <a:lnTo>
                  <a:pt x="71" y="1647"/>
                </a:lnTo>
                <a:lnTo>
                  <a:pt x="79" y="1647"/>
                </a:lnTo>
                <a:lnTo>
                  <a:pt x="87" y="1645"/>
                </a:lnTo>
                <a:lnTo>
                  <a:pt x="96" y="1645"/>
                </a:lnTo>
                <a:lnTo>
                  <a:pt x="105" y="1643"/>
                </a:lnTo>
                <a:lnTo>
                  <a:pt x="113" y="1643"/>
                </a:lnTo>
                <a:lnTo>
                  <a:pt x="121" y="1643"/>
                </a:lnTo>
                <a:lnTo>
                  <a:pt x="129" y="1643"/>
                </a:lnTo>
                <a:lnTo>
                  <a:pt x="138" y="1641"/>
                </a:lnTo>
                <a:lnTo>
                  <a:pt x="144" y="1641"/>
                </a:lnTo>
                <a:lnTo>
                  <a:pt x="151" y="1639"/>
                </a:lnTo>
                <a:lnTo>
                  <a:pt x="157" y="1638"/>
                </a:lnTo>
                <a:lnTo>
                  <a:pt x="162" y="1637"/>
                </a:lnTo>
                <a:lnTo>
                  <a:pt x="169" y="1635"/>
                </a:lnTo>
                <a:lnTo>
                  <a:pt x="179" y="1633"/>
                </a:lnTo>
                <a:lnTo>
                  <a:pt x="189" y="1631"/>
                </a:lnTo>
                <a:lnTo>
                  <a:pt x="201" y="1630"/>
                </a:lnTo>
                <a:lnTo>
                  <a:pt x="213" y="1630"/>
                </a:lnTo>
                <a:lnTo>
                  <a:pt x="226" y="1628"/>
                </a:lnTo>
                <a:lnTo>
                  <a:pt x="239" y="1627"/>
                </a:lnTo>
                <a:lnTo>
                  <a:pt x="252" y="1625"/>
                </a:lnTo>
                <a:lnTo>
                  <a:pt x="264" y="1625"/>
                </a:lnTo>
                <a:lnTo>
                  <a:pt x="277" y="1623"/>
                </a:lnTo>
                <a:lnTo>
                  <a:pt x="289" y="1623"/>
                </a:lnTo>
                <a:lnTo>
                  <a:pt x="303" y="1621"/>
                </a:lnTo>
                <a:lnTo>
                  <a:pt x="314" y="1619"/>
                </a:lnTo>
                <a:lnTo>
                  <a:pt x="325" y="1617"/>
                </a:lnTo>
                <a:lnTo>
                  <a:pt x="334" y="1615"/>
                </a:lnTo>
                <a:lnTo>
                  <a:pt x="343" y="1613"/>
                </a:lnTo>
                <a:lnTo>
                  <a:pt x="349" y="1611"/>
                </a:lnTo>
                <a:lnTo>
                  <a:pt x="357" y="1610"/>
                </a:lnTo>
                <a:lnTo>
                  <a:pt x="368" y="1608"/>
                </a:lnTo>
                <a:lnTo>
                  <a:pt x="381" y="1605"/>
                </a:lnTo>
                <a:lnTo>
                  <a:pt x="393" y="1603"/>
                </a:lnTo>
                <a:lnTo>
                  <a:pt x="407" y="1600"/>
                </a:lnTo>
                <a:lnTo>
                  <a:pt x="422" y="1599"/>
                </a:lnTo>
                <a:lnTo>
                  <a:pt x="438" y="1595"/>
                </a:lnTo>
                <a:lnTo>
                  <a:pt x="452" y="1593"/>
                </a:lnTo>
                <a:lnTo>
                  <a:pt x="467" y="1589"/>
                </a:lnTo>
                <a:lnTo>
                  <a:pt x="480" y="1587"/>
                </a:lnTo>
                <a:lnTo>
                  <a:pt x="494" y="1583"/>
                </a:lnTo>
                <a:lnTo>
                  <a:pt x="505" y="1581"/>
                </a:lnTo>
                <a:lnTo>
                  <a:pt x="516" y="1578"/>
                </a:lnTo>
                <a:lnTo>
                  <a:pt x="524" y="1575"/>
                </a:lnTo>
                <a:lnTo>
                  <a:pt x="531" y="1571"/>
                </a:lnTo>
                <a:lnTo>
                  <a:pt x="534" y="1570"/>
                </a:lnTo>
                <a:lnTo>
                  <a:pt x="541" y="1568"/>
                </a:lnTo>
                <a:lnTo>
                  <a:pt x="551" y="1565"/>
                </a:lnTo>
                <a:lnTo>
                  <a:pt x="565" y="1561"/>
                </a:lnTo>
                <a:lnTo>
                  <a:pt x="579" y="1558"/>
                </a:lnTo>
                <a:lnTo>
                  <a:pt x="596" y="1553"/>
                </a:lnTo>
                <a:lnTo>
                  <a:pt x="613" y="1549"/>
                </a:lnTo>
                <a:lnTo>
                  <a:pt x="632" y="1543"/>
                </a:lnTo>
                <a:lnTo>
                  <a:pt x="649" y="1540"/>
                </a:lnTo>
                <a:lnTo>
                  <a:pt x="667" y="1534"/>
                </a:lnTo>
                <a:lnTo>
                  <a:pt x="684" y="1530"/>
                </a:lnTo>
                <a:lnTo>
                  <a:pt x="701" y="1524"/>
                </a:lnTo>
                <a:lnTo>
                  <a:pt x="714" y="1521"/>
                </a:lnTo>
                <a:lnTo>
                  <a:pt x="726" y="1515"/>
                </a:lnTo>
                <a:lnTo>
                  <a:pt x="735" y="1512"/>
                </a:lnTo>
                <a:lnTo>
                  <a:pt x="742" y="1507"/>
                </a:lnTo>
                <a:lnTo>
                  <a:pt x="747" y="1504"/>
                </a:lnTo>
                <a:lnTo>
                  <a:pt x="757" y="1500"/>
                </a:lnTo>
                <a:lnTo>
                  <a:pt x="770" y="1495"/>
                </a:lnTo>
                <a:lnTo>
                  <a:pt x="787" y="1488"/>
                </a:lnTo>
                <a:lnTo>
                  <a:pt x="805" y="1481"/>
                </a:lnTo>
                <a:lnTo>
                  <a:pt x="827" y="1474"/>
                </a:lnTo>
                <a:lnTo>
                  <a:pt x="849" y="1466"/>
                </a:lnTo>
                <a:lnTo>
                  <a:pt x="872" y="1457"/>
                </a:lnTo>
                <a:lnTo>
                  <a:pt x="894" y="1449"/>
                </a:lnTo>
                <a:lnTo>
                  <a:pt x="917" y="1442"/>
                </a:lnTo>
                <a:lnTo>
                  <a:pt x="938" y="1434"/>
                </a:lnTo>
                <a:lnTo>
                  <a:pt x="958" y="1427"/>
                </a:lnTo>
                <a:lnTo>
                  <a:pt x="974" y="1421"/>
                </a:lnTo>
                <a:lnTo>
                  <a:pt x="988" y="1415"/>
                </a:lnTo>
                <a:lnTo>
                  <a:pt x="999" y="1411"/>
                </a:lnTo>
                <a:lnTo>
                  <a:pt x="1006" y="1407"/>
                </a:lnTo>
                <a:lnTo>
                  <a:pt x="1011" y="1404"/>
                </a:lnTo>
                <a:lnTo>
                  <a:pt x="1020" y="1399"/>
                </a:lnTo>
                <a:lnTo>
                  <a:pt x="1031" y="1393"/>
                </a:lnTo>
                <a:lnTo>
                  <a:pt x="1045" y="1384"/>
                </a:lnTo>
                <a:lnTo>
                  <a:pt x="1059" y="1376"/>
                </a:lnTo>
                <a:lnTo>
                  <a:pt x="1076" y="1366"/>
                </a:lnTo>
                <a:lnTo>
                  <a:pt x="1093" y="1357"/>
                </a:lnTo>
                <a:lnTo>
                  <a:pt x="1111" y="1346"/>
                </a:lnTo>
                <a:lnTo>
                  <a:pt x="1128" y="1336"/>
                </a:lnTo>
                <a:lnTo>
                  <a:pt x="1145" y="1326"/>
                </a:lnTo>
                <a:lnTo>
                  <a:pt x="1161" y="1316"/>
                </a:lnTo>
                <a:lnTo>
                  <a:pt x="1177" y="1307"/>
                </a:lnTo>
                <a:lnTo>
                  <a:pt x="1190" y="1299"/>
                </a:lnTo>
                <a:lnTo>
                  <a:pt x="1202" y="1293"/>
                </a:lnTo>
                <a:lnTo>
                  <a:pt x="1211" y="1288"/>
                </a:lnTo>
                <a:lnTo>
                  <a:pt x="1218" y="1283"/>
                </a:lnTo>
                <a:lnTo>
                  <a:pt x="1224" y="1279"/>
                </a:lnTo>
                <a:lnTo>
                  <a:pt x="1232" y="1269"/>
                </a:lnTo>
                <a:lnTo>
                  <a:pt x="1241" y="1258"/>
                </a:lnTo>
                <a:lnTo>
                  <a:pt x="1253" y="1244"/>
                </a:lnTo>
                <a:lnTo>
                  <a:pt x="1264" y="1228"/>
                </a:lnTo>
                <a:lnTo>
                  <a:pt x="1277" y="1211"/>
                </a:lnTo>
                <a:lnTo>
                  <a:pt x="1290" y="1193"/>
                </a:lnTo>
                <a:lnTo>
                  <a:pt x="1304" y="1173"/>
                </a:lnTo>
                <a:lnTo>
                  <a:pt x="1317" y="1155"/>
                </a:lnTo>
                <a:lnTo>
                  <a:pt x="1329" y="1136"/>
                </a:lnTo>
                <a:lnTo>
                  <a:pt x="1341" y="1119"/>
                </a:lnTo>
                <a:lnTo>
                  <a:pt x="1353" y="1103"/>
                </a:lnTo>
                <a:lnTo>
                  <a:pt x="1362" y="1090"/>
                </a:lnTo>
                <a:lnTo>
                  <a:pt x="1371" y="1079"/>
                </a:lnTo>
                <a:lnTo>
                  <a:pt x="1377" y="1071"/>
                </a:lnTo>
                <a:lnTo>
                  <a:pt x="1383" y="1065"/>
                </a:lnTo>
                <a:lnTo>
                  <a:pt x="1386" y="1062"/>
                </a:lnTo>
                <a:lnTo>
                  <a:pt x="1389" y="1058"/>
                </a:lnTo>
                <a:lnTo>
                  <a:pt x="1391" y="1054"/>
                </a:lnTo>
                <a:lnTo>
                  <a:pt x="1395" y="1048"/>
                </a:lnTo>
                <a:lnTo>
                  <a:pt x="1395" y="1043"/>
                </a:lnTo>
                <a:lnTo>
                  <a:pt x="1397" y="1037"/>
                </a:lnTo>
                <a:lnTo>
                  <a:pt x="1399" y="1032"/>
                </a:lnTo>
                <a:lnTo>
                  <a:pt x="1401" y="1026"/>
                </a:lnTo>
                <a:lnTo>
                  <a:pt x="1401" y="1021"/>
                </a:lnTo>
                <a:lnTo>
                  <a:pt x="1403" y="1015"/>
                </a:lnTo>
                <a:lnTo>
                  <a:pt x="1405" y="1010"/>
                </a:lnTo>
                <a:lnTo>
                  <a:pt x="1407" y="1004"/>
                </a:lnTo>
                <a:lnTo>
                  <a:pt x="1409" y="1001"/>
                </a:lnTo>
                <a:lnTo>
                  <a:pt x="1411" y="995"/>
                </a:lnTo>
                <a:lnTo>
                  <a:pt x="1415" y="991"/>
                </a:lnTo>
                <a:lnTo>
                  <a:pt x="1419" y="986"/>
                </a:lnTo>
                <a:lnTo>
                  <a:pt x="1423" y="982"/>
                </a:lnTo>
                <a:lnTo>
                  <a:pt x="1427" y="973"/>
                </a:lnTo>
                <a:lnTo>
                  <a:pt x="1432" y="963"/>
                </a:lnTo>
                <a:lnTo>
                  <a:pt x="1437" y="949"/>
                </a:lnTo>
                <a:lnTo>
                  <a:pt x="1441" y="935"/>
                </a:lnTo>
                <a:lnTo>
                  <a:pt x="1447" y="918"/>
                </a:lnTo>
                <a:lnTo>
                  <a:pt x="1453" y="900"/>
                </a:lnTo>
                <a:lnTo>
                  <a:pt x="1458" y="881"/>
                </a:lnTo>
                <a:lnTo>
                  <a:pt x="1462" y="865"/>
                </a:lnTo>
                <a:lnTo>
                  <a:pt x="1467" y="847"/>
                </a:lnTo>
                <a:lnTo>
                  <a:pt x="1471" y="830"/>
                </a:lnTo>
                <a:lnTo>
                  <a:pt x="1476" y="813"/>
                </a:lnTo>
                <a:lnTo>
                  <a:pt x="1480" y="800"/>
                </a:lnTo>
                <a:lnTo>
                  <a:pt x="1484" y="787"/>
                </a:lnTo>
                <a:lnTo>
                  <a:pt x="1487" y="777"/>
                </a:lnTo>
                <a:lnTo>
                  <a:pt x="1491" y="770"/>
                </a:lnTo>
                <a:lnTo>
                  <a:pt x="1493" y="765"/>
                </a:lnTo>
                <a:lnTo>
                  <a:pt x="1494" y="759"/>
                </a:lnTo>
                <a:lnTo>
                  <a:pt x="1495" y="753"/>
                </a:lnTo>
                <a:lnTo>
                  <a:pt x="1497" y="748"/>
                </a:lnTo>
                <a:lnTo>
                  <a:pt x="1497" y="742"/>
                </a:lnTo>
                <a:lnTo>
                  <a:pt x="1497" y="737"/>
                </a:lnTo>
                <a:lnTo>
                  <a:pt x="1497" y="731"/>
                </a:lnTo>
                <a:lnTo>
                  <a:pt x="1499" y="724"/>
                </a:lnTo>
                <a:lnTo>
                  <a:pt x="1499" y="719"/>
                </a:lnTo>
                <a:lnTo>
                  <a:pt x="1499" y="713"/>
                </a:lnTo>
                <a:lnTo>
                  <a:pt x="1499" y="707"/>
                </a:lnTo>
                <a:lnTo>
                  <a:pt x="1499" y="702"/>
                </a:lnTo>
                <a:lnTo>
                  <a:pt x="1499" y="696"/>
                </a:lnTo>
                <a:lnTo>
                  <a:pt x="1501" y="691"/>
                </a:lnTo>
                <a:lnTo>
                  <a:pt x="1503" y="685"/>
                </a:lnTo>
                <a:lnTo>
                  <a:pt x="1505" y="678"/>
                </a:lnTo>
                <a:lnTo>
                  <a:pt x="1505" y="676"/>
                </a:lnTo>
                <a:lnTo>
                  <a:pt x="1505" y="674"/>
                </a:lnTo>
                <a:lnTo>
                  <a:pt x="1505" y="672"/>
                </a:lnTo>
                <a:lnTo>
                  <a:pt x="1507" y="669"/>
                </a:lnTo>
                <a:lnTo>
                  <a:pt x="1507" y="666"/>
                </a:lnTo>
                <a:lnTo>
                  <a:pt x="1509" y="663"/>
                </a:lnTo>
                <a:lnTo>
                  <a:pt x="1509" y="659"/>
                </a:lnTo>
                <a:lnTo>
                  <a:pt x="1511" y="655"/>
                </a:lnTo>
                <a:lnTo>
                  <a:pt x="1511" y="653"/>
                </a:lnTo>
                <a:lnTo>
                  <a:pt x="1512" y="649"/>
                </a:lnTo>
                <a:lnTo>
                  <a:pt x="1512" y="645"/>
                </a:lnTo>
                <a:lnTo>
                  <a:pt x="1514" y="642"/>
                </a:lnTo>
                <a:lnTo>
                  <a:pt x="1514" y="640"/>
                </a:lnTo>
                <a:lnTo>
                  <a:pt x="1515" y="636"/>
                </a:lnTo>
                <a:lnTo>
                  <a:pt x="1515" y="634"/>
                </a:lnTo>
                <a:lnTo>
                  <a:pt x="1517" y="631"/>
                </a:lnTo>
                <a:lnTo>
                  <a:pt x="1517" y="628"/>
                </a:lnTo>
                <a:lnTo>
                  <a:pt x="1519" y="621"/>
                </a:lnTo>
                <a:lnTo>
                  <a:pt x="1519" y="611"/>
                </a:lnTo>
                <a:lnTo>
                  <a:pt x="1521" y="599"/>
                </a:lnTo>
                <a:lnTo>
                  <a:pt x="1521" y="585"/>
                </a:lnTo>
                <a:lnTo>
                  <a:pt x="1523" y="569"/>
                </a:lnTo>
                <a:lnTo>
                  <a:pt x="1524" y="553"/>
                </a:lnTo>
                <a:lnTo>
                  <a:pt x="1526" y="536"/>
                </a:lnTo>
                <a:lnTo>
                  <a:pt x="1526" y="521"/>
                </a:lnTo>
                <a:lnTo>
                  <a:pt x="1528" y="505"/>
                </a:lnTo>
                <a:lnTo>
                  <a:pt x="1530" y="489"/>
                </a:lnTo>
                <a:lnTo>
                  <a:pt x="1532" y="475"/>
                </a:lnTo>
                <a:lnTo>
                  <a:pt x="1533" y="465"/>
                </a:lnTo>
                <a:lnTo>
                  <a:pt x="1535" y="455"/>
                </a:lnTo>
                <a:lnTo>
                  <a:pt x="1537" y="448"/>
                </a:lnTo>
                <a:lnTo>
                  <a:pt x="1539" y="445"/>
                </a:lnTo>
                <a:lnTo>
                  <a:pt x="1541" y="440"/>
                </a:lnTo>
                <a:lnTo>
                  <a:pt x="1545" y="425"/>
                </a:lnTo>
                <a:lnTo>
                  <a:pt x="1549" y="403"/>
                </a:lnTo>
                <a:lnTo>
                  <a:pt x="1555" y="373"/>
                </a:lnTo>
                <a:lnTo>
                  <a:pt x="1561" y="341"/>
                </a:lnTo>
                <a:lnTo>
                  <a:pt x="1569" y="303"/>
                </a:lnTo>
                <a:lnTo>
                  <a:pt x="1576" y="263"/>
                </a:lnTo>
                <a:lnTo>
                  <a:pt x="1583" y="221"/>
                </a:lnTo>
                <a:lnTo>
                  <a:pt x="1590" y="180"/>
                </a:lnTo>
                <a:lnTo>
                  <a:pt x="1598" y="140"/>
                </a:lnTo>
                <a:lnTo>
                  <a:pt x="1604" y="103"/>
                </a:lnTo>
                <a:lnTo>
                  <a:pt x="1611" y="69"/>
                </a:lnTo>
                <a:lnTo>
                  <a:pt x="1617" y="41"/>
                </a:lnTo>
                <a:lnTo>
                  <a:pt x="1621" y="19"/>
                </a:lnTo>
                <a:lnTo>
                  <a:pt x="1625" y="5"/>
                </a:lnTo>
                <a:lnTo>
                  <a:pt x="1629" y="0"/>
                </a:lnTo>
                <a:lnTo>
                  <a:pt x="1632" y="0"/>
                </a:lnTo>
                <a:lnTo>
                  <a:pt x="1636" y="0"/>
                </a:lnTo>
                <a:lnTo>
                  <a:pt x="1640" y="0"/>
                </a:lnTo>
                <a:lnTo>
                  <a:pt x="1643" y="0"/>
                </a:lnTo>
                <a:lnTo>
                  <a:pt x="1647" y="0"/>
                </a:lnTo>
                <a:lnTo>
                  <a:pt x="1651" y="0"/>
                </a:lnTo>
                <a:lnTo>
                  <a:pt x="1655" y="0"/>
                </a:lnTo>
                <a:lnTo>
                  <a:pt x="1660" y="0"/>
                </a:lnTo>
                <a:lnTo>
                  <a:pt x="1664" y="1"/>
                </a:lnTo>
                <a:lnTo>
                  <a:pt x="1668" y="1"/>
                </a:lnTo>
                <a:lnTo>
                  <a:pt x="1671" y="1"/>
                </a:lnTo>
                <a:lnTo>
                  <a:pt x="1677" y="1"/>
                </a:lnTo>
                <a:lnTo>
                  <a:pt x="1680" y="2"/>
                </a:lnTo>
                <a:lnTo>
                  <a:pt x="1684" y="2"/>
                </a:lnTo>
                <a:lnTo>
                  <a:pt x="1688" y="2"/>
                </a:lnTo>
                <a:lnTo>
                  <a:pt x="1691" y="2"/>
                </a:lnTo>
                <a:lnTo>
                  <a:pt x="1693" y="5"/>
                </a:lnTo>
                <a:lnTo>
                  <a:pt x="1697" y="9"/>
                </a:lnTo>
                <a:lnTo>
                  <a:pt x="1700" y="15"/>
                </a:lnTo>
                <a:lnTo>
                  <a:pt x="1704" y="21"/>
                </a:lnTo>
                <a:lnTo>
                  <a:pt x="1707" y="30"/>
                </a:lnTo>
                <a:lnTo>
                  <a:pt x="1711" y="39"/>
                </a:lnTo>
                <a:lnTo>
                  <a:pt x="1715" y="49"/>
                </a:lnTo>
                <a:lnTo>
                  <a:pt x="1718" y="58"/>
                </a:lnTo>
                <a:lnTo>
                  <a:pt x="1720" y="70"/>
                </a:lnTo>
                <a:lnTo>
                  <a:pt x="1724" y="79"/>
                </a:lnTo>
                <a:lnTo>
                  <a:pt x="1728" y="89"/>
                </a:lnTo>
                <a:lnTo>
                  <a:pt x="1731" y="98"/>
                </a:lnTo>
                <a:lnTo>
                  <a:pt x="1733" y="106"/>
                </a:lnTo>
                <a:lnTo>
                  <a:pt x="1737" y="112"/>
                </a:lnTo>
                <a:lnTo>
                  <a:pt x="1739" y="117"/>
                </a:lnTo>
                <a:lnTo>
                  <a:pt x="1743" y="119"/>
                </a:lnTo>
                <a:lnTo>
                  <a:pt x="1745" y="125"/>
                </a:lnTo>
                <a:lnTo>
                  <a:pt x="1747" y="136"/>
                </a:lnTo>
                <a:lnTo>
                  <a:pt x="1749" y="153"/>
                </a:lnTo>
                <a:lnTo>
                  <a:pt x="1753" y="173"/>
                </a:lnTo>
                <a:lnTo>
                  <a:pt x="1755" y="197"/>
                </a:lnTo>
                <a:lnTo>
                  <a:pt x="1758" y="223"/>
                </a:lnTo>
                <a:lnTo>
                  <a:pt x="1760" y="252"/>
                </a:lnTo>
                <a:lnTo>
                  <a:pt x="1764" y="280"/>
                </a:lnTo>
                <a:lnTo>
                  <a:pt x="1766" y="310"/>
                </a:lnTo>
                <a:lnTo>
                  <a:pt x="1767" y="339"/>
                </a:lnTo>
                <a:lnTo>
                  <a:pt x="1769" y="365"/>
                </a:lnTo>
                <a:lnTo>
                  <a:pt x="1773" y="389"/>
                </a:lnTo>
                <a:lnTo>
                  <a:pt x="1775" y="410"/>
                </a:lnTo>
                <a:lnTo>
                  <a:pt x="1777" y="426"/>
                </a:lnTo>
                <a:lnTo>
                  <a:pt x="1779" y="438"/>
                </a:lnTo>
                <a:lnTo>
                  <a:pt x="1781" y="443"/>
                </a:lnTo>
                <a:lnTo>
                  <a:pt x="1781" y="450"/>
                </a:lnTo>
                <a:lnTo>
                  <a:pt x="1783" y="461"/>
                </a:lnTo>
                <a:lnTo>
                  <a:pt x="1783" y="479"/>
                </a:lnTo>
                <a:lnTo>
                  <a:pt x="1785" y="501"/>
                </a:lnTo>
                <a:lnTo>
                  <a:pt x="1785" y="527"/>
                </a:lnTo>
                <a:lnTo>
                  <a:pt x="1785" y="555"/>
                </a:lnTo>
                <a:lnTo>
                  <a:pt x="1785" y="585"/>
                </a:lnTo>
                <a:lnTo>
                  <a:pt x="1787" y="614"/>
                </a:lnTo>
                <a:lnTo>
                  <a:pt x="1787" y="645"/>
                </a:lnTo>
                <a:lnTo>
                  <a:pt x="1787" y="675"/>
                </a:lnTo>
                <a:lnTo>
                  <a:pt x="1787" y="703"/>
                </a:lnTo>
                <a:lnTo>
                  <a:pt x="1788" y="728"/>
                </a:lnTo>
                <a:lnTo>
                  <a:pt x="1788" y="750"/>
                </a:lnTo>
                <a:lnTo>
                  <a:pt x="1790" y="767"/>
                </a:lnTo>
                <a:lnTo>
                  <a:pt x="1791" y="779"/>
                </a:lnTo>
                <a:lnTo>
                  <a:pt x="1793" y="784"/>
                </a:lnTo>
                <a:lnTo>
                  <a:pt x="1793" y="788"/>
                </a:lnTo>
                <a:lnTo>
                  <a:pt x="1795" y="791"/>
                </a:lnTo>
                <a:lnTo>
                  <a:pt x="1796" y="797"/>
                </a:lnTo>
                <a:lnTo>
                  <a:pt x="1798" y="802"/>
                </a:lnTo>
                <a:lnTo>
                  <a:pt x="1798" y="810"/>
                </a:lnTo>
                <a:lnTo>
                  <a:pt x="1800" y="816"/>
                </a:lnTo>
                <a:lnTo>
                  <a:pt x="1801" y="823"/>
                </a:lnTo>
                <a:lnTo>
                  <a:pt x="1803" y="830"/>
                </a:lnTo>
                <a:lnTo>
                  <a:pt x="1803" y="837"/>
                </a:lnTo>
                <a:lnTo>
                  <a:pt x="1803" y="844"/>
                </a:lnTo>
                <a:lnTo>
                  <a:pt x="1803" y="851"/>
                </a:lnTo>
                <a:lnTo>
                  <a:pt x="1805" y="857"/>
                </a:lnTo>
                <a:lnTo>
                  <a:pt x="1805" y="862"/>
                </a:lnTo>
                <a:lnTo>
                  <a:pt x="1805" y="867"/>
                </a:lnTo>
                <a:lnTo>
                  <a:pt x="1805" y="870"/>
                </a:lnTo>
                <a:lnTo>
                  <a:pt x="1805" y="872"/>
                </a:lnTo>
                <a:lnTo>
                  <a:pt x="1803" y="877"/>
                </a:lnTo>
                <a:lnTo>
                  <a:pt x="1803" y="883"/>
                </a:lnTo>
                <a:lnTo>
                  <a:pt x="1803" y="891"/>
                </a:lnTo>
                <a:lnTo>
                  <a:pt x="1803" y="899"/>
                </a:lnTo>
                <a:lnTo>
                  <a:pt x="1803" y="910"/>
                </a:lnTo>
                <a:lnTo>
                  <a:pt x="1804" y="919"/>
                </a:lnTo>
                <a:lnTo>
                  <a:pt x="1804" y="931"/>
                </a:lnTo>
                <a:lnTo>
                  <a:pt x="1806" y="941"/>
                </a:lnTo>
                <a:lnTo>
                  <a:pt x="1806" y="954"/>
                </a:lnTo>
                <a:lnTo>
                  <a:pt x="1807" y="965"/>
                </a:lnTo>
                <a:lnTo>
                  <a:pt x="1807" y="976"/>
                </a:lnTo>
                <a:lnTo>
                  <a:pt x="1809" y="986"/>
                </a:lnTo>
                <a:lnTo>
                  <a:pt x="1811" y="997"/>
                </a:lnTo>
                <a:lnTo>
                  <a:pt x="1813" y="1006"/>
                </a:lnTo>
                <a:lnTo>
                  <a:pt x="1814" y="1014"/>
                </a:lnTo>
                <a:lnTo>
                  <a:pt x="1816" y="1019"/>
                </a:lnTo>
                <a:lnTo>
                  <a:pt x="1816" y="1023"/>
                </a:lnTo>
                <a:lnTo>
                  <a:pt x="1816" y="1029"/>
                </a:lnTo>
                <a:lnTo>
                  <a:pt x="1816" y="1037"/>
                </a:lnTo>
                <a:lnTo>
                  <a:pt x="1818" y="1045"/>
                </a:lnTo>
                <a:lnTo>
                  <a:pt x="1818" y="1057"/>
                </a:lnTo>
                <a:lnTo>
                  <a:pt x="1819" y="1069"/>
                </a:lnTo>
                <a:lnTo>
                  <a:pt x="1819" y="1082"/>
                </a:lnTo>
                <a:lnTo>
                  <a:pt x="1821" y="1093"/>
                </a:lnTo>
                <a:lnTo>
                  <a:pt x="1821" y="1107"/>
                </a:lnTo>
                <a:lnTo>
                  <a:pt x="1823" y="1120"/>
                </a:lnTo>
                <a:lnTo>
                  <a:pt x="1823" y="1132"/>
                </a:lnTo>
                <a:lnTo>
                  <a:pt x="1824" y="1142"/>
                </a:lnTo>
                <a:lnTo>
                  <a:pt x="1824" y="1152"/>
                </a:lnTo>
                <a:lnTo>
                  <a:pt x="1826" y="1159"/>
                </a:lnTo>
                <a:lnTo>
                  <a:pt x="1826" y="1165"/>
                </a:lnTo>
                <a:lnTo>
                  <a:pt x="1827" y="1167"/>
                </a:lnTo>
                <a:lnTo>
                  <a:pt x="1829" y="1176"/>
                </a:lnTo>
                <a:lnTo>
                  <a:pt x="1831" y="1185"/>
                </a:lnTo>
                <a:lnTo>
                  <a:pt x="1833" y="1195"/>
                </a:lnTo>
                <a:lnTo>
                  <a:pt x="1836" y="1206"/>
                </a:lnTo>
                <a:lnTo>
                  <a:pt x="1838" y="1218"/>
                </a:lnTo>
                <a:lnTo>
                  <a:pt x="1841" y="1230"/>
                </a:lnTo>
                <a:lnTo>
                  <a:pt x="1843" y="1243"/>
                </a:lnTo>
                <a:lnTo>
                  <a:pt x="1846" y="1255"/>
                </a:lnTo>
                <a:lnTo>
                  <a:pt x="1848" y="1268"/>
                </a:lnTo>
                <a:lnTo>
                  <a:pt x="1852" y="1280"/>
                </a:lnTo>
                <a:lnTo>
                  <a:pt x="1854" y="1292"/>
                </a:lnTo>
                <a:lnTo>
                  <a:pt x="1858" y="1303"/>
                </a:lnTo>
                <a:lnTo>
                  <a:pt x="1862" y="1313"/>
                </a:lnTo>
                <a:lnTo>
                  <a:pt x="1865" y="1322"/>
                </a:lnTo>
                <a:lnTo>
                  <a:pt x="1870" y="1330"/>
                </a:lnTo>
                <a:lnTo>
                  <a:pt x="1875" y="1336"/>
                </a:lnTo>
                <a:lnTo>
                  <a:pt x="1877" y="1339"/>
                </a:lnTo>
                <a:lnTo>
                  <a:pt x="1879" y="1344"/>
                </a:lnTo>
                <a:lnTo>
                  <a:pt x="1882" y="1351"/>
                </a:lnTo>
                <a:lnTo>
                  <a:pt x="1886" y="1359"/>
                </a:lnTo>
                <a:lnTo>
                  <a:pt x="1891" y="1369"/>
                </a:lnTo>
                <a:lnTo>
                  <a:pt x="1896" y="1380"/>
                </a:lnTo>
                <a:lnTo>
                  <a:pt x="1902" y="1393"/>
                </a:lnTo>
                <a:lnTo>
                  <a:pt x="1908" y="1404"/>
                </a:lnTo>
                <a:lnTo>
                  <a:pt x="1914" y="1417"/>
                </a:lnTo>
                <a:lnTo>
                  <a:pt x="1919" y="1429"/>
                </a:lnTo>
                <a:lnTo>
                  <a:pt x="1925" y="1441"/>
                </a:lnTo>
                <a:lnTo>
                  <a:pt x="1932" y="1451"/>
                </a:lnTo>
                <a:lnTo>
                  <a:pt x="1938" y="1461"/>
                </a:lnTo>
                <a:lnTo>
                  <a:pt x="1943" y="1469"/>
                </a:lnTo>
                <a:lnTo>
                  <a:pt x="1948" y="1476"/>
                </a:lnTo>
                <a:lnTo>
                  <a:pt x="1953" y="1480"/>
                </a:lnTo>
                <a:lnTo>
                  <a:pt x="1955" y="1483"/>
                </a:lnTo>
                <a:lnTo>
                  <a:pt x="1959" y="1485"/>
                </a:lnTo>
                <a:lnTo>
                  <a:pt x="1964" y="1489"/>
                </a:lnTo>
                <a:lnTo>
                  <a:pt x="1970" y="1492"/>
                </a:lnTo>
                <a:lnTo>
                  <a:pt x="1975" y="1496"/>
                </a:lnTo>
                <a:lnTo>
                  <a:pt x="1982" y="1500"/>
                </a:lnTo>
                <a:lnTo>
                  <a:pt x="1987" y="1503"/>
                </a:lnTo>
                <a:lnTo>
                  <a:pt x="1995" y="1507"/>
                </a:lnTo>
                <a:lnTo>
                  <a:pt x="2000" y="1512"/>
                </a:lnTo>
                <a:lnTo>
                  <a:pt x="2007" y="1516"/>
                </a:lnTo>
                <a:lnTo>
                  <a:pt x="2013" y="1520"/>
                </a:lnTo>
                <a:lnTo>
                  <a:pt x="2020" y="1523"/>
                </a:lnTo>
                <a:lnTo>
                  <a:pt x="2025" y="1527"/>
                </a:lnTo>
                <a:lnTo>
                  <a:pt x="2030" y="1530"/>
                </a:lnTo>
                <a:lnTo>
                  <a:pt x="2034" y="1533"/>
                </a:lnTo>
                <a:lnTo>
                  <a:pt x="2038" y="1534"/>
                </a:lnTo>
                <a:lnTo>
                  <a:pt x="2040" y="1537"/>
                </a:lnTo>
                <a:lnTo>
                  <a:pt x="2045" y="1539"/>
                </a:lnTo>
                <a:lnTo>
                  <a:pt x="2051" y="1542"/>
                </a:lnTo>
                <a:lnTo>
                  <a:pt x="2058" y="1544"/>
                </a:lnTo>
                <a:lnTo>
                  <a:pt x="2066" y="1548"/>
                </a:lnTo>
                <a:lnTo>
                  <a:pt x="2075" y="1552"/>
                </a:lnTo>
                <a:lnTo>
                  <a:pt x="2085" y="1555"/>
                </a:lnTo>
                <a:lnTo>
                  <a:pt x="2095" y="1559"/>
                </a:lnTo>
                <a:lnTo>
                  <a:pt x="2104" y="1562"/>
                </a:lnTo>
                <a:lnTo>
                  <a:pt x="2113" y="1566"/>
                </a:lnTo>
                <a:lnTo>
                  <a:pt x="2121" y="1570"/>
                </a:lnTo>
                <a:lnTo>
                  <a:pt x="2130" y="1573"/>
                </a:lnTo>
                <a:lnTo>
                  <a:pt x="2136" y="1577"/>
                </a:lnTo>
                <a:lnTo>
                  <a:pt x="2143" y="1579"/>
                </a:lnTo>
                <a:lnTo>
                  <a:pt x="2148" y="1581"/>
                </a:lnTo>
                <a:lnTo>
                  <a:pt x="2152" y="1582"/>
                </a:lnTo>
                <a:lnTo>
                  <a:pt x="2153" y="1584"/>
                </a:lnTo>
                <a:lnTo>
                  <a:pt x="2156" y="1585"/>
                </a:lnTo>
                <a:lnTo>
                  <a:pt x="2161" y="1587"/>
                </a:lnTo>
                <a:lnTo>
                  <a:pt x="2166" y="1588"/>
                </a:lnTo>
                <a:lnTo>
                  <a:pt x="2172" y="1590"/>
                </a:lnTo>
                <a:lnTo>
                  <a:pt x="2179" y="1591"/>
                </a:lnTo>
                <a:lnTo>
                  <a:pt x="2186" y="1593"/>
                </a:lnTo>
                <a:lnTo>
                  <a:pt x="2194" y="1595"/>
                </a:lnTo>
                <a:lnTo>
                  <a:pt x="2201" y="1597"/>
                </a:lnTo>
                <a:lnTo>
                  <a:pt x="2208" y="1599"/>
                </a:lnTo>
                <a:lnTo>
                  <a:pt x="2214" y="1600"/>
                </a:lnTo>
                <a:lnTo>
                  <a:pt x="2221" y="1602"/>
                </a:lnTo>
                <a:lnTo>
                  <a:pt x="2226" y="1604"/>
                </a:lnTo>
                <a:lnTo>
                  <a:pt x="2231" y="1605"/>
                </a:lnTo>
                <a:lnTo>
                  <a:pt x="2234" y="1607"/>
                </a:lnTo>
                <a:lnTo>
                  <a:pt x="2236" y="1607"/>
                </a:lnTo>
                <a:lnTo>
                  <a:pt x="2238" y="1608"/>
                </a:lnTo>
                <a:lnTo>
                  <a:pt x="2243" y="1610"/>
                </a:lnTo>
                <a:lnTo>
                  <a:pt x="2249" y="1612"/>
                </a:lnTo>
                <a:lnTo>
                  <a:pt x="2257" y="1614"/>
                </a:lnTo>
                <a:lnTo>
                  <a:pt x="2266" y="1618"/>
                </a:lnTo>
                <a:lnTo>
                  <a:pt x="2277" y="1620"/>
                </a:lnTo>
                <a:lnTo>
                  <a:pt x="2288" y="1623"/>
                </a:lnTo>
                <a:lnTo>
                  <a:pt x="2299" y="1625"/>
                </a:lnTo>
                <a:lnTo>
                  <a:pt x="2309" y="1628"/>
                </a:lnTo>
                <a:lnTo>
                  <a:pt x="2321" y="1630"/>
                </a:lnTo>
                <a:lnTo>
                  <a:pt x="2330" y="1634"/>
                </a:lnTo>
                <a:lnTo>
                  <a:pt x="2340" y="1636"/>
                </a:lnTo>
                <a:lnTo>
                  <a:pt x="2347" y="1638"/>
                </a:lnTo>
                <a:lnTo>
                  <a:pt x="2354" y="1640"/>
                </a:lnTo>
                <a:lnTo>
                  <a:pt x="2359" y="1642"/>
                </a:lnTo>
                <a:lnTo>
                  <a:pt x="2363" y="1643"/>
                </a:lnTo>
                <a:lnTo>
                  <a:pt x="2362" y="1643"/>
                </a:lnTo>
                <a:lnTo>
                  <a:pt x="2362" y="1643"/>
                </a:lnTo>
                <a:lnTo>
                  <a:pt x="2359" y="1641"/>
                </a:lnTo>
                <a:lnTo>
                  <a:pt x="2357" y="1637"/>
                </a:lnTo>
                <a:lnTo>
                  <a:pt x="2353" y="1633"/>
                </a:lnTo>
                <a:lnTo>
                  <a:pt x="2349" y="1629"/>
                </a:lnTo>
                <a:lnTo>
                  <a:pt x="2345" y="1625"/>
                </a:lnTo>
                <a:lnTo>
                  <a:pt x="2342" y="1620"/>
                </a:lnTo>
                <a:lnTo>
                  <a:pt x="2336" y="1616"/>
                </a:lnTo>
                <a:lnTo>
                  <a:pt x="2332" y="1611"/>
                </a:lnTo>
                <a:lnTo>
                  <a:pt x="2328" y="1607"/>
                </a:lnTo>
                <a:lnTo>
                  <a:pt x="2325" y="1602"/>
                </a:lnTo>
                <a:lnTo>
                  <a:pt x="2322" y="1600"/>
                </a:lnTo>
                <a:lnTo>
                  <a:pt x="2321" y="1597"/>
                </a:lnTo>
                <a:lnTo>
                  <a:pt x="2320" y="1596"/>
                </a:lnTo>
                <a:lnTo>
                  <a:pt x="2321" y="1595"/>
                </a:lnTo>
                <a:lnTo>
                  <a:pt x="2321" y="1595"/>
                </a:lnTo>
                <a:lnTo>
                  <a:pt x="2323" y="1595"/>
                </a:lnTo>
                <a:lnTo>
                  <a:pt x="2324" y="1595"/>
                </a:lnTo>
                <a:lnTo>
                  <a:pt x="2326" y="1595"/>
                </a:lnTo>
                <a:lnTo>
                  <a:pt x="2328" y="1595"/>
                </a:lnTo>
                <a:lnTo>
                  <a:pt x="2330" y="1595"/>
                </a:lnTo>
                <a:lnTo>
                  <a:pt x="2332" y="1595"/>
                </a:lnTo>
                <a:lnTo>
                  <a:pt x="2334" y="1595"/>
                </a:lnTo>
                <a:lnTo>
                  <a:pt x="2335" y="1595"/>
                </a:lnTo>
                <a:lnTo>
                  <a:pt x="2337" y="1595"/>
                </a:lnTo>
                <a:lnTo>
                  <a:pt x="2339" y="1595"/>
                </a:lnTo>
                <a:lnTo>
                  <a:pt x="2341" y="1595"/>
                </a:lnTo>
                <a:lnTo>
                  <a:pt x="2342" y="1595"/>
                </a:lnTo>
                <a:lnTo>
                  <a:pt x="2343" y="1595"/>
                </a:lnTo>
                <a:lnTo>
                  <a:pt x="2343" y="1595"/>
                </a:lnTo>
                <a:lnTo>
                  <a:pt x="2345" y="1595"/>
                </a:lnTo>
              </a:path>
            </a:pathLst>
          </a:custGeom>
          <a:noFill/>
          <a:ln w="316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0240" y="5051520"/>
            <a:ext cx="5238720" cy="2352600"/>
            <a:chOff x="30240" y="5051520"/>
            <a:chExt cx="5238720" cy="2352600"/>
          </a:xfrm>
        </p:grpSpPr>
        <p:sp>
          <p:nvSpPr>
            <p:cNvPr id="545" name=""/>
            <p:cNvSpPr/>
            <p:nvPr/>
          </p:nvSpPr>
          <p:spPr>
            <a:xfrm>
              <a:off x="30240" y="5051520"/>
              <a:ext cx="5238720" cy="2352600"/>
            </a:xfrm>
            <a:prstGeom prst="ellipse">
              <a:avLst/>
            </a:prstGeom>
            <a:solidFill>
              <a:srgbClr val="ffffff"/>
            </a:solidFill>
            <a:ln w="4752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8000" y="5572080"/>
              <a:ext cx="267480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</a:t>
              </a: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73080" y="6173640"/>
              <a:ext cx="2606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3181320" y="5351400"/>
              <a:ext cx="814320" cy="1828800"/>
              <a:chOff x="3181320" y="5351400"/>
              <a:chExt cx="814320" cy="182880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3236760" y="6035760"/>
                <a:ext cx="758880" cy="1144440"/>
                <a:chOff x="3236760" y="6035760"/>
                <a:chExt cx="758880" cy="11444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533760" y="6483240"/>
                  <a:ext cx="46188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236760" y="6035760"/>
                  <a:ext cx="40320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55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5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3314880" y="5351400"/>
                <a:ext cx="40464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4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81320" y="6140520"/>
                <a:ext cx="679320" cy="0"/>
              </a:xfrm>
              <a:prstGeom prst="line">
                <a:avLst/>
              </a:prstGeom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99072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función de bienestar soci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33520" y="3275640"/>
            <a:ext cx="9931320" cy="626724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0" y="1752120"/>
            <a:ext cx="5765760" cy="18288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...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1828800"/>
            <a:ext cx="609588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57800" y="3200400"/>
            <a:ext cx="5283360" cy="5486400"/>
            <a:chOff x="5257800" y="3200400"/>
            <a:chExt cx="5283360" cy="5486400"/>
          </a:xfrm>
        </p:grpSpPr>
        <p:sp>
          <p:nvSpPr>
            <p:cNvPr id="559" name=""/>
            <p:cNvSpPr/>
            <p:nvPr/>
          </p:nvSpPr>
          <p:spPr>
            <a:xfrm>
              <a:off x="5603760" y="6815160"/>
              <a:ext cx="4786560" cy="942840"/>
            </a:xfrm>
            <a:custGeom>
              <a:avLst/>
              <a:gdLst/>
              <a:ahLst/>
              <a:rect l="l" t="t" r="r" b="b"/>
              <a:pathLst>
                <a:path w="3015" h="594">
                  <a:moveTo>
                    <a:pt x="0" y="582"/>
                  </a:moveTo>
                  <a:lnTo>
                    <a:pt x="827" y="21"/>
                  </a:lnTo>
                  <a:lnTo>
                    <a:pt x="2881" y="0"/>
                  </a:lnTo>
                  <a:lnTo>
                    <a:pt x="3014" y="593"/>
                  </a:lnTo>
                  <a:lnTo>
                    <a:pt x="0" y="572"/>
                  </a:lnTo>
                  <a:lnTo>
                    <a:pt x="0" y="582"/>
                  </a:lnTo>
                  <a:lnTo>
                    <a:pt x="0" y="582"/>
                  </a:lnTo>
                </a:path>
              </a:pathLst>
            </a:custGeom>
            <a:solidFill>
              <a:srgbClr val="810000"/>
            </a:solidFill>
            <a:ln w="19080">
              <a:solidFill>
                <a:srgbClr val="8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5257800" y="3200400"/>
              <a:ext cx="5283360" cy="5486400"/>
              <a:chOff x="5257800" y="3200400"/>
              <a:chExt cx="5283360" cy="5486400"/>
            </a:xfrm>
          </p:grpSpPr>
          <p:sp>
            <p:nvSpPr>
              <p:cNvPr id="561" name=""/>
              <p:cNvSpPr/>
              <p:nvPr/>
            </p:nvSpPr>
            <p:spPr>
              <a:xfrm flipV="1">
                <a:off x="7970760" y="6813360"/>
                <a:ext cx="90720" cy="182232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360 h 1822320"/>
                  <a:gd name="textAreaBottom" fmla="*/ 1823040 h 1822320"/>
                </a:gdLst>
                <a:ahLst/>
                <a:rect l="textAreaLeft" t="textAreaTop" r="textAreaRight" b="textAreaBottom"/>
                <a:pathLst>
                  <a:path w="21600" h="432256">
                    <a:moveTo>
                      <a:pt x="0" y="0"/>
                    </a:moveTo>
                    <a:arcTo wR="0" hR="0" stAng="16200000" swAng="-5400000"/>
                    <a:lnTo>
                      <a:pt x="0" y="432256"/>
                    </a:lnTo>
                    <a:arcTo wR="0" hR="0" stAng="10800000" swAng="-5400000"/>
                    <a:lnTo>
                      <a:pt x="21600" y="43225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416720" y="8159760"/>
                <a:ext cx="1160640" cy="247320"/>
              </a:xfrm>
              <a:custGeom>
                <a:avLst/>
                <a:gdLst/>
                <a:ahLst/>
                <a:rect l="l" t="t" r="r" b="b"/>
                <a:pathLst>
                  <a:path w="731" h="156">
                    <a:moveTo>
                      <a:pt x="32" y="12"/>
                    </a:moveTo>
                    <a:lnTo>
                      <a:pt x="378" y="123"/>
                    </a:lnTo>
                    <a:lnTo>
                      <a:pt x="709" y="0"/>
                    </a:lnTo>
                    <a:lnTo>
                      <a:pt x="730" y="21"/>
                    </a:lnTo>
                    <a:lnTo>
                      <a:pt x="380" y="155"/>
                    </a:lnTo>
                    <a:lnTo>
                      <a:pt x="0" y="29"/>
                    </a:lnTo>
                    <a:lnTo>
                      <a:pt x="32" y="12"/>
                    </a:lnTo>
                    <a:lnTo>
                      <a:pt x="32" y="1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470640" y="7905600"/>
                <a:ext cx="3052800" cy="766800"/>
              </a:xfrm>
              <a:custGeom>
                <a:avLst/>
                <a:gdLst/>
                <a:ahLst/>
                <a:rect l="l" t="t" r="r" b="b"/>
                <a:pathLst>
                  <a:path w="1923" h="483">
                    <a:moveTo>
                      <a:pt x="0" y="475"/>
                    </a:moveTo>
                    <a:lnTo>
                      <a:pt x="133" y="482"/>
                    </a:lnTo>
                    <a:lnTo>
                      <a:pt x="972" y="58"/>
                    </a:lnTo>
                    <a:lnTo>
                      <a:pt x="1876" y="480"/>
                    </a:lnTo>
                    <a:lnTo>
                      <a:pt x="1922" y="464"/>
                    </a:lnTo>
                    <a:lnTo>
                      <a:pt x="978" y="0"/>
                    </a:lnTo>
                    <a:lnTo>
                      <a:pt x="0" y="475"/>
                    </a:lnTo>
                    <a:lnTo>
                      <a:pt x="0" y="475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462720" y="8575560"/>
                <a:ext cx="336600" cy="109440"/>
              </a:xfrm>
              <a:custGeom>
                <a:avLst/>
                <a:gdLst/>
                <a:ahLst/>
                <a:rect l="l" t="t" r="r" b="b"/>
                <a:pathLst>
                  <a:path w="212" h="69">
                    <a:moveTo>
                      <a:pt x="0" y="53"/>
                    </a:moveTo>
                    <a:lnTo>
                      <a:pt x="117" y="68"/>
                    </a:lnTo>
                    <a:lnTo>
                      <a:pt x="211" y="17"/>
                    </a:lnTo>
                    <a:lnTo>
                      <a:pt x="114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7966080" y="8623080"/>
                <a:ext cx="95400" cy="3168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9240840" y="8572320"/>
                <a:ext cx="325440" cy="114480"/>
              </a:xfrm>
              <a:custGeom>
                <a:avLst/>
                <a:gdLst/>
                <a:ahLst/>
                <a:rect l="l" t="t" r="r" b="b"/>
                <a:pathLst>
                  <a:path w="205" h="72">
                    <a:moveTo>
                      <a:pt x="204" y="56"/>
                    </a:moveTo>
                    <a:lnTo>
                      <a:pt x="103" y="71"/>
                    </a:lnTo>
                    <a:lnTo>
                      <a:pt x="0" y="20"/>
                    </a:lnTo>
                    <a:lnTo>
                      <a:pt x="91" y="0"/>
                    </a:lnTo>
                    <a:lnTo>
                      <a:pt x="204" y="56"/>
                    </a:lnTo>
                    <a:lnTo>
                      <a:pt x="204" y="5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7997760" y="3222360"/>
                <a:ext cx="36720" cy="35337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360 h 3533760"/>
                  <a:gd name="textAreaBottom" fmla="*/ 3534480 h 3533760"/>
                </a:gdLst>
                <a:ahLst/>
                <a:rect l="textAreaLeft" t="textAreaTop" r="textAreaRight" b="textAreaBottom"/>
                <a:pathLst>
                  <a:path w="21600" h="2058711">
                    <a:moveTo>
                      <a:pt x="0" y="0"/>
                    </a:moveTo>
                    <a:arcTo wR="0" hR="0" stAng="16200000" swAng="-5400000"/>
                    <a:lnTo>
                      <a:pt x="0" y="2058711"/>
                    </a:lnTo>
                    <a:arcTo wR="0" hR="0" stAng="10800000" swAng="-5400000"/>
                    <a:lnTo>
                      <a:pt x="21600" y="205871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f4f4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286240" y="3403440"/>
                <a:ext cx="5254920" cy="3354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5307120" y="3418560"/>
                <a:ext cx="5234040" cy="6660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5257800" y="6718320"/>
                <a:ext cx="5283360" cy="13464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283360" y="6703200"/>
                <a:ext cx="5257800" cy="1220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7804080" y="3282120"/>
                <a:ext cx="444600" cy="160200"/>
              </a:xfrm>
              <a:prstGeom prst="roundRect">
                <a:avLst>
                  <a:gd name="adj" fmla="val 1537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7969320" y="3200400"/>
                <a:ext cx="90360" cy="5400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732720" y="7951680"/>
                <a:ext cx="1257120" cy="679320"/>
              </a:xfrm>
              <a:custGeom>
                <a:avLst/>
                <a:gdLst/>
                <a:ahLst/>
                <a:rect l="l" t="t" r="r" b="b"/>
                <a:pathLst>
                  <a:path w="792" h="428">
                    <a:moveTo>
                      <a:pt x="0" y="400"/>
                    </a:moveTo>
                    <a:lnTo>
                      <a:pt x="15" y="427"/>
                    </a:lnTo>
                    <a:lnTo>
                      <a:pt x="783" y="43"/>
                    </a:lnTo>
                    <a:lnTo>
                      <a:pt x="791" y="0"/>
                    </a:lnTo>
                    <a:lnTo>
                      <a:pt x="0" y="400"/>
                    </a:lnTo>
                    <a:lnTo>
                      <a:pt x="0" y="40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7972560" y="6845040"/>
                <a:ext cx="38160" cy="17589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360 h 1758960"/>
                  <a:gd name="textAreaBottom" fmla="*/ 1759680 h 1758960"/>
                </a:gdLst>
                <a:ahLst/>
                <a:rect l="textAreaLeft" t="textAreaTop" r="textAreaRight" b="textAreaBottom"/>
                <a:pathLst>
                  <a:path w="21600" h="986535">
                    <a:moveTo>
                      <a:pt x="0" y="0"/>
                    </a:moveTo>
                    <a:arcTo wR="0" hR="0" stAng="16200000" swAng="-5400000"/>
                    <a:lnTo>
                      <a:pt x="0" y="986535"/>
                    </a:lnTo>
                    <a:arcTo wR="0" hR="0" stAng="10800000" swAng="-5400000"/>
                    <a:lnTo>
                      <a:pt x="21600" y="98653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991640" y="7947000"/>
                <a:ext cx="1304640" cy="661680"/>
              </a:xfrm>
              <a:custGeom>
                <a:avLst/>
                <a:gdLst/>
                <a:ahLst/>
                <a:rect l="l" t="t" r="r" b="b"/>
                <a:pathLst>
                  <a:path w="822" h="417">
                    <a:moveTo>
                      <a:pt x="821" y="404"/>
                    </a:moveTo>
                    <a:lnTo>
                      <a:pt x="795" y="416"/>
                    </a:lnTo>
                    <a:lnTo>
                      <a:pt x="12" y="32"/>
                    </a:lnTo>
                    <a:lnTo>
                      <a:pt x="0" y="0"/>
                    </a:lnTo>
                    <a:lnTo>
                      <a:pt x="821" y="404"/>
                    </a:lnTo>
                    <a:lnTo>
                      <a:pt x="821" y="404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578720" y="8200800"/>
                <a:ext cx="395280" cy="144360"/>
              </a:xfrm>
              <a:custGeom>
                <a:avLst/>
                <a:gdLst/>
                <a:ahLst/>
                <a:rect l="l" t="t" r="r" b="b"/>
                <a:pathLst>
                  <a:path w="249" h="91">
                    <a:moveTo>
                      <a:pt x="8" y="0"/>
                    </a:moveTo>
                    <a:lnTo>
                      <a:pt x="11" y="0"/>
                    </a:lnTo>
                    <a:lnTo>
                      <a:pt x="248" y="74"/>
                    </a:lnTo>
                    <a:lnTo>
                      <a:pt x="246" y="90"/>
                    </a:lnTo>
                    <a:lnTo>
                      <a:pt x="0" y="1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061480" y="8200800"/>
                <a:ext cx="379440" cy="144360"/>
              </a:xfrm>
              <a:custGeom>
                <a:avLst/>
                <a:gdLst/>
                <a:ahLst/>
                <a:rect l="l" t="t" r="r" b="b"/>
                <a:pathLst>
                  <a:path w="239" h="91">
                    <a:moveTo>
                      <a:pt x="230" y="0"/>
                    </a:moveTo>
                    <a:lnTo>
                      <a:pt x="225" y="0"/>
                    </a:lnTo>
                    <a:lnTo>
                      <a:pt x="0" y="74"/>
                    </a:lnTo>
                    <a:lnTo>
                      <a:pt x="3" y="90"/>
                    </a:lnTo>
                    <a:lnTo>
                      <a:pt x="238" y="10"/>
                    </a:lnTo>
                    <a:lnTo>
                      <a:pt x="230" y="0"/>
                    </a:lnTo>
                    <a:lnTo>
                      <a:pt x="23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5638680" y="3581280"/>
            <a:ext cx="487044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Brush738 BT"/>
              </a:rPr>
              <a:t>Ahora el segundo de los enfoques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2: El principio GCU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250080"/>
            <a:ext cx="4191120" cy="4879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enes fuere que estén en el poder pudieran impu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o bien sus puntos de vis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 o lo que creen es el punto de vista de “la sociedad”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 o lo que creen que debiera ser el punto de vista de” la sociedad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probablemente basados en los puntos de vista de aquellos en el po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10080" y="3505320"/>
            <a:ext cx="555624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Brush738 BT"/>
              </a:rPr>
              <a:t>(Me temo que es algo cínico…)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181480" y="3522600"/>
            <a:ext cx="5736960" cy="4249080"/>
            <a:chOff x="5181480" y="3522600"/>
            <a:chExt cx="5736960" cy="4249080"/>
          </a:xfrm>
        </p:grpSpPr>
        <p:grpSp>
          <p:nvGrpSpPr>
            <p:cNvPr id="584" name=""/>
            <p:cNvGrpSpPr/>
            <p:nvPr/>
          </p:nvGrpSpPr>
          <p:grpSpPr>
            <a:xfrm>
              <a:off x="5181480" y="3522600"/>
              <a:ext cx="5736960" cy="4249080"/>
              <a:chOff x="5181480" y="3522600"/>
              <a:chExt cx="5736960" cy="4249080"/>
            </a:xfrm>
          </p:grpSpPr>
          <p:sp>
            <p:nvSpPr>
              <p:cNvPr id="585" name=""/>
              <p:cNvSpPr/>
              <p:nvPr/>
            </p:nvSpPr>
            <p:spPr>
              <a:xfrm>
                <a:off x="5181480" y="3522600"/>
                <a:ext cx="5736960" cy="4249080"/>
              </a:xfrm>
              <a:custGeom>
                <a:avLst/>
                <a:gdLst/>
                <a:ahLst/>
                <a:rect l="l" t="t" r="r" b="b"/>
                <a:pathLst>
                  <a:path w="4054" h="2207">
                    <a:moveTo>
                      <a:pt x="0" y="141"/>
                    </a:moveTo>
                    <a:lnTo>
                      <a:pt x="0" y="141"/>
                    </a:lnTo>
                    <a:lnTo>
                      <a:pt x="193" y="141"/>
                    </a:lnTo>
                    <a:lnTo>
                      <a:pt x="193" y="0"/>
                    </a:lnTo>
                    <a:lnTo>
                      <a:pt x="3867" y="0"/>
                    </a:lnTo>
                    <a:lnTo>
                      <a:pt x="3867" y="141"/>
                    </a:lnTo>
                    <a:lnTo>
                      <a:pt x="4053" y="141"/>
                    </a:lnTo>
                    <a:lnTo>
                      <a:pt x="4053" y="2070"/>
                    </a:lnTo>
                    <a:lnTo>
                      <a:pt x="3867" y="2070"/>
                    </a:lnTo>
                    <a:lnTo>
                      <a:pt x="3867" y="2206"/>
                    </a:lnTo>
                    <a:lnTo>
                      <a:pt x="193" y="2206"/>
                    </a:lnTo>
                    <a:lnTo>
                      <a:pt x="193" y="2070"/>
                    </a:lnTo>
                    <a:lnTo>
                      <a:pt x="0" y="2070"/>
                    </a:lnTo>
                    <a:lnTo>
                      <a:pt x="0" y="141"/>
                    </a:lnTo>
                    <a:lnTo>
                      <a:pt x="0" y="141"/>
                    </a:lnTo>
                  </a:path>
                </a:pathLst>
              </a:custGeom>
              <a:solidFill>
                <a:srgbClr val="008280"/>
              </a:solidFill>
              <a:ln w="31680">
                <a:solidFill>
                  <a:srgbClr val="0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508000" y="3664080"/>
                <a:ext cx="5010840" cy="399492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8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240520" y="3886920"/>
                <a:ext cx="5517360" cy="350244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570280" y="3731400"/>
                <a:ext cx="4934520" cy="10764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8280"/>
                  </a:gs>
                  <a:gs pos="50000">
                    <a:srgbClr val="e1e1e1"/>
                  </a:gs>
                  <a:gs pos="100000">
                    <a:srgbClr val="0082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581800" y="7490520"/>
                <a:ext cx="4921560" cy="140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8280"/>
                  </a:gs>
                  <a:gs pos="50000">
                    <a:srgbClr val="e1e1e1"/>
                  </a:gs>
                  <a:gs pos="100000">
                    <a:srgbClr val="0082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5299920" y="3975840"/>
                <a:ext cx="182520" cy="33231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-360 h 3323160"/>
                  <a:gd name="textAreaBottom" fmla="*/ 3323160 h 3323160"/>
                </a:gdLst>
                <a:ahLst/>
                <a:rect l="textAreaLeft" t="textAreaTop" r="textAreaRight" b="textAreaBottom"/>
                <a:pathLst>
                  <a:path w="21600" h="392542">
                    <a:moveTo>
                      <a:pt x="0" y="0"/>
                    </a:moveTo>
                    <a:arcTo wR="0" hR="0" stAng="16200000" swAng="-5400000"/>
                    <a:lnTo>
                      <a:pt x="0" y="392542"/>
                    </a:lnTo>
                    <a:arcTo wR="0" hR="0" stAng="10800000" swAng="-5400000"/>
                    <a:lnTo>
                      <a:pt x="21600" y="3925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008280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82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10560240" y="3975840"/>
                <a:ext cx="149760" cy="3323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-360 h 3323160"/>
                  <a:gd name="textAreaBottom" fmla="*/ 3323160 h 3323160"/>
                </a:gdLst>
                <a:ahLst/>
                <a:rect l="textAreaLeft" t="textAreaTop" r="textAreaRight" b="textAreaBottom"/>
                <a:pathLst>
                  <a:path w="21600" h="478204">
                    <a:moveTo>
                      <a:pt x="0" y="0"/>
                    </a:moveTo>
                    <a:arcTo wR="0" hR="0" stAng="16200000" swAng="-5400000"/>
                    <a:lnTo>
                      <a:pt x="0" y="478204"/>
                    </a:lnTo>
                    <a:arcTo wR="0" hR="0" stAng="10800000" swAng="-5400000"/>
                    <a:lnTo>
                      <a:pt x="21600" y="47820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008280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82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6346440" y="3877920"/>
              <a:ext cx="4419720" cy="32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ShelleyVolante BT"/>
                </a:rPr>
                <a:t>G </a:t>
              </a:r>
              <a:r>
                <a:rPr b="1" lang="en-GB" sz="6000" spc="-1" strike="noStrike">
                  <a:solidFill>
                    <a:srgbClr val="ffff00"/>
                  </a:solidFill>
                  <a:latin typeface="ShelleyVolante BT"/>
                </a:rPr>
                <a:t>ente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ShelleyVolante BT"/>
                </a:rPr>
                <a:t>C </a:t>
              </a:r>
              <a:r>
                <a:rPr b="1" lang="en-GB" sz="6000" spc="-1" strike="noStrike">
                  <a:solidFill>
                    <a:srgbClr val="ffff00"/>
                  </a:solidFill>
                  <a:latin typeface="ShelleyVolante BT"/>
                </a:rPr>
                <a:t>omo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ShelleyVolante BT"/>
                </a:rPr>
                <a:t>U </a:t>
              </a:r>
              <a:r>
                <a:rPr b="1" lang="en-GB" sz="6000" spc="-1" strike="noStrike">
                  <a:solidFill>
                    <a:srgbClr val="ffff00"/>
                  </a:solidFill>
                  <a:latin typeface="ShelleyVolante BT"/>
                </a:rPr>
                <a:t>no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ShelleyVolante BT"/>
                </a:rPr>
                <a:t>I </a:t>
              </a:r>
              <a:r>
                <a:rPr b="1" lang="en-GB" sz="6000" spc="-1" strike="noStrike">
                  <a:solidFill>
                    <a:srgbClr val="ffff00"/>
                  </a:solidFill>
                  <a:latin typeface="ShelleyVolante BT"/>
                </a:rPr>
                <a:t>mport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0812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1828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FBS y el ingreso n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40640" y="5867280"/>
            <a:ext cx="203688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FBS y la distribución del ingr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67280" y="5315040"/>
            <a:ext cx="4540320" cy="552240"/>
            <a:chOff x="4067280" y="5315040"/>
            <a:chExt cx="4540320" cy="552240"/>
          </a:xfrm>
        </p:grpSpPr>
        <p:sp>
          <p:nvSpPr>
            <p:cNvPr id="602" name=""/>
            <p:cNvSpPr/>
            <p:nvPr/>
          </p:nvSpPr>
          <p:spPr>
            <a:xfrm>
              <a:off x="633600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67280" y="561348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360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60616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6728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18200" y="5613480"/>
              <a:ext cx="1117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3600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610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124080" y="4091040"/>
            <a:ext cx="203688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incipios de 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3556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42080" y="408924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Economía del Bienestar 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 ABC de la FB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20120" y="586728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FBS y la distribución del ingr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29200" y="5410080"/>
            <a:ext cx="248616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Principios d Bienesta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9548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 ABC de la FB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 flipV="1">
            <a:off x="57240" y="1658520"/>
            <a:ext cx="10001160" cy="61135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304920" y="3809520"/>
            <a:ext cx="7315200" cy="152424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80880" y="5638320"/>
            <a:ext cx="8915400" cy="152424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04920" y="1980000"/>
            <a:ext cx="5486400" cy="121932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829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000000"/>
                </a:solidFill>
                <a:latin typeface="Times New Roman"/>
              </a:rPr>
              <a:t>Tomemos el modelo individualista del bienestar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0" y="1599840"/>
            <a:ext cx="5765760" cy="18288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...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0" y="3504960"/>
            <a:ext cx="7866000" cy="18288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 ,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=1,2,...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657600" y="5943600"/>
            <a:ext cx="57913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Brush738 BT"/>
              </a:rPr>
              <a:t>mi utilidad depende exclusivamente de mi cana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3428640" y="5181480"/>
            <a:ext cx="406440" cy="7812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262080" y="5486040"/>
            <a:ext cx="9796320" cy="18288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,...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" y="0"/>
            <a:ext cx="883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000000"/>
                </a:solidFill>
                <a:latin typeface="Times New Roman"/>
              </a:rPr>
              <a:t>Suponga que todos son egoístas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108205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..para obtener una FBS en términos de la asig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984920" y="2581200"/>
            <a:ext cx="4940280" cy="4535640"/>
            <a:chOff x="4984920" y="2581200"/>
            <a:chExt cx="4940280" cy="4535640"/>
          </a:xfrm>
        </p:grpSpPr>
        <p:sp>
          <p:nvSpPr>
            <p:cNvPr id="640" name=""/>
            <p:cNvSpPr/>
            <p:nvPr/>
          </p:nvSpPr>
          <p:spPr>
            <a:xfrm>
              <a:off x="4984920" y="2581200"/>
              <a:ext cx="4940280" cy="4535640"/>
            </a:xfrm>
            <a:custGeom>
              <a:avLst/>
              <a:gdLst/>
              <a:ahLst/>
              <a:rect l="l" t="t" r="r" b="b"/>
              <a:pathLst>
                <a:path w="3112" h="2857">
                  <a:moveTo>
                    <a:pt x="3111" y="1401"/>
                  </a:moveTo>
                  <a:lnTo>
                    <a:pt x="3111" y="1401"/>
                  </a:lnTo>
                  <a:lnTo>
                    <a:pt x="1278" y="0"/>
                  </a:lnTo>
                  <a:lnTo>
                    <a:pt x="1493" y="700"/>
                  </a:lnTo>
                  <a:lnTo>
                    <a:pt x="0" y="700"/>
                  </a:lnTo>
                  <a:lnTo>
                    <a:pt x="0" y="2201"/>
                  </a:lnTo>
                  <a:lnTo>
                    <a:pt x="1493" y="2201"/>
                  </a:lnTo>
                  <a:lnTo>
                    <a:pt x="1278" y="2856"/>
                  </a:lnTo>
                  <a:lnTo>
                    <a:pt x="3111" y="1401"/>
                  </a:lnTo>
                  <a:lnTo>
                    <a:pt x="3111" y="140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29200" y="4127400"/>
              <a:ext cx="3733920" cy="18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3600" spc="-1" strike="noStrike">
                  <a:solidFill>
                    <a:srgbClr val="ffffff"/>
                  </a:solidFill>
                  <a:latin typeface="Times New Roman"/>
                </a:rPr>
                <a:t>Veamos rapidamente un esquema de esto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828800" y="1676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Escoja una asignación alcanz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63360" y="1218240"/>
            <a:ext cx="9931680" cy="655956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63360" y="4511160"/>
            <a:ext cx="2652840" cy="2616120"/>
            <a:chOff x="63360" y="4511160"/>
            <a:chExt cx="2652840" cy="2616120"/>
          </a:xfrm>
        </p:grpSpPr>
        <p:sp>
          <p:nvSpPr>
            <p:cNvPr id="645" name=""/>
            <p:cNvSpPr/>
            <p:nvPr/>
          </p:nvSpPr>
          <p:spPr>
            <a:xfrm flipV="1">
              <a:off x="63360" y="4510800"/>
              <a:ext cx="2652840" cy="2616120"/>
            </a:xfrm>
            <a:prstGeom prst="roundRect">
              <a:avLst>
                <a:gd name="adj" fmla="val 10106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0920" y="5298840"/>
              <a:ext cx="1716120" cy="1560600"/>
            </a:xfrm>
            <a:custGeom>
              <a:avLst/>
              <a:gdLst/>
              <a:ahLst/>
              <a:rect l="l" t="t" r="r" b="b"/>
              <a:pathLst>
                <a:path w="1081" h="983">
                  <a:moveTo>
                    <a:pt x="14" y="0"/>
                  </a:moveTo>
                  <a:lnTo>
                    <a:pt x="14" y="0"/>
                  </a:lnTo>
                  <a:lnTo>
                    <a:pt x="14" y="979"/>
                  </a:lnTo>
                  <a:lnTo>
                    <a:pt x="1080" y="982"/>
                  </a:lnTo>
                  <a:lnTo>
                    <a:pt x="1080" y="982"/>
                  </a:lnTo>
                  <a:lnTo>
                    <a:pt x="1058" y="904"/>
                  </a:lnTo>
                  <a:lnTo>
                    <a:pt x="1053" y="884"/>
                  </a:lnTo>
                  <a:lnTo>
                    <a:pt x="1044" y="863"/>
                  </a:lnTo>
                  <a:lnTo>
                    <a:pt x="1036" y="838"/>
                  </a:lnTo>
                  <a:lnTo>
                    <a:pt x="1024" y="813"/>
                  </a:lnTo>
                  <a:lnTo>
                    <a:pt x="1014" y="787"/>
                  </a:lnTo>
                  <a:lnTo>
                    <a:pt x="1004" y="762"/>
                  </a:lnTo>
                  <a:lnTo>
                    <a:pt x="993" y="739"/>
                  </a:lnTo>
                  <a:lnTo>
                    <a:pt x="987" y="728"/>
                  </a:lnTo>
                  <a:lnTo>
                    <a:pt x="981" y="716"/>
                  </a:lnTo>
                  <a:lnTo>
                    <a:pt x="974" y="702"/>
                  </a:lnTo>
                  <a:lnTo>
                    <a:pt x="966" y="688"/>
                  </a:lnTo>
                  <a:lnTo>
                    <a:pt x="958" y="673"/>
                  </a:lnTo>
                  <a:lnTo>
                    <a:pt x="950" y="658"/>
                  </a:lnTo>
                  <a:lnTo>
                    <a:pt x="941" y="641"/>
                  </a:lnTo>
                  <a:lnTo>
                    <a:pt x="932" y="625"/>
                  </a:lnTo>
                  <a:lnTo>
                    <a:pt x="923" y="609"/>
                  </a:lnTo>
                  <a:lnTo>
                    <a:pt x="914" y="593"/>
                  </a:lnTo>
                  <a:lnTo>
                    <a:pt x="904" y="578"/>
                  </a:lnTo>
                  <a:lnTo>
                    <a:pt x="895" y="562"/>
                  </a:lnTo>
                  <a:lnTo>
                    <a:pt x="886" y="549"/>
                  </a:lnTo>
                  <a:lnTo>
                    <a:pt x="878" y="534"/>
                  </a:lnTo>
                  <a:lnTo>
                    <a:pt x="870" y="522"/>
                  </a:lnTo>
                  <a:lnTo>
                    <a:pt x="863" y="509"/>
                  </a:lnTo>
                  <a:lnTo>
                    <a:pt x="853" y="499"/>
                  </a:lnTo>
                  <a:lnTo>
                    <a:pt x="845" y="487"/>
                  </a:lnTo>
                  <a:lnTo>
                    <a:pt x="835" y="474"/>
                  </a:lnTo>
                  <a:lnTo>
                    <a:pt x="825" y="460"/>
                  </a:lnTo>
                  <a:lnTo>
                    <a:pt x="813" y="447"/>
                  </a:lnTo>
                  <a:lnTo>
                    <a:pt x="802" y="431"/>
                  </a:lnTo>
                  <a:lnTo>
                    <a:pt x="790" y="418"/>
                  </a:lnTo>
                  <a:lnTo>
                    <a:pt x="778" y="402"/>
                  </a:lnTo>
                  <a:lnTo>
                    <a:pt x="764" y="389"/>
                  </a:lnTo>
                  <a:lnTo>
                    <a:pt x="752" y="374"/>
                  </a:lnTo>
                  <a:lnTo>
                    <a:pt x="739" y="361"/>
                  </a:lnTo>
                  <a:lnTo>
                    <a:pt x="727" y="348"/>
                  </a:lnTo>
                  <a:lnTo>
                    <a:pt x="715" y="336"/>
                  </a:lnTo>
                  <a:lnTo>
                    <a:pt x="704" y="325"/>
                  </a:lnTo>
                  <a:lnTo>
                    <a:pt x="693" y="315"/>
                  </a:lnTo>
                  <a:lnTo>
                    <a:pt x="684" y="305"/>
                  </a:lnTo>
                  <a:lnTo>
                    <a:pt x="662" y="288"/>
                  </a:lnTo>
                  <a:lnTo>
                    <a:pt x="638" y="268"/>
                  </a:lnTo>
                  <a:lnTo>
                    <a:pt x="612" y="247"/>
                  </a:lnTo>
                  <a:lnTo>
                    <a:pt x="587" y="227"/>
                  </a:lnTo>
                  <a:lnTo>
                    <a:pt x="560" y="207"/>
                  </a:lnTo>
                  <a:lnTo>
                    <a:pt x="537" y="190"/>
                  </a:lnTo>
                  <a:lnTo>
                    <a:pt x="516" y="175"/>
                  </a:lnTo>
                  <a:lnTo>
                    <a:pt x="498" y="161"/>
                  </a:lnTo>
                  <a:lnTo>
                    <a:pt x="480" y="153"/>
                  </a:lnTo>
                  <a:lnTo>
                    <a:pt x="461" y="139"/>
                  </a:lnTo>
                  <a:lnTo>
                    <a:pt x="438" y="127"/>
                  </a:lnTo>
                  <a:lnTo>
                    <a:pt x="415" y="114"/>
                  </a:lnTo>
                  <a:lnTo>
                    <a:pt x="392" y="102"/>
                  </a:lnTo>
                  <a:lnTo>
                    <a:pt x="371" y="91"/>
                  </a:lnTo>
                  <a:lnTo>
                    <a:pt x="350" y="81"/>
                  </a:lnTo>
                  <a:lnTo>
                    <a:pt x="333" y="72"/>
                  </a:lnTo>
                  <a:lnTo>
                    <a:pt x="315" y="66"/>
                  </a:lnTo>
                  <a:lnTo>
                    <a:pt x="298" y="58"/>
                  </a:lnTo>
                  <a:lnTo>
                    <a:pt x="277" y="52"/>
                  </a:lnTo>
                  <a:lnTo>
                    <a:pt x="257" y="44"/>
                  </a:lnTo>
                  <a:lnTo>
                    <a:pt x="236" y="38"/>
                  </a:lnTo>
                  <a:lnTo>
                    <a:pt x="218" y="32"/>
                  </a:lnTo>
                  <a:lnTo>
                    <a:pt x="201" y="28"/>
                  </a:lnTo>
                  <a:lnTo>
                    <a:pt x="188" y="24"/>
                  </a:lnTo>
                  <a:lnTo>
                    <a:pt x="174" y="23"/>
                  </a:lnTo>
                  <a:lnTo>
                    <a:pt x="159" y="20"/>
                  </a:lnTo>
                  <a:lnTo>
                    <a:pt x="141" y="17"/>
                  </a:lnTo>
                  <a:lnTo>
                    <a:pt x="124" y="14"/>
                  </a:lnTo>
                  <a:lnTo>
                    <a:pt x="107" y="13"/>
                  </a:lnTo>
                  <a:lnTo>
                    <a:pt x="91" y="11"/>
                  </a:lnTo>
                  <a:lnTo>
                    <a:pt x="75" y="10"/>
                  </a:lnTo>
                  <a:lnTo>
                    <a:pt x="62" y="8"/>
                  </a:lnTo>
                  <a:lnTo>
                    <a:pt x="0" y="4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ffffc2"/>
                </a:gs>
              </a:gsLst>
              <a:lin ang="8100000"/>
            </a:gradFill>
            <a:ln w="316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66760" y="4689000"/>
              <a:ext cx="0" cy="218124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62080" y="6864120"/>
              <a:ext cx="2162160" cy="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93880" y="5954760"/>
              <a:ext cx="3096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388800" y="3711600"/>
            <a:ext cx="847800" cy="968400"/>
          </a:xfrm>
          <a:custGeom>
            <a:avLst/>
            <a:gdLst/>
            <a:ahLst/>
            <a:rect l="l" t="t" r="r" b="b"/>
            <a:pathLst>
              <a:path w="534" h="610">
                <a:moveTo>
                  <a:pt x="533" y="0"/>
                </a:moveTo>
                <a:lnTo>
                  <a:pt x="479" y="15"/>
                </a:lnTo>
                <a:lnTo>
                  <a:pt x="427" y="32"/>
                </a:lnTo>
                <a:lnTo>
                  <a:pt x="376" y="55"/>
                </a:lnTo>
                <a:lnTo>
                  <a:pt x="329" y="80"/>
                </a:lnTo>
                <a:lnTo>
                  <a:pt x="283" y="110"/>
                </a:lnTo>
                <a:lnTo>
                  <a:pt x="241" y="142"/>
                </a:lnTo>
                <a:lnTo>
                  <a:pt x="200" y="178"/>
                </a:lnTo>
                <a:lnTo>
                  <a:pt x="165" y="216"/>
                </a:lnTo>
                <a:lnTo>
                  <a:pt x="131" y="258"/>
                </a:lnTo>
                <a:lnTo>
                  <a:pt x="101" y="302"/>
                </a:lnTo>
                <a:lnTo>
                  <a:pt x="74" y="349"/>
                </a:lnTo>
                <a:lnTo>
                  <a:pt x="51" y="397"/>
                </a:lnTo>
                <a:lnTo>
                  <a:pt x="32" y="448"/>
                </a:lnTo>
                <a:lnTo>
                  <a:pt x="17" y="500"/>
                </a:lnTo>
                <a:lnTo>
                  <a:pt x="6" y="555"/>
                </a:lnTo>
                <a:lnTo>
                  <a:pt x="0" y="609"/>
                </a:lnTo>
              </a:path>
            </a:pathLst>
          </a:custGeom>
          <a:noFill/>
          <a:ln w="127080">
            <a:solidFill>
              <a:srgbClr val="ff0000"/>
            </a:solidFill>
            <a:round/>
            <a:headEnd len="med" type="triangle" w="med"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57400" y="1835280"/>
            <a:ext cx="2781360" cy="2211120"/>
          </a:xfrm>
          <a:custGeom>
            <a:avLst/>
            <a:gdLst/>
            <a:ahLst/>
            <a:rect l="l" t="t" r="r" b="b"/>
            <a:pathLst>
              <a:path w="1752" h="1393">
                <a:moveTo>
                  <a:pt x="971" y="3"/>
                </a:moveTo>
                <a:lnTo>
                  <a:pt x="808" y="0"/>
                </a:lnTo>
                <a:lnTo>
                  <a:pt x="657" y="18"/>
                </a:lnTo>
                <a:lnTo>
                  <a:pt x="519" y="55"/>
                </a:lnTo>
                <a:lnTo>
                  <a:pt x="396" y="109"/>
                </a:lnTo>
                <a:lnTo>
                  <a:pt x="286" y="177"/>
                </a:lnTo>
                <a:lnTo>
                  <a:pt x="193" y="258"/>
                </a:lnTo>
                <a:lnTo>
                  <a:pt x="117" y="349"/>
                </a:lnTo>
                <a:lnTo>
                  <a:pt x="59" y="447"/>
                </a:lnTo>
                <a:lnTo>
                  <a:pt x="20" y="552"/>
                </a:lnTo>
                <a:lnTo>
                  <a:pt x="0" y="660"/>
                </a:lnTo>
                <a:lnTo>
                  <a:pt x="2" y="770"/>
                </a:lnTo>
                <a:lnTo>
                  <a:pt x="27" y="878"/>
                </a:lnTo>
                <a:lnTo>
                  <a:pt x="74" y="984"/>
                </a:lnTo>
                <a:lnTo>
                  <a:pt x="146" y="1085"/>
                </a:lnTo>
                <a:lnTo>
                  <a:pt x="244" y="1178"/>
                </a:lnTo>
                <a:lnTo>
                  <a:pt x="369" y="1260"/>
                </a:lnTo>
                <a:lnTo>
                  <a:pt x="507" y="1327"/>
                </a:lnTo>
                <a:lnTo>
                  <a:pt x="649" y="1370"/>
                </a:lnTo>
                <a:lnTo>
                  <a:pt x="792" y="1392"/>
                </a:lnTo>
                <a:lnTo>
                  <a:pt x="934" y="1392"/>
                </a:lnTo>
                <a:lnTo>
                  <a:pt x="1071" y="1376"/>
                </a:lnTo>
                <a:lnTo>
                  <a:pt x="1201" y="1341"/>
                </a:lnTo>
                <a:lnTo>
                  <a:pt x="1324" y="1291"/>
                </a:lnTo>
                <a:lnTo>
                  <a:pt x="1436" y="1227"/>
                </a:lnTo>
                <a:lnTo>
                  <a:pt x="1533" y="1152"/>
                </a:lnTo>
                <a:lnTo>
                  <a:pt x="1617" y="1064"/>
                </a:lnTo>
                <a:lnTo>
                  <a:pt x="1682" y="968"/>
                </a:lnTo>
                <a:lnTo>
                  <a:pt x="1728" y="863"/>
                </a:lnTo>
                <a:lnTo>
                  <a:pt x="1751" y="753"/>
                </a:lnTo>
                <a:lnTo>
                  <a:pt x="1751" y="637"/>
                </a:lnTo>
                <a:lnTo>
                  <a:pt x="1723" y="519"/>
                </a:lnTo>
                <a:lnTo>
                  <a:pt x="1666" y="397"/>
                </a:lnTo>
              </a:path>
            </a:pathLst>
          </a:custGeom>
          <a:noFill/>
          <a:ln w="127080">
            <a:solidFill>
              <a:srgbClr val="ff81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74920" y="3033720"/>
            <a:ext cx="1947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60520" y="2278080"/>
            <a:ext cx="19461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0"/>
            <a:ext cx="10618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value niveles de utilidad de la función de utilidad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81480" y="1790640"/>
            <a:ext cx="4629240" cy="2211480"/>
          </a:xfrm>
          <a:custGeom>
            <a:avLst/>
            <a:gdLst/>
            <a:ahLst/>
            <a:rect l="l" t="t" r="r" b="b"/>
            <a:pathLst>
              <a:path w="2283" h="1393">
                <a:moveTo>
                  <a:pt x="1266" y="2"/>
                </a:moveTo>
                <a:lnTo>
                  <a:pt x="1053" y="0"/>
                </a:lnTo>
                <a:lnTo>
                  <a:pt x="857" y="18"/>
                </a:lnTo>
                <a:lnTo>
                  <a:pt x="676" y="54"/>
                </a:lnTo>
                <a:lnTo>
                  <a:pt x="515" y="108"/>
                </a:lnTo>
                <a:lnTo>
                  <a:pt x="372" y="177"/>
                </a:lnTo>
                <a:lnTo>
                  <a:pt x="252" y="257"/>
                </a:lnTo>
                <a:lnTo>
                  <a:pt x="152" y="348"/>
                </a:lnTo>
                <a:lnTo>
                  <a:pt x="77" y="446"/>
                </a:lnTo>
                <a:lnTo>
                  <a:pt x="25" y="552"/>
                </a:lnTo>
                <a:lnTo>
                  <a:pt x="0" y="660"/>
                </a:lnTo>
                <a:lnTo>
                  <a:pt x="3" y="770"/>
                </a:lnTo>
                <a:lnTo>
                  <a:pt x="35" y="878"/>
                </a:lnTo>
                <a:lnTo>
                  <a:pt x="97" y="984"/>
                </a:lnTo>
                <a:lnTo>
                  <a:pt x="191" y="1084"/>
                </a:lnTo>
                <a:lnTo>
                  <a:pt x="318" y="1177"/>
                </a:lnTo>
                <a:lnTo>
                  <a:pt x="480" y="1259"/>
                </a:lnTo>
                <a:lnTo>
                  <a:pt x="661" y="1326"/>
                </a:lnTo>
                <a:lnTo>
                  <a:pt x="847" y="1369"/>
                </a:lnTo>
                <a:lnTo>
                  <a:pt x="1033" y="1391"/>
                </a:lnTo>
                <a:lnTo>
                  <a:pt x="1217" y="1392"/>
                </a:lnTo>
                <a:lnTo>
                  <a:pt x="1394" y="1375"/>
                </a:lnTo>
                <a:lnTo>
                  <a:pt x="1566" y="1340"/>
                </a:lnTo>
                <a:lnTo>
                  <a:pt x="1725" y="1290"/>
                </a:lnTo>
                <a:lnTo>
                  <a:pt x="1871" y="1226"/>
                </a:lnTo>
                <a:lnTo>
                  <a:pt x="1999" y="1151"/>
                </a:lnTo>
                <a:lnTo>
                  <a:pt x="2107" y="1063"/>
                </a:lnTo>
                <a:lnTo>
                  <a:pt x="2193" y="967"/>
                </a:lnTo>
                <a:lnTo>
                  <a:pt x="2252" y="862"/>
                </a:lnTo>
                <a:lnTo>
                  <a:pt x="2282" y="753"/>
                </a:lnTo>
                <a:lnTo>
                  <a:pt x="2281" y="636"/>
                </a:lnTo>
                <a:lnTo>
                  <a:pt x="2245" y="518"/>
                </a:lnTo>
                <a:lnTo>
                  <a:pt x="2172" y="396"/>
                </a:lnTo>
              </a:path>
            </a:pathLst>
          </a:custGeom>
          <a:noFill/>
          <a:ln w="127080">
            <a:solidFill>
              <a:srgbClr val="ff81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40200" y="2959200"/>
            <a:ext cx="1131840" cy="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38680" y="2133720"/>
            <a:ext cx="4267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en-GB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638680" y="2870280"/>
            <a:ext cx="4267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en-GB" sz="4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10618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 partir de los niveles de utilidad evalue el bienesta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11800" y="5367240"/>
            <a:ext cx="3624480" cy="2212920"/>
          </a:xfrm>
          <a:custGeom>
            <a:avLst/>
            <a:gdLst/>
            <a:ahLst/>
            <a:rect l="l" t="t" r="r" b="b"/>
            <a:pathLst>
              <a:path w="2283" h="1394">
                <a:moveTo>
                  <a:pt x="1265" y="3"/>
                </a:moveTo>
                <a:lnTo>
                  <a:pt x="1053" y="0"/>
                </a:lnTo>
                <a:lnTo>
                  <a:pt x="856" y="19"/>
                </a:lnTo>
                <a:lnTo>
                  <a:pt x="676" y="55"/>
                </a:lnTo>
                <a:lnTo>
                  <a:pt x="515" y="109"/>
                </a:lnTo>
                <a:lnTo>
                  <a:pt x="372" y="177"/>
                </a:lnTo>
                <a:lnTo>
                  <a:pt x="251" y="258"/>
                </a:lnTo>
                <a:lnTo>
                  <a:pt x="151" y="349"/>
                </a:lnTo>
                <a:lnTo>
                  <a:pt x="76" y="447"/>
                </a:lnTo>
                <a:lnTo>
                  <a:pt x="24" y="553"/>
                </a:lnTo>
                <a:lnTo>
                  <a:pt x="0" y="661"/>
                </a:lnTo>
                <a:lnTo>
                  <a:pt x="3" y="770"/>
                </a:lnTo>
                <a:lnTo>
                  <a:pt x="34" y="878"/>
                </a:lnTo>
                <a:lnTo>
                  <a:pt x="96" y="985"/>
                </a:lnTo>
                <a:lnTo>
                  <a:pt x="190" y="1085"/>
                </a:lnTo>
                <a:lnTo>
                  <a:pt x="317" y="1178"/>
                </a:lnTo>
                <a:lnTo>
                  <a:pt x="479" y="1260"/>
                </a:lnTo>
                <a:lnTo>
                  <a:pt x="660" y="1327"/>
                </a:lnTo>
                <a:lnTo>
                  <a:pt x="846" y="1370"/>
                </a:lnTo>
                <a:lnTo>
                  <a:pt x="1032" y="1392"/>
                </a:lnTo>
                <a:lnTo>
                  <a:pt x="1216" y="1393"/>
                </a:lnTo>
                <a:lnTo>
                  <a:pt x="1394" y="1376"/>
                </a:lnTo>
                <a:lnTo>
                  <a:pt x="1565" y="1341"/>
                </a:lnTo>
                <a:lnTo>
                  <a:pt x="1725" y="1291"/>
                </a:lnTo>
                <a:lnTo>
                  <a:pt x="1871" y="1227"/>
                </a:lnTo>
                <a:lnTo>
                  <a:pt x="1998" y="1152"/>
                </a:lnTo>
                <a:lnTo>
                  <a:pt x="2107" y="1064"/>
                </a:lnTo>
                <a:lnTo>
                  <a:pt x="2192" y="968"/>
                </a:lnTo>
                <a:lnTo>
                  <a:pt x="2252" y="863"/>
                </a:lnTo>
                <a:lnTo>
                  <a:pt x="2282" y="753"/>
                </a:lnTo>
                <a:lnTo>
                  <a:pt x="2281" y="637"/>
                </a:lnTo>
                <a:lnTo>
                  <a:pt x="2245" y="519"/>
                </a:lnTo>
                <a:lnTo>
                  <a:pt x="2171" y="397"/>
                </a:lnTo>
              </a:path>
            </a:pathLst>
          </a:custGeom>
          <a:noFill/>
          <a:ln w="127080">
            <a:solidFill>
              <a:srgbClr val="ff81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470640" y="5969160"/>
            <a:ext cx="31305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055000" y="4167360"/>
            <a:ext cx="849240" cy="1049040"/>
          </a:xfrm>
          <a:custGeom>
            <a:avLst/>
            <a:gdLst/>
            <a:ahLst/>
            <a:rect l="l" t="t" r="r" b="b"/>
            <a:pathLst>
              <a:path w="535" h="661">
                <a:moveTo>
                  <a:pt x="534" y="660"/>
                </a:moveTo>
                <a:lnTo>
                  <a:pt x="519" y="607"/>
                </a:lnTo>
                <a:lnTo>
                  <a:pt x="501" y="555"/>
                </a:lnTo>
                <a:lnTo>
                  <a:pt x="481" y="504"/>
                </a:lnTo>
                <a:lnTo>
                  <a:pt x="458" y="454"/>
                </a:lnTo>
                <a:lnTo>
                  <a:pt x="432" y="406"/>
                </a:lnTo>
                <a:lnTo>
                  <a:pt x="404" y="359"/>
                </a:lnTo>
                <a:lnTo>
                  <a:pt x="373" y="314"/>
                </a:lnTo>
                <a:lnTo>
                  <a:pt x="341" y="270"/>
                </a:lnTo>
                <a:lnTo>
                  <a:pt x="305" y="230"/>
                </a:lnTo>
                <a:lnTo>
                  <a:pt x="267" y="190"/>
                </a:lnTo>
                <a:lnTo>
                  <a:pt x="227" y="153"/>
                </a:lnTo>
                <a:lnTo>
                  <a:pt x="186" y="117"/>
                </a:lnTo>
                <a:lnTo>
                  <a:pt x="142" y="85"/>
                </a:lnTo>
                <a:lnTo>
                  <a:pt x="96" y="54"/>
                </a:lnTo>
                <a:lnTo>
                  <a:pt x="48" y="26"/>
                </a:lnTo>
                <a:lnTo>
                  <a:pt x="0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  <a:headEnd len="med" type="triangle" w="med"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1523880"/>
            <a:ext cx="8945640" cy="5906880"/>
            <a:chOff x="1295280" y="1523880"/>
            <a:chExt cx="8945640" cy="5906880"/>
          </a:xfrm>
        </p:grpSpPr>
        <p:grpSp>
          <p:nvGrpSpPr>
            <p:cNvPr id="664" name=""/>
            <p:cNvGrpSpPr/>
            <p:nvPr/>
          </p:nvGrpSpPr>
          <p:grpSpPr>
            <a:xfrm>
              <a:off x="1295280" y="1523880"/>
              <a:ext cx="8945640" cy="5906880"/>
              <a:chOff x="1295280" y="1523880"/>
              <a:chExt cx="8945640" cy="5906880"/>
            </a:xfrm>
          </p:grpSpPr>
          <p:sp>
            <p:nvSpPr>
              <p:cNvPr id="665" name=""/>
              <p:cNvSpPr/>
              <p:nvPr/>
            </p:nvSpPr>
            <p:spPr>
              <a:xfrm>
                <a:off x="1689120" y="1523880"/>
                <a:ext cx="7640640" cy="5897520"/>
              </a:xfrm>
              <a:custGeom>
                <a:avLst/>
                <a:gdLst/>
                <a:ahLst/>
                <a:rect l="l" t="t" r="r" b="b"/>
                <a:pathLst>
                  <a:path w="4813" h="3715">
                    <a:moveTo>
                      <a:pt x="2395" y="1125"/>
                    </a:moveTo>
                    <a:lnTo>
                      <a:pt x="1719" y="866"/>
                    </a:lnTo>
                    <a:lnTo>
                      <a:pt x="1614" y="1240"/>
                    </a:lnTo>
                    <a:lnTo>
                      <a:pt x="189" y="787"/>
                    </a:lnTo>
                    <a:lnTo>
                      <a:pt x="1225" y="1687"/>
                    </a:lnTo>
                    <a:lnTo>
                      <a:pt x="419" y="1834"/>
                    </a:lnTo>
                    <a:lnTo>
                      <a:pt x="1172" y="2220"/>
                    </a:lnTo>
                    <a:lnTo>
                      <a:pt x="0" y="2781"/>
                    </a:lnTo>
                    <a:lnTo>
                      <a:pt x="1535" y="2519"/>
                    </a:lnTo>
                    <a:lnTo>
                      <a:pt x="1102" y="3124"/>
                    </a:lnTo>
                    <a:lnTo>
                      <a:pt x="2010" y="2865"/>
                    </a:lnTo>
                    <a:lnTo>
                      <a:pt x="2261" y="3714"/>
                    </a:lnTo>
                    <a:lnTo>
                      <a:pt x="2506" y="2865"/>
                    </a:lnTo>
                    <a:lnTo>
                      <a:pt x="3202" y="3234"/>
                    </a:lnTo>
                    <a:lnTo>
                      <a:pt x="3316" y="2703"/>
                    </a:lnTo>
                    <a:lnTo>
                      <a:pt x="4812" y="3296"/>
                    </a:lnTo>
                    <a:lnTo>
                      <a:pt x="3573" y="2297"/>
                    </a:lnTo>
                    <a:lnTo>
                      <a:pt x="4265" y="2054"/>
                    </a:lnTo>
                    <a:lnTo>
                      <a:pt x="3728" y="1760"/>
                    </a:lnTo>
                    <a:lnTo>
                      <a:pt x="4472" y="1119"/>
                    </a:lnTo>
                    <a:lnTo>
                      <a:pt x="3382" y="1297"/>
                    </a:lnTo>
                    <a:lnTo>
                      <a:pt x="3363" y="848"/>
                    </a:lnTo>
                    <a:lnTo>
                      <a:pt x="2916" y="1049"/>
                    </a:lnTo>
                    <a:lnTo>
                      <a:pt x="2719" y="0"/>
                    </a:lnTo>
                    <a:lnTo>
                      <a:pt x="2395" y="1125"/>
                    </a:lnTo>
                    <a:lnTo>
                      <a:pt x="2395" y="112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295280" y="1869840"/>
                <a:ext cx="8945640" cy="5560920"/>
              </a:xfrm>
              <a:custGeom>
                <a:avLst/>
                <a:gdLst/>
                <a:ahLst/>
                <a:rect l="l" t="t" r="r" b="b"/>
                <a:pathLst>
                  <a:path w="5635" h="3503">
                    <a:moveTo>
                      <a:pt x="1718" y="1010"/>
                    </a:moveTo>
                    <a:lnTo>
                      <a:pt x="624" y="1010"/>
                    </a:lnTo>
                    <a:lnTo>
                      <a:pt x="1432" y="1555"/>
                    </a:lnTo>
                    <a:lnTo>
                      <a:pt x="0" y="1953"/>
                    </a:lnTo>
                    <a:lnTo>
                      <a:pt x="1558" y="2082"/>
                    </a:lnTo>
                    <a:lnTo>
                      <a:pt x="1098" y="2601"/>
                    </a:lnTo>
                    <a:lnTo>
                      <a:pt x="1997" y="2499"/>
                    </a:lnTo>
                    <a:lnTo>
                      <a:pt x="1650" y="3502"/>
                    </a:lnTo>
                    <a:lnTo>
                      <a:pt x="2539" y="2531"/>
                    </a:lnTo>
                    <a:lnTo>
                      <a:pt x="2772" y="3192"/>
                    </a:lnTo>
                    <a:lnTo>
                      <a:pt x="3201" y="2542"/>
                    </a:lnTo>
                    <a:lnTo>
                      <a:pt x="4148" y="3032"/>
                    </a:lnTo>
                    <a:lnTo>
                      <a:pt x="3558" y="2287"/>
                    </a:lnTo>
                    <a:lnTo>
                      <a:pt x="4402" y="2199"/>
                    </a:lnTo>
                    <a:lnTo>
                      <a:pt x="4006" y="1750"/>
                    </a:lnTo>
                    <a:lnTo>
                      <a:pt x="5634" y="1415"/>
                    </a:lnTo>
                    <a:lnTo>
                      <a:pt x="3821" y="1321"/>
                    </a:lnTo>
                    <a:lnTo>
                      <a:pt x="4113" y="786"/>
                    </a:lnTo>
                    <a:lnTo>
                      <a:pt x="3450" y="849"/>
                    </a:lnTo>
                    <a:lnTo>
                      <a:pt x="3414" y="0"/>
                    </a:lnTo>
                    <a:lnTo>
                      <a:pt x="2782" y="851"/>
                    </a:lnTo>
                    <a:lnTo>
                      <a:pt x="2362" y="369"/>
                    </a:lnTo>
                    <a:lnTo>
                      <a:pt x="2217" y="744"/>
                    </a:lnTo>
                    <a:lnTo>
                      <a:pt x="1120" y="80"/>
                    </a:lnTo>
                    <a:lnTo>
                      <a:pt x="1718" y="1010"/>
                    </a:lnTo>
                    <a:lnTo>
                      <a:pt x="1718" y="101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3657600" y="3733560"/>
              <a:ext cx="4038480" cy="17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Brush738 BT"/>
                </a:rPr>
                <a:t>¿Qué le ocurre al bienestar si variamos la asignación en A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0" y="0"/>
            <a:ext cx="10618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interrogante básico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 flipV="1">
            <a:off x="0" y="1668960"/>
            <a:ext cx="10299600" cy="610236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685800" y="6095160"/>
            <a:ext cx="8610480" cy="16002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85800" y="4570920"/>
            <a:ext cx="7467480" cy="16002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85800" y="2970720"/>
            <a:ext cx="6934320" cy="16002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685800" y="1827720"/>
            <a:ext cx="6934320" cy="121932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9296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000000"/>
                </a:solidFill>
                <a:latin typeface="Times New Roman"/>
              </a:rPr>
              <a:t>El efecto sobre  </a:t>
            </a:r>
            <a:r>
              <a:rPr b="1" i="1" lang="en-GB" sz="57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GB" sz="5700" spc="-1" strike="noStrike">
                <a:solidFill>
                  <a:srgbClr val="000000"/>
                </a:solidFill>
                <a:latin typeface="Times New Roman"/>
              </a:rPr>
              <a:t> si se varía el bien i ..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0" y="1675440"/>
            <a:ext cx="7866000" cy="144756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 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57600" y="3886200"/>
            <a:ext cx="3656160" cy="2741760"/>
          </a:xfrm>
          <a:prstGeom prst="wedgeRoundRectCallout">
            <a:avLst>
              <a:gd name="adj1" fmla="val -45050"/>
              <a:gd name="adj2" fmla="val -86018"/>
              <a:gd name="adj3" fmla="val 16667"/>
            </a:avLst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La utilidad marginal obtenida por el individuo h del bien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0" y="2970720"/>
            <a:ext cx="7866000" cy="16002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 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0"/>
            <a:ext cx="9296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000000"/>
                </a:solidFill>
                <a:latin typeface="Times New Roman"/>
              </a:rPr>
              <a:t>El efecto sobre h si todos los bienes varían..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0" y="4570920"/>
            <a:ext cx="7866000" cy="16002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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0" y="6095160"/>
            <a:ext cx="10058400" cy="16002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h     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 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1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0"/>
            <a:ext cx="10058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000000"/>
                </a:solidFill>
                <a:latin typeface="Times New Roman"/>
              </a:rPr>
              <a:t>Cambios en la utilidad cambian el Bienestar ..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-380880" y="0"/>
            <a:ext cx="10439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de modo que cambios en las asignaciones cambian el bienesta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tilicemos esto para caracterizar un óptimo de bienesta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1752480"/>
            <a:ext cx="84265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2500"/>
              </a:spcBef>
              <a:buClr>
                <a:srgbClr val="00828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8280"/>
                </a:solidFill>
                <a:latin typeface="Times New Roman"/>
              </a:rPr>
              <a:t>Escribamos una FBS, definida en utilidades individu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500"/>
              </a:spcBef>
              <a:buClr>
                <a:srgbClr val="00828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8280"/>
                </a:solidFill>
                <a:latin typeface="Times New Roman"/>
              </a:rPr>
              <a:t>Introduzcamos restricciones de factibilidad sobre el consumo glob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500"/>
              </a:spcBef>
              <a:buClr>
                <a:srgbClr val="00828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8280"/>
                </a:solidFill>
                <a:latin typeface="Times New Roman"/>
              </a:rPr>
              <a:t>Establezcamos el  Lagrangea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500"/>
              </a:spcBef>
              <a:buClr>
                <a:srgbClr val="00828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8280"/>
                </a:solidFill>
                <a:latin typeface="Times New Roman"/>
              </a:rPr>
              <a:t>Resolvamos de la manera habitual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715000" y="5226120"/>
            <a:ext cx="4349160" cy="1936440"/>
            <a:chOff x="5715000" y="5226120"/>
            <a:chExt cx="4349160" cy="1936440"/>
          </a:xfrm>
        </p:grpSpPr>
        <p:sp>
          <p:nvSpPr>
            <p:cNvPr id="686" name=""/>
            <p:cNvSpPr/>
            <p:nvPr/>
          </p:nvSpPr>
          <p:spPr>
            <a:xfrm>
              <a:off x="6692760" y="5226120"/>
              <a:ext cx="3371400" cy="1839600"/>
            </a:xfrm>
            <a:custGeom>
              <a:avLst/>
              <a:gdLst/>
              <a:ahLst/>
              <a:rect l="l" t="t" r="r" b="b"/>
              <a:pathLst>
                <a:path w="1203" h="702">
                  <a:moveTo>
                    <a:pt x="1" y="123"/>
                  </a:moveTo>
                  <a:lnTo>
                    <a:pt x="4" y="121"/>
                  </a:lnTo>
                  <a:lnTo>
                    <a:pt x="8" y="119"/>
                  </a:lnTo>
                  <a:lnTo>
                    <a:pt x="12" y="118"/>
                  </a:lnTo>
                  <a:lnTo>
                    <a:pt x="16" y="117"/>
                  </a:lnTo>
                  <a:lnTo>
                    <a:pt x="20" y="118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3" y="119"/>
                  </a:lnTo>
                  <a:lnTo>
                    <a:pt x="51" y="119"/>
                  </a:lnTo>
                  <a:lnTo>
                    <a:pt x="59" y="119"/>
                  </a:lnTo>
                  <a:lnTo>
                    <a:pt x="69" y="118"/>
                  </a:lnTo>
                  <a:lnTo>
                    <a:pt x="80" y="118"/>
                  </a:lnTo>
                  <a:lnTo>
                    <a:pt x="91" y="115"/>
                  </a:lnTo>
                  <a:lnTo>
                    <a:pt x="104" y="112"/>
                  </a:lnTo>
                  <a:lnTo>
                    <a:pt x="119" y="107"/>
                  </a:lnTo>
                  <a:lnTo>
                    <a:pt x="127" y="105"/>
                  </a:lnTo>
                  <a:lnTo>
                    <a:pt x="136" y="101"/>
                  </a:lnTo>
                  <a:lnTo>
                    <a:pt x="145" y="98"/>
                  </a:lnTo>
                  <a:lnTo>
                    <a:pt x="155" y="93"/>
                  </a:lnTo>
                  <a:lnTo>
                    <a:pt x="165" y="90"/>
                  </a:lnTo>
                  <a:lnTo>
                    <a:pt x="177" y="84"/>
                  </a:lnTo>
                  <a:lnTo>
                    <a:pt x="188" y="79"/>
                  </a:lnTo>
                  <a:lnTo>
                    <a:pt x="199" y="73"/>
                  </a:lnTo>
                  <a:lnTo>
                    <a:pt x="208" y="70"/>
                  </a:lnTo>
                  <a:lnTo>
                    <a:pt x="219" y="64"/>
                  </a:lnTo>
                  <a:lnTo>
                    <a:pt x="229" y="59"/>
                  </a:lnTo>
                  <a:lnTo>
                    <a:pt x="241" y="53"/>
                  </a:lnTo>
                  <a:lnTo>
                    <a:pt x="250" y="50"/>
                  </a:lnTo>
                  <a:lnTo>
                    <a:pt x="260" y="44"/>
                  </a:lnTo>
                  <a:lnTo>
                    <a:pt x="268" y="40"/>
                  </a:lnTo>
                  <a:lnTo>
                    <a:pt x="277" y="36"/>
                  </a:lnTo>
                  <a:lnTo>
                    <a:pt x="283" y="34"/>
                  </a:lnTo>
                  <a:lnTo>
                    <a:pt x="289" y="31"/>
                  </a:lnTo>
                  <a:lnTo>
                    <a:pt x="296" y="29"/>
                  </a:lnTo>
                  <a:lnTo>
                    <a:pt x="304" y="25"/>
                  </a:lnTo>
                  <a:lnTo>
                    <a:pt x="312" y="23"/>
                  </a:lnTo>
                  <a:lnTo>
                    <a:pt x="321" y="20"/>
                  </a:lnTo>
                  <a:lnTo>
                    <a:pt x="329" y="17"/>
                  </a:lnTo>
                  <a:lnTo>
                    <a:pt x="339" y="13"/>
                  </a:lnTo>
                  <a:lnTo>
                    <a:pt x="346" y="12"/>
                  </a:lnTo>
                  <a:lnTo>
                    <a:pt x="355" y="9"/>
                  </a:lnTo>
                  <a:lnTo>
                    <a:pt x="364" y="7"/>
                  </a:lnTo>
                  <a:lnTo>
                    <a:pt x="373" y="4"/>
                  </a:lnTo>
                  <a:lnTo>
                    <a:pt x="381" y="3"/>
                  </a:lnTo>
                  <a:lnTo>
                    <a:pt x="389" y="2"/>
                  </a:lnTo>
                  <a:lnTo>
                    <a:pt x="395" y="2"/>
                  </a:lnTo>
                  <a:lnTo>
                    <a:pt x="402" y="0"/>
                  </a:lnTo>
                  <a:lnTo>
                    <a:pt x="408" y="2"/>
                  </a:lnTo>
                  <a:lnTo>
                    <a:pt x="414" y="2"/>
                  </a:lnTo>
                  <a:lnTo>
                    <a:pt x="422" y="4"/>
                  </a:lnTo>
                  <a:lnTo>
                    <a:pt x="429" y="5"/>
                  </a:lnTo>
                  <a:lnTo>
                    <a:pt x="437" y="9"/>
                  </a:lnTo>
                  <a:lnTo>
                    <a:pt x="444" y="11"/>
                  </a:lnTo>
                  <a:lnTo>
                    <a:pt x="452" y="14"/>
                  </a:lnTo>
                  <a:lnTo>
                    <a:pt x="461" y="16"/>
                  </a:lnTo>
                  <a:lnTo>
                    <a:pt x="469" y="20"/>
                  </a:lnTo>
                  <a:lnTo>
                    <a:pt x="476" y="23"/>
                  </a:lnTo>
                  <a:lnTo>
                    <a:pt x="483" y="27"/>
                  </a:lnTo>
                  <a:lnTo>
                    <a:pt x="492" y="29"/>
                  </a:lnTo>
                  <a:lnTo>
                    <a:pt x="499" y="31"/>
                  </a:lnTo>
                  <a:lnTo>
                    <a:pt x="506" y="33"/>
                  </a:lnTo>
                  <a:lnTo>
                    <a:pt x="512" y="35"/>
                  </a:lnTo>
                  <a:lnTo>
                    <a:pt x="519" y="35"/>
                  </a:lnTo>
                  <a:lnTo>
                    <a:pt x="530" y="36"/>
                  </a:lnTo>
                  <a:lnTo>
                    <a:pt x="551" y="36"/>
                  </a:lnTo>
                  <a:lnTo>
                    <a:pt x="581" y="36"/>
                  </a:lnTo>
                  <a:lnTo>
                    <a:pt x="618" y="36"/>
                  </a:lnTo>
                  <a:lnTo>
                    <a:pt x="660" y="37"/>
                  </a:lnTo>
                  <a:lnTo>
                    <a:pt x="707" y="37"/>
                  </a:lnTo>
                  <a:lnTo>
                    <a:pt x="757" y="37"/>
                  </a:lnTo>
                  <a:lnTo>
                    <a:pt x="809" y="37"/>
                  </a:lnTo>
                  <a:lnTo>
                    <a:pt x="859" y="39"/>
                  </a:lnTo>
                  <a:lnTo>
                    <a:pt x="910" y="39"/>
                  </a:lnTo>
                  <a:lnTo>
                    <a:pt x="957" y="41"/>
                  </a:lnTo>
                  <a:lnTo>
                    <a:pt x="1001" y="42"/>
                  </a:lnTo>
                  <a:lnTo>
                    <a:pt x="1039" y="45"/>
                  </a:lnTo>
                  <a:lnTo>
                    <a:pt x="1072" y="47"/>
                  </a:lnTo>
                  <a:lnTo>
                    <a:pt x="1096" y="51"/>
                  </a:lnTo>
                  <a:lnTo>
                    <a:pt x="1111" y="55"/>
                  </a:lnTo>
                  <a:lnTo>
                    <a:pt x="1121" y="58"/>
                  </a:lnTo>
                  <a:lnTo>
                    <a:pt x="1134" y="63"/>
                  </a:lnTo>
                  <a:lnTo>
                    <a:pt x="1147" y="70"/>
                  </a:lnTo>
                  <a:lnTo>
                    <a:pt x="1160" y="77"/>
                  </a:lnTo>
                  <a:lnTo>
                    <a:pt x="1171" y="88"/>
                  </a:lnTo>
                  <a:lnTo>
                    <a:pt x="1182" y="98"/>
                  </a:lnTo>
                  <a:lnTo>
                    <a:pt x="1191" y="110"/>
                  </a:lnTo>
                  <a:lnTo>
                    <a:pt x="1199" y="121"/>
                  </a:lnTo>
                  <a:lnTo>
                    <a:pt x="1202" y="135"/>
                  </a:lnTo>
                  <a:lnTo>
                    <a:pt x="1202" y="148"/>
                  </a:lnTo>
                  <a:lnTo>
                    <a:pt x="1197" y="161"/>
                  </a:lnTo>
                  <a:lnTo>
                    <a:pt x="1189" y="173"/>
                  </a:lnTo>
                  <a:lnTo>
                    <a:pt x="1174" y="186"/>
                  </a:lnTo>
                  <a:lnTo>
                    <a:pt x="1153" y="197"/>
                  </a:lnTo>
                  <a:lnTo>
                    <a:pt x="1126" y="207"/>
                  </a:lnTo>
                  <a:lnTo>
                    <a:pt x="1093" y="216"/>
                  </a:lnTo>
                  <a:lnTo>
                    <a:pt x="1084" y="216"/>
                  </a:lnTo>
                  <a:lnTo>
                    <a:pt x="1068" y="216"/>
                  </a:lnTo>
                  <a:lnTo>
                    <a:pt x="1046" y="216"/>
                  </a:lnTo>
                  <a:lnTo>
                    <a:pt x="1018" y="216"/>
                  </a:lnTo>
                  <a:lnTo>
                    <a:pt x="985" y="216"/>
                  </a:lnTo>
                  <a:lnTo>
                    <a:pt x="949" y="216"/>
                  </a:lnTo>
                  <a:lnTo>
                    <a:pt x="911" y="216"/>
                  </a:lnTo>
                  <a:lnTo>
                    <a:pt x="873" y="216"/>
                  </a:lnTo>
                  <a:lnTo>
                    <a:pt x="834" y="216"/>
                  </a:lnTo>
                  <a:lnTo>
                    <a:pt x="797" y="216"/>
                  </a:lnTo>
                  <a:lnTo>
                    <a:pt x="762" y="216"/>
                  </a:lnTo>
                  <a:lnTo>
                    <a:pt x="731" y="216"/>
                  </a:lnTo>
                  <a:lnTo>
                    <a:pt x="704" y="216"/>
                  </a:lnTo>
                  <a:lnTo>
                    <a:pt x="684" y="216"/>
                  </a:lnTo>
                  <a:lnTo>
                    <a:pt x="671" y="216"/>
                  </a:lnTo>
                  <a:lnTo>
                    <a:pt x="667" y="216"/>
                  </a:lnTo>
                  <a:lnTo>
                    <a:pt x="673" y="219"/>
                  </a:lnTo>
                  <a:lnTo>
                    <a:pt x="681" y="221"/>
                  </a:lnTo>
                  <a:lnTo>
                    <a:pt x="692" y="226"/>
                  </a:lnTo>
                  <a:lnTo>
                    <a:pt x="705" y="230"/>
                  </a:lnTo>
                  <a:lnTo>
                    <a:pt x="718" y="237"/>
                  </a:lnTo>
                  <a:lnTo>
                    <a:pt x="733" y="244"/>
                  </a:lnTo>
                  <a:lnTo>
                    <a:pt x="745" y="253"/>
                  </a:lnTo>
                  <a:lnTo>
                    <a:pt x="760" y="262"/>
                  </a:lnTo>
                  <a:lnTo>
                    <a:pt x="772" y="274"/>
                  </a:lnTo>
                  <a:lnTo>
                    <a:pt x="784" y="285"/>
                  </a:lnTo>
                  <a:lnTo>
                    <a:pt x="792" y="300"/>
                  </a:lnTo>
                  <a:lnTo>
                    <a:pt x="800" y="314"/>
                  </a:lnTo>
                  <a:lnTo>
                    <a:pt x="803" y="331"/>
                  </a:lnTo>
                  <a:lnTo>
                    <a:pt x="803" y="347"/>
                  </a:lnTo>
                  <a:lnTo>
                    <a:pt x="800" y="367"/>
                  </a:lnTo>
                  <a:lnTo>
                    <a:pt x="793" y="386"/>
                  </a:lnTo>
                  <a:lnTo>
                    <a:pt x="801" y="395"/>
                  </a:lnTo>
                  <a:lnTo>
                    <a:pt x="809" y="403"/>
                  </a:lnTo>
                  <a:lnTo>
                    <a:pt x="817" y="411"/>
                  </a:lnTo>
                  <a:lnTo>
                    <a:pt x="824" y="419"/>
                  </a:lnTo>
                  <a:lnTo>
                    <a:pt x="830" y="428"/>
                  </a:lnTo>
                  <a:lnTo>
                    <a:pt x="836" y="435"/>
                  </a:lnTo>
                  <a:lnTo>
                    <a:pt x="840" y="443"/>
                  </a:lnTo>
                  <a:lnTo>
                    <a:pt x="845" y="450"/>
                  </a:lnTo>
                  <a:lnTo>
                    <a:pt x="847" y="460"/>
                  </a:lnTo>
                  <a:lnTo>
                    <a:pt x="849" y="467"/>
                  </a:lnTo>
                  <a:lnTo>
                    <a:pt x="849" y="477"/>
                  </a:lnTo>
                  <a:lnTo>
                    <a:pt x="849" y="484"/>
                  </a:lnTo>
                  <a:lnTo>
                    <a:pt x="845" y="493"/>
                  </a:lnTo>
                  <a:lnTo>
                    <a:pt x="842" y="502"/>
                  </a:lnTo>
                  <a:lnTo>
                    <a:pt x="836" y="512"/>
                  </a:lnTo>
                  <a:lnTo>
                    <a:pt x="829" y="521"/>
                  </a:lnTo>
                  <a:lnTo>
                    <a:pt x="835" y="531"/>
                  </a:lnTo>
                  <a:lnTo>
                    <a:pt x="840" y="540"/>
                  </a:lnTo>
                  <a:lnTo>
                    <a:pt x="846" y="551"/>
                  </a:lnTo>
                  <a:lnTo>
                    <a:pt x="852" y="562"/>
                  </a:lnTo>
                  <a:lnTo>
                    <a:pt x="854" y="575"/>
                  </a:lnTo>
                  <a:lnTo>
                    <a:pt x="856" y="586"/>
                  </a:lnTo>
                  <a:lnTo>
                    <a:pt x="855" y="599"/>
                  </a:lnTo>
                  <a:lnTo>
                    <a:pt x="852" y="610"/>
                  </a:lnTo>
                  <a:lnTo>
                    <a:pt x="844" y="623"/>
                  </a:lnTo>
                  <a:lnTo>
                    <a:pt x="833" y="634"/>
                  </a:lnTo>
                  <a:lnTo>
                    <a:pt x="817" y="646"/>
                  </a:lnTo>
                  <a:lnTo>
                    <a:pt x="797" y="657"/>
                  </a:lnTo>
                  <a:lnTo>
                    <a:pt x="770" y="667"/>
                  </a:lnTo>
                  <a:lnTo>
                    <a:pt x="738" y="676"/>
                  </a:lnTo>
                  <a:lnTo>
                    <a:pt x="699" y="684"/>
                  </a:lnTo>
                  <a:lnTo>
                    <a:pt x="654" y="691"/>
                  </a:lnTo>
                  <a:lnTo>
                    <a:pt x="644" y="692"/>
                  </a:lnTo>
                  <a:lnTo>
                    <a:pt x="635" y="694"/>
                  </a:lnTo>
                  <a:lnTo>
                    <a:pt x="627" y="696"/>
                  </a:lnTo>
                  <a:lnTo>
                    <a:pt x="619" y="697"/>
                  </a:lnTo>
                  <a:lnTo>
                    <a:pt x="612" y="699"/>
                  </a:lnTo>
                  <a:lnTo>
                    <a:pt x="606" y="699"/>
                  </a:lnTo>
                  <a:lnTo>
                    <a:pt x="599" y="701"/>
                  </a:lnTo>
                  <a:lnTo>
                    <a:pt x="593" y="701"/>
                  </a:lnTo>
                  <a:lnTo>
                    <a:pt x="586" y="701"/>
                  </a:lnTo>
                  <a:lnTo>
                    <a:pt x="579" y="701"/>
                  </a:lnTo>
                  <a:lnTo>
                    <a:pt x="572" y="700"/>
                  </a:lnTo>
                  <a:lnTo>
                    <a:pt x="565" y="698"/>
                  </a:lnTo>
                  <a:lnTo>
                    <a:pt x="556" y="696"/>
                  </a:lnTo>
                  <a:lnTo>
                    <a:pt x="548" y="693"/>
                  </a:lnTo>
                  <a:lnTo>
                    <a:pt x="537" y="689"/>
                  </a:lnTo>
                  <a:lnTo>
                    <a:pt x="527" y="684"/>
                  </a:lnTo>
                  <a:lnTo>
                    <a:pt x="465" y="683"/>
                  </a:lnTo>
                  <a:lnTo>
                    <a:pt x="412" y="679"/>
                  </a:lnTo>
                  <a:lnTo>
                    <a:pt x="364" y="674"/>
                  </a:lnTo>
                  <a:lnTo>
                    <a:pt x="323" y="667"/>
                  </a:lnTo>
                  <a:lnTo>
                    <a:pt x="287" y="660"/>
                  </a:lnTo>
                  <a:lnTo>
                    <a:pt x="257" y="651"/>
                  </a:lnTo>
                  <a:lnTo>
                    <a:pt x="231" y="642"/>
                  </a:lnTo>
                  <a:lnTo>
                    <a:pt x="209" y="631"/>
                  </a:lnTo>
                  <a:lnTo>
                    <a:pt x="189" y="622"/>
                  </a:lnTo>
                  <a:lnTo>
                    <a:pt x="173" y="613"/>
                  </a:lnTo>
                  <a:lnTo>
                    <a:pt x="158" y="603"/>
                  </a:lnTo>
                  <a:lnTo>
                    <a:pt x="145" y="594"/>
                  </a:lnTo>
                  <a:lnTo>
                    <a:pt x="132" y="586"/>
                  </a:lnTo>
                  <a:lnTo>
                    <a:pt x="121" y="579"/>
                  </a:lnTo>
                  <a:lnTo>
                    <a:pt x="109" y="575"/>
                  </a:lnTo>
                  <a:lnTo>
                    <a:pt x="97" y="569"/>
                  </a:lnTo>
                  <a:lnTo>
                    <a:pt x="91" y="569"/>
                  </a:lnTo>
                  <a:lnTo>
                    <a:pt x="85" y="569"/>
                  </a:lnTo>
                  <a:lnTo>
                    <a:pt x="79" y="569"/>
                  </a:lnTo>
                  <a:lnTo>
                    <a:pt x="73" y="569"/>
                  </a:lnTo>
                  <a:lnTo>
                    <a:pt x="66" y="569"/>
                  </a:lnTo>
                  <a:lnTo>
                    <a:pt x="59" y="569"/>
                  </a:lnTo>
                  <a:lnTo>
                    <a:pt x="52" y="569"/>
                  </a:lnTo>
                  <a:lnTo>
                    <a:pt x="45" y="569"/>
                  </a:lnTo>
                  <a:lnTo>
                    <a:pt x="38" y="569"/>
                  </a:lnTo>
                  <a:lnTo>
                    <a:pt x="31" y="569"/>
                  </a:lnTo>
                  <a:lnTo>
                    <a:pt x="23" y="569"/>
                  </a:lnTo>
                  <a:lnTo>
                    <a:pt x="18" y="568"/>
                  </a:lnTo>
                  <a:lnTo>
                    <a:pt x="12" y="567"/>
                  </a:lnTo>
                  <a:lnTo>
                    <a:pt x="7" y="566"/>
                  </a:lnTo>
                  <a:lnTo>
                    <a:pt x="3" y="564"/>
                  </a:lnTo>
                  <a:lnTo>
                    <a:pt x="0" y="560"/>
                  </a:lnTo>
                  <a:lnTo>
                    <a:pt x="0" y="556"/>
                  </a:lnTo>
                  <a:lnTo>
                    <a:pt x="0" y="543"/>
                  </a:lnTo>
                  <a:lnTo>
                    <a:pt x="0" y="523"/>
                  </a:lnTo>
                  <a:lnTo>
                    <a:pt x="1" y="495"/>
                  </a:lnTo>
                  <a:lnTo>
                    <a:pt x="1" y="463"/>
                  </a:lnTo>
                  <a:lnTo>
                    <a:pt x="1" y="426"/>
                  </a:lnTo>
                  <a:lnTo>
                    <a:pt x="1" y="387"/>
                  </a:lnTo>
                  <a:lnTo>
                    <a:pt x="2" y="345"/>
                  </a:lnTo>
                  <a:lnTo>
                    <a:pt x="2" y="305"/>
                  </a:lnTo>
                  <a:lnTo>
                    <a:pt x="2" y="265"/>
                  </a:lnTo>
                  <a:lnTo>
                    <a:pt x="2" y="229"/>
                  </a:lnTo>
                  <a:lnTo>
                    <a:pt x="2" y="195"/>
                  </a:lnTo>
                  <a:lnTo>
                    <a:pt x="1" y="167"/>
                  </a:lnTo>
                  <a:lnTo>
                    <a:pt x="1" y="145"/>
                  </a:lnTo>
                  <a:lnTo>
                    <a:pt x="1" y="129"/>
                  </a:lnTo>
                  <a:lnTo>
                    <a:pt x="1" y="123"/>
                  </a:lnTo>
                  <a:lnTo>
                    <a:pt x="1" y="123"/>
                  </a:lnTo>
                </a:path>
              </a:pathLst>
            </a:custGeom>
            <a:solidFill>
              <a:srgbClr val="ff814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24520" y="5320440"/>
              <a:ext cx="885240" cy="804240"/>
            </a:xfrm>
            <a:custGeom>
              <a:avLst/>
              <a:gdLst/>
              <a:ahLst/>
              <a:rect l="l" t="t" r="r" b="b"/>
              <a:pathLst>
                <a:path w="316" h="307">
                  <a:moveTo>
                    <a:pt x="148" y="0"/>
                  </a:moveTo>
                  <a:lnTo>
                    <a:pt x="149" y="3"/>
                  </a:lnTo>
                  <a:lnTo>
                    <a:pt x="155" y="9"/>
                  </a:lnTo>
                  <a:lnTo>
                    <a:pt x="162" y="18"/>
                  </a:lnTo>
                  <a:lnTo>
                    <a:pt x="173" y="30"/>
                  </a:lnTo>
                  <a:lnTo>
                    <a:pt x="185" y="45"/>
                  </a:lnTo>
                  <a:lnTo>
                    <a:pt x="199" y="62"/>
                  </a:lnTo>
                  <a:lnTo>
                    <a:pt x="213" y="80"/>
                  </a:lnTo>
                  <a:lnTo>
                    <a:pt x="230" y="98"/>
                  </a:lnTo>
                  <a:lnTo>
                    <a:pt x="244" y="119"/>
                  </a:lnTo>
                  <a:lnTo>
                    <a:pt x="259" y="137"/>
                  </a:lnTo>
                  <a:lnTo>
                    <a:pt x="273" y="156"/>
                  </a:lnTo>
                  <a:lnTo>
                    <a:pt x="287" y="173"/>
                  </a:lnTo>
                  <a:lnTo>
                    <a:pt x="297" y="191"/>
                  </a:lnTo>
                  <a:lnTo>
                    <a:pt x="306" y="205"/>
                  </a:lnTo>
                  <a:lnTo>
                    <a:pt x="311" y="217"/>
                  </a:lnTo>
                  <a:lnTo>
                    <a:pt x="315" y="225"/>
                  </a:lnTo>
                  <a:lnTo>
                    <a:pt x="314" y="230"/>
                  </a:lnTo>
                  <a:lnTo>
                    <a:pt x="314" y="236"/>
                  </a:lnTo>
                  <a:lnTo>
                    <a:pt x="312" y="244"/>
                  </a:lnTo>
                  <a:lnTo>
                    <a:pt x="310" y="251"/>
                  </a:lnTo>
                  <a:lnTo>
                    <a:pt x="307" y="261"/>
                  </a:lnTo>
                  <a:lnTo>
                    <a:pt x="302" y="269"/>
                  </a:lnTo>
                  <a:lnTo>
                    <a:pt x="296" y="278"/>
                  </a:lnTo>
                  <a:lnTo>
                    <a:pt x="289" y="286"/>
                  </a:lnTo>
                  <a:lnTo>
                    <a:pt x="279" y="294"/>
                  </a:lnTo>
                  <a:lnTo>
                    <a:pt x="269" y="300"/>
                  </a:lnTo>
                  <a:lnTo>
                    <a:pt x="257" y="305"/>
                  </a:lnTo>
                  <a:lnTo>
                    <a:pt x="242" y="306"/>
                  </a:lnTo>
                  <a:lnTo>
                    <a:pt x="225" y="306"/>
                  </a:lnTo>
                  <a:lnTo>
                    <a:pt x="206" y="303"/>
                  </a:lnTo>
                  <a:lnTo>
                    <a:pt x="185" y="297"/>
                  </a:lnTo>
                  <a:lnTo>
                    <a:pt x="161" y="286"/>
                  </a:lnTo>
                  <a:lnTo>
                    <a:pt x="151" y="284"/>
                  </a:lnTo>
                  <a:lnTo>
                    <a:pt x="141" y="278"/>
                  </a:lnTo>
                  <a:lnTo>
                    <a:pt x="129" y="272"/>
                  </a:lnTo>
                  <a:lnTo>
                    <a:pt x="118" y="264"/>
                  </a:lnTo>
                  <a:lnTo>
                    <a:pt x="104" y="256"/>
                  </a:lnTo>
                  <a:lnTo>
                    <a:pt x="91" y="247"/>
                  </a:lnTo>
                  <a:lnTo>
                    <a:pt x="78" y="237"/>
                  </a:lnTo>
                  <a:lnTo>
                    <a:pt x="65" y="227"/>
                  </a:lnTo>
                  <a:lnTo>
                    <a:pt x="52" y="218"/>
                  </a:lnTo>
                  <a:lnTo>
                    <a:pt x="39" y="208"/>
                  </a:lnTo>
                  <a:lnTo>
                    <a:pt x="28" y="201"/>
                  </a:lnTo>
                  <a:lnTo>
                    <a:pt x="19" y="192"/>
                  </a:lnTo>
                  <a:lnTo>
                    <a:pt x="11" y="187"/>
                  </a:lnTo>
                  <a:lnTo>
                    <a:pt x="5" y="181"/>
                  </a:lnTo>
                  <a:lnTo>
                    <a:pt x="1" y="179"/>
                  </a:lnTo>
                  <a:lnTo>
                    <a:pt x="0" y="1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062840" y="6006600"/>
              <a:ext cx="975240" cy="275040"/>
            </a:xfrm>
            <a:custGeom>
              <a:avLst/>
              <a:gdLst/>
              <a:ahLst/>
              <a:rect l="l" t="t" r="r" b="b"/>
              <a:pathLst>
                <a:path w="348" h="105">
                  <a:moveTo>
                    <a:pt x="0" y="73"/>
                  </a:moveTo>
                  <a:lnTo>
                    <a:pt x="2" y="74"/>
                  </a:lnTo>
                  <a:lnTo>
                    <a:pt x="9" y="77"/>
                  </a:lnTo>
                  <a:lnTo>
                    <a:pt x="19" y="81"/>
                  </a:lnTo>
                  <a:lnTo>
                    <a:pt x="35" y="85"/>
                  </a:lnTo>
                  <a:lnTo>
                    <a:pt x="51" y="91"/>
                  </a:lnTo>
                  <a:lnTo>
                    <a:pt x="73" y="95"/>
                  </a:lnTo>
                  <a:lnTo>
                    <a:pt x="94" y="99"/>
                  </a:lnTo>
                  <a:lnTo>
                    <a:pt x="119" y="102"/>
                  </a:lnTo>
                  <a:lnTo>
                    <a:pt x="144" y="104"/>
                  </a:lnTo>
                  <a:lnTo>
                    <a:pt x="171" y="104"/>
                  </a:lnTo>
                  <a:lnTo>
                    <a:pt x="197" y="103"/>
                  </a:lnTo>
                  <a:lnTo>
                    <a:pt x="223" y="97"/>
                  </a:lnTo>
                  <a:lnTo>
                    <a:pt x="248" y="90"/>
                  </a:lnTo>
                  <a:lnTo>
                    <a:pt x="273" y="79"/>
                  </a:lnTo>
                  <a:lnTo>
                    <a:pt x="296" y="64"/>
                  </a:lnTo>
                  <a:lnTo>
                    <a:pt x="317" y="44"/>
                  </a:lnTo>
                  <a:lnTo>
                    <a:pt x="319" y="43"/>
                  </a:lnTo>
                  <a:lnTo>
                    <a:pt x="321" y="39"/>
                  </a:lnTo>
                  <a:lnTo>
                    <a:pt x="323" y="36"/>
                  </a:lnTo>
                  <a:lnTo>
                    <a:pt x="327" y="33"/>
                  </a:lnTo>
                  <a:lnTo>
                    <a:pt x="329" y="29"/>
                  </a:lnTo>
                  <a:lnTo>
                    <a:pt x="331" y="25"/>
                  </a:lnTo>
                  <a:lnTo>
                    <a:pt x="333" y="21"/>
                  </a:lnTo>
                  <a:lnTo>
                    <a:pt x="337" y="17"/>
                  </a:lnTo>
                  <a:lnTo>
                    <a:pt x="338" y="16"/>
                  </a:lnTo>
                  <a:lnTo>
                    <a:pt x="340" y="12"/>
                  </a:lnTo>
                  <a:lnTo>
                    <a:pt x="342" y="9"/>
                  </a:lnTo>
                  <a:lnTo>
                    <a:pt x="344" y="6"/>
                  </a:lnTo>
                  <a:lnTo>
                    <a:pt x="344" y="4"/>
                  </a:lnTo>
                  <a:lnTo>
                    <a:pt x="346" y="2"/>
                  </a:lnTo>
                  <a:lnTo>
                    <a:pt x="346" y="1"/>
                  </a:lnTo>
                  <a:lnTo>
                    <a:pt x="34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36360" y="6774480"/>
              <a:ext cx="64080" cy="243360"/>
            </a:xfrm>
            <a:custGeom>
              <a:avLst/>
              <a:gdLst/>
              <a:ahLst/>
              <a:rect l="l" t="t" r="r" b="b"/>
              <a:pathLst>
                <a:path w="23" h="93">
                  <a:moveTo>
                    <a:pt x="12" y="92"/>
                  </a:moveTo>
                  <a:lnTo>
                    <a:pt x="6" y="86"/>
                  </a:lnTo>
                  <a:lnTo>
                    <a:pt x="4" y="80"/>
                  </a:lnTo>
                  <a:lnTo>
                    <a:pt x="1" y="72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4" y="42"/>
                  </a:lnTo>
                  <a:lnTo>
                    <a:pt x="6" y="35"/>
                  </a:lnTo>
                  <a:lnTo>
                    <a:pt x="8" y="29"/>
                  </a:lnTo>
                  <a:lnTo>
                    <a:pt x="10" y="22"/>
                  </a:lnTo>
                  <a:lnTo>
                    <a:pt x="12" y="16"/>
                  </a:lnTo>
                  <a:lnTo>
                    <a:pt x="16" y="10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75720" y="6457680"/>
              <a:ext cx="1121040" cy="314280"/>
            </a:xfrm>
            <a:custGeom>
              <a:avLst/>
              <a:gdLst/>
              <a:ahLst/>
              <a:rect l="l" t="t" r="r" b="b"/>
              <a:pathLst>
                <a:path w="400" h="120">
                  <a:moveTo>
                    <a:pt x="399" y="56"/>
                  </a:moveTo>
                  <a:lnTo>
                    <a:pt x="395" y="58"/>
                  </a:lnTo>
                  <a:lnTo>
                    <a:pt x="390" y="60"/>
                  </a:lnTo>
                  <a:lnTo>
                    <a:pt x="380" y="65"/>
                  </a:lnTo>
                  <a:lnTo>
                    <a:pt x="367" y="69"/>
                  </a:lnTo>
                  <a:lnTo>
                    <a:pt x="350" y="76"/>
                  </a:lnTo>
                  <a:lnTo>
                    <a:pt x="331" y="83"/>
                  </a:lnTo>
                  <a:lnTo>
                    <a:pt x="310" y="90"/>
                  </a:lnTo>
                  <a:lnTo>
                    <a:pt x="287" y="96"/>
                  </a:lnTo>
                  <a:lnTo>
                    <a:pt x="260" y="103"/>
                  </a:lnTo>
                  <a:lnTo>
                    <a:pt x="233" y="109"/>
                  </a:lnTo>
                  <a:lnTo>
                    <a:pt x="204" y="114"/>
                  </a:lnTo>
                  <a:lnTo>
                    <a:pt x="176" y="117"/>
                  </a:lnTo>
                  <a:lnTo>
                    <a:pt x="146" y="119"/>
                  </a:lnTo>
                  <a:lnTo>
                    <a:pt x="116" y="119"/>
                  </a:lnTo>
                  <a:lnTo>
                    <a:pt x="87" y="117"/>
                  </a:lnTo>
                  <a:lnTo>
                    <a:pt x="57" y="113"/>
                  </a:lnTo>
                  <a:lnTo>
                    <a:pt x="40" y="108"/>
                  </a:lnTo>
                  <a:lnTo>
                    <a:pt x="28" y="102"/>
                  </a:lnTo>
                  <a:lnTo>
                    <a:pt x="18" y="95"/>
                  </a:lnTo>
                  <a:lnTo>
                    <a:pt x="11" y="86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3" y="23"/>
                  </a:lnTo>
                  <a:lnTo>
                    <a:pt x="6" y="15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68800" y="6227280"/>
              <a:ext cx="1118520" cy="240480"/>
            </a:xfrm>
            <a:custGeom>
              <a:avLst/>
              <a:gdLst/>
              <a:ahLst/>
              <a:rect l="l" t="t" r="r" b="b"/>
              <a:pathLst>
                <a:path w="399" h="92">
                  <a:moveTo>
                    <a:pt x="8" y="1"/>
                  </a:moveTo>
                  <a:lnTo>
                    <a:pt x="7" y="3"/>
                  </a:lnTo>
                  <a:lnTo>
                    <a:pt x="6" y="7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10" y="71"/>
                  </a:lnTo>
                  <a:lnTo>
                    <a:pt x="17" y="78"/>
                  </a:lnTo>
                  <a:lnTo>
                    <a:pt x="28" y="84"/>
                  </a:lnTo>
                  <a:lnTo>
                    <a:pt x="40" y="89"/>
                  </a:lnTo>
                  <a:lnTo>
                    <a:pt x="57" y="91"/>
                  </a:lnTo>
                  <a:lnTo>
                    <a:pt x="78" y="91"/>
                  </a:lnTo>
                  <a:lnTo>
                    <a:pt x="102" y="88"/>
                  </a:lnTo>
                  <a:lnTo>
                    <a:pt x="111" y="88"/>
                  </a:lnTo>
                  <a:lnTo>
                    <a:pt x="126" y="85"/>
                  </a:lnTo>
                  <a:lnTo>
                    <a:pt x="144" y="81"/>
                  </a:lnTo>
                  <a:lnTo>
                    <a:pt x="166" y="75"/>
                  </a:lnTo>
                  <a:lnTo>
                    <a:pt x="189" y="68"/>
                  </a:lnTo>
                  <a:lnTo>
                    <a:pt x="214" y="61"/>
                  </a:lnTo>
                  <a:lnTo>
                    <a:pt x="241" y="53"/>
                  </a:lnTo>
                  <a:lnTo>
                    <a:pt x="267" y="44"/>
                  </a:lnTo>
                  <a:lnTo>
                    <a:pt x="291" y="37"/>
                  </a:lnTo>
                  <a:lnTo>
                    <a:pt x="315" y="28"/>
                  </a:lnTo>
                  <a:lnTo>
                    <a:pt x="337" y="21"/>
                  </a:lnTo>
                  <a:lnTo>
                    <a:pt x="358" y="14"/>
                  </a:lnTo>
                  <a:lnTo>
                    <a:pt x="373" y="9"/>
                  </a:lnTo>
                  <a:lnTo>
                    <a:pt x="387" y="4"/>
                  </a:lnTo>
                  <a:lnTo>
                    <a:pt x="395" y="1"/>
                  </a:lnTo>
                  <a:lnTo>
                    <a:pt x="39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58960" y="5422680"/>
              <a:ext cx="447840" cy="1626840"/>
            </a:xfrm>
            <a:custGeom>
              <a:avLst/>
              <a:gdLst/>
              <a:ahLst/>
              <a:rect l="l" t="t" r="r" b="b"/>
              <a:pathLst>
                <a:path w="160" h="621">
                  <a:moveTo>
                    <a:pt x="0" y="0"/>
                  </a:moveTo>
                  <a:lnTo>
                    <a:pt x="159" y="0"/>
                  </a:lnTo>
                  <a:lnTo>
                    <a:pt x="159" y="620"/>
                  </a:lnTo>
                  <a:lnTo>
                    <a:pt x="21" y="61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15000" y="5370480"/>
              <a:ext cx="711720" cy="1792080"/>
            </a:xfrm>
            <a:custGeom>
              <a:avLst/>
              <a:gdLst/>
              <a:ahLst/>
              <a:rect l="l" t="t" r="r" b="b"/>
              <a:pathLst>
                <a:path w="254" h="684">
                  <a:moveTo>
                    <a:pt x="0" y="1"/>
                  </a:moveTo>
                  <a:lnTo>
                    <a:pt x="216" y="0"/>
                  </a:lnTo>
                  <a:lnTo>
                    <a:pt x="218" y="639"/>
                  </a:lnTo>
                  <a:lnTo>
                    <a:pt x="253" y="640"/>
                  </a:lnTo>
                  <a:lnTo>
                    <a:pt x="220" y="683"/>
                  </a:lnTo>
                  <a:lnTo>
                    <a:pt x="0" y="668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0" y="-609480"/>
            <a:ext cx="105681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imer componente de un máximo de la FB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-533160" y="1141920"/>
            <a:ext cx="10058400" cy="66294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85800" y="5790240"/>
            <a:ext cx="9372600" cy="198108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85800" y="2208600"/>
            <a:ext cx="9372600" cy="129564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80880" y="1141920"/>
            <a:ext cx="9372600" cy="106668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04920" y="1218960"/>
            <a:ext cx="9204120" cy="9144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, ...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egundo componente clav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33520" y="2589840"/>
            <a:ext cx="3092400" cy="88884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648320" y="2056320"/>
            <a:ext cx="4190760" cy="167652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 rot="10800000">
            <a:no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GB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685800" y="3580200"/>
            <a:ext cx="9372600" cy="25146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853920" y="4800240"/>
            <a:ext cx="9204480" cy="9144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GB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, ...</a:t>
            </a: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Symbol"/>
                <a:ea typeface="Symbol"/>
              </a:rPr>
              <a:t></a:t>
            </a:r>
            <a:r>
              <a:rPr b="0" i="1" lang="en-GB" sz="6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GB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04800" y="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PO para un máximo se ven así: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324480" y="4730760"/>
            <a:ext cx="3124440" cy="1581120"/>
          </a:xfrm>
          <a:prstGeom prst="wedgeRoundRectCallout">
            <a:avLst>
              <a:gd name="adj1" fmla="val -64731"/>
              <a:gd name="adj2" fmla="val -148699"/>
              <a:gd name="adj3" fmla="val 1666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uponga bienes priv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5280" y="6192360"/>
            <a:ext cx="8424000" cy="1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6000" spc="-1" strike="noStrike">
                <a:solidFill>
                  <a:srgbClr val="000000"/>
                </a:solidFill>
                <a:latin typeface="Symbol"/>
                <a:ea typeface="Symbol"/>
              </a:rPr>
              <a:t>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15000" y="5797440"/>
            <a:ext cx="3124080" cy="1581120"/>
          </a:xfrm>
          <a:prstGeom prst="wedgeRoundRectCallout">
            <a:avLst>
              <a:gd name="adj1" fmla="val -116041"/>
              <a:gd name="adj2" fmla="val -70986"/>
              <a:gd name="adj3" fmla="val 1666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Multiplicador de Lagrange usu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04800" y="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Lagrangeano de bienestar soci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29200" y="2825280"/>
            <a:ext cx="3124080" cy="3061800"/>
          </a:xfrm>
          <a:prstGeom prst="wedgeRoundRectCallout">
            <a:avLst>
              <a:gd name="adj1" fmla="val 55782"/>
              <a:gd name="adj2" fmla="val 74027"/>
              <a:gd name="adj3" fmla="val 1666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Recuerde que obtendrá una desigualdad aqui si no es un máximo in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 flipV="1">
            <a:off x="0" y="1294920"/>
            <a:ext cx="9995040" cy="64836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e las condiciones de primer o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905120" y="1218960"/>
            <a:ext cx="6324480" cy="27432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62320" y="1352160"/>
            <a:ext cx="533700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0160" y="4343400"/>
            <a:ext cx="985824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500" spc="-1" strike="noStrike">
                <a:solidFill>
                  <a:srgbClr val="ff0000"/>
                </a:solidFill>
                <a:latin typeface="Brush738 BT"/>
              </a:rPr>
              <a:t>TMS se iguala para todo  </a:t>
            </a:r>
            <a:r>
              <a:rPr b="1" i="1" lang="en-GB" sz="7500" spc="-1" strike="noStrike">
                <a:solidFill>
                  <a:srgbClr val="ff0000"/>
                </a:solidFill>
                <a:latin typeface="Brush738 BT"/>
              </a:rPr>
              <a:t>h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523880" y="3885120"/>
            <a:ext cx="7925040" cy="152388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ambien de las CP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00560" y="3898440"/>
            <a:ext cx="72208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h'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5334120"/>
            <a:ext cx="845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La utilidad marginal social de pasta dentífrica se iguala para todo 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00600" y="5715000"/>
            <a:ext cx="5486400" cy="1828800"/>
          </a:xfrm>
          <a:prstGeom prst="wedgeEllipseCallout">
            <a:avLst>
              <a:gd name="adj1" fmla="val -38828"/>
              <a:gd name="adj2" fmla="val -69097"/>
            </a:avLst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Ya hemos visto antes esta condición: Eficiencia de Par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2057400"/>
            <a:ext cx="3657600" cy="1600200"/>
          </a:xfrm>
          <a:prstGeom prst="wedgeEllipseCallout">
            <a:avLst>
              <a:gd name="adj1" fmla="val 51300"/>
              <a:gd name="adj2" fmla="val 110912"/>
            </a:avLst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ero esto es 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47360" y="4287600"/>
            <a:ext cx="8821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ienestar: La Función de Bienestar So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28680" y="1681200"/>
            <a:ext cx="7759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Microeconomía II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GB" sz="5200" spc="-1" strike="noStrike">
                <a:solidFill>
                  <a:srgbClr val="000000"/>
                </a:solidFill>
                <a:latin typeface="Arial"/>
              </a:rPr>
              <a:t>1998 -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40040" y="4799160"/>
            <a:ext cx="5662440" cy="2646000"/>
            <a:chOff x="1940040" y="4799160"/>
            <a:chExt cx="5662440" cy="2646000"/>
          </a:xfrm>
        </p:grpSpPr>
        <p:sp>
          <p:nvSpPr>
            <p:cNvPr id="45" name=""/>
            <p:cNvSpPr/>
            <p:nvPr/>
          </p:nvSpPr>
          <p:spPr>
            <a:xfrm flipV="1">
              <a:off x="2071800" y="5067000"/>
              <a:ext cx="5497560" cy="2217600"/>
            </a:xfrm>
            <a:prstGeom prst="roundRect">
              <a:avLst>
                <a:gd name="adj" fmla="val 0"/>
              </a:avLst>
            </a:prstGeom>
            <a:solidFill>
              <a:srgbClr val="4181ff"/>
            </a:solidFill>
            <a:ln w="9360">
              <a:solidFill>
                <a:srgbClr val="418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238560" y="4827600"/>
              <a:ext cx="2627280" cy="325440"/>
              <a:chOff x="3238560" y="4827600"/>
              <a:chExt cx="2627280" cy="325440"/>
            </a:xfrm>
          </p:grpSpPr>
          <p:sp>
            <p:nvSpPr>
              <p:cNvPr id="47" name=""/>
              <p:cNvSpPr/>
              <p:nvPr/>
            </p:nvSpPr>
            <p:spPr>
              <a:xfrm>
                <a:off x="3238560" y="4844880"/>
                <a:ext cx="2627280" cy="308160"/>
              </a:xfrm>
              <a:custGeom>
                <a:avLst/>
                <a:gdLst/>
                <a:ahLst/>
                <a:rect l="l" t="t" r="r" b="b"/>
                <a:pathLst>
                  <a:path w="1655" h="194">
                    <a:moveTo>
                      <a:pt x="1395" y="122"/>
                    </a:moveTo>
                    <a:lnTo>
                      <a:pt x="1392" y="122"/>
                    </a:lnTo>
                    <a:lnTo>
                      <a:pt x="1387" y="122"/>
                    </a:lnTo>
                    <a:lnTo>
                      <a:pt x="1379" y="122"/>
                    </a:lnTo>
                    <a:lnTo>
                      <a:pt x="1368" y="120"/>
                    </a:lnTo>
                    <a:lnTo>
                      <a:pt x="1354" y="119"/>
                    </a:lnTo>
                    <a:lnTo>
                      <a:pt x="1340" y="117"/>
                    </a:lnTo>
                    <a:lnTo>
                      <a:pt x="1324" y="115"/>
                    </a:lnTo>
                    <a:lnTo>
                      <a:pt x="1307" y="114"/>
                    </a:lnTo>
                    <a:lnTo>
                      <a:pt x="1288" y="112"/>
                    </a:lnTo>
                    <a:lnTo>
                      <a:pt x="1271" y="110"/>
                    </a:lnTo>
                    <a:lnTo>
                      <a:pt x="1253" y="108"/>
                    </a:lnTo>
                    <a:lnTo>
                      <a:pt x="1236" y="105"/>
                    </a:lnTo>
                    <a:lnTo>
                      <a:pt x="1219" y="104"/>
                    </a:lnTo>
                    <a:lnTo>
                      <a:pt x="1205" y="102"/>
                    </a:lnTo>
                    <a:lnTo>
                      <a:pt x="1192" y="100"/>
                    </a:lnTo>
                    <a:lnTo>
                      <a:pt x="1182" y="97"/>
                    </a:lnTo>
                    <a:lnTo>
                      <a:pt x="1178" y="97"/>
                    </a:lnTo>
                    <a:lnTo>
                      <a:pt x="1175" y="96"/>
                    </a:lnTo>
                    <a:lnTo>
                      <a:pt x="1171" y="96"/>
                    </a:lnTo>
                    <a:lnTo>
                      <a:pt x="1167" y="94"/>
                    </a:lnTo>
                    <a:lnTo>
                      <a:pt x="1162" y="94"/>
                    </a:lnTo>
                    <a:lnTo>
                      <a:pt x="1158" y="92"/>
                    </a:lnTo>
                    <a:lnTo>
                      <a:pt x="1154" y="92"/>
                    </a:lnTo>
                    <a:lnTo>
                      <a:pt x="1150" y="90"/>
                    </a:lnTo>
                    <a:lnTo>
                      <a:pt x="1145" y="90"/>
                    </a:lnTo>
                    <a:lnTo>
                      <a:pt x="1141" y="88"/>
                    </a:lnTo>
                    <a:lnTo>
                      <a:pt x="1136" y="88"/>
                    </a:lnTo>
                    <a:lnTo>
                      <a:pt x="1132" y="87"/>
                    </a:lnTo>
                    <a:lnTo>
                      <a:pt x="1128" y="87"/>
                    </a:lnTo>
                    <a:lnTo>
                      <a:pt x="1125" y="86"/>
                    </a:lnTo>
                    <a:lnTo>
                      <a:pt x="1121" y="86"/>
                    </a:lnTo>
                    <a:lnTo>
                      <a:pt x="1118" y="85"/>
                    </a:lnTo>
                    <a:lnTo>
                      <a:pt x="1114" y="85"/>
                    </a:lnTo>
                    <a:lnTo>
                      <a:pt x="1112" y="85"/>
                    </a:lnTo>
                    <a:lnTo>
                      <a:pt x="1108" y="85"/>
                    </a:lnTo>
                    <a:lnTo>
                      <a:pt x="1106" y="84"/>
                    </a:lnTo>
                    <a:lnTo>
                      <a:pt x="1102" y="84"/>
                    </a:lnTo>
                    <a:lnTo>
                      <a:pt x="1098" y="84"/>
                    </a:lnTo>
                    <a:lnTo>
                      <a:pt x="1095" y="84"/>
                    </a:lnTo>
                    <a:lnTo>
                      <a:pt x="1093" y="84"/>
                    </a:lnTo>
                    <a:lnTo>
                      <a:pt x="1089" y="85"/>
                    </a:lnTo>
                    <a:lnTo>
                      <a:pt x="1086" y="85"/>
                    </a:lnTo>
                    <a:lnTo>
                      <a:pt x="1082" y="85"/>
                    </a:lnTo>
                    <a:lnTo>
                      <a:pt x="1078" y="85"/>
                    </a:lnTo>
                    <a:lnTo>
                      <a:pt x="1075" y="85"/>
                    </a:lnTo>
                    <a:lnTo>
                      <a:pt x="1073" y="85"/>
                    </a:lnTo>
                    <a:lnTo>
                      <a:pt x="1070" y="85"/>
                    </a:lnTo>
                    <a:lnTo>
                      <a:pt x="1068" y="85"/>
                    </a:lnTo>
                    <a:lnTo>
                      <a:pt x="1065" y="85"/>
                    </a:lnTo>
                    <a:lnTo>
                      <a:pt x="1063" y="84"/>
                    </a:lnTo>
                    <a:lnTo>
                      <a:pt x="1060" y="84"/>
                    </a:lnTo>
                    <a:lnTo>
                      <a:pt x="1058" y="82"/>
                    </a:lnTo>
                    <a:lnTo>
                      <a:pt x="1054" y="82"/>
                    </a:lnTo>
                    <a:lnTo>
                      <a:pt x="1052" y="80"/>
                    </a:lnTo>
                    <a:lnTo>
                      <a:pt x="1049" y="78"/>
                    </a:lnTo>
                    <a:lnTo>
                      <a:pt x="1047" y="77"/>
                    </a:lnTo>
                    <a:lnTo>
                      <a:pt x="1043" y="77"/>
                    </a:lnTo>
                    <a:lnTo>
                      <a:pt x="1040" y="75"/>
                    </a:lnTo>
                    <a:lnTo>
                      <a:pt x="1037" y="73"/>
                    </a:lnTo>
                    <a:lnTo>
                      <a:pt x="1035" y="71"/>
                    </a:lnTo>
                    <a:lnTo>
                      <a:pt x="1031" y="70"/>
                    </a:lnTo>
                    <a:lnTo>
                      <a:pt x="1029" y="68"/>
                    </a:lnTo>
                    <a:lnTo>
                      <a:pt x="1027" y="67"/>
                    </a:lnTo>
                    <a:lnTo>
                      <a:pt x="1026" y="65"/>
                    </a:lnTo>
                    <a:lnTo>
                      <a:pt x="1022" y="65"/>
                    </a:lnTo>
                    <a:lnTo>
                      <a:pt x="1019" y="63"/>
                    </a:lnTo>
                    <a:lnTo>
                      <a:pt x="1015" y="62"/>
                    </a:lnTo>
                    <a:lnTo>
                      <a:pt x="1012" y="60"/>
                    </a:lnTo>
                    <a:lnTo>
                      <a:pt x="1008" y="59"/>
                    </a:lnTo>
                    <a:lnTo>
                      <a:pt x="1004" y="57"/>
                    </a:lnTo>
                    <a:lnTo>
                      <a:pt x="1000" y="56"/>
                    </a:lnTo>
                    <a:lnTo>
                      <a:pt x="997" y="54"/>
                    </a:lnTo>
                    <a:lnTo>
                      <a:pt x="992" y="52"/>
                    </a:lnTo>
                    <a:lnTo>
                      <a:pt x="989" y="50"/>
                    </a:lnTo>
                    <a:lnTo>
                      <a:pt x="985" y="48"/>
                    </a:lnTo>
                    <a:lnTo>
                      <a:pt x="981" y="46"/>
                    </a:lnTo>
                    <a:lnTo>
                      <a:pt x="978" y="44"/>
                    </a:lnTo>
                    <a:lnTo>
                      <a:pt x="975" y="42"/>
                    </a:lnTo>
                    <a:lnTo>
                      <a:pt x="972" y="40"/>
                    </a:lnTo>
                    <a:lnTo>
                      <a:pt x="971" y="38"/>
                    </a:lnTo>
                    <a:lnTo>
                      <a:pt x="967" y="38"/>
                    </a:lnTo>
                    <a:lnTo>
                      <a:pt x="965" y="37"/>
                    </a:lnTo>
                    <a:lnTo>
                      <a:pt x="962" y="36"/>
                    </a:lnTo>
                    <a:lnTo>
                      <a:pt x="960" y="34"/>
                    </a:lnTo>
                    <a:lnTo>
                      <a:pt x="956" y="32"/>
                    </a:lnTo>
                    <a:lnTo>
                      <a:pt x="954" y="30"/>
                    </a:lnTo>
                    <a:lnTo>
                      <a:pt x="951" y="28"/>
                    </a:lnTo>
                    <a:lnTo>
                      <a:pt x="949" y="25"/>
                    </a:lnTo>
                    <a:lnTo>
                      <a:pt x="945" y="23"/>
                    </a:lnTo>
                    <a:lnTo>
                      <a:pt x="942" y="21"/>
                    </a:lnTo>
                    <a:lnTo>
                      <a:pt x="939" y="19"/>
                    </a:lnTo>
                    <a:lnTo>
                      <a:pt x="937" y="17"/>
                    </a:lnTo>
                    <a:lnTo>
                      <a:pt x="933" y="16"/>
                    </a:lnTo>
                    <a:lnTo>
                      <a:pt x="931" y="14"/>
                    </a:lnTo>
                    <a:lnTo>
                      <a:pt x="930" y="12"/>
                    </a:lnTo>
                    <a:lnTo>
                      <a:pt x="928" y="10"/>
                    </a:lnTo>
                    <a:lnTo>
                      <a:pt x="926" y="10"/>
                    </a:lnTo>
                    <a:lnTo>
                      <a:pt x="925" y="10"/>
                    </a:lnTo>
                    <a:lnTo>
                      <a:pt x="923" y="10"/>
                    </a:lnTo>
                    <a:lnTo>
                      <a:pt x="923" y="8"/>
                    </a:lnTo>
                    <a:lnTo>
                      <a:pt x="921" y="8"/>
                    </a:lnTo>
                    <a:lnTo>
                      <a:pt x="921" y="7"/>
                    </a:lnTo>
                    <a:lnTo>
                      <a:pt x="920" y="7"/>
                    </a:lnTo>
                    <a:lnTo>
                      <a:pt x="920" y="5"/>
                    </a:lnTo>
                    <a:lnTo>
                      <a:pt x="918" y="5"/>
                    </a:lnTo>
                    <a:lnTo>
                      <a:pt x="918" y="5"/>
                    </a:lnTo>
                    <a:lnTo>
                      <a:pt x="916" y="5"/>
                    </a:lnTo>
                    <a:lnTo>
                      <a:pt x="916" y="3"/>
                    </a:lnTo>
                    <a:lnTo>
                      <a:pt x="914" y="3"/>
                    </a:lnTo>
                    <a:lnTo>
                      <a:pt x="914" y="2"/>
                    </a:lnTo>
                    <a:lnTo>
                      <a:pt x="913" y="2"/>
                    </a:lnTo>
                    <a:lnTo>
                      <a:pt x="913" y="1"/>
                    </a:lnTo>
                    <a:lnTo>
                      <a:pt x="911" y="1"/>
                    </a:lnTo>
                    <a:lnTo>
                      <a:pt x="911" y="1"/>
                    </a:lnTo>
                    <a:lnTo>
                      <a:pt x="909" y="1"/>
                    </a:lnTo>
                    <a:lnTo>
                      <a:pt x="909" y="1"/>
                    </a:lnTo>
                    <a:lnTo>
                      <a:pt x="907" y="1"/>
                    </a:lnTo>
                    <a:lnTo>
                      <a:pt x="907" y="1"/>
                    </a:lnTo>
                    <a:lnTo>
                      <a:pt x="905" y="1"/>
                    </a:lnTo>
                    <a:lnTo>
                      <a:pt x="905" y="1"/>
                    </a:lnTo>
                    <a:lnTo>
                      <a:pt x="903" y="1"/>
                    </a:lnTo>
                    <a:lnTo>
                      <a:pt x="903" y="1"/>
                    </a:lnTo>
                    <a:lnTo>
                      <a:pt x="901" y="1"/>
                    </a:lnTo>
                    <a:lnTo>
                      <a:pt x="901" y="1"/>
                    </a:lnTo>
                    <a:lnTo>
                      <a:pt x="900" y="1"/>
                    </a:lnTo>
                    <a:lnTo>
                      <a:pt x="900" y="1"/>
                    </a:lnTo>
                    <a:lnTo>
                      <a:pt x="899" y="1"/>
                    </a:lnTo>
                    <a:lnTo>
                      <a:pt x="899" y="1"/>
                    </a:lnTo>
                    <a:lnTo>
                      <a:pt x="897" y="1"/>
                    </a:lnTo>
                    <a:lnTo>
                      <a:pt x="895" y="1"/>
                    </a:lnTo>
                    <a:lnTo>
                      <a:pt x="893" y="1"/>
                    </a:lnTo>
                    <a:lnTo>
                      <a:pt x="893" y="1"/>
                    </a:lnTo>
                    <a:lnTo>
                      <a:pt x="891" y="1"/>
                    </a:lnTo>
                    <a:lnTo>
                      <a:pt x="889" y="1"/>
                    </a:lnTo>
                    <a:lnTo>
                      <a:pt x="887" y="1"/>
                    </a:lnTo>
                    <a:lnTo>
                      <a:pt x="887" y="1"/>
                    </a:lnTo>
                    <a:lnTo>
                      <a:pt x="885" y="1"/>
                    </a:lnTo>
                    <a:lnTo>
                      <a:pt x="883" y="1"/>
                    </a:lnTo>
                    <a:lnTo>
                      <a:pt x="881" y="1"/>
                    </a:lnTo>
                    <a:lnTo>
                      <a:pt x="881" y="1"/>
                    </a:lnTo>
                    <a:lnTo>
                      <a:pt x="880" y="1"/>
                    </a:lnTo>
                    <a:lnTo>
                      <a:pt x="880" y="1"/>
                    </a:lnTo>
                    <a:lnTo>
                      <a:pt x="878" y="1"/>
                    </a:lnTo>
                    <a:lnTo>
                      <a:pt x="878" y="1"/>
                    </a:lnTo>
                    <a:lnTo>
                      <a:pt x="875" y="1"/>
                    </a:lnTo>
                    <a:lnTo>
                      <a:pt x="873" y="1"/>
                    </a:lnTo>
                    <a:lnTo>
                      <a:pt x="871" y="1"/>
                    </a:lnTo>
                    <a:lnTo>
                      <a:pt x="870" y="1"/>
                    </a:lnTo>
                    <a:lnTo>
                      <a:pt x="866" y="1"/>
                    </a:lnTo>
                    <a:lnTo>
                      <a:pt x="864" y="1"/>
                    </a:lnTo>
                    <a:lnTo>
                      <a:pt x="862" y="1"/>
                    </a:lnTo>
                    <a:lnTo>
                      <a:pt x="860" y="0"/>
                    </a:lnTo>
                    <a:lnTo>
                      <a:pt x="856" y="0"/>
                    </a:lnTo>
                    <a:lnTo>
                      <a:pt x="854" y="0"/>
                    </a:lnTo>
                    <a:lnTo>
                      <a:pt x="852" y="0"/>
                    </a:lnTo>
                    <a:lnTo>
                      <a:pt x="850" y="0"/>
                    </a:lnTo>
                    <a:lnTo>
                      <a:pt x="848" y="1"/>
                    </a:lnTo>
                    <a:lnTo>
                      <a:pt x="846" y="1"/>
                    </a:lnTo>
                    <a:lnTo>
                      <a:pt x="844" y="1"/>
                    </a:lnTo>
                    <a:lnTo>
                      <a:pt x="844" y="1"/>
                    </a:lnTo>
                    <a:lnTo>
                      <a:pt x="840" y="3"/>
                    </a:lnTo>
                    <a:lnTo>
                      <a:pt x="838" y="4"/>
                    </a:lnTo>
                    <a:lnTo>
                      <a:pt x="834" y="6"/>
                    </a:lnTo>
                    <a:lnTo>
                      <a:pt x="832" y="8"/>
                    </a:lnTo>
                    <a:lnTo>
                      <a:pt x="828" y="11"/>
                    </a:lnTo>
                    <a:lnTo>
                      <a:pt x="824" y="13"/>
                    </a:lnTo>
                    <a:lnTo>
                      <a:pt x="821" y="15"/>
                    </a:lnTo>
                    <a:lnTo>
                      <a:pt x="819" y="17"/>
                    </a:lnTo>
                    <a:lnTo>
                      <a:pt x="815" y="20"/>
                    </a:lnTo>
                    <a:lnTo>
                      <a:pt x="812" y="22"/>
                    </a:lnTo>
                    <a:lnTo>
                      <a:pt x="808" y="26"/>
                    </a:lnTo>
                    <a:lnTo>
                      <a:pt x="805" y="27"/>
                    </a:lnTo>
                    <a:lnTo>
                      <a:pt x="801" y="29"/>
                    </a:lnTo>
                    <a:lnTo>
                      <a:pt x="799" y="31"/>
                    </a:lnTo>
                    <a:lnTo>
                      <a:pt x="796" y="33"/>
                    </a:lnTo>
                    <a:lnTo>
                      <a:pt x="795" y="33"/>
                    </a:lnTo>
                    <a:lnTo>
                      <a:pt x="791" y="35"/>
                    </a:lnTo>
                    <a:lnTo>
                      <a:pt x="789" y="36"/>
                    </a:lnTo>
                    <a:lnTo>
                      <a:pt x="785" y="38"/>
                    </a:lnTo>
                    <a:lnTo>
                      <a:pt x="784" y="38"/>
                    </a:lnTo>
                    <a:lnTo>
                      <a:pt x="780" y="40"/>
                    </a:lnTo>
                    <a:lnTo>
                      <a:pt x="778" y="40"/>
                    </a:lnTo>
                    <a:lnTo>
                      <a:pt x="774" y="42"/>
                    </a:lnTo>
                    <a:lnTo>
                      <a:pt x="772" y="42"/>
                    </a:lnTo>
                    <a:lnTo>
                      <a:pt x="768" y="44"/>
                    </a:lnTo>
                    <a:lnTo>
                      <a:pt x="766" y="44"/>
                    </a:lnTo>
                    <a:lnTo>
                      <a:pt x="763" y="44"/>
                    </a:lnTo>
                    <a:lnTo>
                      <a:pt x="761" y="44"/>
                    </a:lnTo>
                    <a:lnTo>
                      <a:pt x="757" y="45"/>
                    </a:lnTo>
                    <a:lnTo>
                      <a:pt x="755" y="45"/>
                    </a:lnTo>
                    <a:lnTo>
                      <a:pt x="754" y="45"/>
                    </a:lnTo>
                    <a:lnTo>
                      <a:pt x="752" y="45"/>
                    </a:lnTo>
                    <a:lnTo>
                      <a:pt x="750" y="45"/>
                    </a:lnTo>
                    <a:lnTo>
                      <a:pt x="748" y="45"/>
                    </a:lnTo>
                    <a:lnTo>
                      <a:pt x="746" y="45"/>
                    </a:lnTo>
                    <a:lnTo>
                      <a:pt x="745" y="45"/>
                    </a:lnTo>
                    <a:lnTo>
                      <a:pt x="743" y="45"/>
                    </a:lnTo>
                    <a:lnTo>
                      <a:pt x="741" y="45"/>
                    </a:lnTo>
                    <a:lnTo>
                      <a:pt x="739" y="45"/>
                    </a:lnTo>
                    <a:lnTo>
                      <a:pt x="737" y="45"/>
                    </a:lnTo>
                    <a:lnTo>
                      <a:pt x="735" y="45"/>
                    </a:lnTo>
                    <a:lnTo>
                      <a:pt x="733" y="45"/>
                    </a:lnTo>
                    <a:lnTo>
                      <a:pt x="731" y="45"/>
                    </a:lnTo>
                    <a:lnTo>
                      <a:pt x="729" y="45"/>
                    </a:lnTo>
                    <a:lnTo>
                      <a:pt x="727" y="45"/>
                    </a:lnTo>
                    <a:lnTo>
                      <a:pt x="725" y="45"/>
                    </a:lnTo>
                    <a:lnTo>
                      <a:pt x="724" y="45"/>
                    </a:lnTo>
                    <a:lnTo>
                      <a:pt x="722" y="45"/>
                    </a:lnTo>
                    <a:lnTo>
                      <a:pt x="720" y="45"/>
                    </a:lnTo>
                    <a:lnTo>
                      <a:pt x="720" y="45"/>
                    </a:lnTo>
                    <a:lnTo>
                      <a:pt x="719" y="45"/>
                    </a:lnTo>
                    <a:lnTo>
                      <a:pt x="719" y="44"/>
                    </a:lnTo>
                    <a:lnTo>
                      <a:pt x="717" y="44"/>
                    </a:lnTo>
                    <a:lnTo>
                      <a:pt x="717" y="44"/>
                    </a:lnTo>
                    <a:lnTo>
                      <a:pt x="716" y="44"/>
                    </a:lnTo>
                    <a:lnTo>
                      <a:pt x="716" y="42"/>
                    </a:lnTo>
                    <a:lnTo>
                      <a:pt x="714" y="42"/>
                    </a:lnTo>
                    <a:lnTo>
                      <a:pt x="714" y="42"/>
                    </a:lnTo>
                    <a:lnTo>
                      <a:pt x="712" y="42"/>
                    </a:lnTo>
                    <a:lnTo>
                      <a:pt x="712" y="40"/>
                    </a:lnTo>
                    <a:lnTo>
                      <a:pt x="710" y="40"/>
                    </a:lnTo>
                    <a:lnTo>
                      <a:pt x="710" y="40"/>
                    </a:lnTo>
                    <a:lnTo>
                      <a:pt x="708" y="40"/>
                    </a:lnTo>
                    <a:lnTo>
                      <a:pt x="708" y="38"/>
                    </a:lnTo>
                    <a:lnTo>
                      <a:pt x="706" y="38"/>
                    </a:lnTo>
                    <a:lnTo>
                      <a:pt x="704" y="38"/>
                    </a:lnTo>
                    <a:lnTo>
                      <a:pt x="702" y="38"/>
                    </a:lnTo>
                    <a:lnTo>
                      <a:pt x="700" y="38"/>
                    </a:lnTo>
                    <a:lnTo>
                      <a:pt x="697" y="38"/>
                    </a:lnTo>
                    <a:lnTo>
                      <a:pt x="696" y="38"/>
                    </a:lnTo>
                    <a:lnTo>
                      <a:pt x="694" y="38"/>
                    </a:lnTo>
                    <a:lnTo>
                      <a:pt x="692" y="38"/>
                    </a:lnTo>
                    <a:lnTo>
                      <a:pt x="688" y="38"/>
                    </a:lnTo>
                    <a:lnTo>
                      <a:pt x="686" y="38"/>
                    </a:lnTo>
                    <a:lnTo>
                      <a:pt x="683" y="38"/>
                    </a:lnTo>
                    <a:lnTo>
                      <a:pt x="681" y="38"/>
                    </a:lnTo>
                    <a:lnTo>
                      <a:pt x="678" y="38"/>
                    </a:lnTo>
                    <a:lnTo>
                      <a:pt x="677" y="38"/>
                    </a:lnTo>
                    <a:lnTo>
                      <a:pt x="675" y="38"/>
                    </a:lnTo>
                    <a:lnTo>
                      <a:pt x="674" y="38"/>
                    </a:lnTo>
                    <a:lnTo>
                      <a:pt x="672" y="38"/>
                    </a:lnTo>
                    <a:lnTo>
                      <a:pt x="672" y="38"/>
                    </a:lnTo>
                    <a:lnTo>
                      <a:pt x="670" y="38"/>
                    </a:lnTo>
                    <a:lnTo>
                      <a:pt x="670" y="36"/>
                    </a:lnTo>
                    <a:lnTo>
                      <a:pt x="668" y="36"/>
                    </a:lnTo>
                    <a:lnTo>
                      <a:pt x="668" y="34"/>
                    </a:lnTo>
                    <a:lnTo>
                      <a:pt x="667" y="34"/>
                    </a:lnTo>
                    <a:lnTo>
                      <a:pt x="667" y="32"/>
                    </a:lnTo>
                    <a:lnTo>
                      <a:pt x="665" y="32"/>
                    </a:lnTo>
                    <a:lnTo>
                      <a:pt x="665" y="30"/>
                    </a:lnTo>
                    <a:lnTo>
                      <a:pt x="663" y="30"/>
                    </a:lnTo>
                    <a:lnTo>
                      <a:pt x="663" y="28"/>
                    </a:lnTo>
                    <a:lnTo>
                      <a:pt x="661" y="28"/>
                    </a:lnTo>
                    <a:lnTo>
                      <a:pt x="661" y="27"/>
                    </a:lnTo>
                    <a:lnTo>
                      <a:pt x="659" y="26"/>
                    </a:lnTo>
                    <a:lnTo>
                      <a:pt x="659" y="24"/>
                    </a:lnTo>
                    <a:lnTo>
                      <a:pt x="656" y="24"/>
                    </a:lnTo>
                    <a:lnTo>
                      <a:pt x="653" y="24"/>
                    </a:lnTo>
                    <a:lnTo>
                      <a:pt x="649" y="24"/>
                    </a:lnTo>
                    <a:lnTo>
                      <a:pt x="647" y="22"/>
                    </a:lnTo>
                    <a:lnTo>
                      <a:pt x="644" y="22"/>
                    </a:lnTo>
                    <a:lnTo>
                      <a:pt x="640" y="20"/>
                    </a:lnTo>
                    <a:lnTo>
                      <a:pt x="636" y="20"/>
                    </a:lnTo>
                    <a:lnTo>
                      <a:pt x="634" y="19"/>
                    </a:lnTo>
                    <a:lnTo>
                      <a:pt x="630" y="19"/>
                    </a:lnTo>
                    <a:lnTo>
                      <a:pt x="627" y="19"/>
                    </a:lnTo>
                    <a:lnTo>
                      <a:pt x="623" y="19"/>
                    </a:lnTo>
                    <a:lnTo>
                      <a:pt x="620" y="18"/>
                    </a:lnTo>
                    <a:lnTo>
                      <a:pt x="616" y="19"/>
                    </a:lnTo>
                    <a:lnTo>
                      <a:pt x="614" y="19"/>
                    </a:lnTo>
                    <a:lnTo>
                      <a:pt x="612" y="19"/>
                    </a:lnTo>
                    <a:lnTo>
                      <a:pt x="610" y="19"/>
                    </a:lnTo>
                    <a:lnTo>
                      <a:pt x="606" y="20"/>
                    </a:lnTo>
                    <a:lnTo>
                      <a:pt x="602" y="22"/>
                    </a:lnTo>
                    <a:lnTo>
                      <a:pt x="598" y="24"/>
                    </a:lnTo>
                    <a:lnTo>
                      <a:pt x="594" y="24"/>
                    </a:lnTo>
                    <a:lnTo>
                      <a:pt x="588" y="27"/>
                    </a:lnTo>
                    <a:lnTo>
                      <a:pt x="584" y="29"/>
                    </a:lnTo>
                    <a:lnTo>
                      <a:pt x="578" y="31"/>
                    </a:lnTo>
                    <a:lnTo>
                      <a:pt x="574" y="33"/>
                    </a:lnTo>
                    <a:lnTo>
                      <a:pt x="569" y="37"/>
                    </a:lnTo>
                    <a:lnTo>
                      <a:pt x="564" y="38"/>
                    </a:lnTo>
                    <a:lnTo>
                      <a:pt x="558" y="41"/>
                    </a:lnTo>
                    <a:lnTo>
                      <a:pt x="554" y="43"/>
                    </a:lnTo>
                    <a:lnTo>
                      <a:pt x="549" y="46"/>
                    </a:lnTo>
                    <a:lnTo>
                      <a:pt x="545" y="47"/>
                    </a:lnTo>
                    <a:lnTo>
                      <a:pt x="541" y="49"/>
                    </a:lnTo>
                    <a:lnTo>
                      <a:pt x="538" y="50"/>
                    </a:lnTo>
                    <a:lnTo>
                      <a:pt x="532" y="54"/>
                    </a:lnTo>
                    <a:lnTo>
                      <a:pt x="527" y="56"/>
                    </a:lnTo>
                    <a:lnTo>
                      <a:pt x="521" y="59"/>
                    </a:lnTo>
                    <a:lnTo>
                      <a:pt x="515" y="61"/>
                    </a:lnTo>
                    <a:lnTo>
                      <a:pt x="508" y="65"/>
                    </a:lnTo>
                    <a:lnTo>
                      <a:pt x="502" y="68"/>
                    </a:lnTo>
                    <a:lnTo>
                      <a:pt x="495" y="72"/>
                    </a:lnTo>
                    <a:lnTo>
                      <a:pt x="490" y="74"/>
                    </a:lnTo>
                    <a:lnTo>
                      <a:pt x="482" y="77"/>
                    </a:lnTo>
                    <a:lnTo>
                      <a:pt x="475" y="80"/>
                    </a:lnTo>
                    <a:lnTo>
                      <a:pt x="468" y="84"/>
                    </a:lnTo>
                    <a:lnTo>
                      <a:pt x="462" y="85"/>
                    </a:lnTo>
                    <a:lnTo>
                      <a:pt x="455" y="88"/>
                    </a:lnTo>
                    <a:lnTo>
                      <a:pt x="450" y="90"/>
                    </a:lnTo>
                    <a:lnTo>
                      <a:pt x="444" y="92"/>
                    </a:lnTo>
                    <a:lnTo>
                      <a:pt x="440" y="94"/>
                    </a:lnTo>
                    <a:lnTo>
                      <a:pt x="433" y="95"/>
                    </a:lnTo>
                    <a:lnTo>
                      <a:pt x="428" y="97"/>
                    </a:lnTo>
                    <a:lnTo>
                      <a:pt x="421" y="99"/>
                    </a:lnTo>
                    <a:lnTo>
                      <a:pt x="415" y="101"/>
                    </a:lnTo>
                    <a:lnTo>
                      <a:pt x="408" y="103"/>
                    </a:lnTo>
                    <a:lnTo>
                      <a:pt x="400" y="105"/>
                    </a:lnTo>
                    <a:lnTo>
                      <a:pt x="393" y="106"/>
                    </a:lnTo>
                    <a:lnTo>
                      <a:pt x="386" y="108"/>
                    </a:lnTo>
                    <a:lnTo>
                      <a:pt x="378" y="110"/>
                    </a:lnTo>
                    <a:lnTo>
                      <a:pt x="371" y="112"/>
                    </a:lnTo>
                    <a:lnTo>
                      <a:pt x="364" y="114"/>
                    </a:lnTo>
                    <a:lnTo>
                      <a:pt x="356" y="115"/>
                    </a:lnTo>
                    <a:lnTo>
                      <a:pt x="349" y="117"/>
                    </a:lnTo>
                    <a:lnTo>
                      <a:pt x="343" y="118"/>
                    </a:lnTo>
                    <a:lnTo>
                      <a:pt x="337" y="120"/>
                    </a:lnTo>
                    <a:lnTo>
                      <a:pt x="333" y="120"/>
                    </a:lnTo>
                    <a:lnTo>
                      <a:pt x="329" y="122"/>
                    </a:lnTo>
                    <a:lnTo>
                      <a:pt x="326" y="122"/>
                    </a:lnTo>
                    <a:lnTo>
                      <a:pt x="322" y="123"/>
                    </a:lnTo>
                    <a:lnTo>
                      <a:pt x="318" y="123"/>
                    </a:lnTo>
                    <a:lnTo>
                      <a:pt x="313" y="125"/>
                    </a:lnTo>
                    <a:lnTo>
                      <a:pt x="309" y="125"/>
                    </a:lnTo>
                    <a:lnTo>
                      <a:pt x="306" y="126"/>
                    </a:lnTo>
                    <a:lnTo>
                      <a:pt x="302" y="126"/>
                    </a:lnTo>
                    <a:lnTo>
                      <a:pt x="296" y="128"/>
                    </a:lnTo>
                    <a:lnTo>
                      <a:pt x="292" y="128"/>
                    </a:lnTo>
                    <a:lnTo>
                      <a:pt x="287" y="129"/>
                    </a:lnTo>
                    <a:lnTo>
                      <a:pt x="284" y="129"/>
                    </a:lnTo>
                    <a:lnTo>
                      <a:pt x="280" y="131"/>
                    </a:lnTo>
                    <a:lnTo>
                      <a:pt x="276" y="131"/>
                    </a:lnTo>
                    <a:lnTo>
                      <a:pt x="272" y="131"/>
                    </a:lnTo>
                    <a:lnTo>
                      <a:pt x="269" y="131"/>
                    </a:lnTo>
                    <a:lnTo>
                      <a:pt x="264" y="133"/>
                    </a:lnTo>
                    <a:lnTo>
                      <a:pt x="259" y="134"/>
                    </a:lnTo>
                    <a:lnTo>
                      <a:pt x="252" y="136"/>
                    </a:lnTo>
                    <a:lnTo>
                      <a:pt x="247" y="136"/>
                    </a:lnTo>
                    <a:lnTo>
                      <a:pt x="239" y="138"/>
                    </a:lnTo>
                    <a:lnTo>
                      <a:pt x="233" y="138"/>
                    </a:lnTo>
                    <a:lnTo>
                      <a:pt x="226" y="140"/>
                    </a:lnTo>
                    <a:lnTo>
                      <a:pt x="220" y="140"/>
                    </a:lnTo>
                    <a:lnTo>
                      <a:pt x="212" y="142"/>
                    </a:lnTo>
                    <a:lnTo>
                      <a:pt x="206" y="142"/>
                    </a:lnTo>
                    <a:lnTo>
                      <a:pt x="198" y="144"/>
                    </a:lnTo>
                    <a:lnTo>
                      <a:pt x="192" y="144"/>
                    </a:lnTo>
                    <a:lnTo>
                      <a:pt x="186" y="145"/>
                    </a:lnTo>
                    <a:lnTo>
                      <a:pt x="181" y="145"/>
                    </a:lnTo>
                    <a:lnTo>
                      <a:pt x="175" y="145"/>
                    </a:lnTo>
                    <a:lnTo>
                      <a:pt x="171" y="145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3" y="149"/>
                    </a:lnTo>
                    <a:lnTo>
                      <a:pt x="148" y="149"/>
                    </a:lnTo>
                    <a:lnTo>
                      <a:pt x="140" y="151"/>
                    </a:lnTo>
                    <a:lnTo>
                      <a:pt x="134" y="151"/>
                    </a:lnTo>
                    <a:lnTo>
                      <a:pt x="126" y="151"/>
                    </a:lnTo>
                    <a:lnTo>
                      <a:pt x="121" y="151"/>
                    </a:lnTo>
                    <a:lnTo>
                      <a:pt x="113" y="153"/>
                    </a:lnTo>
                    <a:lnTo>
                      <a:pt x="106" y="153"/>
                    </a:lnTo>
                    <a:lnTo>
                      <a:pt x="99" y="155"/>
                    </a:lnTo>
                    <a:lnTo>
                      <a:pt x="93" y="155"/>
                    </a:lnTo>
                    <a:lnTo>
                      <a:pt x="86" y="156"/>
                    </a:lnTo>
                    <a:lnTo>
                      <a:pt x="80" y="156"/>
                    </a:lnTo>
                    <a:lnTo>
                      <a:pt x="74" y="157"/>
                    </a:lnTo>
                    <a:lnTo>
                      <a:pt x="70" y="157"/>
                    </a:lnTo>
                    <a:lnTo>
                      <a:pt x="65" y="159"/>
                    </a:lnTo>
                    <a:lnTo>
                      <a:pt x="62" y="160"/>
                    </a:lnTo>
                    <a:lnTo>
                      <a:pt x="56" y="162"/>
                    </a:lnTo>
                    <a:lnTo>
                      <a:pt x="51" y="162"/>
                    </a:lnTo>
                    <a:lnTo>
                      <a:pt x="44" y="164"/>
                    </a:lnTo>
                    <a:lnTo>
                      <a:pt x="39" y="166"/>
                    </a:lnTo>
                    <a:lnTo>
                      <a:pt x="33" y="168"/>
                    </a:lnTo>
                    <a:lnTo>
                      <a:pt x="28" y="168"/>
                    </a:lnTo>
                    <a:lnTo>
                      <a:pt x="22" y="171"/>
                    </a:lnTo>
                    <a:lnTo>
                      <a:pt x="16" y="173"/>
                    </a:lnTo>
                    <a:lnTo>
                      <a:pt x="12" y="175"/>
                    </a:lnTo>
                    <a:lnTo>
                      <a:pt x="8" y="176"/>
                    </a:lnTo>
                    <a:lnTo>
                      <a:pt x="4" y="178"/>
                    </a:lnTo>
                    <a:lnTo>
                      <a:pt x="2" y="180"/>
                    </a:lnTo>
                    <a:lnTo>
                      <a:pt x="0" y="182"/>
                    </a:lnTo>
                    <a:lnTo>
                      <a:pt x="1" y="183"/>
                    </a:lnTo>
                    <a:lnTo>
                      <a:pt x="3" y="187"/>
                    </a:lnTo>
                    <a:lnTo>
                      <a:pt x="10" y="190"/>
                    </a:lnTo>
                    <a:lnTo>
                      <a:pt x="20" y="192"/>
                    </a:lnTo>
                    <a:lnTo>
                      <a:pt x="35" y="192"/>
                    </a:lnTo>
                    <a:lnTo>
                      <a:pt x="51" y="193"/>
                    </a:lnTo>
                    <a:lnTo>
                      <a:pt x="70" y="193"/>
                    </a:lnTo>
                    <a:lnTo>
                      <a:pt x="91" y="193"/>
                    </a:lnTo>
                    <a:lnTo>
                      <a:pt x="114" y="191"/>
                    </a:lnTo>
                    <a:lnTo>
                      <a:pt x="136" y="191"/>
                    </a:lnTo>
                    <a:lnTo>
                      <a:pt x="159" y="189"/>
                    </a:lnTo>
                    <a:lnTo>
                      <a:pt x="181" y="188"/>
                    </a:lnTo>
                    <a:lnTo>
                      <a:pt x="204" y="186"/>
                    </a:lnTo>
                    <a:lnTo>
                      <a:pt x="224" y="186"/>
                    </a:lnTo>
                    <a:lnTo>
                      <a:pt x="244" y="184"/>
                    </a:lnTo>
                    <a:lnTo>
                      <a:pt x="260" y="184"/>
                    </a:lnTo>
                    <a:lnTo>
                      <a:pt x="276" y="183"/>
                    </a:lnTo>
                    <a:lnTo>
                      <a:pt x="280" y="183"/>
                    </a:lnTo>
                    <a:lnTo>
                      <a:pt x="287" y="183"/>
                    </a:lnTo>
                    <a:lnTo>
                      <a:pt x="292" y="183"/>
                    </a:lnTo>
                    <a:lnTo>
                      <a:pt x="300" y="182"/>
                    </a:lnTo>
                    <a:lnTo>
                      <a:pt x="307" y="182"/>
                    </a:lnTo>
                    <a:lnTo>
                      <a:pt x="314" y="180"/>
                    </a:lnTo>
                    <a:lnTo>
                      <a:pt x="322" y="180"/>
                    </a:lnTo>
                    <a:lnTo>
                      <a:pt x="329" y="178"/>
                    </a:lnTo>
                    <a:lnTo>
                      <a:pt x="336" y="178"/>
                    </a:lnTo>
                    <a:lnTo>
                      <a:pt x="344" y="178"/>
                    </a:lnTo>
                    <a:lnTo>
                      <a:pt x="350" y="178"/>
                    </a:lnTo>
                    <a:lnTo>
                      <a:pt x="358" y="176"/>
                    </a:lnTo>
                    <a:lnTo>
                      <a:pt x="364" y="176"/>
                    </a:lnTo>
                    <a:lnTo>
                      <a:pt x="370" y="176"/>
                    </a:lnTo>
                    <a:lnTo>
                      <a:pt x="376" y="176"/>
                    </a:lnTo>
                    <a:lnTo>
                      <a:pt x="382" y="175"/>
                    </a:lnTo>
                    <a:lnTo>
                      <a:pt x="390" y="175"/>
                    </a:lnTo>
                    <a:lnTo>
                      <a:pt x="399" y="175"/>
                    </a:lnTo>
                    <a:lnTo>
                      <a:pt x="409" y="175"/>
                    </a:lnTo>
                    <a:lnTo>
                      <a:pt x="420" y="175"/>
                    </a:lnTo>
                    <a:lnTo>
                      <a:pt x="432" y="175"/>
                    </a:lnTo>
                    <a:lnTo>
                      <a:pt x="443" y="175"/>
                    </a:lnTo>
                    <a:lnTo>
                      <a:pt x="454" y="175"/>
                    </a:lnTo>
                    <a:lnTo>
                      <a:pt x="468" y="175"/>
                    </a:lnTo>
                    <a:lnTo>
                      <a:pt x="479" y="175"/>
                    </a:lnTo>
                    <a:lnTo>
                      <a:pt x="491" y="175"/>
                    </a:lnTo>
                    <a:lnTo>
                      <a:pt x="502" y="175"/>
                    </a:lnTo>
                    <a:lnTo>
                      <a:pt x="514" y="175"/>
                    </a:lnTo>
                    <a:lnTo>
                      <a:pt x="524" y="175"/>
                    </a:lnTo>
                    <a:lnTo>
                      <a:pt x="534" y="175"/>
                    </a:lnTo>
                    <a:lnTo>
                      <a:pt x="543" y="175"/>
                    </a:lnTo>
                    <a:lnTo>
                      <a:pt x="552" y="175"/>
                    </a:lnTo>
                    <a:lnTo>
                      <a:pt x="562" y="175"/>
                    </a:lnTo>
                    <a:lnTo>
                      <a:pt x="574" y="175"/>
                    </a:lnTo>
                    <a:lnTo>
                      <a:pt x="587" y="175"/>
                    </a:lnTo>
                    <a:lnTo>
                      <a:pt x="601" y="174"/>
                    </a:lnTo>
                    <a:lnTo>
                      <a:pt x="616" y="174"/>
                    </a:lnTo>
                    <a:lnTo>
                      <a:pt x="630" y="174"/>
                    </a:lnTo>
                    <a:lnTo>
                      <a:pt x="646" y="174"/>
                    </a:lnTo>
                    <a:lnTo>
                      <a:pt x="662" y="172"/>
                    </a:lnTo>
                    <a:lnTo>
                      <a:pt x="677" y="172"/>
                    </a:lnTo>
                    <a:lnTo>
                      <a:pt x="692" y="172"/>
                    </a:lnTo>
                    <a:lnTo>
                      <a:pt x="707" y="172"/>
                    </a:lnTo>
                    <a:lnTo>
                      <a:pt x="722" y="170"/>
                    </a:lnTo>
                    <a:lnTo>
                      <a:pt x="735" y="170"/>
                    </a:lnTo>
                    <a:lnTo>
                      <a:pt x="748" y="170"/>
                    </a:lnTo>
                    <a:lnTo>
                      <a:pt x="760" y="170"/>
                    </a:lnTo>
                    <a:lnTo>
                      <a:pt x="772" y="168"/>
                    </a:lnTo>
                    <a:lnTo>
                      <a:pt x="780" y="170"/>
                    </a:lnTo>
                    <a:lnTo>
                      <a:pt x="792" y="170"/>
                    </a:lnTo>
                    <a:lnTo>
                      <a:pt x="803" y="170"/>
                    </a:lnTo>
                    <a:lnTo>
                      <a:pt x="816" y="170"/>
                    </a:lnTo>
                    <a:lnTo>
                      <a:pt x="829" y="170"/>
                    </a:lnTo>
                    <a:lnTo>
                      <a:pt x="843" y="170"/>
                    </a:lnTo>
                    <a:lnTo>
                      <a:pt x="856" y="170"/>
                    </a:lnTo>
                    <a:lnTo>
                      <a:pt x="871" y="170"/>
                    </a:lnTo>
                    <a:lnTo>
                      <a:pt x="884" y="172"/>
                    </a:lnTo>
                    <a:lnTo>
                      <a:pt x="898" y="172"/>
                    </a:lnTo>
                    <a:lnTo>
                      <a:pt x="911" y="172"/>
                    </a:lnTo>
                    <a:lnTo>
                      <a:pt x="925" y="172"/>
                    </a:lnTo>
                    <a:lnTo>
                      <a:pt x="937" y="172"/>
                    </a:lnTo>
                    <a:lnTo>
                      <a:pt x="949" y="172"/>
                    </a:lnTo>
                    <a:lnTo>
                      <a:pt x="960" y="172"/>
                    </a:lnTo>
                    <a:lnTo>
                      <a:pt x="971" y="172"/>
                    </a:lnTo>
                    <a:lnTo>
                      <a:pt x="980" y="172"/>
                    </a:lnTo>
                    <a:lnTo>
                      <a:pt x="991" y="172"/>
                    </a:lnTo>
                    <a:lnTo>
                      <a:pt x="1004" y="172"/>
                    </a:lnTo>
                    <a:lnTo>
                      <a:pt x="1018" y="172"/>
                    </a:lnTo>
                    <a:lnTo>
                      <a:pt x="1030" y="172"/>
                    </a:lnTo>
                    <a:lnTo>
                      <a:pt x="1046" y="172"/>
                    </a:lnTo>
                    <a:lnTo>
                      <a:pt x="1060" y="172"/>
                    </a:lnTo>
                    <a:lnTo>
                      <a:pt x="1076" y="172"/>
                    </a:lnTo>
                    <a:lnTo>
                      <a:pt x="1090" y="172"/>
                    </a:lnTo>
                    <a:lnTo>
                      <a:pt x="1105" y="172"/>
                    </a:lnTo>
                    <a:lnTo>
                      <a:pt x="1118" y="172"/>
                    </a:lnTo>
                    <a:lnTo>
                      <a:pt x="1134" y="172"/>
                    </a:lnTo>
                    <a:lnTo>
                      <a:pt x="1146" y="172"/>
                    </a:lnTo>
                    <a:lnTo>
                      <a:pt x="1159" y="172"/>
                    </a:lnTo>
                    <a:lnTo>
                      <a:pt x="1170" y="172"/>
                    </a:lnTo>
                    <a:lnTo>
                      <a:pt x="1182" y="172"/>
                    </a:lnTo>
                    <a:lnTo>
                      <a:pt x="1189" y="173"/>
                    </a:lnTo>
                    <a:lnTo>
                      <a:pt x="1198" y="173"/>
                    </a:lnTo>
                    <a:lnTo>
                      <a:pt x="1207" y="173"/>
                    </a:lnTo>
                    <a:lnTo>
                      <a:pt x="1218" y="173"/>
                    </a:lnTo>
                    <a:lnTo>
                      <a:pt x="1228" y="173"/>
                    </a:lnTo>
                    <a:lnTo>
                      <a:pt x="1240" y="173"/>
                    </a:lnTo>
                    <a:lnTo>
                      <a:pt x="1251" y="173"/>
                    </a:lnTo>
                    <a:lnTo>
                      <a:pt x="1263" y="173"/>
                    </a:lnTo>
                    <a:lnTo>
                      <a:pt x="1274" y="173"/>
                    </a:lnTo>
                    <a:lnTo>
                      <a:pt x="1286" y="173"/>
                    </a:lnTo>
                    <a:lnTo>
                      <a:pt x="1297" y="173"/>
                    </a:lnTo>
                    <a:lnTo>
                      <a:pt x="1308" y="173"/>
                    </a:lnTo>
                    <a:lnTo>
                      <a:pt x="1318" y="173"/>
                    </a:lnTo>
                    <a:lnTo>
                      <a:pt x="1328" y="173"/>
                    </a:lnTo>
                    <a:lnTo>
                      <a:pt x="1337" y="173"/>
                    </a:lnTo>
                    <a:lnTo>
                      <a:pt x="1346" y="172"/>
                    </a:lnTo>
                    <a:lnTo>
                      <a:pt x="1348" y="172"/>
                    </a:lnTo>
                    <a:lnTo>
                      <a:pt x="1351" y="172"/>
                    </a:lnTo>
                    <a:lnTo>
                      <a:pt x="1354" y="172"/>
                    </a:lnTo>
                    <a:lnTo>
                      <a:pt x="1358" y="171"/>
                    </a:lnTo>
                    <a:lnTo>
                      <a:pt x="1362" y="171"/>
                    </a:lnTo>
                    <a:lnTo>
                      <a:pt x="1366" y="171"/>
                    </a:lnTo>
                    <a:lnTo>
                      <a:pt x="1370" y="171"/>
                    </a:lnTo>
                    <a:lnTo>
                      <a:pt x="1376" y="169"/>
                    </a:lnTo>
                    <a:lnTo>
                      <a:pt x="1379" y="169"/>
                    </a:lnTo>
                    <a:lnTo>
                      <a:pt x="1384" y="169"/>
                    </a:lnTo>
                    <a:lnTo>
                      <a:pt x="1388" y="169"/>
                    </a:lnTo>
                    <a:lnTo>
                      <a:pt x="1394" y="167"/>
                    </a:lnTo>
                    <a:lnTo>
                      <a:pt x="1398" y="167"/>
                    </a:lnTo>
                    <a:lnTo>
                      <a:pt x="1401" y="167"/>
                    </a:lnTo>
                    <a:lnTo>
                      <a:pt x="1405" y="167"/>
                    </a:lnTo>
                    <a:lnTo>
                      <a:pt x="1409" y="166"/>
                    </a:lnTo>
                    <a:lnTo>
                      <a:pt x="1414" y="166"/>
                    </a:lnTo>
                    <a:lnTo>
                      <a:pt x="1420" y="166"/>
                    </a:lnTo>
                    <a:lnTo>
                      <a:pt x="1427" y="166"/>
                    </a:lnTo>
                    <a:lnTo>
                      <a:pt x="1435" y="165"/>
                    </a:lnTo>
                    <a:lnTo>
                      <a:pt x="1442" y="165"/>
                    </a:lnTo>
                    <a:lnTo>
                      <a:pt x="1451" y="165"/>
                    </a:lnTo>
                    <a:lnTo>
                      <a:pt x="1458" y="165"/>
                    </a:lnTo>
                    <a:lnTo>
                      <a:pt x="1468" y="165"/>
                    </a:lnTo>
                    <a:lnTo>
                      <a:pt x="1476" y="166"/>
                    </a:lnTo>
                    <a:lnTo>
                      <a:pt x="1484" y="166"/>
                    </a:lnTo>
                    <a:lnTo>
                      <a:pt x="1492" y="166"/>
                    </a:lnTo>
                    <a:lnTo>
                      <a:pt x="1500" y="166"/>
                    </a:lnTo>
                    <a:lnTo>
                      <a:pt x="1507" y="166"/>
                    </a:lnTo>
                    <a:lnTo>
                      <a:pt x="1515" y="166"/>
                    </a:lnTo>
                    <a:lnTo>
                      <a:pt x="1521" y="166"/>
                    </a:lnTo>
                    <a:lnTo>
                      <a:pt x="1528" y="166"/>
                    </a:lnTo>
                    <a:lnTo>
                      <a:pt x="1534" y="166"/>
                    </a:lnTo>
                    <a:lnTo>
                      <a:pt x="1542" y="166"/>
                    </a:lnTo>
                    <a:lnTo>
                      <a:pt x="1551" y="166"/>
                    </a:lnTo>
                    <a:lnTo>
                      <a:pt x="1562" y="166"/>
                    </a:lnTo>
                    <a:lnTo>
                      <a:pt x="1571" y="166"/>
                    </a:lnTo>
                    <a:lnTo>
                      <a:pt x="1582" y="166"/>
                    </a:lnTo>
                    <a:lnTo>
                      <a:pt x="1593" y="166"/>
                    </a:lnTo>
                    <a:lnTo>
                      <a:pt x="1604" y="166"/>
                    </a:lnTo>
                    <a:lnTo>
                      <a:pt x="1613" y="166"/>
                    </a:lnTo>
                    <a:lnTo>
                      <a:pt x="1623" y="166"/>
                    </a:lnTo>
                    <a:lnTo>
                      <a:pt x="1631" y="166"/>
                    </a:lnTo>
                    <a:lnTo>
                      <a:pt x="1639" y="166"/>
                    </a:lnTo>
                    <a:lnTo>
                      <a:pt x="1644" y="166"/>
                    </a:lnTo>
                    <a:lnTo>
                      <a:pt x="1650" y="166"/>
                    </a:lnTo>
                    <a:lnTo>
                      <a:pt x="1653" y="166"/>
                    </a:lnTo>
                    <a:lnTo>
                      <a:pt x="1654" y="166"/>
                    </a:lnTo>
                    <a:lnTo>
                      <a:pt x="1651" y="164"/>
                    </a:lnTo>
                    <a:lnTo>
                      <a:pt x="1646" y="162"/>
                    </a:lnTo>
                    <a:lnTo>
                      <a:pt x="1635" y="160"/>
                    </a:lnTo>
                    <a:lnTo>
                      <a:pt x="1623" y="156"/>
                    </a:lnTo>
                    <a:lnTo>
                      <a:pt x="1606" y="154"/>
                    </a:lnTo>
                    <a:lnTo>
                      <a:pt x="1589" y="150"/>
                    </a:lnTo>
                    <a:lnTo>
                      <a:pt x="1569" y="147"/>
                    </a:lnTo>
                    <a:lnTo>
                      <a:pt x="1549" y="144"/>
                    </a:lnTo>
                    <a:lnTo>
                      <a:pt x="1526" y="142"/>
                    </a:lnTo>
                    <a:lnTo>
                      <a:pt x="1505" y="138"/>
                    </a:lnTo>
                    <a:lnTo>
                      <a:pt x="1484" y="135"/>
                    </a:lnTo>
                    <a:lnTo>
                      <a:pt x="1463" y="132"/>
                    </a:lnTo>
                    <a:lnTo>
                      <a:pt x="1442" y="130"/>
                    </a:lnTo>
                    <a:lnTo>
                      <a:pt x="1424" y="127"/>
                    </a:lnTo>
                    <a:lnTo>
                      <a:pt x="1408" y="125"/>
                    </a:lnTo>
                    <a:lnTo>
                      <a:pt x="1395" y="122"/>
                    </a:lnTo>
                    <a:lnTo>
                      <a:pt x="1395" y="122"/>
                    </a:lnTo>
                  </a:path>
                </a:pathLst>
              </a:custGeom>
              <a:solidFill>
                <a:srgbClr val="7fc2bc"/>
              </a:solidFill>
              <a:ln w="9360">
                <a:solidFill>
                  <a:srgbClr val="7fc2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49600" y="4827600"/>
                <a:ext cx="587520" cy="158760"/>
              </a:xfrm>
              <a:custGeom>
                <a:avLst/>
                <a:gdLst/>
                <a:ahLst/>
                <a:rect l="l" t="t" r="r" b="b"/>
                <a:pathLst>
                  <a:path w="370" h="100">
                    <a:moveTo>
                      <a:pt x="12" y="49"/>
                    </a:moveTo>
                    <a:lnTo>
                      <a:pt x="12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9" y="53"/>
                    </a:lnTo>
                    <a:lnTo>
                      <a:pt x="35" y="55"/>
                    </a:lnTo>
                    <a:lnTo>
                      <a:pt x="41" y="55"/>
                    </a:lnTo>
                    <a:lnTo>
                      <a:pt x="47" y="57"/>
                    </a:lnTo>
                    <a:lnTo>
                      <a:pt x="52" y="57"/>
                    </a:lnTo>
                    <a:lnTo>
                      <a:pt x="58" y="59"/>
                    </a:lnTo>
                    <a:lnTo>
                      <a:pt x="64" y="59"/>
                    </a:lnTo>
                    <a:lnTo>
                      <a:pt x="69" y="61"/>
                    </a:lnTo>
                    <a:lnTo>
                      <a:pt x="75" y="61"/>
                    </a:lnTo>
                    <a:lnTo>
                      <a:pt x="79" y="61"/>
                    </a:lnTo>
                    <a:lnTo>
                      <a:pt x="83" y="61"/>
                    </a:lnTo>
                    <a:lnTo>
                      <a:pt x="89" y="63"/>
                    </a:lnTo>
                    <a:lnTo>
                      <a:pt x="96" y="65"/>
                    </a:lnTo>
                    <a:lnTo>
                      <a:pt x="103" y="67"/>
                    </a:lnTo>
                    <a:lnTo>
                      <a:pt x="112" y="68"/>
                    </a:lnTo>
                    <a:lnTo>
                      <a:pt x="120" y="69"/>
                    </a:lnTo>
                    <a:lnTo>
                      <a:pt x="130" y="71"/>
                    </a:lnTo>
                    <a:lnTo>
                      <a:pt x="139" y="73"/>
                    </a:lnTo>
                    <a:lnTo>
                      <a:pt x="148" y="73"/>
                    </a:lnTo>
                    <a:lnTo>
                      <a:pt x="157" y="75"/>
                    </a:lnTo>
                    <a:lnTo>
                      <a:pt x="167" y="77"/>
                    </a:lnTo>
                    <a:lnTo>
                      <a:pt x="175" y="79"/>
                    </a:lnTo>
                    <a:lnTo>
                      <a:pt x="185" y="80"/>
                    </a:lnTo>
                    <a:lnTo>
                      <a:pt x="192" y="82"/>
                    </a:lnTo>
                    <a:lnTo>
                      <a:pt x="201" y="83"/>
                    </a:lnTo>
                    <a:lnTo>
                      <a:pt x="209" y="85"/>
                    </a:lnTo>
                    <a:lnTo>
                      <a:pt x="216" y="85"/>
                    </a:lnTo>
                    <a:lnTo>
                      <a:pt x="219" y="86"/>
                    </a:lnTo>
                    <a:lnTo>
                      <a:pt x="224" y="86"/>
                    </a:lnTo>
                    <a:lnTo>
                      <a:pt x="229" y="86"/>
                    </a:lnTo>
                    <a:lnTo>
                      <a:pt x="235" y="86"/>
                    </a:lnTo>
                    <a:lnTo>
                      <a:pt x="240" y="88"/>
                    </a:lnTo>
                    <a:lnTo>
                      <a:pt x="246" y="88"/>
                    </a:lnTo>
                    <a:lnTo>
                      <a:pt x="252" y="89"/>
                    </a:lnTo>
                    <a:lnTo>
                      <a:pt x="259" y="89"/>
                    </a:lnTo>
                    <a:lnTo>
                      <a:pt x="265" y="91"/>
                    </a:lnTo>
                    <a:lnTo>
                      <a:pt x="272" y="91"/>
                    </a:lnTo>
                    <a:lnTo>
                      <a:pt x="277" y="93"/>
                    </a:lnTo>
                    <a:lnTo>
                      <a:pt x="284" y="93"/>
                    </a:lnTo>
                    <a:lnTo>
                      <a:pt x="289" y="93"/>
                    </a:lnTo>
                    <a:lnTo>
                      <a:pt x="294" y="93"/>
                    </a:lnTo>
                    <a:lnTo>
                      <a:pt x="298" y="93"/>
                    </a:lnTo>
                    <a:lnTo>
                      <a:pt x="303" y="93"/>
                    </a:lnTo>
                    <a:lnTo>
                      <a:pt x="307" y="95"/>
                    </a:lnTo>
                    <a:lnTo>
                      <a:pt x="311" y="95"/>
                    </a:lnTo>
                    <a:lnTo>
                      <a:pt x="315" y="96"/>
                    </a:lnTo>
                    <a:lnTo>
                      <a:pt x="321" y="96"/>
                    </a:lnTo>
                    <a:lnTo>
                      <a:pt x="326" y="98"/>
                    </a:lnTo>
                    <a:lnTo>
                      <a:pt x="332" y="98"/>
                    </a:lnTo>
                    <a:lnTo>
                      <a:pt x="337" y="98"/>
                    </a:lnTo>
                    <a:lnTo>
                      <a:pt x="343" y="98"/>
                    </a:lnTo>
                    <a:lnTo>
                      <a:pt x="347" y="99"/>
                    </a:lnTo>
                    <a:lnTo>
                      <a:pt x="352" y="99"/>
                    </a:lnTo>
                    <a:lnTo>
                      <a:pt x="356" y="99"/>
                    </a:lnTo>
                    <a:lnTo>
                      <a:pt x="361" y="99"/>
                    </a:lnTo>
                    <a:lnTo>
                      <a:pt x="364" y="99"/>
                    </a:lnTo>
                    <a:lnTo>
                      <a:pt x="367" y="98"/>
                    </a:lnTo>
                    <a:lnTo>
                      <a:pt x="368" y="98"/>
                    </a:lnTo>
                    <a:lnTo>
                      <a:pt x="369" y="96"/>
                    </a:lnTo>
                    <a:lnTo>
                      <a:pt x="368" y="96"/>
                    </a:lnTo>
                    <a:lnTo>
                      <a:pt x="367" y="96"/>
                    </a:lnTo>
                    <a:lnTo>
                      <a:pt x="364" y="96"/>
                    </a:lnTo>
                    <a:lnTo>
                      <a:pt x="361" y="94"/>
                    </a:lnTo>
                    <a:lnTo>
                      <a:pt x="357" y="93"/>
                    </a:lnTo>
                    <a:lnTo>
                      <a:pt x="353" y="91"/>
                    </a:lnTo>
                    <a:lnTo>
                      <a:pt x="347" y="89"/>
                    </a:lnTo>
                    <a:lnTo>
                      <a:pt x="344" y="88"/>
                    </a:lnTo>
                    <a:lnTo>
                      <a:pt x="338" y="86"/>
                    </a:lnTo>
                    <a:lnTo>
                      <a:pt x="333" y="85"/>
                    </a:lnTo>
                    <a:lnTo>
                      <a:pt x="327" y="83"/>
                    </a:lnTo>
                    <a:lnTo>
                      <a:pt x="324" y="81"/>
                    </a:lnTo>
                    <a:lnTo>
                      <a:pt x="318" y="81"/>
                    </a:lnTo>
                    <a:lnTo>
                      <a:pt x="314" y="79"/>
                    </a:lnTo>
                    <a:lnTo>
                      <a:pt x="311" y="78"/>
                    </a:lnTo>
                    <a:lnTo>
                      <a:pt x="309" y="76"/>
                    </a:lnTo>
                    <a:lnTo>
                      <a:pt x="303" y="76"/>
                    </a:lnTo>
                    <a:lnTo>
                      <a:pt x="298" y="74"/>
                    </a:lnTo>
                    <a:lnTo>
                      <a:pt x="292" y="73"/>
                    </a:lnTo>
                    <a:lnTo>
                      <a:pt x="286" y="71"/>
                    </a:lnTo>
                    <a:lnTo>
                      <a:pt x="279" y="69"/>
                    </a:lnTo>
                    <a:lnTo>
                      <a:pt x="273" y="67"/>
                    </a:lnTo>
                    <a:lnTo>
                      <a:pt x="266" y="65"/>
                    </a:lnTo>
                    <a:lnTo>
                      <a:pt x="261" y="63"/>
                    </a:lnTo>
                    <a:lnTo>
                      <a:pt x="253" y="61"/>
                    </a:lnTo>
                    <a:lnTo>
                      <a:pt x="247" y="59"/>
                    </a:lnTo>
                    <a:lnTo>
                      <a:pt x="241" y="57"/>
                    </a:lnTo>
                    <a:lnTo>
                      <a:pt x="235" y="54"/>
                    </a:lnTo>
                    <a:lnTo>
                      <a:pt x="229" y="52"/>
                    </a:lnTo>
                    <a:lnTo>
                      <a:pt x="225" y="49"/>
                    </a:lnTo>
                    <a:lnTo>
                      <a:pt x="220" y="48"/>
                    </a:lnTo>
                    <a:lnTo>
                      <a:pt x="216" y="44"/>
                    </a:lnTo>
                    <a:lnTo>
                      <a:pt x="213" y="44"/>
                    </a:lnTo>
                    <a:lnTo>
                      <a:pt x="211" y="42"/>
                    </a:lnTo>
                    <a:lnTo>
                      <a:pt x="208" y="40"/>
                    </a:lnTo>
                    <a:lnTo>
                      <a:pt x="206" y="38"/>
                    </a:lnTo>
                    <a:lnTo>
                      <a:pt x="202" y="37"/>
                    </a:lnTo>
                    <a:lnTo>
                      <a:pt x="200" y="35"/>
                    </a:lnTo>
                    <a:lnTo>
                      <a:pt x="196" y="33"/>
                    </a:lnTo>
                    <a:lnTo>
                      <a:pt x="195" y="30"/>
                    </a:lnTo>
                    <a:lnTo>
                      <a:pt x="191" y="28"/>
                    </a:lnTo>
                    <a:lnTo>
                      <a:pt x="188" y="26"/>
                    </a:lnTo>
                    <a:lnTo>
                      <a:pt x="185" y="24"/>
                    </a:lnTo>
                    <a:lnTo>
                      <a:pt x="183" y="21"/>
                    </a:lnTo>
                    <a:lnTo>
                      <a:pt x="179" y="19"/>
                    </a:lnTo>
                    <a:lnTo>
                      <a:pt x="177" y="17"/>
                    </a:lnTo>
                    <a:lnTo>
                      <a:pt x="175" y="15"/>
                    </a:lnTo>
                    <a:lnTo>
                      <a:pt x="173" y="12"/>
                    </a:lnTo>
                    <a:lnTo>
                      <a:pt x="171" y="12"/>
                    </a:lnTo>
                    <a:lnTo>
                      <a:pt x="171" y="12"/>
                    </a:lnTo>
                    <a:lnTo>
                      <a:pt x="169" y="12"/>
                    </a:lnTo>
                    <a:lnTo>
                      <a:pt x="169" y="10"/>
                    </a:lnTo>
                    <a:lnTo>
                      <a:pt x="167" y="10"/>
                    </a:lnTo>
                    <a:lnTo>
                      <a:pt x="167" y="9"/>
                    </a:lnTo>
                    <a:lnTo>
                      <a:pt x="165" y="9"/>
                    </a:lnTo>
                    <a:lnTo>
                      <a:pt x="165" y="7"/>
                    </a:lnTo>
                    <a:lnTo>
                      <a:pt x="163" y="7"/>
                    </a:lnTo>
                    <a:lnTo>
                      <a:pt x="163" y="6"/>
                    </a:lnTo>
                    <a:lnTo>
                      <a:pt x="161" y="6"/>
                    </a:lnTo>
                    <a:lnTo>
                      <a:pt x="161" y="4"/>
                    </a:lnTo>
                    <a:lnTo>
                      <a:pt x="159" y="4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3" y="1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38" y="1"/>
                    </a:lnTo>
                    <a:lnTo>
                      <a:pt x="137" y="1"/>
                    </a:lnTo>
                    <a:lnTo>
                      <a:pt x="133" y="1"/>
                    </a:lnTo>
                    <a:lnTo>
                      <a:pt x="131" y="1"/>
                    </a:lnTo>
                    <a:lnTo>
                      <a:pt x="129" y="1"/>
                    </a:lnTo>
                    <a:lnTo>
                      <a:pt x="127" y="1"/>
                    </a:lnTo>
                    <a:lnTo>
                      <a:pt x="125" y="1"/>
                    </a:lnTo>
                    <a:lnTo>
                      <a:pt x="124" y="1"/>
                    </a:lnTo>
                    <a:lnTo>
                      <a:pt x="120" y="1"/>
                    </a:lnTo>
                    <a:lnTo>
                      <a:pt x="116" y="1"/>
                    </a:lnTo>
                    <a:lnTo>
                      <a:pt x="112" y="1"/>
                    </a:lnTo>
                    <a:lnTo>
                      <a:pt x="108" y="1"/>
                    </a:lnTo>
                    <a:lnTo>
                      <a:pt x="103" y="1"/>
                    </a:lnTo>
                    <a:lnTo>
                      <a:pt x="99" y="1"/>
                    </a:lnTo>
                    <a:lnTo>
                      <a:pt x="95" y="1"/>
                    </a:lnTo>
                    <a:lnTo>
                      <a:pt x="91" y="1"/>
                    </a:lnTo>
                    <a:lnTo>
                      <a:pt x="86" y="3"/>
                    </a:lnTo>
                    <a:lnTo>
                      <a:pt x="82" y="3"/>
                    </a:lnTo>
                    <a:lnTo>
                      <a:pt x="79" y="3"/>
                    </a:lnTo>
                    <a:lnTo>
                      <a:pt x="75" y="3"/>
                    </a:lnTo>
                    <a:lnTo>
                      <a:pt x="71" y="3"/>
                    </a:lnTo>
                    <a:lnTo>
                      <a:pt x="67" y="3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5" y="7"/>
                    </a:lnTo>
                    <a:lnTo>
                      <a:pt x="51" y="9"/>
                    </a:lnTo>
                    <a:lnTo>
                      <a:pt x="45" y="13"/>
                    </a:lnTo>
                    <a:lnTo>
                      <a:pt x="42" y="16"/>
                    </a:lnTo>
                    <a:lnTo>
                      <a:pt x="36" y="21"/>
                    </a:lnTo>
                    <a:lnTo>
                      <a:pt x="32" y="25"/>
                    </a:lnTo>
                    <a:lnTo>
                      <a:pt x="26" y="30"/>
                    </a:lnTo>
                    <a:lnTo>
                      <a:pt x="22" y="33"/>
                    </a:lnTo>
                    <a:lnTo>
                      <a:pt x="17" y="39"/>
                    </a:lnTo>
                    <a:lnTo>
                      <a:pt x="13" y="43"/>
                    </a:lnTo>
                    <a:lnTo>
                      <a:pt x="9" y="47"/>
                    </a:lnTo>
                    <a:lnTo>
                      <a:pt x="6" y="49"/>
                    </a:lnTo>
                    <a:lnTo>
                      <a:pt x="3" y="53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2" y="49"/>
                    </a:lnTo>
                    <a:lnTo>
                      <a:pt x="12" y="49"/>
                    </a:lnTo>
                  </a:path>
                </a:pathLst>
              </a:custGeom>
              <a:solidFill>
                <a:srgbClr val="71b2cf"/>
              </a:solidFill>
              <a:ln w="9360">
                <a:solidFill>
                  <a:srgbClr val="71b2c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4894200" y="6684840"/>
              <a:ext cx="65160" cy="601920"/>
            </a:xfrm>
            <a:custGeom>
              <a:avLst/>
              <a:gdLst/>
              <a:ahLst/>
              <a:rect l="l" t="t" r="r" b="b"/>
              <a:pathLst>
                <a:path w="41" h="379">
                  <a:moveTo>
                    <a:pt x="6" y="5"/>
                  </a:moveTo>
                  <a:lnTo>
                    <a:pt x="40" y="0"/>
                  </a:lnTo>
                  <a:lnTo>
                    <a:pt x="40" y="378"/>
                  </a:lnTo>
                  <a:lnTo>
                    <a:pt x="0" y="375"/>
                  </a:lnTo>
                  <a:lnTo>
                    <a:pt x="6" y="5"/>
                  </a:lnTo>
                  <a:lnTo>
                    <a:pt x="6" y="5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40040" y="5156280"/>
              <a:ext cx="5119560" cy="2192400"/>
            </a:xfrm>
            <a:custGeom>
              <a:avLst/>
              <a:gdLst/>
              <a:ahLst/>
              <a:rect l="l" t="t" r="r" b="b"/>
              <a:pathLst>
                <a:path w="3225" h="1381">
                  <a:moveTo>
                    <a:pt x="3" y="120"/>
                  </a:moveTo>
                  <a:lnTo>
                    <a:pt x="2" y="125"/>
                  </a:lnTo>
                  <a:lnTo>
                    <a:pt x="2" y="138"/>
                  </a:lnTo>
                  <a:lnTo>
                    <a:pt x="2" y="161"/>
                  </a:lnTo>
                  <a:lnTo>
                    <a:pt x="2" y="189"/>
                  </a:lnTo>
                  <a:lnTo>
                    <a:pt x="2" y="224"/>
                  </a:lnTo>
                  <a:lnTo>
                    <a:pt x="2" y="265"/>
                  </a:lnTo>
                  <a:lnTo>
                    <a:pt x="2" y="310"/>
                  </a:lnTo>
                  <a:lnTo>
                    <a:pt x="2" y="359"/>
                  </a:lnTo>
                  <a:lnTo>
                    <a:pt x="2" y="412"/>
                  </a:lnTo>
                  <a:lnTo>
                    <a:pt x="2" y="467"/>
                  </a:lnTo>
                  <a:lnTo>
                    <a:pt x="2" y="523"/>
                  </a:lnTo>
                  <a:lnTo>
                    <a:pt x="2" y="580"/>
                  </a:lnTo>
                  <a:lnTo>
                    <a:pt x="2" y="636"/>
                  </a:lnTo>
                  <a:lnTo>
                    <a:pt x="2" y="692"/>
                  </a:lnTo>
                  <a:lnTo>
                    <a:pt x="2" y="746"/>
                  </a:lnTo>
                  <a:lnTo>
                    <a:pt x="3" y="796"/>
                  </a:lnTo>
                  <a:lnTo>
                    <a:pt x="3" y="808"/>
                  </a:lnTo>
                  <a:lnTo>
                    <a:pt x="3" y="830"/>
                  </a:lnTo>
                  <a:lnTo>
                    <a:pt x="3" y="861"/>
                  </a:lnTo>
                  <a:lnTo>
                    <a:pt x="3" y="898"/>
                  </a:lnTo>
                  <a:lnTo>
                    <a:pt x="3" y="943"/>
                  </a:lnTo>
                  <a:lnTo>
                    <a:pt x="3" y="991"/>
                  </a:lnTo>
                  <a:lnTo>
                    <a:pt x="3" y="1042"/>
                  </a:lnTo>
                  <a:lnTo>
                    <a:pt x="3" y="1094"/>
                  </a:lnTo>
                  <a:lnTo>
                    <a:pt x="3" y="1146"/>
                  </a:lnTo>
                  <a:lnTo>
                    <a:pt x="3" y="1197"/>
                  </a:lnTo>
                  <a:lnTo>
                    <a:pt x="3" y="1244"/>
                  </a:lnTo>
                  <a:lnTo>
                    <a:pt x="4" y="1285"/>
                  </a:lnTo>
                  <a:lnTo>
                    <a:pt x="4" y="1321"/>
                  </a:lnTo>
                  <a:lnTo>
                    <a:pt x="6" y="1348"/>
                  </a:lnTo>
                  <a:lnTo>
                    <a:pt x="6" y="1366"/>
                  </a:lnTo>
                  <a:lnTo>
                    <a:pt x="8" y="1373"/>
                  </a:lnTo>
                  <a:lnTo>
                    <a:pt x="34" y="1378"/>
                  </a:lnTo>
                  <a:lnTo>
                    <a:pt x="101" y="1379"/>
                  </a:lnTo>
                  <a:lnTo>
                    <a:pt x="202" y="1380"/>
                  </a:lnTo>
                  <a:lnTo>
                    <a:pt x="332" y="1378"/>
                  </a:lnTo>
                  <a:lnTo>
                    <a:pt x="484" y="1375"/>
                  </a:lnTo>
                  <a:lnTo>
                    <a:pt x="654" y="1371"/>
                  </a:lnTo>
                  <a:lnTo>
                    <a:pt x="835" y="1367"/>
                  </a:lnTo>
                  <a:lnTo>
                    <a:pt x="1023" y="1361"/>
                  </a:lnTo>
                  <a:lnTo>
                    <a:pt x="1209" y="1357"/>
                  </a:lnTo>
                  <a:lnTo>
                    <a:pt x="1390" y="1352"/>
                  </a:lnTo>
                  <a:lnTo>
                    <a:pt x="1558" y="1347"/>
                  </a:lnTo>
                  <a:lnTo>
                    <a:pt x="1711" y="1342"/>
                  </a:lnTo>
                  <a:lnTo>
                    <a:pt x="1838" y="1338"/>
                  </a:lnTo>
                  <a:lnTo>
                    <a:pt x="1938" y="1335"/>
                  </a:lnTo>
                  <a:lnTo>
                    <a:pt x="2003" y="1333"/>
                  </a:lnTo>
                  <a:lnTo>
                    <a:pt x="2028" y="1332"/>
                  </a:lnTo>
                  <a:lnTo>
                    <a:pt x="2054" y="1336"/>
                  </a:lnTo>
                  <a:lnTo>
                    <a:pt x="2105" y="1340"/>
                  </a:lnTo>
                  <a:lnTo>
                    <a:pt x="2177" y="1344"/>
                  </a:lnTo>
                  <a:lnTo>
                    <a:pt x="2266" y="1347"/>
                  </a:lnTo>
                  <a:lnTo>
                    <a:pt x="2368" y="1350"/>
                  </a:lnTo>
                  <a:lnTo>
                    <a:pt x="2480" y="1352"/>
                  </a:lnTo>
                  <a:lnTo>
                    <a:pt x="2596" y="1353"/>
                  </a:lnTo>
                  <a:lnTo>
                    <a:pt x="2714" y="1353"/>
                  </a:lnTo>
                  <a:lnTo>
                    <a:pt x="2828" y="1353"/>
                  </a:lnTo>
                  <a:lnTo>
                    <a:pt x="2935" y="1352"/>
                  </a:lnTo>
                  <a:lnTo>
                    <a:pt x="3030" y="1350"/>
                  </a:lnTo>
                  <a:lnTo>
                    <a:pt x="3112" y="1346"/>
                  </a:lnTo>
                  <a:lnTo>
                    <a:pt x="3173" y="1341"/>
                  </a:lnTo>
                  <a:lnTo>
                    <a:pt x="3212" y="1334"/>
                  </a:lnTo>
                  <a:lnTo>
                    <a:pt x="3224" y="1325"/>
                  </a:lnTo>
                  <a:lnTo>
                    <a:pt x="3206" y="1314"/>
                  </a:lnTo>
                  <a:lnTo>
                    <a:pt x="3057" y="1272"/>
                  </a:lnTo>
                  <a:lnTo>
                    <a:pt x="2898" y="1224"/>
                  </a:lnTo>
                  <a:lnTo>
                    <a:pt x="2729" y="1171"/>
                  </a:lnTo>
                  <a:lnTo>
                    <a:pt x="2553" y="1113"/>
                  </a:lnTo>
                  <a:lnTo>
                    <a:pt x="2370" y="1053"/>
                  </a:lnTo>
                  <a:lnTo>
                    <a:pt x="2182" y="990"/>
                  </a:lnTo>
                  <a:lnTo>
                    <a:pt x="1992" y="924"/>
                  </a:lnTo>
                  <a:lnTo>
                    <a:pt x="1801" y="857"/>
                  </a:lnTo>
                  <a:lnTo>
                    <a:pt x="1610" y="790"/>
                  </a:lnTo>
                  <a:lnTo>
                    <a:pt x="1422" y="721"/>
                  </a:lnTo>
                  <a:lnTo>
                    <a:pt x="1238" y="653"/>
                  </a:lnTo>
                  <a:lnTo>
                    <a:pt x="1061" y="584"/>
                  </a:lnTo>
                  <a:lnTo>
                    <a:pt x="891" y="518"/>
                  </a:lnTo>
                  <a:lnTo>
                    <a:pt x="731" y="454"/>
                  </a:lnTo>
                  <a:lnTo>
                    <a:pt x="582" y="390"/>
                  </a:lnTo>
                  <a:lnTo>
                    <a:pt x="447" y="330"/>
                  </a:lnTo>
                  <a:lnTo>
                    <a:pt x="386" y="303"/>
                  </a:lnTo>
                  <a:lnTo>
                    <a:pt x="332" y="275"/>
                  </a:lnTo>
                  <a:lnTo>
                    <a:pt x="282" y="247"/>
                  </a:lnTo>
                  <a:lnTo>
                    <a:pt x="237" y="218"/>
                  </a:lnTo>
                  <a:lnTo>
                    <a:pt x="196" y="191"/>
                  </a:lnTo>
                  <a:lnTo>
                    <a:pt x="159" y="163"/>
                  </a:lnTo>
                  <a:lnTo>
                    <a:pt x="127" y="137"/>
                  </a:lnTo>
                  <a:lnTo>
                    <a:pt x="99" y="112"/>
                  </a:lnTo>
                  <a:lnTo>
                    <a:pt x="74" y="89"/>
                  </a:lnTo>
                  <a:lnTo>
                    <a:pt x="53" y="68"/>
                  </a:lnTo>
                  <a:lnTo>
                    <a:pt x="36" y="50"/>
                  </a:lnTo>
                  <a:lnTo>
                    <a:pt x="23" y="33"/>
                  </a:lnTo>
                  <a:lnTo>
                    <a:pt x="12" y="2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1" y="12"/>
                  </a:lnTo>
                  <a:lnTo>
                    <a:pt x="1" y="20"/>
                  </a:lnTo>
                  <a:lnTo>
                    <a:pt x="1" y="30"/>
                  </a:lnTo>
                  <a:lnTo>
                    <a:pt x="1" y="41"/>
                  </a:lnTo>
                  <a:lnTo>
                    <a:pt x="2" y="52"/>
                  </a:lnTo>
                  <a:lnTo>
                    <a:pt x="2" y="65"/>
                  </a:lnTo>
                  <a:lnTo>
                    <a:pt x="2" y="76"/>
                  </a:lnTo>
                  <a:lnTo>
                    <a:pt x="2" y="87"/>
                  </a:lnTo>
                  <a:lnTo>
                    <a:pt x="2" y="97"/>
                  </a:lnTo>
                  <a:lnTo>
                    <a:pt x="2" y="106"/>
                  </a:lnTo>
                  <a:lnTo>
                    <a:pt x="2" y="113"/>
                  </a:lnTo>
                  <a:lnTo>
                    <a:pt x="2" y="118"/>
                  </a:lnTo>
                  <a:lnTo>
                    <a:pt x="3" y="120"/>
                  </a:lnTo>
                  <a:lnTo>
                    <a:pt x="3" y="12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06840" y="5075280"/>
              <a:ext cx="1976400" cy="115920"/>
            </a:xfrm>
            <a:custGeom>
              <a:avLst/>
              <a:gdLst/>
              <a:ahLst/>
              <a:rect l="l" t="t" r="r" b="b"/>
              <a:pathLst>
                <a:path w="1245" h="73">
                  <a:moveTo>
                    <a:pt x="0" y="21"/>
                  </a:moveTo>
                  <a:lnTo>
                    <a:pt x="2" y="22"/>
                  </a:lnTo>
                  <a:lnTo>
                    <a:pt x="12" y="22"/>
                  </a:lnTo>
                  <a:lnTo>
                    <a:pt x="26" y="24"/>
                  </a:lnTo>
                  <a:lnTo>
                    <a:pt x="45" y="24"/>
                  </a:lnTo>
                  <a:lnTo>
                    <a:pt x="68" y="26"/>
                  </a:lnTo>
                  <a:lnTo>
                    <a:pt x="95" y="26"/>
                  </a:lnTo>
                  <a:lnTo>
                    <a:pt x="123" y="28"/>
                  </a:lnTo>
                  <a:lnTo>
                    <a:pt x="155" y="28"/>
                  </a:lnTo>
                  <a:lnTo>
                    <a:pt x="186" y="30"/>
                  </a:lnTo>
                  <a:lnTo>
                    <a:pt x="219" y="30"/>
                  </a:lnTo>
                  <a:lnTo>
                    <a:pt x="251" y="30"/>
                  </a:lnTo>
                  <a:lnTo>
                    <a:pt x="282" y="29"/>
                  </a:lnTo>
                  <a:lnTo>
                    <a:pt x="310" y="28"/>
                  </a:lnTo>
                  <a:lnTo>
                    <a:pt x="337" y="27"/>
                  </a:lnTo>
                  <a:lnTo>
                    <a:pt x="360" y="25"/>
                  </a:lnTo>
                  <a:lnTo>
                    <a:pt x="381" y="21"/>
                  </a:lnTo>
                  <a:lnTo>
                    <a:pt x="383" y="21"/>
                  </a:lnTo>
                  <a:lnTo>
                    <a:pt x="386" y="21"/>
                  </a:lnTo>
                  <a:lnTo>
                    <a:pt x="387" y="21"/>
                  </a:lnTo>
                  <a:lnTo>
                    <a:pt x="391" y="19"/>
                  </a:lnTo>
                  <a:lnTo>
                    <a:pt x="394" y="19"/>
                  </a:lnTo>
                  <a:lnTo>
                    <a:pt x="398" y="17"/>
                  </a:lnTo>
                  <a:lnTo>
                    <a:pt x="402" y="16"/>
                  </a:lnTo>
                  <a:lnTo>
                    <a:pt x="405" y="14"/>
                  </a:lnTo>
                  <a:lnTo>
                    <a:pt x="407" y="14"/>
                  </a:lnTo>
                  <a:lnTo>
                    <a:pt x="411" y="12"/>
                  </a:lnTo>
                  <a:lnTo>
                    <a:pt x="415" y="11"/>
                  </a:lnTo>
                  <a:lnTo>
                    <a:pt x="418" y="9"/>
                  </a:lnTo>
                  <a:lnTo>
                    <a:pt x="420" y="9"/>
                  </a:lnTo>
                  <a:lnTo>
                    <a:pt x="424" y="8"/>
                  </a:lnTo>
                  <a:lnTo>
                    <a:pt x="426" y="8"/>
                  </a:lnTo>
                  <a:lnTo>
                    <a:pt x="430" y="7"/>
                  </a:lnTo>
                  <a:lnTo>
                    <a:pt x="438" y="7"/>
                  </a:lnTo>
                  <a:lnTo>
                    <a:pt x="449" y="5"/>
                  </a:lnTo>
                  <a:lnTo>
                    <a:pt x="460" y="5"/>
                  </a:lnTo>
                  <a:lnTo>
                    <a:pt x="474" y="3"/>
                  </a:lnTo>
                  <a:lnTo>
                    <a:pt x="486" y="3"/>
                  </a:lnTo>
                  <a:lnTo>
                    <a:pt x="499" y="2"/>
                  </a:lnTo>
                  <a:lnTo>
                    <a:pt x="512" y="2"/>
                  </a:lnTo>
                  <a:lnTo>
                    <a:pt x="526" y="0"/>
                  </a:lnTo>
                  <a:lnTo>
                    <a:pt x="540" y="0"/>
                  </a:lnTo>
                  <a:lnTo>
                    <a:pt x="553" y="0"/>
                  </a:lnTo>
                  <a:lnTo>
                    <a:pt x="566" y="0"/>
                  </a:lnTo>
                  <a:lnTo>
                    <a:pt x="579" y="0"/>
                  </a:lnTo>
                  <a:lnTo>
                    <a:pt x="590" y="0"/>
                  </a:lnTo>
                  <a:lnTo>
                    <a:pt x="602" y="0"/>
                  </a:lnTo>
                  <a:lnTo>
                    <a:pt x="612" y="0"/>
                  </a:lnTo>
                  <a:lnTo>
                    <a:pt x="623" y="0"/>
                  </a:lnTo>
                  <a:lnTo>
                    <a:pt x="628" y="1"/>
                  </a:lnTo>
                  <a:lnTo>
                    <a:pt x="633" y="1"/>
                  </a:lnTo>
                  <a:lnTo>
                    <a:pt x="639" y="2"/>
                  </a:lnTo>
                  <a:lnTo>
                    <a:pt x="647" y="2"/>
                  </a:lnTo>
                  <a:lnTo>
                    <a:pt x="654" y="4"/>
                  </a:lnTo>
                  <a:lnTo>
                    <a:pt x="661" y="4"/>
                  </a:lnTo>
                  <a:lnTo>
                    <a:pt x="669" y="5"/>
                  </a:lnTo>
                  <a:lnTo>
                    <a:pt x="676" y="5"/>
                  </a:lnTo>
                  <a:lnTo>
                    <a:pt x="683" y="7"/>
                  </a:lnTo>
                  <a:lnTo>
                    <a:pt x="690" y="7"/>
                  </a:lnTo>
                  <a:lnTo>
                    <a:pt x="698" y="8"/>
                  </a:lnTo>
                  <a:lnTo>
                    <a:pt x="706" y="8"/>
                  </a:lnTo>
                  <a:lnTo>
                    <a:pt x="711" y="9"/>
                  </a:lnTo>
                  <a:lnTo>
                    <a:pt x="718" y="9"/>
                  </a:lnTo>
                  <a:lnTo>
                    <a:pt x="724" y="9"/>
                  </a:lnTo>
                  <a:lnTo>
                    <a:pt x="730" y="9"/>
                  </a:lnTo>
                  <a:lnTo>
                    <a:pt x="737" y="9"/>
                  </a:lnTo>
                  <a:lnTo>
                    <a:pt x="746" y="9"/>
                  </a:lnTo>
                  <a:lnTo>
                    <a:pt x="756" y="9"/>
                  </a:lnTo>
                  <a:lnTo>
                    <a:pt x="766" y="8"/>
                  </a:lnTo>
                  <a:lnTo>
                    <a:pt x="777" y="8"/>
                  </a:lnTo>
                  <a:lnTo>
                    <a:pt x="788" y="7"/>
                  </a:lnTo>
                  <a:lnTo>
                    <a:pt x="799" y="7"/>
                  </a:lnTo>
                  <a:lnTo>
                    <a:pt x="812" y="5"/>
                  </a:lnTo>
                  <a:lnTo>
                    <a:pt x="823" y="5"/>
                  </a:lnTo>
                  <a:lnTo>
                    <a:pt x="834" y="4"/>
                  </a:lnTo>
                  <a:lnTo>
                    <a:pt x="845" y="4"/>
                  </a:lnTo>
                  <a:lnTo>
                    <a:pt x="856" y="2"/>
                  </a:lnTo>
                  <a:lnTo>
                    <a:pt x="866" y="2"/>
                  </a:lnTo>
                  <a:lnTo>
                    <a:pt x="876" y="1"/>
                  </a:lnTo>
                  <a:lnTo>
                    <a:pt x="885" y="1"/>
                  </a:lnTo>
                  <a:lnTo>
                    <a:pt x="895" y="0"/>
                  </a:lnTo>
                  <a:lnTo>
                    <a:pt x="912" y="1"/>
                  </a:lnTo>
                  <a:lnTo>
                    <a:pt x="933" y="1"/>
                  </a:lnTo>
                  <a:lnTo>
                    <a:pt x="958" y="1"/>
                  </a:lnTo>
                  <a:lnTo>
                    <a:pt x="985" y="1"/>
                  </a:lnTo>
                  <a:lnTo>
                    <a:pt x="1012" y="2"/>
                  </a:lnTo>
                  <a:lnTo>
                    <a:pt x="1042" y="2"/>
                  </a:lnTo>
                  <a:lnTo>
                    <a:pt x="1071" y="3"/>
                  </a:lnTo>
                  <a:lnTo>
                    <a:pt x="1101" y="3"/>
                  </a:lnTo>
                  <a:lnTo>
                    <a:pt x="1128" y="5"/>
                  </a:lnTo>
                  <a:lnTo>
                    <a:pt x="1155" y="6"/>
                  </a:lnTo>
                  <a:lnTo>
                    <a:pt x="1178" y="8"/>
                  </a:lnTo>
                  <a:lnTo>
                    <a:pt x="1200" y="8"/>
                  </a:lnTo>
                  <a:lnTo>
                    <a:pt x="1217" y="11"/>
                  </a:lnTo>
                  <a:lnTo>
                    <a:pt x="1232" y="13"/>
                  </a:lnTo>
                  <a:lnTo>
                    <a:pt x="1240" y="16"/>
                  </a:lnTo>
                  <a:lnTo>
                    <a:pt x="1244" y="18"/>
                  </a:lnTo>
                  <a:lnTo>
                    <a:pt x="1240" y="21"/>
                  </a:lnTo>
                  <a:lnTo>
                    <a:pt x="1234" y="25"/>
                  </a:lnTo>
                  <a:lnTo>
                    <a:pt x="1222" y="28"/>
                  </a:lnTo>
                  <a:lnTo>
                    <a:pt x="1208" y="31"/>
                  </a:lnTo>
                  <a:lnTo>
                    <a:pt x="1189" y="35"/>
                  </a:lnTo>
                  <a:lnTo>
                    <a:pt x="1169" y="39"/>
                  </a:lnTo>
                  <a:lnTo>
                    <a:pt x="1147" y="43"/>
                  </a:lnTo>
                  <a:lnTo>
                    <a:pt x="1124" y="47"/>
                  </a:lnTo>
                  <a:lnTo>
                    <a:pt x="1099" y="50"/>
                  </a:lnTo>
                  <a:lnTo>
                    <a:pt x="1075" y="54"/>
                  </a:lnTo>
                  <a:lnTo>
                    <a:pt x="1051" y="58"/>
                  </a:lnTo>
                  <a:lnTo>
                    <a:pt x="1028" y="61"/>
                  </a:lnTo>
                  <a:lnTo>
                    <a:pt x="1004" y="65"/>
                  </a:lnTo>
                  <a:lnTo>
                    <a:pt x="984" y="67"/>
                  </a:lnTo>
                  <a:lnTo>
                    <a:pt x="966" y="68"/>
                  </a:lnTo>
                  <a:lnTo>
                    <a:pt x="952" y="69"/>
                  </a:lnTo>
                  <a:lnTo>
                    <a:pt x="942" y="71"/>
                  </a:lnTo>
                  <a:lnTo>
                    <a:pt x="932" y="71"/>
                  </a:lnTo>
                  <a:lnTo>
                    <a:pt x="920" y="72"/>
                  </a:lnTo>
                  <a:lnTo>
                    <a:pt x="909" y="72"/>
                  </a:lnTo>
                  <a:lnTo>
                    <a:pt x="896" y="72"/>
                  </a:lnTo>
                  <a:lnTo>
                    <a:pt x="883" y="72"/>
                  </a:lnTo>
                  <a:lnTo>
                    <a:pt x="870" y="72"/>
                  </a:lnTo>
                  <a:lnTo>
                    <a:pt x="858" y="72"/>
                  </a:lnTo>
                  <a:lnTo>
                    <a:pt x="845" y="72"/>
                  </a:lnTo>
                  <a:lnTo>
                    <a:pt x="832" y="72"/>
                  </a:lnTo>
                  <a:lnTo>
                    <a:pt x="818" y="72"/>
                  </a:lnTo>
                  <a:lnTo>
                    <a:pt x="807" y="72"/>
                  </a:lnTo>
                  <a:lnTo>
                    <a:pt x="794" y="72"/>
                  </a:lnTo>
                  <a:lnTo>
                    <a:pt x="784" y="71"/>
                  </a:lnTo>
                  <a:lnTo>
                    <a:pt x="774" y="71"/>
                  </a:lnTo>
                  <a:lnTo>
                    <a:pt x="765" y="69"/>
                  </a:lnTo>
                  <a:lnTo>
                    <a:pt x="752" y="69"/>
                  </a:lnTo>
                  <a:lnTo>
                    <a:pt x="739" y="68"/>
                  </a:lnTo>
                  <a:lnTo>
                    <a:pt x="725" y="66"/>
                  </a:lnTo>
                  <a:lnTo>
                    <a:pt x="710" y="64"/>
                  </a:lnTo>
                  <a:lnTo>
                    <a:pt x="694" y="62"/>
                  </a:lnTo>
                  <a:lnTo>
                    <a:pt x="679" y="59"/>
                  </a:lnTo>
                  <a:lnTo>
                    <a:pt x="662" y="57"/>
                  </a:lnTo>
                  <a:lnTo>
                    <a:pt x="647" y="53"/>
                  </a:lnTo>
                  <a:lnTo>
                    <a:pt x="630" y="51"/>
                  </a:lnTo>
                  <a:lnTo>
                    <a:pt x="614" y="49"/>
                  </a:lnTo>
                  <a:lnTo>
                    <a:pt x="598" y="48"/>
                  </a:lnTo>
                  <a:lnTo>
                    <a:pt x="583" y="45"/>
                  </a:lnTo>
                  <a:lnTo>
                    <a:pt x="568" y="43"/>
                  </a:lnTo>
                  <a:lnTo>
                    <a:pt x="554" y="41"/>
                  </a:lnTo>
                  <a:lnTo>
                    <a:pt x="542" y="40"/>
                  </a:lnTo>
                  <a:lnTo>
                    <a:pt x="531" y="38"/>
                  </a:lnTo>
                  <a:lnTo>
                    <a:pt x="517" y="39"/>
                  </a:lnTo>
                  <a:lnTo>
                    <a:pt x="502" y="39"/>
                  </a:lnTo>
                  <a:lnTo>
                    <a:pt x="484" y="41"/>
                  </a:lnTo>
                  <a:lnTo>
                    <a:pt x="465" y="41"/>
                  </a:lnTo>
                  <a:lnTo>
                    <a:pt x="444" y="43"/>
                  </a:lnTo>
                  <a:lnTo>
                    <a:pt x="424" y="44"/>
                  </a:lnTo>
                  <a:lnTo>
                    <a:pt x="403" y="46"/>
                  </a:lnTo>
                  <a:lnTo>
                    <a:pt x="382" y="46"/>
                  </a:lnTo>
                  <a:lnTo>
                    <a:pt x="362" y="48"/>
                  </a:lnTo>
                  <a:lnTo>
                    <a:pt x="342" y="49"/>
                  </a:lnTo>
                  <a:lnTo>
                    <a:pt x="325" y="51"/>
                  </a:lnTo>
                  <a:lnTo>
                    <a:pt x="310" y="53"/>
                  </a:lnTo>
                  <a:lnTo>
                    <a:pt x="297" y="55"/>
                  </a:lnTo>
                  <a:lnTo>
                    <a:pt x="288" y="55"/>
                  </a:lnTo>
                  <a:lnTo>
                    <a:pt x="282" y="55"/>
                  </a:lnTo>
                  <a:lnTo>
                    <a:pt x="280" y="55"/>
                  </a:lnTo>
                  <a:lnTo>
                    <a:pt x="265" y="55"/>
                  </a:lnTo>
                  <a:lnTo>
                    <a:pt x="248" y="54"/>
                  </a:lnTo>
                  <a:lnTo>
                    <a:pt x="228" y="52"/>
                  </a:lnTo>
                  <a:lnTo>
                    <a:pt x="206" y="50"/>
                  </a:lnTo>
                  <a:lnTo>
                    <a:pt x="183" y="48"/>
                  </a:lnTo>
                  <a:lnTo>
                    <a:pt x="160" y="47"/>
                  </a:lnTo>
                  <a:lnTo>
                    <a:pt x="136" y="45"/>
                  </a:lnTo>
                  <a:lnTo>
                    <a:pt x="113" y="41"/>
                  </a:lnTo>
                  <a:lnTo>
                    <a:pt x="90" y="39"/>
                  </a:lnTo>
                  <a:lnTo>
                    <a:pt x="69" y="36"/>
                  </a:lnTo>
                  <a:lnTo>
                    <a:pt x="50" y="34"/>
                  </a:lnTo>
                  <a:lnTo>
                    <a:pt x="34" y="30"/>
                  </a:lnTo>
                  <a:lnTo>
                    <a:pt x="18" y="28"/>
                  </a:lnTo>
                  <a:lnTo>
                    <a:pt x="8" y="26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2760" y="5210280"/>
              <a:ext cx="1330560" cy="468360"/>
            </a:xfrm>
            <a:custGeom>
              <a:avLst/>
              <a:gdLst/>
              <a:ahLst/>
              <a:rect l="l" t="t" r="r" b="b"/>
              <a:pathLst>
                <a:path w="838" h="295">
                  <a:moveTo>
                    <a:pt x="121" y="291"/>
                  </a:moveTo>
                  <a:lnTo>
                    <a:pt x="121" y="291"/>
                  </a:lnTo>
                  <a:lnTo>
                    <a:pt x="122" y="290"/>
                  </a:lnTo>
                  <a:lnTo>
                    <a:pt x="123" y="289"/>
                  </a:lnTo>
                  <a:lnTo>
                    <a:pt x="125" y="286"/>
                  </a:lnTo>
                  <a:lnTo>
                    <a:pt x="127" y="285"/>
                  </a:lnTo>
                  <a:lnTo>
                    <a:pt x="129" y="281"/>
                  </a:lnTo>
                  <a:lnTo>
                    <a:pt x="132" y="277"/>
                  </a:lnTo>
                  <a:lnTo>
                    <a:pt x="136" y="273"/>
                  </a:lnTo>
                  <a:lnTo>
                    <a:pt x="140" y="269"/>
                  </a:lnTo>
                  <a:lnTo>
                    <a:pt x="144" y="264"/>
                  </a:lnTo>
                  <a:lnTo>
                    <a:pt x="148" y="258"/>
                  </a:lnTo>
                  <a:lnTo>
                    <a:pt x="154" y="253"/>
                  </a:lnTo>
                  <a:lnTo>
                    <a:pt x="159" y="247"/>
                  </a:lnTo>
                  <a:lnTo>
                    <a:pt x="164" y="240"/>
                  </a:lnTo>
                  <a:lnTo>
                    <a:pt x="170" y="235"/>
                  </a:lnTo>
                  <a:lnTo>
                    <a:pt x="176" y="227"/>
                  </a:lnTo>
                  <a:lnTo>
                    <a:pt x="178" y="226"/>
                  </a:lnTo>
                  <a:lnTo>
                    <a:pt x="182" y="222"/>
                  </a:lnTo>
                  <a:lnTo>
                    <a:pt x="186" y="217"/>
                  </a:lnTo>
                  <a:lnTo>
                    <a:pt x="191" y="211"/>
                  </a:lnTo>
                  <a:lnTo>
                    <a:pt x="196" y="206"/>
                  </a:lnTo>
                  <a:lnTo>
                    <a:pt x="202" y="198"/>
                  </a:lnTo>
                  <a:lnTo>
                    <a:pt x="208" y="190"/>
                  </a:lnTo>
                  <a:lnTo>
                    <a:pt x="216" y="183"/>
                  </a:lnTo>
                  <a:lnTo>
                    <a:pt x="221" y="177"/>
                  </a:lnTo>
                  <a:lnTo>
                    <a:pt x="228" y="169"/>
                  </a:lnTo>
                  <a:lnTo>
                    <a:pt x="234" y="163"/>
                  </a:lnTo>
                  <a:lnTo>
                    <a:pt x="240" y="156"/>
                  </a:lnTo>
                  <a:lnTo>
                    <a:pt x="245" y="152"/>
                  </a:lnTo>
                  <a:lnTo>
                    <a:pt x="251" y="147"/>
                  </a:lnTo>
                  <a:lnTo>
                    <a:pt x="255" y="144"/>
                  </a:lnTo>
                  <a:lnTo>
                    <a:pt x="260" y="140"/>
                  </a:lnTo>
                  <a:lnTo>
                    <a:pt x="265" y="139"/>
                  </a:lnTo>
                  <a:lnTo>
                    <a:pt x="273" y="136"/>
                  </a:lnTo>
                  <a:lnTo>
                    <a:pt x="280" y="132"/>
                  </a:lnTo>
                  <a:lnTo>
                    <a:pt x="288" y="129"/>
                  </a:lnTo>
                  <a:lnTo>
                    <a:pt x="296" y="125"/>
                  </a:lnTo>
                  <a:lnTo>
                    <a:pt x="305" y="121"/>
                  </a:lnTo>
                  <a:lnTo>
                    <a:pt x="312" y="118"/>
                  </a:lnTo>
                  <a:lnTo>
                    <a:pt x="322" y="113"/>
                  </a:lnTo>
                  <a:lnTo>
                    <a:pt x="329" y="110"/>
                  </a:lnTo>
                  <a:lnTo>
                    <a:pt x="338" y="106"/>
                  </a:lnTo>
                  <a:lnTo>
                    <a:pt x="346" y="103"/>
                  </a:lnTo>
                  <a:lnTo>
                    <a:pt x="355" y="99"/>
                  </a:lnTo>
                  <a:lnTo>
                    <a:pt x="363" y="98"/>
                  </a:lnTo>
                  <a:lnTo>
                    <a:pt x="371" y="94"/>
                  </a:lnTo>
                  <a:lnTo>
                    <a:pt x="378" y="92"/>
                  </a:lnTo>
                  <a:lnTo>
                    <a:pt x="386" y="89"/>
                  </a:lnTo>
                  <a:lnTo>
                    <a:pt x="393" y="88"/>
                  </a:lnTo>
                  <a:lnTo>
                    <a:pt x="401" y="86"/>
                  </a:lnTo>
                  <a:lnTo>
                    <a:pt x="412" y="84"/>
                  </a:lnTo>
                  <a:lnTo>
                    <a:pt x="424" y="82"/>
                  </a:lnTo>
                  <a:lnTo>
                    <a:pt x="437" y="80"/>
                  </a:lnTo>
                  <a:lnTo>
                    <a:pt x="451" y="77"/>
                  </a:lnTo>
                  <a:lnTo>
                    <a:pt x="466" y="74"/>
                  </a:lnTo>
                  <a:lnTo>
                    <a:pt x="481" y="71"/>
                  </a:lnTo>
                  <a:lnTo>
                    <a:pt x="496" y="69"/>
                  </a:lnTo>
                  <a:lnTo>
                    <a:pt x="510" y="66"/>
                  </a:lnTo>
                  <a:lnTo>
                    <a:pt x="524" y="64"/>
                  </a:lnTo>
                  <a:lnTo>
                    <a:pt x="538" y="61"/>
                  </a:lnTo>
                  <a:lnTo>
                    <a:pt x="549" y="59"/>
                  </a:lnTo>
                  <a:lnTo>
                    <a:pt x="560" y="57"/>
                  </a:lnTo>
                  <a:lnTo>
                    <a:pt x="569" y="56"/>
                  </a:lnTo>
                  <a:lnTo>
                    <a:pt x="577" y="54"/>
                  </a:lnTo>
                  <a:lnTo>
                    <a:pt x="586" y="53"/>
                  </a:lnTo>
                  <a:lnTo>
                    <a:pt x="598" y="51"/>
                  </a:lnTo>
                  <a:lnTo>
                    <a:pt x="614" y="50"/>
                  </a:lnTo>
                  <a:lnTo>
                    <a:pt x="634" y="46"/>
                  </a:lnTo>
                  <a:lnTo>
                    <a:pt x="654" y="42"/>
                  </a:lnTo>
                  <a:lnTo>
                    <a:pt x="675" y="39"/>
                  </a:lnTo>
                  <a:lnTo>
                    <a:pt x="698" y="35"/>
                  </a:lnTo>
                  <a:lnTo>
                    <a:pt x="721" y="30"/>
                  </a:lnTo>
                  <a:lnTo>
                    <a:pt x="742" y="26"/>
                  </a:lnTo>
                  <a:lnTo>
                    <a:pt x="764" y="23"/>
                  </a:lnTo>
                  <a:lnTo>
                    <a:pt x="783" y="19"/>
                  </a:lnTo>
                  <a:lnTo>
                    <a:pt x="801" y="15"/>
                  </a:lnTo>
                  <a:lnTo>
                    <a:pt x="815" y="13"/>
                  </a:lnTo>
                  <a:lnTo>
                    <a:pt x="826" y="10"/>
                  </a:lnTo>
                  <a:lnTo>
                    <a:pt x="834" y="8"/>
                  </a:lnTo>
                  <a:lnTo>
                    <a:pt x="837" y="5"/>
                  </a:lnTo>
                  <a:lnTo>
                    <a:pt x="826" y="2"/>
                  </a:lnTo>
                  <a:lnTo>
                    <a:pt x="799" y="0"/>
                  </a:lnTo>
                  <a:lnTo>
                    <a:pt x="757" y="0"/>
                  </a:lnTo>
                  <a:lnTo>
                    <a:pt x="704" y="1"/>
                  </a:lnTo>
                  <a:lnTo>
                    <a:pt x="640" y="4"/>
                  </a:lnTo>
                  <a:lnTo>
                    <a:pt x="569" y="8"/>
                  </a:lnTo>
                  <a:lnTo>
                    <a:pt x="494" y="13"/>
                  </a:lnTo>
                  <a:lnTo>
                    <a:pt x="417" y="16"/>
                  </a:lnTo>
                  <a:lnTo>
                    <a:pt x="338" y="23"/>
                  </a:lnTo>
                  <a:lnTo>
                    <a:pt x="264" y="28"/>
                  </a:lnTo>
                  <a:lnTo>
                    <a:pt x="193" y="34"/>
                  </a:lnTo>
                  <a:lnTo>
                    <a:pt x="130" y="38"/>
                  </a:lnTo>
                  <a:lnTo>
                    <a:pt x="76" y="42"/>
                  </a:lnTo>
                  <a:lnTo>
                    <a:pt x="35" y="46"/>
                  </a:lnTo>
                  <a:lnTo>
                    <a:pt x="9" y="48"/>
                  </a:lnTo>
                  <a:lnTo>
                    <a:pt x="0" y="48"/>
                  </a:lnTo>
                  <a:lnTo>
                    <a:pt x="1" y="60"/>
                  </a:lnTo>
                  <a:lnTo>
                    <a:pt x="4" y="74"/>
                  </a:lnTo>
                  <a:lnTo>
                    <a:pt x="8" y="92"/>
                  </a:lnTo>
                  <a:lnTo>
                    <a:pt x="13" y="111"/>
                  </a:lnTo>
                  <a:lnTo>
                    <a:pt x="18" y="133"/>
                  </a:lnTo>
                  <a:lnTo>
                    <a:pt x="24" y="155"/>
                  </a:lnTo>
                  <a:lnTo>
                    <a:pt x="31" y="177"/>
                  </a:lnTo>
                  <a:lnTo>
                    <a:pt x="39" y="198"/>
                  </a:lnTo>
                  <a:lnTo>
                    <a:pt x="46" y="220"/>
                  </a:lnTo>
                  <a:lnTo>
                    <a:pt x="55" y="240"/>
                  </a:lnTo>
                  <a:lnTo>
                    <a:pt x="64" y="258"/>
                  </a:lnTo>
                  <a:lnTo>
                    <a:pt x="75" y="272"/>
                  </a:lnTo>
                  <a:lnTo>
                    <a:pt x="85" y="284"/>
                  </a:lnTo>
                  <a:lnTo>
                    <a:pt x="96" y="291"/>
                  </a:lnTo>
                  <a:lnTo>
                    <a:pt x="108" y="294"/>
                  </a:lnTo>
                  <a:lnTo>
                    <a:pt x="121" y="291"/>
                  </a:lnTo>
                  <a:lnTo>
                    <a:pt x="121" y="291"/>
                  </a:lnTo>
                </a:path>
              </a:pathLst>
            </a:custGeom>
            <a:solidFill>
              <a:srgbClr val="ffffc2"/>
            </a:solidFill>
            <a:ln w="9360">
              <a:solidFill>
                <a:srgbClr val="ffff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40040" y="4929120"/>
              <a:ext cx="1998720" cy="249480"/>
            </a:xfrm>
            <a:custGeom>
              <a:avLst/>
              <a:gdLst/>
              <a:ahLst/>
              <a:rect l="l" t="t" r="r" b="b"/>
              <a:pathLst>
                <a:path w="1259" h="157">
                  <a:moveTo>
                    <a:pt x="1258" y="41"/>
                  </a:moveTo>
                  <a:lnTo>
                    <a:pt x="1090" y="52"/>
                  </a:lnTo>
                  <a:lnTo>
                    <a:pt x="955" y="52"/>
                  </a:lnTo>
                  <a:lnTo>
                    <a:pt x="886" y="38"/>
                  </a:lnTo>
                  <a:lnTo>
                    <a:pt x="856" y="12"/>
                  </a:lnTo>
                  <a:lnTo>
                    <a:pt x="787" y="0"/>
                  </a:lnTo>
                  <a:lnTo>
                    <a:pt x="756" y="3"/>
                  </a:lnTo>
                  <a:lnTo>
                    <a:pt x="726" y="6"/>
                  </a:lnTo>
                  <a:lnTo>
                    <a:pt x="680" y="12"/>
                  </a:lnTo>
                  <a:lnTo>
                    <a:pt x="646" y="32"/>
                  </a:lnTo>
                  <a:lnTo>
                    <a:pt x="609" y="21"/>
                  </a:lnTo>
                  <a:lnTo>
                    <a:pt x="531" y="0"/>
                  </a:lnTo>
                  <a:lnTo>
                    <a:pt x="403" y="0"/>
                  </a:lnTo>
                  <a:lnTo>
                    <a:pt x="190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156"/>
                  </a:lnTo>
                  <a:lnTo>
                    <a:pt x="808" y="145"/>
                  </a:lnTo>
                  <a:lnTo>
                    <a:pt x="949" y="145"/>
                  </a:lnTo>
                  <a:lnTo>
                    <a:pt x="1258" y="41"/>
                  </a:lnTo>
                  <a:lnTo>
                    <a:pt x="1258" y="41"/>
                  </a:lnTo>
                </a:path>
              </a:pathLst>
            </a:custGeom>
            <a:solidFill>
              <a:srgbClr val="82c168"/>
            </a:solidFill>
            <a:ln w="9360">
              <a:solidFill>
                <a:srgbClr val="82c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940040" y="4975200"/>
              <a:ext cx="2332080" cy="544680"/>
              <a:chOff x="1940040" y="4975200"/>
              <a:chExt cx="2332080" cy="544680"/>
            </a:xfrm>
          </p:grpSpPr>
          <p:sp>
            <p:nvSpPr>
              <p:cNvPr id="55" name=""/>
              <p:cNvSpPr/>
              <p:nvPr/>
            </p:nvSpPr>
            <p:spPr>
              <a:xfrm>
                <a:off x="1940040" y="4975200"/>
                <a:ext cx="2332080" cy="276120"/>
              </a:xfrm>
              <a:custGeom>
                <a:avLst/>
                <a:gdLst/>
                <a:ahLst/>
                <a:rect l="l" t="t" r="r" b="b"/>
                <a:pathLst>
                  <a:path w="1469" h="174">
                    <a:moveTo>
                      <a:pt x="141" y="0"/>
                    </a:moveTo>
                    <a:lnTo>
                      <a:pt x="141" y="2"/>
                    </a:lnTo>
                    <a:lnTo>
                      <a:pt x="142" y="2"/>
                    </a:lnTo>
                    <a:lnTo>
                      <a:pt x="146" y="3"/>
                    </a:lnTo>
                    <a:lnTo>
                      <a:pt x="150" y="3"/>
                    </a:lnTo>
                    <a:lnTo>
                      <a:pt x="154" y="5"/>
                    </a:lnTo>
                    <a:lnTo>
                      <a:pt x="159" y="5"/>
                    </a:lnTo>
                    <a:lnTo>
                      <a:pt x="165" y="6"/>
                    </a:lnTo>
                    <a:lnTo>
                      <a:pt x="172" y="6"/>
                    </a:lnTo>
                    <a:lnTo>
                      <a:pt x="178" y="8"/>
                    </a:lnTo>
                    <a:lnTo>
                      <a:pt x="183" y="10"/>
                    </a:lnTo>
                    <a:lnTo>
                      <a:pt x="189" y="12"/>
                    </a:lnTo>
                    <a:lnTo>
                      <a:pt x="195" y="12"/>
                    </a:lnTo>
                    <a:lnTo>
                      <a:pt x="199" y="13"/>
                    </a:lnTo>
                    <a:lnTo>
                      <a:pt x="204" y="13"/>
                    </a:lnTo>
                    <a:lnTo>
                      <a:pt x="207" y="15"/>
                    </a:lnTo>
                    <a:lnTo>
                      <a:pt x="210" y="15"/>
                    </a:lnTo>
                    <a:lnTo>
                      <a:pt x="210" y="16"/>
                    </a:lnTo>
                    <a:lnTo>
                      <a:pt x="211" y="17"/>
                    </a:lnTo>
                    <a:lnTo>
                      <a:pt x="211" y="19"/>
                    </a:lnTo>
                    <a:lnTo>
                      <a:pt x="213" y="19"/>
                    </a:lnTo>
                    <a:lnTo>
                      <a:pt x="213" y="21"/>
                    </a:lnTo>
                    <a:lnTo>
                      <a:pt x="215" y="23"/>
                    </a:lnTo>
                    <a:lnTo>
                      <a:pt x="215" y="24"/>
                    </a:lnTo>
                    <a:lnTo>
                      <a:pt x="217" y="26"/>
                    </a:lnTo>
                    <a:lnTo>
                      <a:pt x="217" y="28"/>
                    </a:lnTo>
                    <a:lnTo>
                      <a:pt x="219" y="30"/>
                    </a:lnTo>
                    <a:lnTo>
                      <a:pt x="219" y="32"/>
                    </a:lnTo>
                    <a:lnTo>
                      <a:pt x="220" y="33"/>
                    </a:lnTo>
                    <a:lnTo>
                      <a:pt x="220" y="34"/>
                    </a:lnTo>
                    <a:lnTo>
                      <a:pt x="222" y="34"/>
                    </a:lnTo>
                    <a:lnTo>
                      <a:pt x="223" y="34"/>
                    </a:lnTo>
                    <a:lnTo>
                      <a:pt x="225" y="34"/>
                    </a:lnTo>
                    <a:lnTo>
                      <a:pt x="227" y="36"/>
                    </a:lnTo>
                    <a:lnTo>
                      <a:pt x="229" y="36"/>
                    </a:lnTo>
                    <a:lnTo>
                      <a:pt x="230" y="36"/>
                    </a:lnTo>
                    <a:lnTo>
                      <a:pt x="234" y="34"/>
                    </a:lnTo>
                    <a:lnTo>
                      <a:pt x="236" y="34"/>
                    </a:lnTo>
                    <a:lnTo>
                      <a:pt x="240" y="33"/>
                    </a:lnTo>
                    <a:lnTo>
                      <a:pt x="242" y="32"/>
                    </a:lnTo>
                    <a:lnTo>
                      <a:pt x="246" y="30"/>
                    </a:lnTo>
                    <a:lnTo>
                      <a:pt x="247" y="30"/>
                    </a:lnTo>
                    <a:lnTo>
                      <a:pt x="251" y="28"/>
                    </a:lnTo>
                    <a:lnTo>
                      <a:pt x="253" y="26"/>
                    </a:lnTo>
                    <a:lnTo>
                      <a:pt x="257" y="24"/>
                    </a:lnTo>
                    <a:lnTo>
                      <a:pt x="258" y="24"/>
                    </a:lnTo>
                    <a:lnTo>
                      <a:pt x="262" y="24"/>
                    </a:lnTo>
                    <a:lnTo>
                      <a:pt x="264" y="24"/>
                    </a:lnTo>
                    <a:lnTo>
                      <a:pt x="268" y="23"/>
                    </a:lnTo>
                    <a:lnTo>
                      <a:pt x="269" y="24"/>
                    </a:lnTo>
                    <a:lnTo>
                      <a:pt x="271" y="25"/>
                    </a:lnTo>
                    <a:lnTo>
                      <a:pt x="273" y="27"/>
                    </a:lnTo>
                    <a:lnTo>
                      <a:pt x="276" y="29"/>
                    </a:lnTo>
                    <a:lnTo>
                      <a:pt x="277" y="33"/>
                    </a:lnTo>
                    <a:lnTo>
                      <a:pt x="280" y="35"/>
                    </a:lnTo>
                    <a:lnTo>
                      <a:pt x="282" y="39"/>
                    </a:lnTo>
                    <a:lnTo>
                      <a:pt x="286" y="41"/>
                    </a:lnTo>
                    <a:lnTo>
                      <a:pt x="288" y="44"/>
                    </a:lnTo>
                    <a:lnTo>
                      <a:pt x="291" y="48"/>
                    </a:lnTo>
                    <a:lnTo>
                      <a:pt x="293" y="51"/>
                    </a:lnTo>
                    <a:lnTo>
                      <a:pt x="297" y="53"/>
                    </a:lnTo>
                    <a:lnTo>
                      <a:pt x="298" y="55"/>
                    </a:lnTo>
                    <a:lnTo>
                      <a:pt x="300" y="57"/>
                    </a:lnTo>
                    <a:lnTo>
                      <a:pt x="302" y="58"/>
                    </a:lnTo>
                    <a:lnTo>
                      <a:pt x="305" y="58"/>
                    </a:lnTo>
                    <a:lnTo>
                      <a:pt x="307" y="58"/>
                    </a:lnTo>
                    <a:lnTo>
                      <a:pt x="310" y="58"/>
                    </a:lnTo>
                    <a:lnTo>
                      <a:pt x="314" y="56"/>
                    </a:lnTo>
                    <a:lnTo>
                      <a:pt x="318" y="54"/>
                    </a:lnTo>
                    <a:lnTo>
                      <a:pt x="322" y="52"/>
                    </a:lnTo>
                    <a:lnTo>
                      <a:pt x="326" y="48"/>
                    </a:lnTo>
                    <a:lnTo>
                      <a:pt x="331" y="44"/>
                    </a:lnTo>
                    <a:lnTo>
                      <a:pt x="336" y="41"/>
                    </a:lnTo>
                    <a:lnTo>
                      <a:pt x="340" y="39"/>
                    </a:lnTo>
                    <a:lnTo>
                      <a:pt x="345" y="35"/>
                    </a:lnTo>
                    <a:lnTo>
                      <a:pt x="349" y="33"/>
                    </a:lnTo>
                    <a:lnTo>
                      <a:pt x="355" y="29"/>
                    </a:lnTo>
                    <a:lnTo>
                      <a:pt x="358" y="27"/>
                    </a:lnTo>
                    <a:lnTo>
                      <a:pt x="363" y="25"/>
                    </a:lnTo>
                    <a:lnTo>
                      <a:pt x="365" y="24"/>
                    </a:lnTo>
                    <a:lnTo>
                      <a:pt x="369" y="23"/>
                    </a:lnTo>
                    <a:lnTo>
                      <a:pt x="373" y="24"/>
                    </a:lnTo>
                    <a:lnTo>
                      <a:pt x="377" y="25"/>
                    </a:lnTo>
                    <a:lnTo>
                      <a:pt x="381" y="28"/>
                    </a:lnTo>
                    <a:lnTo>
                      <a:pt x="386" y="30"/>
                    </a:lnTo>
                    <a:lnTo>
                      <a:pt x="390" y="33"/>
                    </a:lnTo>
                    <a:lnTo>
                      <a:pt x="396" y="35"/>
                    </a:lnTo>
                    <a:lnTo>
                      <a:pt x="400" y="39"/>
                    </a:lnTo>
                    <a:lnTo>
                      <a:pt x="405" y="41"/>
                    </a:lnTo>
                    <a:lnTo>
                      <a:pt x="409" y="44"/>
                    </a:lnTo>
                    <a:lnTo>
                      <a:pt x="413" y="46"/>
                    </a:lnTo>
                    <a:lnTo>
                      <a:pt x="417" y="48"/>
                    </a:lnTo>
                    <a:lnTo>
                      <a:pt x="423" y="50"/>
                    </a:lnTo>
                    <a:lnTo>
                      <a:pt x="426" y="51"/>
                    </a:lnTo>
                    <a:lnTo>
                      <a:pt x="430" y="50"/>
                    </a:lnTo>
                    <a:lnTo>
                      <a:pt x="434" y="49"/>
                    </a:lnTo>
                    <a:lnTo>
                      <a:pt x="438" y="46"/>
                    </a:lnTo>
                    <a:lnTo>
                      <a:pt x="438" y="46"/>
                    </a:lnTo>
                    <a:lnTo>
                      <a:pt x="438" y="45"/>
                    </a:lnTo>
                    <a:lnTo>
                      <a:pt x="438" y="45"/>
                    </a:lnTo>
                    <a:lnTo>
                      <a:pt x="438" y="43"/>
                    </a:lnTo>
                    <a:lnTo>
                      <a:pt x="438" y="43"/>
                    </a:lnTo>
                    <a:lnTo>
                      <a:pt x="438" y="42"/>
                    </a:lnTo>
                    <a:lnTo>
                      <a:pt x="438" y="40"/>
                    </a:lnTo>
                    <a:lnTo>
                      <a:pt x="438" y="38"/>
                    </a:lnTo>
                    <a:lnTo>
                      <a:pt x="436" y="38"/>
                    </a:lnTo>
                    <a:lnTo>
                      <a:pt x="436" y="36"/>
                    </a:lnTo>
                    <a:lnTo>
                      <a:pt x="436" y="35"/>
                    </a:lnTo>
                    <a:lnTo>
                      <a:pt x="436" y="33"/>
                    </a:lnTo>
                    <a:lnTo>
                      <a:pt x="436" y="33"/>
                    </a:lnTo>
                    <a:lnTo>
                      <a:pt x="436" y="32"/>
                    </a:lnTo>
                    <a:lnTo>
                      <a:pt x="436" y="31"/>
                    </a:lnTo>
                    <a:lnTo>
                      <a:pt x="438" y="29"/>
                    </a:lnTo>
                    <a:lnTo>
                      <a:pt x="440" y="29"/>
                    </a:lnTo>
                    <a:lnTo>
                      <a:pt x="442" y="27"/>
                    </a:lnTo>
                    <a:lnTo>
                      <a:pt x="445" y="27"/>
                    </a:lnTo>
                    <a:lnTo>
                      <a:pt x="449" y="26"/>
                    </a:lnTo>
                    <a:lnTo>
                      <a:pt x="453" y="26"/>
                    </a:lnTo>
                    <a:lnTo>
                      <a:pt x="456" y="26"/>
                    </a:lnTo>
                    <a:lnTo>
                      <a:pt x="460" y="26"/>
                    </a:lnTo>
                    <a:lnTo>
                      <a:pt x="466" y="26"/>
                    </a:lnTo>
                    <a:lnTo>
                      <a:pt x="470" y="28"/>
                    </a:lnTo>
                    <a:lnTo>
                      <a:pt x="474" y="28"/>
                    </a:lnTo>
                    <a:lnTo>
                      <a:pt x="478" y="28"/>
                    </a:lnTo>
                    <a:lnTo>
                      <a:pt x="482" y="28"/>
                    </a:lnTo>
                    <a:lnTo>
                      <a:pt x="486" y="29"/>
                    </a:lnTo>
                    <a:lnTo>
                      <a:pt x="490" y="29"/>
                    </a:lnTo>
                    <a:lnTo>
                      <a:pt x="492" y="29"/>
                    </a:lnTo>
                    <a:lnTo>
                      <a:pt x="496" y="29"/>
                    </a:lnTo>
                    <a:lnTo>
                      <a:pt x="496" y="30"/>
                    </a:lnTo>
                    <a:lnTo>
                      <a:pt x="496" y="32"/>
                    </a:lnTo>
                    <a:lnTo>
                      <a:pt x="496" y="34"/>
                    </a:lnTo>
                    <a:lnTo>
                      <a:pt x="498" y="36"/>
                    </a:lnTo>
                    <a:lnTo>
                      <a:pt x="498" y="40"/>
                    </a:lnTo>
                    <a:lnTo>
                      <a:pt x="498" y="43"/>
                    </a:lnTo>
                    <a:lnTo>
                      <a:pt x="498" y="47"/>
                    </a:lnTo>
                    <a:lnTo>
                      <a:pt x="499" y="51"/>
                    </a:lnTo>
                    <a:lnTo>
                      <a:pt x="499" y="56"/>
                    </a:lnTo>
                    <a:lnTo>
                      <a:pt x="499" y="60"/>
                    </a:lnTo>
                    <a:lnTo>
                      <a:pt x="499" y="63"/>
                    </a:lnTo>
                    <a:lnTo>
                      <a:pt x="499" y="66"/>
                    </a:lnTo>
                    <a:lnTo>
                      <a:pt x="499" y="69"/>
                    </a:lnTo>
                    <a:lnTo>
                      <a:pt x="500" y="71"/>
                    </a:lnTo>
                    <a:lnTo>
                      <a:pt x="500" y="72"/>
                    </a:lnTo>
                    <a:lnTo>
                      <a:pt x="502" y="72"/>
                    </a:lnTo>
                    <a:lnTo>
                      <a:pt x="506" y="74"/>
                    </a:lnTo>
                    <a:lnTo>
                      <a:pt x="510" y="74"/>
                    </a:lnTo>
                    <a:lnTo>
                      <a:pt x="512" y="74"/>
                    </a:lnTo>
                    <a:lnTo>
                      <a:pt x="516" y="74"/>
                    </a:lnTo>
                    <a:lnTo>
                      <a:pt x="517" y="74"/>
                    </a:lnTo>
                    <a:lnTo>
                      <a:pt x="519" y="74"/>
                    </a:lnTo>
                    <a:lnTo>
                      <a:pt x="521" y="74"/>
                    </a:lnTo>
                    <a:lnTo>
                      <a:pt x="522" y="74"/>
                    </a:lnTo>
                    <a:lnTo>
                      <a:pt x="522" y="74"/>
                    </a:lnTo>
                    <a:lnTo>
                      <a:pt x="524" y="74"/>
                    </a:lnTo>
                    <a:lnTo>
                      <a:pt x="524" y="74"/>
                    </a:lnTo>
                    <a:lnTo>
                      <a:pt x="526" y="74"/>
                    </a:lnTo>
                    <a:lnTo>
                      <a:pt x="527" y="75"/>
                    </a:lnTo>
                    <a:lnTo>
                      <a:pt x="529" y="75"/>
                    </a:lnTo>
                    <a:lnTo>
                      <a:pt x="531" y="75"/>
                    </a:lnTo>
                    <a:lnTo>
                      <a:pt x="533" y="75"/>
                    </a:lnTo>
                    <a:lnTo>
                      <a:pt x="531" y="70"/>
                    </a:lnTo>
                    <a:lnTo>
                      <a:pt x="531" y="63"/>
                    </a:lnTo>
                    <a:lnTo>
                      <a:pt x="531" y="59"/>
                    </a:lnTo>
                    <a:lnTo>
                      <a:pt x="531" y="53"/>
                    </a:lnTo>
                    <a:lnTo>
                      <a:pt x="530" y="50"/>
                    </a:lnTo>
                    <a:lnTo>
                      <a:pt x="530" y="46"/>
                    </a:lnTo>
                    <a:lnTo>
                      <a:pt x="530" y="44"/>
                    </a:lnTo>
                    <a:lnTo>
                      <a:pt x="532" y="42"/>
                    </a:lnTo>
                    <a:lnTo>
                      <a:pt x="533" y="41"/>
                    </a:lnTo>
                    <a:lnTo>
                      <a:pt x="535" y="39"/>
                    </a:lnTo>
                    <a:lnTo>
                      <a:pt x="538" y="39"/>
                    </a:lnTo>
                    <a:lnTo>
                      <a:pt x="542" y="38"/>
                    </a:lnTo>
                    <a:lnTo>
                      <a:pt x="546" y="38"/>
                    </a:lnTo>
                    <a:lnTo>
                      <a:pt x="552" y="38"/>
                    </a:lnTo>
                    <a:lnTo>
                      <a:pt x="559" y="38"/>
                    </a:lnTo>
                    <a:lnTo>
                      <a:pt x="568" y="38"/>
                    </a:lnTo>
                    <a:lnTo>
                      <a:pt x="574" y="38"/>
                    </a:lnTo>
                    <a:lnTo>
                      <a:pt x="585" y="38"/>
                    </a:lnTo>
                    <a:lnTo>
                      <a:pt x="598" y="38"/>
                    </a:lnTo>
                    <a:lnTo>
                      <a:pt x="614" y="38"/>
                    </a:lnTo>
                    <a:lnTo>
                      <a:pt x="632" y="38"/>
                    </a:lnTo>
                    <a:lnTo>
                      <a:pt x="651" y="38"/>
                    </a:lnTo>
                    <a:lnTo>
                      <a:pt x="671" y="38"/>
                    </a:lnTo>
                    <a:lnTo>
                      <a:pt x="692" y="36"/>
                    </a:lnTo>
                    <a:lnTo>
                      <a:pt x="710" y="36"/>
                    </a:lnTo>
                    <a:lnTo>
                      <a:pt x="730" y="36"/>
                    </a:lnTo>
                    <a:lnTo>
                      <a:pt x="748" y="36"/>
                    </a:lnTo>
                    <a:lnTo>
                      <a:pt x="765" y="34"/>
                    </a:lnTo>
                    <a:lnTo>
                      <a:pt x="778" y="34"/>
                    </a:lnTo>
                    <a:lnTo>
                      <a:pt x="788" y="34"/>
                    </a:lnTo>
                    <a:lnTo>
                      <a:pt x="795" y="34"/>
                    </a:lnTo>
                    <a:lnTo>
                      <a:pt x="799" y="34"/>
                    </a:lnTo>
                    <a:lnTo>
                      <a:pt x="799" y="36"/>
                    </a:lnTo>
                    <a:lnTo>
                      <a:pt x="799" y="36"/>
                    </a:lnTo>
                    <a:lnTo>
                      <a:pt x="799" y="38"/>
                    </a:lnTo>
                    <a:lnTo>
                      <a:pt x="801" y="38"/>
                    </a:lnTo>
                    <a:lnTo>
                      <a:pt x="801" y="40"/>
                    </a:lnTo>
                    <a:lnTo>
                      <a:pt x="802" y="42"/>
                    </a:lnTo>
                    <a:lnTo>
                      <a:pt x="802" y="43"/>
                    </a:lnTo>
                    <a:lnTo>
                      <a:pt x="804" y="44"/>
                    </a:lnTo>
                    <a:lnTo>
                      <a:pt x="804" y="46"/>
                    </a:lnTo>
                    <a:lnTo>
                      <a:pt x="804" y="48"/>
                    </a:lnTo>
                    <a:lnTo>
                      <a:pt x="804" y="50"/>
                    </a:lnTo>
                    <a:lnTo>
                      <a:pt x="806" y="52"/>
                    </a:lnTo>
                    <a:lnTo>
                      <a:pt x="806" y="53"/>
                    </a:lnTo>
                    <a:lnTo>
                      <a:pt x="806" y="54"/>
                    </a:lnTo>
                    <a:lnTo>
                      <a:pt x="806" y="55"/>
                    </a:lnTo>
                    <a:lnTo>
                      <a:pt x="808" y="55"/>
                    </a:lnTo>
                    <a:lnTo>
                      <a:pt x="808" y="56"/>
                    </a:lnTo>
                    <a:lnTo>
                      <a:pt x="808" y="56"/>
                    </a:lnTo>
                    <a:lnTo>
                      <a:pt x="810" y="56"/>
                    </a:lnTo>
                    <a:lnTo>
                      <a:pt x="812" y="56"/>
                    </a:lnTo>
                    <a:lnTo>
                      <a:pt x="813" y="56"/>
                    </a:lnTo>
                    <a:lnTo>
                      <a:pt x="816" y="56"/>
                    </a:lnTo>
                    <a:lnTo>
                      <a:pt x="818" y="56"/>
                    </a:lnTo>
                    <a:lnTo>
                      <a:pt x="822" y="54"/>
                    </a:lnTo>
                    <a:lnTo>
                      <a:pt x="824" y="54"/>
                    </a:lnTo>
                    <a:lnTo>
                      <a:pt x="828" y="54"/>
                    </a:lnTo>
                    <a:lnTo>
                      <a:pt x="830" y="54"/>
                    </a:lnTo>
                    <a:lnTo>
                      <a:pt x="833" y="53"/>
                    </a:lnTo>
                    <a:lnTo>
                      <a:pt x="835" y="54"/>
                    </a:lnTo>
                    <a:lnTo>
                      <a:pt x="838" y="54"/>
                    </a:lnTo>
                    <a:lnTo>
                      <a:pt x="840" y="55"/>
                    </a:lnTo>
                    <a:lnTo>
                      <a:pt x="842" y="55"/>
                    </a:lnTo>
                    <a:lnTo>
                      <a:pt x="842" y="57"/>
                    </a:lnTo>
                    <a:lnTo>
                      <a:pt x="843" y="58"/>
                    </a:lnTo>
                    <a:lnTo>
                      <a:pt x="843" y="60"/>
                    </a:lnTo>
                    <a:lnTo>
                      <a:pt x="844" y="60"/>
                    </a:lnTo>
                    <a:lnTo>
                      <a:pt x="843" y="63"/>
                    </a:lnTo>
                    <a:lnTo>
                      <a:pt x="843" y="65"/>
                    </a:lnTo>
                    <a:lnTo>
                      <a:pt x="843" y="67"/>
                    </a:lnTo>
                    <a:lnTo>
                      <a:pt x="843" y="69"/>
                    </a:lnTo>
                    <a:lnTo>
                      <a:pt x="842" y="73"/>
                    </a:lnTo>
                    <a:lnTo>
                      <a:pt x="842" y="74"/>
                    </a:lnTo>
                    <a:lnTo>
                      <a:pt x="842" y="76"/>
                    </a:lnTo>
                    <a:lnTo>
                      <a:pt x="842" y="78"/>
                    </a:lnTo>
                    <a:lnTo>
                      <a:pt x="842" y="80"/>
                    </a:lnTo>
                    <a:lnTo>
                      <a:pt x="843" y="82"/>
                    </a:lnTo>
                    <a:lnTo>
                      <a:pt x="843" y="84"/>
                    </a:lnTo>
                    <a:lnTo>
                      <a:pt x="845" y="84"/>
                    </a:lnTo>
                    <a:lnTo>
                      <a:pt x="845" y="84"/>
                    </a:lnTo>
                    <a:lnTo>
                      <a:pt x="847" y="84"/>
                    </a:lnTo>
                    <a:lnTo>
                      <a:pt x="848" y="84"/>
                    </a:lnTo>
                    <a:lnTo>
                      <a:pt x="850" y="84"/>
                    </a:lnTo>
                    <a:lnTo>
                      <a:pt x="852" y="84"/>
                    </a:lnTo>
                    <a:lnTo>
                      <a:pt x="854" y="84"/>
                    </a:lnTo>
                    <a:lnTo>
                      <a:pt x="856" y="84"/>
                    </a:lnTo>
                    <a:lnTo>
                      <a:pt x="859" y="83"/>
                    </a:lnTo>
                    <a:lnTo>
                      <a:pt x="860" y="83"/>
                    </a:lnTo>
                    <a:lnTo>
                      <a:pt x="862" y="83"/>
                    </a:lnTo>
                    <a:lnTo>
                      <a:pt x="864" y="83"/>
                    </a:lnTo>
                    <a:lnTo>
                      <a:pt x="866" y="81"/>
                    </a:lnTo>
                    <a:lnTo>
                      <a:pt x="866" y="81"/>
                    </a:lnTo>
                    <a:lnTo>
                      <a:pt x="868" y="80"/>
                    </a:lnTo>
                    <a:lnTo>
                      <a:pt x="870" y="80"/>
                    </a:lnTo>
                    <a:lnTo>
                      <a:pt x="871" y="78"/>
                    </a:lnTo>
                    <a:lnTo>
                      <a:pt x="871" y="78"/>
                    </a:lnTo>
                    <a:lnTo>
                      <a:pt x="871" y="77"/>
                    </a:lnTo>
                    <a:lnTo>
                      <a:pt x="871" y="77"/>
                    </a:lnTo>
                    <a:lnTo>
                      <a:pt x="872" y="75"/>
                    </a:lnTo>
                    <a:lnTo>
                      <a:pt x="872" y="75"/>
                    </a:lnTo>
                    <a:lnTo>
                      <a:pt x="872" y="73"/>
                    </a:lnTo>
                    <a:lnTo>
                      <a:pt x="872" y="71"/>
                    </a:lnTo>
                    <a:lnTo>
                      <a:pt x="872" y="70"/>
                    </a:lnTo>
                    <a:lnTo>
                      <a:pt x="871" y="70"/>
                    </a:lnTo>
                    <a:lnTo>
                      <a:pt x="871" y="68"/>
                    </a:lnTo>
                    <a:lnTo>
                      <a:pt x="871" y="66"/>
                    </a:lnTo>
                    <a:lnTo>
                      <a:pt x="871" y="64"/>
                    </a:lnTo>
                    <a:lnTo>
                      <a:pt x="871" y="64"/>
                    </a:lnTo>
                    <a:lnTo>
                      <a:pt x="871" y="63"/>
                    </a:lnTo>
                    <a:lnTo>
                      <a:pt x="871" y="63"/>
                    </a:lnTo>
                    <a:lnTo>
                      <a:pt x="871" y="61"/>
                    </a:lnTo>
                    <a:lnTo>
                      <a:pt x="871" y="61"/>
                    </a:lnTo>
                    <a:lnTo>
                      <a:pt x="871" y="59"/>
                    </a:lnTo>
                    <a:lnTo>
                      <a:pt x="871" y="58"/>
                    </a:lnTo>
                    <a:lnTo>
                      <a:pt x="871" y="56"/>
                    </a:lnTo>
                    <a:lnTo>
                      <a:pt x="871" y="54"/>
                    </a:lnTo>
                    <a:lnTo>
                      <a:pt x="871" y="53"/>
                    </a:lnTo>
                    <a:lnTo>
                      <a:pt x="871" y="51"/>
                    </a:lnTo>
                    <a:lnTo>
                      <a:pt x="871" y="49"/>
                    </a:lnTo>
                    <a:lnTo>
                      <a:pt x="871" y="48"/>
                    </a:lnTo>
                    <a:lnTo>
                      <a:pt x="871" y="46"/>
                    </a:lnTo>
                    <a:lnTo>
                      <a:pt x="871" y="45"/>
                    </a:lnTo>
                    <a:lnTo>
                      <a:pt x="872" y="43"/>
                    </a:lnTo>
                    <a:lnTo>
                      <a:pt x="872" y="43"/>
                    </a:lnTo>
                    <a:lnTo>
                      <a:pt x="872" y="42"/>
                    </a:lnTo>
                    <a:lnTo>
                      <a:pt x="872" y="42"/>
                    </a:lnTo>
                    <a:lnTo>
                      <a:pt x="874" y="40"/>
                    </a:lnTo>
                    <a:lnTo>
                      <a:pt x="876" y="40"/>
                    </a:lnTo>
                    <a:lnTo>
                      <a:pt x="880" y="40"/>
                    </a:lnTo>
                    <a:lnTo>
                      <a:pt x="884" y="40"/>
                    </a:lnTo>
                    <a:lnTo>
                      <a:pt x="891" y="40"/>
                    </a:lnTo>
                    <a:lnTo>
                      <a:pt x="896" y="40"/>
                    </a:lnTo>
                    <a:lnTo>
                      <a:pt x="904" y="40"/>
                    </a:lnTo>
                    <a:lnTo>
                      <a:pt x="911" y="40"/>
                    </a:lnTo>
                    <a:lnTo>
                      <a:pt x="920" y="39"/>
                    </a:lnTo>
                    <a:lnTo>
                      <a:pt x="928" y="39"/>
                    </a:lnTo>
                    <a:lnTo>
                      <a:pt x="936" y="39"/>
                    </a:lnTo>
                    <a:lnTo>
                      <a:pt x="943" y="39"/>
                    </a:lnTo>
                    <a:lnTo>
                      <a:pt x="952" y="39"/>
                    </a:lnTo>
                    <a:lnTo>
                      <a:pt x="958" y="39"/>
                    </a:lnTo>
                    <a:lnTo>
                      <a:pt x="966" y="39"/>
                    </a:lnTo>
                    <a:lnTo>
                      <a:pt x="971" y="39"/>
                    </a:lnTo>
                    <a:lnTo>
                      <a:pt x="978" y="38"/>
                    </a:lnTo>
                    <a:lnTo>
                      <a:pt x="978" y="39"/>
                    </a:lnTo>
                    <a:lnTo>
                      <a:pt x="979" y="39"/>
                    </a:lnTo>
                    <a:lnTo>
                      <a:pt x="979" y="41"/>
                    </a:lnTo>
                    <a:lnTo>
                      <a:pt x="980" y="41"/>
                    </a:lnTo>
                    <a:lnTo>
                      <a:pt x="980" y="43"/>
                    </a:lnTo>
                    <a:lnTo>
                      <a:pt x="980" y="44"/>
                    </a:lnTo>
                    <a:lnTo>
                      <a:pt x="980" y="46"/>
                    </a:lnTo>
                    <a:lnTo>
                      <a:pt x="980" y="46"/>
                    </a:lnTo>
                    <a:lnTo>
                      <a:pt x="980" y="48"/>
                    </a:lnTo>
                    <a:lnTo>
                      <a:pt x="980" y="50"/>
                    </a:lnTo>
                    <a:lnTo>
                      <a:pt x="980" y="52"/>
                    </a:lnTo>
                    <a:lnTo>
                      <a:pt x="980" y="52"/>
                    </a:lnTo>
                    <a:lnTo>
                      <a:pt x="980" y="54"/>
                    </a:lnTo>
                    <a:lnTo>
                      <a:pt x="981" y="54"/>
                    </a:lnTo>
                    <a:lnTo>
                      <a:pt x="982" y="55"/>
                    </a:lnTo>
                    <a:lnTo>
                      <a:pt x="984" y="55"/>
                    </a:lnTo>
                    <a:lnTo>
                      <a:pt x="985" y="57"/>
                    </a:lnTo>
                    <a:lnTo>
                      <a:pt x="987" y="57"/>
                    </a:lnTo>
                    <a:lnTo>
                      <a:pt x="989" y="57"/>
                    </a:lnTo>
                    <a:lnTo>
                      <a:pt x="991" y="57"/>
                    </a:lnTo>
                    <a:lnTo>
                      <a:pt x="993" y="57"/>
                    </a:lnTo>
                    <a:lnTo>
                      <a:pt x="996" y="57"/>
                    </a:lnTo>
                    <a:lnTo>
                      <a:pt x="998" y="57"/>
                    </a:lnTo>
                    <a:lnTo>
                      <a:pt x="1002" y="57"/>
                    </a:lnTo>
                    <a:lnTo>
                      <a:pt x="1004" y="57"/>
                    </a:lnTo>
                    <a:lnTo>
                      <a:pt x="1007" y="57"/>
                    </a:lnTo>
                    <a:lnTo>
                      <a:pt x="1009" y="57"/>
                    </a:lnTo>
                    <a:lnTo>
                      <a:pt x="1012" y="57"/>
                    </a:lnTo>
                    <a:lnTo>
                      <a:pt x="1014" y="57"/>
                    </a:lnTo>
                    <a:lnTo>
                      <a:pt x="1016" y="57"/>
                    </a:lnTo>
                    <a:lnTo>
                      <a:pt x="1018" y="57"/>
                    </a:lnTo>
                    <a:lnTo>
                      <a:pt x="1021" y="55"/>
                    </a:lnTo>
                    <a:lnTo>
                      <a:pt x="1021" y="55"/>
                    </a:lnTo>
                    <a:lnTo>
                      <a:pt x="1023" y="55"/>
                    </a:lnTo>
                    <a:lnTo>
                      <a:pt x="1025" y="55"/>
                    </a:lnTo>
                    <a:lnTo>
                      <a:pt x="1027" y="54"/>
                    </a:lnTo>
                    <a:lnTo>
                      <a:pt x="1030" y="54"/>
                    </a:lnTo>
                    <a:lnTo>
                      <a:pt x="1034" y="54"/>
                    </a:lnTo>
                    <a:lnTo>
                      <a:pt x="1037" y="54"/>
                    </a:lnTo>
                    <a:lnTo>
                      <a:pt x="1041" y="54"/>
                    </a:lnTo>
                    <a:lnTo>
                      <a:pt x="1044" y="55"/>
                    </a:lnTo>
                    <a:lnTo>
                      <a:pt x="1048" y="55"/>
                    </a:lnTo>
                    <a:lnTo>
                      <a:pt x="1051" y="55"/>
                    </a:lnTo>
                    <a:lnTo>
                      <a:pt x="1055" y="55"/>
                    </a:lnTo>
                    <a:lnTo>
                      <a:pt x="1057" y="55"/>
                    </a:lnTo>
                    <a:lnTo>
                      <a:pt x="1060" y="55"/>
                    </a:lnTo>
                    <a:lnTo>
                      <a:pt x="1062" y="55"/>
                    </a:lnTo>
                    <a:lnTo>
                      <a:pt x="1064" y="55"/>
                    </a:lnTo>
                    <a:lnTo>
                      <a:pt x="1065" y="55"/>
                    </a:lnTo>
                    <a:lnTo>
                      <a:pt x="1067" y="55"/>
                    </a:lnTo>
                    <a:lnTo>
                      <a:pt x="1068" y="55"/>
                    </a:lnTo>
                    <a:lnTo>
                      <a:pt x="1070" y="54"/>
                    </a:lnTo>
                    <a:lnTo>
                      <a:pt x="1070" y="55"/>
                    </a:lnTo>
                    <a:lnTo>
                      <a:pt x="1072" y="55"/>
                    </a:lnTo>
                    <a:lnTo>
                      <a:pt x="1072" y="55"/>
                    </a:lnTo>
                    <a:lnTo>
                      <a:pt x="1074" y="55"/>
                    </a:lnTo>
                    <a:lnTo>
                      <a:pt x="1074" y="57"/>
                    </a:lnTo>
                    <a:lnTo>
                      <a:pt x="1075" y="57"/>
                    </a:lnTo>
                    <a:lnTo>
                      <a:pt x="1075" y="58"/>
                    </a:lnTo>
                    <a:lnTo>
                      <a:pt x="1077" y="58"/>
                    </a:lnTo>
                    <a:lnTo>
                      <a:pt x="1078" y="60"/>
                    </a:lnTo>
                    <a:lnTo>
                      <a:pt x="1080" y="60"/>
                    </a:lnTo>
                    <a:lnTo>
                      <a:pt x="1082" y="61"/>
                    </a:lnTo>
                    <a:lnTo>
                      <a:pt x="1085" y="61"/>
                    </a:lnTo>
                    <a:lnTo>
                      <a:pt x="1085" y="63"/>
                    </a:lnTo>
                    <a:lnTo>
                      <a:pt x="1087" y="65"/>
                    </a:lnTo>
                    <a:lnTo>
                      <a:pt x="1087" y="68"/>
                    </a:lnTo>
                    <a:lnTo>
                      <a:pt x="1089" y="70"/>
                    </a:lnTo>
                    <a:lnTo>
                      <a:pt x="1089" y="73"/>
                    </a:lnTo>
                    <a:lnTo>
                      <a:pt x="1090" y="75"/>
                    </a:lnTo>
                    <a:lnTo>
                      <a:pt x="1090" y="78"/>
                    </a:lnTo>
                    <a:lnTo>
                      <a:pt x="1092" y="80"/>
                    </a:lnTo>
                    <a:lnTo>
                      <a:pt x="1092" y="84"/>
                    </a:lnTo>
                    <a:lnTo>
                      <a:pt x="1092" y="86"/>
                    </a:lnTo>
                    <a:lnTo>
                      <a:pt x="1092" y="90"/>
                    </a:lnTo>
                    <a:lnTo>
                      <a:pt x="1094" y="91"/>
                    </a:lnTo>
                    <a:lnTo>
                      <a:pt x="1094" y="94"/>
                    </a:lnTo>
                    <a:lnTo>
                      <a:pt x="1095" y="96"/>
                    </a:lnTo>
                    <a:lnTo>
                      <a:pt x="1097" y="98"/>
                    </a:lnTo>
                    <a:lnTo>
                      <a:pt x="1099" y="98"/>
                    </a:lnTo>
                    <a:lnTo>
                      <a:pt x="1099" y="100"/>
                    </a:lnTo>
                    <a:lnTo>
                      <a:pt x="1101" y="100"/>
                    </a:lnTo>
                    <a:lnTo>
                      <a:pt x="1104" y="100"/>
                    </a:lnTo>
                    <a:lnTo>
                      <a:pt x="1108" y="100"/>
                    </a:lnTo>
                    <a:lnTo>
                      <a:pt x="1112" y="100"/>
                    </a:lnTo>
                    <a:lnTo>
                      <a:pt x="1116" y="100"/>
                    </a:lnTo>
                    <a:lnTo>
                      <a:pt x="1120" y="100"/>
                    </a:lnTo>
                    <a:lnTo>
                      <a:pt x="1126" y="100"/>
                    </a:lnTo>
                    <a:lnTo>
                      <a:pt x="1130" y="100"/>
                    </a:lnTo>
                    <a:lnTo>
                      <a:pt x="1135" y="100"/>
                    </a:lnTo>
                    <a:lnTo>
                      <a:pt x="1140" y="100"/>
                    </a:lnTo>
                    <a:lnTo>
                      <a:pt x="1145" y="100"/>
                    </a:lnTo>
                    <a:lnTo>
                      <a:pt x="1148" y="100"/>
                    </a:lnTo>
                    <a:lnTo>
                      <a:pt x="1152" y="100"/>
                    </a:lnTo>
                    <a:lnTo>
                      <a:pt x="1153" y="100"/>
                    </a:lnTo>
                    <a:lnTo>
                      <a:pt x="1156" y="98"/>
                    </a:lnTo>
                    <a:lnTo>
                      <a:pt x="1156" y="98"/>
                    </a:lnTo>
                    <a:lnTo>
                      <a:pt x="1158" y="98"/>
                    </a:lnTo>
                    <a:lnTo>
                      <a:pt x="1158" y="96"/>
                    </a:lnTo>
                    <a:lnTo>
                      <a:pt x="1159" y="94"/>
                    </a:lnTo>
                    <a:lnTo>
                      <a:pt x="1159" y="93"/>
                    </a:lnTo>
                    <a:lnTo>
                      <a:pt x="1159" y="91"/>
                    </a:lnTo>
                    <a:lnTo>
                      <a:pt x="1159" y="89"/>
                    </a:lnTo>
                    <a:lnTo>
                      <a:pt x="1160" y="85"/>
                    </a:lnTo>
                    <a:lnTo>
                      <a:pt x="1158" y="83"/>
                    </a:lnTo>
                    <a:lnTo>
                      <a:pt x="1158" y="81"/>
                    </a:lnTo>
                    <a:lnTo>
                      <a:pt x="1158" y="79"/>
                    </a:lnTo>
                    <a:lnTo>
                      <a:pt x="1158" y="76"/>
                    </a:lnTo>
                    <a:lnTo>
                      <a:pt x="1158" y="74"/>
                    </a:lnTo>
                    <a:lnTo>
                      <a:pt x="1160" y="72"/>
                    </a:lnTo>
                    <a:lnTo>
                      <a:pt x="1161" y="71"/>
                    </a:lnTo>
                    <a:lnTo>
                      <a:pt x="1163" y="70"/>
                    </a:lnTo>
                    <a:lnTo>
                      <a:pt x="1164" y="70"/>
                    </a:lnTo>
                    <a:lnTo>
                      <a:pt x="1166" y="69"/>
                    </a:lnTo>
                    <a:lnTo>
                      <a:pt x="1167" y="69"/>
                    </a:lnTo>
                    <a:lnTo>
                      <a:pt x="1169" y="67"/>
                    </a:lnTo>
                    <a:lnTo>
                      <a:pt x="1169" y="67"/>
                    </a:lnTo>
                    <a:lnTo>
                      <a:pt x="1171" y="67"/>
                    </a:lnTo>
                    <a:lnTo>
                      <a:pt x="1172" y="67"/>
                    </a:lnTo>
                    <a:lnTo>
                      <a:pt x="1173" y="66"/>
                    </a:lnTo>
                    <a:lnTo>
                      <a:pt x="1173" y="66"/>
                    </a:lnTo>
                    <a:lnTo>
                      <a:pt x="1175" y="66"/>
                    </a:lnTo>
                    <a:lnTo>
                      <a:pt x="1176" y="66"/>
                    </a:lnTo>
                    <a:lnTo>
                      <a:pt x="1178" y="66"/>
                    </a:lnTo>
                    <a:lnTo>
                      <a:pt x="1179" y="66"/>
                    </a:lnTo>
                    <a:lnTo>
                      <a:pt x="1181" y="66"/>
                    </a:lnTo>
                    <a:lnTo>
                      <a:pt x="1183" y="66"/>
                    </a:lnTo>
                    <a:lnTo>
                      <a:pt x="1186" y="66"/>
                    </a:lnTo>
                    <a:lnTo>
                      <a:pt x="1188" y="66"/>
                    </a:lnTo>
                    <a:lnTo>
                      <a:pt x="1192" y="66"/>
                    </a:lnTo>
                    <a:lnTo>
                      <a:pt x="1196" y="66"/>
                    </a:lnTo>
                    <a:lnTo>
                      <a:pt x="1202" y="66"/>
                    </a:lnTo>
                    <a:lnTo>
                      <a:pt x="1208" y="66"/>
                    </a:lnTo>
                    <a:lnTo>
                      <a:pt x="1215" y="66"/>
                    </a:lnTo>
                    <a:lnTo>
                      <a:pt x="1223" y="66"/>
                    </a:lnTo>
                    <a:lnTo>
                      <a:pt x="1230" y="66"/>
                    </a:lnTo>
                    <a:lnTo>
                      <a:pt x="1236" y="66"/>
                    </a:lnTo>
                    <a:lnTo>
                      <a:pt x="1243" y="66"/>
                    </a:lnTo>
                    <a:lnTo>
                      <a:pt x="1250" y="66"/>
                    </a:lnTo>
                    <a:lnTo>
                      <a:pt x="1257" y="66"/>
                    </a:lnTo>
                    <a:lnTo>
                      <a:pt x="1262" y="66"/>
                    </a:lnTo>
                    <a:lnTo>
                      <a:pt x="1268" y="66"/>
                    </a:lnTo>
                    <a:lnTo>
                      <a:pt x="1271" y="66"/>
                    </a:lnTo>
                    <a:lnTo>
                      <a:pt x="1275" y="66"/>
                    </a:lnTo>
                    <a:lnTo>
                      <a:pt x="1278" y="68"/>
                    </a:lnTo>
                    <a:lnTo>
                      <a:pt x="1282" y="68"/>
                    </a:lnTo>
                    <a:lnTo>
                      <a:pt x="1288" y="68"/>
                    </a:lnTo>
                    <a:lnTo>
                      <a:pt x="1294" y="68"/>
                    </a:lnTo>
                    <a:lnTo>
                      <a:pt x="1300" y="68"/>
                    </a:lnTo>
                    <a:lnTo>
                      <a:pt x="1308" y="68"/>
                    </a:lnTo>
                    <a:lnTo>
                      <a:pt x="1314" y="68"/>
                    </a:lnTo>
                    <a:lnTo>
                      <a:pt x="1321" y="66"/>
                    </a:lnTo>
                    <a:lnTo>
                      <a:pt x="1327" y="66"/>
                    </a:lnTo>
                    <a:lnTo>
                      <a:pt x="1333" y="66"/>
                    </a:lnTo>
                    <a:lnTo>
                      <a:pt x="1338" y="66"/>
                    </a:lnTo>
                    <a:lnTo>
                      <a:pt x="1344" y="66"/>
                    </a:lnTo>
                    <a:lnTo>
                      <a:pt x="1348" y="68"/>
                    </a:lnTo>
                    <a:lnTo>
                      <a:pt x="1350" y="69"/>
                    </a:lnTo>
                    <a:lnTo>
                      <a:pt x="1352" y="71"/>
                    </a:lnTo>
                    <a:lnTo>
                      <a:pt x="1353" y="72"/>
                    </a:lnTo>
                    <a:lnTo>
                      <a:pt x="1352" y="76"/>
                    </a:lnTo>
                    <a:lnTo>
                      <a:pt x="1352" y="78"/>
                    </a:lnTo>
                    <a:lnTo>
                      <a:pt x="1352" y="81"/>
                    </a:lnTo>
                    <a:lnTo>
                      <a:pt x="1352" y="83"/>
                    </a:lnTo>
                    <a:lnTo>
                      <a:pt x="1352" y="85"/>
                    </a:lnTo>
                    <a:lnTo>
                      <a:pt x="1354" y="87"/>
                    </a:lnTo>
                    <a:lnTo>
                      <a:pt x="1354" y="89"/>
                    </a:lnTo>
                    <a:lnTo>
                      <a:pt x="1356" y="91"/>
                    </a:lnTo>
                    <a:lnTo>
                      <a:pt x="1356" y="94"/>
                    </a:lnTo>
                    <a:lnTo>
                      <a:pt x="1358" y="96"/>
                    </a:lnTo>
                    <a:lnTo>
                      <a:pt x="1360" y="98"/>
                    </a:lnTo>
                    <a:lnTo>
                      <a:pt x="1362" y="100"/>
                    </a:lnTo>
                    <a:lnTo>
                      <a:pt x="1362" y="101"/>
                    </a:lnTo>
                    <a:lnTo>
                      <a:pt x="1364" y="103"/>
                    </a:lnTo>
                    <a:lnTo>
                      <a:pt x="1366" y="105"/>
                    </a:lnTo>
                    <a:lnTo>
                      <a:pt x="1368" y="107"/>
                    </a:lnTo>
                    <a:lnTo>
                      <a:pt x="1368" y="109"/>
                    </a:lnTo>
                    <a:lnTo>
                      <a:pt x="1372" y="110"/>
                    </a:lnTo>
                    <a:lnTo>
                      <a:pt x="1377" y="110"/>
                    </a:lnTo>
                    <a:lnTo>
                      <a:pt x="1383" y="110"/>
                    </a:lnTo>
                    <a:lnTo>
                      <a:pt x="1390" y="110"/>
                    </a:lnTo>
                    <a:lnTo>
                      <a:pt x="1399" y="109"/>
                    </a:lnTo>
                    <a:lnTo>
                      <a:pt x="1408" y="109"/>
                    </a:lnTo>
                    <a:lnTo>
                      <a:pt x="1417" y="107"/>
                    </a:lnTo>
                    <a:lnTo>
                      <a:pt x="1426" y="107"/>
                    </a:lnTo>
                    <a:lnTo>
                      <a:pt x="1435" y="106"/>
                    </a:lnTo>
                    <a:lnTo>
                      <a:pt x="1442" y="106"/>
                    </a:lnTo>
                    <a:lnTo>
                      <a:pt x="1451" y="104"/>
                    </a:lnTo>
                    <a:lnTo>
                      <a:pt x="1457" y="104"/>
                    </a:lnTo>
                    <a:lnTo>
                      <a:pt x="1462" y="104"/>
                    </a:lnTo>
                    <a:lnTo>
                      <a:pt x="1466" y="104"/>
                    </a:lnTo>
                    <a:lnTo>
                      <a:pt x="1468" y="104"/>
                    </a:lnTo>
                    <a:lnTo>
                      <a:pt x="1467" y="106"/>
                    </a:lnTo>
                    <a:lnTo>
                      <a:pt x="1461" y="108"/>
                    </a:lnTo>
                    <a:lnTo>
                      <a:pt x="1452" y="110"/>
                    </a:lnTo>
                    <a:lnTo>
                      <a:pt x="1441" y="112"/>
                    </a:lnTo>
                    <a:lnTo>
                      <a:pt x="1427" y="116"/>
                    </a:lnTo>
                    <a:lnTo>
                      <a:pt x="1411" y="119"/>
                    </a:lnTo>
                    <a:lnTo>
                      <a:pt x="1394" y="122"/>
                    </a:lnTo>
                    <a:lnTo>
                      <a:pt x="1377" y="124"/>
                    </a:lnTo>
                    <a:lnTo>
                      <a:pt x="1358" y="128"/>
                    </a:lnTo>
                    <a:lnTo>
                      <a:pt x="1340" y="131"/>
                    </a:lnTo>
                    <a:lnTo>
                      <a:pt x="1322" y="134"/>
                    </a:lnTo>
                    <a:lnTo>
                      <a:pt x="1306" y="136"/>
                    </a:lnTo>
                    <a:lnTo>
                      <a:pt x="1291" y="139"/>
                    </a:lnTo>
                    <a:lnTo>
                      <a:pt x="1278" y="141"/>
                    </a:lnTo>
                    <a:lnTo>
                      <a:pt x="1267" y="141"/>
                    </a:lnTo>
                    <a:lnTo>
                      <a:pt x="1261" y="141"/>
                    </a:lnTo>
                    <a:lnTo>
                      <a:pt x="1244" y="142"/>
                    </a:lnTo>
                    <a:lnTo>
                      <a:pt x="1228" y="142"/>
                    </a:lnTo>
                    <a:lnTo>
                      <a:pt x="1210" y="143"/>
                    </a:lnTo>
                    <a:lnTo>
                      <a:pt x="1191" y="143"/>
                    </a:lnTo>
                    <a:lnTo>
                      <a:pt x="1170" y="145"/>
                    </a:lnTo>
                    <a:lnTo>
                      <a:pt x="1151" y="145"/>
                    </a:lnTo>
                    <a:lnTo>
                      <a:pt x="1130" y="146"/>
                    </a:lnTo>
                    <a:lnTo>
                      <a:pt x="1110" y="146"/>
                    </a:lnTo>
                    <a:lnTo>
                      <a:pt x="1088" y="148"/>
                    </a:lnTo>
                    <a:lnTo>
                      <a:pt x="1068" y="148"/>
                    </a:lnTo>
                    <a:lnTo>
                      <a:pt x="1047" y="149"/>
                    </a:lnTo>
                    <a:lnTo>
                      <a:pt x="1028" y="149"/>
                    </a:lnTo>
                    <a:lnTo>
                      <a:pt x="1009" y="150"/>
                    </a:lnTo>
                    <a:lnTo>
                      <a:pt x="992" y="150"/>
                    </a:lnTo>
                    <a:lnTo>
                      <a:pt x="975" y="150"/>
                    </a:lnTo>
                    <a:lnTo>
                      <a:pt x="960" y="150"/>
                    </a:lnTo>
                    <a:lnTo>
                      <a:pt x="934" y="152"/>
                    </a:lnTo>
                    <a:lnTo>
                      <a:pt x="905" y="152"/>
                    </a:lnTo>
                    <a:lnTo>
                      <a:pt x="874" y="152"/>
                    </a:lnTo>
                    <a:lnTo>
                      <a:pt x="844" y="152"/>
                    </a:lnTo>
                    <a:lnTo>
                      <a:pt x="811" y="152"/>
                    </a:lnTo>
                    <a:lnTo>
                      <a:pt x="778" y="152"/>
                    </a:lnTo>
                    <a:lnTo>
                      <a:pt x="744" y="152"/>
                    </a:lnTo>
                    <a:lnTo>
                      <a:pt x="710" y="152"/>
                    </a:lnTo>
                    <a:lnTo>
                      <a:pt x="675" y="152"/>
                    </a:lnTo>
                    <a:lnTo>
                      <a:pt x="642" y="152"/>
                    </a:lnTo>
                    <a:lnTo>
                      <a:pt x="608" y="152"/>
                    </a:lnTo>
                    <a:lnTo>
                      <a:pt x="576" y="152"/>
                    </a:lnTo>
                    <a:lnTo>
                      <a:pt x="544" y="153"/>
                    </a:lnTo>
                    <a:lnTo>
                      <a:pt x="515" y="153"/>
                    </a:lnTo>
                    <a:lnTo>
                      <a:pt x="486" y="153"/>
                    </a:lnTo>
                    <a:lnTo>
                      <a:pt x="461" y="153"/>
                    </a:lnTo>
                    <a:lnTo>
                      <a:pt x="445" y="155"/>
                    </a:lnTo>
                    <a:lnTo>
                      <a:pt x="423" y="156"/>
                    </a:lnTo>
                    <a:lnTo>
                      <a:pt x="395" y="158"/>
                    </a:lnTo>
                    <a:lnTo>
                      <a:pt x="363" y="158"/>
                    </a:lnTo>
                    <a:lnTo>
                      <a:pt x="327" y="159"/>
                    </a:lnTo>
                    <a:lnTo>
                      <a:pt x="289" y="161"/>
                    </a:lnTo>
                    <a:lnTo>
                      <a:pt x="249" y="163"/>
                    </a:lnTo>
                    <a:lnTo>
                      <a:pt x="210" y="164"/>
                    </a:lnTo>
                    <a:lnTo>
                      <a:pt x="170" y="166"/>
                    </a:lnTo>
                    <a:lnTo>
                      <a:pt x="132" y="168"/>
                    </a:lnTo>
                    <a:lnTo>
                      <a:pt x="98" y="170"/>
                    </a:lnTo>
                    <a:lnTo>
                      <a:pt x="68" y="171"/>
                    </a:lnTo>
                    <a:lnTo>
                      <a:pt x="41" y="173"/>
                    </a:lnTo>
                    <a:lnTo>
                      <a:pt x="22" y="173"/>
                    </a:lnTo>
                    <a:lnTo>
                      <a:pt x="9" y="173"/>
                    </a:lnTo>
                    <a:lnTo>
                      <a:pt x="5" y="173"/>
                    </a:lnTo>
                    <a:lnTo>
                      <a:pt x="3" y="173"/>
                    </a:lnTo>
                    <a:lnTo>
                      <a:pt x="3" y="170"/>
                    </a:lnTo>
                    <a:lnTo>
                      <a:pt x="2" y="166"/>
                    </a:lnTo>
                    <a:lnTo>
                      <a:pt x="2" y="158"/>
                    </a:lnTo>
                    <a:lnTo>
                      <a:pt x="1" y="150"/>
                    </a:lnTo>
                    <a:lnTo>
                      <a:pt x="1" y="140"/>
                    </a:lnTo>
                    <a:lnTo>
                      <a:pt x="1" y="129"/>
                    </a:lnTo>
                    <a:lnTo>
                      <a:pt x="1" y="116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0" y="80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6" y="25"/>
                    </a:lnTo>
                    <a:lnTo>
                      <a:pt x="10" y="27"/>
                    </a:lnTo>
                    <a:lnTo>
                      <a:pt x="14" y="28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9" y="32"/>
                    </a:lnTo>
                    <a:lnTo>
                      <a:pt x="34" y="34"/>
                    </a:lnTo>
                    <a:lnTo>
                      <a:pt x="40" y="36"/>
                    </a:lnTo>
                    <a:lnTo>
                      <a:pt x="46" y="36"/>
                    </a:lnTo>
                    <a:lnTo>
                      <a:pt x="52" y="37"/>
                    </a:lnTo>
                    <a:lnTo>
                      <a:pt x="58" y="37"/>
                    </a:lnTo>
                    <a:lnTo>
                      <a:pt x="64" y="36"/>
                    </a:lnTo>
                    <a:lnTo>
                      <a:pt x="71" y="34"/>
                    </a:lnTo>
                    <a:lnTo>
                      <a:pt x="73" y="36"/>
                    </a:lnTo>
                    <a:lnTo>
                      <a:pt x="75" y="36"/>
                    </a:lnTo>
                    <a:lnTo>
                      <a:pt x="77" y="36"/>
                    </a:lnTo>
                    <a:lnTo>
                      <a:pt x="81" y="36"/>
                    </a:lnTo>
                    <a:lnTo>
                      <a:pt x="82" y="36"/>
                    </a:lnTo>
                    <a:lnTo>
                      <a:pt x="86" y="36"/>
                    </a:lnTo>
                    <a:lnTo>
                      <a:pt x="89" y="36"/>
                    </a:lnTo>
                    <a:lnTo>
                      <a:pt x="92" y="36"/>
                    </a:lnTo>
                    <a:lnTo>
                      <a:pt x="94" y="36"/>
                    </a:lnTo>
                    <a:lnTo>
                      <a:pt x="98" y="36"/>
                    </a:lnTo>
                    <a:lnTo>
                      <a:pt x="100" y="36"/>
                    </a:lnTo>
                    <a:lnTo>
                      <a:pt x="104" y="34"/>
                    </a:lnTo>
                    <a:lnTo>
                      <a:pt x="106" y="34"/>
                    </a:lnTo>
                    <a:lnTo>
                      <a:pt x="110" y="33"/>
                    </a:lnTo>
                    <a:lnTo>
                      <a:pt x="111" y="31"/>
                    </a:lnTo>
                    <a:lnTo>
                      <a:pt x="115" y="29"/>
                    </a:lnTo>
                    <a:lnTo>
                      <a:pt x="117" y="28"/>
                    </a:lnTo>
                    <a:lnTo>
                      <a:pt x="121" y="26"/>
                    </a:lnTo>
                    <a:lnTo>
                      <a:pt x="122" y="24"/>
                    </a:lnTo>
                    <a:lnTo>
                      <a:pt x="126" y="22"/>
                    </a:lnTo>
                    <a:lnTo>
                      <a:pt x="128" y="20"/>
                    </a:lnTo>
                    <a:lnTo>
                      <a:pt x="130" y="17"/>
                    </a:lnTo>
                    <a:lnTo>
                      <a:pt x="132" y="15"/>
                    </a:lnTo>
                    <a:lnTo>
                      <a:pt x="134" y="12"/>
                    </a:lnTo>
                    <a:lnTo>
                      <a:pt x="134" y="10"/>
                    </a:lnTo>
                    <a:lnTo>
                      <a:pt x="136" y="8"/>
                    </a:lnTo>
                    <a:lnTo>
                      <a:pt x="137" y="6"/>
                    </a:lnTo>
                    <a:lnTo>
                      <a:pt x="139" y="4"/>
                    </a:lnTo>
                    <a:lnTo>
                      <a:pt x="139" y="3"/>
                    </a:lnTo>
                    <a:lnTo>
                      <a:pt x="139" y="2"/>
                    </a:lnTo>
                    <a:lnTo>
                      <a:pt x="139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40040" y="5048280"/>
                <a:ext cx="1444680" cy="471600"/>
              </a:xfrm>
              <a:custGeom>
                <a:avLst/>
                <a:gdLst/>
                <a:ahLst/>
                <a:rect l="l" t="t" r="r" b="b"/>
                <a:pathLst>
                  <a:path w="910" h="297">
                    <a:moveTo>
                      <a:pt x="909" y="102"/>
                    </a:moveTo>
                    <a:lnTo>
                      <a:pt x="908" y="102"/>
                    </a:lnTo>
                    <a:lnTo>
                      <a:pt x="908" y="101"/>
                    </a:lnTo>
                    <a:lnTo>
                      <a:pt x="906" y="99"/>
                    </a:lnTo>
                    <a:lnTo>
                      <a:pt x="906" y="96"/>
                    </a:lnTo>
                    <a:lnTo>
                      <a:pt x="904" y="95"/>
                    </a:lnTo>
                    <a:lnTo>
                      <a:pt x="903" y="91"/>
                    </a:lnTo>
                    <a:lnTo>
                      <a:pt x="901" y="87"/>
                    </a:lnTo>
                    <a:lnTo>
                      <a:pt x="901" y="84"/>
                    </a:lnTo>
                    <a:lnTo>
                      <a:pt x="899" y="81"/>
                    </a:lnTo>
                    <a:lnTo>
                      <a:pt x="897" y="77"/>
                    </a:lnTo>
                    <a:lnTo>
                      <a:pt x="895" y="74"/>
                    </a:lnTo>
                    <a:lnTo>
                      <a:pt x="893" y="70"/>
                    </a:lnTo>
                    <a:lnTo>
                      <a:pt x="891" y="68"/>
                    </a:lnTo>
                    <a:lnTo>
                      <a:pt x="890" y="65"/>
                    </a:lnTo>
                    <a:lnTo>
                      <a:pt x="888" y="64"/>
                    </a:lnTo>
                    <a:lnTo>
                      <a:pt x="886" y="61"/>
                    </a:lnTo>
                    <a:lnTo>
                      <a:pt x="883" y="61"/>
                    </a:lnTo>
                    <a:lnTo>
                      <a:pt x="881" y="60"/>
                    </a:lnTo>
                    <a:lnTo>
                      <a:pt x="880" y="60"/>
                    </a:lnTo>
                    <a:lnTo>
                      <a:pt x="878" y="59"/>
                    </a:lnTo>
                    <a:lnTo>
                      <a:pt x="875" y="60"/>
                    </a:lnTo>
                    <a:lnTo>
                      <a:pt x="873" y="60"/>
                    </a:lnTo>
                    <a:lnTo>
                      <a:pt x="871" y="60"/>
                    </a:lnTo>
                    <a:lnTo>
                      <a:pt x="870" y="60"/>
                    </a:lnTo>
                    <a:lnTo>
                      <a:pt x="866" y="62"/>
                    </a:lnTo>
                    <a:lnTo>
                      <a:pt x="864" y="62"/>
                    </a:lnTo>
                    <a:lnTo>
                      <a:pt x="862" y="64"/>
                    </a:lnTo>
                    <a:lnTo>
                      <a:pt x="861" y="64"/>
                    </a:lnTo>
                    <a:lnTo>
                      <a:pt x="859" y="65"/>
                    </a:lnTo>
                    <a:lnTo>
                      <a:pt x="857" y="65"/>
                    </a:lnTo>
                    <a:lnTo>
                      <a:pt x="855" y="66"/>
                    </a:lnTo>
                    <a:lnTo>
                      <a:pt x="854" y="66"/>
                    </a:lnTo>
                    <a:lnTo>
                      <a:pt x="853" y="68"/>
                    </a:lnTo>
                    <a:lnTo>
                      <a:pt x="853" y="68"/>
                    </a:lnTo>
                    <a:lnTo>
                      <a:pt x="853" y="68"/>
                    </a:lnTo>
                    <a:lnTo>
                      <a:pt x="853" y="68"/>
                    </a:lnTo>
                    <a:lnTo>
                      <a:pt x="851" y="70"/>
                    </a:lnTo>
                    <a:lnTo>
                      <a:pt x="851" y="70"/>
                    </a:lnTo>
                    <a:lnTo>
                      <a:pt x="851" y="72"/>
                    </a:lnTo>
                    <a:lnTo>
                      <a:pt x="851" y="72"/>
                    </a:lnTo>
                    <a:lnTo>
                      <a:pt x="850" y="74"/>
                    </a:lnTo>
                    <a:lnTo>
                      <a:pt x="850" y="74"/>
                    </a:lnTo>
                    <a:lnTo>
                      <a:pt x="850" y="76"/>
                    </a:lnTo>
                    <a:lnTo>
                      <a:pt x="850" y="76"/>
                    </a:lnTo>
                    <a:lnTo>
                      <a:pt x="848" y="78"/>
                    </a:lnTo>
                    <a:lnTo>
                      <a:pt x="848" y="78"/>
                    </a:lnTo>
                    <a:lnTo>
                      <a:pt x="848" y="78"/>
                    </a:lnTo>
                    <a:lnTo>
                      <a:pt x="848" y="78"/>
                    </a:lnTo>
                    <a:lnTo>
                      <a:pt x="845" y="80"/>
                    </a:lnTo>
                    <a:lnTo>
                      <a:pt x="843" y="80"/>
                    </a:lnTo>
                    <a:lnTo>
                      <a:pt x="840" y="80"/>
                    </a:lnTo>
                    <a:lnTo>
                      <a:pt x="838" y="80"/>
                    </a:lnTo>
                    <a:lnTo>
                      <a:pt x="834" y="80"/>
                    </a:lnTo>
                    <a:lnTo>
                      <a:pt x="831" y="80"/>
                    </a:lnTo>
                    <a:lnTo>
                      <a:pt x="827" y="80"/>
                    </a:lnTo>
                    <a:lnTo>
                      <a:pt x="824" y="80"/>
                    </a:lnTo>
                    <a:lnTo>
                      <a:pt x="821" y="80"/>
                    </a:lnTo>
                    <a:lnTo>
                      <a:pt x="817" y="80"/>
                    </a:lnTo>
                    <a:lnTo>
                      <a:pt x="813" y="80"/>
                    </a:lnTo>
                    <a:lnTo>
                      <a:pt x="811" y="80"/>
                    </a:lnTo>
                    <a:lnTo>
                      <a:pt x="807" y="80"/>
                    </a:lnTo>
                    <a:lnTo>
                      <a:pt x="805" y="80"/>
                    </a:lnTo>
                    <a:lnTo>
                      <a:pt x="803" y="80"/>
                    </a:lnTo>
                    <a:lnTo>
                      <a:pt x="802" y="78"/>
                    </a:lnTo>
                    <a:lnTo>
                      <a:pt x="800" y="78"/>
                    </a:lnTo>
                    <a:lnTo>
                      <a:pt x="798" y="76"/>
                    </a:lnTo>
                    <a:lnTo>
                      <a:pt x="796" y="75"/>
                    </a:lnTo>
                    <a:lnTo>
                      <a:pt x="794" y="73"/>
                    </a:lnTo>
                    <a:lnTo>
                      <a:pt x="793" y="71"/>
                    </a:lnTo>
                    <a:lnTo>
                      <a:pt x="791" y="69"/>
                    </a:lnTo>
                    <a:lnTo>
                      <a:pt x="789" y="67"/>
                    </a:lnTo>
                    <a:lnTo>
                      <a:pt x="789" y="65"/>
                    </a:lnTo>
                    <a:lnTo>
                      <a:pt x="787" y="64"/>
                    </a:lnTo>
                    <a:lnTo>
                      <a:pt x="785" y="62"/>
                    </a:lnTo>
                    <a:lnTo>
                      <a:pt x="783" y="60"/>
                    </a:lnTo>
                    <a:lnTo>
                      <a:pt x="782" y="58"/>
                    </a:lnTo>
                    <a:lnTo>
                      <a:pt x="780" y="57"/>
                    </a:lnTo>
                    <a:lnTo>
                      <a:pt x="778" y="55"/>
                    </a:lnTo>
                    <a:lnTo>
                      <a:pt x="776" y="54"/>
                    </a:lnTo>
                    <a:lnTo>
                      <a:pt x="776" y="52"/>
                    </a:lnTo>
                    <a:lnTo>
                      <a:pt x="772" y="52"/>
                    </a:lnTo>
                    <a:lnTo>
                      <a:pt x="769" y="52"/>
                    </a:lnTo>
                    <a:lnTo>
                      <a:pt x="765" y="52"/>
                    </a:lnTo>
                    <a:lnTo>
                      <a:pt x="762" y="50"/>
                    </a:lnTo>
                    <a:lnTo>
                      <a:pt x="757" y="50"/>
                    </a:lnTo>
                    <a:lnTo>
                      <a:pt x="753" y="50"/>
                    </a:lnTo>
                    <a:lnTo>
                      <a:pt x="750" y="50"/>
                    </a:lnTo>
                    <a:lnTo>
                      <a:pt x="746" y="49"/>
                    </a:lnTo>
                    <a:lnTo>
                      <a:pt x="742" y="50"/>
                    </a:lnTo>
                    <a:lnTo>
                      <a:pt x="738" y="50"/>
                    </a:lnTo>
                    <a:lnTo>
                      <a:pt x="734" y="51"/>
                    </a:lnTo>
                    <a:lnTo>
                      <a:pt x="731" y="51"/>
                    </a:lnTo>
                    <a:lnTo>
                      <a:pt x="727" y="53"/>
                    </a:lnTo>
                    <a:lnTo>
                      <a:pt x="725" y="54"/>
                    </a:lnTo>
                    <a:lnTo>
                      <a:pt x="722" y="55"/>
                    </a:lnTo>
                    <a:lnTo>
                      <a:pt x="721" y="55"/>
                    </a:lnTo>
                    <a:lnTo>
                      <a:pt x="719" y="57"/>
                    </a:lnTo>
                    <a:lnTo>
                      <a:pt x="718" y="58"/>
                    </a:lnTo>
                    <a:lnTo>
                      <a:pt x="718" y="60"/>
                    </a:lnTo>
                    <a:lnTo>
                      <a:pt x="718" y="60"/>
                    </a:lnTo>
                    <a:lnTo>
                      <a:pt x="718" y="62"/>
                    </a:lnTo>
                    <a:lnTo>
                      <a:pt x="718" y="64"/>
                    </a:lnTo>
                    <a:lnTo>
                      <a:pt x="718" y="65"/>
                    </a:lnTo>
                    <a:lnTo>
                      <a:pt x="720" y="66"/>
                    </a:lnTo>
                    <a:lnTo>
                      <a:pt x="720" y="68"/>
                    </a:lnTo>
                    <a:lnTo>
                      <a:pt x="720" y="70"/>
                    </a:lnTo>
                    <a:lnTo>
                      <a:pt x="720" y="72"/>
                    </a:lnTo>
                    <a:lnTo>
                      <a:pt x="721" y="74"/>
                    </a:lnTo>
                    <a:lnTo>
                      <a:pt x="721" y="75"/>
                    </a:lnTo>
                    <a:lnTo>
                      <a:pt x="721" y="76"/>
                    </a:lnTo>
                    <a:lnTo>
                      <a:pt x="721" y="78"/>
                    </a:lnTo>
                    <a:lnTo>
                      <a:pt x="721" y="78"/>
                    </a:lnTo>
                    <a:lnTo>
                      <a:pt x="719" y="80"/>
                    </a:lnTo>
                    <a:lnTo>
                      <a:pt x="717" y="80"/>
                    </a:lnTo>
                    <a:lnTo>
                      <a:pt x="715" y="80"/>
                    </a:lnTo>
                    <a:lnTo>
                      <a:pt x="715" y="80"/>
                    </a:lnTo>
                    <a:lnTo>
                      <a:pt x="713" y="80"/>
                    </a:lnTo>
                    <a:lnTo>
                      <a:pt x="711" y="80"/>
                    </a:lnTo>
                    <a:lnTo>
                      <a:pt x="709" y="80"/>
                    </a:lnTo>
                    <a:lnTo>
                      <a:pt x="708" y="80"/>
                    </a:lnTo>
                    <a:lnTo>
                      <a:pt x="706" y="80"/>
                    </a:lnTo>
                    <a:lnTo>
                      <a:pt x="704" y="80"/>
                    </a:lnTo>
                    <a:lnTo>
                      <a:pt x="702" y="80"/>
                    </a:lnTo>
                    <a:lnTo>
                      <a:pt x="701" y="80"/>
                    </a:lnTo>
                    <a:lnTo>
                      <a:pt x="699" y="80"/>
                    </a:lnTo>
                    <a:lnTo>
                      <a:pt x="699" y="80"/>
                    </a:lnTo>
                    <a:lnTo>
                      <a:pt x="698" y="80"/>
                    </a:lnTo>
                    <a:lnTo>
                      <a:pt x="698" y="78"/>
                    </a:lnTo>
                    <a:lnTo>
                      <a:pt x="696" y="78"/>
                    </a:lnTo>
                    <a:lnTo>
                      <a:pt x="694" y="76"/>
                    </a:lnTo>
                    <a:lnTo>
                      <a:pt x="692" y="74"/>
                    </a:lnTo>
                    <a:lnTo>
                      <a:pt x="692" y="72"/>
                    </a:lnTo>
                    <a:lnTo>
                      <a:pt x="690" y="70"/>
                    </a:lnTo>
                    <a:lnTo>
                      <a:pt x="690" y="67"/>
                    </a:lnTo>
                    <a:lnTo>
                      <a:pt x="688" y="65"/>
                    </a:lnTo>
                    <a:lnTo>
                      <a:pt x="688" y="62"/>
                    </a:lnTo>
                    <a:lnTo>
                      <a:pt x="687" y="60"/>
                    </a:lnTo>
                    <a:lnTo>
                      <a:pt x="687" y="58"/>
                    </a:lnTo>
                    <a:lnTo>
                      <a:pt x="685" y="56"/>
                    </a:lnTo>
                    <a:lnTo>
                      <a:pt x="685" y="53"/>
                    </a:lnTo>
                    <a:lnTo>
                      <a:pt x="683" y="51"/>
                    </a:lnTo>
                    <a:lnTo>
                      <a:pt x="682" y="49"/>
                    </a:lnTo>
                    <a:lnTo>
                      <a:pt x="680" y="48"/>
                    </a:lnTo>
                    <a:lnTo>
                      <a:pt x="680" y="47"/>
                    </a:lnTo>
                    <a:lnTo>
                      <a:pt x="677" y="47"/>
                    </a:lnTo>
                    <a:lnTo>
                      <a:pt x="675" y="46"/>
                    </a:lnTo>
                    <a:lnTo>
                      <a:pt x="672" y="46"/>
                    </a:lnTo>
                    <a:lnTo>
                      <a:pt x="669" y="44"/>
                    </a:lnTo>
                    <a:lnTo>
                      <a:pt x="666" y="44"/>
                    </a:lnTo>
                    <a:lnTo>
                      <a:pt x="662" y="44"/>
                    </a:lnTo>
                    <a:lnTo>
                      <a:pt x="658" y="44"/>
                    </a:lnTo>
                    <a:lnTo>
                      <a:pt x="654" y="44"/>
                    </a:lnTo>
                    <a:lnTo>
                      <a:pt x="649" y="46"/>
                    </a:lnTo>
                    <a:lnTo>
                      <a:pt x="646" y="46"/>
                    </a:lnTo>
                    <a:lnTo>
                      <a:pt x="642" y="47"/>
                    </a:lnTo>
                    <a:lnTo>
                      <a:pt x="638" y="47"/>
                    </a:lnTo>
                    <a:lnTo>
                      <a:pt x="635" y="49"/>
                    </a:lnTo>
                    <a:lnTo>
                      <a:pt x="632" y="50"/>
                    </a:lnTo>
                    <a:lnTo>
                      <a:pt x="630" y="52"/>
                    </a:lnTo>
                    <a:lnTo>
                      <a:pt x="628" y="52"/>
                    </a:lnTo>
                    <a:lnTo>
                      <a:pt x="627" y="54"/>
                    </a:lnTo>
                    <a:lnTo>
                      <a:pt x="627" y="55"/>
                    </a:lnTo>
                    <a:lnTo>
                      <a:pt x="627" y="57"/>
                    </a:lnTo>
                    <a:lnTo>
                      <a:pt x="627" y="57"/>
                    </a:lnTo>
                    <a:lnTo>
                      <a:pt x="627" y="59"/>
                    </a:lnTo>
                    <a:lnTo>
                      <a:pt x="627" y="61"/>
                    </a:lnTo>
                    <a:lnTo>
                      <a:pt x="627" y="63"/>
                    </a:lnTo>
                    <a:lnTo>
                      <a:pt x="629" y="64"/>
                    </a:lnTo>
                    <a:lnTo>
                      <a:pt x="629" y="65"/>
                    </a:lnTo>
                    <a:lnTo>
                      <a:pt x="629" y="67"/>
                    </a:lnTo>
                    <a:lnTo>
                      <a:pt x="629" y="69"/>
                    </a:lnTo>
                    <a:lnTo>
                      <a:pt x="630" y="70"/>
                    </a:lnTo>
                    <a:lnTo>
                      <a:pt x="629" y="72"/>
                    </a:lnTo>
                    <a:lnTo>
                      <a:pt x="629" y="74"/>
                    </a:lnTo>
                    <a:lnTo>
                      <a:pt x="628" y="75"/>
                    </a:lnTo>
                    <a:lnTo>
                      <a:pt x="628" y="75"/>
                    </a:lnTo>
                    <a:lnTo>
                      <a:pt x="626" y="77"/>
                    </a:lnTo>
                    <a:lnTo>
                      <a:pt x="623" y="77"/>
                    </a:lnTo>
                    <a:lnTo>
                      <a:pt x="619" y="76"/>
                    </a:lnTo>
                    <a:lnTo>
                      <a:pt x="617" y="75"/>
                    </a:lnTo>
                    <a:lnTo>
                      <a:pt x="612" y="74"/>
                    </a:lnTo>
                    <a:lnTo>
                      <a:pt x="608" y="72"/>
                    </a:lnTo>
                    <a:lnTo>
                      <a:pt x="604" y="70"/>
                    </a:lnTo>
                    <a:lnTo>
                      <a:pt x="600" y="66"/>
                    </a:lnTo>
                    <a:lnTo>
                      <a:pt x="595" y="65"/>
                    </a:lnTo>
                    <a:lnTo>
                      <a:pt x="591" y="62"/>
                    </a:lnTo>
                    <a:lnTo>
                      <a:pt x="587" y="60"/>
                    </a:lnTo>
                    <a:lnTo>
                      <a:pt x="583" y="57"/>
                    </a:lnTo>
                    <a:lnTo>
                      <a:pt x="579" y="56"/>
                    </a:lnTo>
                    <a:lnTo>
                      <a:pt x="576" y="54"/>
                    </a:lnTo>
                    <a:lnTo>
                      <a:pt x="573" y="54"/>
                    </a:lnTo>
                    <a:lnTo>
                      <a:pt x="571" y="52"/>
                    </a:lnTo>
                    <a:lnTo>
                      <a:pt x="568" y="54"/>
                    </a:lnTo>
                    <a:lnTo>
                      <a:pt x="566" y="54"/>
                    </a:lnTo>
                    <a:lnTo>
                      <a:pt x="562" y="56"/>
                    </a:lnTo>
                    <a:lnTo>
                      <a:pt x="560" y="56"/>
                    </a:lnTo>
                    <a:lnTo>
                      <a:pt x="556" y="58"/>
                    </a:lnTo>
                    <a:lnTo>
                      <a:pt x="553" y="60"/>
                    </a:lnTo>
                    <a:lnTo>
                      <a:pt x="549" y="62"/>
                    </a:lnTo>
                    <a:lnTo>
                      <a:pt x="548" y="64"/>
                    </a:lnTo>
                    <a:lnTo>
                      <a:pt x="544" y="66"/>
                    </a:lnTo>
                    <a:lnTo>
                      <a:pt x="540" y="68"/>
                    </a:lnTo>
                    <a:lnTo>
                      <a:pt x="536" y="70"/>
                    </a:lnTo>
                    <a:lnTo>
                      <a:pt x="534" y="71"/>
                    </a:lnTo>
                    <a:lnTo>
                      <a:pt x="531" y="73"/>
                    </a:lnTo>
                    <a:lnTo>
                      <a:pt x="529" y="74"/>
                    </a:lnTo>
                    <a:lnTo>
                      <a:pt x="527" y="74"/>
                    </a:lnTo>
                    <a:lnTo>
                      <a:pt x="525" y="72"/>
                    </a:lnTo>
                    <a:lnTo>
                      <a:pt x="523" y="72"/>
                    </a:lnTo>
                    <a:lnTo>
                      <a:pt x="523" y="72"/>
                    </a:lnTo>
                    <a:lnTo>
                      <a:pt x="521" y="72"/>
                    </a:lnTo>
                    <a:lnTo>
                      <a:pt x="521" y="70"/>
                    </a:lnTo>
                    <a:lnTo>
                      <a:pt x="519" y="70"/>
                    </a:lnTo>
                    <a:lnTo>
                      <a:pt x="519" y="68"/>
                    </a:lnTo>
                    <a:lnTo>
                      <a:pt x="518" y="66"/>
                    </a:lnTo>
                    <a:lnTo>
                      <a:pt x="518" y="65"/>
                    </a:lnTo>
                    <a:lnTo>
                      <a:pt x="516" y="65"/>
                    </a:lnTo>
                    <a:lnTo>
                      <a:pt x="516" y="63"/>
                    </a:lnTo>
                    <a:lnTo>
                      <a:pt x="514" y="62"/>
                    </a:lnTo>
                    <a:lnTo>
                      <a:pt x="514" y="60"/>
                    </a:lnTo>
                    <a:lnTo>
                      <a:pt x="512" y="60"/>
                    </a:lnTo>
                    <a:lnTo>
                      <a:pt x="512" y="59"/>
                    </a:lnTo>
                    <a:lnTo>
                      <a:pt x="510" y="59"/>
                    </a:lnTo>
                    <a:lnTo>
                      <a:pt x="510" y="58"/>
                    </a:lnTo>
                    <a:lnTo>
                      <a:pt x="506" y="58"/>
                    </a:lnTo>
                    <a:lnTo>
                      <a:pt x="504" y="57"/>
                    </a:lnTo>
                    <a:lnTo>
                      <a:pt x="500" y="57"/>
                    </a:lnTo>
                    <a:lnTo>
                      <a:pt x="498" y="55"/>
                    </a:lnTo>
                    <a:lnTo>
                      <a:pt x="494" y="55"/>
                    </a:lnTo>
                    <a:lnTo>
                      <a:pt x="490" y="55"/>
                    </a:lnTo>
                    <a:lnTo>
                      <a:pt x="486" y="55"/>
                    </a:lnTo>
                    <a:lnTo>
                      <a:pt x="482" y="53"/>
                    </a:lnTo>
                    <a:lnTo>
                      <a:pt x="479" y="54"/>
                    </a:lnTo>
                    <a:lnTo>
                      <a:pt x="475" y="54"/>
                    </a:lnTo>
                    <a:lnTo>
                      <a:pt x="471" y="54"/>
                    </a:lnTo>
                    <a:lnTo>
                      <a:pt x="468" y="54"/>
                    </a:lnTo>
                    <a:lnTo>
                      <a:pt x="464" y="56"/>
                    </a:lnTo>
                    <a:lnTo>
                      <a:pt x="462" y="56"/>
                    </a:lnTo>
                    <a:lnTo>
                      <a:pt x="460" y="58"/>
                    </a:lnTo>
                    <a:lnTo>
                      <a:pt x="458" y="58"/>
                    </a:lnTo>
                    <a:lnTo>
                      <a:pt x="458" y="60"/>
                    </a:lnTo>
                    <a:lnTo>
                      <a:pt x="458" y="61"/>
                    </a:lnTo>
                    <a:lnTo>
                      <a:pt x="458" y="63"/>
                    </a:lnTo>
                    <a:lnTo>
                      <a:pt x="458" y="63"/>
                    </a:lnTo>
                    <a:lnTo>
                      <a:pt x="458" y="65"/>
                    </a:lnTo>
                    <a:lnTo>
                      <a:pt x="458" y="66"/>
                    </a:lnTo>
                    <a:lnTo>
                      <a:pt x="458" y="68"/>
                    </a:lnTo>
                    <a:lnTo>
                      <a:pt x="459" y="69"/>
                    </a:lnTo>
                    <a:lnTo>
                      <a:pt x="459" y="71"/>
                    </a:lnTo>
                    <a:lnTo>
                      <a:pt x="459" y="73"/>
                    </a:lnTo>
                    <a:lnTo>
                      <a:pt x="459" y="75"/>
                    </a:lnTo>
                    <a:lnTo>
                      <a:pt x="460" y="76"/>
                    </a:lnTo>
                    <a:lnTo>
                      <a:pt x="459" y="78"/>
                    </a:lnTo>
                    <a:lnTo>
                      <a:pt x="459" y="79"/>
                    </a:lnTo>
                    <a:lnTo>
                      <a:pt x="458" y="81"/>
                    </a:lnTo>
                    <a:lnTo>
                      <a:pt x="458" y="81"/>
                    </a:lnTo>
                    <a:lnTo>
                      <a:pt x="454" y="83"/>
                    </a:lnTo>
                    <a:lnTo>
                      <a:pt x="453" y="84"/>
                    </a:lnTo>
                    <a:lnTo>
                      <a:pt x="450" y="84"/>
                    </a:lnTo>
                    <a:lnTo>
                      <a:pt x="448" y="84"/>
                    </a:lnTo>
                    <a:lnTo>
                      <a:pt x="444" y="84"/>
                    </a:lnTo>
                    <a:lnTo>
                      <a:pt x="443" y="84"/>
                    </a:lnTo>
                    <a:lnTo>
                      <a:pt x="440" y="84"/>
                    </a:lnTo>
                    <a:lnTo>
                      <a:pt x="438" y="82"/>
                    </a:lnTo>
                    <a:lnTo>
                      <a:pt x="434" y="82"/>
                    </a:lnTo>
                    <a:lnTo>
                      <a:pt x="432" y="80"/>
                    </a:lnTo>
                    <a:lnTo>
                      <a:pt x="428" y="79"/>
                    </a:lnTo>
                    <a:lnTo>
                      <a:pt x="426" y="77"/>
                    </a:lnTo>
                    <a:lnTo>
                      <a:pt x="422" y="77"/>
                    </a:lnTo>
                    <a:lnTo>
                      <a:pt x="420" y="75"/>
                    </a:lnTo>
                    <a:lnTo>
                      <a:pt x="417" y="74"/>
                    </a:lnTo>
                    <a:lnTo>
                      <a:pt x="415" y="72"/>
                    </a:lnTo>
                    <a:lnTo>
                      <a:pt x="413" y="72"/>
                    </a:lnTo>
                    <a:lnTo>
                      <a:pt x="412" y="70"/>
                    </a:lnTo>
                    <a:lnTo>
                      <a:pt x="410" y="68"/>
                    </a:lnTo>
                    <a:lnTo>
                      <a:pt x="410" y="66"/>
                    </a:lnTo>
                    <a:lnTo>
                      <a:pt x="410" y="65"/>
                    </a:lnTo>
                    <a:lnTo>
                      <a:pt x="410" y="62"/>
                    </a:lnTo>
                    <a:lnTo>
                      <a:pt x="410" y="60"/>
                    </a:lnTo>
                    <a:lnTo>
                      <a:pt x="412" y="56"/>
                    </a:lnTo>
                    <a:lnTo>
                      <a:pt x="412" y="54"/>
                    </a:lnTo>
                    <a:lnTo>
                      <a:pt x="413" y="52"/>
                    </a:lnTo>
                    <a:lnTo>
                      <a:pt x="413" y="50"/>
                    </a:lnTo>
                    <a:lnTo>
                      <a:pt x="414" y="47"/>
                    </a:lnTo>
                    <a:lnTo>
                      <a:pt x="413" y="45"/>
                    </a:lnTo>
                    <a:lnTo>
                      <a:pt x="413" y="44"/>
                    </a:lnTo>
                    <a:lnTo>
                      <a:pt x="412" y="42"/>
                    </a:lnTo>
                    <a:lnTo>
                      <a:pt x="412" y="40"/>
                    </a:lnTo>
                    <a:lnTo>
                      <a:pt x="409" y="40"/>
                    </a:lnTo>
                    <a:lnTo>
                      <a:pt x="405" y="40"/>
                    </a:lnTo>
                    <a:lnTo>
                      <a:pt x="400" y="40"/>
                    </a:lnTo>
                    <a:lnTo>
                      <a:pt x="394" y="40"/>
                    </a:lnTo>
                    <a:lnTo>
                      <a:pt x="386" y="40"/>
                    </a:lnTo>
                    <a:lnTo>
                      <a:pt x="378" y="40"/>
                    </a:lnTo>
                    <a:lnTo>
                      <a:pt x="369" y="40"/>
                    </a:lnTo>
                    <a:lnTo>
                      <a:pt x="362" y="38"/>
                    </a:lnTo>
                    <a:lnTo>
                      <a:pt x="352" y="40"/>
                    </a:lnTo>
                    <a:lnTo>
                      <a:pt x="344" y="40"/>
                    </a:lnTo>
                    <a:lnTo>
                      <a:pt x="335" y="40"/>
                    </a:lnTo>
                    <a:lnTo>
                      <a:pt x="328" y="40"/>
                    </a:lnTo>
                    <a:lnTo>
                      <a:pt x="321" y="40"/>
                    </a:lnTo>
                    <a:lnTo>
                      <a:pt x="316" y="40"/>
                    </a:lnTo>
                    <a:lnTo>
                      <a:pt x="312" y="40"/>
                    </a:lnTo>
                    <a:lnTo>
                      <a:pt x="311" y="40"/>
                    </a:lnTo>
                    <a:lnTo>
                      <a:pt x="309" y="43"/>
                    </a:lnTo>
                    <a:lnTo>
                      <a:pt x="308" y="45"/>
                    </a:lnTo>
                    <a:lnTo>
                      <a:pt x="308" y="47"/>
                    </a:lnTo>
                    <a:lnTo>
                      <a:pt x="308" y="49"/>
                    </a:lnTo>
                    <a:lnTo>
                      <a:pt x="308" y="53"/>
                    </a:lnTo>
                    <a:lnTo>
                      <a:pt x="308" y="55"/>
                    </a:lnTo>
                    <a:lnTo>
                      <a:pt x="308" y="58"/>
                    </a:lnTo>
                    <a:lnTo>
                      <a:pt x="310" y="60"/>
                    </a:lnTo>
                    <a:lnTo>
                      <a:pt x="310" y="64"/>
                    </a:lnTo>
                    <a:lnTo>
                      <a:pt x="312" y="66"/>
                    </a:lnTo>
                    <a:lnTo>
                      <a:pt x="312" y="70"/>
                    </a:lnTo>
                    <a:lnTo>
                      <a:pt x="313" y="72"/>
                    </a:lnTo>
                    <a:lnTo>
                      <a:pt x="312" y="74"/>
                    </a:lnTo>
                    <a:lnTo>
                      <a:pt x="312" y="76"/>
                    </a:lnTo>
                    <a:lnTo>
                      <a:pt x="311" y="78"/>
                    </a:lnTo>
                    <a:lnTo>
                      <a:pt x="311" y="78"/>
                    </a:lnTo>
                    <a:lnTo>
                      <a:pt x="309" y="80"/>
                    </a:lnTo>
                    <a:lnTo>
                      <a:pt x="307" y="80"/>
                    </a:lnTo>
                    <a:lnTo>
                      <a:pt x="305" y="82"/>
                    </a:lnTo>
                    <a:lnTo>
                      <a:pt x="304" y="82"/>
                    </a:lnTo>
                    <a:lnTo>
                      <a:pt x="302" y="84"/>
                    </a:lnTo>
                    <a:lnTo>
                      <a:pt x="300" y="84"/>
                    </a:lnTo>
                    <a:lnTo>
                      <a:pt x="298" y="84"/>
                    </a:lnTo>
                    <a:lnTo>
                      <a:pt x="298" y="84"/>
                    </a:lnTo>
                    <a:lnTo>
                      <a:pt x="296" y="84"/>
                    </a:lnTo>
                    <a:lnTo>
                      <a:pt x="294" y="84"/>
                    </a:lnTo>
                    <a:lnTo>
                      <a:pt x="292" y="84"/>
                    </a:lnTo>
                    <a:lnTo>
                      <a:pt x="291" y="84"/>
                    </a:lnTo>
                    <a:lnTo>
                      <a:pt x="289" y="84"/>
                    </a:lnTo>
                    <a:lnTo>
                      <a:pt x="287" y="84"/>
                    </a:lnTo>
                    <a:lnTo>
                      <a:pt x="285" y="83"/>
                    </a:lnTo>
                    <a:lnTo>
                      <a:pt x="285" y="81"/>
                    </a:lnTo>
                    <a:lnTo>
                      <a:pt x="283" y="80"/>
                    </a:lnTo>
                    <a:lnTo>
                      <a:pt x="281" y="77"/>
                    </a:lnTo>
                    <a:lnTo>
                      <a:pt x="280" y="74"/>
                    </a:lnTo>
                    <a:lnTo>
                      <a:pt x="280" y="70"/>
                    </a:lnTo>
                    <a:lnTo>
                      <a:pt x="279" y="66"/>
                    </a:lnTo>
                    <a:lnTo>
                      <a:pt x="279" y="61"/>
                    </a:lnTo>
                    <a:lnTo>
                      <a:pt x="279" y="56"/>
                    </a:lnTo>
                    <a:lnTo>
                      <a:pt x="280" y="51"/>
                    </a:lnTo>
                    <a:lnTo>
                      <a:pt x="279" y="47"/>
                    </a:lnTo>
                    <a:lnTo>
                      <a:pt x="279" y="42"/>
                    </a:lnTo>
                    <a:lnTo>
                      <a:pt x="279" y="38"/>
                    </a:lnTo>
                    <a:lnTo>
                      <a:pt x="279" y="33"/>
                    </a:lnTo>
                    <a:lnTo>
                      <a:pt x="277" y="30"/>
                    </a:lnTo>
                    <a:lnTo>
                      <a:pt x="277" y="26"/>
                    </a:lnTo>
                    <a:lnTo>
                      <a:pt x="275" y="24"/>
                    </a:lnTo>
                    <a:lnTo>
                      <a:pt x="274" y="20"/>
                    </a:lnTo>
                    <a:lnTo>
                      <a:pt x="271" y="20"/>
                    </a:lnTo>
                    <a:lnTo>
                      <a:pt x="269" y="19"/>
                    </a:lnTo>
                    <a:lnTo>
                      <a:pt x="266" y="19"/>
                    </a:lnTo>
                    <a:lnTo>
                      <a:pt x="264" y="17"/>
                    </a:lnTo>
                    <a:lnTo>
                      <a:pt x="260" y="17"/>
                    </a:lnTo>
                    <a:lnTo>
                      <a:pt x="257" y="16"/>
                    </a:lnTo>
                    <a:lnTo>
                      <a:pt x="254" y="16"/>
                    </a:lnTo>
                    <a:lnTo>
                      <a:pt x="251" y="14"/>
                    </a:lnTo>
                    <a:lnTo>
                      <a:pt x="247" y="14"/>
                    </a:lnTo>
                    <a:lnTo>
                      <a:pt x="243" y="14"/>
                    </a:lnTo>
                    <a:lnTo>
                      <a:pt x="239" y="14"/>
                    </a:lnTo>
                    <a:lnTo>
                      <a:pt x="236" y="13"/>
                    </a:lnTo>
                    <a:lnTo>
                      <a:pt x="232" y="14"/>
                    </a:lnTo>
                    <a:lnTo>
                      <a:pt x="229" y="14"/>
                    </a:lnTo>
                    <a:lnTo>
                      <a:pt x="227" y="15"/>
                    </a:lnTo>
                    <a:lnTo>
                      <a:pt x="225" y="15"/>
                    </a:lnTo>
                    <a:lnTo>
                      <a:pt x="223" y="17"/>
                    </a:lnTo>
                    <a:lnTo>
                      <a:pt x="222" y="17"/>
                    </a:lnTo>
                    <a:lnTo>
                      <a:pt x="220" y="19"/>
                    </a:lnTo>
                    <a:lnTo>
                      <a:pt x="220" y="21"/>
                    </a:lnTo>
                    <a:lnTo>
                      <a:pt x="219" y="24"/>
                    </a:lnTo>
                    <a:lnTo>
                      <a:pt x="219" y="26"/>
                    </a:lnTo>
                    <a:lnTo>
                      <a:pt x="218" y="28"/>
                    </a:lnTo>
                    <a:lnTo>
                      <a:pt x="218" y="30"/>
                    </a:lnTo>
                    <a:lnTo>
                      <a:pt x="216" y="33"/>
                    </a:lnTo>
                    <a:lnTo>
                      <a:pt x="216" y="35"/>
                    </a:lnTo>
                    <a:lnTo>
                      <a:pt x="216" y="37"/>
                    </a:lnTo>
                    <a:lnTo>
                      <a:pt x="216" y="38"/>
                    </a:lnTo>
                    <a:lnTo>
                      <a:pt x="214" y="40"/>
                    </a:lnTo>
                    <a:lnTo>
                      <a:pt x="214" y="42"/>
                    </a:lnTo>
                    <a:lnTo>
                      <a:pt x="213" y="44"/>
                    </a:lnTo>
                    <a:lnTo>
                      <a:pt x="213" y="44"/>
                    </a:lnTo>
                    <a:lnTo>
                      <a:pt x="210" y="45"/>
                    </a:lnTo>
                    <a:lnTo>
                      <a:pt x="208" y="45"/>
                    </a:lnTo>
                    <a:lnTo>
                      <a:pt x="206" y="45"/>
                    </a:lnTo>
                    <a:lnTo>
                      <a:pt x="204" y="45"/>
                    </a:lnTo>
                    <a:lnTo>
                      <a:pt x="202" y="45"/>
                    </a:lnTo>
                    <a:lnTo>
                      <a:pt x="200" y="45"/>
                    </a:lnTo>
                    <a:lnTo>
                      <a:pt x="198" y="45"/>
                    </a:lnTo>
                    <a:lnTo>
                      <a:pt x="196" y="43"/>
                    </a:lnTo>
                    <a:lnTo>
                      <a:pt x="194" y="43"/>
                    </a:lnTo>
                    <a:lnTo>
                      <a:pt x="192" y="42"/>
                    </a:lnTo>
                    <a:lnTo>
                      <a:pt x="190" y="42"/>
                    </a:lnTo>
                    <a:lnTo>
                      <a:pt x="188" y="40"/>
                    </a:lnTo>
                    <a:lnTo>
                      <a:pt x="186" y="40"/>
                    </a:lnTo>
                    <a:lnTo>
                      <a:pt x="186" y="38"/>
                    </a:lnTo>
                    <a:lnTo>
                      <a:pt x="184" y="37"/>
                    </a:lnTo>
                    <a:lnTo>
                      <a:pt x="184" y="35"/>
                    </a:lnTo>
                    <a:lnTo>
                      <a:pt x="182" y="35"/>
                    </a:lnTo>
                    <a:lnTo>
                      <a:pt x="182" y="33"/>
                    </a:lnTo>
                    <a:lnTo>
                      <a:pt x="182" y="32"/>
                    </a:lnTo>
                    <a:lnTo>
                      <a:pt x="182" y="30"/>
                    </a:lnTo>
                    <a:lnTo>
                      <a:pt x="182" y="28"/>
                    </a:lnTo>
                    <a:lnTo>
                      <a:pt x="182" y="26"/>
                    </a:lnTo>
                    <a:lnTo>
                      <a:pt x="182" y="24"/>
                    </a:lnTo>
                    <a:lnTo>
                      <a:pt x="184" y="21"/>
                    </a:lnTo>
                    <a:lnTo>
                      <a:pt x="184" y="19"/>
                    </a:lnTo>
                    <a:lnTo>
                      <a:pt x="184" y="17"/>
                    </a:lnTo>
                    <a:lnTo>
                      <a:pt x="184" y="16"/>
                    </a:lnTo>
                    <a:lnTo>
                      <a:pt x="185" y="13"/>
                    </a:lnTo>
                    <a:lnTo>
                      <a:pt x="185" y="12"/>
                    </a:lnTo>
                    <a:lnTo>
                      <a:pt x="185" y="10"/>
                    </a:lnTo>
                    <a:lnTo>
                      <a:pt x="184" y="8"/>
                    </a:lnTo>
                    <a:lnTo>
                      <a:pt x="184" y="6"/>
                    </a:lnTo>
                    <a:lnTo>
                      <a:pt x="181" y="6"/>
                    </a:lnTo>
                    <a:lnTo>
                      <a:pt x="179" y="6"/>
                    </a:lnTo>
                    <a:lnTo>
                      <a:pt x="176" y="6"/>
                    </a:lnTo>
                    <a:lnTo>
                      <a:pt x="172" y="4"/>
                    </a:lnTo>
                    <a:lnTo>
                      <a:pt x="166" y="4"/>
                    </a:lnTo>
                    <a:lnTo>
                      <a:pt x="161" y="4"/>
                    </a:lnTo>
                    <a:lnTo>
                      <a:pt x="156" y="4"/>
                    </a:lnTo>
                    <a:lnTo>
                      <a:pt x="151" y="2"/>
                    </a:lnTo>
                    <a:lnTo>
                      <a:pt x="145" y="2"/>
                    </a:lnTo>
                    <a:lnTo>
                      <a:pt x="139" y="2"/>
                    </a:lnTo>
                    <a:lnTo>
                      <a:pt x="134" y="2"/>
                    </a:lnTo>
                    <a:lnTo>
                      <a:pt x="129" y="1"/>
                    </a:lnTo>
                    <a:lnTo>
                      <a:pt x="124" y="1"/>
                    </a:lnTo>
                    <a:lnTo>
                      <a:pt x="121" y="1"/>
                    </a:lnTo>
                    <a:lnTo>
                      <a:pt x="119" y="1"/>
                    </a:lnTo>
                    <a:lnTo>
                      <a:pt x="118" y="0"/>
                    </a:lnTo>
                    <a:lnTo>
                      <a:pt x="115" y="2"/>
                    </a:lnTo>
                    <a:lnTo>
                      <a:pt x="113" y="3"/>
                    </a:lnTo>
                    <a:lnTo>
                      <a:pt x="112" y="5"/>
                    </a:lnTo>
                    <a:lnTo>
                      <a:pt x="112" y="7"/>
                    </a:lnTo>
                    <a:lnTo>
                      <a:pt x="112" y="10"/>
                    </a:lnTo>
                    <a:lnTo>
                      <a:pt x="113" y="12"/>
                    </a:lnTo>
                    <a:lnTo>
                      <a:pt x="114" y="15"/>
                    </a:lnTo>
                    <a:lnTo>
                      <a:pt x="116" y="17"/>
                    </a:lnTo>
                    <a:lnTo>
                      <a:pt x="116" y="20"/>
                    </a:lnTo>
                    <a:lnTo>
                      <a:pt x="117" y="22"/>
                    </a:lnTo>
                    <a:lnTo>
                      <a:pt x="117" y="25"/>
                    </a:lnTo>
                    <a:lnTo>
                      <a:pt x="118" y="27"/>
                    </a:lnTo>
                    <a:lnTo>
                      <a:pt x="116" y="29"/>
                    </a:lnTo>
                    <a:lnTo>
                      <a:pt x="116" y="31"/>
                    </a:lnTo>
                    <a:lnTo>
                      <a:pt x="114" y="32"/>
                    </a:lnTo>
                    <a:lnTo>
                      <a:pt x="112" y="32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95" y="33"/>
                    </a:lnTo>
                    <a:lnTo>
                      <a:pt x="88" y="33"/>
                    </a:lnTo>
                    <a:lnTo>
                      <a:pt x="78" y="34"/>
                    </a:lnTo>
                    <a:lnTo>
                      <a:pt x="69" y="34"/>
                    </a:lnTo>
                    <a:lnTo>
                      <a:pt x="60" y="34"/>
                    </a:lnTo>
                    <a:lnTo>
                      <a:pt x="50" y="34"/>
                    </a:lnTo>
                    <a:lnTo>
                      <a:pt x="40" y="35"/>
                    </a:lnTo>
                    <a:lnTo>
                      <a:pt x="31" y="35"/>
                    </a:lnTo>
                    <a:lnTo>
                      <a:pt x="22" y="37"/>
                    </a:lnTo>
                    <a:lnTo>
                      <a:pt x="15" y="37"/>
                    </a:lnTo>
                    <a:lnTo>
                      <a:pt x="8" y="38"/>
                    </a:lnTo>
                    <a:lnTo>
                      <a:pt x="4" y="38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61"/>
                    </a:lnTo>
                    <a:lnTo>
                      <a:pt x="0" y="80"/>
                    </a:lnTo>
                    <a:lnTo>
                      <a:pt x="0" y="100"/>
                    </a:lnTo>
                    <a:lnTo>
                      <a:pt x="1" y="118"/>
                    </a:lnTo>
                    <a:lnTo>
                      <a:pt x="1" y="136"/>
                    </a:lnTo>
                    <a:lnTo>
                      <a:pt x="1" y="154"/>
                    </a:lnTo>
                    <a:lnTo>
                      <a:pt x="1" y="171"/>
                    </a:lnTo>
                    <a:lnTo>
                      <a:pt x="2" y="186"/>
                    </a:lnTo>
                    <a:lnTo>
                      <a:pt x="2" y="203"/>
                    </a:lnTo>
                    <a:lnTo>
                      <a:pt x="2" y="218"/>
                    </a:lnTo>
                    <a:lnTo>
                      <a:pt x="2" y="231"/>
                    </a:lnTo>
                    <a:lnTo>
                      <a:pt x="2" y="244"/>
                    </a:lnTo>
                    <a:lnTo>
                      <a:pt x="2" y="257"/>
                    </a:lnTo>
                    <a:lnTo>
                      <a:pt x="2" y="268"/>
                    </a:lnTo>
                    <a:lnTo>
                      <a:pt x="2" y="278"/>
                    </a:lnTo>
                    <a:lnTo>
                      <a:pt x="3" y="286"/>
                    </a:lnTo>
                    <a:lnTo>
                      <a:pt x="3" y="290"/>
                    </a:lnTo>
                    <a:lnTo>
                      <a:pt x="7" y="293"/>
                    </a:lnTo>
                    <a:lnTo>
                      <a:pt x="12" y="295"/>
                    </a:lnTo>
                    <a:lnTo>
                      <a:pt x="20" y="295"/>
                    </a:lnTo>
                    <a:lnTo>
                      <a:pt x="28" y="295"/>
                    </a:lnTo>
                    <a:lnTo>
                      <a:pt x="38" y="294"/>
                    </a:lnTo>
                    <a:lnTo>
                      <a:pt x="49" y="292"/>
                    </a:lnTo>
                    <a:lnTo>
                      <a:pt x="61" y="290"/>
                    </a:lnTo>
                    <a:lnTo>
                      <a:pt x="73" y="288"/>
                    </a:lnTo>
                    <a:lnTo>
                      <a:pt x="86" y="286"/>
                    </a:lnTo>
                    <a:lnTo>
                      <a:pt x="100" y="284"/>
                    </a:lnTo>
                    <a:lnTo>
                      <a:pt x="114" y="282"/>
                    </a:lnTo>
                    <a:lnTo>
                      <a:pt x="127" y="282"/>
                    </a:lnTo>
                    <a:lnTo>
                      <a:pt x="141" y="280"/>
                    </a:lnTo>
                    <a:lnTo>
                      <a:pt x="154" y="280"/>
                    </a:lnTo>
                    <a:lnTo>
                      <a:pt x="167" y="280"/>
                    </a:lnTo>
                    <a:lnTo>
                      <a:pt x="172" y="286"/>
                    </a:lnTo>
                    <a:lnTo>
                      <a:pt x="179" y="289"/>
                    </a:lnTo>
                    <a:lnTo>
                      <a:pt x="187" y="292"/>
                    </a:lnTo>
                    <a:lnTo>
                      <a:pt x="195" y="294"/>
                    </a:lnTo>
                    <a:lnTo>
                      <a:pt x="202" y="296"/>
                    </a:lnTo>
                    <a:lnTo>
                      <a:pt x="211" y="296"/>
                    </a:lnTo>
                    <a:lnTo>
                      <a:pt x="219" y="296"/>
                    </a:lnTo>
                    <a:lnTo>
                      <a:pt x="228" y="296"/>
                    </a:lnTo>
                    <a:lnTo>
                      <a:pt x="235" y="296"/>
                    </a:lnTo>
                    <a:lnTo>
                      <a:pt x="242" y="296"/>
                    </a:lnTo>
                    <a:lnTo>
                      <a:pt x="248" y="296"/>
                    </a:lnTo>
                    <a:lnTo>
                      <a:pt x="254" y="294"/>
                    </a:lnTo>
                    <a:lnTo>
                      <a:pt x="258" y="294"/>
                    </a:lnTo>
                    <a:lnTo>
                      <a:pt x="262" y="293"/>
                    </a:lnTo>
                    <a:lnTo>
                      <a:pt x="264" y="293"/>
                    </a:lnTo>
                    <a:lnTo>
                      <a:pt x="265" y="292"/>
                    </a:lnTo>
                    <a:lnTo>
                      <a:pt x="264" y="292"/>
                    </a:lnTo>
                    <a:lnTo>
                      <a:pt x="263" y="290"/>
                    </a:lnTo>
                    <a:lnTo>
                      <a:pt x="261" y="289"/>
                    </a:lnTo>
                    <a:lnTo>
                      <a:pt x="260" y="286"/>
                    </a:lnTo>
                    <a:lnTo>
                      <a:pt x="258" y="283"/>
                    </a:lnTo>
                    <a:lnTo>
                      <a:pt x="257" y="279"/>
                    </a:lnTo>
                    <a:lnTo>
                      <a:pt x="255" y="276"/>
                    </a:lnTo>
                    <a:lnTo>
                      <a:pt x="253" y="270"/>
                    </a:lnTo>
                    <a:lnTo>
                      <a:pt x="251" y="266"/>
                    </a:lnTo>
                    <a:lnTo>
                      <a:pt x="249" y="261"/>
                    </a:lnTo>
                    <a:lnTo>
                      <a:pt x="247" y="256"/>
                    </a:lnTo>
                    <a:lnTo>
                      <a:pt x="246" y="251"/>
                    </a:lnTo>
                    <a:lnTo>
                      <a:pt x="244" y="247"/>
                    </a:lnTo>
                    <a:lnTo>
                      <a:pt x="244" y="242"/>
                    </a:lnTo>
                    <a:lnTo>
                      <a:pt x="244" y="238"/>
                    </a:lnTo>
                    <a:lnTo>
                      <a:pt x="245" y="234"/>
                    </a:lnTo>
                    <a:lnTo>
                      <a:pt x="247" y="224"/>
                    </a:lnTo>
                    <a:lnTo>
                      <a:pt x="252" y="214"/>
                    </a:lnTo>
                    <a:lnTo>
                      <a:pt x="259" y="206"/>
                    </a:lnTo>
                    <a:lnTo>
                      <a:pt x="269" y="197"/>
                    </a:lnTo>
                    <a:lnTo>
                      <a:pt x="280" y="190"/>
                    </a:lnTo>
                    <a:lnTo>
                      <a:pt x="294" y="182"/>
                    </a:lnTo>
                    <a:lnTo>
                      <a:pt x="308" y="176"/>
                    </a:lnTo>
                    <a:lnTo>
                      <a:pt x="325" y="168"/>
                    </a:lnTo>
                    <a:lnTo>
                      <a:pt x="342" y="163"/>
                    </a:lnTo>
                    <a:lnTo>
                      <a:pt x="360" y="158"/>
                    </a:lnTo>
                    <a:lnTo>
                      <a:pt x="380" y="153"/>
                    </a:lnTo>
                    <a:lnTo>
                      <a:pt x="402" y="147"/>
                    </a:lnTo>
                    <a:lnTo>
                      <a:pt x="422" y="143"/>
                    </a:lnTo>
                    <a:lnTo>
                      <a:pt x="444" y="139"/>
                    </a:lnTo>
                    <a:lnTo>
                      <a:pt x="467" y="135"/>
                    </a:lnTo>
                    <a:lnTo>
                      <a:pt x="490" y="130"/>
                    </a:lnTo>
                    <a:lnTo>
                      <a:pt x="505" y="128"/>
                    </a:lnTo>
                    <a:lnTo>
                      <a:pt x="525" y="126"/>
                    </a:lnTo>
                    <a:lnTo>
                      <a:pt x="548" y="125"/>
                    </a:lnTo>
                    <a:lnTo>
                      <a:pt x="574" y="123"/>
                    </a:lnTo>
                    <a:lnTo>
                      <a:pt x="601" y="121"/>
                    </a:lnTo>
                    <a:lnTo>
                      <a:pt x="630" y="119"/>
                    </a:lnTo>
                    <a:lnTo>
                      <a:pt x="660" y="117"/>
                    </a:lnTo>
                    <a:lnTo>
                      <a:pt x="690" y="115"/>
                    </a:lnTo>
                    <a:lnTo>
                      <a:pt x="718" y="115"/>
                    </a:lnTo>
                    <a:lnTo>
                      <a:pt x="745" y="113"/>
                    </a:lnTo>
                    <a:lnTo>
                      <a:pt x="770" y="112"/>
                    </a:lnTo>
                    <a:lnTo>
                      <a:pt x="792" y="110"/>
                    </a:lnTo>
                    <a:lnTo>
                      <a:pt x="810" y="110"/>
                    </a:lnTo>
                    <a:lnTo>
                      <a:pt x="824" y="108"/>
                    </a:lnTo>
                    <a:lnTo>
                      <a:pt x="833" y="108"/>
                    </a:lnTo>
                    <a:lnTo>
                      <a:pt x="836" y="107"/>
                    </a:lnTo>
                    <a:lnTo>
                      <a:pt x="840" y="108"/>
                    </a:lnTo>
                    <a:lnTo>
                      <a:pt x="843" y="108"/>
                    </a:lnTo>
                    <a:lnTo>
                      <a:pt x="847" y="108"/>
                    </a:lnTo>
                    <a:lnTo>
                      <a:pt x="853" y="108"/>
                    </a:lnTo>
                    <a:lnTo>
                      <a:pt x="858" y="108"/>
                    </a:lnTo>
                    <a:lnTo>
                      <a:pt x="863" y="108"/>
                    </a:lnTo>
                    <a:lnTo>
                      <a:pt x="869" y="108"/>
                    </a:lnTo>
                    <a:lnTo>
                      <a:pt x="874" y="108"/>
                    </a:lnTo>
                    <a:lnTo>
                      <a:pt x="878" y="108"/>
                    </a:lnTo>
                    <a:lnTo>
                      <a:pt x="884" y="108"/>
                    </a:lnTo>
                    <a:lnTo>
                      <a:pt x="889" y="108"/>
                    </a:lnTo>
                    <a:lnTo>
                      <a:pt x="894" y="106"/>
                    </a:lnTo>
                    <a:lnTo>
                      <a:pt x="898" y="106"/>
                    </a:lnTo>
                    <a:lnTo>
                      <a:pt x="902" y="105"/>
                    </a:lnTo>
                    <a:lnTo>
                      <a:pt x="905" y="103"/>
                    </a:lnTo>
                    <a:lnTo>
                      <a:pt x="909" y="102"/>
                    </a:lnTo>
                    <a:lnTo>
                      <a:pt x="909" y="10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40040" y="5153040"/>
                <a:ext cx="1420560" cy="345960"/>
              </a:xfrm>
              <a:custGeom>
                <a:avLst/>
                <a:gdLst/>
                <a:ahLst/>
                <a:rect l="l" t="t" r="r" b="b"/>
                <a:pathLst>
                  <a:path w="895" h="218">
                    <a:moveTo>
                      <a:pt x="894" y="27"/>
                    </a:moveTo>
                    <a:lnTo>
                      <a:pt x="893" y="27"/>
                    </a:lnTo>
                    <a:lnTo>
                      <a:pt x="893" y="26"/>
                    </a:lnTo>
                    <a:lnTo>
                      <a:pt x="891" y="26"/>
                    </a:lnTo>
                    <a:lnTo>
                      <a:pt x="891" y="24"/>
                    </a:lnTo>
                    <a:lnTo>
                      <a:pt x="890" y="22"/>
                    </a:lnTo>
                    <a:lnTo>
                      <a:pt x="888" y="20"/>
                    </a:lnTo>
                    <a:lnTo>
                      <a:pt x="886" y="19"/>
                    </a:lnTo>
                    <a:lnTo>
                      <a:pt x="885" y="16"/>
                    </a:lnTo>
                    <a:lnTo>
                      <a:pt x="882" y="14"/>
                    </a:lnTo>
                    <a:lnTo>
                      <a:pt x="880" y="12"/>
                    </a:lnTo>
                    <a:lnTo>
                      <a:pt x="878" y="10"/>
                    </a:lnTo>
                    <a:lnTo>
                      <a:pt x="876" y="7"/>
                    </a:lnTo>
                    <a:lnTo>
                      <a:pt x="874" y="6"/>
                    </a:lnTo>
                    <a:lnTo>
                      <a:pt x="872" y="4"/>
                    </a:lnTo>
                    <a:lnTo>
                      <a:pt x="870" y="2"/>
                    </a:lnTo>
                    <a:lnTo>
                      <a:pt x="868" y="0"/>
                    </a:lnTo>
                    <a:lnTo>
                      <a:pt x="866" y="2"/>
                    </a:lnTo>
                    <a:lnTo>
                      <a:pt x="864" y="2"/>
                    </a:lnTo>
                    <a:lnTo>
                      <a:pt x="862" y="2"/>
                    </a:lnTo>
                    <a:lnTo>
                      <a:pt x="861" y="2"/>
                    </a:lnTo>
                    <a:lnTo>
                      <a:pt x="859" y="3"/>
                    </a:lnTo>
                    <a:lnTo>
                      <a:pt x="857" y="3"/>
                    </a:lnTo>
                    <a:lnTo>
                      <a:pt x="855" y="3"/>
                    </a:lnTo>
                    <a:lnTo>
                      <a:pt x="853" y="3"/>
                    </a:lnTo>
                    <a:lnTo>
                      <a:pt x="850" y="5"/>
                    </a:lnTo>
                    <a:lnTo>
                      <a:pt x="848" y="5"/>
                    </a:lnTo>
                    <a:lnTo>
                      <a:pt x="846" y="5"/>
                    </a:lnTo>
                    <a:lnTo>
                      <a:pt x="844" y="5"/>
                    </a:lnTo>
                    <a:lnTo>
                      <a:pt x="843" y="6"/>
                    </a:lnTo>
                    <a:lnTo>
                      <a:pt x="841" y="6"/>
                    </a:lnTo>
                    <a:lnTo>
                      <a:pt x="840" y="6"/>
                    </a:lnTo>
                    <a:lnTo>
                      <a:pt x="840" y="6"/>
                    </a:lnTo>
                    <a:lnTo>
                      <a:pt x="838" y="8"/>
                    </a:lnTo>
                    <a:lnTo>
                      <a:pt x="838" y="8"/>
                    </a:lnTo>
                    <a:lnTo>
                      <a:pt x="837" y="9"/>
                    </a:lnTo>
                    <a:lnTo>
                      <a:pt x="837" y="9"/>
                    </a:lnTo>
                    <a:lnTo>
                      <a:pt x="836" y="11"/>
                    </a:lnTo>
                    <a:lnTo>
                      <a:pt x="836" y="11"/>
                    </a:lnTo>
                    <a:lnTo>
                      <a:pt x="836" y="11"/>
                    </a:lnTo>
                    <a:lnTo>
                      <a:pt x="836" y="11"/>
                    </a:lnTo>
                    <a:lnTo>
                      <a:pt x="834" y="13"/>
                    </a:lnTo>
                    <a:lnTo>
                      <a:pt x="834" y="13"/>
                    </a:lnTo>
                    <a:lnTo>
                      <a:pt x="834" y="13"/>
                    </a:lnTo>
                    <a:lnTo>
                      <a:pt x="834" y="13"/>
                    </a:lnTo>
                    <a:lnTo>
                      <a:pt x="833" y="15"/>
                    </a:lnTo>
                    <a:lnTo>
                      <a:pt x="833" y="15"/>
                    </a:lnTo>
                    <a:lnTo>
                      <a:pt x="833" y="15"/>
                    </a:lnTo>
                    <a:lnTo>
                      <a:pt x="833" y="15"/>
                    </a:lnTo>
                    <a:lnTo>
                      <a:pt x="830" y="17"/>
                    </a:lnTo>
                    <a:lnTo>
                      <a:pt x="828" y="17"/>
                    </a:lnTo>
                    <a:lnTo>
                      <a:pt x="825" y="18"/>
                    </a:lnTo>
                    <a:lnTo>
                      <a:pt x="823" y="18"/>
                    </a:lnTo>
                    <a:lnTo>
                      <a:pt x="820" y="18"/>
                    </a:lnTo>
                    <a:lnTo>
                      <a:pt x="816" y="18"/>
                    </a:lnTo>
                    <a:lnTo>
                      <a:pt x="813" y="18"/>
                    </a:lnTo>
                    <a:lnTo>
                      <a:pt x="811" y="18"/>
                    </a:lnTo>
                    <a:lnTo>
                      <a:pt x="807" y="18"/>
                    </a:lnTo>
                    <a:lnTo>
                      <a:pt x="803" y="18"/>
                    </a:lnTo>
                    <a:lnTo>
                      <a:pt x="800" y="18"/>
                    </a:lnTo>
                    <a:lnTo>
                      <a:pt x="797" y="18"/>
                    </a:lnTo>
                    <a:lnTo>
                      <a:pt x="793" y="18"/>
                    </a:lnTo>
                    <a:lnTo>
                      <a:pt x="792" y="18"/>
                    </a:lnTo>
                    <a:lnTo>
                      <a:pt x="789" y="18"/>
                    </a:lnTo>
                    <a:lnTo>
                      <a:pt x="787" y="18"/>
                    </a:lnTo>
                    <a:lnTo>
                      <a:pt x="785" y="18"/>
                    </a:lnTo>
                    <a:lnTo>
                      <a:pt x="783" y="18"/>
                    </a:lnTo>
                    <a:lnTo>
                      <a:pt x="782" y="18"/>
                    </a:lnTo>
                    <a:lnTo>
                      <a:pt x="780" y="16"/>
                    </a:lnTo>
                    <a:lnTo>
                      <a:pt x="778" y="16"/>
                    </a:lnTo>
                    <a:lnTo>
                      <a:pt x="776" y="14"/>
                    </a:lnTo>
                    <a:lnTo>
                      <a:pt x="774" y="13"/>
                    </a:lnTo>
                    <a:lnTo>
                      <a:pt x="774" y="11"/>
                    </a:lnTo>
                    <a:lnTo>
                      <a:pt x="772" y="11"/>
                    </a:lnTo>
                    <a:lnTo>
                      <a:pt x="770" y="9"/>
                    </a:lnTo>
                    <a:lnTo>
                      <a:pt x="768" y="9"/>
                    </a:lnTo>
                    <a:lnTo>
                      <a:pt x="767" y="8"/>
                    </a:lnTo>
                    <a:lnTo>
                      <a:pt x="765" y="8"/>
                    </a:lnTo>
                    <a:lnTo>
                      <a:pt x="763" y="6"/>
                    </a:lnTo>
                    <a:lnTo>
                      <a:pt x="762" y="6"/>
                    </a:lnTo>
                    <a:lnTo>
                      <a:pt x="762" y="4"/>
                    </a:lnTo>
                    <a:lnTo>
                      <a:pt x="758" y="5"/>
                    </a:lnTo>
                    <a:lnTo>
                      <a:pt x="755" y="5"/>
                    </a:lnTo>
                    <a:lnTo>
                      <a:pt x="751" y="5"/>
                    </a:lnTo>
                    <a:lnTo>
                      <a:pt x="747" y="5"/>
                    </a:lnTo>
                    <a:lnTo>
                      <a:pt x="743" y="6"/>
                    </a:lnTo>
                    <a:lnTo>
                      <a:pt x="739" y="6"/>
                    </a:lnTo>
                    <a:lnTo>
                      <a:pt x="735" y="6"/>
                    </a:lnTo>
                    <a:lnTo>
                      <a:pt x="732" y="6"/>
                    </a:lnTo>
                    <a:lnTo>
                      <a:pt x="727" y="8"/>
                    </a:lnTo>
                    <a:lnTo>
                      <a:pt x="724" y="8"/>
                    </a:lnTo>
                    <a:lnTo>
                      <a:pt x="720" y="9"/>
                    </a:lnTo>
                    <a:lnTo>
                      <a:pt x="716" y="9"/>
                    </a:lnTo>
                    <a:lnTo>
                      <a:pt x="713" y="11"/>
                    </a:lnTo>
                    <a:lnTo>
                      <a:pt x="710" y="11"/>
                    </a:lnTo>
                    <a:lnTo>
                      <a:pt x="708" y="12"/>
                    </a:lnTo>
                    <a:lnTo>
                      <a:pt x="706" y="12"/>
                    </a:lnTo>
                    <a:lnTo>
                      <a:pt x="705" y="14"/>
                    </a:lnTo>
                    <a:lnTo>
                      <a:pt x="704" y="14"/>
                    </a:lnTo>
                    <a:lnTo>
                      <a:pt x="704" y="16"/>
                    </a:lnTo>
                    <a:lnTo>
                      <a:pt x="704" y="16"/>
                    </a:lnTo>
                    <a:lnTo>
                      <a:pt x="704" y="18"/>
                    </a:lnTo>
                    <a:lnTo>
                      <a:pt x="704" y="18"/>
                    </a:lnTo>
                    <a:lnTo>
                      <a:pt x="704" y="20"/>
                    </a:lnTo>
                    <a:lnTo>
                      <a:pt x="706" y="20"/>
                    </a:lnTo>
                    <a:lnTo>
                      <a:pt x="706" y="22"/>
                    </a:lnTo>
                    <a:lnTo>
                      <a:pt x="706" y="22"/>
                    </a:lnTo>
                    <a:lnTo>
                      <a:pt x="706" y="24"/>
                    </a:lnTo>
                    <a:lnTo>
                      <a:pt x="707" y="24"/>
                    </a:lnTo>
                    <a:lnTo>
                      <a:pt x="707" y="26"/>
                    </a:lnTo>
                    <a:lnTo>
                      <a:pt x="707" y="26"/>
                    </a:lnTo>
                    <a:lnTo>
                      <a:pt x="706" y="27"/>
                    </a:lnTo>
                    <a:lnTo>
                      <a:pt x="706" y="27"/>
                    </a:lnTo>
                    <a:lnTo>
                      <a:pt x="705" y="28"/>
                    </a:lnTo>
                    <a:lnTo>
                      <a:pt x="704" y="28"/>
                    </a:lnTo>
                    <a:lnTo>
                      <a:pt x="702" y="28"/>
                    </a:lnTo>
                    <a:lnTo>
                      <a:pt x="702" y="28"/>
                    </a:lnTo>
                    <a:lnTo>
                      <a:pt x="700" y="28"/>
                    </a:lnTo>
                    <a:lnTo>
                      <a:pt x="699" y="28"/>
                    </a:lnTo>
                    <a:lnTo>
                      <a:pt x="697" y="28"/>
                    </a:lnTo>
                    <a:lnTo>
                      <a:pt x="697" y="28"/>
                    </a:lnTo>
                    <a:lnTo>
                      <a:pt x="695" y="28"/>
                    </a:lnTo>
                    <a:lnTo>
                      <a:pt x="694" y="28"/>
                    </a:lnTo>
                    <a:lnTo>
                      <a:pt x="692" y="28"/>
                    </a:lnTo>
                    <a:lnTo>
                      <a:pt x="691" y="28"/>
                    </a:lnTo>
                    <a:lnTo>
                      <a:pt x="689" y="28"/>
                    </a:lnTo>
                    <a:lnTo>
                      <a:pt x="688" y="28"/>
                    </a:lnTo>
                    <a:lnTo>
                      <a:pt x="687" y="28"/>
                    </a:lnTo>
                    <a:lnTo>
                      <a:pt x="687" y="27"/>
                    </a:lnTo>
                    <a:lnTo>
                      <a:pt x="685" y="27"/>
                    </a:lnTo>
                    <a:lnTo>
                      <a:pt x="683" y="27"/>
                    </a:lnTo>
                    <a:lnTo>
                      <a:pt x="681" y="27"/>
                    </a:lnTo>
                    <a:lnTo>
                      <a:pt x="681" y="25"/>
                    </a:lnTo>
                    <a:lnTo>
                      <a:pt x="679" y="25"/>
                    </a:lnTo>
                    <a:lnTo>
                      <a:pt x="679" y="23"/>
                    </a:lnTo>
                    <a:lnTo>
                      <a:pt x="677" y="22"/>
                    </a:lnTo>
                    <a:lnTo>
                      <a:pt x="677" y="20"/>
                    </a:lnTo>
                    <a:lnTo>
                      <a:pt x="675" y="20"/>
                    </a:lnTo>
                    <a:lnTo>
                      <a:pt x="674" y="18"/>
                    </a:lnTo>
                    <a:lnTo>
                      <a:pt x="672" y="16"/>
                    </a:lnTo>
                    <a:lnTo>
                      <a:pt x="672" y="14"/>
                    </a:lnTo>
                    <a:lnTo>
                      <a:pt x="670" y="14"/>
                    </a:lnTo>
                    <a:lnTo>
                      <a:pt x="668" y="12"/>
                    </a:lnTo>
                    <a:lnTo>
                      <a:pt x="667" y="11"/>
                    </a:lnTo>
                    <a:lnTo>
                      <a:pt x="666" y="9"/>
                    </a:lnTo>
                    <a:lnTo>
                      <a:pt x="663" y="9"/>
                    </a:lnTo>
                    <a:lnTo>
                      <a:pt x="661" y="9"/>
                    </a:lnTo>
                    <a:lnTo>
                      <a:pt x="657" y="9"/>
                    </a:lnTo>
                    <a:lnTo>
                      <a:pt x="656" y="9"/>
                    </a:lnTo>
                    <a:lnTo>
                      <a:pt x="652" y="10"/>
                    </a:lnTo>
                    <a:lnTo>
                      <a:pt x="648" y="10"/>
                    </a:lnTo>
                    <a:lnTo>
                      <a:pt x="644" y="10"/>
                    </a:lnTo>
                    <a:lnTo>
                      <a:pt x="641" y="10"/>
                    </a:lnTo>
                    <a:lnTo>
                      <a:pt x="637" y="12"/>
                    </a:lnTo>
                    <a:lnTo>
                      <a:pt x="634" y="12"/>
                    </a:lnTo>
                    <a:lnTo>
                      <a:pt x="630" y="13"/>
                    </a:lnTo>
                    <a:lnTo>
                      <a:pt x="627" y="13"/>
                    </a:lnTo>
                    <a:lnTo>
                      <a:pt x="623" y="15"/>
                    </a:lnTo>
                    <a:lnTo>
                      <a:pt x="620" y="15"/>
                    </a:lnTo>
                    <a:lnTo>
                      <a:pt x="619" y="15"/>
                    </a:lnTo>
                    <a:lnTo>
                      <a:pt x="617" y="15"/>
                    </a:lnTo>
                    <a:lnTo>
                      <a:pt x="616" y="17"/>
                    </a:lnTo>
                    <a:lnTo>
                      <a:pt x="615" y="18"/>
                    </a:lnTo>
                    <a:lnTo>
                      <a:pt x="615" y="19"/>
                    </a:lnTo>
                    <a:lnTo>
                      <a:pt x="615" y="19"/>
                    </a:lnTo>
                    <a:lnTo>
                      <a:pt x="615" y="21"/>
                    </a:lnTo>
                    <a:lnTo>
                      <a:pt x="615" y="22"/>
                    </a:lnTo>
                    <a:lnTo>
                      <a:pt x="615" y="24"/>
                    </a:lnTo>
                    <a:lnTo>
                      <a:pt x="617" y="24"/>
                    </a:lnTo>
                    <a:lnTo>
                      <a:pt x="617" y="26"/>
                    </a:lnTo>
                    <a:lnTo>
                      <a:pt x="617" y="26"/>
                    </a:lnTo>
                    <a:lnTo>
                      <a:pt x="617" y="28"/>
                    </a:lnTo>
                    <a:lnTo>
                      <a:pt x="619" y="28"/>
                    </a:lnTo>
                    <a:lnTo>
                      <a:pt x="619" y="29"/>
                    </a:lnTo>
                    <a:lnTo>
                      <a:pt x="619" y="29"/>
                    </a:lnTo>
                    <a:lnTo>
                      <a:pt x="619" y="29"/>
                    </a:lnTo>
                    <a:lnTo>
                      <a:pt x="620" y="29"/>
                    </a:lnTo>
                    <a:lnTo>
                      <a:pt x="617" y="31"/>
                    </a:lnTo>
                    <a:lnTo>
                      <a:pt x="614" y="32"/>
                    </a:lnTo>
                    <a:lnTo>
                      <a:pt x="610" y="32"/>
                    </a:lnTo>
                    <a:lnTo>
                      <a:pt x="608" y="31"/>
                    </a:lnTo>
                    <a:lnTo>
                      <a:pt x="603" y="31"/>
                    </a:lnTo>
                    <a:lnTo>
                      <a:pt x="599" y="30"/>
                    </a:lnTo>
                    <a:lnTo>
                      <a:pt x="594" y="29"/>
                    </a:lnTo>
                    <a:lnTo>
                      <a:pt x="590" y="28"/>
                    </a:lnTo>
                    <a:lnTo>
                      <a:pt x="585" y="28"/>
                    </a:lnTo>
                    <a:lnTo>
                      <a:pt x="580" y="26"/>
                    </a:lnTo>
                    <a:lnTo>
                      <a:pt x="576" y="25"/>
                    </a:lnTo>
                    <a:lnTo>
                      <a:pt x="572" y="23"/>
                    </a:lnTo>
                    <a:lnTo>
                      <a:pt x="568" y="23"/>
                    </a:lnTo>
                    <a:lnTo>
                      <a:pt x="564" y="22"/>
                    </a:lnTo>
                    <a:lnTo>
                      <a:pt x="561" y="22"/>
                    </a:lnTo>
                    <a:lnTo>
                      <a:pt x="559" y="20"/>
                    </a:lnTo>
                    <a:lnTo>
                      <a:pt x="556" y="22"/>
                    </a:lnTo>
                    <a:lnTo>
                      <a:pt x="554" y="24"/>
                    </a:lnTo>
                    <a:lnTo>
                      <a:pt x="550" y="26"/>
                    </a:lnTo>
                    <a:lnTo>
                      <a:pt x="549" y="26"/>
                    </a:lnTo>
                    <a:lnTo>
                      <a:pt x="545" y="28"/>
                    </a:lnTo>
                    <a:lnTo>
                      <a:pt x="543" y="29"/>
                    </a:lnTo>
                    <a:lnTo>
                      <a:pt x="539" y="31"/>
                    </a:lnTo>
                    <a:lnTo>
                      <a:pt x="538" y="31"/>
                    </a:lnTo>
                    <a:lnTo>
                      <a:pt x="534" y="33"/>
                    </a:lnTo>
                    <a:lnTo>
                      <a:pt x="531" y="34"/>
                    </a:lnTo>
                    <a:lnTo>
                      <a:pt x="528" y="36"/>
                    </a:lnTo>
                    <a:lnTo>
                      <a:pt x="526" y="36"/>
                    </a:lnTo>
                    <a:lnTo>
                      <a:pt x="522" y="38"/>
                    </a:lnTo>
                    <a:lnTo>
                      <a:pt x="520" y="38"/>
                    </a:lnTo>
                    <a:lnTo>
                      <a:pt x="518" y="38"/>
                    </a:lnTo>
                    <a:lnTo>
                      <a:pt x="516" y="38"/>
                    </a:lnTo>
                    <a:lnTo>
                      <a:pt x="514" y="38"/>
                    </a:lnTo>
                    <a:lnTo>
                      <a:pt x="512" y="38"/>
                    </a:lnTo>
                    <a:lnTo>
                      <a:pt x="511" y="38"/>
                    </a:lnTo>
                    <a:lnTo>
                      <a:pt x="511" y="36"/>
                    </a:lnTo>
                    <a:lnTo>
                      <a:pt x="509" y="36"/>
                    </a:lnTo>
                    <a:lnTo>
                      <a:pt x="509" y="36"/>
                    </a:lnTo>
                    <a:lnTo>
                      <a:pt x="507" y="36"/>
                    </a:lnTo>
                    <a:lnTo>
                      <a:pt x="507" y="34"/>
                    </a:lnTo>
                    <a:lnTo>
                      <a:pt x="505" y="34"/>
                    </a:lnTo>
                    <a:lnTo>
                      <a:pt x="504" y="34"/>
                    </a:lnTo>
                    <a:lnTo>
                      <a:pt x="502" y="34"/>
                    </a:lnTo>
                    <a:lnTo>
                      <a:pt x="502" y="32"/>
                    </a:lnTo>
                    <a:lnTo>
                      <a:pt x="501" y="32"/>
                    </a:lnTo>
                    <a:lnTo>
                      <a:pt x="501" y="31"/>
                    </a:lnTo>
                    <a:lnTo>
                      <a:pt x="499" y="31"/>
                    </a:lnTo>
                    <a:lnTo>
                      <a:pt x="499" y="29"/>
                    </a:lnTo>
                    <a:lnTo>
                      <a:pt x="495" y="30"/>
                    </a:lnTo>
                    <a:lnTo>
                      <a:pt x="492" y="30"/>
                    </a:lnTo>
                    <a:lnTo>
                      <a:pt x="489" y="30"/>
                    </a:lnTo>
                    <a:lnTo>
                      <a:pt x="487" y="30"/>
                    </a:lnTo>
                    <a:lnTo>
                      <a:pt x="483" y="30"/>
                    </a:lnTo>
                    <a:lnTo>
                      <a:pt x="480" y="30"/>
                    </a:lnTo>
                    <a:lnTo>
                      <a:pt x="476" y="30"/>
                    </a:lnTo>
                    <a:lnTo>
                      <a:pt x="472" y="30"/>
                    </a:lnTo>
                    <a:lnTo>
                      <a:pt x="469" y="32"/>
                    </a:lnTo>
                    <a:lnTo>
                      <a:pt x="465" y="32"/>
                    </a:lnTo>
                    <a:lnTo>
                      <a:pt x="461" y="32"/>
                    </a:lnTo>
                    <a:lnTo>
                      <a:pt x="458" y="32"/>
                    </a:lnTo>
                    <a:lnTo>
                      <a:pt x="454" y="34"/>
                    </a:lnTo>
                    <a:lnTo>
                      <a:pt x="453" y="34"/>
                    </a:lnTo>
                    <a:lnTo>
                      <a:pt x="451" y="36"/>
                    </a:lnTo>
                    <a:lnTo>
                      <a:pt x="450" y="36"/>
                    </a:lnTo>
                    <a:lnTo>
                      <a:pt x="449" y="37"/>
                    </a:lnTo>
                    <a:lnTo>
                      <a:pt x="449" y="37"/>
                    </a:lnTo>
                    <a:lnTo>
                      <a:pt x="449" y="37"/>
                    </a:lnTo>
                    <a:lnTo>
                      <a:pt x="449" y="37"/>
                    </a:lnTo>
                    <a:lnTo>
                      <a:pt x="449" y="39"/>
                    </a:lnTo>
                    <a:lnTo>
                      <a:pt x="449" y="39"/>
                    </a:lnTo>
                    <a:lnTo>
                      <a:pt x="449" y="41"/>
                    </a:lnTo>
                    <a:lnTo>
                      <a:pt x="451" y="41"/>
                    </a:lnTo>
                    <a:lnTo>
                      <a:pt x="451" y="43"/>
                    </a:lnTo>
                    <a:lnTo>
                      <a:pt x="451" y="44"/>
                    </a:lnTo>
                    <a:lnTo>
                      <a:pt x="451" y="46"/>
                    </a:lnTo>
                    <a:lnTo>
                      <a:pt x="453" y="46"/>
                    </a:lnTo>
                    <a:lnTo>
                      <a:pt x="453" y="48"/>
                    </a:lnTo>
                    <a:lnTo>
                      <a:pt x="453" y="48"/>
                    </a:lnTo>
                    <a:lnTo>
                      <a:pt x="453" y="50"/>
                    </a:lnTo>
                    <a:lnTo>
                      <a:pt x="453" y="50"/>
                    </a:lnTo>
                    <a:lnTo>
                      <a:pt x="449" y="52"/>
                    </a:lnTo>
                    <a:lnTo>
                      <a:pt x="447" y="52"/>
                    </a:lnTo>
                    <a:lnTo>
                      <a:pt x="443" y="53"/>
                    </a:lnTo>
                    <a:lnTo>
                      <a:pt x="441" y="53"/>
                    </a:lnTo>
                    <a:lnTo>
                      <a:pt x="438" y="53"/>
                    </a:lnTo>
                    <a:lnTo>
                      <a:pt x="436" y="53"/>
                    </a:lnTo>
                    <a:lnTo>
                      <a:pt x="432" y="53"/>
                    </a:lnTo>
                    <a:lnTo>
                      <a:pt x="430" y="52"/>
                    </a:lnTo>
                    <a:lnTo>
                      <a:pt x="426" y="52"/>
                    </a:lnTo>
                    <a:lnTo>
                      <a:pt x="423" y="52"/>
                    </a:lnTo>
                    <a:lnTo>
                      <a:pt x="419" y="52"/>
                    </a:lnTo>
                    <a:lnTo>
                      <a:pt x="417" y="50"/>
                    </a:lnTo>
                    <a:lnTo>
                      <a:pt x="413" y="50"/>
                    </a:lnTo>
                    <a:lnTo>
                      <a:pt x="412" y="49"/>
                    </a:lnTo>
                    <a:lnTo>
                      <a:pt x="408" y="49"/>
                    </a:lnTo>
                    <a:lnTo>
                      <a:pt x="406" y="47"/>
                    </a:lnTo>
                    <a:lnTo>
                      <a:pt x="404" y="47"/>
                    </a:lnTo>
                    <a:lnTo>
                      <a:pt x="403" y="46"/>
                    </a:lnTo>
                    <a:lnTo>
                      <a:pt x="403" y="46"/>
                    </a:lnTo>
                    <a:lnTo>
                      <a:pt x="403" y="44"/>
                    </a:lnTo>
                    <a:lnTo>
                      <a:pt x="403" y="43"/>
                    </a:lnTo>
                    <a:lnTo>
                      <a:pt x="403" y="41"/>
                    </a:lnTo>
                    <a:lnTo>
                      <a:pt x="403" y="39"/>
                    </a:lnTo>
                    <a:lnTo>
                      <a:pt x="404" y="37"/>
                    </a:lnTo>
                    <a:lnTo>
                      <a:pt x="404" y="37"/>
                    </a:lnTo>
                    <a:lnTo>
                      <a:pt x="404" y="36"/>
                    </a:lnTo>
                    <a:lnTo>
                      <a:pt x="404" y="34"/>
                    </a:lnTo>
                    <a:lnTo>
                      <a:pt x="406" y="32"/>
                    </a:lnTo>
                    <a:lnTo>
                      <a:pt x="404" y="32"/>
                    </a:lnTo>
                    <a:lnTo>
                      <a:pt x="404" y="30"/>
                    </a:lnTo>
                    <a:lnTo>
                      <a:pt x="403" y="30"/>
                    </a:lnTo>
                    <a:lnTo>
                      <a:pt x="403" y="29"/>
                    </a:lnTo>
                    <a:lnTo>
                      <a:pt x="400" y="30"/>
                    </a:lnTo>
                    <a:lnTo>
                      <a:pt x="396" y="30"/>
                    </a:lnTo>
                    <a:lnTo>
                      <a:pt x="391" y="30"/>
                    </a:lnTo>
                    <a:lnTo>
                      <a:pt x="385" y="30"/>
                    </a:lnTo>
                    <a:lnTo>
                      <a:pt x="377" y="32"/>
                    </a:lnTo>
                    <a:lnTo>
                      <a:pt x="370" y="32"/>
                    </a:lnTo>
                    <a:lnTo>
                      <a:pt x="360" y="32"/>
                    </a:lnTo>
                    <a:lnTo>
                      <a:pt x="353" y="32"/>
                    </a:lnTo>
                    <a:lnTo>
                      <a:pt x="344" y="34"/>
                    </a:lnTo>
                    <a:lnTo>
                      <a:pt x="335" y="34"/>
                    </a:lnTo>
                    <a:lnTo>
                      <a:pt x="326" y="35"/>
                    </a:lnTo>
                    <a:lnTo>
                      <a:pt x="320" y="35"/>
                    </a:lnTo>
                    <a:lnTo>
                      <a:pt x="312" y="36"/>
                    </a:lnTo>
                    <a:lnTo>
                      <a:pt x="307" y="36"/>
                    </a:lnTo>
                    <a:lnTo>
                      <a:pt x="304" y="36"/>
                    </a:lnTo>
                    <a:lnTo>
                      <a:pt x="302" y="36"/>
                    </a:lnTo>
                    <a:lnTo>
                      <a:pt x="300" y="37"/>
                    </a:lnTo>
                    <a:lnTo>
                      <a:pt x="299" y="39"/>
                    </a:lnTo>
                    <a:lnTo>
                      <a:pt x="299" y="41"/>
                    </a:lnTo>
                    <a:lnTo>
                      <a:pt x="300" y="42"/>
                    </a:lnTo>
                    <a:lnTo>
                      <a:pt x="300" y="44"/>
                    </a:lnTo>
                    <a:lnTo>
                      <a:pt x="301" y="46"/>
                    </a:lnTo>
                    <a:lnTo>
                      <a:pt x="302" y="47"/>
                    </a:lnTo>
                    <a:lnTo>
                      <a:pt x="304" y="49"/>
                    </a:lnTo>
                    <a:lnTo>
                      <a:pt x="304" y="50"/>
                    </a:lnTo>
                    <a:lnTo>
                      <a:pt x="305" y="52"/>
                    </a:lnTo>
                    <a:lnTo>
                      <a:pt x="305" y="54"/>
                    </a:lnTo>
                    <a:lnTo>
                      <a:pt x="307" y="56"/>
                    </a:lnTo>
                    <a:lnTo>
                      <a:pt x="307" y="58"/>
                    </a:lnTo>
                    <a:lnTo>
                      <a:pt x="307" y="59"/>
                    </a:lnTo>
                    <a:lnTo>
                      <a:pt x="305" y="61"/>
                    </a:lnTo>
                    <a:lnTo>
                      <a:pt x="305" y="61"/>
                    </a:lnTo>
                    <a:lnTo>
                      <a:pt x="304" y="63"/>
                    </a:lnTo>
                    <a:lnTo>
                      <a:pt x="302" y="63"/>
                    </a:lnTo>
                    <a:lnTo>
                      <a:pt x="300" y="64"/>
                    </a:lnTo>
                    <a:lnTo>
                      <a:pt x="299" y="64"/>
                    </a:lnTo>
                    <a:lnTo>
                      <a:pt x="297" y="65"/>
                    </a:lnTo>
                    <a:lnTo>
                      <a:pt x="295" y="65"/>
                    </a:lnTo>
                    <a:lnTo>
                      <a:pt x="294" y="65"/>
                    </a:lnTo>
                    <a:lnTo>
                      <a:pt x="294" y="65"/>
                    </a:lnTo>
                    <a:lnTo>
                      <a:pt x="292" y="66"/>
                    </a:lnTo>
                    <a:lnTo>
                      <a:pt x="290" y="66"/>
                    </a:lnTo>
                    <a:lnTo>
                      <a:pt x="288" y="66"/>
                    </a:lnTo>
                    <a:lnTo>
                      <a:pt x="288" y="66"/>
                    </a:lnTo>
                    <a:lnTo>
                      <a:pt x="286" y="66"/>
                    </a:lnTo>
                    <a:lnTo>
                      <a:pt x="284" y="66"/>
                    </a:lnTo>
                    <a:lnTo>
                      <a:pt x="282" y="66"/>
                    </a:lnTo>
                    <a:lnTo>
                      <a:pt x="282" y="64"/>
                    </a:lnTo>
                    <a:lnTo>
                      <a:pt x="279" y="64"/>
                    </a:lnTo>
                    <a:lnTo>
                      <a:pt x="277" y="62"/>
                    </a:lnTo>
                    <a:lnTo>
                      <a:pt x="276" y="60"/>
                    </a:lnTo>
                    <a:lnTo>
                      <a:pt x="276" y="57"/>
                    </a:lnTo>
                    <a:lnTo>
                      <a:pt x="274" y="56"/>
                    </a:lnTo>
                    <a:lnTo>
                      <a:pt x="274" y="52"/>
                    </a:lnTo>
                    <a:lnTo>
                      <a:pt x="274" y="49"/>
                    </a:lnTo>
                    <a:lnTo>
                      <a:pt x="274" y="45"/>
                    </a:lnTo>
                    <a:lnTo>
                      <a:pt x="273" y="43"/>
                    </a:lnTo>
                    <a:lnTo>
                      <a:pt x="273" y="39"/>
                    </a:lnTo>
                    <a:lnTo>
                      <a:pt x="272" y="37"/>
                    </a:lnTo>
                    <a:lnTo>
                      <a:pt x="272" y="34"/>
                    </a:lnTo>
                    <a:lnTo>
                      <a:pt x="270" y="32"/>
                    </a:lnTo>
                    <a:lnTo>
                      <a:pt x="269" y="29"/>
                    </a:lnTo>
                    <a:lnTo>
                      <a:pt x="267" y="29"/>
                    </a:lnTo>
                    <a:lnTo>
                      <a:pt x="265" y="27"/>
                    </a:lnTo>
                    <a:lnTo>
                      <a:pt x="262" y="27"/>
                    </a:lnTo>
                    <a:lnTo>
                      <a:pt x="260" y="27"/>
                    </a:lnTo>
                    <a:lnTo>
                      <a:pt x="256" y="27"/>
                    </a:lnTo>
                    <a:lnTo>
                      <a:pt x="254" y="26"/>
                    </a:lnTo>
                    <a:lnTo>
                      <a:pt x="250" y="26"/>
                    </a:lnTo>
                    <a:lnTo>
                      <a:pt x="247" y="26"/>
                    </a:lnTo>
                    <a:lnTo>
                      <a:pt x="244" y="26"/>
                    </a:lnTo>
                    <a:lnTo>
                      <a:pt x="240" y="25"/>
                    </a:lnTo>
                    <a:lnTo>
                      <a:pt x="237" y="26"/>
                    </a:lnTo>
                    <a:lnTo>
                      <a:pt x="233" y="26"/>
                    </a:lnTo>
                    <a:lnTo>
                      <a:pt x="229" y="26"/>
                    </a:lnTo>
                    <a:lnTo>
                      <a:pt x="226" y="26"/>
                    </a:lnTo>
                    <a:lnTo>
                      <a:pt x="222" y="27"/>
                    </a:lnTo>
                    <a:lnTo>
                      <a:pt x="220" y="27"/>
                    </a:lnTo>
                    <a:lnTo>
                      <a:pt x="217" y="27"/>
                    </a:lnTo>
                    <a:lnTo>
                      <a:pt x="216" y="27"/>
                    </a:lnTo>
                    <a:lnTo>
                      <a:pt x="214" y="29"/>
                    </a:lnTo>
                    <a:lnTo>
                      <a:pt x="214" y="29"/>
                    </a:lnTo>
                    <a:lnTo>
                      <a:pt x="212" y="31"/>
                    </a:lnTo>
                    <a:lnTo>
                      <a:pt x="212" y="31"/>
                    </a:lnTo>
                    <a:lnTo>
                      <a:pt x="211" y="33"/>
                    </a:lnTo>
                    <a:lnTo>
                      <a:pt x="211" y="35"/>
                    </a:lnTo>
                    <a:lnTo>
                      <a:pt x="211" y="37"/>
                    </a:lnTo>
                    <a:lnTo>
                      <a:pt x="211" y="37"/>
                    </a:lnTo>
                    <a:lnTo>
                      <a:pt x="209" y="39"/>
                    </a:lnTo>
                    <a:lnTo>
                      <a:pt x="209" y="40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8" y="46"/>
                    </a:lnTo>
                    <a:lnTo>
                      <a:pt x="208" y="46"/>
                    </a:lnTo>
                    <a:lnTo>
                      <a:pt x="207" y="47"/>
                    </a:lnTo>
                    <a:lnTo>
                      <a:pt x="207" y="47"/>
                    </a:lnTo>
                    <a:lnTo>
                      <a:pt x="206" y="47"/>
                    </a:lnTo>
                    <a:lnTo>
                      <a:pt x="204" y="47"/>
                    </a:lnTo>
                    <a:lnTo>
                      <a:pt x="202" y="47"/>
                    </a:lnTo>
                    <a:lnTo>
                      <a:pt x="200" y="47"/>
                    </a:lnTo>
                    <a:lnTo>
                      <a:pt x="198" y="47"/>
                    </a:lnTo>
                    <a:lnTo>
                      <a:pt x="196" y="47"/>
                    </a:lnTo>
                    <a:lnTo>
                      <a:pt x="194" y="47"/>
                    </a:lnTo>
                    <a:lnTo>
                      <a:pt x="192" y="47"/>
                    </a:lnTo>
                    <a:lnTo>
                      <a:pt x="189" y="47"/>
                    </a:lnTo>
                    <a:lnTo>
                      <a:pt x="188" y="47"/>
                    </a:lnTo>
                    <a:lnTo>
                      <a:pt x="186" y="47"/>
                    </a:lnTo>
                    <a:lnTo>
                      <a:pt x="184" y="46"/>
                    </a:lnTo>
                    <a:lnTo>
                      <a:pt x="182" y="46"/>
                    </a:lnTo>
                    <a:lnTo>
                      <a:pt x="180" y="46"/>
                    </a:lnTo>
                    <a:lnTo>
                      <a:pt x="179" y="46"/>
                    </a:lnTo>
                    <a:lnTo>
                      <a:pt x="179" y="44"/>
                    </a:lnTo>
                    <a:lnTo>
                      <a:pt x="177" y="44"/>
                    </a:lnTo>
                    <a:lnTo>
                      <a:pt x="176" y="43"/>
                    </a:lnTo>
                    <a:lnTo>
                      <a:pt x="176" y="43"/>
                    </a:lnTo>
                    <a:lnTo>
                      <a:pt x="176" y="41"/>
                    </a:lnTo>
                    <a:lnTo>
                      <a:pt x="176" y="41"/>
                    </a:lnTo>
                    <a:lnTo>
                      <a:pt x="176" y="39"/>
                    </a:lnTo>
                    <a:lnTo>
                      <a:pt x="176" y="37"/>
                    </a:lnTo>
                    <a:lnTo>
                      <a:pt x="178" y="36"/>
                    </a:lnTo>
                    <a:lnTo>
                      <a:pt x="178" y="36"/>
                    </a:lnTo>
                    <a:lnTo>
                      <a:pt x="178" y="34"/>
                    </a:lnTo>
                    <a:lnTo>
                      <a:pt x="178" y="32"/>
                    </a:lnTo>
                    <a:lnTo>
                      <a:pt x="178" y="30"/>
                    </a:lnTo>
                    <a:lnTo>
                      <a:pt x="177" y="30"/>
                    </a:lnTo>
                    <a:lnTo>
                      <a:pt x="177" y="29"/>
                    </a:lnTo>
                    <a:lnTo>
                      <a:pt x="176" y="29"/>
                    </a:lnTo>
                    <a:lnTo>
                      <a:pt x="176" y="27"/>
                    </a:lnTo>
                    <a:lnTo>
                      <a:pt x="172" y="27"/>
                    </a:lnTo>
                    <a:lnTo>
                      <a:pt x="170" y="27"/>
                    </a:lnTo>
                    <a:lnTo>
                      <a:pt x="167" y="27"/>
                    </a:lnTo>
                    <a:lnTo>
                      <a:pt x="163" y="26"/>
                    </a:lnTo>
                    <a:lnTo>
                      <a:pt x="158" y="26"/>
                    </a:lnTo>
                    <a:lnTo>
                      <a:pt x="153" y="26"/>
                    </a:lnTo>
                    <a:lnTo>
                      <a:pt x="148" y="26"/>
                    </a:lnTo>
                    <a:lnTo>
                      <a:pt x="143" y="26"/>
                    </a:lnTo>
                    <a:lnTo>
                      <a:pt x="138" y="28"/>
                    </a:lnTo>
                    <a:lnTo>
                      <a:pt x="132" y="28"/>
                    </a:lnTo>
                    <a:lnTo>
                      <a:pt x="126" y="28"/>
                    </a:lnTo>
                    <a:lnTo>
                      <a:pt x="122" y="28"/>
                    </a:lnTo>
                    <a:lnTo>
                      <a:pt x="118" y="29"/>
                    </a:lnTo>
                    <a:lnTo>
                      <a:pt x="115" y="29"/>
                    </a:lnTo>
                    <a:lnTo>
                      <a:pt x="113" y="29"/>
                    </a:lnTo>
                    <a:lnTo>
                      <a:pt x="112" y="29"/>
                    </a:lnTo>
                    <a:lnTo>
                      <a:pt x="108" y="30"/>
                    </a:lnTo>
                    <a:lnTo>
                      <a:pt x="106" y="30"/>
                    </a:lnTo>
                    <a:lnTo>
                      <a:pt x="106" y="32"/>
                    </a:lnTo>
                    <a:lnTo>
                      <a:pt x="106" y="32"/>
                    </a:lnTo>
                    <a:lnTo>
                      <a:pt x="106" y="34"/>
                    </a:lnTo>
                    <a:lnTo>
                      <a:pt x="106" y="36"/>
                    </a:lnTo>
                    <a:lnTo>
                      <a:pt x="107" y="38"/>
                    </a:lnTo>
                    <a:lnTo>
                      <a:pt x="109" y="38"/>
                    </a:lnTo>
                    <a:lnTo>
                      <a:pt x="109" y="40"/>
                    </a:lnTo>
                    <a:lnTo>
                      <a:pt x="111" y="42"/>
                    </a:lnTo>
                    <a:lnTo>
                      <a:pt x="111" y="44"/>
                    </a:lnTo>
                    <a:lnTo>
                      <a:pt x="112" y="45"/>
                    </a:lnTo>
                    <a:lnTo>
                      <a:pt x="112" y="47"/>
                    </a:lnTo>
                    <a:lnTo>
                      <a:pt x="112" y="47"/>
                    </a:lnTo>
                    <a:lnTo>
                      <a:pt x="110" y="47"/>
                    </a:lnTo>
                    <a:lnTo>
                      <a:pt x="110" y="47"/>
                    </a:lnTo>
                    <a:lnTo>
                      <a:pt x="105" y="48"/>
                    </a:lnTo>
                    <a:lnTo>
                      <a:pt x="100" y="48"/>
                    </a:lnTo>
                    <a:lnTo>
                      <a:pt x="93" y="48"/>
                    </a:lnTo>
                    <a:lnTo>
                      <a:pt x="86" y="47"/>
                    </a:lnTo>
                    <a:lnTo>
                      <a:pt x="76" y="47"/>
                    </a:lnTo>
                    <a:lnTo>
                      <a:pt x="68" y="46"/>
                    </a:lnTo>
                    <a:lnTo>
                      <a:pt x="58" y="45"/>
                    </a:lnTo>
                    <a:lnTo>
                      <a:pt x="49" y="43"/>
                    </a:lnTo>
                    <a:lnTo>
                      <a:pt x="39" y="43"/>
                    </a:lnTo>
                    <a:lnTo>
                      <a:pt x="30" y="41"/>
                    </a:lnTo>
                    <a:lnTo>
                      <a:pt x="22" y="41"/>
                    </a:lnTo>
                    <a:lnTo>
                      <a:pt x="14" y="39"/>
                    </a:lnTo>
                    <a:lnTo>
                      <a:pt x="8" y="39"/>
                    </a:lnTo>
                    <a:lnTo>
                      <a:pt x="4" y="39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52"/>
                    </a:lnTo>
                    <a:lnTo>
                      <a:pt x="0" y="65"/>
                    </a:lnTo>
                    <a:lnTo>
                      <a:pt x="0" y="78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0" y="118"/>
                    </a:lnTo>
                    <a:lnTo>
                      <a:pt x="0" y="132"/>
                    </a:lnTo>
                    <a:lnTo>
                      <a:pt x="0" y="143"/>
                    </a:lnTo>
                    <a:lnTo>
                      <a:pt x="0" y="155"/>
                    </a:lnTo>
                    <a:lnTo>
                      <a:pt x="0" y="165"/>
                    </a:lnTo>
                    <a:lnTo>
                      <a:pt x="0" y="175"/>
                    </a:lnTo>
                    <a:lnTo>
                      <a:pt x="0" y="184"/>
                    </a:lnTo>
                    <a:lnTo>
                      <a:pt x="0" y="192"/>
                    </a:lnTo>
                    <a:lnTo>
                      <a:pt x="0" y="197"/>
                    </a:lnTo>
                    <a:lnTo>
                      <a:pt x="0" y="202"/>
                    </a:lnTo>
                    <a:lnTo>
                      <a:pt x="0" y="203"/>
                    </a:lnTo>
                    <a:lnTo>
                      <a:pt x="1" y="205"/>
                    </a:lnTo>
                    <a:lnTo>
                      <a:pt x="5" y="206"/>
                    </a:lnTo>
                    <a:lnTo>
                      <a:pt x="11" y="207"/>
                    </a:lnTo>
                    <a:lnTo>
                      <a:pt x="19" y="207"/>
                    </a:lnTo>
                    <a:lnTo>
                      <a:pt x="28" y="208"/>
                    </a:lnTo>
                    <a:lnTo>
                      <a:pt x="39" y="208"/>
                    </a:lnTo>
                    <a:lnTo>
                      <a:pt x="51" y="208"/>
                    </a:lnTo>
                    <a:lnTo>
                      <a:pt x="64" y="208"/>
                    </a:lnTo>
                    <a:lnTo>
                      <a:pt x="78" y="208"/>
                    </a:lnTo>
                    <a:lnTo>
                      <a:pt x="92" y="208"/>
                    </a:lnTo>
                    <a:lnTo>
                      <a:pt x="106" y="208"/>
                    </a:lnTo>
                    <a:lnTo>
                      <a:pt x="121" y="206"/>
                    </a:lnTo>
                    <a:lnTo>
                      <a:pt x="134" y="206"/>
                    </a:lnTo>
                    <a:lnTo>
                      <a:pt x="149" y="206"/>
                    </a:lnTo>
                    <a:lnTo>
                      <a:pt x="162" y="206"/>
                    </a:lnTo>
                    <a:lnTo>
                      <a:pt x="176" y="205"/>
                    </a:lnTo>
                    <a:lnTo>
                      <a:pt x="181" y="208"/>
                    </a:lnTo>
                    <a:lnTo>
                      <a:pt x="188" y="210"/>
                    </a:lnTo>
                    <a:lnTo>
                      <a:pt x="196" y="212"/>
                    </a:lnTo>
                    <a:lnTo>
                      <a:pt x="203" y="213"/>
                    </a:lnTo>
                    <a:lnTo>
                      <a:pt x="210" y="215"/>
                    </a:lnTo>
                    <a:lnTo>
                      <a:pt x="218" y="215"/>
                    </a:lnTo>
                    <a:lnTo>
                      <a:pt x="226" y="216"/>
                    </a:lnTo>
                    <a:lnTo>
                      <a:pt x="234" y="216"/>
                    </a:lnTo>
                    <a:lnTo>
                      <a:pt x="240" y="217"/>
                    </a:lnTo>
                    <a:lnTo>
                      <a:pt x="247" y="217"/>
                    </a:lnTo>
                    <a:lnTo>
                      <a:pt x="253" y="217"/>
                    </a:lnTo>
                    <a:lnTo>
                      <a:pt x="258" y="217"/>
                    </a:lnTo>
                    <a:lnTo>
                      <a:pt x="262" y="217"/>
                    </a:lnTo>
                    <a:lnTo>
                      <a:pt x="266" y="217"/>
                    </a:lnTo>
                    <a:lnTo>
                      <a:pt x="267" y="217"/>
                    </a:lnTo>
                    <a:lnTo>
                      <a:pt x="268" y="217"/>
                    </a:lnTo>
                    <a:lnTo>
                      <a:pt x="268" y="217"/>
                    </a:lnTo>
                    <a:lnTo>
                      <a:pt x="268" y="216"/>
                    </a:lnTo>
                    <a:lnTo>
                      <a:pt x="269" y="214"/>
                    </a:lnTo>
                    <a:lnTo>
                      <a:pt x="271" y="210"/>
                    </a:lnTo>
                    <a:lnTo>
                      <a:pt x="272" y="207"/>
                    </a:lnTo>
                    <a:lnTo>
                      <a:pt x="274" y="203"/>
                    </a:lnTo>
                    <a:lnTo>
                      <a:pt x="276" y="198"/>
                    </a:lnTo>
                    <a:lnTo>
                      <a:pt x="278" y="193"/>
                    </a:lnTo>
                    <a:lnTo>
                      <a:pt x="280" y="189"/>
                    </a:lnTo>
                    <a:lnTo>
                      <a:pt x="282" y="184"/>
                    </a:lnTo>
                    <a:lnTo>
                      <a:pt x="284" y="180"/>
                    </a:lnTo>
                    <a:lnTo>
                      <a:pt x="285" y="174"/>
                    </a:lnTo>
                    <a:lnTo>
                      <a:pt x="286" y="170"/>
                    </a:lnTo>
                    <a:lnTo>
                      <a:pt x="288" y="166"/>
                    </a:lnTo>
                    <a:lnTo>
                      <a:pt x="289" y="163"/>
                    </a:lnTo>
                    <a:lnTo>
                      <a:pt x="291" y="159"/>
                    </a:lnTo>
                    <a:lnTo>
                      <a:pt x="292" y="154"/>
                    </a:lnTo>
                    <a:lnTo>
                      <a:pt x="295" y="146"/>
                    </a:lnTo>
                    <a:lnTo>
                      <a:pt x="299" y="141"/>
                    </a:lnTo>
                    <a:lnTo>
                      <a:pt x="305" y="134"/>
                    </a:lnTo>
                    <a:lnTo>
                      <a:pt x="312" y="129"/>
                    </a:lnTo>
                    <a:lnTo>
                      <a:pt x="322" y="124"/>
                    </a:lnTo>
                    <a:lnTo>
                      <a:pt x="333" y="118"/>
                    </a:lnTo>
                    <a:lnTo>
                      <a:pt x="345" y="113"/>
                    </a:lnTo>
                    <a:lnTo>
                      <a:pt x="358" y="109"/>
                    </a:lnTo>
                    <a:lnTo>
                      <a:pt x="373" y="104"/>
                    </a:lnTo>
                    <a:lnTo>
                      <a:pt x="388" y="100"/>
                    </a:lnTo>
                    <a:lnTo>
                      <a:pt x="405" y="95"/>
                    </a:lnTo>
                    <a:lnTo>
                      <a:pt x="423" y="91"/>
                    </a:lnTo>
                    <a:lnTo>
                      <a:pt x="443" y="87"/>
                    </a:lnTo>
                    <a:lnTo>
                      <a:pt x="463" y="84"/>
                    </a:lnTo>
                    <a:lnTo>
                      <a:pt x="484" y="78"/>
                    </a:lnTo>
                    <a:lnTo>
                      <a:pt x="500" y="77"/>
                    </a:lnTo>
                    <a:lnTo>
                      <a:pt x="519" y="74"/>
                    </a:lnTo>
                    <a:lnTo>
                      <a:pt x="541" y="70"/>
                    </a:lnTo>
                    <a:lnTo>
                      <a:pt x="567" y="67"/>
                    </a:lnTo>
                    <a:lnTo>
                      <a:pt x="594" y="64"/>
                    </a:lnTo>
                    <a:lnTo>
                      <a:pt x="622" y="60"/>
                    </a:lnTo>
                    <a:lnTo>
                      <a:pt x="651" y="56"/>
                    </a:lnTo>
                    <a:lnTo>
                      <a:pt x="681" y="52"/>
                    </a:lnTo>
                    <a:lnTo>
                      <a:pt x="708" y="50"/>
                    </a:lnTo>
                    <a:lnTo>
                      <a:pt x="735" y="47"/>
                    </a:lnTo>
                    <a:lnTo>
                      <a:pt x="760" y="44"/>
                    </a:lnTo>
                    <a:lnTo>
                      <a:pt x="782" y="40"/>
                    </a:lnTo>
                    <a:lnTo>
                      <a:pt x="798" y="39"/>
                    </a:lnTo>
                    <a:lnTo>
                      <a:pt x="813" y="37"/>
                    </a:lnTo>
                    <a:lnTo>
                      <a:pt x="822" y="37"/>
                    </a:lnTo>
                    <a:lnTo>
                      <a:pt x="825" y="36"/>
                    </a:lnTo>
                    <a:lnTo>
                      <a:pt x="828" y="36"/>
                    </a:lnTo>
                    <a:lnTo>
                      <a:pt x="831" y="36"/>
                    </a:lnTo>
                    <a:lnTo>
                      <a:pt x="835" y="36"/>
                    </a:lnTo>
                    <a:lnTo>
                      <a:pt x="841" y="34"/>
                    </a:lnTo>
                    <a:lnTo>
                      <a:pt x="846" y="34"/>
                    </a:lnTo>
                    <a:lnTo>
                      <a:pt x="851" y="34"/>
                    </a:lnTo>
                    <a:lnTo>
                      <a:pt x="857" y="34"/>
                    </a:lnTo>
                    <a:lnTo>
                      <a:pt x="862" y="32"/>
                    </a:lnTo>
                    <a:lnTo>
                      <a:pt x="866" y="32"/>
                    </a:lnTo>
                    <a:lnTo>
                      <a:pt x="872" y="32"/>
                    </a:lnTo>
                    <a:lnTo>
                      <a:pt x="876" y="32"/>
                    </a:lnTo>
                    <a:lnTo>
                      <a:pt x="882" y="30"/>
                    </a:lnTo>
                    <a:lnTo>
                      <a:pt x="885" y="30"/>
                    </a:lnTo>
                    <a:lnTo>
                      <a:pt x="889" y="29"/>
                    </a:lnTo>
                    <a:lnTo>
                      <a:pt x="891" y="29"/>
                    </a:lnTo>
                    <a:lnTo>
                      <a:pt x="894" y="27"/>
                    </a:lnTo>
                    <a:lnTo>
                      <a:pt x="894" y="2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021040" y="5442120"/>
              <a:ext cx="1609560" cy="979200"/>
              <a:chOff x="2021040" y="5442120"/>
              <a:chExt cx="1609560" cy="979200"/>
            </a:xfrm>
          </p:grpSpPr>
          <p:sp>
            <p:nvSpPr>
              <p:cNvPr id="59" name=""/>
              <p:cNvSpPr/>
              <p:nvPr/>
            </p:nvSpPr>
            <p:spPr>
              <a:xfrm>
                <a:off x="2025720" y="5869080"/>
                <a:ext cx="552240" cy="552240"/>
              </a:xfrm>
              <a:custGeom>
                <a:avLst/>
                <a:gdLst/>
                <a:ahLst/>
                <a:rect l="l" t="t" r="r" b="b"/>
                <a:pathLst>
                  <a:path w="348" h="348">
                    <a:moveTo>
                      <a:pt x="0" y="17"/>
                    </a:moveTo>
                    <a:lnTo>
                      <a:pt x="292" y="0"/>
                    </a:lnTo>
                    <a:lnTo>
                      <a:pt x="338" y="89"/>
                    </a:lnTo>
                    <a:lnTo>
                      <a:pt x="347" y="294"/>
                    </a:lnTo>
                    <a:lnTo>
                      <a:pt x="9" y="34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b06a"/>
              </a:solidFill>
              <a:ln w="936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21040" y="5892840"/>
                <a:ext cx="556920" cy="183960"/>
              </a:xfrm>
              <a:custGeom>
                <a:avLst/>
                <a:gdLst/>
                <a:ahLst/>
                <a:rect l="l" t="t" r="r" b="b"/>
                <a:pathLst>
                  <a:path w="351" h="116">
                    <a:moveTo>
                      <a:pt x="0" y="0"/>
                    </a:moveTo>
                    <a:lnTo>
                      <a:pt x="301" y="0"/>
                    </a:lnTo>
                    <a:lnTo>
                      <a:pt x="350" y="86"/>
                    </a:lnTo>
                    <a:lnTo>
                      <a:pt x="6" y="11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82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58920" y="5442120"/>
                <a:ext cx="414360" cy="61920"/>
              </a:xfrm>
              <a:custGeom>
                <a:avLst/>
                <a:gdLst/>
                <a:ahLst/>
                <a:rect l="l" t="t" r="r" b="b"/>
                <a:pathLst>
                  <a:path w="261" h="39">
                    <a:moveTo>
                      <a:pt x="0" y="15"/>
                    </a:moveTo>
                    <a:lnTo>
                      <a:pt x="147" y="0"/>
                    </a:lnTo>
                    <a:lnTo>
                      <a:pt x="260" y="21"/>
                    </a:lnTo>
                    <a:lnTo>
                      <a:pt x="34" y="38"/>
                    </a:lnTo>
                    <a:lnTo>
                      <a:pt x="6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82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163600" y="5465880"/>
                <a:ext cx="414360" cy="174600"/>
              </a:xfrm>
              <a:custGeom>
                <a:avLst/>
                <a:gdLst/>
                <a:ahLst/>
                <a:rect l="l" t="t" r="r" b="b"/>
                <a:pathLst>
                  <a:path w="261" h="110">
                    <a:moveTo>
                      <a:pt x="0" y="0"/>
                    </a:moveTo>
                    <a:lnTo>
                      <a:pt x="3" y="72"/>
                    </a:lnTo>
                    <a:lnTo>
                      <a:pt x="46" y="109"/>
                    </a:lnTo>
                    <a:lnTo>
                      <a:pt x="260" y="75"/>
                    </a:lnTo>
                    <a:lnTo>
                      <a:pt x="257" y="6"/>
                    </a:lnTo>
                    <a:lnTo>
                      <a:pt x="31" y="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175"/>
              </a:solidFill>
              <a:ln w="936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28840" y="5570640"/>
                <a:ext cx="289080" cy="56880"/>
              </a:xfrm>
              <a:custGeom>
                <a:avLst/>
                <a:gdLst/>
                <a:ahLst/>
                <a:rect l="l" t="t" r="r" b="b"/>
                <a:pathLst>
                  <a:path w="182" h="36">
                    <a:moveTo>
                      <a:pt x="0" y="11"/>
                    </a:moveTo>
                    <a:lnTo>
                      <a:pt x="101" y="0"/>
                    </a:lnTo>
                    <a:lnTo>
                      <a:pt x="181" y="20"/>
                    </a:lnTo>
                    <a:lnTo>
                      <a:pt x="23" y="35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82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28840" y="5594400"/>
                <a:ext cx="295200" cy="166680"/>
              </a:xfrm>
              <a:custGeom>
                <a:avLst/>
                <a:gdLst/>
                <a:ahLst/>
                <a:rect l="l" t="t" r="r" b="b"/>
                <a:pathLst>
                  <a:path w="186" h="105">
                    <a:moveTo>
                      <a:pt x="0" y="0"/>
                    </a:moveTo>
                    <a:lnTo>
                      <a:pt x="3" y="69"/>
                    </a:lnTo>
                    <a:lnTo>
                      <a:pt x="32" y="104"/>
                    </a:lnTo>
                    <a:lnTo>
                      <a:pt x="185" y="69"/>
                    </a:lnTo>
                    <a:lnTo>
                      <a:pt x="181" y="5"/>
                    </a:lnTo>
                    <a:lnTo>
                      <a:pt x="23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175"/>
              </a:solidFill>
              <a:ln w="936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55920" y="5616720"/>
                <a:ext cx="465120" cy="74520"/>
              </a:xfrm>
              <a:custGeom>
                <a:avLst/>
                <a:gdLst/>
                <a:ahLst/>
                <a:rect l="l" t="t" r="r" b="b"/>
                <a:pathLst>
                  <a:path w="293" h="47">
                    <a:moveTo>
                      <a:pt x="0" y="18"/>
                    </a:moveTo>
                    <a:lnTo>
                      <a:pt x="165" y="0"/>
                    </a:lnTo>
                    <a:lnTo>
                      <a:pt x="292" y="26"/>
                    </a:lnTo>
                    <a:lnTo>
                      <a:pt x="38" y="46"/>
                    </a:lnTo>
                    <a:lnTo>
                      <a:pt x="3" y="20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82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455920" y="5648400"/>
                <a:ext cx="474480" cy="217440"/>
              </a:xfrm>
              <a:custGeom>
                <a:avLst/>
                <a:gdLst/>
                <a:ahLst/>
                <a:rect l="l" t="t" r="r" b="b"/>
                <a:pathLst>
                  <a:path w="299" h="137">
                    <a:moveTo>
                      <a:pt x="0" y="0"/>
                    </a:moveTo>
                    <a:lnTo>
                      <a:pt x="0" y="90"/>
                    </a:lnTo>
                    <a:lnTo>
                      <a:pt x="55" y="136"/>
                    </a:lnTo>
                    <a:lnTo>
                      <a:pt x="298" y="90"/>
                    </a:lnTo>
                    <a:lnTo>
                      <a:pt x="292" y="9"/>
                    </a:lnTo>
                    <a:lnTo>
                      <a:pt x="38" y="2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175"/>
              </a:solidFill>
              <a:ln w="936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12880" y="5689440"/>
                <a:ext cx="614520" cy="108000"/>
              </a:xfrm>
              <a:custGeom>
                <a:avLst/>
                <a:gdLst/>
                <a:ahLst/>
                <a:rect l="l" t="t" r="r" b="b"/>
                <a:pathLst>
                  <a:path w="387" h="68">
                    <a:moveTo>
                      <a:pt x="0" y="26"/>
                    </a:moveTo>
                    <a:lnTo>
                      <a:pt x="216" y="0"/>
                    </a:lnTo>
                    <a:lnTo>
                      <a:pt x="386" y="38"/>
                    </a:lnTo>
                    <a:lnTo>
                      <a:pt x="48" y="67"/>
                    </a:lnTo>
                    <a:lnTo>
                      <a:pt x="2" y="29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82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08200" y="5730840"/>
                <a:ext cx="628560" cy="318960"/>
              </a:xfrm>
              <a:custGeom>
                <a:avLst/>
                <a:gdLst/>
                <a:ahLst/>
                <a:rect l="l" t="t" r="r" b="b"/>
                <a:pathLst>
                  <a:path w="396" h="201">
                    <a:moveTo>
                      <a:pt x="0" y="0"/>
                    </a:moveTo>
                    <a:lnTo>
                      <a:pt x="3" y="124"/>
                    </a:lnTo>
                    <a:lnTo>
                      <a:pt x="75" y="200"/>
                    </a:lnTo>
                    <a:lnTo>
                      <a:pt x="395" y="133"/>
                    </a:lnTo>
                    <a:lnTo>
                      <a:pt x="389" y="12"/>
                    </a:lnTo>
                    <a:lnTo>
                      <a:pt x="51" y="4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175"/>
              </a:solidFill>
              <a:ln w="936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05120" y="5762520"/>
                <a:ext cx="812880" cy="190440"/>
              </a:xfrm>
              <a:custGeom>
                <a:avLst/>
                <a:gdLst/>
                <a:ahLst/>
                <a:rect l="l" t="t" r="r" b="b"/>
                <a:pathLst>
                  <a:path w="512" h="120">
                    <a:moveTo>
                      <a:pt x="0" y="46"/>
                    </a:moveTo>
                    <a:lnTo>
                      <a:pt x="291" y="0"/>
                    </a:lnTo>
                    <a:lnTo>
                      <a:pt x="511" y="67"/>
                    </a:lnTo>
                    <a:lnTo>
                      <a:pt x="69" y="119"/>
                    </a:lnTo>
                    <a:lnTo>
                      <a:pt x="9" y="52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82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805120" y="5835600"/>
                <a:ext cx="825480" cy="560520"/>
              </a:xfrm>
              <a:custGeom>
                <a:avLst/>
                <a:gdLst/>
                <a:ahLst/>
                <a:rect l="l" t="t" r="r" b="b"/>
                <a:pathLst>
                  <a:path w="520" h="353">
                    <a:moveTo>
                      <a:pt x="0" y="0"/>
                    </a:moveTo>
                    <a:lnTo>
                      <a:pt x="14" y="237"/>
                    </a:lnTo>
                    <a:lnTo>
                      <a:pt x="98" y="352"/>
                    </a:lnTo>
                    <a:lnTo>
                      <a:pt x="519" y="231"/>
                    </a:lnTo>
                    <a:lnTo>
                      <a:pt x="511" y="21"/>
                    </a:lnTo>
                    <a:lnTo>
                      <a:pt x="69" y="7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175"/>
              </a:solidFill>
              <a:ln w="936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2936880" y="5987880"/>
              <a:ext cx="931680" cy="382680"/>
            </a:xfrm>
            <a:custGeom>
              <a:avLst/>
              <a:gdLst/>
              <a:ahLst/>
              <a:rect l="l" t="t" r="r" b="b"/>
              <a:pathLst>
                <a:path w="587" h="241">
                  <a:moveTo>
                    <a:pt x="27" y="55"/>
                  </a:moveTo>
                  <a:lnTo>
                    <a:pt x="0" y="240"/>
                  </a:lnTo>
                  <a:lnTo>
                    <a:pt x="586" y="240"/>
                  </a:lnTo>
                  <a:lnTo>
                    <a:pt x="586" y="23"/>
                  </a:lnTo>
                  <a:lnTo>
                    <a:pt x="388" y="0"/>
                  </a:lnTo>
                  <a:lnTo>
                    <a:pt x="289" y="0"/>
                  </a:lnTo>
                  <a:lnTo>
                    <a:pt x="27" y="55"/>
                  </a:lnTo>
                  <a:lnTo>
                    <a:pt x="27" y="55"/>
                  </a:lnTo>
                </a:path>
              </a:pathLst>
            </a:custGeom>
            <a:solidFill>
              <a:srgbClr val="c0c27c"/>
            </a:solidFill>
            <a:ln w="9360">
              <a:solidFill>
                <a:srgbClr val="c0c2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2994120" y="5859360"/>
              <a:ext cx="2295360" cy="263520"/>
              <a:chOff x="2994120" y="5859360"/>
              <a:chExt cx="2295360" cy="263520"/>
            </a:xfrm>
          </p:grpSpPr>
          <p:sp>
            <p:nvSpPr>
              <p:cNvPr id="73" name=""/>
              <p:cNvSpPr/>
              <p:nvPr/>
            </p:nvSpPr>
            <p:spPr>
              <a:xfrm>
                <a:off x="3749760" y="5859360"/>
                <a:ext cx="1539720" cy="263520"/>
              </a:xfrm>
              <a:custGeom>
                <a:avLst/>
                <a:gdLst/>
                <a:ahLst/>
                <a:rect l="l" t="t" r="r" b="b"/>
                <a:pathLst>
                  <a:path w="970" h="166">
                    <a:moveTo>
                      <a:pt x="0" y="113"/>
                    </a:moveTo>
                    <a:lnTo>
                      <a:pt x="8" y="113"/>
                    </a:lnTo>
                    <a:lnTo>
                      <a:pt x="568" y="35"/>
                    </a:lnTo>
                    <a:lnTo>
                      <a:pt x="568" y="6"/>
                    </a:lnTo>
                    <a:lnTo>
                      <a:pt x="597" y="6"/>
                    </a:lnTo>
                    <a:lnTo>
                      <a:pt x="631" y="6"/>
                    </a:lnTo>
                    <a:lnTo>
                      <a:pt x="660" y="29"/>
                    </a:lnTo>
                    <a:lnTo>
                      <a:pt x="911" y="0"/>
                    </a:lnTo>
                    <a:lnTo>
                      <a:pt x="969" y="21"/>
                    </a:lnTo>
                    <a:lnTo>
                      <a:pt x="931" y="43"/>
                    </a:lnTo>
                    <a:lnTo>
                      <a:pt x="793" y="58"/>
                    </a:lnTo>
                    <a:lnTo>
                      <a:pt x="16" y="165"/>
                    </a:lnTo>
                    <a:lnTo>
                      <a:pt x="0" y="11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d2b06a"/>
              </a:solidFill>
              <a:ln w="936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994120" y="5864400"/>
                <a:ext cx="874440" cy="252360"/>
              </a:xfrm>
              <a:custGeom>
                <a:avLst/>
                <a:gdLst/>
                <a:ahLst/>
                <a:rect l="l" t="t" r="r" b="b"/>
                <a:pathLst>
                  <a:path w="551" h="159">
                    <a:moveTo>
                      <a:pt x="135" y="20"/>
                    </a:moveTo>
                    <a:lnTo>
                      <a:pt x="0" y="133"/>
                    </a:lnTo>
                    <a:lnTo>
                      <a:pt x="144" y="158"/>
                    </a:lnTo>
                    <a:lnTo>
                      <a:pt x="158" y="138"/>
                    </a:lnTo>
                    <a:lnTo>
                      <a:pt x="144" y="127"/>
                    </a:lnTo>
                    <a:lnTo>
                      <a:pt x="158" y="112"/>
                    </a:lnTo>
                    <a:lnTo>
                      <a:pt x="190" y="118"/>
                    </a:lnTo>
                    <a:lnTo>
                      <a:pt x="253" y="78"/>
                    </a:lnTo>
                    <a:lnTo>
                      <a:pt x="268" y="92"/>
                    </a:lnTo>
                    <a:lnTo>
                      <a:pt x="352" y="87"/>
                    </a:lnTo>
                    <a:lnTo>
                      <a:pt x="426" y="127"/>
                    </a:lnTo>
                    <a:lnTo>
                      <a:pt x="550" y="104"/>
                    </a:lnTo>
                    <a:lnTo>
                      <a:pt x="398" y="26"/>
                    </a:lnTo>
                    <a:lnTo>
                      <a:pt x="392" y="0"/>
                    </a:lnTo>
                    <a:lnTo>
                      <a:pt x="135" y="20"/>
                    </a:lnTo>
                    <a:lnTo>
                      <a:pt x="135" y="20"/>
                    </a:lnTo>
                  </a:path>
                </a:pathLst>
              </a:custGeom>
              <a:solidFill>
                <a:srgbClr val="a1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flipV="1">
              <a:off x="2773440" y="6298560"/>
              <a:ext cx="160200" cy="5076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048120" y="6075360"/>
              <a:ext cx="77760" cy="163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360 h 163440"/>
                <a:gd name="textAreaBottom" fmla="*/ 164160 h 163440"/>
              </a:gdLst>
              <a:ahLst/>
              <a:rect l="textAreaLeft" t="textAreaTop" r="textAreaRight" b="textAreaBottom"/>
              <a:pathLst>
                <a:path w="21600" h="45290">
                  <a:moveTo>
                    <a:pt x="0" y="0"/>
                  </a:moveTo>
                  <a:arcTo wR="0" hR="0" stAng="16200000" swAng="-5400000"/>
                  <a:lnTo>
                    <a:pt x="0" y="45290"/>
                  </a:lnTo>
                  <a:arcTo wR="0" hR="0" stAng="10800000" swAng="-5400000"/>
                  <a:lnTo>
                    <a:pt x="21600" y="4529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336760" y="6066000"/>
              <a:ext cx="932040" cy="958680"/>
              <a:chOff x="2336760" y="6066000"/>
              <a:chExt cx="932040" cy="958680"/>
            </a:xfrm>
          </p:grpSpPr>
          <p:sp>
            <p:nvSpPr>
              <p:cNvPr id="78" name=""/>
              <p:cNvSpPr/>
              <p:nvPr/>
            </p:nvSpPr>
            <p:spPr>
              <a:xfrm>
                <a:off x="2336760" y="6162840"/>
                <a:ext cx="927000" cy="847440"/>
              </a:xfrm>
              <a:custGeom>
                <a:avLst/>
                <a:gdLst/>
                <a:ahLst/>
                <a:rect l="l" t="t" r="r" b="b"/>
                <a:pathLst>
                  <a:path w="584" h="534">
                    <a:moveTo>
                      <a:pt x="21" y="153"/>
                    </a:moveTo>
                    <a:lnTo>
                      <a:pt x="18" y="219"/>
                    </a:lnTo>
                    <a:lnTo>
                      <a:pt x="4" y="219"/>
                    </a:lnTo>
                    <a:lnTo>
                      <a:pt x="4" y="242"/>
                    </a:lnTo>
                    <a:lnTo>
                      <a:pt x="24" y="239"/>
                    </a:lnTo>
                    <a:lnTo>
                      <a:pt x="24" y="274"/>
                    </a:lnTo>
                    <a:lnTo>
                      <a:pt x="4" y="274"/>
                    </a:lnTo>
                    <a:lnTo>
                      <a:pt x="4" y="297"/>
                    </a:lnTo>
                    <a:lnTo>
                      <a:pt x="21" y="297"/>
                    </a:lnTo>
                    <a:lnTo>
                      <a:pt x="21" y="349"/>
                    </a:lnTo>
                    <a:lnTo>
                      <a:pt x="0" y="346"/>
                    </a:lnTo>
                    <a:lnTo>
                      <a:pt x="0" y="369"/>
                    </a:lnTo>
                    <a:lnTo>
                      <a:pt x="18" y="369"/>
                    </a:lnTo>
                    <a:lnTo>
                      <a:pt x="18" y="407"/>
                    </a:lnTo>
                    <a:lnTo>
                      <a:pt x="0" y="409"/>
                    </a:lnTo>
                    <a:lnTo>
                      <a:pt x="0" y="441"/>
                    </a:lnTo>
                    <a:lnTo>
                      <a:pt x="18" y="441"/>
                    </a:lnTo>
                    <a:lnTo>
                      <a:pt x="21" y="531"/>
                    </a:lnTo>
                    <a:lnTo>
                      <a:pt x="480" y="533"/>
                    </a:lnTo>
                    <a:lnTo>
                      <a:pt x="578" y="380"/>
                    </a:lnTo>
                    <a:lnTo>
                      <a:pt x="583" y="0"/>
                    </a:lnTo>
                    <a:lnTo>
                      <a:pt x="21" y="153"/>
                    </a:lnTo>
                    <a:lnTo>
                      <a:pt x="21" y="15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479680" y="6458760"/>
                <a:ext cx="19080" cy="500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-360 h 500040"/>
                  <a:gd name="textAreaBottom" fmla="*/ 500040 h 500040"/>
                </a:gdLst>
                <a:ahLst/>
                <a:rect l="textAreaLeft" t="textAreaTop" r="textAreaRight" b="textAreaBottom"/>
                <a:pathLst>
                  <a:path w="21600" h="556000">
                    <a:moveTo>
                      <a:pt x="0" y="0"/>
                    </a:moveTo>
                    <a:arcTo wR="0" hR="0" stAng="16200000" swAng="-5400000"/>
                    <a:lnTo>
                      <a:pt x="0" y="556000"/>
                    </a:lnTo>
                    <a:arcTo wR="0" hR="0" stAng="10800000" swAng="-5400000"/>
                    <a:lnTo>
                      <a:pt x="21600" y="556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479680" y="6504840"/>
                <a:ext cx="270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2479680" y="6597720"/>
                <a:ext cx="2700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2479680" y="6706440"/>
                <a:ext cx="2700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479680" y="6803280"/>
                <a:ext cx="27000" cy="126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2479680" y="6876360"/>
                <a:ext cx="3168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603520" y="6459480"/>
                <a:ext cx="19080" cy="4953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360 h 495360"/>
                  <a:gd name="textAreaBottom" fmla="*/ 496080 h 495360"/>
                </a:gdLst>
                <a:ahLst/>
                <a:rect l="textAreaLeft" t="textAreaTop" r="textAreaRight" b="textAreaBottom"/>
                <a:pathLst>
                  <a:path w="21600" h="550800">
                    <a:moveTo>
                      <a:pt x="0" y="0"/>
                    </a:moveTo>
                    <a:arcTo wR="0" hR="0" stAng="16200000" swAng="-5400000"/>
                    <a:lnTo>
                      <a:pt x="0" y="550800"/>
                    </a:lnTo>
                    <a:arcTo wR="0" hR="0" stAng="10800000" swAng="-5400000"/>
                    <a:lnTo>
                      <a:pt x="21600" y="55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603520" y="6500880"/>
                <a:ext cx="27000" cy="23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603520" y="6597720"/>
                <a:ext cx="2700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2603520" y="6702480"/>
                <a:ext cx="27000" cy="22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603520" y="6796800"/>
                <a:ext cx="270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2603520" y="6869880"/>
                <a:ext cx="270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2649600" y="6454080"/>
                <a:ext cx="14400" cy="5000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-360 h 500040"/>
                  <a:gd name="textAreaBottom" fmla="*/ 500040 h 500040"/>
                </a:gdLst>
                <a:ahLst/>
                <a:rect l="textAreaLeft" t="textAreaTop" r="textAreaRight" b="textAreaBottom"/>
                <a:pathLst>
                  <a:path w="21600" h="732293">
                    <a:moveTo>
                      <a:pt x="0" y="0"/>
                    </a:moveTo>
                    <a:arcTo wR="0" hR="0" stAng="16200000" swAng="-5400000"/>
                    <a:lnTo>
                      <a:pt x="0" y="732293"/>
                    </a:lnTo>
                    <a:arcTo wR="0" hR="0" stAng="10800000" swAng="-5400000"/>
                    <a:lnTo>
                      <a:pt x="21600" y="73229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2649600" y="6495480"/>
                <a:ext cx="17280" cy="219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-36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21600" h="27331">
                    <a:moveTo>
                      <a:pt x="0" y="0"/>
                    </a:moveTo>
                    <a:arcTo wR="0" hR="0" stAng="16200000" swAng="-5400000"/>
                    <a:lnTo>
                      <a:pt x="0" y="27331"/>
                    </a:lnTo>
                    <a:arcTo wR="0" hR="0" stAng="10800000" swAng="-5400000"/>
                    <a:lnTo>
                      <a:pt x="21600" y="273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649600" y="6592320"/>
                <a:ext cx="17280" cy="219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-36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21600" h="27331">
                    <a:moveTo>
                      <a:pt x="0" y="0"/>
                    </a:moveTo>
                    <a:arcTo wR="0" hR="0" stAng="16200000" swAng="-5400000"/>
                    <a:lnTo>
                      <a:pt x="0" y="27331"/>
                    </a:lnTo>
                    <a:arcTo wR="0" hR="0" stAng="10800000" swAng="-5400000"/>
                    <a:lnTo>
                      <a:pt x="21600" y="273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649600" y="6701760"/>
                <a:ext cx="17280" cy="190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23804">
                    <a:moveTo>
                      <a:pt x="0" y="0"/>
                    </a:moveTo>
                    <a:arcTo wR="0" hR="0" stAng="16200000" swAng="-5400000"/>
                    <a:lnTo>
                      <a:pt x="0" y="23804"/>
                    </a:lnTo>
                    <a:arcTo wR="0" hR="0" stAng="10800000" swAng="-5400000"/>
                    <a:lnTo>
                      <a:pt x="21600" y="2380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2649600" y="6797520"/>
                <a:ext cx="17280" cy="14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2649600" y="6869880"/>
                <a:ext cx="2232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2754360" y="6454800"/>
                <a:ext cx="19080" cy="4953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360 h 495360"/>
                  <a:gd name="textAreaBottom" fmla="*/ 496080 h 495360"/>
                </a:gdLst>
                <a:ahLst/>
                <a:rect l="textAreaLeft" t="textAreaTop" r="textAreaRight" b="textAreaBottom"/>
                <a:pathLst>
                  <a:path w="21600" h="550800">
                    <a:moveTo>
                      <a:pt x="0" y="0"/>
                    </a:moveTo>
                    <a:arcTo wR="0" hR="0" stAng="16200000" swAng="-5400000"/>
                    <a:lnTo>
                      <a:pt x="0" y="550800"/>
                    </a:lnTo>
                    <a:arcTo wR="0" hR="0" stAng="10800000" swAng="-5400000"/>
                    <a:lnTo>
                      <a:pt x="21600" y="55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749680" y="6495480"/>
                <a:ext cx="33120" cy="21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749680" y="6593040"/>
                <a:ext cx="3312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749680" y="6697800"/>
                <a:ext cx="33120" cy="23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2749680" y="6794640"/>
                <a:ext cx="3312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2754360" y="6866640"/>
                <a:ext cx="2844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2805120" y="6449400"/>
                <a:ext cx="17280" cy="5000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-360 h 500040"/>
                  <a:gd name="textAreaBottom" fmla="*/ 500040 h 500040"/>
                </a:gdLst>
                <a:ahLst/>
                <a:rect l="textAreaLeft" t="textAreaTop" r="textAreaRight" b="textAreaBottom"/>
                <a:pathLst>
                  <a:path w="21600" h="612735">
                    <a:moveTo>
                      <a:pt x="0" y="0"/>
                    </a:moveTo>
                    <a:arcTo wR="0" hR="0" stAng="16200000" swAng="-5400000"/>
                    <a:lnTo>
                      <a:pt x="0" y="612735"/>
                    </a:lnTo>
                    <a:arcTo wR="0" hR="0" stAng="10800000" swAng="-5400000"/>
                    <a:lnTo>
                      <a:pt x="21600" y="61273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2800440" y="6492960"/>
                <a:ext cx="27000" cy="22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2800440" y="6587280"/>
                <a:ext cx="2700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2800440" y="6697080"/>
                <a:ext cx="270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800440" y="6788880"/>
                <a:ext cx="270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805120" y="6866640"/>
                <a:ext cx="2700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919240" y="6450120"/>
                <a:ext cx="17640" cy="495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360 h 495360"/>
                  <a:gd name="textAreaBottom" fmla="*/ 496080 h 495360"/>
                </a:gdLst>
                <a:ahLst/>
                <a:rect l="textAreaLeft" t="textAreaTop" r="textAreaRight" b="textAreaBottom"/>
                <a:pathLst>
                  <a:path w="21600" h="594864">
                    <a:moveTo>
                      <a:pt x="0" y="0"/>
                    </a:moveTo>
                    <a:arcTo wR="0" hR="0" stAng="16200000" swAng="-5400000"/>
                    <a:lnTo>
                      <a:pt x="0" y="594864"/>
                    </a:lnTo>
                    <a:arcTo wR="0" hR="0" stAng="10800000" swAng="-5400000"/>
                    <a:lnTo>
                      <a:pt x="21600" y="59486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914560" y="6492960"/>
                <a:ext cx="31680" cy="22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2914560" y="6587280"/>
                <a:ext cx="3168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914560" y="6692040"/>
                <a:ext cx="3168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914560" y="6788880"/>
                <a:ext cx="3168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919240" y="6861960"/>
                <a:ext cx="270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968560" y="6450120"/>
                <a:ext cx="19080" cy="4953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360 h 495360"/>
                  <a:gd name="textAreaBottom" fmla="*/ 496080 h 495360"/>
                </a:gdLst>
                <a:ahLst/>
                <a:rect l="textAreaLeft" t="textAreaTop" r="textAreaRight" b="textAreaBottom"/>
                <a:pathLst>
                  <a:path w="21600" h="550800">
                    <a:moveTo>
                      <a:pt x="0" y="0"/>
                    </a:moveTo>
                    <a:arcTo wR="0" hR="0" stAng="16200000" swAng="-5400000"/>
                    <a:lnTo>
                      <a:pt x="0" y="550800"/>
                    </a:lnTo>
                    <a:arcTo wR="0" hR="0" stAng="10800000" swAng="-5400000"/>
                    <a:lnTo>
                      <a:pt x="21600" y="55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965320" y="6492960"/>
                <a:ext cx="28800" cy="22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965320" y="6587280"/>
                <a:ext cx="2880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2965320" y="6692040"/>
                <a:ext cx="288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2965320" y="6788880"/>
                <a:ext cx="288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2968560" y="6861960"/>
                <a:ext cx="288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2433600" y="6458760"/>
                <a:ext cx="19080" cy="500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-360 h 500040"/>
                  <a:gd name="textAreaBottom" fmla="*/ 500040 h 500040"/>
                </a:gdLst>
                <a:ahLst/>
                <a:rect l="textAreaLeft" t="textAreaTop" r="textAreaRight" b="textAreaBottom"/>
                <a:pathLst>
                  <a:path w="21600" h="556000">
                    <a:moveTo>
                      <a:pt x="0" y="0"/>
                    </a:moveTo>
                    <a:arcTo wR="0" hR="0" stAng="16200000" swAng="-5400000"/>
                    <a:lnTo>
                      <a:pt x="0" y="556000"/>
                    </a:lnTo>
                    <a:arcTo wR="0" hR="0" stAng="10800000" swAng="-5400000"/>
                    <a:lnTo>
                      <a:pt x="21600" y="556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2428920" y="6504840"/>
                <a:ext cx="270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428920" y="6597720"/>
                <a:ext cx="2700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2428920" y="6706440"/>
                <a:ext cx="2700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2428920" y="6803280"/>
                <a:ext cx="27000" cy="126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2428920" y="6876360"/>
                <a:ext cx="3168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79800" y="6143760"/>
                <a:ext cx="189000" cy="880920"/>
              </a:xfrm>
              <a:custGeom>
                <a:avLst/>
                <a:gdLst/>
                <a:ahLst/>
                <a:rect l="l" t="t" r="r" b="b"/>
                <a:pathLst>
                  <a:path w="119" h="555">
                    <a:moveTo>
                      <a:pt x="0" y="147"/>
                    </a:moveTo>
                    <a:lnTo>
                      <a:pt x="8" y="554"/>
                    </a:lnTo>
                    <a:lnTo>
                      <a:pt x="118" y="378"/>
                    </a:lnTo>
                    <a:lnTo>
                      <a:pt x="113" y="0"/>
                    </a:lnTo>
                    <a:lnTo>
                      <a:pt x="0" y="147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70240" y="6066000"/>
                <a:ext cx="885600" cy="341280"/>
              </a:xfrm>
              <a:custGeom>
                <a:avLst/>
                <a:gdLst/>
                <a:ahLst/>
                <a:rect l="l" t="t" r="r" b="b"/>
                <a:pathLst>
                  <a:path w="558" h="215">
                    <a:moveTo>
                      <a:pt x="557" y="55"/>
                    </a:moveTo>
                    <a:lnTo>
                      <a:pt x="516" y="46"/>
                    </a:lnTo>
                    <a:lnTo>
                      <a:pt x="502" y="0"/>
                    </a:lnTo>
                    <a:lnTo>
                      <a:pt x="439" y="6"/>
                    </a:lnTo>
                    <a:lnTo>
                      <a:pt x="418" y="40"/>
                    </a:lnTo>
                    <a:lnTo>
                      <a:pt x="349" y="26"/>
                    </a:lnTo>
                    <a:lnTo>
                      <a:pt x="291" y="55"/>
                    </a:lnTo>
                    <a:lnTo>
                      <a:pt x="237" y="84"/>
                    </a:lnTo>
                    <a:lnTo>
                      <a:pt x="196" y="118"/>
                    </a:lnTo>
                    <a:lnTo>
                      <a:pt x="127" y="118"/>
                    </a:lnTo>
                    <a:lnTo>
                      <a:pt x="0" y="214"/>
                    </a:lnTo>
                    <a:lnTo>
                      <a:pt x="447" y="205"/>
                    </a:lnTo>
                    <a:lnTo>
                      <a:pt x="557" y="55"/>
                    </a:lnTo>
                    <a:lnTo>
                      <a:pt x="557" y="55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82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216240" y="6089760"/>
              <a:ext cx="800280" cy="791640"/>
              <a:chOff x="3216240" y="6089760"/>
              <a:chExt cx="800280" cy="791640"/>
            </a:xfrm>
          </p:grpSpPr>
          <p:sp>
            <p:nvSpPr>
              <p:cNvPr id="130" name=""/>
              <p:cNvSpPr/>
              <p:nvPr/>
            </p:nvSpPr>
            <p:spPr>
              <a:xfrm>
                <a:off x="3216240" y="6172200"/>
                <a:ext cx="800280" cy="682560"/>
              </a:xfrm>
              <a:custGeom>
                <a:avLst/>
                <a:gdLst/>
                <a:ahLst/>
                <a:rect l="l" t="t" r="r" b="b"/>
                <a:pathLst>
                  <a:path w="504" h="430">
                    <a:moveTo>
                      <a:pt x="18" y="124"/>
                    </a:moveTo>
                    <a:lnTo>
                      <a:pt x="18" y="172"/>
                    </a:lnTo>
                    <a:lnTo>
                      <a:pt x="0" y="175"/>
                    </a:lnTo>
                    <a:lnTo>
                      <a:pt x="0" y="190"/>
                    </a:lnTo>
                    <a:lnTo>
                      <a:pt x="21" y="193"/>
                    </a:lnTo>
                    <a:lnTo>
                      <a:pt x="21" y="222"/>
                    </a:lnTo>
                    <a:lnTo>
                      <a:pt x="4" y="218"/>
                    </a:lnTo>
                    <a:lnTo>
                      <a:pt x="4" y="239"/>
                    </a:lnTo>
                    <a:lnTo>
                      <a:pt x="21" y="239"/>
                    </a:lnTo>
                    <a:lnTo>
                      <a:pt x="18" y="276"/>
                    </a:lnTo>
                    <a:lnTo>
                      <a:pt x="4" y="279"/>
                    </a:lnTo>
                    <a:lnTo>
                      <a:pt x="0" y="294"/>
                    </a:lnTo>
                    <a:lnTo>
                      <a:pt x="21" y="294"/>
                    </a:lnTo>
                    <a:lnTo>
                      <a:pt x="21" y="328"/>
                    </a:lnTo>
                    <a:lnTo>
                      <a:pt x="6" y="328"/>
                    </a:lnTo>
                    <a:lnTo>
                      <a:pt x="4" y="346"/>
                    </a:lnTo>
                    <a:lnTo>
                      <a:pt x="24" y="348"/>
                    </a:lnTo>
                    <a:lnTo>
                      <a:pt x="24" y="429"/>
                    </a:lnTo>
                    <a:lnTo>
                      <a:pt x="413" y="429"/>
                    </a:lnTo>
                    <a:lnTo>
                      <a:pt x="497" y="305"/>
                    </a:lnTo>
                    <a:lnTo>
                      <a:pt x="503" y="0"/>
                    </a:lnTo>
                    <a:lnTo>
                      <a:pt x="18" y="124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49720" y="6089760"/>
                <a:ext cx="757080" cy="298440"/>
              </a:xfrm>
              <a:custGeom>
                <a:avLst/>
                <a:gdLst/>
                <a:ahLst/>
                <a:rect l="l" t="t" r="r" b="b"/>
                <a:pathLst>
                  <a:path w="477" h="188">
                    <a:moveTo>
                      <a:pt x="476" y="46"/>
                    </a:moveTo>
                    <a:lnTo>
                      <a:pt x="441" y="40"/>
                    </a:lnTo>
                    <a:lnTo>
                      <a:pt x="427" y="0"/>
                    </a:lnTo>
                    <a:lnTo>
                      <a:pt x="375" y="5"/>
                    </a:lnTo>
                    <a:lnTo>
                      <a:pt x="358" y="34"/>
                    </a:lnTo>
                    <a:lnTo>
                      <a:pt x="300" y="23"/>
                    </a:lnTo>
                    <a:lnTo>
                      <a:pt x="251" y="46"/>
                    </a:lnTo>
                    <a:lnTo>
                      <a:pt x="202" y="69"/>
                    </a:lnTo>
                    <a:lnTo>
                      <a:pt x="167" y="94"/>
                    </a:lnTo>
                    <a:lnTo>
                      <a:pt x="107" y="94"/>
                    </a:lnTo>
                    <a:lnTo>
                      <a:pt x="0" y="172"/>
                    </a:lnTo>
                    <a:lnTo>
                      <a:pt x="381" y="187"/>
                    </a:lnTo>
                    <a:lnTo>
                      <a:pt x="476" y="46"/>
                    </a:lnTo>
                    <a:lnTo>
                      <a:pt x="476" y="46"/>
                    </a:lnTo>
                  </a:path>
                </a:pathLst>
              </a:custGeom>
              <a:solidFill>
                <a:srgbClr val="ff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3363840" y="6422400"/>
                <a:ext cx="19080" cy="447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47480"/>
                  <a:gd name="textAreaBottom" fmla="*/ 447480 h 447480"/>
                </a:gdLst>
                <a:ahLst/>
                <a:rect l="textAreaLeft" t="textAreaTop" r="textAreaRight" b="textAreaBottom"/>
                <a:pathLst>
                  <a:path w="21600" h="497600">
                    <a:moveTo>
                      <a:pt x="0" y="0"/>
                    </a:moveTo>
                    <a:arcTo wR="0" hR="0" stAng="16200000" swAng="-5400000"/>
                    <a:lnTo>
                      <a:pt x="0" y="497600"/>
                    </a:lnTo>
                    <a:arcTo wR="0" hR="0" stAng="10800000" swAng="-5400000"/>
                    <a:lnTo>
                      <a:pt x="21600" y="497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3313080" y="6422400"/>
                <a:ext cx="14400" cy="4474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-360 h 447480"/>
                  <a:gd name="textAreaBottom" fmla="*/ 447480 h 447480"/>
                </a:gdLst>
                <a:ahLst/>
                <a:rect l="textAreaLeft" t="textAreaTop" r="textAreaRight" b="textAreaBottom"/>
                <a:pathLst>
                  <a:path w="21600" h="655376">
                    <a:moveTo>
                      <a:pt x="0" y="0"/>
                    </a:moveTo>
                    <a:arcTo wR="0" hR="0" stAng="16200000" swAng="-5400000"/>
                    <a:lnTo>
                      <a:pt x="0" y="655376"/>
                    </a:lnTo>
                    <a:arcTo wR="0" hR="0" stAng="10800000" swAng="-5400000"/>
                    <a:lnTo>
                      <a:pt x="21600" y="6553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468600" y="6422400"/>
                <a:ext cx="14400" cy="4474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-360 h 447480"/>
                  <a:gd name="textAreaBottom" fmla="*/ 447480 h 447480"/>
                </a:gdLst>
                <a:ahLst/>
                <a:rect l="textAreaLeft" t="textAreaTop" r="textAreaRight" b="textAreaBottom"/>
                <a:pathLst>
                  <a:path w="21600" h="655376">
                    <a:moveTo>
                      <a:pt x="0" y="0"/>
                    </a:moveTo>
                    <a:arcTo wR="0" hR="0" stAng="16200000" swAng="-5400000"/>
                    <a:lnTo>
                      <a:pt x="0" y="655376"/>
                    </a:lnTo>
                    <a:arcTo wR="0" hR="0" stAng="10800000" swAng="-5400000"/>
                    <a:lnTo>
                      <a:pt x="21600" y="6553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3414600" y="6422400"/>
                <a:ext cx="17640" cy="4474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-360 h 447480"/>
                  <a:gd name="textAreaBottom" fmla="*/ 447480 h 447480"/>
                </a:gdLst>
                <a:ahLst/>
                <a:rect l="textAreaLeft" t="textAreaTop" r="textAreaRight" b="textAreaBottom"/>
                <a:pathLst>
                  <a:path w="21600" h="537408">
                    <a:moveTo>
                      <a:pt x="0" y="0"/>
                    </a:moveTo>
                    <a:arcTo wR="0" hR="0" stAng="16200000" swAng="-5400000"/>
                    <a:lnTo>
                      <a:pt x="0" y="537408"/>
                    </a:lnTo>
                    <a:arcTo wR="0" hR="0" stAng="10800000" swAng="-5400000"/>
                    <a:lnTo>
                      <a:pt x="21600" y="53740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3575160" y="6422400"/>
                <a:ext cx="17280" cy="447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-360 h 447480"/>
                  <a:gd name="textAreaBottom" fmla="*/ 447480 h 447480"/>
                </a:gdLst>
                <a:ahLst/>
                <a:rect l="textAreaLeft" t="textAreaTop" r="textAreaRight" b="textAreaBottom"/>
                <a:pathLst>
                  <a:path w="21600" h="548376">
                    <a:moveTo>
                      <a:pt x="0" y="0"/>
                    </a:moveTo>
                    <a:arcTo wR="0" hR="0" stAng="16200000" swAng="-5400000"/>
                    <a:lnTo>
                      <a:pt x="0" y="548376"/>
                    </a:lnTo>
                    <a:arcTo wR="0" hR="0" stAng="10800000" swAng="-5400000"/>
                    <a:lnTo>
                      <a:pt x="21600" y="5483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3524400" y="6422400"/>
                <a:ext cx="14040" cy="447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-360 h 447480"/>
                  <a:gd name="textAreaBottom" fmla="*/ 447480 h 447480"/>
                </a:gdLst>
                <a:ahLst/>
                <a:rect l="textAreaLeft" t="textAreaTop" r="textAreaRight" b="textAreaBottom"/>
                <a:pathLst>
                  <a:path w="21600" h="671760">
                    <a:moveTo>
                      <a:pt x="0" y="0"/>
                    </a:moveTo>
                    <a:arcTo wR="0" hR="0" stAng="16200000" swAng="-5400000"/>
                    <a:lnTo>
                      <a:pt x="0" y="671760"/>
                    </a:lnTo>
                    <a:arcTo wR="0" hR="0" stAng="10800000" swAng="-5400000"/>
                    <a:lnTo>
                      <a:pt x="21600" y="6717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359160" y="6728760"/>
                <a:ext cx="270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308400" y="6728760"/>
                <a:ext cx="2376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463920" y="6728760"/>
                <a:ext cx="2376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3409920" y="6728760"/>
                <a:ext cx="2232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3514680" y="6734160"/>
                <a:ext cx="27000" cy="14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3684600" y="6427080"/>
                <a:ext cx="14400" cy="45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-360 h 453960"/>
                  <a:gd name="textAreaBottom" fmla="*/ 453960 h 453960"/>
                </a:gdLst>
                <a:ahLst/>
                <a:rect l="textAreaLeft" t="textAreaTop" r="textAreaRight" b="textAreaBottom"/>
                <a:pathLst>
                  <a:path w="21600" h="664859">
                    <a:moveTo>
                      <a:pt x="0" y="0"/>
                    </a:moveTo>
                    <a:arcTo wR="0" hR="0" stAng="16200000" swAng="-5400000"/>
                    <a:lnTo>
                      <a:pt x="0" y="664859"/>
                    </a:lnTo>
                    <a:arcTo wR="0" hR="0" stAng="10800000" swAng="-5400000"/>
                    <a:lnTo>
                      <a:pt x="21600" y="6648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3629160" y="6427080"/>
                <a:ext cx="19080" cy="453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-360 h 453960"/>
                  <a:gd name="textAreaBottom" fmla="*/ 453960 h 453960"/>
                </a:gdLst>
                <a:ahLst/>
                <a:rect l="textAreaLeft" t="textAreaTop" r="textAreaRight" b="textAreaBottom"/>
                <a:pathLst>
                  <a:path w="21600" h="504800">
                    <a:moveTo>
                      <a:pt x="0" y="0"/>
                    </a:moveTo>
                    <a:arcTo wR="0" hR="0" stAng="16200000" swAng="-5400000"/>
                    <a:lnTo>
                      <a:pt x="0" y="504800"/>
                    </a:lnTo>
                    <a:arcTo wR="0" hR="0" stAng="10800000" swAng="-5400000"/>
                    <a:lnTo>
                      <a:pt x="21600" y="50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789360" y="6427800"/>
                <a:ext cx="14400" cy="4492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360 h 449280"/>
                  <a:gd name="textAreaBottom" fmla="*/ 450000 h 449280"/>
                </a:gdLst>
                <a:ahLst/>
                <a:rect l="textAreaLeft" t="textAreaTop" r="textAreaRight" b="textAreaBottom"/>
                <a:pathLst>
                  <a:path w="21600" h="658010">
                    <a:moveTo>
                      <a:pt x="0" y="0"/>
                    </a:moveTo>
                    <a:arcTo wR="0" hR="0" stAng="16200000" swAng="-5400000"/>
                    <a:lnTo>
                      <a:pt x="0" y="658010"/>
                    </a:lnTo>
                    <a:arcTo wR="0" hR="0" stAng="10800000" swAng="-5400000"/>
                    <a:lnTo>
                      <a:pt x="21600" y="65801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3740040" y="6427800"/>
                <a:ext cx="9720" cy="449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449280"/>
                  <a:gd name="textAreaBottom" fmla="*/ 450000 h 449280"/>
                </a:gdLst>
                <a:ahLst/>
                <a:rect l="textAreaLeft" t="textAreaTop" r="textAreaRight" b="textAreaBottom"/>
                <a:pathLst>
                  <a:path w="21600" h="963514">
                    <a:moveTo>
                      <a:pt x="0" y="0"/>
                    </a:moveTo>
                    <a:arcTo wR="0" hR="0" stAng="16200000" swAng="-5400000"/>
                    <a:lnTo>
                      <a:pt x="0" y="963514"/>
                    </a:lnTo>
                    <a:arcTo wR="0" hR="0" stAng="10800000" swAng="-5400000"/>
                    <a:lnTo>
                      <a:pt x="21600" y="96351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359160" y="6469200"/>
                <a:ext cx="2700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3308400" y="6469200"/>
                <a:ext cx="2376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3463920" y="6469200"/>
                <a:ext cx="2376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3409920" y="6469200"/>
                <a:ext cx="2232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3570120" y="6469200"/>
                <a:ext cx="2232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3514680" y="6469200"/>
                <a:ext cx="2700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3679920" y="6469200"/>
                <a:ext cx="2196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625920" y="6469200"/>
                <a:ext cx="2520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3786120" y="6469200"/>
                <a:ext cx="2232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3730680" y="6469200"/>
                <a:ext cx="22320" cy="17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3359160" y="6555600"/>
                <a:ext cx="2700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3308400" y="6555600"/>
                <a:ext cx="2376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463920" y="6555600"/>
                <a:ext cx="2376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3409920" y="6555600"/>
                <a:ext cx="2232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3570120" y="6555600"/>
                <a:ext cx="2232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514680" y="6555600"/>
                <a:ext cx="27000" cy="17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3679920" y="6561000"/>
                <a:ext cx="21960" cy="12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3625920" y="6561000"/>
                <a:ext cx="25200" cy="12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3786120" y="6561000"/>
                <a:ext cx="22320" cy="12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3730680" y="6561000"/>
                <a:ext cx="22320" cy="12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281400" y="6486480"/>
                <a:ext cx="536400" cy="28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281400" y="6573240"/>
                <a:ext cx="536400" cy="28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3281400" y="6670080"/>
                <a:ext cx="536400" cy="270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281400" y="6752520"/>
                <a:ext cx="536400" cy="270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3273480" y="6803280"/>
                <a:ext cx="549360" cy="270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3359160" y="6651000"/>
                <a:ext cx="270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3308400" y="6651000"/>
                <a:ext cx="2376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3463920" y="6651000"/>
                <a:ext cx="2376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3409920" y="6651000"/>
                <a:ext cx="2232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3570120" y="6651000"/>
                <a:ext cx="2232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3514680" y="6651000"/>
                <a:ext cx="270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3679920" y="6651000"/>
                <a:ext cx="2196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3625920" y="6651000"/>
                <a:ext cx="2520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3786120" y="6651000"/>
                <a:ext cx="2232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3730680" y="6651000"/>
                <a:ext cx="22320" cy="19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641840" y="6528960"/>
              <a:ext cx="182520" cy="73080"/>
              <a:chOff x="4641840" y="6528960"/>
              <a:chExt cx="182520" cy="73080"/>
            </a:xfrm>
          </p:grpSpPr>
          <p:sp>
            <p:nvSpPr>
              <p:cNvPr id="183" name=""/>
              <p:cNvSpPr/>
              <p:nvPr/>
            </p:nvSpPr>
            <p:spPr>
              <a:xfrm flipV="1">
                <a:off x="4641840" y="6528600"/>
                <a:ext cx="55440" cy="7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21600" h="28428">
                    <a:moveTo>
                      <a:pt x="0" y="0"/>
                    </a:moveTo>
                    <a:arcTo wR="0" hR="0" stAng="16200000" swAng="-5400000"/>
                    <a:lnTo>
                      <a:pt x="0" y="28428"/>
                    </a:lnTo>
                    <a:arcTo wR="0" hR="0" stAng="10800000" swAng="-5400000"/>
                    <a:lnTo>
                      <a:pt x="21600" y="2842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f4f4f"/>
              </a:solidFill>
              <a:ln w="936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4770360" y="6528600"/>
                <a:ext cx="54000" cy="730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21600" h="29181">
                    <a:moveTo>
                      <a:pt x="0" y="0"/>
                    </a:moveTo>
                    <a:arcTo wR="0" hR="0" stAng="16200000" swAng="-5400000"/>
                    <a:lnTo>
                      <a:pt x="0" y="29181"/>
                    </a:lnTo>
                    <a:arcTo wR="0" hR="0" stAng="10800000" swAng="-5400000"/>
                    <a:lnTo>
                      <a:pt x="21600" y="2918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f4f4f"/>
              </a:solidFill>
              <a:ln w="936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3944880" y="6078600"/>
              <a:ext cx="1779480" cy="785880"/>
            </a:xfrm>
            <a:custGeom>
              <a:avLst/>
              <a:gdLst/>
              <a:ahLst/>
              <a:rect l="l" t="t" r="r" b="b"/>
              <a:pathLst>
                <a:path w="1121" h="495">
                  <a:moveTo>
                    <a:pt x="177" y="156"/>
                  </a:moveTo>
                  <a:lnTo>
                    <a:pt x="99" y="159"/>
                  </a:lnTo>
                  <a:lnTo>
                    <a:pt x="101" y="93"/>
                  </a:lnTo>
                  <a:lnTo>
                    <a:pt x="29" y="93"/>
                  </a:lnTo>
                  <a:lnTo>
                    <a:pt x="21" y="110"/>
                  </a:lnTo>
                  <a:lnTo>
                    <a:pt x="0" y="215"/>
                  </a:lnTo>
                  <a:lnTo>
                    <a:pt x="0" y="460"/>
                  </a:lnTo>
                  <a:lnTo>
                    <a:pt x="318" y="460"/>
                  </a:lnTo>
                  <a:lnTo>
                    <a:pt x="318" y="494"/>
                  </a:lnTo>
                  <a:lnTo>
                    <a:pt x="1120" y="468"/>
                  </a:lnTo>
                  <a:lnTo>
                    <a:pt x="1111" y="286"/>
                  </a:lnTo>
                  <a:lnTo>
                    <a:pt x="1106" y="234"/>
                  </a:lnTo>
                  <a:lnTo>
                    <a:pt x="1083" y="234"/>
                  </a:lnTo>
                  <a:lnTo>
                    <a:pt x="1074" y="261"/>
                  </a:lnTo>
                  <a:lnTo>
                    <a:pt x="1025" y="249"/>
                  </a:lnTo>
                  <a:lnTo>
                    <a:pt x="1025" y="220"/>
                  </a:lnTo>
                  <a:lnTo>
                    <a:pt x="996" y="220"/>
                  </a:lnTo>
                  <a:lnTo>
                    <a:pt x="996" y="240"/>
                  </a:lnTo>
                  <a:lnTo>
                    <a:pt x="930" y="215"/>
                  </a:lnTo>
                  <a:lnTo>
                    <a:pt x="924" y="194"/>
                  </a:lnTo>
                  <a:lnTo>
                    <a:pt x="799" y="168"/>
                  </a:lnTo>
                  <a:lnTo>
                    <a:pt x="757" y="199"/>
                  </a:lnTo>
                  <a:lnTo>
                    <a:pt x="707" y="199"/>
                  </a:lnTo>
                  <a:lnTo>
                    <a:pt x="728" y="174"/>
                  </a:lnTo>
                  <a:lnTo>
                    <a:pt x="728" y="153"/>
                  </a:lnTo>
                  <a:lnTo>
                    <a:pt x="679" y="159"/>
                  </a:lnTo>
                  <a:lnTo>
                    <a:pt x="592" y="159"/>
                  </a:lnTo>
                  <a:lnTo>
                    <a:pt x="584" y="119"/>
                  </a:lnTo>
                  <a:lnTo>
                    <a:pt x="508" y="70"/>
                  </a:lnTo>
                  <a:lnTo>
                    <a:pt x="431" y="59"/>
                  </a:lnTo>
                  <a:lnTo>
                    <a:pt x="428" y="27"/>
                  </a:lnTo>
                  <a:lnTo>
                    <a:pt x="355" y="0"/>
                  </a:lnTo>
                  <a:lnTo>
                    <a:pt x="280" y="38"/>
                  </a:lnTo>
                  <a:lnTo>
                    <a:pt x="272" y="81"/>
                  </a:lnTo>
                  <a:lnTo>
                    <a:pt x="240" y="67"/>
                  </a:lnTo>
                  <a:lnTo>
                    <a:pt x="179" y="110"/>
                  </a:lnTo>
                  <a:lnTo>
                    <a:pt x="177" y="156"/>
                  </a:lnTo>
                  <a:lnTo>
                    <a:pt x="177" y="156"/>
                  </a:lnTo>
                </a:path>
              </a:pathLst>
            </a:custGeom>
            <a:solidFill>
              <a:srgbClr val="a2a2a2"/>
            </a:solidFill>
            <a:ln w="936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824360" y="6593040"/>
              <a:ext cx="55440" cy="72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360 h 72720"/>
                <a:gd name="textAreaBottom" fmla="*/ 73440 h 72720"/>
              </a:gdLst>
              <a:ahLst/>
              <a:rect l="textAreaLeft" t="textAreaTop" r="textAreaRight" b="textAreaBottom"/>
              <a:pathLst>
                <a:path w="21600" h="28289">
                  <a:moveTo>
                    <a:pt x="0" y="0"/>
                  </a:moveTo>
                  <a:arcTo wR="0" hR="0" stAng="16200000" swAng="-5400000"/>
                  <a:lnTo>
                    <a:pt x="0" y="28289"/>
                  </a:lnTo>
                  <a:arcTo wR="0" hR="0" stAng="10800000" swAng="-5400000"/>
                  <a:lnTo>
                    <a:pt x="21600" y="2828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f4f4f"/>
            </a:solidFill>
            <a:ln w="93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971960" y="6593040"/>
              <a:ext cx="58680" cy="72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360 h 72720"/>
                <a:gd name="textAreaBottom" fmla="*/ 73440 h 72720"/>
              </a:gdLst>
              <a:ahLst/>
              <a:rect l="textAreaLeft" t="textAreaTop" r="textAreaRight" b="textAreaBottom"/>
              <a:pathLst>
                <a:path w="21600" h="26737">
                  <a:moveTo>
                    <a:pt x="0" y="0"/>
                  </a:moveTo>
                  <a:arcTo wR="0" hR="0" stAng="16200000" swAng="-5400000"/>
                  <a:lnTo>
                    <a:pt x="0" y="26737"/>
                  </a:lnTo>
                  <a:arcTo wR="0" hR="0" stAng="10800000" swAng="-5400000"/>
                  <a:lnTo>
                    <a:pt x="21600" y="267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f4f4f"/>
            </a:solidFill>
            <a:ln w="93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086440" y="6593040"/>
              <a:ext cx="60120" cy="72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360 h 72720"/>
                <a:gd name="textAreaBottom" fmla="*/ 73440 h 72720"/>
              </a:gdLst>
              <a:ahLst/>
              <a:rect l="textAreaLeft" t="textAreaTop" r="textAreaRight" b="textAreaBottom"/>
              <a:pathLst>
                <a:path w="21600" h="26100">
                  <a:moveTo>
                    <a:pt x="0" y="0"/>
                  </a:moveTo>
                  <a:arcTo wR="0" hR="0" stAng="16200000" swAng="-5400000"/>
                  <a:lnTo>
                    <a:pt x="0" y="26100"/>
                  </a:lnTo>
                  <a:arcTo wR="0" hR="0" stAng="10800000" swAng="-5400000"/>
                  <a:lnTo>
                    <a:pt x="21600" y="261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f4f4f"/>
            </a:solidFill>
            <a:ln w="93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213520" y="6593040"/>
              <a:ext cx="56880" cy="72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360 h 72720"/>
                <a:gd name="textAreaBottom" fmla="*/ 73440 h 72720"/>
              </a:gdLst>
              <a:ahLst/>
              <a:rect l="textAreaLeft" t="textAreaTop" r="textAreaRight" b="textAreaBottom"/>
              <a:pathLst>
                <a:path w="21600" h="27577">
                  <a:moveTo>
                    <a:pt x="0" y="0"/>
                  </a:moveTo>
                  <a:arcTo wR="0" hR="0" stAng="16200000" swAng="-5400000"/>
                  <a:lnTo>
                    <a:pt x="0" y="27577"/>
                  </a:lnTo>
                  <a:arcTo wR="0" hR="0" stAng="10800000" swAng="-5400000"/>
                  <a:lnTo>
                    <a:pt x="21600" y="2757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f4f4f"/>
            </a:solidFill>
            <a:ln w="93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351400" y="6593040"/>
              <a:ext cx="60480" cy="72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360 h 72720"/>
                <a:gd name="textAreaBottom" fmla="*/ 73440 h 72720"/>
              </a:gdLst>
              <a:ahLst/>
              <a:rect l="textAreaLeft" t="textAreaTop" r="textAreaRight" b="textAreaBottom"/>
              <a:pathLst>
                <a:path w="21600" h="25946">
                  <a:moveTo>
                    <a:pt x="0" y="0"/>
                  </a:moveTo>
                  <a:arcTo wR="0" hR="0" stAng="16200000" swAng="-5400000"/>
                  <a:lnTo>
                    <a:pt x="0" y="25946"/>
                  </a:lnTo>
                  <a:arcTo wR="0" hR="0" stAng="10800000" swAng="-5400000"/>
                  <a:lnTo>
                    <a:pt x="21600" y="25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f4f4f"/>
            </a:solidFill>
            <a:ln w="93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489640" y="6593040"/>
              <a:ext cx="60120" cy="72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360 h 72720"/>
                <a:gd name="textAreaBottom" fmla="*/ 73440 h 72720"/>
              </a:gdLst>
              <a:ahLst/>
              <a:rect l="textAreaLeft" t="textAreaTop" r="textAreaRight" b="textAreaBottom"/>
              <a:pathLst>
                <a:path w="21600" h="26100">
                  <a:moveTo>
                    <a:pt x="0" y="0"/>
                  </a:moveTo>
                  <a:arcTo wR="0" hR="0" stAng="16200000" swAng="-5400000"/>
                  <a:lnTo>
                    <a:pt x="0" y="26100"/>
                  </a:lnTo>
                  <a:arcTo wR="0" hR="0" stAng="10800000" swAng="-5400000"/>
                  <a:lnTo>
                    <a:pt x="21600" y="261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f4f4f"/>
            </a:solidFill>
            <a:ln w="93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16720" y="6593040"/>
              <a:ext cx="56880" cy="72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360 h 72720"/>
                <a:gd name="textAreaBottom" fmla="*/ 73440 h 72720"/>
              </a:gdLst>
              <a:ahLst/>
              <a:rect l="textAreaLeft" t="textAreaTop" r="textAreaRight" b="textAreaBottom"/>
              <a:pathLst>
                <a:path w="21600" h="27577">
                  <a:moveTo>
                    <a:pt x="0" y="0"/>
                  </a:moveTo>
                  <a:arcTo wR="0" hR="0" stAng="16200000" swAng="-5400000"/>
                  <a:lnTo>
                    <a:pt x="0" y="27577"/>
                  </a:lnTo>
                  <a:arcTo wR="0" hR="0" stAng="10800000" swAng="-5400000"/>
                  <a:lnTo>
                    <a:pt x="21600" y="2757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f4f4f"/>
            </a:solidFill>
            <a:ln w="93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417920" y="6165720"/>
              <a:ext cx="289080" cy="273240"/>
              <a:chOff x="4417920" y="6165720"/>
              <a:chExt cx="289080" cy="273240"/>
            </a:xfrm>
          </p:grpSpPr>
          <p:sp>
            <p:nvSpPr>
              <p:cNvPr id="194" name=""/>
              <p:cNvSpPr/>
              <p:nvPr/>
            </p:nvSpPr>
            <p:spPr>
              <a:xfrm>
                <a:off x="4417920" y="6230880"/>
                <a:ext cx="266760" cy="208080"/>
              </a:xfrm>
              <a:custGeom>
                <a:avLst/>
                <a:gdLst/>
                <a:ahLst/>
                <a:rect l="l" t="t" r="r" b="b"/>
                <a:pathLst>
                  <a:path w="168" h="131">
                    <a:moveTo>
                      <a:pt x="5" y="0"/>
                    </a:moveTo>
                    <a:lnTo>
                      <a:pt x="158" y="37"/>
                    </a:lnTo>
                    <a:lnTo>
                      <a:pt x="167" y="130"/>
                    </a:lnTo>
                    <a:lnTo>
                      <a:pt x="144" y="127"/>
                    </a:lnTo>
                    <a:lnTo>
                      <a:pt x="118" y="87"/>
                    </a:lnTo>
                    <a:lnTo>
                      <a:pt x="0" y="78"/>
                    </a:lnTo>
                    <a:lnTo>
                      <a:pt x="2" y="49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a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25840" y="6165720"/>
                <a:ext cx="281160" cy="125640"/>
              </a:xfrm>
              <a:custGeom>
                <a:avLst/>
                <a:gdLst/>
                <a:ahLst/>
                <a:rect l="l" t="t" r="r" b="b"/>
                <a:pathLst>
                  <a:path w="177" h="79">
                    <a:moveTo>
                      <a:pt x="0" y="41"/>
                    </a:moveTo>
                    <a:lnTo>
                      <a:pt x="4" y="41"/>
                    </a:lnTo>
                    <a:lnTo>
                      <a:pt x="153" y="78"/>
                    </a:lnTo>
                    <a:lnTo>
                      <a:pt x="176" y="32"/>
                    </a:lnTo>
                    <a:lnTo>
                      <a:pt x="61" y="0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806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656240" y="6308640"/>
              <a:ext cx="271440" cy="201600"/>
              <a:chOff x="4656240" y="6308640"/>
              <a:chExt cx="271440" cy="201600"/>
            </a:xfrm>
          </p:grpSpPr>
          <p:sp>
            <p:nvSpPr>
              <p:cNvPr id="197" name=""/>
              <p:cNvSpPr/>
              <p:nvPr/>
            </p:nvSpPr>
            <p:spPr>
              <a:xfrm flipV="1">
                <a:off x="4719600" y="6454800"/>
                <a:ext cx="23760" cy="55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360 h 55440"/>
                  <a:gd name="textAreaBottom" fmla="*/ 56160 h 55440"/>
                </a:gdLst>
                <a:ahLst/>
                <a:rect l="textAreaLeft" t="textAreaTop" r="textAreaRight" b="textAreaBottom"/>
                <a:pathLst>
                  <a:path w="21600" h="49970">
                    <a:moveTo>
                      <a:pt x="0" y="0"/>
                    </a:moveTo>
                    <a:arcTo wR="0" hR="0" stAng="16200000" swAng="-5400000"/>
                    <a:lnTo>
                      <a:pt x="0" y="49970"/>
                    </a:lnTo>
                    <a:arcTo wR="0" hR="0" stAng="10800000" swAng="-5400000"/>
                    <a:lnTo>
                      <a:pt x="21600" y="4997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4802040" y="6454800"/>
                <a:ext cx="22320" cy="55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55440"/>
                  <a:gd name="textAreaBottom" fmla="*/ 56160 h 55440"/>
                </a:gdLst>
                <a:ahLst/>
                <a:rect l="textAreaLeft" t="textAreaTop" r="textAreaRight" b="textAreaBottom"/>
                <a:pathLst>
                  <a:path w="21600" h="53143">
                    <a:moveTo>
                      <a:pt x="0" y="0"/>
                    </a:moveTo>
                    <a:arcTo wR="0" hR="0" stAng="16200000" swAng="-5400000"/>
                    <a:lnTo>
                      <a:pt x="0" y="53143"/>
                    </a:lnTo>
                    <a:arcTo wR="0" hR="0" stAng="10800000" swAng="-5400000"/>
                    <a:lnTo>
                      <a:pt x="21600" y="5314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4879800" y="6454800"/>
                <a:ext cx="24120" cy="55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360 h 55440"/>
                  <a:gd name="textAreaBottom" fmla="*/ 56160 h 55440"/>
                </a:gdLst>
                <a:ahLst/>
                <a:rect l="textAreaLeft" t="textAreaTop" r="textAreaRight" b="textAreaBottom"/>
                <a:pathLst>
                  <a:path w="21600" h="49235">
                    <a:moveTo>
                      <a:pt x="0" y="0"/>
                    </a:moveTo>
                    <a:arcTo wR="0" hR="0" stAng="16200000" swAng="-5400000"/>
                    <a:lnTo>
                      <a:pt x="0" y="49235"/>
                    </a:lnTo>
                    <a:arcTo wR="0" hR="0" stAng="10800000" swAng="-5400000"/>
                    <a:lnTo>
                      <a:pt x="21600" y="4923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4656240" y="6308640"/>
                <a:ext cx="201600" cy="36720"/>
              </a:xfrm>
              <a:prstGeom prst="roundRect">
                <a:avLst>
                  <a:gd name="adj" fmla="val 0"/>
                </a:avLst>
              </a:prstGeom>
              <a:solidFill>
                <a:srgbClr val="a16252"/>
              </a:solidFill>
              <a:ln w="9360">
                <a:solidFill>
                  <a:srgbClr val="a162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68840" y="6345360"/>
                <a:ext cx="258840" cy="115920"/>
              </a:xfrm>
              <a:custGeom>
                <a:avLst/>
                <a:gdLst/>
                <a:ahLst/>
                <a:rect l="l" t="t" r="r" b="b"/>
                <a:pathLst>
                  <a:path w="163" h="73">
                    <a:moveTo>
                      <a:pt x="0" y="55"/>
                    </a:moveTo>
                    <a:lnTo>
                      <a:pt x="15" y="72"/>
                    </a:lnTo>
                    <a:lnTo>
                      <a:pt x="162" y="72"/>
                    </a:lnTo>
                    <a:lnTo>
                      <a:pt x="113" y="0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82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5018040" y="6354720"/>
              <a:ext cx="501840" cy="120600"/>
            </a:xfrm>
            <a:custGeom>
              <a:avLst/>
              <a:gdLst/>
              <a:ahLst/>
              <a:rect l="l" t="t" r="r" b="b"/>
              <a:pathLst>
                <a:path w="316" h="76">
                  <a:moveTo>
                    <a:pt x="0" y="75"/>
                  </a:moveTo>
                  <a:lnTo>
                    <a:pt x="315" y="75"/>
                  </a:lnTo>
                  <a:lnTo>
                    <a:pt x="245" y="46"/>
                  </a:lnTo>
                  <a:lnTo>
                    <a:pt x="237" y="25"/>
                  </a:lnTo>
                  <a:lnTo>
                    <a:pt x="127" y="0"/>
                  </a:lnTo>
                  <a:lnTo>
                    <a:pt x="89" y="32"/>
                  </a:lnTo>
                  <a:lnTo>
                    <a:pt x="0" y="41"/>
                  </a:lnTo>
                  <a:lnTo>
                    <a:pt x="0" y="75"/>
                  </a:lnTo>
                  <a:lnTo>
                    <a:pt x="0" y="75"/>
                  </a:lnTo>
                </a:path>
              </a:pathLst>
            </a:custGeom>
            <a:solidFill>
              <a:srgbClr val="a16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017960" y="6573600"/>
              <a:ext cx="458640" cy="206280"/>
              <a:chOff x="4017960" y="6573600"/>
              <a:chExt cx="458640" cy="20628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4022640" y="6573240"/>
                <a:ext cx="74520" cy="6012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152960" y="6573240"/>
                <a:ext cx="73080" cy="6012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275000" y="6577920"/>
                <a:ext cx="73080" cy="6012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4403880" y="6577920"/>
                <a:ext cx="72720" cy="6012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022640" y="6647760"/>
                <a:ext cx="74520" cy="5868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4152960" y="6647760"/>
                <a:ext cx="73080" cy="5868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275000" y="6651720"/>
                <a:ext cx="73080" cy="5544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4403880" y="6651720"/>
                <a:ext cx="72720" cy="5544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4017960" y="6716160"/>
                <a:ext cx="74520" cy="5868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4146480" y="6716160"/>
                <a:ext cx="74520" cy="5868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4270320" y="6720840"/>
                <a:ext cx="74520" cy="5868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4403880" y="6720840"/>
                <a:ext cx="72720" cy="5868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3944880" y="6194520"/>
              <a:ext cx="557280" cy="31752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10" y="0"/>
                  </a:moveTo>
                  <a:lnTo>
                    <a:pt x="113" y="124"/>
                  </a:lnTo>
                  <a:lnTo>
                    <a:pt x="229" y="126"/>
                  </a:lnTo>
                  <a:lnTo>
                    <a:pt x="237" y="103"/>
                  </a:lnTo>
                  <a:lnTo>
                    <a:pt x="344" y="103"/>
                  </a:lnTo>
                  <a:lnTo>
                    <a:pt x="350" y="199"/>
                  </a:lnTo>
                  <a:lnTo>
                    <a:pt x="0" y="199"/>
                  </a:lnTo>
                  <a:lnTo>
                    <a:pt x="32" y="0"/>
                  </a:lnTo>
                  <a:lnTo>
                    <a:pt x="110" y="0"/>
                  </a:lnTo>
                  <a:lnTo>
                    <a:pt x="11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4595760" y="6721200"/>
              <a:ext cx="189000" cy="75960"/>
              <a:chOff x="4595760" y="6721200"/>
              <a:chExt cx="189000" cy="7596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4595760" y="6720840"/>
                <a:ext cx="55440" cy="759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75960"/>
                  <a:gd name="textAreaBottom" fmla="*/ 75960 h 75960"/>
                </a:gdLst>
                <a:ahLst/>
                <a:rect l="textAreaLeft" t="textAreaTop" r="textAreaRight" b="textAreaBottom"/>
                <a:pathLst>
                  <a:path w="21600" h="29543">
                    <a:moveTo>
                      <a:pt x="0" y="0"/>
                    </a:moveTo>
                    <a:arcTo wR="0" hR="0" stAng="16200000" swAng="-5400000"/>
                    <a:lnTo>
                      <a:pt x="0" y="29543"/>
                    </a:lnTo>
                    <a:arcTo wR="0" hR="0" stAng="10800000" swAng="-5400000"/>
                    <a:lnTo>
                      <a:pt x="21600" y="2954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f4f4f"/>
              </a:solidFill>
              <a:ln w="936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4724280" y="6720840"/>
                <a:ext cx="60480" cy="75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-360 h 75960"/>
                  <a:gd name="textAreaBottom" fmla="*/ 75960 h 75960"/>
                </a:gdLst>
                <a:ahLst/>
                <a:rect l="textAreaLeft" t="textAreaTop" r="textAreaRight" b="textAreaBottom"/>
                <a:pathLst>
                  <a:path w="21600" h="27096">
                    <a:moveTo>
                      <a:pt x="0" y="0"/>
                    </a:moveTo>
                    <a:arcTo wR="0" hR="0" stAng="16200000" swAng="-5400000"/>
                    <a:lnTo>
                      <a:pt x="0" y="27096"/>
                    </a:lnTo>
                    <a:arcTo wR="0" hR="0" stAng="10800000" swAng="-5400000"/>
                    <a:lnTo>
                      <a:pt x="21600" y="2709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f4f4f"/>
              </a:solidFill>
              <a:ln w="936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102200" y="6321600"/>
              <a:ext cx="1342800" cy="245880"/>
              <a:chOff x="4102200" y="6321600"/>
              <a:chExt cx="1342800" cy="245880"/>
            </a:xfrm>
          </p:grpSpPr>
          <p:sp>
            <p:nvSpPr>
              <p:cNvPr id="221" name=""/>
              <p:cNvSpPr/>
              <p:nvPr/>
            </p:nvSpPr>
            <p:spPr>
              <a:xfrm>
                <a:off x="4483080" y="6377040"/>
                <a:ext cx="961920" cy="190440"/>
              </a:xfrm>
              <a:custGeom>
                <a:avLst/>
                <a:gdLst/>
                <a:ahLst/>
                <a:rect l="l" t="t" r="r" b="b"/>
                <a:pathLst>
                  <a:path w="606" h="120">
                    <a:moveTo>
                      <a:pt x="0" y="0"/>
                    </a:moveTo>
                    <a:lnTo>
                      <a:pt x="39" y="119"/>
                    </a:lnTo>
                    <a:lnTo>
                      <a:pt x="605" y="110"/>
                    </a:lnTo>
                    <a:lnTo>
                      <a:pt x="588" y="89"/>
                    </a:lnTo>
                    <a:lnTo>
                      <a:pt x="314" y="104"/>
                    </a:lnTo>
                    <a:lnTo>
                      <a:pt x="314" y="78"/>
                    </a:lnTo>
                    <a:lnTo>
                      <a:pt x="175" y="84"/>
                    </a:lnTo>
                    <a:lnTo>
                      <a:pt x="129" y="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13f00"/>
              </a:solidFill>
              <a:ln w="9360">
                <a:solidFill>
                  <a:srgbClr val="82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02200" y="6321600"/>
                <a:ext cx="601560" cy="117360"/>
              </a:xfrm>
              <a:custGeom>
                <a:avLst/>
                <a:gdLst/>
                <a:ahLst/>
                <a:rect l="l" t="t" r="r" b="b"/>
                <a:pathLst>
                  <a:path w="379" h="74">
                    <a:moveTo>
                      <a:pt x="6" y="0"/>
                    </a:moveTo>
                    <a:lnTo>
                      <a:pt x="6" y="58"/>
                    </a:lnTo>
                    <a:lnTo>
                      <a:pt x="378" y="73"/>
                    </a:lnTo>
                    <a:lnTo>
                      <a:pt x="320" y="1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a1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881760" y="7008840"/>
              <a:ext cx="684360" cy="401760"/>
            </a:xfrm>
            <a:custGeom>
              <a:avLst/>
              <a:gdLst/>
              <a:ahLst/>
              <a:rect l="l" t="t" r="r" b="b"/>
              <a:pathLst>
                <a:path w="431" h="253">
                  <a:moveTo>
                    <a:pt x="0" y="0"/>
                  </a:moveTo>
                  <a:lnTo>
                    <a:pt x="187" y="0"/>
                  </a:lnTo>
                  <a:lnTo>
                    <a:pt x="306" y="18"/>
                  </a:lnTo>
                  <a:lnTo>
                    <a:pt x="430" y="29"/>
                  </a:lnTo>
                  <a:lnTo>
                    <a:pt x="430" y="252"/>
                  </a:lnTo>
                  <a:lnTo>
                    <a:pt x="6" y="24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37605e"/>
            </a:solidFill>
            <a:ln w="9360">
              <a:solidFill>
                <a:srgbClr val="3760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43280" y="6692760"/>
              <a:ext cx="1519200" cy="720720"/>
            </a:xfrm>
            <a:custGeom>
              <a:avLst/>
              <a:gdLst/>
              <a:ahLst/>
              <a:rect l="l" t="t" r="r" b="b"/>
              <a:pathLst>
                <a:path w="957" h="454">
                  <a:moveTo>
                    <a:pt x="3" y="26"/>
                  </a:moveTo>
                  <a:lnTo>
                    <a:pt x="2" y="32"/>
                  </a:lnTo>
                  <a:lnTo>
                    <a:pt x="2" y="45"/>
                  </a:lnTo>
                  <a:lnTo>
                    <a:pt x="2" y="67"/>
                  </a:lnTo>
                  <a:lnTo>
                    <a:pt x="2" y="94"/>
                  </a:lnTo>
                  <a:lnTo>
                    <a:pt x="1" y="127"/>
                  </a:lnTo>
                  <a:lnTo>
                    <a:pt x="1" y="162"/>
                  </a:lnTo>
                  <a:lnTo>
                    <a:pt x="1" y="201"/>
                  </a:lnTo>
                  <a:lnTo>
                    <a:pt x="1" y="240"/>
                  </a:lnTo>
                  <a:lnTo>
                    <a:pt x="0" y="280"/>
                  </a:lnTo>
                  <a:lnTo>
                    <a:pt x="0" y="319"/>
                  </a:lnTo>
                  <a:lnTo>
                    <a:pt x="0" y="355"/>
                  </a:lnTo>
                  <a:lnTo>
                    <a:pt x="0" y="387"/>
                  </a:lnTo>
                  <a:lnTo>
                    <a:pt x="0" y="415"/>
                  </a:lnTo>
                  <a:lnTo>
                    <a:pt x="0" y="436"/>
                  </a:lnTo>
                  <a:lnTo>
                    <a:pt x="0" y="449"/>
                  </a:lnTo>
                  <a:lnTo>
                    <a:pt x="1" y="453"/>
                  </a:lnTo>
                  <a:lnTo>
                    <a:pt x="8" y="453"/>
                  </a:lnTo>
                  <a:lnTo>
                    <a:pt x="28" y="453"/>
                  </a:lnTo>
                  <a:lnTo>
                    <a:pt x="58" y="453"/>
                  </a:lnTo>
                  <a:lnTo>
                    <a:pt x="98" y="453"/>
                  </a:lnTo>
                  <a:lnTo>
                    <a:pt x="145" y="453"/>
                  </a:lnTo>
                  <a:lnTo>
                    <a:pt x="197" y="453"/>
                  </a:lnTo>
                  <a:lnTo>
                    <a:pt x="254" y="453"/>
                  </a:lnTo>
                  <a:lnTo>
                    <a:pt x="313" y="453"/>
                  </a:lnTo>
                  <a:lnTo>
                    <a:pt x="370" y="453"/>
                  </a:lnTo>
                  <a:lnTo>
                    <a:pt x="427" y="453"/>
                  </a:lnTo>
                  <a:lnTo>
                    <a:pt x="479" y="453"/>
                  </a:lnTo>
                  <a:lnTo>
                    <a:pt x="527" y="453"/>
                  </a:lnTo>
                  <a:lnTo>
                    <a:pt x="567" y="453"/>
                  </a:lnTo>
                  <a:lnTo>
                    <a:pt x="599" y="453"/>
                  </a:lnTo>
                  <a:lnTo>
                    <a:pt x="620" y="453"/>
                  </a:lnTo>
                  <a:lnTo>
                    <a:pt x="630" y="451"/>
                  </a:lnTo>
                  <a:lnTo>
                    <a:pt x="636" y="451"/>
                  </a:lnTo>
                  <a:lnTo>
                    <a:pt x="650" y="451"/>
                  </a:lnTo>
                  <a:lnTo>
                    <a:pt x="667" y="451"/>
                  </a:lnTo>
                  <a:lnTo>
                    <a:pt x="690" y="451"/>
                  </a:lnTo>
                  <a:lnTo>
                    <a:pt x="714" y="451"/>
                  </a:lnTo>
                  <a:lnTo>
                    <a:pt x="742" y="451"/>
                  </a:lnTo>
                  <a:lnTo>
                    <a:pt x="771" y="451"/>
                  </a:lnTo>
                  <a:lnTo>
                    <a:pt x="801" y="450"/>
                  </a:lnTo>
                  <a:lnTo>
                    <a:pt x="829" y="452"/>
                  </a:lnTo>
                  <a:lnTo>
                    <a:pt x="858" y="452"/>
                  </a:lnTo>
                  <a:lnTo>
                    <a:pt x="884" y="452"/>
                  </a:lnTo>
                  <a:lnTo>
                    <a:pt x="907" y="452"/>
                  </a:lnTo>
                  <a:lnTo>
                    <a:pt x="926" y="453"/>
                  </a:lnTo>
                  <a:lnTo>
                    <a:pt x="942" y="453"/>
                  </a:lnTo>
                  <a:lnTo>
                    <a:pt x="952" y="453"/>
                  </a:lnTo>
                  <a:lnTo>
                    <a:pt x="956" y="453"/>
                  </a:lnTo>
                  <a:lnTo>
                    <a:pt x="954" y="453"/>
                  </a:lnTo>
                  <a:lnTo>
                    <a:pt x="954" y="450"/>
                  </a:lnTo>
                  <a:lnTo>
                    <a:pt x="953" y="446"/>
                  </a:lnTo>
                  <a:lnTo>
                    <a:pt x="953" y="440"/>
                  </a:lnTo>
                  <a:lnTo>
                    <a:pt x="951" y="433"/>
                  </a:lnTo>
                  <a:lnTo>
                    <a:pt x="950" y="426"/>
                  </a:lnTo>
                  <a:lnTo>
                    <a:pt x="948" y="417"/>
                  </a:lnTo>
                  <a:lnTo>
                    <a:pt x="947" y="408"/>
                  </a:lnTo>
                  <a:lnTo>
                    <a:pt x="944" y="400"/>
                  </a:lnTo>
                  <a:lnTo>
                    <a:pt x="942" y="390"/>
                  </a:lnTo>
                  <a:lnTo>
                    <a:pt x="938" y="382"/>
                  </a:lnTo>
                  <a:lnTo>
                    <a:pt x="936" y="372"/>
                  </a:lnTo>
                  <a:lnTo>
                    <a:pt x="930" y="365"/>
                  </a:lnTo>
                  <a:lnTo>
                    <a:pt x="927" y="357"/>
                  </a:lnTo>
                  <a:lnTo>
                    <a:pt x="922" y="352"/>
                  </a:lnTo>
                  <a:lnTo>
                    <a:pt x="918" y="346"/>
                  </a:lnTo>
                  <a:lnTo>
                    <a:pt x="913" y="345"/>
                  </a:lnTo>
                  <a:lnTo>
                    <a:pt x="909" y="342"/>
                  </a:lnTo>
                  <a:lnTo>
                    <a:pt x="904" y="338"/>
                  </a:lnTo>
                  <a:lnTo>
                    <a:pt x="899" y="335"/>
                  </a:lnTo>
                  <a:lnTo>
                    <a:pt x="892" y="331"/>
                  </a:lnTo>
                  <a:lnTo>
                    <a:pt x="887" y="327"/>
                  </a:lnTo>
                  <a:lnTo>
                    <a:pt x="881" y="324"/>
                  </a:lnTo>
                  <a:lnTo>
                    <a:pt x="876" y="319"/>
                  </a:lnTo>
                  <a:lnTo>
                    <a:pt x="868" y="317"/>
                  </a:lnTo>
                  <a:lnTo>
                    <a:pt x="862" y="313"/>
                  </a:lnTo>
                  <a:lnTo>
                    <a:pt x="856" y="310"/>
                  </a:lnTo>
                  <a:lnTo>
                    <a:pt x="851" y="307"/>
                  </a:lnTo>
                  <a:lnTo>
                    <a:pt x="845" y="307"/>
                  </a:lnTo>
                  <a:lnTo>
                    <a:pt x="839" y="306"/>
                  </a:lnTo>
                  <a:lnTo>
                    <a:pt x="835" y="306"/>
                  </a:lnTo>
                  <a:lnTo>
                    <a:pt x="831" y="306"/>
                  </a:lnTo>
                  <a:lnTo>
                    <a:pt x="828" y="308"/>
                  </a:lnTo>
                  <a:lnTo>
                    <a:pt x="826" y="310"/>
                  </a:lnTo>
                  <a:lnTo>
                    <a:pt x="823" y="313"/>
                  </a:lnTo>
                  <a:lnTo>
                    <a:pt x="821" y="315"/>
                  </a:lnTo>
                  <a:lnTo>
                    <a:pt x="819" y="318"/>
                  </a:lnTo>
                  <a:lnTo>
                    <a:pt x="817" y="320"/>
                  </a:lnTo>
                  <a:lnTo>
                    <a:pt x="815" y="324"/>
                  </a:lnTo>
                  <a:lnTo>
                    <a:pt x="813" y="325"/>
                  </a:lnTo>
                  <a:lnTo>
                    <a:pt x="810" y="329"/>
                  </a:lnTo>
                  <a:lnTo>
                    <a:pt x="808" y="331"/>
                  </a:lnTo>
                  <a:lnTo>
                    <a:pt x="806" y="334"/>
                  </a:lnTo>
                  <a:lnTo>
                    <a:pt x="804" y="336"/>
                  </a:lnTo>
                  <a:lnTo>
                    <a:pt x="801" y="338"/>
                  </a:lnTo>
                  <a:lnTo>
                    <a:pt x="799" y="340"/>
                  </a:lnTo>
                  <a:lnTo>
                    <a:pt x="796" y="341"/>
                  </a:lnTo>
                  <a:lnTo>
                    <a:pt x="794" y="341"/>
                  </a:lnTo>
                  <a:lnTo>
                    <a:pt x="790" y="342"/>
                  </a:lnTo>
                  <a:lnTo>
                    <a:pt x="786" y="341"/>
                  </a:lnTo>
                  <a:lnTo>
                    <a:pt x="782" y="339"/>
                  </a:lnTo>
                  <a:lnTo>
                    <a:pt x="778" y="337"/>
                  </a:lnTo>
                  <a:lnTo>
                    <a:pt x="773" y="335"/>
                  </a:lnTo>
                  <a:lnTo>
                    <a:pt x="770" y="331"/>
                  </a:lnTo>
                  <a:lnTo>
                    <a:pt x="766" y="327"/>
                  </a:lnTo>
                  <a:lnTo>
                    <a:pt x="762" y="324"/>
                  </a:lnTo>
                  <a:lnTo>
                    <a:pt x="757" y="320"/>
                  </a:lnTo>
                  <a:lnTo>
                    <a:pt x="753" y="317"/>
                  </a:lnTo>
                  <a:lnTo>
                    <a:pt x="750" y="313"/>
                  </a:lnTo>
                  <a:lnTo>
                    <a:pt x="746" y="309"/>
                  </a:lnTo>
                  <a:lnTo>
                    <a:pt x="742" y="307"/>
                  </a:lnTo>
                  <a:lnTo>
                    <a:pt x="738" y="303"/>
                  </a:lnTo>
                  <a:lnTo>
                    <a:pt x="735" y="300"/>
                  </a:lnTo>
                  <a:lnTo>
                    <a:pt x="733" y="297"/>
                  </a:lnTo>
                  <a:lnTo>
                    <a:pt x="728" y="296"/>
                  </a:lnTo>
                  <a:lnTo>
                    <a:pt x="723" y="293"/>
                  </a:lnTo>
                  <a:lnTo>
                    <a:pt x="716" y="290"/>
                  </a:lnTo>
                  <a:lnTo>
                    <a:pt x="711" y="287"/>
                  </a:lnTo>
                  <a:lnTo>
                    <a:pt x="703" y="283"/>
                  </a:lnTo>
                  <a:lnTo>
                    <a:pt x="698" y="279"/>
                  </a:lnTo>
                  <a:lnTo>
                    <a:pt x="691" y="276"/>
                  </a:lnTo>
                  <a:lnTo>
                    <a:pt x="685" y="271"/>
                  </a:lnTo>
                  <a:lnTo>
                    <a:pt x="678" y="268"/>
                  </a:lnTo>
                  <a:lnTo>
                    <a:pt x="671" y="265"/>
                  </a:lnTo>
                  <a:lnTo>
                    <a:pt x="664" y="262"/>
                  </a:lnTo>
                  <a:lnTo>
                    <a:pt x="658" y="258"/>
                  </a:lnTo>
                  <a:lnTo>
                    <a:pt x="651" y="256"/>
                  </a:lnTo>
                  <a:lnTo>
                    <a:pt x="645" y="253"/>
                  </a:lnTo>
                  <a:lnTo>
                    <a:pt x="640" y="251"/>
                  </a:lnTo>
                  <a:lnTo>
                    <a:pt x="635" y="249"/>
                  </a:lnTo>
                  <a:lnTo>
                    <a:pt x="629" y="250"/>
                  </a:lnTo>
                  <a:lnTo>
                    <a:pt x="624" y="250"/>
                  </a:lnTo>
                  <a:lnTo>
                    <a:pt x="617" y="252"/>
                  </a:lnTo>
                  <a:lnTo>
                    <a:pt x="612" y="254"/>
                  </a:lnTo>
                  <a:lnTo>
                    <a:pt x="604" y="258"/>
                  </a:lnTo>
                  <a:lnTo>
                    <a:pt x="598" y="260"/>
                  </a:lnTo>
                  <a:lnTo>
                    <a:pt x="590" y="264"/>
                  </a:lnTo>
                  <a:lnTo>
                    <a:pt x="585" y="267"/>
                  </a:lnTo>
                  <a:lnTo>
                    <a:pt x="577" y="270"/>
                  </a:lnTo>
                  <a:lnTo>
                    <a:pt x="570" y="274"/>
                  </a:lnTo>
                  <a:lnTo>
                    <a:pt x="564" y="278"/>
                  </a:lnTo>
                  <a:lnTo>
                    <a:pt x="558" y="280"/>
                  </a:lnTo>
                  <a:lnTo>
                    <a:pt x="552" y="283"/>
                  </a:lnTo>
                  <a:lnTo>
                    <a:pt x="546" y="285"/>
                  </a:lnTo>
                  <a:lnTo>
                    <a:pt x="541" y="286"/>
                  </a:lnTo>
                  <a:lnTo>
                    <a:pt x="537" y="286"/>
                  </a:lnTo>
                  <a:lnTo>
                    <a:pt x="530" y="285"/>
                  </a:lnTo>
                  <a:lnTo>
                    <a:pt x="525" y="282"/>
                  </a:lnTo>
                  <a:lnTo>
                    <a:pt x="517" y="279"/>
                  </a:lnTo>
                  <a:lnTo>
                    <a:pt x="512" y="275"/>
                  </a:lnTo>
                  <a:lnTo>
                    <a:pt x="504" y="270"/>
                  </a:lnTo>
                  <a:lnTo>
                    <a:pt x="497" y="265"/>
                  </a:lnTo>
                  <a:lnTo>
                    <a:pt x="489" y="259"/>
                  </a:lnTo>
                  <a:lnTo>
                    <a:pt x="483" y="254"/>
                  </a:lnTo>
                  <a:lnTo>
                    <a:pt x="476" y="249"/>
                  </a:lnTo>
                  <a:lnTo>
                    <a:pt x="468" y="244"/>
                  </a:lnTo>
                  <a:lnTo>
                    <a:pt x="461" y="239"/>
                  </a:lnTo>
                  <a:lnTo>
                    <a:pt x="453" y="234"/>
                  </a:lnTo>
                  <a:lnTo>
                    <a:pt x="446" y="230"/>
                  </a:lnTo>
                  <a:lnTo>
                    <a:pt x="439" y="227"/>
                  </a:lnTo>
                  <a:lnTo>
                    <a:pt x="433" y="225"/>
                  </a:lnTo>
                  <a:lnTo>
                    <a:pt x="428" y="222"/>
                  </a:lnTo>
                  <a:lnTo>
                    <a:pt x="422" y="224"/>
                  </a:lnTo>
                  <a:lnTo>
                    <a:pt x="417" y="224"/>
                  </a:lnTo>
                  <a:lnTo>
                    <a:pt x="411" y="226"/>
                  </a:lnTo>
                  <a:lnTo>
                    <a:pt x="406" y="228"/>
                  </a:lnTo>
                  <a:lnTo>
                    <a:pt x="399" y="231"/>
                  </a:lnTo>
                  <a:lnTo>
                    <a:pt x="393" y="233"/>
                  </a:lnTo>
                  <a:lnTo>
                    <a:pt x="388" y="236"/>
                  </a:lnTo>
                  <a:lnTo>
                    <a:pt x="382" y="238"/>
                  </a:lnTo>
                  <a:lnTo>
                    <a:pt x="375" y="242"/>
                  </a:lnTo>
                  <a:lnTo>
                    <a:pt x="370" y="244"/>
                  </a:lnTo>
                  <a:lnTo>
                    <a:pt x="364" y="246"/>
                  </a:lnTo>
                  <a:lnTo>
                    <a:pt x="358" y="248"/>
                  </a:lnTo>
                  <a:lnTo>
                    <a:pt x="353" y="250"/>
                  </a:lnTo>
                  <a:lnTo>
                    <a:pt x="347" y="250"/>
                  </a:lnTo>
                  <a:lnTo>
                    <a:pt x="342" y="250"/>
                  </a:lnTo>
                  <a:lnTo>
                    <a:pt x="338" y="249"/>
                  </a:lnTo>
                  <a:lnTo>
                    <a:pt x="333" y="249"/>
                  </a:lnTo>
                  <a:lnTo>
                    <a:pt x="329" y="247"/>
                  </a:lnTo>
                  <a:lnTo>
                    <a:pt x="325" y="245"/>
                  </a:lnTo>
                  <a:lnTo>
                    <a:pt x="322" y="242"/>
                  </a:lnTo>
                  <a:lnTo>
                    <a:pt x="316" y="239"/>
                  </a:lnTo>
                  <a:lnTo>
                    <a:pt x="313" y="236"/>
                  </a:lnTo>
                  <a:lnTo>
                    <a:pt x="309" y="232"/>
                  </a:lnTo>
                  <a:lnTo>
                    <a:pt x="305" y="228"/>
                  </a:lnTo>
                  <a:lnTo>
                    <a:pt x="301" y="225"/>
                  </a:lnTo>
                  <a:lnTo>
                    <a:pt x="297" y="221"/>
                  </a:lnTo>
                  <a:lnTo>
                    <a:pt x="293" y="218"/>
                  </a:lnTo>
                  <a:lnTo>
                    <a:pt x="290" y="214"/>
                  </a:lnTo>
                  <a:lnTo>
                    <a:pt x="286" y="211"/>
                  </a:lnTo>
                  <a:lnTo>
                    <a:pt x="283" y="208"/>
                  </a:lnTo>
                  <a:lnTo>
                    <a:pt x="279" y="206"/>
                  </a:lnTo>
                  <a:lnTo>
                    <a:pt x="277" y="202"/>
                  </a:lnTo>
                  <a:lnTo>
                    <a:pt x="269" y="199"/>
                  </a:lnTo>
                  <a:lnTo>
                    <a:pt x="262" y="195"/>
                  </a:lnTo>
                  <a:lnTo>
                    <a:pt x="252" y="191"/>
                  </a:lnTo>
                  <a:lnTo>
                    <a:pt x="243" y="188"/>
                  </a:lnTo>
                  <a:lnTo>
                    <a:pt x="232" y="184"/>
                  </a:lnTo>
                  <a:lnTo>
                    <a:pt x="222" y="180"/>
                  </a:lnTo>
                  <a:lnTo>
                    <a:pt x="210" y="176"/>
                  </a:lnTo>
                  <a:lnTo>
                    <a:pt x="200" y="172"/>
                  </a:lnTo>
                  <a:lnTo>
                    <a:pt x="189" y="169"/>
                  </a:lnTo>
                  <a:lnTo>
                    <a:pt x="178" y="165"/>
                  </a:lnTo>
                  <a:lnTo>
                    <a:pt x="167" y="161"/>
                  </a:lnTo>
                  <a:lnTo>
                    <a:pt x="157" y="158"/>
                  </a:lnTo>
                  <a:lnTo>
                    <a:pt x="147" y="154"/>
                  </a:lnTo>
                  <a:lnTo>
                    <a:pt x="139" y="150"/>
                  </a:lnTo>
                  <a:lnTo>
                    <a:pt x="131" y="146"/>
                  </a:lnTo>
                  <a:lnTo>
                    <a:pt x="124" y="142"/>
                  </a:lnTo>
                  <a:lnTo>
                    <a:pt x="121" y="142"/>
                  </a:lnTo>
                  <a:lnTo>
                    <a:pt x="119" y="140"/>
                  </a:lnTo>
                  <a:lnTo>
                    <a:pt x="118" y="138"/>
                  </a:lnTo>
                  <a:lnTo>
                    <a:pt x="116" y="136"/>
                  </a:lnTo>
                  <a:lnTo>
                    <a:pt x="112" y="134"/>
                  </a:lnTo>
                  <a:lnTo>
                    <a:pt x="110" y="132"/>
                  </a:lnTo>
                  <a:lnTo>
                    <a:pt x="109" y="131"/>
                  </a:lnTo>
                  <a:lnTo>
                    <a:pt x="107" y="129"/>
                  </a:lnTo>
                  <a:lnTo>
                    <a:pt x="104" y="127"/>
                  </a:lnTo>
                  <a:lnTo>
                    <a:pt x="102" y="125"/>
                  </a:lnTo>
                  <a:lnTo>
                    <a:pt x="100" y="123"/>
                  </a:lnTo>
                  <a:lnTo>
                    <a:pt x="98" y="121"/>
                  </a:lnTo>
                  <a:lnTo>
                    <a:pt x="96" y="119"/>
                  </a:lnTo>
                  <a:lnTo>
                    <a:pt x="94" y="117"/>
                  </a:lnTo>
                  <a:lnTo>
                    <a:pt x="92" y="115"/>
                  </a:lnTo>
                  <a:lnTo>
                    <a:pt x="92" y="112"/>
                  </a:lnTo>
                  <a:lnTo>
                    <a:pt x="89" y="109"/>
                  </a:lnTo>
                  <a:lnTo>
                    <a:pt x="85" y="103"/>
                  </a:lnTo>
                  <a:lnTo>
                    <a:pt x="81" y="98"/>
                  </a:lnTo>
                  <a:lnTo>
                    <a:pt x="78" y="91"/>
                  </a:lnTo>
                  <a:lnTo>
                    <a:pt x="74" y="86"/>
                  </a:lnTo>
                  <a:lnTo>
                    <a:pt x="71" y="79"/>
                  </a:lnTo>
                  <a:lnTo>
                    <a:pt x="67" y="72"/>
                  </a:lnTo>
                  <a:lnTo>
                    <a:pt x="63" y="64"/>
                  </a:lnTo>
                  <a:lnTo>
                    <a:pt x="58" y="59"/>
                  </a:lnTo>
                  <a:lnTo>
                    <a:pt x="54" y="52"/>
                  </a:lnTo>
                  <a:lnTo>
                    <a:pt x="51" y="46"/>
                  </a:lnTo>
                  <a:lnTo>
                    <a:pt x="47" y="38"/>
                  </a:lnTo>
                  <a:lnTo>
                    <a:pt x="43" y="33"/>
                  </a:lnTo>
                  <a:lnTo>
                    <a:pt x="40" y="27"/>
                  </a:lnTo>
                  <a:lnTo>
                    <a:pt x="36" y="23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28" y="16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6"/>
                  </a:lnTo>
                </a:path>
              </a:pathLst>
            </a:custGeom>
            <a:solidFill>
              <a:srgbClr val="00c200"/>
            </a:solidFill>
            <a:ln w="9360">
              <a:solidFill>
                <a:srgbClr val="00c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875120" y="6765120"/>
              <a:ext cx="1911600" cy="646200"/>
            </a:xfrm>
            <a:prstGeom prst="roundRect">
              <a:avLst>
                <a:gd name="adj" fmla="val 0"/>
              </a:avLst>
            </a:prstGeom>
            <a:solidFill>
              <a:srgbClr val="e0a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543640" y="6950160"/>
              <a:ext cx="285840" cy="439560"/>
              <a:chOff x="5543640" y="6950160"/>
              <a:chExt cx="285840" cy="439560"/>
            </a:xfrm>
          </p:grpSpPr>
          <p:sp>
            <p:nvSpPr>
              <p:cNvPr id="227" name=""/>
              <p:cNvSpPr/>
              <p:nvPr/>
            </p:nvSpPr>
            <p:spPr>
              <a:xfrm flipV="1">
                <a:off x="5543640" y="6950160"/>
                <a:ext cx="47520" cy="77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35242">
                    <a:moveTo>
                      <a:pt x="0" y="0"/>
                    </a:moveTo>
                    <a:arcTo wR="0" hR="0" stAng="16200000" swAng="-5400000"/>
                    <a:lnTo>
                      <a:pt x="0" y="35242"/>
                    </a:lnTo>
                    <a:arcTo wR="0" hR="0" stAng="10800000" swAng="-5400000"/>
                    <a:lnTo>
                      <a:pt x="21600" y="352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5616720" y="6950160"/>
                <a:ext cx="47520" cy="77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35242">
                    <a:moveTo>
                      <a:pt x="0" y="0"/>
                    </a:moveTo>
                    <a:arcTo wR="0" hR="0" stAng="16200000" swAng="-5400000"/>
                    <a:lnTo>
                      <a:pt x="0" y="35242"/>
                    </a:lnTo>
                    <a:arcTo wR="0" hR="0" stAng="10800000" swAng="-5400000"/>
                    <a:lnTo>
                      <a:pt x="21600" y="352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700600" y="6950160"/>
                <a:ext cx="50760" cy="777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33008">
                    <a:moveTo>
                      <a:pt x="0" y="0"/>
                    </a:moveTo>
                    <a:arcTo wR="0" hR="0" stAng="16200000" swAng="-5400000"/>
                    <a:lnTo>
                      <a:pt x="0" y="33008"/>
                    </a:lnTo>
                    <a:arcTo wR="0" hR="0" stAng="10800000" swAng="-5400000"/>
                    <a:lnTo>
                      <a:pt x="21600" y="3300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5783400" y="6950160"/>
                <a:ext cx="46080" cy="777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36335">
                    <a:moveTo>
                      <a:pt x="0" y="0"/>
                    </a:moveTo>
                    <a:arcTo wR="0" hR="0" stAng="16200000" swAng="-5400000"/>
                    <a:lnTo>
                      <a:pt x="0" y="36335"/>
                    </a:lnTo>
                    <a:arcTo wR="0" hR="0" stAng="10800000" swAng="-5400000"/>
                    <a:lnTo>
                      <a:pt x="21600" y="3633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543640" y="7068240"/>
                <a:ext cx="47520" cy="730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21600" h="33131">
                    <a:moveTo>
                      <a:pt x="0" y="0"/>
                    </a:moveTo>
                    <a:arcTo wR="0" hR="0" stAng="16200000" swAng="-5400000"/>
                    <a:lnTo>
                      <a:pt x="0" y="33131"/>
                    </a:lnTo>
                    <a:arcTo wR="0" hR="0" stAng="10800000" swAng="-5400000"/>
                    <a:lnTo>
                      <a:pt x="21600" y="331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616720" y="7068240"/>
                <a:ext cx="47520" cy="730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21600" h="33131">
                    <a:moveTo>
                      <a:pt x="0" y="0"/>
                    </a:moveTo>
                    <a:arcTo wR="0" hR="0" stAng="16200000" swAng="-5400000"/>
                    <a:lnTo>
                      <a:pt x="0" y="33131"/>
                    </a:lnTo>
                    <a:arcTo wR="0" hR="0" stAng="10800000" swAng="-5400000"/>
                    <a:lnTo>
                      <a:pt x="21600" y="331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700600" y="7068240"/>
                <a:ext cx="50760" cy="73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21600" h="31031">
                    <a:moveTo>
                      <a:pt x="0" y="0"/>
                    </a:moveTo>
                    <a:arcTo wR="0" hR="0" stAng="16200000" swAng="-5400000"/>
                    <a:lnTo>
                      <a:pt x="0" y="31031"/>
                    </a:lnTo>
                    <a:arcTo wR="0" hR="0" stAng="10800000" swAng="-5400000"/>
                    <a:lnTo>
                      <a:pt x="21600" y="310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5783400" y="7068240"/>
                <a:ext cx="46080" cy="730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21600" h="34158">
                    <a:moveTo>
                      <a:pt x="0" y="0"/>
                    </a:moveTo>
                    <a:arcTo wR="0" hR="0" stAng="16200000" swAng="-5400000"/>
                    <a:lnTo>
                      <a:pt x="0" y="34158"/>
                    </a:lnTo>
                    <a:arcTo wR="0" hR="0" stAng="10800000" swAng="-5400000"/>
                    <a:lnTo>
                      <a:pt x="21600" y="341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5543640" y="7182720"/>
                <a:ext cx="47520" cy="730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21600" h="33131">
                    <a:moveTo>
                      <a:pt x="0" y="0"/>
                    </a:moveTo>
                    <a:arcTo wR="0" hR="0" stAng="16200000" swAng="-5400000"/>
                    <a:lnTo>
                      <a:pt x="0" y="33131"/>
                    </a:lnTo>
                    <a:arcTo wR="0" hR="0" stAng="10800000" swAng="-5400000"/>
                    <a:lnTo>
                      <a:pt x="21600" y="331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616720" y="7182720"/>
                <a:ext cx="47520" cy="730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21600" h="33131">
                    <a:moveTo>
                      <a:pt x="0" y="0"/>
                    </a:moveTo>
                    <a:arcTo wR="0" hR="0" stAng="16200000" swAng="-5400000"/>
                    <a:lnTo>
                      <a:pt x="0" y="33131"/>
                    </a:lnTo>
                    <a:arcTo wR="0" hR="0" stAng="10800000" swAng="-5400000"/>
                    <a:lnTo>
                      <a:pt x="21600" y="331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5700600" y="7182720"/>
                <a:ext cx="50760" cy="73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21600" h="31031">
                    <a:moveTo>
                      <a:pt x="0" y="0"/>
                    </a:moveTo>
                    <a:arcTo wR="0" hR="0" stAng="16200000" swAng="-5400000"/>
                    <a:lnTo>
                      <a:pt x="0" y="31031"/>
                    </a:lnTo>
                    <a:arcTo wR="0" hR="0" stAng="10800000" swAng="-5400000"/>
                    <a:lnTo>
                      <a:pt x="21600" y="310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783400" y="7182720"/>
                <a:ext cx="46080" cy="730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21600" h="34158">
                    <a:moveTo>
                      <a:pt x="0" y="0"/>
                    </a:moveTo>
                    <a:arcTo wR="0" hR="0" stAng="16200000" swAng="-5400000"/>
                    <a:lnTo>
                      <a:pt x="0" y="34158"/>
                    </a:lnTo>
                    <a:arcTo wR="0" hR="0" stAng="10800000" swAng="-5400000"/>
                    <a:lnTo>
                      <a:pt x="21600" y="341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5543640" y="7311960"/>
                <a:ext cx="47520" cy="77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35242">
                    <a:moveTo>
                      <a:pt x="0" y="0"/>
                    </a:moveTo>
                    <a:arcTo wR="0" hR="0" stAng="16200000" swAng="-5400000"/>
                    <a:lnTo>
                      <a:pt x="0" y="35242"/>
                    </a:lnTo>
                    <a:arcTo wR="0" hR="0" stAng="10800000" swAng="-5400000"/>
                    <a:lnTo>
                      <a:pt x="21600" y="352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5616720" y="7311960"/>
                <a:ext cx="47520" cy="77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35242">
                    <a:moveTo>
                      <a:pt x="0" y="0"/>
                    </a:moveTo>
                    <a:arcTo wR="0" hR="0" stAng="16200000" swAng="-5400000"/>
                    <a:lnTo>
                      <a:pt x="0" y="35242"/>
                    </a:lnTo>
                    <a:arcTo wR="0" hR="0" stAng="10800000" swAng="-5400000"/>
                    <a:lnTo>
                      <a:pt x="21600" y="352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5700600" y="7311960"/>
                <a:ext cx="50760" cy="777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33008">
                    <a:moveTo>
                      <a:pt x="0" y="0"/>
                    </a:moveTo>
                    <a:arcTo wR="0" hR="0" stAng="16200000" swAng="-5400000"/>
                    <a:lnTo>
                      <a:pt x="0" y="33008"/>
                    </a:lnTo>
                    <a:arcTo wR="0" hR="0" stAng="10800000" swAng="-5400000"/>
                    <a:lnTo>
                      <a:pt x="21600" y="3300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5783400" y="7311960"/>
                <a:ext cx="46080" cy="777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36335">
                    <a:moveTo>
                      <a:pt x="0" y="0"/>
                    </a:moveTo>
                    <a:arcTo wR="0" hR="0" stAng="16200000" swAng="-5400000"/>
                    <a:lnTo>
                      <a:pt x="0" y="36335"/>
                    </a:lnTo>
                    <a:arcTo wR="0" hR="0" stAng="10800000" swAng="-5400000"/>
                    <a:lnTo>
                      <a:pt x="21600" y="3633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884840" y="6761160"/>
              <a:ext cx="2058840" cy="304920"/>
            </a:xfrm>
            <a:custGeom>
              <a:avLst/>
              <a:gdLst/>
              <a:ahLst/>
              <a:rect l="l" t="t" r="r" b="b"/>
              <a:pathLst>
                <a:path w="1297" h="192">
                  <a:moveTo>
                    <a:pt x="0" y="7"/>
                  </a:moveTo>
                  <a:lnTo>
                    <a:pt x="20" y="73"/>
                  </a:lnTo>
                  <a:lnTo>
                    <a:pt x="113" y="73"/>
                  </a:lnTo>
                  <a:lnTo>
                    <a:pt x="113" y="99"/>
                  </a:lnTo>
                  <a:lnTo>
                    <a:pt x="173" y="142"/>
                  </a:lnTo>
                  <a:lnTo>
                    <a:pt x="168" y="162"/>
                  </a:lnTo>
                  <a:lnTo>
                    <a:pt x="384" y="162"/>
                  </a:lnTo>
                  <a:lnTo>
                    <a:pt x="392" y="119"/>
                  </a:lnTo>
                  <a:lnTo>
                    <a:pt x="539" y="119"/>
                  </a:lnTo>
                  <a:lnTo>
                    <a:pt x="609" y="128"/>
                  </a:lnTo>
                  <a:lnTo>
                    <a:pt x="669" y="191"/>
                  </a:lnTo>
                  <a:lnTo>
                    <a:pt x="854" y="191"/>
                  </a:lnTo>
                  <a:lnTo>
                    <a:pt x="854" y="108"/>
                  </a:lnTo>
                  <a:lnTo>
                    <a:pt x="1022" y="108"/>
                  </a:lnTo>
                  <a:lnTo>
                    <a:pt x="1082" y="188"/>
                  </a:lnTo>
                  <a:lnTo>
                    <a:pt x="1253" y="188"/>
                  </a:lnTo>
                  <a:lnTo>
                    <a:pt x="1296" y="188"/>
                  </a:lnTo>
                  <a:lnTo>
                    <a:pt x="1227" y="55"/>
                  </a:lnTo>
                  <a:lnTo>
                    <a:pt x="1212" y="30"/>
                  </a:lnTo>
                  <a:lnTo>
                    <a:pt x="1200" y="3"/>
                  </a:lnTo>
                  <a:lnTo>
                    <a:pt x="1013" y="0"/>
                  </a:lnTo>
                  <a:lnTo>
                    <a:pt x="987" y="0"/>
                  </a:lnTo>
                  <a:lnTo>
                    <a:pt x="941" y="0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315040" y="7101000"/>
              <a:ext cx="36360" cy="307800"/>
              <a:chOff x="5315040" y="7101000"/>
              <a:chExt cx="36360" cy="307800"/>
            </a:xfrm>
          </p:grpSpPr>
          <p:sp>
            <p:nvSpPr>
              <p:cNvPr id="245" name=""/>
              <p:cNvSpPr/>
              <p:nvPr/>
            </p:nvSpPr>
            <p:spPr>
              <a:xfrm flipV="1">
                <a:off x="5315040" y="7101000"/>
                <a:ext cx="36360" cy="77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45953">
                    <a:moveTo>
                      <a:pt x="0" y="0"/>
                    </a:moveTo>
                    <a:arcTo wR="0" hR="0" stAng="16200000" swAng="-5400000"/>
                    <a:lnTo>
                      <a:pt x="0" y="45953"/>
                    </a:lnTo>
                    <a:arcTo wR="0" hR="0" stAng="10800000" swAng="-5400000"/>
                    <a:lnTo>
                      <a:pt x="21600" y="4595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5315040" y="7215120"/>
                <a:ext cx="36360" cy="77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45953">
                    <a:moveTo>
                      <a:pt x="0" y="0"/>
                    </a:moveTo>
                    <a:arcTo wR="0" hR="0" stAng="16200000" swAng="-5400000"/>
                    <a:lnTo>
                      <a:pt x="0" y="45953"/>
                    </a:lnTo>
                    <a:arcTo wR="0" hR="0" stAng="10800000" swAng="-5400000"/>
                    <a:lnTo>
                      <a:pt x="21600" y="4595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315040" y="7331040"/>
                <a:ext cx="36360" cy="77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45953">
                    <a:moveTo>
                      <a:pt x="0" y="0"/>
                    </a:moveTo>
                    <a:arcTo wR="0" hR="0" stAng="16200000" swAng="-5400000"/>
                    <a:lnTo>
                      <a:pt x="0" y="45953"/>
                    </a:lnTo>
                    <a:arcTo wR="0" hR="0" stAng="10800000" swAng="-5400000"/>
                    <a:lnTo>
                      <a:pt x="21600" y="4595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V="1">
              <a:off x="5095800" y="6958800"/>
              <a:ext cx="50760" cy="461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-36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21600" h="195313">
                  <a:moveTo>
                    <a:pt x="0" y="0"/>
                  </a:moveTo>
                  <a:arcTo wR="0" hR="0" stAng="16200000" swAng="-5400000"/>
                  <a:lnTo>
                    <a:pt x="0" y="195313"/>
                  </a:lnTo>
                  <a:arcTo wR="0" hR="0" stAng="10800000" swAng="-5400000"/>
                  <a:lnTo>
                    <a:pt x="21600" y="19531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99000" y="6969240"/>
              <a:ext cx="38160" cy="453960"/>
            </a:xfrm>
            <a:custGeom>
              <a:avLst/>
              <a:gdLst/>
              <a:ahLst/>
              <a:rect l="l" t="t" r="r" b="b"/>
              <a:pathLst>
                <a:path w="24" h="286">
                  <a:moveTo>
                    <a:pt x="0" y="285"/>
                  </a:moveTo>
                  <a:lnTo>
                    <a:pt x="23" y="285"/>
                  </a:lnTo>
                  <a:lnTo>
                    <a:pt x="20" y="0"/>
                  </a:lnTo>
                  <a:lnTo>
                    <a:pt x="0" y="8"/>
                  </a:lnTo>
                  <a:lnTo>
                    <a:pt x="0" y="285"/>
                  </a:lnTo>
                  <a:lnTo>
                    <a:pt x="0" y="2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938920" y="7068240"/>
              <a:ext cx="291960" cy="35244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-360 h 352440"/>
                <a:gd name="textAreaBottom" fmla="*/ 352440 h 352440"/>
              </a:gdLst>
              <a:ahLst/>
              <a:rect l="textAreaLeft" t="textAreaTop" r="textAreaRight" b="textAreaBottom"/>
              <a:pathLst>
                <a:path w="21600" h="26069">
                  <a:moveTo>
                    <a:pt x="0" y="0"/>
                  </a:moveTo>
                  <a:arcTo wR="0" hR="0" stAng="16200000" swAng="-5400000"/>
                  <a:lnTo>
                    <a:pt x="0" y="26069"/>
                  </a:lnTo>
                  <a:arcTo wR="0" hR="0" stAng="10800000" swAng="-5400000"/>
                  <a:lnTo>
                    <a:pt x="21600" y="2606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943600" y="7059240"/>
              <a:ext cx="284040" cy="371520"/>
              <a:chOff x="5943600" y="7059240"/>
              <a:chExt cx="284040" cy="37152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6076800" y="7083360"/>
                <a:ext cx="30240" cy="85680"/>
              </a:xfrm>
              <a:custGeom>
                <a:avLst/>
                <a:gdLst>
                  <a:gd name="textAreaLeft" fmla="*/ 0 w 30240"/>
                  <a:gd name="textAreaRight" fmla="*/ 30240 w 30240"/>
                  <a:gd name="textAreaTop" fmla="*/ 360 h 85680"/>
                  <a:gd name="textAreaBottom" fmla="*/ 86400 h 85680"/>
                </a:gdLst>
                <a:ahLst/>
                <a:rect l="textAreaLeft" t="textAreaTop" r="textAreaRight" b="textAreaBottom"/>
                <a:pathLst>
                  <a:path w="21600" h="60734">
                    <a:moveTo>
                      <a:pt x="0" y="0"/>
                    </a:moveTo>
                    <a:arcTo wR="0" hR="0" stAng="16200000" swAng="-5400000"/>
                    <a:lnTo>
                      <a:pt x="0" y="60734"/>
                    </a:lnTo>
                    <a:arcTo wR="0" hR="0" stAng="10800000" swAng="-5400000"/>
                    <a:lnTo>
                      <a:pt x="21600" y="6073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076800" y="7214400"/>
                <a:ext cx="30240" cy="87480"/>
              </a:xfrm>
              <a:custGeom>
                <a:avLst/>
                <a:gdLst>
                  <a:gd name="textAreaLeft" fmla="*/ 0 w 30240"/>
                  <a:gd name="textAreaRight" fmla="*/ 30240 w 30240"/>
                  <a:gd name="textAreaTop" fmla="*/ -360 h 87480"/>
                  <a:gd name="textAreaBottom" fmla="*/ 87480 h 87480"/>
                </a:gdLst>
                <a:ahLst/>
                <a:rect l="textAreaLeft" t="textAreaTop" r="textAreaRight" b="textAreaBottom"/>
                <a:pathLst>
                  <a:path w="21600" h="62005">
                    <a:moveTo>
                      <a:pt x="0" y="0"/>
                    </a:moveTo>
                    <a:arcTo wR="0" hR="0" stAng="16200000" swAng="-5400000"/>
                    <a:lnTo>
                      <a:pt x="0" y="62005"/>
                    </a:lnTo>
                    <a:arcTo wR="0" hR="0" stAng="10800000" swAng="-5400000"/>
                    <a:lnTo>
                      <a:pt x="21600" y="6200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076800" y="7342920"/>
                <a:ext cx="30240" cy="87480"/>
              </a:xfrm>
              <a:custGeom>
                <a:avLst/>
                <a:gdLst>
                  <a:gd name="textAreaLeft" fmla="*/ 0 w 30240"/>
                  <a:gd name="textAreaRight" fmla="*/ 30240 w 30240"/>
                  <a:gd name="textAreaTop" fmla="*/ -360 h 87480"/>
                  <a:gd name="textAreaBottom" fmla="*/ 87480 h 87480"/>
                </a:gdLst>
                <a:ahLst/>
                <a:rect l="textAreaLeft" t="textAreaTop" r="textAreaRight" b="textAreaBottom"/>
                <a:pathLst>
                  <a:path w="21600" h="62005">
                    <a:moveTo>
                      <a:pt x="0" y="0"/>
                    </a:moveTo>
                    <a:arcTo wR="0" hR="0" stAng="16200000" swAng="-5400000"/>
                    <a:lnTo>
                      <a:pt x="0" y="62005"/>
                    </a:lnTo>
                    <a:arcTo wR="0" hR="0" stAng="10800000" swAng="-5400000"/>
                    <a:lnTo>
                      <a:pt x="21600" y="6200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208560" y="7058880"/>
                <a:ext cx="19080" cy="87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7480"/>
                  <a:gd name="textAreaBottom" fmla="*/ 87480 h 87480"/>
                </a:gdLst>
                <a:ahLst/>
                <a:rect l="textAreaLeft" t="textAreaTop" r="textAreaRight" b="textAreaBottom"/>
                <a:pathLst>
                  <a:path w="21600" h="97600">
                    <a:moveTo>
                      <a:pt x="0" y="0"/>
                    </a:moveTo>
                    <a:arcTo wR="0" hR="0" stAng="16200000" swAng="-5400000"/>
                    <a:lnTo>
                      <a:pt x="0" y="97600"/>
                    </a:lnTo>
                    <a:arcTo wR="0" hR="0" stAng="10800000" swAng="-5400000"/>
                    <a:lnTo>
                      <a:pt x="21600" y="97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6208560" y="7192080"/>
                <a:ext cx="19080" cy="87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7480"/>
                  <a:gd name="textAreaBottom" fmla="*/ 87480 h 87480"/>
                </a:gdLst>
                <a:ahLst/>
                <a:rect l="textAreaLeft" t="textAreaTop" r="textAreaRight" b="textAreaBottom"/>
                <a:pathLst>
                  <a:path w="21600" h="97600">
                    <a:moveTo>
                      <a:pt x="0" y="0"/>
                    </a:moveTo>
                    <a:arcTo wR="0" hR="0" stAng="16200000" swAng="-5400000"/>
                    <a:lnTo>
                      <a:pt x="0" y="97600"/>
                    </a:lnTo>
                    <a:arcTo wR="0" hR="0" stAng="10800000" swAng="-5400000"/>
                    <a:lnTo>
                      <a:pt x="21600" y="97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208560" y="7324560"/>
                <a:ext cx="19080" cy="92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360 h 92160"/>
                  <a:gd name="textAreaBottom" fmla="*/ 92880 h 92160"/>
                </a:gdLst>
                <a:ahLst/>
                <a:rect l="textAreaLeft" t="textAreaTop" r="textAreaRight" b="textAreaBottom"/>
                <a:pathLst>
                  <a:path w="21600" h="102800">
                    <a:moveTo>
                      <a:pt x="0" y="0"/>
                    </a:moveTo>
                    <a:arcTo wR="0" hR="0" stAng="16200000" swAng="-5400000"/>
                    <a:lnTo>
                      <a:pt x="0" y="102800"/>
                    </a:lnTo>
                    <a:arcTo wR="0" hR="0" stAng="10800000" swAng="-5400000"/>
                    <a:lnTo>
                      <a:pt x="21600" y="102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5943600" y="7058880"/>
                <a:ext cx="22320" cy="874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87480"/>
                  <a:gd name="textAreaBottom" fmla="*/ 87480 h 87480"/>
                </a:gdLst>
                <a:ahLst/>
                <a:rect l="textAreaLeft" t="textAreaTop" r="textAreaRight" b="textAreaBottom"/>
                <a:pathLst>
                  <a:path w="21600" h="83657">
                    <a:moveTo>
                      <a:pt x="0" y="0"/>
                    </a:moveTo>
                    <a:arcTo wR="0" hR="0" stAng="16200000" swAng="-5400000"/>
                    <a:lnTo>
                      <a:pt x="0" y="83657"/>
                    </a:lnTo>
                    <a:arcTo wR="0" hR="0" stAng="10800000" swAng="-5400000"/>
                    <a:lnTo>
                      <a:pt x="21600" y="836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5943600" y="7192080"/>
                <a:ext cx="22320" cy="874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87480"/>
                  <a:gd name="textAreaBottom" fmla="*/ 87480 h 87480"/>
                </a:gdLst>
                <a:ahLst/>
                <a:rect l="textAreaLeft" t="textAreaTop" r="textAreaRight" b="textAreaBottom"/>
                <a:pathLst>
                  <a:path w="21600" h="83657">
                    <a:moveTo>
                      <a:pt x="0" y="0"/>
                    </a:moveTo>
                    <a:arcTo wR="0" hR="0" stAng="16200000" swAng="-5400000"/>
                    <a:lnTo>
                      <a:pt x="0" y="83657"/>
                    </a:lnTo>
                    <a:arcTo wR="0" hR="0" stAng="10800000" swAng="-5400000"/>
                    <a:lnTo>
                      <a:pt x="21600" y="836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5943600" y="7324560"/>
                <a:ext cx="22320" cy="92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92160"/>
                  <a:gd name="textAreaBottom" fmla="*/ 92880 h 92160"/>
                </a:gdLst>
                <a:ahLst/>
                <a:rect l="textAreaLeft" t="textAreaTop" r="textAreaRight" b="textAreaBottom"/>
                <a:pathLst>
                  <a:path w="21600" h="88114">
                    <a:moveTo>
                      <a:pt x="0" y="0"/>
                    </a:moveTo>
                    <a:arcTo wR="0" hR="0" stAng="16200000" swAng="-5400000"/>
                    <a:lnTo>
                      <a:pt x="0" y="88114"/>
                    </a:lnTo>
                    <a:arcTo wR="0" hR="0" stAng="10800000" swAng="-5400000"/>
                    <a:lnTo>
                      <a:pt x="21600" y="8811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V="1">
              <a:off x="6589800" y="7059600"/>
              <a:ext cx="338040" cy="37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21600" h="23737">
                  <a:moveTo>
                    <a:pt x="0" y="0"/>
                  </a:moveTo>
                  <a:arcTo wR="0" hR="0" stAng="16200000" swAng="-5400000"/>
                  <a:lnTo>
                    <a:pt x="0" y="23737"/>
                  </a:lnTo>
                  <a:arcTo wR="0" hR="0" stAng="10800000" swAng="-5400000"/>
                  <a:lnTo>
                    <a:pt x="21600" y="237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626160" y="7073640"/>
              <a:ext cx="255600" cy="335160"/>
              <a:chOff x="6626160" y="7073640"/>
              <a:chExt cx="255600" cy="33516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6762600" y="7088040"/>
                <a:ext cx="24120" cy="763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76320"/>
                  <a:gd name="textAreaBottom" fmla="*/ 76320 h 76320"/>
                </a:gdLst>
                <a:ahLst/>
                <a:rect l="textAreaLeft" t="textAreaTop" r="textAreaRight" b="textAreaBottom"/>
                <a:pathLst>
                  <a:path w="21600" h="67659">
                    <a:moveTo>
                      <a:pt x="0" y="0"/>
                    </a:moveTo>
                    <a:arcTo wR="0" hR="0" stAng="16200000" swAng="-5400000"/>
                    <a:lnTo>
                      <a:pt x="0" y="67659"/>
                    </a:lnTo>
                    <a:arcTo wR="0" hR="0" stAng="10800000" swAng="-5400000"/>
                    <a:lnTo>
                      <a:pt x="21600" y="676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6762600" y="7211880"/>
                <a:ext cx="24120" cy="763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76320"/>
                  <a:gd name="textAreaBottom" fmla="*/ 76320 h 76320"/>
                </a:gdLst>
                <a:ahLst/>
                <a:rect l="textAreaLeft" t="textAreaTop" r="textAreaRight" b="textAreaBottom"/>
                <a:pathLst>
                  <a:path w="21600" h="67659">
                    <a:moveTo>
                      <a:pt x="0" y="0"/>
                    </a:moveTo>
                    <a:arcTo wR="0" hR="0" stAng="16200000" swAng="-5400000"/>
                    <a:lnTo>
                      <a:pt x="0" y="67659"/>
                    </a:lnTo>
                    <a:arcTo wR="0" hR="0" stAng="10800000" swAng="-5400000"/>
                    <a:lnTo>
                      <a:pt x="21600" y="676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6762600" y="7331040"/>
                <a:ext cx="24120" cy="777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68929">
                    <a:moveTo>
                      <a:pt x="0" y="0"/>
                    </a:moveTo>
                    <a:arcTo wR="0" hR="0" stAng="16200000" swAng="-5400000"/>
                    <a:lnTo>
                      <a:pt x="0" y="68929"/>
                    </a:lnTo>
                    <a:arcTo wR="0" hR="0" stAng="10800000" swAng="-5400000"/>
                    <a:lnTo>
                      <a:pt x="21600" y="689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6864480" y="7073280"/>
                <a:ext cx="17280" cy="82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-36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21600" h="101388">
                    <a:moveTo>
                      <a:pt x="0" y="0"/>
                    </a:moveTo>
                    <a:arcTo wR="0" hR="0" stAng="16200000" swAng="-5400000"/>
                    <a:lnTo>
                      <a:pt x="0" y="101388"/>
                    </a:lnTo>
                    <a:arcTo wR="0" hR="0" stAng="10800000" swAng="-5400000"/>
                    <a:lnTo>
                      <a:pt x="21600" y="10138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864480" y="7192080"/>
                <a:ext cx="17280" cy="810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21600" h="99624">
                    <a:moveTo>
                      <a:pt x="0" y="0"/>
                    </a:moveTo>
                    <a:arcTo wR="0" hR="0" stAng="16200000" swAng="-5400000"/>
                    <a:lnTo>
                      <a:pt x="0" y="99624"/>
                    </a:lnTo>
                    <a:arcTo wR="0" hR="0" stAng="10800000" swAng="-5400000"/>
                    <a:lnTo>
                      <a:pt x="21600" y="9962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864480" y="7316640"/>
                <a:ext cx="17280" cy="77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95657">
                    <a:moveTo>
                      <a:pt x="0" y="0"/>
                    </a:moveTo>
                    <a:arcTo wR="0" hR="0" stAng="16200000" swAng="-5400000"/>
                    <a:lnTo>
                      <a:pt x="0" y="95657"/>
                    </a:lnTo>
                    <a:arcTo wR="0" hR="0" stAng="10800000" swAng="-5400000"/>
                    <a:lnTo>
                      <a:pt x="21600" y="956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6626160" y="7088040"/>
                <a:ext cx="22320" cy="763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76320"/>
                  <a:gd name="textAreaBottom" fmla="*/ 77040 h 76320"/>
                </a:gdLst>
                <a:ahLst/>
                <a:rect l="textAreaLeft" t="textAreaTop" r="textAreaRight" b="textAreaBottom"/>
                <a:pathLst>
                  <a:path w="21600" h="73029">
                    <a:moveTo>
                      <a:pt x="0" y="0"/>
                    </a:moveTo>
                    <a:arcTo wR="0" hR="0" stAng="16200000" swAng="-5400000"/>
                    <a:lnTo>
                      <a:pt x="0" y="73029"/>
                    </a:lnTo>
                    <a:arcTo wR="0" hR="0" stAng="10800000" swAng="-5400000"/>
                    <a:lnTo>
                      <a:pt x="21600" y="730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626160" y="7211880"/>
                <a:ext cx="22320" cy="763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76320"/>
                  <a:gd name="textAreaBottom" fmla="*/ 77040 h 76320"/>
                </a:gdLst>
                <a:ahLst/>
                <a:rect l="textAreaLeft" t="textAreaTop" r="textAreaRight" b="textAreaBottom"/>
                <a:pathLst>
                  <a:path w="21600" h="73029">
                    <a:moveTo>
                      <a:pt x="0" y="0"/>
                    </a:moveTo>
                    <a:arcTo wR="0" hR="0" stAng="16200000" swAng="-5400000"/>
                    <a:lnTo>
                      <a:pt x="0" y="73029"/>
                    </a:lnTo>
                    <a:arcTo wR="0" hR="0" stAng="10800000" swAng="-5400000"/>
                    <a:lnTo>
                      <a:pt x="21600" y="730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626160" y="7331040"/>
                <a:ext cx="22320" cy="777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77760"/>
                  <a:gd name="textAreaBottom" fmla="*/ 77760 h 77760"/>
                </a:gdLst>
                <a:ahLst/>
                <a:rect l="textAreaLeft" t="textAreaTop" r="textAreaRight" b="textAreaBottom"/>
                <a:pathLst>
                  <a:path w="21600" h="74400">
                    <a:moveTo>
                      <a:pt x="0" y="0"/>
                    </a:moveTo>
                    <a:arcTo wR="0" hR="0" stAng="16200000" swAng="-5400000"/>
                    <a:lnTo>
                      <a:pt x="0" y="74400"/>
                    </a:lnTo>
                    <a:arcTo wR="0" hR="0" stAng="10800000" swAng="-5400000"/>
                    <a:lnTo>
                      <a:pt x="21600" y="74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930920" y="6949800"/>
              <a:ext cx="136440" cy="447480"/>
              <a:chOff x="4930920" y="6949800"/>
              <a:chExt cx="136440" cy="44748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4930920" y="6949440"/>
                <a:ext cx="17280" cy="82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-36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21600" h="101388">
                    <a:moveTo>
                      <a:pt x="0" y="0"/>
                    </a:moveTo>
                    <a:arcTo wR="0" hR="0" stAng="16200000" swAng="-5400000"/>
                    <a:lnTo>
                      <a:pt x="0" y="101388"/>
                    </a:lnTo>
                    <a:arcTo wR="0" hR="0" stAng="10800000" swAng="-5400000"/>
                    <a:lnTo>
                      <a:pt x="21600" y="10138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4962600" y="6949440"/>
                <a:ext cx="22320" cy="82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-36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21600" h="78857">
                    <a:moveTo>
                      <a:pt x="0" y="0"/>
                    </a:moveTo>
                    <a:arcTo wR="0" hR="0" stAng="16200000" swAng="-5400000"/>
                    <a:lnTo>
                      <a:pt x="0" y="78857"/>
                    </a:lnTo>
                    <a:arcTo wR="0" hR="0" stAng="10800000" swAng="-5400000"/>
                    <a:lnTo>
                      <a:pt x="21600" y="788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5003640" y="6949440"/>
                <a:ext cx="24120" cy="82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-36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21600" h="73059">
                    <a:moveTo>
                      <a:pt x="0" y="0"/>
                    </a:moveTo>
                    <a:arcTo wR="0" hR="0" stAng="16200000" swAng="-5400000"/>
                    <a:lnTo>
                      <a:pt x="0" y="73059"/>
                    </a:lnTo>
                    <a:arcTo wR="0" hR="0" stAng="10800000" swAng="-5400000"/>
                    <a:lnTo>
                      <a:pt x="21600" y="730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040360" y="6949440"/>
                <a:ext cx="27000" cy="82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21600" h="65368">
                    <a:moveTo>
                      <a:pt x="0" y="0"/>
                    </a:moveTo>
                    <a:arcTo wR="0" hR="0" stAng="16200000" swAng="-5400000"/>
                    <a:lnTo>
                      <a:pt x="0" y="65368"/>
                    </a:lnTo>
                    <a:arcTo wR="0" hR="0" stAng="10800000" swAng="-5400000"/>
                    <a:lnTo>
                      <a:pt x="21600" y="6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4930920" y="7068240"/>
                <a:ext cx="17280" cy="78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-36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21600" h="96098">
                    <a:moveTo>
                      <a:pt x="0" y="0"/>
                    </a:moveTo>
                    <a:arcTo wR="0" hR="0" stAng="16200000" swAng="-5400000"/>
                    <a:lnTo>
                      <a:pt x="0" y="96098"/>
                    </a:lnTo>
                    <a:arcTo wR="0" hR="0" stAng="10800000" swAng="-5400000"/>
                    <a:lnTo>
                      <a:pt x="21600" y="9609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4962600" y="7068240"/>
                <a:ext cx="22320" cy="781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21600" h="74743">
                    <a:moveTo>
                      <a:pt x="0" y="0"/>
                    </a:moveTo>
                    <a:arcTo wR="0" hR="0" stAng="16200000" swAng="-5400000"/>
                    <a:lnTo>
                      <a:pt x="0" y="74743"/>
                    </a:lnTo>
                    <a:arcTo wR="0" hR="0" stAng="10800000" swAng="-5400000"/>
                    <a:lnTo>
                      <a:pt x="21600" y="7474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5003640" y="7068240"/>
                <a:ext cx="24120" cy="78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21600" h="69247">
                    <a:moveTo>
                      <a:pt x="0" y="0"/>
                    </a:moveTo>
                    <a:arcTo wR="0" hR="0" stAng="16200000" swAng="-5400000"/>
                    <a:lnTo>
                      <a:pt x="0" y="69247"/>
                    </a:lnTo>
                    <a:arcTo wR="0" hR="0" stAng="10800000" swAng="-5400000"/>
                    <a:lnTo>
                      <a:pt x="21600" y="6924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5040360" y="7068240"/>
                <a:ext cx="27000" cy="781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21600" h="61958">
                    <a:moveTo>
                      <a:pt x="0" y="0"/>
                    </a:moveTo>
                    <a:arcTo wR="0" hR="0" stAng="16200000" swAng="-5400000"/>
                    <a:lnTo>
                      <a:pt x="0" y="61958"/>
                    </a:lnTo>
                    <a:arcTo wR="0" hR="0" stAng="10800000" swAng="-5400000"/>
                    <a:lnTo>
                      <a:pt x="21600" y="619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4930920" y="7188120"/>
                <a:ext cx="17280" cy="77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95657">
                    <a:moveTo>
                      <a:pt x="0" y="0"/>
                    </a:moveTo>
                    <a:arcTo wR="0" hR="0" stAng="16200000" swAng="-5400000"/>
                    <a:lnTo>
                      <a:pt x="0" y="95657"/>
                    </a:lnTo>
                    <a:arcTo wR="0" hR="0" stAng="10800000" swAng="-5400000"/>
                    <a:lnTo>
                      <a:pt x="21600" y="956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4962600" y="7188120"/>
                <a:ext cx="22320" cy="777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77760"/>
                  <a:gd name="textAreaBottom" fmla="*/ 77760 h 77760"/>
                </a:gdLst>
                <a:ahLst/>
                <a:rect l="textAreaLeft" t="textAreaTop" r="textAreaRight" b="textAreaBottom"/>
                <a:pathLst>
                  <a:path w="21600" h="74400">
                    <a:moveTo>
                      <a:pt x="0" y="0"/>
                    </a:moveTo>
                    <a:arcTo wR="0" hR="0" stAng="16200000" swAng="-5400000"/>
                    <a:lnTo>
                      <a:pt x="0" y="74400"/>
                    </a:lnTo>
                    <a:arcTo wR="0" hR="0" stAng="10800000" swAng="-5400000"/>
                    <a:lnTo>
                      <a:pt x="21600" y="74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5003640" y="7188120"/>
                <a:ext cx="24120" cy="777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68929">
                    <a:moveTo>
                      <a:pt x="0" y="0"/>
                    </a:moveTo>
                    <a:arcTo wR="0" hR="0" stAng="16200000" swAng="-5400000"/>
                    <a:lnTo>
                      <a:pt x="0" y="68929"/>
                    </a:lnTo>
                    <a:arcTo wR="0" hR="0" stAng="10800000" swAng="-5400000"/>
                    <a:lnTo>
                      <a:pt x="21600" y="689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040360" y="7188120"/>
                <a:ext cx="27000" cy="77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360 h 77760"/>
                  <a:gd name="textAreaBottom" fmla="*/ 78480 h 77760"/>
                </a:gdLst>
                <a:ahLst/>
                <a:rect l="textAreaLeft" t="textAreaTop" r="textAreaRight" b="textAreaBottom"/>
                <a:pathLst>
                  <a:path w="21600" h="61674">
                    <a:moveTo>
                      <a:pt x="0" y="0"/>
                    </a:moveTo>
                    <a:arcTo wR="0" hR="0" stAng="16200000" swAng="-5400000"/>
                    <a:lnTo>
                      <a:pt x="0" y="61674"/>
                    </a:lnTo>
                    <a:arcTo wR="0" hR="0" stAng="10800000" swAng="-5400000"/>
                    <a:lnTo>
                      <a:pt x="21600" y="6167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930920" y="7320960"/>
                <a:ext cx="17280" cy="759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-360 h 75960"/>
                  <a:gd name="textAreaBottom" fmla="*/ 75960 h 75960"/>
                </a:gdLst>
                <a:ahLst/>
                <a:rect l="textAreaLeft" t="textAreaTop" r="textAreaRight" b="textAreaBottom"/>
                <a:pathLst>
                  <a:path w="21600" h="93453">
                    <a:moveTo>
                      <a:pt x="0" y="0"/>
                    </a:moveTo>
                    <a:arcTo wR="0" hR="0" stAng="16200000" swAng="-5400000"/>
                    <a:lnTo>
                      <a:pt x="0" y="93453"/>
                    </a:lnTo>
                    <a:arcTo wR="0" hR="0" stAng="10800000" swAng="-5400000"/>
                    <a:lnTo>
                      <a:pt x="21600" y="9345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4962600" y="7320960"/>
                <a:ext cx="22320" cy="759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-360 h 75960"/>
                  <a:gd name="textAreaBottom" fmla="*/ 75960 h 75960"/>
                </a:gdLst>
                <a:ahLst/>
                <a:rect l="textAreaLeft" t="textAreaTop" r="textAreaRight" b="textAreaBottom"/>
                <a:pathLst>
                  <a:path w="21600" h="72686">
                    <a:moveTo>
                      <a:pt x="0" y="0"/>
                    </a:moveTo>
                    <a:arcTo wR="0" hR="0" stAng="16200000" swAng="-5400000"/>
                    <a:lnTo>
                      <a:pt x="0" y="72686"/>
                    </a:lnTo>
                    <a:arcTo wR="0" hR="0" stAng="10800000" swAng="-5400000"/>
                    <a:lnTo>
                      <a:pt x="21600" y="7268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003640" y="7320960"/>
                <a:ext cx="24120" cy="75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-360 h 75960"/>
                  <a:gd name="textAreaBottom" fmla="*/ 75960 h 75960"/>
                </a:gdLst>
                <a:ahLst/>
                <a:rect l="textAreaLeft" t="textAreaTop" r="textAreaRight" b="textAreaBottom"/>
                <a:pathLst>
                  <a:path w="21600" h="67341">
                    <a:moveTo>
                      <a:pt x="0" y="0"/>
                    </a:moveTo>
                    <a:arcTo wR="0" hR="0" stAng="16200000" swAng="-5400000"/>
                    <a:lnTo>
                      <a:pt x="0" y="67341"/>
                    </a:lnTo>
                    <a:arcTo wR="0" hR="0" stAng="10800000" swAng="-5400000"/>
                    <a:lnTo>
                      <a:pt x="21600" y="6734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5040360" y="7320960"/>
                <a:ext cx="27000" cy="759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75960"/>
                  <a:gd name="textAreaBottom" fmla="*/ 75960 h 75960"/>
                </a:gdLst>
                <a:ahLst/>
                <a:rect l="textAreaLeft" t="textAreaTop" r="textAreaRight" b="textAreaBottom"/>
                <a:pathLst>
                  <a:path w="21600" h="60253">
                    <a:moveTo>
                      <a:pt x="0" y="0"/>
                    </a:moveTo>
                    <a:arcTo wR="0" hR="0" stAng="16200000" swAng="-5400000"/>
                    <a:lnTo>
                      <a:pt x="0" y="60253"/>
                    </a:lnTo>
                    <a:arcTo wR="0" hR="0" stAng="10800000" swAng="-5400000"/>
                    <a:lnTo>
                      <a:pt x="21600" y="6025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378480" y="6972480"/>
              <a:ext cx="50760" cy="407880"/>
              <a:chOff x="6378480" y="6972480"/>
              <a:chExt cx="50760" cy="40788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6378480" y="6972480"/>
                <a:ext cx="50760" cy="1015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360 h 101520"/>
                  <a:gd name="textAreaBottom" fmla="*/ 102240 h 101520"/>
                </a:gdLst>
                <a:ahLst/>
                <a:rect l="textAreaLeft" t="textAreaTop" r="textAreaRight" b="textAreaBottom"/>
                <a:pathLst>
                  <a:path w="21600" h="43048">
                    <a:moveTo>
                      <a:pt x="0" y="0"/>
                    </a:moveTo>
                    <a:arcTo wR="0" hR="0" stAng="16200000" swAng="-5400000"/>
                    <a:lnTo>
                      <a:pt x="0" y="43048"/>
                    </a:lnTo>
                    <a:arcTo wR="0" hR="0" stAng="10800000" swAng="-5400000"/>
                    <a:lnTo>
                      <a:pt x="21600" y="4304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6378480" y="7128000"/>
                <a:ext cx="50760" cy="1015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360 h 101520"/>
                  <a:gd name="textAreaBottom" fmla="*/ 102240 h 101520"/>
                </a:gdLst>
                <a:ahLst/>
                <a:rect l="textAreaLeft" t="textAreaTop" r="textAreaRight" b="textAreaBottom"/>
                <a:pathLst>
                  <a:path w="21600" h="43048">
                    <a:moveTo>
                      <a:pt x="0" y="0"/>
                    </a:moveTo>
                    <a:arcTo wR="0" hR="0" stAng="16200000" swAng="-5400000"/>
                    <a:lnTo>
                      <a:pt x="0" y="43048"/>
                    </a:lnTo>
                    <a:arcTo wR="0" hR="0" stAng="10800000" swAng="-5400000"/>
                    <a:lnTo>
                      <a:pt x="21600" y="4304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6378480" y="7280280"/>
                <a:ext cx="50760" cy="100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360 h 100080"/>
                  <a:gd name="textAreaBottom" fmla="*/ 100800 h 100080"/>
                </a:gdLst>
                <a:ahLst/>
                <a:rect l="textAreaLeft" t="textAreaTop" r="textAreaRight" b="textAreaBottom"/>
                <a:pathLst>
                  <a:path w="21600" h="42439">
                    <a:moveTo>
                      <a:pt x="0" y="0"/>
                    </a:moveTo>
                    <a:arcTo wR="0" hR="0" stAng="16200000" swAng="-5400000"/>
                    <a:lnTo>
                      <a:pt x="0" y="42439"/>
                    </a:lnTo>
                    <a:arcTo wR="0" hR="0" stAng="10800000" swAng="-5400000"/>
                    <a:lnTo>
                      <a:pt x="21600" y="4243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235320" y="6908760"/>
              <a:ext cx="1733400" cy="504720"/>
            </a:xfrm>
            <a:custGeom>
              <a:avLst/>
              <a:gdLst/>
              <a:ahLst/>
              <a:rect l="l" t="t" r="r" b="b"/>
              <a:pathLst>
                <a:path w="1092" h="318">
                  <a:moveTo>
                    <a:pt x="0" y="92"/>
                  </a:moveTo>
                  <a:lnTo>
                    <a:pt x="6" y="315"/>
                  </a:lnTo>
                  <a:lnTo>
                    <a:pt x="1091" y="317"/>
                  </a:lnTo>
                  <a:lnTo>
                    <a:pt x="1091" y="12"/>
                  </a:lnTo>
                  <a:lnTo>
                    <a:pt x="794" y="66"/>
                  </a:lnTo>
                  <a:lnTo>
                    <a:pt x="788" y="0"/>
                  </a:lnTo>
                  <a:lnTo>
                    <a:pt x="537" y="8"/>
                  </a:lnTo>
                  <a:lnTo>
                    <a:pt x="502" y="92"/>
                  </a:lnTo>
                  <a:lnTo>
                    <a:pt x="216" y="66"/>
                  </a:lnTo>
                  <a:lnTo>
                    <a:pt x="188" y="40"/>
                  </a:lnTo>
                  <a:lnTo>
                    <a:pt x="0" y="92"/>
                  </a:lnTo>
                  <a:lnTo>
                    <a:pt x="0" y="92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325760" y="6935760"/>
              <a:ext cx="160560" cy="47304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360 h 473040"/>
                <a:gd name="textAreaBottom" fmla="*/ 473760 h 473040"/>
              </a:gdLst>
              <a:ahLst/>
              <a:rect l="textAreaLeft" t="textAreaTop" r="textAreaRight" b="textAreaBottom"/>
              <a:pathLst>
                <a:path w="21600" h="63544">
                  <a:moveTo>
                    <a:pt x="0" y="0"/>
                  </a:moveTo>
                  <a:arcTo wR="0" hR="0" stAng="16200000" swAng="-5400000"/>
                  <a:lnTo>
                    <a:pt x="0" y="63544"/>
                  </a:lnTo>
                  <a:arcTo wR="0" hR="0" stAng="10800000" swAng="-5400000"/>
                  <a:lnTo>
                    <a:pt x="21600" y="6354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197240" y="7051680"/>
              <a:ext cx="128520" cy="763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4640" y="6831000"/>
              <a:ext cx="541080" cy="230040"/>
            </a:xfrm>
            <a:custGeom>
              <a:avLst/>
              <a:gdLst/>
              <a:ahLst/>
              <a:rect l="l" t="t" r="r" b="b"/>
              <a:pathLst>
                <a:path w="341" h="145">
                  <a:moveTo>
                    <a:pt x="43" y="3"/>
                  </a:moveTo>
                  <a:lnTo>
                    <a:pt x="26" y="64"/>
                  </a:lnTo>
                  <a:lnTo>
                    <a:pt x="6" y="112"/>
                  </a:lnTo>
                  <a:lnTo>
                    <a:pt x="0" y="144"/>
                  </a:lnTo>
                  <a:lnTo>
                    <a:pt x="340" y="139"/>
                  </a:lnTo>
                  <a:lnTo>
                    <a:pt x="332" y="78"/>
                  </a:lnTo>
                  <a:lnTo>
                    <a:pt x="280" y="0"/>
                  </a:lnTo>
                  <a:lnTo>
                    <a:pt x="43" y="3"/>
                  </a:lnTo>
                  <a:lnTo>
                    <a:pt x="43" y="3"/>
                  </a:lnTo>
                </a:path>
              </a:pathLst>
            </a:custGeom>
            <a:solidFill>
              <a:srgbClr val="ff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4491000" y="7101000"/>
              <a:ext cx="434880" cy="183600"/>
              <a:chOff x="4491000" y="7101000"/>
              <a:chExt cx="434880" cy="18360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4491000" y="7101000"/>
                <a:ext cx="434880" cy="63360"/>
              </a:xfrm>
              <a:prstGeom prst="roundRect">
                <a:avLst>
                  <a:gd name="adj" fmla="val 0"/>
                </a:avLst>
              </a:prstGeom>
              <a:solidFill>
                <a:srgbClr val="4f4f4f"/>
              </a:solidFill>
              <a:ln w="936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4491000" y="7219080"/>
                <a:ext cx="434880" cy="65160"/>
              </a:xfrm>
              <a:prstGeom prst="roundRect">
                <a:avLst>
                  <a:gd name="adj" fmla="val 0"/>
                </a:avLst>
              </a:prstGeom>
              <a:solidFill>
                <a:srgbClr val="4f4f4f"/>
              </a:solidFill>
              <a:ln w="936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V="1">
              <a:off x="4564080" y="7091280"/>
              <a:ext cx="55440" cy="216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360 h 216000"/>
                <a:gd name="textAreaBottom" fmla="*/ 216720 h 216000"/>
              </a:gdLst>
              <a:ahLst/>
              <a:rect l="textAreaLeft" t="textAreaTop" r="textAreaRight" b="textAreaBottom"/>
              <a:pathLst>
                <a:path w="21600" h="83752">
                  <a:moveTo>
                    <a:pt x="0" y="0"/>
                  </a:moveTo>
                  <a:arcTo wR="0" hR="0" stAng="16200000" swAng="-5400000"/>
                  <a:lnTo>
                    <a:pt x="0" y="83752"/>
                  </a:lnTo>
                  <a:arcTo wR="0" hR="0" stAng="10800000" swAng="-5400000"/>
                  <a:lnTo>
                    <a:pt x="21600" y="837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97280" y="7091280"/>
              <a:ext cx="50760" cy="216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360 h 216000"/>
                <a:gd name="textAreaBottom" fmla="*/ 216720 h 216000"/>
              </a:gdLst>
              <a:ahLst/>
              <a:rect l="textAreaLeft" t="textAreaTop" r="textAreaRight" b="textAreaBottom"/>
              <a:pathLst>
                <a:path w="21600" h="91420">
                  <a:moveTo>
                    <a:pt x="0" y="0"/>
                  </a:moveTo>
                  <a:arcTo wR="0" hR="0" stAng="16200000" swAng="-5400000"/>
                  <a:lnTo>
                    <a:pt x="0" y="91420"/>
                  </a:lnTo>
                  <a:arcTo wR="0" hR="0" stAng="10800000" swAng="-5400000"/>
                  <a:lnTo>
                    <a:pt x="21600" y="914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824360" y="7091280"/>
              <a:ext cx="50760" cy="216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360 h 216000"/>
                <a:gd name="textAreaBottom" fmla="*/ 216720 h 216000"/>
              </a:gdLst>
              <a:ahLst/>
              <a:rect l="textAreaLeft" t="textAreaTop" r="textAreaRight" b="textAreaBottom"/>
              <a:pathLst>
                <a:path w="21600" h="91420">
                  <a:moveTo>
                    <a:pt x="0" y="0"/>
                  </a:moveTo>
                  <a:arcTo wR="0" hR="0" stAng="16200000" swAng="-5400000"/>
                  <a:lnTo>
                    <a:pt x="0" y="91420"/>
                  </a:lnTo>
                  <a:arcTo wR="0" hR="0" stAng="10800000" swAng="-5400000"/>
                  <a:lnTo>
                    <a:pt x="21600" y="914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202280" y="7211160"/>
              <a:ext cx="123480" cy="7308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720960" y="7219080"/>
              <a:ext cx="330480" cy="65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89240" y="6734160"/>
              <a:ext cx="1711440" cy="405000"/>
            </a:xfrm>
            <a:custGeom>
              <a:avLst/>
              <a:gdLst/>
              <a:ahLst/>
              <a:rect l="l" t="t" r="r" b="b"/>
              <a:pathLst>
                <a:path w="1078" h="255">
                  <a:moveTo>
                    <a:pt x="315" y="0"/>
                  </a:moveTo>
                  <a:lnTo>
                    <a:pt x="266" y="81"/>
                  </a:lnTo>
                  <a:lnTo>
                    <a:pt x="107" y="75"/>
                  </a:lnTo>
                  <a:lnTo>
                    <a:pt x="81" y="95"/>
                  </a:lnTo>
                  <a:lnTo>
                    <a:pt x="46" y="78"/>
                  </a:lnTo>
                  <a:lnTo>
                    <a:pt x="26" y="93"/>
                  </a:lnTo>
                  <a:lnTo>
                    <a:pt x="0" y="254"/>
                  </a:lnTo>
                  <a:lnTo>
                    <a:pt x="142" y="194"/>
                  </a:lnTo>
                  <a:lnTo>
                    <a:pt x="147" y="168"/>
                  </a:lnTo>
                  <a:lnTo>
                    <a:pt x="211" y="168"/>
                  </a:lnTo>
                  <a:lnTo>
                    <a:pt x="217" y="202"/>
                  </a:lnTo>
                  <a:lnTo>
                    <a:pt x="425" y="202"/>
                  </a:lnTo>
                  <a:lnTo>
                    <a:pt x="430" y="242"/>
                  </a:lnTo>
                  <a:lnTo>
                    <a:pt x="557" y="242"/>
                  </a:lnTo>
                  <a:lnTo>
                    <a:pt x="563" y="142"/>
                  </a:lnTo>
                  <a:lnTo>
                    <a:pt x="595" y="130"/>
                  </a:lnTo>
                  <a:lnTo>
                    <a:pt x="627" y="136"/>
                  </a:lnTo>
                  <a:lnTo>
                    <a:pt x="684" y="118"/>
                  </a:lnTo>
                  <a:lnTo>
                    <a:pt x="817" y="122"/>
                  </a:lnTo>
                  <a:lnTo>
                    <a:pt x="831" y="67"/>
                  </a:lnTo>
                  <a:lnTo>
                    <a:pt x="1077" y="67"/>
                  </a:lnTo>
                  <a:lnTo>
                    <a:pt x="1077" y="15"/>
                  </a:lnTo>
                  <a:lnTo>
                    <a:pt x="315" y="0"/>
                  </a:lnTo>
                  <a:lnTo>
                    <a:pt x="315" y="0"/>
                  </a:lnTo>
                </a:path>
              </a:pathLst>
            </a:custGeom>
            <a:solidFill>
              <a:srgbClr val="604200"/>
            </a:solidFill>
            <a:ln w="9360">
              <a:solidFill>
                <a:srgbClr val="604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068720" y="6958800"/>
              <a:ext cx="23760" cy="420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420840"/>
                <a:gd name="textAreaBottom" fmla="*/ 420840 h 420840"/>
              </a:gdLst>
              <a:ahLst/>
              <a:rect l="textAreaLeft" t="textAreaTop" r="textAreaRight" b="textAreaBottom"/>
              <a:pathLst>
                <a:path w="21600" h="377194">
                  <a:moveTo>
                    <a:pt x="0" y="0"/>
                  </a:moveTo>
                  <a:arcTo wR="0" hR="0" stAng="16200000" swAng="-5400000"/>
                  <a:lnTo>
                    <a:pt x="0" y="377194"/>
                  </a:lnTo>
                  <a:arcTo wR="0" hR="0" stAng="10800000" swAng="-5400000"/>
                  <a:lnTo>
                    <a:pt x="21600" y="3771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43760" y="6400800"/>
              <a:ext cx="125280" cy="1009800"/>
            </a:xfrm>
            <a:custGeom>
              <a:avLst/>
              <a:gdLst/>
              <a:ahLst/>
              <a:rect l="l" t="t" r="r" b="b"/>
              <a:pathLst>
                <a:path w="79" h="636">
                  <a:moveTo>
                    <a:pt x="61" y="14"/>
                  </a:moveTo>
                  <a:lnTo>
                    <a:pt x="61" y="15"/>
                  </a:lnTo>
                  <a:lnTo>
                    <a:pt x="61" y="15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20"/>
                  </a:lnTo>
                  <a:lnTo>
                    <a:pt x="62" y="20"/>
                  </a:lnTo>
                  <a:lnTo>
                    <a:pt x="62" y="22"/>
                  </a:lnTo>
                  <a:lnTo>
                    <a:pt x="62" y="23"/>
                  </a:lnTo>
                  <a:lnTo>
                    <a:pt x="62" y="24"/>
                  </a:lnTo>
                  <a:lnTo>
                    <a:pt x="63" y="24"/>
                  </a:lnTo>
                  <a:lnTo>
                    <a:pt x="63" y="26"/>
                  </a:lnTo>
                  <a:lnTo>
                    <a:pt x="63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29"/>
                  </a:lnTo>
                  <a:lnTo>
                    <a:pt x="67" y="31"/>
                  </a:lnTo>
                  <a:lnTo>
                    <a:pt x="68" y="34"/>
                  </a:lnTo>
                  <a:lnTo>
                    <a:pt x="70" y="36"/>
                  </a:lnTo>
                  <a:lnTo>
                    <a:pt x="70" y="40"/>
                  </a:lnTo>
                  <a:lnTo>
                    <a:pt x="72" y="44"/>
                  </a:lnTo>
                  <a:lnTo>
                    <a:pt x="72" y="48"/>
                  </a:lnTo>
                  <a:lnTo>
                    <a:pt x="74" y="51"/>
                  </a:lnTo>
                  <a:lnTo>
                    <a:pt x="74" y="56"/>
                  </a:lnTo>
                  <a:lnTo>
                    <a:pt x="74" y="60"/>
                  </a:lnTo>
                  <a:lnTo>
                    <a:pt x="74" y="63"/>
                  </a:lnTo>
                  <a:lnTo>
                    <a:pt x="76" y="67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78" y="81"/>
                  </a:lnTo>
                  <a:lnTo>
                    <a:pt x="78" y="84"/>
                  </a:lnTo>
                  <a:lnTo>
                    <a:pt x="78" y="88"/>
                  </a:lnTo>
                  <a:lnTo>
                    <a:pt x="78" y="91"/>
                  </a:lnTo>
                  <a:lnTo>
                    <a:pt x="78" y="96"/>
                  </a:lnTo>
                  <a:lnTo>
                    <a:pt x="78" y="100"/>
                  </a:lnTo>
                  <a:lnTo>
                    <a:pt x="78" y="103"/>
                  </a:lnTo>
                  <a:lnTo>
                    <a:pt x="78" y="107"/>
                  </a:lnTo>
                  <a:lnTo>
                    <a:pt x="78" y="112"/>
                  </a:lnTo>
                  <a:lnTo>
                    <a:pt x="78" y="116"/>
                  </a:lnTo>
                  <a:lnTo>
                    <a:pt x="78" y="119"/>
                  </a:lnTo>
                  <a:lnTo>
                    <a:pt x="78" y="123"/>
                  </a:lnTo>
                  <a:lnTo>
                    <a:pt x="78" y="127"/>
                  </a:lnTo>
                  <a:lnTo>
                    <a:pt x="78" y="130"/>
                  </a:lnTo>
                  <a:lnTo>
                    <a:pt x="78" y="133"/>
                  </a:lnTo>
                  <a:lnTo>
                    <a:pt x="78" y="135"/>
                  </a:lnTo>
                  <a:lnTo>
                    <a:pt x="77" y="139"/>
                  </a:lnTo>
                  <a:lnTo>
                    <a:pt x="77" y="142"/>
                  </a:lnTo>
                  <a:lnTo>
                    <a:pt x="76" y="146"/>
                  </a:lnTo>
                  <a:lnTo>
                    <a:pt x="76" y="150"/>
                  </a:lnTo>
                  <a:lnTo>
                    <a:pt x="74" y="156"/>
                  </a:lnTo>
                  <a:lnTo>
                    <a:pt x="74" y="159"/>
                  </a:lnTo>
                  <a:lnTo>
                    <a:pt x="72" y="164"/>
                  </a:lnTo>
                  <a:lnTo>
                    <a:pt x="72" y="168"/>
                  </a:lnTo>
                  <a:lnTo>
                    <a:pt x="70" y="174"/>
                  </a:lnTo>
                  <a:lnTo>
                    <a:pt x="69" y="178"/>
                  </a:lnTo>
                  <a:lnTo>
                    <a:pt x="67" y="183"/>
                  </a:lnTo>
                  <a:lnTo>
                    <a:pt x="67" y="187"/>
                  </a:lnTo>
                  <a:lnTo>
                    <a:pt x="65" y="191"/>
                  </a:lnTo>
                  <a:lnTo>
                    <a:pt x="65" y="195"/>
                  </a:lnTo>
                  <a:lnTo>
                    <a:pt x="64" y="199"/>
                  </a:lnTo>
                  <a:lnTo>
                    <a:pt x="64" y="202"/>
                  </a:lnTo>
                  <a:lnTo>
                    <a:pt x="62" y="207"/>
                  </a:lnTo>
                  <a:lnTo>
                    <a:pt x="62" y="211"/>
                  </a:lnTo>
                  <a:lnTo>
                    <a:pt x="60" y="217"/>
                  </a:lnTo>
                  <a:lnTo>
                    <a:pt x="60" y="221"/>
                  </a:lnTo>
                  <a:lnTo>
                    <a:pt x="58" y="227"/>
                  </a:lnTo>
                  <a:lnTo>
                    <a:pt x="58" y="233"/>
                  </a:lnTo>
                  <a:lnTo>
                    <a:pt x="57" y="238"/>
                  </a:lnTo>
                  <a:lnTo>
                    <a:pt x="57" y="244"/>
                  </a:lnTo>
                  <a:lnTo>
                    <a:pt x="55" y="252"/>
                  </a:lnTo>
                  <a:lnTo>
                    <a:pt x="55" y="257"/>
                  </a:lnTo>
                  <a:lnTo>
                    <a:pt x="54" y="263"/>
                  </a:lnTo>
                  <a:lnTo>
                    <a:pt x="54" y="268"/>
                  </a:lnTo>
                  <a:lnTo>
                    <a:pt x="53" y="274"/>
                  </a:lnTo>
                  <a:lnTo>
                    <a:pt x="53" y="280"/>
                  </a:lnTo>
                  <a:lnTo>
                    <a:pt x="53" y="285"/>
                  </a:lnTo>
                  <a:lnTo>
                    <a:pt x="53" y="288"/>
                  </a:lnTo>
                  <a:lnTo>
                    <a:pt x="51" y="293"/>
                  </a:lnTo>
                  <a:lnTo>
                    <a:pt x="51" y="296"/>
                  </a:lnTo>
                  <a:lnTo>
                    <a:pt x="51" y="300"/>
                  </a:lnTo>
                  <a:lnTo>
                    <a:pt x="51" y="304"/>
                  </a:lnTo>
                  <a:lnTo>
                    <a:pt x="51" y="310"/>
                  </a:lnTo>
                  <a:lnTo>
                    <a:pt x="51" y="314"/>
                  </a:lnTo>
                  <a:lnTo>
                    <a:pt x="51" y="317"/>
                  </a:lnTo>
                  <a:lnTo>
                    <a:pt x="51" y="321"/>
                  </a:lnTo>
                  <a:lnTo>
                    <a:pt x="51" y="326"/>
                  </a:lnTo>
                  <a:lnTo>
                    <a:pt x="51" y="330"/>
                  </a:lnTo>
                  <a:lnTo>
                    <a:pt x="51" y="334"/>
                  </a:lnTo>
                  <a:lnTo>
                    <a:pt x="52" y="338"/>
                  </a:lnTo>
                  <a:lnTo>
                    <a:pt x="52" y="342"/>
                  </a:lnTo>
                  <a:lnTo>
                    <a:pt x="52" y="345"/>
                  </a:lnTo>
                  <a:lnTo>
                    <a:pt x="52" y="349"/>
                  </a:lnTo>
                  <a:lnTo>
                    <a:pt x="53" y="352"/>
                  </a:lnTo>
                  <a:lnTo>
                    <a:pt x="53" y="355"/>
                  </a:lnTo>
                  <a:lnTo>
                    <a:pt x="53" y="356"/>
                  </a:lnTo>
                  <a:lnTo>
                    <a:pt x="53" y="360"/>
                  </a:lnTo>
                  <a:lnTo>
                    <a:pt x="53" y="362"/>
                  </a:lnTo>
                  <a:lnTo>
                    <a:pt x="53" y="365"/>
                  </a:lnTo>
                  <a:lnTo>
                    <a:pt x="53" y="368"/>
                  </a:lnTo>
                  <a:lnTo>
                    <a:pt x="53" y="372"/>
                  </a:lnTo>
                  <a:lnTo>
                    <a:pt x="53" y="374"/>
                  </a:lnTo>
                  <a:lnTo>
                    <a:pt x="53" y="378"/>
                  </a:lnTo>
                  <a:lnTo>
                    <a:pt x="53" y="382"/>
                  </a:lnTo>
                  <a:lnTo>
                    <a:pt x="53" y="385"/>
                  </a:lnTo>
                  <a:lnTo>
                    <a:pt x="53" y="388"/>
                  </a:lnTo>
                  <a:lnTo>
                    <a:pt x="53" y="392"/>
                  </a:lnTo>
                  <a:lnTo>
                    <a:pt x="53" y="393"/>
                  </a:lnTo>
                  <a:lnTo>
                    <a:pt x="53" y="396"/>
                  </a:lnTo>
                  <a:lnTo>
                    <a:pt x="53" y="398"/>
                  </a:lnTo>
                  <a:lnTo>
                    <a:pt x="53" y="401"/>
                  </a:lnTo>
                  <a:lnTo>
                    <a:pt x="53" y="403"/>
                  </a:lnTo>
                  <a:lnTo>
                    <a:pt x="53" y="404"/>
                  </a:lnTo>
                  <a:lnTo>
                    <a:pt x="53" y="406"/>
                  </a:lnTo>
                  <a:lnTo>
                    <a:pt x="53" y="410"/>
                  </a:lnTo>
                  <a:lnTo>
                    <a:pt x="53" y="412"/>
                  </a:lnTo>
                  <a:lnTo>
                    <a:pt x="53" y="415"/>
                  </a:lnTo>
                  <a:lnTo>
                    <a:pt x="53" y="417"/>
                  </a:lnTo>
                  <a:lnTo>
                    <a:pt x="53" y="421"/>
                  </a:lnTo>
                  <a:lnTo>
                    <a:pt x="53" y="423"/>
                  </a:lnTo>
                  <a:lnTo>
                    <a:pt x="53" y="426"/>
                  </a:lnTo>
                  <a:lnTo>
                    <a:pt x="53" y="428"/>
                  </a:lnTo>
                  <a:lnTo>
                    <a:pt x="53" y="430"/>
                  </a:lnTo>
                  <a:lnTo>
                    <a:pt x="53" y="432"/>
                  </a:lnTo>
                  <a:lnTo>
                    <a:pt x="53" y="434"/>
                  </a:lnTo>
                  <a:lnTo>
                    <a:pt x="53" y="435"/>
                  </a:lnTo>
                  <a:lnTo>
                    <a:pt x="53" y="438"/>
                  </a:lnTo>
                  <a:lnTo>
                    <a:pt x="53" y="440"/>
                  </a:lnTo>
                  <a:lnTo>
                    <a:pt x="53" y="441"/>
                  </a:lnTo>
                  <a:lnTo>
                    <a:pt x="53" y="443"/>
                  </a:lnTo>
                  <a:lnTo>
                    <a:pt x="53" y="446"/>
                  </a:lnTo>
                  <a:lnTo>
                    <a:pt x="53" y="448"/>
                  </a:lnTo>
                  <a:lnTo>
                    <a:pt x="53" y="450"/>
                  </a:lnTo>
                  <a:lnTo>
                    <a:pt x="53" y="451"/>
                  </a:lnTo>
                  <a:lnTo>
                    <a:pt x="53" y="454"/>
                  </a:lnTo>
                  <a:lnTo>
                    <a:pt x="53" y="456"/>
                  </a:lnTo>
                  <a:lnTo>
                    <a:pt x="53" y="458"/>
                  </a:lnTo>
                  <a:lnTo>
                    <a:pt x="53" y="460"/>
                  </a:lnTo>
                  <a:lnTo>
                    <a:pt x="53" y="462"/>
                  </a:lnTo>
                  <a:lnTo>
                    <a:pt x="53" y="464"/>
                  </a:lnTo>
                  <a:lnTo>
                    <a:pt x="53" y="466"/>
                  </a:lnTo>
                  <a:lnTo>
                    <a:pt x="53" y="467"/>
                  </a:lnTo>
                  <a:lnTo>
                    <a:pt x="53" y="471"/>
                  </a:lnTo>
                  <a:lnTo>
                    <a:pt x="53" y="472"/>
                  </a:lnTo>
                  <a:lnTo>
                    <a:pt x="53" y="476"/>
                  </a:lnTo>
                  <a:lnTo>
                    <a:pt x="53" y="478"/>
                  </a:lnTo>
                  <a:lnTo>
                    <a:pt x="53" y="482"/>
                  </a:lnTo>
                  <a:lnTo>
                    <a:pt x="53" y="485"/>
                  </a:lnTo>
                  <a:lnTo>
                    <a:pt x="53" y="489"/>
                  </a:lnTo>
                  <a:lnTo>
                    <a:pt x="53" y="491"/>
                  </a:lnTo>
                  <a:lnTo>
                    <a:pt x="53" y="494"/>
                  </a:lnTo>
                  <a:lnTo>
                    <a:pt x="53" y="498"/>
                  </a:lnTo>
                  <a:lnTo>
                    <a:pt x="53" y="502"/>
                  </a:lnTo>
                  <a:lnTo>
                    <a:pt x="53" y="504"/>
                  </a:lnTo>
                  <a:lnTo>
                    <a:pt x="53" y="508"/>
                  </a:lnTo>
                  <a:lnTo>
                    <a:pt x="53" y="509"/>
                  </a:lnTo>
                  <a:lnTo>
                    <a:pt x="53" y="511"/>
                  </a:lnTo>
                  <a:lnTo>
                    <a:pt x="53" y="513"/>
                  </a:lnTo>
                  <a:lnTo>
                    <a:pt x="53" y="517"/>
                  </a:lnTo>
                  <a:lnTo>
                    <a:pt x="53" y="519"/>
                  </a:lnTo>
                  <a:lnTo>
                    <a:pt x="53" y="523"/>
                  </a:lnTo>
                  <a:lnTo>
                    <a:pt x="53" y="525"/>
                  </a:lnTo>
                  <a:lnTo>
                    <a:pt x="53" y="529"/>
                  </a:lnTo>
                  <a:lnTo>
                    <a:pt x="53" y="532"/>
                  </a:lnTo>
                  <a:lnTo>
                    <a:pt x="53" y="536"/>
                  </a:lnTo>
                  <a:lnTo>
                    <a:pt x="53" y="539"/>
                  </a:lnTo>
                  <a:lnTo>
                    <a:pt x="53" y="542"/>
                  </a:lnTo>
                  <a:lnTo>
                    <a:pt x="53" y="546"/>
                  </a:lnTo>
                  <a:lnTo>
                    <a:pt x="53" y="550"/>
                  </a:lnTo>
                  <a:lnTo>
                    <a:pt x="53" y="553"/>
                  </a:lnTo>
                  <a:lnTo>
                    <a:pt x="53" y="557"/>
                  </a:lnTo>
                  <a:lnTo>
                    <a:pt x="53" y="560"/>
                  </a:lnTo>
                  <a:lnTo>
                    <a:pt x="53" y="564"/>
                  </a:lnTo>
                  <a:lnTo>
                    <a:pt x="53" y="566"/>
                  </a:lnTo>
                  <a:lnTo>
                    <a:pt x="52" y="569"/>
                  </a:lnTo>
                  <a:lnTo>
                    <a:pt x="52" y="571"/>
                  </a:lnTo>
                  <a:lnTo>
                    <a:pt x="52" y="575"/>
                  </a:lnTo>
                  <a:lnTo>
                    <a:pt x="52" y="577"/>
                  </a:lnTo>
                  <a:lnTo>
                    <a:pt x="51" y="580"/>
                  </a:lnTo>
                  <a:lnTo>
                    <a:pt x="51" y="584"/>
                  </a:lnTo>
                  <a:lnTo>
                    <a:pt x="51" y="587"/>
                  </a:lnTo>
                  <a:lnTo>
                    <a:pt x="51" y="589"/>
                  </a:lnTo>
                  <a:lnTo>
                    <a:pt x="51" y="593"/>
                  </a:lnTo>
                  <a:lnTo>
                    <a:pt x="51" y="597"/>
                  </a:lnTo>
                  <a:lnTo>
                    <a:pt x="51" y="600"/>
                  </a:lnTo>
                  <a:lnTo>
                    <a:pt x="51" y="603"/>
                  </a:lnTo>
                  <a:lnTo>
                    <a:pt x="51" y="607"/>
                  </a:lnTo>
                  <a:lnTo>
                    <a:pt x="51" y="609"/>
                  </a:lnTo>
                  <a:lnTo>
                    <a:pt x="51" y="612"/>
                  </a:lnTo>
                  <a:lnTo>
                    <a:pt x="53" y="614"/>
                  </a:lnTo>
                  <a:lnTo>
                    <a:pt x="53" y="616"/>
                  </a:lnTo>
                  <a:lnTo>
                    <a:pt x="53" y="616"/>
                  </a:lnTo>
                  <a:lnTo>
                    <a:pt x="53" y="617"/>
                  </a:lnTo>
                  <a:lnTo>
                    <a:pt x="53" y="617"/>
                  </a:lnTo>
                  <a:lnTo>
                    <a:pt x="53" y="619"/>
                  </a:lnTo>
                  <a:lnTo>
                    <a:pt x="53" y="619"/>
                  </a:lnTo>
                  <a:lnTo>
                    <a:pt x="53" y="620"/>
                  </a:lnTo>
                  <a:lnTo>
                    <a:pt x="53" y="620"/>
                  </a:lnTo>
                  <a:lnTo>
                    <a:pt x="53" y="622"/>
                  </a:lnTo>
                  <a:lnTo>
                    <a:pt x="53" y="622"/>
                  </a:lnTo>
                  <a:lnTo>
                    <a:pt x="53" y="624"/>
                  </a:lnTo>
                  <a:lnTo>
                    <a:pt x="53" y="624"/>
                  </a:lnTo>
                  <a:lnTo>
                    <a:pt x="53" y="626"/>
                  </a:lnTo>
                  <a:lnTo>
                    <a:pt x="53" y="627"/>
                  </a:lnTo>
                  <a:lnTo>
                    <a:pt x="53" y="628"/>
                  </a:lnTo>
                  <a:lnTo>
                    <a:pt x="53" y="628"/>
                  </a:lnTo>
                  <a:lnTo>
                    <a:pt x="53" y="630"/>
                  </a:lnTo>
                  <a:lnTo>
                    <a:pt x="53" y="630"/>
                  </a:lnTo>
                  <a:lnTo>
                    <a:pt x="53" y="630"/>
                  </a:lnTo>
                  <a:lnTo>
                    <a:pt x="53" y="630"/>
                  </a:lnTo>
                  <a:lnTo>
                    <a:pt x="53" y="632"/>
                  </a:lnTo>
                  <a:lnTo>
                    <a:pt x="53" y="632"/>
                  </a:lnTo>
                  <a:lnTo>
                    <a:pt x="53" y="632"/>
                  </a:lnTo>
                  <a:lnTo>
                    <a:pt x="53" y="632"/>
                  </a:lnTo>
                  <a:lnTo>
                    <a:pt x="53" y="634"/>
                  </a:lnTo>
                  <a:lnTo>
                    <a:pt x="53" y="634"/>
                  </a:lnTo>
                  <a:lnTo>
                    <a:pt x="53" y="634"/>
                  </a:lnTo>
                  <a:lnTo>
                    <a:pt x="53" y="634"/>
                  </a:lnTo>
                  <a:lnTo>
                    <a:pt x="53" y="635"/>
                  </a:lnTo>
                  <a:lnTo>
                    <a:pt x="53" y="635"/>
                  </a:lnTo>
                  <a:lnTo>
                    <a:pt x="53" y="635"/>
                  </a:lnTo>
                  <a:lnTo>
                    <a:pt x="53" y="635"/>
                  </a:lnTo>
                  <a:lnTo>
                    <a:pt x="51" y="635"/>
                  </a:lnTo>
                  <a:lnTo>
                    <a:pt x="49" y="635"/>
                  </a:lnTo>
                  <a:lnTo>
                    <a:pt x="46" y="635"/>
                  </a:lnTo>
                  <a:lnTo>
                    <a:pt x="44" y="635"/>
                  </a:lnTo>
                  <a:lnTo>
                    <a:pt x="40" y="635"/>
                  </a:lnTo>
                  <a:lnTo>
                    <a:pt x="36" y="635"/>
                  </a:lnTo>
                  <a:lnTo>
                    <a:pt x="32" y="635"/>
                  </a:lnTo>
                  <a:lnTo>
                    <a:pt x="28" y="635"/>
                  </a:lnTo>
                  <a:lnTo>
                    <a:pt x="24" y="635"/>
                  </a:lnTo>
                  <a:lnTo>
                    <a:pt x="20" y="635"/>
                  </a:lnTo>
                  <a:lnTo>
                    <a:pt x="16" y="635"/>
                  </a:lnTo>
                  <a:lnTo>
                    <a:pt x="12" y="635"/>
                  </a:lnTo>
                  <a:lnTo>
                    <a:pt x="8" y="635"/>
                  </a:lnTo>
                  <a:lnTo>
                    <a:pt x="6" y="635"/>
                  </a:lnTo>
                  <a:lnTo>
                    <a:pt x="4" y="635"/>
                  </a:lnTo>
                  <a:lnTo>
                    <a:pt x="4" y="635"/>
                  </a:lnTo>
                  <a:lnTo>
                    <a:pt x="2" y="635"/>
                  </a:lnTo>
                  <a:lnTo>
                    <a:pt x="2" y="635"/>
                  </a:lnTo>
                  <a:lnTo>
                    <a:pt x="2" y="635"/>
                  </a:lnTo>
                  <a:lnTo>
                    <a:pt x="2" y="634"/>
                  </a:lnTo>
                  <a:lnTo>
                    <a:pt x="2" y="634"/>
                  </a:lnTo>
                  <a:lnTo>
                    <a:pt x="2" y="634"/>
                  </a:lnTo>
                  <a:lnTo>
                    <a:pt x="2" y="634"/>
                  </a:lnTo>
                  <a:lnTo>
                    <a:pt x="3" y="632"/>
                  </a:lnTo>
                  <a:lnTo>
                    <a:pt x="3" y="632"/>
                  </a:lnTo>
                  <a:lnTo>
                    <a:pt x="3" y="631"/>
                  </a:lnTo>
                  <a:lnTo>
                    <a:pt x="3" y="631"/>
                  </a:lnTo>
                  <a:lnTo>
                    <a:pt x="4" y="629"/>
                  </a:lnTo>
                  <a:lnTo>
                    <a:pt x="4" y="629"/>
                  </a:lnTo>
                  <a:lnTo>
                    <a:pt x="4" y="628"/>
                  </a:lnTo>
                  <a:lnTo>
                    <a:pt x="4" y="628"/>
                  </a:lnTo>
                  <a:lnTo>
                    <a:pt x="4" y="626"/>
                  </a:lnTo>
                  <a:lnTo>
                    <a:pt x="2" y="626"/>
                  </a:lnTo>
                  <a:lnTo>
                    <a:pt x="2" y="626"/>
                  </a:lnTo>
                  <a:lnTo>
                    <a:pt x="2" y="626"/>
                  </a:lnTo>
                  <a:lnTo>
                    <a:pt x="2" y="624"/>
                  </a:lnTo>
                  <a:lnTo>
                    <a:pt x="2" y="624"/>
                  </a:lnTo>
                  <a:lnTo>
                    <a:pt x="2" y="622"/>
                  </a:lnTo>
                  <a:lnTo>
                    <a:pt x="2" y="621"/>
                  </a:lnTo>
                  <a:lnTo>
                    <a:pt x="2" y="619"/>
                  </a:lnTo>
                  <a:lnTo>
                    <a:pt x="2" y="619"/>
                  </a:lnTo>
                  <a:lnTo>
                    <a:pt x="2" y="617"/>
                  </a:lnTo>
                  <a:lnTo>
                    <a:pt x="2" y="617"/>
                  </a:lnTo>
                  <a:lnTo>
                    <a:pt x="2" y="616"/>
                  </a:lnTo>
                  <a:lnTo>
                    <a:pt x="2" y="616"/>
                  </a:lnTo>
                  <a:lnTo>
                    <a:pt x="2" y="614"/>
                  </a:lnTo>
                  <a:lnTo>
                    <a:pt x="2" y="614"/>
                  </a:lnTo>
                  <a:lnTo>
                    <a:pt x="4" y="612"/>
                  </a:lnTo>
                  <a:lnTo>
                    <a:pt x="2" y="610"/>
                  </a:lnTo>
                  <a:lnTo>
                    <a:pt x="2" y="608"/>
                  </a:lnTo>
                  <a:lnTo>
                    <a:pt x="1" y="607"/>
                  </a:lnTo>
                  <a:lnTo>
                    <a:pt x="1" y="604"/>
                  </a:lnTo>
                  <a:lnTo>
                    <a:pt x="0" y="602"/>
                  </a:lnTo>
                  <a:lnTo>
                    <a:pt x="0" y="599"/>
                  </a:lnTo>
                  <a:lnTo>
                    <a:pt x="0" y="597"/>
                  </a:lnTo>
                  <a:lnTo>
                    <a:pt x="0" y="593"/>
                  </a:lnTo>
                  <a:lnTo>
                    <a:pt x="0" y="591"/>
                  </a:lnTo>
                  <a:lnTo>
                    <a:pt x="0" y="587"/>
                  </a:lnTo>
                  <a:lnTo>
                    <a:pt x="0" y="586"/>
                  </a:lnTo>
                  <a:lnTo>
                    <a:pt x="0" y="582"/>
                  </a:lnTo>
                  <a:lnTo>
                    <a:pt x="0" y="580"/>
                  </a:lnTo>
                  <a:lnTo>
                    <a:pt x="0" y="577"/>
                  </a:lnTo>
                  <a:lnTo>
                    <a:pt x="0" y="575"/>
                  </a:lnTo>
                  <a:lnTo>
                    <a:pt x="0" y="571"/>
                  </a:lnTo>
                  <a:lnTo>
                    <a:pt x="0" y="569"/>
                  </a:lnTo>
                  <a:lnTo>
                    <a:pt x="0" y="567"/>
                  </a:lnTo>
                  <a:lnTo>
                    <a:pt x="0" y="564"/>
                  </a:lnTo>
                  <a:lnTo>
                    <a:pt x="0" y="560"/>
                  </a:lnTo>
                  <a:lnTo>
                    <a:pt x="0" y="557"/>
                  </a:lnTo>
                  <a:lnTo>
                    <a:pt x="0" y="553"/>
                  </a:lnTo>
                  <a:lnTo>
                    <a:pt x="0" y="549"/>
                  </a:lnTo>
                  <a:lnTo>
                    <a:pt x="2" y="545"/>
                  </a:lnTo>
                  <a:lnTo>
                    <a:pt x="2" y="541"/>
                  </a:lnTo>
                  <a:lnTo>
                    <a:pt x="2" y="538"/>
                  </a:lnTo>
                  <a:lnTo>
                    <a:pt x="2" y="534"/>
                  </a:lnTo>
                  <a:lnTo>
                    <a:pt x="2" y="530"/>
                  </a:lnTo>
                  <a:lnTo>
                    <a:pt x="2" y="527"/>
                  </a:lnTo>
                  <a:lnTo>
                    <a:pt x="2" y="523"/>
                  </a:lnTo>
                  <a:lnTo>
                    <a:pt x="2" y="520"/>
                  </a:lnTo>
                  <a:lnTo>
                    <a:pt x="4" y="516"/>
                  </a:lnTo>
                  <a:lnTo>
                    <a:pt x="4" y="514"/>
                  </a:lnTo>
                  <a:lnTo>
                    <a:pt x="4" y="511"/>
                  </a:lnTo>
                  <a:lnTo>
                    <a:pt x="4" y="508"/>
                  </a:lnTo>
                  <a:lnTo>
                    <a:pt x="4" y="504"/>
                  </a:lnTo>
                  <a:lnTo>
                    <a:pt x="4" y="500"/>
                  </a:lnTo>
                  <a:lnTo>
                    <a:pt x="4" y="496"/>
                  </a:lnTo>
                  <a:lnTo>
                    <a:pt x="4" y="492"/>
                  </a:lnTo>
                  <a:lnTo>
                    <a:pt x="4" y="487"/>
                  </a:lnTo>
                  <a:lnTo>
                    <a:pt x="4" y="483"/>
                  </a:lnTo>
                  <a:lnTo>
                    <a:pt x="4" y="480"/>
                  </a:lnTo>
                  <a:lnTo>
                    <a:pt x="4" y="476"/>
                  </a:lnTo>
                  <a:lnTo>
                    <a:pt x="4" y="470"/>
                  </a:lnTo>
                  <a:lnTo>
                    <a:pt x="4" y="466"/>
                  </a:lnTo>
                  <a:lnTo>
                    <a:pt x="4" y="462"/>
                  </a:lnTo>
                  <a:lnTo>
                    <a:pt x="4" y="460"/>
                  </a:lnTo>
                  <a:lnTo>
                    <a:pt x="4" y="456"/>
                  </a:lnTo>
                  <a:lnTo>
                    <a:pt x="4" y="454"/>
                  </a:lnTo>
                  <a:lnTo>
                    <a:pt x="4" y="452"/>
                  </a:lnTo>
                  <a:lnTo>
                    <a:pt x="4" y="451"/>
                  </a:lnTo>
                  <a:lnTo>
                    <a:pt x="4" y="448"/>
                  </a:lnTo>
                  <a:lnTo>
                    <a:pt x="4" y="446"/>
                  </a:lnTo>
                  <a:lnTo>
                    <a:pt x="4" y="442"/>
                  </a:lnTo>
                  <a:lnTo>
                    <a:pt x="4" y="440"/>
                  </a:lnTo>
                  <a:lnTo>
                    <a:pt x="4" y="436"/>
                  </a:lnTo>
                  <a:lnTo>
                    <a:pt x="4" y="434"/>
                  </a:lnTo>
                  <a:lnTo>
                    <a:pt x="4" y="430"/>
                  </a:lnTo>
                  <a:lnTo>
                    <a:pt x="4" y="428"/>
                  </a:lnTo>
                  <a:lnTo>
                    <a:pt x="4" y="424"/>
                  </a:lnTo>
                  <a:lnTo>
                    <a:pt x="4" y="423"/>
                  </a:lnTo>
                  <a:lnTo>
                    <a:pt x="4" y="420"/>
                  </a:lnTo>
                  <a:lnTo>
                    <a:pt x="4" y="418"/>
                  </a:lnTo>
                  <a:lnTo>
                    <a:pt x="4" y="415"/>
                  </a:lnTo>
                  <a:lnTo>
                    <a:pt x="4" y="414"/>
                  </a:lnTo>
                  <a:lnTo>
                    <a:pt x="4" y="412"/>
                  </a:lnTo>
                  <a:lnTo>
                    <a:pt x="4" y="410"/>
                  </a:lnTo>
                  <a:lnTo>
                    <a:pt x="4" y="408"/>
                  </a:lnTo>
                  <a:lnTo>
                    <a:pt x="4" y="406"/>
                  </a:lnTo>
                  <a:lnTo>
                    <a:pt x="4" y="402"/>
                  </a:lnTo>
                  <a:lnTo>
                    <a:pt x="4" y="400"/>
                  </a:lnTo>
                  <a:lnTo>
                    <a:pt x="5" y="396"/>
                  </a:lnTo>
                  <a:lnTo>
                    <a:pt x="5" y="394"/>
                  </a:lnTo>
                  <a:lnTo>
                    <a:pt x="5" y="391"/>
                  </a:lnTo>
                  <a:lnTo>
                    <a:pt x="5" y="389"/>
                  </a:lnTo>
                  <a:lnTo>
                    <a:pt x="6" y="385"/>
                  </a:lnTo>
                  <a:lnTo>
                    <a:pt x="6" y="383"/>
                  </a:lnTo>
                  <a:lnTo>
                    <a:pt x="6" y="380"/>
                  </a:lnTo>
                  <a:lnTo>
                    <a:pt x="6" y="378"/>
                  </a:lnTo>
                  <a:lnTo>
                    <a:pt x="7" y="374"/>
                  </a:lnTo>
                  <a:lnTo>
                    <a:pt x="7" y="373"/>
                  </a:lnTo>
                  <a:lnTo>
                    <a:pt x="7" y="372"/>
                  </a:lnTo>
                  <a:lnTo>
                    <a:pt x="7" y="370"/>
                  </a:lnTo>
                  <a:lnTo>
                    <a:pt x="7" y="367"/>
                  </a:lnTo>
                  <a:lnTo>
                    <a:pt x="7" y="365"/>
                  </a:lnTo>
                  <a:lnTo>
                    <a:pt x="7" y="362"/>
                  </a:lnTo>
                  <a:lnTo>
                    <a:pt x="7" y="360"/>
                  </a:lnTo>
                  <a:lnTo>
                    <a:pt x="9" y="356"/>
                  </a:lnTo>
                  <a:lnTo>
                    <a:pt x="9" y="355"/>
                  </a:lnTo>
                  <a:lnTo>
                    <a:pt x="9" y="352"/>
                  </a:lnTo>
                  <a:lnTo>
                    <a:pt x="9" y="350"/>
                  </a:lnTo>
                  <a:lnTo>
                    <a:pt x="11" y="346"/>
                  </a:lnTo>
                  <a:lnTo>
                    <a:pt x="11" y="344"/>
                  </a:lnTo>
                  <a:lnTo>
                    <a:pt x="11" y="342"/>
                  </a:lnTo>
                  <a:lnTo>
                    <a:pt x="11" y="340"/>
                  </a:lnTo>
                  <a:lnTo>
                    <a:pt x="12" y="337"/>
                  </a:lnTo>
                  <a:lnTo>
                    <a:pt x="12" y="337"/>
                  </a:lnTo>
                  <a:lnTo>
                    <a:pt x="12" y="335"/>
                  </a:lnTo>
                  <a:lnTo>
                    <a:pt x="12" y="334"/>
                  </a:lnTo>
                  <a:lnTo>
                    <a:pt x="14" y="332"/>
                  </a:lnTo>
                  <a:lnTo>
                    <a:pt x="14" y="330"/>
                  </a:lnTo>
                  <a:lnTo>
                    <a:pt x="14" y="328"/>
                  </a:lnTo>
                  <a:lnTo>
                    <a:pt x="14" y="326"/>
                  </a:lnTo>
                  <a:lnTo>
                    <a:pt x="16" y="324"/>
                  </a:lnTo>
                  <a:lnTo>
                    <a:pt x="16" y="322"/>
                  </a:lnTo>
                  <a:lnTo>
                    <a:pt x="16" y="320"/>
                  </a:lnTo>
                  <a:lnTo>
                    <a:pt x="16" y="318"/>
                  </a:lnTo>
                  <a:lnTo>
                    <a:pt x="18" y="315"/>
                  </a:lnTo>
                  <a:lnTo>
                    <a:pt x="18" y="314"/>
                  </a:lnTo>
                  <a:lnTo>
                    <a:pt x="19" y="312"/>
                  </a:lnTo>
                  <a:lnTo>
                    <a:pt x="19" y="310"/>
                  </a:lnTo>
                  <a:lnTo>
                    <a:pt x="21" y="308"/>
                  </a:lnTo>
                  <a:lnTo>
                    <a:pt x="21" y="308"/>
                  </a:lnTo>
                  <a:lnTo>
                    <a:pt x="21" y="307"/>
                  </a:lnTo>
                  <a:lnTo>
                    <a:pt x="21" y="307"/>
                  </a:lnTo>
                  <a:lnTo>
                    <a:pt x="22" y="305"/>
                  </a:lnTo>
                  <a:lnTo>
                    <a:pt x="22" y="305"/>
                  </a:lnTo>
                  <a:lnTo>
                    <a:pt x="22" y="304"/>
                  </a:lnTo>
                  <a:lnTo>
                    <a:pt x="22" y="302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8"/>
                  </a:lnTo>
                  <a:lnTo>
                    <a:pt x="24" y="296"/>
                  </a:lnTo>
                  <a:lnTo>
                    <a:pt x="26" y="294"/>
                  </a:lnTo>
                  <a:lnTo>
                    <a:pt x="26" y="294"/>
                  </a:lnTo>
                  <a:lnTo>
                    <a:pt x="26" y="292"/>
                  </a:lnTo>
                  <a:lnTo>
                    <a:pt x="26" y="290"/>
                  </a:lnTo>
                  <a:lnTo>
                    <a:pt x="27" y="288"/>
                  </a:lnTo>
                  <a:lnTo>
                    <a:pt x="27" y="288"/>
                  </a:lnTo>
                  <a:lnTo>
                    <a:pt x="27" y="286"/>
                  </a:lnTo>
                  <a:lnTo>
                    <a:pt x="27" y="284"/>
                  </a:lnTo>
                  <a:lnTo>
                    <a:pt x="28" y="282"/>
                  </a:lnTo>
                  <a:lnTo>
                    <a:pt x="28" y="280"/>
                  </a:lnTo>
                  <a:lnTo>
                    <a:pt x="28" y="278"/>
                  </a:lnTo>
                  <a:lnTo>
                    <a:pt x="28" y="277"/>
                  </a:lnTo>
                  <a:lnTo>
                    <a:pt x="30" y="273"/>
                  </a:lnTo>
                  <a:lnTo>
                    <a:pt x="30" y="271"/>
                  </a:lnTo>
                  <a:lnTo>
                    <a:pt x="30" y="269"/>
                  </a:lnTo>
                  <a:lnTo>
                    <a:pt x="30" y="267"/>
                  </a:lnTo>
                  <a:lnTo>
                    <a:pt x="32" y="264"/>
                  </a:lnTo>
                  <a:lnTo>
                    <a:pt x="32" y="262"/>
                  </a:lnTo>
                  <a:lnTo>
                    <a:pt x="34" y="260"/>
                  </a:lnTo>
                  <a:lnTo>
                    <a:pt x="34" y="258"/>
                  </a:lnTo>
                  <a:lnTo>
                    <a:pt x="36" y="257"/>
                  </a:lnTo>
                  <a:lnTo>
                    <a:pt x="36" y="255"/>
                  </a:lnTo>
                  <a:lnTo>
                    <a:pt x="36" y="252"/>
                  </a:lnTo>
                  <a:lnTo>
                    <a:pt x="36" y="249"/>
                  </a:lnTo>
                  <a:lnTo>
                    <a:pt x="38" y="246"/>
                  </a:lnTo>
                  <a:lnTo>
                    <a:pt x="38" y="242"/>
                  </a:lnTo>
                  <a:lnTo>
                    <a:pt x="40" y="238"/>
                  </a:lnTo>
                  <a:lnTo>
                    <a:pt x="40" y="235"/>
                  </a:lnTo>
                  <a:lnTo>
                    <a:pt x="42" y="231"/>
                  </a:lnTo>
                  <a:lnTo>
                    <a:pt x="42" y="228"/>
                  </a:lnTo>
                  <a:lnTo>
                    <a:pt x="43" y="225"/>
                  </a:lnTo>
                  <a:lnTo>
                    <a:pt x="43" y="221"/>
                  </a:lnTo>
                  <a:lnTo>
                    <a:pt x="45" y="217"/>
                  </a:lnTo>
                  <a:lnTo>
                    <a:pt x="45" y="215"/>
                  </a:lnTo>
                  <a:lnTo>
                    <a:pt x="46" y="211"/>
                  </a:lnTo>
                  <a:lnTo>
                    <a:pt x="46" y="208"/>
                  </a:lnTo>
                  <a:lnTo>
                    <a:pt x="47" y="204"/>
                  </a:lnTo>
                  <a:lnTo>
                    <a:pt x="47" y="203"/>
                  </a:lnTo>
                  <a:lnTo>
                    <a:pt x="47" y="201"/>
                  </a:lnTo>
                  <a:lnTo>
                    <a:pt x="47" y="199"/>
                  </a:lnTo>
                  <a:lnTo>
                    <a:pt x="48" y="197"/>
                  </a:lnTo>
                  <a:lnTo>
                    <a:pt x="48" y="195"/>
                  </a:lnTo>
                  <a:lnTo>
                    <a:pt x="48" y="191"/>
                  </a:lnTo>
                  <a:lnTo>
                    <a:pt x="48" y="189"/>
                  </a:lnTo>
                  <a:lnTo>
                    <a:pt x="50" y="185"/>
                  </a:lnTo>
                  <a:lnTo>
                    <a:pt x="50" y="183"/>
                  </a:lnTo>
                  <a:lnTo>
                    <a:pt x="50" y="179"/>
                  </a:lnTo>
                  <a:lnTo>
                    <a:pt x="50" y="176"/>
                  </a:lnTo>
                  <a:lnTo>
                    <a:pt x="52" y="172"/>
                  </a:lnTo>
                  <a:lnTo>
                    <a:pt x="52" y="170"/>
                  </a:lnTo>
                  <a:lnTo>
                    <a:pt x="54" y="167"/>
                  </a:lnTo>
                  <a:lnTo>
                    <a:pt x="54" y="165"/>
                  </a:lnTo>
                  <a:lnTo>
                    <a:pt x="55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5"/>
                  </a:lnTo>
                  <a:lnTo>
                    <a:pt x="57" y="151"/>
                  </a:lnTo>
                  <a:lnTo>
                    <a:pt x="57" y="148"/>
                  </a:lnTo>
                  <a:lnTo>
                    <a:pt x="57" y="144"/>
                  </a:lnTo>
                  <a:lnTo>
                    <a:pt x="57" y="140"/>
                  </a:lnTo>
                  <a:lnTo>
                    <a:pt x="59" y="137"/>
                  </a:lnTo>
                  <a:lnTo>
                    <a:pt x="59" y="135"/>
                  </a:lnTo>
                  <a:lnTo>
                    <a:pt x="59" y="131"/>
                  </a:lnTo>
                  <a:lnTo>
                    <a:pt x="59" y="128"/>
                  </a:lnTo>
                  <a:lnTo>
                    <a:pt x="60" y="124"/>
                  </a:lnTo>
                  <a:lnTo>
                    <a:pt x="60" y="122"/>
                  </a:lnTo>
                  <a:lnTo>
                    <a:pt x="60" y="118"/>
                  </a:lnTo>
                  <a:lnTo>
                    <a:pt x="60" y="116"/>
                  </a:lnTo>
                  <a:lnTo>
                    <a:pt x="61" y="112"/>
                  </a:lnTo>
                  <a:lnTo>
                    <a:pt x="61" y="111"/>
                  </a:lnTo>
                  <a:lnTo>
                    <a:pt x="61" y="109"/>
                  </a:lnTo>
                  <a:lnTo>
                    <a:pt x="61" y="107"/>
                  </a:lnTo>
                  <a:lnTo>
                    <a:pt x="61" y="105"/>
                  </a:lnTo>
                  <a:lnTo>
                    <a:pt x="61" y="103"/>
                  </a:lnTo>
                  <a:lnTo>
                    <a:pt x="61" y="101"/>
                  </a:lnTo>
                  <a:lnTo>
                    <a:pt x="61" y="100"/>
                  </a:lnTo>
                  <a:lnTo>
                    <a:pt x="62" y="96"/>
                  </a:lnTo>
                  <a:lnTo>
                    <a:pt x="62" y="94"/>
                  </a:lnTo>
                  <a:lnTo>
                    <a:pt x="62" y="92"/>
                  </a:lnTo>
                  <a:lnTo>
                    <a:pt x="62" y="90"/>
                  </a:lnTo>
                  <a:lnTo>
                    <a:pt x="63" y="88"/>
                  </a:lnTo>
                  <a:lnTo>
                    <a:pt x="63" y="86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4" y="81"/>
                  </a:lnTo>
                  <a:lnTo>
                    <a:pt x="64" y="80"/>
                  </a:lnTo>
                  <a:lnTo>
                    <a:pt x="64" y="78"/>
                  </a:lnTo>
                  <a:lnTo>
                    <a:pt x="64" y="76"/>
                  </a:lnTo>
                  <a:lnTo>
                    <a:pt x="64" y="74"/>
                  </a:lnTo>
                  <a:lnTo>
                    <a:pt x="64" y="72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4" y="66"/>
                  </a:lnTo>
                  <a:lnTo>
                    <a:pt x="64" y="64"/>
                  </a:lnTo>
                  <a:lnTo>
                    <a:pt x="64" y="62"/>
                  </a:lnTo>
                  <a:lnTo>
                    <a:pt x="64" y="60"/>
                  </a:lnTo>
                  <a:lnTo>
                    <a:pt x="64" y="58"/>
                  </a:lnTo>
                  <a:lnTo>
                    <a:pt x="64" y="57"/>
                  </a:lnTo>
                  <a:lnTo>
                    <a:pt x="64" y="55"/>
                  </a:lnTo>
                  <a:lnTo>
                    <a:pt x="64" y="53"/>
                  </a:lnTo>
                  <a:lnTo>
                    <a:pt x="64" y="51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0" y="45"/>
                  </a:lnTo>
                  <a:lnTo>
                    <a:pt x="60" y="41"/>
                  </a:lnTo>
                  <a:lnTo>
                    <a:pt x="58" y="38"/>
                  </a:lnTo>
                  <a:lnTo>
                    <a:pt x="58" y="33"/>
                  </a:lnTo>
                  <a:lnTo>
                    <a:pt x="57" y="30"/>
                  </a:lnTo>
                  <a:lnTo>
                    <a:pt x="57" y="24"/>
                  </a:lnTo>
                  <a:lnTo>
                    <a:pt x="55" y="20"/>
                  </a:lnTo>
                  <a:lnTo>
                    <a:pt x="55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3" y="5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5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7" y="7"/>
                  </a:lnTo>
                  <a:lnTo>
                    <a:pt x="57" y="9"/>
                  </a:lnTo>
                  <a:lnTo>
                    <a:pt x="57" y="10"/>
                  </a:lnTo>
                  <a:lnTo>
                    <a:pt x="57" y="12"/>
                  </a:lnTo>
                  <a:lnTo>
                    <a:pt x="59" y="12"/>
                  </a:lnTo>
                  <a:lnTo>
                    <a:pt x="59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1" y="14"/>
                  </a:lnTo>
                  <a:lnTo>
                    <a:pt x="61" y="14"/>
                  </a:lnTo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091120" y="4799160"/>
              <a:ext cx="2511360" cy="2612880"/>
              <a:chOff x="5091120" y="4799160"/>
              <a:chExt cx="2511360" cy="2612880"/>
            </a:xfrm>
          </p:grpSpPr>
          <p:sp>
            <p:nvSpPr>
              <p:cNvPr id="309" name=""/>
              <p:cNvSpPr/>
              <p:nvPr/>
            </p:nvSpPr>
            <p:spPr>
              <a:xfrm>
                <a:off x="5965920" y="5491080"/>
                <a:ext cx="798480" cy="1920960"/>
              </a:xfrm>
              <a:custGeom>
                <a:avLst/>
                <a:gdLst/>
                <a:ahLst/>
                <a:rect l="l" t="t" r="r" b="b"/>
                <a:pathLst>
                  <a:path w="503" h="1210">
                    <a:moveTo>
                      <a:pt x="116" y="1208"/>
                    </a:moveTo>
                    <a:lnTo>
                      <a:pt x="116" y="1206"/>
                    </a:lnTo>
                    <a:lnTo>
                      <a:pt x="116" y="1199"/>
                    </a:lnTo>
                    <a:lnTo>
                      <a:pt x="116" y="1189"/>
                    </a:lnTo>
                    <a:lnTo>
                      <a:pt x="116" y="1174"/>
                    </a:lnTo>
                    <a:lnTo>
                      <a:pt x="116" y="1159"/>
                    </a:lnTo>
                    <a:lnTo>
                      <a:pt x="116" y="1139"/>
                    </a:lnTo>
                    <a:lnTo>
                      <a:pt x="116" y="1118"/>
                    </a:lnTo>
                    <a:lnTo>
                      <a:pt x="116" y="1095"/>
                    </a:lnTo>
                    <a:lnTo>
                      <a:pt x="116" y="1072"/>
                    </a:lnTo>
                    <a:lnTo>
                      <a:pt x="117" y="1049"/>
                    </a:lnTo>
                    <a:lnTo>
                      <a:pt x="117" y="1026"/>
                    </a:lnTo>
                    <a:lnTo>
                      <a:pt x="119" y="1003"/>
                    </a:lnTo>
                    <a:lnTo>
                      <a:pt x="119" y="983"/>
                    </a:lnTo>
                    <a:lnTo>
                      <a:pt x="120" y="964"/>
                    </a:lnTo>
                    <a:lnTo>
                      <a:pt x="122" y="947"/>
                    </a:lnTo>
                    <a:lnTo>
                      <a:pt x="124" y="933"/>
                    </a:lnTo>
                    <a:lnTo>
                      <a:pt x="125" y="926"/>
                    </a:lnTo>
                    <a:lnTo>
                      <a:pt x="127" y="916"/>
                    </a:lnTo>
                    <a:lnTo>
                      <a:pt x="129" y="907"/>
                    </a:lnTo>
                    <a:lnTo>
                      <a:pt x="132" y="895"/>
                    </a:lnTo>
                    <a:lnTo>
                      <a:pt x="134" y="885"/>
                    </a:lnTo>
                    <a:lnTo>
                      <a:pt x="138" y="873"/>
                    </a:lnTo>
                    <a:lnTo>
                      <a:pt x="140" y="861"/>
                    </a:lnTo>
                    <a:lnTo>
                      <a:pt x="144" y="848"/>
                    </a:lnTo>
                    <a:lnTo>
                      <a:pt x="146" y="837"/>
                    </a:lnTo>
                    <a:lnTo>
                      <a:pt x="150" y="825"/>
                    </a:lnTo>
                    <a:lnTo>
                      <a:pt x="152" y="813"/>
                    </a:lnTo>
                    <a:lnTo>
                      <a:pt x="156" y="801"/>
                    </a:lnTo>
                    <a:lnTo>
                      <a:pt x="158" y="791"/>
                    </a:lnTo>
                    <a:lnTo>
                      <a:pt x="160" y="780"/>
                    </a:lnTo>
                    <a:lnTo>
                      <a:pt x="162" y="770"/>
                    </a:lnTo>
                    <a:lnTo>
                      <a:pt x="165" y="760"/>
                    </a:lnTo>
                    <a:lnTo>
                      <a:pt x="165" y="755"/>
                    </a:lnTo>
                    <a:lnTo>
                      <a:pt x="166" y="749"/>
                    </a:lnTo>
                    <a:lnTo>
                      <a:pt x="166" y="743"/>
                    </a:lnTo>
                    <a:lnTo>
                      <a:pt x="168" y="735"/>
                    </a:lnTo>
                    <a:lnTo>
                      <a:pt x="168" y="729"/>
                    </a:lnTo>
                    <a:lnTo>
                      <a:pt x="170" y="721"/>
                    </a:lnTo>
                    <a:lnTo>
                      <a:pt x="170" y="713"/>
                    </a:lnTo>
                    <a:lnTo>
                      <a:pt x="172" y="705"/>
                    </a:lnTo>
                    <a:lnTo>
                      <a:pt x="172" y="697"/>
                    </a:lnTo>
                    <a:lnTo>
                      <a:pt x="172" y="690"/>
                    </a:lnTo>
                    <a:lnTo>
                      <a:pt x="172" y="682"/>
                    </a:lnTo>
                    <a:lnTo>
                      <a:pt x="174" y="674"/>
                    </a:lnTo>
                    <a:lnTo>
                      <a:pt x="174" y="668"/>
                    </a:lnTo>
                    <a:lnTo>
                      <a:pt x="175" y="661"/>
                    </a:lnTo>
                    <a:lnTo>
                      <a:pt x="175" y="654"/>
                    </a:lnTo>
                    <a:lnTo>
                      <a:pt x="176" y="647"/>
                    </a:lnTo>
                    <a:lnTo>
                      <a:pt x="175" y="644"/>
                    </a:lnTo>
                    <a:lnTo>
                      <a:pt x="175" y="641"/>
                    </a:lnTo>
                    <a:lnTo>
                      <a:pt x="174" y="636"/>
                    </a:lnTo>
                    <a:lnTo>
                      <a:pt x="174" y="631"/>
                    </a:lnTo>
                    <a:lnTo>
                      <a:pt x="172" y="625"/>
                    </a:lnTo>
                    <a:lnTo>
                      <a:pt x="172" y="619"/>
                    </a:lnTo>
                    <a:lnTo>
                      <a:pt x="170" y="614"/>
                    </a:lnTo>
                    <a:lnTo>
                      <a:pt x="170" y="606"/>
                    </a:lnTo>
                    <a:lnTo>
                      <a:pt x="168" y="601"/>
                    </a:lnTo>
                    <a:lnTo>
                      <a:pt x="168" y="594"/>
                    </a:lnTo>
                    <a:lnTo>
                      <a:pt x="166" y="588"/>
                    </a:lnTo>
                    <a:lnTo>
                      <a:pt x="166" y="581"/>
                    </a:lnTo>
                    <a:lnTo>
                      <a:pt x="165" y="576"/>
                    </a:lnTo>
                    <a:lnTo>
                      <a:pt x="165" y="571"/>
                    </a:lnTo>
                    <a:lnTo>
                      <a:pt x="165" y="566"/>
                    </a:lnTo>
                    <a:lnTo>
                      <a:pt x="165" y="561"/>
                    </a:lnTo>
                    <a:lnTo>
                      <a:pt x="164" y="560"/>
                    </a:lnTo>
                    <a:lnTo>
                      <a:pt x="164" y="558"/>
                    </a:lnTo>
                    <a:lnTo>
                      <a:pt x="164" y="556"/>
                    </a:lnTo>
                    <a:lnTo>
                      <a:pt x="164" y="553"/>
                    </a:lnTo>
                    <a:lnTo>
                      <a:pt x="163" y="551"/>
                    </a:lnTo>
                    <a:lnTo>
                      <a:pt x="163" y="548"/>
                    </a:lnTo>
                    <a:lnTo>
                      <a:pt x="163" y="545"/>
                    </a:lnTo>
                    <a:lnTo>
                      <a:pt x="163" y="541"/>
                    </a:lnTo>
                    <a:lnTo>
                      <a:pt x="163" y="539"/>
                    </a:lnTo>
                    <a:lnTo>
                      <a:pt x="163" y="536"/>
                    </a:lnTo>
                    <a:lnTo>
                      <a:pt x="163" y="534"/>
                    </a:lnTo>
                    <a:lnTo>
                      <a:pt x="163" y="530"/>
                    </a:lnTo>
                    <a:lnTo>
                      <a:pt x="163" y="528"/>
                    </a:lnTo>
                    <a:lnTo>
                      <a:pt x="163" y="526"/>
                    </a:lnTo>
                    <a:lnTo>
                      <a:pt x="163" y="524"/>
                    </a:lnTo>
                    <a:lnTo>
                      <a:pt x="165" y="521"/>
                    </a:lnTo>
                    <a:lnTo>
                      <a:pt x="166" y="519"/>
                    </a:lnTo>
                    <a:lnTo>
                      <a:pt x="167" y="517"/>
                    </a:lnTo>
                    <a:lnTo>
                      <a:pt x="169" y="515"/>
                    </a:lnTo>
                    <a:lnTo>
                      <a:pt x="172" y="512"/>
                    </a:lnTo>
                    <a:lnTo>
                      <a:pt x="174" y="510"/>
                    </a:lnTo>
                    <a:lnTo>
                      <a:pt x="177" y="508"/>
                    </a:lnTo>
                    <a:lnTo>
                      <a:pt x="179" y="507"/>
                    </a:lnTo>
                    <a:lnTo>
                      <a:pt x="182" y="503"/>
                    </a:lnTo>
                    <a:lnTo>
                      <a:pt x="184" y="501"/>
                    </a:lnTo>
                    <a:lnTo>
                      <a:pt x="187" y="499"/>
                    </a:lnTo>
                    <a:lnTo>
                      <a:pt x="189" y="497"/>
                    </a:lnTo>
                    <a:lnTo>
                      <a:pt x="192" y="493"/>
                    </a:lnTo>
                    <a:lnTo>
                      <a:pt x="194" y="491"/>
                    </a:lnTo>
                    <a:lnTo>
                      <a:pt x="196" y="489"/>
                    </a:lnTo>
                    <a:lnTo>
                      <a:pt x="197" y="487"/>
                    </a:lnTo>
                    <a:lnTo>
                      <a:pt x="199" y="483"/>
                    </a:lnTo>
                    <a:lnTo>
                      <a:pt x="199" y="480"/>
                    </a:lnTo>
                    <a:lnTo>
                      <a:pt x="201" y="477"/>
                    </a:lnTo>
                    <a:lnTo>
                      <a:pt x="202" y="472"/>
                    </a:lnTo>
                    <a:lnTo>
                      <a:pt x="204" y="467"/>
                    </a:lnTo>
                    <a:lnTo>
                      <a:pt x="204" y="461"/>
                    </a:lnTo>
                    <a:lnTo>
                      <a:pt x="206" y="456"/>
                    </a:lnTo>
                    <a:lnTo>
                      <a:pt x="206" y="450"/>
                    </a:lnTo>
                    <a:lnTo>
                      <a:pt x="207" y="443"/>
                    </a:lnTo>
                    <a:lnTo>
                      <a:pt x="207" y="438"/>
                    </a:lnTo>
                    <a:lnTo>
                      <a:pt x="207" y="432"/>
                    </a:lnTo>
                    <a:lnTo>
                      <a:pt x="207" y="427"/>
                    </a:lnTo>
                    <a:lnTo>
                      <a:pt x="208" y="420"/>
                    </a:lnTo>
                    <a:lnTo>
                      <a:pt x="208" y="416"/>
                    </a:lnTo>
                    <a:lnTo>
                      <a:pt x="208" y="410"/>
                    </a:lnTo>
                    <a:lnTo>
                      <a:pt x="208" y="407"/>
                    </a:lnTo>
                    <a:lnTo>
                      <a:pt x="208" y="402"/>
                    </a:lnTo>
                    <a:lnTo>
                      <a:pt x="207" y="399"/>
                    </a:lnTo>
                    <a:lnTo>
                      <a:pt x="206" y="395"/>
                    </a:lnTo>
                    <a:lnTo>
                      <a:pt x="204" y="391"/>
                    </a:lnTo>
                    <a:lnTo>
                      <a:pt x="204" y="387"/>
                    </a:lnTo>
                    <a:lnTo>
                      <a:pt x="202" y="383"/>
                    </a:lnTo>
                    <a:lnTo>
                      <a:pt x="200" y="378"/>
                    </a:lnTo>
                    <a:lnTo>
                      <a:pt x="198" y="374"/>
                    </a:lnTo>
                    <a:lnTo>
                      <a:pt x="196" y="369"/>
                    </a:lnTo>
                    <a:lnTo>
                      <a:pt x="192" y="365"/>
                    </a:lnTo>
                    <a:lnTo>
                      <a:pt x="190" y="361"/>
                    </a:lnTo>
                    <a:lnTo>
                      <a:pt x="188" y="357"/>
                    </a:lnTo>
                    <a:lnTo>
                      <a:pt x="186" y="352"/>
                    </a:lnTo>
                    <a:lnTo>
                      <a:pt x="184" y="348"/>
                    </a:lnTo>
                    <a:lnTo>
                      <a:pt x="182" y="344"/>
                    </a:lnTo>
                    <a:lnTo>
                      <a:pt x="180" y="341"/>
                    </a:lnTo>
                    <a:lnTo>
                      <a:pt x="179" y="336"/>
                    </a:lnTo>
                    <a:lnTo>
                      <a:pt x="176" y="331"/>
                    </a:lnTo>
                    <a:lnTo>
                      <a:pt x="172" y="322"/>
                    </a:lnTo>
                    <a:lnTo>
                      <a:pt x="167" y="312"/>
                    </a:lnTo>
                    <a:lnTo>
                      <a:pt x="162" y="300"/>
                    </a:lnTo>
                    <a:lnTo>
                      <a:pt x="154" y="287"/>
                    </a:lnTo>
                    <a:lnTo>
                      <a:pt x="146" y="273"/>
                    </a:lnTo>
                    <a:lnTo>
                      <a:pt x="137" y="257"/>
                    </a:lnTo>
                    <a:lnTo>
                      <a:pt x="127" y="241"/>
                    </a:lnTo>
                    <a:lnTo>
                      <a:pt x="114" y="226"/>
                    </a:lnTo>
                    <a:lnTo>
                      <a:pt x="102" y="210"/>
                    </a:lnTo>
                    <a:lnTo>
                      <a:pt x="88" y="195"/>
                    </a:lnTo>
                    <a:lnTo>
                      <a:pt x="74" y="180"/>
                    </a:lnTo>
                    <a:lnTo>
                      <a:pt x="58" y="167"/>
                    </a:lnTo>
                    <a:lnTo>
                      <a:pt x="41" y="155"/>
                    </a:lnTo>
                    <a:lnTo>
                      <a:pt x="23" y="144"/>
                    </a:lnTo>
                    <a:lnTo>
                      <a:pt x="6" y="134"/>
                    </a:lnTo>
                    <a:lnTo>
                      <a:pt x="1" y="133"/>
                    </a:lnTo>
                    <a:lnTo>
                      <a:pt x="0" y="132"/>
                    </a:lnTo>
                    <a:lnTo>
                      <a:pt x="1" y="132"/>
                    </a:lnTo>
                    <a:lnTo>
                      <a:pt x="4" y="131"/>
                    </a:lnTo>
                    <a:lnTo>
                      <a:pt x="9" y="133"/>
                    </a:lnTo>
                    <a:lnTo>
                      <a:pt x="15" y="133"/>
                    </a:lnTo>
                    <a:lnTo>
                      <a:pt x="23" y="133"/>
                    </a:lnTo>
                    <a:lnTo>
                      <a:pt x="30" y="133"/>
                    </a:lnTo>
                    <a:lnTo>
                      <a:pt x="37" y="133"/>
                    </a:lnTo>
                    <a:lnTo>
                      <a:pt x="44" y="133"/>
                    </a:lnTo>
                    <a:lnTo>
                      <a:pt x="51" y="133"/>
                    </a:lnTo>
                    <a:lnTo>
                      <a:pt x="58" y="131"/>
                    </a:lnTo>
                    <a:lnTo>
                      <a:pt x="62" y="129"/>
                    </a:lnTo>
                    <a:lnTo>
                      <a:pt x="66" y="126"/>
                    </a:lnTo>
                    <a:lnTo>
                      <a:pt x="67" y="122"/>
                    </a:lnTo>
                    <a:lnTo>
                      <a:pt x="66" y="117"/>
                    </a:lnTo>
                    <a:lnTo>
                      <a:pt x="64" y="115"/>
                    </a:lnTo>
                    <a:lnTo>
                      <a:pt x="62" y="111"/>
                    </a:lnTo>
                    <a:lnTo>
                      <a:pt x="60" y="108"/>
                    </a:lnTo>
                    <a:lnTo>
                      <a:pt x="58" y="104"/>
                    </a:lnTo>
                    <a:lnTo>
                      <a:pt x="54" y="100"/>
                    </a:lnTo>
                    <a:lnTo>
                      <a:pt x="52" y="96"/>
                    </a:lnTo>
                    <a:lnTo>
                      <a:pt x="49" y="92"/>
                    </a:lnTo>
                    <a:lnTo>
                      <a:pt x="47" y="87"/>
                    </a:lnTo>
                    <a:lnTo>
                      <a:pt x="43" y="83"/>
                    </a:lnTo>
                    <a:lnTo>
                      <a:pt x="41" y="79"/>
                    </a:lnTo>
                    <a:lnTo>
                      <a:pt x="40" y="75"/>
                    </a:lnTo>
                    <a:lnTo>
                      <a:pt x="38" y="70"/>
                    </a:lnTo>
                    <a:lnTo>
                      <a:pt x="36" y="68"/>
                    </a:lnTo>
                    <a:lnTo>
                      <a:pt x="36" y="64"/>
                    </a:lnTo>
                    <a:lnTo>
                      <a:pt x="36" y="62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38" y="55"/>
                    </a:lnTo>
                    <a:lnTo>
                      <a:pt x="38" y="53"/>
                    </a:lnTo>
                    <a:lnTo>
                      <a:pt x="38" y="52"/>
                    </a:lnTo>
                    <a:lnTo>
                      <a:pt x="39" y="50"/>
                    </a:lnTo>
                    <a:lnTo>
                      <a:pt x="39" y="50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7"/>
                    </a:lnTo>
                    <a:lnTo>
                      <a:pt x="39" y="47"/>
                    </a:lnTo>
                    <a:lnTo>
                      <a:pt x="39" y="46"/>
                    </a:lnTo>
                    <a:lnTo>
                      <a:pt x="39" y="46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3" y="48"/>
                    </a:lnTo>
                    <a:lnTo>
                      <a:pt x="46" y="50"/>
                    </a:lnTo>
                    <a:lnTo>
                      <a:pt x="50" y="52"/>
                    </a:lnTo>
                    <a:lnTo>
                      <a:pt x="54" y="56"/>
                    </a:lnTo>
                    <a:lnTo>
                      <a:pt x="58" y="58"/>
                    </a:lnTo>
                    <a:lnTo>
                      <a:pt x="62" y="62"/>
                    </a:lnTo>
                    <a:lnTo>
                      <a:pt x="68" y="64"/>
                    </a:lnTo>
                    <a:lnTo>
                      <a:pt x="71" y="68"/>
                    </a:lnTo>
                    <a:lnTo>
                      <a:pt x="76" y="71"/>
                    </a:lnTo>
                    <a:lnTo>
                      <a:pt x="80" y="74"/>
                    </a:lnTo>
                    <a:lnTo>
                      <a:pt x="85" y="76"/>
                    </a:lnTo>
                    <a:lnTo>
                      <a:pt x="88" y="78"/>
                    </a:lnTo>
                    <a:lnTo>
                      <a:pt x="91" y="80"/>
                    </a:lnTo>
                    <a:lnTo>
                      <a:pt x="93" y="80"/>
                    </a:lnTo>
                    <a:lnTo>
                      <a:pt x="96" y="79"/>
                    </a:lnTo>
                    <a:lnTo>
                      <a:pt x="98" y="78"/>
                    </a:lnTo>
                    <a:lnTo>
                      <a:pt x="101" y="75"/>
                    </a:lnTo>
                    <a:lnTo>
                      <a:pt x="103" y="71"/>
                    </a:lnTo>
                    <a:lnTo>
                      <a:pt x="107" y="65"/>
                    </a:lnTo>
                    <a:lnTo>
                      <a:pt x="109" y="60"/>
                    </a:lnTo>
                    <a:lnTo>
                      <a:pt x="112" y="55"/>
                    </a:lnTo>
                    <a:lnTo>
                      <a:pt x="116" y="49"/>
                    </a:lnTo>
                    <a:lnTo>
                      <a:pt x="120" y="42"/>
                    </a:lnTo>
                    <a:lnTo>
                      <a:pt x="122" y="37"/>
                    </a:lnTo>
                    <a:lnTo>
                      <a:pt x="126" y="31"/>
                    </a:lnTo>
                    <a:lnTo>
                      <a:pt x="129" y="25"/>
                    </a:lnTo>
                    <a:lnTo>
                      <a:pt x="133" y="19"/>
                    </a:lnTo>
                    <a:lnTo>
                      <a:pt x="136" y="15"/>
                    </a:lnTo>
                    <a:lnTo>
                      <a:pt x="140" y="10"/>
                    </a:lnTo>
                    <a:lnTo>
                      <a:pt x="144" y="7"/>
                    </a:lnTo>
                    <a:lnTo>
                      <a:pt x="148" y="4"/>
                    </a:lnTo>
                    <a:lnTo>
                      <a:pt x="149" y="3"/>
                    </a:lnTo>
                    <a:lnTo>
                      <a:pt x="150" y="1"/>
                    </a:lnTo>
                    <a:lnTo>
                      <a:pt x="152" y="1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4" y="1"/>
                    </a:lnTo>
                    <a:lnTo>
                      <a:pt x="156" y="1"/>
                    </a:lnTo>
                    <a:lnTo>
                      <a:pt x="156" y="3"/>
                    </a:lnTo>
                    <a:lnTo>
                      <a:pt x="156" y="4"/>
                    </a:lnTo>
                    <a:lnTo>
                      <a:pt x="156" y="6"/>
                    </a:lnTo>
                    <a:lnTo>
                      <a:pt x="156" y="6"/>
                    </a:lnTo>
                    <a:lnTo>
                      <a:pt x="156" y="8"/>
                    </a:lnTo>
                    <a:lnTo>
                      <a:pt x="156" y="9"/>
                    </a:lnTo>
                    <a:lnTo>
                      <a:pt x="157" y="10"/>
                    </a:lnTo>
                    <a:lnTo>
                      <a:pt x="159" y="10"/>
                    </a:lnTo>
                    <a:lnTo>
                      <a:pt x="158" y="11"/>
                    </a:lnTo>
                    <a:lnTo>
                      <a:pt x="157" y="14"/>
                    </a:lnTo>
                    <a:lnTo>
                      <a:pt x="154" y="19"/>
                    </a:lnTo>
                    <a:lnTo>
                      <a:pt x="152" y="23"/>
                    </a:lnTo>
                    <a:lnTo>
                      <a:pt x="148" y="31"/>
                    </a:lnTo>
                    <a:lnTo>
                      <a:pt x="144" y="38"/>
                    </a:lnTo>
                    <a:lnTo>
                      <a:pt x="140" y="46"/>
                    </a:lnTo>
                    <a:lnTo>
                      <a:pt x="136" y="53"/>
                    </a:lnTo>
                    <a:lnTo>
                      <a:pt x="130" y="63"/>
                    </a:lnTo>
                    <a:lnTo>
                      <a:pt x="127" y="71"/>
                    </a:lnTo>
                    <a:lnTo>
                      <a:pt x="122" y="80"/>
                    </a:lnTo>
                    <a:lnTo>
                      <a:pt x="119" y="87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12" y="107"/>
                    </a:lnTo>
                    <a:lnTo>
                      <a:pt x="112" y="111"/>
                    </a:lnTo>
                    <a:lnTo>
                      <a:pt x="112" y="120"/>
                    </a:lnTo>
                    <a:lnTo>
                      <a:pt x="114" y="129"/>
                    </a:lnTo>
                    <a:lnTo>
                      <a:pt x="116" y="139"/>
                    </a:lnTo>
                    <a:lnTo>
                      <a:pt x="119" y="148"/>
                    </a:lnTo>
                    <a:lnTo>
                      <a:pt x="123" y="159"/>
                    </a:lnTo>
                    <a:lnTo>
                      <a:pt x="128" y="169"/>
                    </a:lnTo>
                    <a:lnTo>
                      <a:pt x="134" y="179"/>
                    </a:lnTo>
                    <a:lnTo>
                      <a:pt x="139" y="189"/>
                    </a:lnTo>
                    <a:lnTo>
                      <a:pt x="145" y="200"/>
                    </a:lnTo>
                    <a:lnTo>
                      <a:pt x="150" y="211"/>
                    </a:lnTo>
                    <a:lnTo>
                      <a:pt x="156" y="221"/>
                    </a:lnTo>
                    <a:lnTo>
                      <a:pt x="162" y="231"/>
                    </a:lnTo>
                    <a:lnTo>
                      <a:pt x="167" y="241"/>
                    </a:lnTo>
                    <a:lnTo>
                      <a:pt x="173" y="250"/>
                    </a:lnTo>
                    <a:lnTo>
                      <a:pt x="177" y="259"/>
                    </a:lnTo>
                    <a:lnTo>
                      <a:pt x="182" y="267"/>
                    </a:lnTo>
                    <a:lnTo>
                      <a:pt x="184" y="273"/>
                    </a:lnTo>
                    <a:lnTo>
                      <a:pt x="186" y="278"/>
                    </a:lnTo>
                    <a:lnTo>
                      <a:pt x="189" y="284"/>
                    </a:lnTo>
                    <a:lnTo>
                      <a:pt x="192" y="289"/>
                    </a:lnTo>
                    <a:lnTo>
                      <a:pt x="196" y="295"/>
                    </a:lnTo>
                    <a:lnTo>
                      <a:pt x="200" y="301"/>
                    </a:lnTo>
                    <a:lnTo>
                      <a:pt x="204" y="307"/>
                    </a:lnTo>
                    <a:lnTo>
                      <a:pt x="208" y="312"/>
                    </a:lnTo>
                    <a:lnTo>
                      <a:pt x="212" y="319"/>
                    </a:lnTo>
                    <a:lnTo>
                      <a:pt x="216" y="325"/>
                    </a:lnTo>
                    <a:lnTo>
                      <a:pt x="219" y="331"/>
                    </a:lnTo>
                    <a:lnTo>
                      <a:pt x="223" y="336"/>
                    </a:lnTo>
                    <a:lnTo>
                      <a:pt x="226" y="342"/>
                    </a:lnTo>
                    <a:lnTo>
                      <a:pt x="230" y="347"/>
                    </a:lnTo>
                    <a:lnTo>
                      <a:pt x="233" y="352"/>
                    </a:lnTo>
                    <a:lnTo>
                      <a:pt x="237" y="356"/>
                    </a:lnTo>
                    <a:lnTo>
                      <a:pt x="237" y="359"/>
                    </a:lnTo>
                    <a:lnTo>
                      <a:pt x="237" y="361"/>
                    </a:lnTo>
                    <a:lnTo>
                      <a:pt x="237" y="364"/>
                    </a:lnTo>
                    <a:lnTo>
                      <a:pt x="239" y="367"/>
                    </a:lnTo>
                    <a:lnTo>
                      <a:pt x="239" y="372"/>
                    </a:lnTo>
                    <a:lnTo>
                      <a:pt x="241" y="375"/>
                    </a:lnTo>
                    <a:lnTo>
                      <a:pt x="242" y="380"/>
                    </a:lnTo>
                    <a:lnTo>
                      <a:pt x="244" y="383"/>
                    </a:lnTo>
                    <a:lnTo>
                      <a:pt x="244" y="389"/>
                    </a:lnTo>
                    <a:lnTo>
                      <a:pt x="246" y="393"/>
                    </a:lnTo>
                    <a:lnTo>
                      <a:pt x="248" y="397"/>
                    </a:lnTo>
                    <a:lnTo>
                      <a:pt x="250" y="400"/>
                    </a:lnTo>
                    <a:lnTo>
                      <a:pt x="251" y="403"/>
                    </a:lnTo>
                    <a:lnTo>
                      <a:pt x="253" y="406"/>
                    </a:lnTo>
                    <a:lnTo>
                      <a:pt x="255" y="408"/>
                    </a:lnTo>
                    <a:lnTo>
                      <a:pt x="257" y="408"/>
                    </a:lnTo>
                    <a:lnTo>
                      <a:pt x="258" y="408"/>
                    </a:lnTo>
                    <a:lnTo>
                      <a:pt x="260" y="407"/>
                    </a:lnTo>
                    <a:lnTo>
                      <a:pt x="262" y="405"/>
                    </a:lnTo>
                    <a:lnTo>
                      <a:pt x="265" y="401"/>
                    </a:lnTo>
                    <a:lnTo>
                      <a:pt x="267" y="399"/>
                    </a:lnTo>
                    <a:lnTo>
                      <a:pt x="270" y="395"/>
                    </a:lnTo>
                    <a:lnTo>
                      <a:pt x="272" y="391"/>
                    </a:lnTo>
                    <a:lnTo>
                      <a:pt x="276" y="385"/>
                    </a:lnTo>
                    <a:lnTo>
                      <a:pt x="278" y="382"/>
                    </a:lnTo>
                    <a:lnTo>
                      <a:pt x="280" y="377"/>
                    </a:lnTo>
                    <a:lnTo>
                      <a:pt x="282" y="373"/>
                    </a:lnTo>
                    <a:lnTo>
                      <a:pt x="285" y="369"/>
                    </a:lnTo>
                    <a:lnTo>
                      <a:pt x="286" y="365"/>
                    </a:lnTo>
                    <a:lnTo>
                      <a:pt x="288" y="362"/>
                    </a:lnTo>
                    <a:lnTo>
                      <a:pt x="290" y="359"/>
                    </a:lnTo>
                    <a:lnTo>
                      <a:pt x="292" y="356"/>
                    </a:lnTo>
                    <a:lnTo>
                      <a:pt x="294" y="354"/>
                    </a:lnTo>
                    <a:lnTo>
                      <a:pt x="297" y="351"/>
                    </a:lnTo>
                    <a:lnTo>
                      <a:pt x="300" y="349"/>
                    </a:lnTo>
                    <a:lnTo>
                      <a:pt x="304" y="345"/>
                    </a:lnTo>
                    <a:lnTo>
                      <a:pt x="305" y="343"/>
                    </a:lnTo>
                    <a:lnTo>
                      <a:pt x="309" y="341"/>
                    </a:lnTo>
                    <a:lnTo>
                      <a:pt x="312" y="339"/>
                    </a:lnTo>
                    <a:lnTo>
                      <a:pt x="315" y="335"/>
                    </a:lnTo>
                    <a:lnTo>
                      <a:pt x="317" y="333"/>
                    </a:lnTo>
                    <a:lnTo>
                      <a:pt x="320" y="330"/>
                    </a:lnTo>
                    <a:lnTo>
                      <a:pt x="322" y="328"/>
                    </a:lnTo>
                    <a:lnTo>
                      <a:pt x="325" y="324"/>
                    </a:lnTo>
                    <a:lnTo>
                      <a:pt x="326" y="322"/>
                    </a:lnTo>
                    <a:lnTo>
                      <a:pt x="328" y="318"/>
                    </a:lnTo>
                    <a:lnTo>
                      <a:pt x="330" y="314"/>
                    </a:lnTo>
                    <a:lnTo>
                      <a:pt x="332" y="310"/>
                    </a:lnTo>
                    <a:lnTo>
                      <a:pt x="332" y="309"/>
                    </a:lnTo>
                    <a:lnTo>
                      <a:pt x="332" y="306"/>
                    </a:lnTo>
                    <a:lnTo>
                      <a:pt x="332" y="302"/>
                    </a:lnTo>
                    <a:lnTo>
                      <a:pt x="333" y="298"/>
                    </a:lnTo>
                    <a:lnTo>
                      <a:pt x="333" y="294"/>
                    </a:lnTo>
                    <a:lnTo>
                      <a:pt x="334" y="288"/>
                    </a:lnTo>
                    <a:lnTo>
                      <a:pt x="334" y="283"/>
                    </a:lnTo>
                    <a:lnTo>
                      <a:pt x="336" y="277"/>
                    </a:lnTo>
                    <a:lnTo>
                      <a:pt x="336" y="272"/>
                    </a:lnTo>
                    <a:lnTo>
                      <a:pt x="337" y="266"/>
                    </a:lnTo>
                    <a:lnTo>
                      <a:pt x="337" y="261"/>
                    </a:lnTo>
                    <a:lnTo>
                      <a:pt x="339" y="255"/>
                    </a:lnTo>
                    <a:lnTo>
                      <a:pt x="339" y="252"/>
                    </a:lnTo>
                    <a:lnTo>
                      <a:pt x="340" y="247"/>
                    </a:lnTo>
                    <a:lnTo>
                      <a:pt x="340" y="244"/>
                    </a:lnTo>
                    <a:lnTo>
                      <a:pt x="341" y="241"/>
                    </a:lnTo>
                    <a:lnTo>
                      <a:pt x="340" y="239"/>
                    </a:lnTo>
                    <a:lnTo>
                      <a:pt x="340" y="236"/>
                    </a:lnTo>
                    <a:lnTo>
                      <a:pt x="340" y="232"/>
                    </a:lnTo>
                    <a:lnTo>
                      <a:pt x="340" y="227"/>
                    </a:lnTo>
                    <a:lnTo>
                      <a:pt x="340" y="224"/>
                    </a:lnTo>
                    <a:lnTo>
                      <a:pt x="340" y="219"/>
                    </a:lnTo>
                    <a:lnTo>
                      <a:pt x="340" y="215"/>
                    </a:lnTo>
                    <a:lnTo>
                      <a:pt x="340" y="209"/>
                    </a:lnTo>
                    <a:lnTo>
                      <a:pt x="338" y="206"/>
                    </a:lnTo>
                    <a:lnTo>
                      <a:pt x="338" y="201"/>
                    </a:lnTo>
                    <a:lnTo>
                      <a:pt x="338" y="197"/>
                    </a:lnTo>
                    <a:lnTo>
                      <a:pt x="338" y="191"/>
                    </a:lnTo>
                    <a:lnTo>
                      <a:pt x="336" y="187"/>
                    </a:lnTo>
                    <a:lnTo>
                      <a:pt x="336" y="184"/>
                    </a:lnTo>
                    <a:lnTo>
                      <a:pt x="335" y="181"/>
                    </a:lnTo>
                    <a:lnTo>
                      <a:pt x="335" y="177"/>
                    </a:lnTo>
                    <a:lnTo>
                      <a:pt x="333" y="175"/>
                    </a:lnTo>
                    <a:lnTo>
                      <a:pt x="332" y="173"/>
                    </a:lnTo>
                    <a:lnTo>
                      <a:pt x="331" y="171"/>
                    </a:lnTo>
                    <a:lnTo>
                      <a:pt x="331" y="167"/>
                    </a:lnTo>
                    <a:lnTo>
                      <a:pt x="330" y="166"/>
                    </a:lnTo>
                    <a:lnTo>
                      <a:pt x="330" y="163"/>
                    </a:lnTo>
                    <a:lnTo>
                      <a:pt x="330" y="161"/>
                    </a:lnTo>
                    <a:lnTo>
                      <a:pt x="330" y="158"/>
                    </a:lnTo>
                    <a:lnTo>
                      <a:pt x="330" y="156"/>
                    </a:lnTo>
                    <a:lnTo>
                      <a:pt x="330" y="154"/>
                    </a:lnTo>
                    <a:lnTo>
                      <a:pt x="330" y="152"/>
                    </a:lnTo>
                    <a:lnTo>
                      <a:pt x="332" y="150"/>
                    </a:lnTo>
                    <a:lnTo>
                      <a:pt x="332" y="150"/>
                    </a:lnTo>
                    <a:lnTo>
                      <a:pt x="334" y="148"/>
                    </a:lnTo>
                    <a:lnTo>
                      <a:pt x="336" y="148"/>
                    </a:lnTo>
                    <a:lnTo>
                      <a:pt x="338" y="146"/>
                    </a:lnTo>
                    <a:lnTo>
                      <a:pt x="338" y="146"/>
                    </a:lnTo>
                    <a:lnTo>
                      <a:pt x="342" y="146"/>
                    </a:lnTo>
                    <a:lnTo>
                      <a:pt x="345" y="146"/>
                    </a:lnTo>
                    <a:lnTo>
                      <a:pt x="351" y="146"/>
                    </a:lnTo>
                    <a:lnTo>
                      <a:pt x="356" y="146"/>
                    </a:lnTo>
                    <a:lnTo>
                      <a:pt x="364" y="146"/>
                    </a:lnTo>
                    <a:lnTo>
                      <a:pt x="372" y="146"/>
                    </a:lnTo>
                    <a:lnTo>
                      <a:pt x="380" y="145"/>
                    </a:lnTo>
                    <a:lnTo>
                      <a:pt x="388" y="147"/>
                    </a:lnTo>
                    <a:lnTo>
                      <a:pt x="395" y="147"/>
                    </a:lnTo>
                    <a:lnTo>
                      <a:pt x="403" y="148"/>
                    </a:lnTo>
                    <a:lnTo>
                      <a:pt x="410" y="148"/>
                    </a:lnTo>
                    <a:lnTo>
                      <a:pt x="416" y="150"/>
                    </a:lnTo>
                    <a:lnTo>
                      <a:pt x="422" y="152"/>
                    </a:lnTo>
                    <a:lnTo>
                      <a:pt x="426" y="155"/>
                    </a:lnTo>
                    <a:lnTo>
                      <a:pt x="430" y="157"/>
                    </a:lnTo>
                    <a:lnTo>
                      <a:pt x="430" y="159"/>
                    </a:lnTo>
                    <a:lnTo>
                      <a:pt x="428" y="160"/>
                    </a:lnTo>
                    <a:lnTo>
                      <a:pt x="425" y="161"/>
                    </a:lnTo>
                    <a:lnTo>
                      <a:pt x="421" y="161"/>
                    </a:lnTo>
                    <a:lnTo>
                      <a:pt x="416" y="161"/>
                    </a:lnTo>
                    <a:lnTo>
                      <a:pt x="410" y="161"/>
                    </a:lnTo>
                    <a:lnTo>
                      <a:pt x="403" y="161"/>
                    </a:lnTo>
                    <a:lnTo>
                      <a:pt x="398" y="159"/>
                    </a:lnTo>
                    <a:lnTo>
                      <a:pt x="390" y="160"/>
                    </a:lnTo>
                    <a:lnTo>
                      <a:pt x="384" y="160"/>
                    </a:lnTo>
                    <a:lnTo>
                      <a:pt x="378" y="160"/>
                    </a:lnTo>
                    <a:lnTo>
                      <a:pt x="372" y="160"/>
                    </a:lnTo>
                    <a:lnTo>
                      <a:pt x="366" y="162"/>
                    </a:lnTo>
                    <a:lnTo>
                      <a:pt x="362" y="163"/>
                    </a:lnTo>
                    <a:lnTo>
                      <a:pt x="359" y="165"/>
                    </a:lnTo>
                    <a:lnTo>
                      <a:pt x="358" y="166"/>
                    </a:lnTo>
                    <a:lnTo>
                      <a:pt x="357" y="169"/>
                    </a:lnTo>
                    <a:lnTo>
                      <a:pt x="357" y="173"/>
                    </a:lnTo>
                    <a:lnTo>
                      <a:pt x="357" y="178"/>
                    </a:lnTo>
                    <a:lnTo>
                      <a:pt x="358" y="183"/>
                    </a:lnTo>
                    <a:lnTo>
                      <a:pt x="358" y="189"/>
                    </a:lnTo>
                    <a:lnTo>
                      <a:pt x="359" y="195"/>
                    </a:lnTo>
                    <a:lnTo>
                      <a:pt x="359" y="202"/>
                    </a:lnTo>
                    <a:lnTo>
                      <a:pt x="361" y="207"/>
                    </a:lnTo>
                    <a:lnTo>
                      <a:pt x="361" y="215"/>
                    </a:lnTo>
                    <a:lnTo>
                      <a:pt x="363" y="221"/>
                    </a:lnTo>
                    <a:lnTo>
                      <a:pt x="363" y="226"/>
                    </a:lnTo>
                    <a:lnTo>
                      <a:pt x="365" y="231"/>
                    </a:lnTo>
                    <a:lnTo>
                      <a:pt x="365" y="236"/>
                    </a:lnTo>
                    <a:lnTo>
                      <a:pt x="367" y="239"/>
                    </a:lnTo>
                    <a:lnTo>
                      <a:pt x="368" y="241"/>
                    </a:lnTo>
                    <a:lnTo>
                      <a:pt x="370" y="241"/>
                    </a:lnTo>
                    <a:lnTo>
                      <a:pt x="371" y="240"/>
                    </a:lnTo>
                    <a:lnTo>
                      <a:pt x="373" y="237"/>
                    </a:lnTo>
                    <a:lnTo>
                      <a:pt x="376" y="234"/>
                    </a:lnTo>
                    <a:lnTo>
                      <a:pt x="380" y="227"/>
                    </a:lnTo>
                    <a:lnTo>
                      <a:pt x="383" y="221"/>
                    </a:lnTo>
                    <a:lnTo>
                      <a:pt x="386" y="214"/>
                    </a:lnTo>
                    <a:lnTo>
                      <a:pt x="390" y="206"/>
                    </a:lnTo>
                    <a:lnTo>
                      <a:pt x="395" y="196"/>
                    </a:lnTo>
                    <a:lnTo>
                      <a:pt x="399" y="189"/>
                    </a:lnTo>
                    <a:lnTo>
                      <a:pt x="403" y="179"/>
                    </a:lnTo>
                    <a:lnTo>
                      <a:pt x="407" y="171"/>
                    </a:lnTo>
                    <a:lnTo>
                      <a:pt x="413" y="163"/>
                    </a:lnTo>
                    <a:lnTo>
                      <a:pt x="416" y="156"/>
                    </a:lnTo>
                    <a:lnTo>
                      <a:pt x="421" y="149"/>
                    </a:lnTo>
                    <a:lnTo>
                      <a:pt x="425" y="144"/>
                    </a:lnTo>
                    <a:lnTo>
                      <a:pt x="430" y="139"/>
                    </a:lnTo>
                    <a:lnTo>
                      <a:pt x="431" y="139"/>
                    </a:lnTo>
                    <a:lnTo>
                      <a:pt x="433" y="139"/>
                    </a:lnTo>
                    <a:lnTo>
                      <a:pt x="435" y="139"/>
                    </a:lnTo>
                    <a:lnTo>
                      <a:pt x="438" y="138"/>
                    </a:lnTo>
                    <a:lnTo>
                      <a:pt x="440" y="138"/>
                    </a:lnTo>
                    <a:lnTo>
                      <a:pt x="442" y="138"/>
                    </a:lnTo>
                    <a:lnTo>
                      <a:pt x="444" y="138"/>
                    </a:lnTo>
                    <a:lnTo>
                      <a:pt x="448" y="138"/>
                    </a:lnTo>
                    <a:lnTo>
                      <a:pt x="450" y="140"/>
                    </a:lnTo>
                    <a:lnTo>
                      <a:pt x="452" y="140"/>
                    </a:lnTo>
                    <a:lnTo>
                      <a:pt x="454" y="141"/>
                    </a:lnTo>
                    <a:lnTo>
                      <a:pt x="456" y="141"/>
                    </a:lnTo>
                    <a:lnTo>
                      <a:pt x="456" y="143"/>
                    </a:lnTo>
                    <a:lnTo>
                      <a:pt x="458" y="143"/>
                    </a:lnTo>
                    <a:lnTo>
                      <a:pt x="458" y="143"/>
                    </a:lnTo>
                    <a:lnTo>
                      <a:pt x="459" y="143"/>
                    </a:lnTo>
                    <a:lnTo>
                      <a:pt x="451" y="149"/>
                    </a:lnTo>
                    <a:lnTo>
                      <a:pt x="446" y="155"/>
                    </a:lnTo>
                    <a:lnTo>
                      <a:pt x="439" y="163"/>
                    </a:lnTo>
                    <a:lnTo>
                      <a:pt x="433" y="169"/>
                    </a:lnTo>
                    <a:lnTo>
                      <a:pt x="428" y="178"/>
                    </a:lnTo>
                    <a:lnTo>
                      <a:pt x="422" y="186"/>
                    </a:lnTo>
                    <a:lnTo>
                      <a:pt x="416" y="196"/>
                    </a:lnTo>
                    <a:lnTo>
                      <a:pt x="413" y="203"/>
                    </a:lnTo>
                    <a:lnTo>
                      <a:pt x="408" y="213"/>
                    </a:lnTo>
                    <a:lnTo>
                      <a:pt x="404" y="222"/>
                    </a:lnTo>
                    <a:lnTo>
                      <a:pt x="400" y="231"/>
                    </a:lnTo>
                    <a:lnTo>
                      <a:pt x="397" y="239"/>
                    </a:lnTo>
                    <a:lnTo>
                      <a:pt x="394" y="249"/>
                    </a:lnTo>
                    <a:lnTo>
                      <a:pt x="392" y="256"/>
                    </a:lnTo>
                    <a:lnTo>
                      <a:pt x="390" y="264"/>
                    </a:lnTo>
                    <a:lnTo>
                      <a:pt x="390" y="269"/>
                    </a:lnTo>
                    <a:lnTo>
                      <a:pt x="388" y="273"/>
                    </a:lnTo>
                    <a:lnTo>
                      <a:pt x="388" y="275"/>
                    </a:lnTo>
                    <a:lnTo>
                      <a:pt x="387" y="279"/>
                    </a:lnTo>
                    <a:lnTo>
                      <a:pt x="387" y="281"/>
                    </a:lnTo>
                    <a:lnTo>
                      <a:pt x="385" y="285"/>
                    </a:lnTo>
                    <a:lnTo>
                      <a:pt x="385" y="289"/>
                    </a:lnTo>
                    <a:lnTo>
                      <a:pt x="385" y="292"/>
                    </a:lnTo>
                    <a:lnTo>
                      <a:pt x="385" y="295"/>
                    </a:lnTo>
                    <a:lnTo>
                      <a:pt x="384" y="299"/>
                    </a:lnTo>
                    <a:lnTo>
                      <a:pt x="384" y="302"/>
                    </a:lnTo>
                    <a:lnTo>
                      <a:pt x="384" y="306"/>
                    </a:lnTo>
                    <a:lnTo>
                      <a:pt x="384" y="308"/>
                    </a:lnTo>
                    <a:lnTo>
                      <a:pt x="384" y="311"/>
                    </a:lnTo>
                    <a:lnTo>
                      <a:pt x="386" y="313"/>
                    </a:lnTo>
                    <a:lnTo>
                      <a:pt x="387" y="315"/>
                    </a:lnTo>
                    <a:lnTo>
                      <a:pt x="390" y="315"/>
                    </a:lnTo>
                    <a:lnTo>
                      <a:pt x="391" y="317"/>
                    </a:lnTo>
                    <a:lnTo>
                      <a:pt x="393" y="319"/>
                    </a:lnTo>
                    <a:lnTo>
                      <a:pt x="397" y="319"/>
                    </a:lnTo>
                    <a:lnTo>
                      <a:pt x="401" y="319"/>
                    </a:lnTo>
                    <a:lnTo>
                      <a:pt x="405" y="319"/>
                    </a:lnTo>
                    <a:lnTo>
                      <a:pt x="410" y="319"/>
                    </a:lnTo>
                    <a:lnTo>
                      <a:pt x="414" y="318"/>
                    </a:lnTo>
                    <a:lnTo>
                      <a:pt x="420" y="316"/>
                    </a:lnTo>
                    <a:lnTo>
                      <a:pt x="424" y="316"/>
                    </a:lnTo>
                    <a:lnTo>
                      <a:pt x="429" y="314"/>
                    </a:lnTo>
                    <a:lnTo>
                      <a:pt x="432" y="312"/>
                    </a:lnTo>
                    <a:lnTo>
                      <a:pt x="438" y="311"/>
                    </a:lnTo>
                    <a:lnTo>
                      <a:pt x="440" y="309"/>
                    </a:lnTo>
                    <a:lnTo>
                      <a:pt x="444" y="307"/>
                    </a:lnTo>
                    <a:lnTo>
                      <a:pt x="446" y="305"/>
                    </a:lnTo>
                    <a:lnTo>
                      <a:pt x="448" y="301"/>
                    </a:lnTo>
                    <a:lnTo>
                      <a:pt x="446" y="299"/>
                    </a:lnTo>
                    <a:lnTo>
                      <a:pt x="446" y="297"/>
                    </a:lnTo>
                    <a:lnTo>
                      <a:pt x="444" y="294"/>
                    </a:lnTo>
                    <a:lnTo>
                      <a:pt x="443" y="291"/>
                    </a:lnTo>
                    <a:lnTo>
                      <a:pt x="440" y="288"/>
                    </a:lnTo>
                    <a:lnTo>
                      <a:pt x="437" y="284"/>
                    </a:lnTo>
                    <a:lnTo>
                      <a:pt x="433" y="281"/>
                    </a:lnTo>
                    <a:lnTo>
                      <a:pt x="431" y="277"/>
                    </a:lnTo>
                    <a:lnTo>
                      <a:pt x="426" y="275"/>
                    </a:lnTo>
                    <a:lnTo>
                      <a:pt x="423" y="271"/>
                    </a:lnTo>
                    <a:lnTo>
                      <a:pt x="419" y="269"/>
                    </a:lnTo>
                    <a:lnTo>
                      <a:pt x="415" y="266"/>
                    </a:lnTo>
                    <a:lnTo>
                      <a:pt x="411" y="265"/>
                    </a:lnTo>
                    <a:lnTo>
                      <a:pt x="408" y="264"/>
                    </a:lnTo>
                    <a:lnTo>
                      <a:pt x="406" y="264"/>
                    </a:lnTo>
                    <a:lnTo>
                      <a:pt x="404" y="264"/>
                    </a:lnTo>
                    <a:lnTo>
                      <a:pt x="402" y="264"/>
                    </a:lnTo>
                    <a:lnTo>
                      <a:pt x="401" y="264"/>
                    </a:lnTo>
                    <a:lnTo>
                      <a:pt x="401" y="264"/>
                    </a:lnTo>
                    <a:lnTo>
                      <a:pt x="402" y="263"/>
                    </a:lnTo>
                    <a:lnTo>
                      <a:pt x="402" y="263"/>
                    </a:lnTo>
                    <a:lnTo>
                      <a:pt x="403" y="261"/>
                    </a:lnTo>
                    <a:lnTo>
                      <a:pt x="404" y="260"/>
                    </a:lnTo>
                    <a:lnTo>
                      <a:pt x="406" y="258"/>
                    </a:lnTo>
                    <a:lnTo>
                      <a:pt x="406" y="258"/>
                    </a:lnTo>
                    <a:lnTo>
                      <a:pt x="408" y="257"/>
                    </a:lnTo>
                    <a:lnTo>
                      <a:pt x="410" y="257"/>
                    </a:lnTo>
                    <a:lnTo>
                      <a:pt x="412" y="255"/>
                    </a:lnTo>
                    <a:lnTo>
                      <a:pt x="413" y="255"/>
                    </a:lnTo>
                    <a:lnTo>
                      <a:pt x="414" y="254"/>
                    </a:lnTo>
                    <a:lnTo>
                      <a:pt x="416" y="255"/>
                    </a:lnTo>
                    <a:lnTo>
                      <a:pt x="418" y="255"/>
                    </a:lnTo>
                    <a:lnTo>
                      <a:pt x="418" y="257"/>
                    </a:lnTo>
                    <a:lnTo>
                      <a:pt x="419" y="257"/>
                    </a:lnTo>
                    <a:lnTo>
                      <a:pt x="419" y="259"/>
                    </a:lnTo>
                    <a:lnTo>
                      <a:pt x="421" y="259"/>
                    </a:lnTo>
                    <a:lnTo>
                      <a:pt x="421" y="261"/>
                    </a:lnTo>
                    <a:lnTo>
                      <a:pt x="423" y="261"/>
                    </a:lnTo>
                    <a:lnTo>
                      <a:pt x="423" y="263"/>
                    </a:lnTo>
                    <a:lnTo>
                      <a:pt x="425" y="263"/>
                    </a:lnTo>
                    <a:lnTo>
                      <a:pt x="425" y="264"/>
                    </a:lnTo>
                    <a:lnTo>
                      <a:pt x="427" y="264"/>
                    </a:lnTo>
                    <a:lnTo>
                      <a:pt x="427" y="266"/>
                    </a:lnTo>
                    <a:lnTo>
                      <a:pt x="429" y="266"/>
                    </a:lnTo>
                    <a:lnTo>
                      <a:pt x="429" y="267"/>
                    </a:lnTo>
                    <a:lnTo>
                      <a:pt x="431" y="267"/>
                    </a:lnTo>
                    <a:lnTo>
                      <a:pt x="431" y="267"/>
                    </a:lnTo>
                    <a:lnTo>
                      <a:pt x="433" y="267"/>
                    </a:lnTo>
                    <a:lnTo>
                      <a:pt x="434" y="267"/>
                    </a:lnTo>
                    <a:lnTo>
                      <a:pt x="436" y="267"/>
                    </a:lnTo>
                    <a:lnTo>
                      <a:pt x="438" y="269"/>
                    </a:lnTo>
                    <a:lnTo>
                      <a:pt x="440" y="269"/>
                    </a:lnTo>
                    <a:lnTo>
                      <a:pt x="441" y="271"/>
                    </a:lnTo>
                    <a:lnTo>
                      <a:pt x="443" y="273"/>
                    </a:lnTo>
                    <a:lnTo>
                      <a:pt x="445" y="275"/>
                    </a:lnTo>
                    <a:lnTo>
                      <a:pt x="447" y="276"/>
                    </a:lnTo>
                    <a:lnTo>
                      <a:pt x="448" y="278"/>
                    </a:lnTo>
                    <a:lnTo>
                      <a:pt x="450" y="280"/>
                    </a:lnTo>
                    <a:lnTo>
                      <a:pt x="451" y="282"/>
                    </a:lnTo>
                    <a:lnTo>
                      <a:pt x="453" y="283"/>
                    </a:lnTo>
                    <a:lnTo>
                      <a:pt x="455" y="284"/>
                    </a:lnTo>
                    <a:lnTo>
                      <a:pt x="457" y="284"/>
                    </a:lnTo>
                    <a:lnTo>
                      <a:pt x="459" y="283"/>
                    </a:lnTo>
                    <a:lnTo>
                      <a:pt x="462" y="281"/>
                    </a:lnTo>
                    <a:lnTo>
                      <a:pt x="462" y="281"/>
                    </a:lnTo>
                    <a:lnTo>
                      <a:pt x="464" y="280"/>
                    </a:lnTo>
                    <a:lnTo>
                      <a:pt x="466" y="278"/>
                    </a:lnTo>
                    <a:lnTo>
                      <a:pt x="468" y="276"/>
                    </a:lnTo>
                    <a:lnTo>
                      <a:pt x="470" y="274"/>
                    </a:lnTo>
                    <a:lnTo>
                      <a:pt x="472" y="272"/>
                    </a:lnTo>
                    <a:lnTo>
                      <a:pt x="474" y="270"/>
                    </a:lnTo>
                    <a:lnTo>
                      <a:pt x="478" y="266"/>
                    </a:lnTo>
                    <a:lnTo>
                      <a:pt x="479" y="264"/>
                    </a:lnTo>
                    <a:lnTo>
                      <a:pt x="482" y="263"/>
                    </a:lnTo>
                    <a:lnTo>
                      <a:pt x="484" y="261"/>
                    </a:lnTo>
                    <a:lnTo>
                      <a:pt x="488" y="257"/>
                    </a:lnTo>
                    <a:lnTo>
                      <a:pt x="489" y="256"/>
                    </a:lnTo>
                    <a:lnTo>
                      <a:pt x="491" y="254"/>
                    </a:lnTo>
                    <a:lnTo>
                      <a:pt x="493" y="254"/>
                    </a:lnTo>
                    <a:lnTo>
                      <a:pt x="496" y="253"/>
                    </a:lnTo>
                    <a:lnTo>
                      <a:pt x="496" y="254"/>
                    </a:lnTo>
                    <a:lnTo>
                      <a:pt x="498" y="254"/>
                    </a:lnTo>
                    <a:lnTo>
                      <a:pt x="498" y="254"/>
                    </a:lnTo>
                    <a:lnTo>
                      <a:pt x="499" y="254"/>
                    </a:lnTo>
                    <a:lnTo>
                      <a:pt x="499" y="256"/>
                    </a:lnTo>
                    <a:lnTo>
                      <a:pt x="499" y="256"/>
                    </a:lnTo>
                    <a:lnTo>
                      <a:pt x="499" y="257"/>
                    </a:lnTo>
                    <a:lnTo>
                      <a:pt x="501" y="257"/>
                    </a:lnTo>
                    <a:lnTo>
                      <a:pt x="501" y="259"/>
                    </a:lnTo>
                    <a:lnTo>
                      <a:pt x="501" y="259"/>
                    </a:lnTo>
                    <a:lnTo>
                      <a:pt x="501" y="261"/>
                    </a:lnTo>
                    <a:lnTo>
                      <a:pt x="502" y="261"/>
                    </a:lnTo>
                    <a:lnTo>
                      <a:pt x="502" y="263"/>
                    </a:lnTo>
                    <a:lnTo>
                      <a:pt x="502" y="263"/>
                    </a:lnTo>
                    <a:lnTo>
                      <a:pt x="502" y="264"/>
                    </a:lnTo>
                    <a:lnTo>
                      <a:pt x="502" y="264"/>
                    </a:lnTo>
                    <a:lnTo>
                      <a:pt x="501" y="267"/>
                    </a:lnTo>
                    <a:lnTo>
                      <a:pt x="501" y="269"/>
                    </a:lnTo>
                    <a:lnTo>
                      <a:pt x="498" y="271"/>
                    </a:lnTo>
                    <a:lnTo>
                      <a:pt x="496" y="273"/>
                    </a:lnTo>
                    <a:lnTo>
                      <a:pt x="492" y="275"/>
                    </a:lnTo>
                    <a:lnTo>
                      <a:pt x="489" y="277"/>
                    </a:lnTo>
                    <a:lnTo>
                      <a:pt x="485" y="279"/>
                    </a:lnTo>
                    <a:lnTo>
                      <a:pt x="481" y="281"/>
                    </a:lnTo>
                    <a:lnTo>
                      <a:pt x="476" y="283"/>
                    </a:lnTo>
                    <a:lnTo>
                      <a:pt x="472" y="285"/>
                    </a:lnTo>
                    <a:lnTo>
                      <a:pt x="469" y="287"/>
                    </a:lnTo>
                    <a:lnTo>
                      <a:pt x="466" y="289"/>
                    </a:lnTo>
                    <a:lnTo>
                      <a:pt x="463" y="291"/>
                    </a:lnTo>
                    <a:lnTo>
                      <a:pt x="462" y="292"/>
                    </a:lnTo>
                    <a:lnTo>
                      <a:pt x="461" y="294"/>
                    </a:lnTo>
                    <a:lnTo>
                      <a:pt x="462" y="295"/>
                    </a:lnTo>
                    <a:lnTo>
                      <a:pt x="462" y="297"/>
                    </a:lnTo>
                    <a:lnTo>
                      <a:pt x="462" y="298"/>
                    </a:lnTo>
                    <a:lnTo>
                      <a:pt x="464" y="299"/>
                    </a:lnTo>
                    <a:lnTo>
                      <a:pt x="466" y="299"/>
                    </a:lnTo>
                    <a:lnTo>
                      <a:pt x="468" y="300"/>
                    </a:lnTo>
                    <a:lnTo>
                      <a:pt x="470" y="300"/>
                    </a:lnTo>
                    <a:lnTo>
                      <a:pt x="471" y="300"/>
                    </a:lnTo>
                    <a:lnTo>
                      <a:pt x="474" y="300"/>
                    </a:lnTo>
                    <a:lnTo>
                      <a:pt x="476" y="301"/>
                    </a:lnTo>
                    <a:lnTo>
                      <a:pt x="478" y="301"/>
                    </a:lnTo>
                    <a:lnTo>
                      <a:pt x="480" y="301"/>
                    </a:lnTo>
                    <a:lnTo>
                      <a:pt x="483" y="301"/>
                    </a:lnTo>
                    <a:lnTo>
                      <a:pt x="484" y="301"/>
                    </a:lnTo>
                    <a:lnTo>
                      <a:pt x="486" y="301"/>
                    </a:lnTo>
                    <a:lnTo>
                      <a:pt x="486" y="301"/>
                    </a:lnTo>
                    <a:lnTo>
                      <a:pt x="488" y="301"/>
                    </a:lnTo>
                    <a:lnTo>
                      <a:pt x="486" y="305"/>
                    </a:lnTo>
                    <a:lnTo>
                      <a:pt x="484" y="307"/>
                    </a:lnTo>
                    <a:lnTo>
                      <a:pt x="481" y="310"/>
                    </a:lnTo>
                    <a:lnTo>
                      <a:pt x="477" y="312"/>
                    </a:lnTo>
                    <a:lnTo>
                      <a:pt x="471" y="315"/>
                    </a:lnTo>
                    <a:lnTo>
                      <a:pt x="466" y="317"/>
                    </a:lnTo>
                    <a:lnTo>
                      <a:pt x="460" y="320"/>
                    </a:lnTo>
                    <a:lnTo>
                      <a:pt x="454" y="322"/>
                    </a:lnTo>
                    <a:lnTo>
                      <a:pt x="446" y="325"/>
                    </a:lnTo>
                    <a:lnTo>
                      <a:pt x="439" y="327"/>
                    </a:lnTo>
                    <a:lnTo>
                      <a:pt x="431" y="329"/>
                    </a:lnTo>
                    <a:lnTo>
                      <a:pt x="426" y="331"/>
                    </a:lnTo>
                    <a:lnTo>
                      <a:pt x="419" y="332"/>
                    </a:lnTo>
                    <a:lnTo>
                      <a:pt x="413" y="334"/>
                    </a:lnTo>
                    <a:lnTo>
                      <a:pt x="408" y="336"/>
                    </a:lnTo>
                    <a:lnTo>
                      <a:pt x="404" y="336"/>
                    </a:lnTo>
                    <a:lnTo>
                      <a:pt x="402" y="338"/>
                    </a:lnTo>
                    <a:lnTo>
                      <a:pt x="400" y="338"/>
                    </a:lnTo>
                    <a:lnTo>
                      <a:pt x="398" y="338"/>
                    </a:lnTo>
                    <a:lnTo>
                      <a:pt x="397" y="338"/>
                    </a:lnTo>
                    <a:lnTo>
                      <a:pt x="395" y="339"/>
                    </a:lnTo>
                    <a:lnTo>
                      <a:pt x="393" y="339"/>
                    </a:lnTo>
                    <a:lnTo>
                      <a:pt x="392" y="339"/>
                    </a:lnTo>
                    <a:lnTo>
                      <a:pt x="390" y="339"/>
                    </a:lnTo>
                    <a:lnTo>
                      <a:pt x="388" y="341"/>
                    </a:lnTo>
                    <a:lnTo>
                      <a:pt x="386" y="341"/>
                    </a:lnTo>
                    <a:lnTo>
                      <a:pt x="384" y="341"/>
                    </a:lnTo>
                    <a:lnTo>
                      <a:pt x="382" y="341"/>
                    </a:lnTo>
                    <a:lnTo>
                      <a:pt x="380" y="342"/>
                    </a:lnTo>
                    <a:lnTo>
                      <a:pt x="380" y="342"/>
                    </a:lnTo>
                    <a:lnTo>
                      <a:pt x="378" y="342"/>
                    </a:lnTo>
                    <a:lnTo>
                      <a:pt x="378" y="342"/>
                    </a:lnTo>
                    <a:lnTo>
                      <a:pt x="375" y="344"/>
                    </a:lnTo>
                    <a:lnTo>
                      <a:pt x="373" y="346"/>
                    </a:lnTo>
                    <a:lnTo>
                      <a:pt x="370" y="350"/>
                    </a:lnTo>
                    <a:lnTo>
                      <a:pt x="368" y="352"/>
                    </a:lnTo>
                    <a:lnTo>
                      <a:pt x="364" y="356"/>
                    </a:lnTo>
                    <a:lnTo>
                      <a:pt x="361" y="360"/>
                    </a:lnTo>
                    <a:lnTo>
                      <a:pt x="357" y="363"/>
                    </a:lnTo>
                    <a:lnTo>
                      <a:pt x="355" y="367"/>
                    </a:lnTo>
                    <a:lnTo>
                      <a:pt x="352" y="373"/>
                    </a:lnTo>
                    <a:lnTo>
                      <a:pt x="348" y="377"/>
                    </a:lnTo>
                    <a:lnTo>
                      <a:pt x="345" y="381"/>
                    </a:lnTo>
                    <a:lnTo>
                      <a:pt x="343" y="385"/>
                    </a:lnTo>
                    <a:lnTo>
                      <a:pt x="339" y="389"/>
                    </a:lnTo>
                    <a:lnTo>
                      <a:pt x="337" y="392"/>
                    </a:lnTo>
                    <a:lnTo>
                      <a:pt x="335" y="395"/>
                    </a:lnTo>
                    <a:lnTo>
                      <a:pt x="335" y="397"/>
                    </a:lnTo>
                    <a:lnTo>
                      <a:pt x="332" y="400"/>
                    </a:lnTo>
                    <a:lnTo>
                      <a:pt x="330" y="404"/>
                    </a:lnTo>
                    <a:lnTo>
                      <a:pt x="328" y="408"/>
                    </a:lnTo>
                    <a:lnTo>
                      <a:pt x="326" y="411"/>
                    </a:lnTo>
                    <a:lnTo>
                      <a:pt x="323" y="415"/>
                    </a:lnTo>
                    <a:lnTo>
                      <a:pt x="321" y="419"/>
                    </a:lnTo>
                    <a:lnTo>
                      <a:pt x="319" y="422"/>
                    </a:lnTo>
                    <a:lnTo>
                      <a:pt x="317" y="424"/>
                    </a:lnTo>
                    <a:lnTo>
                      <a:pt x="314" y="428"/>
                    </a:lnTo>
                    <a:lnTo>
                      <a:pt x="312" y="430"/>
                    </a:lnTo>
                    <a:lnTo>
                      <a:pt x="310" y="433"/>
                    </a:lnTo>
                    <a:lnTo>
                      <a:pt x="308" y="435"/>
                    </a:lnTo>
                    <a:lnTo>
                      <a:pt x="305" y="437"/>
                    </a:lnTo>
                    <a:lnTo>
                      <a:pt x="304" y="439"/>
                    </a:lnTo>
                    <a:lnTo>
                      <a:pt x="302" y="440"/>
                    </a:lnTo>
                    <a:lnTo>
                      <a:pt x="300" y="440"/>
                    </a:lnTo>
                    <a:lnTo>
                      <a:pt x="298" y="441"/>
                    </a:lnTo>
                    <a:lnTo>
                      <a:pt x="298" y="442"/>
                    </a:lnTo>
                    <a:lnTo>
                      <a:pt x="298" y="444"/>
                    </a:lnTo>
                    <a:lnTo>
                      <a:pt x="298" y="444"/>
                    </a:lnTo>
                    <a:lnTo>
                      <a:pt x="298" y="446"/>
                    </a:lnTo>
                    <a:lnTo>
                      <a:pt x="298" y="447"/>
                    </a:lnTo>
                    <a:lnTo>
                      <a:pt x="298" y="448"/>
                    </a:lnTo>
                    <a:lnTo>
                      <a:pt x="300" y="448"/>
                    </a:lnTo>
                    <a:lnTo>
                      <a:pt x="300" y="450"/>
                    </a:lnTo>
                    <a:lnTo>
                      <a:pt x="300" y="451"/>
                    </a:lnTo>
                    <a:lnTo>
                      <a:pt x="300" y="453"/>
                    </a:lnTo>
                    <a:lnTo>
                      <a:pt x="302" y="453"/>
                    </a:lnTo>
                    <a:lnTo>
                      <a:pt x="302" y="454"/>
                    </a:lnTo>
                    <a:lnTo>
                      <a:pt x="302" y="454"/>
                    </a:lnTo>
                    <a:lnTo>
                      <a:pt x="302" y="454"/>
                    </a:lnTo>
                    <a:lnTo>
                      <a:pt x="303" y="454"/>
                    </a:lnTo>
                    <a:lnTo>
                      <a:pt x="304" y="455"/>
                    </a:lnTo>
                    <a:lnTo>
                      <a:pt x="305" y="455"/>
                    </a:lnTo>
                    <a:lnTo>
                      <a:pt x="308" y="455"/>
                    </a:lnTo>
                    <a:lnTo>
                      <a:pt x="312" y="453"/>
                    </a:lnTo>
                    <a:lnTo>
                      <a:pt x="315" y="452"/>
                    </a:lnTo>
                    <a:lnTo>
                      <a:pt x="318" y="450"/>
                    </a:lnTo>
                    <a:lnTo>
                      <a:pt x="322" y="448"/>
                    </a:lnTo>
                    <a:lnTo>
                      <a:pt x="327" y="447"/>
                    </a:lnTo>
                    <a:lnTo>
                      <a:pt x="331" y="445"/>
                    </a:lnTo>
                    <a:lnTo>
                      <a:pt x="335" y="443"/>
                    </a:lnTo>
                    <a:lnTo>
                      <a:pt x="339" y="441"/>
                    </a:lnTo>
                    <a:lnTo>
                      <a:pt x="345" y="439"/>
                    </a:lnTo>
                    <a:lnTo>
                      <a:pt x="348" y="437"/>
                    </a:lnTo>
                    <a:lnTo>
                      <a:pt x="353" y="435"/>
                    </a:lnTo>
                    <a:lnTo>
                      <a:pt x="356" y="433"/>
                    </a:lnTo>
                    <a:lnTo>
                      <a:pt x="361" y="431"/>
                    </a:lnTo>
                    <a:lnTo>
                      <a:pt x="363" y="431"/>
                    </a:lnTo>
                    <a:lnTo>
                      <a:pt x="365" y="430"/>
                    </a:lnTo>
                    <a:lnTo>
                      <a:pt x="369" y="430"/>
                    </a:lnTo>
                    <a:lnTo>
                      <a:pt x="373" y="429"/>
                    </a:lnTo>
                    <a:lnTo>
                      <a:pt x="376" y="429"/>
                    </a:lnTo>
                    <a:lnTo>
                      <a:pt x="380" y="429"/>
                    </a:lnTo>
                    <a:lnTo>
                      <a:pt x="384" y="429"/>
                    </a:lnTo>
                    <a:lnTo>
                      <a:pt x="388" y="427"/>
                    </a:lnTo>
                    <a:lnTo>
                      <a:pt x="391" y="428"/>
                    </a:lnTo>
                    <a:lnTo>
                      <a:pt x="394" y="428"/>
                    </a:lnTo>
                    <a:lnTo>
                      <a:pt x="397" y="428"/>
                    </a:lnTo>
                    <a:lnTo>
                      <a:pt x="401" y="428"/>
                    </a:lnTo>
                    <a:lnTo>
                      <a:pt x="402" y="429"/>
                    </a:lnTo>
                    <a:lnTo>
                      <a:pt x="404" y="429"/>
                    </a:lnTo>
                    <a:lnTo>
                      <a:pt x="404" y="429"/>
                    </a:lnTo>
                    <a:lnTo>
                      <a:pt x="404" y="429"/>
                    </a:lnTo>
                    <a:lnTo>
                      <a:pt x="397" y="432"/>
                    </a:lnTo>
                    <a:lnTo>
                      <a:pt x="390" y="436"/>
                    </a:lnTo>
                    <a:lnTo>
                      <a:pt x="381" y="440"/>
                    </a:lnTo>
                    <a:lnTo>
                      <a:pt x="372" y="444"/>
                    </a:lnTo>
                    <a:lnTo>
                      <a:pt x="360" y="450"/>
                    </a:lnTo>
                    <a:lnTo>
                      <a:pt x="350" y="455"/>
                    </a:lnTo>
                    <a:lnTo>
                      <a:pt x="338" y="460"/>
                    </a:lnTo>
                    <a:lnTo>
                      <a:pt x="328" y="466"/>
                    </a:lnTo>
                    <a:lnTo>
                      <a:pt x="316" y="473"/>
                    </a:lnTo>
                    <a:lnTo>
                      <a:pt x="305" y="479"/>
                    </a:lnTo>
                    <a:lnTo>
                      <a:pt x="294" y="486"/>
                    </a:lnTo>
                    <a:lnTo>
                      <a:pt x="285" y="491"/>
                    </a:lnTo>
                    <a:lnTo>
                      <a:pt x="275" y="498"/>
                    </a:lnTo>
                    <a:lnTo>
                      <a:pt x="268" y="504"/>
                    </a:lnTo>
                    <a:lnTo>
                      <a:pt x="261" y="509"/>
                    </a:lnTo>
                    <a:lnTo>
                      <a:pt x="257" y="515"/>
                    </a:lnTo>
                    <a:lnTo>
                      <a:pt x="255" y="519"/>
                    </a:lnTo>
                    <a:lnTo>
                      <a:pt x="254" y="522"/>
                    </a:lnTo>
                    <a:lnTo>
                      <a:pt x="252" y="526"/>
                    </a:lnTo>
                    <a:lnTo>
                      <a:pt x="252" y="529"/>
                    </a:lnTo>
                    <a:lnTo>
                      <a:pt x="250" y="535"/>
                    </a:lnTo>
                    <a:lnTo>
                      <a:pt x="250" y="539"/>
                    </a:lnTo>
                    <a:lnTo>
                      <a:pt x="250" y="544"/>
                    </a:lnTo>
                    <a:lnTo>
                      <a:pt x="250" y="548"/>
                    </a:lnTo>
                    <a:lnTo>
                      <a:pt x="249" y="553"/>
                    </a:lnTo>
                    <a:lnTo>
                      <a:pt x="249" y="557"/>
                    </a:lnTo>
                    <a:lnTo>
                      <a:pt x="249" y="563"/>
                    </a:lnTo>
                    <a:lnTo>
                      <a:pt x="249" y="566"/>
                    </a:lnTo>
                    <a:lnTo>
                      <a:pt x="248" y="571"/>
                    </a:lnTo>
                    <a:lnTo>
                      <a:pt x="248" y="575"/>
                    </a:lnTo>
                    <a:lnTo>
                      <a:pt x="248" y="578"/>
                    </a:lnTo>
                    <a:lnTo>
                      <a:pt x="248" y="581"/>
                    </a:lnTo>
                    <a:lnTo>
                      <a:pt x="248" y="586"/>
                    </a:lnTo>
                    <a:lnTo>
                      <a:pt x="248" y="591"/>
                    </a:lnTo>
                    <a:lnTo>
                      <a:pt x="248" y="596"/>
                    </a:lnTo>
                    <a:lnTo>
                      <a:pt x="248" y="600"/>
                    </a:lnTo>
                    <a:lnTo>
                      <a:pt x="248" y="606"/>
                    </a:lnTo>
                    <a:lnTo>
                      <a:pt x="248" y="611"/>
                    </a:lnTo>
                    <a:lnTo>
                      <a:pt x="248" y="617"/>
                    </a:lnTo>
                    <a:lnTo>
                      <a:pt x="249" y="622"/>
                    </a:lnTo>
                    <a:lnTo>
                      <a:pt x="249" y="627"/>
                    </a:lnTo>
                    <a:lnTo>
                      <a:pt x="249" y="633"/>
                    </a:lnTo>
                    <a:lnTo>
                      <a:pt x="249" y="639"/>
                    </a:lnTo>
                    <a:lnTo>
                      <a:pt x="249" y="644"/>
                    </a:lnTo>
                    <a:lnTo>
                      <a:pt x="248" y="649"/>
                    </a:lnTo>
                    <a:lnTo>
                      <a:pt x="248" y="654"/>
                    </a:lnTo>
                    <a:lnTo>
                      <a:pt x="248" y="658"/>
                    </a:lnTo>
                    <a:lnTo>
                      <a:pt x="248" y="662"/>
                    </a:lnTo>
                    <a:lnTo>
                      <a:pt x="247" y="669"/>
                    </a:lnTo>
                    <a:lnTo>
                      <a:pt x="247" y="677"/>
                    </a:lnTo>
                    <a:lnTo>
                      <a:pt x="245" y="686"/>
                    </a:lnTo>
                    <a:lnTo>
                      <a:pt x="244" y="694"/>
                    </a:lnTo>
                    <a:lnTo>
                      <a:pt x="242" y="704"/>
                    </a:lnTo>
                    <a:lnTo>
                      <a:pt x="240" y="713"/>
                    </a:lnTo>
                    <a:lnTo>
                      <a:pt x="238" y="722"/>
                    </a:lnTo>
                    <a:lnTo>
                      <a:pt x="237" y="732"/>
                    </a:lnTo>
                    <a:lnTo>
                      <a:pt x="234" y="742"/>
                    </a:lnTo>
                    <a:lnTo>
                      <a:pt x="232" y="752"/>
                    </a:lnTo>
                    <a:lnTo>
                      <a:pt x="230" y="761"/>
                    </a:lnTo>
                    <a:lnTo>
                      <a:pt x="228" y="770"/>
                    </a:lnTo>
                    <a:lnTo>
                      <a:pt x="226" y="779"/>
                    </a:lnTo>
                    <a:lnTo>
                      <a:pt x="224" y="787"/>
                    </a:lnTo>
                    <a:lnTo>
                      <a:pt x="222" y="795"/>
                    </a:lnTo>
                    <a:lnTo>
                      <a:pt x="222" y="800"/>
                    </a:lnTo>
                    <a:lnTo>
                      <a:pt x="220" y="808"/>
                    </a:lnTo>
                    <a:lnTo>
                      <a:pt x="218" y="815"/>
                    </a:lnTo>
                    <a:lnTo>
                      <a:pt x="217" y="825"/>
                    </a:lnTo>
                    <a:lnTo>
                      <a:pt x="216" y="832"/>
                    </a:lnTo>
                    <a:lnTo>
                      <a:pt x="213" y="841"/>
                    </a:lnTo>
                    <a:lnTo>
                      <a:pt x="211" y="850"/>
                    </a:lnTo>
                    <a:lnTo>
                      <a:pt x="209" y="860"/>
                    </a:lnTo>
                    <a:lnTo>
                      <a:pt x="207" y="868"/>
                    </a:lnTo>
                    <a:lnTo>
                      <a:pt x="204" y="878"/>
                    </a:lnTo>
                    <a:lnTo>
                      <a:pt x="202" y="887"/>
                    </a:lnTo>
                    <a:lnTo>
                      <a:pt x="200" y="897"/>
                    </a:lnTo>
                    <a:lnTo>
                      <a:pt x="198" y="905"/>
                    </a:lnTo>
                    <a:lnTo>
                      <a:pt x="197" y="913"/>
                    </a:lnTo>
                    <a:lnTo>
                      <a:pt x="196" y="921"/>
                    </a:lnTo>
                    <a:lnTo>
                      <a:pt x="194" y="928"/>
                    </a:lnTo>
                    <a:lnTo>
                      <a:pt x="194" y="933"/>
                    </a:lnTo>
                    <a:lnTo>
                      <a:pt x="192" y="941"/>
                    </a:lnTo>
                    <a:lnTo>
                      <a:pt x="192" y="948"/>
                    </a:lnTo>
                    <a:lnTo>
                      <a:pt x="190" y="957"/>
                    </a:lnTo>
                    <a:lnTo>
                      <a:pt x="190" y="966"/>
                    </a:lnTo>
                    <a:lnTo>
                      <a:pt x="189" y="976"/>
                    </a:lnTo>
                    <a:lnTo>
                      <a:pt x="189" y="985"/>
                    </a:lnTo>
                    <a:lnTo>
                      <a:pt x="189" y="994"/>
                    </a:lnTo>
                    <a:lnTo>
                      <a:pt x="189" y="1004"/>
                    </a:lnTo>
                    <a:lnTo>
                      <a:pt x="187" y="1014"/>
                    </a:lnTo>
                    <a:lnTo>
                      <a:pt x="187" y="1024"/>
                    </a:lnTo>
                    <a:lnTo>
                      <a:pt x="187" y="1033"/>
                    </a:lnTo>
                    <a:lnTo>
                      <a:pt x="187" y="1043"/>
                    </a:lnTo>
                    <a:lnTo>
                      <a:pt x="187" y="1052"/>
                    </a:lnTo>
                    <a:lnTo>
                      <a:pt x="187" y="1060"/>
                    </a:lnTo>
                    <a:lnTo>
                      <a:pt x="187" y="1068"/>
                    </a:lnTo>
                    <a:lnTo>
                      <a:pt x="187" y="1075"/>
                    </a:lnTo>
                    <a:lnTo>
                      <a:pt x="187" y="1082"/>
                    </a:lnTo>
                    <a:lnTo>
                      <a:pt x="187" y="1090"/>
                    </a:lnTo>
                    <a:lnTo>
                      <a:pt x="187" y="1099"/>
                    </a:lnTo>
                    <a:lnTo>
                      <a:pt x="187" y="1109"/>
                    </a:lnTo>
                    <a:lnTo>
                      <a:pt x="187" y="1120"/>
                    </a:lnTo>
                    <a:lnTo>
                      <a:pt x="187" y="1131"/>
                    </a:lnTo>
                    <a:lnTo>
                      <a:pt x="187" y="1142"/>
                    </a:lnTo>
                    <a:lnTo>
                      <a:pt x="187" y="1153"/>
                    </a:lnTo>
                    <a:lnTo>
                      <a:pt x="187" y="1164"/>
                    </a:lnTo>
                    <a:lnTo>
                      <a:pt x="187" y="1175"/>
                    </a:lnTo>
                    <a:lnTo>
                      <a:pt x="187" y="1184"/>
                    </a:lnTo>
                    <a:lnTo>
                      <a:pt x="187" y="1191"/>
                    </a:lnTo>
                    <a:lnTo>
                      <a:pt x="187" y="1199"/>
                    </a:lnTo>
                    <a:lnTo>
                      <a:pt x="187" y="1204"/>
                    </a:lnTo>
                    <a:lnTo>
                      <a:pt x="187" y="1207"/>
                    </a:lnTo>
                    <a:lnTo>
                      <a:pt x="187" y="1208"/>
                    </a:lnTo>
                    <a:lnTo>
                      <a:pt x="186" y="1209"/>
                    </a:lnTo>
                    <a:lnTo>
                      <a:pt x="183" y="1209"/>
                    </a:lnTo>
                    <a:lnTo>
                      <a:pt x="179" y="1209"/>
                    </a:lnTo>
                    <a:lnTo>
                      <a:pt x="175" y="1209"/>
                    </a:lnTo>
                    <a:lnTo>
                      <a:pt x="169" y="1209"/>
                    </a:lnTo>
                    <a:lnTo>
                      <a:pt x="164" y="1209"/>
                    </a:lnTo>
                    <a:lnTo>
                      <a:pt x="157" y="1209"/>
                    </a:lnTo>
                    <a:lnTo>
                      <a:pt x="151" y="1209"/>
                    </a:lnTo>
                    <a:lnTo>
                      <a:pt x="144" y="1209"/>
                    </a:lnTo>
                    <a:lnTo>
                      <a:pt x="138" y="1209"/>
                    </a:lnTo>
                    <a:lnTo>
                      <a:pt x="132" y="1209"/>
                    </a:lnTo>
                    <a:lnTo>
                      <a:pt x="127" y="1209"/>
                    </a:lnTo>
                    <a:lnTo>
                      <a:pt x="122" y="1209"/>
                    </a:lnTo>
                    <a:lnTo>
                      <a:pt x="119" y="1209"/>
                    </a:lnTo>
                    <a:lnTo>
                      <a:pt x="116" y="1209"/>
                    </a:lnTo>
                    <a:lnTo>
                      <a:pt x="116" y="1208"/>
                    </a:lnTo>
                    <a:lnTo>
                      <a:pt x="116" y="1208"/>
                    </a:lnTo>
                  </a:path>
                </a:pathLst>
              </a:custGeom>
              <a:solidFill>
                <a:srgbClr val="a13f00"/>
              </a:solidFill>
              <a:ln w="9360">
                <a:solidFill>
                  <a:srgbClr val="a1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91120" y="4799160"/>
                <a:ext cx="2511360" cy="1091880"/>
              </a:xfrm>
              <a:custGeom>
                <a:avLst/>
                <a:gdLst/>
                <a:ahLst/>
                <a:rect l="l" t="t" r="r" b="b"/>
                <a:pathLst>
                  <a:path w="1582" h="688">
                    <a:moveTo>
                      <a:pt x="1388" y="74"/>
                    </a:moveTo>
                    <a:lnTo>
                      <a:pt x="1388" y="74"/>
                    </a:lnTo>
                    <a:lnTo>
                      <a:pt x="1388" y="74"/>
                    </a:lnTo>
                    <a:lnTo>
                      <a:pt x="1388" y="74"/>
                    </a:lnTo>
                    <a:lnTo>
                      <a:pt x="1388" y="72"/>
                    </a:lnTo>
                    <a:lnTo>
                      <a:pt x="1388" y="72"/>
                    </a:lnTo>
                    <a:lnTo>
                      <a:pt x="1388" y="70"/>
                    </a:lnTo>
                    <a:lnTo>
                      <a:pt x="1388" y="68"/>
                    </a:lnTo>
                    <a:lnTo>
                      <a:pt x="1389" y="66"/>
                    </a:lnTo>
                    <a:lnTo>
                      <a:pt x="1389" y="66"/>
                    </a:lnTo>
                    <a:lnTo>
                      <a:pt x="1389" y="65"/>
                    </a:lnTo>
                    <a:lnTo>
                      <a:pt x="1389" y="63"/>
                    </a:lnTo>
                    <a:lnTo>
                      <a:pt x="1391" y="61"/>
                    </a:lnTo>
                    <a:lnTo>
                      <a:pt x="1391" y="61"/>
                    </a:lnTo>
                    <a:lnTo>
                      <a:pt x="1392" y="60"/>
                    </a:lnTo>
                    <a:lnTo>
                      <a:pt x="1392" y="60"/>
                    </a:lnTo>
                    <a:lnTo>
                      <a:pt x="1393" y="59"/>
                    </a:lnTo>
                    <a:lnTo>
                      <a:pt x="1398" y="60"/>
                    </a:lnTo>
                    <a:lnTo>
                      <a:pt x="1403" y="61"/>
                    </a:lnTo>
                    <a:lnTo>
                      <a:pt x="1409" y="65"/>
                    </a:lnTo>
                    <a:lnTo>
                      <a:pt x="1415" y="67"/>
                    </a:lnTo>
                    <a:lnTo>
                      <a:pt x="1420" y="72"/>
                    </a:lnTo>
                    <a:lnTo>
                      <a:pt x="1426" y="76"/>
                    </a:lnTo>
                    <a:lnTo>
                      <a:pt x="1432" y="82"/>
                    </a:lnTo>
                    <a:lnTo>
                      <a:pt x="1438" y="87"/>
                    </a:lnTo>
                    <a:lnTo>
                      <a:pt x="1442" y="95"/>
                    </a:lnTo>
                    <a:lnTo>
                      <a:pt x="1448" y="101"/>
                    </a:lnTo>
                    <a:lnTo>
                      <a:pt x="1452" y="107"/>
                    </a:lnTo>
                    <a:lnTo>
                      <a:pt x="1458" y="113"/>
                    </a:lnTo>
                    <a:lnTo>
                      <a:pt x="1461" y="119"/>
                    </a:lnTo>
                    <a:lnTo>
                      <a:pt x="1465" y="125"/>
                    </a:lnTo>
                    <a:lnTo>
                      <a:pt x="1468" y="131"/>
                    </a:lnTo>
                    <a:lnTo>
                      <a:pt x="1471" y="134"/>
                    </a:lnTo>
                    <a:lnTo>
                      <a:pt x="1473" y="139"/>
                    </a:lnTo>
                    <a:lnTo>
                      <a:pt x="1475" y="144"/>
                    </a:lnTo>
                    <a:lnTo>
                      <a:pt x="1477" y="151"/>
                    </a:lnTo>
                    <a:lnTo>
                      <a:pt x="1479" y="157"/>
                    </a:lnTo>
                    <a:lnTo>
                      <a:pt x="1479" y="164"/>
                    </a:lnTo>
                    <a:lnTo>
                      <a:pt x="1481" y="171"/>
                    </a:lnTo>
                    <a:lnTo>
                      <a:pt x="1482" y="179"/>
                    </a:lnTo>
                    <a:lnTo>
                      <a:pt x="1484" y="185"/>
                    </a:lnTo>
                    <a:lnTo>
                      <a:pt x="1484" y="194"/>
                    </a:lnTo>
                    <a:lnTo>
                      <a:pt x="1486" y="202"/>
                    </a:lnTo>
                    <a:lnTo>
                      <a:pt x="1486" y="209"/>
                    </a:lnTo>
                    <a:lnTo>
                      <a:pt x="1488" y="216"/>
                    </a:lnTo>
                    <a:lnTo>
                      <a:pt x="1489" y="223"/>
                    </a:lnTo>
                    <a:lnTo>
                      <a:pt x="1490" y="229"/>
                    </a:lnTo>
                    <a:lnTo>
                      <a:pt x="1492" y="234"/>
                    </a:lnTo>
                    <a:lnTo>
                      <a:pt x="1495" y="238"/>
                    </a:lnTo>
                    <a:lnTo>
                      <a:pt x="1497" y="245"/>
                    </a:lnTo>
                    <a:lnTo>
                      <a:pt x="1501" y="251"/>
                    </a:lnTo>
                    <a:lnTo>
                      <a:pt x="1507" y="257"/>
                    </a:lnTo>
                    <a:lnTo>
                      <a:pt x="1513" y="262"/>
                    </a:lnTo>
                    <a:lnTo>
                      <a:pt x="1518" y="270"/>
                    </a:lnTo>
                    <a:lnTo>
                      <a:pt x="1526" y="277"/>
                    </a:lnTo>
                    <a:lnTo>
                      <a:pt x="1533" y="284"/>
                    </a:lnTo>
                    <a:lnTo>
                      <a:pt x="1541" y="290"/>
                    </a:lnTo>
                    <a:lnTo>
                      <a:pt x="1547" y="297"/>
                    </a:lnTo>
                    <a:lnTo>
                      <a:pt x="1554" y="305"/>
                    </a:lnTo>
                    <a:lnTo>
                      <a:pt x="1559" y="312"/>
                    </a:lnTo>
                    <a:lnTo>
                      <a:pt x="1567" y="319"/>
                    </a:lnTo>
                    <a:lnTo>
                      <a:pt x="1571" y="326"/>
                    </a:lnTo>
                    <a:lnTo>
                      <a:pt x="1576" y="332"/>
                    </a:lnTo>
                    <a:lnTo>
                      <a:pt x="1578" y="339"/>
                    </a:lnTo>
                    <a:lnTo>
                      <a:pt x="1581" y="345"/>
                    </a:lnTo>
                    <a:lnTo>
                      <a:pt x="1580" y="351"/>
                    </a:lnTo>
                    <a:lnTo>
                      <a:pt x="1579" y="357"/>
                    </a:lnTo>
                    <a:lnTo>
                      <a:pt x="1576" y="363"/>
                    </a:lnTo>
                    <a:lnTo>
                      <a:pt x="1575" y="369"/>
                    </a:lnTo>
                    <a:lnTo>
                      <a:pt x="1570" y="377"/>
                    </a:lnTo>
                    <a:lnTo>
                      <a:pt x="1567" y="383"/>
                    </a:lnTo>
                    <a:lnTo>
                      <a:pt x="1562" y="391"/>
                    </a:lnTo>
                    <a:lnTo>
                      <a:pt x="1558" y="398"/>
                    </a:lnTo>
                    <a:lnTo>
                      <a:pt x="1553" y="405"/>
                    </a:lnTo>
                    <a:lnTo>
                      <a:pt x="1548" y="413"/>
                    </a:lnTo>
                    <a:lnTo>
                      <a:pt x="1543" y="420"/>
                    </a:lnTo>
                    <a:lnTo>
                      <a:pt x="1539" y="427"/>
                    </a:lnTo>
                    <a:lnTo>
                      <a:pt x="1536" y="435"/>
                    </a:lnTo>
                    <a:lnTo>
                      <a:pt x="1533" y="440"/>
                    </a:lnTo>
                    <a:lnTo>
                      <a:pt x="1531" y="446"/>
                    </a:lnTo>
                    <a:lnTo>
                      <a:pt x="1529" y="451"/>
                    </a:lnTo>
                    <a:lnTo>
                      <a:pt x="1528" y="457"/>
                    </a:lnTo>
                    <a:lnTo>
                      <a:pt x="1528" y="461"/>
                    </a:lnTo>
                    <a:lnTo>
                      <a:pt x="1528" y="467"/>
                    </a:lnTo>
                    <a:lnTo>
                      <a:pt x="1530" y="471"/>
                    </a:lnTo>
                    <a:lnTo>
                      <a:pt x="1531" y="477"/>
                    </a:lnTo>
                    <a:lnTo>
                      <a:pt x="1533" y="483"/>
                    </a:lnTo>
                    <a:lnTo>
                      <a:pt x="1535" y="489"/>
                    </a:lnTo>
                    <a:lnTo>
                      <a:pt x="1537" y="494"/>
                    </a:lnTo>
                    <a:lnTo>
                      <a:pt x="1537" y="501"/>
                    </a:lnTo>
                    <a:lnTo>
                      <a:pt x="1538" y="507"/>
                    </a:lnTo>
                    <a:lnTo>
                      <a:pt x="1539" y="513"/>
                    </a:lnTo>
                    <a:lnTo>
                      <a:pt x="1541" y="517"/>
                    </a:lnTo>
                    <a:lnTo>
                      <a:pt x="1541" y="523"/>
                    </a:lnTo>
                    <a:lnTo>
                      <a:pt x="1543" y="527"/>
                    </a:lnTo>
                    <a:lnTo>
                      <a:pt x="1543" y="532"/>
                    </a:lnTo>
                    <a:lnTo>
                      <a:pt x="1544" y="535"/>
                    </a:lnTo>
                    <a:lnTo>
                      <a:pt x="1543" y="541"/>
                    </a:lnTo>
                    <a:lnTo>
                      <a:pt x="1542" y="545"/>
                    </a:lnTo>
                    <a:lnTo>
                      <a:pt x="1540" y="551"/>
                    </a:lnTo>
                    <a:lnTo>
                      <a:pt x="1539" y="555"/>
                    </a:lnTo>
                    <a:lnTo>
                      <a:pt x="1537" y="561"/>
                    </a:lnTo>
                    <a:lnTo>
                      <a:pt x="1535" y="566"/>
                    </a:lnTo>
                    <a:lnTo>
                      <a:pt x="1533" y="572"/>
                    </a:lnTo>
                    <a:lnTo>
                      <a:pt x="1531" y="577"/>
                    </a:lnTo>
                    <a:lnTo>
                      <a:pt x="1528" y="583"/>
                    </a:lnTo>
                    <a:lnTo>
                      <a:pt x="1525" y="589"/>
                    </a:lnTo>
                    <a:lnTo>
                      <a:pt x="1521" y="594"/>
                    </a:lnTo>
                    <a:lnTo>
                      <a:pt x="1520" y="599"/>
                    </a:lnTo>
                    <a:lnTo>
                      <a:pt x="1516" y="605"/>
                    </a:lnTo>
                    <a:lnTo>
                      <a:pt x="1514" y="609"/>
                    </a:lnTo>
                    <a:lnTo>
                      <a:pt x="1511" y="613"/>
                    </a:lnTo>
                    <a:lnTo>
                      <a:pt x="1509" y="616"/>
                    </a:lnTo>
                    <a:lnTo>
                      <a:pt x="1505" y="620"/>
                    </a:lnTo>
                    <a:lnTo>
                      <a:pt x="1503" y="622"/>
                    </a:lnTo>
                    <a:lnTo>
                      <a:pt x="1499" y="626"/>
                    </a:lnTo>
                    <a:lnTo>
                      <a:pt x="1496" y="628"/>
                    </a:lnTo>
                    <a:lnTo>
                      <a:pt x="1491" y="632"/>
                    </a:lnTo>
                    <a:lnTo>
                      <a:pt x="1487" y="635"/>
                    </a:lnTo>
                    <a:lnTo>
                      <a:pt x="1483" y="639"/>
                    </a:lnTo>
                    <a:lnTo>
                      <a:pt x="1479" y="641"/>
                    </a:lnTo>
                    <a:lnTo>
                      <a:pt x="1473" y="644"/>
                    </a:lnTo>
                    <a:lnTo>
                      <a:pt x="1470" y="647"/>
                    </a:lnTo>
                    <a:lnTo>
                      <a:pt x="1464" y="650"/>
                    </a:lnTo>
                    <a:lnTo>
                      <a:pt x="1460" y="652"/>
                    </a:lnTo>
                    <a:lnTo>
                      <a:pt x="1456" y="653"/>
                    </a:lnTo>
                    <a:lnTo>
                      <a:pt x="1452" y="655"/>
                    </a:lnTo>
                    <a:lnTo>
                      <a:pt x="1449" y="657"/>
                    </a:lnTo>
                    <a:lnTo>
                      <a:pt x="1446" y="657"/>
                    </a:lnTo>
                    <a:lnTo>
                      <a:pt x="1442" y="657"/>
                    </a:lnTo>
                    <a:lnTo>
                      <a:pt x="1440" y="657"/>
                    </a:lnTo>
                    <a:lnTo>
                      <a:pt x="1437" y="657"/>
                    </a:lnTo>
                    <a:lnTo>
                      <a:pt x="1435" y="655"/>
                    </a:lnTo>
                    <a:lnTo>
                      <a:pt x="1431" y="655"/>
                    </a:lnTo>
                    <a:lnTo>
                      <a:pt x="1428" y="653"/>
                    </a:lnTo>
                    <a:lnTo>
                      <a:pt x="1424" y="652"/>
                    </a:lnTo>
                    <a:lnTo>
                      <a:pt x="1422" y="650"/>
                    </a:lnTo>
                    <a:lnTo>
                      <a:pt x="1419" y="650"/>
                    </a:lnTo>
                    <a:lnTo>
                      <a:pt x="1416" y="648"/>
                    </a:lnTo>
                    <a:lnTo>
                      <a:pt x="1412" y="647"/>
                    </a:lnTo>
                    <a:lnTo>
                      <a:pt x="1411" y="645"/>
                    </a:lnTo>
                    <a:lnTo>
                      <a:pt x="1407" y="645"/>
                    </a:lnTo>
                    <a:lnTo>
                      <a:pt x="1405" y="643"/>
                    </a:lnTo>
                    <a:lnTo>
                      <a:pt x="1403" y="643"/>
                    </a:lnTo>
                    <a:lnTo>
                      <a:pt x="1402" y="642"/>
                    </a:lnTo>
                    <a:lnTo>
                      <a:pt x="1399" y="643"/>
                    </a:lnTo>
                    <a:lnTo>
                      <a:pt x="1395" y="643"/>
                    </a:lnTo>
                    <a:lnTo>
                      <a:pt x="1392" y="645"/>
                    </a:lnTo>
                    <a:lnTo>
                      <a:pt x="1389" y="645"/>
                    </a:lnTo>
                    <a:lnTo>
                      <a:pt x="1384" y="647"/>
                    </a:lnTo>
                    <a:lnTo>
                      <a:pt x="1381" y="647"/>
                    </a:lnTo>
                    <a:lnTo>
                      <a:pt x="1377" y="649"/>
                    </a:lnTo>
                    <a:lnTo>
                      <a:pt x="1373" y="649"/>
                    </a:lnTo>
                    <a:lnTo>
                      <a:pt x="1368" y="650"/>
                    </a:lnTo>
                    <a:lnTo>
                      <a:pt x="1364" y="652"/>
                    </a:lnTo>
                    <a:lnTo>
                      <a:pt x="1361" y="653"/>
                    </a:lnTo>
                    <a:lnTo>
                      <a:pt x="1357" y="653"/>
                    </a:lnTo>
                    <a:lnTo>
                      <a:pt x="1353" y="655"/>
                    </a:lnTo>
                    <a:lnTo>
                      <a:pt x="1350" y="655"/>
                    </a:lnTo>
                    <a:lnTo>
                      <a:pt x="1347" y="657"/>
                    </a:lnTo>
                    <a:lnTo>
                      <a:pt x="1345" y="657"/>
                    </a:lnTo>
                    <a:lnTo>
                      <a:pt x="1342" y="658"/>
                    </a:lnTo>
                    <a:lnTo>
                      <a:pt x="1340" y="658"/>
                    </a:lnTo>
                    <a:lnTo>
                      <a:pt x="1338" y="658"/>
                    </a:lnTo>
                    <a:lnTo>
                      <a:pt x="1336" y="658"/>
                    </a:lnTo>
                    <a:lnTo>
                      <a:pt x="1333" y="660"/>
                    </a:lnTo>
                    <a:lnTo>
                      <a:pt x="1331" y="660"/>
                    </a:lnTo>
                    <a:lnTo>
                      <a:pt x="1329" y="660"/>
                    </a:lnTo>
                    <a:lnTo>
                      <a:pt x="1327" y="660"/>
                    </a:lnTo>
                    <a:lnTo>
                      <a:pt x="1323" y="662"/>
                    </a:lnTo>
                    <a:lnTo>
                      <a:pt x="1321" y="662"/>
                    </a:lnTo>
                    <a:lnTo>
                      <a:pt x="1318" y="662"/>
                    </a:lnTo>
                    <a:lnTo>
                      <a:pt x="1316" y="662"/>
                    </a:lnTo>
                    <a:lnTo>
                      <a:pt x="1313" y="662"/>
                    </a:lnTo>
                    <a:lnTo>
                      <a:pt x="1311" y="662"/>
                    </a:lnTo>
                    <a:lnTo>
                      <a:pt x="1309" y="662"/>
                    </a:lnTo>
                    <a:lnTo>
                      <a:pt x="1307" y="662"/>
                    </a:lnTo>
                    <a:lnTo>
                      <a:pt x="1304" y="662"/>
                    </a:lnTo>
                    <a:lnTo>
                      <a:pt x="1301" y="662"/>
                    </a:lnTo>
                    <a:lnTo>
                      <a:pt x="1297" y="662"/>
                    </a:lnTo>
                    <a:lnTo>
                      <a:pt x="1295" y="662"/>
                    </a:lnTo>
                    <a:lnTo>
                      <a:pt x="1292" y="662"/>
                    </a:lnTo>
                    <a:lnTo>
                      <a:pt x="1288" y="660"/>
                    </a:lnTo>
                    <a:lnTo>
                      <a:pt x="1284" y="660"/>
                    </a:lnTo>
                    <a:lnTo>
                      <a:pt x="1283" y="658"/>
                    </a:lnTo>
                    <a:lnTo>
                      <a:pt x="1279" y="658"/>
                    </a:lnTo>
                    <a:lnTo>
                      <a:pt x="1275" y="656"/>
                    </a:lnTo>
                    <a:lnTo>
                      <a:pt x="1271" y="655"/>
                    </a:lnTo>
                    <a:lnTo>
                      <a:pt x="1268" y="653"/>
                    </a:lnTo>
                    <a:lnTo>
                      <a:pt x="1264" y="653"/>
                    </a:lnTo>
                    <a:lnTo>
                      <a:pt x="1263" y="652"/>
                    </a:lnTo>
                    <a:lnTo>
                      <a:pt x="1260" y="650"/>
                    </a:lnTo>
                    <a:lnTo>
                      <a:pt x="1258" y="648"/>
                    </a:lnTo>
                    <a:lnTo>
                      <a:pt x="1255" y="647"/>
                    </a:lnTo>
                    <a:lnTo>
                      <a:pt x="1251" y="645"/>
                    </a:lnTo>
                    <a:lnTo>
                      <a:pt x="1247" y="643"/>
                    </a:lnTo>
                    <a:lnTo>
                      <a:pt x="1246" y="641"/>
                    </a:lnTo>
                    <a:lnTo>
                      <a:pt x="1242" y="639"/>
                    </a:lnTo>
                    <a:lnTo>
                      <a:pt x="1238" y="635"/>
                    </a:lnTo>
                    <a:lnTo>
                      <a:pt x="1235" y="633"/>
                    </a:lnTo>
                    <a:lnTo>
                      <a:pt x="1233" y="629"/>
                    </a:lnTo>
                    <a:lnTo>
                      <a:pt x="1229" y="627"/>
                    </a:lnTo>
                    <a:lnTo>
                      <a:pt x="1225" y="625"/>
                    </a:lnTo>
                    <a:lnTo>
                      <a:pt x="1221" y="623"/>
                    </a:lnTo>
                    <a:lnTo>
                      <a:pt x="1219" y="620"/>
                    </a:lnTo>
                    <a:lnTo>
                      <a:pt x="1215" y="619"/>
                    </a:lnTo>
                    <a:lnTo>
                      <a:pt x="1212" y="617"/>
                    </a:lnTo>
                    <a:lnTo>
                      <a:pt x="1208" y="617"/>
                    </a:lnTo>
                    <a:lnTo>
                      <a:pt x="1206" y="616"/>
                    </a:lnTo>
                    <a:lnTo>
                      <a:pt x="1205" y="617"/>
                    </a:lnTo>
                    <a:lnTo>
                      <a:pt x="1205" y="617"/>
                    </a:lnTo>
                    <a:lnTo>
                      <a:pt x="1205" y="619"/>
                    </a:lnTo>
                    <a:lnTo>
                      <a:pt x="1205" y="619"/>
                    </a:lnTo>
                    <a:lnTo>
                      <a:pt x="1204" y="621"/>
                    </a:lnTo>
                    <a:lnTo>
                      <a:pt x="1204" y="621"/>
                    </a:lnTo>
                    <a:lnTo>
                      <a:pt x="1204" y="623"/>
                    </a:lnTo>
                    <a:lnTo>
                      <a:pt x="1204" y="623"/>
                    </a:lnTo>
                    <a:lnTo>
                      <a:pt x="1202" y="625"/>
                    </a:lnTo>
                    <a:lnTo>
                      <a:pt x="1202" y="626"/>
                    </a:lnTo>
                    <a:lnTo>
                      <a:pt x="1202" y="628"/>
                    </a:lnTo>
                    <a:lnTo>
                      <a:pt x="1202" y="628"/>
                    </a:lnTo>
                    <a:lnTo>
                      <a:pt x="1200" y="630"/>
                    </a:lnTo>
                    <a:lnTo>
                      <a:pt x="1200" y="630"/>
                    </a:lnTo>
                    <a:lnTo>
                      <a:pt x="1200" y="631"/>
                    </a:lnTo>
                    <a:lnTo>
                      <a:pt x="1200" y="631"/>
                    </a:lnTo>
                    <a:lnTo>
                      <a:pt x="1196" y="632"/>
                    </a:lnTo>
                    <a:lnTo>
                      <a:pt x="1193" y="632"/>
                    </a:lnTo>
                    <a:lnTo>
                      <a:pt x="1187" y="632"/>
                    </a:lnTo>
                    <a:lnTo>
                      <a:pt x="1183" y="631"/>
                    </a:lnTo>
                    <a:lnTo>
                      <a:pt x="1178" y="631"/>
                    </a:lnTo>
                    <a:lnTo>
                      <a:pt x="1173" y="629"/>
                    </a:lnTo>
                    <a:lnTo>
                      <a:pt x="1167" y="627"/>
                    </a:lnTo>
                    <a:lnTo>
                      <a:pt x="1163" y="625"/>
                    </a:lnTo>
                    <a:lnTo>
                      <a:pt x="1157" y="625"/>
                    </a:lnTo>
                    <a:lnTo>
                      <a:pt x="1152" y="623"/>
                    </a:lnTo>
                    <a:lnTo>
                      <a:pt x="1148" y="621"/>
                    </a:lnTo>
                    <a:lnTo>
                      <a:pt x="1144" y="619"/>
                    </a:lnTo>
                    <a:lnTo>
                      <a:pt x="1140" y="619"/>
                    </a:lnTo>
                    <a:lnTo>
                      <a:pt x="1138" y="617"/>
                    </a:lnTo>
                    <a:lnTo>
                      <a:pt x="1137" y="617"/>
                    </a:lnTo>
                    <a:lnTo>
                      <a:pt x="1137" y="616"/>
                    </a:lnTo>
                    <a:lnTo>
                      <a:pt x="1137" y="596"/>
                    </a:lnTo>
                    <a:lnTo>
                      <a:pt x="1136" y="596"/>
                    </a:lnTo>
                    <a:lnTo>
                      <a:pt x="1135" y="595"/>
                    </a:lnTo>
                    <a:lnTo>
                      <a:pt x="1133" y="595"/>
                    </a:lnTo>
                    <a:lnTo>
                      <a:pt x="1131" y="594"/>
                    </a:lnTo>
                    <a:lnTo>
                      <a:pt x="1127" y="592"/>
                    </a:lnTo>
                    <a:lnTo>
                      <a:pt x="1124" y="591"/>
                    </a:lnTo>
                    <a:lnTo>
                      <a:pt x="1120" y="589"/>
                    </a:lnTo>
                    <a:lnTo>
                      <a:pt x="1117" y="587"/>
                    </a:lnTo>
                    <a:lnTo>
                      <a:pt x="1113" y="587"/>
                    </a:lnTo>
                    <a:lnTo>
                      <a:pt x="1109" y="585"/>
                    </a:lnTo>
                    <a:lnTo>
                      <a:pt x="1105" y="584"/>
                    </a:lnTo>
                    <a:lnTo>
                      <a:pt x="1102" y="582"/>
                    </a:lnTo>
                    <a:lnTo>
                      <a:pt x="1099" y="582"/>
                    </a:lnTo>
                    <a:lnTo>
                      <a:pt x="1096" y="581"/>
                    </a:lnTo>
                    <a:lnTo>
                      <a:pt x="1094" y="582"/>
                    </a:lnTo>
                    <a:lnTo>
                      <a:pt x="1093" y="582"/>
                    </a:lnTo>
                    <a:lnTo>
                      <a:pt x="1091" y="584"/>
                    </a:lnTo>
                    <a:lnTo>
                      <a:pt x="1091" y="585"/>
                    </a:lnTo>
                    <a:lnTo>
                      <a:pt x="1091" y="587"/>
                    </a:lnTo>
                    <a:lnTo>
                      <a:pt x="1091" y="589"/>
                    </a:lnTo>
                    <a:lnTo>
                      <a:pt x="1091" y="592"/>
                    </a:lnTo>
                    <a:lnTo>
                      <a:pt x="1091" y="594"/>
                    </a:lnTo>
                    <a:lnTo>
                      <a:pt x="1091" y="596"/>
                    </a:lnTo>
                    <a:lnTo>
                      <a:pt x="1093" y="598"/>
                    </a:lnTo>
                    <a:lnTo>
                      <a:pt x="1093" y="602"/>
                    </a:lnTo>
                    <a:lnTo>
                      <a:pt x="1094" y="603"/>
                    </a:lnTo>
                    <a:lnTo>
                      <a:pt x="1094" y="607"/>
                    </a:lnTo>
                    <a:lnTo>
                      <a:pt x="1096" y="609"/>
                    </a:lnTo>
                    <a:lnTo>
                      <a:pt x="1096" y="611"/>
                    </a:lnTo>
                    <a:lnTo>
                      <a:pt x="1098" y="613"/>
                    </a:lnTo>
                    <a:lnTo>
                      <a:pt x="1098" y="615"/>
                    </a:lnTo>
                    <a:lnTo>
                      <a:pt x="1100" y="616"/>
                    </a:lnTo>
                    <a:lnTo>
                      <a:pt x="1101" y="620"/>
                    </a:lnTo>
                    <a:lnTo>
                      <a:pt x="1103" y="622"/>
                    </a:lnTo>
                    <a:lnTo>
                      <a:pt x="1106" y="625"/>
                    </a:lnTo>
                    <a:lnTo>
                      <a:pt x="1110" y="627"/>
                    </a:lnTo>
                    <a:lnTo>
                      <a:pt x="1113" y="631"/>
                    </a:lnTo>
                    <a:lnTo>
                      <a:pt x="1117" y="632"/>
                    </a:lnTo>
                    <a:lnTo>
                      <a:pt x="1120" y="635"/>
                    </a:lnTo>
                    <a:lnTo>
                      <a:pt x="1125" y="637"/>
                    </a:lnTo>
                    <a:lnTo>
                      <a:pt x="1128" y="641"/>
                    </a:lnTo>
                    <a:lnTo>
                      <a:pt x="1131" y="643"/>
                    </a:lnTo>
                    <a:lnTo>
                      <a:pt x="1134" y="646"/>
                    </a:lnTo>
                    <a:lnTo>
                      <a:pt x="1138" y="648"/>
                    </a:lnTo>
                    <a:lnTo>
                      <a:pt x="1139" y="651"/>
                    </a:lnTo>
                    <a:lnTo>
                      <a:pt x="1141" y="653"/>
                    </a:lnTo>
                    <a:lnTo>
                      <a:pt x="1141" y="655"/>
                    </a:lnTo>
                    <a:lnTo>
                      <a:pt x="1143" y="657"/>
                    </a:lnTo>
                    <a:lnTo>
                      <a:pt x="1141" y="659"/>
                    </a:lnTo>
                    <a:lnTo>
                      <a:pt x="1139" y="660"/>
                    </a:lnTo>
                    <a:lnTo>
                      <a:pt x="1137" y="662"/>
                    </a:lnTo>
                    <a:lnTo>
                      <a:pt x="1135" y="663"/>
                    </a:lnTo>
                    <a:lnTo>
                      <a:pt x="1131" y="665"/>
                    </a:lnTo>
                    <a:lnTo>
                      <a:pt x="1128" y="665"/>
                    </a:lnTo>
                    <a:lnTo>
                      <a:pt x="1124" y="667"/>
                    </a:lnTo>
                    <a:lnTo>
                      <a:pt x="1121" y="667"/>
                    </a:lnTo>
                    <a:lnTo>
                      <a:pt x="1116" y="669"/>
                    </a:lnTo>
                    <a:lnTo>
                      <a:pt x="1112" y="669"/>
                    </a:lnTo>
                    <a:lnTo>
                      <a:pt x="1108" y="670"/>
                    </a:lnTo>
                    <a:lnTo>
                      <a:pt x="1105" y="670"/>
                    </a:lnTo>
                    <a:lnTo>
                      <a:pt x="1101" y="670"/>
                    </a:lnTo>
                    <a:lnTo>
                      <a:pt x="1098" y="670"/>
                    </a:lnTo>
                    <a:lnTo>
                      <a:pt x="1095" y="670"/>
                    </a:lnTo>
                    <a:lnTo>
                      <a:pt x="1093" y="668"/>
                    </a:lnTo>
                    <a:lnTo>
                      <a:pt x="1091" y="668"/>
                    </a:lnTo>
                    <a:lnTo>
                      <a:pt x="1090" y="667"/>
                    </a:lnTo>
                    <a:lnTo>
                      <a:pt x="1088" y="666"/>
                    </a:lnTo>
                    <a:lnTo>
                      <a:pt x="1086" y="664"/>
                    </a:lnTo>
                    <a:lnTo>
                      <a:pt x="1084" y="662"/>
                    </a:lnTo>
                    <a:lnTo>
                      <a:pt x="1082" y="660"/>
                    </a:lnTo>
                    <a:lnTo>
                      <a:pt x="1080" y="659"/>
                    </a:lnTo>
                    <a:lnTo>
                      <a:pt x="1079" y="656"/>
                    </a:lnTo>
                    <a:lnTo>
                      <a:pt x="1077" y="655"/>
                    </a:lnTo>
                    <a:lnTo>
                      <a:pt x="1075" y="653"/>
                    </a:lnTo>
                    <a:lnTo>
                      <a:pt x="1073" y="652"/>
                    </a:lnTo>
                    <a:lnTo>
                      <a:pt x="1071" y="650"/>
                    </a:lnTo>
                    <a:lnTo>
                      <a:pt x="1070" y="650"/>
                    </a:lnTo>
                    <a:lnTo>
                      <a:pt x="1068" y="649"/>
                    </a:lnTo>
                    <a:lnTo>
                      <a:pt x="1066" y="649"/>
                    </a:lnTo>
                    <a:lnTo>
                      <a:pt x="1065" y="648"/>
                    </a:lnTo>
                    <a:lnTo>
                      <a:pt x="1063" y="650"/>
                    </a:lnTo>
                    <a:lnTo>
                      <a:pt x="1061" y="651"/>
                    </a:lnTo>
                    <a:lnTo>
                      <a:pt x="1060" y="653"/>
                    </a:lnTo>
                    <a:lnTo>
                      <a:pt x="1060" y="655"/>
                    </a:lnTo>
                    <a:lnTo>
                      <a:pt x="1060" y="658"/>
                    </a:lnTo>
                    <a:lnTo>
                      <a:pt x="1060" y="660"/>
                    </a:lnTo>
                    <a:lnTo>
                      <a:pt x="1060" y="663"/>
                    </a:lnTo>
                    <a:lnTo>
                      <a:pt x="1060" y="665"/>
                    </a:lnTo>
                    <a:lnTo>
                      <a:pt x="1060" y="669"/>
                    </a:lnTo>
                    <a:lnTo>
                      <a:pt x="1060" y="670"/>
                    </a:lnTo>
                    <a:lnTo>
                      <a:pt x="1060" y="673"/>
                    </a:lnTo>
                    <a:lnTo>
                      <a:pt x="1060" y="675"/>
                    </a:lnTo>
                    <a:lnTo>
                      <a:pt x="1058" y="678"/>
                    </a:lnTo>
                    <a:lnTo>
                      <a:pt x="1058" y="680"/>
                    </a:lnTo>
                    <a:lnTo>
                      <a:pt x="1056" y="681"/>
                    </a:lnTo>
                    <a:lnTo>
                      <a:pt x="1056" y="682"/>
                    </a:lnTo>
                    <a:lnTo>
                      <a:pt x="1053" y="684"/>
                    </a:lnTo>
                    <a:lnTo>
                      <a:pt x="1051" y="685"/>
                    </a:lnTo>
                    <a:lnTo>
                      <a:pt x="1047" y="687"/>
                    </a:lnTo>
                    <a:lnTo>
                      <a:pt x="1045" y="687"/>
                    </a:lnTo>
                    <a:lnTo>
                      <a:pt x="1040" y="687"/>
                    </a:lnTo>
                    <a:lnTo>
                      <a:pt x="1037" y="687"/>
                    </a:lnTo>
                    <a:lnTo>
                      <a:pt x="1033" y="687"/>
                    </a:lnTo>
                    <a:lnTo>
                      <a:pt x="1029" y="687"/>
                    </a:lnTo>
                    <a:lnTo>
                      <a:pt x="1024" y="687"/>
                    </a:lnTo>
                    <a:lnTo>
                      <a:pt x="1021" y="687"/>
                    </a:lnTo>
                    <a:lnTo>
                      <a:pt x="1017" y="687"/>
                    </a:lnTo>
                    <a:lnTo>
                      <a:pt x="1013" y="687"/>
                    </a:lnTo>
                    <a:lnTo>
                      <a:pt x="1009" y="687"/>
                    </a:lnTo>
                    <a:lnTo>
                      <a:pt x="1005" y="685"/>
                    </a:lnTo>
                    <a:lnTo>
                      <a:pt x="1003" y="684"/>
                    </a:lnTo>
                    <a:lnTo>
                      <a:pt x="1001" y="682"/>
                    </a:lnTo>
                    <a:lnTo>
                      <a:pt x="999" y="682"/>
                    </a:lnTo>
                    <a:lnTo>
                      <a:pt x="997" y="680"/>
                    </a:lnTo>
                    <a:lnTo>
                      <a:pt x="995" y="679"/>
                    </a:lnTo>
                    <a:lnTo>
                      <a:pt x="993" y="677"/>
                    </a:lnTo>
                    <a:lnTo>
                      <a:pt x="991" y="675"/>
                    </a:lnTo>
                    <a:lnTo>
                      <a:pt x="989" y="673"/>
                    </a:lnTo>
                    <a:lnTo>
                      <a:pt x="987" y="672"/>
                    </a:lnTo>
                    <a:lnTo>
                      <a:pt x="985" y="670"/>
                    </a:lnTo>
                    <a:lnTo>
                      <a:pt x="983" y="669"/>
                    </a:lnTo>
                    <a:lnTo>
                      <a:pt x="982" y="667"/>
                    </a:lnTo>
                    <a:lnTo>
                      <a:pt x="980" y="665"/>
                    </a:lnTo>
                    <a:lnTo>
                      <a:pt x="980" y="663"/>
                    </a:lnTo>
                    <a:lnTo>
                      <a:pt x="978" y="662"/>
                    </a:lnTo>
                    <a:lnTo>
                      <a:pt x="978" y="660"/>
                    </a:lnTo>
                    <a:lnTo>
                      <a:pt x="978" y="659"/>
                    </a:lnTo>
                    <a:lnTo>
                      <a:pt x="978" y="657"/>
                    </a:lnTo>
                    <a:lnTo>
                      <a:pt x="978" y="655"/>
                    </a:lnTo>
                    <a:lnTo>
                      <a:pt x="980" y="653"/>
                    </a:lnTo>
                    <a:lnTo>
                      <a:pt x="982" y="651"/>
                    </a:lnTo>
                    <a:lnTo>
                      <a:pt x="985" y="647"/>
                    </a:lnTo>
                    <a:lnTo>
                      <a:pt x="989" y="645"/>
                    </a:lnTo>
                    <a:lnTo>
                      <a:pt x="992" y="643"/>
                    </a:lnTo>
                    <a:lnTo>
                      <a:pt x="996" y="641"/>
                    </a:lnTo>
                    <a:lnTo>
                      <a:pt x="1001" y="637"/>
                    </a:lnTo>
                    <a:lnTo>
                      <a:pt x="1005" y="635"/>
                    </a:lnTo>
                    <a:lnTo>
                      <a:pt x="1009" y="633"/>
                    </a:lnTo>
                    <a:lnTo>
                      <a:pt x="1012" y="631"/>
                    </a:lnTo>
                    <a:lnTo>
                      <a:pt x="1015" y="627"/>
                    </a:lnTo>
                    <a:lnTo>
                      <a:pt x="1017" y="625"/>
                    </a:lnTo>
                    <a:lnTo>
                      <a:pt x="1020" y="622"/>
                    </a:lnTo>
                    <a:lnTo>
                      <a:pt x="1021" y="620"/>
                    </a:lnTo>
                    <a:lnTo>
                      <a:pt x="1022" y="616"/>
                    </a:lnTo>
                    <a:lnTo>
                      <a:pt x="1021" y="614"/>
                    </a:lnTo>
                    <a:lnTo>
                      <a:pt x="1020" y="611"/>
                    </a:lnTo>
                    <a:lnTo>
                      <a:pt x="1017" y="609"/>
                    </a:lnTo>
                    <a:lnTo>
                      <a:pt x="1015" y="605"/>
                    </a:lnTo>
                    <a:lnTo>
                      <a:pt x="1012" y="603"/>
                    </a:lnTo>
                    <a:lnTo>
                      <a:pt x="1009" y="600"/>
                    </a:lnTo>
                    <a:lnTo>
                      <a:pt x="1005" y="597"/>
                    </a:lnTo>
                    <a:lnTo>
                      <a:pt x="1002" y="593"/>
                    </a:lnTo>
                    <a:lnTo>
                      <a:pt x="997" y="591"/>
                    </a:lnTo>
                    <a:lnTo>
                      <a:pt x="993" y="589"/>
                    </a:lnTo>
                    <a:lnTo>
                      <a:pt x="989" y="587"/>
                    </a:lnTo>
                    <a:lnTo>
                      <a:pt x="985" y="584"/>
                    </a:lnTo>
                    <a:lnTo>
                      <a:pt x="982" y="584"/>
                    </a:lnTo>
                    <a:lnTo>
                      <a:pt x="978" y="582"/>
                    </a:lnTo>
                    <a:lnTo>
                      <a:pt x="974" y="582"/>
                    </a:lnTo>
                    <a:lnTo>
                      <a:pt x="972" y="582"/>
                    </a:lnTo>
                    <a:lnTo>
                      <a:pt x="969" y="584"/>
                    </a:lnTo>
                    <a:lnTo>
                      <a:pt x="967" y="585"/>
                    </a:lnTo>
                    <a:lnTo>
                      <a:pt x="965" y="587"/>
                    </a:lnTo>
                    <a:lnTo>
                      <a:pt x="963" y="589"/>
                    </a:lnTo>
                    <a:lnTo>
                      <a:pt x="961" y="593"/>
                    </a:lnTo>
                    <a:lnTo>
                      <a:pt x="960" y="596"/>
                    </a:lnTo>
                    <a:lnTo>
                      <a:pt x="958" y="600"/>
                    </a:lnTo>
                    <a:lnTo>
                      <a:pt x="958" y="603"/>
                    </a:lnTo>
                    <a:lnTo>
                      <a:pt x="956" y="608"/>
                    </a:lnTo>
                    <a:lnTo>
                      <a:pt x="955" y="612"/>
                    </a:lnTo>
                    <a:lnTo>
                      <a:pt x="954" y="615"/>
                    </a:lnTo>
                    <a:lnTo>
                      <a:pt x="954" y="619"/>
                    </a:lnTo>
                    <a:lnTo>
                      <a:pt x="952" y="623"/>
                    </a:lnTo>
                    <a:lnTo>
                      <a:pt x="951" y="626"/>
                    </a:lnTo>
                    <a:lnTo>
                      <a:pt x="949" y="629"/>
                    </a:lnTo>
                    <a:lnTo>
                      <a:pt x="949" y="631"/>
                    </a:lnTo>
                    <a:lnTo>
                      <a:pt x="947" y="632"/>
                    </a:lnTo>
                    <a:lnTo>
                      <a:pt x="945" y="634"/>
                    </a:lnTo>
                    <a:lnTo>
                      <a:pt x="944" y="636"/>
                    </a:lnTo>
                    <a:lnTo>
                      <a:pt x="943" y="638"/>
                    </a:lnTo>
                    <a:lnTo>
                      <a:pt x="939" y="642"/>
                    </a:lnTo>
                    <a:lnTo>
                      <a:pt x="937" y="643"/>
                    </a:lnTo>
                    <a:lnTo>
                      <a:pt x="935" y="645"/>
                    </a:lnTo>
                    <a:lnTo>
                      <a:pt x="934" y="647"/>
                    </a:lnTo>
                    <a:lnTo>
                      <a:pt x="930" y="651"/>
                    </a:lnTo>
                    <a:lnTo>
                      <a:pt x="928" y="653"/>
                    </a:lnTo>
                    <a:lnTo>
                      <a:pt x="925" y="655"/>
                    </a:lnTo>
                    <a:lnTo>
                      <a:pt x="924" y="657"/>
                    </a:lnTo>
                    <a:lnTo>
                      <a:pt x="921" y="659"/>
                    </a:lnTo>
                    <a:lnTo>
                      <a:pt x="919" y="660"/>
                    </a:lnTo>
                    <a:lnTo>
                      <a:pt x="917" y="662"/>
                    </a:lnTo>
                    <a:lnTo>
                      <a:pt x="915" y="662"/>
                    </a:lnTo>
                    <a:lnTo>
                      <a:pt x="913" y="662"/>
                    </a:lnTo>
                    <a:lnTo>
                      <a:pt x="911" y="662"/>
                    </a:lnTo>
                    <a:lnTo>
                      <a:pt x="909" y="662"/>
                    </a:lnTo>
                    <a:lnTo>
                      <a:pt x="908" y="662"/>
                    </a:lnTo>
                    <a:lnTo>
                      <a:pt x="905" y="662"/>
                    </a:lnTo>
                    <a:lnTo>
                      <a:pt x="904" y="662"/>
                    </a:lnTo>
                    <a:lnTo>
                      <a:pt x="902" y="662"/>
                    </a:lnTo>
                    <a:lnTo>
                      <a:pt x="900" y="662"/>
                    </a:lnTo>
                    <a:lnTo>
                      <a:pt x="897" y="662"/>
                    </a:lnTo>
                    <a:lnTo>
                      <a:pt x="895" y="662"/>
                    </a:lnTo>
                    <a:lnTo>
                      <a:pt x="893" y="662"/>
                    </a:lnTo>
                    <a:lnTo>
                      <a:pt x="891" y="662"/>
                    </a:lnTo>
                    <a:lnTo>
                      <a:pt x="889" y="662"/>
                    </a:lnTo>
                    <a:lnTo>
                      <a:pt x="887" y="662"/>
                    </a:lnTo>
                    <a:lnTo>
                      <a:pt x="886" y="662"/>
                    </a:lnTo>
                    <a:lnTo>
                      <a:pt x="886" y="662"/>
                    </a:lnTo>
                    <a:lnTo>
                      <a:pt x="882" y="662"/>
                    </a:lnTo>
                    <a:lnTo>
                      <a:pt x="878" y="660"/>
                    </a:lnTo>
                    <a:lnTo>
                      <a:pt x="874" y="659"/>
                    </a:lnTo>
                    <a:lnTo>
                      <a:pt x="870" y="657"/>
                    </a:lnTo>
                    <a:lnTo>
                      <a:pt x="865" y="655"/>
                    </a:lnTo>
                    <a:lnTo>
                      <a:pt x="861" y="652"/>
                    </a:lnTo>
                    <a:lnTo>
                      <a:pt x="855" y="650"/>
                    </a:lnTo>
                    <a:lnTo>
                      <a:pt x="851" y="646"/>
                    </a:lnTo>
                    <a:lnTo>
                      <a:pt x="846" y="644"/>
                    </a:lnTo>
                    <a:lnTo>
                      <a:pt x="842" y="641"/>
                    </a:lnTo>
                    <a:lnTo>
                      <a:pt x="837" y="638"/>
                    </a:lnTo>
                    <a:lnTo>
                      <a:pt x="835" y="634"/>
                    </a:lnTo>
                    <a:lnTo>
                      <a:pt x="831" y="632"/>
                    </a:lnTo>
                    <a:lnTo>
                      <a:pt x="829" y="629"/>
                    </a:lnTo>
                    <a:lnTo>
                      <a:pt x="828" y="625"/>
                    </a:lnTo>
                    <a:lnTo>
                      <a:pt x="828" y="622"/>
                    </a:lnTo>
                    <a:lnTo>
                      <a:pt x="828" y="619"/>
                    </a:lnTo>
                    <a:lnTo>
                      <a:pt x="831" y="615"/>
                    </a:lnTo>
                    <a:lnTo>
                      <a:pt x="834" y="611"/>
                    </a:lnTo>
                    <a:lnTo>
                      <a:pt x="839" y="607"/>
                    </a:lnTo>
                    <a:lnTo>
                      <a:pt x="845" y="604"/>
                    </a:lnTo>
                    <a:lnTo>
                      <a:pt x="851" y="601"/>
                    </a:lnTo>
                    <a:lnTo>
                      <a:pt x="857" y="597"/>
                    </a:lnTo>
                    <a:lnTo>
                      <a:pt x="865" y="593"/>
                    </a:lnTo>
                    <a:lnTo>
                      <a:pt x="871" y="591"/>
                    </a:lnTo>
                    <a:lnTo>
                      <a:pt x="877" y="587"/>
                    </a:lnTo>
                    <a:lnTo>
                      <a:pt x="883" y="585"/>
                    </a:lnTo>
                    <a:lnTo>
                      <a:pt x="889" y="581"/>
                    </a:lnTo>
                    <a:lnTo>
                      <a:pt x="893" y="579"/>
                    </a:lnTo>
                    <a:lnTo>
                      <a:pt x="897" y="575"/>
                    </a:lnTo>
                    <a:lnTo>
                      <a:pt x="899" y="574"/>
                    </a:lnTo>
                    <a:lnTo>
                      <a:pt x="900" y="570"/>
                    </a:lnTo>
                    <a:lnTo>
                      <a:pt x="898" y="570"/>
                    </a:lnTo>
                    <a:lnTo>
                      <a:pt x="897" y="568"/>
                    </a:lnTo>
                    <a:lnTo>
                      <a:pt x="894" y="568"/>
                    </a:lnTo>
                    <a:lnTo>
                      <a:pt x="891" y="566"/>
                    </a:lnTo>
                    <a:lnTo>
                      <a:pt x="887" y="566"/>
                    </a:lnTo>
                    <a:lnTo>
                      <a:pt x="883" y="565"/>
                    </a:lnTo>
                    <a:lnTo>
                      <a:pt x="879" y="565"/>
                    </a:lnTo>
                    <a:lnTo>
                      <a:pt x="875" y="565"/>
                    </a:lnTo>
                    <a:lnTo>
                      <a:pt x="869" y="567"/>
                    </a:lnTo>
                    <a:lnTo>
                      <a:pt x="866" y="567"/>
                    </a:lnTo>
                    <a:lnTo>
                      <a:pt x="860" y="567"/>
                    </a:lnTo>
                    <a:lnTo>
                      <a:pt x="856" y="567"/>
                    </a:lnTo>
                    <a:lnTo>
                      <a:pt x="852" y="569"/>
                    </a:lnTo>
                    <a:lnTo>
                      <a:pt x="848" y="569"/>
                    </a:lnTo>
                    <a:lnTo>
                      <a:pt x="845" y="570"/>
                    </a:lnTo>
                    <a:lnTo>
                      <a:pt x="843" y="570"/>
                    </a:lnTo>
                    <a:lnTo>
                      <a:pt x="839" y="572"/>
                    </a:lnTo>
                    <a:lnTo>
                      <a:pt x="837" y="573"/>
                    </a:lnTo>
                    <a:lnTo>
                      <a:pt x="835" y="575"/>
                    </a:lnTo>
                    <a:lnTo>
                      <a:pt x="833" y="577"/>
                    </a:lnTo>
                    <a:lnTo>
                      <a:pt x="829" y="581"/>
                    </a:lnTo>
                    <a:lnTo>
                      <a:pt x="827" y="582"/>
                    </a:lnTo>
                    <a:lnTo>
                      <a:pt x="825" y="585"/>
                    </a:lnTo>
                    <a:lnTo>
                      <a:pt x="823" y="587"/>
                    </a:lnTo>
                    <a:lnTo>
                      <a:pt x="820" y="591"/>
                    </a:lnTo>
                    <a:lnTo>
                      <a:pt x="818" y="594"/>
                    </a:lnTo>
                    <a:lnTo>
                      <a:pt x="816" y="597"/>
                    </a:lnTo>
                    <a:lnTo>
                      <a:pt x="815" y="599"/>
                    </a:lnTo>
                    <a:lnTo>
                      <a:pt x="813" y="602"/>
                    </a:lnTo>
                    <a:lnTo>
                      <a:pt x="811" y="604"/>
                    </a:lnTo>
                    <a:lnTo>
                      <a:pt x="809" y="606"/>
                    </a:lnTo>
                    <a:lnTo>
                      <a:pt x="808" y="607"/>
                    </a:lnTo>
                    <a:lnTo>
                      <a:pt x="806" y="609"/>
                    </a:lnTo>
                    <a:lnTo>
                      <a:pt x="804" y="611"/>
                    </a:lnTo>
                    <a:lnTo>
                      <a:pt x="802" y="613"/>
                    </a:lnTo>
                    <a:lnTo>
                      <a:pt x="801" y="613"/>
                    </a:lnTo>
                    <a:lnTo>
                      <a:pt x="799" y="615"/>
                    </a:lnTo>
                    <a:lnTo>
                      <a:pt x="798" y="617"/>
                    </a:lnTo>
                    <a:lnTo>
                      <a:pt x="796" y="619"/>
                    </a:lnTo>
                    <a:lnTo>
                      <a:pt x="796" y="619"/>
                    </a:lnTo>
                    <a:lnTo>
                      <a:pt x="794" y="621"/>
                    </a:lnTo>
                    <a:lnTo>
                      <a:pt x="792" y="621"/>
                    </a:lnTo>
                    <a:lnTo>
                      <a:pt x="790" y="622"/>
                    </a:lnTo>
                    <a:lnTo>
                      <a:pt x="789" y="622"/>
                    </a:lnTo>
                    <a:lnTo>
                      <a:pt x="788" y="623"/>
                    </a:lnTo>
                    <a:lnTo>
                      <a:pt x="787" y="623"/>
                    </a:lnTo>
                    <a:lnTo>
                      <a:pt x="785" y="623"/>
                    </a:lnTo>
                    <a:lnTo>
                      <a:pt x="785" y="622"/>
                    </a:lnTo>
                    <a:lnTo>
                      <a:pt x="783" y="622"/>
                    </a:lnTo>
                    <a:lnTo>
                      <a:pt x="782" y="621"/>
                    </a:lnTo>
                    <a:lnTo>
                      <a:pt x="782" y="619"/>
                    </a:lnTo>
                    <a:lnTo>
                      <a:pt x="782" y="616"/>
                    </a:lnTo>
                    <a:lnTo>
                      <a:pt x="782" y="614"/>
                    </a:lnTo>
                    <a:lnTo>
                      <a:pt x="783" y="611"/>
                    </a:lnTo>
                    <a:lnTo>
                      <a:pt x="783" y="607"/>
                    </a:lnTo>
                    <a:lnTo>
                      <a:pt x="785" y="603"/>
                    </a:lnTo>
                    <a:lnTo>
                      <a:pt x="785" y="599"/>
                    </a:lnTo>
                    <a:lnTo>
                      <a:pt x="787" y="595"/>
                    </a:lnTo>
                    <a:lnTo>
                      <a:pt x="788" y="592"/>
                    </a:lnTo>
                    <a:lnTo>
                      <a:pt x="789" y="588"/>
                    </a:lnTo>
                    <a:lnTo>
                      <a:pt x="789" y="585"/>
                    </a:lnTo>
                    <a:lnTo>
                      <a:pt x="791" y="582"/>
                    </a:lnTo>
                    <a:lnTo>
                      <a:pt x="791" y="579"/>
                    </a:lnTo>
                    <a:lnTo>
                      <a:pt x="793" y="575"/>
                    </a:lnTo>
                    <a:lnTo>
                      <a:pt x="793" y="575"/>
                    </a:lnTo>
                    <a:lnTo>
                      <a:pt x="793" y="574"/>
                    </a:lnTo>
                    <a:lnTo>
                      <a:pt x="793" y="574"/>
                    </a:lnTo>
                    <a:lnTo>
                      <a:pt x="794" y="572"/>
                    </a:lnTo>
                    <a:lnTo>
                      <a:pt x="794" y="572"/>
                    </a:lnTo>
                    <a:lnTo>
                      <a:pt x="795" y="570"/>
                    </a:lnTo>
                    <a:lnTo>
                      <a:pt x="795" y="568"/>
                    </a:lnTo>
                    <a:lnTo>
                      <a:pt x="797" y="566"/>
                    </a:lnTo>
                    <a:lnTo>
                      <a:pt x="797" y="566"/>
                    </a:lnTo>
                    <a:lnTo>
                      <a:pt x="797" y="564"/>
                    </a:lnTo>
                    <a:lnTo>
                      <a:pt x="797" y="563"/>
                    </a:lnTo>
                    <a:lnTo>
                      <a:pt x="799" y="561"/>
                    </a:lnTo>
                    <a:lnTo>
                      <a:pt x="799" y="561"/>
                    </a:lnTo>
                    <a:lnTo>
                      <a:pt x="799" y="559"/>
                    </a:lnTo>
                    <a:lnTo>
                      <a:pt x="799" y="557"/>
                    </a:lnTo>
                    <a:lnTo>
                      <a:pt x="799" y="555"/>
                    </a:lnTo>
                    <a:lnTo>
                      <a:pt x="798" y="554"/>
                    </a:lnTo>
                    <a:lnTo>
                      <a:pt x="798" y="553"/>
                    </a:lnTo>
                    <a:lnTo>
                      <a:pt x="796" y="551"/>
                    </a:lnTo>
                    <a:lnTo>
                      <a:pt x="795" y="549"/>
                    </a:lnTo>
                    <a:lnTo>
                      <a:pt x="793" y="547"/>
                    </a:lnTo>
                    <a:lnTo>
                      <a:pt x="791" y="545"/>
                    </a:lnTo>
                    <a:lnTo>
                      <a:pt x="789" y="543"/>
                    </a:lnTo>
                    <a:lnTo>
                      <a:pt x="788" y="541"/>
                    </a:lnTo>
                    <a:lnTo>
                      <a:pt x="784" y="540"/>
                    </a:lnTo>
                    <a:lnTo>
                      <a:pt x="782" y="538"/>
                    </a:lnTo>
                    <a:lnTo>
                      <a:pt x="779" y="536"/>
                    </a:lnTo>
                    <a:lnTo>
                      <a:pt x="778" y="534"/>
                    </a:lnTo>
                    <a:lnTo>
                      <a:pt x="775" y="534"/>
                    </a:lnTo>
                    <a:lnTo>
                      <a:pt x="773" y="533"/>
                    </a:lnTo>
                    <a:lnTo>
                      <a:pt x="771" y="531"/>
                    </a:lnTo>
                    <a:lnTo>
                      <a:pt x="770" y="529"/>
                    </a:lnTo>
                    <a:lnTo>
                      <a:pt x="767" y="529"/>
                    </a:lnTo>
                    <a:lnTo>
                      <a:pt x="764" y="529"/>
                    </a:lnTo>
                    <a:lnTo>
                      <a:pt x="760" y="529"/>
                    </a:lnTo>
                    <a:lnTo>
                      <a:pt x="758" y="527"/>
                    </a:lnTo>
                    <a:lnTo>
                      <a:pt x="753" y="527"/>
                    </a:lnTo>
                    <a:lnTo>
                      <a:pt x="749" y="527"/>
                    </a:lnTo>
                    <a:lnTo>
                      <a:pt x="746" y="527"/>
                    </a:lnTo>
                    <a:lnTo>
                      <a:pt x="742" y="525"/>
                    </a:lnTo>
                    <a:lnTo>
                      <a:pt x="737" y="525"/>
                    </a:lnTo>
                    <a:lnTo>
                      <a:pt x="733" y="525"/>
                    </a:lnTo>
                    <a:lnTo>
                      <a:pt x="729" y="525"/>
                    </a:lnTo>
                    <a:lnTo>
                      <a:pt x="725" y="524"/>
                    </a:lnTo>
                    <a:lnTo>
                      <a:pt x="721" y="524"/>
                    </a:lnTo>
                    <a:lnTo>
                      <a:pt x="718" y="524"/>
                    </a:lnTo>
                    <a:lnTo>
                      <a:pt x="715" y="524"/>
                    </a:lnTo>
                    <a:lnTo>
                      <a:pt x="713" y="524"/>
                    </a:lnTo>
                    <a:lnTo>
                      <a:pt x="709" y="524"/>
                    </a:lnTo>
                    <a:lnTo>
                      <a:pt x="705" y="524"/>
                    </a:lnTo>
                    <a:lnTo>
                      <a:pt x="700" y="524"/>
                    </a:lnTo>
                    <a:lnTo>
                      <a:pt x="697" y="524"/>
                    </a:lnTo>
                    <a:lnTo>
                      <a:pt x="691" y="526"/>
                    </a:lnTo>
                    <a:lnTo>
                      <a:pt x="687" y="526"/>
                    </a:lnTo>
                    <a:lnTo>
                      <a:pt x="681" y="527"/>
                    </a:lnTo>
                    <a:lnTo>
                      <a:pt x="677" y="527"/>
                    </a:lnTo>
                    <a:lnTo>
                      <a:pt x="671" y="529"/>
                    </a:lnTo>
                    <a:lnTo>
                      <a:pt x="667" y="529"/>
                    </a:lnTo>
                    <a:lnTo>
                      <a:pt x="661" y="531"/>
                    </a:lnTo>
                    <a:lnTo>
                      <a:pt x="657" y="531"/>
                    </a:lnTo>
                    <a:lnTo>
                      <a:pt x="652" y="531"/>
                    </a:lnTo>
                    <a:lnTo>
                      <a:pt x="648" y="531"/>
                    </a:lnTo>
                    <a:lnTo>
                      <a:pt x="644" y="531"/>
                    </a:lnTo>
                    <a:lnTo>
                      <a:pt x="640" y="529"/>
                    </a:lnTo>
                    <a:lnTo>
                      <a:pt x="637" y="529"/>
                    </a:lnTo>
                    <a:lnTo>
                      <a:pt x="633" y="528"/>
                    </a:lnTo>
                    <a:lnTo>
                      <a:pt x="629" y="526"/>
                    </a:lnTo>
                    <a:lnTo>
                      <a:pt x="625" y="524"/>
                    </a:lnTo>
                    <a:lnTo>
                      <a:pt x="621" y="523"/>
                    </a:lnTo>
                    <a:lnTo>
                      <a:pt x="617" y="521"/>
                    </a:lnTo>
                    <a:lnTo>
                      <a:pt x="613" y="519"/>
                    </a:lnTo>
                    <a:lnTo>
                      <a:pt x="609" y="515"/>
                    </a:lnTo>
                    <a:lnTo>
                      <a:pt x="605" y="513"/>
                    </a:lnTo>
                    <a:lnTo>
                      <a:pt x="601" y="511"/>
                    </a:lnTo>
                    <a:lnTo>
                      <a:pt x="597" y="509"/>
                    </a:lnTo>
                    <a:lnTo>
                      <a:pt x="595" y="505"/>
                    </a:lnTo>
                    <a:lnTo>
                      <a:pt x="593" y="503"/>
                    </a:lnTo>
                    <a:lnTo>
                      <a:pt x="592" y="501"/>
                    </a:lnTo>
                    <a:lnTo>
                      <a:pt x="591" y="499"/>
                    </a:lnTo>
                    <a:lnTo>
                      <a:pt x="592" y="497"/>
                    </a:lnTo>
                    <a:lnTo>
                      <a:pt x="592" y="497"/>
                    </a:lnTo>
                    <a:lnTo>
                      <a:pt x="594" y="495"/>
                    </a:lnTo>
                    <a:lnTo>
                      <a:pt x="597" y="495"/>
                    </a:lnTo>
                    <a:lnTo>
                      <a:pt x="602" y="493"/>
                    </a:lnTo>
                    <a:lnTo>
                      <a:pt x="606" y="493"/>
                    </a:lnTo>
                    <a:lnTo>
                      <a:pt x="612" y="493"/>
                    </a:lnTo>
                    <a:lnTo>
                      <a:pt x="617" y="493"/>
                    </a:lnTo>
                    <a:lnTo>
                      <a:pt x="623" y="493"/>
                    </a:lnTo>
                    <a:lnTo>
                      <a:pt x="629" y="494"/>
                    </a:lnTo>
                    <a:lnTo>
                      <a:pt x="634" y="494"/>
                    </a:lnTo>
                    <a:lnTo>
                      <a:pt x="639" y="494"/>
                    </a:lnTo>
                    <a:lnTo>
                      <a:pt x="644" y="494"/>
                    </a:lnTo>
                    <a:lnTo>
                      <a:pt x="648" y="494"/>
                    </a:lnTo>
                    <a:lnTo>
                      <a:pt x="652" y="493"/>
                    </a:lnTo>
                    <a:lnTo>
                      <a:pt x="653" y="491"/>
                    </a:lnTo>
                    <a:lnTo>
                      <a:pt x="655" y="489"/>
                    </a:lnTo>
                    <a:lnTo>
                      <a:pt x="654" y="487"/>
                    </a:lnTo>
                    <a:lnTo>
                      <a:pt x="653" y="485"/>
                    </a:lnTo>
                    <a:lnTo>
                      <a:pt x="651" y="482"/>
                    </a:lnTo>
                    <a:lnTo>
                      <a:pt x="649" y="478"/>
                    </a:lnTo>
                    <a:lnTo>
                      <a:pt x="645" y="475"/>
                    </a:lnTo>
                    <a:lnTo>
                      <a:pt x="641" y="471"/>
                    </a:lnTo>
                    <a:lnTo>
                      <a:pt x="635" y="467"/>
                    </a:lnTo>
                    <a:lnTo>
                      <a:pt x="632" y="464"/>
                    </a:lnTo>
                    <a:lnTo>
                      <a:pt x="625" y="462"/>
                    </a:lnTo>
                    <a:lnTo>
                      <a:pt x="620" y="458"/>
                    </a:lnTo>
                    <a:lnTo>
                      <a:pt x="614" y="456"/>
                    </a:lnTo>
                    <a:lnTo>
                      <a:pt x="609" y="453"/>
                    </a:lnTo>
                    <a:lnTo>
                      <a:pt x="603" y="453"/>
                    </a:lnTo>
                    <a:lnTo>
                      <a:pt x="599" y="451"/>
                    </a:lnTo>
                    <a:lnTo>
                      <a:pt x="595" y="451"/>
                    </a:lnTo>
                    <a:lnTo>
                      <a:pt x="592" y="451"/>
                    </a:lnTo>
                    <a:lnTo>
                      <a:pt x="590" y="453"/>
                    </a:lnTo>
                    <a:lnTo>
                      <a:pt x="589" y="455"/>
                    </a:lnTo>
                    <a:lnTo>
                      <a:pt x="587" y="457"/>
                    </a:lnTo>
                    <a:lnTo>
                      <a:pt x="587" y="459"/>
                    </a:lnTo>
                    <a:lnTo>
                      <a:pt x="585" y="463"/>
                    </a:lnTo>
                    <a:lnTo>
                      <a:pt x="585" y="465"/>
                    </a:lnTo>
                    <a:lnTo>
                      <a:pt x="585" y="469"/>
                    </a:lnTo>
                    <a:lnTo>
                      <a:pt x="585" y="471"/>
                    </a:lnTo>
                    <a:lnTo>
                      <a:pt x="583" y="475"/>
                    </a:lnTo>
                    <a:lnTo>
                      <a:pt x="583" y="477"/>
                    </a:lnTo>
                    <a:lnTo>
                      <a:pt x="582" y="481"/>
                    </a:lnTo>
                    <a:lnTo>
                      <a:pt x="582" y="483"/>
                    </a:lnTo>
                    <a:lnTo>
                      <a:pt x="581" y="486"/>
                    </a:lnTo>
                    <a:lnTo>
                      <a:pt x="580" y="487"/>
                    </a:lnTo>
                    <a:lnTo>
                      <a:pt x="578" y="489"/>
                    </a:lnTo>
                    <a:lnTo>
                      <a:pt x="577" y="489"/>
                    </a:lnTo>
                    <a:lnTo>
                      <a:pt x="575" y="489"/>
                    </a:lnTo>
                    <a:lnTo>
                      <a:pt x="575" y="489"/>
                    </a:lnTo>
                    <a:lnTo>
                      <a:pt x="574" y="489"/>
                    </a:lnTo>
                    <a:lnTo>
                      <a:pt x="574" y="489"/>
                    </a:lnTo>
                    <a:lnTo>
                      <a:pt x="572" y="489"/>
                    </a:lnTo>
                    <a:lnTo>
                      <a:pt x="572" y="489"/>
                    </a:lnTo>
                    <a:lnTo>
                      <a:pt x="571" y="489"/>
                    </a:lnTo>
                    <a:lnTo>
                      <a:pt x="571" y="487"/>
                    </a:lnTo>
                    <a:lnTo>
                      <a:pt x="569" y="487"/>
                    </a:lnTo>
                    <a:lnTo>
                      <a:pt x="568" y="487"/>
                    </a:lnTo>
                    <a:lnTo>
                      <a:pt x="566" y="487"/>
                    </a:lnTo>
                    <a:lnTo>
                      <a:pt x="566" y="485"/>
                    </a:lnTo>
                    <a:lnTo>
                      <a:pt x="564" y="485"/>
                    </a:lnTo>
                    <a:lnTo>
                      <a:pt x="564" y="485"/>
                    </a:lnTo>
                    <a:lnTo>
                      <a:pt x="562" y="485"/>
                    </a:lnTo>
                    <a:lnTo>
                      <a:pt x="562" y="483"/>
                    </a:lnTo>
                    <a:lnTo>
                      <a:pt x="559" y="483"/>
                    </a:lnTo>
                    <a:lnTo>
                      <a:pt x="557" y="483"/>
                    </a:lnTo>
                    <a:lnTo>
                      <a:pt x="553" y="483"/>
                    </a:lnTo>
                    <a:lnTo>
                      <a:pt x="551" y="483"/>
                    </a:lnTo>
                    <a:lnTo>
                      <a:pt x="547" y="483"/>
                    </a:lnTo>
                    <a:lnTo>
                      <a:pt x="544" y="483"/>
                    </a:lnTo>
                    <a:lnTo>
                      <a:pt x="540" y="483"/>
                    </a:lnTo>
                    <a:lnTo>
                      <a:pt x="538" y="483"/>
                    </a:lnTo>
                    <a:lnTo>
                      <a:pt x="534" y="483"/>
                    </a:lnTo>
                    <a:lnTo>
                      <a:pt x="531" y="483"/>
                    </a:lnTo>
                    <a:lnTo>
                      <a:pt x="527" y="483"/>
                    </a:lnTo>
                    <a:lnTo>
                      <a:pt x="524" y="483"/>
                    </a:lnTo>
                    <a:lnTo>
                      <a:pt x="520" y="483"/>
                    </a:lnTo>
                    <a:lnTo>
                      <a:pt x="518" y="483"/>
                    </a:lnTo>
                    <a:lnTo>
                      <a:pt x="515" y="483"/>
                    </a:lnTo>
                    <a:lnTo>
                      <a:pt x="514" y="483"/>
                    </a:lnTo>
                    <a:lnTo>
                      <a:pt x="511" y="483"/>
                    </a:lnTo>
                    <a:lnTo>
                      <a:pt x="509" y="483"/>
                    </a:lnTo>
                    <a:lnTo>
                      <a:pt x="507" y="483"/>
                    </a:lnTo>
                    <a:lnTo>
                      <a:pt x="505" y="483"/>
                    </a:lnTo>
                    <a:lnTo>
                      <a:pt x="501" y="483"/>
                    </a:lnTo>
                    <a:lnTo>
                      <a:pt x="499" y="483"/>
                    </a:lnTo>
                    <a:lnTo>
                      <a:pt x="497" y="483"/>
                    </a:lnTo>
                    <a:lnTo>
                      <a:pt x="496" y="481"/>
                    </a:lnTo>
                    <a:lnTo>
                      <a:pt x="492" y="481"/>
                    </a:lnTo>
                    <a:lnTo>
                      <a:pt x="490" y="481"/>
                    </a:lnTo>
                    <a:lnTo>
                      <a:pt x="488" y="481"/>
                    </a:lnTo>
                    <a:lnTo>
                      <a:pt x="486" y="479"/>
                    </a:lnTo>
                    <a:lnTo>
                      <a:pt x="484" y="479"/>
                    </a:lnTo>
                    <a:lnTo>
                      <a:pt x="482" y="479"/>
                    </a:lnTo>
                    <a:lnTo>
                      <a:pt x="480" y="479"/>
                    </a:lnTo>
                    <a:lnTo>
                      <a:pt x="479" y="477"/>
                    </a:lnTo>
                    <a:lnTo>
                      <a:pt x="477" y="477"/>
                    </a:lnTo>
                    <a:lnTo>
                      <a:pt x="475" y="477"/>
                    </a:lnTo>
                    <a:lnTo>
                      <a:pt x="473" y="477"/>
                    </a:lnTo>
                    <a:lnTo>
                      <a:pt x="473" y="477"/>
                    </a:lnTo>
                    <a:lnTo>
                      <a:pt x="471" y="477"/>
                    </a:lnTo>
                    <a:lnTo>
                      <a:pt x="469" y="477"/>
                    </a:lnTo>
                    <a:lnTo>
                      <a:pt x="467" y="477"/>
                    </a:lnTo>
                    <a:lnTo>
                      <a:pt x="467" y="477"/>
                    </a:lnTo>
                    <a:lnTo>
                      <a:pt x="465" y="477"/>
                    </a:lnTo>
                    <a:lnTo>
                      <a:pt x="463" y="477"/>
                    </a:lnTo>
                    <a:lnTo>
                      <a:pt x="461" y="477"/>
                    </a:lnTo>
                    <a:lnTo>
                      <a:pt x="461" y="477"/>
                    </a:lnTo>
                    <a:lnTo>
                      <a:pt x="459" y="477"/>
                    </a:lnTo>
                    <a:lnTo>
                      <a:pt x="457" y="477"/>
                    </a:lnTo>
                    <a:lnTo>
                      <a:pt x="456" y="477"/>
                    </a:lnTo>
                    <a:lnTo>
                      <a:pt x="456" y="477"/>
                    </a:lnTo>
                    <a:lnTo>
                      <a:pt x="452" y="477"/>
                    </a:lnTo>
                    <a:lnTo>
                      <a:pt x="450" y="477"/>
                    </a:lnTo>
                    <a:lnTo>
                      <a:pt x="446" y="477"/>
                    </a:lnTo>
                    <a:lnTo>
                      <a:pt x="445" y="477"/>
                    </a:lnTo>
                    <a:lnTo>
                      <a:pt x="441" y="477"/>
                    </a:lnTo>
                    <a:lnTo>
                      <a:pt x="437" y="477"/>
                    </a:lnTo>
                    <a:lnTo>
                      <a:pt x="433" y="477"/>
                    </a:lnTo>
                    <a:lnTo>
                      <a:pt x="431" y="477"/>
                    </a:lnTo>
                    <a:lnTo>
                      <a:pt x="428" y="477"/>
                    </a:lnTo>
                    <a:lnTo>
                      <a:pt x="424" y="477"/>
                    </a:lnTo>
                    <a:lnTo>
                      <a:pt x="420" y="477"/>
                    </a:lnTo>
                    <a:lnTo>
                      <a:pt x="417" y="477"/>
                    </a:lnTo>
                    <a:lnTo>
                      <a:pt x="413" y="477"/>
                    </a:lnTo>
                    <a:lnTo>
                      <a:pt x="411" y="477"/>
                    </a:lnTo>
                    <a:lnTo>
                      <a:pt x="409" y="477"/>
                    </a:lnTo>
                    <a:lnTo>
                      <a:pt x="407" y="477"/>
                    </a:lnTo>
                    <a:lnTo>
                      <a:pt x="403" y="479"/>
                    </a:lnTo>
                    <a:lnTo>
                      <a:pt x="401" y="479"/>
                    </a:lnTo>
                    <a:lnTo>
                      <a:pt x="397" y="479"/>
                    </a:lnTo>
                    <a:lnTo>
                      <a:pt x="394" y="479"/>
                    </a:lnTo>
                    <a:lnTo>
                      <a:pt x="389" y="480"/>
                    </a:lnTo>
                    <a:lnTo>
                      <a:pt x="386" y="480"/>
                    </a:lnTo>
                    <a:lnTo>
                      <a:pt x="382" y="480"/>
                    </a:lnTo>
                    <a:lnTo>
                      <a:pt x="378" y="480"/>
                    </a:lnTo>
                    <a:lnTo>
                      <a:pt x="374" y="481"/>
                    </a:lnTo>
                    <a:lnTo>
                      <a:pt x="370" y="481"/>
                    </a:lnTo>
                    <a:lnTo>
                      <a:pt x="367" y="481"/>
                    </a:lnTo>
                    <a:lnTo>
                      <a:pt x="363" y="481"/>
                    </a:lnTo>
                    <a:lnTo>
                      <a:pt x="359" y="481"/>
                    </a:lnTo>
                    <a:lnTo>
                      <a:pt x="357" y="480"/>
                    </a:lnTo>
                    <a:lnTo>
                      <a:pt x="355" y="479"/>
                    </a:lnTo>
                    <a:lnTo>
                      <a:pt x="355" y="477"/>
                    </a:lnTo>
                    <a:lnTo>
                      <a:pt x="354" y="477"/>
                    </a:lnTo>
                    <a:lnTo>
                      <a:pt x="354" y="475"/>
                    </a:lnTo>
                    <a:lnTo>
                      <a:pt x="355" y="473"/>
                    </a:lnTo>
                    <a:lnTo>
                      <a:pt x="357" y="471"/>
                    </a:lnTo>
                    <a:lnTo>
                      <a:pt x="358" y="469"/>
                    </a:lnTo>
                    <a:lnTo>
                      <a:pt x="360" y="467"/>
                    </a:lnTo>
                    <a:lnTo>
                      <a:pt x="362" y="466"/>
                    </a:lnTo>
                    <a:lnTo>
                      <a:pt x="366" y="464"/>
                    </a:lnTo>
                    <a:lnTo>
                      <a:pt x="368" y="463"/>
                    </a:lnTo>
                    <a:lnTo>
                      <a:pt x="370" y="461"/>
                    </a:lnTo>
                    <a:lnTo>
                      <a:pt x="372" y="459"/>
                    </a:lnTo>
                    <a:lnTo>
                      <a:pt x="376" y="457"/>
                    </a:lnTo>
                    <a:lnTo>
                      <a:pt x="378" y="457"/>
                    </a:lnTo>
                    <a:lnTo>
                      <a:pt x="379" y="455"/>
                    </a:lnTo>
                    <a:lnTo>
                      <a:pt x="381" y="453"/>
                    </a:lnTo>
                    <a:lnTo>
                      <a:pt x="384" y="451"/>
                    </a:lnTo>
                    <a:lnTo>
                      <a:pt x="384" y="451"/>
                    </a:lnTo>
                    <a:lnTo>
                      <a:pt x="385" y="449"/>
                    </a:lnTo>
                    <a:lnTo>
                      <a:pt x="385" y="449"/>
                    </a:lnTo>
                    <a:lnTo>
                      <a:pt x="387" y="447"/>
                    </a:lnTo>
                    <a:lnTo>
                      <a:pt x="387" y="447"/>
                    </a:lnTo>
                    <a:lnTo>
                      <a:pt x="389" y="446"/>
                    </a:lnTo>
                    <a:lnTo>
                      <a:pt x="391" y="446"/>
                    </a:lnTo>
                    <a:lnTo>
                      <a:pt x="393" y="444"/>
                    </a:lnTo>
                    <a:lnTo>
                      <a:pt x="393" y="444"/>
                    </a:lnTo>
                    <a:lnTo>
                      <a:pt x="395" y="443"/>
                    </a:lnTo>
                    <a:lnTo>
                      <a:pt x="395" y="443"/>
                    </a:lnTo>
                    <a:lnTo>
                      <a:pt x="397" y="441"/>
                    </a:lnTo>
                    <a:lnTo>
                      <a:pt x="397" y="441"/>
                    </a:lnTo>
                    <a:lnTo>
                      <a:pt x="398" y="439"/>
                    </a:lnTo>
                    <a:lnTo>
                      <a:pt x="398" y="439"/>
                    </a:lnTo>
                    <a:lnTo>
                      <a:pt x="398" y="437"/>
                    </a:lnTo>
                    <a:lnTo>
                      <a:pt x="397" y="437"/>
                    </a:lnTo>
                    <a:lnTo>
                      <a:pt x="395" y="437"/>
                    </a:lnTo>
                    <a:lnTo>
                      <a:pt x="392" y="438"/>
                    </a:lnTo>
                    <a:lnTo>
                      <a:pt x="390" y="438"/>
                    </a:lnTo>
                    <a:lnTo>
                      <a:pt x="387" y="439"/>
                    </a:lnTo>
                    <a:lnTo>
                      <a:pt x="383" y="441"/>
                    </a:lnTo>
                    <a:lnTo>
                      <a:pt x="379" y="443"/>
                    </a:lnTo>
                    <a:lnTo>
                      <a:pt x="377" y="443"/>
                    </a:lnTo>
                    <a:lnTo>
                      <a:pt x="371" y="445"/>
                    </a:lnTo>
                    <a:lnTo>
                      <a:pt x="368" y="446"/>
                    </a:lnTo>
                    <a:lnTo>
                      <a:pt x="364" y="448"/>
                    </a:lnTo>
                    <a:lnTo>
                      <a:pt x="360" y="449"/>
                    </a:lnTo>
                    <a:lnTo>
                      <a:pt x="357" y="451"/>
                    </a:lnTo>
                    <a:lnTo>
                      <a:pt x="353" y="451"/>
                    </a:lnTo>
                    <a:lnTo>
                      <a:pt x="351" y="451"/>
                    </a:lnTo>
                    <a:lnTo>
                      <a:pt x="349" y="451"/>
                    </a:lnTo>
                    <a:lnTo>
                      <a:pt x="347" y="451"/>
                    </a:lnTo>
                    <a:lnTo>
                      <a:pt x="347" y="451"/>
                    </a:lnTo>
                    <a:lnTo>
                      <a:pt x="346" y="451"/>
                    </a:lnTo>
                    <a:lnTo>
                      <a:pt x="346" y="449"/>
                    </a:lnTo>
                    <a:lnTo>
                      <a:pt x="344" y="449"/>
                    </a:lnTo>
                    <a:lnTo>
                      <a:pt x="344" y="449"/>
                    </a:lnTo>
                    <a:lnTo>
                      <a:pt x="344" y="449"/>
                    </a:lnTo>
                    <a:lnTo>
                      <a:pt x="344" y="447"/>
                    </a:lnTo>
                    <a:lnTo>
                      <a:pt x="342" y="447"/>
                    </a:lnTo>
                    <a:lnTo>
                      <a:pt x="342" y="447"/>
                    </a:lnTo>
                    <a:lnTo>
                      <a:pt x="342" y="447"/>
                    </a:lnTo>
                    <a:lnTo>
                      <a:pt x="342" y="445"/>
                    </a:lnTo>
                    <a:lnTo>
                      <a:pt x="340" y="445"/>
                    </a:lnTo>
                    <a:lnTo>
                      <a:pt x="340" y="445"/>
                    </a:lnTo>
                    <a:lnTo>
                      <a:pt x="340" y="445"/>
                    </a:lnTo>
                    <a:lnTo>
                      <a:pt x="340" y="443"/>
                    </a:lnTo>
                    <a:lnTo>
                      <a:pt x="338" y="443"/>
                    </a:lnTo>
                    <a:lnTo>
                      <a:pt x="338" y="442"/>
                    </a:lnTo>
                    <a:lnTo>
                      <a:pt x="337" y="442"/>
                    </a:lnTo>
                    <a:lnTo>
                      <a:pt x="337" y="440"/>
                    </a:lnTo>
                    <a:lnTo>
                      <a:pt x="335" y="439"/>
                    </a:lnTo>
                    <a:lnTo>
                      <a:pt x="335" y="437"/>
                    </a:lnTo>
                    <a:lnTo>
                      <a:pt x="334" y="435"/>
                    </a:lnTo>
                    <a:lnTo>
                      <a:pt x="334" y="433"/>
                    </a:lnTo>
                    <a:lnTo>
                      <a:pt x="332" y="433"/>
                    </a:lnTo>
                    <a:lnTo>
                      <a:pt x="332" y="431"/>
                    </a:lnTo>
                    <a:lnTo>
                      <a:pt x="331" y="429"/>
                    </a:lnTo>
                    <a:lnTo>
                      <a:pt x="331" y="428"/>
                    </a:lnTo>
                    <a:lnTo>
                      <a:pt x="329" y="428"/>
                    </a:lnTo>
                    <a:lnTo>
                      <a:pt x="329" y="426"/>
                    </a:lnTo>
                    <a:lnTo>
                      <a:pt x="329" y="425"/>
                    </a:lnTo>
                    <a:lnTo>
                      <a:pt x="329" y="423"/>
                    </a:lnTo>
                    <a:lnTo>
                      <a:pt x="325" y="423"/>
                    </a:lnTo>
                    <a:lnTo>
                      <a:pt x="323" y="423"/>
                    </a:lnTo>
                    <a:lnTo>
                      <a:pt x="320" y="423"/>
                    </a:lnTo>
                    <a:lnTo>
                      <a:pt x="318" y="423"/>
                    </a:lnTo>
                    <a:lnTo>
                      <a:pt x="314" y="425"/>
                    </a:lnTo>
                    <a:lnTo>
                      <a:pt x="311" y="425"/>
                    </a:lnTo>
                    <a:lnTo>
                      <a:pt x="307" y="425"/>
                    </a:lnTo>
                    <a:lnTo>
                      <a:pt x="305" y="425"/>
                    </a:lnTo>
                    <a:lnTo>
                      <a:pt x="301" y="426"/>
                    </a:lnTo>
                    <a:lnTo>
                      <a:pt x="299" y="426"/>
                    </a:lnTo>
                    <a:lnTo>
                      <a:pt x="295" y="426"/>
                    </a:lnTo>
                    <a:lnTo>
                      <a:pt x="293" y="426"/>
                    </a:lnTo>
                    <a:lnTo>
                      <a:pt x="290" y="426"/>
                    </a:lnTo>
                    <a:lnTo>
                      <a:pt x="289" y="425"/>
                    </a:lnTo>
                    <a:lnTo>
                      <a:pt x="287" y="425"/>
                    </a:lnTo>
                    <a:lnTo>
                      <a:pt x="285" y="423"/>
                    </a:lnTo>
                    <a:lnTo>
                      <a:pt x="283" y="422"/>
                    </a:lnTo>
                    <a:lnTo>
                      <a:pt x="281" y="420"/>
                    </a:lnTo>
                    <a:lnTo>
                      <a:pt x="279" y="418"/>
                    </a:lnTo>
                    <a:lnTo>
                      <a:pt x="279" y="415"/>
                    </a:lnTo>
                    <a:lnTo>
                      <a:pt x="277" y="413"/>
                    </a:lnTo>
                    <a:lnTo>
                      <a:pt x="277" y="409"/>
                    </a:lnTo>
                    <a:lnTo>
                      <a:pt x="276" y="406"/>
                    </a:lnTo>
                    <a:lnTo>
                      <a:pt x="276" y="402"/>
                    </a:lnTo>
                    <a:lnTo>
                      <a:pt x="274" y="400"/>
                    </a:lnTo>
                    <a:lnTo>
                      <a:pt x="274" y="397"/>
                    </a:lnTo>
                    <a:lnTo>
                      <a:pt x="273" y="395"/>
                    </a:lnTo>
                    <a:lnTo>
                      <a:pt x="273" y="391"/>
                    </a:lnTo>
                    <a:lnTo>
                      <a:pt x="272" y="389"/>
                    </a:lnTo>
                    <a:lnTo>
                      <a:pt x="272" y="387"/>
                    </a:lnTo>
                    <a:lnTo>
                      <a:pt x="271" y="387"/>
                    </a:lnTo>
                    <a:lnTo>
                      <a:pt x="271" y="385"/>
                    </a:lnTo>
                    <a:lnTo>
                      <a:pt x="269" y="387"/>
                    </a:lnTo>
                    <a:lnTo>
                      <a:pt x="267" y="387"/>
                    </a:lnTo>
                    <a:lnTo>
                      <a:pt x="265" y="389"/>
                    </a:lnTo>
                    <a:lnTo>
                      <a:pt x="265" y="391"/>
                    </a:lnTo>
                    <a:lnTo>
                      <a:pt x="263" y="395"/>
                    </a:lnTo>
                    <a:lnTo>
                      <a:pt x="263" y="398"/>
                    </a:lnTo>
                    <a:lnTo>
                      <a:pt x="263" y="402"/>
                    </a:lnTo>
                    <a:lnTo>
                      <a:pt x="263" y="404"/>
                    </a:lnTo>
                    <a:lnTo>
                      <a:pt x="262" y="408"/>
                    </a:lnTo>
                    <a:lnTo>
                      <a:pt x="262" y="411"/>
                    </a:lnTo>
                    <a:lnTo>
                      <a:pt x="261" y="415"/>
                    </a:lnTo>
                    <a:lnTo>
                      <a:pt x="261" y="418"/>
                    </a:lnTo>
                    <a:lnTo>
                      <a:pt x="259" y="420"/>
                    </a:lnTo>
                    <a:lnTo>
                      <a:pt x="259" y="422"/>
                    </a:lnTo>
                    <a:lnTo>
                      <a:pt x="257" y="423"/>
                    </a:lnTo>
                    <a:lnTo>
                      <a:pt x="257" y="423"/>
                    </a:lnTo>
                    <a:lnTo>
                      <a:pt x="255" y="423"/>
                    </a:lnTo>
                    <a:lnTo>
                      <a:pt x="255" y="423"/>
                    </a:lnTo>
                    <a:lnTo>
                      <a:pt x="253" y="423"/>
                    </a:lnTo>
                    <a:lnTo>
                      <a:pt x="253" y="422"/>
                    </a:lnTo>
                    <a:lnTo>
                      <a:pt x="252" y="422"/>
                    </a:lnTo>
                    <a:lnTo>
                      <a:pt x="252" y="422"/>
                    </a:lnTo>
                    <a:lnTo>
                      <a:pt x="251" y="422"/>
                    </a:lnTo>
                    <a:lnTo>
                      <a:pt x="251" y="420"/>
                    </a:lnTo>
                    <a:lnTo>
                      <a:pt x="249" y="420"/>
                    </a:lnTo>
                    <a:lnTo>
                      <a:pt x="249" y="420"/>
                    </a:lnTo>
                    <a:lnTo>
                      <a:pt x="249" y="420"/>
                    </a:lnTo>
                    <a:lnTo>
                      <a:pt x="249" y="418"/>
                    </a:lnTo>
                    <a:lnTo>
                      <a:pt x="248" y="418"/>
                    </a:lnTo>
                    <a:lnTo>
                      <a:pt x="248" y="418"/>
                    </a:lnTo>
                    <a:lnTo>
                      <a:pt x="248" y="418"/>
                    </a:lnTo>
                    <a:lnTo>
                      <a:pt x="248" y="417"/>
                    </a:lnTo>
                    <a:lnTo>
                      <a:pt x="246" y="416"/>
                    </a:lnTo>
                    <a:lnTo>
                      <a:pt x="244" y="414"/>
                    </a:lnTo>
                    <a:lnTo>
                      <a:pt x="242" y="412"/>
                    </a:lnTo>
                    <a:lnTo>
                      <a:pt x="242" y="409"/>
                    </a:lnTo>
                    <a:lnTo>
                      <a:pt x="241" y="407"/>
                    </a:lnTo>
                    <a:lnTo>
                      <a:pt x="241" y="404"/>
                    </a:lnTo>
                    <a:lnTo>
                      <a:pt x="239" y="402"/>
                    </a:lnTo>
                    <a:lnTo>
                      <a:pt x="239" y="398"/>
                    </a:lnTo>
                    <a:lnTo>
                      <a:pt x="237" y="397"/>
                    </a:lnTo>
                    <a:lnTo>
                      <a:pt x="235" y="395"/>
                    </a:lnTo>
                    <a:lnTo>
                      <a:pt x="233" y="393"/>
                    </a:lnTo>
                    <a:lnTo>
                      <a:pt x="233" y="389"/>
                    </a:lnTo>
                    <a:lnTo>
                      <a:pt x="231" y="389"/>
                    </a:lnTo>
                    <a:lnTo>
                      <a:pt x="230" y="387"/>
                    </a:lnTo>
                    <a:lnTo>
                      <a:pt x="228" y="387"/>
                    </a:lnTo>
                    <a:lnTo>
                      <a:pt x="228" y="385"/>
                    </a:lnTo>
                    <a:lnTo>
                      <a:pt x="226" y="387"/>
                    </a:lnTo>
                    <a:lnTo>
                      <a:pt x="225" y="387"/>
                    </a:lnTo>
                    <a:lnTo>
                      <a:pt x="223" y="388"/>
                    </a:lnTo>
                    <a:lnTo>
                      <a:pt x="223" y="388"/>
                    </a:lnTo>
                    <a:lnTo>
                      <a:pt x="221" y="390"/>
                    </a:lnTo>
                    <a:lnTo>
                      <a:pt x="221" y="391"/>
                    </a:lnTo>
                    <a:lnTo>
                      <a:pt x="219" y="393"/>
                    </a:lnTo>
                    <a:lnTo>
                      <a:pt x="219" y="393"/>
                    </a:lnTo>
                    <a:lnTo>
                      <a:pt x="217" y="395"/>
                    </a:lnTo>
                    <a:lnTo>
                      <a:pt x="217" y="397"/>
                    </a:lnTo>
                    <a:lnTo>
                      <a:pt x="215" y="399"/>
                    </a:lnTo>
                    <a:lnTo>
                      <a:pt x="215" y="400"/>
                    </a:lnTo>
                    <a:lnTo>
                      <a:pt x="213" y="402"/>
                    </a:lnTo>
                    <a:lnTo>
                      <a:pt x="213" y="403"/>
                    </a:lnTo>
                    <a:lnTo>
                      <a:pt x="213" y="405"/>
                    </a:lnTo>
                    <a:lnTo>
                      <a:pt x="213" y="405"/>
                    </a:lnTo>
                    <a:lnTo>
                      <a:pt x="212" y="407"/>
                    </a:lnTo>
                    <a:lnTo>
                      <a:pt x="211" y="409"/>
                    </a:lnTo>
                    <a:lnTo>
                      <a:pt x="209" y="411"/>
                    </a:lnTo>
                    <a:lnTo>
                      <a:pt x="209" y="413"/>
                    </a:lnTo>
                    <a:lnTo>
                      <a:pt x="207" y="416"/>
                    </a:lnTo>
                    <a:lnTo>
                      <a:pt x="207" y="418"/>
                    </a:lnTo>
                    <a:lnTo>
                      <a:pt x="205" y="420"/>
                    </a:lnTo>
                    <a:lnTo>
                      <a:pt x="205" y="422"/>
                    </a:lnTo>
                    <a:lnTo>
                      <a:pt x="203" y="426"/>
                    </a:lnTo>
                    <a:lnTo>
                      <a:pt x="203" y="428"/>
                    </a:lnTo>
                    <a:lnTo>
                      <a:pt x="202" y="429"/>
                    </a:lnTo>
                    <a:lnTo>
                      <a:pt x="202" y="431"/>
                    </a:lnTo>
                    <a:lnTo>
                      <a:pt x="200" y="433"/>
                    </a:lnTo>
                    <a:lnTo>
                      <a:pt x="200" y="435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6" y="439"/>
                    </a:lnTo>
                    <a:lnTo>
                      <a:pt x="194" y="439"/>
                    </a:lnTo>
                    <a:lnTo>
                      <a:pt x="192" y="441"/>
                    </a:lnTo>
                    <a:lnTo>
                      <a:pt x="190" y="441"/>
                    </a:lnTo>
                    <a:lnTo>
                      <a:pt x="186" y="442"/>
                    </a:lnTo>
                    <a:lnTo>
                      <a:pt x="183" y="442"/>
                    </a:lnTo>
                    <a:lnTo>
                      <a:pt x="179" y="442"/>
                    </a:lnTo>
                    <a:lnTo>
                      <a:pt x="177" y="442"/>
                    </a:lnTo>
                    <a:lnTo>
                      <a:pt x="174" y="442"/>
                    </a:lnTo>
                    <a:lnTo>
                      <a:pt x="170" y="442"/>
                    </a:lnTo>
                    <a:lnTo>
                      <a:pt x="166" y="442"/>
                    </a:lnTo>
                    <a:lnTo>
                      <a:pt x="164" y="441"/>
                    </a:lnTo>
                    <a:lnTo>
                      <a:pt x="161" y="441"/>
                    </a:lnTo>
                    <a:lnTo>
                      <a:pt x="159" y="439"/>
                    </a:lnTo>
                    <a:lnTo>
                      <a:pt x="157" y="439"/>
                    </a:lnTo>
                    <a:lnTo>
                      <a:pt x="155" y="437"/>
                    </a:lnTo>
                    <a:lnTo>
                      <a:pt x="154" y="436"/>
                    </a:lnTo>
                    <a:lnTo>
                      <a:pt x="152" y="435"/>
                    </a:lnTo>
                    <a:lnTo>
                      <a:pt x="150" y="433"/>
                    </a:lnTo>
                    <a:lnTo>
                      <a:pt x="149" y="430"/>
                    </a:lnTo>
                    <a:lnTo>
                      <a:pt x="147" y="428"/>
                    </a:lnTo>
                    <a:lnTo>
                      <a:pt x="147" y="425"/>
                    </a:lnTo>
                    <a:lnTo>
                      <a:pt x="145" y="422"/>
                    </a:lnTo>
                    <a:lnTo>
                      <a:pt x="145" y="418"/>
                    </a:lnTo>
                    <a:lnTo>
                      <a:pt x="144" y="416"/>
                    </a:lnTo>
                    <a:lnTo>
                      <a:pt x="144" y="414"/>
                    </a:lnTo>
                    <a:lnTo>
                      <a:pt x="143" y="412"/>
                    </a:lnTo>
                    <a:lnTo>
                      <a:pt x="143" y="409"/>
                    </a:lnTo>
                    <a:lnTo>
                      <a:pt x="141" y="408"/>
                    </a:lnTo>
                    <a:lnTo>
                      <a:pt x="141" y="407"/>
                    </a:lnTo>
                    <a:lnTo>
                      <a:pt x="141" y="407"/>
                    </a:lnTo>
                    <a:lnTo>
                      <a:pt x="141" y="405"/>
                    </a:lnTo>
                    <a:lnTo>
                      <a:pt x="141" y="407"/>
                    </a:lnTo>
                    <a:lnTo>
                      <a:pt x="141" y="407"/>
                    </a:lnTo>
                    <a:lnTo>
                      <a:pt x="141" y="409"/>
                    </a:lnTo>
                    <a:lnTo>
                      <a:pt x="143" y="409"/>
                    </a:lnTo>
                    <a:lnTo>
                      <a:pt x="143" y="411"/>
                    </a:lnTo>
                    <a:lnTo>
                      <a:pt x="144" y="413"/>
                    </a:lnTo>
                    <a:lnTo>
                      <a:pt x="144" y="415"/>
                    </a:lnTo>
                    <a:lnTo>
                      <a:pt x="145" y="417"/>
                    </a:lnTo>
                    <a:lnTo>
                      <a:pt x="145" y="420"/>
                    </a:lnTo>
                    <a:lnTo>
                      <a:pt x="146" y="422"/>
                    </a:lnTo>
                    <a:lnTo>
                      <a:pt x="146" y="424"/>
                    </a:lnTo>
                    <a:lnTo>
                      <a:pt x="147" y="426"/>
                    </a:lnTo>
                    <a:lnTo>
                      <a:pt x="147" y="428"/>
                    </a:lnTo>
                    <a:lnTo>
                      <a:pt x="147" y="429"/>
                    </a:lnTo>
                    <a:lnTo>
                      <a:pt x="147" y="431"/>
                    </a:lnTo>
                    <a:lnTo>
                      <a:pt x="147" y="431"/>
                    </a:lnTo>
                    <a:lnTo>
                      <a:pt x="145" y="433"/>
                    </a:lnTo>
                    <a:lnTo>
                      <a:pt x="144" y="434"/>
                    </a:lnTo>
                    <a:lnTo>
                      <a:pt x="143" y="435"/>
                    </a:lnTo>
                    <a:lnTo>
                      <a:pt x="141" y="435"/>
                    </a:lnTo>
                    <a:lnTo>
                      <a:pt x="137" y="436"/>
                    </a:lnTo>
                    <a:lnTo>
                      <a:pt x="135" y="436"/>
                    </a:lnTo>
                    <a:lnTo>
                      <a:pt x="133" y="436"/>
                    </a:lnTo>
                    <a:lnTo>
                      <a:pt x="131" y="436"/>
                    </a:lnTo>
                    <a:lnTo>
                      <a:pt x="127" y="436"/>
                    </a:lnTo>
                    <a:lnTo>
                      <a:pt x="125" y="436"/>
                    </a:lnTo>
                    <a:lnTo>
                      <a:pt x="123" y="436"/>
                    </a:lnTo>
                    <a:lnTo>
                      <a:pt x="121" y="435"/>
                    </a:lnTo>
                    <a:lnTo>
                      <a:pt x="117" y="435"/>
                    </a:lnTo>
                    <a:lnTo>
                      <a:pt x="116" y="434"/>
                    </a:lnTo>
                    <a:lnTo>
                      <a:pt x="114" y="433"/>
                    </a:lnTo>
                    <a:lnTo>
                      <a:pt x="113" y="431"/>
                    </a:lnTo>
                    <a:lnTo>
                      <a:pt x="111" y="430"/>
                    </a:lnTo>
                    <a:lnTo>
                      <a:pt x="110" y="428"/>
                    </a:lnTo>
                    <a:lnTo>
                      <a:pt x="110" y="426"/>
                    </a:lnTo>
                    <a:lnTo>
                      <a:pt x="110" y="423"/>
                    </a:lnTo>
                    <a:lnTo>
                      <a:pt x="110" y="421"/>
                    </a:lnTo>
                    <a:lnTo>
                      <a:pt x="111" y="417"/>
                    </a:lnTo>
                    <a:lnTo>
                      <a:pt x="111" y="413"/>
                    </a:lnTo>
                    <a:lnTo>
                      <a:pt x="113" y="409"/>
                    </a:lnTo>
                    <a:lnTo>
                      <a:pt x="113" y="408"/>
                    </a:lnTo>
                    <a:lnTo>
                      <a:pt x="113" y="404"/>
                    </a:lnTo>
                    <a:lnTo>
                      <a:pt x="113" y="402"/>
                    </a:lnTo>
                    <a:lnTo>
                      <a:pt x="114" y="398"/>
                    </a:lnTo>
                    <a:lnTo>
                      <a:pt x="114" y="397"/>
                    </a:lnTo>
                    <a:lnTo>
                      <a:pt x="114" y="394"/>
                    </a:lnTo>
                    <a:lnTo>
                      <a:pt x="113" y="393"/>
                    </a:lnTo>
                    <a:lnTo>
                      <a:pt x="113" y="391"/>
                    </a:lnTo>
                    <a:lnTo>
                      <a:pt x="111" y="391"/>
                    </a:lnTo>
                    <a:lnTo>
                      <a:pt x="110" y="391"/>
                    </a:lnTo>
                    <a:lnTo>
                      <a:pt x="108" y="391"/>
                    </a:lnTo>
                    <a:lnTo>
                      <a:pt x="108" y="391"/>
                    </a:lnTo>
                    <a:lnTo>
                      <a:pt x="106" y="393"/>
                    </a:lnTo>
                    <a:lnTo>
                      <a:pt x="106" y="393"/>
                    </a:lnTo>
                    <a:lnTo>
                      <a:pt x="104" y="393"/>
                    </a:lnTo>
                    <a:lnTo>
                      <a:pt x="104" y="393"/>
                    </a:lnTo>
                    <a:lnTo>
                      <a:pt x="103" y="395"/>
                    </a:lnTo>
                    <a:lnTo>
                      <a:pt x="103" y="395"/>
                    </a:lnTo>
                    <a:lnTo>
                      <a:pt x="101" y="397"/>
                    </a:lnTo>
                    <a:lnTo>
                      <a:pt x="101" y="397"/>
                    </a:lnTo>
                    <a:lnTo>
                      <a:pt x="99" y="397"/>
                    </a:lnTo>
                    <a:lnTo>
                      <a:pt x="99" y="397"/>
                    </a:lnTo>
                    <a:lnTo>
                      <a:pt x="98" y="397"/>
                    </a:lnTo>
                    <a:lnTo>
                      <a:pt x="98" y="397"/>
                    </a:lnTo>
                    <a:lnTo>
                      <a:pt x="94" y="397"/>
                    </a:lnTo>
                    <a:lnTo>
                      <a:pt x="93" y="397"/>
                    </a:lnTo>
                    <a:lnTo>
                      <a:pt x="89" y="397"/>
                    </a:lnTo>
                    <a:lnTo>
                      <a:pt x="87" y="397"/>
                    </a:lnTo>
                    <a:lnTo>
                      <a:pt x="83" y="397"/>
                    </a:lnTo>
                    <a:lnTo>
                      <a:pt x="80" y="396"/>
                    </a:lnTo>
                    <a:lnTo>
                      <a:pt x="76" y="396"/>
                    </a:lnTo>
                    <a:lnTo>
                      <a:pt x="75" y="394"/>
                    </a:lnTo>
                    <a:lnTo>
                      <a:pt x="71" y="394"/>
                    </a:lnTo>
                    <a:lnTo>
                      <a:pt x="68" y="392"/>
                    </a:lnTo>
                    <a:lnTo>
                      <a:pt x="65" y="392"/>
                    </a:lnTo>
                    <a:lnTo>
                      <a:pt x="63" y="390"/>
                    </a:lnTo>
                    <a:lnTo>
                      <a:pt x="59" y="390"/>
                    </a:lnTo>
                    <a:lnTo>
                      <a:pt x="57" y="388"/>
                    </a:lnTo>
                    <a:lnTo>
                      <a:pt x="56" y="387"/>
                    </a:lnTo>
                    <a:lnTo>
                      <a:pt x="55" y="385"/>
                    </a:lnTo>
                    <a:lnTo>
                      <a:pt x="52" y="383"/>
                    </a:lnTo>
                    <a:lnTo>
                      <a:pt x="50" y="381"/>
                    </a:lnTo>
                    <a:lnTo>
                      <a:pt x="48" y="378"/>
                    </a:lnTo>
                    <a:lnTo>
                      <a:pt x="46" y="375"/>
                    </a:lnTo>
                    <a:lnTo>
                      <a:pt x="45" y="371"/>
                    </a:lnTo>
                    <a:lnTo>
                      <a:pt x="43" y="367"/>
                    </a:lnTo>
                    <a:lnTo>
                      <a:pt x="41" y="363"/>
                    </a:lnTo>
                    <a:lnTo>
                      <a:pt x="39" y="360"/>
                    </a:lnTo>
                    <a:lnTo>
                      <a:pt x="37" y="356"/>
                    </a:lnTo>
                    <a:lnTo>
                      <a:pt x="35" y="352"/>
                    </a:lnTo>
                    <a:lnTo>
                      <a:pt x="33" y="348"/>
                    </a:lnTo>
                    <a:lnTo>
                      <a:pt x="31" y="344"/>
                    </a:lnTo>
                    <a:lnTo>
                      <a:pt x="29" y="341"/>
                    </a:lnTo>
                    <a:lnTo>
                      <a:pt x="28" y="337"/>
                    </a:lnTo>
                    <a:lnTo>
                      <a:pt x="26" y="334"/>
                    </a:lnTo>
                    <a:lnTo>
                      <a:pt x="26" y="330"/>
                    </a:lnTo>
                    <a:lnTo>
                      <a:pt x="24" y="329"/>
                    </a:lnTo>
                    <a:lnTo>
                      <a:pt x="22" y="327"/>
                    </a:lnTo>
                    <a:lnTo>
                      <a:pt x="20" y="325"/>
                    </a:lnTo>
                    <a:lnTo>
                      <a:pt x="19" y="323"/>
                    </a:lnTo>
                    <a:lnTo>
                      <a:pt x="18" y="321"/>
                    </a:lnTo>
                    <a:lnTo>
                      <a:pt x="16" y="317"/>
                    </a:lnTo>
                    <a:lnTo>
                      <a:pt x="14" y="315"/>
                    </a:lnTo>
                    <a:lnTo>
                      <a:pt x="14" y="311"/>
                    </a:lnTo>
                    <a:lnTo>
                      <a:pt x="12" y="310"/>
                    </a:lnTo>
                    <a:lnTo>
                      <a:pt x="10" y="306"/>
                    </a:lnTo>
                    <a:lnTo>
                      <a:pt x="8" y="304"/>
                    </a:lnTo>
                    <a:lnTo>
                      <a:pt x="8" y="300"/>
                    </a:lnTo>
                    <a:lnTo>
                      <a:pt x="7" y="299"/>
                    </a:lnTo>
                    <a:lnTo>
                      <a:pt x="7" y="295"/>
                    </a:lnTo>
                    <a:lnTo>
                      <a:pt x="6" y="293"/>
                    </a:lnTo>
                    <a:lnTo>
                      <a:pt x="6" y="290"/>
                    </a:lnTo>
                    <a:lnTo>
                      <a:pt x="4" y="288"/>
                    </a:lnTo>
                    <a:lnTo>
                      <a:pt x="4" y="285"/>
                    </a:lnTo>
                    <a:lnTo>
                      <a:pt x="2" y="283"/>
                    </a:lnTo>
                    <a:lnTo>
                      <a:pt x="2" y="279"/>
                    </a:lnTo>
                    <a:lnTo>
                      <a:pt x="1" y="275"/>
                    </a:lnTo>
                    <a:lnTo>
                      <a:pt x="1" y="272"/>
                    </a:lnTo>
                    <a:lnTo>
                      <a:pt x="1" y="268"/>
                    </a:lnTo>
                    <a:lnTo>
                      <a:pt x="1" y="264"/>
                    </a:lnTo>
                    <a:lnTo>
                      <a:pt x="0" y="261"/>
                    </a:lnTo>
                    <a:lnTo>
                      <a:pt x="0" y="257"/>
                    </a:lnTo>
                    <a:lnTo>
                      <a:pt x="0" y="253"/>
                    </a:lnTo>
                    <a:lnTo>
                      <a:pt x="1" y="250"/>
                    </a:lnTo>
                    <a:lnTo>
                      <a:pt x="1" y="248"/>
                    </a:lnTo>
                    <a:lnTo>
                      <a:pt x="3" y="244"/>
                    </a:lnTo>
                    <a:lnTo>
                      <a:pt x="4" y="242"/>
                    </a:lnTo>
                    <a:lnTo>
                      <a:pt x="6" y="238"/>
                    </a:lnTo>
                    <a:lnTo>
                      <a:pt x="7" y="237"/>
                    </a:lnTo>
                    <a:lnTo>
                      <a:pt x="8" y="235"/>
                    </a:lnTo>
                    <a:lnTo>
                      <a:pt x="10" y="233"/>
                    </a:lnTo>
                    <a:lnTo>
                      <a:pt x="13" y="231"/>
                    </a:lnTo>
                    <a:lnTo>
                      <a:pt x="16" y="231"/>
                    </a:lnTo>
                    <a:lnTo>
                      <a:pt x="20" y="229"/>
                    </a:lnTo>
                    <a:lnTo>
                      <a:pt x="24" y="227"/>
                    </a:lnTo>
                    <a:lnTo>
                      <a:pt x="28" y="225"/>
                    </a:lnTo>
                    <a:lnTo>
                      <a:pt x="31" y="225"/>
                    </a:lnTo>
                    <a:lnTo>
                      <a:pt x="35" y="223"/>
                    </a:lnTo>
                    <a:lnTo>
                      <a:pt x="38" y="223"/>
                    </a:lnTo>
                    <a:lnTo>
                      <a:pt x="42" y="221"/>
                    </a:lnTo>
                    <a:lnTo>
                      <a:pt x="45" y="221"/>
                    </a:lnTo>
                    <a:lnTo>
                      <a:pt x="48" y="220"/>
                    </a:lnTo>
                    <a:lnTo>
                      <a:pt x="51" y="220"/>
                    </a:lnTo>
                    <a:lnTo>
                      <a:pt x="55" y="218"/>
                    </a:lnTo>
                    <a:lnTo>
                      <a:pt x="57" y="219"/>
                    </a:lnTo>
                    <a:lnTo>
                      <a:pt x="61" y="219"/>
                    </a:lnTo>
                    <a:lnTo>
                      <a:pt x="65" y="219"/>
                    </a:lnTo>
                    <a:lnTo>
                      <a:pt x="70" y="219"/>
                    </a:lnTo>
                    <a:lnTo>
                      <a:pt x="74" y="221"/>
                    </a:lnTo>
                    <a:lnTo>
                      <a:pt x="79" y="221"/>
                    </a:lnTo>
                    <a:lnTo>
                      <a:pt x="85" y="222"/>
                    </a:lnTo>
                    <a:lnTo>
                      <a:pt x="91" y="222"/>
                    </a:lnTo>
                    <a:lnTo>
                      <a:pt x="94" y="223"/>
                    </a:lnTo>
                    <a:lnTo>
                      <a:pt x="100" y="223"/>
                    </a:lnTo>
                    <a:lnTo>
                      <a:pt x="104" y="223"/>
                    </a:lnTo>
                    <a:lnTo>
                      <a:pt x="109" y="223"/>
                    </a:lnTo>
                    <a:lnTo>
                      <a:pt x="113" y="223"/>
                    </a:lnTo>
                    <a:lnTo>
                      <a:pt x="116" y="222"/>
                    </a:lnTo>
                    <a:lnTo>
                      <a:pt x="118" y="221"/>
                    </a:lnTo>
                    <a:lnTo>
                      <a:pt x="121" y="218"/>
                    </a:lnTo>
                    <a:lnTo>
                      <a:pt x="120" y="218"/>
                    </a:lnTo>
                    <a:lnTo>
                      <a:pt x="119" y="216"/>
                    </a:lnTo>
                    <a:lnTo>
                      <a:pt x="117" y="215"/>
                    </a:lnTo>
                    <a:lnTo>
                      <a:pt x="117" y="213"/>
                    </a:lnTo>
                    <a:lnTo>
                      <a:pt x="115" y="212"/>
                    </a:lnTo>
                    <a:lnTo>
                      <a:pt x="113" y="211"/>
                    </a:lnTo>
                    <a:lnTo>
                      <a:pt x="111" y="209"/>
                    </a:lnTo>
                    <a:lnTo>
                      <a:pt x="110" y="207"/>
                    </a:lnTo>
                    <a:lnTo>
                      <a:pt x="107" y="205"/>
                    </a:lnTo>
                    <a:lnTo>
                      <a:pt x="106" y="203"/>
                    </a:lnTo>
                    <a:lnTo>
                      <a:pt x="104" y="201"/>
                    </a:lnTo>
                    <a:lnTo>
                      <a:pt x="102" y="199"/>
                    </a:lnTo>
                    <a:lnTo>
                      <a:pt x="100" y="197"/>
                    </a:lnTo>
                    <a:lnTo>
                      <a:pt x="99" y="195"/>
                    </a:lnTo>
                    <a:lnTo>
                      <a:pt x="98" y="194"/>
                    </a:lnTo>
                    <a:lnTo>
                      <a:pt x="98" y="192"/>
                    </a:lnTo>
                    <a:lnTo>
                      <a:pt x="96" y="192"/>
                    </a:lnTo>
                    <a:lnTo>
                      <a:pt x="96" y="190"/>
                    </a:lnTo>
                    <a:lnTo>
                      <a:pt x="96" y="189"/>
                    </a:lnTo>
                    <a:lnTo>
                      <a:pt x="96" y="187"/>
                    </a:lnTo>
                    <a:lnTo>
                      <a:pt x="94" y="185"/>
                    </a:lnTo>
                    <a:lnTo>
                      <a:pt x="94" y="183"/>
                    </a:lnTo>
                    <a:lnTo>
                      <a:pt x="94" y="181"/>
                    </a:lnTo>
                    <a:lnTo>
                      <a:pt x="94" y="178"/>
                    </a:lnTo>
                    <a:lnTo>
                      <a:pt x="94" y="177"/>
                    </a:lnTo>
                    <a:lnTo>
                      <a:pt x="94" y="175"/>
                    </a:lnTo>
                    <a:lnTo>
                      <a:pt x="94" y="173"/>
                    </a:lnTo>
                    <a:lnTo>
                      <a:pt x="94" y="171"/>
                    </a:lnTo>
                    <a:lnTo>
                      <a:pt x="94" y="171"/>
                    </a:lnTo>
                    <a:lnTo>
                      <a:pt x="96" y="169"/>
                    </a:lnTo>
                    <a:lnTo>
                      <a:pt x="96" y="168"/>
                    </a:lnTo>
                    <a:lnTo>
                      <a:pt x="98" y="166"/>
                    </a:lnTo>
                    <a:lnTo>
                      <a:pt x="99" y="166"/>
                    </a:lnTo>
                    <a:lnTo>
                      <a:pt x="101" y="165"/>
                    </a:lnTo>
                    <a:lnTo>
                      <a:pt x="103" y="166"/>
                    </a:lnTo>
                    <a:lnTo>
                      <a:pt x="105" y="166"/>
                    </a:lnTo>
                    <a:lnTo>
                      <a:pt x="107" y="168"/>
                    </a:lnTo>
                    <a:lnTo>
                      <a:pt x="110" y="168"/>
                    </a:lnTo>
                    <a:lnTo>
                      <a:pt x="113" y="169"/>
                    </a:lnTo>
                    <a:lnTo>
                      <a:pt x="116" y="169"/>
                    </a:lnTo>
                    <a:lnTo>
                      <a:pt x="118" y="171"/>
                    </a:lnTo>
                    <a:lnTo>
                      <a:pt x="121" y="172"/>
                    </a:lnTo>
                    <a:lnTo>
                      <a:pt x="123" y="173"/>
                    </a:lnTo>
                    <a:lnTo>
                      <a:pt x="126" y="173"/>
                    </a:lnTo>
                    <a:lnTo>
                      <a:pt x="128" y="174"/>
                    </a:lnTo>
                    <a:lnTo>
                      <a:pt x="130" y="174"/>
                    </a:lnTo>
                    <a:lnTo>
                      <a:pt x="131" y="174"/>
                    </a:lnTo>
                    <a:lnTo>
                      <a:pt x="133" y="172"/>
                    </a:lnTo>
                    <a:lnTo>
                      <a:pt x="133" y="172"/>
                    </a:lnTo>
                    <a:lnTo>
                      <a:pt x="133" y="171"/>
                    </a:lnTo>
                    <a:lnTo>
                      <a:pt x="133" y="170"/>
                    </a:lnTo>
                    <a:lnTo>
                      <a:pt x="134" y="168"/>
                    </a:lnTo>
                    <a:lnTo>
                      <a:pt x="134" y="166"/>
                    </a:lnTo>
                    <a:lnTo>
                      <a:pt x="134" y="164"/>
                    </a:lnTo>
                    <a:lnTo>
                      <a:pt x="134" y="163"/>
                    </a:lnTo>
                    <a:lnTo>
                      <a:pt x="134" y="160"/>
                    </a:lnTo>
                    <a:lnTo>
                      <a:pt x="133" y="158"/>
                    </a:lnTo>
                    <a:lnTo>
                      <a:pt x="133" y="156"/>
                    </a:lnTo>
                    <a:lnTo>
                      <a:pt x="133" y="154"/>
                    </a:lnTo>
                    <a:lnTo>
                      <a:pt x="133" y="153"/>
                    </a:lnTo>
                    <a:lnTo>
                      <a:pt x="133" y="151"/>
                    </a:lnTo>
                    <a:lnTo>
                      <a:pt x="133" y="149"/>
                    </a:lnTo>
                    <a:lnTo>
                      <a:pt x="133" y="147"/>
                    </a:lnTo>
                    <a:lnTo>
                      <a:pt x="133" y="145"/>
                    </a:lnTo>
                    <a:lnTo>
                      <a:pt x="133" y="145"/>
                    </a:lnTo>
                    <a:lnTo>
                      <a:pt x="133" y="145"/>
                    </a:lnTo>
                    <a:lnTo>
                      <a:pt x="133" y="145"/>
                    </a:lnTo>
                    <a:lnTo>
                      <a:pt x="135" y="143"/>
                    </a:lnTo>
                    <a:lnTo>
                      <a:pt x="135" y="143"/>
                    </a:lnTo>
                    <a:lnTo>
                      <a:pt x="137" y="141"/>
                    </a:lnTo>
                    <a:lnTo>
                      <a:pt x="137" y="141"/>
                    </a:lnTo>
                    <a:lnTo>
                      <a:pt x="139" y="139"/>
                    </a:lnTo>
                    <a:lnTo>
                      <a:pt x="139" y="139"/>
                    </a:lnTo>
                    <a:lnTo>
                      <a:pt x="141" y="138"/>
                    </a:lnTo>
                    <a:lnTo>
                      <a:pt x="141" y="138"/>
                    </a:lnTo>
                    <a:lnTo>
                      <a:pt x="143" y="136"/>
                    </a:lnTo>
                    <a:lnTo>
                      <a:pt x="143" y="136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7" y="134"/>
                    </a:lnTo>
                    <a:lnTo>
                      <a:pt x="149" y="135"/>
                    </a:lnTo>
                    <a:lnTo>
                      <a:pt x="151" y="135"/>
                    </a:lnTo>
                    <a:lnTo>
                      <a:pt x="153" y="135"/>
                    </a:lnTo>
                    <a:lnTo>
                      <a:pt x="155" y="135"/>
                    </a:lnTo>
                    <a:lnTo>
                      <a:pt x="157" y="137"/>
                    </a:lnTo>
                    <a:lnTo>
                      <a:pt x="161" y="137"/>
                    </a:lnTo>
                    <a:lnTo>
                      <a:pt x="163" y="139"/>
                    </a:lnTo>
                    <a:lnTo>
                      <a:pt x="167" y="139"/>
                    </a:lnTo>
                    <a:lnTo>
                      <a:pt x="169" y="141"/>
                    </a:lnTo>
                    <a:lnTo>
                      <a:pt x="171" y="141"/>
                    </a:lnTo>
                    <a:lnTo>
                      <a:pt x="172" y="143"/>
                    </a:lnTo>
                    <a:lnTo>
                      <a:pt x="176" y="143"/>
                    </a:lnTo>
                    <a:lnTo>
                      <a:pt x="178" y="145"/>
                    </a:lnTo>
                    <a:lnTo>
                      <a:pt x="180" y="145"/>
                    </a:lnTo>
                    <a:lnTo>
                      <a:pt x="182" y="145"/>
                    </a:lnTo>
                    <a:lnTo>
                      <a:pt x="185" y="145"/>
                    </a:lnTo>
                    <a:lnTo>
                      <a:pt x="185" y="147"/>
                    </a:lnTo>
                    <a:lnTo>
                      <a:pt x="187" y="148"/>
                    </a:lnTo>
                    <a:lnTo>
                      <a:pt x="187" y="150"/>
                    </a:lnTo>
                    <a:lnTo>
                      <a:pt x="189" y="150"/>
                    </a:lnTo>
                    <a:lnTo>
                      <a:pt x="190" y="152"/>
                    </a:lnTo>
                    <a:lnTo>
                      <a:pt x="192" y="153"/>
                    </a:lnTo>
                    <a:lnTo>
                      <a:pt x="194" y="154"/>
                    </a:lnTo>
                    <a:lnTo>
                      <a:pt x="195" y="154"/>
                    </a:lnTo>
                    <a:lnTo>
                      <a:pt x="195" y="156"/>
                    </a:lnTo>
                    <a:lnTo>
                      <a:pt x="197" y="157"/>
                    </a:lnTo>
                    <a:lnTo>
                      <a:pt x="199" y="159"/>
                    </a:lnTo>
                    <a:lnTo>
                      <a:pt x="201" y="159"/>
                    </a:lnTo>
                    <a:lnTo>
                      <a:pt x="201" y="160"/>
                    </a:lnTo>
                    <a:lnTo>
                      <a:pt x="202" y="160"/>
                    </a:lnTo>
                    <a:lnTo>
                      <a:pt x="203" y="160"/>
                    </a:lnTo>
                    <a:lnTo>
                      <a:pt x="205" y="160"/>
                    </a:lnTo>
                    <a:lnTo>
                      <a:pt x="205" y="160"/>
                    </a:lnTo>
                    <a:lnTo>
                      <a:pt x="205" y="159"/>
                    </a:lnTo>
                    <a:lnTo>
                      <a:pt x="205" y="158"/>
                    </a:lnTo>
                    <a:lnTo>
                      <a:pt x="205" y="156"/>
                    </a:lnTo>
                    <a:lnTo>
                      <a:pt x="203" y="154"/>
                    </a:lnTo>
                    <a:lnTo>
                      <a:pt x="203" y="153"/>
                    </a:lnTo>
                    <a:lnTo>
                      <a:pt x="203" y="151"/>
                    </a:lnTo>
                    <a:lnTo>
                      <a:pt x="203" y="149"/>
                    </a:lnTo>
                    <a:lnTo>
                      <a:pt x="201" y="147"/>
                    </a:lnTo>
                    <a:lnTo>
                      <a:pt x="201" y="145"/>
                    </a:lnTo>
                    <a:lnTo>
                      <a:pt x="200" y="143"/>
                    </a:lnTo>
                    <a:lnTo>
                      <a:pt x="200" y="141"/>
                    </a:lnTo>
                    <a:lnTo>
                      <a:pt x="199" y="140"/>
                    </a:lnTo>
                    <a:lnTo>
                      <a:pt x="199" y="138"/>
                    </a:lnTo>
                    <a:lnTo>
                      <a:pt x="199" y="136"/>
                    </a:lnTo>
                    <a:lnTo>
                      <a:pt x="199" y="134"/>
                    </a:lnTo>
                    <a:lnTo>
                      <a:pt x="198" y="133"/>
                    </a:lnTo>
                    <a:lnTo>
                      <a:pt x="198" y="131"/>
                    </a:lnTo>
                    <a:lnTo>
                      <a:pt x="198" y="129"/>
                    </a:lnTo>
                    <a:lnTo>
                      <a:pt x="198" y="127"/>
                    </a:lnTo>
                    <a:lnTo>
                      <a:pt x="197" y="126"/>
                    </a:lnTo>
                    <a:lnTo>
                      <a:pt x="197" y="124"/>
                    </a:lnTo>
                    <a:lnTo>
                      <a:pt x="197" y="122"/>
                    </a:lnTo>
                    <a:lnTo>
                      <a:pt x="197" y="118"/>
                    </a:lnTo>
                    <a:lnTo>
                      <a:pt x="196" y="116"/>
                    </a:lnTo>
                    <a:lnTo>
                      <a:pt x="196" y="114"/>
                    </a:lnTo>
                    <a:lnTo>
                      <a:pt x="196" y="113"/>
                    </a:lnTo>
                    <a:lnTo>
                      <a:pt x="196" y="111"/>
                    </a:lnTo>
                    <a:lnTo>
                      <a:pt x="196" y="110"/>
                    </a:lnTo>
                    <a:lnTo>
                      <a:pt x="197" y="108"/>
                    </a:lnTo>
                    <a:lnTo>
                      <a:pt x="197" y="107"/>
                    </a:lnTo>
                    <a:lnTo>
                      <a:pt x="199" y="105"/>
                    </a:lnTo>
                    <a:lnTo>
                      <a:pt x="200" y="105"/>
                    </a:lnTo>
                    <a:lnTo>
                      <a:pt x="202" y="105"/>
                    </a:lnTo>
                    <a:lnTo>
                      <a:pt x="203" y="106"/>
                    </a:lnTo>
                    <a:lnTo>
                      <a:pt x="206" y="106"/>
                    </a:lnTo>
                    <a:lnTo>
                      <a:pt x="208" y="107"/>
                    </a:lnTo>
                    <a:lnTo>
                      <a:pt x="212" y="108"/>
                    </a:lnTo>
                    <a:lnTo>
                      <a:pt x="215" y="110"/>
                    </a:lnTo>
                    <a:lnTo>
                      <a:pt x="219" y="110"/>
                    </a:lnTo>
                    <a:lnTo>
                      <a:pt x="221" y="112"/>
                    </a:lnTo>
                    <a:lnTo>
                      <a:pt x="224" y="114"/>
                    </a:lnTo>
                    <a:lnTo>
                      <a:pt x="227" y="116"/>
                    </a:lnTo>
                    <a:lnTo>
                      <a:pt x="231" y="116"/>
                    </a:lnTo>
                    <a:lnTo>
                      <a:pt x="233" y="118"/>
                    </a:lnTo>
                    <a:lnTo>
                      <a:pt x="237" y="119"/>
                    </a:lnTo>
                    <a:lnTo>
                      <a:pt x="239" y="120"/>
                    </a:lnTo>
                    <a:lnTo>
                      <a:pt x="242" y="120"/>
                    </a:lnTo>
                    <a:lnTo>
                      <a:pt x="243" y="122"/>
                    </a:lnTo>
                    <a:lnTo>
                      <a:pt x="245" y="122"/>
                    </a:lnTo>
                    <a:lnTo>
                      <a:pt x="247" y="124"/>
                    </a:lnTo>
                    <a:lnTo>
                      <a:pt x="250" y="124"/>
                    </a:lnTo>
                    <a:lnTo>
                      <a:pt x="252" y="126"/>
                    </a:lnTo>
                    <a:lnTo>
                      <a:pt x="256" y="127"/>
                    </a:lnTo>
                    <a:lnTo>
                      <a:pt x="259" y="129"/>
                    </a:lnTo>
                    <a:lnTo>
                      <a:pt x="262" y="129"/>
                    </a:lnTo>
                    <a:lnTo>
                      <a:pt x="264" y="131"/>
                    </a:lnTo>
                    <a:lnTo>
                      <a:pt x="268" y="131"/>
                    </a:lnTo>
                    <a:lnTo>
                      <a:pt x="271" y="133"/>
                    </a:lnTo>
                    <a:lnTo>
                      <a:pt x="275" y="133"/>
                    </a:lnTo>
                    <a:lnTo>
                      <a:pt x="277" y="134"/>
                    </a:lnTo>
                    <a:lnTo>
                      <a:pt x="280" y="134"/>
                    </a:lnTo>
                    <a:lnTo>
                      <a:pt x="281" y="134"/>
                    </a:lnTo>
                    <a:lnTo>
                      <a:pt x="285" y="134"/>
                    </a:lnTo>
                    <a:lnTo>
                      <a:pt x="285" y="134"/>
                    </a:lnTo>
                    <a:lnTo>
                      <a:pt x="287" y="133"/>
                    </a:lnTo>
                    <a:lnTo>
                      <a:pt x="287" y="133"/>
                    </a:lnTo>
                    <a:lnTo>
                      <a:pt x="289" y="131"/>
                    </a:lnTo>
                    <a:lnTo>
                      <a:pt x="289" y="129"/>
                    </a:lnTo>
                    <a:lnTo>
                      <a:pt x="290" y="127"/>
                    </a:lnTo>
                    <a:lnTo>
                      <a:pt x="290" y="125"/>
                    </a:lnTo>
                    <a:lnTo>
                      <a:pt x="292" y="123"/>
                    </a:lnTo>
                    <a:lnTo>
                      <a:pt x="292" y="122"/>
                    </a:lnTo>
                    <a:lnTo>
                      <a:pt x="292" y="120"/>
                    </a:lnTo>
                    <a:lnTo>
                      <a:pt x="292" y="118"/>
                    </a:lnTo>
                    <a:lnTo>
                      <a:pt x="294" y="116"/>
                    </a:lnTo>
                    <a:lnTo>
                      <a:pt x="294" y="116"/>
                    </a:lnTo>
                    <a:lnTo>
                      <a:pt x="295" y="114"/>
                    </a:lnTo>
                    <a:lnTo>
                      <a:pt x="295" y="113"/>
                    </a:lnTo>
                    <a:lnTo>
                      <a:pt x="297" y="111"/>
                    </a:lnTo>
                    <a:lnTo>
                      <a:pt x="299" y="111"/>
                    </a:lnTo>
                    <a:lnTo>
                      <a:pt x="302" y="109"/>
                    </a:lnTo>
                    <a:lnTo>
                      <a:pt x="305" y="109"/>
                    </a:lnTo>
                    <a:lnTo>
                      <a:pt x="309" y="107"/>
                    </a:lnTo>
                    <a:lnTo>
                      <a:pt x="313" y="107"/>
                    </a:lnTo>
                    <a:lnTo>
                      <a:pt x="317" y="106"/>
                    </a:lnTo>
                    <a:lnTo>
                      <a:pt x="320" y="104"/>
                    </a:lnTo>
                    <a:lnTo>
                      <a:pt x="325" y="103"/>
                    </a:lnTo>
                    <a:lnTo>
                      <a:pt x="329" y="103"/>
                    </a:lnTo>
                    <a:lnTo>
                      <a:pt x="333" y="102"/>
                    </a:lnTo>
                    <a:lnTo>
                      <a:pt x="337" y="102"/>
                    </a:lnTo>
                    <a:lnTo>
                      <a:pt x="341" y="100"/>
                    </a:lnTo>
                    <a:lnTo>
                      <a:pt x="344" y="100"/>
                    </a:lnTo>
                    <a:lnTo>
                      <a:pt x="348" y="100"/>
                    </a:lnTo>
                    <a:lnTo>
                      <a:pt x="351" y="100"/>
                    </a:lnTo>
                    <a:lnTo>
                      <a:pt x="355" y="99"/>
                    </a:lnTo>
                    <a:lnTo>
                      <a:pt x="358" y="101"/>
                    </a:lnTo>
                    <a:lnTo>
                      <a:pt x="361" y="101"/>
                    </a:lnTo>
                    <a:lnTo>
                      <a:pt x="365" y="103"/>
                    </a:lnTo>
                    <a:lnTo>
                      <a:pt x="369" y="105"/>
                    </a:lnTo>
                    <a:lnTo>
                      <a:pt x="373" y="109"/>
                    </a:lnTo>
                    <a:lnTo>
                      <a:pt x="378" y="111"/>
                    </a:lnTo>
                    <a:lnTo>
                      <a:pt x="382" y="114"/>
                    </a:lnTo>
                    <a:lnTo>
                      <a:pt x="388" y="116"/>
                    </a:lnTo>
                    <a:lnTo>
                      <a:pt x="391" y="120"/>
                    </a:lnTo>
                    <a:lnTo>
                      <a:pt x="397" y="122"/>
                    </a:lnTo>
                    <a:lnTo>
                      <a:pt x="400" y="124"/>
                    </a:lnTo>
                    <a:lnTo>
                      <a:pt x="406" y="126"/>
                    </a:lnTo>
                    <a:lnTo>
                      <a:pt x="409" y="127"/>
                    </a:lnTo>
                    <a:lnTo>
                      <a:pt x="413" y="127"/>
                    </a:lnTo>
                    <a:lnTo>
                      <a:pt x="417" y="127"/>
                    </a:lnTo>
                    <a:lnTo>
                      <a:pt x="421" y="126"/>
                    </a:lnTo>
                    <a:lnTo>
                      <a:pt x="421" y="126"/>
                    </a:lnTo>
                    <a:lnTo>
                      <a:pt x="422" y="124"/>
                    </a:lnTo>
                    <a:lnTo>
                      <a:pt x="422" y="124"/>
                    </a:lnTo>
                    <a:lnTo>
                      <a:pt x="423" y="122"/>
                    </a:lnTo>
                    <a:lnTo>
                      <a:pt x="423" y="120"/>
                    </a:lnTo>
                    <a:lnTo>
                      <a:pt x="423" y="118"/>
                    </a:lnTo>
                    <a:lnTo>
                      <a:pt x="423" y="116"/>
                    </a:lnTo>
                    <a:lnTo>
                      <a:pt x="425" y="113"/>
                    </a:lnTo>
                    <a:lnTo>
                      <a:pt x="425" y="111"/>
                    </a:lnTo>
                    <a:lnTo>
                      <a:pt x="425" y="109"/>
                    </a:lnTo>
                    <a:lnTo>
                      <a:pt x="425" y="107"/>
                    </a:lnTo>
                    <a:lnTo>
                      <a:pt x="425" y="105"/>
                    </a:lnTo>
                    <a:lnTo>
                      <a:pt x="425" y="104"/>
                    </a:lnTo>
                    <a:lnTo>
                      <a:pt x="425" y="103"/>
                    </a:lnTo>
                    <a:lnTo>
                      <a:pt x="425" y="101"/>
                    </a:lnTo>
                    <a:lnTo>
                      <a:pt x="427" y="99"/>
                    </a:lnTo>
                    <a:lnTo>
                      <a:pt x="428" y="97"/>
                    </a:lnTo>
                    <a:lnTo>
                      <a:pt x="431" y="96"/>
                    </a:lnTo>
                    <a:lnTo>
                      <a:pt x="435" y="94"/>
                    </a:lnTo>
                    <a:lnTo>
                      <a:pt x="438" y="90"/>
                    </a:lnTo>
                    <a:lnTo>
                      <a:pt x="442" y="88"/>
                    </a:lnTo>
                    <a:lnTo>
                      <a:pt x="446" y="85"/>
                    </a:lnTo>
                    <a:lnTo>
                      <a:pt x="450" y="83"/>
                    </a:lnTo>
                    <a:lnTo>
                      <a:pt x="456" y="79"/>
                    </a:lnTo>
                    <a:lnTo>
                      <a:pt x="459" y="77"/>
                    </a:lnTo>
                    <a:lnTo>
                      <a:pt x="463" y="75"/>
                    </a:lnTo>
                    <a:lnTo>
                      <a:pt x="467" y="73"/>
                    </a:lnTo>
                    <a:lnTo>
                      <a:pt x="471" y="69"/>
                    </a:lnTo>
                    <a:lnTo>
                      <a:pt x="473" y="69"/>
                    </a:lnTo>
                    <a:lnTo>
                      <a:pt x="476" y="67"/>
                    </a:lnTo>
                    <a:lnTo>
                      <a:pt x="477" y="66"/>
                    </a:lnTo>
                    <a:lnTo>
                      <a:pt x="479" y="65"/>
                    </a:lnTo>
                    <a:lnTo>
                      <a:pt x="505" y="74"/>
                    </a:lnTo>
                    <a:lnTo>
                      <a:pt x="505" y="75"/>
                    </a:lnTo>
                    <a:lnTo>
                      <a:pt x="506" y="75"/>
                    </a:lnTo>
                    <a:lnTo>
                      <a:pt x="507" y="76"/>
                    </a:lnTo>
                    <a:lnTo>
                      <a:pt x="510" y="76"/>
                    </a:lnTo>
                    <a:lnTo>
                      <a:pt x="512" y="78"/>
                    </a:lnTo>
                    <a:lnTo>
                      <a:pt x="515" y="78"/>
                    </a:lnTo>
                    <a:lnTo>
                      <a:pt x="519" y="80"/>
                    </a:lnTo>
                    <a:lnTo>
                      <a:pt x="523" y="80"/>
                    </a:lnTo>
                    <a:lnTo>
                      <a:pt x="525" y="82"/>
                    </a:lnTo>
                    <a:lnTo>
                      <a:pt x="529" y="82"/>
                    </a:lnTo>
                    <a:lnTo>
                      <a:pt x="533" y="84"/>
                    </a:lnTo>
                    <a:lnTo>
                      <a:pt x="537" y="84"/>
                    </a:lnTo>
                    <a:lnTo>
                      <a:pt x="539" y="85"/>
                    </a:lnTo>
                    <a:lnTo>
                      <a:pt x="543" y="85"/>
                    </a:lnTo>
                    <a:lnTo>
                      <a:pt x="545" y="85"/>
                    </a:lnTo>
                    <a:lnTo>
                      <a:pt x="548" y="85"/>
                    </a:lnTo>
                    <a:lnTo>
                      <a:pt x="550" y="85"/>
                    </a:lnTo>
                    <a:lnTo>
                      <a:pt x="553" y="85"/>
                    </a:lnTo>
                    <a:lnTo>
                      <a:pt x="555" y="85"/>
                    </a:lnTo>
                    <a:lnTo>
                      <a:pt x="559" y="83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8" y="79"/>
                    </a:lnTo>
                    <a:lnTo>
                      <a:pt x="572" y="77"/>
                    </a:lnTo>
                    <a:lnTo>
                      <a:pt x="574" y="77"/>
                    </a:lnTo>
                    <a:lnTo>
                      <a:pt x="577" y="75"/>
                    </a:lnTo>
                    <a:lnTo>
                      <a:pt x="579" y="73"/>
                    </a:lnTo>
                    <a:lnTo>
                      <a:pt x="582" y="71"/>
                    </a:lnTo>
                    <a:lnTo>
                      <a:pt x="584" y="71"/>
                    </a:lnTo>
                    <a:lnTo>
                      <a:pt x="587" y="69"/>
                    </a:lnTo>
                    <a:lnTo>
                      <a:pt x="589" y="67"/>
                    </a:lnTo>
                    <a:lnTo>
                      <a:pt x="592" y="65"/>
                    </a:lnTo>
                    <a:lnTo>
                      <a:pt x="593" y="65"/>
                    </a:lnTo>
                    <a:lnTo>
                      <a:pt x="595" y="63"/>
                    </a:lnTo>
                    <a:lnTo>
                      <a:pt x="597" y="61"/>
                    </a:lnTo>
                    <a:lnTo>
                      <a:pt x="599" y="59"/>
                    </a:lnTo>
                    <a:lnTo>
                      <a:pt x="601" y="57"/>
                    </a:lnTo>
                    <a:lnTo>
                      <a:pt x="603" y="54"/>
                    </a:lnTo>
                    <a:lnTo>
                      <a:pt x="605" y="52"/>
                    </a:lnTo>
                    <a:lnTo>
                      <a:pt x="609" y="48"/>
                    </a:lnTo>
                    <a:lnTo>
                      <a:pt x="611" y="46"/>
                    </a:lnTo>
                    <a:lnTo>
                      <a:pt x="613" y="45"/>
                    </a:lnTo>
                    <a:lnTo>
                      <a:pt x="615" y="43"/>
                    </a:lnTo>
                    <a:lnTo>
                      <a:pt x="619" y="39"/>
                    </a:lnTo>
                    <a:lnTo>
                      <a:pt x="621" y="38"/>
                    </a:lnTo>
                    <a:lnTo>
                      <a:pt x="623" y="36"/>
                    </a:lnTo>
                    <a:lnTo>
                      <a:pt x="625" y="35"/>
                    </a:lnTo>
                    <a:lnTo>
                      <a:pt x="629" y="33"/>
                    </a:lnTo>
                    <a:lnTo>
                      <a:pt x="629" y="33"/>
                    </a:lnTo>
                    <a:lnTo>
                      <a:pt x="630" y="33"/>
                    </a:lnTo>
                    <a:lnTo>
                      <a:pt x="630" y="33"/>
                    </a:lnTo>
                    <a:lnTo>
                      <a:pt x="632" y="33"/>
                    </a:lnTo>
                    <a:lnTo>
                      <a:pt x="632" y="33"/>
                    </a:lnTo>
                    <a:lnTo>
                      <a:pt x="633" y="33"/>
                    </a:lnTo>
                    <a:lnTo>
                      <a:pt x="635" y="33"/>
                    </a:lnTo>
                    <a:lnTo>
                      <a:pt x="637" y="33"/>
                    </a:lnTo>
                    <a:lnTo>
                      <a:pt x="637" y="33"/>
                    </a:lnTo>
                    <a:lnTo>
                      <a:pt x="639" y="33"/>
                    </a:lnTo>
                    <a:lnTo>
                      <a:pt x="641" y="33"/>
                    </a:lnTo>
                    <a:lnTo>
                      <a:pt x="643" y="33"/>
                    </a:lnTo>
                    <a:lnTo>
                      <a:pt x="643" y="33"/>
                    </a:lnTo>
                    <a:lnTo>
                      <a:pt x="645" y="33"/>
                    </a:lnTo>
                    <a:lnTo>
                      <a:pt x="647" y="33"/>
                    </a:lnTo>
                    <a:lnTo>
                      <a:pt x="649" y="33"/>
                    </a:lnTo>
                    <a:lnTo>
                      <a:pt x="651" y="33"/>
                    </a:lnTo>
                    <a:lnTo>
                      <a:pt x="653" y="31"/>
                    </a:lnTo>
                    <a:lnTo>
                      <a:pt x="655" y="29"/>
                    </a:lnTo>
                    <a:lnTo>
                      <a:pt x="657" y="28"/>
                    </a:lnTo>
                    <a:lnTo>
                      <a:pt x="659" y="26"/>
                    </a:lnTo>
                    <a:lnTo>
                      <a:pt x="660" y="23"/>
                    </a:lnTo>
                    <a:lnTo>
                      <a:pt x="662" y="21"/>
                    </a:lnTo>
                    <a:lnTo>
                      <a:pt x="664" y="17"/>
                    </a:lnTo>
                    <a:lnTo>
                      <a:pt x="665" y="15"/>
                    </a:lnTo>
                    <a:lnTo>
                      <a:pt x="667" y="13"/>
                    </a:lnTo>
                    <a:lnTo>
                      <a:pt x="669" y="11"/>
                    </a:lnTo>
                    <a:lnTo>
                      <a:pt x="670" y="8"/>
                    </a:lnTo>
                    <a:lnTo>
                      <a:pt x="672" y="7"/>
                    </a:lnTo>
                    <a:lnTo>
                      <a:pt x="674" y="5"/>
                    </a:lnTo>
                    <a:lnTo>
                      <a:pt x="676" y="4"/>
                    </a:lnTo>
                    <a:lnTo>
                      <a:pt x="678" y="2"/>
                    </a:lnTo>
                    <a:lnTo>
                      <a:pt x="679" y="2"/>
                    </a:lnTo>
                    <a:lnTo>
                      <a:pt x="681" y="2"/>
                    </a:lnTo>
                    <a:lnTo>
                      <a:pt x="683" y="2"/>
                    </a:lnTo>
                    <a:lnTo>
                      <a:pt x="685" y="1"/>
                    </a:lnTo>
                    <a:lnTo>
                      <a:pt x="687" y="1"/>
                    </a:lnTo>
                    <a:lnTo>
                      <a:pt x="690" y="1"/>
                    </a:lnTo>
                    <a:lnTo>
                      <a:pt x="692" y="1"/>
                    </a:lnTo>
                    <a:lnTo>
                      <a:pt x="696" y="0"/>
                    </a:lnTo>
                    <a:lnTo>
                      <a:pt x="698" y="1"/>
                    </a:lnTo>
                    <a:lnTo>
                      <a:pt x="700" y="1"/>
                    </a:lnTo>
                    <a:lnTo>
                      <a:pt x="701" y="1"/>
                    </a:lnTo>
                    <a:lnTo>
                      <a:pt x="705" y="1"/>
                    </a:lnTo>
                    <a:lnTo>
                      <a:pt x="707" y="2"/>
                    </a:lnTo>
                    <a:lnTo>
                      <a:pt x="709" y="2"/>
                    </a:lnTo>
                    <a:lnTo>
                      <a:pt x="711" y="2"/>
                    </a:lnTo>
                    <a:lnTo>
                      <a:pt x="713" y="2"/>
                    </a:lnTo>
                    <a:lnTo>
                      <a:pt x="713" y="4"/>
                    </a:lnTo>
                    <a:lnTo>
                      <a:pt x="715" y="5"/>
                    </a:lnTo>
                    <a:lnTo>
                      <a:pt x="715" y="7"/>
                    </a:lnTo>
                    <a:lnTo>
                      <a:pt x="717" y="8"/>
                    </a:lnTo>
                    <a:lnTo>
                      <a:pt x="717" y="9"/>
                    </a:lnTo>
                    <a:lnTo>
                      <a:pt x="719" y="11"/>
                    </a:lnTo>
                    <a:lnTo>
                      <a:pt x="719" y="13"/>
                    </a:lnTo>
                    <a:lnTo>
                      <a:pt x="721" y="15"/>
                    </a:lnTo>
                    <a:lnTo>
                      <a:pt x="721" y="17"/>
                    </a:lnTo>
                    <a:lnTo>
                      <a:pt x="721" y="19"/>
                    </a:lnTo>
                    <a:lnTo>
                      <a:pt x="721" y="21"/>
                    </a:lnTo>
                    <a:lnTo>
                      <a:pt x="723" y="22"/>
                    </a:lnTo>
                    <a:lnTo>
                      <a:pt x="723" y="24"/>
                    </a:lnTo>
                    <a:lnTo>
                      <a:pt x="725" y="25"/>
                    </a:lnTo>
                    <a:lnTo>
                      <a:pt x="725" y="25"/>
                    </a:lnTo>
                    <a:lnTo>
                      <a:pt x="727" y="25"/>
                    </a:lnTo>
                    <a:lnTo>
                      <a:pt x="729" y="26"/>
                    </a:lnTo>
                    <a:lnTo>
                      <a:pt x="732" y="26"/>
                    </a:lnTo>
                    <a:lnTo>
                      <a:pt x="734" y="26"/>
                    </a:lnTo>
                    <a:lnTo>
                      <a:pt x="738" y="24"/>
                    </a:lnTo>
                    <a:lnTo>
                      <a:pt x="740" y="23"/>
                    </a:lnTo>
                    <a:lnTo>
                      <a:pt x="743" y="21"/>
                    </a:lnTo>
                    <a:lnTo>
                      <a:pt x="746" y="19"/>
                    </a:lnTo>
                    <a:lnTo>
                      <a:pt x="749" y="16"/>
                    </a:lnTo>
                    <a:lnTo>
                      <a:pt x="751" y="14"/>
                    </a:lnTo>
                    <a:lnTo>
                      <a:pt x="755" y="12"/>
                    </a:lnTo>
                    <a:lnTo>
                      <a:pt x="757" y="10"/>
                    </a:lnTo>
                    <a:lnTo>
                      <a:pt x="760" y="7"/>
                    </a:lnTo>
                    <a:lnTo>
                      <a:pt x="762" y="6"/>
                    </a:lnTo>
                    <a:lnTo>
                      <a:pt x="765" y="4"/>
                    </a:lnTo>
                    <a:lnTo>
                      <a:pt x="767" y="3"/>
                    </a:lnTo>
                    <a:lnTo>
                      <a:pt x="770" y="2"/>
                    </a:lnTo>
                    <a:lnTo>
                      <a:pt x="772" y="3"/>
                    </a:lnTo>
                    <a:lnTo>
                      <a:pt x="774" y="3"/>
                    </a:lnTo>
                    <a:lnTo>
                      <a:pt x="776" y="5"/>
                    </a:lnTo>
                    <a:lnTo>
                      <a:pt x="778" y="6"/>
                    </a:lnTo>
                    <a:lnTo>
                      <a:pt x="779" y="8"/>
                    </a:lnTo>
                    <a:lnTo>
                      <a:pt x="781" y="9"/>
                    </a:lnTo>
                    <a:lnTo>
                      <a:pt x="783" y="11"/>
                    </a:lnTo>
                    <a:lnTo>
                      <a:pt x="786" y="13"/>
                    </a:lnTo>
                    <a:lnTo>
                      <a:pt x="787" y="15"/>
                    </a:lnTo>
                    <a:lnTo>
                      <a:pt x="788" y="17"/>
                    </a:lnTo>
                    <a:lnTo>
                      <a:pt x="790" y="19"/>
                    </a:lnTo>
                    <a:lnTo>
                      <a:pt x="792" y="21"/>
                    </a:lnTo>
                    <a:lnTo>
                      <a:pt x="794" y="23"/>
                    </a:lnTo>
                    <a:lnTo>
                      <a:pt x="796" y="23"/>
                    </a:lnTo>
                    <a:lnTo>
                      <a:pt x="798" y="25"/>
                    </a:lnTo>
                    <a:lnTo>
                      <a:pt x="799" y="25"/>
                    </a:lnTo>
                    <a:lnTo>
                      <a:pt x="799" y="26"/>
                    </a:lnTo>
                    <a:lnTo>
                      <a:pt x="801" y="27"/>
                    </a:lnTo>
                    <a:lnTo>
                      <a:pt x="802" y="29"/>
                    </a:lnTo>
                    <a:lnTo>
                      <a:pt x="804" y="29"/>
                    </a:lnTo>
                    <a:lnTo>
                      <a:pt x="805" y="31"/>
                    </a:lnTo>
                    <a:lnTo>
                      <a:pt x="807" y="31"/>
                    </a:lnTo>
                    <a:lnTo>
                      <a:pt x="809" y="31"/>
                    </a:lnTo>
                    <a:lnTo>
                      <a:pt x="811" y="31"/>
                    </a:lnTo>
                    <a:lnTo>
                      <a:pt x="811" y="33"/>
                    </a:lnTo>
                    <a:lnTo>
                      <a:pt x="813" y="33"/>
                    </a:lnTo>
                    <a:lnTo>
                      <a:pt x="815" y="33"/>
                    </a:lnTo>
                    <a:lnTo>
                      <a:pt x="816" y="33"/>
                    </a:lnTo>
                    <a:lnTo>
                      <a:pt x="817" y="33"/>
                    </a:lnTo>
                    <a:lnTo>
                      <a:pt x="819" y="33"/>
                    </a:lnTo>
                    <a:lnTo>
                      <a:pt x="821" y="33"/>
                    </a:lnTo>
                    <a:lnTo>
                      <a:pt x="823" y="33"/>
                    </a:lnTo>
                    <a:lnTo>
                      <a:pt x="826" y="33"/>
                    </a:lnTo>
                    <a:lnTo>
                      <a:pt x="831" y="33"/>
                    </a:lnTo>
                    <a:lnTo>
                      <a:pt x="837" y="32"/>
                    </a:lnTo>
                    <a:lnTo>
                      <a:pt x="843" y="30"/>
                    </a:lnTo>
                    <a:lnTo>
                      <a:pt x="849" y="29"/>
                    </a:lnTo>
                    <a:lnTo>
                      <a:pt x="856" y="28"/>
                    </a:lnTo>
                    <a:lnTo>
                      <a:pt x="862" y="26"/>
                    </a:lnTo>
                    <a:lnTo>
                      <a:pt x="869" y="24"/>
                    </a:lnTo>
                    <a:lnTo>
                      <a:pt x="875" y="24"/>
                    </a:lnTo>
                    <a:lnTo>
                      <a:pt x="882" y="22"/>
                    </a:lnTo>
                    <a:lnTo>
                      <a:pt x="887" y="21"/>
                    </a:lnTo>
                    <a:lnTo>
                      <a:pt x="894" y="19"/>
                    </a:lnTo>
                    <a:lnTo>
                      <a:pt x="899" y="19"/>
                    </a:lnTo>
                    <a:lnTo>
                      <a:pt x="905" y="19"/>
                    </a:lnTo>
                    <a:lnTo>
                      <a:pt x="909" y="21"/>
                    </a:lnTo>
                    <a:lnTo>
                      <a:pt x="915" y="21"/>
                    </a:lnTo>
                    <a:lnTo>
                      <a:pt x="915" y="23"/>
                    </a:lnTo>
                    <a:lnTo>
                      <a:pt x="915" y="23"/>
                    </a:lnTo>
                    <a:lnTo>
                      <a:pt x="915" y="24"/>
                    </a:lnTo>
                    <a:lnTo>
                      <a:pt x="917" y="24"/>
                    </a:lnTo>
                    <a:lnTo>
                      <a:pt x="917" y="26"/>
                    </a:lnTo>
                    <a:lnTo>
                      <a:pt x="917" y="26"/>
                    </a:lnTo>
                    <a:lnTo>
                      <a:pt x="917" y="28"/>
                    </a:lnTo>
                    <a:lnTo>
                      <a:pt x="919" y="28"/>
                    </a:lnTo>
                    <a:lnTo>
                      <a:pt x="919" y="30"/>
                    </a:lnTo>
                    <a:lnTo>
                      <a:pt x="919" y="32"/>
                    </a:lnTo>
                    <a:lnTo>
                      <a:pt x="919" y="34"/>
                    </a:lnTo>
                    <a:lnTo>
                      <a:pt x="920" y="35"/>
                    </a:lnTo>
                    <a:lnTo>
                      <a:pt x="920" y="36"/>
                    </a:lnTo>
                    <a:lnTo>
                      <a:pt x="920" y="37"/>
                    </a:lnTo>
                    <a:lnTo>
                      <a:pt x="920" y="39"/>
                    </a:lnTo>
                    <a:lnTo>
                      <a:pt x="921" y="39"/>
                    </a:lnTo>
                    <a:lnTo>
                      <a:pt x="921" y="41"/>
                    </a:lnTo>
                    <a:lnTo>
                      <a:pt x="921" y="43"/>
                    </a:lnTo>
                    <a:lnTo>
                      <a:pt x="921" y="45"/>
                    </a:lnTo>
                    <a:lnTo>
                      <a:pt x="921" y="46"/>
                    </a:lnTo>
                    <a:lnTo>
                      <a:pt x="920" y="48"/>
                    </a:lnTo>
                    <a:lnTo>
                      <a:pt x="920" y="49"/>
                    </a:lnTo>
                    <a:lnTo>
                      <a:pt x="920" y="51"/>
                    </a:lnTo>
                    <a:lnTo>
                      <a:pt x="920" y="53"/>
                    </a:lnTo>
                    <a:lnTo>
                      <a:pt x="919" y="56"/>
                    </a:lnTo>
                    <a:lnTo>
                      <a:pt x="919" y="57"/>
                    </a:lnTo>
                    <a:lnTo>
                      <a:pt x="919" y="59"/>
                    </a:lnTo>
                    <a:lnTo>
                      <a:pt x="919" y="61"/>
                    </a:lnTo>
                    <a:lnTo>
                      <a:pt x="919" y="63"/>
                    </a:lnTo>
                    <a:lnTo>
                      <a:pt x="919" y="64"/>
                    </a:lnTo>
                    <a:lnTo>
                      <a:pt x="919" y="65"/>
                    </a:lnTo>
                    <a:lnTo>
                      <a:pt x="921" y="65"/>
                    </a:lnTo>
                    <a:lnTo>
                      <a:pt x="921" y="67"/>
                    </a:lnTo>
                    <a:lnTo>
                      <a:pt x="923" y="67"/>
                    </a:lnTo>
                    <a:lnTo>
                      <a:pt x="924" y="69"/>
                    </a:lnTo>
                    <a:lnTo>
                      <a:pt x="926" y="69"/>
                    </a:lnTo>
                    <a:lnTo>
                      <a:pt x="928" y="69"/>
                    </a:lnTo>
                    <a:lnTo>
                      <a:pt x="930" y="69"/>
                    </a:lnTo>
                    <a:lnTo>
                      <a:pt x="932" y="69"/>
                    </a:lnTo>
                    <a:lnTo>
                      <a:pt x="935" y="69"/>
                    </a:lnTo>
                    <a:lnTo>
                      <a:pt x="937" y="69"/>
                    </a:lnTo>
                    <a:lnTo>
                      <a:pt x="939" y="69"/>
                    </a:lnTo>
                    <a:lnTo>
                      <a:pt x="941" y="69"/>
                    </a:lnTo>
                    <a:lnTo>
                      <a:pt x="944" y="69"/>
                    </a:lnTo>
                    <a:lnTo>
                      <a:pt x="944" y="69"/>
                    </a:lnTo>
                    <a:lnTo>
                      <a:pt x="946" y="67"/>
                    </a:lnTo>
                    <a:lnTo>
                      <a:pt x="947" y="67"/>
                    </a:lnTo>
                    <a:lnTo>
                      <a:pt x="949" y="65"/>
                    </a:lnTo>
                    <a:lnTo>
                      <a:pt x="949" y="65"/>
                    </a:lnTo>
                    <a:lnTo>
                      <a:pt x="951" y="63"/>
                    </a:lnTo>
                    <a:lnTo>
                      <a:pt x="950" y="61"/>
                    </a:lnTo>
                    <a:lnTo>
                      <a:pt x="950" y="58"/>
                    </a:lnTo>
                    <a:lnTo>
                      <a:pt x="948" y="56"/>
                    </a:lnTo>
                    <a:lnTo>
                      <a:pt x="947" y="53"/>
                    </a:lnTo>
                    <a:lnTo>
                      <a:pt x="945" y="50"/>
                    </a:lnTo>
                    <a:lnTo>
                      <a:pt x="944" y="46"/>
                    </a:lnTo>
                    <a:lnTo>
                      <a:pt x="941" y="45"/>
                    </a:lnTo>
                    <a:lnTo>
                      <a:pt x="939" y="41"/>
                    </a:lnTo>
                    <a:lnTo>
                      <a:pt x="937" y="38"/>
                    </a:lnTo>
                    <a:lnTo>
                      <a:pt x="936" y="34"/>
                    </a:lnTo>
                    <a:lnTo>
                      <a:pt x="934" y="32"/>
                    </a:lnTo>
                    <a:lnTo>
                      <a:pt x="934" y="29"/>
                    </a:lnTo>
                    <a:lnTo>
                      <a:pt x="934" y="28"/>
                    </a:lnTo>
                    <a:lnTo>
                      <a:pt x="935" y="25"/>
                    </a:lnTo>
                    <a:lnTo>
                      <a:pt x="935" y="25"/>
                    </a:lnTo>
                    <a:lnTo>
                      <a:pt x="937" y="24"/>
                    </a:lnTo>
                    <a:lnTo>
                      <a:pt x="939" y="24"/>
                    </a:lnTo>
                    <a:lnTo>
                      <a:pt x="941" y="23"/>
                    </a:lnTo>
                    <a:lnTo>
                      <a:pt x="943" y="23"/>
                    </a:lnTo>
                    <a:lnTo>
                      <a:pt x="946" y="23"/>
                    </a:lnTo>
                    <a:lnTo>
                      <a:pt x="948" y="23"/>
                    </a:lnTo>
                    <a:lnTo>
                      <a:pt x="952" y="21"/>
                    </a:lnTo>
                    <a:lnTo>
                      <a:pt x="954" y="21"/>
                    </a:lnTo>
                    <a:lnTo>
                      <a:pt x="957" y="21"/>
                    </a:lnTo>
                    <a:lnTo>
                      <a:pt x="959" y="21"/>
                    </a:lnTo>
                    <a:lnTo>
                      <a:pt x="963" y="21"/>
                    </a:lnTo>
                    <a:lnTo>
                      <a:pt x="965" y="21"/>
                    </a:lnTo>
                    <a:lnTo>
                      <a:pt x="967" y="21"/>
                    </a:lnTo>
                    <a:lnTo>
                      <a:pt x="969" y="21"/>
                    </a:lnTo>
                    <a:lnTo>
                      <a:pt x="972" y="21"/>
                    </a:lnTo>
                    <a:lnTo>
                      <a:pt x="975" y="21"/>
                    </a:lnTo>
                    <a:lnTo>
                      <a:pt x="979" y="21"/>
                    </a:lnTo>
                    <a:lnTo>
                      <a:pt x="983" y="21"/>
                    </a:lnTo>
                    <a:lnTo>
                      <a:pt x="989" y="20"/>
                    </a:lnTo>
                    <a:lnTo>
                      <a:pt x="992" y="20"/>
                    </a:lnTo>
                    <a:lnTo>
                      <a:pt x="998" y="20"/>
                    </a:lnTo>
                    <a:lnTo>
                      <a:pt x="1003" y="20"/>
                    </a:lnTo>
                    <a:lnTo>
                      <a:pt x="1009" y="19"/>
                    </a:lnTo>
                    <a:lnTo>
                      <a:pt x="1012" y="19"/>
                    </a:lnTo>
                    <a:lnTo>
                      <a:pt x="1018" y="19"/>
                    </a:lnTo>
                    <a:lnTo>
                      <a:pt x="1023" y="19"/>
                    </a:lnTo>
                    <a:lnTo>
                      <a:pt x="1029" y="19"/>
                    </a:lnTo>
                    <a:lnTo>
                      <a:pt x="1032" y="21"/>
                    </a:lnTo>
                    <a:lnTo>
                      <a:pt x="1037" y="21"/>
                    </a:lnTo>
                    <a:lnTo>
                      <a:pt x="1040" y="21"/>
                    </a:lnTo>
                    <a:lnTo>
                      <a:pt x="1045" y="21"/>
                    </a:lnTo>
                    <a:lnTo>
                      <a:pt x="1047" y="23"/>
                    </a:lnTo>
                    <a:lnTo>
                      <a:pt x="1049" y="23"/>
                    </a:lnTo>
                    <a:lnTo>
                      <a:pt x="1050" y="25"/>
                    </a:lnTo>
                    <a:lnTo>
                      <a:pt x="1053" y="26"/>
                    </a:lnTo>
                    <a:lnTo>
                      <a:pt x="1055" y="28"/>
                    </a:lnTo>
                    <a:lnTo>
                      <a:pt x="1059" y="29"/>
                    </a:lnTo>
                    <a:lnTo>
                      <a:pt x="1061" y="31"/>
                    </a:lnTo>
                    <a:lnTo>
                      <a:pt x="1065" y="33"/>
                    </a:lnTo>
                    <a:lnTo>
                      <a:pt x="1067" y="35"/>
                    </a:lnTo>
                    <a:lnTo>
                      <a:pt x="1070" y="37"/>
                    </a:lnTo>
                    <a:lnTo>
                      <a:pt x="1072" y="39"/>
                    </a:lnTo>
                    <a:lnTo>
                      <a:pt x="1076" y="41"/>
                    </a:lnTo>
                    <a:lnTo>
                      <a:pt x="1078" y="43"/>
                    </a:lnTo>
                    <a:lnTo>
                      <a:pt x="1081" y="43"/>
                    </a:lnTo>
                    <a:lnTo>
                      <a:pt x="1084" y="45"/>
                    </a:lnTo>
                    <a:lnTo>
                      <a:pt x="1088" y="45"/>
                    </a:lnTo>
                    <a:lnTo>
                      <a:pt x="1089" y="46"/>
                    </a:lnTo>
                    <a:lnTo>
                      <a:pt x="1091" y="46"/>
                    </a:lnTo>
                    <a:lnTo>
                      <a:pt x="1093" y="46"/>
                    </a:lnTo>
                    <a:lnTo>
                      <a:pt x="1097" y="46"/>
                    </a:lnTo>
                    <a:lnTo>
                      <a:pt x="1099" y="46"/>
                    </a:lnTo>
                    <a:lnTo>
                      <a:pt x="1102" y="46"/>
                    </a:lnTo>
                    <a:lnTo>
                      <a:pt x="1105" y="46"/>
                    </a:lnTo>
                    <a:lnTo>
                      <a:pt x="1109" y="44"/>
                    </a:lnTo>
                    <a:lnTo>
                      <a:pt x="1111" y="44"/>
                    </a:lnTo>
                    <a:lnTo>
                      <a:pt x="1114" y="44"/>
                    </a:lnTo>
                    <a:lnTo>
                      <a:pt x="1116" y="44"/>
                    </a:lnTo>
                    <a:lnTo>
                      <a:pt x="1120" y="43"/>
                    </a:lnTo>
                    <a:lnTo>
                      <a:pt x="1121" y="44"/>
                    </a:lnTo>
                    <a:lnTo>
                      <a:pt x="1124" y="44"/>
                    </a:lnTo>
                    <a:lnTo>
                      <a:pt x="1126" y="45"/>
                    </a:lnTo>
                    <a:lnTo>
                      <a:pt x="1128" y="45"/>
                    </a:lnTo>
                    <a:lnTo>
                      <a:pt x="1128" y="46"/>
                    </a:lnTo>
                    <a:lnTo>
                      <a:pt x="1129" y="48"/>
                    </a:lnTo>
                    <a:lnTo>
                      <a:pt x="1129" y="50"/>
                    </a:lnTo>
                    <a:lnTo>
                      <a:pt x="1130" y="51"/>
                    </a:lnTo>
                    <a:lnTo>
                      <a:pt x="1130" y="54"/>
                    </a:lnTo>
                    <a:lnTo>
                      <a:pt x="1130" y="56"/>
                    </a:lnTo>
                    <a:lnTo>
                      <a:pt x="1130" y="57"/>
                    </a:lnTo>
                    <a:lnTo>
                      <a:pt x="1132" y="59"/>
                    </a:lnTo>
                    <a:lnTo>
                      <a:pt x="1132" y="63"/>
                    </a:lnTo>
                    <a:lnTo>
                      <a:pt x="1132" y="65"/>
                    </a:lnTo>
                    <a:lnTo>
                      <a:pt x="1132" y="66"/>
                    </a:lnTo>
                    <a:lnTo>
                      <a:pt x="1133" y="68"/>
                    </a:lnTo>
                    <a:lnTo>
                      <a:pt x="1133" y="70"/>
                    </a:lnTo>
                    <a:lnTo>
                      <a:pt x="1135" y="72"/>
                    </a:lnTo>
                    <a:lnTo>
                      <a:pt x="1135" y="74"/>
                    </a:lnTo>
                    <a:lnTo>
                      <a:pt x="1137" y="74"/>
                    </a:lnTo>
                    <a:lnTo>
                      <a:pt x="1138" y="75"/>
                    </a:lnTo>
                    <a:lnTo>
                      <a:pt x="1140" y="75"/>
                    </a:lnTo>
                    <a:lnTo>
                      <a:pt x="1142" y="75"/>
                    </a:lnTo>
                    <a:lnTo>
                      <a:pt x="1146" y="75"/>
                    </a:lnTo>
                    <a:lnTo>
                      <a:pt x="1148" y="75"/>
                    </a:lnTo>
                    <a:lnTo>
                      <a:pt x="1151" y="75"/>
                    </a:lnTo>
                    <a:lnTo>
                      <a:pt x="1155" y="75"/>
                    </a:lnTo>
                    <a:lnTo>
                      <a:pt x="1158" y="73"/>
                    </a:lnTo>
                    <a:lnTo>
                      <a:pt x="1160" y="73"/>
                    </a:lnTo>
                    <a:lnTo>
                      <a:pt x="1164" y="72"/>
                    </a:lnTo>
                    <a:lnTo>
                      <a:pt x="1167" y="72"/>
                    </a:lnTo>
                    <a:lnTo>
                      <a:pt x="1171" y="70"/>
                    </a:lnTo>
                    <a:lnTo>
                      <a:pt x="1173" y="70"/>
                    </a:lnTo>
                    <a:lnTo>
                      <a:pt x="1175" y="68"/>
                    </a:lnTo>
                    <a:lnTo>
                      <a:pt x="1177" y="67"/>
                    </a:lnTo>
                    <a:lnTo>
                      <a:pt x="1180" y="65"/>
                    </a:lnTo>
                    <a:lnTo>
                      <a:pt x="1180" y="65"/>
                    </a:lnTo>
                    <a:lnTo>
                      <a:pt x="1182" y="63"/>
                    </a:lnTo>
                    <a:lnTo>
                      <a:pt x="1182" y="61"/>
                    </a:lnTo>
                    <a:lnTo>
                      <a:pt x="1184" y="57"/>
                    </a:lnTo>
                    <a:lnTo>
                      <a:pt x="1184" y="56"/>
                    </a:lnTo>
                    <a:lnTo>
                      <a:pt x="1184" y="52"/>
                    </a:lnTo>
                    <a:lnTo>
                      <a:pt x="1184" y="49"/>
                    </a:lnTo>
                    <a:lnTo>
                      <a:pt x="1186" y="45"/>
                    </a:lnTo>
                    <a:lnTo>
                      <a:pt x="1186" y="43"/>
                    </a:lnTo>
                    <a:lnTo>
                      <a:pt x="1186" y="39"/>
                    </a:lnTo>
                    <a:lnTo>
                      <a:pt x="1186" y="37"/>
                    </a:lnTo>
                    <a:lnTo>
                      <a:pt x="1188" y="33"/>
                    </a:lnTo>
                    <a:lnTo>
                      <a:pt x="1188" y="31"/>
                    </a:lnTo>
                    <a:lnTo>
                      <a:pt x="1190" y="29"/>
                    </a:lnTo>
                    <a:lnTo>
                      <a:pt x="1192" y="27"/>
                    </a:lnTo>
                    <a:lnTo>
                      <a:pt x="1195" y="25"/>
                    </a:lnTo>
                    <a:lnTo>
                      <a:pt x="1196" y="25"/>
                    </a:lnTo>
                    <a:lnTo>
                      <a:pt x="1198" y="25"/>
                    </a:lnTo>
                    <a:lnTo>
                      <a:pt x="1200" y="25"/>
                    </a:lnTo>
                    <a:lnTo>
                      <a:pt x="1204" y="25"/>
                    </a:lnTo>
                    <a:lnTo>
                      <a:pt x="1206" y="26"/>
                    </a:lnTo>
                    <a:lnTo>
                      <a:pt x="1210" y="26"/>
                    </a:lnTo>
                    <a:lnTo>
                      <a:pt x="1214" y="28"/>
                    </a:lnTo>
                    <a:lnTo>
                      <a:pt x="1217" y="28"/>
                    </a:lnTo>
                    <a:lnTo>
                      <a:pt x="1219" y="29"/>
                    </a:lnTo>
                    <a:lnTo>
                      <a:pt x="1223" y="31"/>
                    </a:lnTo>
                    <a:lnTo>
                      <a:pt x="1226" y="33"/>
                    </a:lnTo>
                    <a:lnTo>
                      <a:pt x="1229" y="33"/>
                    </a:lnTo>
                    <a:lnTo>
                      <a:pt x="1231" y="35"/>
                    </a:lnTo>
                    <a:lnTo>
                      <a:pt x="1233" y="37"/>
                    </a:lnTo>
                    <a:lnTo>
                      <a:pt x="1234" y="39"/>
                    </a:lnTo>
                    <a:lnTo>
                      <a:pt x="1235" y="39"/>
                    </a:lnTo>
                    <a:lnTo>
                      <a:pt x="1235" y="41"/>
                    </a:lnTo>
                    <a:lnTo>
                      <a:pt x="1235" y="43"/>
                    </a:lnTo>
                    <a:lnTo>
                      <a:pt x="1233" y="45"/>
                    </a:lnTo>
                    <a:lnTo>
                      <a:pt x="1232" y="46"/>
                    </a:lnTo>
                    <a:lnTo>
                      <a:pt x="1229" y="48"/>
                    </a:lnTo>
                    <a:lnTo>
                      <a:pt x="1227" y="50"/>
                    </a:lnTo>
                    <a:lnTo>
                      <a:pt x="1224" y="52"/>
                    </a:lnTo>
                    <a:lnTo>
                      <a:pt x="1222" y="53"/>
                    </a:lnTo>
                    <a:lnTo>
                      <a:pt x="1218" y="55"/>
                    </a:lnTo>
                    <a:lnTo>
                      <a:pt x="1216" y="57"/>
                    </a:lnTo>
                    <a:lnTo>
                      <a:pt x="1213" y="59"/>
                    </a:lnTo>
                    <a:lnTo>
                      <a:pt x="1211" y="60"/>
                    </a:lnTo>
                    <a:lnTo>
                      <a:pt x="1209" y="62"/>
                    </a:lnTo>
                    <a:lnTo>
                      <a:pt x="1207" y="63"/>
                    </a:lnTo>
                    <a:lnTo>
                      <a:pt x="1206" y="65"/>
                    </a:lnTo>
                    <a:lnTo>
                      <a:pt x="1206" y="65"/>
                    </a:lnTo>
                    <a:lnTo>
                      <a:pt x="1206" y="67"/>
                    </a:lnTo>
                    <a:lnTo>
                      <a:pt x="1208" y="67"/>
                    </a:lnTo>
                    <a:lnTo>
                      <a:pt x="1208" y="69"/>
                    </a:lnTo>
                    <a:lnTo>
                      <a:pt x="1209" y="69"/>
                    </a:lnTo>
                    <a:lnTo>
                      <a:pt x="1210" y="71"/>
                    </a:lnTo>
                    <a:lnTo>
                      <a:pt x="1212" y="71"/>
                    </a:lnTo>
                    <a:lnTo>
                      <a:pt x="1214" y="72"/>
                    </a:lnTo>
                    <a:lnTo>
                      <a:pt x="1216" y="72"/>
                    </a:lnTo>
                    <a:lnTo>
                      <a:pt x="1217" y="74"/>
                    </a:lnTo>
                    <a:lnTo>
                      <a:pt x="1219" y="74"/>
                    </a:lnTo>
                    <a:lnTo>
                      <a:pt x="1221" y="74"/>
                    </a:lnTo>
                    <a:lnTo>
                      <a:pt x="1223" y="74"/>
                    </a:lnTo>
                    <a:lnTo>
                      <a:pt x="1224" y="74"/>
                    </a:lnTo>
                    <a:lnTo>
                      <a:pt x="1226" y="74"/>
                    </a:lnTo>
                    <a:lnTo>
                      <a:pt x="1227" y="74"/>
                    </a:lnTo>
                    <a:lnTo>
                      <a:pt x="1229" y="74"/>
                    </a:lnTo>
                    <a:lnTo>
                      <a:pt x="1229" y="74"/>
                    </a:lnTo>
                    <a:lnTo>
                      <a:pt x="1231" y="74"/>
                    </a:lnTo>
                    <a:lnTo>
                      <a:pt x="1233" y="74"/>
                    </a:lnTo>
                    <a:lnTo>
                      <a:pt x="1235" y="72"/>
                    </a:lnTo>
                    <a:lnTo>
                      <a:pt x="1236" y="72"/>
                    </a:lnTo>
                    <a:lnTo>
                      <a:pt x="1237" y="70"/>
                    </a:lnTo>
                    <a:lnTo>
                      <a:pt x="1239" y="70"/>
                    </a:lnTo>
                    <a:lnTo>
                      <a:pt x="1241" y="68"/>
                    </a:lnTo>
                    <a:lnTo>
                      <a:pt x="1241" y="68"/>
                    </a:lnTo>
                    <a:lnTo>
                      <a:pt x="1243" y="66"/>
                    </a:lnTo>
                    <a:lnTo>
                      <a:pt x="1245" y="66"/>
                    </a:lnTo>
                    <a:lnTo>
                      <a:pt x="1246" y="65"/>
                    </a:lnTo>
                    <a:lnTo>
                      <a:pt x="1246" y="65"/>
                    </a:lnTo>
                    <a:lnTo>
                      <a:pt x="1248" y="63"/>
                    </a:lnTo>
                    <a:lnTo>
                      <a:pt x="1248" y="61"/>
                    </a:lnTo>
                    <a:lnTo>
                      <a:pt x="1249" y="59"/>
                    </a:lnTo>
                    <a:lnTo>
                      <a:pt x="1249" y="58"/>
                    </a:lnTo>
                    <a:lnTo>
                      <a:pt x="1250" y="56"/>
                    </a:lnTo>
                    <a:lnTo>
                      <a:pt x="1250" y="55"/>
                    </a:lnTo>
                    <a:lnTo>
                      <a:pt x="1251" y="52"/>
                    </a:lnTo>
                    <a:lnTo>
                      <a:pt x="1250" y="50"/>
                    </a:lnTo>
                    <a:lnTo>
                      <a:pt x="1250" y="47"/>
                    </a:lnTo>
                    <a:lnTo>
                      <a:pt x="1250" y="45"/>
                    </a:lnTo>
                    <a:lnTo>
                      <a:pt x="1250" y="41"/>
                    </a:lnTo>
                    <a:lnTo>
                      <a:pt x="1248" y="39"/>
                    </a:lnTo>
                    <a:lnTo>
                      <a:pt x="1248" y="36"/>
                    </a:lnTo>
                    <a:lnTo>
                      <a:pt x="1248" y="35"/>
                    </a:lnTo>
                    <a:lnTo>
                      <a:pt x="1248" y="31"/>
                    </a:lnTo>
                    <a:lnTo>
                      <a:pt x="1248" y="29"/>
                    </a:lnTo>
                    <a:lnTo>
                      <a:pt x="1248" y="28"/>
                    </a:lnTo>
                    <a:lnTo>
                      <a:pt x="1248" y="26"/>
                    </a:lnTo>
                    <a:lnTo>
                      <a:pt x="1249" y="25"/>
                    </a:lnTo>
                    <a:lnTo>
                      <a:pt x="1249" y="26"/>
                    </a:lnTo>
                    <a:lnTo>
                      <a:pt x="1249" y="26"/>
                    </a:lnTo>
                    <a:lnTo>
                      <a:pt x="1249" y="26"/>
                    </a:lnTo>
                    <a:lnTo>
                      <a:pt x="1251" y="26"/>
                    </a:lnTo>
                    <a:lnTo>
                      <a:pt x="1251" y="28"/>
                    </a:lnTo>
                    <a:lnTo>
                      <a:pt x="1251" y="28"/>
                    </a:lnTo>
                    <a:lnTo>
                      <a:pt x="1251" y="28"/>
                    </a:lnTo>
                    <a:lnTo>
                      <a:pt x="1253" y="28"/>
                    </a:lnTo>
                    <a:lnTo>
                      <a:pt x="1253" y="30"/>
                    </a:lnTo>
                    <a:lnTo>
                      <a:pt x="1253" y="30"/>
                    </a:lnTo>
                    <a:lnTo>
                      <a:pt x="1253" y="31"/>
                    </a:lnTo>
                    <a:lnTo>
                      <a:pt x="1255" y="31"/>
                    </a:lnTo>
                    <a:lnTo>
                      <a:pt x="1255" y="33"/>
                    </a:lnTo>
                    <a:lnTo>
                      <a:pt x="1256" y="33"/>
                    </a:lnTo>
                    <a:lnTo>
                      <a:pt x="1256" y="33"/>
                    </a:lnTo>
                    <a:lnTo>
                      <a:pt x="1258" y="33"/>
                    </a:lnTo>
                    <a:lnTo>
                      <a:pt x="1259" y="35"/>
                    </a:lnTo>
                    <a:lnTo>
                      <a:pt x="1261" y="35"/>
                    </a:lnTo>
                    <a:lnTo>
                      <a:pt x="1263" y="36"/>
                    </a:lnTo>
                    <a:lnTo>
                      <a:pt x="1266" y="36"/>
                    </a:lnTo>
                    <a:lnTo>
                      <a:pt x="1267" y="38"/>
                    </a:lnTo>
                    <a:lnTo>
                      <a:pt x="1271" y="38"/>
                    </a:lnTo>
                    <a:lnTo>
                      <a:pt x="1273" y="39"/>
                    </a:lnTo>
                    <a:lnTo>
                      <a:pt x="1276" y="39"/>
                    </a:lnTo>
                    <a:lnTo>
                      <a:pt x="1278" y="41"/>
                    </a:lnTo>
                    <a:lnTo>
                      <a:pt x="1280" y="41"/>
                    </a:lnTo>
                    <a:lnTo>
                      <a:pt x="1282" y="41"/>
                    </a:lnTo>
                    <a:lnTo>
                      <a:pt x="1285" y="41"/>
                    </a:lnTo>
                    <a:lnTo>
                      <a:pt x="1287" y="41"/>
                    </a:lnTo>
                    <a:lnTo>
                      <a:pt x="1289" y="41"/>
                    </a:lnTo>
                    <a:lnTo>
                      <a:pt x="1291" y="41"/>
                    </a:lnTo>
                    <a:lnTo>
                      <a:pt x="1293" y="39"/>
                    </a:lnTo>
                    <a:lnTo>
                      <a:pt x="1293" y="39"/>
                    </a:lnTo>
                    <a:lnTo>
                      <a:pt x="1294" y="39"/>
                    </a:lnTo>
                    <a:lnTo>
                      <a:pt x="1295" y="39"/>
                    </a:lnTo>
                    <a:lnTo>
                      <a:pt x="1297" y="37"/>
                    </a:lnTo>
                    <a:lnTo>
                      <a:pt x="1298" y="37"/>
                    </a:lnTo>
                    <a:lnTo>
                      <a:pt x="1300" y="35"/>
                    </a:lnTo>
                    <a:lnTo>
                      <a:pt x="1302" y="34"/>
                    </a:lnTo>
                    <a:lnTo>
                      <a:pt x="1304" y="32"/>
                    </a:lnTo>
                    <a:lnTo>
                      <a:pt x="1304" y="32"/>
                    </a:lnTo>
                    <a:lnTo>
                      <a:pt x="1305" y="30"/>
                    </a:lnTo>
                    <a:lnTo>
                      <a:pt x="1307" y="29"/>
                    </a:lnTo>
                    <a:lnTo>
                      <a:pt x="1309" y="27"/>
                    </a:lnTo>
                    <a:lnTo>
                      <a:pt x="1310" y="27"/>
                    </a:lnTo>
                    <a:lnTo>
                      <a:pt x="1312" y="26"/>
                    </a:lnTo>
                    <a:lnTo>
                      <a:pt x="1314" y="26"/>
                    </a:lnTo>
                    <a:lnTo>
                      <a:pt x="1315" y="25"/>
                    </a:lnTo>
                    <a:lnTo>
                      <a:pt x="1317" y="26"/>
                    </a:lnTo>
                    <a:lnTo>
                      <a:pt x="1321" y="28"/>
                    </a:lnTo>
                    <a:lnTo>
                      <a:pt x="1323" y="29"/>
                    </a:lnTo>
                    <a:lnTo>
                      <a:pt x="1326" y="30"/>
                    </a:lnTo>
                    <a:lnTo>
                      <a:pt x="1328" y="33"/>
                    </a:lnTo>
                    <a:lnTo>
                      <a:pt x="1332" y="35"/>
                    </a:lnTo>
                    <a:lnTo>
                      <a:pt x="1334" y="37"/>
                    </a:lnTo>
                    <a:lnTo>
                      <a:pt x="1337" y="39"/>
                    </a:lnTo>
                    <a:lnTo>
                      <a:pt x="1339" y="43"/>
                    </a:lnTo>
                    <a:lnTo>
                      <a:pt x="1341" y="45"/>
                    </a:lnTo>
                    <a:lnTo>
                      <a:pt x="1343" y="48"/>
                    </a:lnTo>
                    <a:lnTo>
                      <a:pt x="1346" y="50"/>
                    </a:lnTo>
                    <a:lnTo>
                      <a:pt x="1348" y="53"/>
                    </a:lnTo>
                    <a:lnTo>
                      <a:pt x="1350" y="55"/>
                    </a:lnTo>
                    <a:lnTo>
                      <a:pt x="1352" y="57"/>
                    </a:lnTo>
                    <a:lnTo>
                      <a:pt x="1354" y="59"/>
                    </a:lnTo>
                    <a:lnTo>
                      <a:pt x="1354" y="61"/>
                    </a:lnTo>
                    <a:lnTo>
                      <a:pt x="1354" y="61"/>
                    </a:lnTo>
                    <a:lnTo>
                      <a:pt x="1354" y="62"/>
                    </a:lnTo>
                    <a:lnTo>
                      <a:pt x="1354" y="62"/>
                    </a:lnTo>
                    <a:lnTo>
                      <a:pt x="1354" y="64"/>
                    </a:lnTo>
                    <a:lnTo>
                      <a:pt x="1354" y="64"/>
                    </a:lnTo>
                    <a:lnTo>
                      <a:pt x="1354" y="64"/>
                    </a:lnTo>
                    <a:lnTo>
                      <a:pt x="1354" y="64"/>
                    </a:lnTo>
                    <a:lnTo>
                      <a:pt x="1354" y="65"/>
                    </a:lnTo>
                    <a:lnTo>
                      <a:pt x="1354" y="65"/>
                    </a:lnTo>
                    <a:lnTo>
                      <a:pt x="1354" y="65"/>
                    </a:lnTo>
                    <a:lnTo>
                      <a:pt x="1354" y="65"/>
                    </a:lnTo>
                    <a:lnTo>
                      <a:pt x="1354" y="65"/>
                    </a:lnTo>
                    <a:lnTo>
                      <a:pt x="1354" y="65"/>
                    </a:lnTo>
                    <a:lnTo>
                      <a:pt x="1354" y="65"/>
                    </a:lnTo>
                    <a:lnTo>
                      <a:pt x="1354" y="65"/>
                    </a:lnTo>
                    <a:lnTo>
                      <a:pt x="1354" y="67"/>
                    </a:lnTo>
                    <a:lnTo>
                      <a:pt x="1355" y="68"/>
                    </a:lnTo>
                    <a:lnTo>
                      <a:pt x="1357" y="70"/>
                    </a:lnTo>
                    <a:lnTo>
                      <a:pt x="1359" y="70"/>
                    </a:lnTo>
                    <a:lnTo>
                      <a:pt x="1361" y="72"/>
                    </a:lnTo>
                    <a:lnTo>
                      <a:pt x="1362" y="72"/>
                    </a:lnTo>
                    <a:lnTo>
                      <a:pt x="1364" y="73"/>
                    </a:lnTo>
                    <a:lnTo>
                      <a:pt x="1368" y="73"/>
                    </a:lnTo>
                    <a:lnTo>
                      <a:pt x="1370" y="75"/>
                    </a:lnTo>
                    <a:lnTo>
                      <a:pt x="1373" y="75"/>
                    </a:lnTo>
                    <a:lnTo>
                      <a:pt x="1375" y="75"/>
                    </a:lnTo>
                    <a:lnTo>
                      <a:pt x="1379" y="75"/>
                    </a:lnTo>
                    <a:lnTo>
                      <a:pt x="1381" y="75"/>
                    </a:lnTo>
                    <a:lnTo>
                      <a:pt x="1383" y="75"/>
                    </a:lnTo>
                    <a:lnTo>
                      <a:pt x="1385" y="75"/>
                    </a:lnTo>
                    <a:lnTo>
                      <a:pt x="1388" y="74"/>
                    </a:lnTo>
                    <a:lnTo>
                      <a:pt x="1388" y="74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99200" y="4919760"/>
                <a:ext cx="2166840" cy="846000"/>
              </a:xfrm>
              <a:custGeom>
                <a:avLst/>
                <a:gdLst/>
                <a:ahLst/>
                <a:rect l="l" t="t" r="r" b="b"/>
                <a:pathLst>
                  <a:path w="1365" h="533">
                    <a:moveTo>
                      <a:pt x="1340" y="347"/>
                    </a:moveTo>
                    <a:lnTo>
                      <a:pt x="1339" y="347"/>
                    </a:lnTo>
                    <a:lnTo>
                      <a:pt x="1338" y="346"/>
                    </a:lnTo>
                    <a:lnTo>
                      <a:pt x="1335" y="344"/>
                    </a:lnTo>
                    <a:lnTo>
                      <a:pt x="1333" y="341"/>
                    </a:lnTo>
                    <a:lnTo>
                      <a:pt x="1329" y="339"/>
                    </a:lnTo>
                    <a:lnTo>
                      <a:pt x="1325" y="335"/>
                    </a:lnTo>
                    <a:lnTo>
                      <a:pt x="1320" y="331"/>
                    </a:lnTo>
                    <a:lnTo>
                      <a:pt x="1317" y="327"/>
                    </a:lnTo>
                    <a:lnTo>
                      <a:pt x="1311" y="323"/>
                    </a:lnTo>
                    <a:lnTo>
                      <a:pt x="1308" y="319"/>
                    </a:lnTo>
                    <a:lnTo>
                      <a:pt x="1302" y="315"/>
                    </a:lnTo>
                    <a:lnTo>
                      <a:pt x="1299" y="310"/>
                    </a:lnTo>
                    <a:lnTo>
                      <a:pt x="1294" y="306"/>
                    </a:lnTo>
                    <a:lnTo>
                      <a:pt x="1291" y="302"/>
                    </a:lnTo>
                    <a:lnTo>
                      <a:pt x="1288" y="299"/>
                    </a:lnTo>
                    <a:lnTo>
                      <a:pt x="1286" y="295"/>
                    </a:lnTo>
                    <a:lnTo>
                      <a:pt x="1282" y="293"/>
                    </a:lnTo>
                    <a:lnTo>
                      <a:pt x="1280" y="291"/>
                    </a:lnTo>
                    <a:lnTo>
                      <a:pt x="1278" y="289"/>
                    </a:lnTo>
                    <a:lnTo>
                      <a:pt x="1276" y="285"/>
                    </a:lnTo>
                    <a:lnTo>
                      <a:pt x="1272" y="282"/>
                    </a:lnTo>
                    <a:lnTo>
                      <a:pt x="1270" y="279"/>
                    </a:lnTo>
                    <a:lnTo>
                      <a:pt x="1268" y="275"/>
                    </a:lnTo>
                    <a:lnTo>
                      <a:pt x="1266" y="271"/>
                    </a:lnTo>
                    <a:lnTo>
                      <a:pt x="1262" y="269"/>
                    </a:lnTo>
                    <a:lnTo>
                      <a:pt x="1261" y="265"/>
                    </a:lnTo>
                    <a:lnTo>
                      <a:pt x="1259" y="262"/>
                    </a:lnTo>
                    <a:lnTo>
                      <a:pt x="1257" y="259"/>
                    </a:lnTo>
                    <a:lnTo>
                      <a:pt x="1254" y="257"/>
                    </a:lnTo>
                    <a:lnTo>
                      <a:pt x="1252" y="254"/>
                    </a:lnTo>
                    <a:lnTo>
                      <a:pt x="1250" y="252"/>
                    </a:lnTo>
                    <a:lnTo>
                      <a:pt x="1248" y="249"/>
                    </a:lnTo>
                    <a:lnTo>
                      <a:pt x="1245" y="248"/>
                    </a:lnTo>
                    <a:lnTo>
                      <a:pt x="1243" y="246"/>
                    </a:lnTo>
                    <a:lnTo>
                      <a:pt x="1241" y="244"/>
                    </a:lnTo>
                    <a:lnTo>
                      <a:pt x="1239" y="243"/>
                    </a:lnTo>
                    <a:lnTo>
                      <a:pt x="1235" y="241"/>
                    </a:lnTo>
                    <a:lnTo>
                      <a:pt x="1233" y="239"/>
                    </a:lnTo>
                    <a:lnTo>
                      <a:pt x="1229" y="237"/>
                    </a:lnTo>
                    <a:lnTo>
                      <a:pt x="1227" y="235"/>
                    </a:lnTo>
                    <a:lnTo>
                      <a:pt x="1223" y="235"/>
                    </a:lnTo>
                    <a:lnTo>
                      <a:pt x="1220" y="234"/>
                    </a:lnTo>
                    <a:lnTo>
                      <a:pt x="1216" y="233"/>
                    </a:lnTo>
                    <a:lnTo>
                      <a:pt x="1214" y="231"/>
                    </a:lnTo>
                    <a:lnTo>
                      <a:pt x="1211" y="231"/>
                    </a:lnTo>
                    <a:lnTo>
                      <a:pt x="1209" y="230"/>
                    </a:lnTo>
                    <a:lnTo>
                      <a:pt x="1207" y="230"/>
                    </a:lnTo>
                    <a:lnTo>
                      <a:pt x="1205" y="229"/>
                    </a:lnTo>
                    <a:lnTo>
                      <a:pt x="1202" y="230"/>
                    </a:lnTo>
                    <a:lnTo>
                      <a:pt x="1200" y="230"/>
                    </a:lnTo>
                    <a:lnTo>
                      <a:pt x="1198" y="232"/>
                    </a:lnTo>
                    <a:lnTo>
                      <a:pt x="1196" y="232"/>
                    </a:lnTo>
                    <a:lnTo>
                      <a:pt x="1192" y="234"/>
                    </a:lnTo>
                    <a:lnTo>
                      <a:pt x="1190" y="235"/>
                    </a:lnTo>
                    <a:lnTo>
                      <a:pt x="1187" y="237"/>
                    </a:lnTo>
                    <a:lnTo>
                      <a:pt x="1185" y="237"/>
                    </a:lnTo>
                    <a:lnTo>
                      <a:pt x="1182" y="239"/>
                    </a:lnTo>
                    <a:lnTo>
                      <a:pt x="1178" y="241"/>
                    </a:lnTo>
                    <a:lnTo>
                      <a:pt x="1174" y="243"/>
                    </a:lnTo>
                    <a:lnTo>
                      <a:pt x="1173" y="244"/>
                    </a:lnTo>
                    <a:lnTo>
                      <a:pt x="1169" y="245"/>
                    </a:lnTo>
                    <a:lnTo>
                      <a:pt x="1167" y="247"/>
                    </a:lnTo>
                    <a:lnTo>
                      <a:pt x="1163" y="249"/>
                    </a:lnTo>
                    <a:lnTo>
                      <a:pt x="1162" y="249"/>
                    </a:lnTo>
                    <a:lnTo>
                      <a:pt x="1157" y="251"/>
                    </a:lnTo>
                    <a:lnTo>
                      <a:pt x="1153" y="253"/>
                    </a:lnTo>
                    <a:lnTo>
                      <a:pt x="1148" y="254"/>
                    </a:lnTo>
                    <a:lnTo>
                      <a:pt x="1143" y="256"/>
                    </a:lnTo>
                    <a:lnTo>
                      <a:pt x="1137" y="258"/>
                    </a:lnTo>
                    <a:lnTo>
                      <a:pt x="1132" y="260"/>
                    </a:lnTo>
                    <a:lnTo>
                      <a:pt x="1126" y="262"/>
                    </a:lnTo>
                    <a:lnTo>
                      <a:pt x="1120" y="264"/>
                    </a:lnTo>
                    <a:lnTo>
                      <a:pt x="1113" y="265"/>
                    </a:lnTo>
                    <a:lnTo>
                      <a:pt x="1107" y="267"/>
                    </a:lnTo>
                    <a:lnTo>
                      <a:pt x="1101" y="269"/>
                    </a:lnTo>
                    <a:lnTo>
                      <a:pt x="1095" y="270"/>
                    </a:lnTo>
                    <a:lnTo>
                      <a:pt x="1090" y="271"/>
                    </a:lnTo>
                    <a:lnTo>
                      <a:pt x="1084" y="271"/>
                    </a:lnTo>
                    <a:lnTo>
                      <a:pt x="1079" y="271"/>
                    </a:lnTo>
                    <a:lnTo>
                      <a:pt x="1075" y="269"/>
                    </a:lnTo>
                    <a:lnTo>
                      <a:pt x="1072" y="268"/>
                    </a:lnTo>
                    <a:lnTo>
                      <a:pt x="1070" y="266"/>
                    </a:lnTo>
                    <a:lnTo>
                      <a:pt x="1068" y="264"/>
                    </a:lnTo>
                    <a:lnTo>
                      <a:pt x="1066" y="262"/>
                    </a:lnTo>
                    <a:lnTo>
                      <a:pt x="1063" y="260"/>
                    </a:lnTo>
                    <a:lnTo>
                      <a:pt x="1061" y="256"/>
                    </a:lnTo>
                    <a:lnTo>
                      <a:pt x="1059" y="253"/>
                    </a:lnTo>
                    <a:lnTo>
                      <a:pt x="1057" y="249"/>
                    </a:lnTo>
                    <a:lnTo>
                      <a:pt x="1054" y="247"/>
                    </a:lnTo>
                    <a:lnTo>
                      <a:pt x="1052" y="244"/>
                    </a:lnTo>
                    <a:lnTo>
                      <a:pt x="1050" y="241"/>
                    </a:lnTo>
                    <a:lnTo>
                      <a:pt x="1048" y="237"/>
                    </a:lnTo>
                    <a:lnTo>
                      <a:pt x="1046" y="235"/>
                    </a:lnTo>
                    <a:lnTo>
                      <a:pt x="1044" y="233"/>
                    </a:lnTo>
                    <a:lnTo>
                      <a:pt x="1042" y="231"/>
                    </a:lnTo>
                    <a:lnTo>
                      <a:pt x="1040" y="229"/>
                    </a:lnTo>
                    <a:lnTo>
                      <a:pt x="1037" y="229"/>
                    </a:lnTo>
                    <a:lnTo>
                      <a:pt x="1034" y="227"/>
                    </a:lnTo>
                    <a:lnTo>
                      <a:pt x="1030" y="227"/>
                    </a:lnTo>
                    <a:lnTo>
                      <a:pt x="1028" y="225"/>
                    </a:lnTo>
                    <a:lnTo>
                      <a:pt x="1024" y="225"/>
                    </a:lnTo>
                    <a:lnTo>
                      <a:pt x="1020" y="224"/>
                    </a:lnTo>
                    <a:lnTo>
                      <a:pt x="1016" y="224"/>
                    </a:lnTo>
                    <a:lnTo>
                      <a:pt x="1012" y="223"/>
                    </a:lnTo>
                    <a:lnTo>
                      <a:pt x="1007" y="223"/>
                    </a:lnTo>
                    <a:lnTo>
                      <a:pt x="1003" y="223"/>
                    </a:lnTo>
                    <a:lnTo>
                      <a:pt x="999" y="223"/>
                    </a:lnTo>
                    <a:lnTo>
                      <a:pt x="996" y="222"/>
                    </a:lnTo>
                    <a:lnTo>
                      <a:pt x="992" y="223"/>
                    </a:lnTo>
                    <a:lnTo>
                      <a:pt x="988" y="223"/>
                    </a:lnTo>
                    <a:lnTo>
                      <a:pt x="985" y="223"/>
                    </a:lnTo>
                    <a:lnTo>
                      <a:pt x="983" y="223"/>
                    </a:lnTo>
                    <a:lnTo>
                      <a:pt x="981" y="224"/>
                    </a:lnTo>
                    <a:lnTo>
                      <a:pt x="979" y="224"/>
                    </a:lnTo>
                    <a:lnTo>
                      <a:pt x="977" y="224"/>
                    </a:lnTo>
                    <a:lnTo>
                      <a:pt x="976" y="224"/>
                    </a:lnTo>
                    <a:lnTo>
                      <a:pt x="974" y="226"/>
                    </a:lnTo>
                    <a:lnTo>
                      <a:pt x="972" y="226"/>
                    </a:lnTo>
                    <a:lnTo>
                      <a:pt x="970" y="227"/>
                    </a:lnTo>
                    <a:lnTo>
                      <a:pt x="968" y="227"/>
                    </a:lnTo>
                    <a:lnTo>
                      <a:pt x="966" y="229"/>
                    </a:lnTo>
                    <a:lnTo>
                      <a:pt x="964" y="229"/>
                    </a:lnTo>
                    <a:lnTo>
                      <a:pt x="962" y="229"/>
                    </a:lnTo>
                    <a:lnTo>
                      <a:pt x="960" y="229"/>
                    </a:lnTo>
                    <a:lnTo>
                      <a:pt x="959" y="229"/>
                    </a:lnTo>
                    <a:lnTo>
                      <a:pt x="958" y="229"/>
                    </a:lnTo>
                    <a:lnTo>
                      <a:pt x="957" y="229"/>
                    </a:lnTo>
                    <a:lnTo>
                      <a:pt x="957" y="229"/>
                    </a:lnTo>
                    <a:lnTo>
                      <a:pt x="953" y="227"/>
                    </a:lnTo>
                    <a:lnTo>
                      <a:pt x="951" y="224"/>
                    </a:lnTo>
                    <a:lnTo>
                      <a:pt x="950" y="220"/>
                    </a:lnTo>
                    <a:lnTo>
                      <a:pt x="950" y="214"/>
                    </a:lnTo>
                    <a:lnTo>
                      <a:pt x="949" y="209"/>
                    </a:lnTo>
                    <a:lnTo>
                      <a:pt x="950" y="204"/>
                    </a:lnTo>
                    <a:lnTo>
                      <a:pt x="950" y="198"/>
                    </a:lnTo>
                    <a:lnTo>
                      <a:pt x="952" y="191"/>
                    </a:lnTo>
                    <a:lnTo>
                      <a:pt x="952" y="186"/>
                    </a:lnTo>
                    <a:lnTo>
                      <a:pt x="954" y="180"/>
                    </a:lnTo>
                    <a:lnTo>
                      <a:pt x="954" y="175"/>
                    </a:lnTo>
                    <a:lnTo>
                      <a:pt x="956" y="168"/>
                    </a:lnTo>
                    <a:lnTo>
                      <a:pt x="956" y="164"/>
                    </a:lnTo>
                    <a:lnTo>
                      <a:pt x="957" y="158"/>
                    </a:lnTo>
                    <a:lnTo>
                      <a:pt x="957" y="155"/>
                    </a:lnTo>
                    <a:lnTo>
                      <a:pt x="957" y="151"/>
                    </a:lnTo>
                    <a:lnTo>
                      <a:pt x="954" y="148"/>
                    </a:lnTo>
                    <a:lnTo>
                      <a:pt x="952" y="145"/>
                    </a:lnTo>
                    <a:lnTo>
                      <a:pt x="949" y="141"/>
                    </a:lnTo>
                    <a:lnTo>
                      <a:pt x="947" y="137"/>
                    </a:lnTo>
                    <a:lnTo>
                      <a:pt x="943" y="134"/>
                    </a:lnTo>
                    <a:lnTo>
                      <a:pt x="940" y="130"/>
                    </a:lnTo>
                    <a:lnTo>
                      <a:pt x="936" y="126"/>
                    </a:lnTo>
                    <a:lnTo>
                      <a:pt x="934" y="123"/>
                    </a:lnTo>
                    <a:lnTo>
                      <a:pt x="930" y="121"/>
                    </a:lnTo>
                    <a:lnTo>
                      <a:pt x="926" y="117"/>
                    </a:lnTo>
                    <a:lnTo>
                      <a:pt x="922" y="115"/>
                    </a:lnTo>
                    <a:lnTo>
                      <a:pt x="919" y="111"/>
                    </a:lnTo>
                    <a:lnTo>
                      <a:pt x="915" y="109"/>
                    </a:lnTo>
                    <a:lnTo>
                      <a:pt x="911" y="107"/>
                    </a:lnTo>
                    <a:lnTo>
                      <a:pt x="908" y="106"/>
                    </a:lnTo>
                    <a:lnTo>
                      <a:pt x="905" y="105"/>
                    </a:lnTo>
                    <a:lnTo>
                      <a:pt x="903" y="105"/>
                    </a:lnTo>
                    <a:lnTo>
                      <a:pt x="901" y="105"/>
                    </a:lnTo>
                    <a:lnTo>
                      <a:pt x="899" y="105"/>
                    </a:lnTo>
                    <a:lnTo>
                      <a:pt x="899" y="105"/>
                    </a:lnTo>
                    <a:lnTo>
                      <a:pt x="897" y="106"/>
                    </a:lnTo>
                    <a:lnTo>
                      <a:pt x="895" y="106"/>
                    </a:lnTo>
                    <a:lnTo>
                      <a:pt x="893" y="106"/>
                    </a:lnTo>
                    <a:lnTo>
                      <a:pt x="891" y="106"/>
                    </a:lnTo>
                    <a:lnTo>
                      <a:pt x="888" y="108"/>
                    </a:lnTo>
                    <a:lnTo>
                      <a:pt x="886" y="108"/>
                    </a:lnTo>
                    <a:lnTo>
                      <a:pt x="884" y="109"/>
                    </a:lnTo>
                    <a:lnTo>
                      <a:pt x="882" y="109"/>
                    </a:lnTo>
                    <a:lnTo>
                      <a:pt x="881" y="110"/>
                    </a:lnTo>
                    <a:lnTo>
                      <a:pt x="879" y="110"/>
                    </a:lnTo>
                    <a:lnTo>
                      <a:pt x="877" y="110"/>
                    </a:lnTo>
                    <a:lnTo>
                      <a:pt x="876" y="110"/>
                    </a:lnTo>
                    <a:lnTo>
                      <a:pt x="874" y="110"/>
                    </a:lnTo>
                    <a:lnTo>
                      <a:pt x="872" y="109"/>
                    </a:lnTo>
                    <a:lnTo>
                      <a:pt x="871" y="108"/>
                    </a:lnTo>
                    <a:lnTo>
                      <a:pt x="871" y="106"/>
                    </a:lnTo>
                    <a:lnTo>
                      <a:pt x="869" y="105"/>
                    </a:lnTo>
                    <a:lnTo>
                      <a:pt x="869" y="103"/>
                    </a:lnTo>
                    <a:lnTo>
                      <a:pt x="867" y="101"/>
                    </a:lnTo>
                    <a:lnTo>
                      <a:pt x="867" y="99"/>
                    </a:lnTo>
                    <a:lnTo>
                      <a:pt x="865" y="97"/>
                    </a:lnTo>
                    <a:lnTo>
                      <a:pt x="865" y="95"/>
                    </a:lnTo>
                    <a:lnTo>
                      <a:pt x="863" y="93"/>
                    </a:lnTo>
                    <a:lnTo>
                      <a:pt x="863" y="91"/>
                    </a:lnTo>
                    <a:lnTo>
                      <a:pt x="861" y="89"/>
                    </a:lnTo>
                    <a:lnTo>
                      <a:pt x="861" y="88"/>
                    </a:lnTo>
                    <a:lnTo>
                      <a:pt x="861" y="86"/>
                    </a:lnTo>
                    <a:lnTo>
                      <a:pt x="861" y="84"/>
                    </a:lnTo>
                    <a:lnTo>
                      <a:pt x="861" y="83"/>
                    </a:lnTo>
                    <a:lnTo>
                      <a:pt x="861" y="81"/>
                    </a:lnTo>
                    <a:lnTo>
                      <a:pt x="861" y="79"/>
                    </a:lnTo>
                    <a:lnTo>
                      <a:pt x="861" y="77"/>
                    </a:lnTo>
                    <a:lnTo>
                      <a:pt x="861" y="75"/>
                    </a:lnTo>
                    <a:lnTo>
                      <a:pt x="861" y="73"/>
                    </a:lnTo>
                    <a:lnTo>
                      <a:pt x="861" y="71"/>
                    </a:lnTo>
                    <a:lnTo>
                      <a:pt x="862" y="67"/>
                    </a:lnTo>
                    <a:lnTo>
                      <a:pt x="862" y="65"/>
                    </a:lnTo>
                    <a:lnTo>
                      <a:pt x="862" y="63"/>
                    </a:lnTo>
                    <a:lnTo>
                      <a:pt x="862" y="61"/>
                    </a:lnTo>
                    <a:lnTo>
                      <a:pt x="862" y="58"/>
                    </a:lnTo>
                    <a:lnTo>
                      <a:pt x="861" y="57"/>
                    </a:lnTo>
                    <a:lnTo>
                      <a:pt x="861" y="55"/>
                    </a:lnTo>
                    <a:lnTo>
                      <a:pt x="861" y="53"/>
                    </a:lnTo>
                    <a:lnTo>
                      <a:pt x="861" y="50"/>
                    </a:lnTo>
                    <a:lnTo>
                      <a:pt x="860" y="48"/>
                    </a:lnTo>
                    <a:lnTo>
                      <a:pt x="859" y="46"/>
                    </a:lnTo>
                    <a:lnTo>
                      <a:pt x="857" y="44"/>
                    </a:lnTo>
                    <a:lnTo>
                      <a:pt x="856" y="40"/>
                    </a:lnTo>
                    <a:lnTo>
                      <a:pt x="852" y="38"/>
                    </a:lnTo>
                    <a:lnTo>
                      <a:pt x="851" y="35"/>
                    </a:lnTo>
                    <a:lnTo>
                      <a:pt x="849" y="33"/>
                    </a:lnTo>
                    <a:lnTo>
                      <a:pt x="847" y="30"/>
                    </a:lnTo>
                    <a:lnTo>
                      <a:pt x="843" y="28"/>
                    </a:lnTo>
                    <a:lnTo>
                      <a:pt x="841" y="26"/>
                    </a:lnTo>
                    <a:lnTo>
                      <a:pt x="838" y="24"/>
                    </a:lnTo>
                    <a:lnTo>
                      <a:pt x="836" y="21"/>
                    </a:lnTo>
                    <a:lnTo>
                      <a:pt x="833" y="21"/>
                    </a:lnTo>
                    <a:lnTo>
                      <a:pt x="831" y="19"/>
                    </a:lnTo>
                    <a:lnTo>
                      <a:pt x="829" y="19"/>
                    </a:lnTo>
                    <a:lnTo>
                      <a:pt x="827" y="18"/>
                    </a:lnTo>
                    <a:lnTo>
                      <a:pt x="825" y="19"/>
                    </a:lnTo>
                    <a:lnTo>
                      <a:pt x="823" y="19"/>
                    </a:lnTo>
                    <a:lnTo>
                      <a:pt x="821" y="19"/>
                    </a:lnTo>
                    <a:lnTo>
                      <a:pt x="820" y="19"/>
                    </a:lnTo>
                    <a:lnTo>
                      <a:pt x="818" y="21"/>
                    </a:lnTo>
                    <a:lnTo>
                      <a:pt x="816" y="22"/>
                    </a:lnTo>
                    <a:lnTo>
                      <a:pt x="814" y="24"/>
                    </a:lnTo>
                    <a:lnTo>
                      <a:pt x="813" y="24"/>
                    </a:lnTo>
                    <a:lnTo>
                      <a:pt x="811" y="26"/>
                    </a:lnTo>
                    <a:lnTo>
                      <a:pt x="809" y="27"/>
                    </a:lnTo>
                    <a:lnTo>
                      <a:pt x="807" y="29"/>
                    </a:lnTo>
                    <a:lnTo>
                      <a:pt x="805" y="29"/>
                    </a:lnTo>
                    <a:lnTo>
                      <a:pt x="803" y="30"/>
                    </a:lnTo>
                    <a:lnTo>
                      <a:pt x="802" y="30"/>
                    </a:lnTo>
                    <a:lnTo>
                      <a:pt x="800" y="30"/>
                    </a:lnTo>
                    <a:lnTo>
                      <a:pt x="798" y="29"/>
                    </a:lnTo>
                    <a:lnTo>
                      <a:pt x="796" y="29"/>
                    </a:lnTo>
                    <a:lnTo>
                      <a:pt x="794" y="28"/>
                    </a:lnTo>
                    <a:lnTo>
                      <a:pt x="793" y="27"/>
                    </a:lnTo>
                    <a:lnTo>
                      <a:pt x="791" y="25"/>
                    </a:lnTo>
                    <a:lnTo>
                      <a:pt x="789" y="23"/>
                    </a:lnTo>
                    <a:lnTo>
                      <a:pt x="787" y="21"/>
                    </a:lnTo>
                    <a:lnTo>
                      <a:pt x="785" y="20"/>
                    </a:lnTo>
                    <a:lnTo>
                      <a:pt x="783" y="17"/>
                    </a:lnTo>
                    <a:lnTo>
                      <a:pt x="782" y="15"/>
                    </a:lnTo>
                    <a:lnTo>
                      <a:pt x="780" y="13"/>
                    </a:lnTo>
                    <a:lnTo>
                      <a:pt x="778" y="11"/>
                    </a:lnTo>
                    <a:lnTo>
                      <a:pt x="776" y="9"/>
                    </a:lnTo>
                    <a:lnTo>
                      <a:pt x="774" y="8"/>
                    </a:lnTo>
                    <a:lnTo>
                      <a:pt x="772" y="6"/>
                    </a:lnTo>
                    <a:lnTo>
                      <a:pt x="770" y="5"/>
                    </a:lnTo>
                    <a:lnTo>
                      <a:pt x="769" y="3"/>
                    </a:lnTo>
                    <a:lnTo>
                      <a:pt x="760" y="3"/>
                    </a:lnTo>
                    <a:lnTo>
                      <a:pt x="752" y="1"/>
                    </a:lnTo>
                    <a:lnTo>
                      <a:pt x="743" y="1"/>
                    </a:lnTo>
                    <a:lnTo>
                      <a:pt x="734" y="0"/>
                    </a:lnTo>
                    <a:lnTo>
                      <a:pt x="722" y="1"/>
                    </a:lnTo>
                    <a:lnTo>
                      <a:pt x="712" y="1"/>
                    </a:lnTo>
                    <a:lnTo>
                      <a:pt x="700" y="3"/>
                    </a:lnTo>
                    <a:lnTo>
                      <a:pt x="690" y="3"/>
                    </a:lnTo>
                    <a:lnTo>
                      <a:pt x="679" y="7"/>
                    </a:lnTo>
                    <a:lnTo>
                      <a:pt x="668" y="9"/>
                    </a:lnTo>
                    <a:lnTo>
                      <a:pt x="658" y="12"/>
                    </a:lnTo>
                    <a:lnTo>
                      <a:pt x="649" y="14"/>
                    </a:lnTo>
                    <a:lnTo>
                      <a:pt x="640" y="18"/>
                    </a:lnTo>
                    <a:lnTo>
                      <a:pt x="632" y="21"/>
                    </a:lnTo>
                    <a:lnTo>
                      <a:pt x="624" y="25"/>
                    </a:lnTo>
                    <a:lnTo>
                      <a:pt x="619" y="29"/>
                    </a:lnTo>
                    <a:lnTo>
                      <a:pt x="617" y="31"/>
                    </a:lnTo>
                    <a:lnTo>
                      <a:pt x="617" y="31"/>
                    </a:lnTo>
                    <a:lnTo>
                      <a:pt x="616" y="33"/>
                    </a:lnTo>
                    <a:lnTo>
                      <a:pt x="616" y="33"/>
                    </a:lnTo>
                    <a:lnTo>
                      <a:pt x="614" y="35"/>
                    </a:lnTo>
                    <a:lnTo>
                      <a:pt x="614" y="37"/>
                    </a:lnTo>
                    <a:lnTo>
                      <a:pt x="613" y="39"/>
                    </a:lnTo>
                    <a:lnTo>
                      <a:pt x="613" y="39"/>
                    </a:lnTo>
                    <a:lnTo>
                      <a:pt x="611" y="41"/>
                    </a:lnTo>
                    <a:lnTo>
                      <a:pt x="611" y="43"/>
                    </a:lnTo>
                    <a:lnTo>
                      <a:pt x="611" y="45"/>
                    </a:lnTo>
                    <a:lnTo>
                      <a:pt x="611" y="45"/>
                    </a:lnTo>
                    <a:lnTo>
                      <a:pt x="610" y="47"/>
                    </a:lnTo>
                    <a:lnTo>
                      <a:pt x="610" y="48"/>
                    </a:lnTo>
                    <a:lnTo>
                      <a:pt x="610" y="50"/>
                    </a:lnTo>
                    <a:lnTo>
                      <a:pt x="610" y="50"/>
                    </a:lnTo>
                    <a:lnTo>
                      <a:pt x="611" y="53"/>
                    </a:lnTo>
                    <a:lnTo>
                      <a:pt x="613" y="57"/>
                    </a:lnTo>
                    <a:lnTo>
                      <a:pt x="615" y="61"/>
                    </a:lnTo>
                    <a:lnTo>
                      <a:pt x="618" y="64"/>
                    </a:lnTo>
                    <a:lnTo>
                      <a:pt x="621" y="68"/>
                    </a:lnTo>
                    <a:lnTo>
                      <a:pt x="625" y="71"/>
                    </a:lnTo>
                    <a:lnTo>
                      <a:pt x="628" y="75"/>
                    </a:lnTo>
                    <a:lnTo>
                      <a:pt x="632" y="79"/>
                    </a:lnTo>
                    <a:lnTo>
                      <a:pt x="636" y="83"/>
                    </a:lnTo>
                    <a:lnTo>
                      <a:pt x="640" y="87"/>
                    </a:lnTo>
                    <a:lnTo>
                      <a:pt x="644" y="90"/>
                    </a:lnTo>
                    <a:lnTo>
                      <a:pt x="648" y="93"/>
                    </a:lnTo>
                    <a:lnTo>
                      <a:pt x="652" y="97"/>
                    </a:lnTo>
                    <a:lnTo>
                      <a:pt x="656" y="99"/>
                    </a:lnTo>
                    <a:lnTo>
                      <a:pt x="658" y="103"/>
                    </a:lnTo>
                    <a:lnTo>
                      <a:pt x="662" y="105"/>
                    </a:lnTo>
                    <a:lnTo>
                      <a:pt x="664" y="107"/>
                    </a:lnTo>
                    <a:lnTo>
                      <a:pt x="667" y="109"/>
                    </a:lnTo>
                    <a:lnTo>
                      <a:pt x="670" y="111"/>
                    </a:lnTo>
                    <a:lnTo>
                      <a:pt x="674" y="113"/>
                    </a:lnTo>
                    <a:lnTo>
                      <a:pt x="678" y="116"/>
                    </a:lnTo>
                    <a:lnTo>
                      <a:pt x="682" y="118"/>
                    </a:lnTo>
                    <a:lnTo>
                      <a:pt x="685" y="120"/>
                    </a:lnTo>
                    <a:lnTo>
                      <a:pt x="690" y="122"/>
                    </a:lnTo>
                    <a:lnTo>
                      <a:pt x="694" y="126"/>
                    </a:lnTo>
                    <a:lnTo>
                      <a:pt x="698" y="128"/>
                    </a:lnTo>
                    <a:lnTo>
                      <a:pt x="702" y="131"/>
                    </a:lnTo>
                    <a:lnTo>
                      <a:pt x="706" y="133"/>
                    </a:lnTo>
                    <a:lnTo>
                      <a:pt x="708" y="136"/>
                    </a:lnTo>
                    <a:lnTo>
                      <a:pt x="712" y="138"/>
                    </a:lnTo>
                    <a:lnTo>
                      <a:pt x="714" y="140"/>
                    </a:lnTo>
                    <a:lnTo>
                      <a:pt x="717" y="142"/>
                    </a:lnTo>
                    <a:lnTo>
                      <a:pt x="718" y="146"/>
                    </a:lnTo>
                    <a:lnTo>
                      <a:pt x="720" y="148"/>
                    </a:lnTo>
                    <a:lnTo>
                      <a:pt x="722" y="152"/>
                    </a:lnTo>
                    <a:lnTo>
                      <a:pt x="724" y="156"/>
                    </a:lnTo>
                    <a:lnTo>
                      <a:pt x="724" y="161"/>
                    </a:lnTo>
                    <a:lnTo>
                      <a:pt x="726" y="165"/>
                    </a:lnTo>
                    <a:lnTo>
                      <a:pt x="726" y="170"/>
                    </a:lnTo>
                    <a:lnTo>
                      <a:pt x="728" y="174"/>
                    </a:lnTo>
                    <a:lnTo>
                      <a:pt x="728" y="179"/>
                    </a:lnTo>
                    <a:lnTo>
                      <a:pt x="729" y="183"/>
                    </a:lnTo>
                    <a:lnTo>
                      <a:pt x="729" y="187"/>
                    </a:lnTo>
                    <a:lnTo>
                      <a:pt x="730" y="191"/>
                    </a:lnTo>
                    <a:lnTo>
                      <a:pt x="730" y="194"/>
                    </a:lnTo>
                    <a:lnTo>
                      <a:pt x="730" y="196"/>
                    </a:lnTo>
                    <a:lnTo>
                      <a:pt x="730" y="197"/>
                    </a:lnTo>
                    <a:lnTo>
                      <a:pt x="732" y="197"/>
                    </a:lnTo>
                    <a:lnTo>
                      <a:pt x="726" y="203"/>
                    </a:lnTo>
                    <a:lnTo>
                      <a:pt x="725" y="203"/>
                    </a:lnTo>
                    <a:lnTo>
                      <a:pt x="724" y="201"/>
                    </a:lnTo>
                    <a:lnTo>
                      <a:pt x="722" y="199"/>
                    </a:lnTo>
                    <a:lnTo>
                      <a:pt x="721" y="196"/>
                    </a:lnTo>
                    <a:lnTo>
                      <a:pt x="718" y="193"/>
                    </a:lnTo>
                    <a:lnTo>
                      <a:pt x="716" y="188"/>
                    </a:lnTo>
                    <a:lnTo>
                      <a:pt x="712" y="184"/>
                    </a:lnTo>
                    <a:lnTo>
                      <a:pt x="710" y="179"/>
                    </a:lnTo>
                    <a:lnTo>
                      <a:pt x="706" y="175"/>
                    </a:lnTo>
                    <a:lnTo>
                      <a:pt x="703" y="171"/>
                    </a:lnTo>
                    <a:lnTo>
                      <a:pt x="699" y="167"/>
                    </a:lnTo>
                    <a:lnTo>
                      <a:pt x="696" y="163"/>
                    </a:lnTo>
                    <a:lnTo>
                      <a:pt x="692" y="161"/>
                    </a:lnTo>
                    <a:lnTo>
                      <a:pt x="688" y="158"/>
                    </a:lnTo>
                    <a:lnTo>
                      <a:pt x="685" y="157"/>
                    </a:lnTo>
                    <a:lnTo>
                      <a:pt x="683" y="156"/>
                    </a:lnTo>
                    <a:lnTo>
                      <a:pt x="681" y="157"/>
                    </a:lnTo>
                    <a:lnTo>
                      <a:pt x="679" y="158"/>
                    </a:lnTo>
                    <a:lnTo>
                      <a:pt x="677" y="160"/>
                    </a:lnTo>
                    <a:lnTo>
                      <a:pt x="677" y="161"/>
                    </a:lnTo>
                    <a:lnTo>
                      <a:pt x="675" y="165"/>
                    </a:lnTo>
                    <a:lnTo>
                      <a:pt x="674" y="166"/>
                    </a:lnTo>
                    <a:lnTo>
                      <a:pt x="672" y="168"/>
                    </a:lnTo>
                    <a:lnTo>
                      <a:pt x="672" y="170"/>
                    </a:lnTo>
                    <a:lnTo>
                      <a:pt x="670" y="173"/>
                    </a:lnTo>
                    <a:lnTo>
                      <a:pt x="669" y="175"/>
                    </a:lnTo>
                    <a:lnTo>
                      <a:pt x="667" y="177"/>
                    </a:lnTo>
                    <a:lnTo>
                      <a:pt x="667" y="179"/>
                    </a:lnTo>
                    <a:lnTo>
                      <a:pt x="665" y="181"/>
                    </a:lnTo>
                    <a:lnTo>
                      <a:pt x="664" y="182"/>
                    </a:lnTo>
                    <a:lnTo>
                      <a:pt x="662" y="183"/>
                    </a:lnTo>
                    <a:lnTo>
                      <a:pt x="662" y="183"/>
                    </a:lnTo>
                    <a:lnTo>
                      <a:pt x="658" y="183"/>
                    </a:lnTo>
                    <a:lnTo>
                      <a:pt x="657" y="182"/>
                    </a:lnTo>
                    <a:lnTo>
                      <a:pt x="654" y="180"/>
                    </a:lnTo>
                    <a:lnTo>
                      <a:pt x="652" y="178"/>
                    </a:lnTo>
                    <a:lnTo>
                      <a:pt x="648" y="176"/>
                    </a:lnTo>
                    <a:lnTo>
                      <a:pt x="646" y="173"/>
                    </a:lnTo>
                    <a:lnTo>
                      <a:pt x="644" y="170"/>
                    </a:lnTo>
                    <a:lnTo>
                      <a:pt x="642" y="166"/>
                    </a:lnTo>
                    <a:lnTo>
                      <a:pt x="638" y="164"/>
                    </a:lnTo>
                    <a:lnTo>
                      <a:pt x="637" y="160"/>
                    </a:lnTo>
                    <a:lnTo>
                      <a:pt x="635" y="156"/>
                    </a:lnTo>
                    <a:lnTo>
                      <a:pt x="633" y="153"/>
                    </a:lnTo>
                    <a:lnTo>
                      <a:pt x="630" y="151"/>
                    </a:lnTo>
                    <a:lnTo>
                      <a:pt x="628" y="147"/>
                    </a:lnTo>
                    <a:lnTo>
                      <a:pt x="627" y="145"/>
                    </a:lnTo>
                    <a:lnTo>
                      <a:pt x="625" y="142"/>
                    </a:lnTo>
                    <a:lnTo>
                      <a:pt x="621" y="142"/>
                    </a:lnTo>
                    <a:lnTo>
                      <a:pt x="618" y="140"/>
                    </a:lnTo>
                    <a:lnTo>
                      <a:pt x="615" y="138"/>
                    </a:lnTo>
                    <a:lnTo>
                      <a:pt x="612" y="136"/>
                    </a:lnTo>
                    <a:lnTo>
                      <a:pt x="607" y="136"/>
                    </a:lnTo>
                    <a:lnTo>
                      <a:pt x="603" y="135"/>
                    </a:lnTo>
                    <a:lnTo>
                      <a:pt x="599" y="133"/>
                    </a:lnTo>
                    <a:lnTo>
                      <a:pt x="595" y="131"/>
                    </a:lnTo>
                    <a:lnTo>
                      <a:pt x="590" y="130"/>
                    </a:lnTo>
                    <a:lnTo>
                      <a:pt x="586" y="128"/>
                    </a:lnTo>
                    <a:lnTo>
                      <a:pt x="582" y="126"/>
                    </a:lnTo>
                    <a:lnTo>
                      <a:pt x="579" y="125"/>
                    </a:lnTo>
                    <a:lnTo>
                      <a:pt x="575" y="123"/>
                    </a:lnTo>
                    <a:lnTo>
                      <a:pt x="572" y="121"/>
                    </a:lnTo>
                    <a:lnTo>
                      <a:pt x="570" y="119"/>
                    </a:lnTo>
                    <a:lnTo>
                      <a:pt x="570" y="116"/>
                    </a:lnTo>
                    <a:lnTo>
                      <a:pt x="568" y="116"/>
                    </a:lnTo>
                    <a:lnTo>
                      <a:pt x="568" y="114"/>
                    </a:lnTo>
                    <a:lnTo>
                      <a:pt x="568" y="112"/>
                    </a:lnTo>
                    <a:lnTo>
                      <a:pt x="568" y="110"/>
                    </a:lnTo>
                    <a:lnTo>
                      <a:pt x="568" y="108"/>
                    </a:lnTo>
                    <a:lnTo>
                      <a:pt x="568" y="105"/>
                    </a:lnTo>
                    <a:lnTo>
                      <a:pt x="568" y="103"/>
                    </a:lnTo>
                    <a:lnTo>
                      <a:pt x="569" y="99"/>
                    </a:lnTo>
                    <a:lnTo>
                      <a:pt x="569" y="98"/>
                    </a:lnTo>
                    <a:lnTo>
                      <a:pt x="569" y="96"/>
                    </a:lnTo>
                    <a:lnTo>
                      <a:pt x="569" y="94"/>
                    </a:lnTo>
                    <a:lnTo>
                      <a:pt x="570" y="91"/>
                    </a:lnTo>
                    <a:lnTo>
                      <a:pt x="570" y="89"/>
                    </a:lnTo>
                    <a:lnTo>
                      <a:pt x="570" y="87"/>
                    </a:lnTo>
                    <a:lnTo>
                      <a:pt x="570" y="86"/>
                    </a:lnTo>
                    <a:lnTo>
                      <a:pt x="570" y="84"/>
                    </a:lnTo>
                    <a:lnTo>
                      <a:pt x="567" y="84"/>
                    </a:lnTo>
                    <a:lnTo>
                      <a:pt x="565" y="84"/>
                    </a:lnTo>
                    <a:lnTo>
                      <a:pt x="562" y="85"/>
                    </a:lnTo>
                    <a:lnTo>
                      <a:pt x="560" y="85"/>
                    </a:lnTo>
                    <a:lnTo>
                      <a:pt x="557" y="87"/>
                    </a:lnTo>
                    <a:lnTo>
                      <a:pt x="554" y="88"/>
                    </a:lnTo>
                    <a:lnTo>
                      <a:pt x="550" y="90"/>
                    </a:lnTo>
                    <a:lnTo>
                      <a:pt x="549" y="91"/>
                    </a:lnTo>
                    <a:lnTo>
                      <a:pt x="545" y="95"/>
                    </a:lnTo>
                    <a:lnTo>
                      <a:pt x="541" y="97"/>
                    </a:lnTo>
                    <a:lnTo>
                      <a:pt x="538" y="98"/>
                    </a:lnTo>
                    <a:lnTo>
                      <a:pt x="536" y="100"/>
                    </a:lnTo>
                    <a:lnTo>
                      <a:pt x="532" y="102"/>
                    </a:lnTo>
                    <a:lnTo>
                      <a:pt x="529" y="103"/>
                    </a:lnTo>
                    <a:lnTo>
                      <a:pt x="526" y="105"/>
                    </a:lnTo>
                    <a:lnTo>
                      <a:pt x="524" y="105"/>
                    </a:lnTo>
                    <a:lnTo>
                      <a:pt x="520" y="105"/>
                    </a:lnTo>
                    <a:lnTo>
                      <a:pt x="518" y="105"/>
                    </a:lnTo>
                    <a:lnTo>
                      <a:pt x="514" y="105"/>
                    </a:lnTo>
                    <a:lnTo>
                      <a:pt x="512" y="103"/>
                    </a:lnTo>
                    <a:lnTo>
                      <a:pt x="509" y="102"/>
                    </a:lnTo>
                    <a:lnTo>
                      <a:pt x="506" y="100"/>
                    </a:lnTo>
                    <a:lnTo>
                      <a:pt x="502" y="98"/>
                    </a:lnTo>
                    <a:lnTo>
                      <a:pt x="500" y="97"/>
                    </a:lnTo>
                    <a:lnTo>
                      <a:pt x="496" y="97"/>
                    </a:lnTo>
                    <a:lnTo>
                      <a:pt x="492" y="95"/>
                    </a:lnTo>
                    <a:lnTo>
                      <a:pt x="489" y="93"/>
                    </a:lnTo>
                    <a:lnTo>
                      <a:pt x="486" y="91"/>
                    </a:lnTo>
                    <a:lnTo>
                      <a:pt x="482" y="91"/>
                    </a:lnTo>
                    <a:lnTo>
                      <a:pt x="480" y="91"/>
                    </a:lnTo>
                    <a:lnTo>
                      <a:pt x="477" y="91"/>
                    </a:lnTo>
                    <a:lnTo>
                      <a:pt x="475" y="90"/>
                    </a:lnTo>
                    <a:lnTo>
                      <a:pt x="471" y="92"/>
                    </a:lnTo>
                    <a:lnTo>
                      <a:pt x="467" y="93"/>
                    </a:lnTo>
                    <a:lnTo>
                      <a:pt x="462" y="95"/>
                    </a:lnTo>
                    <a:lnTo>
                      <a:pt x="459" y="96"/>
                    </a:lnTo>
                    <a:lnTo>
                      <a:pt x="453" y="99"/>
                    </a:lnTo>
                    <a:lnTo>
                      <a:pt x="450" y="101"/>
                    </a:lnTo>
                    <a:lnTo>
                      <a:pt x="444" y="103"/>
                    </a:lnTo>
                    <a:lnTo>
                      <a:pt x="440" y="105"/>
                    </a:lnTo>
                    <a:lnTo>
                      <a:pt x="434" y="109"/>
                    </a:lnTo>
                    <a:lnTo>
                      <a:pt x="431" y="112"/>
                    </a:lnTo>
                    <a:lnTo>
                      <a:pt x="427" y="116"/>
                    </a:lnTo>
                    <a:lnTo>
                      <a:pt x="424" y="118"/>
                    </a:lnTo>
                    <a:lnTo>
                      <a:pt x="421" y="121"/>
                    </a:lnTo>
                    <a:lnTo>
                      <a:pt x="419" y="125"/>
                    </a:lnTo>
                    <a:lnTo>
                      <a:pt x="417" y="128"/>
                    </a:lnTo>
                    <a:lnTo>
                      <a:pt x="417" y="130"/>
                    </a:lnTo>
                    <a:lnTo>
                      <a:pt x="417" y="134"/>
                    </a:lnTo>
                    <a:lnTo>
                      <a:pt x="418" y="137"/>
                    </a:lnTo>
                    <a:lnTo>
                      <a:pt x="420" y="141"/>
                    </a:lnTo>
                    <a:lnTo>
                      <a:pt x="423" y="143"/>
                    </a:lnTo>
                    <a:lnTo>
                      <a:pt x="426" y="146"/>
                    </a:lnTo>
                    <a:lnTo>
                      <a:pt x="430" y="148"/>
                    </a:lnTo>
                    <a:lnTo>
                      <a:pt x="433" y="152"/>
                    </a:lnTo>
                    <a:lnTo>
                      <a:pt x="438" y="154"/>
                    </a:lnTo>
                    <a:lnTo>
                      <a:pt x="442" y="157"/>
                    </a:lnTo>
                    <a:lnTo>
                      <a:pt x="446" y="160"/>
                    </a:lnTo>
                    <a:lnTo>
                      <a:pt x="450" y="164"/>
                    </a:lnTo>
                    <a:lnTo>
                      <a:pt x="456" y="166"/>
                    </a:lnTo>
                    <a:lnTo>
                      <a:pt x="460" y="169"/>
                    </a:lnTo>
                    <a:lnTo>
                      <a:pt x="463" y="171"/>
                    </a:lnTo>
                    <a:lnTo>
                      <a:pt x="466" y="175"/>
                    </a:lnTo>
                    <a:lnTo>
                      <a:pt x="470" y="176"/>
                    </a:lnTo>
                    <a:lnTo>
                      <a:pt x="470" y="178"/>
                    </a:lnTo>
                    <a:lnTo>
                      <a:pt x="471" y="179"/>
                    </a:lnTo>
                    <a:lnTo>
                      <a:pt x="471" y="181"/>
                    </a:lnTo>
                    <a:lnTo>
                      <a:pt x="472" y="182"/>
                    </a:lnTo>
                    <a:lnTo>
                      <a:pt x="472" y="184"/>
                    </a:lnTo>
                    <a:lnTo>
                      <a:pt x="474" y="186"/>
                    </a:lnTo>
                    <a:lnTo>
                      <a:pt x="476" y="188"/>
                    </a:lnTo>
                    <a:lnTo>
                      <a:pt x="478" y="190"/>
                    </a:lnTo>
                    <a:lnTo>
                      <a:pt x="478" y="193"/>
                    </a:lnTo>
                    <a:lnTo>
                      <a:pt x="480" y="195"/>
                    </a:lnTo>
                    <a:lnTo>
                      <a:pt x="481" y="197"/>
                    </a:lnTo>
                    <a:lnTo>
                      <a:pt x="482" y="199"/>
                    </a:lnTo>
                    <a:lnTo>
                      <a:pt x="482" y="201"/>
                    </a:lnTo>
                    <a:lnTo>
                      <a:pt x="483" y="201"/>
                    </a:lnTo>
                    <a:lnTo>
                      <a:pt x="483" y="203"/>
                    </a:lnTo>
                    <a:lnTo>
                      <a:pt x="484" y="203"/>
                    </a:lnTo>
                    <a:lnTo>
                      <a:pt x="481" y="204"/>
                    </a:lnTo>
                    <a:lnTo>
                      <a:pt x="478" y="203"/>
                    </a:lnTo>
                    <a:lnTo>
                      <a:pt x="472" y="202"/>
                    </a:lnTo>
                    <a:lnTo>
                      <a:pt x="469" y="198"/>
                    </a:lnTo>
                    <a:lnTo>
                      <a:pt x="462" y="195"/>
                    </a:lnTo>
                    <a:lnTo>
                      <a:pt x="457" y="191"/>
                    </a:lnTo>
                    <a:lnTo>
                      <a:pt x="450" y="186"/>
                    </a:lnTo>
                    <a:lnTo>
                      <a:pt x="444" y="181"/>
                    </a:lnTo>
                    <a:lnTo>
                      <a:pt x="437" y="176"/>
                    </a:lnTo>
                    <a:lnTo>
                      <a:pt x="430" y="171"/>
                    </a:lnTo>
                    <a:lnTo>
                      <a:pt x="423" y="165"/>
                    </a:lnTo>
                    <a:lnTo>
                      <a:pt x="417" y="159"/>
                    </a:lnTo>
                    <a:lnTo>
                      <a:pt x="411" y="155"/>
                    </a:lnTo>
                    <a:lnTo>
                      <a:pt x="405" y="149"/>
                    </a:lnTo>
                    <a:lnTo>
                      <a:pt x="401" y="146"/>
                    </a:lnTo>
                    <a:lnTo>
                      <a:pt x="397" y="142"/>
                    </a:lnTo>
                    <a:lnTo>
                      <a:pt x="393" y="141"/>
                    </a:lnTo>
                    <a:lnTo>
                      <a:pt x="392" y="139"/>
                    </a:lnTo>
                    <a:lnTo>
                      <a:pt x="388" y="137"/>
                    </a:lnTo>
                    <a:lnTo>
                      <a:pt x="386" y="134"/>
                    </a:lnTo>
                    <a:lnTo>
                      <a:pt x="382" y="132"/>
                    </a:lnTo>
                    <a:lnTo>
                      <a:pt x="378" y="129"/>
                    </a:lnTo>
                    <a:lnTo>
                      <a:pt x="375" y="127"/>
                    </a:lnTo>
                    <a:lnTo>
                      <a:pt x="373" y="123"/>
                    </a:lnTo>
                    <a:lnTo>
                      <a:pt x="369" y="121"/>
                    </a:lnTo>
                    <a:lnTo>
                      <a:pt x="365" y="119"/>
                    </a:lnTo>
                    <a:lnTo>
                      <a:pt x="362" y="118"/>
                    </a:lnTo>
                    <a:lnTo>
                      <a:pt x="359" y="115"/>
                    </a:lnTo>
                    <a:lnTo>
                      <a:pt x="355" y="114"/>
                    </a:lnTo>
                    <a:lnTo>
                      <a:pt x="353" y="112"/>
                    </a:lnTo>
                    <a:lnTo>
                      <a:pt x="350" y="111"/>
                    </a:lnTo>
                    <a:lnTo>
                      <a:pt x="348" y="110"/>
                    </a:lnTo>
                    <a:lnTo>
                      <a:pt x="344" y="111"/>
                    </a:lnTo>
                    <a:lnTo>
                      <a:pt x="341" y="111"/>
                    </a:lnTo>
                    <a:lnTo>
                      <a:pt x="337" y="113"/>
                    </a:lnTo>
                    <a:lnTo>
                      <a:pt x="335" y="113"/>
                    </a:lnTo>
                    <a:lnTo>
                      <a:pt x="331" y="115"/>
                    </a:lnTo>
                    <a:lnTo>
                      <a:pt x="327" y="116"/>
                    </a:lnTo>
                    <a:lnTo>
                      <a:pt x="324" y="118"/>
                    </a:lnTo>
                    <a:lnTo>
                      <a:pt x="320" y="119"/>
                    </a:lnTo>
                    <a:lnTo>
                      <a:pt x="316" y="123"/>
                    </a:lnTo>
                    <a:lnTo>
                      <a:pt x="313" y="125"/>
                    </a:lnTo>
                    <a:lnTo>
                      <a:pt x="309" y="127"/>
                    </a:lnTo>
                    <a:lnTo>
                      <a:pt x="306" y="129"/>
                    </a:lnTo>
                    <a:lnTo>
                      <a:pt x="302" y="131"/>
                    </a:lnTo>
                    <a:lnTo>
                      <a:pt x="300" y="133"/>
                    </a:lnTo>
                    <a:lnTo>
                      <a:pt x="298" y="135"/>
                    </a:lnTo>
                    <a:lnTo>
                      <a:pt x="296" y="136"/>
                    </a:lnTo>
                    <a:lnTo>
                      <a:pt x="292" y="140"/>
                    </a:lnTo>
                    <a:lnTo>
                      <a:pt x="290" y="143"/>
                    </a:lnTo>
                    <a:lnTo>
                      <a:pt x="287" y="146"/>
                    </a:lnTo>
                    <a:lnTo>
                      <a:pt x="285" y="149"/>
                    </a:lnTo>
                    <a:lnTo>
                      <a:pt x="282" y="154"/>
                    </a:lnTo>
                    <a:lnTo>
                      <a:pt x="280" y="157"/>
                    </a:lnTo>
                    <a:lnTo>
                      <a:pt x="278" y="161"/>
                    </a:lnTo>
                    <a:lnTo>
                      <a:pt x="276" y="165"/>
                    </a:lnTo>
                    <a:lnTo>
                      <a:pt x="273" y="171"/>
                    </a:lnTo>
                    <a:lnTo>
                      <a:pt x="271" y="175"/>
                    </a:lnTo>
                    <a:lnTo>
                      <a:pt x="269" y="179"/>
                    </a:lnTo>
                    <a:lnTo>
                      <a:pt x="268" y="183"/>
                    </a:lnTo>
                    <a:lnTo>
                      <a:pt x="266" y="186"/>
                    </a:lnTo>
                    <a:lnTo>
                      <a:pt x="266" y="190"/>
                    </a:lnTo>
                    <a:lnTo>
                      <a:pt x="266" y="194"/>
                    </a:lnTo>
                    <a:lnTo>
                      <a:pt x="267" y="197"/>
                    </a:lnTo>
                    <a:lnTo>
                      <a:pt x="267" y="199"/>
                    </a:lnTo>
                    <a:lnTo>
                      <a:pt x="268" y="201"/>
                    </a:lnTo>
                    <a:lnTo>
                      <a:pt x="270" y="203"/>
                    </a:lnTo>
                    <a:lnTo>
                      <a:pt x="273" y="204"/>
                    </a:lnTo>
                    <a:lnTo>
                      <a:pt x="275" y="206"/>
                    </a:lnTo>
                    <a:lnTo>
                      <a:pt x="278" y="208"/>
                    </a:lnTo>
                    <a:lnTo>
                      <a:pt x="281" y="210"/>
                    </a:lnTo>
                    <a:lnTo>
                      <a:pt x="285" y="211"/>
                    </a:lnTo>
                    <a:lnTo>
                      <a:pt x="287" y="213"/>
                    </a:lnTo>
                    <a:lnTo>
                      <a:pt x="291" y="215"/>
                    </a:lnTo>
                    <a:lnTo>
                      <a:pt x="295" y="217"/>
                    </a:lnTo>
                    <a:lnTo>
                      <a:pt x="298" y="218"/>
                    </a:lnTo>
                    <a:lnTo>
                      <a:pt x="300" y="220"/>
                    </a:lnTo>
                    <a:lnTo>
                      <a:pt x="304" y="221"/>
                    </a:lnTo>
                    <a:lnTo>
                      <a:pt x="306" y="223"/>
                    </a:lnTo>
                    <a:lnTo>
                      <a:pt x="310" y="223"/>
                    </a:lnTo>
                    <a:lnTo>
                      <a:pt x="314" y="224"/>
                    </a:lnTo>
                    <a:lnTo>
                      <a:pt x="320" y="224"/>
                    </a:lnTo>
                    <a:lnTo>
                      <a:pt x="325" y="224"/>
                    </a:lnTo>
                    <a:lnTo>
                      <a:pt x="332" y="224"/>
                    </a:lnTo>
                    <a:lnTo>
                      <a:pt x="337" y="224"/>
                    </a:lnTo>
                    <a:lnTo>
                      <a:pt x="345" y="223"/>
                    </a:lnTo>
                    <a:lnTo>
                      <a:pt x="352" y="222"/>
                    </a:lnTo>
                    <a:lnTo>
                      <a:pt x="359" y="220"/>
                    </a:lnTo>
                    <a:lnTo>
                      <a:pt x="365" y="220"/>
                    </a:lnTo>
                    <a:lnTo>
                      <a:pt x="372" y="219"/>
                    </a:lnTo>
                    <a:lnTo>
                      <a:pt x="378" y="219"/>
                    </a:lnTo>
                    <a:lnTo>
                      <a:pt x="384" y="218"/>
                    </a:lnTo>
                    <a:lnTo>
                      <a:pt x="390" y="219"/>
                    </a:lnTo>
                    <a:lnTo>
                      <a:pt x="395" y="219"/>
                    </a:lnTo>
                    <a:lnTo>
                      <a:pt x="399" y="221"/>
                    </a:lnTo>
                    <a:lnTo>
                      <a:pt x="403" y="223"/>
                    </a:lnTo>
                    <a:lnTo>
                      <a:pt x="403" y="225"/>
                    </a:lnTo>
                    <a:lnTo>
                      <a:pt x="404" y="227"/>
                    </a:lnTo>
                    <a:lnTo>
                      <a:pt x="404" y="229"/>
                    </a:lnTo>
                    <a:lnTo>
                      <a:pt x="406" y="231"/>
                    </a:lnTo>
                    <a:lnTo>
                      <a:pt x="406" y="235"/>
                    </a:lnTo>
                    <a:lnTo>
                      <a:pt x="406" y="238"/>
                    </a:lnTo>
                    <a:lnTo>
                      <a:pt x="406" y="242"/>
                    </a:lnTo>
                    <a:lnTo>
                      <a:pt x="408" y="244"/>
                    </a:lnTo>
                    <a:lnTo>
                      <a:pt x="408" y="247"/>
                    </a:lnTo>
                    <a:lnTo>
                      <a:pt x="408" y="251"/>
                    </a:lnTo>
                    <a:lnTo>
                      <a:pt x="408" y="255"/>
                    </a:lnTo>
                    <a:lnTo>
                      <a:pt x="408" y="258"/>
                    </a:lnTo>
                    <a:lnTo>
                      <a:pt x="408" y="262"/>
                    </a:lnTo>
                    <a:lnTo>
                      <a:pt x="409" y="264"/>
                    </a:lnTo>
                    <a:lnTo>
                      <a:pt x="410" y="267"/>
                    </a:lnTo>
                    <a:lnTo>
                      <a:pt x="412" y="269"/>
                    </a:lnTo>
                    <a:lnTo>
                      <a:pt x="412" y="272"/>
                    </a:lnTo>
                    <a:lnTo>
                      <a:pt x="414" y="275"/>
                    </a:lnTo>
                    <a:lnTo>
                      <a:pt x="416" y="279"/>
                    </a:lnTo>
                    <a:lnTo>
                      <a:pt x="420" y="281"/>
                    </a:lnTo>
                    <a:lnTo>
                      <a:pt x="423" y="284"/>
                    </a:lnTo>
                    <a:lnTo>
                      <a:pt x="427" y="288"/>
                    </a:lnTo>
                    <a:lnTo>
                      <a:pt x="431" y="292"/>
                    </a:lnTo>
                    <a:lnTo>
                      <a:pt x="436" y="294"/>
                    </a:lnTo>
                    <a:lnTo>
                      <a:pt x="439" y="298"/>
                    </a:lnTo>
                    <a:lnTo>
                      <a:pt x="443" y="302"/>
                    </a:lnTo>
                    <a:lnTo>
                      <a:pt x="445" y="305"/>
                    </a:lnTo>
                    <a:lnTo>
                      <a:pt x="449" y="307"/>
                    </a:lnTo>
                    <a:lnTo>
                      <a:pt x="451" y="311"/>
                    </a:lnTo>
                    <a:lnTo>
                      <a:pt x="453" y="312"/>
                    </a:lnTo>
                    <a:lnTo>
                      <a:pt x="453" y="314"/>
                    </a:lnTo>
                    <a:lnTo>
                      <a:pt x="454" y="315"/>
                    </a:lnTo>
                    <a:lnTo>
                      <a:pt x="451" y="317"/>
                    </a:lnTo>
                    <a:lnTo>
                      <a:pt x="448" y="317"/>
                    </a:lnTo>
                    <a:lnTo>
                      <a:pt x="443" y="316"/>
                    </a:lnTo>
                    <a:lnTo>
                      <a:pt x="437" y="314"/>
                    </a:lnTo>
                    <a:lnTo>
                      <a:pt x="430" y="312"/>
                    </a:lnTo>
                    <a:lnTo>
                      <a:pt x="422" y="309"/>
                    </a:lnTo>
                    <a:lnTo>
                      <a:pt x="413" y="305"/>
                    </a:lnTo>
                    <a:lnTo>
                      <a:pt x="406" y="301"/>
                    </a:lnTo>
                    <a:lnTo>
                      <a:pt x="396" y="297"/>
                    </a:lnTo>
                    <a:lnTo>
                      <a:pt x="388" y="293"/>
                    </a:lnTo>
                    <a:lnTo>
                      <a:pt x="380" y="289"/>
                    </a:lnTo>
                    <a:lnTo>
                      <a:pt x="372" y="284"/>
                    </a:lnTo>
                    <a:lnTo>
                      <a:pt x="365" y="280"/>
                    </a:lnTo>
                    <a:lnTo>
                      <a:pt x="358" y="276"/>
                    </a:lnTo>
                    <a:lnTo>
                      <a:pt x="352" y="272"/>
                    </a:lnTo>
                    <a:lnTo>
                      <a:pt x="348" y="269"/>
                    </a:lnTo>
                    <a:lnTo>
                      <a:pt x="344" y="268"/>
                    </a:lnTo>
                    <a:lnTo>
                      <a:pt x="342" y="266"/>
                    </a:lnTo>
                    <a:lnTo>
                      <a:pt x="340" y="264"/>
                    </a:lnTo>
                    <a:lnTo>
                      <a:pt x="338" y="262"/>
                    </a:lnTo>
                    <a:lnTo>
                      <a:pt x="334" y="260"/>
                    </a:lnTo>
                    <a:lnTo>
                      <a:pt x="332" y="257"/>
                    </a:lnTo>
                    <a:lnTo>
                      <a:pt x="330" y="254"/>
                    </a:lnTo>
                    <a:lnTo>
                      <a:pt x="328" y="251"/>
                    </a:lnTo>
                    <a:lnTo>
                      <a:pt x="325" y="249"/>
                    </a:lnTo>
                    <a:lnTo>
                      <a:pt x="323" y="245"/>
                    </a:lnTo>
                    <a:lnTo>
                      <a:pt x="321" y="244"/>
                    </a:lnTo>
                    <a:lnTo>
                      <a:pt x="319" y="241"/>
                    </a:lnTo>
                    <a:lnTo>
                      <a:pt x="316" y="239"/>
                    </a:lnTo>
                    <a:lnTo>
                      <a:pt x="314" y="237"/>
                    </a:lnTo>
                    <a:lnTo>
                      <a:pt x="312" y="236"/>
                    </a:lnTo>
                    <a:lnTo>
                      <a:pt x="310" y="234"/>
                    </a:lnTo>
                    <a:lnTo>
                      <a:pt x="306" y="235"/>
                    </a:lnTo>
                    <a:lnTo>
                      <a:pt x="305" y="235"/>
                    </a:lnTo>
                    <a:lnTo>
                      <a:pt x="302" y="237"/>
                    </a:lnTo>
                    <a:lnTo>
                      <a:pt x="300" y="237"/>
                    </a:lnTo>
                    <a:lnTo>
                      <a:pt x="296" y="239"/>
                    </a:lnTo>
                    <a:lnTo>
                      <a:pt x="294" y="241"/>
                    </a:lnTo>
                    <a:lnTo>
                      <a:pt x="290" y="243"/>
                    </a:lnTo>
                    <a:lnTo>
                      <a:pt x="288" y="244"/>
                    </a:lnTo>
                    <a:lnTo>
                      <a:pt x="285" y="246"/>
                    </a:lnTo>
                    <a:lnTo>
                      <a:pt x="282" y="248"/>
                    </a:lnTo>
                    <a:lnTo>
                      <a:pt x="278" y="250"/>
                    </a:lnTo>
                    <a:lnTo>
                      <a:pt x="277" y="251"/>
                    </a:lnTo>
                    <a:lnTo>
                      <a:pt x="273" y="253"/>
                    </a:lnTo>
                    <a:lnTo>
                      <a:pt x="271" y="254"/>
                    </a:lnTo>
                    <a:lnTo>
                      <a:pt x="269" y="254"/>
                    </a:lnTo>
                    <a:lnTo>
                      <a:pt x="267" y="254"/>
                    </a:lnTo>
                    <a:lnTo>
                      <a:pt x="264" y="254"/>
                    </a:lnTo>
                    <a:lnTo>
                      <a:pt x="260" y="254"/>
                    </a:lnTo>
                    <a:lnTo>
                      <a:pt x="257" y="253"/>
                    </a:lnTo>
                    <a:lnTo>
                      <a:pt x="254" y="251"/>
                    </a:lnTo>
                    <a:lnTo>
                      <a:pt x="250" y="249"/>
                    </a:lnTo>
                    <a:lnTo>
                      <a:pt x="247" y="247"/>
                    </a:lnTo>
                    <a:lnTo>
                      <a:pt x="243" y="245"/>
                    </a:lnTo>
                    <a:lnTo>
                      <a:pt x="241" y="241"/>
                    </a:lnTo>
                    <a:lnTo>
                      <a:pt x="237" y="239"/>
                    </a:lnTo>
                    <a:lnTo>
                      <a:pt x="234" y="236"/>
                    </a:lnTo>
                    <a:lnTo>
                      <a:pt x="230" y="234"/>
                    </a:lnTo>
                    <a:lnTo>
                      <a:pt x="228" y="231"/>
                    </a:lnTo>
                    <a:lnTo>
                      <a:pt x="224" y="229"/>
                    </a:lnTo>
                    <a:lnTo>
                      <a:pt x="222" y="227"/>
                    </a:lnTo>
                    <a:lnTo>
                      <a:pt x="220" y="225"/>
                    </a:lnTo>
                    <a:lnTo>
                      <a:pt x="218" y="223"/>
                    </a:lnTo>
                    <a:lnTo>
                      <a:pt x="215" y="223"/>
                    </a:lnTo>
                    <a:lnTo>
                      <a:pt x="213" y="221"/>
                    </a:lnTo>
                    <a:lnTo>
                      <a:pt x="211" y="219"/>
                    </a:lnTo>
                    <a:lnTo>
                      <a:pt x="209" y="217"/>
                    </a:lnTo>
                    <a:lnTo>
                      <a:pt x="206" y="215"/>
                    </a:lnTo>
                    <a:lnTo>
                      <a:pt x="204" y="214"/>
                    </a:lnTo>
                    <a:lnTo>
                      <a:pt x="202" y="212"/>
                    </a:lnTo>
                    <a:lnTo>
                      <a:pt x="200" y="210"/>
                    </a:lnTo>
                    <a:lnTo>
                      <a:pt x="197" y="210"/>
                    </a:lnTo>
                    <a:lnTo>
                      <a:pt x="196" y="208"/>
                    </a:lnTo>
                    <a:lnTo>
                      <a:pt x="194" y="206"/>
                    </a:lnTo>
                    <a:lnTo>
                      <a:pt x="192" y="204"/>
                    </a:lnTo>
                    <a:lnTo>
                      <a:pt x="190" y="203"/>
                    </a:lnTo>
                    <a:lnTo>
                      <a:pt x="190" y="201"/>
                    </a:lnTo>
                    <a:lnTo>
                      <a:pt x="189" y="199"/>
                    </a:lnTo>
                    <a:lnTo>
                      <a:pt x="189" y="197"/>
                    </a:lnTo>
                    <a:lnTo>
                      <a:pt x="189" y="194"/>
                    </a:lnTo>
                    <a:lnTo>
                      <a:pt x="191" y="191"/>
                    </a:lnTo>
                    <a:lnTo>
                      <a:pt x="194" y="187"/>
                    </a:lnTo>
                    <a:lnTo>
                      <a:pt x="197" y="183"/>
                    </a:lnTo>
                    <a:lnTo>
                      <a:pt x="201" y="180"/>
                    </a:lnTo>
                    <a:lnTo>
                      <a:pt x="206" y="176"/>
                    </a:lnTo>
                    <a:lnTo>
                      <a:pt x="210" y="173"/>
                    </a:lnTo>
                    <a:lnTo>
                      <a:pt x="216" y="169"/>
                    </a:lnTo>
                    <a:lnTo>
                      <a:pt x="219" y="167"/>
                    </a:lnTo>
                    <a:lnTo>
                      <a:pt x="224" y="163"/>
                    </a:lnTo>
                    <a:lnTo>
                      <a:pt x="228" y="159"/>
                    </a:lnTo>
                    <a:lnTo>
                      <a:pt x="232" y="156"/>
                    </a:lnTo>
                    <a:lnTo>
                      <a:pt x="235" y="153"/>
                    </a:lnTo>
                    <a:lnTo>
                      <a:pt x="237" y="149"/>
                    </a:lnTo>
                    <a:lnTo>
                      <a:pt x="238" y="146"/>
                    </a:lnTo>
                    <a:lnTo>
                      <a:pt x="238" y="142"/>
                    </a:lnTo>
                    <a:lnTo>
                      <a:pt x="237" y="142"/>
                    </a:lnTo>
                    <a:lnTo>
                      <a:pt x="237" y="142"/>
                    </a:lnTo>
                    <a:lnTo>
                      <a:pt x="237" y="142"/>
                    </a:lnTo>
                    <a:lnTo>
                      <a:pt x="237" y="140"/>
                    </a:lnTo>
                    <a:lnTo>
                      <a:pt x="235" y="140"/>
                    </a:lnTo>
                    <a:lnTo>
                      <a:pt x="235" y="140"/>
                    </a:lnTo>
                    <a:lnTo>
                      <a:pt x="233" y="140"/>
                    </a:lnTo>
                    <a:lnTo>
                      <a:pt x="233" y="138"/>
                    </a:lnTo>
                    <a:lnTo>
                      <a:pt x="231" y="138"/>
                    </a:lnTo>
                    <a:lnTo>
                      <a:pt x="230" y="138"/>
                    </a:lnTo>
                    <a:lnTo>
                      <a:pt x="228" y="138"/>
                    </a:lnTo>
                    <a:lnTo>
                      <a:pt x="228" y="137"/>
                    </a:lnTo>
                    <a:lnTo>
                      <a:pt x="226" y="137"/>
                    </a:lnTo>
                    <a:lnTo>
                      <a:pt x="226" y="137"/>
                    </a:lnTo>
                    <a:lnTo>
                      <a:pt x="224" y="137"/>
                    </a:lnTo>
                    <a:lnTo>
                      <a:pt x="224" y="136"/>
                    </a:lnTo>
                    <a:lnTo>
                      <a:pt x="222" y="137"/>
                    </a:lnTo>
                    <a:lnTo>
                      <a:pt x="220" y="137"/>
                    </a:lnTo>
                    <a:lnTo>
                      <a:pt x="218" y="138"/>
                    </a:lnTo>
                    <a:lnTo>
                      <a:pt x="218" y="138"/>
                    </a:lnTo>
                    <a:lnTo>
                      <a:pt x="216" y="140"/>
                    </a:lnTo>
                    <a:lnTo>
                      <a:pt x="215" y="140"/>
                    </a:lnTo>
                    <a:lnTo>
                      <a:pt x="213" y="141"/>
                    </a:lnTo>
                    <a:lnTo>
                      <a:pt x="213" y="141"/>
                    </a:lnTo>
                    <a:lnTo>
                      <a:pt x="211" y="143"/>
                    </a:lnTo>
                    <a:lnTo>
                      <a:pt x="209" y="143"/>
                    </a:lnTo>
                    <a:lnTo>
                      <a:pt x="207" y="143"/>
                    </a:lnTo>
                    <a:lnTo>
                      <a:pt x="207" y="143"/>
                    </a:lnTo>
                    <a:lnTo>
                      <a:pt x="206" y="143"/>
                    </a:lnTo>
                    <a:lnTo>
                      <a:pt x="206" y="143"/>
                    </a:lnTo>
                    <a:lnTo>
                      <a:pt x="204" y="143"/>
                    </a:lnTo>
                    <a:lnTo>
                      <a:pt x="204" y="142"/>
                    </a:lnTo>
                    <a:lnTo>
                      <a:pt x="202" y="142"/>
                    </a:lnTo>
                    <a:lnTo>
                      <a:pt x="200" y="141"/>
                    </a:lnTo>
                    <a:lnTo>
                      <a:pt x="198" y="139"/>
                    </a:lnTo>
                    <a:lnTo>
                      <a:pt x="198" y="136"/>
                    </a:lnTo>
                    <a:lnTo>
                      <a:pt x="196" y="135"/>
                    </a:lnTo>
                    <a:lnTo>
                      <a:pt x="196" y="131"/>
                    </a:lnTo>
                    <a:lnTo>
                      <a:pt x="195" y="129"/>
                    </a:lnTo>
                    <a:lnTo>
                      <a:pt x="195" y="125"/>
                    </a:lnTo>
                    <a:lnTo>
                      <a:pt x="193" y="123"/>
                    </a:lnTo>
                    <a:lnTo>
                      <a:pt x="193" y="120"/>
                    </a:lnTo>
                    <a:lnTo>
                      <a:pt x="192" y="118"/>
                    </a:lnTo>
                    <a:lnTo>
                      <a:pt x="192" y="115"/>
                    </a:lnTo>
                    <a:lnTo>
                      <a:pt x="190" y="114"/>
                    </a:lnTo>
                    <a:lnTo>
                      <a:pt x="190" y="112"/>
                    </a:lnTo>
                    <a:lnTo>
                      <a:pt x="189" y="111"/>
                    </a:lnTo>
                    <a:lnTo>
                      <a:pt x="189" y="110"/>
                    </a:lnTo>
                    <a:lnTo>
                      <a:pt x="188" y="111"/>
                    </a:lnTo>
                    <a:lnTo>
                      <a:pt x="186" y="113"/>
                    </a:lnTo>
                    <a:lnTo>
                      <a:pt x="184" y="116"/>
                    </a:lnTo>
                    <a:lnTo>
                      <a:pt x="184" y="118"/>
                    </a:lnTo>
                    <a:lnTo>
                      <a:pt x="182" y="122"/>
                    </a:lnTo>
                    <a:lnTo>
                      <a:pt x="182" y="126"/>
                    </a:lnTo>
                    <a:lnTo>
                      <a:pt x="182" y="129"/>
                    </a:lnTo>
                    <a:lnTo>
                      <a:pt x="182" y="133"/>
                    </a:lnTo>
                    <a:lnTo>
                      <a:pt x="180" y="139"/>
                    </a:lnTo>
                    <a:lnTo>
                      <a:pt x="180" y="143"/>
                    </a:lnTo>
                    <a:lnTo>
                      <a:pt x="180" y="147"/>
                    </a:lnTo>
                    <a:lnTo>
                      <a:pt x="180" y="151"/>
                    </a:lnTo>
                    <a:lnTo>
                      <a:pt x="178" y="155"/>
                    </a:lnTo>
                    <a:lnTo>
                      <a:pt x="178" y="158"/>
                    </a:lnTo>
                    <a:lnTo>
                      <a:pt x="176" y="161"/>
                    </a:lnTo>
                    <a:lnTo>
                      <a:pt x="175" y="162"/>
                    </a:lnTo>
                    <a:lnTo>
                      <a:pt x="172" y="164"/>
                    </a:lnTo>
                    <a:lnTo>
                      <a:pt x="170" y="165"/>
                    </a:lnTo>
                    <a:lnTo>
                      <a:pt x="168" y="165"/>
                    </a:lnTo>
                    <a:lnTo>
                      <a:pt x="166" y="165"/>
                    </a:lnTo>
                    <a:lnTo>
                      <a:pt x="162" y="165"/>
                    </a:lnTo>
                    <a:lnTo>
                      <a:pt x="159" y="165"/>
                    </a:lnTo>
                    <a:lnTo>
                      <a:pt x="155" y="165"/>
                    </a:lnTo>
                    <a:lnTo>
                      <a:pt x="153" y="164"/>
                    </a:lnTo>
                    <a:lnTo>
                      <a:pt x="149" y="164"/>
                    </a:lnTo>
                    <a:lnTo>
                      <a:pt x="146" y="164"/>
                    </a:lnTo>
                    <a:lnTo>
                      <a:pt x="142" y="164"/>
                    </a:lnTo>
                    <a:lnTo>
                      <a:pt x="140" y="163"/>
                    </a:lnTo>
                    <a:lnTo>
                      <a:pt x="136" y="163"/>
                    </a:lnTo>
                    <a:lnTo>
                      <a:pt x="134" y="163"/>
                    </a:lnTo>
                    <a:lnTo>
                      <a:pt x="132" y="163"/>
                    </a:lnTo>
                    <a:lnTo>
                      <a:pt x="131" y="162"/>
                    </a:lnTo>
                    <a:lnTo>
                      <a:pt x="129" y="163"/>
                    </a:lnTo>
                    <a:lnTo>
                      <a:pt x="127" y="163"/>
                    </a:lnTo>
                    <a:lnTo>
                      <a:pt x="125" y="164"/>
                    </a:lnTo>
                    <a:lnTo>
                      <a:pt x="123" y="164"/>
                    </a:lnTo>
                    <a:lnTo>
                      <a:pt x="121" y="166"/>
                    </a:lnTo>
                    <a:lnTo>
                      <a:pt x="119" y="166"/>
                    </a:lnTo>
                    <a:lnTo>
                      <a:pt x="118" y="166"/>
                    </a:lnTo>
                    <a:lnTo>
                      <a:pt x="116" y="166"/>
                    </a:lnTo>
                    <a:lnTo>
                      <a:pt x="113" y="168"/>
                    </a:lnTo>
                    <a:lnTo>
                      <a:pt x="111" y="169"/>
                    </a:lnTo>
                    <a:lnTo>
                      <a:pt x="110" y="171"/>
                    </a:lnTo>
                    <a:lnTo>
                      <a:pt x="108" y="171"/>
                    </a:lnTo>
                    <a:lnTo>
                      <a:pt x="106" y="173"/>
                    </a:lnTo>
                    <a:lnTo>
                      <a:pt x="104" y="175"/>
                    </a:lnTo>
                    <a:lnTo>
                      <a:pt x="102" y="176"/>
                    </a:lnTo>
                    <a:lnTo>
                      <a:pt x="102" y="176"/>
                    </a:lnTo>
                    <a:lnTo>
                      <a:pt x="101" y="178"/>
                    </a:lnTo>
                    <a:lnTo>
                      <a:pt x="101" y="179"/>
                    </a:lnTo>
                    <a:lnTo>
                      <a:pt x="101" y="181"/>
                    </a:lnTo>
                    <a:lnTo>
                      <a:pt x="101" y="181"/>
                    </a:lnTo>
                    <a:lnTo>
                      <a:pt x="101" y="183"/>
                    </a:lnTo>
                    <a:lnTo>
                      <a:pt x="101" y="184"/>
                    </a:lnTo>
                    <a:lnTo>
                      <a:pt x="101" y="186"/>
                    </a:lnTo>
                    <a:lnTo>
                      <a:pt x="101" y="186"/>
                    </a:lnTo>
                    <a:lnTo>
                      <a:pt x="101" y="187"/>
                    </a:lnTo>
                    <a:lnTo>
                      <a:pt x="101" y="189"/>
                    </a:lnTo>
                    <a:lnTo>
                      <a:pt x="101" y="191"/>
                    </a:lnTo>
                    <a:lnTo>
                      <a:pt x="101" y="192"/>
                    </a:lnTo>
                    <a:lnTo>
                      <a:pt x="101" y="194"/>
                    </a:lnTo>
                    <a:lnTo>
                      <a:pt x="101" y="195"/>
                    </a:lnTo>
                    <a:lnTo>
                      <a:pt x="101" y="197"/>
                    </a:lnTo>
                    <a:lnTo>
                      <a:pt x="102" y="197"/>
                    </a:lnTo>
                    <a:lnTo>
                      <a:pt x="102" y="200"/>
                    </a:lnTo>
                    <a:lnTo>
                      <a:pt x="102" y="202"/>
                    </a:lnTo>
                    <a:lnTo>
                      <a:pt x="102" y="204"/>
                    </a:lnTo>
                    <a:lnTo>
                      <a:pt x="104" y="206"/>
                    </a:lnTo>
                    <a:lnTo>
                      <a:pt x="104" y="210"/>
                    </a:lnTo>
                    <a:lnTo>
                      <a:pt x="106" y="212"/>
                    </a:lnTo>
                    <a:lnTo>
                      <a:pt x="106" y="215"/>
                    </a:lnTo>
                    <a:lnTo>
                      <a:pt x="108" y="217"/>
                    </a:lnTo>
                    <a:lnTo>
                      <a:pt x="108" y="221"/>
                    </a:lnTo>
                    <a:lnTo>
                      <a:pt x="110" y="223"/>
                    </a:lnTo>
                    <a:lnTo>
                      <a:pt x="110" y="226"/>
                    </a:lnTo>
                    <a:lnTo>
                      <a:pt x="111" y="228"/>
                    </a:lnTo>
                    <a:lnTo>
                      <a:pt x="111" y="231"/>
                    </a:lnTo>
                    <a:lnTo>
                      <a:pt x="112" y="233"/>
                    </a:lnTo>
                    <a:lnTo>
                      <a:pt x="111" y="234"/>
                    </a:lnTo>
                    <a:lnTo>
                      <a:pt x="111" y="234"/>
                    </a:lnTo>
                    <a:lnTo>
                      <a:pt x="108" y="236"/>
                    </a:lnTo>
                    <a:lnTo>
                      <a:pt x="106" y="238"/>
                    </a:lnTo>
                    <a:lnTo>
                      <a:pt x="104" y="240"/>
                    </a:lnTo>
                    <a:lnTo>
                      <a:pt x="102" y="240"/>
                    </a:lnTo>
                    <a:lnTo>
                      <a:pt x="98" y="241"/>
                    </a:lnTo>
                    <a:lnTo>
                      <a:pt x="95" y="241"/>
                    </a:lnTo>
                    <a:lnTo>
                      <a:pt x="91" y="241"/>
                    </a:lnTo>
                    <a:lnTo>
                      <a:pt x="90" y="241"/>
                    </a:lnTo>
                    <a:lnTo>
                      <a:pt x="86" y="241"/>
                    </a:lnTo>
                    <a:lnTo>
                      <a:pt x="82" y="241"/>
                    </a:lnTo>
                    <a:lnTo>
                      <a:pt x="79" y="241"/>
                    </a:lnTo>
                    <a:lnTo>
                      <a:pt x="77" y="241"/>
                    </a:lnTo>
                    <a:lnTo>
                      <a:pt x="73" y="241"/>
                    </a:lnTo>
                    <a:lnTo>
                      <a:pt x="71" y="241"/>
                    </a:lnTo>
                    <a:lnTo>
                      <a:pt x="70" y="241"/>
                    </a:lnTo>
                    <a:lnTo>
                      <a:pt x="68" y="240"/>
                    </a:lnTo>
                    <a:lnTo>
                      <a:pt x="64" y="242"/>
                    </a:lnTo>
                    <a:lnTo>
                      <a:pt x="60" y="243"/>
                    </a:lnTo>
                    <a:lnTo>
                      <a:pt x="56" y="245"/>
                    </a:lnTo>
                    <a:lnTo>
                      <a:pt x="52" y="245"/>
                    </a:lnTo>
                    <a:lnTo>
                      <a:pt x="46" y="247"/>
                    </a:lnTo>
                    <a:lnTo>
                      <a:pt x="42" y="247"/>
                    </a:lnTo>
                    <a:lnTo>
                      <a:pt x="36" y="249"/>
                    </a:lnTo>
                    <a:lnTo>
                      <a:pt x="33" y="249"/>
                    </a:lnTo>
                    <a:lnTo>
                      <a:pt x="27" y="251"/>
                    </a:lnTo>
                    <a:lnTo>
                      <a:pt x="23" y="253"/>
                    </a:lnTo>
                    <a:lnTo>
                      <a:pt x="18" y="254"/>
                    </a:lnTo>
                    <a:lnTo>
                      <a:pt x="14" y="255"/>
                    </a:lnTo>
                    <a:lnTo>
                      <a:pt x="10" y="257"/>
                    </a:lnTo>
                    <a:lnTo>
                      <a:pt x="6" y="259"/>
                    </a:lnTo>
                    <a:lnTo>
                      <a:pt x="3" y="261"/>
                    </a:lnTo>
                    <a:lnTo>
                      <a:pt x="2" y="263"/>
                    </a:lnTo>
                    <a:lnTo>
                      <a:pt x="0" y="265"/>
                    </a:lnTo>
                    <a:lnTo>
                      <a:pt x="0" y="267"/>
                    </a:lnTo>
                    <a:lnTo>
                      <a:pt x="0" y="269"/>
                    </a:lnTo>
                    <a:lnTo>
                      <a:pt x="0" y="271"/>
                    </a:lnTo>
                    <a:lnTo>
                      <a:pt x="0" y="274"/>
                    </a:lnTo>
                    <a:lnTo>
                      <a:pt x="0" y="276"/>
                    </a:lnTo>
                    <a:lnTo>
                      <a:pt x="0" y="278"/>
                    </a:lnTo>
                    <a:lnTo>
                      <a:pt x="0" y="280"/>
                    </a:lnTo>
                    <a:lnTo>
                      <a:pt x="0" y="284"/>
                    </a:lnTo>
                    <a:lnTo>
                      <a:pt x="0" y="285"/>
                    </a:lnTo>
                    <a:lnTo>
                      <a:pt x="0" y="287"/>
                    </a:lnTo>
                    <a:lnTo>
                      <a:pt x="0" y="289"/>
                    </a:lnTo>
                    <a:lnTo>
                      <a:pt x="0" y="291"/>
                    </a:lnTo>
                    <a:lnTo>
                      <a:pt x="0" y="293"/>
                    </a:lnTo>
                    <a:lnTo>
                      <a:pt x="0" y="295"/>
                    </a:lnTo>
                    <a:lnTo>
                      <a:pt x="2" y="295"/>
                    </a:lnTo>
                    <a:lnTo>
                      <a:pt x="2" y="297"/>
                    </a:lnTo>
                    <a:lnTo>
                      <a:pt x="4" y="297"/>
                    </a:lnTo>
                    <a:lnTo>
                      <a:pt x="6" y="299"/>
                    </a:lnTo>
                    <a:lnTo>
                      <a:pt x="8" y="299"/>
                    </a:lnTo>
                    <a:lnTo>
                      <a:pt x="10" y="300"/>
                    </a:lnTo>
                    <a:lnTo>
                      <a:pt x="13" y="300"/>
                    </a:lnTo>
                    <a:lnTo>
                      <a:pt x="15" y="300"/>
                    </a:lnTo>
                    <a:lnTo>
                      <a:pt x="19" y="300"/>
                    </a:lnTo>
                    <a:lnTo>
                      <a:pt x="21" y="301"/>
                    </a:lnTo>
                    <a:lnTo>
                      <a:pt x="24" y="301"/>
                    </a:lnTo>
                    <a:lnTo>
                      <a:pt x="26" y="301"/>
                    </a:lnTo>
                    <a:lnTo>
                      <a:pt x="30" y="301"/>
                    </a:lnTo>
                    <a:lnTo>
                      <a:pt x="32" y="301"/>
                    </a:lnTo>
                    <a:lnTo>
                      <a:pt x="34" y="301"/>
                    </a:lnTo>
                    <a:lnTo>
                      <a:pt x="36" y="301"/>
                    </a:lnTo>
                    <a:lnTo>
                      <a:pt x="39" y="301"/>
                    </a:lnTo>
                    <a:lnTo>
                      <a:pt x="42" y="301"/>
                    </a:lnTo>
                    <a:lnTo>
                      <a:pt x="46" y="301"/>
                    </a:lnTo>
                    <a:lnTo>
                      <a:pt x="50" y="301"/>
                    </a:lnTo>
                    <a:lnTo>
                      <a:pt x="55" y="300"/>
                    </a:lnTo>
                    <a:lnTo>
                      <a:pt x="59" y="300"/>
                    </a:lnTo>
                    <a:lnTo>
                      <a:pt x="64" y="300"/>
                    </a:lnTo>
                    <a:lnTo>
                      <a:pt x="70" y="300"/>
                    </a:lnTo>
                    <a:lnTo>
                      <a:pt x="75" y="298"/>
                    </a:lnTo>
                    <a:lnTo>
                      <a:pt x="79" y="298"/>
                    </a:lnTo>
                    <a:lnTo>
                      <a:pt x="84" y="298"/>
                    </a:lnTo>
                    <a:lnTo>
                      <a:pt x="90" y="298"/>
                    </a:lnTo>
                    <a:lnTo>
                      <a:pt x="95" y="296"/>
                    </a:lnTo>
                    <a:lnTo>
                      <a:pt x="99" y="296"/>
                    </a:lnTo>
                    <a:lnTo>
                      <a:pt x="103" y="296"/>
                    </a:lnTo>
                    <a:lnTo>
                      <a:pt x="107" y="296"/>
                    </a:lnTo>
                    <a:lnTo>
                      <a:pt x="111" y="295"/>
                    </a:lnTo>
                    <a:lnTo>
                      <a:pt x="114" y="295"/>
                    </a:lnTo>
                    <a:lnTo>
                      <a:pt x="118" y="295"/>
                    </a:lnTo>
                    <a:lnTo>
                      <a:pt x="122" y="295"/>
                    </a:lnTo>
                    <a:lnTo>
                      <a:pt x="128" y="295"/>
                    </a:lnTo>
                    <a:lnTo>
                      <a:pt x="132" y="295"/>
                    </a:lnTo>
                    <a:lnTo>
                      <a:pt x="138" y="295"/>
                    </a:lnTo>
                    <a:lnTo>
                      <a:pt x="143" y="295"/>
                    </a:lnTo>
                    <a:lnTo>
                      <a:pt x="149" y="293"/>
                    </a:lnTo>
                    <a:lnTo>
                      <a:pt x="154" y="293"/>
                    </a:lnTo>
                    <a:lnTo>
                      <a:pt x="159" y="293"/>
                    </a:lnTo>
                    <a:lnTo>
                      <a:pt x="165" y="293"/>
                    </a:lnTo>
                    <a:lnTo>
                      <a:pt x="170" y="293"/>
                    </a:lnTo>
                    <a:lnTo>
                      <a:pt x="174" y="294"/>
                    </a:lnTo>
                    <a:lnTo>
                      <a:pt x="180" y="294"/>
                    </a:lnTo>
                    <a:lnTo>
                      <a:pt x="184" y="295"/>
                    </a:lnTo>
                    <a:lnTo>
                      <a:pt x="189" y="295"/>
                    </a:lnTo>
                    <a:lnTo>
                      <a:pt x="191" y="297"/>
                    </a:lnTo>
                    <a:lnTo>
                      <a:pt x="193" y="298"/>
                    </a:lnTo>
                    <a:lnTo>
                      <a:pt x="195" y="300"/>
                    </a:lnTo>
                    <a:lnTo>
                      <a:pt x="199" y="301"/>
                    </a:lnTo>
                    <a:lnTo>
                      <a:pt x="200" y="302"/>
                    </a:lnTo>
                    <a:lnTo>
                      <a:pt x="204" y="304"/>
                    </a:lnTo>
                    <a:lnTo>
                      <a:pt x="207" y="306"/>
                    </a:lnTo>
                    <a:lnTo>
                      <a:pt x="210" y="307"/>
                    </a:lnTo>
                    <a:lnTo>
                      <a:pt x="212" y="310"/>
                    </a:lnTo>
                    <a:lnTo>
                      <a:pt x="216" y="312"/>
                    </a:lnTo>
                    <a:lnTo>
                      <a:pt x="218" y="313"/>
                    </a:lnTo>
                    <a:lnTo>
                      <a:pt x="222" y="315"/>
                    </a:lnTo>
                    <a:lnTo>
                      <a:pt x="224" y="317"/>
                    </a:lnTo>
                    <a:lnTo>
                      <a:pt x="227" y="319"/>
                    </a:lnTo>
                    <a:lnTo>
                      <a:pt x="228" y="321"/>
                    </a:lnTo>
                    <a:lnTo>
                      <a:pt x="232" y="321"/>
                    </a:lnTo>
                    <a:lnTo>
                      <a:pt x="236" y="323"/>
                    </a:lnTo>
                    <a:lnTo>
                      <a:pt x="240" y="325"/>
                    </a:lnTo>
                    <a:lnTo>
                      <a:pt x="246" y="327"/>
                    </a:lnTo>
                    <a:lnTo>
                      <a:pt x="251" y="327"/>
                    </a:lnTo>
                    <a:lnTo>
                      <a:pt x="257" y="329"/>
                    </a:lnTo>
                    <a:lnTo>
                      <a:pt x="262" y="330"/>
                    </a:lnTo>
                    <a:lnTo>
                      <a:pt x="268" y="332"/>
                    </a:lnTo>
                    <a:lnTo>
                      <a:pt x="275" y="332"/>
                    </a:lnTo>
                    <a:lnTo>
                      <a:pt x="281" y="333"/>
                    </a:lnTo>
                    <a:lnTo>
                      <a:pt x="287" y="334"/>
                    </a:lnTo>
                    <a:lnTo>
                      <a:pt x="292" y="336"/>
                    </a:lnTo>
                    <a:lnTo>
                      <a:pt x="299" y="336"/>
                    </a:lnTo>
                    <a:lnTo>
                      <a:pt x="304" y="338"/>
                    </a:lnTo>
                    <a:lnTo>
                      <a:pt x="310" y="339"/>
                    </a:lnTo>
                    <a:lnTo>
                      <a:pt x="314" y="341"/>
                    </a:lnTo>
                    <a:lnTo>
                      <a:pt x="319" y="341"/>
                    </a:lnTo>
                    <a:lnTo>
                      <a:pt x="321" y="343"/>
                    </a:lnTo>
                    <a:lnTo>
                      <a:pt x="323" y="345"/>
                    </a:lnTo>
                    <a:lnTo>
                      <a:pt x="325" y="348"/>
                    </a:lnTo>
                    <a:lnTo>
                      <a:pt x="328" y="350"/>
                    </a:lnTo>
                    <a:lnTo>
                      <a:pt x="330" y="353"/>
                    </a:lnTo>
                    <a:lnTo>
                      <a:pt x="333" y="356"/>
                    </a:lnTo>
                    <a:lnTo>
                      <a:pt x="335" y="360"/>
                    </a:lnTo>
                    <a:lnTo>
                      <a:pt x="338" y="362"/>
                    </a:lnTo>
                    <a:lnTo>
                      <a:pt x="340" y="365"/>
                    </a:lnTo>
                    <a:lnTo>
                      <a:pt x="344" y="369"/>
                    </a:lnTo>
                    <a:lnTo>
                      <a:pt x="345" y="372"/>
                    </a:lnTo>
                    <a:lnTo>
                      <a:pt x="349" y="374"/>
                    </a:lnTo>
                    <a:lnTo>
                      <a:pt x="351" y="377"/>
                    </a:lnTo>
                    <a:lnTo>
                      <a:pt x="354" y="379"/>
                    </a:lnTo>
                    <a:lnTo>
                      <a:pt x="356" y="381"/>
                    </a:lnTo>
                    <a:lnTo>
                      <a:pt x="360" y="381"/>
                    </a:lnTo>
                    <a:lnTo>
                      <a:pt x="362" y="383"/>
                    </a:lnTo>
                    <a:lnTo>
                      <a:pt x="365" y="383"/>
                    </a:lnTo>
                    <a:lnTo>
                      <a:pt x="368" y="383"/>
                    </a:lnTo>
                    <a:lnTo>
                      <a:pt x="373" y="383"/>
                    </a:lnTo>
                    <a:lnTo>
                      <a:pt x="376" y="383"/>
                    </a:lnTo>
                    <a:lnTo>
                      <a:pt x="382" y="383"/>
                    </a:lnTo>
                    <a:lnTo>
                      <a:pt x="385" y="383"/>
                    </a:lnTo>
                    <a:lnTo>
                      <a:pt x="391" y="383"/>
                    </a:lnTo>
                    <a:lnTo>
                      <a:pt x="394" y="383"/>
                    </a:lnTo>
                    <a:lnTo>
                      <a:pt x="400" y="383"/>
                    </a:lnTo>
                    <a:lnTo>
                      <a:pt x="404" y="383"/>
                    </a:lnTo>
                    <a:lnTo>
                      <a:pt x="410" y="383"/>
                    </a:lnTo>
                    <a:lnTo>
                      <a:pt x="413" y="383"/>
                    </a:lnTo>
                    <a:lnTo>
                      <a:pt x="418" y="383"/>
                    </a:lnTo>
                    <a:lnTo>
                      <a:pt x="422" y="383"/>
                    </a:lnTo>
                    <a:lnTo>
                      <a:pt x="426" y="381"/>
                    </a:lnTo>
                    <a:lnTo>
                      <a:pt x="430" y="381"/>
                    </a:lnTo>
                    <a:lnTo>
                      <a:pt x="436" y="380"/>
                    </a:lnTo>
                    <a:lnTo>
                      <a:pt x="441" y="380"/>
                    </a:lnTo>
                    <a:lnTo>
                      <a:pt x="448" y="378"/>
                    </a:lnTo>
                    <a:lnTo>
                      <a:pt x="454" y="377"/>
                    </a:lnTo>
                    <a:lnTo>
                      <a:pt x="461" y="375"/>
                    </a:lnTo>
                    <a:lnTo>
                      <a:pt x="468" y="373"/>
                    </a:lnTo>
                    <a:lnTo>
                      <a:pt x="476" y="371"/>
                    </a:lnTo>
                    <a:lnTo>
                      <a:pt x="481" y="371"/>
                    </a:lnTo>
                    <a:lnTo>
                      <a:pt x="488" y="370"/>
                    </a:lnTo>
                    <a:lnTo>
                      <a:pt x="494" y="369"/>
                    </a:lnTo>
                    <a:lnTo>
                      <a:pt x="501" y="367"/>
                    </a:lnTo>
                    <a:lnTo>
                      <a:pt x="507" y="367"/>
                    </a:lnTo>
                    <a:lnTo>
                      <a:pt x="513" y="367"/>
                    </a:lnTo>
                    <a:lnTo>
                      <a:pt x="518" y="367"/>
                    </a:lnTo>
                    <a:lnTo>
                      <a:pt x="524" y="367"/>
                    </a:lnTo>
                    <a:lnTo>
                      <a:pt x="526" y="370"/>
                    </a:lnTo>
                    <a:lnTo>
                      <a:pt x="529" y="371"/>
                    </a:lnTo>
                    <a:lnTo>
                      <a:pt x="533" y="374"/>
                    </a:lnTo>
                    <a:lnTo>
                      <a:pt x="537" y="376"/>
                    </a:lnTo>
                    <a:lnTo>
                      <a:pt x="540" y="380"/>
                    </a:lnTo>
                    <a:lnTo>
                      <a:pt x="544" y="383"/>
                    </a:lnTo>
                    <a:lnTo>
                      <a:pt x="548" y="387"/>
                    </a:lnTo>
                    <a:lnTo>
                      <a:pt x="552" y="389"/>
                    </a:lnTo>
                    <a:lnTo>
                      <a:pt x="554" y="392"/>
                    </a:lnTo>
                    <a:lnTo>
                      <a:pt x="558" y="396"/>
                    </a:lnTo>
                    <a:lnTo>
                      <a:pt x="561" y="400"/>
                    </a:lnTo>
                    <a:lnTo>
                      <a:pt x="565" y="403"/>
                    </a:lnTo>
                    <a:lnTo>
                      <a:pt x="567" y="407"/>
                    </a:lnTo>
                    <a:lnTo>
                      <a:pt x="570" y="409"/>
                    </a:lnTo>
                    <a:lnTo>
                      <a:pt x="572" y="411"/>
                    </a:lnTo>
                    <a:lnTo>
                      <a:pt x="576" y="413"/>
                    </a:lnTo>
                    <a:lnTo>
                      <a:pt x="576" y="415"/>
                    </a:lnTo>
                    <a:lnTo>
                      <a:pt x="577" y="417"/>
                    </a:lnTo>
                    <a:lnTo>
                      <a:pt x="577" y="419"/>
                    </a:lnTo>
                    <a:lnTo>
                      <a:pt x="579" y="420"/>
                    </a:lnTo>
                    <a:lnTo>
                      <a:pt x="579" y="422"/>
                    </a:lnTo>
                    <a:lnTo>
                      <a:pt x="580" y="424"/>
                    </a:lnTo>
                    <a:lnTo>
                      <a:pt x="580" y="426"/>
                    </a:lnTo>
                    <a:lnTo>
                      <a:pt x="582" y="428"/>
                    </a:lnTo>
                    <a:lnTo>
                      <a:pt x="582" y="430"/>
                    </a:lnTo>
                    <a:lnTo>
                      <a:pt x="584" y="431"/>
                    </a:lnTo>
                    <a:lnTo>
                      <a:pt x="584" y="433"/>
                    </a:lnTo>
                    <a:lnTo>
                      <a:pt x="586" y="435"/>
                    </a:lnTo>
                    <a:lnTo>
                      <a:pt x="586" y="437"/>
                    </a:lnTo>
                    <a:lnTo>
                      <a:pt x="588" y="438"/>
                    </a:lnTo>
                    <a:lnTo>
                      <a:pt x="589" y="439"/>
                    </a:lnTo>
                    <a:lnTo>
                      <a:pt x="590" y="439"/>
                    </a:lnTo>
                    <a:lnTo>
                      <a:pt x="592" y="441"/>
                    </a:lnTo>
                    <a:lnTo>
                      <a:pt x="596" y="443"/>
                    </a:lnTo>
                    <a:lnTo>
                      <a:pt x="600" y="445"/>
                    </a:lnTo>
                    <a:lnTo>
                      <a:pt x="606" y="44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22" y="448"/>
                    </a:lnTo>
                    <a:lnTo>
                      <a:pt x="627" y="448"/>
                    </a:lnTo>
                    <a:lnTo>
                      <a:pt x="632" y="450"/>
                    </a:lnTo>
                    <a:lnTo>
                      <a:pt x="637" y="451"/>
                    </a:lnTo>
                    <a:lnTo>
                      <a:pt x="642" y="453"/>
                    </a:lnTo>
                    <a:lnTo>
                      <a:pt x="648" y="453"/>
                    </a:lnTo>
                    <a:lnTo>
                      <a:pt x="652" y="455"/>
                    </a:lnTo>
                    <a:lnTo>
                      <a:pt x="656" y="456"/>
                    </a:lnTo>
                    <a:lnTo>
                      <a:pt x="658" y="458"/>
                    </a:lnTo>
                    <a:lnTo>
                      <a:pt x="662" y="459"/>
                    </a:lnTo>
                    <a:lnTo>
                      <a:pt x="662" y="461"/>
                    </a:lnTo>
                    <a:lnTo>
                      <a:pt x="662" y="463"/>
                    </a:lnTo>
                    <a:lnTo>
                      <a:pt x="662" y="465"/>
                    </a:lnTo>
                    <a:lnTo>
                      <a:pt x="663" y="466"/>
                    </a:lnTo>
                    <a:lnTo>
                      <a:pt x="663" y="468"/>
                    </a:lnTo>
                    <a:lnTo>
                      <a:pt x="663" y="469"/>
                    </a:lnTo>
                    <a:lnTo>
                      <a:pt x="663" y="471"/>
                    </a:lnTo>
                    <a:lnTo>
                      <a:pt x="663" y="473"/>
                    </a:lnTo>
                    <a:lnTo>
                      <a:pt x="662" y="476"/>
                    </a:lnTo>
                    <a:lnTo>
                      <a:pt x="662" y="478"/>
                    </a:lnTo>
                    <a:lnTo>
                      <a:pt x="662" y="479"/>
                    </a:lnTo>
                    <a:lnTo>
                      <a:pt x="662" y="481"/>
                    </a:lnTo>
                    <a:lnTo>
                      <a:pt x="662" y="483"/>
                    </a:lnTo>
                    <a:lnTo>
                      <a:pt x="662" y="485"/>
                    </a:lnTo>
                    <a:lnTo>
                      <a:pt x="662" y="487"/>
                    </a:lnTo>
                    <a:lnTo>
                      <a:pt x="662" y="488"/>
                    </a:lnTo>
                    <a:lnTo>
                      <a:pt x="661" y="491"/>
                    </a:lnTo>
                    <a:lnTo>
                      <a:pt x="661" y="493"/>
                    </a:lnTo>
                    <a:lnTo>
                      <a:pt x="661" y="497"/>
                    </a:lnTo>
                    <a:lnTo>
                      <a:pt x="661" y="499"/>
                    </a:lnTo>
                    <a:lnTo>
                      <a:pt x="660" y="503"/>
                    </a:lnTo>
                    <a:lnTo>
                      <a:pt x="660" y="507"/>
                    </a:lnTo>
                    <a:lnTo>
                      <a:pt x="660" y="511"/>
                    </a:lnTo>
                    <a:lnTo>
                      <a:pt x="660" y="514"/>
                    </a:lnTo>
                    <a:lnTo>
                      <a:pt x="659" y="518"/>
                    </a:lnTo>
                    <a:lnTo>
                      <a:pt x="659" y="521"/>
                    </a:lnTo>
                    <a:lnTo>
                      <a:pt x="659" y="525"/>
                    </a:lnTo>
                    <a:lnTo>
                      <a:pt x="659" y="526"/>
                    </a:lnTo>
                    <a:lnTo>
                      <a:pt x="659" y="529"/>
                    </a:lnTo>
                    <a:lnTo>
                      <a:pt x="660" y="531"/>
                    </a:lnTo>
                    <a:lnTo>
                      <a:pt x="660" y="531"/>
                    </a:lnTo>
                    <a:lnTo>
                      <a:pt x="662" y="531"/>
                    </a:lnTo>
                    <a:lnTo>
                      <a:pt x="662" y="532"/>
                    </a:lnTo>
                    <a:lnTo>
                      <a:pt x="664" y="531"/>
                    </a:lnTo>
                    <a:lnTo>
                      <a:pt x="665" y="530"/>
                    </a:lnTo>
                    <a:lnTo>
                      <a:pt x="667" y="527"/>
                    </a:lnTo>
                    <a:lnTo>
                      <a:pt x="667" y="525"/>
                    </a:lnTo>
                    <a:lnTo>
                      <a:pt x="669" y="521"/>
                    </a:lnTo>
                    <a:lnTo>
                      <a:pt x="671" y="517"/>
                    </a:lnTo>
                    <a:lnTo>
                      <a:pt x="673" y="513"/>
                    </a:lnTo>
                    <a:lnTo>
                      <a:pt x="675" y="509"/>
                    </a:lnTo>
                    <a:lnTo>
                      <a:pt x="677" y="505"/>
                    </a:lnTo>
                    <a:lnTo>
                      <a:pt x="678" y="501"/>
                    </a:lnTo>
                    <a:lnTo>
                      <a:pt x="681" y="497"/>
                    </a:lnTo>
                    <a:lnTo>
                      <a:pt x="683" y="495"/>
                    </a:lnTo>
                    <a:lnTo>
                      <a:pt x="686" y="492"/>
                    </a:lnTo>
                    <a:lnTo>
                      <a:pt x="688" y="490"/>
                    </a:lnTo>
                    <a:lnTo>
                      <a:pt x="692" y="488"/>
                    </a:lnTo>
                    <a:lnTo>
                      <a:pt x="692" y="489"/>
                    </a:lnTo>
                    <a:lnTo>
                      <a:pt x="694" y="489"/>
                    </a:lnTo>
                    <a:lnTo>
                      <a:pt x="695" y="489"/>
                    </a:lnTo>
                    <a:lnTo>
                      <a:pt x="696" y="489"/>
                    </a:lnTo>
                    <a:lnTo>
                      <a:pt x="698" y="491"/>
                    </a:lnTo>
                    <a:lnTo>
                      <a:pt x="700" y="491"/>
                    </a:lnTo>
                    <a:lnTo>
                      <a:pt x="702" y="493"/>
                    </a:lnTo>
                    <a:lnTo>
                      <a:pt x="704" y="493"/>
                    </a:lnTo>
                    <a:lnTo>
                      <a:pt x="705" y="495"/>
                    </a:lnTo>
                    <a:lnTo>
                      <a:pt x="707" y="496"/>
                    </a:lnTo>
                    <a:lnTo>
                      <a:pt x="709" y="498"/>
                    </a:lnTo>
                    <a:lnTo>
                      <a:pt x="711" y="498"/>
                    </a:lnTo>
                    <a:lnTo>
                      <a:pt x="712" y="499"/>
                    </a:lnTo>
                    <a:lnTo>
                      <a:pt x="714" y="499"/>
                    </a:lnTo>
                    <a:lnTo>
                      <a:pt x="715" y="499"/>
                    </a:lnTo>
                    <a:lnTo>
                      <a:pt x="717" y="499"/>
                    </a:lnTo>
                    <a:lnTo>
                      <a:pt x="720" y="499"/>
                    </a:lnTo>
                    <a:lnTo>
                      <a:pt x="724" y="499"/>
                    </a:lnTo>
                    <a:lnTo>
                      <a:pt x="728" y="499"/>
                    </a:lnTo>
                    <a:lnTo>
                      <a:pt x="732" y="498"/>
                    </a:lnTo>
                    <a:lnTo>
                      <a:pt x="735" y="497"/>
                    </a:lnTo>
                    <a:lnTo>
                      <a:pt x="739" y="495"/>
                    </a:lnTo>
                    <a:lnTo>
                      <a:pt x="743" y="493"/>
                    </a:lnTo>
                    <a:lnTo>
                      <a:pt x="748" y="491"/>
                    </a:lnTo>
                    <a:lnTo>
                      <a:pt x="752" y="490"/>
                    </a:lnTo>
                    <a:lnTo>
                      <a:pt x="755" y="488"/>
                    </a:lnTo>
                    <a:lnTo>
                      <a:pt x="759" y="487"/>
                    </a:lnTo>
                    <a:lnTo>
                      <a:pt x="763" y="485"/>
                    </a:lnTo>
                    <a:lnTo>
                      <a:pt x="765" y="485"/>
                    </a:lnTo>
                    <a:lnTo>
                      <a:pt x="769" y="483"/>
                    </a:lnTo>
                    <a:lnTo>
                      <a:pt x="772" y="481"/>
                    </a:lnTo>
                    <a:lnTo>
                      <a:pt x="775" y="479"/>
                    </a:lnTo>
                    <a:lnTo>
                      <a:pt x="779" y="479"/>
                    </a:lnTo>
                    <a:lnTo>
                      <a:pt x="784" y="478"/>
                    </a:lnTo>
                    <a:lnTo>
                      <a:pt x="790" y="478"/>
                    </a:lnTo>
                    <a:lnTo>
                      <a:pt x="796" y="476"/>
                    </a:lnTo>
                    <a:lnTo>
                      <a:pt x="802" y="476"/>
                    </a:lnTo>
                    <a:lnTo>
                      <a:pt x="808" y="474"/>
                    </a:lnTo>
                    <a:lnTo>
                      <a:pt x="814" y="474"/>
                    </a:lnTo>
                    <a:lnTo>
                      <a:pt x="822" y="472"/>
                    </a:lnTo>
                    <a:lnTo>
                      <a:pt x="828" y="472"/>
                    </a:lnTo>
                    <a:lnTo>
                      <a:pt x="834" y="471"/>
                    </a:lnTo>
                    <a:lnTo>
                      <a:pt x="840" y="471"/>
                    </a:lnTo>
                    <a:lnTo>
                      <a:pt x="848" y="469"/>
                    </a:lnTo>
                    <a:lnTo>
                      <a:pt x="853" y="469"/>
                    </a:lnTo>
                    <a:lnTo>
                      <a:pt x="860" y="469"/>
                    </a:lnTo>
                    <a:lnTo>
                      <a:pt x="864" y="469"/>
                    </a:lnTo>
                    <a:lnTo>
                      <a:pt x="870" y="468"/>
                    </a:lnTo>
                    <a:lnTo>
                      <a:pt x="876" y="468"/>
                    </a:lnTo>
                    <a:lnTo>
                      <a:pt x="882" y="466"/>
                    </a:lnTo>
                    <a:lnTo>
                      <a:pt x="890" y="465"/>
                    </a:lnTo>
                    <a:lnTo>
                      <a:pt x="898" y="463"/>
                    </a:lnTo>
                    <a:lnTo>
                      <a:pt x="906" y="463"/>
                    </a:lnTo>
                    <a:lnTo>
                      <a:pt x="915" y="461"/>
                    </a:lnTo>
                    <a:lnTo>
                      <a:pt x="924" y="459"/>
                    </a:lnTo>
                    <a:lnTo>
                      <a:pt x="933" y="457"/>
                    </a:lnTo>
                    <a:lnTo>
                      <a:pt x="940" y="457"/>
                    </a:lnTo>
                    <a:lnTo>
                      <a:pt x="950" y="455"/>
                    </a:lnTo>
                    <a:lnTo>
                      <a:pt x="959" y="455"/>
                    </a:lnTo>
                    <a:lnTo>
                      <a:pt x="968" y="453"/>
                    </a:lnTo>
                    <a:lnTo>
                      <a:pt x="976" y="453"/>
                    </a:lnTo>
                    <a:lnTo>
                      <a:pt x="984" y="453"/>
                    </a:lnTo>
                    <a:lnTo>
                      <a:pt x="990" y="453"/>
                    </a:lnTo>
                    <a:lnTo>
                      <a:pt x="997" y="453"/>
                    </a:lnTo>
                    <a:lnTo>
                      <a:pt x="1003" y="455"/>
                    </a:lnTo>
                    <a:lnTo>
                      <a:pt x="1009" y="457"/>
                    </a:lnTo>
                    <a:lnTo>
                      <a:pt x="1017" y="459"/>
                    </a:lnTo>
                    <a:lnTo>
                      <a:pt x="1024" y="461"/>
                    </a:lnTo>
                    <a:lnTo>
                      <a:pt x="1032" y="465"/>
                    </a:lnTo>
                    <a:lnTo>
                      <a:pt x="1039" y="468"/>
                    </a:lnTo>
                    <a:lnTo>
                      <a:pt x="1047" y="472"/>
                    </a:lnTo>
                    <a:lnTo>
                      <a:pt x="1056" y="475"/>
                    </a:lnTo>
                    <a:lnTo>
                      <a:pt x="1064" y="479"/>
                    </a:lnTo>
                    <a:lnTo>
                      <a:pt x="1071" y="483"/>
                    </a:lnTo>
                    <a:lnTo>
                      <a:pt x="1078" y="487"/>
                    </a:lnTo>
                    <a:lnTo>
                      <a:pt x="1086" y="489"/>
                    </a:lnTo>
                    <a:lnTo>
                      <a:pt x="1093" y="493"/>
                    </a:lnTo>
                    <a:lnTo>
                      <a:pt x="1100" y="496"/>
                    </a:lnTo>
                    <a:lnTo>
                      <a:pt x="1106" y="498"/>
                    </a:lnTo>
                    <a:lnTo>
                      <a:pt x="1113" y="499"/>
                    </a:lnTo>
                    <a:lnTo>
                      <a:pt x="1118" y="501"/>
                    </a:lnTo>
                    <a:lnTo>
                      <a:pt x="1124" y="503"/>
                    </a:lnTo>
                    <a:lnTo>
                      <a:pt x="1131" y="505"/>
                    </a:lnTo>
                    <a:lnTo>
                      <a:pt x="1138" y="505"/>
                    </a:lnTo>
                    <a:lnTo>
                      <a:pt x="1146" y="507"/>
                    </a:lnTo>
                    <a:lnTo>
                      <a:pt x="1153" y="507"/>
                    </a:lnTo>
                    <a:lnTo>
                      <a:pt x="1161" y="509"/>
                    </a:lnTo>
                    <a:lnTo>
                      <a:pt x="1170" y="509"/>
                    </a:lnTo>
                    <a:lnTo>
                      <a:pt x="1178" y="511"/>
                    </a:lnTo>
                    <a:lnTo>
                      <a:pt x="1185" y="511"/>
                    </a:lnTo>
                    <a:lnTo>
                      <a:pt x="1193" y="512"/>
                    </a:lnTo>
                    <a:lnTo>
                      <a:pt x="1202" y="512"/>
                    </a:lnTo>
                    <a:lnTo>
                      <a:pt x="1208" y="512"/>
                    </a:lnTo>
                    <a:lnTo>
                      <a:pt x="1215" y="512"/>
                    </a:lnTo>
                    <a:lnTo>
                      <a:pt x="1221" y="512"/>
                    </a:lnTo>
                    <a:lnTo>
                      <a:pt x="1228" y="511"/>
                    </a:lnTo>
                    <a:lnTo>
                      <a:pt x="1233" y="513"/>
                    </a:lnTo>
                    <a:lnTo>
                      <a:pt x="1241" y="513"/>
                    </a:lnTo>
                    <a:lnTo>
                      <a:pt x="1248" y="513"/>
                    </a:lnTo>
                    <a:lnTo>
                      <a:pt x="1258" y="513"/>
                    </a:lnTo>
                    <a:lnTo>
                      <a:pt x="1266" y="513"/>
                    </a:lnTo>
                    <a:lnTo>
                      <a:pt x="1276" y="513"/>
                    </a:lnTo>
                    <a:lnTo>
                      <a:pt x="1285" y="513"/>
                    </a:lnTo>
                    <a:lnTo>
                      <a:pt x="1295" y="512"/>
                    </a:lnTo>
                    <a:lnTo>
                      <a:pt x="1303" y="512"/>
                    </a:lnTo>
                    <a:lnTo>
                      <a:pt x="1312" y="511"/>
                    </a:lnTo>
                    <a:lnTo>
                      <a:pt x="1320" y="509"/>
                    </a:lnTo>
                    <a:lnTo>
                      <a:pt x="1329" y="508"/>
                    </a:lnTo>
                    <a:lnTo>
                      <a:pt x="1335" y="506"/>
                    </a:lnTo>
                    <a:lnTo>
                      <a:pt x="1341" y="503"/>
                    </a:lnTo>
                    <a:lnTo>
                      <a:pt x="1346" y="499"/>
                    </a:lnTo>
                    <a:lnTo>
                      <a:pt x="1349" y="494"/>
                    </a:lnTo>
                    <a:lnTo>
                      <a:pt x="1349" y="492"/>
                    </a:lnTo>
                    <a:lnTo>
                      <a:pt x="1348" y="489"/>
                    </a:lnTo>
                    <a:lnTo>
                      <a:pt x="1346" y="485"/>
                    </a:lnTo>
                    <a:lnTo>
                      <a:pt x="1344" y="481"/>
                    </a:lnTo>
                    <a:lnTo>
                      <a:pt x="1339" y="478"/>
                    </a:lnTo>
                    <a:lnTo>
                      <a:pt x="1336" y="474"/>
                    </a:lnTo>
                    <a:lnTo>
                      <a:pt x="1330" y="470"/>
                    </a:lnTo>
                    <a:lnTo>
                      <a:pt x="1327" y="465"/>
                    </a:lnTo>
                    <a:lnTo>
                      <a:pt x="1321" y="461"/>
                    </a:lnTo>
                    <a:lnTo>
                      <a:pt x="1318" y="457"/>
                    </a:lnTo>
                    <a:lnTo>
                      <a:pt x="1313" y="453"/>
                    </a:lnTo>
                    <a:lnTo>
                      <a:pt x="1310" y="448"/>
                    </a:lnTo>
                    <a:lnTo>
                      <a:pt x="1307" y="444"/>
                    </a:lnTo>
                    <a:lnTo>
                      <a:pt x="1306" y="440"/>
                    </a:lnTo>
                    <a:lnTo>
                      <a:pt x="1305" y="437"/>
                    </a:lnTo>
                    <a:lnTo>
                      <a:pt x="1306" y="433"/>
                    </a:lnTo>
                    <a:lnTo>
                      <a:pt x="1306" y="433"/>
                    </a:lnTo>
                    <a:lnTo>
                      <a:pt x="1308" y="431"/>
                    </a:lnTo>
                    <a:lnTo>
                      <a:pt x="1310" y="431"/>
                    </a:lnTo>
                    <a:lnTo>
                      <a:pt x="1313" y="430"/>
                    </a:lnTo>
                    <a:lnTo>
                      <a:pt x="1316" y="430"/>
                    </a:lnTo>
                    <a:lnTo>
                      <a:pt x="1320" y="430"/>
                    </a:lnTo>
                    <a:lnTo>
                      <a:pt x="1324" y="430"/>
                    </a:lnTo>
                    <a:lnTo>
                      <a:pt x="1328" y="430"/>
                    </a:lnTo>
                    <a:lnTo>
                      <a:pt x="1330" y="431"/>
                    </a:lnTo>
                    <a:lnTo>
                      <a:pt x="1334" y="431"/>
                    </a:lnTo>
                    <a:lnTo>
                      <a:pt x="1338" y="431"/>
                    </a:lnTo>
                    <a:lnTo>
                      <a:pt x="1341" y="431"/>
                    </a:lnTo>
                    <a:lnTo>
                      <a:pt x="1343" y="431"/>
                    </a:lnTo>
                    <a:lnTo>
                      <a:pt x="1346" y="430"/>
                    </a:lnTo>
                    <a:lnTo>
                      <a:pt x="1348" y="430"/>
                    </a:lnTo>
                    <a:lnTo>
                      <a:pt x="1349" y="428"/>
                    </a:lnTo>
                    <a:lnTo>
                      <a:pt x="1348" y="427"/>
                    </a:lnTo>
                    <a:lnTo>
                      <a:pt x="1348" y="425"/>
                    </a:lnTo>
                    <a:lnTo>
                      <a:pt x="1346" y="423"/>
                    </a:lnTo>
                    <a:lnTo>
                      <a:pt x="1345" y="420"/>
                    </a:lnTo>
                    <a:lnTo>
                      <a:pt x="1341" y="418"/>
                    </a:lnTo>
                    <a:lnTo>
                      <a:pt x="1339" y="415"/>
                    </a:lnTo>
                    <a:lnTo>
                      <a:pt x="1336" y="413"/>
                    </a:lnTo>
                    <a:lnTo>
                      <a:pt x="1334" y="409"/>
                    </a:lnTo>
                    <a:lnTo>
                      <a:pt x="1330" y="407"/>
                    </a:lnTo>
                    <a:lnTo>
                      <a:pt x="1328" y="403"/>
                    </a:lnTo>
                    <a:lnTo>
                      <a:pt x="1325" y="401"/>
                    </a:lnTo>
                    <a:lnTo>
                      <a:pt x="1323" y="398"/>
                    </a:lnTo>
                    <a:lnTo>
                      <a:pt x="1321" y="396"/>
                    </a:lnTo>
                    <a:lnTo>
                      <a:pt x="1320" y="393"/>
                    </a:lnTo>
                    <a:lnTo>
                      <a:pt x="1320" y="391"/>
                    </a:lnTo>
                    <a:lnTo>
                      <a:pt x="1320" y="387"/>
                    </a:lnTo>
                    <a:lnTo>
                      <a:pt x="1320" y="385"/>
                    </a:lnTo>
                    <a:lnTo>
                      <a:pt x="1322" y="383"/>
                    </a:lnTo>
                    <a:lnTo>
                      <a:pt x="1324" y="381"/>
                    </a:lnTo>
                    <a:lnTo>
                      <a:pt x="1328" y="379"/>
                    </a:lnTo>
                    <a:lnTo>
                      <a:pt x="1330" y="377"/>
                    </a:lnTo>
                    <a:lnTo>
                      <a:pt x="1334" y="375"/>
                    </a:lnTo>
                    <a:lnTo>
                      <a:pt x="1338" y="373"/>
                    </a:lnTo>
                    <a:lnTo>
                      <a:pt x="1342" y="370"/>
                    </a:lnTo>
                    <a:lnTo>
                      <a:pt x="1346" y="369"/>
                    </a:lnTo>
                    <a:lnTo>
                      <a:pt x="1349" y="367"/>
                    </a:lnTo>
                    <a:lnTo>
                      <a:pt x="1352" y="366"/>
                    </a:lnTo>
                    <a:lnTo>
                      <a:pt x="1356" y="364"/>
                    </a:lnTo>
                    <a:lnTo>
                      <a:pt x="1358" y="364"/>
                    </a:lnTo>
                    <a:lnTo>
                      <a:pt x="1361" y="362"/>
                    </a:lnTo>
                    <a:lnTo>
                      <a:pt x="1362" y="362"/>
                    </a:lnTo>
                    <a:lnTo>
                      <a:pt x="1364" y="361"/>
                    </a:lnTo>
                    <a:lnTo>
                      <a:pt x="1362" y="361"/>
                    </a:lnTo>
                    <a:lnTo>
                      <a:pt x="1362" y="359"/>
                    </a:lnTo>
                    <a:lnTo>
                      <a:pt x="1360" y="359"/>
                    </a:lnTo>
                    <a:lnTo>
                      <a:pt x="1360" y="357"/>
                    </a:lnTo>
                    <a:lnTo>
                      <a:pt x="1359" y="357"/>
                    </a:lnTo>
                    <a:lnTo>
                      <a:pt x="1357" y="355"/>
                    </a:lnTo>
                    <a:lnTo>
                      <a:pt x="1355" y="355"/>
                    </a:lnTo>
                    <a:lnTo>
                      <a:pt x="1354" y="353"/>
                    </a:lnTo>
                    <a:lnTo>
                      <a:pt x="1351" y="353"/>
                    </a:lnTo>
                    <a:lnTo>
                      <a:pt x="1349" y="352"/>
                    </a:lnTo>
                    <a:lnTo>
                      <a:pt x="1348" y="352"/>
                    </a:lnTo>
                    <a:lnTo>
                      <a:pt x="1346" y="350"/>
                    </a:lnTo>
                    <a:lnTo>
                      <a:pt x="1344" y="350"/>
                    </a:lnTo>
                    <a:lnTo>
                      <a:pt x="1342" y="349"/>
                    </a:lnTo>
                    <a:lnTo>
                      <a:pt x="1340" y="349"/>
                    </a:lnTo>
                    <a:lnTo>
                      <a:pt x="1340" y="347"/>
                    </a:lnTo>
                    <a:lnTo>
                      <a:pt x="1340" y="347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V="1">
              <a:off x="1944720" y="7396920"/>
              <a:ext cx="5629320" cy="47880"/>
            </a:xfrm>
            <a:prstGeom prst="roundRect">
              <a:avLst>
                <a:gd name="adj" fmla="val 0"/>
              </a:avLst>
            </a:prstGeom>
            <a:solidFill>
              <a:srgbClr val="3f621f"/>
            </a:solidFill>
            <a:ln w="9360">
              <a:solidFill>
                <a:srgbClr val="3f62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 flipV="1">
            <a:off x="63360" y="1757160"/>
            <a:ext cx="9931680" cy="613224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2057400" y="1980720"/>
            <a:ext cx="6324480" cy="18288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1015668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centremosnos sobre esta nueva condició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39600" y="3989160"/>
            <a:ext cx="8952120" cy="18288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681120" y="4321080"/>
            <a:ext cx="7321320" cy="1150920"/>
            <a:chOff x="681120" y="4321080"/>
            <a:chExt cx="7321320" cy="1150920"/>
          </a:xfrm>
        </p:grpSpPr>
        <p:sp>
          <p:nvSpPr>
            <p:cNvPr id="727" name=""/>
            <p:cNvSpPr/>
            <p:nvPr/>
          </p:nvSpPr>
          <p:spPr>
            <a:xfrm>
              <a:off x="5335560" y="4411800"/>
              <a:ext cx="262908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60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   )</a:t>
              </a:r>
              <a:r>
                <a:rPr b="0" i="1" lang="en-US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27080" y="4346640"/>
              <a:ext cx="13003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h     h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47920" y="4411800"/>
              <a:ext cx="324000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60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 )  =</a:t>
              </a:r>
              <a:r>
                <a:rPr b="0" i="1" lang="en-US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44720" y="4869000"/>
              <a:ext cx="36036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120" y="4424400"/>
              <a:ext cx="11239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6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70000" y="4859280"/>
              <a:ext cx="468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38440" y="4321080"/>
              <a:ext cx="446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ffffff"/>
                  </a:solidFill>
                  <a:latin typeface="Times New Roman"/>
                </a:rPr>
                <a:t>h             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     h'      h '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34160" y="4869000"/>
              <a:ext cx="36036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06840" y="4424400"/>
              <a:ext cx="11224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6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91040" y="4854600"/>
              <a:ext cx="496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h'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604800" y="380880"/>
            <a:ext cx="94536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i todos los consumidores optimiza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520" y="5638680"/>
            <a:ext cx="9524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En el optimo el valor de bienestar de a $ de ingreso se iguala para todo </a:t>
            </a:r>
            <a:r>
              <a:rPr b="1" i="1" lang="en-GB" sz="4800" spc="-1" strike="noStrike">
                <a:solidFill>
                  <a:srgbClr val="ff0000"/>
                </a:solidFill>
                <a:latin typeface="Brush738 BT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698920" y="2450520"/>
            <a:ext cx="46670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80880" y="4343400"/>
            <a:ext cx="7772400" cy="1447920"/>
            <a:chOff x="380880" y="4343400"/>
            <a:chExt cx="7772400" cy="1447920"/>
          </a:xfrm>
        </p:grpSpPr>
        <p:sp>
          <p:nvSpPr>
            <p:cNvPr id="741" name=""/>
            <p:cNvSpPr/>
            <p:nvPr/>
          </p:nvSpPr>
          <p:spPr>
            <a:xfrm>
              <a:off x="380880" y="4343400"/>
              <a:ext cx="77724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457200" y="4343400"/>
              <a:ext cx="6857640" cy="1447920"/>
              <a:chOff x="457200" y="4343400"/>
              <a:chExt cx="6857640" cy="1447920"/>
            </a:xfrm>
          </p:grpSpPr>
          <p:sp>
            <p:nvSpPr>
              <p:cNvPr id="743" name=""/>
              <p:cNvSpPr/>
              <p:nvPr/>
            </p:nvSpPr>
            <p:spPr>
              <a:xfrm>
                <a:off x="457200" y="4343400"/>
                <a:ext cx="56757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69280" y="4435560"/>
                <a:ext cx="1195920" cy="90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W 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82640" y="4863960"/>
                <a:ext cx="5284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'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021040" y="4357800"/>
                <a:ext cx="13834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05880" y="4410000"/>
                <a:ext cx="263520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V    = 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032920" y="4875120"/>
                <a:ext cx="4539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3360" y="4435560"/>
                <a:ext cx="1195920" cy="90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W 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213920" y="4870440"/>
                <a:ext cx="49968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195160" y="4357800"/>
                <a:ext cx="13834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'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680000" y="4410000"/>
                <a:ext cx="263484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07040" y="4875120"/>
                <a:ext cx="4539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4" name=""/>
          <p:cNvSpPr/>
          <p:nvPr/>
        </p:nvSpPr>
        <p:spPr>
          <a:xfrm>
            <a:off x="6553080" y="4410000"/>
            <a:ext cx="2476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0" i="1" lang="en-US" sz="6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743200" y="2209680"/>
            <a:ext cx="4038480" cy="1905120"/>
          </a:xfrm>
          <a:prstGeom prst="wedgeRoundRectCallout">
            <a:avLst>
              <a:gd name="adj1" fmla="val 60379"/>
              <a:gd name="adj2" fmla="val 77166"/>
              <a:gd name="adj3" fmla="val 16667"/>
            </a:avLst>
          </a:prstGeom>
          <a:solidFill>
            <a:srgbClr val="ffff99"/>
          </a:solidFill>
          <a:ln w="25560">
            <a:solidFill>
              <a:srgbClr val="99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La utilidad marginal social del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517320" y="75960"/>
            <a:ext cx="9453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7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ara enfocarnos en el resultado mas importan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-480960" y="1209600"/>
            <a:ext cx="10791720" cy="6676920"/>
            <a:chOff x="-480960" y="1209600"/>
            <a:chExt cx="10791720" cy="6676920"/>
          </a:xfrm>
        </p:grpSpPr>
        <p:sp>
          <p:nvSpPr>
            <p:cNvPr id="758" name=""/>
            <p:cNvSpPr/>
            <p:nvPr/>
          </p:nvSpPr>
          <p:spPr>
            <a:xfrm flipV="1">
              <a:off x="63360" y="1211760"/>
              <a:ext cx="9931680" cy="6674040"/>
            </a:xfrm>
            <a:prstGeom prst="roundRect">
              <a:avLst>
                <a:gd name="adj" fmla="val 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20680" y="2206800"/>
              <a:ext cx="8504280" cy="4197240"/>
            </a:xfrm>
            <a:custGeom>
              <a:avLst/>
              <a:gdLst/>
              <a:ahLst/>
              <a:rect l="l" t="t" r="r" b="b"/>
              <a:pathLst>
                <a:path w="5357" h="2644">
                  <a:moveTo>
                    <a:pt x="0" y="2634"/>
                  </a:moveTo>
                  <a:lnTo>
                    <a:pt x="5356" y="0"/>
                  </a:lnTo>
                  <a:lnTo>
                    <a:pt x="4877" y="2643"/>
                  </a:lnTo>
                  <a:lnTo>
                    <a:pt x="0" y="2634"/>
                  </a:lnTo>
                  <a:lnTo>
                    <a:pt x="0" y="2634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4680" y="2206800"/>
              <a:ext cx="8561520" cy="4287600"/>
            </a:xfrm>
            <a:custGeom>
              <a:avLst/>
              <a:gdLst/>
              <a:ahLst/>
              <a:rect l="l" t="t" r="r" b="b"/>
              <a:pathLst>
                <a:path w="5393" h="2701">
                  <a:moveTo>
                    <a:pt x="5392" y="2693"/>
                  </a:moveTo>
                  <a:lnTo>
                    <a:pt x="0" y="0"/>
                  </a:lnTo>
                  <a:lnTo>
                    <a:pt x="511" y="2700"/>
                  </a:lnTo>
                  <a:lnTo>
                    <a:pt x="5392" y="2693"/>
                  </a:lnTo>
                  <a:lnTo>
                    <a:pt x="5392" y="2693"/>
                  </a:lnTo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19320" y="4537080"/>
              <a:ext cx="7440480" cy="2214720"/>
            </a:xfrm>
            <a:custGeom>
              <a:avLst/>
              <a:gdLst/>
              <a:ahLst/>
              <a:rect l="l" t="t" r="r" b="b"/>
              <a:pathLst>
                <a:path w="4687" h="1395">
                  <a:moveTo>
                    <a:pt x="2297" y="0"/>
                  </a:moveTo>
                  <a:lnTo>
                    <a:pt x="4686" y="1067"/>
                  </a:lnTo>
                  <a:lnTo>
                    <a:pt x="4577" y="1143"/>
                  </a:lnTo>
                  <a:lnTo>
                    <a:pt x="4390" y="1208"/>
                  </a:lnTo>
                  <a:lnTo>
                    <a:pt x="4135" y="1264"/>
                  </a:lnTo>
                  <a:lnTo>
                    <a:pt x="3825" y="1310"/>
                  </a:lnTo>
                  <a:lnTo>
                    <a:pt x="3469" y="1346"/>
                  </a:lnTo>
                  <a:lnTo>
                    <a:pt x="3082" y="1372"/>
                  </a:lnTo>
                  <a:lnTo>
                    <a:pt x="2674" y="1388"/>
                  </a:lnTo>
                  <a:lnTo>
                    <a:pt x="2258" y="1394"/>
                  </a:lnTo>
                  <a:lnTo>
                    <a:pt x="1843" y="1392"/>
                  </a:lnTo>
                  <a:lnTo>
                    <a:pt x="1443" y="1379"/>
                  </a:lnTo>
                  <a:lnTo>
                    <a:pt x="1068" y="1357"/>
                  </a:lnTo>
                  <a:lnTo>
                    <a:pt x="733" y="1324"/>
                  </a:lnTo>
                  <a:lnTo>
                    <a:pt x="446" y="1282"/>
                  </a:lnTo>
                  <a:lnTo>
                    <a:pt x="220" y="1230"/>
                  </a:lnTo>
                  <a:lnTo>
                    <a:pt x="67" y="1168"/>
                  </a:lnTo>
                  <a:lnTo>
                    <a:pt x="0" y="1096"/>
                  </a:lnTo>
                  <a:lnTo>
                    <a:pt x="2297" y="0"/>
                  </a:lnTo>
                  <a:lnTo>
                    <a:pt x="2297" y="0"/>
                  </a:lnTo>
                </a:path>
              </a:pathLst>
            </a:custGeom>
            <a:solidFill>
              <a:srgbClr val="82f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42120" y="4589640"/>
              <a:ext cx="1800" cy="1779480"/>
            </a:xfrm>
            <a:custGeom>
              <a:avLst/>
              <a:gdLst/>
              <a:ahLst/>
              <a:rect l="l" t="t" r="r" b="b"/>
              <a:pathLst>
                <a:path w="1" h="1121">
                  <a:moveTo>
                    <a:pt x="0" y="1080"/>
                  </a:moveTo>
                  <a:lnTo>
                    <a:pt x="0" y="1120"/>
                  </a:lnTo>
                  <a:lnTo>
                    <a:pt x="0" y="1091"/>
                  </a:lnTo>
                  <a:lnTo>
                    <a:pt x="0" y="1008"/>
                  </a:lnTo>
                  <a:lnTo>
                    <a:pt x="0" y="884"/>
                  </a:lnTo>
                  <a:lnTo>
                    <a:pt x="0" y="734"/>
                  </a:lnTo>
                  <a:lnTo>
                    <a:pt x="0" y="568"/>
                  </a:lnTo>
                  <a:lnTo>
                    <a:pt x="0" y="403"/>
                  </a:lnTo>
                  <a:lnTo>
                    <a:pt x="0" y="249"/>
                  </a:lnTo>
                  <a:lnTo>
                    <a:pt x="0" y="12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141"/>
                  </a:lnTo>
                  <a:lnTo>
                    <a:pt x="0" y="344"/>
                  </a:lnTo>
                  <a:lnTo>
                    <a:pt x="0" y="653"/>
                  </a:lnTo>
                  <a:lnTo>
                    <a:pt x="0" y="1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697120" y="63039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95480" y="5738760"/>
              <a:ext cx="7792920" cy="1488960"/>
            </a:xfrm>
            <a:prstGeom prst="ellipse">
              <a:avLst/>
            </a:pr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-480960" y="1209600"/>
              <a:ext cx="1683720" cy="2096640"/>
              <a:chOff x="-480960" y="1209600"/>
              <a:chExt cx="1683720" cy="2096640"/>
            </a:xfrm>
          </p:grpSpPr>
          <p:sp>
            <p:nvSpPr>
              <p:cNvPr id="766" name=""/>
              <p:cNvSpPr/>
              <p:nvPr/>
            </p:nvSpPr>
            <p:spPr>
              <a:xfrm rot="8160000">
                <a:off x="329760" y="2722680"/>
                <a:ext cx="885960" cy="320400"/>
              </a:xfrm>
              <a:prstGeom prst="ellipse">
                <a:avLst/>
              </a:prstGeom>
              <a:solidFill>
                <a:srgbClr val="ffffc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-480960" y="1725480"/>
                <a:ext cx="1415880" cy="1338480"/>
              </a:xfrm>
              <a:custGeom>
                <a:avLst/>
                <a:gdLst/>
                <a:ahLst/>
                <a:rect l="l" t="t" r="r" b="b"/>
                <a:pathLst>
                  <a:path w="892" h="843">
                    <a:moveTo>
                      <a:pt x="519" y="830"/>
                    </a:moveTo>
                    <a:lnTo>
                      <a:pt x="517" y="830"/>
                    </a:lnTo>
                    <a:lnTo>
                      <a:pt x="517" y="829"/>
                    </a:lnTo>
                    <a:lnTo>
                      <a:pt x="514" y="827"/>
                    </a:lnTo>
                    <a:lnTo>
                      <a:pt x="513" y="824"/>
                    </a:lnTo>
                    <a:lnTo>
                      <a:pt x="509" y="822"/>
                    </a:lnTo>
                    <a:lnTo>
                      <a:pt x="506" y="818"/>
                    </a:lnTo>
                    <a:lnTo>
                      <a:pt x="502" y="814"/>
                    </a:lnTo>
                    <a:lnTo>
                      <a:pt x="499" y="808"/>
                    </a:lnTo>
                    <a:lnTo>
                      <a:pt x="495" y="803"/>
                    </a:lnTo>
                    <a:lnTo>
                      <a:pt x="491" y="797"/>
                    </a:lnTo>
                    <a:lnTo>
                      <a:pt x="487" y="792"/>
                    </a:lnTo>
                    <a:lnTo>
                      <a:pt x="485" y="784"/>
                    </a:lnTo>
                    <a:lnTo>
                      <a:pt x="483" y="778"/>
                    </a:lnTo>
                    <a:lnTo>
                      <a:pt x="481" y="771"/>
                    </a:lnTo>
                    <a:lnTo>
                      <a:pt x="479" y="763"/>
                    </a:lnTo>
                    <a:lnTo>
                      <a:pt x="479" y="755"/>
                    </a:lnTo>
                    <a:lnTo>
                      <a:pt x="477" y="751"/>
                    </a:lnTo>
                    <a:lnTo>
                      <a:pt x="0" y="263"/>
                    </a:lnTo>
                    <a:lnTo>
                      <a:pt x="7" y="238"/>
                    </a:lnTo>
                    <a:lnTo>
                      <a:pt x="16" y="211"/>
                    </a:lnTo>
                    <a:lnTo>
                      <a:pt x="29" y="187"/>
                    </a:lnTo>
                    <a:lnTo>
                      <a:pt x="43" y="161"/>
                    </a:lnTo>
                    <a:lnTo>
                      <a:pt x="61" y="138"/>
                    </a:lnTo>
                    <a:lnTo>
                      <a:pt x="80" y="115"/>
                    </a:lnTo>
                    <a:lnTo>
                      <a:pt x="101" y="93"/>
                    </a:lnTo>
                    <a:lnTo>
                      <a:pt x="123" y="73"/>
                    </a:lnTo>
                    <a:lnTo>
                      <a:pt x="149" y="56"/>
                    </a:lnTo>
                    <a:lnTo>
                      <a:pt x="175" y="41"/>
                    </a:lnTo>
                    <a:lnTo>
                      <a:pt x="202" y="27"/>
                    </a:lnTo>
                    <a:lnTo>
                      <a:pt x="229" y="15"/>
                    </a:lnTo>
                    <a:lnTo>
                      <a:pt x="259" y="7"/>
                    </a:lnTo>
                    <a:lnTo>
                      <a:pt x="287" y="2"/>
                    </a:lnTo>
                    <a:lnTo>
                      <a:pt x="317" y="0"/>
                    </a:lnTo>
                    <a:lnTo>
                      <a:pt x="347" y="0"/>
                    </a:lnTo>
                    <a:lnTo>
                      <a:pt x="798" y="417"/>
                    </a:lnTo>
                    <a:lnTo>
                      <a:pt x="815" y="423"/>
                    </a:lnTo>
                    <a:lnTo>
                      <a:pt x="829" y="427"/>
                    </a:lnTo>
                    <a:lnTo>
                      <a:pt x="842" y="433"/>
                    </a:lnTo>
                    <a:lnTo>
                      <a:pt x="854" y="437"/>
                    </a:lnTo>
                    <a:lnTo>
                      <a:pt x="863" y="442"/>
                    </a:lnTo>
                    <a:lnTo>
                      <a:pt x="871" y="446"/>
                    </a:lnTo>
                    <a:lnTo>
                      <a:pt x="877" y="450"/>
                    </a:lnTo>
                    <a:lnTo>
                      <a:pt x="883" y="453"/>
                    </a:lnTo>
                    <a:lnTo>
                      <a:pt x="886" y="458"/>
                    </a:lnTo>
                    <a:lnTo>
                      <a:pt x="889" y="462"/>
                    </a:lnTo>
                    <a:lnTo>
                      <a:pt x="889" y="465"/>
                    </a:lnTo>
                    <a:lnTo>
                      <a:pt x="891" y="468"/>
                    </a:lnTo>
                    <a:lnTo>
                      <a:pt x="889" y="471"/>
                    </a:lnTo>
                    <a:lnTo>
                      <a:pt x="888" y="473"/>
                    </a:lnTo>
                    <a:lnTo>
                      <a:pt x="885" y="475"/>
                    </a:lnTo>
                    <a:lnTo>
                      <a:pt x="883" y="476"/>
                    </a:lnTo>
                    <a:lnTo>
                      <a:pt x="810" y="509"/>
                    </a:lnTo>
                    <a:lnTo>
                      <a:pt x="748" y="541"/>
                    </a:lnTo>
                    <a:lnTo>
                      <a:pt x="696" y="576"/>
                    </a:lnTo>
                    <a:lnTo>
                      <a:pt x="653" y="609"/>
                    </a:lnTo>
                    <a:lnTo>
                      <a:pt x="617" y="645"/>
                    </a:lnTo>
                    <a:lnTo>
                      <a:pt x="590" y="678"/>
                    </a:lnTo>
                    <a:lnTo>
                      <a:pt x="568" y="711"/>
                    </a:lnTo>
                    <a:lnTo>
                      <a:pt x="553" y="740"/>
                    </a:lnTo>
                    <a:lnTo>
                      <a:pt x="541" y="768"/>
                    </a:lnTo>
                    <a:lnTo>
                      <a:pt x="533" y="792"/>
                    </a:lnTo>
                    <a:lnTo>
                      <a:pt x="528" y="813"/>
                    </a:lnTo>
                    <a:lnTo>
                      <a:pt x="526" y="828"/>
                    </a:lnTo>
                    <a:lnTo>
                      <a:pt x="524" y="839"/>
                    </a:lnTo>
                    <a:lnTo>
                      <a:pt x="523" y="842"/>
                    </a:lnTo>
                    <a:lnTo>
                      <a:pt x="521" y="841"/>
                    </a:lnTo>
                    <a:lnTo>
                      <a:pt x="519" y="830"/>
                    </a:lnTo>
                    <a:lnTo>
                      <a:pt x="519" y="83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8040" y="2462040"/>
                <a:ext cx="739800" cy="730440"/>
              </a:xfrm>
              <a:custGeom>
                <a:avLst/>
                <a:gdLst/>
                <a:ahLst/>
                <a:rect l="l" t="t" r="r" b="b"/>
                <a:pathLst>
                  <a:path w="466" h="460">
                    <a:moveTo>
                      <a:pt x="465" y="71"/>
                    </a:moveTo>
                    <a:lnTo>
                      <a:pt x="430" y="73"/>
                    </a:lnTo>
                    <a:lnTo>
                      <a:pt x="395" y="80"/>
                    </a:lnTo>
                    <a:lnTo>
                      <a:pt x="358" y="94"/>
                    </a:lnTo>
                    <a:lnTo>
                      <a:pt x="321" y="111"/>
                    </a:lnTo>
                    <a:lnTo>
                      <a:pt x="284" y="133"/>
                    </a:lnTo>
                    <a:lnTo>
                      <a:pt x="249" y="159"/>
                    </a:lnTo>
                    <a:lnTo>
                      <a:pt x="214" y="187"/>
                    </a:lnTo>
                    <a:lnTo>
                      <a:pt x="183" y="217"/>
                    </a:lnTo>
                    <a:lnTo>
                      <a:pt x="153" y="250"/>
                    </a:lnTo>
                    <a:lnTo>
                      <a:pt x="127" y="283"/>
                    </a:lnTo>
                    <a:lnTo>
                      <a:pt x="105" y="317"/>
                    </a:lnTo>
                    <a:lnTo>
                      <a:pt x="88" y="349"/>
                    </a:lnTo>
                    <a:lnTo>
                      <a:pt x="75" y="381"/>
                    </a:lnTo>
                    <a:lnTo>
                      <a:pt x="69" y="409"/>
                    </a:lnTo>
                    <a:lnTo>
                      <a:pt x="68" y="437"/>
                    </a:lnTo>
                    <a:lnTo>
                      <a:pt x="76" y="459"/>
                    </a:lnTo>
                    <a:lnTo>
                      <a:pt x="0" y="379"/>
                    </a:lnTo>
                    <a:lnTo>
                      <a:pt x="0" y="352"/>
                    </a:lnTo>
                    <a:lnTo>
                      <a:pt x="6" y="323"/>
                    </a:lnTo>
                    <a:lnTo>
                      <a:pt x="17" y="293"/>
                    </a:lnTo>
                    <a:lnTo>
                      <a:pt x="31" y="263"/>
                    </a:lnTo>
                    <a:lnTo>
                      <a:pt x="49" y="234"/>
                    </a:lnTo>
                    <a:lnTo>
                      <a:pt x="71" y="204"/>
                    </a:lnTo>
                    <a:lnTo>
                      <a:pt x="96" y="176"/>
                    </a:lnTo>
                    <a:lnTo>
                      <a:pt x="123" y="147"/>
                    </a:lnTo>
                    <a:lnTo>
                      <a:pt x="152" y="122"/>
                    </a:lnTo>
                    <a:lnTo>
                      <a:pt x="183" y="97"/>
                    </a:lnTo>
                    <a:lnTo>
                      <a:pt x="215" y="75"/>
                    </a:lnTo>
                    <a:lnTo>
                      <a:pt x="249" y="53"/>
                    </a:lnTo>
                    <a:lnTo>
                      <a:pt x="283" y="35"/>
                    </a:lnTo>
                    <a:lnTo>
                      <a:pt x="317" y="20"/>
                    </a:lnTo>
                    <a:lnTo>
                      <a:pt x="350" y="9"/>
                    </a:lnTo>
                    <a:lnTo>
                      <a:pt x="385" y="0"/>
                    </a:lnTo>
                    <a:lnTo>
                      <a:pt x="465" y="71"/>
                    </a:lnTo>
                    <a:lnTo>
                      <a:pt x="465" y="71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6360" y="1805040"/>
                <a:ext cx="297000" cy="231840"/>
              </a:xfrm>
              <a:custGeom>
                <a:avLst/>
                <a:gdLst/>
                <a:ahLst/>
                <a:rect l="l" t="t" r="r" b="b"/>
                <a:pathLst>
                  <a:path w="187" h="146">
                    <a:moveTo>
                      <a:pt x="115" y="145"/>
                    </a:moveTo>
                    <a:lnTo>
                      <a:pt x="115" y="145"/>
                    </a:lnTo>
                    <a:lnTo>
                      <a:pt x="115" y="143"/>
                    </a:lnTo>
                    <a:lnTo>
                      <a:pt x="117" y="141"/>
                    </a:lnTo>
                    <a:lnTo>
                      <a:pt x="120" y="138"/>
                    </a:lnTo>
                    <a:lnTo>
                      <a:pt x="123" y="135"/>
                    </a:lnTo>
                    <a:lnTo>
                      <a:pt x="128" y="131"/>
                    </a:lnTo>
                    <a:lnTo>
                      <a:pt x="132" y="127"/>
                    </a:lnTo>
                    <a:lnTo>
                      <a:pt x="138" y="122"/>
                    </a:lnTo>
                    <a:lnTo>
                      <a:pt x="143" y="118"/>
                    </a:lnTo>
                    <a:lnTo>
                      <a:pt x="149" y="115"/>
                    </a:lnTo>
                    <a:lnTo>
                      <a:pt x="154" y="111"/>
                    </a:lnTo>
                    <a:lnTo>
                      <a:pt x="160" y="108"/>
                    </a:lnTo>
                    <a:lnTo>
                      <a:pt x="166" y="106"/>
                    </a:lnTo>
                    <a:lnTo>
                      <a:pt x="173" y="104"/>
                    </a:lnTo>
                    <a:lnTo>
                      <a:pt x="178" y="103"/>
                    </a:lnTo>
                    <a:lnTo>
                      <a:pt x="186" y="103"/>
                    </a:lnTo>
                    <a:lnTo>
                      <a:pt x="184" y="102"/>
                    </a:lnTo>
                    <a:lnTo>
                      <a:pt x="180" y="99"/>
                    </a:lnTo>
                    <a:lnTo>
                      <a:pt x="174" y="94"/>
                    </a:lnTo>
                    <a:lnTo>
                      <a:pt x="168" y="87"/>
                    </a:lnTo>
                    <a:lnTo>
                      <a:pt x="158" y="80"/>
                    </a:lnTo>
                    <a:lnTo>
                      <a:pt x="149" y="71"/>
                    </a:lnTo>
                    <a:lnTo>
                      <a:pt x="139" y="62"/>
                    </a:lnTo>
                    <a:lnTo>
                      <a:pt x="129" y="51"/>
                    </a:lnTo>
                    <a:lnTo>
                      <a:pt x="118" y="42"/>
                    </a:lnTo>
                    <a:lnTo>
                      <a:pt x="108" y="32"/>
                    </a:lnTo>
                    <a:lnTo>
                      <a:pt x="99" y="24"/>
                    </a:lnTo>
                    <a:lnTo>
                      <a:pt x="91" y="15"/>
                    </a:lnTo>
                    <a:lnTo>
                      <a:pt x="83" y="9"/>
                    </a:lnTo>
                    <a:lnTo>
                      <a:pt x="79" y="4"/>
                    </a:lnTo>
                    <a:lnTo>
                      <a:pt x="76" y="1"/>
                    </a:lnTo>
                    <a:lnTo>
                      <a:pt x="76" y="0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5" y="2"/>
                    </a:lnTo>
                    <a:lnTo>
                      <a:pt x="73" y="2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0" y="3"/>
                    </a:lnTo>
                    <a:lnTo>
                      <a:pt x="55" y="3"/>
                    </a:lnTo>
                    <a:lnTo>
                      <a:pt x="48" y="6"/>
                    </a:lnTo>
                    <a:lnTo>
                      <a:pt x="42" y="8"/>
                    </a:lnTo>
                    <a:lnTo>
                      <a:pt x="34" y="12"/>
                    </a:lnTo>
                    <a:lnTo>
                      <a:pt x="29" y="14"/>
                    </a:lnTo>
                    <a:lnTo>
                      <a:pt x="21" y="19"/>
                    </a:lnTo>
                    <a:lnTo>
                      <a:pt x="14" y="25"/>
                    </a:lnTo>
                    <a:lnTo>
                      <a:pt x="6" y="32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4" y="44"/>
                    </a:lnTo>
                    <a:lnTo>
                      <a:pt x="9" y="50"/>
                    </a:lnTo>
                    <a:lnTo>
                      <a:pt x="17" y="56"/>
                    </a:lnTo>
                    <a:lnTo>
                      <a:pt x="26" y="65"/>
                    </a:lnTo>
                    <a:lnTo>
                      <a:pt x="35" y="73"/>
                    </a:lnTo>
                    <a:lnTo>
                      <a:pt x="46" y="83"/>
                    </a:lnTo>
                    <a:lnTo>
                      <a:pt x="57" y="92"/>
                    </a:lnTo>
                    <a:lnTo>
                      <a:pt x="67" y="103"/>
                    </a:lnTo>
                    <a:lnTo>
                      <a:pt x="78" y="112"/>
                    </a:lnTo>
                    <a:lnTo>
                      <a:pt x="87" y="121"/>
                    </a:lnTo>
                    <a:lnTo>
                      <a:pt x="97" y="128"/>
                    </a:lnTo>
                    <a:lnTo>
                      <a:pt x="103" y="136"/>
                    </a:lnTo>
                    <a:lnTo>
                      <a:pt x="109" y="141"/>
                    </a:lnTo>
                    <a:lnTo>
                      <a:pt x="113" y="144"/>
                    </a:lnTo>
                    <a:lnTo>
                      <a:pt x="115" y="145"/>
                    </a:lnTo>
                    <a:lnTo>
                      <a:pt x="115" y="145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39680" y="1398600"/>
                <a:ext cx="141480" cy="527040"/>
              </a:xfrm>
              <a:custGeom>
                <a:avLst/>
                <a:gdLst/>
                <a:ahLst/>
                <a:rect l="l" t="t" r="r" b="b"/>
                <a:pathLst>
                  <a:path w="89" h="332">
                    <a:moveTo>
                      <a:pt x="0" y="4"/>
                    </a:moveTo>
                    <a:lnTo>
                      <a:pt x="88" y="0"/>
                    </a:lnTo>
                    <a:lnTo>
                      <a:pt x="88" y="329"/>
                    </a:lnTo>
                    <a:lnTo>
                      <a:pt x="0" y="331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-318960" y="1209600"/>
                <a:ext cx="1027080" cy="262080"/>
              </a:xfrm>
              <a:custGeom>
                <a:avLst/>
                <a:gdLst/>
                <a:ahLst/>
                <a:rect l="l" t="t" r="r" b="b"/>
                <a:pathLst>
                  <a:path w="647" h="165">
                    <a:moveTo>
                      <a:pt x="0" y="0"/>
                    </a:moveTo>
                    <a:lnTo>
                      <a:pt x="31" y="40"/>
                    </a:lnTo>
                    <a:lnTo>
                      <a:pt x="65" y="73"/>
                    </a:lnTo>
                    <a:lnTo>
                      <a:pt x="102" y="102"/>
                    </a:lnTo>
                    <a:lnTo>
                      <a:pt x="143" y="124"/>
                    </a:lnTo>
                    <a:lnTo>
                      <a:pt x="186" y="142"/>
                    </a:lnTo>
                    <a:lnTo>
                      <a:pt x="229" y="154"/>
                    </a:lnTo>
                    <a:lnTo>
                      <a:pt x="276" y="163"/>
                    </a:lnTo>
                    <a:lnTo>
                      <a:pt x="323" y="164"/>
                    </a:lnTo>
                    <a:lnTo>
                      <a:pt x="369" y="163"/>
                    </a:lnTo>
                    <a:lnTo>
                      <a:pt x="415" y="154"/>
                    </a:lnTo>
                    <a:lnTo>
                      <a:pt x="459" y="142"/>
                    </a:lnTo>
                    <a:lnTo>
                      <a:pt x="503" y="124"/>
                    </a:lnTo>
                    <a:lnTo>
                      <a:pt x="543" y="102"/>
                    </a:lnTo>
                    <a:lnTo>
                      <a:pt x="581" y="73"/>
                    </a:lnTo>
                    <a:lnTo>
                      <a:pt x="615" y="40"/>
                    </a:lnTo>
                    <a:lnTo>
                      <a:pt x="64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-347760" y="1209600"/>
                <a:ext cx="486000" cy="254160"/>
              </a:xfrm>
              <a:custGeom>
                <a:avLst/>
                <a:gdLst/>
                <a:ahLst/>
                <a:rect l="l" t="t" r="r" b="b"/>
                <a:pathLst>
                  <a:path w="306" h="160">
                    <a:moveTo>
                      <a:pt x="139" y="0"/>
                    </a:moveTo>
                    <a:lnTo>
                      <a:pt x="134" y="20"/>
                    </a:lnTo>
                    <a:lnTo>
                      <a:pt x="134" y="38"/>
                    </a:lnTo>
                    <a:lnTo>
                      <a:pt x="139" y="54"/>
                    </a:lnTo>
                    <a:lnTo>
                      <a:pt x="147" y="66"/>
                    </a:lnTo>
                    <a:lnTo>
                      <a:pt x="161" y="80"/>
                    </a:lnTo>
                    <a:lnTo>
                      <a:pt x="176" y="90"/>
                    </a:lnTo>
                    <a:lnTo>
                      <a:pt x="194" y="100"/>
                    </a:lnTo>
                    <a:lnTo>
                      <a:pt x="211" y="109"/>
                    </a:lnTo>
                    <a:lnTo>
                      <a:pt x="228" y="117"/>
                    </a:lnTo>
                    <a:lnTo>
                      <a:pt x="247" y="124"/>
                    </a:lnTo>
                    <a:lnTo>
                      <a:pt x="264" y="130"/>
                    </a:lnTo>
                    <a:lnTo>
                      <a:pt x="279" y="135"/>
                    </a:lnTo>
                    <a:lnTo>
                      <a:pt x="291" y="141"/>
                    </a:lnTo>
                    <a:lnTo>
                      <a:pt x="301" y="145"/>
                    </a:lnTo>
                    <a:lnTo>
                      <a:pt x="304" y="150"/>
                    </a:lnTo>
                    <a:lnTo>
                      <a:pt x="305" y="153"/>
                    </a:lnTo>
                    <a:lnTo>
                      <a:pt x="299" y="157"/>
                    </a:lnTo>
                    <a:lnTo>
                      <a:pt x="293" y="158"/>
                    </a:lnTo>
                    <a:lnTo>
                      <a:pt x="283" y="159"/>
                    </a:lnTo>
                    <a:lnTo>
                      <a:pt x="273" y="157"/>
                    </a:lnTo>
                    <a:lnTo>
                      <a:pt x="259" y="156"/>
                    </a:lnTo>
                    <a:lnTo>
                      <a:pt x="246" y="153"/>
                    </a:lnTo>
                    <a:lnTo>
                      <a:pt x="231" y="149"/>
                    </a:lnTo>
                    <a:lnTo>
                      <a:pt x="217" y="144"/>
                    </a:lnTo>
                    <a:lnTo>
                      <a:pt x="202" y="141"/>
                    </a:lnTo>
                    <a:lnTo>
                      <a:pt x="186" y="136"/>
                    </a:lnTo>
                    <a:lnTo>
                      <a:pt x="172" y="132"/>
                    </a:lnTo>
                    <a:lnTo>
                      <a:pt x="157" y="126"/>
                    </a:lnTo>
                    <a:lnTo>
                      <a:pt x="144" y="122"/>
                    </a:lnTo>
                    <a:lnTo>
                      <a:pt x="131" y="117"/>
                    </a:lnTo>
                    <a:lnTo>
                      <a:pt x="121" y="113"/>
                    </a:lnTo>
                    <a:lnTo>
                      <a:pt x="113" y="110"/>
                    </a:lnTo>
                    <a:lnTo>
                      <a:pt x="103" y="105"/>
                    </a:lnTo>
                    <a:lnTo>
                      <a:pt x="93" y="98"/>
                    </a:lnTo>
                    <a:lnTo>
                      <a:pt x="83" y="92"/>
                    </a:lnTo>
                    <a:lnTo>
                      <a:pt x="72" y="83"/>
                    </a:lnTo>
                    <a:lnTo>
                      <a:pt x="63" y="75"/>
                    </a:lnTo>
                    <a:lnTo>
                      <a:pt x="53" y="65"/>
                    </a:lnTo>
                    <a:lnTo>
                      <a:pt x="45" y="56"/>
                    </a:lnTo>
                    <a:lnTo>
                      <a:pt x="36" y="46"/>
                    </a:lnTo>
                    <a:lnTo>
                      <a:pt x="29" y="38"/>
                    </a:lnTo>
                    <a:lnTo>
                      <a:pt x="21" y="30"/>
                    </a:lnTo>
                    <a:lnTo>
                      <a:pt x="16" y="22"/>
                    </a:lnTo>
                    <a:lnTo>
                      <a:pt x="10" y="15"/>
                    </a:lnTo>
                    <a:lnTo>
                      <a:pt x="7" y="10"/>
                    </a:lnTo>
                    <a:lnTo>
                      <a:pt x="3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83" y="0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38" y="0"/>
                    </a:lnTo>
                    <a:lnTo>
                      <a:pt x="139" y="0"/>
                    </a:lnTo>
                    <a:lnTo>
                      <a:pt x="13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01560" y="2368440"/>
                <a:ext cx="214560" cy="92160"/>
              </a:xfrm>
              <a:custGeom>
                <a:avLst/>
                <a:gdLst/>
                <a:ahLst/>
                <a:rect l="l" t="t" r="r" b="b"/>
                <a:pathLst>
                  <a:path w="135" h="58">
                    <a:moveTo>
                      <a:pt x="134" y="16"/>
                    </a:moveTo>
                    <a:lnTo>
                      <a:pt x="119" y="17"/>
                    </a:lnTo>
                    <a:lnTo>
                      <a:pt x="106" y="18"/>
                    </a:lnTo>
                    <a:lnTo>
                      <a:pt x="93" y="20"/>
                    </a:lnTo>
                    <a:lnTo>
                      <a:pt x="82" y="22"/>
                    </a:lnTo>
                    <a:lnTo>
                      <a:pt x="70" y="26"/>
                    </a:lnTo>
                    <a:lnTo>
                      <a:pt x="59" y="30"/>
                    </a:lnTo>
                    <a:lnTo>
                      <a:pt x="49" y="34"/>
                    </a:lnTo>
                    <a:lnTo>
                      <a:pt x="41" y="37"/>
                    </a:lnTo>
                    <a:lnTo>
                      <a:pt x="31" y="42"/>
                    </a:lnTo>
                    <a:lnTo>
                      <a:pt x="24" y="46"/>
                    </a:lnTo>
                    <a:lnTo>
                      <a:pt x="17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4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6"/>
                    </a:lnTo>
                    <a:lnTo>
                      <a:pt x="3" y="54"/>
                    </a:lnTo>
                    <a:lnTo>
                      <a:pt x="7" y="51"/>
                    </a:lnTo>
                    <a:lnTo>
                      <a:pt x="12" y="47"/>
                    </a:lnTo>
                    <a:lnTo>
                      <a:pt x="18" y="43"/>
                    </a:lnTo>
                    <a:lnTo>
                      <a:pt x="25" y="38"/>
                    </a:lnTo>
                    <a:lnTo>
                      <a:pt x="33" y="33"/>
                    </a:lnTo>
                    <a:lnTo>
                      <a:pt x="42" y="27"/>
                    </a:lnTo>
                    <a:lnTo>
                      <a:pt x="49" y="24"/>
                    </a:lnTo>
                    <a:lnTo>
                      <a:pt x="58" y="18"/>
                    </a:lnTo>
                    <a:lnTo>
                      <a:pt x="65" y="14"/>
                    </a:lnTo>
                    <a:lnTo>
                      <a:pt x="72" y="9"/>
                    </a:lnTo>
                    <a:lnTo>
                      <a:pt x="77" y="7"/>
                    </a:lnTo>
                    <a:lnTo>
                      <a:pt x="82" y="4"/>
                    </a:lnTo>
                    <a:lnTo>
                      <a:pt x="85" y="2"/>
                    </a:lnTo>
                    <a:lnTo>
                      <a:pt x="86" y="0"/>
                    </a:lnTo>
                    <a:lnTo>
                      <a:pt x="87" y="2"/>
                    </a:lnTo>
                    <a:lnTo>
                      <a:pt x="90" y="2"/>
                    </a:lnTo>
                    <a:lnTo>
                      <a:pt x="93" y="4"/>
                    </a:lnTo>
                    <a:lnTo>
                      <a:pt x="97" y="4"/>
                    </a:lnTo>
                    <a:lnTo>
                      <a:pt x="101" y="6"/>
                    </a:lnTo>
                    <a:lnTo>
                      <a:pt x="106" y="7"/>
                    </a:lnTo>
                    <a:lnTo>
                      <a:pt x="110" y="9"/>
                    </a:lnTo>
                    <a:lnTo>
                      <a:pt x="116" y="9"/>
                    </a:lnTo>
                    <a:lnTo>
                      <a:pt x="119" y="10"/>
                    </a:lnTo>
                    <a:lnTo>
                      <a:pt x="124" y="12"/>
                    </a:lnTo>
                    <a:lnTo>
                      <a:pt x="127" y="14"/>
                    </a:lnTo>
                    <a:lnTo>
                      <a:pt x="131" y="14"/>
                    </a:lnTo>
                    <a:lnTo>
                      <a:pt x="133" y="16"/>
                    </a:lnTo>
                    <a:lnTo>
                      <a:pt x="134" y="16"/>
                    </a:lnTo>
                    <a:lnTo>
                      <a:pt x="134" y="16"/>
                    </a:lnTo>
                    <a:lnTo>
                      <a:pt x="134" y="16"/>
                    </a:lnTo>
                    <a:lnTo>
                      <a:pt x="134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5360" y="2670120"/>
                <a:ext cx="131760" cy="309600"/>
              </a:xfrm>
              <a:custGeom>
                <a:avLst/>
                <a:gdLst/>
                <a:ahLst/>
                <a:rect l="l" t="t" r="r" b="b"/>
                <a:pathLst>
                  <a:path w="83" h="195">
                    <a:moveTo>
                      <a:pt x="48" y="194"/>
                    </a:moveTo>
                    <a:lnTo>
                      <a:pt x="39" y="176"/>
                    </a:lnTo>
                    <a:lnTo>
                      <a:pt x="35" y="156"/>
                    </a:lnTo>
                    <a:lnTo>
                      <a:pt x="33" y="138"/>
                    </a:lnTo>
                    <a:lnTo>
                      <a:pt x="34" y="119"/>
                    </a:lnTo>
                    <a:lnTo>
                      <a:pt x="35" y="102"/>
                    </a:lnTo>
                    <a:lnTo>
                      <a:pt x="39" y="86"/>
                    </a:lnTo>
                    <a:lnTo>
                      <a:pt x="44" y="71"/>
                    </a:lnTo>
                    <a:lnTo>
                      <a:pt x="49" y="57"/>
                    </a:lnTo>
                    <a:lnTo>
                      <a:pt x="55" y="45"/>
                    </a:lnTo>
                    <a:lnTo>
                      <a:pt x="61" y="34"/>
                    </a:lnTo>
                    <a:lnTo>
                      <a:pt x="66" y="24"/>
                    </a:lnTo>
                    <a:lnTo>
                      <a:pt x="72" y="15"/>
                    </a:lnTo>
                    <a:lnTo>
                      <a:pt x="76" y="9"/>
                    </a:lnTo>
                    <a:lnTo>
                      <a:pt x="79" y="4"/>
                    </a:lnTo>
                    <a:lnTo>
                      <a:pt x="81" y="2"/>
                    </a:lnTo>
                    <a:lnTo>
                      <a:pt x="82" y="0"/>
                    </a:lnTo>
                    <a:lnTo>
                      <a:pt x="79" y="1"/>
                    </a:lnTo>
                    <a:lnTo>
                      <a:pt x="76" y="3"/>
                    </a:lnTo>
                    <a:lnTo>
                      <a:pt x="69" y="7"/>
                    </a:lnTo>
                    <a:lnTo>
                      <a:pt x="63" y="12"/>
                    </a:lnTo>
                    <a:lnTo>
                      <a:pt x="54" y="18"/>
                    </a:lnTo>
                    <a:lnTo>
                      <a:pt x="47" y="24"/>
                    </a:lnTo>
                    <a:lnTo>
                      <a:pt x="38" y="33"/>
                    </a:lnTo>
                    <a:lnTo>
                      <a:pt x="31" y="41"/>
                    </a:lnTo>
                    <a:lnTo>
                      <a:pt x="22" y="52"/>
                    </a:lnTo>
                    <a:lnTo>
                      <a:pt x="14" y="62"/>
                    </a:lnTo>
                    <a:lnTo>
                      <a:pt x="8" y="74"/>
                    </a:lnTo>
                    <a:lnTo>
                      <a:pt x="4" y="85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1" y="123"/>
                    </a:lnTo>
                    <a:lnTo>
                      <a:pt x="6" y="136"/>
                    </a:lnTo>
                    <a:lnTo>
                      <a:pt x="6" y="137"/>
                    </a:lnTo>
                    <a:lnTo>
                      <a:pt x="7" y="139"/>
                    </a:lnTo>
                    <a:lnTo>
                      <a:pt x="9" y="142"/>
                    </a:lnTo>
                    <a:lnTo>
                      <a:pt x="12" y="145"/>
                    </a:lnTo>
                    <a:lnTo>
                      <a:pt x="14" y="150"/>
                    </a:lnTo>
                    <a:lnTo>
                      <a:pt x="18" y="155"/>
                    </a:lnTo>
                    <a:lnTo>
                      <a:pt x="22" y="160"/>
                    </a:lnTo>
                    <a:lnTo>
                      <a:pt x="26" y="166"/>
                    </a:lnTo>
                    <a:lnTo>
                      <a:pt x="30" y="171"/>
                    </a:lnTo>
                    <a:lnTo>
                      <a:pt x="33" y="177"/>
                    </a:lnTo>
                    <a:lnTo>
                      <a:pt x="36" y="182"/>
                    </a:lnTo>
                    <a:lnTo>
                      <a:pt x="40" y="186"/>
                    </a:lnTo>
                    <a:lnTo>
                      <a:pt x="42" y="190"/>
                    </a:lnTo>
                    <a:lnTo>
                      <a:pt x="45" y="192"/>
                    </a:lnTo>
                    <a:lnTo>
                      <a:pt x="46" y="194"/>
                    </a:lnTo>
                    <a:lnTo>
                      <a:pt x="48" y="194"/>
                    </a:lnTo>
                    <a:lnTo>
                      <a:pt x="48" y="1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-460440" y="2085840"/>
                <a:ext cx="744480" cy="746280"/>
              </a:xfrm>
              <a:custGeom>
                <a:avLst/>
                <a:gdLst/>
                <a:ahLst/>
                <a:rect l="l" t="t" r="r" b="b"/>
                <a:pathLst>
                  <a:path w="469" h="470">
                    <a:moveTo>
                      <a:pt x="444" y="469"/>
                    </a:moveTo>
                    <a:lnTo>
                      <a:pt x="0" y="28"/>
                    </a:lnTo>
                    <a:lnTo>
                      <a:pt x="4" y="11"/>
                    </a:lnTo>
                    <a:lnTo>
                      <a:pt x="9" y="0"/>
                    </a:lnTo>
                    <a:lnTo>
                      <a:pt x="468" y="462"/>
                    </a:lnTo>
                    <a:lnTo>
                      <a:pt x="444" y="469"/>
                    </a:lnTo>
                    <a:lnTo>
                      <a:pt x="444" y="46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47760" y="2998800"/>
                <a:ext cx="109440" cy="138240"/>
              </a:xfrm>
              <a:custGeom>
                <a:avLst/>
                <a:gdLst/>
                <a:ahLst/>
                <a:rect l="l" t="t" r="r" b="b"/>
                <a:pathLst>
                  <a:path w="69" h="87">
                    <a:moveTo>
                      <a:pt x="0" y="30"/>
                    </a:moveTo>
                    <a:lnTo>
                      <a:pt x="60" y="86"/>
                    </a:lnTo>
                    <a:lnTo>
                      <a:pt x="60" y="70"/>
                    </a:lnTo>
                    <a:lnTo>
                      <a:pt x="68" y="49"/>
                    </a:lnTo>
                    <a:lnTo>
                      <a:pt x="12" y="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36440" y="1865160"/>
                <a:ext cx="141480" cy="92160"/>
              </a:xfrm>
              <a:custGeom>
                <a:avLst/>
                <a:gdLst/>
                <a:ahLst/>
                <a:rect l="l" t="t" r="r" b="b"/>
                <a:pathLst>
                  <a:path w="89" h="58">
                    <a:moveTo>
                      <a:pt x="88" y="37"/>
                    </a:moveTo>
                    <a:lnTo>
                      <a:pt x="80" y="43"/>
                    </a:lnTo>
                    <a:lnTo>
                      <a:pt x="74" y="48"/>
                    </a:lnTo>
                    <a:lnTo>
                      <a:pt x="67" y="52"/>
                    </a:lnTo>
                    <a:lnTo>
                      <a:pt x="59" y="53"/>
                    </a:lnTo>
                    <a:lnTo>
                      <a:pt x="50" y="54"/>
                    </a:lnTo>
                    <a:lnTo>
                      <a:pt x="43" y="53"/>
                    </a:lnTo>
                    <a:lnTo>
                      <a:pt x="36" y="52"/>
                    </a:lnTo>
                    <a:lnTo>
                      <a:pt x="29" y="50"/>
                    </a:lnTo>
                    <a:lnTo>
                      <a:pt x="21" y="47"/>
                    </a:lnTo>
                    <a:lnTo>
                      <a:pt x="16" y="42"/>
                    </a:lnTo>
                    <a:lnTo>
                      <a:pt x="10" y="37"/>
                    </a:lnTo>
                    <a:lnTo>
                      <a:pt x="6" y="31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2" y="27"/>
                    </a:lnTo>
                    <a:lnTo>
                      <a:pt x="6" y="33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1" y="49"/>
                    </a:lnTo>
                    <a:lnTo>
                      <a:pt x="29" y="52"/>
                    </a:lnTo>
                    <a:lnTo>
                      <a:pt x="36" y="55"/>
                    </a:lnTo>
                    <a:lnTo>
                      <a:pt x="43" y="57"/>
                    </a:lnTo>
                    <a:lnTo>
                      <a:pt x="50" y="57"/>
                    </a:lnTo>
                    <a:lnTo>
                      <a:pt x="59" y="56"/>
                    </a:lnTo>
                    <a:lnTo>
                      <a:pt x="67" y="55"/>
                    </a:lnTo>
                    <a:lnTo>
                      <a:pt x="74" y="51"/>
                    </a:lnTo>
                    <a:lnTo>
                      <a:pt x="80" y="46"/>
                    </a:lnTo>
                    <a:lnTo>
                      <a:pt x="88" y="39"/>
                    </a:lnTo>
                    <a:lnTo>
                      <a:pt x="88" y="39"/>
                    </a:lnTo>
                    <a:lnTo>
                      <a:pt x="88" y="39"/>
                    </a:lnTo>
                    <a:lnTo>
                      <a:pt x="88" y="39"/>
                    </a:lnTo>
                    <a:lnTo>
                      <a:pt x="88" y="39"/>
                    </a:lnTo>
                    <a:lnTo>
                      <a:pt x="88" y="39"/>
                    </a:lnTo>
                    <a:lnTo>
                      <a:pt x="88" y="39"/>
                    </a:lnTo>
                    <a:lnTo>
                      <a:pt x="88" y="39"/>
                    </a:lnTo>
                    <a:lnTo>
                      <a:pt x="88" y="38"/>
                    </a:lnTo>
                    <a:lnTo>
                      <a:pt x="88" y="38"/>
                    </a:lnTo>
                    <a:lnTo>
                      <a:pt x="88" y="38"/>
                    </a:lnTo>
                    <a:lnTo>
                      <a:pt x="88" y="38"/>
                    </a:lnTo>
                    <a:lnTo>
                      <a:pt x="88" y="38"/>
                    </a:lnTo>
                    <a:lnTo>
                      <a:pt x="88" y="38"/>
                    </a:lnTo>
                    <a:lnTo>
                      <a:pt x="88" y="38"/>
                    </a:lnTo>
                    <a:lnTo>
                      <a:pt x="88" y="38"/>
                    </a:lnTo>
                    <a:lnTo>
                      <a:pt x="88" y="37"/>
                    </a:lnTo>
                    <a:lnTo>
                      <a:pt x="88" y="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19240" y="1968480"/>
                <a:ext cx="115560" cy="71280"/>
              </a:xfrm>
              <a:custGeom>
                <a:avLst/>
                <a:gdLst/>
                <a:ahLst/>
                <a:rect l="l" t="t" r="r" b="b"/>
                <a:pathLst>
                  <a:path w="73" h="45">
                    <a:moveTo>
                      <a:pt x="0" y="42"/>
                    </a:moveTo>
                    <a:lnTo>
                      <a:pt x="2" y="38"/>
                    </a:lnTo>
                    <a:lnTo>
                      <a:pt x="6" y="34"/>
                    </a:lnTo>
                    <a:lnTo>
                      <a:pt x="10" y="30"/>
                    </a:lnTo>
                    <a:lnTo>
                      <a:pt x="14" y="25"/>
                    </a:lnTo>
                    <a:lnTo>
                      <a:pt x="17" y="22"/>
                    </a:lnTo>
                    <a:lnTo>
                      <a:pt x="21" y="18"/>
                    </a:lnTo>
                    <a:lnTo>
                      <a:pt x="25" y="15"/>
                    </a:lnTo>
                    <a:lnTo>
                      <a:pt x="30" y="11"/>
                    </a:lnTo>
                    <a:lnTo>
                      <a:pt x="34" y="9"/>
                    </a:lnTo>
                    <a:lnTo>
                      <a:pt x="38" y="7"/>
                    </a:lnTo>
                    <a:lnTo>
                      <a:pt x="43" y="5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2" y="3"/>
                    </a:lnTo>
                    <a:lnTo>
                      <a:pt x="63" y="5"/>
                    </a:lnTo>
                    <a:lnTo>
                      <a:pt x="56" y="6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39" y="12"/>
                    </a:lnTo>
                    <a:lnTo>
                      <a:pt x="35" y="14"/>
                    </a:lnTo>
                    <a:lnTo>
                      <a:pt x="30" y="15"/>
                    </a:lnTo>
                    <a:lnTo>
                      <a:pt x="26" y="17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5" y="27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5" y="37"/>
                    </a:lnTo>
                    <a:lnTo>
                      <a:pt x="2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6360" y="1866960"/>
                <a:ext cx="184320" cy="172800"/>
              </a:xfrm>
              <a:custGeom>
                <a:avLst/>
                <a:gdLst/>
                <a:ahLst/>
                <a:rect l="l" t="t" r="r" b="b"/>
                <a:pathLst>
                  <a:path w="116" h="109">
                    <a:moveTo>
                      <a:pt x="0" y="0"/>
                    </a:moveTo>
                    <a:lnTo>
                      <a:pt x="115" y="106"/>
                    </a:lnTo>
                    <a:lnTo>
                      <a:pt x="112" y="10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rot="13440000">
              <a:off x="8624520" y="2723760"/>
              <a:ext cx="862200" cy="320760"/>
            </a:xfrm>
            <a:prstGeom prst="ellipse">
              <a:avLst/>
            </a:prstGeom>
            <a:solidFill>
              <a:srgbClr val="82ff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891640" y="1725480"/>
              <a:ext cx="1419120" cy="1338480"/>
            </a:xfrm>
            <a:custGeom>
              <a:avLst/>
              <a:gdLst/>
              <a:ahLst/>
              <a:rect l="l" t="t" r="r" b="b"/>
              <a:pathLst>
                <a:path w="894" h="843">
                  <a:moveTo>
                    <a:pt x="374" y="830"/>
                  </a:moveTo>
                  <a:lnTo>
                    <a:pt x="374" y="830"/>
                  </a:lnTo>
                  <a:lnTo>
                    <a:pt x="375" y="829"/>
                  </a:lnTo>
                  <a:lnTo>
                    <a:pt x="377" y="827"/>
                  </a:lnTo>
                  <a:lnTo>
                    <a:pt x="379" y="824"/>
                  </a:lnTo>
                  <a:lnTo>
                    <a:pt x="382" y="822"/>
                  </a:lnTo>
                  <a:lnTo>
                    <a:pt x="385" y="818"/>
                  </a:lnTo>
                  <a:lnTo>
                    <a:pt x="389" y="814"/>
                  </a:lnTo>
                  <a:lnTo>
                    <a:pt x="393" y="808"/>
                  </a:lnTo>
                  <a:lnTo>
                    <a:pt x="395" y="803"/>
                  </a:lnTo>
                  <a:lnTo>
                    <a:pt x="399" y="797"/>
                  </a:lnTo>
                  <a:lnTo>
                    <a:pt x="402" y="792"/>
                  </a:lnTo>
                  <a:lnTo>
                    <a:pt x="406" y="784"/>
                  </a:lnTo>
                  <a:lnTo>
                    <a:pt x="408" y="778"/>
                  </a:lnTo>
                  <a:lnTo>
                    <a:pt x="411" y="771"/>
                  </a:lnTo>
                  <a:lnTo>
                    <a:pt x="411" y="763"/>
                  </a:lnTo>
                  <a:lnTo>
                    <a:pt x="413" y="755"/>
                  </a:lnTo>
                  <a:lnTo>
                    <a:pt x="415" y="751"/>
                  </a:lnTo>
                  <a:lnTo>
                    <a:pt x="893" y="263"/>
                  </a:lnTo>
                  <a:lnTo>
                    <a:pt x="887" y="238"/>
                  </a:lnTo>
                  <a:lnTo>
                    <a:pt x="877" y="211"/>
                  </a:lnTo>
                  <a:lnTo>
                    <a:pt x="865" y="187"/>
                  </a:lnTo>
                  <a:lnTo>
                    <a:pt x="850" y="161"/>
                  </a:lnTo>
                  <a:lnTo>
                    <a:pt x="833" y="138"/>
                  </a:lnTo>
                  <a:lnTo>
                    <a:pt x="813" y="115"/>
                  </a:lnTo>
                  <a:lnTo>
                    <a:pt x="792" y="93"/>
                  </a:lnTo>
                  <a:lnTo>
                    <a:pt x="769" y="73"/>
                  </a:lnTo>
                  <a:lnTo>
                    <a:pt x="744" y="56"/>
                  </a:lnTo>
                  <a:lnTo>
                    <a:pt x="718" y="41"/>
                  </a:lnTo>
                  <a:lnTo>
                    <a:pt x="691" y="27"/>
                  </a:lnTo>
                  <a:lnTo>
                    <a:pt x="663" y="15"/>
                  </a:lnTo>
                  <a:lnTo>
                    <a:pt x="633" y="7"/>
                  </a:lnTo>
                  <a:lnTo>
                    <a:pt x="605" y="2"/>
                  </a:lnTo>
                  <a:lnTo>
                    <a:pt x="575" y="0"/>
                  </a:lnTo>
                  <a:lnTo>
                    <a:pt x="547" y="0"/>
                  </a:lnTo>
                  <a:lnTo>
                    <a:pt x="95" y="417"/>
                  </a:lnTo>
                  <a:lnTo>
                    <a:pt x="77" y="423"/>
                  </a:lnTo>
                  <a:lnTo>
                    <a:pt x="62" y="427"/>
                  </a:lnTo>
                  <a:lnTo>
                    <a:pt x="48" y="433"/>
                  </a:lnTo>
                  <a:lnTo>
                    <a:pt x="37" y="437"/>
                  </a:lnTo>
                  <a:lnTo>
                    <a:pt x="27" y="442"/>
                  </a:lnTo>
                  <a:lnTo>
                    <a:pt x="19" y="446"/>
                  </a:lnTo>
                  <a:lnTo>
                    <a:pt x="13" y="450"/>
                  </a:lnTo>
                  <a:lnTo>
                    <a:pt x="9" y="453"/>
                  </a:lnTo>
                  <a:lnTo>
                    <a:pt x="4" y="458"/>
                  </a:lnTo>
                  <a:lnTo>
                    <a:pt x="2" y="462"/>
                  </a:lnTo>
                  <a:lnTo>
                    <a:pt x="0" y="465"/>
                  </a:lnTo>
                  <a:lnTo>
                    <a:pt x="1" y="468"/>
                  </a:lnTo>
                  <a:lnTo>
                    <a:pt x="1" y="471"/>
                  </a:lnTo>
                  <a:lnTo>
                    <a:pt x="2" y="473"/>
                  </a:lnTo>
                  <a:lnTo>
                    <a:pt x="5" y="475"/>
                  </a:lnTo>
                  <a:lnTo>
                    <a:pt x="9" y="476"/>
                  </a:lnTo>
                  <a:lnTo>
                    <a:pt x="80" y="509"/>
                  </a:lnTo>
                  <a:lnTo>
                    <a:pt x="142" y="541"/>
                  </a:lnTo>
                  <a:lnTo>
                    <a:pt x="194" y="576"/>
                  </a:lnTo>
                  <a:lnTo>
                    <a:pt x="237" y="609"/>
                  </a:lnTo>
                  <a:lnTo>
                    <a:pt x="273" y="645"/>
                  </a:lnTo>
                  <a:lnTo>
                    <a:pt x="301" y="678"/>
                  </a:lnTo>
                  <a:lnTo>
                    <a:pt x="322" y="711"/>
                  </a:lnTo>
                  <a:lnTo>
                    <a:pt x="339" y="740"/>
                  </a:lnTo>
                  <a:lnTo>
                    <a:pt x="349" y="768"/>
                  </a:lnTo>
                  <a:lnTo>
                    <a:pt x="357" y="792"/>
                  </a:lnTo>
                  <a:lnTo>
                    <a:pt x="362" y="813"/>
                  </a:lnTo>
                  <a:lnTo>
                    <a:pt x="365" y="828"/>
                  </a:lnTo>
                  <a:lnTo>
                    <a:pt x="366" y="839"/>
                  </a:lnTo>
                  <a:lnTo>
                    <a:pt x="368" y="842"/>
                  </a:lnTo>
                  <a:lnTo>
                    <a:pt x="370" y="841"/>
                  </a:lnTo>
                  <a:lnTo>
                    <a:pt x="374" y="830"/>
                  </a:lnTo>
                  <a:lnTo>
                    <a:pt x="374" y="83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750160" y="2462040"/>
              <a:ext cx="741600" cy="730440"/>
            </a:xfrm>
            <a:custGeom>
              <a:avLst/>
              <a:gdLst/>
              <a:ahLst/>
              <a:rect l="l" t="t" r="r" b="b"/>
              <a:pathLst>
                <a:path w="467" h="460">
                  <a:moveTo>
                    <a:pt x="0" y="71"/>
                  </a:moveTo>
                  <a:lnTo>
                    <a:pt x="34" y="73"/>
                  </a:lnTo>
                  <a:lnTo>
                    <a:pt x="70" y="80"/>
                  </a:lnTo>
                  <a:lnTo>
                    <a:pt x="106" y="94"/>
                  </a:lnTo>
                  <a:lnTo>
                    <a:pt x="144" y="111"/>
                  </a:lnTo>
                  <a:lnTo>
                    <a:pt x="179" y="133"/>
                  </a:lnTo>
                  <a:lnTo>
                    <a:pt x="216" y="159"/>
                  </a:lnTo>
                  <a:lnTo>
                    <a:pt x="250" y="187"/>
                  </a:lnTo>
                  <a:lnTo>
                    <a:pt x="282" y="217"/>
                  </a:lnTo>
                  <a:lnTo>
                    <a:pt x="310" y="250"/>
                  </a:lnTo>
                  <a:lnTo>
                    <a:pt x="336" y="283"/>
                  </a:lnTo>
                  <a:lnTo>
                    <a:pt x="358" y="317"/>
                  </a:lnTo>
                  <a:lnTo>
                    <a:pt x="376" y="349"/>
                  </a:lnTo>
                  <a:lnTo>
                    <a:pt x="388" y="381"/>
                  </a:lnTo>
                  <a:lnTo>
                    <a:pt x="395" y="409"/>
                  </a:lnTo>
                  <a:lnTo>
                    <a:pt x="395" y="437"/>
                  </a:lnTo>
                  <a:lnTo>
                    <a:pt x="390" y="459"/>
                  </a:lnTo>
                  <a:lnTo>
                    <a:pt x="466" y="379"/>
                  </a:lnTo>
                  <a:lnTo>
                    <a:pt x="464" y="352"/>
                  </a:lnTo>
                  <a:lnTo>
                    <a:pt x="458" y="323"/>
                  </a:lnTo>
                  <a:lnTo>
                    <a:pt x="447" y="293"/>
                  </a:lnTo>
                  <a:lnTo>
                    <a:pt x="433" y="263"/>
                  </a:lnTo>
                  <a:lnTo>
                    <a:pt x="414" y="234"/>
                  </a:lnTo>
                  <a:lnTo>
                    <a:pt x="392" y="204"/>
                  </a:lnTo>
                  <a:lnTo>
                    <a:pt x="367" y="176"/>
                  </a:lnTo>
                  <a:lnTo>
                    <a:pt x="341" y="147"/>
                  </a:lnTo>
                  <a:lnTo>
                    <a:pt x="311" y="122"/>
                  </a:lnTo>
                  <a:lnTo>
                    <a:pt x="280" y="97"/>
                  </a:lnTo>
                  <a:lnTo>
                    <a:pt x="247" y="75"/>
                  </a:lnTo>
                  <a:lnTo>
                    <a:pt x="215" y="53"/>
                  </a:lnTo>
                  <a:lnTo>
                    <a:pt x="181" y="35"/>
                  </a:lnTo>
                  <a:lnTo>
                    <a:pt x="148" y="20"/>
                  </a:lnTo>
                  <a:lnTo>
                    <a:pt x="114" y="9"/>
                  </a:lnTo>
                  <a:lnTo>
                    <a:pt x="81" y="0"/>
                  </a:lnTo>
                  <a:lnTo>
                    <a:pt x="0" y="71"/>
                  </a:lnTo>
                  <a:lnTo>
                    <a:pt x="0" y="71"/>
                  </a:lnTo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497880" y="1805040"/>
              <a:ext cx="295560" cy="23184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70" y="145"/>
                  </a:moveTo>
                  <a:lnTo>
                    <a:pt x="68" y="145"/>
                  </a:lnTo>
                  <a:lnTo>
                    <a:pt x="68" y="143"/>
                  </a:lnTo>
                  <a:lnTo>
                    <a:pt x="65" y="141"/>
                  </a:lnTo>
                  <a:lnTo>
                    <a:pt x="63" y="138"/>
                  </a:lnTo>
                  <a:lnTo>
                    <a:pt x="58" y="135"/>
                  </a:lnTo>
                  <a:lnTo>
                    <a:pt x="55" y="131"/>
                  </a:lnTo>
                  <a:lnTo>
                    <a:pt x="50" y="127"/>
                  </a:lnTo>
                  <a:lnTo>
                    <a:pt x="46" y="122"/>
                  </a:lnTo>
                  <a:lnTo>
                    <a:pt x="40" y="118"/>
                  </a:lnTo>
                  <a:lnTo>
                    <a:pt x="35" y="115"/>
                  </a:lnTo>
                  <a:lnTo>
                    <a:pt x="29" y="111"/>
                  </a:lnTo>
                  <a:lnTo>
                    <a:pt x="23" y="108"/>
                  </a:lnTo>
                  <a:lnTo>
                    <a:pt x="17" y="106"/>
                  </a:lnTo>
                  <a:lnTo>
                    <a:pt x="11" y="104"/>
                  </a:lnTo>
                  <a:lnTo>
                    <a:pt x="6" y="103"/>
                  </a:lnTo>
                  <a:lnTo>
                    <a:pt x="0" y="103"/>
                  </a:lnTo>
                  <a:lnTo>
                    <a:pt x="1" y="102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7" y="87"/>
                  </a:lnTo>
                  <a:lnTo>
                    <a:pt x="25" y="80"/>
                  </a:lnTo>
                  <a:lnTo>
                    <a:pt x="35" y="71"/>
                  </a:lnTo>
                  <a:lnTo>
                    <a:pt x="45" y="62"/>
                  </a:lnTo>
                  <a:lnTo>
                    <a:pt x="56" y="51"/>
                  </a:lnTo>
                  <a:lnTo>
                    <a:pt x="65" y="42"/>
                  </a:lnTo>
                  <a:lnTo>
                    <a:pt x="76" y="32"/>
                  </a:lnTo>
                  <a:lnTo>
                    <a:pt x="85" y="24"/>
                  </a:lnTo>
                  <a:lnTo>
                    <a:pt x="93" y="15"/>
                  </a:lnTo>
                  <a:lnTo>
                    <a:pt x="99" y="9"/>
                  </a:lnTo>
                  <a:lnTo>
                    <a:pt x="105" y="4"/>
                  </a:lnTo>
                  <a:lnTo>
                    <a:pt x="108" y="1"/>
                  </a:lnTo>
                  <a:lnTo>
                    <a:pt x="109" y="0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23" y="3"/>
                  </a:lnTo>
                  <a:lnTo>
                    <a:pt x="129" y="3"/>
                  </a:lnTo>
                  <a:lnTo>
                    <a:pt x="135" y="6"/>
                  </a:lnTo>
                  <a:lnTo>
                    <a:pt x="141" y="8"/>
                  </a:lnTo>
                  <a:lnTo>
                    <a:pt x="148" y="12"/>
                  </a:lnTo>
                  <a:lnTo>
                    <a:pt x="155" y="14"/>
                  </a:lnTo>
                  <a:lnTo>
                    <a:pt x="162" y="19"/>
                  </a:lnTo>
                  <a:lnTo>
                    <a:pt x="169" y="25"/>
                  </a:lnTo>
                  <a:lnTo>
                    <a:pt x="177" y="32"/>
                  </a:lnTo>
                  <a:lnTo>
                    <a:pt x="185" y="39"/>
                  </a:lnTo>
                  <a:lnTo>
                    <a:pt x="183" y="41"/>
                  </a:lnTo>
                  <a:lnTo>
                    <a:pt x="179" y="44"/>
                  </a:lnTo>
                  <a:lnTo>
                    <a:pt x="173" y="50"/>
                  </a:lnTo>
                  <a:lnTo>
                    <a:pt x="166" y="56"/>
                  </a:lnTo>
                  <a:lnTo>
                    <a:pt x="157" y="65"/>
                  </a:lnTo>
                  <a:lnTo>
                    <a:pt x="148" y="73"/>
                  </a:lnTo>
                  <a:lnTo>
                    <a:pt x="136" y="83"/>
                  </a:lnTo>
                  <a:lnTo>
                    <a:pt x="127" y="92"/>
                  </a:lnTo>
                  <a:lnTo>
                    <a:pt x="116" y="103"/>
                  </a:lnTo>
                  <a:lnTo>
                    <a:pt x="105" y="112"/>
                  </a:lnTo>
                  <a:lnTo>
                    <a:pt x="96" y="121"/>
                  </a:lnTo>
                  <a:lnTo>
                    <a:pt x="87" y="128"/>
                  </a:lnTo>
                  <a:lnTo>
                    <a:pt x="79" y="136"/>
                  </a:lnTo>
                  <a:lnTo>
                    <a:pt x="74" y="141"/>
                  </a:lnTo>
                  <a:lnTo>
                    <a:pt x="70" y="144"/>
                  </a:lnTo>
                  <a:lnTo>
                    <a:pt x="70" y="145"/>
                  </a:lnTo>
                  <a:lnTo>
                    <a:pt x="70" y="145"/>
                  </a:lnTo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547200" y="1398600"/>
              <a:ext cx="141480" cy="527040"/>
            </a:xfrm>
            <a:custGeom>
              <a:avLst/>
              <a:gdLst/>
              <a:ahLst/>
              <a:rect l="l" t="t" r="r" b="b"/>
              <a:pathLst>
                <a:path w="89" h="332">
                  <a:moveTo>
                    <a:pt x="88" y="4"/>
                  </a:moveTo>
                  <a:lnTo>
                    <a:pt x="0" y="0"/>
                  </a:lnTo>
                  <a:lnTo>
                    <a:pt x="0" y="329"/>
                  </a:lnTo>
                  <a:lnTo>
                    <a:pt x="88" y="331"/>
                  </a:lnTo>
                  <a:lnTo>
                    <a:pt x="88" y="4"/>
                  </a:lnTo>
                  <a:lnTo>
                    <a:pt x="88" y="4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121680" y="1209600"/>
              <a:ext cx="1027080" cy="262080"/>
            </a:xfrm>
            <a:custGeom>
              <a:avLst/>
              <a:gdLst/>
              <a:ahLst/>
              <a:rect l="l" t="t" r="r" b="b"/>
              <a:pathLst>
                <a:path w="647" h="165">
                  <a:moveTo>
                    <a:pt x="646" y="0"/>
                  </a:moveTo>
                  <a:lnTo>
                    <a:pt x="615" y="40"/>
                  </a:lnTo>
                  <a:lnTo>
                    <a:pt x="581" y="73"/>
                  </a:lnTo>
                  <a:lnTo>
                    <a:pt x="544" y="102"/>
                  </a:lnTo>
                  <a:lnTo>
                    <a:pt x="503" y="124"/>
                  </a:lnTo>
                  <a:lnTo>
                    <a:pt x="460" y="142"/>
                  </a:lnTo>
                  <a:lnTo>
                    <a:pt x="415" y="154"/>
                  </a:lnTo>
                  <a:lnTo>
                    <a:pt x="369" y="163"/>
                  </a:lnTo>
                  <a:lnTo>
                    <a:pt x="323" y="164"/>
                  </a:lnTo>
                  <a:lnTo>
                    <a:pt x="276" y="163"/>
                  </a:lnTo>
                  <a:lnTo>
                    <a:pt x="230" y="154"/>
                  </a:lnTo>
                  <a:lnTo>
                    <a:pt x="184" y="142"/>
                  </a:lnTo>
                  <a:lnTo>
                    <a:pt x="142" y="124"/>
                  </a:lnTo>
                  <a:lnTo>
                    <a:pt x="100" y="102"/>
                  </a:lnTo>
                  <a:lnTo>
                    <a:pt x="63" y="73"/>
                  </a:lnTo>
                  <a:lnTo>
                    <a:pt x="29" y="40"/>
                  </a:lnTo>
                  <a:lnTo>
                    <a:pt x="0" y="0"/>
                  </a:lnTo>
                  <a:lnTo>
                    <a:pt x="646" y="0"/>
                  </a:lnTo>
                  <a:lnTo>
                    <a:pt x="646" y="0"/>
                  </a:lnTo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688680" y="1209600"/>
              <a:ext cx="488880" cy="254160"/>
            </a:xfrm>
            <a:custGeom>
              <a:avLst/>
              <a:gdLst/>
              <a:ahLst/>
              <a:rect l="l" t="t" r="r" b="b"/>
              <a:pathLst>
                <a:path w="308" h="160">
                  <a:moveTo>
                    <a:pt x="168" y="0"/>
                  </a:moveTo>
                  <a:lnTo>
                    <a:pt x="173" y="20"/>
                  </a:lnTo>
                  <a:lnTo>
                    <a:pt x="173" y="38"/>
                  </a:lnTo>
                  <a:lnTo>
                    <a:pt x="168" y="54"/>
                  </a:lnTo>
                  <a:lnTo>
                    <a:pt x="159" y="66"/>
                  </a:lnTo>
                  <a:lnTo>
                    <a:pt x="146" y="80"/>
                  </a:lnTo>
                  <a:lnTo>
                    <a:pt x="131" y="90"/>
                  </a:lnTo>
                  <a:lnTo>
                    <a:pt x="113" y="100"/>
                  </a:lnTo>
                  <a:lnTo>
                    <a:pt x="96" y="109"/>
                  </a:lnTo>
                  <a:lnTo>
                    <a:pt x="76" y="117"/>
                  </a:lnTo>
                  <a:lnTo>
                    <a:pt x="58" y="124"/>
                  </a:lnTo>
                  <a:lnTo>
                    <a:pt x="41" y="130"/>
                  </a:lnTo>
                  <a:lnTo>
                    <a:pt x="26" y="135"/>
                  </a:lnTo>
                  <a:lnTo>
                    <a:pt x="13" y="141"/>
                  </a:lnTo>
                  <a:lnTo>
                    <a:pt x="5" y="145"/>
                  </a:lnTo>
                  <a:lnTo>
                    <a:pt x="0" y="150"/>
                  </a:lnTo>
                  <a:lnTo>
                    <a:pt x="1" y="153"/>
                  </a:lnTo>
                  <a:lnTo>
                    <a:pt x="5" y="157"/>
                  </a:lnTo>
                  <a:lnTo>
                    <a:pt x="12" y="158"/>
                  </a:lnTo>
                  <a:lnTo>
                    <a:pt x="21" y="159"/>
                  </a:lnTo>
                  <a:lnTo>
                    <a:pt x="33" y="157"/>
                  </a:lnTo>
                  <a:lnTo>
                    <a:pt x="45" y="156"/>
                  </a:lnTo>
                  <a:lnTo>
                    <a:pt x="59" y="153"/>
                  </a:lnTo>
                  <a:lnTo>
                    <a:pt x="74" y="149"/>
                  </a:lnTo>
                  <a:lnTo>
                    <a:pt x="90" y="144"/>
                  </a:lnTo>
                  <a:lnTo>
                    <a:pt x="105" y="141"/>
                  </a:lnTo>
                  <a:lnTo>
                    <a:pt x="121" y="136"/>
                  </a:lnTo>
                  <a:lnTo>
                    <a:pt x="135" y="132"/>
                  </a:lnTo>
                  <a:lnTo>
                    <a:pt x="151" y="126"/>
                  </a:lnTo>
                  <a:lnTo>
                    <a:pt x="163" y="122"/>
                  </a:lnTo>
                  <a:lnTo>
                    <a:pt x="175" y="117"/>
                  </a:lnTo>
                  <a:lnTo>
                    <a:pt x="185" y="113"/>
                  </a:lnTo>
                  <a:lnTo>
                    <a:pt x="194" y="110"/>
                  </a:lnTo>
                  <a:lnTo>
                    <a:pt x="203" y="105"/>
                  </a:lnTo>
                  <a:lnTo>
                    <a:pt x="214" y="98"/>
                  </a:lnTo>
                  <a:lnTo>
                    <a:pt x="223" y="92"/>
                  </a:lnTo>
                  <a:lnTo>
                    <a:pt x="235" y="83"/>
                  </a:lnTo>
                  <a:lnTo>
                    <a:pt x="244" y="75"/>
                  </a:lnTo>
                  <a:lnTo>
                    <a:pt x="253" y="65"/>
                  </a:lnTo>
                  <a:lnTo>
                    <a:pt x="262" y="56"/>
                  </a:lnTo>
                  <a:lnTo>
                    <a:pt x="271" y="46"/>
                  </a:lnTo>
                  <a:lnTo>
                    <a:pt x="278" y="38"/>
                  </a:lnTo>
                  <a:lnTo>
                    <a:pt x="285" y="30"/>
                  </a:lnTo>
                  <a:lnTo>
                    <a:pt x="291" y="22"/>
                  </a:lnTo>
                  <a:lnTo>
                    <a:pt x="297" y="15"/>
                  </a:lnTo>
                  <a:lnTo>
                    <a:pt x="300" y="10"/>
                  </a:lnTo>
                  <a:lnTo>
                    <a:pt x="303" y="5"/>
                  </a:lnTo>
                  <a:lnTo>
                    <a:pt x="305" y="2"/>
                  </a:lnTo>
                  <a:lnTo>
                    <a:pt x="307" y="0"/>
                  </a:lnTo>
                  <a:lnTo>
                    <a:pt x="305" y="0"/>
                  </a:lnTo>
                  <a:lnTo>
                    <a:pt x="300" y="0"/>
                  </a:lnTo>
                  <a:lnTo>
                    <a:pt x="293" y="0"/>
                  </a:lnTo>
                  <a:lnTo>
                    <a:pt x="285" y="0"/>
                  </a:lnTo>
                  <a:lnTo>
                    <a:pt x="273" y="0"/>
                  </a:lnTo>
                  <a:lnTo>
                    <a:pt x="262" y="0"/>
                  </a:lnTo>
                  <a:lnTo>
                    <a:pt x="249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9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9" y="0"/>
                  </a:lnTo>
                  <a:lnTo>
                    <a:pt x="168" y="0"/>
                  </a:lnTo>
                  <a:lnTo>
                    <a:pt x="1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10800" y="2368440"/>
              <a:ext cx="215640" cy="92160"/>
            </a:xfrm>
            <a:custGeom>
              <a:avLst/>
              <a:gdLst/>
              <a:ahLst/>
              <a:rect l="l" t="t" r="r" b="b"/>
              <a:pathLst>
                <a:path w="136" h="58">
                  <a:moveTo>
                    <a:pt x="2" y="16"/>
                  </a:moveTo>
                  <a:lnTo>
                    <a:pt x="15" y="17"/>
                  </a:lnTo>
                  <a:lnTo>
                    <a:pt x="28" y="18"/>
                  </a:lnTo>
                  <a:lnTo>
                    <a:pt x="40" y="20"/>
                  </a:lnTo>
                  <a:lnTo>
                    <a:pt x="53" y="22"/>
                  </a:lnTo>
                  <a:lnTo>
                    <a:pt x="63" y="26"/>
                  </a:lnTo>
                  <a:lnTo>
                    <a:pt x="74" y="30"/>
                  </a:lnTo>
                  <a:lnTo>
                    <a:pt x="84" y="34"/>
                  </a:lnTo>
                  <a:lnTo>
                    <a:pt x="94" y="37"/>
                  </a:lnTo>
                  <a:lnTo>
                    <a:pt x="102" y="42"/>
                  </a:lnTo>
                  <a:lnTo>
                    <a:pt x="110" y="46"/>
                  </a:lnTo>
                  <a:lnTo>
                    <a:pt x="116" y="50"/>
                  </a:lnTo>
                  <a:lnTo>
                    <a:pt x="123" y="52"/>
                  </a:lnTo>
                  <a:lnTo>
                    <a:pt x="126" y="56"/>
                  </a:lnTo>
                  <a:lnTo>
                    <a:pt x="130" y="57"/>
                  </a:lnTo>
                  <a:lnTo>
                    <a:pt x="133" y="57"/>
                  </a:lnTo>
                  <a:lnTo>
                    <a:pt x="135" y="57"/>
                  </a:lnTo>
                  <a:lnTo>
                    <a:pt x="134" y="56"/>
                  </a:lnTo>
                  <a:lnTo>
                    <a:pt x="131" y="54"/>
                  </a:lnTo>
                  <a:lnTo>
                    <a:pt x="126" y="51"/>
                  </a:lnTo>
                  <a:lnTo>
                    <a:pt x="122" y="47"/>
                  </a:lnTo>
                  <a:lnTo>
                    <a:pt x="114" y="43"/>
                  </a:lnTo>
                  <a:lnTo>
                    <a:pt x="108" y="38"/>
                  </a:lnTo>
                  <a:lnTo>
                    <a:pt x="100" y="33"/>
                  </a:lnTo>
                  <a:lnTo>
                    <a:pt x="93" y="27"/>
                  </a:lnTo>
                  <a:lnTo>
                    <a:pt x="83" y="24"/>
                  </a:lnTo>
                  <a:lnTo>
                    <a:pt x="76" y="18"/>
                  </a:lnTo>
                  <a:lnTo>
                    <a:pt x="68" y="14"/>
                  </a:lnTo>
                  <a:lnTo>
                    <a:pt x="62" y="9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2" y="6"/>
                  </a:lnTo>
                  <a:lnTo>
                    <a:pt x="28" y="7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470880" y="2670120"/>
              <a:ext cx="131760" cy="309600"/>
            </a:xfrm>
            <a:custGeom>
              <a:avLst/>
              <a:gdLst/>
              <a:ahLst/>
              <a:rect l="l" t="t" r="r" b="b"/>
              <a:pathLst>
                <a:path w="83" h="195">
                  <a:moveTo>
                    <a:pt x="35" y="194"/>
                  </a:moveTo>
                  <a:lnTo>
                    <a:pt x="41" y="176"/>
                  </a:lnTo>
                  <a:lnTo>
                    <a:pt x="46" y="156"/>
                  </a:lnTo>
                  <a:lnTo>
                    <a:pt x="47" y="138"/>
                  </a:lnTo>
                  <a:lnTo>
                    <a:pt x="47" y="119"/>
                  </a:lnTo>
                  <a:lnTo>
                    <a:pt x="45" y="102"/>
                  </a:lnTo>
                  <a:lnTo>
                    <a:pt x="42" y="86"/>
                  </a:lnTo>
                  <a:lnTo>
                    <a:pt x="37" y="71"/>
                  </a:lnTo>
                  <a:lnTo>
                    <a:pt x="32" y="57"/>
                  </a:lnTo>
                  <a:lnTo>
                    <a:pt x="26" y="45"/>
                  </a:lnTo>
                  <a:lnTo>
                    <a:pt x="20" y="34"/>
                  </a:lnTo>
                  <a:lnTo>
                    <a:pt x="15" y="24"/>
                  </a:lnTo>
                  <a:lnTo>
                    <a:pt x="10" y="15"/>
                  </a:lnTo>
                  <a:lnTo>
                    <a:pt x="5" y="9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7" y="12"/>
                  </a:lnTo>
                  <a:lnTo>
                    <a:pt x="24" y="18"/>
                  </a:lnTo>
                  <a:lnTo>
                    <a:pt x="33" y="24"/>
                  </a:lnTo>
                  <a:lnTo>
                    <a:pt x="41" y="33"/>
                  </a:lnTo>
                  <a:lnTo>
                    <a:pt x="50" y="41"/>
                  </a:lnTo>
                  <a:lnTo>
                    <a:pt x="58" y="52"/>
                  </a:lnTo>
                  <a:lnTo>
                    <a:pt x="65" y="62"/>
                  </a:lnTo>
                  <a:lnTo>
                    <a:pt x="72" y="74"/>
                  </a:lnTo>
                  <a:lnTo>
                    <a:pt x="77" y="85"/>
                  </a:lnTo>
                  <a:lnTo>
                    <a:pt x="80" y="98"/>
                  </a:lnTo>
                  <a:lnTo>
                    <a:pt x="82" y="110"/>
                  </a:lnTo>
                  <a:lnTo>
                    <a:pt x="80" y="123"/>
                  </a:lnTo>
                  <a:lnTo>
                    <a:pt x="77" y="136"/>
                  </a:lnTo>
                  <a:lnTo>
                    <a:pt x="75" y="137"/>
                  </a:lnTo>
                  <a:lnTo>
                    <a:pt x="74" y="139"/>
                  </a:lnTo>
                  <a:lnTo>
                    <a:pt x="71" y="142"/>
                  </a:lnTo>
                  <a:lnTo>
                    <a:pt x="69" y="145"/>
                  </a:lnTo>
                  <a:lnTo>
                    <a:pt x="65" y="150"/>
                  </a:lnTo>
                  <a:lnTo>
                    <a:pt x="62" y="155"/>
                  </a:lnTo>
                  <a:lnTo>
                    <a:pt x="58" y="160"/>
                  </a:lnTo>
                  <a:lnTo>
                    <a:pt x="56" y="166"/>
                  </a:lnTo>
                  <a:lnTo>
                    <a:pt x="51" y="171"/>
                  </a:lnTo>
                  <a:lnTo>
                    <a:pt x="47" y="177"/>
                  </a:lnTo>
                  <a:lnTo>
                    <a:pt x="44" y="182"/>
                  </a:lnTo>
                  <a:lnTo>
                    <a:pt x="41" y="186"/>
                  </a:lnTo>
                  <a:lnTo>
                    <a:pt x="38" y="190"/>
                  </a:lnTo>
                  <a:lnTo>
                    <a:pt x="36" y="192"/>
                  </a:lnTo>
                  <a:lnTo>
                    <a:pt x="35" y="194"/>
                  </a:lnTo>
                  <a:lnTo>
                    <a:pt x="35" y="194"/>
                  </a:lnTo>
                  <a:lnTo>
                    <a:pt x="35" y="1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545760" y="2085840"/>
              <a:ext cx="744480" cy="746280"/>
            </a:xfrm>
            <a:custGeom>
              <a:avLst/>
              <a:gdLst/>
              <a:ahLst/>
              <a:rect l="l" t="t" r="r" b="b"/>
              <a:pathLst>
                <a:path w="469" h="470">
                  <a:moveTo>
                    <a:pt x="24" y="469"/>
                  </a:moveTo>
                  <a:lnTo>
                    <a:pt x="468" y="28"/>
                  </a:lnTo>
                  <a:lnTo>
                    <a:pt x="464" y="11"/>
                  </a:lnTo>
                  <a:lnTo>
                    <a:pt x="460" y="0"/>
                  </a:lnTo>
                  <a:lnTo>
                    <a:pt x="0" y="462"/>
                  </a:lnTo>
                  <a:lnTo>
                    <a:pt x="24" y="469"/>
                  </a:lnTo>
                  <a:lnTo>
                    <a:pt x="24" y="4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9372600" y="2998800"/>
              <a:ext cx="109440" cy="13824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68" y="30"/>
                  </a:moveTo>
                  <a:lnTo>
                    <a:pt x="8" y="86"/>
                  </a:lnTo>
                  <a:lnTo>
                    <a:pt x="8" y="70"/>
                  </a:lnTo>
                  <a:lnTo>
                    <a:pt x="0" y="49"/>
                  </a:lnTo>
                  <a:lnTo>
                    <a:pt x="55" y="0"/>
                  </a:lnTo>
                  <a:lnTo>
                    <a:pt x="68" y="30"/>
                  </a:lnTo>
                  <a:lnTo>
                    <a:pt x="68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550440" y="1865160"/>
              <a:ext cx="138240" cy="92160"/>
            </a:xfrm>
            <a:custGeom>
              <a:avLst/>
              <a:gdLst/>
              <a:ahLst/>
              <a:rect l="l" t="t" r="r" b="b"/>
              <a:pathLst>
                <a:path w="87" h="58">
                  <a:moveTo>
                    <a:pt x="0" y="37"/>
                  </a:moveTo>
                  <a:lnTo>
                    <a:pt x="6" y="43"/>
                  </a:lnTo>
                  <a:lnTo>
                    <a:pt x="12" y="48"/>
                  </a:lnTo>
                  <a:lnTo>
                    <a:pt x="20" y="52"/>
                  </a:lnTo>
                  <a:lnTo>
                    <a:pt x="27" y="53"/>
                  </a:lnTo>
                  <a:lnTo>
                    <a:pt x="35" y="54"/>
                  </a:lnTo>
                  <a:lnTo>
                    <a:pt x="43" y="53"/>
                  </a:lnTo>
                  <a:lnTo>
                    <a:pt x="50" y="52"/>
                  </a:lnTo>
                  <a:lnTo>
                    <a:pt x="58" y="50"/>
                  </a:lnTo>
                  <a:lnTo>
                    <a:pt x="64" y="47"/>
                  </a:lnTo>
                  <a:lnTo>
                    <a:pt x="71" y="42"/>
                  </a:lnTo>
                  <a:lnTo>
                    <a:pt x="76" y="37"/>
                  </a:lnTo>
                  <a:lnTo>
                    <a:pt x="81" y="31"/>
                  </a:lnTo>
                  <a:lnTo>
                    <a:pt x="84" y="25"/>
                  </a:lnTo>
                  <a:lnTo>
                    <a:pt x="86" y="17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86" y="2"/>
                  </a:lnTo>
                  <a:lnTo>
                    <a:pt x="86" y="12"/>
                  </a:lnTo>
                  <a:lnTo>
                    <a:pt x="86" y="20"/>
                  </a:lnTo>
                  <a:lnTo>
                    <a:pt x="84" y="27"/>
                  </a:lnTo>
                  <a:lnTo>
                    <a:pt x="81" y="33"/>
                  </a:lnTo>
                  <a:lnTo>
                    <a:pt x="76" y="40"/>
                  </a:lnTo>
                  <a:lnTo>
                    <a:pt x="71" y="45"/>
                  </a:lnTo>
                  <a:lnTo>
                    <a:pt x="64" y="49"/>
                  </a:lnTo>
                  <a:lnTo>
                    <a:pt x="58" y="52"/>
                  </a:lnTo>
                  <a:lnTo>
                    <a:pt x="50" y="55"/>
                  </a:lnTo>
                  <a:lnTo>
                    <a:pt x="43" y="57"/>
                  </a:lnTo>
                  <a:lnTo>
                    <a:pt x="35" y="57"/>
                  </a:lnTo>
                  <a:lnTo>
                    <a:pt x="27" y="56"/>
                  </a:lnTo>
                  <a:lnTo>
                    <a:pt x="20" y="55"/>
                  </a:lnTo>
                  <a:lnTo>
                    <a:pt x="12" y="51"/>
                  </a:lnTo>
                  <a:lnTo>
                    <a:pt x="6" y="46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7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497880" y="1968480"/>
              <a:ext cx="112680" cy="7128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70" y="42"/>
                  </a:moveTo>
                  <a:lnTo>
                    <a:pt x="66" y="38"/>
                  </a:lnTo>
                  <a:lnTo>
                    <a:pt x="62" y="34"/>
                  </a:lnTo>
                  <a:lnTo>
                    <a:pt x="58" y="30"/>
                  </a:lnTo>
                  <a:lnTo>
                    <a:pt x="55" y="25"/>
                  </a:lnTo>
                  <a:lnTo>
                    <a:pt x="51" y="22"/>
                  </a:lnTo>
                  <a:lnTo>
                    <a:pt x="47" y="18"/>
                  </a:lnTo>
                  <a:lnTo>
                    <a:pt x="43" y="15"/>
                  </a:lnTo>
                  <a:lnTo>
                    <a:pt x="40" y="11"/>
                  </a:lnTo>
                  <a:lnTo>
                    <a:pt x="34" y="9"/>
                  </a:lnTo>
                  <a:lnTo>
                    <a:pt x="30" y="7"/>
                  </a:lnTo>
                  <a:lnTo>
                    <a:pt x="25" y="5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2" y="6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28" y="12"/>
                  </a:lnTo>
                  <a:lnTo>
                    <a:pt x="33" y="14"/>
                  </a:lnTo>
                  <a:lnTo>
                    <a:pt x="37" y="15"/>
                  </a:lnTo>
                  <a:lnTo>
                    <a:pt x="42" y="17"/>
                  </a:lnTo>
                  <a:lnTo>
                    <a:pt x="45" y="21"/>
                  </a:lnTo>
                  <a:lnTo>
                    <a:pt x="48" y="24"/>
                  </a:lnTo>
                  <a:lnTo>
                    <a:pt x="52" y="27"/>
                  </a:lnTo>
                  <a:lnTo>
                    <a:pt x="56" y="29"/>
                  </a:lnTo>
                  <a:lnTo>
                    <a:pt x="58" y="33"/>
                  </a:lnTo>
                  <a:lnTo>
                    <a:pt x="62" y="37"/>
                  </a:lnTo>
                  <a:lnTo>
                    <a:pt x="66" y="40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70" y="42"/>
                  </a:lnTo>
                  <a:lnTo>
                    <a:pt x="70" y="42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609120" y="1866960"/>
              <a:ext cx="184320" cy="172800"/>
            </a:xfrm>
            <a:custGeom>
              <a:avLst/>
              <a:gdLst/>
              <a:ahLst/>
              <a:rect l="l" t="t" r="r" b="b"/>
              <a:pathLst>
                <a:path w="116" h="109">
                  <a:moveTo>
                    <a:pt x="115" y="0"/>
                  </a:moveTo>
                  <a:lnTo>
                    <a:pt x="0" y="106"/>
                  </a:lnTo>
                  <a:lnTo>
                    <a:pt x="2" y="108"/>
                  </a:lnTo>
                  <a:lnTo>
                    <a:pt x="111" y="4"/>
                  </a:lnTo>
                  <a:lnTo>
                    <a:pt x="115" y="0"/>
                  </a:lnTo>
                  <a:lnTo>
                    <a:pt x="115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668600" y="5899320"/>
            <a:ext cx="68101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Miremos que pasa en la vecindad del ópti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60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BS en términos de la utilidad direc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0" y="1371240"/>
            <a:ext cx="10058400" cy="64008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8600" y="3656520"/>
            <a:ext cx="9829800" cy="167652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28600" y="2665800"/>
            <a:ext cx="9220320" cy="121932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228600" y="1370520"/>
            <a:ext cx="9220320" cy="121932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0" y="1371240"/>
            <a:ext cx="9796320" cy="129528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,...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10058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BS en términos de la utilidad indirec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33480" y="2589840"/>
            <a:ext cx="9796320" cy="152388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,...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76320" y="3732840"/>
            <a:ext cx="7866000" cy="16002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6668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Recuerda como cambia el bienest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029200" y="3732840"/>
            <a:ext cx="5410080" cy="16002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En un mundo ideal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28600" y="5790960"/>
            <a:ext cx="8915400" cy="167616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914400" y="5866200"/>
            <a:ext cx="7866000" cy="16002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GB" sz="60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6000" spc="-1" strike="noStrike" baseline="30000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¿Un resultado acaso atractivo...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763120" cy="3302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00000"/>
                </a:solidFill>
                <a:latin typeface="Arial"/>
              </a:rPr>
              <a:t>TEOREMA: en la vecindad del optimo de bienestar cambios en el bienestar se miden por cambios en el ingreso nacional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83160" y="5715000"/>
            <a:ext cx="5486400" cy="1828800"/>
          </a:xfrm>
          <a:prstGeom prst="wedgeEllipseCallout">
            <a:avLst>
              <a:gd name="adj1" fmla="val -38828"/>
              <a:gd name="adj2" fmla="val -69097"/>
            </a:avLst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¿Y si no estuvieramos en el mundo ideal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0812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1828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FBS y el ingreso n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640640" y="5867280"/>
            <a:ext cx="203688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FBS y la distribución del ingr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4067280" y="5315040"/>
            <a:ext cx="4540320" cy="552240"/>
            <a:chOff x="4067280" y="5315040"/>
            <a:chExt cx="4540320" cy="552240"/>
          </a:xfrm>
        </p:grpSpPr>
        <p:sp>
          <p:nvSpPr>
            <p:cNvPr id="821" name=""/>
            <p:cNvSpPr/>
            <p:nvPr/>
          </p:nvSpPr>
          <p:spPr>
            <a:xfrm>
              <a:off x="633600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67280" y="561348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360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60616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6728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18200" y="5613480"/>
              <a:ext cx="1117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3600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829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3124080" y="4091040"/>
            <a:ext cx="203688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incipios de 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33556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42080" y="408924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ia del bienestar 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7180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FBS: lo esenci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334120" y="586728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FBS y el ingreso n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467480" y="5410080"/>
            <a:ext cx="248616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Principìos de Bienesta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9548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FBS: lo esenci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0" y="0"/>
            <a:ext cx="9453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eduzcamos una FBS en términos de ingresos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1371600"/>
            <a:ext cx="10515600" cy="6400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0" bIns="0" anchor="ctr">
            <a:noAutofit/>
          </a:bodyPr>
          <a:p>
            <a:pPr marL="1325520" indent="-1325520">
              <a:spcBef>
                <a:spcPts val="1749"/>
              </a:spcBef>
              <a:buClr>
                <a:srgbClr val="ffff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l punto crítico aqui es que es lo que  pasa si la distribución del ingreso no es la ideal de modo tal que 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s igual para todo 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25520" indent="-1325520">
              <a:spcBef>
                <a:spcPts val="1749"/>
              </a:spcBef>
              <a:buClr>
                <a:srgbClr val="ffff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ría entonces útil expresar el bienestar social en términos de ingr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25520" indent="-1325520">
              <a:spcBef>
                <a:spcPts val="1749"/>
              </a:spcBef>
              <a:buClr>
                <a:srgbClr val="ffff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samos la función indirecta de utilidad V para expresar las utilidades en términos de los precio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y el ingreso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25520" indent="-1325520">
              <a:spcBef>
                <a:spcPts val="1749"/>
              </a:spcBef>
              <a:buClr>
                <a:srgbClr val="ffff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upongamos que los precios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estan d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25520" indent="-1325520">
              <a:spcBef>
                <a:spcPts val="1749"/>
              </a:spcBef>
              <a:buClr>
                <a:srgbClr val="ffff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"Equivalise” (es decir rescale) el ingreso 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para admitir diferencias en necesidades por parte de   los individ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9899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spacio de distribución del ingreso en un mundo de dos person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819520" y="2743200"/>
            <a:ext cx="3770280" cy="4037040"/>
          </a:xfrm>
          <a:prstGeom prst="line">
            <a:avLst/>
          </a:prstGeom>
          <a:ln w="47520">
            <a:solidFill>
              <a:srgbClr val="4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16200000">
            <a:off x="1120680" y="3222000"/>
            <a:ext cx="330660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greso de Pe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334120" y="7045200"/>
            <a:ext cx="4343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greso de Ju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2787480" y="1774800"/>
            <a:ext cx="0" cy="51055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19520" y="6781680"/>
            <a:ext cx="5592600" cy="32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18780000">
            <a:off x="1401480" y="3200040"/>
            <a:ext cx="78948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400080"/>
                </a:solidFill>
                <a:latin typeface="Arial"/>
              </a:rPr>
              <a:t>Linea de igualdad perfec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3421080" y="5962680"/>
            <a:ext cx="1136520" cy="858960"/>
            <a:chOff x="3421080" y="5962680"/>
            <a:chExt cx="1136520" cy="858960"/>
          </a:xfrm>
        </p:grpSpPr>
        <p:sp>
          <p:nvSpPr>
            <p:cNvPr id="856" name=""/>
            <p:cNvSpPr/>
            <p:nvPr/>
          </p:nvSpPr>
          <p:spPr>
            <a:xfrm>
              <a:off x="3421080" y="6237360"/>
              <a:ext cx="9842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048200" y="5962680"/>
              <a:ext cx="5094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4105440" y="5456160"/>
            <a:ext cx="801360" cy="1374840"/>
          </a:xfrm>
          <a:custGeom>
            <a:avLst/>
            <a:gdLst/>
            <a:ahLst/>
            <a:rect l="l" t="t" r="r" b="b"/>
            <a:pathLst>
              <a:path w="505" h="866">
                <a:moveTo>
                  <a:pt x="504" y="865"/>
                </a:moveTo>
                <a:lnTo>
                  <a:pt x="501" y="800"/>
                </a:lnTo>
                <a:lnTo>
                  <a:pt x="494" y="733"/>
                </a:lnTo>
                <a:lnTo>
                  <a:pt x="483" y="669"/>
                </a:lnTo>
                <a:lnTo>
                  <a:pt x="469" y="604"/>
                </a:lnTo>
                <a:lnTo>
                  <a:pt x="449" y="542"/>
                </a:lnTo>
                <a:lnTo>
                  <a:pt x="426" y="481"/>
                </a:lnTo>
                <a:lnTo>
                  <a:pt x="399" y="422"/>
                </a:lnTo>
                <a:lnTo>
                  <a:pt x="369" y="364"/>
                </a:lnTo>
                <a:lnTo>
                  <a:pt x="334" y="310"/>
                </a:lnTo>
                <a:lnTo>
                  <a:pt x="296" y="257"/>
                </a:lnTo>
                <a:lnTo>
                  <a:pt x="254" y="207"/>
                </a:lnTo>
                <a:lnTo>
                  <a:pt x="210" y="160"/>
                </a:lnTo>
                <a:lnTo>
                  <a:pt x="161" y="115"/>
                </a:lnTo>
                <a:lnTo>
                  <a:pt x="110" y="73"/>
                </a:lnTo>
                <a:lnTo>
                  <a:pt x="56" y="35"/>
                </a:lnTo>
                <a:lnTo>
                  <a:pt x="0" y="0"/>
                </a:lnTo>
              </a:path>
            </a:pathLst>
          </a:custGeom>
          <a:noFill/>
          <a:ln w="1270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extensión a un mundo de tres person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77840" y="4498920"/>
            <a:ext cx="9761400" cy="3192480"/>
          </a:xfrm>
          <a:custGeom>
            <a:avLst/>
            <a:gdLst/>
            <a:ahLst/>
            <a:rect l="l" t="t" r="r" b="b"/>
            <a:pathLst>
              <a:path w="6149" h="2011">
                <a:moveTo>
                  <a:pt x="143" y="1820"/>
                </a:moveTo>
                <a:lnTo>
                  <a:pt x="5034" y="29"/>
                </a:lnTo>
                <a:lnTo>
                  <a:pt x="6148" y="0"/>
                </a:lnTo>
                <a:lnTo>
                  <a:pt x="6148" y="2010"/>
                </a:lnTo>
                <a:lnTo>
                  <a:pt x="0" y="1953"/>
                </a:lnTo>
                <a:lnTo>
                  <a:pt x="143" y="1820"/>
                </a:lnTo>
                <a:lnTo>
                  <a:pt x="143" y="182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2320920" y="5181120"/>
            <a:ext cx="4079880" cy="148428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077920" y="6732720"/>
            <a:ext cx="1494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314440" y="2250720"/>
            <a:ext cx="0" cy="441468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335320" y="6653160"/>
            <a:ext cx="4275000" cy="75096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2340000" y="3669840"/>
            <a:ext cx="4286160" cy="2963880"/>
          </a:xfrm>
          <a:prstGeom prst="line">
            <a:avLst/>
          </a:prstGeom>
          <a:ln w="47520">
            <a:solidFill>
              <a:srgbClr val="4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rot="20580000">
            <a:off x="6172200" y="4482720"/>
            <a:ext cx="230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ngreso de Ped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600000">
            <a:off x="5790960" y="685764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Arial"/>
              </a:rPr>
              <a:t>Ingreso de Jua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31960" y="218592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greso de Car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rot="19560000">
            <a:off x="2819520" y="411480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400080"/>
                </a:solidFill>
                <a:latin typeface="Arial"/>
              </a:rPr>
              <a:t>linea de igualdad perfec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2781360" y="4181400"/>
            <a:ext cx="4649760" cy="2678040"/>
          </a:xfrm>
          <a:custGeom>
            <a:avLst/>
            <a:gdLst/>
            <a:ahLst/>
            <a:rect l="l" t="t" r="r" b="b"/>
            <a:pathLst>
              <a:path w="2929" h="1687">
                <a:moveTo>
                  <a:pt x="2928" y="1676"/>
                </a:moveTo>
                <a:lnTo>
                  <a:pt x="2928" y="1676"/>
                </a:lnTo>
                <a:lnTo>
                  <a:pt x="0" y="1676"/>
                </a:lnTo>
                <a:lnTo>
                  <a:pt x="0" y="0"/>
                </a:lnTo>
                <a:lnTo>
                  <a:pt x="109" y="10"/>
                </a:lnTo>
                <a:lnTo>
                  <a:pt x="158" y="20"/>
                </a:lnTo>
                <a:lnTo>
                  <a:pt x="356" y="208"/>
                </a:lnTo>
                <a:lnTo>
                  <a:pt x="525" y="464"/>
                </a:lnTo>
                <a:lnTo>
                  <a:pt x="703" y="710"/>
                </a:lnTo>
                <a:lnTo>
                  <a:pt x="870" y="838"/>
                </a:lnTo>
                <a:lnTo>
                  <a:pt x="1039" y="927"/>
                </a:lnTo>
                <a:lnTo>
                  <a:pt x="1217" y="927"/>
                </a:lnTo>
                <a:lnTo>
                  <a:pt x="1395" y="947"/>
                </a:lnTo>
                <a:lnTo>
                  <a:pt x="1722" y="1006"/>
                </a:lnTo>
                <a:lnTo>
                  <a:pt x="1840" y="1036"/>
                </a:lnTo>
                <a:lnTo>
                  <a:pt x="2008" y="1114"/>
                </a:lnTo>
                <a:lnTo>
                  <a:pt x="2335" y="1282"/>
                </a:lnTo>
                <a:lnTo>
                  <a:pt x="2503" y="1371"/>
                </a:lnTo>
                <a:lnTo>
                  <a:pt x="2800" y="1598"/>
                </a:lnTo>
                <a:lnTo>
                  <a:pt x="2928" y="1686"/>
                </a:lnTo>
                <a:lnTo>
                  <a:pt x="2928" y="1676"/>
                </a:lnTo>
                <a:lnTo>
                  <a:pt x="2928" y="1676"/>
                </a:lnTo>
              </a:path>
            </a:pathLst>
          </a:custGeom>
          <a:gradFill rotWithShape="0">
            <a:gsLst>
              <a:gs pos="0">
                <a:srgbClr val="810000"/>
              </a:gs>
              <a:gs pos="100000">
                <a:srgbClr val="ffffc2"/>
              </a:gs>
            </a:gsLst>
            <a:lin ang="8100000"/>
          </a:gradFill>
          <a:ln w="4752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distribución del ingreso entre dos person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2057400" y="1752480"/>
            <a:ext cx="7378560" cy="5235480"/>
            <a:chOff x="2057400" y="1752480"/>
            <a:chExt cx="7378560" cy="5235480"/>
          </a:xfrm>
        </p:grpSpPr>
        <p:sp>
          <p:nvSpPr>
            <p:cNvPr id="873" name=""/>
            <p:cNvSpPr/>
            <p:nvPr/>
          </p:nvSpPr>
          <p:spPr>
            <a:xfrm flipV="1">
              <a:off x="2706480" y="2797200"/>
              <a:ext cx="3770280" cy="4037040"/>
            </a:xfrm>
            <a:prstGeom prst="line">
              <a:avLst/>
            </a:prstGeom>
            <a:ln w="47520">
              <a:solidFill>
                <a:srgbClr val="4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2031840" y="2030400"/>
              <a:ext cx="8748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greso de Ped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559720" y="6413400"/>
              <a:ext cx="8762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greso de Ju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2711160" y="1752480"/>
              <a:ext cx="0" cy="51055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90640" y="6829200"/>
              <a:ext cx="5592960" cy="32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2790720" y="5818320"/>
            <a:ext cx="2901960" cy="1044360"/>
          </a:xfrm>
          <a:custGeom>
            <a:avLst/>
            <a:gdLst/>
            <a:ahLst/>
            <a:rect l="l" t="t" r="r" b="b"/>
            <a:pathLst>
              <a:path w="1828" h="658">
                <a:moveTo>
                  <a:pt x="1827" y="657"/>
                </a:moveTo>
                <a:lnTo>
                  <a:pt x="1827" y="0"/>
                </a:lnTo>
                <a:lnTo>
                  <a:pt x="0" y="0"/>
                </a:ln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5562720"/>
            <a:ext cx="847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00720" y="7080120"/>
            <a:ext cx="847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594400" y="5540400"/>
            <a:ext cx="847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286080" y="3498840"/>
            <a:ext cx="3117960" cy="3032280"/>
          </a:xfrm>
          <a:custGeom>
            <a:avLst/>
            <a:gdLst/>
            <a:ahLst/>
            <a:rect l="l" t="t" r="r" b="b"/>
            <a:pathLst>
              <a:path w="1964" h="1910">
                <a:moveTo>
                  <a:pt x="1715" y="1662"/>
                </a:moveTo>
                <a:lnTo>
                  <a:pt x="1691" y="1664"/>
                </a:lnTo>
                <a:lnTo>
                  <a:pt x="1670" y="1668"/>
                </a:lnTo>
                <a:lnTo>
                  <a:pt x="1649" y="1676"/>
                </a:lnTo>
                <a:lnTo>
                  <a:pt x="1631" y="1686"/>
                </a:lnTo>
                <a:lnTo>
                  <a:pt x="1613" y="1700"/>
                </a:lnTo>
                <a:lnTo>
                  <a:pt x="1599" y="1715"/>
                </a:lnTo>
                <a:lnTo>
                  <a:pt x="1586" y="1731"/>
                </a:lnTo>
                <a:lnTo>
                  <a:pt x="1576" y="1748"/>
                </a:lnTo>
                <a:lnTo>
                  <a:pt x="1567" y="1768"/>
                </a:lnTo>
                <a:lnTo>
                  <a:pt x="1562" y="1787"/>
                </a:lnTo>
                <a:lnTo>
                  <a:pt x="1558" y="1808"/>
                </a:lnTo>
                <a:lnTo>
                  <a:pt x="1560" y="1828"/>
                </a:lnTo>
                <a:lnTo>
                  <a:pt x="1562" y="1850"/>
                </a:lnTo>
                <a:lnTo>
                  <a:pt x="1568" y="1870"/>
                </a:lnTo>
                <a:lnTo>
                  <a:pt x="1578" y="1890"/>
                </a:lnTo>
                <a:lnTo>
                  <a:pt x="1591" y="1909"/>
                </a:lnTo>
                <a:lnTo>
                  <a:pt x="1458" y="1909"/>
                </a:lnTo>
                <a:lnTo>
                  <a:pt x="1963" y="1909"/>
                </a:lnTo>
                <a:lnTo>
                  <a:pt x="1940" y="1876"/>
                </a:lnTo>
                <a:lnTo>
                  <a:pt x="0" y="0"/>
                </a:lnTo>
                <a:lnTo>
                  <a:pt x="1715" y="1662"/>
                </a:lnTo>
                <a:lnTo>
                  <a:pt x="1715" y="1662"/>
                </a:lnTo>
              </a:path>
            </a:pathLst>
          </a:custGeom>
          <a:solidFill>
            <a:srgbClr val="810000"/>
          </a:solidFill>
          <a:ln w="4752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4565520"/>
            <a:ext cx="847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95880" y="4876920"/>
            <a:ext cx="1906560" cy="1220760"/>
          </a:xfrm>
          <a:prstGeom prst="wedgeEllipseCallout">
            <a:avLst>
              <a:gd name="adj1" fmla="val -53745"/>
              <a:gd name="adj2" fmla="val 7002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62520" y="7086600"/>
            <a:ext cx="1066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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4647960" y="4873680"/>
            <a:ext cx="28440" cy="19843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greso med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0"/>
            <a:ext cx="945360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Podemos ordenar todas las posibles distribuciones del ingreso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406680" y="2139840"/>
            <a:ext cx="4060800" cy="3786120"/>
            <a:chOff x="3406680" y="2139840"/>
            <a:chExt cx="4060800" cy="3786120"/>
          </a:xfrm>
        </p:grpSpPr>
        <p:sp>
          <p:nvSpPr>
            <p:cNvPr id="890" name=""/>
            <p:cNvSpPr/>
            <p:nvPr/>
          </p:nvSpPr>
          <p:spPr>
            <a:xfrm>
              <a:off x="4692600" y="4832280"/>
              <a:ext cx="2774880" cy="1093680"/>
            </a:xfrm>
            <a:custGeom>
              <a:avLst/>
              <a:gdLst/>
              <a:ahLst/>
              <a:rect l="l" t="t" r="r" b="b"/>
              <a:pathLst>
                <a:path w="1748" h="689">
                  <a:moveTo>
                    <a:pt x="0" y="0"/>
                  </a:moveTo>
                  <a:lnTo>
                    <a:pt x="12" y="13"/>
                  </a:lnTo>
                  <a:lnTo>
                    <a:pt x="23" y="23"/>
                  </a:lnTo>
                  <a:lnTo>
                    <a:pt x="31" y="32"/>
                  </a:lnTo>
                  <a:lnTo>
                    <a:pt x="38" y="37"/>
                  </a:lnTo>
                  <a:lnTo>
                    <a:pt x="42" y="43"/>
                  </a:lnTo>
                  <a:lnTo>
                    <a:pt x="46" y="46"/>
                  </a:lnTo>
                  <a:lnTo>
                    <a:pt x="49" y="48"/>
                  </a:lnTo>
                  <a:lnTo>
                    <a:pt x="52" y="50"/>
                  </a:lnTo>
                  <a:lnTo>
                    <a:pt x="53" y="52"/>
                  </a:lnTo>
                  <a:lnTo>
                    <a:pt x="55" y="54"/>
                  </a:lnTo>
                  <a:lnTo>
                    <a:pt x="56" y="55"/>
                  </a:lnTo>
                  <a:lnTo>
                    <a:pt x="58" y="56"/>
                  </a:lnTo>
                  <a:lnTo>
                    <a:pt x="60" y="60"/>
                  </a:lnTo>
                  <a:lnTo>
                    <a:pt x="64" y="62"/>
                  </a:lnTo>
                  <a:lnTo>
                    <a:pt x="70" y="67"/>
                  </a:lnTo>
                  <a:lnTo>
                    <a:pt x="76" y="72"/>
                  </a:lnTo>
                  <a:lnTo>
                    <a:pt x="83" y="81"/>
                  </a:lnTo>
                  <a:lnTo>
                    <a:pt x="93" y="88"/>
                  </a:lnTo>
                  <a:lnTo>
                    <a:pt x="104" y="98"/>
                  </a:lnTo>
                  <a:lnTo>
                    <a:pt x="116" y="107"/>
                  </a:lnTo>
                  <a:lnTo>
                    <a:pt x="128" y="118"/>
                  </a:lnTo>
                  <a:lnTo>
                    <a:pt x="141" y="128"/>
                  </a:lnTo>
                  <a:lnTo>
                    <a:pt x="156" y="140"/>
                  </a:lnTo>
                  <a:lnTo>
                    <a:pt x="171" y="150"/>
                  </a:lnTo>
                  <a:lnTo>
                    <a:pt x="186" y="162"/>
                  </a:lnTo>
                  <a:lnTo>
                    <a:pt x="201" y="173"/>
                  </a:lnTo>
                  <a:lnTo>
                    <a:pt x="216" y="184"/>
                  </a:lnTo>
                  <a:lnTo>
                    <a:pt x="231" y="195"/>
                  </a:lnTo>
                  <a:lnTo>
                    <a:pt x="246" y="206"/>
                  </a:lnTo>
                  <a:lnTo>
                    <a:pt x="260" y="216"/>
                  </a:lnTo>
                  <a:lnTo>
                    <a:pt x="274" y="226"/>
                  </a:lnTo>
                  <a:lnTo>
                    <a:pt x="288" y="234"/>
                  </a:lnTo>
                  <a:lnTo>
                    <a:pt x="300" y="243"/>
                  </a:lnTo>
                  <a:lnTo>
                    <a:pt x="316" y="252"/>
                  </a:lnTo>
                  <a:lnTo>
                    <a:pt x="332" y="263"/>
                  </a:lnTo>
                  <a:lnTo>
                    <a:pt x="349" y="272"/>
                  </a:lnTo>
                  <a:lnTo>
                    <a:pt x="367" y="284"/>
                  </a:lnTo>
                  <a:lnTo>
                    <a:pt x="386" y="295"/>
                  </a:lnTo>
                  <a:lnTo>
                    <a:pt x="406" y="306"/>
                  </a:lnTo>
                  <a:lnTo>
                    <a:pt x="427" y="317"/>
                  </a:lnTo>
                  <a:lnTo>
                    <a:pt x="446" y="328"/>
                  </a:lnTo>
                  <a:lnTo>
                    <a:pt x="467" y="339"/>
                  </a:lnTo>
                  <a:lnTo>
                    <a:pt x="486" y="350"/>
                  </a:lnTo>
                  <a:lnTo>
                    <a:pt x="506" y="359"/>
                  </a:lnTo>
                  <a:lnTo>
                    <a:pt x="524" y="368"/>
                  </a:lnTo>
                  <a:lnTo>
                    <a:pt x="542" y="377"/>
                  </a:lnTo>
                  <a:lnTo>
                    <a:pt x="558" y="385"/>
                  </a:lnTo>
                  <a:lnTo>
                    <a:pt x="574" y="392"/>
                  </a:lnTo>
                  <a:lnTo>
                    <a:pt x="589" y="399"/>
                  </a:lnTo>
                  <a:lnTo>
                    <a:pt x="609" y="407"/>
                  </a:lnTo>
                  <a:lnTo>
                    <a:pt x="631" y="416"/>
                  </a:lnTo>
                  <a:lnTo>
                    <a:pt x="657" y="425"/>
                  </a:lnTo>
                  <a:lnTo>
                    <a:pt x="684" y="435"/>
                  </a:lnTo>
                  <a:lnTo>
                    <a:pt x="714" y="445"/>
                  </a:lnTo>
                  <a:lnTo>
                    <a:pt x="745" y="456"/>
                  </a:lnTo>
                  <a:lnTo>
                    <a:pt x="779" y="465"/>
                  </a:lnTo>
                  <a:lnTo>
                    <a:pt x="812" y="476"/>
                  </a:lnTo>
                  <a:lnTo>
                    <a:pt x="847" y="488"/>
                  </a:lnTo>
                  <a:lnTo>
                    <a:pt x="882" y="499"/>
                  </a:lnTo>
                  <a:lnTo>
                    <a:pt x="917" y="508"/>
                  </a:lnTo>
                  <a:lnTo>
                    <a:pt x="951" y="518"/>
                  </a:lnTo>
                  <a:lnTo>
                    <a:pt x="984" y="528"/>
                  </a:lnTo>
                  <a:lnTo>
                    <a:pt x="1017" y="536"/>
                  </a:lnTo>
                  <a:lnTo>
                    <a:pt x="1049" y="544"/>
                  </a:lnTo>
                  <a:lnTo>
                    <a:pt x="1079" y="553"/>
                  </a:lnTo>
                  <a:lnTo>
                    <a:pt x="1112" y="561"/>
                  </a:lnTo>
                  <a:lnTo>
                    <a:pt x="1147" y="570"/>
                  </a:lnTo>
                  <a:lnTo>
                    <a:pt x="1182" y="577"/>
                  </a:lnTo>
                  <a:lnTo>
                    <a:pt x="1218" y="586"/>
                  </a:lnTo>
                  <a:lnTo>
                    <a:pt x="1254" y="594"/>
                  </a:lnTo>
                  <a:lnTo>
                    <a:pt x="1291" y="602"/>
                  </a:lnTo>
                  <a:lnTo>
                    <a:pt x="1328" y="610"/>
                  </a:lnTo>
                  <a:lnTo>
                    <a:pt x="1362" y="618"/>
                  </a:lnTo>
                  <a:lnTo>
                    <a:pt x="1397" y="626"/>
                  </a:lnTo>
                  <a:lnTo>
                    <a:pt x="1429" y="633"/>
                  </a:lnTo>
                  <a:lnTo>
                    <a:pt x="1461" y="639"/>
                  </a:lnTo>
                  <a:lnTo>
                    <a:pt x="1489" y="646"/>
                  </a:lnTo>
                  <a:lnTo>
                    <a:pt x="1515" y="651"/>
                  </a:lnTo>
                  <a:lnTo>
                    <a:pt x="1538" y="654"/>
                  </a:lnTo>
                  <a:lnTo>
                    <a:pt x="1558" y="658"/>
                  </a:lnTo>
                  <a:lnTo>
                    <a:pt x="1574" y="660"/>
                  </a:lnTo>
                  <a:lnTo>
                    <a:pt x="1585" y="662"/>
                  </a:lnTo>
                  <a:lnTo>
                    <a:pt x="1593" y="664"/>
                  </a:lnTo>
                  <a:lnTo>
                    <a:pt x="1600" y="664"/>
                  </a:lnTo>
                  <a:lnTo>
                    <a:pt x="1605" y="666"/>
                  </a:lnTo>
                  <a:lnTo>
                    <a:pt x="1609" y="666"/>
                  </a:lnTo>
                  <a:lnTo>
                    <a:pt x="1613" y="668"/>
                  </a:lnTo>
                  <a:lnTo>
                    <a:pt x="1617" y="668"/>
                  </a:lnTo>
                  <a:lnTo>
                    <a:pt x="1622" y="669"/>
                  </a:lnTo>
                  <a:lnTo>
                    <a:pt x="1628" y="670"/>
                  </a:lnTo>
                  <a:lnTo>
                    <a:pt x="1638" y="672"/>
                  </a:lnTo>
                  <a:lnTo>
                    <a:pt x="1651" y="673"/>
                  </a:lnTo>
                  <a:lnTo>
                    <a:pt x="1666" y="677"/>
                  </a:lnTo>
                  <a:lnTo>
                    <a:pt x="1688" y="679"/>
                  </a:lnTo>
                  <a:lnTo>
                    <a:pt x="1714" y="684"/>
                  </a:lnTo>
                  <a:lnTo>
                    <a:pt x="1747" y="688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06680" y="2139840"/>
              <a:ext cx="1284480" cy="2692440"/>
            </a:xfrm>
            <a:custGeom>
              <a:avLst/>
              <a:gdLst/>
              <a:ahLst/>
              <a:rect l="l" t="t" r="r" b="b"/>
              <a:pathLst>
                <a:path w="809" h="1696">
                  <a:moveTo>
                    <a:pt x="808" y="1695"/>
                  </a:moveTo>
                  <a:lnTo>
                    <a:pt x="794" y="1683"/>
                  </a:lnTo>
                  <a:lnTo>
                    <a:pt x="784" y="1673"/>
                  </a:lnTo>
                  <a:lnTo>
                    <a:pt x="775" y="1666"/>
                  </a:lnTo>
                  <a:lnTo>
                    <a:pt x="768" y="1659"/>
                  </a:lnTo>
                  <a:lnTo>
                    <a:pt x="763" y="1654"/>
                  </a:lnTo>
                  <a:lnTo>
                    <a:pt x="759" y="1651"/>
                  </a:lnTo>
                  <a:lnTo>
                    <a:pt x="757" y="1649"/>
                  </a:lnTo>
                  <a:lnTo>
                    <a:pt x="755" y="1646"/>
                  </a:lnTo>
                  <a:lnTo>
                    <a:pt x="753" y="1645"/>
                  </a:lnTo>
                  <a:lnTo>
                    <a:pt x="751" y="1643"/>
                  </a:lnTo>
                  <a:lnTo>
                    <a:pt x="749" y="1642"/>
                  </a:lnTo>
                  <a:lnTo>
                    <a:pt x="748" y="1640"/>
                  </a:lnTo>
                  <a:lnTo>
                    <a:pt x="745" y="1638"/>
                  </a:lnTo>
                  <a:lnTo>
                    <a:pt x="742" y="1634"/>
                  </a:lnTo>
                  <a:lnTo>
                    <a:pt x="737" y="1630"/>
                  </a:lnTo>
                  <a:lnTo>
                    <a:pt x="731" y="1623"/>
                  </a:lnTo>
                  <a:lnTo>
                    <a:pt x="722" y="1616"/>
                  </a:lnTo>
                  <a:lnTo>
                    <a:pt x="714" y="1607"/>
                  </a:lnTo>
                  <a:lnTo>
                    <a:pt x="703" y="1597"/>
                  </a:lnTo>
                  <a:lnTo>
                    <a:pt x="694" y="1586"/>
                  </a:lnTo>
                  <a:lnTo>
                    <a:pt x="682" y="1575"/>
                  </a:lnTo>
                  <a:lnTo>
                    <a:pt x="670" y="1562"/>
                  </a:lnTo>
                  <a:lnTo>
                    <a:pt x="658" y="1548"/>
                  </a:lnTo>
                  <a:lnTo>
                    <a:pt x="647" y="1534"/>
                  </a:lnTo>
                  <a:lnTo>
                    <a:pt x="634" y="1520"/>
                  </a:lnTo>
                  <a:lnTo>
                    <a:pt x="621" y="1506"/>
                  </a:lnTo>
                  <a:lnTo>
                    <a:pt x="608" y="1492"/>
                  </a:lnTo>
                  <a:lnTo>
                    <a:pt x="597" y="1477"/>
                  </a:lnTo>
                  <a:lnTo>
                    <a:pt x="585" y="1464"/>
                  </a:lnTo>
                  <a:lnTo>
                    <a:pt x="574" y="1449"/>
                  </a:lnTo>
                  <a:lnTo>
                    <a:pt x="564" y="1436"/>
                  </a:lnTo>
                  <a:lnTo>
                    <a:pt x="555" y="1423"/>
                  </a:lnTo>
                  <a:lnTo>
                    <a:pt x="544" y="1411"/>
                  </a:lnTo>
                  <a:lnTo>
                    <a:pt x="534" y="1397"/>
                  </a:lnTo>
                  <a:lnTo>
                    <a:pt x="523" y="1381"/>
                  </a:lnTo>
                  <a:lnTo>
                    <a:pt x="512" y="1364"/>
                  </a:lnTo>
                  <a:lnTo>
                    <a:pt x="498" y="1348"/>
                  </a:lnTo>
                  <a:lnTo>
                    <a:pt x="486" y="1329"/>
                  </a:lnTo>
                  <a:lnTo>
                    <a:pt x="473" y="1310"/>
                  </a:lnTo>
                  <a:lnTo>
                    <a:pt x="462" y="1290"/>
                  </a:lnTo>
                  <a:lnTo>
                    <a:pt x="448" y="1271"/>
                  </a:lnTo>
                  <a:lnTo>
                    <a:pt x="436" y="1252"/>
                  </a:lnTo>
                  <a:lnTo>
                    <a:pt x="425" y="1233"/>
                  </a:lnTo>
                  <a:lnTo>
                    <a:pt x="414" y="1214"/>
                  </a:lnTo>
                  <a:lnTo>
                    <a:pt x="402" y="1196"/>
                  </a:lnTo>
                  <a:lnTo>
                    <a:pt x="393" y="1179"/>
                  </a:lnTo>
                  <a:lnTo>
                    <a:pt x="384" y="1164"/>
                  </a:lnTo>
                  <a:lnTo>
                    <a:pt x="377" y="1148"/>
                  </a:lnTo>
                  <a:lnTo>
                    <a:pt x="368" y="1133"/>
                  </a:lnTo>
                  <a:lnTo>
                    <a:pt x="358" y="1114"/>
                  </a:lnTo>
                  <a:lnTo>
                    <a:pt x="348" y="1093"/>
                  </a:lnTo>
                  <a:lnTo>
                    <a:pt x="338" y="1068"/>
                  </a:lnTo>
                  <a:lnTo>
                    <a:pt x="326" y="1040"/>
                  </a:lnTo>
                  <a:lnTo>
                    <a:pt x="314" y="1012"/>
                  </a:lnTo>
                  <a:lnTo>
                    <a:pt x="300" y="981"/>
                  </a:lnTo>
                  <a:lnTo>
                    <a:pt x="289" y="949"/>
                  </a:lnTo>
                  <a:lnTo>
                    <a:pt x="276" y="916"/>
                  </a:lnTo>
                  <a:lnTo>
                    <a:pt x="262" y="883"/>
                  </a:lnTo>
                  <a:lnTo>
                    <a:pt x="249" y="849"/>
                  </a:lnTo>
                  <a:lnTo>
                    <a:pt x="237" y="815"/>
                  </a:lnTo>
                  <a:lnTo>
                    <a:pt x="224" y="782"/>
                  </a:lnTo>
                  <a:lnTo>
                    <a:pt x="212" y="749"/>
                  </a:lnTo>
                  <a:lnTo>
                    <a:pt x="201" y="717"/>
                  </a:lnTo>
                  <a:lnTo>
                    <a:pt x="192" y="686"/>
                  </a:lnTo>
                  <a:lnTo>
                    <a:pt x="181" y="656"/>
                  </a:lnTo>
                  <a:lnTo>
                    <a:pt x="171" y="624"/>
                  </a:lnTo>
                  <a:lnTo>
                    <a:pt x="160" y="591"/>
                  </a:lnTo>
                  <a:lnTo>
                    <a:pt x="149" y="555"/>
                  </a:lnTo>
                  <a:lnTo>
                    <a:pt x="138" y="520"/>
                  </a:lnTo>
                  <a:lnTo>
                    <a:pt x="126" y="484"/>
                  </a:lnTo>
                  <a:lnTo>
                    <a:pt x="115" y="449"/>
                  </a:lnTo>
                  <a:lnTo>
                    <a:pt x="106" y="412"/>
                  </a:lnTo>
                  <a:lnTo>
                    <a:pt x="94" y="378"/>
                  </a:lnTo>
                  <a:lnTo>
                    <a:pt x="85" y="344"/>
                  </a:lnTo>
                  <a:lnTo>
                    <a:pt x="75" y="312"/>
                  </a:lnTo>
                  <a:lnTo>
                    <a:pt x="68" y="282"/>
                  </a:lnTo>
                  <a:lnTo>
                    <a:pt x="60" y="254"/>
                  </a:lnTo>
                  <a:lnTo>
                    <a:pt x="53" y="228"/>
                  </a:lnTo>
                  <a:lnTo>
                    <a:pt x="47" y="206"/>
                  </a:lnTo>
                  <a:lnTo>
                    <a:pt x="44" y="186"/>
                  </a:lnTo>
                  <a:lnTo>
                    <a:pt x="39" y="171"/>
                  </a:lnTo>
                  <a:lnTo>
                    <a:pt x="36" y="160"/>
                  </a:lnTo>
                  <a:lnTo>
                    <a:pt x="34" y="151"/>
                  </a:lnTo>
                  <a:lnTo>
                    <a:pt x="33" y="144"/>
                  </a:lnTo>
                  <a:lnTo>
                    <a:pt x="31" y="140"/>
                  </a:lnTo>
                  <a:lnTo>
                    <a:pt x="30" y="136"/>
                  </a:lnTo>
                  <a:lnTo>
                    <a:pt x="29" y="133"/>
                  </a:lnTo>
                  <a:lnTo>
                    <a:pt x="29" y="128"/>
                  </a:lnTo>
                  <a:lnTo>
                    <a:pt x="27" y="124"/>
                  </a:lnTo>
                  <a:lnTo>
                    <a:pt x="26" y="117"/>
                  </a:lnTo>
                  <a:lnTo>
                    <a:pt x="24" y="108"/>
                  </a:lnTo>
                  <a:lnTo>
                    <a:pt x="22" y="95"/>
                  </a:lnTo>
                  <a:lnTo>
                    <a:pt x="16" y="80"/>
                  </a:lnTo>
                  <a:lnTo>
                    <a:pt x="12" y="59"/>
                  </a:lnTo>
                  <a:lnTo>
                    <a:pt x="6" y="34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3753000" y="1771560"/>
            <a:ext cx="4060800" cy="3784680"/>
            <a:chOff x="3753000" y="1771560"/>
            <a:chExt cx="4060800" cy="3784680"/>
          </a:xfrm>
        </p:grpSpPr>
        <p:sp>
          <p:nvSpPr>
            <p:cNvPr id="893" name=""/>
            <p:cNvSpPr/>
            <p:nvPr/>
          </p:nvSpPr>
          <p:spPr>
            <a:xfrm>
              <a:off x="5035680" y="4464000"/>
              <a:ext cx="2778120" cy="1092240"/>
            </a:xfrm>
            <a:custGeom>
              <a:avLst/>
              <a:gdLst/>
              <a:ahLst/>
              <a:rect l="l" t="t" r="r" b="b"/>
              <a:pathLst>
                <a:path w="1750" h="688">
                  <a:moveTo>
                    <a:pt x="0" y="0"/>
                  </a:moveTo>
                  <a:lnTo>
                    <a:pt x="12" y="13"/>
                  </a:lnTo>
                  <a:lnTo>
                    <a:pt x="23" y="23"/>
                  </a:lnTo>
                  <a:lnTo>
                    <a:pt x="32" y="32"/>
                  </a:lnTo>
                  <a:lnTo>
                    <a:pt x="38" y="38"/>
                  </a:lnTo>
                  <a:lnTo>
                    <a:pt x="43" y="43"/>
                  </a:lnTo>
                  <a:lnTo>
                    <a:pt x="47" y="46"/>
                  </a:lnTo>
                  <a:lnTo>
                    <a:pt x="50" y="49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5" y="54"/>
                  </a:lnTo>
                  <a:lnTo>
                    <a:pt x="57" y="56"/>
                  </a:lnTo>
                  <a:lnTo>
                    <a:pt x="59" y="57"/>
                  </a:lnTo>
                  <a:lnTo>
                    <a:pt x="61" y="60"/>
                  </a:lnTo>
                  <a:lnTo>
                    <a:pt x="65" y="63"/>
                  </a:lnTo>
                  <a:lnTo>
                    <a:pt x="70" y="68"/>
                  </a:lnTo>
                  <a:lnTo>
                    <a:pt x="77" y="73"/>
                  </a:lnTo>
                  <a:lnTo>
                    <a:pt x="84" y="81"/>
                  </a:lnTo>
                  <a:lnTo>
                    <a:pt x="94" y="89"/>
                  </a:lnTo>
                  <a:lnTo>
                    <a:pt x="104" y="98"/>
                  </a:lnTo>
                  <a:lnTo>
                    <a:pt x="116" y="108"/>
                  </a:lnTo>
                  <a:lnTo>
                    <a:pt x="129" y="119"/>
                  </a:lnTo>
                  <a:lnTo>
                    <a:pt x="142" y="129"/>
                  </a:lnTo>
                  <a:lnTo>
                    <a:pt x="157" y="140"/>
                  </a:lnTo>
                  <a:lnTo>
                    <a:pt x="172" y="150"/>
                  </a:lnTo>
                  <a:lnTo>
                    <a:pt x="187" y="162"/>
                  </a:lnTo>
                  <a:lnTo>
                    <a:pt x="202" y="173"/>
                  </a:lnTo>
                  <a:lnTo>
                    <a:pt x="217" y="184"/>
                  </a:lnTo>
                  <a:lnTo>
                    <a:pt x="232" y="195"/>
                  </a:lnTo>
                  <a:lnTo>
                    <a:pt x="247" y="206"/>
                  </a:lnTo>
                  <a:lnTo>
                    <a:pt x="262" y="216"/>
                  </a:lnTo>
                  <a:lnTo>
                    <a:pt x="275" y="226"/>
                  </a:lnTo>
                  <a:lnTo>
                    <a:pt x="289" y="234"/>
                  </a:lnTo>
                  <a:lnTo>
                    <a:pt x="302" y="243"/>
                  </a:lnTo>
                  <a:lnTo>
                    <a:pt x="316" y="252"/>
                  </a:lnTo>
                  <a:lnTo>
                    <a:pt x="333" y="263"/>
                  </a:lnTo>
                  <a:lnTo>
                    <a:pt x="350" y="272"/>
                  </a:lnTo>
                  <a:lnTo>
                    <a:pt x="368" y="284"/>
                  </a:lnTo>
                  <a:lnTo>
                    <a:pt x="388" y="295"/>
                  </a:lnTo>
                  <a:lnTo>
                    <a:pt x="408" y="306"/>
                  </a:lnTo>
                  <a:lnTo>
                    <a:pt x="428" y="317"/>
                  </a:lnTo>
                  <a:lnTo>
                    <a:pt x="448" y="328"/>
                  </a:lnTo>
                  <a:lnTo>
                    <a:pt x="468" y="339"/>
                  </a:lnTo>
                  <a:lnTo>
                    <a:pt x="488" y="350"/>
                  </a:lnTo>
                  <a:lnTo>
                    <a:pt x="508" y="359"/>
                  </a:lnTo>
                  <a:lnTo>
                    <a:pt x="525" y="369"/>
                  </a:lnTo>
                  <a:lnTo>
                    <a:pt x="543" y="378"/>
                  </a:lnTo>
                  <a:lnTo>
                    <a:pt x="559" y="385"/>
                  </a:lnTo>
                  <a:lnTo>
                    <a:pt x="576" y="392"/>
                  </a:lnTo>
                  <a:lnTo>
                    <a:pt x="590" y="400"/>
                  </a:lnTo>
                  <a:lnTo>
                    <a:pt x="610" y="408"/>
                  </a:lnTo>
                  <a:lnTo>
                    <a:pt x="632" y="417"/>
                  </a:lnTo>
                  <a:lnTo>
                    <a:pt x="658" y="426"/>
                  </a:lnTo>
                  <a:lnTo>
                    <a:pt x="685" y="436"/>
                  </a:lnTo>
                  <a:lnTo>
                    <a:pt x="715" y="446"/>
                  </a:lnTo>
                  <a:lnTo>
                    <a:pt x="746" y="457"/>
                  </a:lnTo>
                  <a:lnTo>
                    <a:pt x="780" y="466"/>
                  </a:lnTo>
                  <a:lnTo>
                    <a:pt x="813" y="478"/>
                  </a:lnTo>
                  <a:lnTo>
                    <a:pt x="848" y="489"/>
                  </a:lnTo>
                  <a:lnTo>
                    <a:pt x="882" y="500"/>
                  </a:lnTo>
                  <a:lnTo>
                    <a:pt x="918" y="510"/>
                  </a:lnTo>
                  <a:lnTo>
                    <a:pt x="952" y="520"/>
                  </a:lnTo>
                  <a:lnTo>
                    <a:pt x="986" y="529"/>
                  </a:lnTo>
                  <a:lnTo>
                    <a:pt x="1018" y="538"/>
                  </a:lnTo>
                  <a:lnTo>
                    <a:pt x="1050" y="545"/>
                  </a:lnTo>
                  <a:lnTo>
                    <a:pt x="1080" y="554"/>
                  </a:lnTo>
                  <a:lnTo>
                    <a:pt x="1114" y="562"/>
                  </a:lnTo>
                  <a:lnTo>
                    <a:pt x="1148" y="571"/>
                  </a:lnTo>
                  <a:lnTo>
                    <a:pt x="1183" y="578"/>
                  </a:lnTo>
                  <a:lnTo>
                    <a:pt x="1219" y="588"/>
                  </a:lnTo>
                  <a:lnTo>
                    <a:pt x="1256" y="595"/>
                  </a:lnTo>
                  <a:lnTo>
                    <a:pt x="1292" y="604"/>
                  </a:lnTo>
                  <a:lnTo>
                    <a:pt x="1329" y="611"/>
                  </a:lnTo>
                  <a:lnTo>
                    <a:pt x="1364" y="619"/>
                  </a:lnTo>
                  <a:lnTo>
                    <a:pt x="1399" y="627"/>
                  </a:lnTo>
                  <a:lnTo>
                    <a:pt x="1431" y="634"/>
                  </a:lnTo>
                  <a:lnTo>
                    <a:pt x="1463" y="640"/>
                  </a:lnTo>
                  <a:lnTo>
                    <a:pt x="1491" y="646"/>
                  </a:lnTo>
                  <a:lnTo>
                    <a:pt x="1517" y="650"/>
                  </a:lnTo>
                  <a:lnTo>
                    <a:pt x="1540" y="654"/>
                  </a:lnTo>
                  <a:lnTo>
                    <a:pt x="1560" y="657"/>
                  </a:lnTo>
                  <a:lnTo>
                    <a:pt x="1575" y="660"/>
                  </a:lnTo>
                  <a:lnTo>
                    <a:pt x="1586" y="662"/>
                  </a:lnTo>
                  <a:lnTo>
                    <a:pt x="1595" y="664"/>
                  </a:lnTo>
                  <a:lnTo>
                    <a:pt x="1602" y="664"/>
                  </a:lnTo>
                  <a:lnTo>
                    <a:pt x="1606" y="666"/>
                  </a:lnTo>
                  <a:lnTo>
                    <a:pt x="1611" y="666"/>
                  </a:lnTo>
                  <a:lnTo>
                    <a:pt x="1614" y="667"/>
                  </a:lnTo>
                  <a:lnTo>
                    <a:pt x="1619" y="667"/>
                  </a:lnTo>
                  <a:lnTo>
                    <a:pt x="1623" y="668"/>
                  </a:lnTo>
                  <a:lnTo>
                    <a:pt x="1630" y="669"/>
                  </a:lnTo>
                  <a:lnTo>
                    <a:pt x="1640" y="671"/>
                  </a:lnTo>
                  <a:lnTo>
                    <a:pt x="1652" y="672"/>
                  </a:lnTo>
                  <a:lnTo>
                    <a:pt x="1668" y="676"/>
                  </a:lnTo>
                  <a:lnTo>
                    <a:pt x="1689" y="678"/>
                  </a:lnTo>
                  <a:lnTo>
                    <a:pt x="1716" y="683"/>
                  </a:lnTo>
                  <a:lnTo>
                    <a:pt x="1749" y="687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53000" y="1771560"/>
              <a:ext cx="1280880" cy="2694240"/>
            </a:xfrm>
            <a:custGeom>
              <a:avLst/>
              <a:gdLst/>
              <a:ahLst/>
              <a:rect l="l" t="t" r="r" b="b"/>
              <a:pathLst>
                <a:path w="807" h="1697">
                  <a:moveTo>
                    <a:pt x="806" y="1696"/>
                  </a:moveTo>
                  <a:lnTo>
                    <a:pt x="792" y="1684"/>
                  </a:lnTo>
                  <a:lnTo>
                    <a:pt x="781" y="1674"/>
                  </a:lnTo>
                  <a:lnTo>
                    <a:pt x="773" y="1667"/>
                  </a:lnTo>
                  <a:lnTo>
                    <a:pt x="766" y="1660"/>
                  </a:lnTo>
                  <a:lnTo>
                    <a:pt x="761" y="1656"/>
                  </a:lnTo>
                  <a:lnTo>
                    <a:pt x="757" y="1652"/>
                  </a:lnTo>
                  <a:lnTo>
                    <a:pt x="754" y="1650"/>
                  </a:lnTo>
                  <a:lnTo>
                    <a:pt x="753" y="1647"/>
                  </a:lnTo>
                  <a:lnTo>
                    <a:pt x="751" y="1646"/>
                  </a:lnTo>
                  <a:lnTo>
                    <a:pt x="749" y="1644"/>
                  </a:lnTo>
                  <a:lnTo>
                    <a:pt x="747" y="1643"/>
                  </a:lnTo>
                  <a:lnTo>
                    <a:pt x="746" y="1641"/>
                  </a:lnTo>
                  <a:lnTo>
                    <a:pt x="743" y="1639"/>
                  </a:lnTo>
                  <a:lnTo>
                    <a:pt x="740" y="1635"/>
                  </a:lnTo>
                  <a:lnTo>
                    <a:pt x="734" y="1630"/>
                  </a:lnTo>
                  <a:lnTo>
                    <a:pt x="729" y="1623"/>
                  </a:lnTo>
                  <a:lnTo>
                    <a:pt x="720" y="1616"/>
                  </a:lnTo>
                  <a:lnTo>
                    <a:pt x="712" y="1608"/>
                  </a:lnTo>
                  <a:lnTo>
                    <a:pt x="702" y="1598"/>
                  </a:lnTo>
                  <a:lnTo>
                    <a:pt x="692" y="1586"/>
                  </a:lnTo>
                  <a:lnTo>
                    <a:pt x="680" y="1575"/>
                  </a:lnTo>
                  <a:lnTo>
                    <a:pt x="669" y="1562"/>
                  </a:lnTo>
                  <a:lnTo>
                    <a:pt x="656" y="1549"/>
                  </a:lnTo>
                  <a:lnTo>
                    <a:pt x="645" y="1534"/>
                  </a:lnTo>
                  <a:lnTo>
                    <a:pt x="632" y="1521"/>
                  </a:lnTo>
                  <a:lnTo>
                    <a:pt x="620" y="1506"/>
                  </a:lnTo>
                  <a:lnTo>
                    <a:pt x="607" y="1492"/>
                  </a:lnTo>
                  <a:lnTo>
                    <a:pt x="596" y="1477"/>
                  </a:lnTo>
                  <a:lnTo>
                    <a:pt x="584" y="1464"/>
                  </a:lnTo>
                  <a:lnTo>
                    <a:pt x="573" y="1449"/>
                  </a:lnTo>
                  <a:lnTo>
                    <a:pt x="563" y="1436"/>
                  </a:lnTo>
                  <a:lnTo>
                    <a:pt x="554" y="1423"/>
                  </a:lnTo>
                  <a:lnTo>
                    <a:pt x="544" y="1411"/>
                  </a:lnTo>
                  <a:lnTo>
                    <a:pt x="534" y="1397"/>
                  </a:lnTo>
                  <a:lnTo>
                    <a:pt x="522" y="1381"/>
                  </a:lnTo>
                  <a:lnTo>
                    <a:pt x="511" y="1364"/>
                  </a:lnTo>
                  <a:lnTo>
                    <a:pt x="498" y="1348"/>
                  </a:lnTo>
                  <a:lnTo>
                    <a:pt x="486" y="1329"/>
                  </a:lnTo>
                  <a:lnTo>
                    <a:pt x="473" y="1310"/>
                  </a:lnTo>
                  <a:lnTo>
                    <a:pt x="462" y="1290"/>
                  </a:lnTo>
                  <a:lnTo>
                    <a:pt x="449" y="1271"/>
                  </a:lnTo>
                  <a:lnTo>
                    <a:pt x="437" y="1252"/>
                  </a:lnTo>
                  <a:lnTo>
                    <a:pt x="425" y="1233"/>
                  </a:lnTo>
                  <a:lnTo>
                    <a:pt x="414" y="1214"/>
                  </a:lnTo>
                  <a:lnTo>
                    <a:pt x="403" y="1197"/>
                  </a:lnTo>
                  <a:lnTo>
                    <a:pt x="393" y="1180"/>
                  </a:lnTo>
                  <a:lnTo>
                    <a:pt x="384" y="1164"/>
                  </a:lnTo>
                  <a:lnTo>
                    <a:pt x="376" y="1148"/>
                  </a:lnTo>
                  <a:lnTo>
                    <a:pt x="368" y="1134"/>
                  </a:lnTo>
                  <a:lnTo>
                    <a:pt x="358" y="1115"/>
                  </a:lnTo>
                  <a:lnTo>
                    <a:pt x="348" y="1094"/>
                  </a:lnTo>
                  <a:lnTo>
                    <a:pt x="338" y="1068"/>
                  </a:lnTo>
                  <a:lnTo>
                    <a:pt x="325" y="1041"/>
                  </a:lnTo>
                  <a:lnTo>
                    <a:pt x="313" y="1012"/>
                  </a:lnTo>
                  <a:lnTo>
                    <a:pt x="300" y="982"/>
                  </a:lnTo>
                  <a:lnTo>
                    <a:pt x="288" y="949"/>
                  </a:lnTo>
                  <a:lnTo>
                    <a:pt x="275" y="917"/>
                  </a:lnTo>
                  <a:lnTo>
                    <a:pt x="262" y="883"/>
                  </a:lnTo>
                  <a:lnTo>
                    <a:pt x="248" y="850"/>
                  </a:lnTo>
                  <a:lnTo>
                    <a:pt x="236" y="815"/>
                  </a:lnTo>
                  <a:lnTo>
                    <a:pt x="223" y="783"/>
                  </a:lnTo>
                  <a:lnTo>
                    <a:pt x="212" y="749"/>
                  </a:lnTo>
                  <a:lnTo>
                    <a:pt x="200" y="717"/>
                  </a:lnTo>
                  <a:lnTo>
                    <a:pt x="191" y="686"/>
                  </a:lnTo>
                  <a:lnTo>
                    <a:pt x="180" y="656"/>
                  </a:lnTo>
                  <a:lnTo>
                    <a:pt x="170" y="624"/>
                  </a:lnTo>
                  <a:lnTo>
                    <a:pt x="159" y="590"/>
                  </a:lnTo>
                  <a:lnTo>
                    <a:pt x="148" y="555"/>
                  </a:lnTo>
                  <a:lnTo>
                    <a:pt x="137" y="520"/>
                  </a:lnTo>
                  <a:lnTo>
                    <a:pt x="126" y="484"/>
                  </a:lnTo>
                  <a:lnTo>
                    <a:pt x="114" y="449"/>
                  </a:lnTo>
                  <a:lnTo>
                    <a:pt x="105" y="412"/>
                  </a:lnTo>
                  <a:lnTo>
                    <a:pt x="94" y="378"/>
                  </a:lnTo>
                  <a:lnTo>
                    <a:pt x="84" y="344"/>
                  </a:lnTo>
                  <a:lnTo>
                    <a:pt x="75" y="312"/>
                  </a:lnTo>
                  <a:lnTo>
                    <a:pt x="68" y="282"/>
                  </a:lnTo>
                  <a:lnTo>
                    <a:pt x="60" y="254"/>
                  </a:lnTo>
                  <a:lnTo>
                    <a:pt x="52" y="228"/>
                  </a:lnTo>
                  <a:lnTo>
                    <a:pt x="47" y="206"/>
                  </a:lnTo>
                  <a:lnTo>
                    <a:pt x="43" y="186"/>
                  </a:lnTo>
                  <a:lnTo>
                    <a:pt x="39" y="170"/>
                  </a:lnTo>
                  <a:lnTo>
                    <a:pt x="36" y="159"/>
                  </a:lnTo>
                  <a:lnTo>
                    <a:pt x="34" y="151"/>
                  </a:lnTo>
                  <a:lnTo>
                    <a:pt x="32" y="144"/>
                  </a:lnTo>
                  <a:lnTo>
                    <a:pt x="31" y="140"/>
                  </a:lnTo>
                  <a:lnTo>
                    <a:pt x="30" y="136"/>
                  </a:lnTo>
                  <a:lnTo>
                    <a:pt x="29" y="132"/>
                  </a:lnTo>
                  <a:lnTo>
                    <a:pt x="29" y="128"/>
                  </a:lnTo>
                  <a:lnTo>
                    <a:pt x="27" y="124"/>
                  </a:lnTo>
                  <a:lnTo>
                    <a:pt x="26" y="117"/>
                  </a:lnTo>
                  <a:lnTo>
                    <a:pt x="23" y="108"/>
                  </a:lnTo>
                  <a:lnTo>
                    <a:pt x="21" y="95"/>
                  </a:lnTo>
                  <a:lnTo>
                    <a:pt x="16" y="80"/>
                  </a:lnTo>
                  <a:lnTo>
                    <a:pt x="12" y="58"/>
                  </a:lnTo>
                  <a:lnTo>
                    <a:pt x="6" y="33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179880" y="2386080"/>
            <a:ext cx="4059000" cy="3786120"/>
            <a:chOff x="3179880" y="2386080"/>
            <a:chExt cx="4059000" cy="3786120"/>
          </a:xfrm>
        </p:grpSpPr>
        <p:sp>
          <p:nvSpPr>
            <p:cNvPr id="896" name=""/>
            <p:cNvSpPr/>
            <p:nvPr/>
          </p:nvSpPr>
          <p:spPr>
            <a:xfrm>
              <a:off x="4462560" y="5078520"/>
              <a:ext cx="2776320" cy="1093680"/>
            </a:xfrm>
            <a:custGeom>
              <a:avLst/>
              <a:gdLst/>
              <a:ahLst/>
              <a:rect l="l" t="t" r="r" b="b"/>
              <a:pathLst>
                <a:path w="1749" h="689">
                  <a:moveTo>
                    <a:pt x="0" y="0"/>
                  </a:moveTo>
                  <a:lnTo>
                    <a:pt x="13" y="13"/>
                  </a:lnTo>
                  <a:lnTo>
                    <a:pt x="23" y="23"/>
                  </a:lnTo>
                  <a:lnTo>
                    <a:pt x="32" y="31"/>
                  </a:lnTo>
                  <a:lnTo>
                    <a:pt x="39" y="37"/>
                  </a:lnTo>
                  <a:lnTo>
                    <a:pt x="43" y="43"/>
                  </a:lnTo>
                  <a:lnTo>
                    <a:pt x="47" y="46"/>
                  </a:lnTo>
                  <a:lnTo>
                    <a:pt x="50" y="48"/>
                  </a:lnTo>
                  <a:lnTo>
                    <a:pt x="53" y="49"/>
                  </a:lnTo>
                  <a:lnTo>
                    <a:pt x="53" y="51"/>
                  </a:lnTo>
                  <a:lnTo>
                    <a:pt x="55" y="53"/>
                  </a:lnTo>
                  <a:lnTo>
                    <a:pt x="57" y="55"/>
                  </a:lnTo>
                  <a:lnTo>
                    <a:pt x="60" y="56"/>
                  </a:lnTo>
                  <a:lnTo>
                    <a:pt x="62" y="59"/>
                  </a:lnTo>
                  <a:lnTo>
                    <a:pt x="66" y="62"/>
                  </a:lnTo>
                  <a:lnTo>
                    <a:pt x="71" y="67"/>
                  </a:lnTo>
                  <a:lnTo>
                    <a:pt x="78" y="72"/>
                  </a:lnTo>
                  <a:lnTo>
                    <a:pt x="85" y="81"/>
                  </a:lnTo>
                  <a:lnTo>
                    <a:pt x="95" y="88"/>
                  </a:lnTo>
                  <a:lnTo>
                    <a:pt x="105" y="97"/>
                  </a:lnTo>
                  <a:lnTo>
                    <a:pt x="117" y="107"/>
                  </a:lnTo>
                  <a:lnTo>
                    <a:pt x="130" y="118"/>
                  </a:lnTo>
                  <a:lnTo>
                    <a:pt x="143" y="128"/>
                  </a:lnTo>
                  <a:lnTo>
                    <a:pt x="159" y="139"/>
                  </a:lnTo>
                  <a:lnTo>
                    <a:pt x="173" y="149"/>
                  </a:lnTo>
                  <a:lnTo>
                    <a:pt x="188" y="161"/>
                  </a:lnTo>
                  <a:lnTo>
                    <a:pt x="203" y="172"/>
                  </a:lnTo>
                  <a:lnTo>
                    <a:pt x="218" y="184"/>
                  </a:lnTo>
                  <a:lnTo>
                    <a:pt x="234" y="194"/>
                  </a:lnTo>
                  <a:lnTo>
                    <a:pt x="248" y="205"/>
                  </a:lnTo>
                  <a:lnTo>
                    <a:pt x="263" y="215"/>
                  </a:lnTo>
                  <a:lnTo>
                    <a:pt x="276" y="225"/>
                  </a:lnTo>
                  <a:lnTo>
                    <a:pt x="290" y="233"/>
                  </a:lnTo>
                  <a:lnTo>
                    <a:pt x="303" y="242"/>
                  </a:lnTo>
                  <a:lnTo>
                    <a:pt x="317" y="252"/>
                  </a:lnTo>
                  <a:lnTo>
                    <a:pt x="334" y="263"/>
                  </a:lnTo>
                  <a:lnTo>
                    <a:pt x="351" y="272"/>
                  </a:lnTo>
                  <a:lnTo>
                    <a:pt x="369" y="283"/>
                  </a:lnTo>
                  <a:lnTo>
                    <a:pt x="389" y="295"/>
                  </a:lnTo>
                  <a:lnTo>
                    <a:pt x="409" y="306"/>
                  </a:lnTo>
                  <a:lnTo>
                    <a:pt x="429" y="317"/>
                  </a:lnTo>
                  <a:lnTo>
                    <a:pt x="448" y="328"/>
                  </a:lnTo>
                  <a:lnTo>
                    <a:pt x="469" y="339"/>
                  </a:lnTo>
                  <a:lnTo>
                    <a:pt x="488" y="349"/>
                  </a:lnTo>
                  <a:lnTo>
                    <a:pt x="508" y="359"/>
                  </a:lnTo>
                  <a:lnTo>
                    <a:pt x="525" y="369"/>
                  </a:lnTo>
                  <a:lnTo>
                    <a:pt x="543" y="378"/>
                  </a:lnTo>
                  <a:lnTo>
                    <a:pt x="560" y="385"/>
                  </a:lnTo>
                  <a:lnTo>
                    <a:pt x="576" y="392"/>
                  </a:lnTo>
                  <a:lnTo>
                    <a:pt x="591" y="399"/>
                  </a:lnTo>
                  <a:lnTo>
                    <a:pt x="611" y="407"/>
                  </a:lnTo>
                  <a:lnTo>
                    <a:pt x="633" y="416"/>
                  </a:lnTo>
                  <a:lnTo>
                    <a:pt x="659" y="425"/>
                  </a:lnTo>
                  <a:lnTo>
                    <a:pt x="686" y="436"/>
                  </a:lnTo>
                  <a:lnTo>
                    <a:pt x="716" y="445"/>
                  </a:lnTo>
                  <a:lnTo>
                    <a:pt x="747" y="456"/>
                  </a:lnTo>
                  <a:lnTo>
                    <a:pt x="781" y="466"/>
                  </a:lnTo>
                  <a:lnTo>
                    <a:pt x="814" y="477"/>
                  </a:lnTo>
                  <a:lnTo>
                    <a:pt x="849" y="488"/>
                  </a:lnTo>
                  <a:lnTo>
                    <a:pt x="883" y="499"/>
                  </a:lnTo>
                  <a:lnTo>
                    <a:pt x="919" y="509"/>
                  </a:lnTo>
                  <a:lnTo>
                    <a:pt x="952" y="519"/>
                  </a:lnTo>
                  <a:lnTo>
                    <a:pt x="986" y="528"/>
                  </a:lnTo>
                  <a:lnTo>
                    <a:pt x="1018" y="537"/>
                  </a:lnTo>
                  <a:lnTo>
                    <a:pt x="1050" y="544"/>
                  </a:lnTo>
                  <a:lnTo>
                    <a:pt x="1081" y="554"/>
                  </a:lnTo>
                  <a:lnTo>
                    <a:pt x="1113" y="561"/>
                  </a:lnTo>
                  <a:lnTo>
                    <a:pt x="1147" y="571"/>
                  </a:lnTo>
                  <a:lnTo>
                    <a:pt x="1183" y="578"/>
                  </a:lnTo>
                  <a:lnTo>
                    <a:pt x="1219" y="587"/>
                  </a:lnTo>
                  <a:lnTo>
                    <a:pt x="1255" y="595"/>
                  </a:lnTo>
                  <a:lnTo>
                    <a:pt x="1292" y="603"/>
                  </a:lnTo>
                  <a:lnTo>
                    <a:pt x="1329" y="611"/>
                  </a:lnTo>
                  <a:lnTo>
                    <a:pt x="1363" y="619"/>
                  </a:lnTo>
                  <a:lnTo>
                    <a:pt x="1398" y="627"/>
                  </a:lnTo>
                  <a:lnTo>
                    <a:pt x="1431" y="634"/>
                  </a:lnTo>
                  <a:lnTo>
                    <a:pt x="1463" y="640"/>
                  </a:lnTo>
                  <a:lnTo>
                    <a:pt x="1491" y="646"/>
                  </a:lnTo>
                  <a:lnTo>
                    <a:pt x="1517" y="651"/>
                  </a:lnTo>
                  <a:lnTo>
                    <a:pt x="1539" y="655"/>
                  </a:lnTo>
                  <a:lnTo>
                    <a:pt x="1560" y="658"/>
                  </a:lnTo>
                  <a:lnTo>
                    <a:pt x="1575" y="661"/>
                  </a:lnTo>
                  <a:lnTo>
                    <a:pt x="1586" y="663"/>
                  </a:lnTo>
                  <a:lnTo>
                    <a:pt x="1595" y="665"/>
                  </a:lnTo>
                  <a:lnTo>
                    <a:pt x="1602" y="665"/>
                  </a:lnTo>
                  <a:lnTo>
                    <a:pt x="1606" y="667"/>
                  </a:lnTo>
                  <a:lnTo>
                    <a:pt x="1611" y="667"/>
                  </a:lnTo>
                  <a:lnTo>
                    <a:pt x="1614" y="667"/>
                  </a:lnTo>
                  <a:lnTo>
                    <a:pt x="1619" y="667"/>
                  </a:lnTo>
                  <a:lnTo>
                    <a:pt x="1623" y="669"/>
                  </a:lnTo>
                  <a:lnTo>
                    <a:pt x="1630" y="670"/>
                  </a:lnTo>
                  <a:lnTo>
                    <a:pt x="1639" y="671"/>
                  </a:lnTo>
                  <a:lnTo>
                    <a:pt x="1652" y="673"/>
                  </a:lnTo>
                  <a:lnTo>
                    <a:pt x="1668" y="677"/>
                  </a:lnTo>
                  <a:lnTo>
                    <a:pt x="1689" y="679"/>
                  </a:lnTo>
                  <a:lnTo>
                    <a:pt x="1715" y="683"/>
                  </a:lnTo>
                  <a:lnTo>
                    <a:pt x="1748" y="688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79880" y="2386080"/>
              <a:ext cx="1282680" cy="2692440"/>
            </a:xfrm>
            <a:custGeom>
              <a:avLst/>
              <a:gdLst/>
              <a:ahLst/>
              <a:rect l="l" t="t" r="r" b="b"/>
              <a:pathLst>
                <a:path w="808" h="1696">
                  <a:moveTo>
                    <a:pt x="807" y="1695"/>
                  </a:moveTo>
                  <a:lnTo>
                    <a:pt x="793" y="1684"/>
                  </a:lnTo>
                  <a:lnTo>
                    <a:pt x="782" y="1674"/>
                  </a:lnTo>
                  <a:lnTo>
                    <a:pt x="774" y="1666"/>
                  </a:lnTo>
                  <a:lnTo>
                    <a:pt x="767" y="1659"/>
                  </a:lnTo>
                  <a:lnTo>
                    <a:pt x="762" y="1655"/>
                  </a:lnTo>
                  <a:lnTo>
                    <a:pt x="758" y="1651"/>
                  </a:lnTo>
                  <a:lnTo>
                    <a:pt x="755" y="1649"/>
                  </a:lnTo>
                  <a:lnTo>
                    <a:pt x="754" y="1646"/>
                  </a:lnTo>
                  <a:lnTo>
                    <a:pt x="752" y="1646"/>
                  </a:lnTo>
                  <a:lnTo>
                    <a:pt x="750" y="1644"/>
                  </a:lnTo>
                  <a:lnTo>
                    <a:pt x="748" y="1642"/>
                  </a:lnTo>
                  <a:lnTo>
                    <a:pt x="747" y="1640"/>
                  </a:lnTo>
                  <a:lnTo>
                    <a:pt x="744" y="1638"/>
                  </a:lnTo>
                  <a:lnTo>
                    <a:pt x="741" y="1634"/>
                  </a:lnTo>
                  <a:lnTo>
                    <a:pt x="735" y="1630"/>
                  </a:lnTo>
                  <a:lnTo>
                    <a:pt x="730" y="1623"/>
                  </a:lnTo>
                  <a:lnTo>
                    <a:pt x="721" y="1616"/>
                  </a:lnTo>
                  <a:lnTo>
                    <a:pt x="713" y="1607"/>
                  </a:lnTo>
                  <a:lnTo>
                    <a:pt x="702" y="1597"/>
                  </a:lnTo>
                  <a:lnTo>
                    <a:pt x="693" y="1586"/>
                  </a:lnTo>
                  <a:lnTo>
                    <a:pt x="681" y="1575"/>
                  </a:lnTo>
                  <a:lnTo>
                    <a:pt x="669" y="1562"/>
                  </a:lnTo>
                  <a:lnTo>
                    <a:pt x="657" y="1549"/>
                  </a:lnTo>
                  <a:lnTo>
                    <a:pt x="646" y="1534"/>
                  </a:lnTo>
                  <a:lnTo>
                    <a:pt x="633" y="1521"/>
                  </a:lnTo>
                  <a:lnTo>
                    <a:pt x="621" y="1506"/>
                  </a:lnTo>
                  <a:lnTo>
                    <a:pt x="608" y="1492"/>
                  </a:lnTo>
                  <a:lnTo>
                    <a:pt x="596" y="1477"/>
                  </a:lnTo>
                  <a:lnTo>
                    <a:pt x="585" y="1464"/>
                  </a:lnTo>
                  <a:lnTo>
                    <a:pt x="573" y="1450"/>
                  </a:lnTo>
                  <a:lnTo>
                    <a:pt x="563" y="1437"/>
                  </a:lnTo>
                  <a:lnTo>
                    <a:pt x="554" y="1423"/>
                  </a:lnTo>
                  <a:lnTo>
                    <a:pt x="543" y="1412"/>
                  </a:lnTo>
                  <a:lnTo>
                    <a:pt x="533" y="1397"/>
                  </a:lnTo>
                  <a:lnTo>
                    <a:pt x="521" y="1382"/>
                  </a:lnTo>
                  <a:lnTo>
                    <a:pt x="510" y="1365"/>
                  </a:lnTo>
                  <a:lnTo>
                    <a:pt x="497" y="1348"/>
                  </a:lnTo>
                  <a:lnTo>
                    <a:pt x="485" y="1329"/>
                  </a:lnTo>
                  <a:lnTo>
                    <a:pt x="472" y="1311"/>
                  </a:lnTo>
                  <a:lnTo>
                    <a:pt x="461" y="1290"/>
                  </a:lnTo>
                  <a:lnTo>
                    <a:pt x="448" y="1271"/>
                  </a:lnTo>
                  <a:lnTo>
                    <a:pt x="436" y="1252"/>
                  </a:lnTo>
                  <a:lnTo>
                    <a:pt x="424" y="1233"/>
                  </a:lnTo>
                  <a:lnTo>
                    <a:pt x="413" y="1214"/>
                  </a:lnTo>
                  <a:lnTo>
                    <a:pt x="402" y="1197"/>
                  </a:lnTo>
                  <a:lnTo>
                    <a:pt x="392" y="1179"/>
                  </a:lnTo>
                  <a:lnTo>
                    <a:pt x="383" y="1164"/>
                  </a:lnTo>
                  <a:lnTo>
                    <a:pt x="375" y="1148"/>
                  </a:lnTo>
                  <a:lnTo>
                    <a:pt x="367" y="1133"/>
                  </a:lnTo>
                  <a:lnTo>
                    <a:pt x="357" y="1115"/>
                  </a:lnTo>
                  <a:lnTo>
                    <a:pt x="347" y="1093"/>
                  </a:lnTo>
                  <a:lnTo>
                    <a:pt x="337" y="1068"/>
                  </a:lnTo>
                  <a:lnTo>
                    <a:pt x="324" y="1041"/>
                  </a:lnTo>
                  <a:lnTo>
                    <a:pt x="313" y="1012"/>
                  </a:lnTo>
                  <a:lnTo>
                    <a:pt x="299" y="982"/>
                  </a:lnTo>
                  <a:lnTo>
                    <a:pt x="288" y="949"/>
                  </a:lnTo>
                  <a:lnTo>
                    <a:pt x="275" y="917"/>
                  </a:lnTo>
                  <a:lnTo>
                    <a:pt x="262" y="883"/>
                  </a:lnTo>
                  <a:lnTo>
                    <a:pt x="249" y="849"/>
                  </a:lnTo>
                  <a:lnTo>
                    <a:pt x="236" y="815"/>
                  </a:lnTo>
                  <a:lnTo>
                    <a:pt x="223" y="783"/>
                  </a:lnTo>
                  <a:lnTo>
                    <a:pt x="212" y="749"/>
                  </a:lnTo>
                  <a:lnTo>
                    <a:pt x="201" y="718"/>
                  </a:lnTo>
                  <a:lnTo>
                    <a:pt x="191" y="687"/>
                  </a:lnTo>
                  <a:lnTo>
                    <a:pt x="180" y="657"/>
                  </a:lnTo>
                  <a:lnTo>
                    <a:pt x="170" y="624"/>
                  </a:lnTo>
                  <a:lnTo>
                    <a:pt x="159" y="591"/>
                  </a:lnTo>
                  <a:lnTo>
                    <a:pt x="148" y="555"/>
                  </a:lnTo>
                  <a:lnTo>
                    <a:pt x="137" y="521"/>
                  </a:lnTo>
                  <a:lnTo>
                    <a:pt x="126" y="485"/>
                  </a:lnTo>
                  <a:lnTo>
                    <a:pt x="115" y="449"/>
                  </a:lnTo>
                  <a:lnTo>
                    <a:pt x="105" y="413"/>
                  </a:lnTo>
                  <a:lnTo>
                    <a:pt x="94" y="379"/>
                  </a:lnTo>
                  <a:lnTo>
                    <a:pt x="85" y="345"/>
                  </a:lnTo>
                  <a:lnTo>
                    <a:pt x="75" y="313"/>
                  </a:lnTo>
                  <a:lnTo>
                    <a:pt x="68" y="282"/>
                  </a:lnTo>
                  <a:lnTo>
                    <a:pt x="60" y="255"/>
                  </a:lnTo>
                  <a:lnTo>
                    <a:pt x="53" y="229"/>
                  </a:lnTo>
                  <a:lnTo>
                    <a:pt x="47" y="206"/>
                  </a:lnTo>
                  <a:lnTo>
                    <a:pt x="43" y="186"/>
                  </a:lnTo>
                  <a:lnTo>
                    <a:pt x="39" y="171"/>
                  </a:lnTo>
                  <a:lnTo>
                    <a:pt x="36" y="160"/>
                  </a:lnTo>
                  <a:lnTo>
                    <a:pt x="34" y="152"/>
                  </a:lnTo>
                  <a:lnTo>
                    <a:pt x="33" y="145"/>
                  </a:lnTo>
                  <a:lnTo>
                    <a:pt x="31" y="141"/>
                  </a:lnTo>
                  <a:lnTo>
                    <a:pt x="31" y="137"/>
                  </a:lnTo>
                  <a:lnTo>
                    <a:pt x="29" y="133"/>
                  </a:lnTo>
                  <a:lnTo>
                    <a:pt x="29" y="129"/>
                  </a:lnTo>
                  <a:lnTo>
                    <a:pt x="27" y="124"/>
                  </a:lnTo>
                  <a:lnTo>
                    <a:pt x="26" y="117"/>
                  </a:lnTo>
                  <a:lnTo>
                    <a:pt x="23" y="109"/>
                  </a:lnTo>
                  <a:lnTo>
                    <a:pt x="21" y="95"/>
                  </a:lnTo>
                  <a:lnTo>
                    <a:pt x="17" y="80"/>
                  </a:lnTo>
                  <a:lnTo>
                    <a:pt x="12" y="59"/>
                  </a:lnTo>
                  <a:lnTo>
                    <a:pt x="6" y="33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2971800" y="2386080"/>
            <a:ext cx="4287240" cy="4090680"/>
            <a:chOff x="2971800" y="2386080"/>
            <a:chExt cx="4287240" cy="4090680"/>
          </a:xfrm>
        </p:grpSpPr>
        <p:sp>
          <p:nvSpPr>
            <p:cNvPr id="899" name=""/>
            <p:cNvSpPr/>
            <p:nvPr/>
          </p:nvSpPr>
          <p:spPr>
            <a:xfrm>
              <a:off x="4326480" y="5295240"/>
              <a:ext cx="2932560" cy="1181520"/>
            </a:xfrm>
            <a:custGeom>
              <a:avLst/>
              <a:gdLst/>
              <a:ahLst/>
              <a:rect l="l" t="t" r="r" b="b"/>
              <a:pathLst>
                <a:path w="1749" h="689">
                  <a:moveTo>
                    <a:pt x="0" y="0"/>
                  </a:moveTo>
                  <a:lnTo>
                    <a:pt x="13" y="13"/>
                  </a:lnTo>
                  <a:lnTo>
                    <a:pt x="23" y="23"/>
                  </a:lnTo>
                  <a:lnTo>
                    <a:pt x="32" y="31"/>
                  </a:lnTo>
                  <a:lnTo>
                    <a:pt x="39" y="37"/>
                  </a:lnTo>
                  <a:lnTo>
                    <a:pt x="43" y="43"/>
                  </a:lnTo>
                  <a:lnTo>
                    <a:pt x="47" y="46"/>
                  </a:lnTo>
                  <a:lnTo>
                    <a:pt x="50" y="48"/>
                  </a:lnTo>
                  <a:lnTo>
                    <a:pt x="53" y="49"/>
                  </a:lnTo>
                  <a:lnTo>
                    <a:pt x="53" y="51"/>
                  </a:lnTo>
                  <a:lnTo>
                    <a:pt x="55" y="53"/>
                  </a:lnTo>
                  <a:lnTo>
                    <a:pt x="57" y="55"/>
                  </a:lnTo>
                  <a:lnTo>
                    <a:pt x="60" y="56"/>
                  </a:lnTo>
                  <a:lnTo>
                    <a:pt x="62" y="59"/>
                  </a:lnTo>
                  <a:lnTo>
                    <a:pt x="66" y="62"/>
                  </a:lnTo>
                  <a:lnTo>
                    <a:pt x="71" y="67"/>
                  </a:lnTo>
                  <a:lnTo>
                    <a:pt x="78" y="72"/>
                  </a:lnTo>
                  <a:lnTo>
                    <a:pt x="85" y="81"/>
                  </a:lnTo>
                  <a:lnTo>
                    <a:pt x="95" y="88"/>
                  </a:lnTo>
                  <a:lnTo>
                    <a:pt x="105" y="97"/>
                  </a:lnTo>
                  <a:lnTo>
                    <a:pt x="117" y="107"/>
                  </a:lnTo>
                  <a:lnTo>
                    <a:pt x="130" y="118"/>
                  </a:lnTo>
                  <a:lnTo>
                    <a:pt x="143" y="128"/>
                  </a:lnTo>
                  <a:lnTo>
                    <a:pt x="159" y="139"/>
                  </a:lnTo>
                  <a:lnTo>
                    <a:pt x="173" y="149"/>
                  </a:lnTo>
                  <a:lnTo>
                    <a:pt x="188" y="161"/>
                  </a:lnTo>
                  <a:lnTo>
                    <a:pt x="203" y="172"/>
                  </a:lnTo>
                  <a:lnTo>
                    <a:pt x="218" y="184"/>
                  </a:lnTo>
                  <a:lnTo>
                    <a:pt x="234" y="194"/>
                  </a:lnTo>
                  <a:lnTo>
                    <a:pt x="248" y="205"/>
                  </a:lnTo>
                  <a:lnTo>
                    <a:pt x="263" y="215"/>
                  </a:lnTo>
                  <a:lnTo>
                    <a:pt x="276" y="225"/>
                  </a:lnTo>
                  <a:lnTo>
                    <a:pt x="290" y="233"/>
                  </a:lnTo>
                  <a:lnTo>
                    <a:pt x="303" y="242"/>
                  </a:lnTo>
                  <a:lnTo>
                    <a:pt x="317" y="252"/>
                  </a:lnTo>
                  <a:lnTo>
                    <a:pt x="334" y="263"/>
                  </a:lnTo>
                  <a:lnTo>
                    <a:pt x="351" y="272"/>
                  </a:lnTo>
                  <a:lnTo>
                    <a:pt x="369" y="283"/>
                  </a:lnTo>
                  <a:lnTo>
                    <a:pt x="389" y="295"/>
                  </a:lnTo>
                  <a:lnTo>
                    <a:pt x="409" y="306"/>
                  </a:lnTo>
                  <a:lnTo>
                    <a:pt x="429" y="317"/>
                  </a:lnTo>
                  <a:lnTo>
                    <a:pt x="448" y="328"/>
                  </a:lnTo>
                  <a:lnTo>
                    <a:pt x="469" y="339"/>
                  </a:lnTo>
                  <a:lnTo>
                    <a:pt x="488" y="349"/>
                  </a:lnTo>
                  <a:lnTo>
                    <a:pt x="508" y="359"/>
                  </a:lnTo>
                  <a:lnTo>
                    <a:pt x="525" y="369"/>
                  </a:lnTo>
                  <a:lnTo>
                    <a:pt x="543" y="378"/>
                  </a:lnTo>
                  <a:lnTo>
                    <a:pt x="560" y="385"/>
                  </a:lnTo>
                  <a:lnTo>
                    <a:pt x="576" y="392"/>
                  </a:lnTo>
                  <a:lnTo>
                    <a:pt x="591" y="399"/>
                  </a:lnTo>
                  <a:lnTo>
                    <a:pt x="611" y="407"/>
                  </a:lnTo>
                  <a:lnTo>
                    <a:pt x="633" y="416"/>
                  </a:lnTo>
                  <a:lnTo>
                    <a:pt x="659" y="425"/>
                  </a:lnTo>
                  <a:lnTo>
                    <a:pt x="686" y="436"/>
                  </a:lnTo>
                  <a:lnTo>
                    <a:pt x="716" y="445"/>
                  </a:lnTo>
                  <a:lnTo>
                    <a:pt x="747" y="456"/>
                  </a:lnTo>
                  <a:lnTo>
                    <a:pt x="781" y="466"/>
                  </a:lnTo>
                  <a:lnTo>
                    <a:pt x="814" y="477"/>
                  </a:lnTo>
                  <a:lnTo>
                    <a:pt x="849" y="488"/>
                  </a:lnTo>
                  <a:lnTo>
                    <a:pt x="883" y="499"/>
                  </a:lnTo>
                  <a:lnTo>
                    <a:pt x="919" y="509"/>
                  </a:lnTo>
                  <a:lnTo>
                    <a:pt x="952" y="519"/>
                  </a:lnTo>
                  <a:lnTo>
                    <a:pt x="986" y="528"/>
                  </a:lnTo>
                  <a:lnTo>
                    <a:pt x="1018" y="537"/>
                  </a:lnTo>
                  <a:lnTo>
                    <a:pt x="1050" y="544"/>
                  </a:lnTo>
                  <a:lnTo>
                    <a:pt x="1081" y="554"/>
                  </a:lnTo>
                  <a:lnTo>
                    <a:pt x="1113" y="561"/>
                  </a:lnTo>
                  <a:lnTo>
                    <a:pt x="1147" y="571"/>
                  </a:lnTo>
                  <a:lnTo>
                    <a:pt x="1183" y="578"/>
                  </a:lnTo>
                  <a:lnTo>
                    <a:pt x="1219" y="587"/>
                  </a:lnTo>
                  <a:lnTo>
                    <a:pt x="1255" y="595"/>
                  </a:lnTo>
                  <a:lnTo>
                    <a:pt x="1292" y="603"/>
                  </a:lnTo>
                  <a:lnTo>
                    <a:pt x="1329" y="611"/>
                  </a:lnTo>
                  <a:lnTo>
                    <a:pt x="1363" y="619"/>
                  </a:lnTo>
                  <a:lnTo>
                    <a:pt x="1398" y="627"/>
                  </a:lnTo>
                  <a:lnTo>
                    <a:pt x="1431" y="634"/>
                  </a:lnTo>
                  <a:lnTo>
                    <a:pt x="1463" y="640"/>
                  </a:lnTo>
                  <a:lnTo>
                    <a:pt x="1491" y="646"/>
                  </a:lnTo>
                  <a:lnTo>
                    <a:pt x="1517" y="651"/>
                  </a:lnTo>
                  <a:lnTo>
                    <a:pt x="1539" y="655"/>
                  </a:lnTo>
                  <a:lnTo>
                    <a:pt x="1560" y="658"/>
                  </a:lnTo>
                  <a:lnTo>
                    <a:pt x="1575" y="661"/>
                  </a:lnTo>
                  <a:lnTo>
                    <a:pt x="1586" y="663"/>
                  </a:lnTo>
                  <a:lnTo>
                    <a:pt x="1595" y="665"/>
                  </a:lnTo>
                  <a:lnTo>
                    <a:pt x="1602" y="665"/>
                  </a:lnTo>
                  <a:lnTo>
                    <a:pt x="1606" y="667"/>
                  </a:lnTo>
                  <a:lnTo>
                    <a:pt x="1611" y="667"/>
                  </a:lnTo>
                  <a:lnTo>
                    <a:pt x="1614" y="667"/>
                  </a:lnTo>
                  <a:lnTo>
                    <a:pt x="1619" y="667"/>
                  </a:lnTo>
                  <a:lnTo>
                    <a:pt x="1623" y="669"/>
                  </a:lnTo>
                  <a:lnTo>
                    <a:pt x="1630" y="670"/>
                  </a:lnTo>
                  <a:lnTo>
                    <a:pt x="1639" y="671"/>
                  </a:lnTo>
                  <a:lnTo>
                    <a:pt x="1652" y="673"/>
                  </a:lnTo>
                  <a:lnTo>
                    <a:pt x="1668" y="677"/>
                  </a:lnTo>
                  <a:lnTo>
                    <a:pt x="1689" y="679"/>
                  </a:lnTo>
                  <a:lnTo>
                    <a:pt x="1715" y="683"/>
                  </a:lnTo>
                  <a:lnTo>
                    <a:pt x="1748" y="688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71800" y="2386080"/>
              <a:ext cx="1354680" cy="2909160"/>
            </a:xfrm>
            <a:custGeom>
              <a:avLst/>
              <a:gdLst/>
              <a:ahLst/>
              <a:rect l="l" t="t" r="r" b="b"/>
              <a:pathLst>
                <a:path w="808" h="1696">
                  <a:moveTo>
                    <a:pt x="807" y="1695"/>
                  </a:moveTo>
                  <a:lnTo>
                    <a:pt x="793" y="1684"/>
                  </a:lnTo>
                  <a:lnTo>
                    <a:pt x="782" y="1674"/>
                  </a:lnTo>
                  <a:lnTo>
                    <a:pt x="774" y="1666"/>
                  </a:lnTo>
                  <a:lnTo>
                    <a:pt x="767" y="1659"/>
                  </a:lnTo>
                  <a:lnTo>
                    <a:pt x="762" y="1655"/>
                  </a:lnTo>
                  <a:lnTo>
                    <a:pt x="758" y="1651"/>
                  </a:lnTo>
                  <a:lnTo>
                    <a:pt x="755" y="1649"/>
                  </a:lnTo>
                  <a:lnTo>
                    <a:pt x="754" y="1646"/>
                  </a:lnTo>
                  <a:lnTo>
                    <a:pt x="752" y="1646"/>
                  </a:lnTo>
                  <a:lnTo>
                    <a:pt x="750" y="1644"/>
                  </a:lnTo>
                  <a:lnTo>
                    <a:pt x="748" y="1642"/>
                  </a:lnTo>
                  <a:lnTo>
                    <a:pt x="747" y="1640"/>
                  </a:lnTo>
                  <a:lnTo>
                    <a:pt x="744" y="1638"/>
                  </a:lnTo>
                  <a:lnTo>
                    <a:pt x="741" y="1634"/>
                  </a:lnTo>
                  <a:lnTo>
                    <a:pt x="735" y="1630"/>
                  </a:lnTo>
                  <a:lnTo>
                    <a:pt x="730" y="1623"/>
                  </a:lnTo>
                  <a:lnTo>
                    <a:pt x="721" y="1616"/>
                  </a:lnTo>
                  <a:lnTo>
                    <a:pt x="713" y="1607"/>
                  </a:lnTo>
                  <a:lnTo>
                    <a:pt x="702" y="1597"/>
                  </a:lnTo>
                  <a:lnTo>
                    <a:pt x="693" y="1586"/>
                  </a:lnTo>
                  <a:lnTo>
                    <a:pt x="681" y="1575"/>
                  </a:lnTo>
                  <a:lnTo>
                    <a:pt x="669" y="1562"/>
                  </a:lnTo>
                  <a:lnTo>
                    <a:pt x="657" y="1549"/>
                  </a:lnTo>
                  <a:lnTo>
                    <a:pt x="646" y="1534"/>
                  </a:lnTo>
                  <a:lnTo>
                    <a:pt x="633" y="1521"/>
                  </a:lnTo>
                  <a:lnTo>
                    <a:pt x="621" y="1506"/>
                  </a:lnTo>
                  <a:lnTo>
                    <a:pt x="608" y="1492"/>
                  </a:lnTo>
                  <a:lnTo>
                    <a:pt x="596" y="1477"/>
                  </a:lnTo>
                  <a:lnTo>
                    <a:pt x="585" y="1464"/>
                  </a:lnTo>
                  <a:lnTo>
                    <a:pt x="573" y="1450"/>
                  </a:lnTo>
                  <a:lnTo>
                    <a:pt x="563" y="1437"/>
                  </a:lnTo>
                  <a:lnTo>
                    <a:pt x="554" y="1423"/>
                  </a:lnTo>
                  <a:lnTo>
                    <a:pt x="543" y="1412"/>
                  </a:lnTo>
                  <a:lnTo>
                    <a:pt x="533" y="1397"/>
                  </a:lnTo>
                  <a:lnTo>
                    <a:pt x="521" y="1382"/>
                  </a:lnTo>
                  <a:lnTo>
                    <a:pt x="510" y="1365"/>
                  </a:lnTo>
                  <a:lnTo>
                    <a:pt x="497" y="1348"/>
                  </a:lnTo>
                  <a:lnTo>
                    <a:pt x="485" y="1329"/>
                  </a:lnTo>
                  <a:lnTo>
                    <a:pt x="472" y="1311"/>
                  </a:lnTo>
                  <a:lnTo>
                    <a:pt x="461" y="1290"/>
                  </a:lnTo>
                  <a:lnTo>
                    <a:pt x="448" y="1271"/>
                  </a:lnTo>
                  <a:lnTo>
                    <a:pt x="436" y="1252"/>
                  </a:lnTo>
                  <a:lnTo>
                    <a:pt x="424" y="1233"/>
                  </a:lnTo>
                  <a:lnTo>
                    <a:pt x="413" y="1214"/>
                  </a:lnTo>
                  <a:lnTo>
                    <a:pt x="402" y="1197"/>
                  </a:lnTo>
                  <a:lnTo>
                    <a:pt x="392" y="1179"/>
                  </a:lnTo>
                  <a:lnTo>
                    <a:pt x="383" y="1164"/>
                  </a:lnTo>
                  <a:lnTo>
                    <a:pt x="375" y="1148"/>
                  </a:lnTo>
                  <a:lnTo>
                    <a:pt x="367" y="1133"/>
                  </a:lnTo>
                  <a:lnTo>
                    <a:pt x="357" y="1115"/>
                  </a:lnTo>
                  <a:lnTo>
                    <a:pt x="347" y="1093"/>
                  </a:lnTo>
                  <a:lnTo>
                    <a:pt x="337" y="1068"/>
                  </a:lnTo>
                  <a:lnTo>
                    <a:pt x="324" y="1041"/>
                  </a:lnTo>
                  <a:lnTo>
                    <a:pt x="313" y="1012"/>
                  </a:lnTo>
                  <a:lnTo>
                    <a:pt x="299" y="982"/>
                  </a:lnTo>
                  <a:lnTo>
                    <a:pt x="288" y="949"/>
                  </a:lnTo>
                  <a:lnTo>
                    <a:pt x="275" y="917"/>
                  </a:lnTo>
                  <a:lnTo>
                    <a:pt x="262" y="883"/>
                  </a:lnTo>
                  <a:lnTo>
                    <a:pt x="249" y="849"/>
                  </a:lnTo>
                  <a:lnTo>
                    <a:pt x="236" y="815"/>
                  </a:lnTo>
                  <a:lnTo>
                    <a:pt x="223" y="783"/>
                  </a:lnTo>
                  <a:lnTo>
                    <a:pt x="212" y="749"/>
                  </a:lnTo>
                  <a:lnTo>
                    <a:pt x="201" y="718"/>
                  </a:lnTo>
                  <a:lnTo>
                    <a:pt x="191" y="687"/>
                  </a:lnTo>
                  <a:lnTo>
                    <a:pt x="180" y="657"/>
                  </a:lnTo>
                  <a:lnTo>
                    <a:pt x="170" y="624"/>
                  </a:lnTo>
                  <a:lnTo>
                    <a:pt x="159" y="591"/>
                  </a:lnTo>
                  <a:lnTo>
                    <a:pt x="148" y="555"/>
                  </a:lnTo>
                  <a:lnTo>
                    <a:pt x="137" y="521"/>
                  </a:lnTo>
                  <a:lnTo>
                    <a:pt x="126" y="485"/>
                  </a:lnTo>
                  <a:lnTo>
                    <a:pt x="115" y="449"/>
                  </a:lnTo>
                  <a:lnTo>
                    <a:pt x="105" y="413"/>
                  </a:lnTo>
                  <a:lnTo>
                    <a:pt x="94" y="379"/>
                  </a:lnTo>
                  <a:lnTo>
                    <a:pt x="85" y="345"/>
                  </a:lnTo>
                  <a:lnTo>
                    <a:pt x="75" y="313"/>
                  </a:lnTo>
                  <a:lnTo>
                    <a:pt x="68" y="282"/>
                  </a:lnTo>
                  <a:lnTo>
                    <a:pt x="60" y="255"/>
                  </a:lnTo>
                  <a:lnTo>
                    <a:pt x="53" y="229"/>
                  </a:lnTo>
                  <a:lnTo>
                    <a:pt x="47" y="206"/>
                  </a:lnTo>
                  <a:lnTo>
                    <a:pt x="43" y="186"/>
                  </a:lnTo>
                  <a:lnTo>
                    <a:pt x="39" y="171"/>
                  </a:lnTo>
                  <a:lnTo>
                    <a:pt x="36" y="160"/>
                  </a:lnTo>
                  <a:lnTo>
                    <a:pt x="34" y="152"/>
                  </a:lnTo>
                  <a:lnTo>
                    <a:pt x="33" y="145"/>
                  </a:lnTo>
                  <a:lnTo>
                    <a:pt x="31" y="141"/>
                  </a:lnTo>
                  <a:lnTo>
                    <a:pt x="31" y="137"/>
                  </a:lnTo>
                  <a:lnTo>
                    <a:pt x="29" y="133"/>
                  </a:lnTo>
                  <a:lnTo>
                    <a:pt x="29" y="129"/>
                  </a:lnTo>
                  <a:lnTo>
                    <a:pt x="27" y="124"/>
                  </a:lnTo>
                  <a:lnTo>
                    <a:pt x="26" y="117"/>
                  </a:lnTo>
                  <a:lnTo>
                    <a:pt x="23" y="109"/>
                  </a:lnTo>
                  <a:lnTo>
                    <a:pt x="21" y="95"/>
                  </a:lnTo>
                  <a:lnTo>
                    <a:pt x="17" y="80"/>
                  </a:lnTo>
                  <a:lnTo>
                    <a:pt x="12" y="59"/>
                  </a:lnTo>
                  <a:lnTo>
                    <a:pt x="6" y="33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0" y="3340080"/>
            <a:ext cx="3124080" cy="1581120"/>
          </a:xfrm>
          <a:prstGeom prst="wedgeRoundRectCallout">
            <a:avLst>
              <a:gd name="adj1" fmla="val 59342"/>
              <a:gd name="adj2" fmla="val 79384"/>
              <a:gd name="adj3" fmla="val 1666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Conjunto de distribuciones del ingres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453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propiedad de la anonimi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692600" y="4832280"/>
            <a:ext cx="2774880" cy="1093680"/>
          </a:xfrm>
          <a:custGeom>
            <a:avLst/>
            <a:gdLst/>
            <a:ahLst/>
            <a:rect l="l" t="t" r="r" b="b"/>
            <a:pathLst>
              <a:path w="1748" h="689">
                <a:moveTo>
                  <a:pt x="0" y="0"/>
                </a:moveTo>
                <a:lnTo>
                  <a:pt x="12" y="13"/>
                </a:lnTo>
                <a:lnTo>
                  <a:pt x="23" y="23"/>
                </a:lnTo>
                <a:lnTo>
                  <a:pt x="31" y="32"/>
                </a:lnTo>
                <a:lnTo>
                  <a:pt x="38" y="37"/>
                </a:lnTo>
                <a:lnTo>
                  <a:pt x="42" y="43"/>
                </a:lnTo>
                <a:lnTo>
                  <a:pt x="46" y="46"/>
                </a:lnTo>
                <a:lnTo>
                  <a:pt x="49" y="48"/>
                </a:lnTo>
                <a:lnTo>
                  <a:pt x="52" y="50"/>
                </a:lnTo>
                <a:lnTo>
                  <a:pt x="53" y="52"/>
                </a:lnTo>
                <a:lnTo>
                  <a:pt x="55" y="54"/>
                </a:lnTo>
                <a:lnTo>
                  <a:pt x="56" y="55"/>
                </a:lnTo>
                <a:lnTo>
                  <a:pt x="58" y="56"/>
                </a:lnTo>
                <a:lnTo>
                  <a:pt x="60" y="60"/>
                </a:lnTo>
                <a:lnTo>
                  <a:pt x="64" y="62"/>
                </a:lnTo>
                <a:lnTo>
                  <a:pt x="70" y="67"/>
                </a:lnTo>
                <a:lnTo>
                  <a:pt x="76" y="72"/>
                </a:lnTo>
                <a:lnTo>
                  <a:pt x="83" y="81"/>
                </a:lnTo>
                <a:lnTo>
                  <a:pt x="93" y="88"/>
                </a:lnTo>
                <a:lnTo>
                  <a:pt x="104" y="98"/>
                </a:lnTo>
                <a:lnTo>
                  <a:pt x="116" y="107"/>
                </a:lnTo>
                <a:lnTo>
                  <a:pt x="128" y="118"/>
                </a:lnTo>
                <a:lnTo>
                  <a:pt x="141" y="128"/>
                </a:lnTo>
                <a:lnTo>
                  <a:pt x="156" y="140"/>
                </a:lnTo>
                <a:lnTo>
                  <a:pt x="171" y="150"/>
                </a:lnTo>
                <a:lnTo>
                  <a:pt x="186" y="162"/>
                </a:lnTo>
                <a:lnTo>
                  <a:pt x="201" y="173"/>
                </a:lnTo>
                <a:lnTo>
                  <a:pt x="216" y="184"/>
                </a:lnTo>
                <a:lnTo>
                  <a:pt x="231" y="195"/>
                </a:lnTo>
                <a:lnTo>
                  <a:pt x="246" y="206"/>
                </a:lnTo>
                <a:lnTo>
                  <a:pt x="260" y="216"/>
                </a:lnTo>
                <a:lnTo>
                  <a:pt x="274" y="226"/>
                </a:lnTo>
                <a:lnTo>
                  <a:pt x="288" y="234"/>
                </a:lnTo>
                <a:lnTo>
                  <a:pt x="300" y="243"/>
                </a:lnTo>
                <a:lnTo>
                  <a:pt x="316" y="252"/>
                </a:lnTo>
                <a:lnTo>
                  <a:pt x="332" y="263"/>
                </a:lnTo>
                <a:lnTo>
                  <a:pt x="349" y="272"/>
                </a:lnTo>
                <a:lnTo>
                  <a:pt x="367" y="284"/>
                </a:lnTo>
                <a:lnTo>
                  <a:pt x="386" y="295"/>
                </a:lnTo>
                <a:lnTo>
                  <a:pt x="406" y="306"/>
                </a:lnTo>
                <a:lnTo>
                  <a:pt x="427" y="317"/>
                </a:lnTo>
                <a:lnTo>
                  <a:pt x="446" y="328"/>
                </a:lnTo>
                <a:lnTo>
                  <a:pt x="467" y="339"/>
                </a:lnTo>
                <a:lnTo>
                  <a:pt x="486" y="350"/>
                </a:lnTo>
                <a:lnTo>
                  <a:pt x="506" y="359"/>
                </a:lnTo>
                <a:lnTo>
                  <a:pt x="524" y="368"/>
                </a:lnTo>
                <a:lnTo>
                  <a:pt x="542" y="377"/>
                </a:lnTo>
                <a:lnTo>
                  <a:pt x="558" y="385"/>
                </a:lnTo>
                <a:lnTo>
                  <a:pt x="574" y="392"/>
                </a:lnTo>
                <a:lnTo>
                  <a:pt x="589" y="399"/>
                </a:lnTo>
                <a:lnTo>
                  <a:pt x="609" y="407"/>
                </a:lnTo>
                <a:lnTo>
                  <a:pt x="631" y="416"/>
                </a:lnTo>
                <a:lnTo>
                  <a:pt x="657" y="425"/>
                </a:lnTo>
                <a:lnTo>
                  <a:pt x="684" y="435"/>
                </a:lnTo>
                <a:lnTo>
                  <a:pt x="714" y="445"/>
                </a:lnTo>
                <a:lnTo>
                  <a:pt x="745" y="456"/>
                </a:lnTo>
                <a:lnTo>
                  <a:pt x="779" y="465"/>
                </a:lnTo>
                <a:lnTo>
                  <a:pt x="812" y="476"/>
                </a:lnTo>
                <a:lnTo>
                  <a:pt x="847" y="488"/>
                </a:lnTo>
                <a:lnTo>
                  <a:pt x="882" y="499"/>
                </a:lnTo>
                <a:lnTo>
                  <a:pt x="917" y="508"/>
                </a:lnTo>
                <a:lnTo>
                  <a:pt x="951" y="518"/>
                </a:lnTo>
                <a:lnTo>
                  <a:pt x="984" y="528"/>
                </a:lnTo>
                <a:lnTo>
                  <a:pt x="1017" y="536"/>
                </a:lnTo>
                <a:lnTo>
                  <a:pt x="1049" y="544"/>
                </a:lnTo>
                <a:lnTo>
                  <a:pt x="1079" y="553"/>
                </a:lnTo>
                <a:lnTo>
                  <a:pt x="1112" y="561"/>
                </a:lnTo>
                <a:lnTo>
                  <a:pt x="1147" y="570"/>
                </a:lnTo>
                <a:lnTo>
                  <a:pt x="1182" y="577"/>
                </a:lnTo>
                <a:lnTo>
                  <a:pt x="1218" y="586"/>
                </a:lnTo>
                <a:lnTo>
                  <a:pt x="1254" y="594"/>
                </a:lnTo>
                <a:lnTo>
                  <a:pt x="1291" y="602"/>
                </a:lnTo>
                <a:lnTo>
                  <a:pt x="1328" y="610"/>
                </a:lnTo>
                <a:lnTo>
                  <a:pt x="1362" y="618"/>
                </a:lnTo>
                <a:lnTo>
                  <a:pt x="1397" y="626"/>
                </a:lnTo>
                <a:lnTo>
                  <a:pt x="1429" y="633"/>
                </a:lnTo>
                <a:lnTo>
                  <a:pt x="1461" y="639"/>
                </a:lnTo>
                <a:lnTo>
                  <a:pt x="1489" y="646"/>
                </a:lnTo>
                <a:lnTo>
                  <a:pt x="1515" y="651"/>
                </a:lnTo>
                <a:lnTo>
                  <a:pt x="1538" y="654"/>
                </a:lnTo>
                <a:lnTo>
                  <a:pt x="1558" y="658"/>
                </a:lnTo>
                <a:lnTo>
                  <a:pt x="1574" y="660"/>
                </a:lnTo>
                <a:lnTo>
                  <a:pt x="1585" y="662"/>
                </a:lnTo>
                <a:lnTo>
                  <a:pt x="1593" y="664"/>
                </a:lnTo>
                <a:lnTo>
                  <a:pt x="1600" y="664"/>
                </a:lnTo>
                <a:lnTo>
                  <a:pt x="1605" y="666"/>
                </a:lnTo>
                <a:lnTo>
                  <a:pt x="1609" y="666"/>
                </a:lnTo>
                <a:lnTo>
                  <a:pt x="1613" y="668"/>
                </a:lnTo>
                <a:lnTo>
                  <a:pt x="1617" y="668"/>
                </a:lnTo>
                <a:lnTo>
                  <a:pt x="1622" y="669"/>
                </a:lnTo>
                <a:lnTo>
                  <a:pt x="1628" y="670"/>
                </a:lnTo>
                <a:lnTo>
                  <a:pt x="1638" y="672"/>
                </a:lnTo>
                <a:lnTo>
                  <a:pt x="1651" y="673"/>
                </a:lnTo>
                <a:lnTo>
                  <a:pt x="1666" y="677"/>
                </a:lnTo>
                <a:lnTo>
                  <a:pt x="1688" y="679"/>
                </a:lnTo>
                <a:lnTo>
                  <a:pt x="1714" y="684"/>
                </a:lnTo>
                <a:lnTo>
                  <a:pt x="1747" y="688"/>
                </a:lnTo>
              </a:path>
            </a:pathLst>
          </a:custGeom>
          <a:noFill/>
          <a:ln w="316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406680" y="2139840"/>
            <a:ext cx="1284480" cy="2692440"/>
          </a:xfrm>
          <a:custGeom>
            <a:avLst/>
            <a:gdLst/>
            <a:ahLst/>
            <a:rect l="l" t="t" r="r" b="b"/>
            <a:pathLst>
              <a:path w="809" h="1696">
                <a:moveTo>
                  <a:pt x="808" y="1695"/>
                </a:moveTo>
                <a:lnTo>
                  <a:pt x="794" y="1683"/>
                </a:lnTo>
                <a:lnTo>
                  <a:pt x="784" y="1673"/>
                </a:lnTo>
                <a:lnTo>
                  <a:pt x="775" y="1666"/>
                </a:lnTo>
                <a:lnTo>
                  <a:pt x="768" y="1659"/>
                </a:lnTo>
                <a:lnTo>
                  <a:pt x="763" y="1654"/>
                </a:lnTo>
                <a:lnTo>
                  <a:pt x="759" y="1651"/>
                </a:lnTo>
                <a:lnTo>
                  <a:pt x="757" y="1649"/>
                </a:lnTo>
                <a:lnTo>
                  <a:pt x="755" y="1646"/>
                </a:lnTo>
                <a:lnTo>
                  <a:pt x="753" y="1645"/>
                </a:lnTo>
                <a:lnTo>
                  <a:pt x="751" y="1643"/>
                </a:lnTo>
                <a:lnTo>
                  <a:pt x="749" y="1642"/>
                </a:lnTo>
                <a:lnTo>
                  <a:pt x="748" y="1640"/>
                </a:lnTo>
                <a:lnTo>
                  <a:pt x="745" y="1638"/>
                </a:lnTo>
                <a:lnTo>
                  <a:pt x="742" y="1634"/>
                </a:lnTo>
                <a:lnTo>
                  <a:pt x="737" y="1630"/>
                </a:lnTo>
                <a:lnTo>
                  <a:pt x="731" y="1623"/>
                </a:lnTo>
                <a:lnTo>
                  <a:pt x="722" y="1616"/>
                </a:lnTo>
                <a:lnTo>
                  <a:pt x="714" y="1607"/>
                </a:lnTo>
                <a:lnTo>
                  <a:pt x="703" y="1597"/>
                </a:lnTo>
                <a:lnTo>
                  <a:pt x="694" y="1586"/>
                </a:lnTo>
                <a:lnTo>
                  <a:pt x="682" y="1575"/>
                </a:lnTo>
                <a:lnTo>
                  <a:pt x="670" y="1562"/>
                </a:lnTo>
                <a:lnTo>
                  <a:pt x="658" y="1548"/>
                </a:lnTo>
                <a:lnTo>
                  <a:pt x="647" y="1534"/>
                </a:lnTo>
                <a:lnTo>
                  <a:pt x="634" y="1520"/>
                </a:lnTo>
                <a:lnTo>
                  <a:pt x="621" y="1506"/>
                </a:lnTo>
                <a:lnTo>
                  <a:pt x="608" y="1492"/>
                </a:lnTo>
                <a:lnTo>
                  <a:pt x="597" y="1477"/>
                </a:lnTo>
                <a:lnTo>
                  <a:pt x="585" y="1464"/>
                </a:lnTo>
                <a:lnTo>
                  <a:pt x="574" y="1449"/>
                </a:lnTo>
                <a:lnTo>
                  <a:pt x="564" y="1436"/>
                </a:lnTo>
                <a:lnTo>
                  <a:pt x="555" y="1423"/>
                </a:lnTo>
                <a:lnTo>
                  <a:pt x="544" y="1411"/>
                </a:lnTo>
                <a:lnTo>
                  <a:pt x="534" y="1397"/>
                </a:lnTo>
                <a:lnTo>
                  <a:pt x="523" y="1381"/>
                </a:lnTo>
                <a:lnTo>
                  <a:pt x="512" y="1364"/>
                </a:lnTo>
                <a:lnTo>
                  <a:pt x="498" y="1348"/>
                </a:lnTo>
                <a:lnTo>
                  <a:pt x="486" y="1329"/>
                </a:lnTo>
                <a:lnTo>
                  <a:pt x="473" y="1310"/>
                </a:lnTo>
                <a:lnTo>
                  <a:pt x="462" y="1290"/>
                </a:lnTo>
                <a:lnTo>
                  <a:pt x="448" y="1271"/>
                </a:lnTo>
                <a:lnTo>
                  <a:pt x="436" y="1252"/>
                </a:lnTo>
                <a:lnTo>
                  <a:pt x="425" y="1233"/>
                </a:lnTo>
                <a:lnTo>
                  <a:pt x="414" y="1214"/>
                </a:lnTo>
                <a:lnTo>
                  <a:pt x="402" y="1196"/>
                </a:lnTo>
                <a:lnTo>
                  <a:pt x="393" y="1179"/>
                </a:lnTo>
                <a:lnTo>
                  <a:pt x="384" y="1164"/>
                </a:lnTo>
                <a:lnTo>
                  <a:pt x="377" y="1148"/>
                </a:lnTo>
                <a:lnTo>
                  <a:pt x="368" y="1133"/>
                </a:lnTo>
                <a:lnTo>
                  <a:pt x="358" y="1114"/>
                </a:lnTo>
                <a:lnTo>
                  <a:pt x="348" y="1093"/>
                </a:lnTo>
                <a:lnTo>
                  <a:pt x="338" y="1068"/>
                </a:lnTo>
                <a:lnTo>
                  <a:pt x="326" y="1040"/>
                </a:lnTo>
                <a:lnTo>
                  <a:pt x="314" y="1012"/>
                </a:lnTo>
                <a:lnTo>
                  <a:pt x="300" y="981"/>
                </a:lnTo>
                <a:lnTo>
                  <a:pt x="289" y="949"/>
                </a:lnTo>
                <a:lnTo>
                  <a:pt x="276" y="916"/>
                </a:lnTo>
                <a:lnTo>
                  <a:pt x="262" y="883"/>
                </a:lnTo>
                <a:lnTo>
                  <a:pt x="249" y="849"/>
                </a:lnTo>
                <a:lnTo>
                  <a:pt x="237" y="815"/>
                </a:lnTo>
                <a:lnTo>
                  <a:pt x="224" y="782"/>
                </a:lnTo>
                <a:lnTo>
                  <a:pt x="212" y="749"/>
                </a:lnTo>
                <a:lnTo>
                  <a:pt x="201" y="717"/>
                </a:lnTo>
                <a:lnTo>
                  <a:pt x="192" y="686"/>
                </a:lnTo>
                <a:lnTo>
                  <a:pt x="181" y="656"/>
                </a:lnTo>
                <a:lnTo>
                  <a:pt x="171" y="624"/>
                </a:lnTo>
                <a:lnTo>
                  <a:pt x="160" y="591"/>
                </a:lnTo>
                <a:lnTo>
                  <a:pt x="149" y="555"/>
                </a:lnTo>
                <a:lnTo>
                  <a:pt x="138" y="520"/>
                </a:lnTo>
                <a:lnTo>
                  <a:pt x="126" y="484"/>
                </a:lnTo>
                <a:lnTo>
                  <a:pt x="115" y="449"/>
                </a:lnTo>
                <a:lnTo>
                  <a:pt x="106" y="412"/>
                </a:lnTo>
                <a:lnTo>
                  <a:pt x="94" y="378"/>
                </a:lnTo>
                <a:lnTo>
                  <a:pt x="85" y="344"/>
                </a:lnTo>
                <a:lnTo>
                  <a:pt x="75" y="312"/>
                </a:lnTo>
                <a:lnTo>
                  <a:pt x="68" y="282"/>
                </a:lnTo>
                <a:lnTo>
                  <a:pt x="60" y="254"/>
                </a:lnTo>
                <a:lnTo>
                  <a:pt x="53" y="228"/>
                </a:lnTo>
                <a:lnTo>
                  <a:pt x="47" y="206"/>
                </a:lnTo>
                <a:lnTo>
                  <a:pt x="44" y="186"/>
                </a:lnTo>
                <a:lnTo>
                  <a:pt x="39" y="171"/>
                </a:lnTo>
                <a:lnTo>
                  <a:pt x="36" y="160"/>
                </a:lnTo>
                <a:lnTo>
                  <a:pt x="34" y="151"/>
                </a:lnTo>
                <a:lnTo>
                  <a:pt x="33" y="144"/>
                </a:lnTo>
                <a:lnTo>
                  <a:pt x="31" y="140"/>
                </a:lnTo>
                <a:lnTo>
                  <a:pt x="30" y="136"/>
                </a:lnTo>
                <a:lnTo>
                  <a:pt x="29" y="133"/>
                </a:lnTo>
                <a:lnTo>
                  <a:pt x="29" y="128"/>
                </a:lnTo>
                <a:lnTo>
                  <a:pt x="27" y="124"/>
                </a:lnTo>
                <a:lnTo>
                  <a:pt x="26" y="117"/>
                </a:lnTo>
                <a:lnTo>
                  <a:pt x="24" y="108"/>
                </a:lnTo>
                <a:lnTo>
                  <a:pt x="22" y="95"/>
                </a:lnTo>
                <a:lnTo>
                  <a:pt x="16" y="80"/>
                </a:lnTo>
                <a:lnTo>
                  <a:pt x="12" y="59"/>
                </a:lnTo>
                <a:lnTo>
                  <a:pt x="6" y="34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035680" y="4464000"/>
            <a:ext cx="2778120" cy="1092240"/>
          </a:xfrm>
          <a:custGeom>
            <a:avLst/>
            <a:gdLst/>
            <a:ahLst/>
            <a:rect l="l" t="t" r="r" b="b"/>
            <a:pathLst>
              <a:path w="1750" h="688">
                <a:moveTo>
                  <a:pt x="0" y="0"/>
                </a:moveTo>
                <a:lnTo>
                  <a:pt x="12" y="13"/>
                </a:lnTo>
                <a:lnTo>
                  <a:pt x="23" y="23"/>
                </a:lnTo>
                <a:lnTo>
                  <a:pt x="32" y="32"/>
                </a:lnTo>
                <a:lnTo>
                  <a:pt x="38" y="38"/>
                </a:lnTo>
                <a:lnTo>
                  <a:pt x="43" y="43"/>
                </a:lnTo>
                <a:lnTo>
                  <a:pt x="47" y="46"/>
                </a:lnTo>
                <a:lnTo>
                  <a:pt x="50" y="49"/>
                </a:lnTo>
                <a:lnTo>
                  <a:pt x="53" y="50"/>
                </a:lnTo>
                <a:lnTo>
                  <a:pt x="53" y="52"/>
                </a:lnTo>
                <a:lnTo>
                  <a:pt x="55" y="54"/>
                </a:lnTo>
                <a:lnTo>
                  <a:pt x="57" y="56"/>
                </a:lnTo>
                <a:lnTo>
                  <a:pt x="59" y="57"/>
                </a:lnTo>
                <a:lnTo>
                  <a:pt x="61" y="60"/>
                </a:lnTo>
                <a:lnTo>
                  <a:pt x="65" y="63"/>
                </a:lnTo>
                <a:lnTo>
                  <a:pt x="70" y="68"/>
                </a:lnTo>
                <a:lnTo>
                  <a:pt x="77" y="73"/>
                </a:lnTo>
                <a:lnTo>
                  <a:pt x="84" y="81"/>
                </a:lnTo>
                <a:lnTo>
                  <a:pt x="94" y="89"/>
                </a:lnTo>
                <a:lnTo>
                  <a:pt x="104" y="98"/>
                </a:lnTo>
                <a:lnTo>
                  <a:pt x="116" y="108"/>
                </a:lnTo>
                <a:lnTo>
                  <a:pt x="129" y="119"/>
                </a:lnTo>
                <a:lnTo>
                  <a:pt x="142" y="129"/>
                </a:lnTo>
                <a:lnTo>
                  <a:pt x="157" y="140"/>
                </a:lnTo>
                <a:lnTo>
                  <a:pt x="172" y="150"/>
                </a:lnTo>
                <a:lnTo>
                  <a:pt x="187" y="162"/>
                </a:lnTo>
                <a:lnTo>
                  <a:pt x="202" y="173"/>
                </a:lnTo>
                <a:lnTo>
                  <a:pt x="217" y="184"/>
                </a:lnTo>
                <a:lnTo>
                  <a:pt x="232" y="195"/>
                </a:lnTo>
                <a:lnTo>
                  <a:pt x="247" y="206"/>
                </a:lnTo>
                <a:lnTo>
                  <a:pt x="262" y="216"/>
                </a:lnTo>
                <a:lnTo>
                  <a:pt x="275" y="226"/>
                </a:lnTo>
                <a:lnTo>
                  <a:pt x="289" y="234"/>
                </a:lnTo>
                <a:lnTo>
                  <a:pt x="302" y="243"/>
                </a:lnTo>
                <a:lnTo>
                  <a:pt x="316" y="252"/>
                </a:lnTo>
                <a:lnTo>
                  <a:pt x="333" y="263"/>
                </a:lnTo>
                <a:lnTo>
                  <a:pt x="350" y="272"/>
                </a:lnTo>
                <a:lnTo>
                  <a:pt x="368" y="284"/>
                </a:lnTo>
                <a:lnTo>
                  <a:pt x="388" y="295"/>
                </a:lnTo>
                <a:lnTo>
                  <a:pt x="408" y="306"/>
                </a:lnTo>
                <a:lnTo>
                  <a:pt x="428" y="317"/>
                </a:lnTo>
                <a:lnTo>
                  <a:pt x="448" y="328"/>
                </a:lnTo>
                <a:lnTo>
                  <a:pt x="468" y="339"/>
                </a:lnTo>
                <a:lnTo>
                  <a:pt x="488" y="350"/>
                </a:lnTo>
                <a:lnTo>
                  <a:pt x="508" y="359"/>
                </a:lnTo>
                <a:lnTo>
                  <a:pt x="525" y="369"/>
                </a:lnTo>
                <a:lnTo>
                  <a:pt x="543" y="378"/>
                </a:lnTo>
                <a:lnTo>
                  <a:pt x="559" y="385"/>
                </a:lnTo>
                <a:lnTo>
                  <a:pt x="576" y="392"/>
                </a:lnTo>
                <a:lnTo>
                  <a:pt x="590" y="400"/>
                </a:lnTo>
                <a:lnTo>
                  <a:pt x="610" y="408"/>
                </a:lnTo>
                <a:lnTo>
                  <a:pt x="632" y="417"/>
                </a:lnTo>
                <a:lnTo>
                  <a:pt x="658" y="426"/>
                </a:lnTo>
                <a:lnTo>
                  <a:pt x="685" y="436"/>
                </a:lnTo>
                <a:lnTo>
                  <a:pt x="715" y="446"/>
                </a:lnTo>
                <a:lnTo>
                  <a:pt x="746" y="457"/>
                </a:lnTo>
                <a:lnTo>
                  <a:pt x="780" y="466"/>
                </a:lnTo>
                <a:lnTo>
                  <a:pt x="813" y="478"/>
                </a:lnTo>
                <a:lnTo>
                  <a:pt x="848" y="489"/>
                </a:lnTo>
                <a:lnTo>
                  <a:pt x="882" y="500"/>
                </a:lnTo>
                <a:lnTo>
                  <a:pt x="918" y="510"/>
                </a:lnTo>
                <a:lnTo>
                  <a:pt x="952" y="520"/>
                </a:lnTo>
                <a:lnTo>
                  <a:pt x="986" y="529"/>
                </a:lnTo>
                <a:lnTo>
                  <a:pt x="1018" y="538"/>
                </a:lnTo>
                <a:lnTo>
                  <a:pt x="1050" y="545"/>
                </a:lnTo>
                <a:lnTo>
                  <a:pt x="1080" y="554"/>
                </a:lnTo>
                <a:lnTo>
                  <a:pt x="1114" y="562"/>
                </a:lnTo>
                <a:lnTo>
                  <a:pt x="1148" y="571"/>
                </a:lnTo>
                <a:lnTo>
                  <a:pt x="1183" y="578"/>
                </a:lnTo>
                <a:lnTo>
                  <a:pt x="1219" y="588"/>
                </a:lnTo>
                <a:lnTo>
                  <a:pt x="1256" y="595"/>
                </a:lnTo>
                <a:lnTo>
                  <a:pt x="1292" y="604"/>
                </a:lnTo>
                <a:lnTo>
                  <a:pt x="1329" y="611"/>
                </a:lnTo>
                <a:lnTo>
                  <a:pt x="1364" y="619"/>
                </a:lnTo>
                <a:lnTo>
                  <a:pt x="1399" y="627"/>
                </a:lnTo>
                <a:lnTo>
                  <a:pt x="1431" y="634"/>
                </a:lnTo>
                <a:lnTo>
                  <a:pt x="1463" y="640"/>
                </a:lnTo>
                <a:lnTo>
                  <a:pt x="1491" y="646"/>
                </a:lnTo>
                <a:lnTo>
                  <a:pt x="1517" y="650"/>
                </a:lnTo>
                <a:lnTo>
                  <a:pt x="1540" y="654"/>
                </a:lnTo>
                <a:lnTo>
                  <a:pt x="1560" y="657"/>
                </a:lnTo>
                <a:lnTo>
                  <a:pt x="1575" y="660"/>
                </a:lnTo>
                <a:lnTo>
                  <a:pt x="1586" y="662"/>
                </a:lnTo>
                <a:lnTo>
                  <a:pt x="1595" y="664"/>
                </a:lnTo>
                <a:lnTo>
                  <a:pt x="1602" y="664"/>
                </a:lnTo>
                <a:lnTo>
                  <a:pt x="1606" y="666"/>
                </a:lnTo>
                <a:lnTo>
                  <a:pt x="1611" y="666"/>
                </a:lnTo>
                <a:lnTo>
                  <a:pt x="1614" y="667"/>
                </a:lnTo>
                <a:lnTo>
                  <a:pt x="1619" y="667"/>
                </a:lnTo>
                <a:lnTo>
                  <a:pt x="1623" y="668"/>
                </a:lnTo>
                <a:lnTo>
                  <a:pt x="1630" y="669"/>
                </a:lnTo>
                <a:lnTo>
                  <a:pt x="1640" y="671"/>
                </a:lnTo>
                <a:lnTo>
                  <a:pt x="1652" y="672"/>
                </a:lnTo>
                <a:lnTo>
                  <a:pt x="1668" y="676"/>
                </a:lnTo>
                <a:lnTo>
                  <a:pt x="1689" y="678"/>
                </a:lnTo>
                <a:lnTo>
                  <a:pt x="1716" y="683"/>
                </a:lnTo>
                <a:lnTo>
                  <a:pt x="1749" y="687"/>
                </a:lnTo>
              </a:path>
            </a:pathLst>
          </a:custGeom>
          <a:noFill/>
          <a:ln w="316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753000" y="1771560"/>
            <a:ext cx="1280880" cy="2694240"/>
          </a:xfrm>
          <a:custGeom>
            <a:avLst/>
            <a:gdLst/>
            <a:ahLst/>
            <a:rect l="l" t="t" r="r" b="b"/>
            <a:pathLst>
              <a:path w="807" h="1697">
                <a:moveTo>
                  <a:pt x="806" y="1696"/>
                </a:moveTo>
                <a:lnTo>
                  <a:pt x="792" y="1684"/>
                </a:lnTo>
                <a:lnTo>
                  <a:pt x="781" y="1674"/>
                </a:lnTo>
                <a:lnTo>
                  <a:pt x="773" y="1667"/>
                </a:lnTo>
                <a:lnTo>
                  <a:pt x="766" y="1660"/>
                </a:lnTo>
                <a:lnTo>
                  <a:pt x="761" y="1656"/>
                </a:lnTo>
                <a:lnTo>
                  <a:pt x="757" y="1652"/>
                </a:lnTo>
                <a:lnTo>
                  <a:pt x="754" y="1650"/>
                </a:lnTo>
                <a:lnTo>
                  <a:pt x="753" y="1647"/>
                </a:lnTo>
                <a:lnTo>
                  <a:pt x="751" y="1646"/>
                </a:lnTo>
                <a:lnTo>
                  <a:pt x="749" y="1644"/>
                </a:lnTo>
                <a:lnTo>
                  <a:pt x="747" y="1643"/>
                </a:lnTo>
                <a:lnTo>
                  <a:pt x="746" y="1641"/>
                </a:lnTo>
                <a:lnTo>
                  <a:pt x="743" y="1639"/>
                </a:lnTo>
                <a:lnTo>
                  <a:pt x="740" y="1635"/>
                </a:lnTo>
                <a:lnTo>
                  <a:pt x="734" y="1630"/>
                </a:lnTo>
                <a:lnTo>
                  <a:pt x="729" y="1623"/>
                </a:lnTo>
                <a:lnTo>
                  <a:pt x="720" y="1616"/>
                </a:lnTo>
                <a:lnTo>
                  <a:pt x="712" y="1608"/>
                </a:lnTo>
                <a:lnTo>
                  <a:pt x="702" y="1598"/>
                </a:lnTo>
                <a:lnTo>
                  <a:pt x="692" y="1586"/>
                </a:lnTo>
                <a:lnTo>
                  <a:pt x="680" y="1575"/>
                </a:lnTo>
                <a:lnTo>
                  <a:pt x="669" y="1562"/>
                </a:lnTo>
                <a:lnTo>
                  <a:pt x="656" y="1549"/>
                </a:lnTo>
                <a:lnTo>
                  <a:pt x="645" y="1534"/>
                </a:lnTo>
                <a:lnTo>
                  <a:pt x="632" y="1521"/>
                </a:lnTo>
                <a:lnTo>
                  <a:pt x="620" y="1506"/>
                </a:lnTo>
                <a:lnTo>
                  <a:pt x="607" y="1492"/>
                </a:lnTo>
                <a:lnTo>
                  <a:pt x="596" y="1477"/>
                </a:lnTo>
                <a:lnTo>
                  <a:pt x="584" y="1464"/>
                </a:lnTo>
                <a:lnTo>
                  <a:pt x="573" y="1449"/>
                </a:lnTo>
                <a:lnTo>
                  <a:pt x="563" y="1436"/>
                </a:lnTo>
                <a:lnTo>
                  <a:pt x="554" y="1423"/>
                </a:lnTo>
                <a:lnTo>
                  <a:pt x="544" y="1411"/>
                </a:lnTo>
                <a:lnTo>
                  <a:pt x="534" y="1397"/>
                </a:lnTo>
                <a:lnTo>
                  <a:pt x="522" y="1381"/>
                </a:lnTo>
                <a:lnTo>
                  <a:pt x="511" y="1364"/>
                </a:lnTo>
                <a:lnTo>
                  <a:pt x="498" y="1348"/>
                </a:lnTo>
                <a:lnTo>
                  <a:pt x="486" y="1329"/>
                </a:lnTo>
                <a:lnTo>
                  <a:pt x="473" y="1310"/>
                </a:lnTo>
                <a:lnTo>
                  <a:pt x="462" y="1290"/>
                </a:lnTo>
                <a:lnTo>
                  <a:pt x="449" y="1271"/>
                </a:lnTo>
                <a:lnTo>
                  <a:pt x="437" y="1252"/>
                </a:lnTo>
                <a:lnTo>
                  <a:pt x="425" y="1233"/>
                </a:lnTo>
                <a:lnTo>
                  <a:pt x="414" y="1214"/>
                </a:lnTo>
                <a:lnTo>
                  <a:pt x="403" y="1197"/>
                </a:lnTo>
                <a:lnTo>
                  <a:pt x="393" y="1180"/>
                </a:lnTo>
                <a:lnTo>
                  <a:pt x="384" y="1164"/>
                </a:lnTo>
                <a:lnTo>
                  <a:pt x="376" y="1148"/>
                </a:lnTo>
                <a:lnTo>
                  <a:pt x="368" y="1134"/>
                </a:lnTo>
                <a:lnTo>
                  <a:pt x="358" y="1115"/>
                </a:lnTo>
                <a:lnTo>
                  <a:pt x="348" y="1094"/>
                </a:lnTo>
                <a:lnTo>
                  <a:pt x="338" y="1068"/>
                </a:lnTo>
                <a:lnTo>
                  <a:pt x="325" y="1041"/>
                </a:lnTo>
                <a:lnTo>
                  <a:pt x="313" y="1012"/>
                </a:lnTo>
                <a:lnTo>
                  <a:pt x="300" y="982"/>
                </a:lnTo>
                <a:lnTo>
                  <a:pt x="288" y="949"/>
                </a:lnTo>
                <a:lnTo>
                  <a:pt x="275" y="917"/>
                </a:lnTo>
                <a:lnTo>
                  <a:pt x="262" y="883"/>
                </a:lnTo>
                <a:lnTo>
                  <a:pt x="248" y="850"/>
                </a:lnTo>
                <a:lnTo>
                  <a:pt x="236" y="815"/>
                </a:lnTo>
                <a:lnTo>
                  <a:pt x="223" y="783"/>
                </a:lnTo>
                <a:lnTo>
                  <a:pt x="212" y="749"/>
                </a:lnTo>
                <a:lnTo>
                  <a:pt x="200" y="717"/>
                </a:lnTo>
                <a:lnTo>
                  <a:pt x="191" y="686"/>
                </a:lnTo>
                <a:lnTo>
                  <a:pt x="180" y="656"/>
                </a:lnTo>
                <a:lnTo>
                  <a:pt x="170" y="624"/>
                </a:lnTo>
                <a:lnTo>
                  <a:pt x="159" y="590"/>
                </a:lnTo>
                <a:lnTo>
                  <a:pt x="148" y="555"/>
                </a:lnTo>
                <a:lnTo>
                  <a:pt x="137" y="520"/>
                </a:lnTo>
                <a:lnTo>
                  <a:pt x="126" y="484"/>
                </a:lnTo>
                <a:lnTo>
                  <a:pt x="114" y="449"/>
                </a:lnTo>
                <a:lnTo>
                  <a:pt x="105" y="412"/>
                </a:lnTo>
                <a:lnTo>
                  <a:pt x="94" y="378"/>
                </a:lnTo>
                <a:lnTo>
                  <a:pt x="84" y="344"/>
                </a:lnTo>
                <a:lnTo>
                  <a:pt x="75" y="312"/>
                </a:lnTo>
                <a:lnTo>
                  <a:pt x="68" y="282"/>
                </a:lnTo>
                <a:lnTo>
                  <a:pt x="60" y="254"/>
                </a:lnTo>
                <a:lnTo>
                  <a:pt x="52" y="228"/>
                </a:lnTo>
                <a:lnTo>
                  <a:pt x="47" y="206"/>
                </a:lnTo>
                <a:lnTo>
                  <a:pt x="43" y="186"/>
                </a:lnTo>
                <a:lnTo>
                  <a:pt x="39" y="170"/>
                </a:lnTo>
                <a:lnTo>
                  <a:pt x="36" y="159"/>
                </a:lnTo>
                <a:lnTo>
                  <a:pt x="34" y="151"/>
                </a:lnTo>
                <a:lnTo>
                  <a:pt x="32" y="144"/>
                </a:lnTo>
                <a:lnTo>
                  <a:pt x="31" y="140"/>
                </a:lnTo>
                <a:lnTo>
                  <a:pt x="30" y="136"/>
                </a:lnTo>
                <a:lnTo>
                  <a:pt x="29" y="132"/>
                </a:lnTo>
                <a:lnTo>
                  <a:pt x="29" y="128"/>
                </a:lnTo>
                <a:lnTo>
                  <a:pt x="27" y="124"/>
                </a:lnTo>
                <a:lnTo>
                  <a:pt x="26" y="117"/>
                </a:lnTo>
                <a:lnTo>
                  <a:pt x="23" y="108"/>
                </a:lnTo>
                <a:lnTo>
                  <a:pt x="21" y="95"/>
                </a:lnTo>
                <a:lnTo>
                  <a:pt x="16" y="80"/>
                </a:lnTo>
                <a:lnTo>
                  <a:pt x="12" y="58"/>
                </a:lnTo>
                <a:lnTo>
                  <a:pt x="6" y="33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462560" y="5078520"/>
            <a:ext cx="2776320" cy="1093680"/>
          </a:xfrm>
          <a:custGeom>
            <a:avLst/>
            <a:gdLst/>
            <a:ahLst/>
            <a:rect l="l" t="t" r="r" b="b"/>
            <a:pathLst>
              <a:path w="1749" h="689">
                <a:moveTo>
                  <a:pt x="0" y="0"/>
                </a:moveTo>
                <a:lnTo>
                  <a:pt x="13" y="13"/>
                </a:lnTo>
                <a:lnTo>
                  <a:pt x="23" y="23"/>
                </a:lnTo>
                <a:lnTo>
                  <a:pt x="32" y="31"/>
                </a:lnTo>
                <a:lnTo>
                  <a:pt x="39" y="37"/>
                </a:lnTo>
                <a:lnTo>
                  <a:pt x="43" y="43"/>
                </a:lnTo>
                <a:lnTo>
                  <a:pt x="47" y="46"/>
                </a:lnTo>
                <a:lnTo>
                  <a:pt x="50" y="48"/>
                </a:lnTo>
                <a:lnTo>
                  <a:pt x="53" y="49"/>
                </a:lnTo>
                <a:lnTo>
                  <a:pt x="53" y="51"/>
                </a:lnTo>
                <a:lnTo>
                  <a:pt x="55" y="53"/>
                </a:lnTo>
                <a:lnTo>
                  <a:pt x="57" y="55"/>
                </a:lnTo>
                <a:lnTo>
                  <a:pt x="60" y="56"/>
                </a:lnTo>
                <a:lnTo>
                  <a:pt x="62" y="59"/>
                </a:lnTo>
                <a:lnTo>
                  <a:pt x="66" y="62"/>
                </a:lnTo>
                <a:lnTo>
                  <a:pt x="71" y="67"/>
                </a:lnTo>
                <a:lnTo>
                  <a:pt x="78" y="72"/>
                </a:lnTo>
                <a:lnTo>
                  <a:pt x="85" y="81"/>
                </a:lnTo>
                <a:lnTo>
                  <a:pt x="95" y="88"/>
                </a:lnTo>
                <a:lnTo>
                  <a:pt x="105" y="97"/>
                </a:lnTo>
                <a:lnTo>
                  <a:pt x="117" y="107"/>
                </a:lnTo>
                <a:lnTo>
                  <a:pt x="130" y="118"/>
                </a:lnTo>
                <a:lnTo>
                  <a:pt x="143" y="128"/>
                </a:lnTo>
                <a:lnTo>
                  <a:pt x="159" y="139"/>
                </a:lnTo>
                <a:lnTo>
                  <a:pt x="173" y="149"/>
                </a:lnTo>
                <a:lnTo>
                  <a:pt x="188" y="161"/>
                </a:lnTo>
                <a:lnTo>
                  <a:pt x="203" y="172"/>
                </a:lnTo>
                <a:lnTo>
                  <a:pt x="218" y="184"/>
                </a:lnTo>
                <a:lnTo>
                  <a:pt x="234" y="194"/>
                </a:lnTo>
                <a:lnTo>
                  <a:pt x="248" y="205"/>
                </a:lnTo>
                <a:lnTo>
                  <a:pt x="263" y="215"/>
                </a:lnTo>
                <a:lnTo>
                  <a:pt x="276" y="225"/>
                </a:lnTo>
                <a:lnTo>
                  <a:pt x="290" y="233"/>
                </a:lnTo>
                <a:lnTo>
                  <a:pt x="303" y="242"/>
                </a:lnTo>
                <a:lnTo>
                  <a:pt x="317" y="252"/>
                </a:lnTo>
                <a:lnTo>
                  <a:pt x="334" y="263"/>
                </a:lnTo>
                <a:lnTo>
                  <a:pt x="351" y="272"/>
                </a:lnTo>
                <a:lnTo>
                  <a:pt x="369" y="283"/>
                </a:lnTo>
                <a:lnTo>
                  <a:pt x="389" y="295"/>
                </a:lnTo>
                <a:lnTo>
                  <a:pt x="409" y="306"/>
                </a:lnTo>
                <a:lnTo>
                  <a:pt x="429" y="317"/>
                </a:lnTo>
                <a:lnTo>
                  <a:pt x="448" y="328"/>
                </a:lnTo>
                <a:lnTo>
                  <a:pt x="469" y="339"/>
                </a:lnTo>
                <a:lnTo>
                  <a:pt x="488" y="349"/>
                </a:lnTo>
                <a:lnTo>
                  <a:pt x="508" y="359"/>
                </a:lnTo>
                <a:lnTo>
                  <a:pt x="525" y="369"/>
                </a:lnTo>
                <a:lnTo>
                  <a:pt x="543" y="378"/>
                </a:lnTo>
                <a:lnTo>
                  <a:pt x="560" y="385"/>
                </a:lnTo>
                <a:lnTo>
                  <a:pt x="576" y="392"/>
                </a:lnTo>
                <a:lnTo>
                  <a:pt x="591" y="399"/>
                </a:lnTo>
                <a:lnTo>
                  <a:pt x="611" y="407"/>
                </a:lnTo>
                <a:lnTo>
                  <a:pt x="633" y="416"/>
                </a:lnTo>
                <a:lnTo>
                  <a:pt x="659" y="425"/>
                </a:lnTo>
                <a:lnTo>
                  <a:pt x="686" y="436"/>
                </a:lnTo>
                <a:lnTo>
                  <a:pt x="716" y="445"/>
                </a:lnTo>
                <a:lnTo>
                  <a:pt x="747" y="456"/>
                </a:lnTo>
                <a:lnTo>
                  <a:pt x="781" y="466"/>
                </a:lnTo>
                <a:lnTo>
                  <a:pt x="814" y="477"/>
                </a:lnTo>
                <a:lnTo>
                  <a:pt x="849" y="488"/>
                </a:lnTo>
                <a:lnTo>
                  <a:pt x="883" y="499"/>
                </a:lnTo>
                <a:lnTo>
                  <a:pt x="919" y="509"/>
                </a:lnTo>
                <a:lnTo>
                  <a:pt x="952" y="519"/>
                </a:lnTo>
                <a:lnTo>
                  <a:pt x="986" y="528"/>
                </a:lnTo>
                <a:lnTo>
                  <a:pt x="1018" y="537"/>
                </a:lnTo>
                <a:lnTo>
                  <a:pt x="1050" y="544"/>
                </a:lnTo>
                <a:lnTo>
                  <a:pt x="1081" y="554"/>
                </a:lnTo>
                <a:lnTo>
                  <a:pt x="1113" y="561"/>
                </a:lnTo>
                <a:lnTo>
                  <a:pt x="1147" y="571"/>
                </a:lnTo>
                <a:lnTo>
                  <a:pt x="1183" y="578"/>
                </a:lnTo>
                <a:lnTo>
                  <a:pt x="1219" y="587"/>
                </a:lnTo>
                <a:lnTo>
                  <a:pt x="1255" y="595"/>
                </a:lnTo>
                <a:lnTo>
                  <a:pt x="1292" y="603"/>
                </a:lnTo>
                <a:lnTo>
                  <a:pt x="1329" y="611"/>
                </a:lnTo>
                <a:lnTo>
                  <a:pt x="1363" y="619"/>
                </a:lnTo>
                <a:lnTo>
                  <a:pt x="1398" y="627"/>
                </a:lnTo>
                <a:lnTo>
                  <a:pt x="1431" y="634"/>
                </a:lnTo>
                <a:lnTo>
                  <a:pt x="1463" y="640"/>
                </a:lnTo>
                <a:lnTo>
                  <a:pt x="1491" y="646"/>
                </a:lnTo>
                <a:lnTo>
                  <a:pt x="1517" y="651"/>
                </a:lnTo>
                <a:lnTo>
                  <a:pt x="1539" y="655"/>
                </a:lnTo>
                <a:lnTo>
                  <a:pt x="1560" y="658"/>
                </a:lnTo>
                <a:lnTo>
                  <a:pt x="1575" y="661"/>
                </a:lnTo>
                <a:lnTo>
                  <a:pt x="1586" y="663"/>
                </a:lnTo>
                <a:lnTo>
                  <a:pt x="1595" y="665"/>
                </a:lnTo>
                <a:lnTo>
                  <a:pt x="1602" y="665"/>
                </a:lnTo>
                <a:lnTo>
                  <a:pt x="1606" y="667"/>
                </a:lnTo>
                <a:lnTo>
                  <a:pt x="1611" y="667"/>
                </a:lnTo>
                <a:lnTo>
                  <a:pt x="1614" y="667"/>
                </a:lnTo>
                <a:lnTo>
                  <a:pt x="1619" y="667"/>
                </a:lnTo>
                <a:lnTo>
                  <a:pt x="1623" y="669"/>
                </a:lnTo>
                <a:lnTo>
                  <a:pt x="1630" y="670"/>
                </a:lnTo>
                <a:lnTo>
                  <a:pt x="1639" y="671"/>
                </a:lnTo>
                <a:lnTo>
                  <a:pt x="1652" y="673"/>
                </a:lnTo>
                <a:lnTo>
                  <a:pt x="1668" y="677"/>
                </a:lnTo>
                <a:lnTo>
                  <a:pt x="1689" y="679"/>
                </a:lnTo>
                <a:lnTo>
                  <a:pt x="1715" y="683"/>
                </a:lnTo>
                <a:lnTo>
                  <a:pt x="1748" y="688"/>
                </a:lnTo>
              </a:path>
            </a:pathLst>
          </a:custGeom>
          <a:noFill/>
          <a:ln w="316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79880" y="2386080"/>
            <a:ext cx="1282680" cy="2692440"/>
          </a:xfrm>
          <a:custGeom>
            <a:avLst/>
            <a:gdLst/>
            <a:ahLst/>
            <a:rect l="l" t="t" r="r" b="b"/>
            <a:pathLst>
              <a:path w="808" h="1696">
                <a:moveTo>
                  <a:pt x="807" y="1695"/>
                </a:moveTo>
                <a:lnTo>
                  <a:pt x="793" y="1684"/>
                </a:lnTo>
                <a:lnTo>
                  <a:pt x="782" y="1674"/>
                </a:lnTo>
                <a:lnTo>
                  <a:pt x="774" y="1666"/>
                </a:lnTo>
                <a:lnTo>
                  <a:pt x="767" y="1659"/>
                </a:lnTo>
                <a:lnTo>
                  <a:pt x="762" y="1655"/>
                </a:lnTo>
                <a:lnTo>
                  <a:pt x="758" y="1651"/>
                </a:lnTo>
                <a:lnTo>
                  <a:pt x="755" y="1649"/>
                </a:lnTo>
                <a:lnTo>
                  <a:pt x="754" y="1646"/>
                </a:lnTo>
                <a:lnTo>
                  <a:pt x="752" y="1646"/>
                </a:lnTo>
                <a:lnTo>
                  <a:pt x="750" y="1644"/>
                </a:lnTo>
                <a:lnTo>
                  <a:pt x="748" y="1642"/>
                </a:lnTo>
                <a:lnTo>
                  <a:pt x="747" y="1640"/>
                </a:lnTo>
                <a:lnTo>
                  <a:pt x="744" y="1638"/>
                </a:lnTo>
                <a:lnTo>
                  <a:pt x="741" y="1634"/>
                </a:lnTo>
                <a:lnTo>
                  <a:pt x="735" y="1630"/>
                </a:lnTo>
                <a:lnTo>
                  <a:pt x="730" y="1623"/>
                </a:lnTo>
                <a:lnTo>
                  <a:pt x="721" y="1616"/>
                </a:lnTo>
                <a:lnTo>
                  <a:pt x="713" y="1607"/>
                </a:lnTo>
                <a:lnTo>
                  <a:pt x="702" y="1597"/>
                </a:lnTo>
                <a:lnTo>
                  <a:pt x="693" y="1586"/>
                </a:lnTo>
                <a:lnTo>
                  <a:pt x="681" y="1575"/>
                </a:lnTo>
                <a:lnTo>
                  <a:pt x="669" y="1562"/>
                </a:lnTo>
                <a:lnTo>
                  <a:pt x="657" y="1549"/>
                </a:lnTo>
                <a:lnTo>
                  <a:pt x="646" y="1534"/>
                </a:lnTo>
                <a:lnTo>
                  <a:pt x="633" y="1521"/>
                </a:lnTo>
                <a:lnTo>
                  <a:pt x="621" y="1506"/>
                </a:lnTo>
                <a:lnTo>
                  <a:pt x="608" y="1492"/>
                </a:lnTo>
                <a:lnTo>
                  <a:pt x="596" y="1477"/>
                </a:lnTo>
                <a:lnTo>
                  <a:pt x="585" y="1464"/>
                </a:lnTo>
                <a:lnTo>
                  <a:pt x="573" y="1450"/>
                </a:lnTo>
                <a:lnTo>
                  <a:pt x="563" y="1437"/>
                </a:lnTo>
                <a:lnTo>
                  <a:pt x="554" y="1423"/>
                </a:lnTo>
                <a:lnTo>
                  <a:pt x="543" y="1412"/>
                </a:lnTo>
                <a:lnTo>
                  <a:pt x="533" y="1397"/>
                </a:lnTo>
                <a:lnTo>
                  <a:pt x="521" y="1382"/>
                </a:lnTo>
                <a:lnTo>
                  <a:pt x="510" y="1365"/>
                </a:lnTo>
                <a:lnTo>
                  <a:pt x="497" y="1348"/>
                </a:lnTo>
                <a:lnTo>
                  <a:pt x="485" y="1329"/>
                </a:lnTo>
                <a:lnTo>
                  <a:pt x="472" y="1311"/>
                </a:lnTo>
                <a:lnTo>
                  <a:pt x="461" y="1290"/>
                </a:lnTo>
                <a:lnTo>
                  <a:pt x="448" y="1271"/>
                </a:lnTo>
                <a:lnTo>
                  <a:pt x="436" y="1252"/>
                </a:lnTo>
                <a:lnTo>
                  <a:pt x="424" y="1233"/>
                </a:lnTo>
                <a:lnTo>
                  <a:pt x="413" y="1214"/>
                </a:lnTo>
                <a:lnTo>
                  <a:pt x="402" y="1197"/>
                </a:lnTo>
                <a:lnTo>
                  <a:pt x="392" y="1179"/>
                </a:lnTo>
                <a:lnTo>
                  <a:pt x="383" y="1164"/>
                </a:lnTo>
                <a:lnTo>
                  <a:pt x="375" y="1148"/>
                </a:lnTo>
                <a:lnTo>
                  <a:pt x="367" y="1133"/>
                </a:lnTo>
                <a:lnTo>
                  <a:pt x="357" y="1115"/>
                </a:lnTo>
                <a:lnTo>
                  <a:pt x="347" y="1093"/>
                </a:lnTo>
                <a:lnTo>
                  <a:pt x="337" y="1068"/>
                </a:lnTo>
                <a:lnTo>
                  <a:pt x="324" y="1041"/>
                </a:lnTo>
                <a:lnTo>
                  <a:pt x="313" y="1012"/>
                </a:lnTo>
                <a:lnTo>
                  <a:pt x="299" y="982"/>
                </a:lnTo>
                <a:lnTo>
                  <a:pt x="288" y="949"/>
                </a:lnTo>
                <a:lnTo>
                  <a:pt x="275" y="917"/>
                </a:lnTo>
                <a:lnTo>
                  <a:pt x="262" y="883"/>
                </a:lnTo>
                <a:lnTo>
                  <a:pt x="249" y="849"/>
                </a:lnTo>
                <a:lnTo>
                  <a:pt x="236" y="815"/>
                </a:lnTo>
                <a:lnTo>
                  <a:pt x="223" y="783"/>
                </a:lnTo>
                <a:lnTo>
                  <a:pt x="212" y="749"/>
                </a:lnTo>
                <a:lnTo>
                  <a:pt x="201" y="718"/>
                </a:lnTo>
                <a:lnTo>
                  <a:pt x="191" y="687"/>
                </a:lnTo>
                <a:lnTo>
                  <a:pt x="180" y="657"/>
                </a:lnTo>
                <a:lnTo>
                  <a:pt x="170" y="624"/>
                </a:lnTo>
                <a:lnTo>
                  <a:pt x="159" y="591"/>
                </a:lnTo>
                <a:lnTo>
                  <a:pt x="148" y="555"/>
                </a:lnTo>
                <a:lnTo>
                  <a:pt x="137" y="521"/>
                </a:lnTo>
                <a:lnTo>
                  <a:pt x="126" y="485"/>
                </a:lnTo>
                <a:lnTo>
                  <a:pt x="115" y="449"/>
                </a:lnTo>
                <a:lnTo>
                  <a:pt x="105" y="413"/>
                </a:lnTo>
                <a:lnTo>
                  <a:pt x="94" y="379"/>
                </a:lnTo>
                <a:lnTo>
                  <a:pt x="85" y="345"/>
                </a:lnTo>
                <a:lnTo>
                  <a:pt x="75" y="313"/>
                </a:lnTo>
                <a:lnTo>
                  <a:pt x="68" y="282"/>
                </a:lnTo>
                <a:lnTo>
                  <a:pt x="60" y="255"/>
                </a:lnTo>
                <a:lnTo>
                  <a:pt x="53" y="229"/>
                </a:lnTo>
                <a:lnTo>
                  <a:pt x="47" y="206"/>
                </a:lnTo>
                <a:lnTo>
                  <a:pt x="43" y="186"/>
                </a:lnTo>
                <a:lnTo>
                  <a:pt x="39" y="171"/>
                </a:lnTo>
                <a:lnTo>
                  <a:pt x="36" y="160"/>
                </a:lnTo>
                <a:lnTo>
                  <a:pt x="34" y="152"/>
                </a:lnTo>
                <a:lnTo>
                  <a:pt x="33" y="145"/>
                </a:lnTo>
                <a:lnTo>
                  <a:pt x="31" y="141"/>
                </a:lnTo>
                <a:lnTo>
                  <a:pt x="31" y="137"/>
                </a:lnTo>
                <a:lnTo>
                  <a:pt x="29" y="133"/>
                </a:lnTo>
                <a:lnTo>
                  <a:pt x="29" y="129"/>
                </a:lnTo>
                <a:lnTo>
                  <a:pt x="27" y="124"/>
                </a:lnTo>
                <a:lnTo>
                  <a:pt x="26" y="117"/>
                </a:lnTo>
                <a:lnTo>
                  <a:pt x="23" y="109"/>
                </a:lnTo>
                <a:lnTo>
                  <a:pt x="21" y="95"/>
                </a:lnTo>
                <a:lnTo>
                  <a:pt x="17" y="80"/>
                </a:lnTo>
                <a:lnTo>
                  <a:pt x="12" y="59"/>
                </a:lnTo>
                <a:lnTo>
                  <a:pt x="6" y="33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3998880" y="2476440"/>
            <a:ext cx="2674800" cy="1555920"/>
          </a:xfrm>
          <a:prstGeom prst="line">
            <a:avLst/>
          </a:prstGeom>
          <a:ln w="47520">
            <a:solidFill>
              <a:srgbClr val="8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5818320" y="2567160"/>
            <a:ext cx="960480" cy="2871720"/>
          </a:xfrm>
          <a:prstGeom prst="line">
            <a:avLst/>
          </a:prstGeom>
          <a:ln w="47520">
            <a:solidFill>
              <a:srgbClr val="8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680160" y="1542960"/>
            <a:ext cx="270828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810000"/>
                </a:solidFill>
                <a:latin typeface="Arial"/>
              </a:rPr>
              <a:t>equivalente en términos de bienest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782800" y="2819520"/>
            <a:ext cx="3770280" cy="4037040"/>
          </a:xfrm>
          <a:prstGeom prst="line">
            <a:avLst/>
          </a:prstGeom>
          <a:ln w="47520">
            <a:solidFill>
              <a:srgbClr val="4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rot="16200000">
            <a:off x="1622880" y="2384640"/>
            <a:ext cx="163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Arial"/>
              </a:rPr>
              <a:t>Ingreso de Pe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848720" y="6435720"/>
            <a:ext cx="2057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ngreso de Ju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787480" y="1774800"/>
            <a:ext cx="0" cy="51055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66960" y="6851520"/>
            <a:ext cx="5592960" cy="32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594400" y="5540400"/>
            <a:ext cx="847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571920" y="3727440"/>
            <a:ext cx="847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04800" y="0"/>
            <a:ext cx="9453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i intercambiamos identidades W debería mantenerse invariabl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66680" y="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anonimidad implica la simetría de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924680" y="6400800"/>
            <a:ext cx="170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Arial"/>
              </a:rPr>
              <a:t>Ingreso de Pe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16200000">
            <a:off x="1553400" y="2485080"/>
            <a:ext cx="1523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ngreso de Ju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790720" y="5818320"/>
            <a:ext cx="2901960" cy="1044360"/>
          </a:xfrm>
          <a:custGeom>
            <a:avLst/>
            <a:gdLst/>
            <a:ahLst/>
            <a:rect l="l" t="t" r="r" b="b"/>
            <a:pathLst>
              <a:path w="1828" h="658">
                <a:moveTo>
                  <a:pt x="1827" y="657"/>
                </a:moveTo>
                <a:lnTo>
                  <a:pt x="1827" y="0"/>
                </a:lnTo>
                <a:lnTo>
                  <a:pt x="0" y="0"/>
                </a:lnTo>
              </a:path>
            </a:pathLst>
          </a:custGeom>
          <a:noFill/>
          <a:ln cap="rnd" w="31680">
            <a:solidFill>
              <a:srgbClr val="ff0000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057400" y="5562720"/>
            <a:ext cx="847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00720" y="7080120"/>
            <a:ext cx="847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 rot="5400000">
            <a:off x="1829520" y="5005080"/>
            <a:ext cx="2841480" cy="863640"/>
          </a:xfrm>
          <a:custGeom>
            <a:avLst/>
            <a:gdLst/>
            <a:ahLst/>
            <a:rect l="l" t="t" r="r" b="b"/>
            <a:pathLst>
              <a:path w="1828" h="658">
                <a:moveTo>
                  <a:pt x="1827" y="657"/>
                </a:moveTo>
                <a:lnTo>
                  <a:pt x="1827" y="0"/>
                </a:lnTo>
                <a:lnTo>
                  <a:pt x="0" y="0"/>
                </a:lnTo>
              </a:path>
            </a:pathLst>
          </a:custGeom>
          <a:noFill/>
          <a:ln cap="rnd" w="31680">
            <a:solidFill>
              <a:srgbClr val="ff0000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505320" y="7086600"/>
            <a:ext cx="847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3886200"/>
            <a:ext cx="847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4648320" y="4876560"/>
            <a:ext cx="1358640" cy="1252440"/>
          </a:xfrm>
          <a:prstGeom prst="line">
            <a:avLst/>
          </a:prstGeom>
          <a:ln w="633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04800" y="38088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ibuje la distribución del ingreso que tiene la misma media que A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334120" y="2513160"/>
            <a:ext cx="4038480" cy="1549080"/>
          </a:xfrm>
          <a:prstGeom prst="wedgeRoundRectCallout">
            <a:avLst>
              <a:gd name="adj1" fmla="val -59935"/>
              <a:gd name="adj2" fmla="val 143097"/>
              <a:gd name="adj3" fmla="val 1666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ransferencias de ricos a pobres que preservan el ingreso medio aumentan el bienest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566120" y="4498920"/>
            <a:ext cx="203508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4498920"/>
            <a:ext cx="203544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incipios de 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56080" y="4498920"/>
            <a:ext cx="203544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anorámic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808280" y="3524400"/>
            <a:ext cx="6810120" cy="947160"/>
            <a:chOff x="1808280" y="3524400"/>
            <a:chExt cx="6810120" cy="947160"/>
          </a:xfrm>
        </p:grpSpPr>
        <p:sp>
          <p:nvSpPr>
            <p:cNvPr id="320" name=""/>
            <p:cNvSpPr/>
            <p:nvPr/>
          </p:nvSpPr>
          <p:spPr>
            <a:xfrm>
              <a:off x="5229360" y="3524400"/>
              <a:ext cx="1440" cy="511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828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7844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4680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1696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0828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78440" y="4035960"/>
              <a:ext cx="115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29360" y="4035960"/>
              <a:ext cx="11174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4680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57200" y="4495680"/>
            <a:ext cx="2286000" cy="2054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3800" y="4572000"/>
            <a:ext cx="2035080" cy="205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4495680"/>
            <a:ext cx="2286000" cy="2054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4572000"/>
            <a:ext cx="2035440" cy="205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incipios de 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38480" y="4114800"/>
            <a:ext cx="3822840" cy="2954160"/>
          </a:xfrm>
          <a:custGeom>
            <a:avLst/>
            <a:gdLst/>
            <a:ahLst/>
            <a:rect l="l" t="t" r="r" b="b"/>
            <a:pathLst>
              <a:path w="2059" h="1756">
                <a:moveTo>
                  <a:pt x="175" y="390"/>
                </a:moveTo>
                <a:lnTo>
                  <a:pt x="82" y="536"/>
                </a:lnTo>
                <a:lnTo>
                  <a:pt x="25" y="681"/>
                </a:lnTo>
                <a:lnTo>
                  <a:pt x="0" y="827"/>
                </a:lnTo>
                <a:lnTo>
                  <a:pt x="5" y="969"/>
                </a:lnTo>
                <a:lnTo>
                  <a:pt x="36" y="1107"/>
                </a:lnTo>
                <a:lnTo>
                  <a:pt x="94" y="1236"/>
                </a:lnTo>
                <a:lnTo>
                  <a:pt x="174" y="1356"/>
                </a:lnTo>
                <a:lnTo>
                  <a:pt x="275" y="1464"/>
                </a:lnTo>
                <a:lnTo>
                  <a:pt x="392" y="1560"/>
                </a:lnTo>
                <a:lnTo>
                  <a:pt x="526" y="1638"/>
                </a:lnTo>
                <a:lnTo>
                  <a:pt x="673" y="1699"/>
                </a:lnTo>
                <a:lnTo>
                  <a:pt x="831" y="1737"/>
                </a:lnTo>
                <a:lnTo>
                  <a:pt x="997" y="1755"/>
                </a:lnTo>
                <a:lnTo>
                  <a:pt x="1169" y="1746"/>
                </a:lnTo>
                <a:lnTo>
                  <a:pt x="1344" y="1711"/>
                </a:lnTo>
                <a:lnTo>
                  <a:pt x="1522" y="1645"/>
                </a:lnTo>
                <a:lnTo>
                  <a:pt x="1682" y="1555"/>
                </a:lnTo>
                <a:lnTo>
                  <a:pt x="1813" y="1449"/>
                </a:lnTo>
                <a:lnTo>
                  <a:pt x="1915" y="1331"/>
                </a:lnTo>
                <a:lnTo>
                  <a:pt x="1990" y="1203"/>
                </a:lnTo>
                <a:lnTo>
                  <a:pt x="2036" y="1069"/>
                </a:lnTo>
                <a:lnTo>
                  <a:pt x="2058" y="931"/>
                </a:lnTo>
                <a:lnTo>
                  <a:pt x="2053" y="793"/>
                </a:lnTo>
                <a:lnTo>
                  <a:pt x="2025" y="655"/>
                </a:lnTo>
                <a:lnTo>
                  <a:pt x="1972" y="525"/>
                </a:lnTo>
                <a:lnTo>
                  <a:pt x="1897" y="401"/>
                </a:lnTo>
                <a:lnTo>
                  <a:pt x="1800" y="290"/>
                </a:lnTo>
                <a:lnTo>
                  <a:pt x="1684" y="192"/>
                </a:lnTo>
                <a:lnTo>
                  <a:pt x="1545" y="112"/>
                </a:lnTo>
                <a:lnTo>
                  <a:pt x="1389" y="51"/>
                </a:lnTo>
                <a:lnTo>
                  <a:pt x="1214" y="13"/>
                </a:lnTo>
                <a:lnTo>
                  <a:pt x="1022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000000"/>
                </a:solidFill>
                <a:latin typeface="Times New Roman"/>
              </a:rPr>
              <a:t>Un resultado sobre la aversión a la desigual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763120" cy="3302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00000"/>
                </a:solidFill>
                <a:latin typeface="Arial"/>
              </a:rPr>
              <a:t>TEOREM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a cuasi-concavidad de </a:t>
            </a:r>
            <a:r>
              <a:rPr b="1" i="1" lang="en-GB" sz="42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implica que el bienestar social respeta “el principio de transferencia”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"/>
          <p:cNvGrpSpPr/>
          <p:nvPr/>
        </p:nvGrpSpPr>
        <p:grpSpPr>
          <a:xfrm>
            <a:off x="3200400" y="2438280"/>
            <a:ext cx="4059000" cy="3786120"/>
            <a:chOff x="3200400" y="2438280"/>
            <a:chExt cx="4059000" cy="3786120"/>
          </a:xfrm>
        </p:grpSpPr>
        <p:sp>
          <p:nvSpPr>
            <p:cNvPr id="935" name=""/>
            <p:cNvSpPr/>
            <p:nvPr/>
          </p:nvSpPr>
          <p:spPr>
            <a:xfrm>
              <a:off x="4483080" y="5130720"/>
              <a:ext cx="2776320" cy="1093680"/>
            </a:xfrm>
            <a:custGeom>
              <a:avLst/>
              <a:gdLst/>
              <a:ahLst/>
              <a:rect l="l" t="t" r="r" b="b"/>
              <a:pathLst>
                <a:path w="1749" h="689">
                  <a:moveTo>
                    <a:pt x="0" y="0"/>
                  </a:moveTo>
                  <a:lnTo>
                    <a:pt x="13" y="13"/>
                  </a:lnTo>
                  <a:lnTo>
                    <a:pt x="23" y="23"/>
                  </a:lnTo>
                  <a:lnTo>
                    <a:pt x="32" y="31"/>
                  </a:lnTo>
                  <a:lnTo>
                    <a:pt x="39" y="37"/>
                  </a:lnTo>
                  <a:lnTo>
                    <a:pt x="43" y="43"/>
                  </a:lnTo>
                  <a:lnTo>
                    <a:pt x="47" y="46"/>
                  </a:lnTo>
                  <a:lnTo>
                    <a:pt x="50" y="48"/>
                  </a:lnTo>
                  <a:lnTo>
                    <a:pt x="53" y="49"/>
                  </a:lnTo>
                  <a:lnTo>
                    <a:pt x="53" y="51"/>
                  </a:lnTo>
                  <a:lnTo>
                    <a:pt x="55" y="53"/>
                  </a:lnTo>
                  <a:lnTo>
                    <a:pt x="57" y="55"/>
                  </a:lnTo>
                  <a:lnTo>
                    <a:pt x="60" y="56"/>
                  </a:lnTo>
                  <a:lnTo>
                    <a:pt x="62" y="59"/>
                  </a:lnTo>
                  <a:lnTo>
                    <a:pt x="66" y="62"/>
                  </a:lnTo>
                  <a:lnTo>
                    <a:pt x="71" y="67"/>
                  </a:lnTo>
                  <a:lnTo>
                    <a:pt x="78" y="72"/>
                  </a:lnTo>
                  <a:lnTo>
                    <a:pt x="85" y="81"/>
                  </a:lnTo>
                  <a:lnTo>
                    <a:pt x="95" y="88"/>
                  </a:lnTo>
                  <a:lnTo>
                    <a:pt x="105" y="97"/>
                  </a:lnTo>
                  <a:lnTo>
                    <a:pt x="117" y="107"/>
                  </a:lnTo>
                  <a:lnTo>
                    <a:pt x="130" y="118"/>
                  </a:lnTo>
                  <a:lnTo>
                    <a:pt x="143" y="128"/>
                  </a:lnTo>
                  <a:lnTo>
                    <a:pt x="159" y="139"/>
                  </a:lnTo>
                  <a:lnTo>
                    <a:pt x="173" y="149"/>
                  </a:lnTo>
                  <a:lnTo>
                    <a:pt x="188" y="161"/>
                  </a:lnTo>
                  <a:lnTo>
                    <a:pt x="203" y="172"/>
                  </a:lnTo>
                  <a:lnTo>
                    <a:pt x="218" y="184"/>
                  </a:lnTo>
                  <a:lnTo>
                    <a:pt x="234" y="194"/>
                  </a:lnTo>
                  <a:lnTo>
                    <a:pt x="248" y="205"/>
                  </a:lnTo>
                  <a:lnTo>
                    <a:pt x="263" y="215"/>
                  </a:lnTo>
                  <a:lnTo>
                    <a:pt x="276" y="225"/>
                  </a:lnTo>
                  <a:lnTo>
                    <a:pt x="290" y="233"/>
                  </a:lnTo>
                  <a:lnTo>
                    <a:pt x="303" y="242"/>
                  </a:lnTo>
                  <a:lnTo>
                    <a:pt x="317" y="252"/>
                  </a:lnTo>
                  <a:lnTo>
                    <a:pt x="334" y="263"/>
                  </a:lnTo>
                  <a:lnTo>
                    <a:pt x="351" y="272"/>
                  </a:lnTo>
                  <a:lnTo>
                    <a:pt x="369" y="283"/>
                  </a:lnTo>
                  <a:lnTo>
                    <a:pt x="389" y="295"/>
                  </a:lnTo>
                  <a:lnTo>
                    <a:pt x="409" y="306"/>
                  </a:lnTo>
                  <a:lnTo>
                    <a:pt x="429" y="317"/>
                  </a:lnTo>
                  <a:lnTo>
                    <a:pt x="448" y="328"/>
                  </a:lnTo>
                  <a:lnTo>
                    <a:pt x="469" y="339"/>
                  </a:lnTo>
                  <a:lnTo>
                    <a:pt x="488" y="349"/>
                  </a:lnTo>
                  <a:lnTo>
                    <a:pt x="508" y="359"/>
                  </a:lnTo>
                  <a:lnTo>
                    <a:pt x="525" y="369"/>
                  </a:lnTo>
                  <a:lnTo>
                    <a:pt x="543" y="378"/>
                  </a:lnTo>
                  <a:lnTo>
                    <a:pt x="560" y="385"/>
                  </a:lnTo>
                  <a:lnTo>
                    <a:pt x="576" y="392"/>
                  </a:lnTo>
                  <a:lnTo>
                    <a:pt x="591" y="399"/>
                  </a:lnTo>
                  <a:lnTo>
                    <a:pt x="611" y="407"/>
                  </a:lnTo>
                  <a:lnTo>
                    <a:pt x="633" y="416"/>
                  </a:lnTo>
                  <a:lnTo>
                    <a:pt x="659" y="425"/>
                  </a:lnTo>
                  <a:lnTo>
                    <a:pt x="686" y="436"/>
                  </a:lnTo>
                  <a:lnTo>
                    <a:pt x="716" y="445"/>
                  </a:lnTo>
                  <a:lnTo>
                    <a:pt x="747" y="456"/>
                  </a:lnTo>
                  <a:lnTo>
                    <a:pt x="781" y="466"/>
                  </a:lnTo>
                  <a:lnTo>
                    <a:pt x="814" y="477"/>
                  </a:lnTo>
                  <a:lnTo>
                    <a:pt x="849" y="488"/>
                  </a:lnTo>
                  <a:lnTo>
                    <a:pt x="883" y="499"/>
                  </a:lnTo>
                  <a:lnTo>
                    <a:pt x="919" y="509"/>
                  </a:lnTo>
                  <a:lnTo>
                    <a:pt x="952" y="519"/>
                  </a:lnTo>
                  <a:lnTo>
                    <a:pt x="986" y="528"/>
                  </a:lnTo>
                  <a:lnTo>
                    <a:pt x="1018" y="537"/>
                  </a:lnTo>
                  <a:lnTo>
                    <a:pt x="1050" y="544"/>
                  </a:lnTo>
                  <a:lnTo>
                    <a:pt x="1081" y="554"/>
                  </a:lnTo>
                  <a:lnTo>
                    <a:pt x="1113" y="561"/>
                  </a:lnTo>
                  <a:lnTo>
                    <a:pt x="1147" y="571"/>
                  </a:lnTo>
                  <a:lnTo>
                    <a:pt x="1183" y="578"/>
                  </a:lnTo>
                  <a:lnTo>
                    <a:pt x="1219" y="587"/>
                  </a:lnTo>
                  <a:lnTo>
                    <a:pt x="1255" y="595"/>
                  </a:lnTo>
                  <a:lnTo>
                    <a:pt x="1292" y="603"/>
                  </a:lnTo>
                  <a:lnTo>
                    <a:pt x="1329" y="611"/>
                  </a:lnTo>
                  <a:lnTo>
                    <a:pt x="1363" y="619"/>
                  </a:lnTo>
                  <a:lnTo>
                    <a:pt x="1398" y="627"/>
                  </a:lnTo>
                  <a:lnTo>
                    <a:pt x="1431" y="634"/>
                  </a:lnTo>
                  <a:lnTo>
                    <a:pt x="1463" y="640"/>
                  </a:lnTo>
                  <a:lnTo>
                    <a:pt x="1491" y="646"/>
                  </a:lnTo>
                  <a:lnTo>
                    <a:pt x="1517" y="651"/>
                  </a:lnTo>
                  <a:lnTo>
                    <a:pt x="1539" y="655"/>
                  </a:lnTo>
                  <a:lnTo>
                    <a:pt x="1560" y="658"/>
                  </a:lnTo>
                  <a:lnTo>
                    <a:pt x="1575" y="661"/>
                  </a:lnTo>
                  <a:lnTo>
                    <a:pt x="1586" y="663"/>
                  </a:lnTo>
                  <a:lnTo>
                    <a:pt x="1595" y="665"/>
                  </a:lnTo>
                  <a:lnTo>
                    <a:pt x="1602" y="665"/>
                  </a:lnTo>
                  <a:lnTo>
                    <a:pt x="1606" y="667"/>
                  </a:lnTo>
                  <a:lnTo>
                    <a:pt x="1611" y="667"/>
                  </a:lnTo>
                  <a:lnTo>
                    <a:pt x="1614" y="667"/>
                  </a:lnTo>
                  <a:lnTo>
                    <a:pt x="1619" y="667"/>
                  </a:lnTo>
                  <a:lnTo>
                    <a:pt x="1623" y="669"/>
                  </a:lnTo>
                  <a:lnTo>
                    <a:pt x="1630" y="670"/>
                  </a:lnTo>
                  <a:lnTo>
                    <a:pt x="1639" y="671"/>
                  </a:lnTo>
                  <a:lnTo>
                    <a:pt x="1652" y="673"/>
                  </a:lnTo>
                  <a:lnTo>
                    <a:pt x="1668" y="677"/>
                  </a:lnTo>
                  <a:lnTo>
                    <a:pt x="1689" y="679"/>
                  </a:lnTo>
                  <a:lnTo>
                    <a:pt x="1715" y="683"/>
                  </a:lnTo>
                  <a:lnTo>
                    <a:pt x="1748" y="688"/>
                  </a:lnTo>
                </a:path>
              </a:pathLst>
            </a:custGeom>
            <a:noFill/>
            <a:ln w="5724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00400" y="2438280"/>
              <a:ext cx="1282680" cy="2692440"/>
            </a:xfrm>
            <a:custGeom>
              <a:avLst/>
              <a:gdLst/>
              <a:ahLst/>
              <a:rect l="l" t="t" r="r" b="b"/>
              <a:pathLst>
                <a:path w="808" h="1696">
                  <a:moveTo>
                    <a:pt x="807" y="1695"/>
                  </a:moveTo>
                  <a:lnTo>
                    <a:pt x="793" y="1684"/>
                  </a:lnTo>
                  <a:lnTo>
                    <a:pt x="782" y="1674"/>
                  </a:lnTo>
                  <a:lnTo>
                    <a:pt x="774" y="1666"/>
                  </a:lnTo>
                  <a:lnTo>
                    <a:pt x="767" y="1659"/>
                  </a:lnTo>
                  <a:lnTo>
                    <a:pt x="762" y="1655"/>
                  </a:lnTo>
                  <a:lnTo>
                    <a:pt x="758" y="1651"/>
                  </a:lnTo>
                  <a:lnTo>
                    <a:pt x="755" y="1649"/>
                  </a:lnTo>
                  <a:lnTo>
                    <a:pt x="754" y="1646"/>
                  </a:lnTo>
                  <a:lnTo>
                    <a:pt x="752" y="1646"/>
                  </a:lnTo>
                  <a:lnTo>
                    <a:pt x="750" y="1644"/>
                  </a:lnTo>
                  <a:lnTo>
                    <a:pt x="748" y="1642"/>
                  </a:lnTo>
                  <a:lnTo>
                    <a:pt x="747" y="1640"/>
                  </a:lnTo>
                  <a:lnTo>
                    <a:pt x="744" y="1638"/>
                  </a:lnTo>
                  <a:lnTo>
                    <a:pt x="741" y="1634"/>
                  </a:lnTo>
                  <a:lnTo>
                    <a:pt x="735" y="1630"/>
                  </a:lnTo>
                  <a:lnTo>
                    <a:pt x="730" y="1623"/>
                  </a:lnTo>
                  <a:lnTo>
                    <a:pt x="721" y="1616"/>
                  </a:lnTo>
                  <a:lnTo>
                    <a:pt x="713" y="1607"/>
                  </a:lnTo>
                  <a:lnTo>
                    <a:pt x="702" y="1597"/>
                  </a:lnTo>
                  <a:lnTo>
                    <a:pt x="693" y="1586"/>
                  </a:lnTo>
                  <a:lnTo>
                    <a:pt x="681" y="1575"/>
                  </a:lnTo>
                  <a:lnTo>
                    <a:pt x="669" y="1562"/>
                  </a:lnTo>
                  <a:lnTo>
                    <a:pt x="657" y="1549"/>
                  </a:lnTo>
                  <a:lnTo>
                    <a:pt x="646" y="1534"/>
                  </a:lnTo>
                  <a:lnTo>
                    <a:pt x="633" y="1521"/>
                  </a:lnTo>
                  <a:lnTo>
                    <a:pt x="621" y="1506"/>
                  </a:lnTo>
                  <a:lnTo>
                    <a:pt x="608" y="1492"/>
                  </a:lnTo>
                  <a:lnTo>
                    <a:pt x="596" y="1477"/>
                  </a:lnTo>
                  <a:lnTo>
                    <a:pt x="585" y="1464"/>
                  </a:lnTo>
                  <a:lnTo>
                    <a:pt x="573" y="1450"/>
                  </a:lnTo>
                  <a:lnTo>
                    <a:pt x="563" y="1437"/>
                  </a:lnTo>
                  <a:lnTo>
                    <a:pt x="554" y="1423"/>
                  </a:lnTo>
                  <a:lnTo>
                    <a:pt x="543" y="1412"/>
                  </a:lnTo>
                  <a:lnTo>
                    <a:pt x="533" y="1397"/>
                  </a:lnTo>
                  <a:lnTo>
                    <a:pt x="521" y="1382"/>
                  </a:lnTo>
                  <a:lnTo>
                    <a:pt x="510" y="1365"/>
                  </a:lnTo>
                  <a:lnTo>
                    <a:pt x="497" y="1348"/>
                  </a:lnTo>
                  <a:lnTo>
                    <a:pt x="485" y="1329"/>
                  </a:lnTo>
                  <a:lnTo>
                    <a:pt x="472" y="1311"/>
                  </a:lnTo>
                  <a:lnTo>
                    <a:pt x="461" y="1290"/>
                  </a:lnTo>
                  <a:lnTo>
                    <a:pt x="448" y="1271"/>
                  </a:lnTo>
                  <a:lnTo>
                    <a:pt x="436" y="1252"/>
                  </a:lnTo>
                  <a:lnTo>
                    <a:pt x="424" y="1233"/>
                  </a:lnTo>
                  <a:lnTo>
                    <a:pt x="413" y="1214"/>
                  </a:lnTo>
                  <a:lnTo>
                    <a:pt x="402" y="1197"/>
                  </a:lnTo>
                  <a:lnTo>
                    <a:pt x="392" y="1179"/>
                  </a:lnTo>
                  <a:lnTo>
                    <a:pt x="383" y="1164"/>
                  </a:lnTo>
                  <a:lnTo>
                    <a:pt x="375" y="1148"/>
                  </a:lnTo>
                  <a:lnTo>
                    <a:pt x="367" y="1133"/>
                  </a:lnTo>
                  <a:lnTo>
                    <a:pt x="357" y="1115"/>
                  </a:lnTo>
                  <a:lnTo>
                    <a:pt x="347" y="1093"/>
                  </a:lnTo>
                  <a:lnTo>
                    <a:pt x="337" y="1068"/>
                  </a:lnTo>
                  <a:lnTo>
                    <a:pt x="324" y="1041"/>
                  </a:lnTo>
                  <a:lnTo>
                    <a:pt x="313" y="1012"/>
                  </a:lnTo>
                  <a:lnTo>
                    <a:pt x="299" y="982"/>
                  </a:lnTo>
                  <a:lnTo>
                    <a:pt x="288" y="949"/>
                  </a:lnTo>
                  <a:lnTo>
                    <a:pt x="275" y="917"/>
                  </a:lnTo>
                  <a:lnTo>
                    <a:pt x="262" y="883"/>
                  </a:lnTo>
                  <a:lnTo>
                    <a:pt x="249" y="849"/>
                  </a:lnTo>
                  <a:lnTo>
                    <a:pt x="236" y="815"/>
                  </a:lnTo>
                  <a:lnTo>
                    <a:pt x="223" y="783"/>
                  </a:lnTo>
                  <a:lnTo>
                    <a:pt x="212" y="749"/>
                  </a:lnTo>
                  <a:lnTo>
                    <a:pt x="201" y="718"/>
                  </a:lnTo>
                  <a:lnTo>
                    <a:pt x="191" y="687"/>
                  </a:lnTo>
                  <a:lnTo>
                    <a:pt x="180" y="657"/>
                  </a:lnTo>
                  <a:lnTo>
                    <a:pt x="170" y="624"/>
                  </a:lnTo>
                  <a:lnTo>
                    <a:pt x="159" y="591"/>
                  </a:lnTo>
                  <a:lnTo>
                    <a:pt x="148" y="555"/>
                  </a:lnTo>
                  <a:lnTo>
                    <a:pt x="137" y="521"/>
                  </a:lnTo>
                  <a:lnTo>
                    <a:pt x="126" y="485"/>
                  </a:lnTo>
                  <a:lnTo>
                    <a:pt x="115" y="449"/>
                  </a:lnTo>
                  <a:lnTo>
                    <a:pt x="105" y="413"/>
                  </a:lnTo>
                  <a:lnTo>
                    <a:pt x="94" y="379"/>
                  </a:lnTo>
                  <a:lnTo>
                    <a:pt x="85" y="345"/>
                  </a:lnTo>
                  <a:lnTo>
                    <a:pt x="75" y="313"/>
                  </a:lnTo>
                  <a:lnTo>
                    <a:pt x="68" y="282"/>
                  </a:lnTo>
                  <a:lnTo>
                    <a:pt x="60" y="255"/>
                  </a:lnTo>
                  <a:lnTo>
                    <a:pt x="53" y="229"/>
                  </a:lnTo>
                  <a:lnTo>
                    <a:pt x="47" y="206"/>
                  </a:lnTo>
                  <a:lnTo>
                    <a:pt x="43" y="186"/>
                  </a:lnTo>
                  <a:lnTo>
                    <a:pt x="39" y="171"/>
                  </a:lnTo>
                  <a:lnTo>
                    <a:pt x="36" y="160"/>
                  </a:lnTo>
                  <a:lnTo>
                    <a:pt x="34" y="152"/>
                  </a:lnTo>
                  <a:lnTo>
                    <a:pt x="33" y="145"/>
                  </a:lnTo>
                  <a:lnTo>
                    <a:pt x="31" y="141"/>
                  </a:lnTo>
                  <a:lnTo>
                    <a:pt x="31" y="137"/>
                  </a:lnTo>
                  <a:lnTo>
                    <a:pt x="29" y="133"/>
                  </a:lnTo>
                  <a:lnTo>
                    <a:pt x="29" y="129"/>
                  </a:lnTo>
                  <a:lnTo>
                    <a:pt x="27" y="124"/>
                  </a:lnTo>
                  <a:lnTo>
                    <a:pt x="26" y="117"/>
                  </a:lnTo>
                  <a:lnTo>
                    <a:pt x="23" y="109"/>
                  </a:lnTo>
                  <a:lnTo>
                    <a:pt x="21" y="95"/>
                  </a:lnTo>
                  <a:lnTo>
                    <a:pt x="17" y="80"/>
                  </a:lnTo>
                  <a:lnTo>
                    <a:pt x="12" y="59"/>
                  </a:lnTo>
                  <a:lnTo>
                    <a:pt x="6" y="33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greso equivalente a Ingreso igualitariamente distribuid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133720" y="1774800"/>
            <a:ext cx="7378560" cy="5235480"/>
            <a:chOff x="2133720" y="1774800"/>
            <a:chExt cx="7378560" cy="5235480"/>
          </a:xfrm>
        </p:grpSpPr>
        <p:sp>
          <p:nvSpPr>
            <p:cNvPr id="939" name=""/>
            <p:cNvSpPr/>
            <p:nvPr/>
          </p:nvSpPr>
          <p:spPr>
            <a:xfrm flipV="1">
              <a:off x="2782800" y="2819520"/>
              <a:ext cx="3770280" cy="4037040"/>
            </a:xfrm>
            <a:prstGeom prst="line">
              <a:avLst/>
            </a:prstGeom>
            <a:ln w="47520">
              <a:solidFill>
                <a:srgbClr val="4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16200000">
              <a:off x="2108160" y="2052720"/>
              <a:ext cx="8748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greso de Ped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636040" y="6435720"/>
              <a:ext cx="8762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greso de Ju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2787480" y="1774800"/>
              <a:ext cx="0" cy="51055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66960" y="6851520"/>
              <a:ext cx="5592960" cy="32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4714920" y="4565520"/>
            <a:ext cx="847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267080" y="6858000"/>
            <a:ext cx="1067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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4670280" y="4873680"/>
            <a:ext cx="28800" cy="19843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04800" y="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greso med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4800" y="0"/>
            <a:ext cx="945360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Una pérdida de bienestar debido a la desigualdad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3406680" y="2139840"/>
            <a:ext cx="4060800" cy="3786120"/>
            <a:chOff x="3406680" y="2139840"/>
            <a:chExt cx="4060800" cy="3786120"/>
          </a:xfrm>
        </p:grpSpPr>
        <p:sp>
          <p:nvSpPr>
            <p:cNvPr id="950" name=""/>
            <p:cNvSpPr/>
            <p:nvPr/>
          </p:nvSpPr>
          <p:spPr>
            <a:xfrm>
              <a:off x="4692600" y="4832280"/>
              <a:ext cx="2774880" cy="1093680"/>
            </a:xfrm>
            <a:custGeom>
              <a:avLst/>
              <a:gdLst/>
              <a:ahLst/>
              <a:rect l="l" t="t" r="r" b="b"/>
              <a:pathLst>
                <a:path w="1748" h="689">
                  <a:moveTo>
                    <a:pt x="0" y="0"/>
                  </a:moveTo>
                  <a:lnTo>
                    <a:pt x="12" y="13"/>
                  </a:lnTo>
                  <a:lnTo>
                    <a:pt x="23" y="23"/>
                  </a:lnTo>
                  <a:lnTo>
                    <a:pt x="31" y="32"/>
                  </a:lnTo>
                  <a:lnTo>
                    <a:pt x="38" y="37"/>
                  </a:lnTo>
                  <a:lnTo>
                    <a:pt x="42" y="43"/>
                  </a:lnTo>
                  <a:lnTo>
                    <a:pt x="46" y="46"/>
                  </a:lnTo>
                  <a:lnTo>
                    <a:pt x="49" y="48"/>
                  </a:lnTo>
                  <a:lnTo>
                    <a:pt x="52" y="50"/>
                  </a:lnTo>
                  <a:lnTo>
                    <a:pt x="53" y="52"/>
                  </a:lnTo>
                  <a:lnTo>
                    <a:pt x="55" y="54"/>
                  </a:lnTo>
                  <a:lnTo>
                    <a:pt x="56" y="55"/>
                  </a:lnTo>
                  <a:lnTo>
                    <a:pt x="58" y="56"/>
                  </a:lnTo>
                  <a:lnTo>
                    <a:pt x="60" y="60"/>
                  </a:lnTo>
                  <a:lnTo>
                    <a:pt x="64" y="62"/>
                  </a:lnTo>
                  <a:lnTo>
                    <a:pt x="70" y="67"/>
                  </a:lnTo>
                  <a:lnTo>
                    <a:pt x="76" y="72"/>
                  </a:lnTo>
                  <a:lnTo>
                    <a:pt x="83" y="81"/>
                  </a:lnTo>
                  <a:lnTo>
                    <a:pt x="93" y="88"/>
                  </a:lnTo>
                  <a:lnTo>
                    <a:pt x="104" y="98"/>
                  </a:lnTo>
                  <a:lnTo>
                    <a:pt x="116" y="107"/>
                  </a:lnTo>
                  <a:lnTo>
                    <a:pt x="128" y="118"/>
                  </a:lnTo>
                  <a:lnTo>
                    <a:pt x="141" y="128"/>
                  </a:lnTo>
                  <a:lnTo>
                    <a:pt x="156" y="140"/>
                  </a:lnTo>
                  <a:lnTo>
                    <a:pt x="171" y="150"/>
                  </a:lnTo>
                  <a:lnTo>
                    <a:pt x="186" y="162"/>
                  </a:lnTo>
                  <a:lnTo>
                    <a:pt x="201" y="173"/>
                  </a:lnTo>
                  <a:lnTo>
                    <a:pt x="216" y="184"/>
                  </a:lnTo>
                  <a:lnTo>
                    <a:pt x="231" y="195"/>
                  </a:lnTo>
                  <a:lnTo>
                    <a:pt x="246" y="206"/>
                  </a:lnTo>
                  <a:lnTo>
                    <a:pt x="260" y="216"/>
                  </a:lnTo>
                  <a:lnTo>
                    <a:pt x="274" y="226"/>
                  </a:lnTo>
                  <a:lnTo>
                    <a:pt x="288" y="234"/>
                  </a:lnTo>
                  <a:lnTo>
                    <a:pt x="300" y="243"/>
                  </a:lnTo>
                  <a:lnTo>
                    <a:pt x="316" y="252"/>
                  </a:lnTo>
                  <a:lnTo>
                    <a:pt x="332" y="263"/>
                  </a:lnTo>
                  <a:lnTo>
                    <a:pt x="349" y="272"/>
                  </a:lnTo>
                  <a:lnTo>
                    <a:pt x="367" y="284"/>
                  </a:lnTo>
                  <a:lnTo>
                    <a:pt x="386" y="295"/>
                  </a:lnTo>
                  <a:lnTo>
                    <a:pt x="406" y="306"/>
                  </a:lnTo>
                  <a:lnTo>
                    <a:pt x="427" y="317"/>
                  </a:lnTo>
                  <a:lnTo>
                    <a:pt x="446" y="328"/>
                  </a:lnTo>
                  <a:lnTo>
                    <a:pt x="467" y="339"/>
                  </a:lnTo>
                  <a:lnTo>
                    <a:pt x="486" y="350"/>
                  </a:lnTo>
                  <a:lnTo>
                    <a:pt x="506" y="359"/>
                  </a:lnTo>
                  <a:lnTo>
                    <a:pt x="524" y="368"/>
                  </a:lnTo>
                  <a:lnTo>
                    <a:pt x="542" y="377"/>
                  </a:lnTo>
                  <a:lnTo>
                    <a:pt x="558" y="385"/>
                  </a:lnTo>
                  <a:lnTo>
                    <a:pt x="574" y="392"/>
                  </a:lnTo>
                  <a:lnTo>
                    <a:pt x="589" y="399"/>
                  </a:lnTo>
                  <a:lnTo>
                    <a:pt x="609" y="407"/>
                  </a:lnTo>
                  <a:lnTo>
                    <a:pt x="631" y="416"/>
                  </a:lnTo>
                  <a:lnTo>
                    <a:pt x="657" y="425"/>
                  </a:lnTo>
                  <a:lnTo>
                    <a:pt x="684" y="435"/>
                  </a:lnTo>
                  <a:lnTo>
                    <a:pt x="714" y="445"/>
                  </a:lnTo>
                  <a:lnTo>
                    <a:pt x="745" y="456"/>
                  </a:lnTo>
                  <a:lnTo>
                    <a:pt x="779" y="465"/>
                  </a:lnTo>
                  <a:lnTo>
                    <a:pt x="812" y="476"/>
                  </a:lnTo>
                  <a:lnTo>
                    <a:pt x="847" y="488"/>
                  </a:lnTo>
                  <a:lnTo>
                    <a:pt x="882" y="499"/>
                  </a:lnTo>
                  <a:lnTo>
                    <a:pt x="917" y="508"/>
                  </a:lnTo>
                  <a:lnTo>
                    <a:pt x="951" y="518"/>
                  </a:lnTo>
                  <a:lnTo>
                    <a:pt x="984" y="528"/>
                  </a:lnTo>
                  <a:lnTo>
                    <a:pt x="1017" y="536"/>
                  </a:lnTo>
                  <a:lnTo>
                    <a:pt x="1049" y="544"/>
                  </a:lnTo>
                  <a:lnTo>
                    <a:pt x="1079" y="553"/>
                  </a:lnTo>
                  <a:lnTo>
                    <a:pt x="1112" y="561"/>
                  </a:lnTo>
                  <a:lnTo>
                    <a:pt x="1147" y="570"/>
                  </a:lnTo>
                  <a:lnTo>
                    <a:pt x="1182" y="577"/>
                  </a:lnTo>
                  <a:lnTo>
                    <a:pt x="1218" y="586"/>
                  </a:lnTo>
                  <a:lnTo>
                    <a:pt x="1254" y="594"/>
                  </a:lnTo>
                  <a:lnTo>
                    <a:pt x="1291" y="602"/>
                  </a:lnTo>
                  <a:lnTo>
                    <a:pt x="1328" y="610"/>
                  </a:lnTo>
                  <a:lnTo>
                    <a:pt x="1362" y="618"/>
                  </a:lnTo>
                  <a:lnTo>
                    <a:pt x="1397" y="626"/>
                  </a:lnTo>
                  <a:lnTo>
                    <a:pt x="1429" y="633"/>
                  </a:lnTo>
                  <a:lnTo>
                    <a:pt x="1461" y="639"/>
                  </a:lnTo>
                  <a:lnTo>
                    <a:pt x="1489" y="646"/>
                  </a:lnTo>
                  <a:lnTo>
                    <a:pt x="1515" y="651"/>
                  </a:lnTo>
                  <a:lnTo>
                    <a:pt x="1538" y="654"/>
                  </a:lnTo>
                  <a:lnTo>
                    <a:pt x="1558" y="658"/>
                  </a:lnTo>
                  <a:lnTo>
                    <a:pt x="1574" y="660"/>
                  </a:lnTo>
                  <a:lnTo>
                    <a:pt x="1585" y="662"/>
                  </a:lnTo>
                  <a:lnTo>
                    <a:pt x="1593" y="664"/>
                  </a:lnTo>
                  <a:lnTo>
                    <a:pt x="1600" y="664"/>
                  </a:lnTo>
                  <a:lnTo>
                    <a:pt x="1605" y="666"/>
                  </a:lnTo>
                  <a:lnTo>
                    <a:pt x="1609" y="666"/>
                  </a:lnTo>
                  <a:lnTo>
                    <a:pt x="1613" y="668"/>
                  </a:lnTo>
                  <a:lnTo>
                    <a:pt x="1617" y="668"/>
                  </a:lnTo>
                  <a:lnTo>
                    <a:pt x="1622" y="669"/>
                  </a:lnTo>
                  <a:lnTo>
                    <a:pt x="1628" y="670"/>
                  </a:lnTo>
                  <a:lnTo>
                    <a:pt x="1638" y="672"/>
                  </a:lnTo>
                  <a:lnTo>
                    <a:pt x="1651" y="673"/>
                  </a:lnTo>
                  <a:lnTo>
                    <a:pt x="1666" y="677"/>
                  </a:lnTo>
                  <a:lnTo>
                    <a:pt x="1688" y="679"/>
                  </a:lnTo>
                  <a:lnTo>
                    <a:pt x="1714" y="684"/>
                  </a:lnTo>
                  <a:lnTo>
                    <a:pt x="1747" y="688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406680" y="2139840"/>
              <a:ext cx="1284480" cy="2692440"/>
            </a:xfrm>
            <a:custGeom>
              <a:avLst/>
              <a:gdLst/>
              <a:ahLst/>
              <a:rect l="l" t="t" r="r" b="b"/>
              <a:pathLst>
                <a:path w="809" h="1696">
                  <a:moveTo>
                    <a:pt x="808" y="1695"/>
                  </a:moveTo>
                  <a:lnTo>
                    <a:pt x="794" y="1683"/>
                  </a:lnTo>
                  <a:lnTo>
                    <a:pt x="784" y="1673"/>
                  </a:lnTo>
                  <a:lnTo>
                    <a:pt x="775" y="1666"/>
                  </a:lnTo>
                  <a:lnTo>
                    <a:pt x="768" y="1659"/>
                  </a:lnTo>
                  <a:lnTo>
                    <a:pt x="763" y="1654"/>
                  </a:lnTo>
                  <a:lnTo>
                    <a:pt x="759" y="1651"/>
                  </a:lnTo>
                  <a:lnTo>
                    <a:pt x="757" y="1649"/>
                  </a:lnTo>
                  <a:lnTo>
                    <a:pt x="755" y="1646"/>
                  </a:lnTo>
                  <a:lnTo>
                    <a:pt x="753" y="1645"/>
                  </a:lnTo>
                  <a:lnTo>
                    <a:pt x="751" y="1643"/>
                  </a:lnTo>
                  <a:lnTo>
                    <a:pt x="749" y="1642"/>
                  </a:lnTo>
                  <a:lnTo>
                    <a:pt x="748" y="1640"/>
                  </a:lnTo>
                  <a:lnTo>
                    <a:pt x="745" y="1638"/>
                  </a:lnTo>
                  <a:lnTo>
                    <a:pt x="742" y="1634"/>
                  </a:lnTo>
                  <a:lnTo>
                    <a:pt x="737" y="1630"/>
                  </a:lnTo>
                  <a:lnTo>
                    <a:pt x="731" y="1623"/>
                  </a:lnTo>
                  <a:lnTo>
                    <a:pt x="722" y="1616"/>
                  </a:lnTo>
                  <a:lnTo>
                    <a:pt x="714" y="1607"/>
                  </a:lnTo>
                  <a:lnTo>
                    <a:pt x="703" y="1597"/>
                  </a:lnTo>
                  <a:lnTo>
                    <a:pt x="694" y="1586"/>
                  </a:lnTo>
                  <a:lnTo>
                    <a:pt x="682" y="1575"/>
                  </a:lnTo>
                  <a:lnTo>
                    <a:pt x="670" y="1562"/>
                  </a:lnTo>
                  <a:lnTo>
                    <a:pt x="658" y="1548"/>
                  </a:lnTo>
                  <a:lnTo>
                    <a:pt x="647" y="1534"/>
                  </a:lnTo>
                  <a:lnTo>
                    <a:pt x="634" y="1520"/>
                  </a:lnTo>
                  <a:lnTo>
                    <a:pt x="621" y="1506"/>
                  </a:lnTo>
                  <a:lnTo>
                    <a:pt x="608" y="1492"/>
                  </a:lnTo>
                  <a:lnTo>
                    <a:pt x="597" y="1477"/>
                  </a:lnTo>
                  <a:lnTo>
                    <a:pt x="585" y="1464"/>
                  </a:lnTo>
                  <a:lnTo>
                    <a:pt x="574" y="1449"/>
                  </a:lnTo>
                  <a:lnTo>
                    <a:pt x="564" y="1436"/>
                  </a:lnTo>
                  <a:lnTo>
                    <a:pt x="555" y="1423"/>
                  </a:lnTo>
                  <a:lnTo>
                    <a:pt x="544" y="1411"/>
                  </a:lnTo>
                  <a:lnTo>
                    <a:pt x="534" y="1397"/>
                  </a:lnTo>
                  <a:lnTo>
                    <a:pt x="523" y="1381"/>
                  </a:lnTo>
                  <a:lnTo>
                    <a:pt x="512" y="1364"/>
                  </a:lnTo>
                  <a:lnTo>
                    <a:pt x="498" y="1348"/>
                  </a:lnTo>
                  <a:lnTo>
                    <a:pt x="486" y="1329"/>
                  </a:lnTo>
                  <a:lnTo>
                    <a:pt x="473" y="1310"/>
                  </a:lnTo>
                  <a:lnTo>
                    <a:pt x="462" y="1290"/>
                  </a:lnTo>
                  <a:lnTo>
                    <a:pt x="448" y="1271"/>
                  </a:lnTo>
                  <a:lnTo>
                    <a:pt x="436" y="1252"/>
                  </a:lnTo>
                  <a:lnTo>
                    <a:pt x="425" y="1233"/>
                  </a:lnTo>
                  <a:lnTo>
                    <a:pt x="414" y="1214"/>
                  </a:lnTo>
                  <a:lnTo>
                    <a:pt x="402" y="1196"/>
                  </a:lnTo>
                  <a:lnTo>
                    <a:pt x="393" y="1179"/>
                  </a:lnTo>
                  <a:lnTo>
                    <a:pt x="384" y="1164"/>
                  </a:lnTo>
                  <a:lnTo>
                    <a:pt x="377" y="1148"/>
                  </a:lnTo>
                  <a:lnTo>
                    <a:pt x="368" y="1133"/>
                  </a:lnTo>
                  <a:lnTo>
                    <a:pt x="358" y="1114"/>
                  </a:lnTo>
                  <a:lnTo>
                    <a:pt x="348" y="1093"/>
                  </a:lnTo>
                  <a:lnTo>
                    <a:pt x="338" y="1068"/>
                  </a:lnTo>
                  <a:lnTo>
                    <a:pt x="326" y="1040"/>
                  </a:lnTo>
                  <a:lnTo>
                    <a:pt x="314" y="1012"/>
                  </a:lnTo>
                  <a:lnTo>
                    <a:pt x="300" y="981"/>
                  </a:lnTo>
                  <a:lnTo>
                    <a:pt x="289" y="949"/>
                  </a:lnTo>
                  <a:lnTo>
                    <a:pt x="276" y="916"/>
                  </a:lnTo>
                  <a:lnTo>
                    <a:pt x="262" y="883"/>
                  </a:lnTo>
                  <a:lnTo>
                    <a:pt x="249" y="849"/>
                  </a:lnTo>
                  <a:lnTo>
                    <a:pt x="237" y="815"/>
                  </a:lnTo>
                  <a:lnTo>
                    <a:pt x="224" y="782"/>
                  </a:lnTo>
                  <a:lnTo>
                    <a:pt x="212" y="749"/>
                  </a:lnTo>
                  <a:lnTo>
                    <a:pt x="201" y="717"/>
                  </a:lnTo>
                  <a:lnTo>
                    <a:pt x="192" y="686"/>
                  </a:lnTo>
                  <a:lnTo>
                    <a:pt x="181" y="656"/>
                  </a:lnTo>
                  <a:lnTo>
                    <a:pt x="171" y="624"/>
                  </a:lnTo>
                  <a:lnTo>
                    <a:pt x="160" y="591"/>
                  </a:lnTo>
                  <a:lnTo>
                    <a:pt x="149" y="555"/>
                  </a:lnTo>
                  <a:lnTo>
                    <a:pt x="138" y="520"/>
                  </a:lnTo>
                  <a:lnTo>
                    <a:pt x="126" y="484"/>
                  </a:lnTo>
                  <a:lnTo>
                    <a:pt x="115" y="449"/>
                  </a:lnTo>
                  <a:lnTo>
                    <a:pt x="106" y="412"/>
                  </a:lnTo>
                  <a:lnTo>
                    <a:pt x="94" y="378"/>
                  </a:lnTo>
                  <a:lnTo>
                    <a:pt x="85" y="344"/>
                  </a:lnTo>
                  <a:lnTo>
                    <a:pt x="75" y="312"/>
                  </a:lnTo>
                  <a:lnTo>
                    <a:pt x="68" y="282"/>
                  </a:lnTo>
                  <a:lnTo>
                    <a:pt x="60" y="254"/>
                  </a:lnTo>
                  <a:lnTo>
                    <a:pt x="53" y="228"/>
                  </a:lnTo>
                  <a:lnTo>
                    <a:pt x="47" y="206"/>
                  </a:lnTo>
                  <a:lnTo>
                    <a:pt x="44" y="186"/>
                  </a:lnTo>
                  <a:lnTo>
                    <a:pt x="39" y="171"/>
                  </a:lnTo>
                  <a:lnTo>
                    <a:pt x="36" y="160"/>
                  </a:lnTo>
                  <a:lnTo>
                    <a:pt x="34" y="151"/>
                  </a:lnTo>
                  <a:lnTo>
                    <a:pt x="33" y="144"/>
                  </a:lnTo>
                  <a:lnTo>
                    <a:pt x="31" y="140"/>
                  </a:lnTo>
                  <a:lnTo>
                    <a:pt x="30" y="136"/>
                  </a:lnTo>
                  <a:lnTo>
                    <a:pt x="29" y="133"/>
                  </a:lnTo>
                  <a:lnTo>
                    <a:pt x="29" y="128"/>
                  </a:lnTo>
                  <a:lnTo>
                    <a:pt x="27" y="124"/>
                  </a:lnTo>
                  <a:lnTo>
                    <a:pt x="26" y="117"/>
                  </a:lnTo>
                  <a:lnTo>
                    <a:pt x="24" y="108"/>
                  </a:lnTo>
                  <a:lnTo>
                    <a:pt x="22" y="95"/>
                  </a:lnTo>
                  <a:lnTo>
                    <a:pt x="16" y="80"/>
                  </a:lnTo>
                  <a:lnTo>
                    <a:pt x="12" y="59"/>
                  </a:lnTo>
                  <a:lnTo>
                    <a:pt x="6" y="34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3753000" y="1771560"/>
            <a:ext cx="4060800" cy="3784680"/>
            <a:chOff x="3753000" y="1771560"/>
            <a:chExt cx="4060800" cy="3784680"/>
          </a:xfrm>
        </p:grpSpPr>
        <p:sp>
          <p:nvSpPr>
            <p:cNvPr id="953" name=""/>
            <p:cNvSpPr/>
            <p:nvPr/>
          </p:nvSpPr>
          <p:spPr>
            <a:xfrm>
              <a:off x="5035680" y="4464000"/>
              <a:ext cx="2778120" cy="1092240"/>
            </a:xfrm>
            <a:custGeom>
              <a:avLst/>
              <a:gdLst/>
              <a:ahLst/>
              <a:rect l="l" t="t" r="r" b="b"/>
              <a:pathLst>
                <a:path w="1750" h="688">
                  <a:moveTo>
                    <a:pt x="0" y="0"/>
                  </a:moveTo>
                  <a:lnTo>
                    <a:pt x="12" y="13"/>
                  </a:lnTo>
                  <a:lnTo>
                    <a:pt x="23" y="23"/>
                  </a:lnTo>
                  <a:lnTo>
                    <a:pt x="32" y="32"/>
                  </a:lnTo>
                  <a:lnTo>
                    <a:pt x="38" y="38"/>
                  </a:lnTo>
                  <a:lnTo>
                    <a:pt x="43" y="43"/>
                  </a:lnTo>
                  <a:lnTo>
                    <a:pt x="47" y="46"/>
                  </a:lnTo>
                  <a:lnTo>
                    <a:pt x="50" y="49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5" y="54"/>
                  </a:lnTo>
                  <a:lnTo>
                    <a:pt x="57" y="56"/>
                  </a:lnTo>
                  <a:lnTo>
                    <a:pt x="59" y="57"/>
                  </a:lnTo>
                  <a:lnTo>
                    <a:pt x="61" y="60"/>
                  </a:lnTo>
                  <a:lnTo>
                    <a:pt x="65" y="63"/>
                  </a:lnTo>
                  <a:lnTo>
                    <a:pt x="70" y="68"/>
                  </a:lnTo>
                  <a:lnTo>
                    <a:pt x="77" y="73"/>
                  </a:lnTo>
                  <a:lnTo>
                    <a:pt x="84" y="81"/>
                  </a:lnTo>
                  <a:lnTo>
                    <a:pt x="94" y="89"/>
                  </a:lnTo>
                  <a:lnTo>
                    <a:pt x="104" y="98"/>
                  </a:lnTo>
                  <a:lnTo>
                    <a:pt x="116" y="108"/>
                  </a:lnTo>
                  <a:lnTo>
                    <a:pt x="129" y="119"/>
                  </a:lnTo>
                  <a:lnTo>
                    <a:pt x="142" y="129"/>
                  </a:lnTo>
                  <a:lnTo>
                    <a:pt x="157" y="140"/>
                  </a:lnTo>
                  <a:lnTo>
                    <a:pt x="172" y="150"/>
                  </a:lnTo>
                  <a:lnTo>
                    <a:pt x="187" y="162"/>
                  </a:lnTo>
                  <a:lnTo>
                    <a:pt x="202" y="173"/>
                  </a:lnTo>
                  <a:lnTo>
                    <a:pt x="217" y="184"/>
                  </a:lnTo>
                  <a:lnTo>
                    <a:pt x="232" y="195"/>
                  </a:lnTo>
                  <a:lnTo>
                    <a:pt x="247" y="206"/>
                  </a:lnTo>
                  <a:lnTo>
                    <a:pt x="262" y="216"/>
                  </a:lnTo>
                  <a:lnTo>
                    <a:pt x="275" y="226"/>
                  </a:lnTo>
                  <a:lnTo>
                    <a:pt x="289" y="234"/>
                  </a:lnTo>
                  <a:lnTo>
                    <a:pt x="302" y="243"/>
                  </a:lnTo>
                  <a:lnTo>
                    <a:pt x="316" y="252"/>
                  </a:lnTo>
                  <a:lnTo>
                    <a:pt x="333" y="263"/>
                  </a:lnTo>
                  <a:lnTo>
                    <a:pt x="350" y="272"/>
                  </a:lnTo>
                  <a:lnTo>
                    <a:pt x="368" y="284"/>
                  </a:lnTo>
                  <a:lnTo>
                    <a:pt x="388" y="295"/>
                  </a:lnTo>
                  <a:lnTo>
                    <a:pt x="408" y="306"/>
                  </a:lnTo>
                  <a:lnTo>
                    <a:pt x="428" y="317"/>
                  </a:lnTo>
                  <a:lnTo>
                    <a:pt x="448" y="328"/>
                  </a:lnTo>
                  <a:lnTo>
                    <a:pt x="468" y="339"/>
                  </a:lnTo>
                  <a:lnTo>
                    <a:pt x="488" y="350"/>
                  </a:lnTo>
                  <a:lnTo>
                    <a:pt x="508" y="359"/>
                  </a:lnTo>
                  <a:lnTo>
                    <a:pt x="525" y="369"/>
                  </a:lnTo>
                  <a:lnTo>
                    <a:pt x="543" y="378"/>
                  </a:lnTo>
                  <a:lnTo>
                    <a:pt x="559" y="385"/>
                  </a:lnTo>
                  <a:lnTo>
                    <a:pt x="576" y="392"/>
                  </a:lnTo>
                  <a:lnTo>
                    <a:pt x="590" y="400"/>
                  </a:lnTo>
                  <a:lnTo>
                    <a:pt x="610" y="408"/>
                  </a:lnTo>
                  <a:lnTo>
                    <a:pt x="632" y="417"/>
                  </a:lnTo>
                  <a:lnTo>
                    <a:pt x="658" y="426"/>
                  </a:lnTo>
                  <a:lnTo>
                    <a:pt x="685" y="436"/>
                  </a:lnTo>
                  <a:lnTo>
                    <a:pt x="715" y="446"/>
                  </a:lnTo>
                  <a:lnTo>
                    <a:pt x="746" y="457"/>
                  </a:lnTo>
                  <a:lnTo>
                    <a:pt x="780" y="466"/>
                  </a:lnTo>
                  <a:lnTo>
                    <a:pt x="813" y="478"/>
                  </a:lnTo>
                  <a:lnTo>
                    <a:pt x="848" y="489"/>
                  </a:lnTo>
                  <a:lnTo>
                    <a:pt x="882" y="500"/>
                  </a:lnTo>
                  <a:lnTo>
                    <a:pt x="918" y="510"/>
                  </a:lnTo>
                  <a:lnTo>
                    <a:pt x="952" y="520"/>
                  </a:lnTo>
                  <a:lnTo>
                    <a:pt x="986" y="529"/>
                  </a:lnTo>
                  <a:lnTo>
                    <a:pt x="1018" y="538"/>
                  </a:lnTo>
                  <a:lnTo>
                    <a:pt x="1050" y="545"/>
                  </a:lnTo>
                  <a:lnTo>
                    <a:pt x="1080" y="554"/>
                  </a:lnTo>
                  <a:lnTo>
                    <a:pt x="1114" y="562"/>
                  </a:lnTo>
                  <a:lnTo>
                    <a:pt x="1148" y="571"/>
                  </a:lnTo>
                  <a:lnTo>
                    <a:pt x="1183" y="578"/>
                  </a:lnTo>
                  <a:lnTo>
                    <a:pt x="1219" y="588"/>
                  </a:lnTo>
                  <a:lnTo>
                    <a:pt x="1256" y="595"/>
                  </a:lnTo>
                  <a:lnTo>
                    <a:pt x="1292" y="604"/>
                  </a:lnTo>
                  <a:lnTo>
                    <a:pt x="1329" y="611"/>
                  </a:lnTo>
                  <a:lnTo>
                    <a:pt x="1364" y="619"/>
                  </a:lnTo>
                  <a:lnTo>
                    <a:pt x="1399" y="627"/>
                  </a:lnTo>
                  <a:lnTo>
                    <a:pt x="1431" y="634"/>
                  </a:lnTo>
                  <a:lnTo>
                    <a:pt x="1463" y="640"/>
                  </a:lnTo>
                  <a:lnTo>
                    <a:pt x="1491" y="646"/>
                  </a:lnTo>
                  <a:lnTo>
                    <a:pt x="1517" y="650"/>
                  </a:lnTo>
                  <a:lnTo>
                    <a:pt x="1540" y="654"/>
                  </a:lnTo>
                  <a:lnTo>
                    <a:pt x="1560" y="657"/>
                  </a:lnTo>
                  <a:lnTo>
                    <a:pt x="1575" y="660"/>
                  </a:lnTo>
                  <a:lnTo>
                    <a:pt x="1586" y="662"/>
                  </a:lnTo>
                  <a:lnTo>
                    <a:pt x="1595" y="664"/>
                  </a:lnTo>
                  <a:lnTo>
                    <a:pt x="1602" y="664"/>
                  </a:lnTo>
                  <a:lnTo>
                    <a:pt x="1606" y="666"/>
                  </a:lnTo>
                  <a:lnTo>
                    <a:pt x="1611" y="666"/>
                  </a:lnTo>
                  <a:lnTo>
                    <a:pt x="1614" y="667"/>
                  </a:lnTo>
                  <a:lnTo>
                    <a:pt x="1619" y="667"/>
                  </a:lnTo>
                  <a:lnTo>
                    <a:pt x="1623" y="668"/>
                  </a:lnTo>
                  <a:lnTo>
                    <a:pt x="1630" y="669"/>
                  </a:lnTo>
                  <a:lnTo>
                    <a:pt x="1640" y="671"/>
                  </a:lnTo>
                  <a:lnTo>
                    <a:pt x="1652" y="672"/>
                  </a:lnTo>
                  <a:lnTo>
                    <a:pt x="1668" y="676"/>
                  </a:lnTo>
                  <a:lnTo>
                    <a:pt x="1689" y="678"/>
                  </a:lnTo>
                  <a:lnTo>
                    <a:pt x="1716" y="683"/>
                  </a:lnTo>
                  <a:lnTo>
                    <a:pt x="1749" y="687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53000" y="1771560"/>
              <a:ext cx="1280880" cy="2694240"/>
            </a:xfrm>
            <a:custGeom>
              <a:avLst/>
              <a:gdLst/>
              <a:ahLst/>
              <a:rect l="l" t="t" r="r" b="b"/>
              <a:pathLst>
                <a:path w="807" h="1697">
                  <a:moveTo>
                    <a:pt x="806" y="1696"/>
                  </a:moveTo>
                  <a:lnTo>
                    <a:pt x="792" y="1684"/>
                  </a:lnTo>
                  <a:lnTo>
                    <a:pt x="781" y="1674"/>
                  </a:lnTo>
                  <a:lnTo>
                    <a:pt x="773" y="1667"/>
                  </a:lnTo>
                  <a:lnTo>
                    <a:pt x="766" y="1660"/>
                  </a:lnTo>
                  <a:lnTo>
                    <a:pt x="761" y="1656"/>
                  </a:lnTo>
                  <a:lnTo>
                    <a:pt x="757" y="1652"/>
                  </a:lnTo>
                  <a:lnTo>
                    <a:pt x="754" y="1650"/>
                  </a:lnTo>
                  <a:lnTo>
                    <a:pt x="753" y="1647"/>
                  </a:lnTo>
                  <a:lnTo>
                    <a:pt x="751" y="1646"/>
                  </a:lnTo>
                  <a:lnTo>
                    <a:pt x="749" y="1644"/>
                  </a:lnTo>
                  <a:lnTo>
                    <a:pt x="747" y="1643"/>
                  </a:lnTo>
                  <a:lnTo>
                    <a:pt x="746" y="1641"/>
                  </a:lnTo>
                  <a:lnTo>
                    <a:pt x="743" y="1639"/>
                  </a:lnTo>
                  <a:lnTo>
                    <a:pt x="740" y="1635"/>
                  </a:lnTo>
                  <a:lnTo>
                    <a:pt x="734" y="1630"/>
                  </a:lnTo>
                  <a:lnTo>
                    <a:pt x="729" y="1623"/>
                  </a:lnTo>
                  <a:lnTo>
                    <a:pt x="720" y="1616"/>
                  </a:lnTo>
                  <a:lnTo>
                    <a:pt x="712" y="1608"/>
                  </a:lnTo>
                  <a:lnTo>
                    <a:pt x="702" y="1598"/>
                  </a:lnTo>
                  <a:lnTo>
                    <a:pt x="692" y="1586"/>
                  </a:lnTo>
                  <a:lnTo>
                    <a:pt x="680" y="1575"/>
                  </a:lnTo>
                  <a:lnTo>
                    <a:pt x="669" y="1562"/>
                  </a:lnTo>
                  <a:lnTo>
                    <a:pt x="656" y="1549"/>
                  </a:lnTo>
                  <a:lnTo>
                    <a:pt x="645" y="1534"/>
                  </a:lnTo>
                  <a:lnTo>
                    <a:pt x="632" y="1521"/>
                  </a:lnTo>
                  <a:lnTo>
                    <a:pt x="620" y="1506"/>
                  </a:lnTo>
                  <a:lnTo>
                    <a:pt x="607" y="1492"/>
                  </a:lnTo>
                  <a:lnTo>
                    <a:pt x="596" y="1477"/>
                  </a:lnTo>
                  <a:lnTo>
                    <a:pt x="584" y="1464"/>
                  </a:lnTo>
                  <a:lnTo>
                    <a:pt x="573" y="1449"/>
                  </a:lnTo>
                  <a:lnTo>
                    <a:pt x="563" y="1436"/>
                  </a:lnTo>
                  <a:lnTo>
                    <a:pt x="554" y="1423"/>
                  </a:lnTo>
                  <a:lnTo>
                    <a:pt x="544" y="1411"/>
                  </a:lnTo>
                  <a:lnTo>
                    <a:pt x="534" y="1397"/>
                  </a:lnTo>
                  <a:lnTo>
                    <a:pt x="522" y="1381"/>
                  </a:lnTo>
                  <a:lnTo>
                    <a:pt x="511" y="1364"/>
                  </a:lnTo>
                  <a:lnTo>
                    <a:pt x="498" y="1348"/>
                  </a:lnTo>
                  <a:lnTo>
                    <a:pt x="486" y="1329"/>
                  </a:lnTo>
                  <a:lnTo>
                    <a:pt x="473" y="1310"/>
                  </a:lnTo>
                  <a:lnTo>
                    <a:pt x="462" y="1290"/>
                  </a:lnTo>
                  <a:lnTo>
                    <a:pt x="449" y="1271"/>
                  </a:lnTo>
                  <a:lnTo>
                    <a:pt x="437" y="1252"/>
                  </a:lnTo>
                  <a:lnTo>
                    <a:pt x="425" y="1233"/>
                  </a:lnTo>
                  <a:lnTo>
                    <a:pt x="414" y="1214"/>
                  </a:lnTo>
                  <a:lnTo>
                    <a:pt x="403" y="1197"/>
                  </a:lnTo>
                  <a:lnTo>
                    <a:pt x="393" y="1180"/>
                  </a:lnTo>
                  <a:lnTo>
                    <a:pt x="384" y="1164"/>
                  </a:lnTo>
                  <a:lnTo>
                    <a:pt x="376" y="1148"/>
                  </a:lnTo>
                  <a:lnTo>
                    <a:pt x="368" y="1134"/>
                  </a:lnTo>
                  <a:lnTo>
                    <a:pt x="358" y="1115"/>
                  </a:lnTo>
                  <a:lnTo>
                    <a:pt x="348" y="1094"/>
                  </a:lnTo>
                  <a:lnTo>
                    <a:pt x="338" y="1068"/>
                  </a:lnTo>
                  <a:lnTo>
                    <a:pt x="325" y="1041"/>
                  </a:lnTo>
                  <a:lnTo>
                    <a:pt x="313" y="1012"/>
                  </a:lnTo>
                  <a:lnTo>
                    <a:pt x="300" y="982"/>
                  </a:lnTo>
                  <a:lnTo>
                    <a:pt x="288" y="949"/>
                  </a:lnTo>
                  <a:lnTo>
                    <a:pt x="275" y="917"/>
                  </a:lnTo>
                  <a:lnTo>
                    <a:pt x="262" y="883"/>
                  </a:lnTo>
                  <a:lnTo>
                    <a:pt x="248" y="850"/>
                  </a:lnTo>
                  <a:lnTo>
                    <a:pt x="236" y="815"/>
                  </a:lnTo>
                  <a:lnTo>
                    <a:pt x="223" y="783"/>
                  </a:lnTo>
                  <a:lnTo>
                    <a:pt x="212" y="749"/>
                  </a:lnTo>
                  <a:lnTo>
                    <a:pt x="200" y="717"/>
                  </a:lnTo>
                  <a:lnTo>
                    <a:pt x="191" y="686"/>
                  </a:lnTo>
                  <a:lnTo>
                    <a:pt x="180" y="656"/>
                  </a:lnTo>
                  <a:lnTo>
                    <a:pt x="170" y="624"/>
                  </a:lnTo>
                  <a:lnTo>
                    <a:pt x="159" y="590"/>
                  </a:lnTo>
                  <a:lnTo>
                    <a:pt x="148" y="555"/>
                  </a:lnTo>
                  <a:lnTo>
                    <a:pt x="137" y="520"/>
                  </a:lnTo>
                  <a:lnTo>
                    <a:pt x="126" y="484"/>
                  </a:lnTo>
                  <a:lnTo>
                    <a:pt x="114" y="449"/>
                  </a:lnTo>
                  <a:lnTo>
                    <a:pt x="105" y="412"/>
                  </a:lnTo>
                  <a:lnTo>
                    <a:pt x="94" y="378"/>
                  </a:lnTo>
                  <a:lnTo>
                    <a:pt x="84" y="344"/>
                  </a:lnTo>
                  <a:lnTo>
                    <a:pt x="75" y="312"/>
                  </a:lnTo>
                  <a:lnTo>
                    <a:pt x="68" y="282"/>
                  </a:lnTo>
                  <a:lnTo>
                    <a:pt x="60" y="254"/>
                  </a:lnTo>
                  <a:lnTo>
                    <a:pt x="52" y="228"/>
                  </a:lnTo>
                  <a:lnTo>
                    <a:pt x="47" y="206"/>
                  </a:lnTo>
                  <a:lnTo>
                    <a:pt x="43" y="186"/>
                  </a:lnTo>
                  <a:lnTo>
                    <a:pt x="39" y="170"/>
                  </a:lnTo>
                  <a:lnTo>
                    <a:pt x="36" y="159"/>
                  </a:lnTo>
                  <a:lnTo>
                    <a:pt x="34" y="151"/>
                  </a:lnTo>
                  <a:lnTo>
                    <a:pt x="32" y="144"/>
                  </a:lnTo>
                  <a:lnTo>
                    <a:pt x="31" y="140"/>
                  </a:lnTo>
                  <a:lnTo>
                    <a:pt x="30" y="136"/>
                  </a:lnTo>
                  <a:lnTo>
                    <a:pt x="29" y="132"/>
                  </a:lnTo>
                  <a:lnTo>
                    <a:pt x="29" y="128"/>
                  </a:lnTo>
                  <a:lnTo>
                    <a:pt x="27" y="124"/>
                  </a:lnTo>
                  <a:lnTo>
                    <a:pt x="26" y="117"/>
                  </a:lnTo>
                  <a:lnTo>
                    <a:pt x="23" y="108"/>
                  </a:lnTo>
                  <a:lnTo>
                    <a:pt x="21" y="95"/>
                  </a:lnTo>
                  <a:lnTo>
                    <a:pt x="16" y="80"/>
                  </a:lnTo>
                  <a:lnTo>
                    <a:pt x="12" y="58"/>
                  </a:lnTo>
                  <a:lnTo>
                    <a:pt x="6" y="33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3179880" y="2386080"/>
            <a:ext cx="4059000" cy="3786120"/>
            <a:chOff x="3179880" y="2386080"/>
            <a:chExt cx="4059000" cy="3786120"/>
          </a:xfrm>
        </p:grpSpPr>
        <p:sp>
          <p:nvSpPr>
            <p:cNvPr id="956" name=""/>
            <p:cNvSpPr/>
            <p:nvPr/>
          </p:nvSpPr>
          <p:spPr>
            <a:xfrm>
              <a:off x="4462560" y="5078520"/>
              <a:ext cx="2776320" cy="1093680"/>
            </a:xfrm>
            <a:custGeom>
              <a:avLst/>
              <a:gdLst/>
              <a:ahLst/>
              <a:rect l="l" t="t" r="r" b="b"/>
              <a:pathLst>
                <a:path w="1749" h="689">
                  <a:moveTo>
                    <a:pt x="0" y="0"/>
                  </a:moveTo>
                  <a:lnTo>
                    <a:pt x="13" y="13"/>
                  </a:lnTo>
                  <a:lnTo>
                    <a:pt x="23" y="23"/>
                  </a:lnTo>
                  <a:lnTo>
                    <a:pt x="32" y="31"/>
                  </a:lnTo>
                  <a:lnTo>
                    <a:pt x="39" y="37"/>
                  </a:lnTo>
                  <a:lnTo>
                    <a:pt x="43" y="43"/>
                  </a:lnTo>
                  <a:lnTo>
                    <a:pt x="47" y="46"/>
                  </a:lnTo>
                  <a:lnTo>
                    <a:pt x="50" y="48"/>
                  </a:lnTo>
                  <a:lnTo>
                    <a:pt x="53" y="49"/>
                  </a:lnTo>
                  <a:lnTo>
                    <a:pt x="53" y="51"/>
                  </a:lnTo>
                  <a:lnTo>
                    <a:pt x="55" y="53"/>
                  </a:lnTo>
                  <a:lnTo>
                    <a:pt x="57" y="55"/>
                  </a:lnTo>
                  <a:lnTo>
                    <a:pt x="60" y="56"/>
                  </a:lnTo>
                  <a:lnTo>
                    <a:pt x="62" y="59"/>
                  </a:lnTo>
                  <a:lnTo>
                    <a:pt x="66" y="62"/>
                  </a:lnTo>
                  <a:lnTo>
                    <a:pt x="71" y="67"/>
                  </a:lnTo>
                  <a:lnTo>
                    <a:pt x="78" y="72"/>
                  </a:lnTo>
                  <a:lnTo>
                    <a:pt x="85" y="81"/>
                  </a:lnTo>
                  <a:lnTo>
                    <a:pt x="95" y="88"/>
                  </a:lnTo>
                  <a:lnTo>
                    <a:pt x="105" y="97"/>
                  </a:lnTo>
                  <a:lnTo>
                    <a:pt x="117" y="107"/>
                  </a:lnTo>
                  <a:lnTo>
                    <a:pt x="130" y="118"/>
                  </a:lnTo>
                  <a:lnTo>
                    <a:pt x="143" y="128"/>
                  </a:lnTo>
                  <a:lnTo>
                    <a:pt x="159" y="139"/>
                  </a:lnTo>
                  <a:lnTo>
                    <a:pt x="173" y="149"/>
                  </a:lnTo>
                  <a:lnTo>
                    <a:pt x="188" y="161"/>
                  </a:lnTo>
                  <a:lnTo>
                    <a:pt x="203" y="172"/>
                  </a:lnTo>
                  <a:lnTo>
                    <a:pt x="218" y="184"/>
                  </a:lnTo>
                  <a:lnTo>
                    <a:pt x="234" y="194"/>
                  </a:lnTo>
                  <a:lnTo>
                    <a:pt x="248" y="205"/>
                  </a:lnTo>
                  <a:lnTo>
                    <a:pt x="263" y="215"/>
                  </a:lnTo>
                  <a:lnTo>
                    <a:pt x="276" y="225"/>
                  </a:lnTo>
                  <a:lnTo>
                    <a:pt x="290" y="233"/>
                  </a:lnTo>
                  <a:lnTo>
                    <a:pt x="303" y="242"/>
                  </a:lnTo>
                  <a:lnTo>
                    <a:pt x="317" y="252"/>
                  </a:lnTo>
                  <a:lnTo>
                    <a:pt x="334" y="263"/>
                  </a:lnTo>
                  <a:lnTo>
                    <a:pt x="351" y="272"/>
                  </a:lnTo>
                  <a:lnTo>
                    <a:pt x="369" y="283"/>
                  </a:lnTo>
                  <a:lnTo>
                    <a:pt x="389" y="295"/>
                  </a:lnTo>
                  <a:lnTo>
                    <a:pt x="409" y="306"/>
                  </a:lnTo>
                  <a:lnTo>
                    <a:pt x="429" y="317"/>
                  </a:lnTo>
                  <a:lnTo>
                    <a:pt x="448" y="328"/>
                  </a:lnTo>
                  <a:lnTo>
                    <a:pt x="469" y="339"/>
                  </a:lnTo>
                  <a:lnTo>
                    <a:pt x="488" y="349"/>
                  </a:lnTo>
                  <a:lnTo>
                    <a:pt x="508" y="359"/>
                  </a:lnTo>
                  <a:lnTo>
                    <a:pt x="525" y="369"/>
                  </a:lnTo>
                  <a:lnTo>
                    <a:pt x="543" y="378"/>
                  </a:lnTo>
                  <a:lnTo>
                    <a:pt x="560" y="385"/>
                  </a:lnTo>
                  <a:lnTo>
                    <a:pt x="576" y="392"/>
                  </a:lnTo>
                  <a:lnTo>
                    <a:pt x="591" y="399"/>
                  </a:lnTo>
                  <a:lnTo>
                    <a:pt x="611" y="407"/>
                  </a:lnTo>
                  <a:lnTo>
                    <a:pt x="633" y="416"/>
                  </a:lnTo>
                  <a:lnTo>
                    <a:pt x="659" y="425"/>
                  </a:lnTo>
                  <a:lnTo>
                    <a:pt x="686" y="436"/>
                  </a:lnTo>
                  <a:lnTo>
                    <a:pt x="716" y="445"/>
                  </a:lnTo>
                  <a:lnTo>
                    <a:pt x="747" y="456"/>
                  </a:lnTo>
                  <a:lnTo>
                    <a:pt x="781" y="466"/>
                  </a:lnTo>
                  <a:lnTo>
                    <a:pt x="814" y="477"/>
                  </a:lnTo>
                  <a:lnTo>
                    <a:pt x="849" y="488"/>
                  </a:lnTo>
                  <a:lnTo>
                    <a:pt x="883" y="499"/>
                  </a:lnTo>
                  <a:lnTo>
                    <a:pt x="919" y="509"/>
                  </a:lnTo>
                  <a:lnTo>
                    <a:pt x="952" y="519"/>
                  </a:lnTo>
                  <a:lnTo>
                    <a:pt x="986" y="528"/>
                  </a:lnTo>
                  <a:lnTo>
                    <a:pt x="1018" y="537"/>
                  </a:lnTo>
                  <a:lnTo>
                    <a:pt x="1050" y="544"/>
                  </a:lnTo>
                  <a:lnTo>
                    <a:pt x="1081" y="554"/>
                  </a:lnTo>
                  <a:lnTo>
                    <a:pt x="1113" y="561"/>
                  </a:lnTo>
                  <a:lnTo>
                    <a:pt x="1147" y="571"/>
                  </a:lnTo>
                  <a:lnTo>
                    <a:pt x="1183" y="578"/>
                  </a:lnTo>
                  <a:lnTo>
                    <a:pt x="1219" y="587"/>
                  </a:lnTo>
                  <a:lnTo>
                    <a:pt x="1255" y="595"/>
                  </a:lnTo>
                  <a:lnTo>
                    <a:pt x="1292" y="603"/>
                  </a:lnTo>
                  <a:lnTo>
                    <a:pt x="1329" y="611"/>
                  </a:lnTo>
                  <a:lnTo>
                    <a:pt x="1363" y="619"/>
                  </a:lnTo>
                  <a:lnTo>
                    <a:pt x="1398" y="627"/>
                  </a:lnTo>
                  <a:lnTo>
                    <a:pt x="1431" y="634"/>
                  </a:lnTo>
                  <a:lnTo>
                    <a:pt x="1463" y="640"/>
                  </a:lnTo>
                  <a:lnTo>
                    <a:pt x="1491" y="646"/>
                  </a:lnTo>
                  <a:lnTo>
                    <a:pt x="1517" y="651"/>
                  </a:lnTo>
                  <a:lnTo>
                    <a:pt x="1539" y="655"/>
                  </a:lnTo>
                  <a:lnTo>
                    <a:pt x="1560" y="658"/>
                  </a:lnTo>
                  <a:lnTo>
                    <a:pt x="1575" y="661"/>
                  </a:lnTo>
                  <a:lnTo>
                    <a:pt x="1586" y="663"/>
                  </a:lnTo>
                  <a:lnTo>
                    <a:pt x="1595" y="665"/>
                  </a:lnTo>
                  <a:lnTo>
                    <a:pt x="1602" y="665"/>
                  </a:lnTo>
                  <a:lnTo>
                    <a:pt x="1606" y="667"/>
                  </a:lnTo>
                  <a:lnTo>
                    <a:pt x="1611" y="667"/>
                  </a:lnTo>
                  <a:lnTo>
                    <a:pt x="1614" y="667"/>
                  </a:lnTo>
                  <a:lnTo>
                    <a:pt x="1619" y="667"/>
                  </a:lnTo>
                  <a:lnTo>
                    <a:pt x="1623" y="669"/>
                  </a:lnTo>
                  <a:lnTo>
                    <a:pt x="1630" y="670"/>
                  </a:lnTo>
                  <a:lnTo>
                    <a:pt x="1639" y="671"/>
                  </a:lnTo>
                  <a:lnTo>
                    <a:pt x="1652" y="673"/>
                  </a:lnTo>
                  <a:lnTo>
                    <a:pt x="1668" y="677"/>
                  </a:lnTo>
                  <a:lnTo>
                    <a:pt x="1689" y="679"/>
                  </a:lnTo>
                  <a:lnTo>
                    <a:pt x="1715" y="683"/>
                  </a:lnTo>
                  <a:lnTo>
                    <a:pt x="1748" y="688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179880" y="2386080"/>
              <a:ext cx="1282680" cy="2692440"/>
            </a:xfrm>
            <a:custGeom>
              <a:avLst/>
              <a:gdLst/>
              <a:ahLst/>
              <a:rect l="l" t="t" r="r" b="b"/>
              <a:pathLst>
                <a:path w="808" h="1696">
                  <a:moveTo>
                    <a:pt x="807" y="1695"/>
                  </a:moveTo>
                  <a:lnTo>
                    <a:pt x="793" y="1684"/>
                  </a:lnTo>
                  <a:lnTo>
                    <a:pt x="782" y="1674"/>
                  </a:lnTo>
                  <a:lnTo>
                    <a:pt x="774" y="1666"/>
                  </a:lnTo>
                  <a:lnTo>
                    <a:pt x="767" y="1659"/>
                  </a:lnTo>
                  <a:lnTo>
                    <a:pt x="762" y="1655"/>
                  </a:lnTo>
                  <a:lnTo>
                    <a:pt x="758" y="1651"/>
                  </a:lnTo>
                  <a:lnTo>
                    <a:pt x="755" y="1649"/>
                  </a:lnTo>
                  <a:lnTo>
                    <a:pt x="754" y="1646"/>
                  </a:lnTo>
                  <a:lnTo>
                    <a:pt x="752" y="1646"/>
                  </a:lnTo>
                  <a:lnTo>
                    <a:pt x="750" y="1644"/>
                  </a:lnTo>
                  <a:lnTo>
                    <a:pt x="748" y="1642"/>
                  </a:lnTo>
                  <a:lnTo>
                    <a:pt x="747" y="1640"/>
                  </a:lnTo>
                  <a:lnTo>
                    <a:pt x="744" y="1638"/>
                  </a:lnTo>
                  <a:lnTo>
                    <a:pt x="741" y="1634"/>
                  </a:lnTo>
                  <a:lnTo>
                    <a:pt x="735" y="1630"/>
                  </a:lnTo>
                  <a:lnTo>
                    <a:pt x="730" y="1623"/>
                  </a:lnTo>
                  <a:lnTo>
                    <a:pt x="721" y="1616"/>
                  </a:lnTo>
                  <a:lnTo>
                    <a:pt x="713" y="1607"/>
                  </a:lnTo>
                  <a:lnTo>
                    <a:pt x="702" y="1597"/>
                  </a:lnTo>
                  <a:lnTo>
                    <a:pt x="693" y="1586"/>
                  </a:lnTo>
                  <a:lnTo>
                    <a:pt x="681" y="1575"/>
                  </a:lnTo>
                  <a:lnTo>
                    <a:pt x="669" y="1562"/>
                  </a:lnTo>
                  <a:lnTo>
                    <a:pt x="657" y="1549"/>
                  </a:lnTo>
                  <a:lnTo>
                    <a:pt x="646" y="1534"/>
                  </a:lnTo>
                  <a:lnTo>
                    <a:pt x="633" y="1521"/>
                  </a:lnTo>
                  <a:lnTo>
                    <a:pt x="621" y="1506"/>
                  </a:lnTo>
                  <a:lnTo>
                    <a:pt x="608" y="1492"/>
                  </a:lnTo>
                  <a:lnTo>
                    <a:pt x="596" y="1477"/>
                  </a:lnTo>
                  <a:lnTo>
                    <a:pt x="585" y="1464"/>
                  </a:lnTo>
                  <a:lnTo>
                    <a:pt x="573" y="1450"/>
                  </a:lnTo>
                  <a:lnTo>
                    <a:pt x="563" y="1437"/>
                  </a:lnTo>
                  <a:lnTo>
                    <a:pt x="554" y="1423"/>
                  </a:lnTo>
                  <a:lnTo>
                    <a:pt x="543" y="1412"/>
                  </a:lnTo>
                  <a:lnTo>
                    <a:pt x="533" y="1397"/>
                  </a:lnTo>
                  <a:lnTo>
                    <a:pt x="521" y="1382"/>
                  </a:lnTo>
                  <a:lnTo>
                    <a:pt x="510" y="1365"/>
                  </a:lnTo>
                  <a:lnTo>
                    <a:pt x="497" y="1348"/>
                  </a:lnTo>
                  <a:lnTo>
                    <a:pt x="485" y="1329"/>
                  </a:lnTo>
                  <a:lnTo>
                    <a:pt x="472" y="1311"/>
                  </a:lnTo>
                  <a:lnTo>
                    <a:pt x="461" y="1290"/>
                  </a:lnTo>
                  <a:lnTo>
                    <a:pt x="448" y="1271"/>
                  </a:lnTo>
                  <a:lnTo>
                    <a:pt x="436" y="1252"/>
                  </a:lnTo>
                  <a:lnTo>
                    <a:pt x="424" y="1233"/>
                  </a:lnTo>
                  <a:lnTo>
                    <a:pt x="413" y="1214"/>
                  </a:lnTo>
                  <a:lnTo>
                    <a:pt x="402" y="1197"/>
                  </a:lnTo>
                  <a:lnTo>
                    <a:pt x="392" y="1179"/>
                  </a:lnTo>
                  <a:lnTo>
                    <a:pt x="383" y="1164"/>
                  </a:lnTo>
                  <a:lnTo>
                    <a:pt x="375" y="1148"/>
                  </a:lnTo>
                  <a:lnTo>
                    <a:pt x="367" y="1133"/>
                  </a:lnTo>
                  <a:lnTo>
                    <a:pt x="357" y="1115"/>
                  </a:lnTo>
                  <a:lnTo>
                    <a:pt x="347" y="1093"/>
                  </a:lnTo>
                  <a:lnTo>
                    <a:pt x="337" y="1068"/>
                  </a:lnTo>
                  <a:lnTo>
                    <a:pt x="324" y="1041"/>
                  </a:lnTo>
                  <a:lnTo>
                    <a:pt x="313" y="1012"/>
                  </a:lnTo>
                  <a:lnTo>
                    <a:pt x="299" y="982"/>
                  </a:lnTo>
                  <a:lnTo>
                    <a:pt x="288" y="949"/>
                  </a:lnTo>
                  <a:lnTo>
                    <a:pt x="275" y="917"/>
                  </a:lnTo>
                  <a:lnTo>
                    <a:pt x="262" y="883"/>
                  </a:lnTo>
                  <a:lnTo>
                    <a:pt x="249" y="849"/>
                  </a:lnTo>
                  <a:lnTo>
                    <a:pt x="236" y="815"/>
                  </a:lnTo>
                  <a:lnTo>
                    <a:pt x="223" y="783"/>
                  </a:lnTo>
                  <a:lnTo>
                    <a:pt x="212" y="749"/>
                  </a:lnTo>
                  <a:lnTo>
                    <a:pt x="201" y="718"/>
                  </a:lnTo>
                  <a:lnTo>
                    <a:pt x="191" y="687"/>
                  </a:lnTo>
                  <a:lnTo>
                    <a:pt x="180" y="657"/>
                  </a:lnTo>
                  <a:lnTo>
                    <a:pt x="170" y="624"/>
                  </a:lnTo>
                  <a:lnTo>
                    <a:pt x="159" y="591"/>
                  </a:lnTo>
                  <a:lnTo>
                    <a:pt x="148" y="555"/>
                  </a:lnTo>
                  <a:lnTo>
                    <a:pt x="137" y="521"/>
                  </a:lnTo>
                  <a:lnTo>
                    <a:pt x="126" y="485"/>
                  </a:lnTo>
                  <a:lnTo>
                    <a:pt x="115" y="449"/>
                  </a:lnTo>
                  <a:lnTo>
                    <a:pt x="105" y="413"/>
                  </a:lnTo>
                  <a:lnTo>
                    <a:pt x="94" y="379"/>
                  </a:lnTo>
                  <a:lnTo>
                    <a:pt x="85" y="345"/>
                  </a:lnTo>
                  <a:lnTo>
                    <a:pt x="75" y="313"/>
                  </a:lnTo>
                  <a:lnTo>
                    <a:pt x="68" y="282"/>
                  </a:lnTo>
                  <a:lnTo>
                    <a:pt x="60" y="255"/>
                  </a:lnTo>
                  <a:lnTo>
                    <a:pt x="53" y="229"/>
                  </a:lnTo>
                  <a:lnTo>
                    <a:pt x="47" y="206"/>
                  </a:lnTo>
                  <a:lnTo>
                    <a:pt x="43" y="186"/>
                  </a:lnTo>
                  <a:lnTo>
                    <a:pt x="39" y="171"/>
                  </a:lnTo>
                  <a:lnTo>
                    <a:pt x="36" y="160"/>
                  </a:lnTo>
                  <a:lnTo>
                    <a:pt x="34" y="152"/>
                  </a:lnTo>
                  <a:lnTo>
                    <a:pt x="33" y="145"/>
                  </a:lnTo>
                  <a:lnTo>
                    <a:pt x="31" y="141"/>
                  </a:lnTo>
                  <a:lnTo>
                    <a:pt x="31" y="137"/>
                  </a:lnTo>
                  <a:lnTo>
                    <a:pt x="29" y="133"/>
                  </a:lnTo>
                  <a:lnTo>
                    <a:pt x="29" y="129"/>
                  </a:lnTo>
                  <a:lnTo>
                    <a:pt x="27" y="124"/>
                  </a:lnTo>
                  <a:lnTo>
                    <a:pt x="26" y="117"/>
                  </a:lnTo>
                  <a:lnTo>
                    <a:pt x="23" y="109"/>
                  </a:lnTo>
                  <a:lnTo>
                    <a:pt x="21" y="95"/>
                  </a:lnTo>
                  <a:lnTo>
                    <a:pt x="17" y="80"/>
                  </a:lnTo>
                  <a:lnTo>
                    <a:pt x="12" y="59"/>
                  </a:lnTo>
                  <a:lnTo>
                    <a:pt x="6" y="33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3657600" y="4794120"/>
            <a:ext cx="6858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67080" y="7010280"/>
            <a:ext cx="533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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19720" y="50292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452840" y="6810120"/>
            <a:ext cx="223920" cy="32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3286080" y="3498480"/>
            <a:ext cx="2720880" cy="2630520"/>
          </a:xfrm>
          <a:prstGeom prst="line">
            <a:avLst/>
          </a:prstGeom>
          <a:ln w="442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2819160" y="5029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133720" y="4884840"/>
            <a:ext cx="5331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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2816280" y="4800240"/>
            <a:ext cx="1908000" cy="270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594400" y="5540400"/>
            <a:ext cx="847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800600" y="5234760"/>
            <a:ext cx="4038480" cy="1187280"/>
          </a:xfrm>
          <a:prstGeom prst="wedgeRoundRectCallout">
            <a:avLst>
              <a:gd name="adj1" fmla="val -56949"/>
              <a:gd name="adj2" fmla="val 107439"/>
              <a:gd name="adj3" fmla="val 1666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greso que la sociedad sacrificaría para eliminar la desigual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752480" y="4419720"/>
            <a:ext cx="1067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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276720" y="2741040"/>
            <a:ext cx="4038480" cy="1910880"/>
          </a:xfrm>
          <a:prstGeom prst="wedgeRoundRectCallout">
            <a:avLst>
              <a:gd name="adj1" fmla="val -58837"/>
              <a:gd name="adj2" fmla="val 82226"/>
              <a:gd name="adj3" fmla="val 1666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i elel ingreso fuera recibido en forma uniforme por todos, esto nos daría el mismo nivel de bienestar social qu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380880" y="12672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os puntos de vista acerca de la aversión a la desigualdad soci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32560" y="5730840"/>
            <a:ext cx="306072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5654520" y="2847600"/>
            <a:ext cx="3048120" cy="2862360"/>
          </a:xfrm>
          <a:prstGeom prst="line">
            <a:avLst/>
          </a:prstGeom>
          <a:ln w="47520">
            <a:solidFill>
              <a:srgbClr val="4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5614920" y="2696760"/>
            <a:ext cx="0" cy="301788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313320" y="2870280"/>
            <a:ext cx="2248200" cy="2003400"/>
          </a:xfrm>
          <a:custGeom>
            <a:avLst/>
            <a:gdLst/>
            <a:ahLst/>
            <a:rect l="l" t="t" r="r" b="b"/>
            <a:pathLst>
              <a:path w="1416" h="1262">
                <a:moveTo>
                  <a:pt x="0" y="0"/>
                </a:moveTo>
                <a:lnTo>
                  <a:pt x="17" y="138"/>
                </a:lnTo>
                <a:lnTo>
                  <a:pt x="47" y="268"/>
                </a:lnTo>
                <a:lnTo>
                  <a:pt x="147" y="439"/>
                </a:lnTo>
                <a:lnTo>
                  <a:pt x="294" y="630"/>
                </a:lnTo>
                <a:lnTo>
                  <a:pt x="433" y="760"/>
                </a:lnTo>
                <a:lnTo>
                  <a:pt x="564" y="861"/>
                </a:lnTo>
                <a:lnTo>
                  <a:pt x="812" y="1029"/>
                </a:lnTo>
                <a:lnTo>
                  <a:pt x="1159" y="1191"/>
                </a:lnTo>
                <a:lnTo>
                  <a:pt x="1415" y="1261"/>
                </a:lnTo>
              </a:path>
            </a:pathLst>
          </a:custGeom>
          <a:noFill/>
          <a:ln w="4752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800760" y="2603520"/>
            <a:ext cx="2249640" cy="2001960"/>
          </a:xfrm>
          <a:custGeom>
            <a:avLst/>
            <a:gdLst/>
            <a:ahLst/>
            <a:rect l="l" t="t" r="r" b="b"/>
            <a:pathLst>
              <a:path w="1417" h="1261">
                <a:moveTo>
                  <a:pt x="0" y="0"/>
                </a:moveTo>
                <a:lnTo>
                  <a:pt x="16" y="138"/>
                </a:lnTo>
                <a:lnTo>
                  <a:pt x="47" y="269"/>
                </a:lnTo>
                <a:lnTo>
                  <a:pt x="148" y="438"/>
                </a:lnTo>
                <a:lnTo>
                  <a:pt x="294" y="631"/>
                </a:lnTo>
                <a:lnTo>
                  <a:pt x="433" y="761"/>
                </a:lnTo>
                <a:lnTo>
                  <a:pt x="566" y="861"/>
                </a:lnTo>
                <a:lnTo>
                  <a:pt x="811" y="1030"/>
                </a:lnTo>
                <a:lnTo>
                  <a:pt x="1160" y="1192"/>
                </a:lnTo>
                <a:lnTo>
                  <a:pt x="1416" y="1260"/>
                </a:lnTo>
              </a:path>
            </a:pathLst>
          </a:custGeom>
          <a:noFill/>
          <a:ln w="4752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977080" y="3193920"/>
            <a:ext cx="2247840" cy="2005200"/>
          </a:xfrm>
          <a:custGeom>
            <a:avLst/>
            <a:gdLst/>
            <a:ahLst/>
            <a:rect l="l" t="t" r="r" b="b"/>
            <a:pathLst>
              <a:path w="1416" h="1263">
                <a:moveTo>
                  <a:pt x="0" y="0"/>
                </a:moveTo>
                <a:lnTo>
                  <a:pt x="16" y="139"/>
                </a:lnTo>
                <a:lnTo>
                  <a:pt x="47" y="269"/>
                </a:lnTo>
                <a:lnTo>
                  <a:pt x="147" y="438"/>
                </a:lnTo>
                <a:lnTo>
                  <a:pt x="293" y="631"/>
                </a:lnTo>
                <a:lnTo>
                  <a:pt x="433" y="762"/>
                </a:lnTo>
                <a:lnTo>
                  <a:pt x="565" y="862"/>
                </a:lnTo>
                <a:lnTo>
                  <a:pt x="812" y="1030"/>
                </a:lnTo>
                <a:lnTo>
                  <a:pt x="1159" y="1192"/>
                </a:lnTo>
                <a:lnTo>
                  <a:pt x="1415" y="1262"/>
                </a:lnTo>
              </a:path>
            </a:pathLst>
          </a:custGeom>
          <a:noFill/>
          <a:ln w="4752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rot="16200000">
            <a:off x="5080680" y="2256120"/>
            <a:ext cx="197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greso de Pe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315040"/>
            <a:ext cx="235116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greso de J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0880" y="5730840"/>
            <a:ext cx="306072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403200" y="2847600"/>
            <a:ext cx="3049560" cy="2862360"/>
          </a:xfrm>
          <a:prstGeom prst="line">
            <a:avLst/>
          </a:prstGeom>
          <a:ln w="47520">
            <a:solidFill>
              <a:srgbClr val="4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365040" y="2696760"/>
            <a:ext cx="0" cy="301788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00240" y="3397320"/>
            <a:ext cx="2243160" cy="1646280"/>
          </a:xfrm>
          <a:custGeom>
            <a:avLst/>
            <a:gdLst/>
            <a:ahLst/>
            <a:rect l="l" t="t" r="r" b="b"/>
            <a:pathLst>
              <a:path w="1413" h="1037">
                <a:moveTo>
                  <a:pt x="0" y="0"/>
                </a:moveTo>
                <a:lnTo>
                  <a:pt x="66" y="92"/>
                </a:lnTo>
                <a:lnTo>
                  <a:pt x="135" y="180"/>
                </a:lnTo>
                <a:lnTo>
                  <a:pt x="207" y="267"/>
                </a:lnTo>
                <a:lnTo>
                  <a:pt x="284" y="347"/>
                </a:lnTo>
                <a:lnTo>
                  <a:pt x="362" y="426"/>
                </a:lnTo>
                <a:lnTo>
                  <a:pt x="444" y="500"/>
                </a:lnTo>
                <a:lnTo>
                  <a:pt x="528" y="571"/>
                </a:lnTo>
                <a:lnTo>
                  <a:pt x="617" y="638"/>
                </a:lnTo>
                <a:lnTo>
                  <a:pt x="707" y="702"/>
                </a:lnTo>
                <a:lnTo>
                  <a:pt x="801" y="762"/>
                </a:lnTo>
                <a:lnTo>
                  <a:pt x="896" y="818"/>
                </a:lnTo>
                <a:lnTo>
                  <a:pt x="996" y="870"/>
                </a:lnTo>
                <a:lnTo>
                  <a:pt x="1095" y="918"/>
                </a:lnTo>
                <a:lnTo>
                  <a:pt x="1199" y="962"/>
                </a:lnTo>
                <a:lnTo>
                  <a:pt x="1304" y="1001"/>
                </a:lnTo>
                <a:lnTo>
                  <a:pt x="1412" y="1036"/>
                </a:lnTo>
              </a:path>
            </a:pathLst>
          </a:custGeom>
          <a:noFill/>
          <a:ln w="4752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909800" y="2550960"/>
            <a:ext cx="2243160" cy="1646280"/>
          </a:xfrm>
          <a:custGeom>
            <a:avLst/>
            <a:gdLst/>
            <a:ahLst/>
            <a:rect l="l" t="t" r="r" b="b"/>
            <a:pathLst>
              <a:path w="1413" h="1037">
                <a:moveTo>
                  <a:pt x="0" y="0"/>
                </a:moveTo>
                <a:lnTo>
                  <a:pt x="66" y="93"/>
                </a:lnTo>
                <a:lnTo>
                  <a:pt x="135" y="181"/>
                </a:lnTo>
                <a:lnTo>
                  <a:pt x="207" y="267"/>
                </a:lnTo>
                <a:lnTo>
                  <a:pt x="284" y="347"/>
                </a:lnTo>
                <a:lnTo>
                  <a:pt x="362" y="426"/>
                </a:lnTo>
                <a:lnTo>
                  <a:pt x="444" y="500"/>
                </a:lnTo>
                <a:lnTo>
                  <a:pt x="528" y="571"/>
                </a:lnTo>
                <a:lnTo>
                  <a:pt x="617" y="638"/>
                </a:lnTo>
                <a:lnTo>
                  <a:pt x="707" y="702"/>
                </a:lnTo>
                <a:lnTo>
                  <a:pt x="801" y="762"/>
                </a:lnTo>
                <a:lnTo>
                  <a:pt x="896" y="818"/>
                </a:lnTo>
                <a:lnTo>
                  <a:pt x="995" y="869"/>
                </a:lnTo>
                <a:lnTo>
                  <a:pt x="1095" y="918"/>
                </a:lnTo>
                <a:lnTo>
                  <a:pt x="1199" y="962"/>
                </a:lnTo>
                <a:lnTo>
                  <a:pt x="1304" y="1001"/>
                </a:lnTo>
                <a:lnTo>
                  <a:pt x="1412" y="1036"/>
                </a:lnTo>
              </a:path>
            </a:pathLst>
          </a:custGeom>
          <a:noFill/>
          <a:ln w="4752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17760" y="2946240"/>
            <a:ext cx="2241360" cy="1646280"/>
          </a:xfrm>
          <a:custGeom>
            <a:avLst/>
            <a:gdLst/>
            <a:ahLst/>
            <a:rect l="l" t="t" r="r" b="b"/>
            <a:pathLst>
              <a:path w="1412" h="1037">
                <a:moveTo>
                  <a:pt x="0" y="0"/>
                </a:moveTo>
                <a:lnTo>
                  <a:pt x="65" y="92"/>
                </a:lnTo>
                <a:lnTo>
                  <a:pt x="135" y="180"/>
                </a:lnTo>
                <a:lnTo>
                  <a:pt x="207" y="266"/>
                </a:lnTo>
                <a:lnTo>
                  <a:pt x="283" y="347"/>
                </a:lnTo>
                <a:lnTo>
                  <a:pt x="361" y="425"/>
                </a:lnTo>
                <a:lnTo>
                  <a:pt x="444" y="500"/>
                </a:lnTo>
                <a:lnTo>
                  <a:pt x="528" y="571"/>
                </a:lnTo>
                <a:lnTo>
                  <a:pt x="617" y="638"/>
                </a:lnTo>
                <a:lnTo>
                  <a:pt x="707" y="701"/>
                </a:lnTo>
                <a:lnTo>
                  <a:pt x="801" y="761"/>
                </a:lnTo>
                <a:lnTo>
                  <a:pt x="896" y="817"/>
                </a:lnTo>
                <a:lnTo>
                  <a:pt x="995" y="869"/>
                </a:lnTo>
                <a:lnTo>
                  <a:pt x="1095" y="918"/>
                </a:lnTo>
                <a:lnTo>
                  <a:pt x="1199" y="961"/>
                </a:lnTo>
                <a:lnTo>
                  <a:pt x="1303" y="1000"/>
                </a:lnTo>
                <a:lnTo>
                  <a:pt x="1411" y="1036"/>
                </a:lnTo>
              </a:path>
            </a:pathLst>
          </a:custGeom>
          <a:noFill/>
          <a:ln w="4752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rot="16200000">
            <a:off x="-271080" y="2378160"/>
            <a:ext cx="2192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greso de Pe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28800" y="5330880"/>
            <a:ext cx="2743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greso de J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380880" y="7596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unto de vista extremo 1: La función de bienestar social “de Bentham”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778120" y="1828800"/>
            <a:ext cx="0" cy="502128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79560" y="6848640"/>
            <a:ext cx="5592960" cy="288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2782800" y="2819520"/>
            <a:ext cx="3764160" cy="4037040"/>
          </a:xfrm>
          <a:prstGeom prst="line">
            <a:avLst/>
          </a:prstGeom>
          <a:ln w="47520">
            <a:solidFill>
              <a:srgbClr val="4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rot="16200000">
            <a:off x="2117520" y="2052360"/>
            <a:ext cx="87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greso de Pe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645400" y="6435720"/>
            <a:ext cx="8766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greso de J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819520" y="4548240"/>
            <a:ext cx="2709720" cy="2305080"/>
          </a:xfrm>
          <a:prstGeom prst="line">
            <a:avLst/>
          </a:prstGeom>
          <a:ln w="47520">
            <a:solidFill>
              <a:srgbClr val="00c1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00440" y="3146400"/>
            <a:ext cx="4335480" cy="3684600"/>
          </a:xfrm>
          <a:prstGeom prst="line">
            <a:avLst/>
          </a:prstGeom>
          <a:ln w="47520">
            <a:solidFill>
              <a:srgbClr val="00c1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790720" y="3881520"/>
            <a:ext cx="3486240" cy="2963880"/>
          </a:xfrm>
          <a:prstGeom prst="line">
            <a:avLst/>
          </a:prstGeom>
          <a:ln w="47520">
            <a:solidFill>
              <a:srgbClr val="00c1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543720" y="3691080"/>
            <a:ext cx="288936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0" y="3962160"/>
            <a:ext cx="10439280" cy="3143160"/>
            <a:chOff x="0" y="3962160"/>
            <a:chExt cx="10439280" cy="3143160"/>
          </a:xfrm>
        </p:grpSpPr>
        <p:sp>
          <p:nvSpPr>
            <p:cNvPr id="998" name=""/>
            <p:cNvSpPr/>
            <p:nvPr/>
          </p:nvSpPr>
          <p:spPr>
            <a:xfrm flipV="1">
              <a:off x="0" y="3961440"/>
              <a:ext cx="7191360" cy="3143160"/>
            </a:xfrm>
            <a:prstGeom prst="roundRect">
              <a:avLst>
                <a:gd name="adj" fmla="val 4162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65440" y="4657680"/>
              <a:ext cx="687384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0" i="1" lang="en-GB" sz="9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9000" spc="-1" strike="noStrike" baseline="30000">
                  <a:solidFill>
                    <a:srgbClr val="000000"/>
                  </a:solidFill>
                  <a:latin typeface="Times New Roman"/>
                </a:rPr>
                <a:t>h 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8000" y="5440320"/>
              <a:ext cx="86508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5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GB" sz="55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02160" y="6029280"/>
              <a:ext cx="101592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4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46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62360" y="3987720"/>
              <a:ext cx="846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5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GB" sz="55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25760" y="4754520"/>
              <a:ext cx="4046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92200" y="5543640"/>
              <a:ext cx="67968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47960" y="4907880"/>
              <a:ext cx="1904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0" spc="-1" strike="noStrike">
                  <a:solidFill>
                    <a:srgbClr val="000000"/>
                  </a:solidFill>
                  <a:latin typeface="Times New Roman"/>
                </a:rPr>
                <a:t>W=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5257800" y="1987920"/>
            <a:ext cx="4038480" cy="1087920"/>
          </a:xfrm>
          <a:prstGeom prst="wedgeRoundRectCallout">
            <a:avLst>
              <a:gd name="adj1" fmla="val -85444"/>
              <a:gd name="adj2" fmla="val 140273"/>
              <a:gd name="adj3" fmla="val 1666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No nos preocupa la desigualda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380880" y="7596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unto de vista extremo 2: La función de bienestar social de "Rawls”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2778120" y="2854080"/>
            <a:ext cx="0" cy="399564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779560" y="6848640"/>
            <a:ext cx="5592960" cy="288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419640" y="2620800"/>
            <a:ext cx="3647880" cy="3549960"/>
          </a:xfrm>
          <a:custGeom>
            <a:avLst/>
            <a:gdLst/>
            <a:ahLst/>
            <a:rect l="l" t="t" r="r" b="b"/>
            <a:pathLst>
              <a:path w="2298" h="2236">
                <a:moveTo>
                  <a:pt x="0" y="0"/>
                </a:moveTo>
                <a:lnTo>
                  <a:pt x="0" y="2235"/>
                </a:lnTo>
                <a:lnTo>
                  <a:pt x="2297" y="2235"/>
                </a:lnTo>
                <a:lnTo>
                  <a:pt x="1914" y="2235"/>
                </a:lnTo>
              </a:path>
            </a:pathLst>
          </a:custGeom>
          <a:noFill/>
          <a:ln w="4752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782800" y="3200400"/>
            <a:ext cx="3408480" cy="3656160"/>
          </a:xfrm>
          <a:prstGeom prst="line">
            <a:avLst/>
          </a:prstGeom>
          <a:ln w="47520">
            <a:solidFill>
              <a:srgbClr val="4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rot="16200000">
            <a:off x="1473120" y="2696760"/>
            <a:ext cx="216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greso de Pe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391520" y="6435720"/>
            <a:ext cx="2130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greso de J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824360" y="2603520"/>
            <a:ext cx="2263680" cy="2063880"/>
          </a:xfrm>
          <a:custGeom>
            <a:avLst/>
            <a:gdLst/>
            <a:ahLst/>
            <a:rect l="l" t="t" r="r" b="b"/>
            <a:pathLst>
              <a:path w="1426" h="1300">
                <a:moveTo>
                  <a:pt x="0" y="0"/>
                </a:moveTo>
                <a:lnTo>
                  <a:pt x="0" y="1299"/>
                </a:lnTo>
                <a:lnTo>
                  <a:pt x="1425" y="1299"/>
                </a:lnTo>
                <a:lnTo>
                  <a:pt x="1188" y="1299"/>
                </a:lnTo>
              </a:path>
            </a:pathLst>
          </a:custGeom>
          <a:noFill/>
          <a:ln w="4752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127400" y="2614680"/>
            <a:ext cx="2951280" cy="2786040"/>
          </a:xfrm>
          <a:custGeom>
            <a:avLst/>
            <a:gdLst/>
            <a:ahLst/>
            <a:rect l="l" t="t" r="r" b="b"/>
            <a:pathLst>
              <a:path w="1859" h="1755">
                <a:moveTo>
                  <a:pt x="0" y="0"/>
                </a:moveTo>
                <a:lnTo>
                  <a:pt x="0" y="1754"/>
                </a:lnTo>
                <a:lnTo>
                  <a:pt x="1858" y="1754"/>
                </a:lnTo>
                <a:lnTo>
                  <a:pt x="1548" y="1754"/>
                </a:lnTo>
              </a:path>
            </a:pathLst>
          </a:custGeom>
          <a:noFill/>
          <a:ln w="4752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472320" y="4266720"/>
            <a:ext cx="9966960" cy="3143160"/>
            <a:chOff x="472320" y="4266720"/>
            <a:chExt cx="9966960" cy="3143160"/>
          </a:xfrm>
        </p:grpSpPr>
        <p:sp>
          <p:nvSpPr>
            <p:cNvPr id="1017" name=""/>
            <p:cNvSpPr/>
            <p:nvPr/>
          </p:nvSpPr>
          <p:spPr>
            <a:xfrm flipV="1">
              <a:off x="682200" y="4266000"/>
              <a:ext cx="6721200" cy="3143160"/>
            </a:xfrm>
            <a:prstGeom prst="roundRect">
              <a:avLst>
                <a:gd name="adj" fmla="val 4162"/>
              </a:avLst>
            </a:prstGeom>
            <a:solidFill>
              <a:srgbClr val="ffffc2"/>
            </a:solidFill>
            <a:ln w="0">
              <a:noFill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14720" y="4962240"/>
              <a:ext cx="642456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Times New Roman"/>
                </a:rPr>
                <a:t>min   </a:t>
              </a:r>
              <a:r>
                <a:rPr b="0" i="1" lang="en-GB" sz="9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9000" spc="-1" strike="noStrike" baseline="30000">
                  <a:solidFill>
                    <a:srgbClr val="000000"/>
                  </a:solidFill>
                  <a:latin typeface="Times New Roman"/>
                </a:rPr>
                <a:t>h 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70000" y="5744880"/>
              <a:ext cx="8082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48920" y="6333840"/>
              <a:ext cx="94932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98680" y="4292280"/>
              <a:ext cx="7905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042720" y="5059080"/>
              <a:ext cx="37800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18160" y="5848200"/>
              <a:ext cx="63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72320" y="5212440"/>
              <a:ext cx="2477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0" spc="-1" strike="noStrike">
                  <a:solidFill>
                    <a:srgbClr val="000000"/>
                  </a:solidFill>
                  <a:latin typeface="Times New Roman"/>
                </a:rPr>
                <a:t>W  =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4876920" y="1452960"/>
            <a:ext cx="3504960" cy="1087920"/>
          </a:xfrm>
          <a:prstGeom prst="wedgeRoundRectCallout">
            <a:avLst>
              <a:gd name="adj1" fmla="val -90842"/>
              <a:gd name="adj2" fmla="val 140273"/>
              <a:gd name="adj3" fmla="val 1666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La prioridad es el más pob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/>
          </p:nvPr>
        </p:nvSpPr>
        <p:spPr>
          <a:xfrm>
            <a:off x="446040" y="1519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7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na forma aditiva de la función de bienestar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098960" y="3162240"/>
            <a:ext cx="68738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GB" sz="9000" spc="-1" strike="noStrike">
                <a:solidFill>
                  <a:srgbClr val="000000"/>
                </a:solidFill>
                <a:latin typeface="Symbol"/>
                <a:ea typeface="Symbol"/>
              </a:rPr>
              <a:t></a:t>
            </a:r>
            <a:r>
              <a:rPr b="0" i="1" lang="en-GB" sz="9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9000" spc="-1" strike="noStrike" baseline="30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9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981160" y="3944880"/>
            <a:ext cx="865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55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135320" y="4533840"/>
            <a:ext cx="10162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295880" y="2492280"/>
            <a:ext cx="846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55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59280" y="3259080"/>
            <a:ext cx="404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925720" y="4048200"/>
            <a:ext cx="679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1120" y="3412440"/>
            <a:ext cx="190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0" spc="-1" strike="noStrike">
                <a:solidFill>
                  <a:srgbClr val="000000"/>
                </a:solidFill>
                <a:latin typeface="Times New Roman"/>
              </a:rPr>
              <a:t>W=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691200"/>
            <a:ext cx="6858000" cy="2074680"/>
          </a:xfrm>
          <a:prstGeom prst="wedgeRoundRectCallout">
            <a:avLst>
              <a:gd name="adj1" fmla="val 35342"/>
              <a:gd name="adj2" fmla="val 90282"/>
              <a:gd name="adj3" fmla="val 1666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Función de evaluación Socia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La contraparte de la función de utilidad cardinal en elecciones bajo incertidumb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446040" y="1519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forma equivalent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1144440" y="2459520"/>
            <a:ext cx="7917120" cy="3600360"/>
          </a:xfrm>
          <a:prstGeom prst="roundRect">
            <a:avLst>
              <a:gd name="adj" fmla="val 4162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182760" y="3092400"/>
            <a:ext cx="68724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helleyVolante BT"/>
              </a:rPr>
              <a:t>E</a:t>
            </a:r>
            <a:r>
              <a:rPr b="0" lang="en-US" sz="9000" spc="-1" strike="noStrike">
                <a:solidFill>
                  <a:srgbClr val="000000"/>
                </a:solidFill>
                <a:latin typeface="Symbol"/>
                <a:ea typeface="Symbol"/>
              </a:rPr>
              <a:t></a:t>
            </a:r>
            <a:r>
              <a:rPr b="0" i="1" lang="en-US" sz="9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9000" spc="-1" strike="noStrike">
                <a:solidFill>
                  <a:srgbClr val="000000"/>
                </a:solidFill>
                <a:latin typeface="Symbol"/>
                <a:ea typeface="Symbol"/>
              </a:rPr>
              <a:t>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flipV="1">
            <a:off x="4282560" y="4792320"/>
            <a:ext cx="930600" cy="16765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78360" y="6469200"/>
            <a:ext cx="3660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la esperanza tomada sobre todas las ident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función de evaluación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2438280" y="2946240"/>
            <a:ext cx="0" cy="382752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92280" y="6381720"/>
            <a:ext cx="480060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406600" y="2239920"/>
            <a:ext cx="566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620120" y="6221520"/>
            <a:ext cx="6094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48520" y="6858000"/>
            <a:ext cx="107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6200000">
            <a:off x="1346760" y="2675520"/>
            <a:ext cx="1557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4619160" y="4439880"/>
            <a:ext cx="2025720" cy="1165320"/>
          </a:xfrm>
          <a:prstGeom prst="line">
            <a:avLst/>
          </a:prstGeom>
          <a:ln w="47520">
            <a:solidFill>
              <a:srgbClr val="4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3485880" y="5182920"/>
            <a:ext cx="3141720" cy="484200"/>
          </a:xfrm>
          <a:prstGeom prst="line">
            <a:avLst/>
          </a:prstGeom>
          <a:ln w="47520">
            <a:solidFill>
              <a:srgbClr val="4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4480" y="5157720"/>
            <a:ext cx="37339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400080"/>
                </a:solidFill>
                <a:latin typeface="Arial"/>
              </a:rPr>
              <a:t>concavidad significa aversión a la desigual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48000" y="3695760"/>
            <a:ext cx="4486320" cy="3062160"/>
          </a:xfrm>
          <a:custGeom>
            <a:avLst/>
            <a:gdLst/>
            <a:ahLst/>
            <a:rect l="l" t="t" r="r" b="b"/>
            <a:pathLst>
              <a:path w="2826" h="1929">
                <a:moveTo>
                  <a:pt x="0" y="1928"/>
                </a:moveTo>
                <a:lnTo>
                  <a:pt x="8" y="1889"/>
                </a:lnTo>
                <a:lnTo>
                  <a:pt x="16" y="1857"/>
                </a:lnTo>
                <a:lnTo>
                  <a:pt x="22" y="1832"/>
                </a:lnTo>
                <a:lnTo>
                  <a:pt x="27" y="1812"/>
                </a:lnTo>
                <a:lnTo>
                  <a:pt x="30" y="1796"/>
                </a:lnTo>
                <a:lnTo>
                  <a:pt x="33" y="1785"/>
                </a:lnTo>
                <a:lnTo>
                  <a:pt x="35" y="1776"/>
                </a:lnTo>
                <a:lnTo>
                  <a:pt x="37" y="1770"/>
                </a:lnTo>
                <a:lnTo>
                  <a:pt x="37" y="1766"/>
                </a:lnTo>
                <a:lnTo>
                  <a:pt x="39" y="1761"/>
                </a:lnTo>
                <a:lnTo>
                  <a:pt x="40" y="1757"/>
                </a:lnTo>
                <a:lnTo>
                  <a:pt x="42" y="1750"/>
                </a:lnTo>
                <a:lnTo>
                  <a:pt x="43" y="1744"/>
                </a:lnTo>
                <a:lnTo>
                  <a:pt x="46" y="1732"/>
                </a:lnTo>
                <a:lnTo>
                  <a:pt x="50" y="1717"/>
                </a:lnTo>
                <a:lnTo>
                  <a:pt x="55" y="1697"/>
                </a:lnTo>
                <a:lnTo>
                  <a:pt x="60" y="1676"/>
                </a:lnTo>
                <a:lnTo>
                  <a:pt x="65" y="1651"/>
                </a:lnTo>
                <a:lnTo>
                  <a:pt x="72" y="1626"/>
                </a:lnTo>
                <a:lnTo>
                  <a:pt x="79" y="1599"/>
                </a:lnTo>
                <a:lnTo>
                  <a:pt x="86" y="1572"/>
                </a:lnTo>
                <a:lnTo>
                  <a:pt x="93" y="1544"/>
                </a:lnTo>
                <a:lnTo>
                  <a:pt x="101" y="1516"/>
                </a:lnTo>
                <a:lnTo>
                  <a:pt x="110" y="1488"/>
                </a:lnTo>
                <a:lnTo>
                  <a:pt x="117" y="1462"/>
                </a:lnTo>
                <a:lnTo>
                  <a:pt x="124" y="1435"/>
                </a:lnTo>
                <a:lnTo>
                  <a:pt x="132" y="1409"/>
                </a:lnTo>
                <a:lnTo>
                  <a:pt x="140" y="1384"/>
                </a:lnTo>
                <a:lnTo>
                  <a:pt x="146" y="1361"/>
                </a:lnTo>
                <a:lnTo>
                  <a:pt x="153" y="1340"/>
                </a:lnTo>
                <a:lnTo>
                  <a:pt x="159" y="1320"/>
                </a:lnTo>
                <a:lnTo>
                  <a:pt x="165" y="1303"/>
                </a:lnTo>
                <a:lnTo>
                  <a:pt x="170" y="1287"/>
                </a:lnTo>
                <a:lnTo>
                  <a:pt x="178" y="1268"/>
                </a:lnTo>
                <a:lnTo>
                  <a:pt x="187" y="1248"/>
                </a:lnTo>
                <a:lnTo>
                  <a:pt x="198" y="1224"/>
                </a:lnTo>
                <a:lnTo>
                  <a:pt x="209" y="1200"/>
                </a:lnTo>
                <a:lnTo>
                  <a:pt x="222" y="1174"/>
                </a:lnTo>
                <a:lnTo>
                  <a:pt x="237" y="1147"/>
                </a:lnTo>
                <a:lnTo>
                  <a:pt x="252" y="1119"/>
                </a:lnTo>
                <a:lnTo>
                  <a:pt x="267" y="1092"/>
                </a:lnTo>
                <a:lnTo>
                  <a:pt x="282" y="1064"/>
                </a:lnTo>
                <a:lnTo>
                  <a:pt x="299" y="1036"/>
                </a:lnTo>
                <a:lnTo>
                  <a:pt x="316" y="1008"/>
                </a:lnTo>
                <a:lnTo>
                  <a:pt x="330" y="982"/>
                </a:lnTo>
                <a:lnTo>
                  <a:pt x="347" y="957"/>
                </a:lnTo>
                <a:lnTo>
                  <a:pt x="363" y="932"/>
                </a:lnTo>
                <a:lnTo>
                  <a:pt x="379" y="908"/>
                </a:lnTo>
                <a:lnTo>
                  <a:pt x="395" y="887"/>
                </a:lnTo>
                <a:lnTo>
                  <a:pt x="414" y="862"/>
                </a:lnTo>
                <a:lnTo>
                  <a:pt x="435" y="837"/>
                </a:lnTo>
                <a:lnTo>
                  <a:pt x="459" y="810"/>
                </a:lnTo>
                <a:lnTo>
                  <a:pt x="484" y="782"/>
                </a:lnTo>
                <a:lnTo>
                  <a:pt x="511" y="754"/>
                </a:lnTo>
                <a:lnTo>
                  <a:pt x="539" y="726"/>
                </a:lnTo>
                <a:lnTo>
                  <a:pt x="569" y="698"/>
                </a:lnTo>
                <a:lnTo>
                  <a:pt x="598" y="671"/>
                </a:lnTo>
                <a:lnTo>
                  <a:pt x="628" y="643"/>
                </a:lnTo>
                <a:lnTo>
                  <a:pt x="658" y="617"/>
                </a:lnTo>
                <a:lnTo>
                  <a:pt x="688" y="592"/>
                </a:lnTo>
                <a:lnTo>
                  <a:pt x="716" y="568"/>
                </a:lnTo>
                <a:lnTo>
                  <a:pt x="745" y="546"/>
                </a:lnTo>
                <a:lnTo>
                  <a:pt x="772" y="526"/>
                </a:lnTo>
                <a:lnTo>
                  <a:pt x="797" y="509"/>
                </a:lnTo>
                <a:lnTo>
                  <a:pt x="823" y="492"/>
                </a:lnTo>
                <a:lnTo>
                  <a:pt x="856" y="475"/>
                </a:lnTo>
                <a:lnTo>
                  <a:pt x="894" y="456"/>
                </a:lnTo>
                <a:lnTo>
                  <a:pt x="936" y="436"/>
                </a:lnTo>
                <a:lnTo>
                  <a:pt x="982" y="417"/>
                </a:lnTo>
                <a:lnTo>
                  <a:pt x="1032" y="396"/>
                </a:lnTo>
                <a:lnTo>
                  <a:pt x="1084" y="376"/>
                </a:lnTo>
                <a:lnTo>
                  <a:pt x="1139" y="354"/>
                </a:lnTo>
                <a:lnTo>
                  <a:pt x="1195" y="336"/>
                </a:lnTo>
                <a:lnTo>
                  <a:pt x="1252" y="316"/>
                </a:lnTo>
                <a:lnTo>
                  <a:pt x="1308" y="297"/>
                </a:lnTo>
                <a:lnTo>
                  <a:pt x="1366" y="278"/>
                </a:lnTo>
                <a:lnTo>
                  <a:pt x="1422" y="262"/>
                </a:lnTo>
                <a:lnTo>
                  <a:pt x="1478" y="246"/>
                </a:lnTo>
                <a:lnTo>
                  <a:pt x="1531" y="232"/>
                </a:lnTo>
                <a:lnTo>
                  <a:pt x="1583" y="218"/>
                </a:lnTo>
                <a:lnTo>
                  <a:pt x="1633" y="207"/>
                </a:lnTo>
                <a:lnTo>
                  <a:pt x="1688" y="195"/>
                </a:lnTo>
                <a:lnTo>
                  <a:pt x="1746" y="184"/>
                </a:lnTo>
                <a:lnTo>
                  <a:pt x="1806" y="170"/>
                </a:lnTo>
                <a:lnTo>
                  <a:pt x="1867" y="159"/>
                </a:lnTo>
                <a:lnTo>
                  <a:pt x="1930" y="146"/>
                </a:lnTo>
                <a:lnTo>
                  <a:pt x="1993" y="134"/>
                </a:lnTo>
                <a:lnTo>
                  <a:pt x="2057" y="120"/>
                </a:lnTo>
                <a:lnTo>
                  <a:pt x="2118" y="109"/>
                </a:lnTo>
                <a:lnTo>
                  <a:pt x="2178" y="98"/>
                </a:lnTo>
                <a:lnTo>
                  <a:pt x="2236" y="88"/>
                </a:lnTo>
                <a:lnTo>
                  <a:pt x="2290" y="78"/>
                </a:lnTo>
                <a:lnTo>
                  <a:pt x="2341" y="69"/>
                </a:lnTo>
                <a:lnTo>
                  <a:pt x="2388" y="61"/>
                </a:lnTo>
                <a:lnTo>
                  <a:pt x="2430" y="55"/>
                </a:lnTo>
                <a:lnTo>
                  <a:pt x="2468" y="49"/>
                </a:lnTo>
                <a:lnTo>
                  <a:pt x="2496" y="46"/>
                </a:lnTo>
                <a:lnTo>
                  <a:pt x="2519" y="42"/>
                </a:lnTo>
                <a:lnTo>
                  <a:pt x="2535" y="41"/>
                </a:lnTo>
                <a:lnTo>
                  <a:pt x="2548" y="38"/>
                </a:lnTo>
                <a:lnTo>
                  <a:pt x="2556" y="38"/>
                </a:lnTo>
                <a:lnTo>
                  <a:pt x="2564" y="36"/>
                </a:lnTo>
                <a:lnTo>
                  <a:pt x="2570" y="36"/>
                </a:lnTo>
                <a:lnTo>
                  <a:pt x="2579" y="34"/>
                </a:lnTo>
                <a:lnTo>
                  <a:pt x="2588" y="33"/>
                </a:lnTo>
                <a:lnTo>
                  <a:pt x="2601" y="31"/>
                </a:lnTo>
                <a:lnTo>
                  <a:pt x="2619" y="29"/>
                </a:lnTo>
                <a:lnTo>
                  <a:pt x="2643" y="25"/>
                </a:lnTo>
                <a:lnTo>
                  <a:pt x="2674" y="21"/>
                </a:lnTo>
                <a:lnTo>
                  <a:pt x="2714" y="16"/>
                </a:lnTo>
                <a:lnTo>
                  <a:pt x="2764" y="9"/>
                </a:lnTo>
                <a:lnTo>
                  <a:pt x="2825" y="0"/>
                </a:lnTo>
              </a:path>
            </a:pathLst>
          </a:custGeom>
          <a:noFill/>
          <a:ln w="50760">
            <a:solidFill>
              <a:srgbClr val="c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59600" y="3395520"/>
            <a:ext cx="13240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0"/>
            <a:ext cx="945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cavidad creciente y aversión a la desigual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00480" y="3424320"/>
            <a:ext cx="34052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versión mas baj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82880" y="5769000"/>
            <a:ext cx="35179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versión mas al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6659640" y="4143240"/>
            <a:ext cx="1325520" cy="706680"/>
            <a:chOff x="6659640" y="4143240"/>
            <a:chExt cx="1325520" cy="706680"/>
          </a:xfrm>
        </p:grpSpPr>
        <p:sp>
          <p:nvSpPr>
            <p:cNvPr id="1056" name=""/>
            <p:cNvSpPr/>
            <p:nvPr/>
          </p:nvSpPr>
          <p:spPr>
            <a:xfrm>
              <a:off x="6969240" y="4143240"/>
              <a:ext cx="1648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659640" y="4226040"/>
              <a:ext cx="13255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2765520" y="4165560"/>
            <a:ext cx="3849480" cy="2265480"/>
          </a:xfrm>
          <a:custGeom>
            <a:avLst/>
            <a:gdLst/>
            <a:ahLst/>
            <a:rect l="l" t="t" r="r" b="b"/>
            <a:pathLst>
              <a:path w="2425" h="1427">
                <a:moveTo>
                  <a:pt x="0" y="1426"/>
                </a:moveTo>
                <a:lnTo>
                  <a:pt x="6" y="1396"/>
                </a:lnTo>
                <a:lnTo>
                  <a:pt x="12" y="1370"/>
                </a:lnTo>
                <a:lnTo>
                  <a:pt x="16" y="1346"/>
                </a:lnTo>
                <a:lnTo>
                  <a:pt x="19" y="1323"/>
                </a:lnTo>
                <a:lnTo>
                  <a:pt x="21" y="1304"/>
                </a:lnTo>
                <a:lnTo>
                  <a:pt x="23" y="1286"/>
                </a:lnTo>
                <a:lnTo>
                  <a:pt x="23" y="1270"/>
                </a:lnTo>
                <a:lnTo>
                  <a:pt x="25" y="1254"/>
                </a:lnTo>
                <a:lnTo>
                  <a:pt x="25" y="1240"/>
                </a:lnTo>
                <a:lnTo>
                  <a:pt x="25" y="1227"/>
                </a:lnTo>
                <a:lnTo>
                  <a:pt x="25" y="1214"/>
                </a:lnTo>
                <a:lnTo>
                  <a:pt x="26" y="1200"/>
                </a:lnTo>
                <a:lnTo>
                  <a:pt x="27" y="1187"/>
                </a:lnTo>
                <a:lnTo>
                  <a:pt x="29" y="1174"/>
                </a:lnTo>
                <a:lnTo>
                  <a:pt x="31" y="1159"/>
                </a:lnTo>
                <a:lnTo>
                  <a:pt x="36" y="1144"/>
                </a:lnTo>
                <a:lnTo>
                  <a:pt x="39" y="1127"/>
                </a:lnTo>
                <a:lnTo>
                  <a:pt x="45" y="1108"/>
                </a:lnTo>
                <a:lnTo>
                  <a:pt x="51" y="1086"/>
                </a:lnTo>
                <a:lnTo>
                  <a:pt x="59" y="1061"/>
                </a:lnTo>
                <a:lnTo>
                  <a:pt x="66" y="1036"/>
                </a:lnTo>
                <a:lnTo>
                  <a:pt x="74" y="1010"/>
                </a:lnTo>
                <a:lnTo>
                  <a:pt x="83" y="983"/>
                </a:lnTo>
                <a:lnTo>
                  <a:pt x="92" y="954"/>
                </a:lnTo>
                <a:lnTo>
                  <a:pt x="100" y="928"/>
                </a:lnTo>
                <a:lnTo>
                  <a:pt x="109" y="902"/>
                </a:lnTo>
                <a:lnTo>
                  <a:pt x="117" y="877"/>
                </a:lnTo>
                <a:lnTo>
                  <a:pt x="126" y="853"/>
                </a:lnTo>
                <a:lnTo>
                  <a:pt x="132" y="832"/>
                </a:lnTo>
                <a:lnTo>
                  <a:pt x="138" y="812"/>
                </a:lnTo>
                <a:lnTo>
                  <a:pt x="144" y="796"/>
                </a:lnTo>
                <a:lnTo>
                  <a:pt x="150" y="782"/>
                </a:lnTo>
                <a:lnTo>
                  <a:pt x="154" y="772"/>
                </a:lnTo>
                <a:lnTo>
                  <a:pt x="157" y="760"/>
                </a:lnTo>
                <a:lnTo>
                  <a:pt x="162" y="749"/>
                </a:lnTo>
                <a:lnTo>
                  <a:pt x="167" y="738"/>
                </a:lnTo>
                <a:lnTo>
                  <a:pt x="172" y="727"/>
                </a:lnTo>
                <a:lnTo>
                  <a:pt x="178" y="716"/>
                </a:lnTo>
                <a:lnTo>
                  <a:pt x="184" y="704"/>
                </a:lnTo>
                <a:lnTo>
                  <a:pt x="192" y="692"/>
                </a:lnTo>
                <a:lnTo>
                  <a:pt x="198" y="681"/>
                </a:lnTo>
                <a:lnTo>
                  <a:pt x="205" y="668"/>
                </a:lnTo>
                <a:lnTo>
                  <a:pt x="213" y="655"/>
                </a:lnTo>
                <a:lnTo>
                  <a:pt x="222" y="641"/>
                </a:lnTo>
                <a:lnTo>
                  <a:pt x="232" y="628"/>
                </a:lnTo>
                <a:lnTo>
                  <a:pt x="242" y="614"/>
                </a:lnTo>
                <a:lnTo>
                  <a:pt x="252" y="599"/>
                </a:lnTo>
                <a:lnTo>
                  <a:pt x="264" y="582"/>
                </a:lnTo>
                <a:lnTo>
                  <a:pt x="276" y="566"/>
                </a:lnTo>
                <a:lnTo>
                  <a:pt x="291" y="549"/>
                </a:lnTo>
                <a:lnTo>
                  <a:pt x="308" y="531"/>
                </a:lnTo>
                <a:lnTo>
                  <a:pt x="327" y="512"/>
                </a:lnTo>
                <a:lnTo>
                  <a:pt x="347" y="493"/>
                </a:lnTo>
                <a:lnTo>
                  <a:pt x="369" y="473"/>
                </a:lnTo>
                <a:lnTo>
                  <a:pt x="391" y="452"/>
                </a:lnTo>
                <a:lnTo>
                  <a:pt x="416" y="432"/>
                </a:lnTo>
                <a:lnTo>
                  <a:pt x="439" y="413"/>
                </a:lnTo>
                <a:lnTo>
                  <a:pt x="463" y="393"/>
                </a:lnTo>
                <a:lnTo>
                  <a:pt x="487" y="375"/>
                </a:lnTo>
                <a:lnTo>
                  <a:pt x="511" y="356"/>
                </a:lnTo>
                <a:lnTo>
                  <a:pt x="534" y="340"/>
                </a:lnTo>
                <a:lnTo>
                  <a:pt x="556" y="324"/>
                </a:lnTo>
                <a:lnTo>
                  <a:pt x="577" y="310"/>
                </a:lnTo>
                <a:lnTo>
                  <a:pt x="597" y="296"/>
                </a:lnTo>
                <a:lnTo>
                  <a:pt x="617" y="285"/>
                </a:lnTo>
                <a:lnTo>
                  <a:pt x="643" y="274"/>
                </a:lnTo>
                <a:lnTo>
                  <a:pt x="671" y="262"/>
                </a:lnTo>
                <a:lnTo>
                  <a:pt x="704" y="250"/>
                </a:lnTo>
                <a:lnTo>
                  <a:pt x="740" y="239"/>
                </a:lnTo>
                <a:lnTo>
                  <a:pt x="779" y="228"/>
                </a:lnTo>
                <a:lnTo>
                  <a:pt x="819" y="216"/>
                </a:lnTo>
                <a:lnTo>
                  <a:pt x="862" y="204"/>
                </a:lnTo>
                <a:lnTo>
                  <a:pt x="905" y="194"/>
                </a:lnTo>
                <a:lnTo>
                  <a:pt x="949" y="183"/>
                </a:lnTo>
                <a:lnTo>
                  <a:pt x="994" y="173"/>
                </a:lnTo>
                <a:lnTo>
                  <a:pt x="1038" y="162"/>
                </a:lnTo>
                <a:lnTo>
                  <a:pt x="1082" y="153"/>
                </a:lnTo>
                <a:lnTo>
                  <a:pt x="1125" y="143"/>
                </a:lnTo>
                <a:lnTo>
                  <a:pt x="1166" y="134"/>
                </a:lnTo>
                <a:lnTo>
                  <a:pt x="1206" y="125"/>
                </a:lnTo>
                <a:lnTo>
                  <a:pt x="1245" y="118"/>
                </a:lnTo>
                <a:lnTo>
                  <a:pt x="1288" y="110"/>
                </a:lnTo>
                <a:lnTo>
                  <a:pt x="1332" y="104"/>
                </a:lnTo>
                <a:lnTo>
                  <a:pt x="1380" y="96"/>
                </a:lnTo>
                <a:lnTo>
                  <a:pt x="1428" y="92"/>
                </a:lnTo>
                <a:lnTo>
                  <a:pt x="1477" y="86"/>
                </a:lnTo>
                <a:lnTo>
                  <a:pt x="1526" y="81"/>
                </a:lnTo>
                <a:lnTo>
                  <a:pt x="1576" y="75"/>
                </a:lnTo>
                <a:lnTo>
                  <a:pt x="1624" y="72"/>
                </a:lnTo>
                <a:lnTo>
                  <a:pt x="1671" y="67"/>
                </a:lnTo>
                <a:lnTo>
                  <a:pt x="1717" y="64"/>
                </a:lnTo>
                <a:lnTo>
                  <a:pt x="1760" y="59"/>
                </a:lnTo>
                <a:lnTo>
                  <a:pt x="1800" y="55"/>
                </a:lnTo>
                <a:lnTo>
                  <a:pt x="1836" y="52"/>
                </a:lnTo>
                <a:lnTo>
                  <a:pt x="1869" y="48"/>
                </a:lnTo>
                <a:lnTo>
                  <a:pt x="1898" y="44"/>
                </a:lnTo>
                <a:lnTo>
                  <a:pt x="1922" y="42"/>
                </a:lnTo>
                <a:lnTo>
                  <a:pt x="1948" y="38"/>
                </a:lnTo>
                <a:lnTo>
                  <a:pt x="1974" y="36"/>
                </a:lnTo>
                <a:lnTo>
                  <a:pt x="2000" y="32"/>
                </a:lnTo>
                <a:lnTo>
                  <a:pt x="2026" y="30"/>
                </a:lnTo>
                <a:lnTo>
                  <a:pt x="2054" y="27"/>
                </a:lnTo>
                <a:lnTo>
                  <a:pt x="2082" y="24"/>
                </a:lnTo>
                <a:lnTo>
                  <a:pt x="2112" y="20"/>
                </a:lnTo>
                <a:lnTo>
                  <a:pt x="2143" y="18"/>
                </a:lnTo>
                <a:lnTo>
                  <a:pt x="2176" y="16"/>
                </a:lnTo>
                <a:lnTo>
                  <a:pt x="2210" y="14"/>
                </a:lnTo>
                <a:lnTo>
                  <a:pt x="2248" y="10"/>
                </a:lnTo>
                <a:lnTo>
                  <a:pt x="2287" y="8"/>
                </a:lnTo>
                <a:lnTo>
                  <a:pt x="2330" y="6"/>
                </a:lnTo>
                <a:lnTo>
                  <a:pt x="2375" y="4"/>
                </a:lnTo>
                <a:lnTo>
                  <a:pt x="2424" y="0"/>
                </a:lnTo>
              </a:path>
            </a:pathLst>
          </a:custGeom>
          <a:noFill/>
          <a:ln w="63360">
            <a:solidFill>
              <a:srgbClr val="ff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3527280" y="6973920"/>
            <a:ext cx="760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838080" y="4994280"/>
            <a:ext cx="2835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911160" indent="32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ShelleyVolante BT"/>
              </a:rPr>
              <a:t>E</a:t>
            </a:r>
            <a:r>
              <a:rPr b="0" i="1" lang="en-GB" sz="41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1644480" y="4724280"/>
            <a:ext cx="588960" cy="317520"/>
          </a:xfrm>
          <a:prstGeom prst="line">
            <a:avLst/>
          </a:prstGeom>
          <a:ln w="47520">
            <a:solidFill>
              <a:srgbClr val="00c1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3504960" y="6518160"/>
            <a:ext cx="152280" cy="609840"/>
          </a:xfrm>
          <a:prstGeom prst="line">
            <a:avLst/>
          </a:prstGeom>
          <a:ln w="47520">
            <a:solidFill>
              <a:srgbClr val="00c1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100584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valuación del bienestar del ingreso de dos person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523880" y="3505320"/>
            <a:ext cx="1279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2438280" y="2946240"/>
            <a:ext cx="0" cy="382752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492280" y="6381720"/>
            <a:ext cx="480060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448000" y="3695760"/>
            <a:ext cx="4486320" cy="3062160"/>
          </a:xfrm>
          <a:custGeom>
            <a:avLst/>
            <a:gdLst/>
            <a:ahLst/>
            <a:rect l="l" t="t" r="r" b="b"/>
            <a:pathLst>
              <a:path w="2826" h="1929">
                <a:moveTo>
                  <a:pt x="0" y="1928"/>
                </a:moveTo>
                <a:lnTo>
                  <a:pt x="8" y="1889"/>
                </a:lnTo>
                <a:lnTo>
                  <a:pt x="16" y="1857"/>
                </a:lnTo>
                <a:lnTo>
                  <a:pt x="22" y="1832"/>
                </a:lnTo>
                <a:lnTo>
                  <a:pt x="27" y="1812"/>
                </a:lnTo>
                <a:lnTo>
                  <a:pt x="30" y="1796"/>
                </a:lnTo>
                <a:lnTo>
                  <a:pt x="33" y="1785"/>
                </a:lnTo>
                <a:lnTo>
                  <a:pt x="35" y="1776"/>
                </a:lnTo>
                <a:lnTo>
                  <a:pt x="37" y="1770"/>
                </a:lnTo>
                <a:lnTo>
                  <a:pt x="37" y="1766"/>
                </a:lnTo>
                <a:lnTo>
                  <a:pt x="39" y="1761"/>
                </a:lnTo>
                <a:lnTo>
                  <a:pt x="40" y="1757"/>
                </a:lnTo>
                <a:lnTo>
                  <a:pt x="42" y="1750"/>
                </a:lnTo>
                <a:lnTo>
                  <a:pt x="43" y="1744"/>
                </a:lnTo>
                <a:lnTo>
                  <a:pt x="46" y="1732"/>
                </a:lnTo>
                <a:lnTo>
                  <a:pt x="50" y="1717"/>
                </a:lnTo>
                <a:lnTo>
                  <a:pt x="55" y="1697"/>
                </a:lnTo>
                <a:lnTo>
                  <a:pt x="60" y="1676"/>
                </a:lnTo>
                <a:lnTo>
                  <a:pt x="65" y="1651"/>
                </a:lnTo>
                <a:lnTo>
                  <a:pt x="72" y="1626"/>
                </a:lnTo>
                <a:lnTo>
                  <a:pt x="79" y="1599"/>
                </a:lnTo>
                <a:lnTo>
                  <a:pt x="86" y="1572"/>
                </a:lnTo>
                <a:lnTo>
                  <a:pt x="93" y="1544"/>
                </a:lnTo>
                <a:lnTo>
                  <a:pt x="101" y="1516"/>
                </a:lnTo>
                <a:lnTo>
                  <a:pt x="110" y="1488"/>
                </a:lnTo>
                <a:lnTo>
                  <a:pt x="117" y="1462"/>
                </a:lnTo>
                <a:lnTo>
                  <a:pt x="124" y="1435"/>
                </a:lnTo>
                <a:lnTo>
                  <a:pt x="132" y="1409"/>
                </a:lnTo>
                <a:lnTo>
                  <a:pt x="140" y="1384"/>
                </a:lnTo>
                <a:lnTo>
                  <a:pt x="146" y="1361"/>
                </a:lnTo>
                <a:lnTo>
                  <a:pt x="153" y="1340"/>
                </a:lnTo>
                <a:lnTo>
                  <a:pt x="159" y="1320"/>
                </a:lnTo>
                <a:lnTo>
                  <a:pt x="165" y="1303"/>
                </a:lnTo>
                <a:lnTo>
                  <a:pt x="170" y="1287"/>
                </a:lnTo>
                <a:lnTo>
                  <a:pt x="178" y="1268"/>
                </a:lnTo>
                <a:lnTo>
                  <a:pt x="187" y="1248"/>
                </a:lnTo>
                <a:lnTo>
                  <a:pt x="198" y="1224"/>
                </a:lnTo>
                <a:lnTo>
                  <a:pt x="209" y="1200"/>
                </a:lnTo>
                <a:lnTo>
                  <a:pt x="222" y="1174"/>
                </a:lnTo>
                <a:lnTo>
                  <a:pt x="237" y="1147"/>
                </a:lnTo>
                <a:lnTo>
                  <a:pt x="252" y="1119"/>
                </a:lnTo>
                <a:lnTo>
                  <a:pt x="267" y="1092"/>
                </a:lnTo>
                <a:lnTo>
                  <a:pt x="282" y="1064"/>
                </a:lnTo>
                <a:lnTo>
                  <a:pt x="299" y="1036"/>
                </a:lnTo>
                <a:lnTo>
                  <a:pt x="316" y="1008"/>
                </a:lnTo>
                <a:lnTo>
                  <a:pt x="330" y="982"/>
                </a:lnTo>
                <a:lnTo>
                  <a:pt x="347" y="957"/>
                </a:lnTo>
                <a:lnTo>
                  <a:pt x="363" y="932"/>
                </a:lnTo>
                <a:lnTo>
                  <a:pt x="379" y="908"/>
                </a:lnTo>
                <a:lnTo>
                  <a:pt x="395" y="887"/>
                </a:lnTo>
                <a:lnTo>
                  <a:pt x="414" y="862"/>
                </a:lnTo>
                <a:lnTo>
                  <a:pt x="435" y="837"/>
                </a:lnTo>
                <a:lnTo>
                  <a:pt x="459" y="810"/>
                </a:lnTo>
                <a:lnTo>
                  <a:pt x="484" y="782"/>
                </a:lnTo>
                <a:lnTo>
                  <a:pt x="511" y="754"/>
                </a:lnTo>
                <a:lnTo>
                  <a:pt x="539" y="726"/>
                </a:lnTo>
                <a:lnTo>
                  <a:pt x="569" y="698"/>
                </a:lnTo>
                <a:lnTo>
                  <a:pt x="598" y="671"/>
                </a:lnTo>
                <a:lnTo>
                  <a:pt x="628" y="643"/>
                </a:lnTo>
                <a:lnTo>
                  <a:pt x="658" y="617"/>
                </a:lnTo>
                <a:lnTo>
                  <a:pt x="688" y="592"/>
                </a:lnTo>
                <a:lnTo>
                  <a:pt x="716" y="568"/>
                </a:lnTo>
                <a:lnTo>
                  <a:pt x="745" y="546"/>
                </a:lnTo>
                <a:lnTo>
                  <a:pt x="772" y="526"/>
                </a:lnTo>
                <a:lnTo>
                  <a:pt x="797" y="509"/>
                </a:lnTo>
                <a:lnTo>
                  <a:pt x="823" y="492"/>
                </a:lnTo>
                <a:lnTo>
                  <a:pt x="856" y="475"/>
                </a:lnTo>
                <a:lnTo>
                  <a:pt x="894" y="456"/>
                </a:lnTo>
                <a:lnTo>
                  <a:pt x="936" y="436"/>
                </a:lnTo>
                <a:lnTo>
                  <a:pt x="982" y="417"/>
                </a:lnTo>
                <a:lnTo>
                  <a:pt x="1032" y="396"/>
                </a:lnTo>
                <a:lnTo>
                  <a:pt x="1084" y="376"/>
                </a:lnTo>
                <a:lnTo>
                  <a:pt x="1139" y="354"/>
                </a:lnTo>
                <a:lnTo>
                  <a:pt x="1195" y="336"/>
                </a:lnTo>
                <a:lnTo>
                  <a:pt x="1252" y="316"/>
                </a:lnTo>
                <a:lnTo>
                  <a:pt x="1308" y="297"/>
                </a:lnTo>
                <a:lnTo>
                  <a:pt x="1366" y="278"/>
                </a:lnTo>
                <a:lnTo>
                  <a:pt x="1422" y="262"/>
                </a:lnTo>
                <a:lnTo>
                  <a:pt x="1478" y="246"/>
                </a:lnTo>
                <a:lnTo>
                  <a:pt x="1531" y="232"/>
                </a:lnTo>
                <a:lnTo>
                  <a:pt x="1583" y="218"/>
                </a:lnTo>
                <a:lnTo>
                  <a:pt x="1633" y="207"/>
                </a:lnTo>
                <a:lnTo>
                  <a:pt x="1688" y="195"/>
                </a:lnTo>
                <a:lnTo>
                  <a:pt x="1746" y="184"/>
                </a:lnTo>
                <a:lnTo>
                  <a:pt x="1806" y="170"/>
                </a:lnTo>
                <a:lnTo>
                  <a:pt x="1867" y="159"/>
                </a:lnTo>
                <a:lnTo>
                  <a:pt x="1930" y="146"/>
                </a:lnTo>
                <a:lnTo>
                  <a:pt x="1993" y="134"/>
                </a:lnTo>
                <a:lnTo>
                  <a:pt x="2057" y="120"/>
                </a:lnTo>
                <a:lnTo>
                  <a:pt x="2118" y="109"/>
                </a:lnTo>
                <a:lnTo>
                  <a:pt x="2178" y="98"/>
                </a:lnTo>
                <a:lnTo>
                  <a:pt x="2236" y="88"/>
                </a:lnTo>
                <a:lnTo>
                  <a:pt x="2290" y="78"/>
                </a:lnTo>
                <a:lnTo>
                  <a:pt x="2341" y="69"/>
                </a:lnTo>
                <a:lnTo>
                  <a:pt x="2388" y="61"/>
                </a:lnTo>
                <a:lnTo>
                  <a:pt x="2430" y="55"/>
                </a:lnTo>
                <a:lnTo>
                  <a:pt x="2468" y="49"/>
                </a:lnTo>
                <a:lnTo>
                  <a:pt x="2496" y="46"/>
                </a:lnTo>
                <a:lnTo>
                  <a:pt x="2519" y="42"/>
                </a:lnTo>
                <a:lnTo>
                  <a:pt x="2535" y="41"/>
                </a:lnTo>
                <a:lnTo>
                  <a:pt x="2548" y="38"/>
                </a:lnTo>
                <a:lnTo>
                  <a:pt x="2556" y="38"/>
                </a:lnTo>
                <a:lnTo>
                  <a:pt x="2564" y="36"/>
                </a:lnTo>
                <a:lnTo>
                  <a:pt x="2570" y="36"/>
                </a:lnTo>
                <a:lnTo>
                  <a:pt x="2579" y="34"/>
                </a:lnTo>
                <a:lnTo>
                  <a:pt x="2588" y="33"/>
                </a:lnTo>
                <a:lnTo>
                  <a:pt x="2601" y="31"/>
                </a:lnTo>
                <a:lnTo>
                  <a:pt x="2619" y="29"/>
                </a:lnTo>
                <a:lnTo>
                  <a:pt x="2643" y="25"/>
                </a:lnTo>
                <a:lnTo>
                  <a:pt x="2674" y="21"/>
                </a:lnTo>
                <a:lnTo>
                  <a:pt x="2714" y="16"/>
                </a:lnTo>
                <a:lnTo>
                  <a:pt x="2764" y="9"/>
                </a:lnTo>
                <a:lnTo>
                  <a:pt x="2825" y="0"/>
                </a:lnTo>
              </a:path>
            </a:pathLst>
          </a:custGeom>
          <a:noFill/>
          <a:ln w="31680">
            <a:solidFill>
              <a:srgbClr val="c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210200" y="4280040"/>
            <a:ext cx="0" cy="247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38280" y="3886200"/>
            <a:ext cx="3335400" cy="2492280"/>
          </a:xfrm>
          <a:custGeom>
            <a:avLst/>
            <a:gdLst/>
            <a:ahLst/>
            <a:rect l="l" t="t" r="r" b="b"/>
            <a:pathLst>
              <a:path w="2112" h="1586">
                <a:moveTo>
                  <a:pt x="2098" y="1585"/>
                </a:moveTo>
                <a:lnTo>
                  <a:pt x="2111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cc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438280" y="5562720"/>
            <a:ext cx="357480" cy="831600"/>
          </a:xfrm>
          <a:custGeom>
            <a:avLst/>
            <a:gdLst/>
            <a:ahLst/>
            <a:rect l="l" t="t" r="r" b="b"/>
            <a:pathLst>
              <a:path w="236" h="540">
                <a:moveTo>
                  <a:pt x="234" y="539"/>
                </a:moveTo>
                <a:lnTo>
                  <a:pt x="235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cc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451240" y="4275000"/>
            <a:ext cx="1795320" cy="2108160"/>
          </a:xfrm>
          <a:custGeom>
            <a:avLst/>
            <a:gdLst/>
            <a:ahLst/>
            <a:rect l="l" t="t" r="r" b="b"/>
            <a:pathLst>
              <a:path w="1131" h="1328">
                <a:moveTo>
                  <a:pt x="1130" y="1327"/>
                </a:moveTo>
                <a:lnTo>
                  <a:pt x="1130" y="0"/>
                </a:lnTo>
                <a:lnTo>
                  <a:pt x="0" y="0"/>
                </a:lnTo>
              </a:path>
            </a:pathLst>
          </a:custGeom>
          <a:noFill/>
          <a:ln w="47520">
            <a:solidFill>
              <a:srgbClr val="ff008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252440" y="4038480"/>
            <a:ext cx="15670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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629320" y="6546960"/>
            <a:ext cx="847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406600" y="2239920"/>
            <a:ext cx="566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059600" y="3395520"/>
            <a:ext cx="13240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0120" y="6221520"/>
            <a:ext cx="27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86200" y="6553080"/>
            <a:ext cx="853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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523880" y="5470560"/>
            <a:ext cx="1279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90920" y="6546960"/>
            <a:ext cx="847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-457200" y="457200"/>
            <a:ext cx="10058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valuación del ingreso med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0"/>
            <a:ext cx="10058400" cy="174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Bienestar esperado y el ingreso equivalente al ingreso igualitariamente distribuid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455920" y="4689360"/>
            <a:ext cx="1049400" cy="1665360"/>
          </a:xfrm>
          <a:custGeom>
            <a:avLst/>
            <a:gdLst/>
            <a:ahLst/>
            <a:rect l="l" t="t" r="r" b="b"/>
            <a:pathLst>
              <a:path w="641" h="1027">
                <a:moveTo>
                  <a:pt x="0" y="0"/>
                </a:moveTo>
                <a:lnTo>
                  <a:pt x="629" y="0"/>
                </a:lnTo>
                <a:lnTo>
                  <a:pt x="629" y="1018"/>
                </a:lnTo>
                <a:lnTo>
                  <a:pt x="640" y="1018"/>
                </a:lnTo>
                <a:lnTo>
                  <a:pt x="635" y="1026"/>
                </a:lnTo>
              </a:path>
            </a:pathLst>
          </a:custGeom>
          <a:noFill/>
          <a:ln cap="rnd" w="57240">
            <a:solidFill>
              <a:srgbClr val="00c1c2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05320" y="6324480"/>
            <a:ext cx="706320" cy="9720"/>
          </a:xfrm>
          <a:prstGeom prst="line">
            <a:avLst/>
          </a:prstGeom>
          <a:ln w="127080">
            <a:solidFill>
              <a:srgbClr val="ff8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343400" y="4777560"/>
            <a:ext cx="4038480" cy="1187280"/>
          </a:xfrm>
          <a:prstGeom prst="wedgeRoundRectCallout">
            <a:avLst>
              <a:gd name="adj1" fmla="val -56949"/>
              <a:gd name="adj2" fmla="val 107439"/>
              <a:gd name="adj3" fmla="val 16667"/>
            </a:avLst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l ingreso que la sociedad sacrificaría para eliminar la desigual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0"/>
            <a:ext cx="100584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uevamente pérdida en bienestar por desigual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2819520" y="5622120"/>
            <a:ext cx="1447560" cy="520560"/>
            <a:chOff x="2819520" y="5622120"/>
            <a:chExt cx="1447560" cy="520560"/>
          </a:xfrm>
        </p:grpSpPr>
        <p:sp>
          <p:nvSpPr>
            <p:cNvPr id="1087" name=""/>
            <p:cNvSpPr/>
            <p:nvPr/>
          </p:nvSpPr>
          <p:spPr>
            <a:xfrm>
              <a:off x="2819520" y="5896080"/>
              <a:ext cx="1447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92640" y="5622120"/>
              <a:ext cx="44748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4267080" y="5639400"/>
            <a:ext cx="1447920" cy="520560"/>
            <a:chOff x="4267080" y="5639400"/>
            <a:chExt cx="1447920" cy="520560"/>
          </a:xfrm>
        </p:grpSpPr>
        <p:sp>
          <p:nvSpPr>
            <p:cNvPr id="1090" name=""/>
            <p:cNvSpPr/>
            <p:nvPr/>
          </p:nvSpPr>
          <p:spPr>
            <a:xfrm>
              <a:off x="4267080" y="5913360"/>
              <a:ext cx="1447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40200" y="5639400"/>
              <a:ext cx="44748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2509920" y="3886200"/>
            <a:ext cx="333000" cy="804960"/>
            <a:chOff x="2509920" y="3886200"/>
            <a:chExt cx="333000" cy="804960"/>
          </a:xfrm>
        </p:grpSpPr>
        <p:sp>
          <p:nvSpPr>
            <p:cNvPr id="1093" name=""/>
            <p:cNvSpPr/>
            <p:nvPr/>
          </p:nvSpPr>
          <p:spPr>
            <a:xfrm flipV="1">
              <a:off x="2666880" y="3886200"/>
              <a:ext cx="0" cy="804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2509560" y="4128480"/>
              <a:ext cx="33300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2500200" y="4757760"/>
            <a:ext cx="333000" cy="804960"/>
            <a:chOff x="2500200" y="4757760"/>
            <a:chExt cx="333000" cy="804960"/>
          </a:xfrm>
        </p:grpSpPr>
        <p:sp>
          <p:nvSpPr>
            <p:cNvPr id="1096" name=""/>
            <p:cNvSpPr/>
            <p:nvPr/>
          </p:nvSpPr>
          <p:spPr>
            <a:xfrm flipV="1">
              <a:off x="2657160" y="4757760"/>
              <a:ext cx="0" cy="804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2499840" y="5000040"/>
              <a:ext cx="33300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10058400" cy="6324480"/>
          </a:xfrm>
          <a:prstGeom prst="rect">
            <a:avLst/>
          </a:prstGeom>
          <a:solidFill>
            <a:srgbClr val="ffffc2"/>
          </a:solidFill>
          <a:ln w="936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txBody>
          <a:bodyPr lIns="360000" rIns="360000" tIns="0" bIns="0" anchor="ctr">
            <a:normAutofit fontScale="99000"/>
          </a:bodyPr>
          <a:p>
            <a:pPr marL="205920" indent="-205920">
              <a:spcBef>
                <a:spcPts val="2251"/>
              </a:spcBef>
              <a:buClr>
                <a:srgbClr val="00008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La FBS convencional es un ordenamiento sobre niveles de utilidad ( a diferencia de la Constitució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5920" indent="-205920">
              <a:spcBef>
                <a:spcPts val="2251"/>
              </a:spcBef>
              <a:buClr>
                <a:srgbClr val="00008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Puede ser vista como analoga a un ordenamiento de un individuo de prospectos bajo incertidumb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5920" indent="-205920">
              <a:spcBef>
                <a:spcPts val="2251"/>
              </a:spcBef>
              <a:buClr>
                <a:srgbClr val="00008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En condiciones ideales existe una conección con el ingreso nacio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5920" indent="-205920">
              <a:spcBef>
                <a:spcPts val="2251"/>
              </a:spcBef>
              <a:buClr>
                <a:srgbClr val="00008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Aversión a la desigualdad y aversión al riesgo pueden ser vistos como conceptos simila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4800" y="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6040" y="30456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nfoque de la función de bienestar Soci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600200"/>
            <a:ext cx="10058400" cy="5840280"/>
          </a:xfrm>
          <a:prstGeom prst="rect">
            <a:avLst/>
          </a:prstGeom>
          <a:gradFill rotWithShape="0">
            <a:gsLst>
              <a:gs pos="0">
                <a:srgbClr val="400080"/>
              </a:gs>
              <a:gs pos="100000">
                <a:srgbClr val="99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52560" indent="-952560">
              <a:spcBef>
                <a:spcPts val="2500"/>
              </a:spcBef>
              <a:buClr>
                <a:srgbClr val="ffff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Restrición de aspectos "relevantes" del estado social a cada persona (hoga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spcBef>
                <a:spcPts val="2500"/>
              </a:spcBef>
              <a:buClr>
                <a:srgbClr val="ffff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Conocimiento de las preferencias de cada persona(hoga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spcBef>
                <a:spcPts val="2500"/>
              </a:spcBef>
              <a:buClr>
                <a:srgbClr val="ffff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Comparabilidad de las uti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spcBef>
                <a:spcPts val="2500"/>
              </a:spcBef>
              <a:buClr>
                <a:srgbClr val="ffff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Una función agregada W para las uti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411480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1828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FBS y el ingreso n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40640" y="5867280"/>
            <a:ext cx="203688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FBS y la distribución del ingr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067280" y="5315040"/>
            <a:ext cx="4540320" cy="552240"/>
            <a:chOff x="4067280" y="5315040"/>
            <a:chExt cx="4540320" cy="552240"/>
          </a:xfrm>
        </p:grpSpPr>
        <p:sp>
          <p:nvSpPr>
            <p:cNvPr id="346" name=""/>
            <p:cNvSpPr/>
            <p:nvPr/>
          </p:nvSpPr>
          <p:spPr>
            <a:xfrm>
              <a:off x="633600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67280" y="561348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360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60616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6728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18200" y="5613480"/>
              <a:ext cx="1117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3600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354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971800" y="4114800"/>
            <a:ext cx="20368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incipios de 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4120" y="4114800"/>
            <a:ext cx="203508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96080" y="411480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Economía del Bienestar 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180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o esencial de la FB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586728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FBS y la distribución del ingr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5334120"/>
            <a:ext cx="2485800" cy="205884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Principios del Bienesta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579132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FBS y el ingreso n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927000" y="2854440"/>
            <a:ext cx="5865840" cy="4545000"/>
            <a:chOff x="927000" y="2854440"/>
            <a:chExt cx="5865840" cy="4545000"/>
          </a:xfrm>
        </p:grpSpPr>
        <p:sp>
          <p:nvSpPr>
            <p:cNvPr id="372" name=""/>
            <p:cNvSpPr/>
            <p:nvPr/>
          </p:nvSpPr>
          <p:spPr>
            <a:xfrm>
              <a:off x="927000" y="2874960"/>
              <a:ext cx="5865840" cy="4524480"/>
            </a:xfrm>
            <a:custGeom>
              <a:avLst/>
              <a:gdLst/>
              <a:ahLst/>
              <a:rect l="l" t="t" r="r" b="b"/>
              <a:pathLst>
                <a:path w="3695" h="2850">
                  <a:moveTo>
                    <a:pt x="337" y="128"/>
                  </a:moveTo>
                  <a:lnTo>
                    <a:pt x="337" y="128"/>
                  </a:lnTo>
                  <a:lnTo>
                    <a:pt x="178" y="227"/>
                  </a:lnTo>
                  <a:lnTo>
                    <a:pt x="168" y="552"/>
                  </a:lnTo>
                  <a:lnTo>
                    <a:pt x="168" y="956"/>
                  </a:lnTo>
                  <a:lnTo>
                    <a:pt x="0" y="1361"/>
                  </a:lnTo>
                  <a:lnTo>
                    <a:pt x="178" y="1765"/>
                  </a:lnTo>
                  <a:lnTo>
                    <a:pt x="178" y="2011"/>
                  </a:lnTo>
                  <a:lnTo>
                    <a:pt x="10" y="2495"/>
                  </a:lnTo>
                  <a:lnTo>
                    <a:pt x="10" y="2741"/>
                  </a:lnTo>
                  <a:lnTo>
                    <a:pt x="505" y="2682"/>
                  </a:lnTo>
                  <a:lnTo>
                    <a:pt x="832" y="2849"/>
                  </a:lnTo>
                  <a:lnTo>
                    <a:pt x="1000" y="2849"/>
                  </a:lnTo>
                  <a:lnTo>
                    <a:pt x="1168" y="2682"/>
                  </a:lnTo>
                  <a:lnTo>
                    <a:pt x="1494" y="2613"/>
                  </a:lnTo>
                  <a:lnTo>
                    <a:pt x="1821" y="2781"/>
                  </a:lnTo>
                  <a:lnTo>
                    <a:pt x="2148" y="2692"/>
                  </a:lnTo>
                  <a:lnTo>
                    <a:pt x="2216" y="2781"/>
                  </a:lnTo>
                  <a:lnTo>
                    <a:pt x="2543" y="2781"/>
                  </a:lnTo>
                  <a:lnTo>
                    <a:pt x="2870" y="2751"/>
                  </a:lnTo>
                  <a:lnTo>
                    <a:pt x="3197" y="2839"/>
                  </a:lnTo>
                  <a:lnTo>
                    <a:pt x="3523" y="2672"/>
                  </a:lnTo>
                  <a:lnTo>
                    <a:pt x="3694" y="2351"/>
                  </a:lnTo>
                  <a:lnTo>
                    <a:pt x="3610" y="2110"/>
                  </a:lnTo>
                  <a:lnTo>
                    <a:pt x="3603" y="2087"/>
                  </a:lnTo>
                  <a:lnTo>
                    <a:pt x="3594" y="2062"/>
                  </a:lnTo>
                  <a:lnTo>
                    <a:pt x="3585" y="2035"/>
                  </a:lnTo>
                  <a:lnTo>
                    <a:pt x="3574" y="2009"/>
                  </a:lnTo>
                  <a:lnTo>
                    <a:pt x="3563" y="1980"/>
                  </a:lnTo>
                  <a:lnTo>
                    <a:pt x="3552" y="1951"/>
                  </a:lnTo>
                  <a:lnTo>
                    <a:pt x="3542" y="1922"/>
                  </a:lnTo>
                  <a:lnTo>
                    <a:pt x="3528" y="1896"/>
                  </a:lnTo>
                  <a:lnTo>
                    <a:pt x="3518" y="1868"/>
                  </a:lnTo>
                  <a:lnTo>
                    <a:pt x="3507" y="1842"/>
                  </a:lnTo>
                  <a:lnTo>
                    <a:pt x="3496" y="1815"/>
                  </a:lnTo>
                  <a:lnTo>
                    <a:pt x="3485" y="1793"/>
                  </a:lnTo>
                  <a:lnTo>
                    <a:pt x="3476" y="1769"/>
                  </a:lnTo>
                  <a:lnTo>
                    <a:pt x="3467" y="1749"/>
                  </a:lnTo>
                  <a:lnTo>
                    <a:pt x="3459" y="1731"/>
                  </a:lnTo>
                  <a:lnTo>
                    <a:pt x="3438" y="1697"/>
                  </a:lnTo>
                  <a:lnTo>
                    <a:pt x="3418" y="1658"/>
                  </a:lnTo>
                  <a:lnTo>
                    <a:pt x="3394" y="1619"/>
                  </a:lnTo>
                  <a:lnTo>
                    <a:pt x="3370" y="1580"/>
                  </a:lnTo>
                  <a:lnTo>
                    <a:pt x="3344" y="1545"/>
                  </a:lnTo>
                  <a:lnTo>
                    <a:pt x="3321" y="1512"/>
                  </a:lnTo>
                  <a:lnTo>
                    <a:pt x="3299" y="1484"/>
                  </a:lnTo>
                  <a:lnTo>
                    <a:pt x="3280" y="1462"/>
                  </a:lnTo>
                  <a:lnTo>
                    <a:pt x="3260" y="1445"/>
                  </a:lnTo>
                  <a:lnTo>
                    <a:pt x="3238" y="1427"/>
                  </a:lnTo>
                  <a:lnTo>
                    <a:pt x="3214" y="1406"/>
                  </a:lnTo>
                  <a:lnTo>
                    <a:pt x="3189" y="1386"/>
                  </a:lnTo>
                  <a:lnTo>
                    <a:pt x="3163" y="1368"/>
                  </a:lnTo>
                  <a:lnTo>
                    <a:pt x="3140" y="1351"/>
                  </a:lnTo>
                  <a:lnTo>
                    <a:pt x="3118" y="1338"/>
                  </a:lnTo>
                  <a:lnTo>
                    <a:pt x="3099" y="1326"/>
                  </a:lnTo>
                  <a:lnTo>
                    <a:pt x="3078" y="1318"/>
                  </a:lnTo>
                  <a:lnTo>
                    <a:pt x="3057" y="1308"/>
                  </a:lnTo>
                  <a:lnTo>
                    <a:pt x="3032" y="1298"/>
                  </a:lnTo>
                  <a:lnTo>
                    <a:pt x="3008" y="1288"/>
                  </a:lnTo>
                  <a:lnTo>
                    <a:pt x="2981" y="1281"/>
                  </a:lnTo>
                  <a:lnTo>
                    <a:pt x="2958" y="1271"/>
                  </a:lnTo>
                  <a:lnTo>
                    <a:pt x="2936" y="1265"/>
                  </a:lnTo>
                  <a:lnTo>
                    <a:pt x="2918" y="1260"/>
                  </a:lnTo>
                  <a:lnTo>
                    <a:pt x="2827" y="1241"/>
                  </a:lnTo>
                  <a:lnTo>
                    <a:pt x="2294" y="1238"/>
                  </a:lnTo>
                  <a:lnTo>
                    <a:pt x="2210" y="1229"/>
                  </a:lnTo>
                  <a:lnTo>
                    <a:pt x="2164" y="1220"/>
                  </a:lnTo>
                  <a:lnTo>
                    <a:pt x="2112" y="1210"/>
                  </a:lnTo>
                  <a:lnTo>
                    <a:pt x="2061" y="1199"/>
                  </a:lnTo>
                  <a:lnTo>
                    <a:pt x="2034" y="1195"/>
                  </a:lnTo>
                  <a:lnTo>
                    <a:pt x="2007" y="1188"/>
                  </a:lnTo>
                  <a:lnTo>
                    <a:pt x="1977" y="1182"/>
                  </a:lnTo>
                  <a:lnTo>
                    <a:pt x="1948" y="1174"/>
                  </a:lnTo>
                  <a:lnTo>
                    <a:pt x="1919" y="1167"/>
                  </a:lnTo>
                  <a:lnTo>
                    <a:pt x="1894" y="1160"/>
                  </a:lnTo>
                  <a:lnTo>
                    <a:pt x="1871" y="1154"/>
                  </a:lnTo>
                  <a:lnTo>
                    <a:pt x="1855" y="1149"/>
                  </a:lnTo>
                  <a:lnTo>
                    <a:pt x="1836" y="1144"/>
                  </a:lnTo>
                  <a:lnTo>
                    <a:pt x="1818" y="1137"/>
                  </a:lnTo>
                  <a:lnTo>
                    <a:pt x="1798" y="1127"/>
                  </a:lnTo>
                  <a:lnTo>
                    <a:pt x="1777" y="1116"/>
                  </a:lnTo>
                  <a:lnTo>
                    <a:pt x="1754" y="1105"/>
                  </a:lnTo>
                  <a:lnTo>
                    <a:pt x="1734" y="1094"/>
                  </a:lnTo>
                  <a:lnTo>
                    <a:pt x="1715" y="1083"/>
                  </a:lnTo>
                  <a:lnTo>
                    <a:pt x="1700" y="1072"/>
                  </a:lnTo>
                  <a:lnTo>
                    <a:pt x="1622" y="1017"/>
                  </a:lnTo>
                  <a:lnTo>
                    <a:pt x="1623" y="661"/>
                  </a:lnTo>
                  <a:lnTo>
                    <a:pt x="1500" y="542"/>
                  </a:lnTo>
                  <a:lnTo>
                    <a:pt x="1473" y="517"/>
                  </a:lnTo>
                  <a:lnTo>
                    <a:pt x="1440" y="488"/>
                  </a:lnTo>
                  <a:lnTo>
                    <a:pt x="1404" y="456"/>
                  </a:lnTo>
                  <a:lnTo>
                    <a:pt x="1366" y="426"/>
                  </a:lnTo>
                  <a:lnTo>
                    <a:pt x="1329" y="395"/>
                  </a:lnTo>
                  <a:lnTo>
                    <a:pt x="1294" y="366"/>
                  </a:lnTo>
                  <a:lnTo>
                    <a:pt x="1262" y="341"/>
                  </a:lnTo>
                  <a:lnTo>
                    <a:pt x="1227" y="316"/>
                  </a:lnTo>
                  <a:lnTo>
                    <a:pt x="1187" y="289"/>
                  </a:lnTo>
                  <a:lnTo>
                    <a:pt x="1143" y="259"/>
                  </a:lnTo>
                  <a:lnTo>
                    <a:pt x="1098" y="230"/>
                  </a:lnTo>
                  <a:lnTo>
                    <a:pt x="1051" y="203"/>
                  </a:lnTo>
                  <a:lnTo>
                    <a:pt x="1008" y="175"/>
                  </a:lnTo>
                  <a:lnTo>
                    <a:pt x="969" y="153"/>
                  </a:lnTo>
                  <a:lnTo>
                    <a:pt x="935" y="133"/>
                  </a:lnTo>
                  <a:lnTo>
                    <a:pt x="898" y="119"/>
                  </a:lnTo>
                  <a:lnTo>
                    <a:pt x="858" y="102"/>
                  </a:lnTo>
                  <a:lnTo>
                    <a:pt x="812" y="85"/>
                  </a:lnTo>
                  <a:lnTo>
                    <a:pt x="764" y="68"/>
                  </a:lnTo>
                  <a:lnTo>
                    <a:pt x="713" y="55"/>
                  </a:lnTo>
                  <a:lnTo>
                    <a:pt x="666" y="42"/>
                  </a:lnTo>
                  <a:lnTo>
                    <a:pt x="621" y="31"/>
                  </a:lnTo>
                  <a:lnTo>
                    <a:pt x="584" y="25"/>
                  </a:lnTo>
                  <a:lnTo>
                    <a:pt x="396" y="0"/>
                  </a:lnTo>
                  <a:lnTo>
                    <a:pt x="337" y="128"/>
                  </a:lnTo>
                  <a:lnTo>
                    <a:pt x="337" y="128"/>
                  </a:lnTo>
                </a:path>
              </a:pathLst>
            </a:custGeom>
            <a:gradFill rotWithShape="0">
              <a:gsLst>
                <a:gs pos="0">
                  <a:srgbClr val="ffffc2"/>
                </a:gs>
                <a:gs pos="100000">
                  <a:srgbClr val="8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555920" y="2854440"/>
              <a:ext cx="1949400" cy="1071360"/>
              <a:chOff x="1555920" y="2854440"/>
              <a:chExt cx="1949400" cy="1071360"/>
            </a:xfrm>
          </p:grpSpPr>
          <p:sp>
            <p:nvSpPr>
              <p:cNvPr id="374" name=""/>
              <p:cNvSpPr/>
              <p:nvPr/>
            </p:nvSpPr>
            <p:spPr>
              <a:xfrm>
                <a:off x="1555920" y="2854440"/>
                <a:ext cx="1949400" cy="1049400"/>
              </a:xfrm>
              <a:custGeom>
                <a:avLst/>
                <a:gdLst/>
                <a:ahLst/>
                <a:rect l="l" t="t" r="r" b="b"/>
                <a:pathLst>
                  <a:path w="1228" h="661">
                    <a:moveTo>
                      <a:pt x="0" y="0"/>
                    </a:moveTo>
                    <a:lnTo>
                      <a:pt x="31" y="5"/>
                    </a:lnTo>
                    <a:lnTo>
                      <a:pt x="58" y="8"/>
                    </a:lnTo>
                    <a:lnTo>
                      <a:pt x="78" y="11"/>
                    </a:lnTo>
                    <a:lnTo>
                      <a:pt x="94" y="13"/>
                    </a:lnTo>
                    <a:lnTo>
                      <a:pt x="106" y="15"/>
                    </a:lnTo>
                    <a:lnTo>
                      <a:pt x="116" y="16"/>
                    </a:lnTo>
                    <a:lnTo>
                      <a:pt x="123" y="17"/>
                    </a:lnTo>
                    <a:lnTo>
                      <a:pt x="129" y="17"/>
                    </a:lnTo>
                    <a:lnTo>
                      <a:pt x="132" y="19"/>
                    </a:lnTo>
                    <a:lnTo>
                      <a:pt x="136" y="19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0" y="22"/>
                    </a:lnTo>
                    <a:lnTo>
                      <a:pt x="160" y="22"/>
                    </a:lnTo>
                    <a:lnTo>
                      <a:pt x="171" y="23"/>
                    </a:lnTo>
                    <a:lnTo>
                      <a:pt x="188" y="25"/>
                    </a:lnTo>
                    <a:lnTo>
                      <a:pt x="206" y="28"/>
                    </a:lnTo>
                    <a:lnTo>
                      <a:pt x="226" y="32"/>
                    </a:lnTo>
                    <a:lnTo>
                      <a:pt x="247" y="37"/>
                    </a:lnTo>
                    <a:lnTo>
                      <a:pt x="270" y="42"/>
                    </a:lnTo>
                    <a:lnTo>
                      <a:pt x="293" y="48"/>
                    </a:lnTo>
                    <a:lnTo>
                      <a:pt x="318" y="54"/>
                    </a:lnTo>
                    <a:lnTo>
                      <a:pt x="342" y="62"/>
                    </a:lnTo>
                    <a:lnTo>
                      <a:pt x="368" y="68"/>
                    </a:lnTo>
                    <a:lnTo>
                      <a:pt x="391" y="77"/>
                    </a:lnTo>
                    <a:lnTo>
                      <a:pt x="416" y="84"/>
                    </a:lnTo>
                    <a:lnTo>
                      <a:pt x="439" y="93"/>
                    </a:lnTo>
                    <a:lnTo>
                      <a:pt x="462" y="101"/>
                    </a:lnTo>
                    <a:lnTo>
                      <a:pt x="483" y="110"/>
                    </a:lnTo>
                    <a:lnTo>
                      <a:pt x="504" y="118"/>
                    </a:lnTo>
                    <a:lnTo>
                      <a:pt x="522" y="125"/>
                    </a:lnTo>
                    <a:lnTo>
                      <a:pt x="539" y="132"/>
                    </a:lnTo>
                    <a:lnTo>
                      <a:pt x="555" y="142"/>
                    </a:lnTo>
                    <a:lnTo>
                      <a:pt x="572" y="152"/>
                    </a:lnTo>
                    <a:lnTo>
                      <a:pt x="592" y="163"/>
                    </a:lnTo>
                    <a:lnTo>
                      <a:pt x="613" y="174"/>
                    </a:lnTo>
                    <a:lnTo>
                      <a:pt x="634" y="188"/>
                    </a:lnTo>
                    <a:lnTo>
                      <a:pt x="656" y="201"/>
                    </a:lnTo>
                    <a:lnTo>
                      <a:pt x="678" y="216"/>
                    </a:lnTo>
                    <a:lnTo>
                      <a:pt x="702" y="229"/>
                    </a:lnTo>
                    <a:lnTo>
                      <a:pt x="724" y="244"/>
                    </a:lnTo>
                    <a:lnTo>
                      <a:pt x="747" y="259"/>
                    </a:lnTo>
                    <a:lnTo>
                      <a:pt x="769" y="274"/>
                    </a:lnTo>
                    <a:lnTo>
                      <a:pt x="791" y="288"/>
                    </a:lnTo>
                    <a:lnTo>
                      <a:pt x="811" y="302"/>
                    </a:lnTo>
                    <a:lnTo>
                      <a:pt x="831" y="315"/>
                    </a:lnTo>
                    <a:lnTo>
                      <a:pt x="848" y="328"/>
                    </a:lnTo>
                    <a:lnTo>
                      <a:pt x="866" y="340"/>
                    </a:lnTo>
                    <a:lnTo>
                      <a:pt x="880" y="353"/>
                    </a:lnTo>
                    <a:lnTo>
                      <a:pt x="898" y="366"/>
                    </a:lnTo>
                    <a:lnTo>
                      <a:pt x="914" y="380"/>
                    </a:lnTo>
                    <a:lnTo>
                      <a:pt x="933" y="394"/>
                    </a:lnTo>
                    <a:lnTo>
                      <a:pt x="952" y="410"/>
                    </a:lnTo>
                    <a:lnTo>
                      <a:pt x="970" y="425"/>
                    </a:lnTo>
                    <a:lnTo>
                      <a:pt x="989" y="441"/>
                    </a:lnTo>
                    <a:lnTo>
                      <a:pt x="1008" y="456"/>
                    </a:lnTo>
                    <a:lnTo>
                      <a:pt x="1025" y="472"/>
                    </a:lnTo>
                    <a:lnTo>
                      <a:pt x="1044" y="487"/>
                    </a:lnTo>
                    <a:lnTo>
                      <a:pt x="1060" y="502"/>
                    </a:lnTo>
                    <a:lnTo>
                      <a:pt x="1077" y="515"/>
                    </a:lnTo>
                    <a:lnTo>
                      <a:pt x="1091" y="529"/>
                    </a:lnTo>
                    <a:lnTo>
                      <a:pt x="1105" y="541"/>
                    </a:lnTo>
                    <a:lnTo>
                      <a:pt x="1117" y="552"/>
                    </a:lnTo>
                    <a:lnTo>
                      <a:pt x="1128" y="562"/>
                    </a:lnTo>
                    <a:lnTo>
                      <a:pt x="1134" y="571"/>
                    </a:lnTo>
                    <a:lnTo>
                      <a:pt x="1142" y="577"/>
                    </a:lnTo>
                    <a:lnTo>
                      <a:pt x="1146" y="581"/>
                    </a:lnTo>
                    <a:lnTo>
                      <a:pt x="1150" y="584"/>
                    </a:lnTo>
                    <a:lnTo>
                      <a:pt x="1151" y="587"/>
                    </a:lnTo>
                    <a:lnTo>
                      <a:pt x="1154" y="589"/>
                    </a:lnTo>
                    <a:lnTo>
                      <a:pt x="1156" y="590"/>
                    </a:lnTo>
                    <a:lnTo>
                      <a:pt x="1158" y="592"/>
                    </a:lnTo>
                    <a:lnTo>
                      <a:pt x="1160" y="596"/>
                    </a:lnTo>
                    <a:lnTo>
                      <a:pt x="1164" y="599"/>
                    </a:lnTo>
                    <a:lnTo>
                      <a:pt x="1169" y="604"/>
                    </a:lnTo>
                    <a:lnTo>
                      <a:pt x="1176" y="610"/>
                    </a:lnTo>
                    <a:lnTo>
                      <a:pt x="1184" y="619"/>
                    </a:lnTo>
                    <a:lnTo>
                      <a:pt x="1195" y="630"/>
                    </a:lnTo>
                    <a:lnTo>
                      <a:pt x="1209" y="644"/>
                    </a:lnTo>
                    <a:lnTo>
                      <a:pt x="1227" y="66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55920" y="2862360"/>
                <a:ext cx="1949400" cy="1050840"/>
              </a:xfrm>
              <a:custGeom>
                <a:avLst/>
                <a:gdLst/>
                <a:ahLst/>
                <a:rect l="l" t="t" r="r" b="b"/>
                <a:pathLst>
                  <a:path w="1228" h="662">
                    <a:moveTo>
                      <a:pt x="0" y="0"/>
                    </a:moveTo>
                    <a:lnTo>
                      <a:pt x="31" y="5"/>
                    </a:lnTo>
                    <a:lnTo>
                      <a:pt x="58" y="8"/>
                    </a:lnTo>
                    <a:lnTo>
                      <a:pt x="78" y="11"/>
                    </a:lnTo>
                    <a:lnTo>
                      <a:pt x="94" y="13"/>
                    </a:lnTo>
                    <a:lnTo>
                      <a:pt x="106" y="15"/>
                    </a:lnTo>
                    <a:lnTo>
                      <a:pt x="116" y="16"/>
                    </a:lnTo>
                    <a:lnTo>
                      <a:pt x="123" y="17"/>
                    </a:lnTo>
                    <a:lnTo>
                      <a:pt x="129" y="17"/>
                    </a:lnTo>
                    <a:lnTo>
                      <a:pt x="132" y="19"/>
                    </a:lnTo>
                    <a:lnTo>
                      <a:pt x="136" y="19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0" y="21"/>
                    </a:lnTo>
                    <a:lnTo>
                      <a:pt x="160" y="21"/>
                    </a:lnTo>
                    <a:lnTo>
                      <a:pt x="171" y="23"/>
                    </a:lnTo>
                    <a:lnTo>
                      <a:pt x="188" y="25"/>
                    </a:lnTo>
                    <a:lnTo>
                      <a:pt x="206" y="28"/>
                    </a:lnTo>
                    <a:lnTo>
                      <a:pt x="226" y="32"/>
                    </a:lnTo>
                    <a:lnTo>
                      <a:pt x="247" y="37"/>
                    </a:lnTo>
                    <a:lnTo>
                      <a:pt x="270" y="41"/>
                    </a:lnTo>
                    <a:lnTo>
                      <a:pt x="293" y="48"/>
                    </a:lnTo>
                    <a:lnTo>
                      <a:pt x="318" y="55"/>
                    </a:lnTo>
                    <a:lnTo>
                      <a:pt x="342" y="62"/>
                    </a:lnTo>
                    <a:lnTo>
                      <a:pt x="368" y="68"/>
                    </a:lnTo>
                    <a:lnTo>
                      <a:pt x="391" y="77"/>
                    </a:lnTo>
                    <a:lnTo>
                      <a:pt x="416" y="85"/>
                    </a:lnTo>
                    <a:lnTo>
                      <a:pt x="439" y="93"/>
                    </a:lnTo>
                    <a:lnTo>
                      <a:pt x="462" y="101"/>
                    </a:lnTo>
                    <a:lnTo>
                      <a:pt x="483" y="110"/>
                    </a:lnTo>
                    <a:lnTo>
                      <a:pt x="504" y="117"/>
                    </a:lnTo>
                    <a:lnTo>
                      <a:pt x="522" y="126"/>
                    </a:lnTo>
                    <a:lnTo>
                      <a:pt x="539" y="133"/>
                    </a:lnTo>
                    <a:lnTo>
                      <a:pt x="555" y="143"/>
                    </a:lnTo>
                    <a:lnTo>
                      <a:pt x="572" y="153"/>
                    </a:lnTo>
                    <a:lnTo>
                      <a:pt x="592" y="164"/>
                    </a:lnTo>
                    <a:lnTo>
                      <a:pt x="613" y="175"/>
                    </a:lnTo>
                    <a:lnTo>
                      <a:pt x="634" y="188"/>
                    </a:lnTo>
                    <a:lnTo>
                      <a:pt x="656" y="201"/>
                    </a:lnTo>
                    <a:lnTo>
                      <a:pt x="678" y="216"/>
                    </a:lnTo>
                    <a:lnTo>
                      <a:pt x="702" y="229"/>
                    </a:lnTo>
                    <a:lnTo>
                      <a:pt x="724" y="244"/>
                    </a:lnTo>
                    <a:lnTo>
                      <a:pt x="747" y="259"/>
                    </a:lnTo>
                    <a:lnTo>
                      <a:pt x="769" y="274"/>
                    </a:lnTo>
                    <a:lnTo>
                      <a:pt x="791" y="288"/>
                    </a:lnTo>
                    <a:lnTo>
                      <a:pt x="811" y="303"/>
                    </a:lnTo>
                    <a:lnTo>
                      <a:pt x="831" y="316"/>
                    </a:lnTo>
                    <a:lnTo>
                      <a:pt x="848" y="329"/>
                    </a:lnTo>
                    <a:lnTo>
                      <a:pt x="866" y="340"/>
                    </a:lnTo>
                    <a:lnTo>
                      <a:pt x="880" y="353"/>
                    </a:lnTo>
                    <a:lnTo>
                      <a:pt x="898" y="367"/>
                    </a:lnTo>
                    <a:lnTo>
                      <a:pt x="914" y="381"/>
                    </a:lnTo>
                    <a:lnTo>
                      <a:pt x="933" y="395"/>
                    </a:lnTo>
                    <a:lnTo>
                      <a:pt x="952" y="410"/>
                    </a:lnTo>
                    <a:lnTo>
                      <a:pt x="970" y="425"/>
                    </a:lnTo>
                    <a:lnTo>
                      <a:pt x="989" y="441"/>
                    </a:lnTo>
                    <a:lnTo>
                      <a:pt x="1008" y="456"/>
                    </a:lnTo>
                    <a:lnTo>
                      <a:pt x="1025" y="473"/>
                    </a:lnTo>
                    <a:lnTo>
                      <a:pt x="1044" y="488"/>
                    </a:lnTo>
                    <a:lnTo>
                      <a:pt x="1060" y="503"/>
                    </a:lnTo>
                    <a:lnTo>
                      <a:pt x="1077" y="516"/>
                    </a:lnTo>
                    <a:lnTo>
                      <a:pt x="1091" y="529"/>
                    </a:lnTo>
                    <a:lnTo>
                      <a:pt x="1105" y="542"/>
                    </a:lnTo>
                    <a:lnTo>
                      <a:pt x="1117" y="553"/>
                    </a:lnTo>
                    <a:lnTo>
                      <a:pt x="1128" y="562"/>
                    </a:lnTo>
                    <a:lnTo>
                      <a:pt x="1134" y="571"/>
                    </a:lnTo>
                    <a:lnTo>
                      <a:pt x="1142" y="577"/>
                    </a:lnTo>
                    <a:lnTo>
                      <a:pt x="1146" y="582"/>
                    </a:lnTo>
                    <a:lnTo>
                      <a:pt x="1150" y="585"/>
                    </a:lnTo>
                    <a:lnTo>
                      <a:pt x="1151" y="587"/>
                    </a:lnTo>
                    <a:lnTo>
                      <a:pt x="1154" y="589"/>
                    </a:lnTo>
                    <a:lnTo>
                      <a:pt x="1156" y="591"/>
                    </a:lnTo>
                    <a:lnTo>
                      <a:pt x="1158" y="593"/>
                    </a:lnTo>
                    <a:lnTo>
                      <a:pt x="1160" y="597"/>
                    </a:lnTo>
                    <a:lnTo>
                      <a:pt x="1164" y="600"/>
                    </a:lnTo>
                    <a:lnTo>
                      <a:pt x="1169" y="605"/>
                    </a:lnTo>
                    <a:lnTo>
                      <a:pt x="1176" y="611"/>
                    </a:lnTo>
                    <a:lnTo>
                      <a:pt x="1184" y="620"/>
                    </a:lnTo>
                    <a:lnTo>
                      <a:pt x="1195" y="631"/>
                    </a:lnTo>
                    <a:lnTo>
                      <a:pt x="1209" y="644"/>
                    </a:lnTo>
                    <a:lnTo>
                      <a:pt x="1227" y="661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55920" y="2867040"/>
                <a:ext cx="1949400" cy="1050840"/>
              </a:xfrm>
              <a:custGeom>
                <a:avLst/>
                <a:gdLst/>
                <a:ahLst/>
                <a:rect l="l" t="t" r="r" b="b"/>
                <a:pathLst>
                  <a:path w="1228" h="662">
                    <a:moveTo>
                      <a:pt x="0" y="0"/>
                    </a:moveTo>
                    <a:lnTo>
                      <a:pt x="31" y="5"/>
                    </a:lnTo>
                    <a:lnTo>
                      <a:pt x="58" y="9"/>
                    </a:lnTo>
                    <a:lnTo>
                      <a:pt x="78" y="12"/>
                    </a:lnTo>
                    <a:lnTo>
                      <a:pt x="94" y="14"/>
                    </a:lnTo>
                    <a:lnTo>
                      <a:pt x="106" y="15"/>
                    </a:lnTo>
                    <a:lnTo>
                      <a:pt x="116" y="17"/>
                    </a:lnTo>
                    <a:lnTo>
                      <a:pt x="123" y="18"/>
                    </a:lnTo>
                    <a:lnTo>
                      <a:pt x="129" y="18"/>
                    </a:lnTo>
                    <a:lnTo>
                      <a:pt x="132" y="20"/>
                    </a:lnTo>
                    <a:lnTo>
                      <a:pt x="136" y="20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0" y="22"/>
                    </a:lnTo>
                    <a:lnTo>
                      <a:pt x="160" y="22"/>
                    </a:lnTo>
                    <a:lnTo>
                      <a:pt x="171" y="24"/>
                    </a:lnTo>
                    <a:lnTo>
                      <a:pt x="188" y="25"/>
                    </a:lnTo>
                    <a:lnTo>
                      <a:pt x="206" y="29"/>
                    </a:lnTo>
                    <a:lnTo>
                      <a:pt x="226" y="33"/>
                    </a:lnTo>
                    <a:lnTo>
                      <a:pt x="247" y="38"/>
                    </a:lnTo>
                    <a:lnTo>
                      <a:pt x="270" y="42"/>
                    </a:lnTo>
                    <a:lnTo>
                      <a:pt x="293" y="49"/>
                    </a:lnTo>
                    <a:lnTo>
                      <a:pt x="318" y="55"/>
                    </a:lnTo>
                    <a:lnTo>
                      <a:pt x="342" y="63"/>
                    </a:lnTo>
                    <a:lnTo>
                      <a:pt x="368" y="69"/>
                    </a:lnTo>
                    <a:lnTo>
                      <a:pt x="391" y="78"/>
                    </a:lnTo>
                    <a:lnTo>
                      <a:pt x="416" y="86"/>
                    </a:lnTo>
                    <a:lnTo>
                      <a:pt x="439" y="95"/>
                    </a:lnTo>
                    <a:lnTo>
                      <a:pt x="462" y="102"/>
                    </a:lnTo>
                    <a:lnTo>
                      <a:pt x="483" y="112"/>
                    </a:lnTo>
                    <a:lnTo>
                      <a:pt x="504" y="119"/>
                    </a:lnTo>
                    <a:lnTo>
                      <a:pt x="522" y="126"/>
                    </a:lnTo>
                    <a:lnTo>
                      <a:pt x="539" y="134"/>
                    </a:lnTo>
                    <a:lnTo>
                      <a:pt x="555" y="143"/>
                    </a:lnTo>
                    <a:lnTo>
                      <a:pt x="572" y="153"/>
                    </a:lnTo>
                    <a:lnTo>
                      <a:pt x="592" y="164"/>
                    </a:lnTo>
                    <a:lnTo>
                      <a:pt x="613" y="176"/>
                    </a:lnTo>
                    <a:lnTo>
                      <a:pt x="634" y="189"/>
                    </a:lnTo>
                    <a:lnTo>
                      <a:pt x="656" y="202"/>
                    </a:lnTo>
                    <a:lnTo>
                      <a:pt x="678" y="217"/>
                    </a:lnTo>
                    <a:lnTo>
                      <a:pt x="702" y="230"/>
                    </a:lnTo>
                    <a:lnTo>
                      <a:pt x="724" y="245"/>
                    </a:lnTo>
                    <a:lnTo>
                      <a:pt x="747" y="260"/>
                    </a:lnTo>
                    <a:lnTo>
                      <a:pt x="769" y="275"/>
                    </a:lnTo>
                    <a:lnTo>
                      <a:pt x="791" y="289"/>
                    </a:lnTo>
                    <a:lnTo>
                      <a:pt x="811" y="304"/>
                    </a:lnTo>
                    <a:lnTo>
                      <a:pt x="831" y="317"/>
                    </a:lnTo>
                    <a:lnTo>
                      <a:pt x="848" y="330"/>
                    </a:lnTo>
                    <a:lnTo>
                      <a:pt x="866" y="341"/>
                    </a:lnTo>
                    <a:lnTo>
                      <a:pt x="880" y="354"/>
                    </a:lnTo>
                    <a:lnTo>
                      <a:pt x="898" y="367"/>
                    </a:lnTo>
                    <a:lnTo>
                      <a:pt x="914" y="382"/>
                    </a:lnTo>
                    <a:lnTo>
                      <a:pt x="933" y="395"/>
                    </a:lnTo>
                    <a:lnTo>
                      <a:pt x="952" y="411"/>
                    </a:lnTo>
                    <a:lnTo>
                      <a:pt x="970" y="426"/>
                    </a:lnTo>
                    <a:lnTo>
                      <a:pt x="989" y="442"/>
                    </a:lnTo>
                    <a:lnTo>
                      <a:pt x="1008" y="456"/>
                    </a:lnTo>
                    <a:lnTo>
                      <a:pt x="1025" y="473"/>
                    </a:lnTo>
                    <a:lnTo>
                      <a:pt x="1044" y="488"/>
                    </a:lnTo>
                    <a:lnTo>
                      <a:pt x="1060" y="503"/>
                    </a:lnTo>
                    <a:lnTo>
                      <a:pt x="1077" y="516"/>
                    </a:lnTo>
                    <a:lnTo>
                      <a:pt x="1091" y="530"/>
                    </a:lnTo>
                    <a:lnTo>
                      <a:pt x="1105" y="543"/>
                    </a:lnTo>
                    <a:lnTo>
                      <a:pt x="1117" y="554"/>
                    </a:lnTo>
                    <a:lnTo>
                      <a:pt x="1128" y="563"/>
                    </a:lnTo>
                    <a:lnTo>
                      <a:pt x="1134" y="571"/>
                    </a:lnTo>
                    <a:lnTo>
                      <a:pt x="1142" y="578"/>
                    </a:lnTo>
                    <a:lnTo>
                      <a:pt x="1146" y="582"/>
                    </a:lnTo>
                    <a:lnTo>
                      <a:pt x="1150" y="586"/>
                    </a:lnTo>
                    <a:lnTo>
                      <a:pt x="1151" y="588"/>
                    </a:lnTo>
                    <a:lnTo>
                      <a:pt x="1154" y="590"/>
                    </a:lnTo>
                    <a:lnTo>
                      <a:pt x="1156" y="592"/>
                    </a:lnTo>
                    <a:lnTo>
                      <a:pt x="1158" y="594"/>
                    </a:lnTo>
                    <a:lnTo>
                      <a:pt x="1160" y="598"/>
                    </a:lnTo>
                    <a:lnTo>
                      <a:pt x="1164" y="601"/>
                    </a:lnTo>
                    <a:lnTo>
                      <a:pt x="1169" y="606"/>
                    </a:lnTo>
                    <a:lnTo>
                      <a:pt x="1176" y="612"/>
                    </a:lnTo>
                    <a:lnTo>
                      <a:pt x="1184" y="621"/>
                    </a:lnTo>
                    <a:lnTo>
                      <a:pt x="1195" y="631"/>
                    </a:lnTo>
                    <a:lnTo>
                      <a:pt x="1209" y="645"/>
                    </a:lnTo>
                    <a:lnTo>
                      <a:pt x="1227" y="661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555920" y="2876400"/>
                <a:ext cx="1949400" cy="1049400"/>
              </a:xfrm>
              <a:custGeom>
                <a:avLst/>
                <a:gdLst/>
                <a:ahLst/>
                <a:rect l="l" t="t" r="r" b="b"/>
                <a:pathLst>
                  <a:path w="1228" h="661">
                    <a:moveTo>
                      <a:pt x="0" y="0"/>
                    </a:moveTo>
                    <a:lnTo>
                      <a:pt x="31" y="5"/>
                    </a:lnTo>
                    <a:lnTo>
                      <a:pt x="58" y="9"/>
                    </a:lnTo>
                    <a:lnTo>
                      <a:pt x="78" y="11"/>
                    </a:lnTo>
                    <a:lnTo>
                      <a:pt x="94" y="13"/>
                    </a:lnTo>
                    <a:lnTo>
                      <a:pt x="106" y="15"/>
                    </a:lnTo>
                    <a:lnTo>
                      <a:pt x="116" y="16"/>
                    </a:lnTo>
                    <a:lnTo>
                      <a:pt x="123" y="18"/>
                    </a:lnTo>
                    <a:lnTo>
                      <a:pt x="129" y="18"/>
                    </a:lnTo>
                    <a:lnTo>
                      <a:pt x="132" y="19"/>
                    </a:lnTo>
                    <a:lnTo>
                      <a:pt x="136" y="19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0" y="22"/>
                    </a:lnTo>
                    <a:lnTo>
                      <a:pt x="160" y="22"/>
                    </a:lnTo>
                    <a:lnTo>
                      <a:pt x="171" y="24"/>
                    </a:lnTo>
                    <a:lnTo>
                      <a:pt x="188" y="25"/>
                    </a:lnTo>
                    <a:lnTo>
                      <a:pt x="206" y="29"/>
                    </a:lnTo>
                    <a:lnTo>
                      <a:pt x="226" y="32"/>
                    </a:lnTo>
                    <a:lnTo>
                      <a:pt x="247" y="38"/>
                    </a:lnTo>
                    <a:lnTo>
                      <a:pt x="270" y="42"/>
                    </a:lnTo>
                    <a:lnTo>
                      <a:pt x="293" y="49"/>
                    </a:lnTo>
                    <a:lnTo>
                      <a:pt x="318" y="55"/>
                    </a:lnTo>
                    <a:lnTo>
                      <a:pt x="342" y="62"/>
                    </a:lnTo>
                    <a:lnTo>
                      <a:pt x="368" y="69"/>
                    </a:lnTo>
                    <a:lnTo>
                      <a:pt x="391" y="77"/>
                    </a:lnTo>
                    <a:lnTo>
                      <a:pt x="416" y="85"/>
                    </a:lnTo>
                    <a:lnTo>
                      <a:pt x="439" y="94"/>
                    </a:lnTo>
                    <a:lnTo>
                      <a:pt x="462" y="101"/>
                    </a:lnTo>
                    <a:lnTo>
                      <a:pt x="483" y="110"/>
                    </a:lnTo>
                    <a:lnTo>
                      <a:pt x="504" y="118"/>
                    </a:lnTo>
                    <a:lnTo>
                      <a:pt x="522" y="126"/>
                    </a:lnTo>
                    <a:lnTo>
                      <a:pt x="539" y="133"/>
                    </a:lnTo>
                    <a:lnTo>
                      <a:pt x="555" y="142"/>
                    </a:lnTo>
                    <a:lnTo>
                      <a:pt x="572" y="152"/>
                    </a:lnTo>
                    <a:lnTo>
                      <a:pt x="592" y="164"/>
                    </a:lnTo>
                    <a:lnTo>
                      <a:pt x="613" y="175"/>
                    </a:lnTo>
                    <a:lnTo>
                      <a:pt x="634" y="188"/>
                    </a:lnTo>
                    <a:lnTo>
                      <a:pt x="656" y="201"/>
                    </a:lnTo>
                    <a:lnTo>
                      <a:pt x="678" y="216"/>
                    </a:lnTo>
                    <a:lnTo>
                      <a:pt x="702" y="229"/>
                    </a:lnTo>
                    <a:lnTo>
                      <a:pt x="724" y="244"/>
                    </a:lnTo>
                    <a:lnTo>
                      <a:pt x="747" y="259"/>
                    </a:lnTo>
                    <a:lnTo>
                      <a:pt x="769" y="274"/>
                    </a:lnTo>
                    <a:lnTo>
                      <a:pt x="791" y="288"/>
                    </a:lnTo>
                    <a:lnTo>
                      <a:pt x="811" y="303"/>
                    </a:lnTo>
                    <a:lnTo>
                      <a:pt x="831" y="316"/>
                    </a:lnTo>
                    <a:lnTo>
                      <a:pt x="848" y="329"/>
                    </a:lnTo>
                    <a:lnTo>
                      <a:pt x="866" y="340"/>
                    </a:lnTo>
                    <a:lnTo>
                      <a:pt x="880" y="353"/>
                    </a:lnTo>
                    <a:lnTo>
                      <a:pt x="898" y="366"/>
                    </a:lnTo>
                    <a:lnTo>
                      <a:pt x="914" y="381"/>
                    </a:lnTo>
                    <a:lnTo>
                      <a:pt x="933" y="394"/>
                    </a:lnTo>
                    <a:lnTo>
                      <a:pt x="952" y="410"/>
                    </a:lnTo>
                    <a:lnTo>
                      <a:pt x="970" y="425"/>
                    </a:lnTo>
                    <a:lnTo>
                      <a:pt x="989" y="440"/>
                    </a:lnTo>
                    <a:lnTo>
                      <a:pt x="1008" y="456"/>
                    </a:lnTo>
                    <a:lnTo>
                      <a:pt x="1025" y="472"/>
                    </a:lnTo>
                    <a:lnTo>
                      <a:pt x="1044" y="487"/>
                    </a:lnTo>
                    <a:lnTo>
                      <a:pt x="1060" y="502"/>
                    </a:lnTo>
                    <a:lnTo>
                      <a:pt x="1077" y="516"/>
                    </a:lnTo>
                    <a:lnTo>
                      <a:pt x="1091" y="529"/>
                    </a:lnTo>
                    <a:lnTo>
                      <a:pt x="1105" y="542"/>
                    </a:lnTo>
                    <a:lnTo>
                      <a:pt x="1117" y="553"/>
                    </a:lnTo>
                    <a:lnTo>
                      <a:pt x="1128" y="562"/>
                    </a:lnTo>
                    <a:lnTo>
                      <a:pt x="1134" y="570"/>
                    </a:lnTo>
                    <a:lnTo>
                      <a:pt x="1142" y="576"/>
                    </a:lnTo>
                    <a:lnTo>
                      <a:pt x="1146" y="582"/>
                    </a:lnTo>
                    <a:lnTo>
                      <a:pt x="1150" y="585"/>
                    </a:lnTo>
                    <a:lnTo>
                      <a:pt x="1151" y="587"/>
                    </a:lnTo>
                    <a:lnTo>
                      <a:pt x="1154" y="589"/>
                    </a:lnTo>
                    <a:lnTo>
                      <a:pt x="1156" y="591"/>
                    </a:lnTo>
                    <a:lnTo>
                      <a:pt x="1158" y="593"/>
                    </a:lnTo>
                    <a:lnTo>
                      <a:pt x="1160" y="596"/>
                    </a:lnTo>
                    <a:lnTo>
                      <a:pt x="1164" y="600"/>
                    </a:lnTo>
                    <a:lnTo>
                      <a:pt x="1169" y="605"/>
                    </a:lnTo>
                    <a:lnTo>
                      <a:pt x="1176" y="611"/>
                    </a:lnTo>
                    <a:lnTo>
                      <a:pt x="1184" y="620"/>
                    </a:lnTo>
                    <a:lnTo>
                      <a:pt x="1195" y="630"/>
                    </a:lnTo>
                    <a:lnTo>
                      <a:pt x="1209" y="644"/>
                    </a:lnTo>
                    <a:lnTo>
                      <a:pt x="1227" y="66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505320" y="4470480"/>
              <a:ext cx="1065240" cy="350640"/>
            </a:xfrm>
            <a:custGeom>
              <a:avLst/>
              <a:gdLst/>
              <a:ahLst/>
              <a:rect l="l" t="t" r="r" b="b"/>
              <a:pathLst>
                <a:path w="671" h="221">
                  <a:moveTo>
                    <a:pt x="0" y="0"/>
                  </a:moveTo>
                  <a:lnTo>
                    <a:pt x="12" y="10"/>
                  </a:lnTo>
                  <a:lnTo>
                    <a:pt x="23" y="18"/>
                  </a:lnTo>
                  <a:lnTo>
                    <a:pt x="31" y="24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7" y="34"/>
                  </a:lnTo>
                  <a:lnTo>
                    <a:pt x="50" y="36"/>
                  </a:lnTo>
                  <a:lnTo>
                    <a:pt x="52" y="38"/>
                  </a:lnTo>
                  <a:lnTo>
                    <a:pt x="53" y="39"/>
                  </a:lnTo>
                  <a:lnTo>
                    <a:pt x="55" y="40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61" y="45"/>
                  </a:lnTo>
                  <a:lnTo>
                    <a:pt x="65" y="47"/>
                  </a:lnTo>
                  <a:lnTo>
                    <a:pt x="70" y="50"/>
                  </a:lnTo>
                  <a:lnTo>
                    <a:pt x="77" y="54"/>
                  </a:lnTo>
                  <a:lnTo>
                    <a:pt x="84" y="59"/>
                  </a:lnTo>
                  <a:lnTo>
                    <a:pt x="92" y="65"/>
                  </a:lnTo>
                  <a:lnTo>
                    <a:pt x="101" y="70"/>
                  </a:lnTo>
                  <a:lnTo>
                    <a:pt x="111" y="76"/>
                  </a:lnTo>
                  <a:lnTo>
                    <a:pt x="120" y="82"/>
                  </a:lnTo>
                  <a:lnTo>
                    <a:pt x="132" y="87"/>
                  </a:lnTo>
                  <a:lnTo>
                    <a:pt x="142" y="93"/>
                  </a:lnTo>
                  <a:lnTo>
                    <a:pt x="154" y="98"/>
                  </a:lnTo>
                  <a:lnTo>
                    <a:pt x="163" y="104"/>
                  </a:lnTo>
                  <a:lnTo>
                    <a:pt x="174" y="109"/>
                  </a:lnTo>
                  <a:lnTo>
                    <a:pt x="185" y="114"/>
                  </a:lnTo>
                  <a:lnTo>
                    <a:pt x="196" y="118"/>
                  </a:lnTo>
                  <a:lnTo>
                    <a:pt x="206" y="122"/>
                  </a:lnTo>
                  <a:lnTo>
                    <a:pt x="216" y="126"/>
                  </a:lnTo>
                  <a:lnTo>
                    <a:pt x="224" y="129"/>
                  </a:lnTo>
                  <a:lnTo>
                    <a:pt x="232" y="131"/>
                  </a:lnTo>
                  <a:lnTo>
                    <a:pt x="239" y="135"/>
                  </a:lnTo>
                  <a:lnTo>
                    <a:pt x="248" y="137"/>
                  </a:lnTo>
                  <a:lnTo>
                    <a:pt x="259" y="140"/>
                  </a:lnTo>
                  <a:lnTo>
                    <a:pt x="271" y="142"/>
                  </a:lnTo>
                  <a:lnTo>
                    <a:pt x="284" y="146"/>
                  </a:lnTo>
                  <a:lnTo>
                    <a:pt x="296" y="150"/>
                  </a:lnTo>
                  <a:lnTo>
                    <a:pt x="310" y="154"/>
                  </a:lnTo>
                  <a:lnTo>
                    <a:pt x="325" y="155"/>
                  </a:lnTo>
                  <a:lnTo>
                    <a:pt x="339" y="159"/>
                  </a:lnTo>
                  <a:lnTo>
                    <a:pt x="354" y="163"/>
                  </a:lnTo>
                  <a:lnTo>
                    <a:pt x="369" y="167"/>
                  </a:lnTo>
                  <a:lnTo>
                    <a:pt x="384" y="170"/>
                  </a:lnTo>
                  <a:lnTo>
                    <a:pt x="397" y="174"/>
                  </a:lnTo>
                  <a:lnTo>
                    <a:pt x="412" y="177"/>
                  </a:lnTo>
                  <a:lnTo>
                    <a:pt x="425" y="180"/>
                  </a:lnTo>
                  <a:lnTo>
                    <a:pt x="438" y="182"/>
                  </a:lnTo>
                  <a:lnTo>
                    <a:pt x="450" y="185"/>
                  </a:lnTo>
                  <a:lnTo>
                    <a:pt x="462" y="187"/>
                  </a:lnTo>
                  <a:lnTo>
                    <a:pt x="476" y="191"/>
                  </a:lnTo>
                  <a:lnTo>
                    <a:pt x="489" y="193"/>
                  </a:lnTo>
                  <a:lnTo>
                    <a:pt x="502" y="196"/>
                  </a:lnTo>
                  <a:lnTo>
                    <a:pt x="515" y="198"/>
                  </a:lnTo>
                  <a:lnTo>
                    <a:pt x="528" y="200"/>
                  </a:lnTo>
                  <a:lnTo>
                    <a:pt x="542" y="202"/>
                  </a:lnTo>
                  <a:lnTo>
                    <a:pt x="553" y="205"/>
                  </a:lnTo>
                  <a:lnTo>
                    <a:pt x="566" y="206"/>
                  </a:lnTo>
                  <a:lnTo>
                    <a:pt x="576" y="208"/>
                  </a:lnTo>
                  <a:lnTo>
                    <a:pt x="587" y="210"/>
                  </a:lnTo>
                  <a:lnTo>
                    <a:pt x="596" y="212"/>
                  </a:lnTo>
                  <a:lnTo>
                    <a:pt x="604" y="214"/>
                  </a:lnTo>
                  <a:lnTo>
                    <a:pt x="611" y="215"/>
                  </a:lnTo>
                  <a:lnTo>
                    <a:pt x="618" y="215"/>
                  </a:lnTo>
                  <a:lnTo>
                    <a:pt x="621" y="216"/>
                  </a:lnTo>
                  <a:lnTo>
                    <a:pt x="625" y="216"/>
                  </a:lnTo>
                  <a:lnTo>
                    <a:pt x="627" y="216"/>
                  </a:lnTo>
                  <a:lnTo>
                    <a:pt x="629" y="216"/>
                  </a:lnTo>
                  <a:lnTo>
                    <a:pt x="630" y="216"/>
                  </a:lnTo>
                  <a:lnTo>
                    <a:pt x="632" y="216"/>
                  </a:lnTo>
                  <a:lnTo>
                    <a:pt x="632" y="216"/>
                  </a:lnTo>
                  <a:lnTo>
                    <a:pt x="634" y="216"/>
                  </a:lnTo>
                  <a:lnTo>
                    <a:pt x="635" y="218"/>
                  </a:lnTo>
                  <a:lnTo>
                    <a:pt x="637" y="218"/>
                  </a:lnTo>
                  <a:lnTo>
                    <a:pt x="639" y="218"/>
                  </a:lnTo>
                  <a:lnTo>
                    <a:pt x="643" y="218"/>
                  </a:lnTo>
                  <a:lnTo>
                    <a:pt x="647" y="220"/>
                  </a:lnTo>
                  <a:lnTo>
                    <a:pt x="654" y="220"/>
                  </a:lnTo>
                  <a:lnTo>
                    <a:pt x="660" y="220"/>
                  </a:lnTo>
                  <a:lnTo>
                    <a:pt x="670" y="220"/>
                  </a:lnTo>
                </a:path>
              </a:pathLst>
            </a:custGeom>
            <a:noFill/>
            <a:ln w="47520">
              <a:solidFill>
                <a:srgbClr val="8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5415120" y="4826160"/>
              <a:ext cx="1377720" cy="1801800"/>
              <a:chOff x="5415120" y="4826160"/>
              <a:chExt cx="1377720" cy="1801800"/>
            </a:xfrm>
          </p:grpSpPr>
          <p:sp>
            <p:nvSpPr>
              <p:cNvPr id="380" name=""/>
              <p:cNvSpPr/>
              <p:nvPr/>
            </p:nvSpPr>
            <p:spPr>
              <a:xfrm>
                <a:off x="5415120" y="4826160"/>
                <a:ext cx="1377720" cy="176364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9"/>
                    </a:lnTo>
                    <a:lnTo>
                      <a:pt x="45" y="11"/>
                    </a:lnTo>
                    <a:lnTo>
                      <a:pt x="50" y="12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9"/>
                    </a:lnTo>
                    <a:lnTo>
                      <a:pt x="91" y="19"/>
                    </a:lnTo>
                    <a:lnTo>
                      <a:pt x="99" y="22"/>
                    </a:lnTo>
                    <a:lnTo>
                      <a:pt x="109" y="24"/>
                    </a:lnTo>
                    <a:lnTo>
                      <a:pt x="119" y="28"/>
                    </a:lnTo>
                    <a:lnTo>
                      <a:pt x="131" y="31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3"/>
                    </a:lnTo>
                    <a:lnTo>
                      <a:pt x="181" y="47"/>
                    </a:lnTo>
                    <a:lnTo>
                      <a:pt x="192" y="52"/>
                    </a:lnTo>
                    <a:lnTo>
                      <a:pt x="205" y="58"/>
                    </a:lnTo>
                    <a:lnTo>
                      <a:pt x="217" y="63"/>
                    </a:lnTo>
                    <a:lnTo>
                      <a:pt x="230" y="67"/>
                    </a:lnTo>
                    <a:lnTo>
                      <a:pt x="241" y="72"/>
                    </a:lnTo>
                    <a:lnTo>
                      <a:pt x="252" y="76"/>
                    </a:lnTo>
                    <a:lnTo>
                      <a:pt x="262" y="81"/>
                    </a:lnTo>
                    <a:lnTo>
                      <a:pt x="272" y="85"/>
                    </a:lnTo>
                    <a:lnTo>
                      <a:pt x="281" y="90"/>
                    </a:lnTo>
                    <a:lnTo>
                      <a:pt x="290" y="96"/>
                    </a:lnTo>
                    <a:lnTo>
                      <a:pt x="301" y="103"/>
                    </a:lnTo>
                    <a:lnTo>
                      <a:pt x="313" y="110"/>
                    </a:lnTo>
                    <a:lnTo>
                      <a:pt x="324" y="119"/>
                    </a:lnTo>
                    <a:lnTo>
                      <a:pt x="337" y="127"/>
                    </a:lnTo>
                    <a:lnTo>
                      <a:pt x="349" y="137"/>
                    </a:lnTo>
                    <a:lnTo>
                      <a:pt x="362" y="145"/>
                    </a:lnTo>
                    <a:lnTo>
                      <a:pt x="373" y="156"/>
                    </a:lnTo>
                    <a:lnTo>
                      <a:pt x="387" y="165"/>
                    </a:lnTo>
                    <a:lnTo>
                      <a:pt x="398" y="175"/>
                    </a:lnTo>
                    <a:lnTo>
                      <a:pt x="411" y="185"/>
                    </a:lnTo>
                    <a:lnTo>
                      <a:pt x="422" y="195"/>
                    </a:lnTo>
                    <a:lnTo>
                      <a:pt x="433" y="204"/>
                    </a:lnTo>
                    <a:lnTo>
                      <a:pt x="443" y="214"/>
                    </a:lnTo>
                    <a:lnTo>
                      <a:pt x="453" y="222"/>
                    </a:lnTo>
                    <a:lnTo>
                      <a:pt x="462" y="232"/>
                    </a:lnTo>
                    <a:lnTo>
                      <a:pt x="471" y="243"/>
                    </a:lnTo>
                    <a:lnTo>
                      <a:pt x="482" y="256"/>
                    </a:lnTo>
                    <a:lnTo>
                      <a:pt x="493" y="270"/>
                    </a:lnTo>
                    <a:lnTo>
                      <a:pt x="505" y="287"/>
                    </a:lnTo>
                    <a:lnTo>
                      <a:pt x="517" y="304"/>
                    </a:lnTo>
                    <a:lnTo>
                      <a:pt x="529" y="322"/>
                    </a:lnTo>
                    <a:lnTo>
                      <a:pt x="543" y="340"/>
                    </a:lnTo>
                    <a:lnTo>
                      <a:pt x="554" y="360"/>
                    </a:lnTo>
                    <a:lnTo>
                      <a:pt x="567" y="378"/>
                    </a:lnTo>
                    <a:lnTo>
                      <a:pt x="579" y="398"/>
                    </a:lnTo>
                    <a:lnTo>
                      <a:pt x="591" y="417"/>
                    </a:lnTo>
                    <a:lnTo>
                      <a:pt x="602" y="436"/>
                    </a:lnTo>
                    <a:lnTo>
                      <a:pt x="613" y="455"/>
                    </a:lnTo>
                    <a:lnTo>
                      <a:pt x="622" y="473"/>
                    </a:lnTo>
                    <a:lnTo>
                      <a:pt x="632" y="489"/>
                    </a:lnTo>
                    <a:lnTo>
                      <a:pt x="639" y="508"/>
                    </a:lnTo>
                    <a:lnTo>
                      <a:pt x="649" y="528"/>
                    </a:lnTo>
                    <a:lnTo>
                      <a:pt x="658" y="551"/>
                    </a:lnTo>
                    <a:lnTo>
                      <a:pt x="669" y="574"/>
                    </a:lnTo>
                    <a:lnTo>
                      <a:pt x="680" y="600"/>
                    </a:lnTo>
                    <a:lnTo>
                      <a:pt x="691" y="626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7" y="766"/>
                    </a:lnTo>
                    <a:lnTo>
                      <a:pt x="758" y="792"/>
                    </a:lnTo>
                    <a:lnTo>
                      <a:pt x="767" y="819"/>
                    </a:lnTo>
                    <a:lnTo>
                      <a:pt x="777" y="844"/>
                    </a:lnTo>
                    <a:lnTo>
                      <a:pt x="785" y="867"/>
                    </a:lnTo>
                    <a:lnTo>
                      <a:pt x="793" y="889"/>
                    </a:lnTo>
                    <a:lnTo>
                      <a:pt x="798" y="908"/>
                    </a:lnTo>
                    <a:lnTo>
                      <a:pt x="803" y="922"/>
                    </a:lnTo>
                    <a:lnTo>
                      <a:pt x="806" y="932"/>
                    </a:lnTo>
                    <a:lnTo>
                      <a:pt x="809" y="939"/>
                    </a:lnTo>
                    <a:lnTo>
                      <a:pt x="810" y="945"/>
                    </a:lnTo>
                    <a:lnTo>
                      <a:pt x="812" y="950"/>
                    </a:lnTo>
                    <a:lnTo>
                      <a:pt x="814" y="955"/>
                    </a:lnTo>
                    <a:lnTo>
                      <a:pt x="816" y="958"/>
                    </a:lnTo>
                    <a:lnTo>
                      <a:pt x="818" y="965"/>
                    </a:lnTo>
                    <a:lnTo>
                      <a:pt x="820" y="973"/>
                    </a:lnTo>
                    <a:lnTo>
                      <a:pt x="823" y="984"/>
                    </a:lnTo>
                    <a:lnTo>
                      <a:pt x="829" y="998"/>
                    </a:lnTo>
                    <a:lnTo>
                      <a:pt x="835" y="1018"/>
                    </a:lnTo>
                    <a:lnTo>
                      <a:pt x="844" y="1043"/>
                    </a:lnTo>
                    <a:lnTo>
                      <a:pt x="854" y="1073"/>
                    </a:lnTo>
                    <a:lnTo>
                      <a:pt x="867" y="111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15120" y="4830840"/>
                <a:ext cx="1377720" cy="1765080"/>
              </a:xfrm>
              <a:custGeom>
                <a:avLst/>
                <a:gdLst/>
                <a:ahLst/>
                <a:rect l="l" t="t" r="r" b="b"/>
                <a:pathLst>
                  <a:path w="868" h="1112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9"/>
                    </a:lnTo>
                    <a:lnTo>
                      <a:pt x="45" y="11"/>
                    </a:lnTo>
                    <a:lnTo>
                      <a:pt x="50" y="13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9"/>
                    </a:lnTo>
                    <a:lnTo>
                      <a:pt x="91" y="19"/>
                    </a:lnTo>
                    <a:lnTo>
                      <a:pt x="99" y="23"/>
                    </a:lnTo>
                    <a:lnTo>
                      <a:pt x="109" y="25"/>
                    </a:lnTo>
                    <a:lnTo>
                      <a:pt x="119" y="28"/>
                    </a:lnTo>
                    <a:lnTo>
                      <a:pt x="131" y="31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3"/>
                    </a:lnTo>
                    <a:lnTo>
                      <a:pt x="181" y="47"/>
                    </a:lnTo>
                    <a:lnTo>
                      <a:pt x="192" y="53"/>
                    </a:lnTo>
                    <a:lnTo>
                      <a:pt x="205" y="57"/>
                    </a:lnTo>
                    <a:lnTo>
                      <a:pt x="217" y="63"/>
                    </a:lnTo>
                    <a:lnTo>
                      <a:pt x="230" y="67"/>
                    </a:lnTo>
                    <a:lnTo>
                      <a:pt x="241" y="73"/>
                    </a:lnTo>
                    <a:lnTo>
                      <a:pt x="252" y="76"/>
                    </a:lnTo>
                    <a:lnTo>
                      <a:pt x="262" y="81"/>
                    </a:lnTo>
                    <a:lnTo>
                      <a:pt x="272" y="85"/>
                    </a:lnTo>
                    <a:lnTo>
                      <a:pt x="281" y="91"/>
                    </a:lnTo>
                    <a:lnTo>
                      <a:pt x="290" y="96"/>
                    </a:lnTo>
                    <a:lnTo>
                      <a:pt x="301" y="103"/>
                    </a:lnTo>
                    <a:lnTo>
                      <a:pt x="313" y="110"/>
                    </a:lnTo>
                    <a:lnTo>
                      <a:pt x="324" y="119"/>
                    </a:lnTo>
                    <a:lnTo>
                      <a:pt x="337" y="127"/>
                    </a:lnTo>
                    <a:lnTo>
                      <a:pt x="349" y="137"/>
                    </a:lnTo>
                    <a:lnTo>
                      <a:pt x="362" y="145"/>
                    </a:lnTo>
                    <a:lnTo>
                      <a:pt x="373" y="156"/>
                    </a:lnTo>
                    <a:lnTo>
                      <a:pt x="387" y="165"/>
                    </a:lnTo>
                    <a:lnTo>
                      <a:pt x="398" y="175"/>
                    </a:lnTo>
                    <a:lnTo>
                      <a:pt x="411" y="185"/>
                    </a:lnTo>
                    <a:lnTo>
                      <a:pt x="422" y="195"/>
                    </a:lnTo>
                    <a:lnTo>
                      <a:pt x="433" y="204"/>
                    </a:lnTo>
                    <a:lnTo>
                      <a:pt x="443" y="213"/>
                    </a:lnTo>
                    <a:lnTo>
                      <a:pt x="453" y="222"/>
                    </a:lnTo>
                    <a:lnTo>
                      <a:pt x="462" y="232"/>
                    </a:lnTo>
                    <a:lnTo>
                      <a:pt x="471" y="243"/>
                    </a:lnTo>
                    <a:lnTo>
                      <a:pt x="482" y="257"/>
                    </a:lnTo>
                    <a:lnTo>
                      <a:pt x="493" y="270"/>
                    </a:lnTo>
                    <a:lnTo>
                      <a:pt x="505" y="287"/>
                    </a:lnTo>
                    <a:lnTo>
                      <a:pt x="517" y="304"/>
                    </a:lnTo>
                    <a:lnTo>
                      <a:pt x="529" y="322"/>
                    </a:lnTo>
                    <a:lnTo>
                      <a:pt x="543" y="340"/>
                    </a:lnTo>
                    <a:lnTo>
                      <a:pt x="554" y="360"/>
                    </a:lnTo>
                    <a:lnTo>
                      <a:pt x="567" y="379"/>
                    </a:lnTo>
                    <a:lnTo>
                      <a:pt x="579" y="399"/>
                    </a:lnTo>
                    <a:lnTo>
                      <a:pt x="591" y="418"/>
                    </a:lnTo>
                    <a:lnTo>
                      <a:pt x="602" y="437"/>
                    </a:lnTo>
                    <a:lnTo>
                      <a:pt x="613" y="456"/>
                    </a:lnTo>
                    <a:lnTo>
                      <a:pt x="622" y="474"/>
                    </a:lnTo>
                    <a:lnTo>
                      <a:pt x="632" y="490"/>
                    </a:lnTo>
                    <a:lnTo>
                      <a:pt x="639" y="509"/>
                    </a:lnTo>
                    <a:lnTo>
                      <a:pt x="649" y="529"/>
                    </a:lnTo>
                    <a:lnTo>
                      <a:pt x="658" y="552"/>
                    </a:lnTo>
                    <a:lnTo>
                      <a:pt x="669" y="575"/>
                    </a:lnTo>
                    <a:lnTo>
                      <a:pt x="680" y="601"/>
                    </a:lnTo>
                    <a:lnTo>
                      <a:pt x="691" y="627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7" y="766"/>
                    </a:lnTo>
                    <a:lnTo>
                      <a:pt x="758" y="793"/>
                    </a:lnTo>
                    <a:lnTo>
                      <a:pt x="767" y="820"/>
                    </a:lnTo>
                    <a:lnTo>
                      <a:pt x="777" y="845"/>
                    </a:lnTo>
                    <a:lnTo>
                      <a:pt x="785" y="868"/>
                    </a:lnTo>
                    <a:lnTo>
                      <a:pt x="793" y="889"/>
                    </a:lnTo>
                    <a:lnTo>
                      <a:pt x="798" y="909"/>
                    </a:lnTo>
                    <a:lnTo>
                      <a:pt x="803" y="923"/>
                    </a:lnTo>
                    <a:lnTo>
                      <a:pt x="806" y="933"/>
                    </a:lnTo>
                    <a:lnTo>
                      <a:pt x="809" y="940"/>
                    </a:lnTo>
                    <a:lnTo>
                      <a:pt x="810" y="946"/>
                    </a:lnTo>
                    <a:lnTo>
                      <a:pt x="812" y="951"/>
                    </a:lnTo>
                    <a:lnTo>
                      <a:pt x="814" y="955"/>
                    </a:lnTo>
                    <a:lnTo>
                      <a:pt x="816" y="959"/>
                    </a:lnTo>
                    <a:lnTo>
                      <a:pt x="818" y="966"/>
                    </a:lnTo>
                    <a:lnTo>
                      <a:pt x="820" y="973"/>
                    </a:lnTo>
                    <a:lnTo>
                      <a:pt x="823" y="985"/>
                    </a:lnTo>
                    <a:lnTo>
                      <a:pt x="829" y="999"/>
                    </a:lnTo>
                    <a:lnTo>
                      <a:pt x="835" y="1019"/>
                    </a:lnTo>
                    <a:lnTo>
                      <a:pt x="844" y="1043"/>
                    </a:lnTo>
                    <a:lnTo>
                      <a:pt x="854" y="1074"/>
                    </a:lnTo>
                    <a:lnTo>
                      <a:pt x="867" y="1111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15120" y="4842000"/>
                <a:ext cx="1377720" cy="176364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9"/>
                    </a:lnTo>
                    <a:lnTo>
                      <a:pt x="45" y="11"/>
                    </a:lnTo>
                    <a:lnTo>
                      <a:pt x="50" y="12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9"/>
                    </a:lnTo>
                    <a:lnTo>
                      <a:pt x="91" y="19"/>
                    </a:lnTo>
                    <a:lnTo>
                      <a:pt x="99" y="22"/>
                    </a:lnTo>
                    <a:lnTo>
                      <a:pt x="109" y="24"/>
                    </a:lnTo>
                    <a:lnTo>
                      <a:pt x="119" y="28"/>
                    </a:lnTo>
                    <a:lnTo>
                      <a:pt x="131" y="30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3"/>
                    </a:lnTo>
                    <a:lnTo>
                      <a:pt x="181" y="47"/>
                    </a:lnTo>
                    <a:lnTo>
                      <a:pt x="192" y="52"/>
                    </a:lnTo>
                    <a:lnTo>
                      <a:pt x="205" y="58"/>
                    </a:lnTo>
                    <a:lnTo>
                      <a:pt x="217" y="63"/>
                    </a:lnTo>
                    <a:lnTo>
                      <a:pt x="230" y="67"/>
                    </a:lnTo>
                    <a:lnTo>
                      <a:pt x="241" y="72"/>
                    </a:lnTo>
                    <a:lnTo>
                      <a:pt x="252" y="76"/>
                    </a:lnTo>
                    <a:lnTo>
                      <a:pt x="262" y="81"/>
                    </a:lnTo>
                    <a:lnTo>
                      <a:pt x="272" y="85"/>
                    </a:lnTo>
                    <a:lnTo>
                      <a:pt x="281" y="90"/>
                    </a:lnTo>
                    <a:lnTo>
                      <a:pt x="290" y="96"/>
                    </a:lnTo>
                    <a:lnTo>
                      <a:pt x="301" y="103"/>
                    </a:lnTo>
                    <a:lnTo>
                      <a:pt x="313" y="110"/>
                    </a:lnTo>
                    <a:lnTo>
                      <a:pt x="324" y="119"/>
                    </a:lnTo>
                    <a:lnTo>
                      <a:pt x="337" y="127"/>
                    </a:lnTo>
                    <a:lnTo>
                      <a:pt x="349" y="137"/>
                    </a:lnTo>
                    <a:lnTo>
                      <a:pt x="362" y="145"/>
                    </a:lnTo>
                    <a:lnTo>
                      <a:pt x="373" y="156"/>
                    </a:lnTo>
                    <a:lnTo>
                      <a:pt x="387" y="165"/>
                    </a:lnTo>
                    <a:lnTo>
                      <a:pt x="398" y="175"/>
                    </a:lnTo>
                    <a:lnTo>
                      <a:pt x="411" y="185"/>
                    </a:lnTo>
                    <a:lnTo>
                      <a:pt x="422" y="195"/>
                    </a:lnTo>
                    <a:lnTo>
                      <a:pt x="433" y="204"/>
                    </a:lnTo>
                    <a:lnTo>
                      <a:pt x="443" y="214"/>
                    </a:lnTo>
                    <a:lnTo>
                      <a:pt x="453" y="222"/>
                    </a:lnTo>
                    <a:lnTo>
                      <a:pt x="462" y="232"/>
                    </a:lnTo>
                    <a:lnTo>
                      <a:pt x="471" y="243"/>
                    </a:lnTo>
                    <a:lnTo>
                      <a:pt x="482" y="256"/>
                    </a:lnTo>
                    <a:lnTo>
                      <a:pt x="493" y="270"/>
                    </a:lnTo>
                    <a:lnTo>
                      <a:pt x="505" y="287"/>
                    </a:lnTo>
                    <a:lnTo>
                      <a:pt x="517" y="304"/>
                    </a:lnTo>
                    <a:lnTo>
                      <a:pt x="529" y="322"/>
                    </a:lnTo>
                    <a:lnTo>
                      <a:pt x="543" y="340"/>
                    </a:lnTo>
                    <a:lnTo>
                      <a:pt x="554" y="360"/>
                    </a:lnTo>
                    <a:lnTo>
                      <a:pt x="567" y="379"/>
                    </a:lnTo>
                    <a:lnTo>
                      <a:pt x="579" y="399"/>
                    </a:lnTo>
                    <a:lnTo>
                      <a:pt x="591" y="418"/>
                    </a:lnTo>
                    <a:lnTo>
                      <a:pt x="602" y="437"/>
                    </a:lnTo>
                    <a:lnTo>
                      <a:pt x="613" y="456"/>
                    </a:lnTo>
                    <a:lnTo>
                      <a:pt x="622" y="474"/>
                    </a:lnTo>
                    <a:lnTo>
                      <a:pt x="632" y="490"/>
                    </a:lnTo>
                    <a:lnTo>
                      <a:pt x="639" y="508"/>
                    </a:lnTo>
                    <a:lnTo>
                      <a:pt x="649" y="528"/>
                    </a:lnTo>
                    <a:lnTo>
                      <a:pt x="658" y="552"/>
                    </a:lnTo>
                    <a:lnTo>
                      <a:pt x="669" y="575"/>
                    </a:lnTo>
                    <a:lnTo>
                      <a:pt x="680" y="600"/>
                    </a:lnTo>
                    <a:lnTo>
                      <a:pt x="691" y="626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7" y="766"/>
                    </a:lnTo>
                    <a:lnTo>
                      <a:pt x="758" y="792"/>
                    </a:lnTo>
                    <a:lnTo>
                      <a:pt x="767" y="819"/>
                    </a:lnTo>
                    <a:lnTo>
                      <a:pt x="777" y="844"/>
                    </a:lnTo>
                    <a:lnTo>
                      <a:pt x="785" y="867"/>
                    </a:lnTo>
                    <a:lnTo>
                      <a:pt x="793" y="888"/>
                    </a:lnTo>
                    <a:lnTo>
                      <a:pt x="798" y="908"/>
                    </a:lnTo>
                    <a:lnTo>
                      <a:pt x="803" y="922"/>
                    </a:lnTo>
                    <a:lnTo>
                      <a:pt x="806" y="932"/>
                    </a:lnTo>
                    <a:lnTo>
                      <a:pt x="809" y="939"/>
                    </a:lnTo>
                    <a:lnTo>
                      <a:pt x="810" y="945"/>
                    </a:lnTo>
                    <a:lnTo>
                      <a:pt x="812" y="950"/>
                    </a:lnTo>
                    <a:lnTo>
                      <a:pt x="814" y="955"/>
                    </a:lnTo>
                    <a:lnTo>
                      <a:pt x="816" y="958"/>
                    </a:lnTo>
                    <a:lnTo>
                      <a:pt x="818" y="965"/>
                    </a:lnTo>
                    <a:lnTo>
                      <a:pt x="820" y="973"/>
                    </a:lnTo>
                    <a:lnTo>
                      <a:pt x="823" y="984"/>
                    </a:lnTo>
                    <a:lnTo>
                      <a:pt x="829" y="998"/>
                    </a:lnTo>
                    <a:lnTo>
                      <a:pt x="835" y="1018"/>
                    </a:lnTo>
                    <a:lnTo>
                      <a:pt x="844" y="1043"/>
                    </a:lnTo>
                    <a:lnTo>
                      <a:pt x="854" y="1073"/>
                    </a:lnTo>
                    <a:lnTo>
                      <a:pt x="867" y="111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415120" y="4848120"/>
                <a:ext cx="1377720" cy="176364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8"/>
                    </a:lnTo>
                    <a:lnTo>
                      <a:pt x="45" y="10"/>
                    </a:lnTo>
                    <a:lnTo>
                      <a:pt x="50" y="12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8"/>
                    </a:lnTo>
                    <a:lnTo>
                      <a:pt x="91" y="19"/>
                    </a:lnTo>
                    <a:lnTo>
                      <a:pt x="99" y="22"/>
                    </a:lnTo>
                    <a:lnTo>
                      <a:pt x="109" y="25"/>
                    </a:lnTo>
                    <a:lnTo>
                      <a:pt x="119" y="28"/>
                    </a:lnTo>
                    <a:lnTo>
                      <a:pt x="131" y="31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4"/>
                    </a:lnTo>
                    <a:lnTo>
                      <a:pt x="181" y="47"/>
                    </a:lnTo>
                    <a:lnTo>
                      <a:pt x="192" y="53"/>
                    </a:lnTo>
                    <a:lnTo>
                      <a:pt x="205" y="57"/>
                    </a:lnTo>
                    <a:lnTo>
                      <a:pt x="217" y="63"/>
                    </a:lnTo>
                    <a:lnTo>
                      <a:pt x="230" y="66"/>
                    </a:lnTo>
                    <a:lnTo>
                      <a:pt x="241" y="72"/>
                    </a:lnTo>
                    <a:lnTo>
                      <a:pt x="252" y="76"/>
                    </a:lnTo>
                    <a:lnTo>
                      <a:pt x="261" y="81"/>
                    </a:lnTo>
                    <a:lnTo>
                      <a:pt x="272" y="85"/>
                    </a:lnTo>
                    <a:lnTo>
                      <a:pt x="280" y="90"/>
                    </a:lnTo>
                    <a:lnTo>
                      <a:pt x="290" y="96"/>
                    </a:lnTo>
                    <a:lnTo>
                      <a:pt x="300" y="103"/>
                    </a:lnTo>
                    <a:lnTo>
                      <a:pt x="312" y="110"/>
                    </a:lnTo>
                    <a:lnTo>
                      <a:pt x="323" y="120"/>
                    </a:lnTo>
                    <a:lnTo>
                      <a:pt x="336" y="128"/>
                    </a:lnTo>
                    <a:lnTo>
                      <a:pt x="349" y="137"/>
                    </a:lnTo>
                    <a:lnTo>
                      <a:pt x="361" y="145"/>
                    </a:lnTo>
                    <a:lnTo>
                      <a:pt x="373" y="156"/>
                    </a:lnTo>
                    <a:lnTo>
                      <a:pt x="386" y="166"/>
                    </a:lnTo>
                    <a:lnTo>
                      <a:pt x="398" y="176"/>
                    </a:lnTo>
                    <a:lnTo>
                      <a:pt x="411" y="185"/>
                    </a:lnTo>
                    <a:lnTo>
                      <a:pt x="421" y="194"/>
                    </a:lnTo>
                    <a:lnTo>
                      <a:pt x="433" y="204"/>
                    </a:lnTo>
                    <a:lnTo>
                      <a:pt x="442" y="213"/>
                    </a:lnTo>
                    <a:lnTo>
                      <a:pt x="453" y="221"/>
                    </a:lnTo>
                    <a:lnTo>
                      <a:pt x="461" y="231"/>
                    </a:lnTo>
                    <a:lnTo>
                      <a:pt x="471" y="242"/>
                    </a:lnTo>
                    <a:lnTo>
                      <a:pt x="481" y="256"/>
                    </a:lnTo>
                    <a:lnTo>
                      <a:pt x="493" y="270"/>
                    </a:lnTo>
                    <a:lnTo>
                      <a:pt x="504" y="287"/>
                    </a:lnTo>
                    <a:lnTo>
                      <a:pt x="516" y="304"/>
                    </a:lnTo>
                    <a:lnTo>
                      <a:pt x="529" y="322"/>
                    </a:lnTo>
                    <a:lnTo>
                      <a:pt x="542" y="339"/>
                    </a:lnTo>
                    <a:lnTo>
                      <a:pt x="553" y="360"/>
                    </a:lnTo>
                    <a:lnTo>
                      <a:pt x="566" y="378"/>
                    </a:lnTo>
                    <a:lnTo>
                      <a:pt x="578" y="398"/>
                    </a:lnTo>
                    <a:lnTo>
                      <a:pt x="591" y="417"/>
                    </a:lnTo>
                    <a:lnTo>
                      <a:pt x="601" y="436"/>
                    </a:lnTo>
                    <a:lnTo>
                      <a:pt x="612" y="455"/>
                    </a:lnTo>
                    <a:lnTo>
                      <a:pt x="622" y="473"/>
                    </a:lnTo>
                    <a:lnTo>
                      <a:pt x="631" y="490"/>
                    </a:lnTo>
                    <a:lnTo>
                      <a:pt x="639" y="508"/>
                    </a:lnTo>
                    <a:lnTo>
                      <a:pt x="648" y="528"/>
                    </a:lnTo>
                    <a:lnTo>
                      <a:pt x="658" y="551"/>
                    </a:lnTo>
                    <a:lnTo>
                      <a:pt x="669" y="574"/>
                    </a:lnTo>
                    <a:lnTo>
                      <a:pt x="680" y="600"/>
                    </a:lnTo>
                    <a:lnTo>
                      <a:pt x="691" y="626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6" y="766"/>
                    </a:lnTo>
                    <a:lnTo>
                      <a:pt x="757" y="793"/>
                    </a:lnTo>
                    <a:lnTo>
                      <a:pt x="767" y="820"/>
                    </a:lnTo>
                    <a:lnTo>
                      <a:pt x="776" y="845"/>
                    </a:lnTo>
                    <a:lnTo>
                      <a:pt x="784" y="868"/>
                    </a:lnTo>
                    <a:lnTo>
                      <a:pt x="793" y="889"/>
                    </a:lnTo>
                    <a:lnTo>
                      <a:pt x="798" y="908"/>
                    </a:lnTo>
                    <a:lnTo>
                      <a:pt x="803" y="922"/>
                    </a:lnTo>
                    <a:lnTo>
                      <a:pt x="805" y="933"/>
                    </a:lnTo>
                    <a:lnTo>
                      <a:pt x="808" y="940"/>
                    </a:lnTo>
                    <a:lnTo>
                      <a:pt x="809" y="946"/>
                    </a:lnTo>
                    <a:lnTo>
                      <a:pt x="811" y="950"/>
                    </a:lnTo>
                    <a:lnTo>
                      <a:pt x="813" y="955"/>
                    </a:lnTo>
                    <a:lnTo>
                      <a:pt x="815" y="959"/>
                    </a:lnTo>
                    <a:lnTo>
                      <a:pt x="817" y="966"/>
                    </a:lnTo>
                    <a:lnTo>
                      <a:pt x="819" y="973"/>
                    </a:lnTo>
                    <a:lnTo>
                      <a:pt x="823" y="984"/>
                    </a:lnTo>
                    <a:lnTo>
                      <a:pt x="828" y="999"/>
                    </a:lnTo>
                    <a:lnTo>
                      <a:pt x="835" y="1019"/>
                    </a:lnTo>
                    <a:lnTo>
                      <a:pt x="843" y="1043"/>
                    </a:lnTo>
                    <a:lnTo>
                      <a:pt x="853" y="1074"/>
                    </a:lnTo>
                    <a:lnTo>
                      <a:pt x="867" y="111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415120" y="4854600"/>
                <a:ext cx="1377720" cy="176364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3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5" y="10"/>
                    </a:lnTo>
                    <a:lnTo>
                      <a:pt x="50" y="12"/>
                    </a:lnTo>
                    <a:lnTo>
                      <a:pt x="55" y="13"/>
                    </a:lnTo>
                    <a:lnTo>
                      <a:pt x="58" y="13"/>
                    </a:lnTo>
                    <a:lnTo>
                      <a:pt x="62" y="13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7" y="14"/>
                    </a:lnTo>
                    <a:lnTo>
                      <a:pt x="69" y="14"/>
                    </a:lnTo>
                    <a:lnTo>
                      <a:pt x="72" y="16"/>
                    </a:lnTo>
                    <a:lnTo>
                      <a:pt x="76" y="16"/>
                    </a:lnTo>
                    <a:lnTo>
                      <a:pt x="82" y="18"/>
                    </a:lnTo>
                    <a:lnTo>
                      <a:pt x="91" y="19"/>
                    </a:lnTo>
                    <a:lnTo>
                      <a:pt x="99" y="22"/>
                    </a:lnTo>
                    <a:lnTo>
                      <a:pt x="109" y="24"/>
                    </a:lnTo>
                    <a:lnTo>
                      <a:pt x="119" y="28"/>
                    </a:lnTo>
                    <a:lnTo>
                      <a:pt x="131" y="30"/>
                    </a:lnTo>
                    <a:lnTo>
                      <a:pt x="143" y="34"/>
                    </a:lnTo>
                    <a:lnTo>
                      <a:pt x="155" y="38"/>
                    </a:lnTo>
                    <a:lnTo>
                      <a:pt x="167" y="42"/>
                    </a:lnTo>
                    <a:lnTo>
                      <a:pt x="181" y="46"/>
                    </a:lnTo>
                    <a:lnTo>
                      <a:pt x="192" y="52"/>
                    </a:lnTo>
                    <a:lnTo>
                      <a:pt x="205" y="56"/>
                    </a:lnTo>
                    <a:lnTo>
                      <a:pt x="217" y="62"/>
                    </a:lnTo>
                    <a:lnTo>
                      <a:pt x="230" y="66"/>
                    </a:lnTo>
                    <a:lnTo>
                      <a:pt x="241" y="71"/>
                    </a:lnTo>
                    <a:lnTo>
                      <a:pt x="252" y="75"/>
                    </a:lnTo>
                    <a:lnTo>
                      <a:pt x="261" y="80"/>
                    </a:lnTo>
                    <a:lnTo>
                      <a:pt x="272" y="84"/>
                    </a:lnTo>
                    <a:lnTo>
                      <a:pt x="280" y="89"/>
                    </a:lnTo>
                    <a:lnTo>
                      <a:pt x="290" y="95"/>
                    </a:lnTo>
                    <a:lnTo>
                      <a:pt x="300" y="102"/>
                    </a:lnTo>
                    <a:lnTo>
                      <a:pt x="312" y="109"/>
                    </a:lnTo>
                    <a:lnTo>
                      <a:pt x="323" y="119"/>
                    </a:lnTo>
                    <a:lnTo>
                      <a:pt x="336" y="127"/>
                    </a:lnTo>
                    <a:lnTo>
                      <a:pt x="349" y="136"/>
                    </a:lnTo>
                    <a:lnTo>
                      <a:pt x="361" y="144"/>
                    </a:lnTo>
                    <a:lnTo>
                      <a:pt x="373" y="156"/>
                    </a:lnTo>
                    <a:lnTo>
                      <a:pt x="386" y="165"/>
                    </a:lnTo>
                    <a:lnTo>
                      <a:pt x="398" y="175"/>
                    </a:lnTo>
                    <a:lnTo>
                      <a:pt x="411" y="184"/>
                    </a:lnTo>
                    <a:lnTo>
                      <a:pt x="421" y="194"/>
                    </a:lnTo>
                    <a:lnTo>
                      <a:pt x="433" y="203"/>
                    </a:lnTo>
                    <a:lnTo>
                      <a:pt x="442" y="212"/>
                    </a:lnTo>
                    <a:lnTo>
                      <a:pt x="453" y="220"/>
                    </a:lnTo>
                    <a:lnTo>
                      <a:pt x="461" y="230"/>
                    </a:lnTo>
                    <a:lnTo>
                      <a:pt x="471" y="242"/>
                    </a:lnTo>
                    <a:lnTo>
                      <a:pt x="481" y="255"/>
                    </a:lnTo>
                    <a:lnTo>
                      <a:pt x="493" y="269"/>
                    </a:lnTo>
                    <a:lnTo>
                      <a:pt x="504" y="286"/>
                    </a:lnTo>
                    <a:lnTo>
                      <a:pt x="516" y="303"/>
                    </a:lnTo>
                    <a:lnTo>
                      <a:pt x="529" y="321"/>
                    </a:lnTo>
                    <a:lnTo>
                      <a:pt x="542" y="338"/>
                    </a:lnTo>
                    <a:lnTo>
                      <a:pt x="553" y="359"/>
                    </a:lnTo>
                    <a:lnTo>
                      <a:pt x="566" y="378"/>
                    </a:lnTo>
                    <a:lnTo>
                      <a:pt x="578" y="398"/>
                    </a:lnTo>
                    <a:lnTo>
                      <a:pt x="591" y="416"/>
                    </a:lnTo>
                    <a:lnTo>
                      <a:pt x="601" y="436"/>
                    </a:lnTo>
                    <a:lnTo>
                      <a:pt x="612" y="454"/>
                    </a:lnTo>
                    <a:lnTo>
                      <a:pt x="622" y="472"/>
                    </a:lnTo>
                    <a:lnTo>
                      <a:pt x="631" y="489"/>
                    </a:lnTo>
                    <a:lnTo>
                      <a:pt x="639" y="508"/>
                    </a:lnTo>
                    <a:lnTo>
                      <a:pt x="648" y="528"/>
                    </a:lnTo>
                    <a:lnTo>
                      <a:pt x="658" y="550"/>
                    </a:lnTo>
                    <a:lnTo>
                      <a:pt x="669" y="574"/>
                    </a:lnTo>
                    <a:lnTo>
                      <a:pt x="680" y="599"/>
                    </a:lnTo>
                    <a:lnTo>
                      <a:pt x="691" y="625"/>
                    </a:lnTo>
                    <a:lnTo>
                      <a:pt x="702" y="654"/>
                    </a:lnTo>
                    <a:lnTo>
                      <a:pt x="714" y="680"/>
                    </a:lnTo>
                    <a:lnTo>
                      <a:pt x="725" y="709"/>
                    </a:lnTo>
                    <a:lnTo>
                      <a:pt x="736" y="737"/>
                    </a:lnTo>
                    <a:lnTo>
                      <a:pt x="746" y="765"/>
                    </a:lnTo>
                    <a:lnTo>
                      <a:pt x="757" y="792"/>
                    </a:lnTo>
                    <a:lnTo>
                      <a:pt x="767" y="819"/>
                    </a:lnTo>
                    <a:lnTo>
                      <a:pt x="776" y="844"/>
                    </a:lnTo>
                    <a:lnTo>
                      <a:pt x="784" y="867"/>
                    </a:lnTo>
                    <a:lnTo>
                      <a:pt x="793" y="888"/>
                    </a:lnTo>
                    <a:lnTo>
                      <a:pt x="798" y="908"/>
                    </a:lnTo>
                    <a:lnTo>
                      <a:pt x="803" y="921"/>
                    </a:lnTo>
                    <a:lnTo>
                      <a:pt x="805" y="932"/>
                    </a:lnTo>
                    <a:lnTo>
                      <a:pt x="808" y="939"/>
                    </a:lnTo>
                    <a:lnTo>
                      <a:pt x="809" y="945"/>
                    </a:lnTo>
                    <a:lnTo>
                      <a:pt x="811" y="949"/>
                    </a:lnTo>
                    <a:lnTo>
                      <a:pt x="813" y="954"/>
                    </a:lnTo>
                    <a:lnTo>
                      <a:pt x="815" y="958"/>
                    </a:lnTo>
                    <a:lnTo>
                      <a:pt x="817" y="965"/>
                    </a:lnTo>
                    <a:lnTo>
                      <a:pt x="819" y="972"/>
                    </a:lnTo>
                    <a:lnTo>
                      <a:pt x="823" y="984"/>
                    </a:lnTo>
                    <a:lnTo>
                      <a:pt x="828" y="998"/>
                    </a:lnTo>
                    <a:lnTo>
                      <a:pt x="835" y="1018"/>
                    </a:lnTo>
                    <a:lnTo>
                      <a:pt x="843" y="1042"/>
                    </a:lnTo>
                    <a:lnTo>
                      <a:pt x="853" y="1073"/>
                    </a:lnTo>
                    <a:lnTo>
                      <a:pt x="867" y="111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415120" y="4863960"/>
                <a:ext cx="1377720" cy="176400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9"/>
                    </a:lnTo>
                    <a:lnTo>
                      <a:pt x="45" y="11"/>
                    </a:lnTo>
                    <a:lnTo>
                      <a:pt x="50" y="13"/>
                    </a:lnTo>
                    <a:lnTo>
                      <a:pt x="55" y="14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9"/>
                    </a:lnTo>
                    <a:lnTo>
                      <a:pt x="91" y="20"/>
                    </a:lnTo>
                    <a:lnTo>
                      <a:pt x="99" y="23"/>
                    </a:lnTo>
                    <a:lnTo>
                      <a:pt x="109" y="25"/>
                    </a:lnTo>
                    <a:lnTo>
                      <a:pt x="119" y="28"/>
                    </a:lnTo>
                    <a:lnTo>
                      <a:pt x="131" y="31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4"/>
                    </a:lnTo>
                    <a:lnTo>
                      <a:pt x="181" y="47"/>
                    </a:lnTo>
                    <a:lnTo>
                      <a:pt x="192" y="53"/>
                    </a:lnTo>
                    <a:lnTo>
                      <a:pt x="205" y="57"/>
                    </a:lnTo>
                    <a:lnTo>
                      <a:pt x="217" y="63"/>
                    </a:lnTo>
                    <a:lnTo>
                      <a:pt x="230" y="66"/>
                    </a:lnTo>
                    <a:lnTo>
                      <a:pt x="241" y="72"/>
                    </a:lnTo>
                    <a:lnTo>
                      <a:pt x="252" y="76"/>
                    </a:lnTo>
                    <a:lnTo>
                      <a:pt x="261" y="81"/>
                    </a:lnTo>
                    <a:lnTo>
                      <a:pt x="272" y="85"/>
                    </a:lnTo>
                    <a:lnTo>
                      <a:pt x="280" y="90"/>
                    </a:lnTo>
                    <a:lnTo>
                      <a:pt x="290" y="96"/>
                    </a:lnTo>
                    <a:lnTo>
                      <a:pt x="300" y="103"/>
                    </a:lnTo>
                    <a:lnTo>
                      <a:pt x="312" y="110"/>
                    </a:lnTo>
                    <a:lnTo>
                      <a:pt x="323" y="120"/>
                    </a:lnTo>
                    <a:lnTo>
                      <a:pt x="336" y="128"/>
                    </a:lnTo>
                    <a:lnTo>
                      <a:pt x="349" y="137"/>
                    </a:lnTo>
                    <a:lnTo>
                      <a:pt x="361" y="145"/>
                    </a:lnTo>
                    <a:lnTo>
                      <a:pt x="373" y="156"/>
                    </a:lnTo>
                    <a:lnTo>
                      <a:pt x="386" y="166"/>
                    </a:lnTo>
                    <a:lnTo>
                      <a:pt x="398" y="176"/>
                    </a:lnTo>
                    <a:lnTo>
                      <a:pt x="411" y="185"/>
                    </a:lnTo>
                    <a:lnTo>
                      <a:pt x="421" y="194"/>
                    </a:lnTo>
                    <a:lnTo>
                      <a:pt x="433" y="204"/>
                    </a:lnTo>
                    <a:lnTo>
                      <a:pt x="442" y="213"/>
                    </a:lnTo>
                    <a:lnTo>
                      <a:pt x="453" y="221"/>
                    </a:lnTo>
                    <a:lnTo>
                      <a:pt x="461" y="231"/>
                    </a:lnTo>
                    <a:lnTo>
                      <a:pt x="471" y="242"/>
                    </a:lnTo>
                    <a:lnTo>
                      <a:pt x="481" y="256"/>
                    </a:lnTo>
                    <a:lnTo>
                      <a:pt x="493" y="270"/>
                    </a:lnTo>
                    <a:lnTo>
                      <a:pt x="504" y="287"/>
                    </a:lnTo>
                    <a:lnTo>
                      <a:pt x="516" y="304"/>
                    </a:lnTo>
                    <a:lnTo>
                      <a:pt x="529" y="322"/>
                    </a:lnTo>
                    <a:lnTo>
                      <a:pt x="542" y="339"/>
                    </a:lnTo>
                    <a:lnTo>
                      <a:pt x="553" y="360"/>
                    </a:lnTo>
                    <a:lnTo>
                      <a:pt x="566" y="378"/>
                    </a:lnTo>
                    <a:lnTo>
                      <a:pt x="578" y="398"/>
                    </a:lnTo>
                    <a:lnTo>
                      <a:pt x="591" y="417"/>
                    </a:lnTo>
                    <a:lnTo>
                      <a:pt x="601" y="436"/>
                    </a:lnTo>
                    <a:lnTo>
                      <a:pt x="612" y="455"/>
                    </a:lnTo>
                    <a:lnTo>
                      <a:pt x="622" y="473"/>
                    </a:lnTo>
                    <a:lnTo>
                      <a:pt x="631" y="490"/>
                    </a:lnTo>
                    <a:lnTo>
                      <a:pt x="639" y="508"/>
                    </a:lnTo>
                    <a:lnTo>
                      <a:pt x="648" y="528"/>
                    </a:lnTo>
                    <a:lnTo>
                      <a:pt x="658" y="551"/>
                    </a:lnTo>
                    <a:lnTo>
                      <a:pt x="669" y="574"/>
                    </a:lnTo>
                    <a:lnTo>
                      <a:pt x="680" y="600"/>
                    </a:lnTo>
                    <a:lnTo>
                      <a:pt x="691" y="626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6" y="766"/>
                    </a:lnTo>
                    <a:lnTo>
                      <a:pt x="757" y="793"/>
                    </a:lnTo>
                    <a:lnTo>
                      <a:pt x="767" y="820"/>
                    </a:lnTo>
                    <a:lnTo>
                      <a:pt x="776" y="845"/>
                    </a:lnTo>
                    <a:lnTo>
                      <a:pt x="784" y="868"/>
                    </a:lnTo>
                    <a:lnTo>
                      <a:pt x="793" y="889"/>
                    </a:lnTo>
                    <a:lnTo>
                      <a:pt x="798" y="908"/>
                    </a:lnTo>
                    <a:lnTo>
                      <a:pt x="803" y="922"/>
                    </a:lnTo>
                    <a:lnTo>
                      <a:pt x="805" y="933"/>
                    </a:lnTo>
                    <a:lnTo>
                      <a:pt x="808" y="940"/>
                    </a:lnTo>
                    <a:lnTo>
                      <a:pt x="809" y="946"/>
                    </a:lnTo>
                    <a:lnTo>
                      <a:pt x="811" y="950"/>
                    </a:lnTo>
                    <a:lnTo>
                      <a:pt x="813" y="955"/>
                    </a:lnTo>
                    <a:lnTo>
                      <a:pt x="815" y="959"/>
                    </a:lnTo>
                    <a:lnTo>
                      <a:pt x="817" y="966"/>
                    </a:lnTo>
                    <a:lnTo>
                      <a:pt x="819" y="973"/>
                    </a:lnTo>
                    <a:lnTo>
                      <a:pt x="823" y="984"/>
                    </a:lnTo>
                    <a:lnTo>
                      <a:pt x="828" y="999"/>
                    </a:lnTo>
                    <a:lnTo>
                      <a:pt x="835" y="1019"/>
                    </a:lnTo>
                    <a:lnTo>
                      <a:pt x="843" y="1043"/>
                    </a:lnTo>
                    <a:lnTo>
                      <a:pt x="853" y="1074"/>
                    </a:lnTo>
                    <a:lnTo>
                      <a:pt x="867" y="111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04800" y="0"/>
            <a:ext cx="945360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el conjunto de posibilidades de utili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104920" y="1592280"/>
            <a:ext cx="0" cy="494496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04920" y="6553080"/>
            <a:ext cx="501192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7360" y="6361200"/>
            <a:ext cx="7459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1523880"/>
            <a:ext cx="746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4800" y="0"/>
            <a:ext cx="94536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Frontera de bienestar soci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976560" y="1787400"/>
            <a:ext cx="4060800" cy="3784680"/>
            <a:chOff x="3976560" y="1787400"/>
            <a:chExt cx="4060800" cy="3784680"/>
          </a:xfrm>
        </p:grpSpPr>
        <p:sp>
          <p:nvSpPr>
            <p:cNvPr id="393" name=""/>
            <p:cNvSpPr/>
            <p:nvPr/>
          </p:nvSpPr>
          <p:spPr>
            <a:xfrm>
              <a:off x="5262480" y="4478400"/>
              <a:ext cx="2774880" cy="1093680"/>
            </a:xfrm>
            <a:custGeom>
              <a:avLst/>
              <a:gdLst/>
              <a:ahLst/>
              <a:rect l="l" t="t" r="r" b="b"/>
              <a:pathLst>
                <a:path w="1748" h="689">
                  <a:moveTo>
                    <a:pt x="0" y="0"/>
                  </a:moveTo>
                  <a:lnTo>
                    <a:pt x="13" y="13"/>
                  </a:lnTo>
                  <a:lnTo>
                    <a:pt x="23" y="23"/>
                  </a:lnTo>
                  <a:lnTo>
                    <a:pt x="31" y="32"/>
                  </a:lnTo>
                  <a:lnTo>
                    <a:pt x="38" y="37"/>
                  </a:lnTo>
                  <a:lnTo>
                    <a:pt x="43" y="43"/>
                  </a:lnTo>
                  <a:lnTo>
                    <a:pt x="47" y="46"/>
                  </a:lnTo>
                  <a:lnTo>
                    <a:pt x="49" y="49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5" y="54"/>
                  </a:lnTo>
                  <a:lnTo>
                    <a:pt x="57" y="55"/>
                  </a:lnTo>
                  <a:lnTo>
                    <a:pt x="59" y="57"/>
                  </a:lnTo>
                  <a:lnTo>
                    <a:pt x="61" y="60"/>
                  </a:lnTo>
                  <a:lnTo>
                    <a:pt x="65" y="63"/>
                  </a:lnTo>
                  <a:lnTo>
                    <a:pt x="70" y="67"/>
                  </a:lnTo>
                  <a:lnTo>
                    <a:pt x="77" y="72"/>
                  </a:lnTo>
                  <a:lnTo>
                    <a:pt x="84" y="81"/>
                  </a:lnTo>
                  <a:lnTo>
                    <a:pt x="94" y="89"/>
                  </a:lnTo>
                  <a:lnTo>
                    <a:pt x="104" y="98"/>
                  </a:lnTo>
                  <a:lnTo>
                    <a:pt x="116" y="107"/>
                  </a:lnTo>
                  <a:lnTo>
                    <a:pt x="129" y="119"/>
                  </a:lnTo>
                  <a:lnTo>
                    <a:pt x="142" y="129"/>
                  </a:lnTo>
                  <a:lnTo>
                    <a:pt x="156" y="140"/>
                  </a:lnTo>
                  <a:lnTo>
                    <a:pt x="171" y="150"/>
                  </a:lnTo>
                  <a:lnTo>
                    <a:pt x="186" y="162"/>
                  </a:lnTo>
                  <a:lnTo>
                    <a:pt x="201" y="173"/>
                  </a:lnTo>
                  <a:lnTo>
                    <a:pt x="216" y="185"/>
                  </a:lnTo>
                  <a:lnTo>
                    <a:pt x="232" y="195"/>
                  </a:lnTo>
                  <a:lnTo>
                    <a:pt x="246" y="207"/>
                  </a:lnTo>
                  <a:lnTo>
                    <a:pt x="261" y="217"/>
                  </a:lnTo>
                  <a:lnTo>
                    <a:pt x="274" y="226"/>
                  </a:lnTo>
                  <a:lnTo>
                    <a:pt x="289" y="234"/>
                  </a:lnTo>
                  <a:lnTo>
                    <a:pt x="301" y="243"/>
                  </a:lnTo>
                  <a:lnTo>
                    <a:pt x="316" y="253"/>
                  </a:lnTo>
                  <a:lnTo>
                    <a:pt x="332" y="263"/>
                  </a:lnTo>
                  <a:lnTo>
                    <a:pt x="349" y="273"/>
                  </a:lnTo>
                  <a:lnTo>
                    <a:pt x="368" y="284"/>
                  </a:lnTo>
                  <a:lnTo>
                    <a:pt x="387" y="295"/>
                  </a:lnTo>
                  <a:lnTo>
                    <a:pt x="407" y="306"/>
                  </a:lnTo>
                  <a:lnTo>
                    <a:pt x="427" y="317"/>
                  </a:lnTo>
                  <a:lnTo>
                    <a:pt x="447" y="328"/>
                  </a:lnTo>
                  <a:lnTo>
                    <a:pt x="467" y="339"/>
                  </a:lnTo>
                  <a:lnTo>
                    <a:pt x="487" y="350"/>
                  </a:lnTo>
                  <a:lnTo>
                    <a:pt x="507" y="359"/>
                  </a:lnTo>
                  <a:lnTo>
                    <a:pt x="524" y="369"/>
                  </a:lnTo>
                  <a:lnTo>
                    <a:pt x="542" y="377"/>
                  </a:lnTo>
                  <a:lnTo>
                    <a:pt x="559" y="385"/>
                  </a:lnTo>
                  <a:lnTo>
                    <a:pt x="575" y="392"/>
                  </a:lnTo>
                  <a:lnTo>
                    <a:pt x="590" y="399"/>
                  </a:lnTo>
                  <a:lnTo>
                    <a:pt x="610" y="407"/>
                  </a:lnTo>
                  <a:lnTo>
                    <a:pt x="632" y="416"/>
                  </a:lnTo>
                  <a:lnTo>
                    <a:pt x="658" y="425"/>
                  </a:lnTo>
                  <a:lnTo>
                    <a:pt x="685" y="435"/>
                  </a:lnTo>
                  <a:lnTo>
                    <a:pt x="715" y="445"/>
                  </a:lnTo>
                  <a:lnTo>
                    <a:pt x="746" y="456"/>
                  </a:lnTo>
                  <a:lnTo>
                    <a:pt x="779" y="465"/>
                  </a:lnTo>
                  <a:lnTo>
                    <a:pt x="813" y="477"/>
                  </a:lnTo>
                  <a:lnTo>
                    <a:pt x="847" y="488"/>
                  </a:lnTo>
                  <a:lnTo>
                    <a:pt x="882" y="499"/>
                  </a:lnTo>
                  <a:lnTo>
                    <a:pt x="917" y="509"/>
                  </a:lnTo>
                  <a:lnTo>
                    <a:pt x="951" y="519"/>
                  </a:lnTo>
                  <a:lnTo>
                    <a:pt x="985" y="528"/>
                  </a:lnTo>
                  <a:lnTo>
                    <a:pt x="1017" y="537"/>
                  </a:lnTo>
                  <a:lnTo>
                    <a:pt x="1049" y="544"/>
                  </a:lnTo>
                  <a:lnTo>
                    <a:pt x="1080" y="553"/>
                  </a:lnTo>
                  <a:lnTo>
                    <a:pt x="1113" y="561"/>
                  </a:lnTo>
                  <a:lnTo>
                    <a:pt x="1147" y="570"/>
                  </a:lnTo>
                  <a:lnTo>
                    <a:pt x="1183" y="577"/>
                  </a:lnTo>
                  <a:lnTo>
                    <a:pt x="1218" y="587"/>
                  </a:lnTo>
                  <a:lnTo>
                    <a:pt x="1255" y="594"/>
                  </a:lnTo>
                  <a:lnTo>
                    <a:pt x="1291" y="603"/>
                  </a:lnTo>
                  <a:lnTo>
                    <a:pt x="1329" y="610"/>
                  </a:lnTo>
                  <a:lnTo>
                    <a:pt x="1363" y="618"/>
                  </a:lnTo>
                  <a:lnTo>
                    <a:pt x="1397" y="626"/>
                  </a:lnTo>
                  <a:lnTo>
                    <a:pt x="1430" y="633"/>
                  </a:lnTo>
                  <a:lnTo>
                    <a:pt x="1461" y="640"/>
                  </a:lnTo>
                  <a:lnTo>
                    <a:pt x="1490" y="646"/>
                  </a:lnTo>
                  <a:lnTo>
                    <a:pt x="1516" y="651"/>
                  </a:lnTo>
                  <a:lnTo>
                    <a:pt x="1538" y="655"/>
                  </a:lnTo>
                  <a:lnTo>
                    <a:pt x="1559" y="658"/>
                  </a:lnTo>
                  <a:lnTo>
                    <a:pt x="1574" y="661"/>
                  </a:lnTo>
                  <a:lnTo>
                    <a:pt x="1585" y="663"/>
                  </a:lnTo>
                  <a:lnTo>
                    <a:pt x="1594" y="665"/>
                  </a:lnTo>
                  <a:lnTo>
                    <a:pt x="1601" y="665"/>
                  </a:lnTo>
                  <a:lnTo>
                    <a:pt x="1605" y="667"/>
                  </a:lnTo>
                  <a:lnTo>
                    <a:pt x="1609" y="667"/>
                  </a:lnTo>
                  <a:lnTo>
                    <a:pt x="1613" y="668"/>
                  </a:lnTo>
                  <a:lnTo>
                    <a:pt x="1617" y="668"/>
                  </a:lnTo>
                  <a:lnTo>
                    <a:pt x="1622" y="669"/>
                  </a:lnTo>
                  <a:lnTo>
                    <a:pt x="1629" y="670"/>
                  </a:lnTo>
                  <a:lnTo>
                    <a:pt x="1638" y="672"/>
                  </a:lnTo>
                  <a:lnTo>
                    <a:pt x="1651" y="673"/>
                  </a:lnTo>
                  <a:lnTo>
                    <a:pt x="1667" y="677"/>
                  </a:lnTo>
                  <a:lnTo>
                    <a:pt x="1688" y="679"/>
                  </a:lnTo>
                  <a:lnTo>
                    <a:pt x="1714" y="684"/>
                  </a:lnTo>
                  <a:lnTo>
                    <a:pt x="1747" y="688"/>
                  </a:lnTo>
                </a:path>
              </a:pathLst>
            </a:custGeom>
            <a:noFill/>
            <a:ln w="5724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76560" y="1787400"/>
              <a:ext cx="1285920" cy="2691000"/>
            </a:xfrm>
            <a:custGeom>
              <a:avLst/>
              <a:gdLst/>
              <a:ahLst/>
              <a:rect l="l" t="t" r="r" b="b"/>
              <a:pathLst>
                <a:path w="810" h="1695">
                  <a:moveTo>
                    <a:pt x="809" y="1694"/>
                  </a:moveTo>
                  <a:lnTo>
                    <a:pt x="795" y="1682"/>
                  </a:lnTo>
                  <a:lnTo>
                    <a:pt x="784" y="1672"/>
                  </a:lnTo>
                  <a:lnTo>
                    <a:pt x="775" y="1665"/>
                  </a:lnTo>
                  <a:lnTo>
                    <a:pt x="769" y="1658"/>
                  </a:lnTo>
                  <a:lnTo>
                    <a:pt x="763" y="1654"/>
                  </a:lnTo>
                  <a:lnTo>
                    <a:pt x="759" y="1650"/>
                  </a:lnTo>
                  <a:lnTo>
                    <a:pt x="757" y="1648"/>
                  </a:lnTo>
                  <a:lnTo>
                    <a:pt x="755" y="1645"/>
                  </a:lnTo>
                  <a:lnTo>
                    <a:pt x="753" y="1644"/>
                  </a:lnTo>
                  <a:lnTo>
                    <a:pt x="751" y="1642"/>
                  </a:lnTo>
                  <a:lnTo>
                    <a:pt x="749" y="1641"/>
                  </a:lnTo>
                  <a:lnTo>
                    <a:pt x="748" y="1639"/>
                  </a:lnTo>
                  <a:lnTo>
                    <a:pt x="745" y="1637"/>
                  </a:lnTo>
                  <a:lnTo>
                    <a:pt x="742" y="1633"/>
                  </a:lnTo>
                  <a:lnTo>
                    <a:pt x="737" y="1629"/>
                  </a:lnTo>
                  <a:lnTo>
                    <a:pt x="731" y="1622"/>
                  </a:lnTo>
                  <a:lnTo>
                    <a:pt x="723" y="1615"/>
                  </a:lnTo>
                  <a:lnTo>
                    <a:pt x="714" y="1606"/>
                  </a:lnTo>
                  <a:lnTo>
                    <a:pt x="703" y="1596"/>
                  </a:lnTo>
                  <a:lnTo>
                    <a:pt x="694" y="1585"/>
                  </a:lnTo>
                  <a:lnTo>
                    <a:pt x="682" y="1574"/>
                  </a:lnTo>
                  <a:lnTo>
                    <a:pt x="671" y="1561"/>
                  </a:lnTo>
                  <a:lnTo>
                    <a:pt x="659" y="1548"/>
                  </a:lnTo>
                  <a:lnTo>
                    <a:pt x="647" y="1533"/>
                  </a:lnTo>
                  <a:lnTo>
                    <a:pt x="634" y="1520"/>
                  </a:lnTo>
                  <a:lnTo>
                    <a:pt x="622" y="1505"/>
                  </a:lnTo>
                  <a:lnTo>
                    <a:pt x="609" y="1491"/>
                  </a:lnTo>
                  <a:lnTo>
                    <a:pt x="597" y="1476"/>
                  </a:lnTo>
                  <a:lnTo>
                    <a:pt x="585" y="1463"/>
                  </a:lnTo>
                  <a:lnTo>
                    <a:pt x="574" y="1448"/>
                  </a:lnTo>
                  <a:lnTo>
                    <a:pt x="564" y="1436"/>
                  </a:lnTo>
                  <a:lnTo>
                    <a:pt x="555" y="1422"/>
                  </a:lnTo>
                  <a:lnTo>
                    <a:pt x="545" y="1410"/>
                  </a:lnTo>
                  <a:lnTo>
                    <a:pt x="535" y="1396"/>
                  </a:lnTo>
                  <a:lnTo>
                    <a:pt x="523" y="1380"/>
                  </a:lnTo>
                  <a:lnTo>
                    <a:pt x="512" y="1364"/>
                  </a:lnTo>
                  <a:lnTo>
                    <a:pt x="499" y="1347"/>
                  </a:lnTo>
                  <a:lnTo>
                    <a:pt x="486" y="1328"/>
                  </a:lnTo>
                  <a:lnTo>
                    <a:pt x="473" y="1309"/>
                  </a:lnTo>
                  <a:lnTo>
                    <a:pt x="462" y="1289"/>
                  </a:lnTo>
                  <a:lnTo>
                    <a:pt x="449" y="1270"/>
                  </a:lnTo>
                  <a:lnTo>
                    <a:pt x="437" y="1251"/>
                  </a:lnTo>
                  <a:lnTo>
                    <a:pt x="425" y="1232"/>
                  </a:lnTo>
                  <a:lnTo>
                    <a:pt x="414" y="1213"/>
                  </a:lnTo>
                  <a:lnTo>
                    <a:pt x="403" y="1196"/>
                  </a:lnTo>
                  <a:lnTo>
                    <a:pt x="393" y="1178"/>
                  </a:lnTo>
                  <a:lnTo>
                    <a:pt x="385" y="1163"/>
                  </a:lnTo>
                  <a:lnTo>
                    <a:pt x="377" y="1147"/>
                  </a:lnTo>
                  <a:lnTo>
                    <a:pt x="368" y="1132"/>
                  </a:lnTo>
                  <a:lnTo>
                    <a:pt x="359" y="1114"/>
                  </a:lnTo>
                  <a:lnTo>
                    <a:pt x="348" y="1092"/>
                  </a:lnTo>
                  <a:lnTo>
                    <a:pt x="338" y="1067"/>
                  </a:lnTo>
                  <a:lnTo>
                    <a:pt x="326" y="1040"/>
                  </a:lnTo>
                  <a:lnTo>
                    <a:pt x="314" y="1011"/>
                  </a:lnTo>
                  <a:lnTo>
                    <a:pt x="301" y="980"/>
                  </a:lnTo>
                  <a:lnTo>
                    <a:pt x="289" y="948"/>
                  </a:lnTo>
                  <a:lnTo>
                    <a:pt x="276" y="916"/>
                  </a:lnTo>
                  <a:lnTo>
                    <a:pt x="263" y="882"/>
                  </a:lnTo>
                  <a:lnTo>
                    <a:pt x="250" y="848"/>
                  </a:lnTo>
                  <a:lnTo>
                    <a:pt x="237" y="814"/>
                  </a:lnTo>
                  <a:lnTo>
                    <a:pt x="224" y="782"/>
                  </a:lnTo>
                  <a:lnTo>
                    <a:pt x="213" y="748"/>
                  </a:lnTo>
                  <a:lnTo>
                    <a:pt x="202" y="716"/>
                  </a:lnTo>
                  <a:lnTo>
                    <a:pt x="192" y="685"/>
                  </a:lnTo>
                  <a:lnTo>
                    <a:pt x="181" y="656"/>
                  </a:lnTo>
                  <a:lnTo>
                    <a:pt x="171" y="623"/>
                  </a:lnTo>
                  <a:lnTo>
                    <a:pt x="160" y="590"/>
                  </a:lnTo>
                  <a:lnTo>
                    <a:pt x="149" y="554"/>
                  </a:lnTo>
                  <a:lnTo>
                    <a:pt x="138" y="519"/>
                  </a:lnTo>
                  <a:lnTo>
                    <a:pt x="127" y="484"/>
                  </a:lnTo>
                  <a:lnTo>
                    <a:pt x="116" y="448"/>
                  </a:lnTo>
                  <a:lnTo>
                    <a:pt x="106" y="412"/>
                  </a:lnTo>
                  <a:lnTo>
                    <a:pt x="95" y="378"/>
                  </a:lnTo>
                  <a:lnTo>
                    <a:pt x="85" y="344"/>
                  </a:lnTo>
                  <a:lnTo>
                    <a:pt x="76" y="312"/>
                  </a:lnTo>
                  <a:lnTo>
                    <a:pt x="68" y="281"/>
                  </a:lnTo>
                  <a:lnTo>
                    <a:pt x="60" y="254"/>
                  </a:lnTo>
                  <a:lnTo>
                    <a:pt x="53" y="227"/>
                  </a:lnTo>
                  <a:lnTo>
                    <a:pt x="47" y="205"/>
                  </a:lnTo>
                  <a:lnTo>
                    <a:pt x="44" y="185"/>
                  </a:lnTo>
                  <a:lnTo>
                    <a:pt x="39" y="170"/>
                  </a:lnTo>
                  <a:lnTo>
                    <a:pt x="36" y="159"/>
                  </a:lnTo>
                  <a:lnTo>
                    <a:pt x="35" y="151"/>
                  </a:lnTo>
                  <a:lnTo>
                    <a:pt x="33" y="144"/>
                  </a:lnTo>
                  <a:lnTo>
                    <a:pt x="31" y="139"/>
                  </a:lnTo>
                  <a:lnTo>
                    <a:pt x="31" y="136"/>
                  </a:lnTo>
                  <a:lnTo>
                    <a:pt x="29" y="132"/>
                  </a:lnTo>
                  <a:lnTo>
                    <a:pt x="29" y="128"/>
                  </a:lnTo>
                  <a:lnTo>
                    <a:pt x="28" y="123"/>
                  </a:lnTo>
                  <a:lnTo>
                    <a:pt x="26" y="116"/>
                  </a:lnTo>
                  <a:lnTo>
                    <a:pt x="24" y="108"/>
                  </a:lnTo>
                  <a:lnTo>
                    <a:pt x="22" y="94"/>
                  </a:lnTo>
                  <a:lnTo>
                    <a:pt x="17" y="79"/>
                  </a:lnTo>
                  <a:lnTo>
                    <a:pt x="13" y="58"/>
                  </a:lnTo>
                  <a:lnTo>
                    <a:pt x="7" y="33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322880" y="1417680"/>
            <a:ext cx="4060800" cy="3784680"/>
            <a:chOff x="4322880" y="1417680"/>
            <a:chExt cx="4060800" cy="3784680"/>
          </a:xfrm>
        </p:grpSpPr>
        <p:sp>
          <p:nvSpPr>
            <p:cNvPr id="396" name=""/>
            <p:cNvSpPr/>
            <p:nvPr/>
          </p:nvSpPr>
          <p:spPr>
            <a:xfrm>
              <a:off x="5605560" y="4111560"/>
              <a:ext cx="2778120" cy="1090800"/>
            </a:xfrm>
            <a:custGeom>
              <a:avLst/>
              <a:gdLst/>
              <a:ahLst/>
              <a:rect l="l" t="t" r="r" b="b"/>
              <a:pathLst>
                <a:path w="1750" h="687">
                  <a:moveTo>
                    <a:pt x="0" y="0"/>
                  </a:moveTo>
                  <a:lnTo>
                    <a:pt x="13" y="13"/>
                  </a:lnTo>
                  <a:lnTo>
                    <a:pt x="23" y="22"/>
                  </a:lnTo>
                  <a:lnTo>
                    <a:pt x="32" y="31"/>
                  </a:lnTo>
                  <a:lnTo>
                    <a:pt x="39" y="37"/>
                  </a:lnTo>
                  <a:lnTo>
                    <a:pt x="43" y="42"/>
                  </a:lnTo>
                  <a:lnTo>
                    <a:pt x="47" y="46"/>
                  </a:lnTo>
                  <a:lnTo>
                    <a:pt x="50" y="48"/>
                  </a:lnTo>
                  <a:lnTo>
                    <a:pt x="53" y="50"/>
                  </a:lnTo>
                  <a:lnTo>
                    <a:pt x="54" y="51"/>
                  </a:lnTo>
                  <a:lnTo>
                    <a:pt x="55" y="53"/>
                  </a:lnTo>
                  <a:lnTo>
                    <a:pt x="57" y="55"/>
                  </a:lnTo>
                  <a:lnTo>
                    <a:pt x="59" y="56"/>
                  </a:lnTo>
                  <a:lnTo>
                    <a:pt x="61" y="60"/>
                  </a:lnTo>
                  <a:lnTo>
                    <a:pt x="65" y="62"/>
                  </a:lnTo>
                  <a:lnTo>
                    <a:pt x="71" y="67"/>
                  </a:lnTo>
                  <a:lnTo>
                    <a:pt x="77" y="72"/>
                  </a:lnTo>
                  <a:lnTo>
                    <a:pt x="84" y="81"/>
                  </a:lnTo>
                  <a:lnTo>
                    <a:pt x="94" y="88"/>
                  </a:lnTo>
                  <a:lnTo>
                    <a:pt x="105" y="98"/>
                  </a:lnTo>
                  <a:lnTo>
                    <a:pt x="117" y="107"/>
                  </a:lnTo>
                  <a:lnTo>
                    <a:pt x="129" y="118"/>
                  </a:lnTo>
                  <a:lnTo>
                    <a:pt x="143" y="128"/>
                  </a:lnTo>
                  <a:lnTo>
                    <a:pt x="157" y="139"/>
                  </a:lnTo>
                  <a:lnTo>
                    <a:pt x="172" y="149"/>
                  </a:lnTo>
                  <a:lnTo>
                    <a:pt x="187" y="161"/>
                  </a:lnTo>
                  <a:lnTo>
                    <a:pt x="202" y="172"/>
                  </a:lnTo>
                  <a:lnTo>
                    <a:pt x="217" y="184"/>
                  </a:lnTo>
                  <a:lnTo>
                    <a:pt x="233" y="194"/>
                  </a:lnTo>
                  <a:lnTo>
                    <a:pt x="247" y="206"/>
                  </a:lnTo>
                  <a:lnTo>
                    <a:pt x="262" y="216"/>
                  </a:lnTo>
                  <a:lnTo>
                    <a:pt x="275" y="225"/>
                  </a:lnTo>
                  <a:lnTo>
                    <a:pt x="289" y="233"/>
                  </a:lnTo>
                  <a:lnTo>
                    <a:pt x="302" y="242"/>
                  </a:lnTo>
                  <a:lnTo>
                    <a:pt x="317" y="252"/>
                  </a:lnTo>
                  <a:lnTo>
                    <a:pt x="333" y="262"/>
                  </a:lnTo>
                  <a:lnTo>
                    <a:pt x="351" y="272"/>
                  </a:lnTo>
                  <a:lnTo>
                    <a:pt x="369" y="283"/>
                  </a:lnTo>
                  <a:lnTo>
                    <a:pt x="388" y="294"/>
                  </a:lnTo>
                  <a:lnTo>
                    <a:pt x="408" y="305"/>
                  </a:lnTo>
                  <a:lnTo>
                    <a:pt x="429" y="316"/>
                  </a:lnTo>
                  <a:lnTo>
                    <a:pt x="448" y="327"/>
                  </a:lnTo>
                  <a:lnTo>
                    <a:pt x="469" y="338"/>
                  </a:lnTo>
                  <a:lnTo>
                    <a:pt x="488" y="349"/>
                  </a:lnTo>
                  <a:lnTo>
                    <a:pt x="508" y="358"/>
                  </a:lnTo>
                  <a:lnTo>
                    <a:pt x="525" y="368"/>
                  </a:lnTo>
                  <a:lnTo>
                    <a:pt x="543" y="377"/>
                  </a:lnTo>
                  <a:lnTo>
                    <a:pt x="560" y="384"/>
                  </a:lnTo>
                  <a:lnTo>
                    <a:pt x="576" y="391"/>
                  </a:lnTo>
                  <a:lnTo>
                    <a:pt x="591" y="400"/>
                  </a:lnTo>
                  <a:lnTo>
                    <a:pt x="611" y="407"/>
                  </a:lnTo>
                  <a:lnTo>
                    <a:pt x="633" y="416"/>
                  </a:lnTo>
                  <a:lnTo>
                    <a:pt x="659" y="425"/>
                  </a:lnTo>
                  <a:lnTo>
                    <a:pt x="686" y="436"/>
                  </a:lnTo>
                  <a:lnTo>
                    <a:pt x="716" y="445"/>
                  </a:lnTo>
                  <a:lnTo>
                    <a:pt x="747" y="456"/>
                  </a:lnTo>
                  <a:lnTo>
                    <a:pt x="781" y="466"/>
                  </a:lnTo>
                  <a:lnTo>
                    <a:pt x="814" y="477"/>
                  </a:lnTo>
                  <a:lnTo>
                    <a:pt x="849" y="488"/>
                  </a:lnTo>
                  <a:lnTo>
                    <a:pt x="883" y="499"/>
                  </a:lnTo>
                  <a:lnTo>
                    <a:pt x="919" y="509"/>
                  </a:lnTo>
                  <a:lnTo>
                    <a:pt x="952" y="519"/>
                  </a:lnTo>
                  <a:lnTo>
                    <a:pt x="986" y="528"/>
                  </a:lnTo>
                  <a:lnTo>
                    <a:pt x="1018" y="537"/>
                  </a:lnTo>
                  <a:lnTo>
                    <a:pt x="1050" y="544"/>
                  </a:lnTo>
                  <a:lnTo>
                    <a:pt x="1081" y="554"/>
                  </a:lnTo>
                  <a:lnTo>
                    <a:pt x="1114" y="561"/>
                  </a:lnTo>
                  <a:lnTo>
                    <a:pt x="1148" y="570"/>
                  </a:lnTo>
                  <a:lnTo>
                    <a:pt x="1184" y="577"/>
                  </a:lnTo>
                  <a:lnTo>
                    <a:pt x="1219" y="587"/>
                  </a:lnTo>
                  <a:lnTo>
                    <a:pt x="1256" y="594"/>
                  </a:lnTo>
                  <a:lnTo>
                    <a:pt x="1292" y="603"/>
                  </a:lnTo>
                  <a:lnTo>
                    <a:pt x="1330" y="610"/>
                  </a:lnTo>
                  <a:lnTo>
                    <a:pt x="1364" y="618"/>
                  </a:lnTo>
                  <a:lnTo>
                    <a:pt x="1399" y="626"/>
                  </a:lnTo>
                  <a:lnTo>
                    <a:pt x="1431" y="634"/>
                  </a:lnTo>
                  <a:lnTo>
                    <a:pt x="1463" y="639"/>
                  </a:lnTo>
                  <a:lnTo>
                    <a:pt x="1491" y="645"/>
                  </a:lnTo>
                  <a:lnTo>
                    <a:pt x="1517" y="650"/>
                  </a:lnTo>
                  <a:lnTo>
                    <a:pt x="1540" y="654"/>
                  </a:lnTo>
                  <a:lnTo>
                    <a:pt x="1561" y="656"/>
                  </a:lnTo>
                  <a:lnTo>
                    <a:pt x="1576" y="660"/>
                  </a:lnTo>
                  <a:lnTo>
                    <a:pt x="1587" y="662"/>
                  </a:lnTo>
                  <a:lnTo>
                    <a:pt x="1595" y="664"/>
                  </a:lnTo>
                  <a:lnTo>
                    <a:pt x="1603" y="664"/>
                  </a:lnTo>
                  <a:lnTo>
                    <a:pt x="1607" y="665"/>
                  </a:lnTo>
                  <a:lnTo>
                    <a:pt x="1611" y="665"/>
                  </a:lnTo>
                  <a:lnTo>
                    <a:pt x="1615" y="666"/>
                  </a:lnTo>
                  <a:lnTo>
                    <a:pt x="1619" y="666"/>
                  </a:lnTo>
                  <a:lnTo>
                    <a:pt x="1624" y="668"/>
                  </a:lnTo>
                  <a:lnTo>
                    <a:pt x="1631" y="668"/>
                  </a:lnTo>
                  <a:lnTo>
                    <a:pt x="1640" y="670"/>
                  </a:lnTo>
                  <a:lnTo>
                    <a:pt x="1653" y="672"/>
                  </a:lnTo>
                  <a:lnTo>
                    <a:pt x="1669" y="675"/>
                  </a:lnTo>
                  <a:lnTo>
                    <a:pt x="1690" y="678"/>
                  </a:lnTo>
                  <a:lnTo>
                    <a:pt x="1716" y="682"/>
                  </a:lnTo>
                  <a:lnTo>
                    <a:pt x="1749" y="686"/>
                  </a:lnTo>
                </a:path>
              </a:pathLst>
            </a:custGeom>
            <a:noFill/>
            <a:ln w="5724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22880" y="1417680"/>
              <a:ext cx="1282680" cy="2695680"/>
            </a:xfrm>
            <a:custGeom>
              <a:avLst/>
              <a:gdLst/>
              <a:ahLst/>
              <a:rect l="l" t="t" r="r" b="b"/>
              <a:pathLst>
                <a:path w="808" h="1698">
                  <a:moveTo>
                    <a:pt x="807" y="1697"/>
                  </a:moveTo>
                  <a:lnTo>
                    <a:pt x="793" y="1685"/>
                  </a:lnTo>
                  <a:lnTo>
                    <a:pt x="782" y="1675"/>
                  </a:lnTo>
                  <a:lnTo>
                    <a:pt x="773" y="1667"/>
                  </a:lnTo>
                  <a:lnTo>
                    <a:pt x="767" y="1660"/>
                  </a:lnTo>
                  <a:lnTo>
                    <a:pt x="761" y="1656"/>
                  </a:lnTo>
                  <a:lnTo>
                    <a:pt x="757" y="1652"/>
                  </a:lnTo>
                  <a:lnTo>
                    <a:pt x="755" y="1650"/>
                  </a:lnTo>
                  <a:lnTo>
                    <a:pt x="753" y="1647"/>
                  </a:lnTo>
                  <a:lnTo>
                    <a:pt x="751" y="1647"/>
                  </a:lnTo>
                  <a:lnTo>
                    <a:pt x="749" y="1645"/>
                  </a:lnTo>
                  <a:lnTo>
                    <a:pt x="747" y="1643"/>
                  </a:lnTo>
                  <a:lnTo>
                    <a:pt x="746" y="1641"/>
                  </a:lnTo>
                  <a:lnTo>
                    <a:pt x="743" y="1639"/>
                  </a:lnTo>
                  <a:lnTo>
                    <a:pt x="740" y="1635"/>
                  </a:lnTo>
                  <a:lnTo>
                    <a:pt x="735" y="1630"/>
                  </a:lnTo>
                  <a:lnTo>
                    <a:pt x="729" y="1623"/>
                  </a:lnTo>
                  <a:lnTo>
                    <a:pt x="721" y="1617"/>
                  </a:lnTo>
                  <a:lnTo>
                    <a:pt x="713" y="1608"/>
                  </a:lnTo>
                  <a:lnTo>
                    <a:pt x="702" y="1598"/>
                  </a:lnTo>
                  <a:lnTo>
                    <a:pt x="693" y="1587"/>
                  </a:lnTo>
                  <a:lnTo>
                    <a:pt x="681" y="1575"/>
                  </a:lnTo>
                  <a:lnTo>
                    <a:pt x="669" y="1562"/>
                  </a:lnTo>
                  <a:lnTo>
                    <a:pt x="657" y="1549"/>
                  </a:lnTo>
                  <a:lnTo>
                    <a:pt x="646" y="1534"/>
                  </a:lnTo>
                  <a:lnTo>
                    <a:pt x="633" y="1521"/>
                  </a:lnTo>
                  <a:lnTo>
                    <a:pt x="621" y="1506"/>
                  </a:lnTo>
                  <a:lnTo>
                    <a:pt x="608" y="1492"/>
                  </a:lnTo>
                  <a:lnTo>
                    <a:pt x="597" y="1477"/>
                  </a:lnTo>
                  <a:lnTo>
                    <a:pt x="585" y="1464"/>
                  </a:lnTo>
                  <a:lnTo>
                    <a:pt x="573" y="1449"/>
                  </a:lnTo>
                  <a:lnTo>
                    <a:pt x="563" y="1436"/>
                  </a:lnTo>
                  <a:lnTo>
                    <a:pt x="555" y="1423"/>
                  </a:lnTo>
                  <a:lnTo>
                    <a:pt x="544" y="1411"/>
                  </a:lnTo>
                  <a:lnTo>
                    <a:pt x="534" y="1397"/>
                  </a:lnTo>
                  <a:lnTo>
                    <a:pt x="523" y="1381"/>
                  </a:lnTo>
                  <a:lnTo>
                    <a:pt x="512" y="1365"/>
                  </a:lnTo>
                  <a:lnTo>
                    <a:pt x="499" y="1348"/>
                  </a:lnTo>
                  <a:lnTo>
                    <a:pt x="487" y="1329"/>
                  </a:lnTo>
                  <a:lnTo>
                    <a:pt x="473" y="1310"/>
                  </a:lnTo>
                  <a:lnTo>
                    <a:pt x="462" y="1290"/>
                  </a:lnTo>
                  <a:lnTo>
                    <a:pt x="449" y="1271"/>
                  </a:lnTo>
                  <a:lnTo>
                    <a:pt x="437" y="1252"/>
                  </a:lnTo>
                  <a:lnTo>
                    <a:pt x="425" y="1233"/>
                  </a:lnTo>
                  <a:lnTo>
                    <a:pt x="414" y="1214"/>
                  </a:lnTo>
                  <a:lnTo>
                    <a:pt x="403" y="1197"/>
                  </a:lnTo>
                  <a:lnTo>
                    <a:pt x="394" y="1180"/>
                  </a:lnTo>
                  <a:lnTo>
                    <a:pt x="384" y="1164"/>
                  </a:lnTo>
                  <a:lnTo>
                    <a:pt x="377" y="1149"/>
                  </a:lnTo>
                  <a:lnTo>
                    <a:pt x="368" y="1134"/>
                  </a:lnTo>
                  <a:lnTo>
                    <a:pt x="359" y="1115"/>
                  </a:lnTo>
                  <a:lnTo>
                    <a:pt x="348" y="1094"/>
                  </a:lnTo>
                  <a:lnTo>
                    <a:pt x="338" y="1068"/>
                  </a:lnTo>
                  <a:lnTo>
                    <a:pt x="326" y="1041"/>
                  </a:lnTo>
                  <a:lnTo>
                    <a:pt x="314" y="1013"/>
                  </a:lnTo>
                  <a:lnTo>
                    <a:pt x="301" y="982"/>
                  </a:lnTo>
                  <a:lnTo>
                    <a:pt x="289" y="949"/>
                  </a:lnTo>
                  <a:lnTo>
                    <a:pt x="275" y="917"/>
                  </a:lnTo>
                  <a:lnTo>
                    <a:pt x="262" y="883"/>
                  </a:lnTo>
                  <a:lnTo>
                    <a:pt x="249" y="850"/>
                  </a:lnTo>
                  <a:lnTo>
                    <a:pt x="237" y="815"/>
                  </a:lnTo>
                  <a:lnTo>
                    <a:pt x="223" y="783"/>
                  </a:lnTo>
                  <a:lnTo>
                    <a:pt x="212" y="749"/>
                  </a:lnTo>
                  <a:lnTo>
                    <a:pt x="201" y="717"/>
                  </a:lnTo>
                  <a:lnTo>
                    <a:pt x="191" y="686"/>
                  </a:lnTo>
                  <a:lnTo>
                    <a:pt x="180" y="656"/>
                  </a:lnTo>
                  <a:lnTo>
                    <a:pt x="170" y="624"/>
                  </a:lnTo>
                  <a:lnTo>
                    <a:pt x="159" y="591"/>
                  </a:lnTo>
                  <a:lnTo>
                    <a:pt x="149" y="555"/>
                  </a:lnTo>
                  <a:lnTo>
                    <a:pt x="137" y="520"/>
                  </a:lnTo>
                  <a:lnTo>
                    <a:pt x="126" y="485"/>
                  </a:lnTo>
                  <a:lnTo>
                    <a:pt x="115" y="449"/>
                  </a:lnTo>
                  <a:lnTo>
                    <a:pt x="105" y="412"/>
                  </a:lnTo>
                  <a:lnTo>
                    <a:pt x="94" y="379"/>
                  </a:lnTo>
                  <a:lnTo>
                    <a:pt x="85" y="344"/>
                  </a:lnTo>
                  <a:lnTo>
                    <a:pt x="75" y="313"/>
                  </a:lnTo>
                  <a:lnTo>
                    <a:pt x="68" y="282"/>
                  </a:lnTo>
                  <a:lnTo>
                    <a:pt x="60" y="255"/>
                  </a:lnTo>
                  <a:lnTo>
                    <a:pt x="53" y="228"/>
                  </a:lnTo>
                  <a:lnTo>
                    <a:pt x="47" y="206"/>
                  </a:lnTo>
                  <a:lnTo>
                    <a:pt x="44" y="186"/>
                  </a:lnTo>
                  <a:lnTo>
                    <a:pt x="39" y="171"/>
                  </a:lnTo>
                  <a:lnTo>
                    <a:pt x="36" y="159"/>
                  </a:lnTo>
                  <a:lnTo>
                    <a:pt x="34" y="151"/>
                  </a:lnTo>
                  <a:lnTo>
                    <a:pt x="33" y="145"/>
                  </a:lnTo>
                  <a:lnTo>
                    <a:pt x="31" y="140"/>
                  </a:lnTo>
                  <a:lnTo>
                    <a:pt x="31" y="137"/>
                  </a:lnTo>
                  <a:lnTo>
                    <a:pt x="29" y="133"/>
                  </a:lnTo>
                  <a:lnTo>
                    <a:pt x="29" y="128"/>
                  </a:lnTo>
                  <a:lnTo>
                    <a:pt x="27" y="124"/>
                  </a:lnTo>
                  <a:lnTo>
                    <a:pt x="26" y="117"/>
                  </a:lnTo>
                  <a:lnTo>
                    <a:pt x="24" y="109"/>
                  </a:lnTo>
                  <a:lnTo>
                    <a:pt x="22" y="95"/>
                  </a:lnTo>
                  <a:lnTo>
                    <a:pt x="17" y="80"/>
                  </a:lnTo>
                  <a:lnTo>
                    <a:pt x="13" y="59"/>
                  </a:lnTo>
                  <a:lnTo>
                    <a:pt x="6" y="33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49760" y="2031840"/>
            <a:ext cx="4060800" cy="3786480"/>
            <a:chOff x="3749760" y="2031840"/>
            <a:chExt cx="4060800" cy="3786480"/>
          </a:xfrm>
        </p:grpSpPr>
        <p:sp>
          <p:nvSpPr>
            <p:cNvPr id="399" name=""/>
            <p:cNvSpPr/>
            <p:nvPr/>
          </p:nvSpPr>
          <p:spPr>
            <a:xfrm>
              <a:off x="5032440" y="4724280"/>
              <a:ext cx="2778120" cy="1094040"/>
            </a:xfrm>
            <a:custGeom>
              <a:avLst/>
              <a:gdLst/>
              <a:ahLst/>
              <a:rect l="l" t="t" r="r" b="b"/>
              <a:pathLst>
                <a:path w="1750" h="689">
                  <a:moveTo>
                    <a:pt x="0" y="0"/>
                  </a:moveTo>
                  <a:lnTo>
                    <a:pt x="13" y="14"/>
                  </a:lnTo>
                  <a:lnTo>
                    <a:pt x="24" y="24"/>
                  </a:lnTo>
                  <a:lnTo>
                    <a:pt x="32" y="32"/>
                  </a:lnTo>
                  <a:lnTo>
                    <a:pt x="39" y="37"/>
                  </a:lnTo>
                  <a:lnTo>
                    <a:pt x="44" y="43"/>
                  </a:lnTo>
                  <a:lnTo>
                    <a:pt x="48" y="46"/>
                  </a:lnTo>
                  <a:lnTo>
                    <a:pt x="50" y="48"/>
                  </a:lnTo>
                  <a:lnTo>
                    <a:pt x="53" y="50"/>
                  </a:lnTo>
                  <a:lnTo>
                    <a:pt x="54" y="52"/>
                  </a:lnTo>
                  <a:lnTo>
                    <a:pt x="56" y="54"/>
                  </a:lnTo>
                  <a:lnTo>
                    <a:pt x="58" y="55"/>
                  </a:lnTo>
                  <a:lnTo>
                    <a:pt x="60" y="56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72" y="67"/>
                  </a:lnTo>
                  <a:lnTo>
                    <a:pt x="78" y="72"/>
                  </a:lnTo>
                  <a:lnTo>
                    <a:pt x="85" y="81"/>
                  </a:lnTo>
                  <a:lnTo>
                    <a:pt x="95" y="88"/>
                  </a:lnTo>
                  <a:lnTo>
                    <a:pt x="106" y="98"/>
                  </a:lnTo>
                  <a:lnTo>
                    <a:pt x="118" y="107"/>
                  </a:lnTo>
                  <a:lnTo>
                    <a:pt x="130" y="118"/>
                  </a:lnTo>
                  <a:lnTo>
                    <a:pt x="144" y="128"/>
                  </a:lnTo>
                  <a:lnTo>
                    <a:pt x="159" y="140"/>
                  </a:lnTo>
                  <a:lnTo>
                    <a:pt x="174" y="150"/>
                  </a:lnTo>
                  <a:lnTo>
                    <a:pt x="189" y="161"/>
                  </a:lnTo>
                  <a:lnTo>
                    <a:pt x="204" y="173"/>
                  </a:lnTo>
                  <a:lnTo>
                    <a:pt x="219" y="184"/>
                  </a:lnTo>
                  <a:lnTo>
                    <a:pt x="234" y="194"/>
                  </a:lnTo>
                  <a:lnTo>
                    <a:pt x="248" y="206"/>
                  </a:lnTo>
                  <a:lnTo>
                    <a:pt x="263" y="216"/>
                  </a:lnTo>
                  <a:lnTo>
                    <a:pt x="276" y="225"/>
                  </a:lnTo>
                  <a:lnTo>
                    <a:pt x="290" y="233"/>
                  </a:lnTo>
                  <a:lnTo>
                    <a:pt x="303" y="242"/>
                  </a:lnTo>
                  <a:lnTo>
                    <a:pt x="318" y="252"/>
                  </a:lnTo>
                  <a:lnTo>
                    <a:pt x="334" y="263"/>
                  </a:lnTo>
                  <a:lnTo>
                    <a:pt x="352" y="272"/>
                  </a:lnTo>
                  <a:lnTo>
                    <a:pt x="370" y="284"/>
                  </a:lnTo>
                  <a:lnTo>
                    <a:pt x="389" y="295"/>
                  </a:lnTo>
                  <a:lnTo>
                    <a:pt x="409" y="306"/>
                  </a:lnTo>
                  <a:lnTo>
                    <a:pt x="430" y="317"/>
                  </a:lnTo>
                  <a:lnTo>
                    <a:pt x="448" y="328"/>
                  </a:lnTo>
                  <a:lnTo>
                    <a:pt x="469" y="339"/>
                  </a:lnTo>
                  <a:lnTo>
                    <a:pt x="488" y="350"/>
                  </a:lnTo>
                  <a:lnTo>
                    <a:pt x="508" y="359"/>
                  </a:lnTo>
                  <a:lnTo>
                    <a:pt x="526" y="369"/>
                  </a:lnTo>
                  <a:lnTo>
                    <a:pt x="544" y="378"/>
                  </a:lnTo>
                  <a:lnTo>
                    <a:pt x="560" y="385"/>
                  </a:lnTo>
                  <a:lnTo>
                    <a:pt x="576" y="392"/>
                  </a:lnTo>
                  <a:lnTo>
                    <a:pt x="591" y="400"/>
                  </a:lnTo>
                  <a:lnTo>
                    <a:pt x="611" y="407"/>
                  </a:lnTo>
                  <a:lnTo>
                    <a:pt x="633" y="416"/>
                  </a:lnTo>
                  <a:lnTo>
                    <a:pt x="659" y="425"/>
                  </a:lnTo>
                  <a:lnTo>
                    <a:pt x="686" y="436"/>
                  </a:lnTo>
                  <a:lnTo>
                    <a:pt x="716" y="445"/>
                  </a:lnTo>
                  <a:lnTo>
                    <a:pt x="747" y="456"/>
                  </a:lnTo>
                  <a:lnTo>
                    <a:pt x="781" y="466"/>
                  </a:lnTo>
                  <a:lnTo>
                    <a:pt x="814" y="477"/>
                  </a:lnTo>
                  <a:lnTo>
                    <a:pt x="849" y="488"/>
                  </a:lnTo>
                  <a:lnTo>
                    <a:pt x="883" y="500"/>
                  </a:lnTo>
                  <a:lnTo>
                    <a:pt x="919" y="509"/>
                  </a:lnTo>
                  <a:lnTo>
                    <a:pt x="952" y="519"/>
                  </a:lnTo>
                  <a:lnTo>
                    <a:pt x="986" y="528"/>
                  </a:lnTo>
                  <a:lnTo>
                    <a:pt x="1019" y="537"/>
                  </a:lnTo>
                  <a:lnTo>
                    <a:pt x="1050" y="544"/>
                  </a:lnTo>
                  <a:lnTo>
                    <a:pt x="1081" y="554"/>
                  </a:lnTo>
                  <a:lnTo>
                    <a:pt x="1114" y="561"/>
                  </a:lnTo>
                  <a:lnTo>
                    <a:pt x="1148" y="571"/>
                  </a:lnTo>
                  <a:lnTo>
                    <a:pt x="1184" y="578"/>
                  </a:lnTo>
                  <a:lnTo>
                    <a:pt x="1219" y="588"/>
                  </a:lnTo>
                  <a:lnTo>
                    <a:pt x="1256" y="595"/>
                  </a:lnTo>
                  <a:lnTo>
                    <a:pt x="1292" y="604"/>
                  </a:lnTo>
                  <a:lnTo>
                    <a:pt x="1330" y="611"/>
                  </a:lnTo>
                  <a:lnTo>
                    <a:pt x="1364" y="619"/>
                  </a:lnTo>
                  <a:lnTo>
                    <a:pt x="1399" y="627"/>
                  </a:lnTo>
                  <a:lnTo>
                    <a:pt x="1431" y="634"/>
                  </a:lnTo>
                  <a:lnTo>
                    <a:pt x="1463" y="640"/>
                  </a:lnTo>
                  <a:lnTo>
                    <a:pt x="1491" y="646"/>
                  </a:lnTo>
                  <a:lnTo>
                    <a:pt x="1517" y="651"/>
                  </a:lnTo>
                  <a:lnTo>
                    <a:pt x="1540" y="655"/>
                  </a:lnTo>
                  <a:lnTo>
                    <a:pt x="1560" y="658"/>
                  </a:lnTo>
                  <a:lnTo>
                    <a:pt x="1575" y="661"/>
                  </a:lnTo>
                  <a:lnTo>
                    <a:pt x="1586" y="663"/>
                  </a:lnTo>
                  <a:lnTo>
                    <a:pt x="1595" y="665"/>
                  </a:lnTo>
                  <a:lnTo>
                    <a:pt x="1602" y="665"/>
                  </a:lnTo>
                  <a:lnTo>
                    <a:pt x="1606" y="667"/>
                  </a:lnTo>
                  <a:lnTo>
                    <a:pt x="1611" y="667"/>
                  </a:lnTo>
                  <a:lnTo>
                    <a:pt x="1615" y="668"/>
                  </a:lnTo>
                  <a:lnTo>
                    <a:pt x="1619" y="668"/>
                  </a:lnTo>
                  <a:lnTo>
                    <a:pt x="1623" y="669"/>
                  </a:lnTo>
                  <a:lnTo>
                    <a:pt x="1630" y="670"/>
                  </a:lnTo>
                  <a:lnTo>
                    <a:pt x="1640" y="672"/>
                  </a:lnTo>
                  <a:lnTo>
                    <a:pt x="1653" y="673"/>
                  </a:lnTo>
                  <a:lnTo>
                    <a:pt x="1668" y="677"/>
                  </a:lnTo>
                  <a:lnTo>
                    <a:pt x="1690" y="679"/>
                  </a:lnTo>
                  <a:lnTo>
                    <a:pt x="1716" y="684"/>
                  </a:lnTo>
                  <a:lnTo>
                    <a:pt x="1749" y="688"/>
                  </a:lnTo>
                </a:path>
              </a:pathLst>
            </a:custGeom>
            <a:noFill/>
            <a:ln w="5724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49760" y="2031840"/>
              <a:ext cx="1284120" cy="2694240"/>
            </a:xfrm>
            <a:custGeom>
              <a:avLst/>
              <a:gdLst/>
              <a:ahLst/>
              <a:rect l="l" t="t" r="r" b="b"/>
              <a:pathLst>
                <a:path w="809" h="1697">
                  <a:moveTo>
                    <a:pt x="808" y="1696"/>
                  </a:moveTo>
                  <a:lnTo>
                    <a:pt x="793" y="1684"/>
                  </a:lnTo>
                  <a:lnTo>
                    <a:pt x="783" y="1674"/>
                  </a:lnTo>
                  <a:lnTo>
                    <a:pt x="774" y="1666"/>
                  </a:lnTo>
                  <a:lnTo>
                    <a:pt x="768" y="1660"/>
                  </a:lnTo>
                  <a:lnTo>
                    <a:pt x="762" y="1655"/>
                  </a:lnTo>
                  <a:lnTo>
                    <a:pt x="758" y="1652"/>
                  </a:lnTo>
                  <a:lnTo>
                    <a:pt x="756" y="1650"/>
                  </a:lnTo>
                  <a:lnTo>
                    <a:pt x="754" y="1646"/>
                  </a:lnTo>
                  <a:lnTo>
                    <a:pt x="752" y="1646"/>
                  </a:lnTo>
                  <a:lnTo>
                    <a:pt x="750" y="1644"/>
                  </a:lnTo>
                  <a:lnTo>
                    <a:pt x="748" y="1642"/>
                  </a:lnTo>
                  <a:lnTo>
                    <a:pt x="747" y="1640"/>
                  </a:lnTo>
                  <a:lnTo>
                    <a:pt x="744" y="1638"/>
                  </a:lnTo>
                  <a:lnTo>
                    <a:pt x="741" y="1635"/>
                  </a:lnTo>
                  <a:lnTo>
                    <a:pt x="736" y="1630"/>
                  </a:lnTo>
                  <a:lnTo>
                    <a:pt x="730" y="1623"/>
                  </a:lnTo>
                  <a:lnTo>
                    <a:pt x="722" y="1616"/>
                  </a:lnTo>
                  <a:lnTo>
                    <a:pt x="713" y="1608"/>
                  </a:lnTo>
                  <a:lnTo>
                    <a:pt x="702" y="1598"/>
                  </a:lnTo>
                  <a:lnTo>
                    <a:pt x="693" y="1586"/>
                  </a:lnTo>
                  <a:lnTo>
                    <a:pt x="681" y="1575"/>
                  </a:lnTo>
                  <a:lnTo>
                    <a:pt x="670" y="1562"/>
                  </a:lnTo>
                  <a:lnTo>
                    <a:pt x="657" y="1549"/>
                  </a:lnTo>
                  <a:lnTo>
                    <a:pt x="646" y="1534"/>
                  </a:lnTo>
                  <a:lnTo>
                    <a:pt x="633" y="1521"/>
                  </a:lnTo>
                  <a:lnTo>
                    <a:pt x="621" y="1506"/>
                  </a:lnTo>
                  <a:lnTo>
                    <a:pt x="608" y="1492"/>
                  </a:lnTo>
                  <a:lnTo>
                    <a:pt x="597" y="1477"/>
                  </a:lnTo>
                  <a:lnTo>
                    <a:pt x="585" y="1464"/>
                  </a:lnTo>
                  <a:lnTo>
                    <a:pt x="574" y="1450"/>
                  </a:lnTo>
                  <a:lnTo>
                    <a:pt x="564" y="1437"/>
                  </a:lnTo>
                  <a:lnTo>
                    <a:pt x="554" y="1424"/>
                  </a:lnTo>
                  <a:lnTo>
                    <a:pt x="544" y="1412"/>
                  </a:lnTo>
                  <a:lnTo>
                    <a:pt x="534" y="1398"/>
                  </a:lnTo>
                  <a:lnTo>
                    <a:pt x="522" y="1382"/>
                  </a:lnTo>
                  <a:lnTo>
                    <a:pt x="511" y="1365"/>
                  </a:lnTo>
                  <a:lnTo>
                    <a:pt x="498" y="1348"/>
                  </a:lnTo>
                  <a:lnTo>
                    <a:pt x="486" y="1330"/>
                  </a:lnTo>
                  <a:lnTo>
                    <a:pt x="473" y="1311"/>
                  </a:lnTo>
                  <a:lnTo>
                    <a:pt x="462" y="1290"/>
                  </a:lnTo>
                  <a:lnTo>
                    <a:pt x="448" y="1272"/>
                  </a:lnTo>
                  <a:lnTo>
                    <a:pt x="436" y="1252"/>
                  </a:lnTo>
                  <a:lnTo>
                    <a:pt x="424" y="1233"/>
                  </a:lnTo>
                  <a:lnTo>
                    <a:pt x="413" y="1214"/>
                  </a:lnTo>
                  <a:lnTo>
                    <a:pt x="402" y="1197"/>
                  </a:lnTo>
                  <a:lnTo>
                    <a:pt x="393" y="1180"/>
                  </a:lnTo>
                  <a:lnTo>
                    <a:pt x="384" y="1164"/>
                  </a:lnTo>
                  <a:lnTo>
                    <a:pt x="376" y="1148"/>
                  </a:lnTo>
                  <a:lnTo>
                    <a:pt x="367" y="1134"/>
                  </a:lnTo>
                  <a:lnTo>
                    <a:pt x="358" y="1115"/>
                  </a:lnTo>
                  <a:lnTo>
                    <a:pt x="347" y="1094"/>
                  </a:lnTo>
                  <a:lnTo>
                    <a:pt x="337" y="1068"/>
                  </a:lnTo>
                  <a:lnTo>
                    <a:pt x="325" y="1041"/>
                  </a:lnTo>
                  <a:lnTo>
                    <a:pt x="313" y="1012"/>
                  </a:lnTo>
                  <a:lnTo>
                    <a:pt x="300" y="982"/>
                  </a:lnTo>
                  <a:lnTo>
                    <a:pt x="288" y="950"/>
                  </a:lnTo>
                  <a:lnTo>
                    <a:pt x="276" y="917"/>
                  </a:lnTo>
                  <a:lnTo>
                    <a:pt x="262" y="883"/>
                  </a:lnTo>
                  <a:lnTo>
                    <a:pt x="249" y="850"/>
                  </a:lnTo>
                  <a:lnTo>
                    <a:pt x="237" y="815"/>
                  </a:lnTo>
                  <a:lnTo>
                    <a:pt x="224" y="783"/>
                  </a:lnTo>
                  <a:lnTo>
                    <a:pt x="212" y="750"/>
                  </a:lnTo>
                  <a:lnTo>
                    <a:pt x="201" y="718"/>
                  </a:lnTo>
                  <a:lnTo>
                    <a:pt x="192" y="687"/>
                  </a:lnTo>
                  <a:lnTo>
                    <a:pt x="181" y="657"/>
                  </a:lnTo>
                  <a:lnTo>
                    <a:pt x="171" y="624"/>
                  </a:lnTo>
                  <a:lnTo>
                    <a:pt x="159" y="591"/>
                  </a:lnTo>
                  <a:lnTo>
                    <a:pt x="149" y="556"/>
                  </a:lnTo>
                  <a:lnTo>
                    <a:pt x="138" y="521"/>
                  </a:lnTo>
                  <a:lnTo>
                    <a:pt x="126" y="485"/>
                  </a:lnTo>
                  <a:lnTo>
                    <a:pt x="115" y="450"/>
                  </a:lnTo>
                  <a:lnTo>
                    <a:pt x="106" y="413"/>
                  </a:lnTo>
                  <a:lnTo>
                    <a:pt x="94" y="379"/>
                  </a:lnTo>
                  <a:lnTo>
                    <a:pt x="85" y="345"/>
                  </a:lnTo>
                  <a:lnTo>
                    <a:pt x="76" y="313"/>
                  </a:lnTo>
                  <a:lnTo>
                    <a:pt x="68" y="282"/>
                  </a:lnTo>
                  <a:lnTo>
                    <a:pt x="60" y="255"/>
                  </a:lnTo>
                  <a:lnTo>
                    <a:pt x="53" y="229"/>
                  </a:lnTo>
                  <a:lnTo>
                    <a:pt x="48" y="206"/>
                  </a:lnTo>
                  <a:lnTo>
                    <a:pt x="43" y="186"/>
                  </a:lnTo>
                  <a:lnTo>
                    <a:pt x="39" y="171"/>
                  </a:lnTo>
                  <a:lnTo>
                    <a:pt x="36" y="160"/>
                  </a:lnTo>
                  <a:lnTo>
                    <a:pt x="34" y="152"/>
                  </a:lnTo>
                  <a:lnTo>
                    <a:pt x="33" y="145"/>
                  </a:lnTo>
                  <a:lnTo>
                    <a:pt x="32" y="141"/>
                  </a:lnTo>
                  <a:lnTo>
                    <a:pt x="31" y="137"/>
                  </a:lnTo>
                  <a:lnTo>
                    <a:pt x="30" y="133"/>
                  </a:lnTo>
                  <a:lnTo>
                    <a:pt x="30" y="129"/>
                  </a:lnTo>
                  <a:lnTo>
                    <a:pt x="28" y="124"/>
                  </a:lnTo>
                  <a:lnTo>
                    <a:pt x="26" y="118"/>
                  </a:lnTo>
                  <a:lnTo>
                    <a:pt x="23" y="109"/>
                  </a:lnTo>
                  <a:lnTo>
                    <a:pt x="22" y="96"/>
                  </a:lnTo>
                  <a:lnTo>
                    <a:pt x="17" y="80"/>
                  </a:lnTo>
                  <a:lnTo>
                    <a:pt x="13" y="59"/>
                  </a:lnTo>
                  <a:lnTo>
                    <a:pt x="6" y="34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597640" y="2073240"/>
            <a:ext cx="4321080" cy="2087640"/>
            <a:chOff x="5597640" y="2073240"/>
            <a:chExt cx="4321080" cy="2087640"/>
          </a:xfrm>
        </p:grpSpPr>
        <p:sp>
          <p:nvSpPr>
            <p:cNvPr id="402" name=""/>
            <p:cNvSpPr/>
            <p:nvPr/>
          </p:nvSpPr>
          <p:spPr>
            <a:xfrm>
              <a:off x="5597640" y="2073240"/>
              <a:ext cx="4321080" cy="2087640"/>
            </a:xfrm>
            <a:custGeom>
              <a:avLst/>
              <a:gdLst/>
              <a:ahLst/>
              <a:rect l="l" t="t" r="r" b="b"/>
              <a:pathLst>
                <a:path w="2722" h="1315">
                  <a:moveTo>
                    <a:pt x="719" y="1092"/>
                  </a:moveTo>
                  <a:lnTo>
                    <a:pt x="894" y="1129"/>
                  </a:lnTo>
                  <a:lnTo>
                    <a:pt x="1072" y="1152"/>
                  </a:lnTo>
                  <a:lnTo>
                    <a:pt x="1249" y="1164"/>
                  </a:lnTo>
                  <a:lnTo>
                    <a:pt x="1425" y="1164"/>
                  </a:lnTo>
                  <a:lnTo>
                    <a:pt x="1596" y="1155"/>
                  </a:lnTo>
                  <a:lnTo>
                    <a:pt x="1763" y="1135"/>
                  </a:lnTo>
                  <a:lnTo>
                    <a:pt x="1921" y="1107"/>
                  </a:lnTo>
                  <a:lnTo>
                    <a:pt x="2072" y="1070"/>
                  </a:lnTo>
                  <a:lnTo>
                    <a:pt x="2210" y="1026"/>
                  </a:lnTo>
                  <a:lnTo>
                    <a:pt x="2335" y="976"/>
                  </a:lnTo>
                  <a:lnTo>
                    <a:pt x="2446" y="921"/>
                  </a:lnTo>
                  <a:lnTo>
                    <a:pt x="2542" y="860"/>
                  </a:lnTo>
                  <a:lnTo>
                    <a:pt x="2618" y="797"/>
                  </a:lnTo>
                  <a:lnTo>
                    <a:pt x="2674" y="729"/>
                  </a:lnTo>
                  <a:lnTo>
                    <a:pt x="2710" y="660"/>
                  </a:lnTo>
                  <a:lnTo>
                    <a:pt x="2721" y="588"/>
                  </a:lnTo>
                  <a:lnTo>
                    <a:pt x="2688" y="450"/>
                  </a:lnTo>
                  <a:lnTo>
                    <a:pt x="2602" y="330"/>
                  </a:lnTo>
                  <a:lnTo>
                    <a:pt x="2468" y="228"/>
                  </a:lnTo>
                  <a:lnTo>
                    <a:pt x="2298" y="146"/>
                  </a:lnTo>
                  <a:lnTo>
                    <a:pt x="2094" y="82"/>
                  </a:lnTo>
                  <a:lnTo>
                    <a:pt x="1869" y="37"/>
                  </a:lnTo>
                  <a:lnTo>
                    <a:pt x="1627" y="10"/>
                  </a:lnTo>
                  <a:lnTo>
                    <a:pt x="1378" y="0"/>
                  </a:lnTo>
                  <a:lnTo>
                    <a:pt x="1126" y="10"/>
                  </a:lnTo>
                  <a:lnTo>
                    <a:pt x="883" y="37"/>
                  </a:lnTo>
                  <a:lnTo>
                    <a:pt x="654" y="81"/>
                  </a:lnTo>
                  <a:lnTo>
                    <a:pt x="448" y="142"/>
                  </a:lnTo>
                  <a:lnTo>
                    <a:pt x="272" y="222"/>
                  </a:lnTo>
                  <a:lnTo>
                    <a:pt x="133" y="318"/>
                  </a:lnTo>
                  <a:lnTo>
                    <a:pt x="40" y="430"/>
                  </a:lnTo>
                  <a:lnTo>
                    <a:pt x="0" y="560"/>
                  </a:lnTo>
                  <a:lnTo>
                    <a:pt x="0" y="593"/>
                  </a:lnTo>
                  <a:lnTo>
                    <a:pt x="4" y="626"/>
                  </a:lnTo>
                  <a:lnTo>
                    <a:pt x="14" y="660"/>
                  </a:lnTo>
                  <a:lnTo>
                    <a:pt x="28" y="691"/>
                  </a:lnTo>
                  <a:lnTo>
                    <a:pt x="46" y="724"/>
                  </a:lnTo>
                  <a:lnTo>
                    <a:pt x="68" y="756"/>
                  </a:lnTo>
                  <a:lnTo>
                    <a:pt x="94" y="788"/>
                  </a:lnTo>
                  <a:lnTo>
                    <a:pt x="124" y="817"/>
                  </a:lnTo>
                  <a:lnTo>
                    <a:pt x="156" y="847"/>
                  </a:lnTo>
                  <a:lnTo>
                    <a:pt x="191" y="876"/>
                  </a:lnTo>
                  <a:lnTo>
                    <a:pt x="229" y="904"/>
                  </a:lnTo>
                  <a:lnTo>
                    <a:pt x="271" y="929"/>
                  </a:lnTo>
                  <a:lnTo>
                    <a:pt x="313" y="954"/>
                  </a:lnTo>
                  <a:lnTo>
                    <a:pt x="360" y="977"/>
                  </a:lnTo>
                  <a:lnTo>
                    <a:pt x="407" y="998"/>
                  </a:lnTo>
                  <a:lnTo>
                    <a:pt x="458" y="1016"/>
                  </a:lnTo>
                  <a:lnTo>
                    <a:pt x="293" y="1152"/>
                  </a:lnTo>
                  <a:lnTo>
                    <a:pt x="210" y="1088"/>
                  </a:lnTo>
                  <a:lnTo>
                    <a:pt x="126" y="1314"/>
                  </a:lnTo>
                  <a:lnTo>
                    <a:pt x="502" y="1314"/>
                  </a:lnTo>
                  <a:lnTo>
                    <a:pt x="385" y="1224"/>
                  </a:lnTo>
                  <a:lnTo>
                    <a:pt x="719" y="1092"/>
                  </a:lnTo>
                  <a:lnTo>
                    <a:pt x="719" y="1092"/>
                  </a:lnTo>
                </a:path>
              </a:pathLst>
            </a:custGeom>
            <a:solidFill>
              <a:srgbClr val="ffffc2"/>
            </a:solidFill>
            <a:ln w="936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97680" y="2583000"/>
              <a:ext cx="33336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48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 u</a:t>
              </a:r>
              <a:r>
                <a:rPr b="0" i="1" lang="en-GB" sz="48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,...  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6720" y="1676520"/>
            <a:ext cx="2408040" cy="2234880"/>
            <a:chOff x="3276720" y="1676520"/>
            <a:chExt cx="2408040" cy="2234880"/>
          </a:xfrm>
        </p:grpSpPr>
        <p:sp>
          <p:nvSpPr>
            <p:cNvPr id="405" name=""/>
            <p:cNvSpPr/>
            <p:nvPr/>
          </p:nvSpPr>
          <p:spPr>
            <a:xfrm>
              <a:off x="3276720" y="1676520"/>
              <a:ext cx="2265840" cy="2209320"/>
            </a:xfrm>
            <a:custGeom>
              <a:avLst/>
              <a:gdLst/>
              <a:ahLst/>
              <a:rect l="l" t="t" r="r" b="b"/>
              <a:pathLst>
                <a:path w="1234" h="1214">
                  <a:moveTo>
                    <a:pt x="389" y="1213"/>
                  </a:moveTo>
                  <a:lnTo>
                    <a:pt x="389" y="1213"/>
                  </a:lnTo>
                  <a:lnTo>
                    <a:pt x="1122" y="678"/>
                  </a:lnTo>
                  <a:lnTo>
                    <a:pt x="1233" y="830"/>
                  </a:lnTo>
                  <a:lnTo>
                    <a:pt x="1221" y="205"/>
                  </a:lnTo>
                  <a:lnTo>
                    <a:pt x="627" y="0"/>
                  </a:lnTo>
                  <a:lnTo>
                    <a:pt x="732" y="145"/>
                  </a:lnTo>
                  <a:lnTo>
                    <a:pt x="0" y="679"/>
                  </a:lnTo>
                  <a:lnTo>
                    <a:pt x="389" y="1213"/>
                  </a:lnTo>
                  <a:lnTo>
                    <a:pt x="389" y="1213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13500000"/>
            </a:gradFill>
            <a:ln w="31680">
              <a:solidFill>
                <a:srgbClr val="ffff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9440000">
              <a:off x="3431160" y="2282760"/>
              <a:ext cx="213120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</a:rPr>
                <a:t>aumento en bienest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5778360" y="4881600"/>
            <a:ext cx="331920" cy="2919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94536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Un optimo de bienestar social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1878840"/>
            <a:ext cx="5181480" cy="5889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Suponemos que el bienestar es </a:t>
            </a:r>
            <a:r>
              <a:rPr b="0" i="1" lang="en-GB" sz="3600" spc="-1" strike="noStrike">
                <a:solidFill>
                  <a:srgbClr val="006600"/>
                </a:solidFill>
                <a:latin typeface="Times New Roman"/>
              </a:rPr>
              <a:t>individuali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…</a:t>
            </a: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en el sentido que está referido a las utilidades individu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Tambien suponemos que es Paretiano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…</a:t>
            </a: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se incrementa en cada argu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786880" y="7085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604800" y="3805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emas en el análisis de la FB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1905120"/>
            <a:ext cx="10058400" cy="5867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698480" indent="-1698480">
              <a:spcBef>
                <a:spcPts val="3376"/>
              </a:spcBef>
              <a:buClr>
                <a:srgbClr val="ff0000"/>
              </a:buClr>
              <a:buSzPct val="70000"/>
              <a:buFont typeface="Marlett" charset="2"/>
              <a:buChar char="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De donde viene la FB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98480" indent="-1698480">
              <a:spcBef>
                <a:spcPts val="3376"/>
              </a:spcBef>
              <a:buClr>
                <a:srgbClr val="ff0000"/>
              </a:buClr>
              <a:buSzPct val="70000"/>
              <a:buFont typeface="Marlett" charset="2"/>
              <a:buChar char="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Cuáles debieran ser sus otras característic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98480" indent="-1698480">
              <a:spcBef>
                <a:spcPts val="3376"/>
              </a:spcBef>
              <a:buClr>
                <a:srgbClr val="ff0000"/>
              </a:buClr>
              <a:buSzPct val="70000"/>
              <a:buFont typeface="Marlett" charset="2"/>
              <a:buChar char="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Cómo se relaciona con las utilidad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98480" indent="-1698480">
              <a:spcBef>
                <a:spcPts val="3376"/>
              </a:spcBef>
              <a:buClr>
                <a:srgbClr val="ff0000"/>
              </a:buClr>
              <a:buSzPct val="70000"/>
              <a:buFont typeface="Marlett" charset="2"/>
              <a:buChar char="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Cuál es su relación con el ingres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función de bienestar social individualist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3360" y="1634760"/>
            <a:ext cx="9931680" cy="659448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8440" y="2184120"/>
            <a:ext cx="5765760" cy="18288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...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057400"/>
            <a:ext cx="609588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905120" y="2895480"/>
            <a:ext cx="5681520" cy="4876200"/>
            <a:chOff x="1905120" y="2895480"/>
            <a:chExt cx="5681520" cy="4876200"/>
          </a:xfrm>
        </p:grpSpPr>
        <p:sp>
          <p:nvSpPr>
            <p:cNvPr id="418" name=""/>
            <p:cNvSpPr/>
            <p:nvPr/>
          </p:nvSpPr>
          <p:spPr>
            <a:xfrm flipH="1" flipV="1">
              <a:off x="1905120" y="3039120"/>
              <a:ext cx="2098800" cy="353592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3024000" y="3045600"/>
              <a:ext cx="1111320" cy="349092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3618000" y="2895480"/>
              <a:ext cx="741600" cy="377424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03880" y="6494040"/>
              <a:ext cx="4082760" cy="1277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80"/>
                  </a:solidFill>
                  <a:latin typeface="Times New Roman"/>
                </a:rPr>
                <a:t>definida en el espacio de utilidad de los niveles individuales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276720" y="6553080"/>
            <a:ext cx="4082760" cy="1219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1" i="1" lang="en-GB" sz="3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80"/>
                </a:solidFill>
                <a:latin typeface="Times New Roman"/>
              </a:rPr>
              <a:t>en los perfiles de los ordenamie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4440" y="3720960"/>
            <a:ext cx="2761920" cy="4050720"/>
            <a:chOff x="514440" y="3720960"/>
            <a:chExt cx="2761920" cy="4050720"/>
          </a:xfrm>
        </p:grpSpPr>
        <p:sp>
          <p:nvSpPr>
            <p:cNvPr id="424" name=""/>
            <p:cNvSpPr/>
            <p:nvPr/>
          </p:nvSpPr>
          <p:spPr>
            <a:xfrm flipH="1" flipV="1">
              <a:off x="899640" y="3720960"/>
              <a:ext cx="816480" cy="2513520"/>
            </a:xfrm>
            <a:prstGeom prst="line">
              <a:avLst/>
            </a:prstGeom>
            <a:ln w="4752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4440" y="6308640"/>
              <a:ext cx="2761920" cy="14630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33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ff0080"/>
                  </a:solidFill>
                  <a:latin typeface="Times New Roman"/>
                </a:rPr>
                <a:t>Una función ordin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210280" y="2862360"/>
            <a:ext cx="44622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Brush738 BT"/>
              </a:rPr>
              <a:t>Pero de donde viene W...?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572000" y="2286000"/>
            <a:ext cx="5485680" cy="5486400"/>
            <a:chOff x="4572000" y="2286000"/>
            <a:chExt cx="5485680" cy="5486400"/>
          </a:xfrm>
        </p:grpSpPr>
        <p:sp>
          <p:nvSpPr>
            <p:cNvPr id="428" name=""/>
            <p:cNvSpPr/>
            <p:nvPr/>
          </p:nvSpPr>
          <p:spPr>
            <a:xfrm>
              <a:off x="4930920" y="5900760"/>
              <a:ext cx="4970160" cy="942840"/>
            </a:xfrm>
            <a:custGeom>
              <a:avLst/>
              <a:gdLst/>
              <a:ahLst/>
              <a:rect l="l" t="t" r="r" b="b"/>
              <a:pathLst>
                <a:path w="3015" h="594">
                  <a:moveTo>
                    <a:pt x="0" y="582"/>
                  </a:moveTo>
                  <a:lnTo>
                    <a:pt x="827" y="21"/>
                  </a:lnTo>
                  <a:lnTo>
                    <a:pt x="2881" y="0"/>
                  </a:lnTo>
                  <a:lnTo>
                    <a:pt x="3014" y="593"/>
                  </a:lnTo>
                  <a:lnTo>
                    <a:pt x="0" y="572"/>
                  </a:lnTo>
                  <a:lnTo>
                    <a:pt x="0" y="582"/>
                  </a:lnTo>
                  <a:lnTo>
                    <a:pt x="0" y="582"/>
                  </a:lnTo>
                </a:path>
              </a:pathLst>
            </a:custGeom>
            <a:solidFill>
              <a:srgbClr val="810000"/>
            </a:solidFill>
            <a:ln w="19080">
              <a:solidFill>
                <a:srgbClr val="8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572000" y="2286000"/>
              <a:ext cx="5485680" cy="5486400"/>
              <a:chOff x="4572000" y="2286000"/>
              <a:chExt cx="5485680" cy="548640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7389000" y="5898960"/>
                <a:ext cx="93960" cy="18223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360 h 1822320"/>
                  <a:gd name="textAreaBottom" fmla="*/ 1823040 h 1822320"/>
                </a:gdLst>
                <a:ahLst/>
                <a:rect l="textAreaLeft" t="textAreaTop" r="textAreaRight" b="textAreaBottom"/>
                <a:pathLst>
                  <a:path w="21600" h="417408">
                    <a:moveTo>
                      <a:pt x="0" y="0"/>
                    </a:moveTo>
                    <a:arcTo wR="0" hR="0" stAng="16200000" swAng="-5400000"/>
                    <a:lnTo>
                      <a:pt x="0" y="417408"/>
                    </a:lnTo>
                    <a:arcTo wR="0" hR="0" stAng="10800000" swAng="-5400000"/>
                    <a:lnTo>
                      <a:pt x="21600" y="41740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13720" y="7245360"/>
                <a:ext cx="1204920" cy="247320"/>
              </a:xfrm>
              <a:custGeom>
                <a:avLst/>
                <a:gdLst/>
                <a:ahLst/>
                <a:rect l="l" t="t" r="r" b="b"/>
                <a:pathLst>
                  <a:path w="731" h="156">
                    <a:moveTo>
                      <a:pt x="32" y="12"/>
                    </a:moveTo>
                    <a:lnTo>
                      <a:pt x="378" y="123"/>
                    </a:lnTo>
                    <a:lnTo>
                      <a:pt x="709" y="0"/>
                    </a:lnTo>
                    <a:lnTo>
                      <a:pt x="730" y="21"/>
                    </a:lnTo>
                    <a:lnTo>
                      <a:pt x="380" y="155"/>
                    </a:lnTo>
                    <a:lnTo>
                      <a:pt x="0" y="29"/>
                    </a:lnTo>
                    <a:lnTo>
                      <a:pt x="32" y="12"/>
                    </a:lnTo>
                    <a:lnTo>
                      <a:pt x="32" y="1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31280" y="6991200"/>
                <a:ext cx="3169800" cy="766800"/>
              </a:xfrm>
              <a:custGeom>
                <a:avLst/>
                <a:gdLst/>
                <a:ahLst/>
                <a:rect l="l" t="t" r="r" b="b"/>
                <a:pathLst>
                  <a:path w="1923" h="483">
                    <a:moveTo>
                      <a:pt x="0" y="475"/>
                    </a:moveTo>
                    <a:lnTo>
                      <a:pt x="133" y="482"/>
                    </a:lnTo>
                    <a:lnTo>
                      <a:pt x="972" y="58"/>
                    </a:lnTo>
                    <a:lnTo>
                      <a:pt x="1876" y="480"/>
                    </a:lnTo>
                    <a:lnTo>
                      <a:pt x="1922" y="464"/>
                    </a:lnTo>
                    <a:lnTo>
                      <a:pt x="978" y="0"/>
                    </a:lnTo>
                    <a:lnTo>
                      <a:pt x="0" y="475"/>
                    </a:lnTo>
                    <a:lnTo>
                      <a:pt x="0" y="475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23000" y="7661160"/>
                <a:ext cx="349200" cy="109440"/>
              </a:xfrm>
              <a:custGeom>
                <a:avLst/>
                <a:gdLst/>
                <a:ahLst/>
                <a:rect l="l" t="t" r="r" b="b"/>
                <a:pathLst>
                  <a:path w="212" h="69">
                    <a:moveTo>
                      <a:pt x="0" y="53"/>
                    </a:moveTo>
                    <a:lnTo>
                      <a:pt x="117" y="68"/>
                    </a:lnTo>
                    <a:lnTo>
                      <a:pt x="211" y="17"/>
                    </a:lnTo>
                    <a:lnTo>
                      <a:pt x="114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7383960" y="7708680"/>
                <a:ext cx="99000" cy="3168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707680" y="7657920"/>
                <a:ext cx="337680" cy="114480"/>
              </a:xfrm>
              <a:custGeom>
                <a:avLst/>
                <a:gdLst/>
                <a:ahLst/>
                <a:rect l="l" t="t" r="r" b="b"/>
                <a:pathLst>
                  <a:path w="205" h="72">
                    <a:moveTo>
                      <a:pt x="204" y="56"/>
                    </a:moveTo>
                    <a:lnTo>
                      <a:pt x="103" y="71"/>
                    </a:lnTo>
                    <a:lnTo>
                      <a:pt x="0" y="20"/>
                    </a:lnTo>
                    <a:lnTo>
                      <a:pt x="91" y="0"/>
                    </a:lnTo>
                    <a:lnTo>
                      <a:pt x="204" y="56"/>
                    </a:lnTo>
                    <a:lnTo>
                      <a:pt x="204" y="5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416720" y="2307960"/>
                <a:ext cx="37800" cy="35337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360 h 3533760"/>
                  <a:gd name="textAreaBottom" fmla="*/ 3534480 h 3533760"/>
                </a:gdLst>
                <a:ahLst/>
                <a:rect l="textAreaLeft" t="textAreaTop" r="textAreaRight" b="textAreaBottom"/>
                <a:pathLst>
                  <a:path w="21600" h="2000445">
                    <a:moveTo>
                      <a:pt x="0" y="0"/>
                    </a:moveTo>
                    <a:arcTo wR="0" hR="0" stAng="16200000" swAng="-5400000"/>
                    <a:lnTo>
                      <a:pt x="0" y="2000445"/>
                    </a:lnTo>
                    <a:arcTo wR="0" hR="0" stAng="10800000" swAng="-5400000"/>
                    <a:lnTo>
                      <a:pt x="21600" y="200044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f4f4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601520" y="2488680"/>
                <a:ext cx="5456160" cy="3354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623120" y="2503800"/>
                <a:ext cx="5434560" cy="6660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4572000" y="5803560"/>
                <a:ext cx="5485680" cy="13464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598280" y="5788440"/>
                <a:ext cx="5459400" cy="1220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7215840" y="2367720"/>
                <a:ext cx="461520" cy="160200"/>
              </a:xfrm>
              <a:prstGeom prst="roundRect">
                <a:avLst>
                  <a:gd name="adj" fmla="val 1537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7387200" y="2286000"/>
                <a:ext cx="93600" cy="54000"/>
              </a:xfrm>
              <a:prstGeom prst="roundRect">
                <a:avLst>
                  <a:gd name="adj" fmla="val 0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03440" y="7037280"/>
                <a:ext cx="1305000" cy="679320"/>
              </a:xfrm>
              <a:custGeom>
                <a:avLst/>
                <a:gdLst/>
                <a:ahLst/>
                <a:rect l="l" t="t" r="r" b="b"/>
                <a:pathLst>
                  <a:path w="792" h="428">
                    <a:moveTo>
                      <a:pt x="0" y="400"/>
                    </a:moveTo>
                    <a:lnTo>
                      <a:pt x="15" y="427"/>
                    </a:lnTo>
                    <a:lnTo>
                      <a:pt x="783" y="43"/>
                    </a:lnTo>
                    <a:lnTo>
                      <a:pt x="791" y="0"/>
                    </a:lnTo>
                    <a:lnTo>
                      <a:pt x="0" y="400"/>
                    </a:lnTo>
                    <a:lnTo>
                      <a:pt x="0" y="40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7390800" y="5930640"/>
                <a:ext cx="39600" cy="1758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360 h 1758960"/>
                  <a:gd name="textAreaBottom" fmla="*/ 1759680 h 1758960"/>
                </a:gdLst>
                <a:ahLst/>
                <a:rect l="textAreaLeft" t="textAreaTop" r="textAreaRight" b="textAreaBottom"/>
                <a:pathLst>
                  <a:path w="21600" h="950984">
                    <a:moveTo>
                      <a:pt x="0" y="0"/>
                    </a:moveTo>
                    <a:arcTo wR="0" hR="0" stAng="16200000" swAng="-5400000"/>
                    <a:lnTo>
                      <a:pt x="0" y="950984"/>
                    </a:lnTo>
                    <a:arcTo wR="0" hR="0" stAng="10800000" swAng="-5400000"/>
                    <a:lnTo>
                      <a:pt x="21600" y="95098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10600" y="7032600"/>
                <a:ext cx="1354680" cy="661680"/>
              </a:xfrm>
              <a:custGeom>
                <a:avLst/>
                <a:gdLst/>
                <a:ahLst/>
                <a:rect l="l" t="t" r="r" b="b"/>
                <a:pathLst>
                  <a:path w="822" h="417">
                    <a:moveTo>
                      <a:pt x="821" y="404"/>
                    </a:moveTo>
                    <a:lnTo>
                      <a:pt x="795" y="416"/>
                    </a:lnTo>
                    <a:lnTo>
                      <a:pt x="12" y="32"/>
                    </a:lnTo>
                    <a:lnTo>
                      <a:pt x="0" y="0"/>
                    </a:lnTo>
                    <a:lnTo>
                      <a:pt x="821" y="404"/>
                    </a:lnTo>
                    <a:lnTo>
                      <a:pt x="821" y="404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981840" y="7286400"/>
                <a:ext cx="410400" cy="144360"/>
              </a:xfrm>
              <a:custGeom>
                <a:avLst/>
                <a:gdLst/>
                <a:ahLst/>
                <a:rect l="l" t="t" r="r" b="b"/>
                <a:pathLst>
                  <a:path w="249" h="91">
                    <a:moveTo>
                      <a:pt x="8" y="0"/>
                    </a:moveTo>
                    <a:lnTo>
                      <a:pt x="11" y="0"/>
                    </a:lnTo>
                    <a:lnTo>
                      <a:pt x="248" y="74"/>
                    </a:lnTo>
                    <a:lnTo>
                      <a:pt x="246" y="90"/>
                    </a:lnTo>
                    <a:lnTo>
                      <a:pt x="0" y="1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482960" y="7286400"/>
                <a:ext cx="393840" cy="144360"/>
              </a:xfrm>
              <a:custGeom>
                <a:avLst/>
                <a:gdLst/>
                <a:ahLst/>
                <a:rect l="l" t="t" r="r" b="b"/>
                <a:pathLst>
                  <a:path w="239" h="91">
                    <a:moveTo>
                      <a:pt x="230" y="0"/>
                    </a:moveTo>
                    <a:lnTo>
                      <a:pt x="225" y="0"/>
                    </a:lnTo>
                    <a:lnTo>
                      <a:pt x="0" y="74"/>
                    </a:lnTo>
                    <a:lnTo>
                      <a:pt x="3" y="90"/>
                    </a:lnTo>
                    <a:lnTo>
                      <a:pt x="238" y="10"/>
                    </a:lnTo>
                    <a:lnTo>
                      <a:pt x="230" y="0"/>
                    </a:lnTo>
                    <a:lnTo>
                      <a:pt x="23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8" name=""/>
          <p:cNvSpPr/>
          <p:nvPr/>
        </p:nvSpPr>
        <p:spPr>
          <a:xfrm>
            <a:off x="4800600" y="2819520"/>
            <a:ext cx="487044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Brush738 BT"/>
              </a:rPr>
              <a:t>Chequearemos los dos enfoque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1:El enfoque de la igual ignoran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27080" y="1980720"/>
            <a:ext cx="9931320" cy="61452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440" y="2184120"/>
            <a:ext cx="5765760" cy="18288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...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838080" y="3486240"/>
            <a:ext cx="5716800" cy="3476520"/>
            <a:chOff x="838080" y="3486240"/>
            <a:chExt cx="5716800" cy="3476520"/>
          </a:xfrm>
        </p:grpSpPr>
        <p:sp>
          <p:nvSpPr>
            <p:cNvPr id="453" name=""/>
            <p:cNvSpPr/>
            <p:nvPr/>
          </p:nvSpPr>
          <p:spPr>
            <a:xfrm>
              <a:off x="838080" y="5791320"/>
              <a:ext cx="5716800" cy="11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ff0080"/>
                  </a:solidFill>
                  <a:latin typeface="Times New Roman"/>
                </a:rPr>
                <a:t>La función de evaluación de la Gran Lotería de la Vid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873000" y="3486240"/>
              <a:ext cx="727200" cy="2457360"/>
            </a:xfrm>
            <a:prstGeom prst="line">
              <a:avLst/>
            </a:prstGeom>
            <a:ln w="4752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649520" y="3471480"/>
            <a:ext cx="6526080" cy="3996000"/>
            <a:chOff x="1649520" y="3471480"/>
            <a:chExt cx="6526080" cy="3996000"/>
          </a:xfrm>
        </p:grpSpPr>
        <p:sp>
          <p:nvSpPr>
            <p:cNvPr id="456" name=""/>
            <p:cNvSpPr/>
            <p:nvPr/>
          </p:nvSpPr>
          <p:spPr>
            <a:xfrm>
              <a:off x="2457360" y="5273640"/>
              <a:ext cx="571824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000080"/>
                  </a:solidFill>
                  <a:latin typeface="Times New Roman"/>
                </a:rPr>
                <a:t>el premio que obtendría si me fuera asignada la identidad 1,2,3,... en la Gran Lotería de la Vida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1649520" y="3471480"/>
              <a:ext cx="1241280" cy="1801800"/>
            </a:xfrm>
            <a:prstGeom prst="line">
              <a:avLst/>
            </a:prstGeom>
            <a:ln w="4752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2687400" y="3562200"/>
              <a:ext cx="344520" cy="1633680"/>
            </a:xfrm>
            <a:prstGeom prst="line">
              <a:avLst/>
            </a:prstGeom>
            <a:ln w="4752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124080" y="3681000"/>
              <a:ext cx="439920" cy="1576440"/>
            </a:xfrm>
            <a:prstGeom prst="line">
              <a:avLst/>
            </a:prstGeom>
            <a:ln w="4752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124080" y="2724120"/>
            <a:ext cx="7722720" cy="5047920"/>
            <a:chOff x="3124080" y="2724120"/>
            <a:chExt cx="7722720" cy="5047920"/>
          </a:xfrm>
        </p:grpSpPr>
        <p:grpSp>
          <p:nvGrpSpPr>
            <p:cNvPr id="461" name=""/>
            <p:cNvGrpSpPr/>
            <p:nvPr/>
          </p:nvGrpSpPr>
          <p:grpSpPr>
            <a:xfrm>
              <a:off x="3124080" y="2724120"/>
              <a:ext cx="7722720" cy="5047920"/>
              <a:chOff x="3124080" y="2724120"/>
              <a:chExt cx="7722720" cy="5047920"/>
            </a:xfrm>
          </p:grpSpPr>
          <p:sp>
            <p:nvSpPr>
              <p:cNvPr id="462" name=""/>
              <p:cNvSpPr/>
              <p:nvPr/>
            </p:nvSpPr>
            <p:spPr>
              <a:xfrm>
                <a:off x="3336480" y="2858400"/>
                <a:ext cx="7510320" cy="4913640"/>
              </a:xfrm>
              <a:custGeom>
                <a:avLst/>
                <a:gdLst/>
                <a:ahLst/>
                <a:rect l="l" t="t" r="r" b="b"/>
                <a:pathLst>
                  <a:path w="3428" h="2047">
                    <a:moveTo>
                      <a:pt x="1707" y="620"/>
                    </a:moveTo>
                    <a:lnTo>
                      <a:pt x="1707" y="620"/>
                    </a:lnTo>
                    <a:lnTo>
                      <a:pt x="1224" y="475"/>
                    </a:lnTo>
                    <a:lnTo>
                      <a:pt x="1149" y="681"/>
                    </a:lnTo>
                    <a:lnTo>
                      <a:pt x="137" y="434"/>
                    </a:lnTo>
                    <a:lnTo>
                      <a:pt x="874" y="930"/>
                    </a:lnTo>
                    <a:lnTo>
                      <a:pt x="300" y="1010"/>
                    </a:lnTo>
                    <a:lnTo>
                      <a:pt x="836" y="1222"/>
                    </a:lnTo>
                    <a:lnTo>
                      <a:pt x="0" y="1532"/>
                    </a:lnTo>
                    <a:lnTo>
                      <a:pt x="1093" y="1389"/>
                    </a:lnTo>
                    <a:lnTo>
                      <a:pt x="787" y="1720"/>
                    </a:lnTo>
                    <a:lnTo>
                      <a:pt x="1433" y="1579"/>
                    </a:lnTo>
                    <a:lnTo>
                      <a:pt x="1613" y="2046"/>
                    </a:lnTo>
                    <a:lnTo>
                      <a:pt x="1785" y="1579"/>
                    </a:lnTo>
                    <a:lnTo>
                      <a:pt x="2283" y="1782"/>
                    </a:lnTo>
                    <a:lnTo>
                      <a:pt x="2365" y="1490"/>
                    </a:lnTo>
                    <a:lnTo>
                      <a:pt x="3427" y="1816"/>
                    </a:lnTo>
                    <a:lnTo>
                      <a:pt x="2547" y="1266"/>
                    </a:lnTo>
                    <a:lnTo>
                      <a:pt x="3040" y="1133"/>
                    </a:lnTo>
                    <a:lnTo>
                      <a:pt x="2655" y="969"/>
                    </a:lnTo>
                    <a:lnTo>
                      <a:pt x="3184" y="617"/>
                    </a:lnTo>
                    <a:lnTo>
                      <a:pt x="2411" y="713"/>
                    </a:lnTo>
                    <a:lnTo>
                      <a:pt x="2399" y="468"/>
                    </a:lnTo>
                    <a:lnTo>
                      <a:pt x="2081" y="578"/>
                    </a:lnTo>
                    <a:lnTo>
                      <a:pt x="1937" y="0"/>
                    </a:lnTo>
                    <a:lnTo>
                      <a:pt x="1707" y="620"/>
                    </a:lnTo>
                    <a:lnTo>
                      <a:pt x="1707" y="62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4080" y="2724120"/>
                <a:ext cx="7508160" cy="4913640"/>
              </a:xfrm>
              <a:custGeom>
                <a:avLst/>
                <a:gdLst/>
                <a:ahLst/>
                <a:rect l="l" t="t" r="r" b="b"/>
                <a:pathLst>
                  <a:path w="3427" h="2047">
                    <a:moveTo>
                      <a:pt x="1705" y="620"/>
                    </a:moveTo>
                    <a:lnTo>
                      <a:pt x="1705" y="620"/>
                    </a:lnTo>
                    <a:lnTo>
                      <a:pt x="1220" y="475"/>
                    </a:lnTo>
                    <a:lnTo>
                      <a:pt x="1148" y="681"/>
                    </a:lnTo>
                    <a:lnTo>
                      <a:pt x="136" y="435"/>
                    </a:lnTo>
                    <a:lnTo>
                      <a:pt x="872" y="930"/>
                    </a:lnTo>
                    <a:lnTo>
                      <a:pt x="299" y="1010"/>
                    </a:lnTo>
                    <a:lnTo>
                      <a:pt x="833" y="1223"/>
                    </a:lnTo>
                    <a:lnTo>
                      <a:pt x="0" y="1531"/>
                    </a:lnTo>
                    <a:lnTo>
                      <a:pt x="1092" y="1389"/>
                    </a:lnTo>
                    <a:lnTo>
                      <a:pt x="786" y="1720"/>
                    </a:lnTo>
                    <a:lnTo>
                      <a:pt x="1430" y="1580"/>
                    </a:lnTo>
                    <a:lnTo>
                      <a:pt x="1609" y="2046"/>
                    </a:lnTo>
                    <a:lnTo>
                      <a:pt x="1783" y="1580"/>
                    </a:lnTo>
                    <a:lnTo>
                      <a:pt x="2278" y="1782"/>
                    </a:lnTo>
                    <a:lnTo>
                      <a:pt x="2362" y="1490"/>
                    </a:lnTo>
                    <a:lnTo>
                      <a:pt x="3426" y="1817"/>
                    </a:lnTo>
                    <a:lnTo>
                      <a:pt x="2545" y="1266"/>
                    </a:lnTo>
                    <a:lnTo>
                      <a:pt x="3038" y="1133"/>
                    </a:lnTo>
                    <a:lnTo>
                      <a:pt x="2651" y="969"/>
                    </a:lnTo>
                    <a:lnTo>
                      <a:pt x="3184" y="617"/>
                    </a:lnTo>
                    <a:lnTo>
                      <a:pt x="2408" y="714"/>
                    </a:lnTo>
                    <a:lnTo>
                      <a:pt x="2396" y="468"/>
                    </a:lnTo>
                    <a:lnTo>
                      <a:pt x="2078" y="578"/>
                    </a:lnTo>
                    <a:lnTo>
                      <a:pt x="1934" y="0"/>
                    </a:lnTo>
                    <a:lnTo>
                      <a:pt x="1705" y="620"/>
                    </a:lnTo>
                    <a:lnTo>
                      <a:pt x="1705" y="62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5181480" y="4248000"/>
              <a:ext cx="362592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use la teoría de la incertidumbre para ver la forma de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0" y="2133720"/>
            <a:ext cx="586728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082960" y="2531880"/>
            <a:ext cx="6675120" cy="1971360"/>
          </a:xfrm>
          <a:prstGeom prst="roundRect">
            <a:avLst>
              <a:gd name="adj" fmla="val 4162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523200" y="3782880"/>
            <a:ext cx="857160" cy="1644840"/>
          </a:xfrm>
          <a:custGeom>
            <a:avLst/>
            <a:gdLst/>
            <a:ahLst/>
            <a:rect l="l" t="t" r="r" b="b"/>
            <a:pathLst>
              <a:path w="540" h="1036">
                <a:moveTo>
                  <a:pt x="539" y="1034"/>
                </a:moveTo>
                <a:lnTo>
                  <a:pt x="496" y="1035"/>
                </a:lnTo>
                <a:lnTo>
                  <a:pt x="455" y="1025"/>
                </a:lnTo>
                <a:lnTo>
                  <a:pt x="413" y="1005"/>
                </a:lnTo>
                <a:lnTo>
                  <a:pt x="374" y="976"/>
                </a:lnTo>
                <a:lnTo>
                  <a:pt x="335" y="939"/>
                </a:lnTo>
                <a:lnTo>
                  <a:pt x="297" y="892"/>
                </a:lnTo>
                <a:lnTo>
                  <a:pt x="259" y="837"/>
                </a:lnTo>
                <a:lnTo>
                  <a:pt x="224" y="773"/>
                </a:lnTo>
                <a:lnTo>
                  <a:pt x="189" y="702"/>
                </a:lnTo>
                <a:lnTo>
                  <a:pt x="156" y="623"/>
                </a:lnTo>
                <a:lnTo>
                  <a:pt x="125" y="537"/>
                </a:lnTo>
                <a:lnTo>
                  <a:pt x="97" y="443"/>
                </a:lnTo>
                <a:lnTo>
                  <a:pt x="69" y="343"/>
                </a:lnTo>
                <a:lnTo>
                  <a:pt x="44" y="235"/>
                </a:lnTo>
                <a:lnTo>
                  <a:pt x="20" y="121"/>
                </a:lnTo>
                <a:lnTo>
                  <a:pt x="0" y="0"/>
                </a:lnTo>
              </a:path>
            </a:pathLst>
          </a:custGeom>
          <a:noFill/>
          <a:ln w="47520">
            <a:solidFill>
              <a:srgbClr val="0082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14640" y="3657240"/>
            <a:ext cx="236520" cy="240516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1371600"/>
            <a:ext cx="29768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c20000"/>
                </a:solidFill>
                <a:latin typeface="Arial"/>
              </a:rPr>
              <a:t>La suma sobre todos los estados posibles del universo </a:t>
            </a:r>
            <a:r>
              <a:rPr b="1" lang="en-GB" sz="2300" spc="-1" strike="noStrike">
                <a:solidFill>
                  <a:srgbClr val="c20000"/>
                </a:solidFill>
                <a:latin typeface="Symbol"/>
                <a:ea typeface="Symbol"/>
              </a:rPr>
              <a:t>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2057400"/>
            <a:ext cx="990720" cy="1066680"/>
          </a:xfrm>
          <a:prstGeom prst="line">
            <a:avLst/>
          </a:prstGeom>
          <a:ln w="47520">
            <a:solidFill>
              <a:srgbClr val="c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4952880"/>
            <a:ext cx="388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8280"/>
                </a:solidFill>
                <a:latin typeface="Arial"/>
              </a:rPr>
              <a:t>premios en el estado de l universo </a:t>
            </a:r>
            <a:r>
              <a:rPr b="1" lang="en-GB" sz="2400" spc="-1" strike="noStrike">
                <a:solidFill>
                  <a:srgbClr val="00828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62720" y="6645240"/>
            <a:ext cx="51307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300" spc="-1" strike="noStrike">
                <a:solidFill>
                  <a:srgbClr val="ff0000"/>
                </a:solidFill>
                <a:latin typeface="Arial"/>
              </a:rPr>
              <a:t>tla función de utilidad cardinal o función de “felicidad”: independiente de   </a:t>
            </a:r>
            <a:r>
              <a:rPr b="1" i="1" lang="en-GB" sz="23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5410080"/>
            <a:ext cx="38988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ponderador de ”probabilidad subjetiv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sobre </a:t>
            </a:r>
            <a:r>
              <a:rPr b="1" lang="en-GB" sz="2400" spc="-1" strike="noStrike">
                <a:solidFill>
                  <a:srgbClr val="00008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09680" y="6389640"/>
            <a:ext cx="6189840" cy="138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76280" indent="-190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Recordatorio: La forma de la función de utilidad de  von Neumann- Morgenster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067200" y="3962520"/>
            <a:ext cx="6991200" cy="2807640"/>
            <a:chOff x="3067200" y="3962520"/>
            <a:chExt cx="6991200" cy="2807640"/>
          </a:xfrm>
        </p:grpSpPr>
        <p:sp>
          <p:nvSpPr>
            <p:cNvPr id="476" name=""/>
            <p:cNvSpPr/>
            <p:nvPr/>
          </p:nvSpPr>
          <p:spPr>
            <a:xfrm>
              <a:off x="3067200" y="3962520"/>
              <a:ext cx="1303200" cy="595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21280" y="4479840"/>
              <a:ext cx="977760" cy="9410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59400" y="4986360"/>
              <a:ext cx="5499000" cy="17838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{1,2,...</a:t>
              </a:r>
              <a:r>
                <a:rPr b="0" i="1" lang="en-GB" sz="6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GB" sz="6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 flipH="1" rot="10800000">
            <a:off x="2743200" y="2742480"/>
            <a:ext cx="5641920" cy="18478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200400" y="3603600"/>
            <a:ext cx="793800" cy="2103480"/>
          </a:xfrm>
          <a:custGeom>
            <a:avLst/>
            <a:gdLst/>
            <a:ahLst/>
            <a:rect l="l" t="t" r="r" b="b"/>
            <a:pathLst>
              <a:path w="500" h="1325">
                <a:moveTo>
                  <a:pt x="0" y="1324"/>
                </a:moveTo>
                <a:lnTo>
                  <a:pt x="38" y="1324"/>
                </a:lnTo>
                <a:lnTo>
                  <a:pt x="77" y="1311"/>
                </a:lnTo>
                <a:lnTo>
                  <a:pt x="115" y="1286"/>
                </a:lnTo>
                <a:lnTo>
                  <a:pt x="152" y="1249"/>
                </a:lnTo>
                <a:lnTo>
                  <a:pt x="188" y="1201"/>
                </a:lnTo>
                <a:lnTo>
                  <a:pt x="223" y="1141"/>
                </a:lnTo>
                <a:lnTo>
                  <a:pt x="258" y="1072"/>
                </a:lnTo>
                <a:lnTo>
                  <a:pt x="291" y="990"/>
                </a:lnTo>
                <a:lnTo>
                  <a:pt x="322" y="899"/>
                </a:lnTo>
                <a:lnTo>
                  <a:pt x="353" y="798"/>
                </a:lnTo>
                <a:lnTo>
                  <a:pt x="382" y="688"/>
                </a:lnTo>
                <a:lnTo>
                  <a:pt x="409" y="567"/>
                </a:lnTo>
                <a:lnTo>
                  <a:pt x="434" y="439"/>
                </a:lnTo>
                <a:lnTo>
                  <a:pt x="458" y="301"/>
                </a:lnTo>
                <a:lnTo>
                  <a:pt x="479" y="155"/>
                </a:lnTo>
                <a:lnTo>
                  <a:pt x="499" y="0"/>
                </a:lnTo>
              </a:path>
            </a:pathLst>
          </a:custGeom>
          <a:noFill/>
          <a:ln w="475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1143000"/>
            <a:ext cx="3732120" cy="4549680"/>
            <a:chOff x="0" y="1143000"/>
            <a:chExt cx="3732120" cy="4549680"/>
          </a:xfrm>
        </p:grpSpPr>
        <p:sp>
          <p:nvSpPr>
            <p:cNvPr id="482" name=""/>
            <p:cNvSpPr/>
            <p:nvPr/>
          </p:nvSpPr>
          <p:spPr>
            <a:xfrm>
              <a:off x="1928880" y="4033800"/>
              <a:ext cx="0" cy="1303560"/>
            </a:xfrm>
            <a:prstGeom prst="line">
              <a:avLst/>
            </a:prstGeom>
            <a:ln w="127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12800" y="4149000"/>
              <a:ext cx="2546280" cy="924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0640" y="4191120"/>
              <a:ext cx="2683080" cy="15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o confundirse entre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0" y="1143000"/>
              <a:ext cx="3732120" cy="2792520"/>
              <a:chOff x="0" y="1143000"/>
              <a:chExt cx="3732120" cy="279252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1143000"/>
                <a:ext cx="3732120" cy="2792520"/>
              </a:xfrm>
              <a:custGeom>
                <a:avLst/>
                <a:gdLst/>
                <a:ahLst/>
                <a:rect l="l" t="t" r="r" b="b"/>
                <a:pathLst>
                  <a:path w="2351" h="1759">
                    <a:moveTo>
                      <a:pt x="0" y="1758"/>
                    </a:moveTo>
                    <a:lnTo>
                      <a:pt x="2350" y="1758"/>
                    </a:lnTo>
                    <a:lnTo>
                      <a:pt x="1175" y="0"/>
                    </a:lnTo>
                    <a:lnTo>
                      <a:pt x="10" y="1758"/>
                    </a:lnTo>
                    <a:lnTo>
                      <a:pt x="0" y="1758"/>
                    </a:lnTo>
                    <a:lnTo>
                      <a:pt x="0" y="1758"/>
                    </a:lnTo>
                  </a:path>
                </a:pathLst>
              </a:custGeom>
              <a:solidFill>
                <a:srgbClr val="ffffff"/>
              </a:solidFill>
              <a:ln w="203040">
                <a:solidFill>
                  <a:srgbClr val="ff0000"/>
                </a:solidFill>
                <a:round/>
              </a:ln>
              <a:effectLst>
                <a:outerShdw dist="107932" dir="2700000" blurRad="0" rotWithShape="0">
                  <a:srgbClr val="40404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84360" y="1465200"/>
                <a:ext cx="623880" cy="21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0" spc="-1" strike="noStrike"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0" lang="en-US" sz="1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0" y="6324480"/>
            <a:ext cx="4133880" cy="1447920"/>
          </a:xfrm>
          <a:prstGeom prst="rect">
            <a:avLst/>
          </a:prstGeom>
          <a:solidFill>
            <a:srgbClr val="ffffc2"/>
          </a:solidFill>
          <a:ln w="316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conjunto de todas las ident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724280" y="2514600"/>
            <a:ext cx="4940280" cy="4535640"/>
            <a:chOff x="4724280" y="2514600"/>
            <a:chExt cx="4940280" cy="4535640"/>
          </a:xfrm>
        </p:grpSpPr>
        <p:sp>
          <p:nvSpPr>
            <p:cNvPr id="490" name=""/>
            <p:cNvSpPr/>
            <p:nvPr/>
          </p:nvSpPr>
          <p:spPr>
            <a:xfrm>
              <a:off x="4724280" y="2514600"/>
              <a:ext cx="4940280" cy="4535640"/>
            </a:xfrm>
            <a:custGeom>
              <a:avLst/>
              <a:gdLst/>
              <a:ahLst/>
              <a:rect l="l" t="t" r="r" b="b"/>
              <a:pathLst>
                <a:path w="3112" h="2857">
                  <a:moveTo>
                    <a:pt x="3111" y="1401"/>
                  </a:moveTo>
                  <a:lnTo>
                    <a:pt x="3111" y="1401"/>
                  </a:lnTo>
                  <a:lnTo>
                    <a:pt x="1278" y="0"/>
                  </a:lnTo>
                  <a:lnTo>
                    <a:pt x="1493" y="700"/>
                  </a:lnTo>
                  <a:lnTo>
                    <a:pt x="0" y="700"/>
                  </a:lnTo>
                  <a:lnTo>
                    <a:pt x="0" y="2201"/>
                  </a:lnTo>
                  <a:lnTo>
                    <a:pt x="1493" y="2201"/>
                  </a:lnTo>
                  <a:lnTo>
                    <a:pt x="1278" y="2856"/>
                  </a:lnTo>
                  <a:lnTo>
                    <a:pt x="3111" y="1401"/>
                  </a:lnTo>
                  <a:lnTo>
                    <a:pt x="3111" y="140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68560" y="4060800"/>
              <a:ext cx="3733920" cy="18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3600" spc="-1" strike="noStrike">
                  <a:solidFill>
                    <a:srgbClr val="ffffff"/>
                  </a:solidFill>
                  <a:latin typeface="Times New Roman"/>
                </a:rPr>
                <a:t>Esto da una forma aditiva a la función de bienesta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0T23:10:27Z</dcterms:created>
  <dc:creator>COWELL</dc:creator>
  <dc:description/>
  <dc:language>en-US</dc:language>
  <cp:lastModifiedBy>FERNANDO VICTOR TOW</cp:lastModifiedBy>
  <dcterms:modified xsi:type="dcterms:W3CDTF">1998-09-26T23:04:58Z</dcterms:modified>
  <cp:revision>61</cp:revision>
  <dc:subject/>
  <dc:title>Bienestar Capitulo III</dc:title>
</cp:coreProperties>
</file>