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FC3-8DB4-4FEF-AE06-1BA735C5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FF2-0C80-45DA-A9AE-2D6D0C26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24F-99C7-472A-A475-07B27E15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280-2CEB-4651-B7AC-88015C0B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D4C-9AC7-4E74-9FCB-1E2DD9BD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58B-B6D8-4B97-A996-8F61821E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358-42B5-4284-866E-9C95C475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1F2-CDA2-47A2-A290-5657F273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8CB-B25F-43DF-86DB-45193DF0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433-70BF-4BD4-8C24-4770C28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968-FBF7-4300-8161-BF8AE15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3B6-0C33-45B3-BD8F-2BD6EC0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270B-528C-4D39-AB82-976533DA9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342960" y="4032360"/>
            <a:ext cx="480996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apitulo II.I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46320" y="1781280"/>
            <a:ext cx="3531960" cy="5360760"/>
          </a:xfrm>
          <a:custGeom>
            <a:avLst/>
            <a:gdLst/>
            <a:ahLst/>
            <a:rect l="l" t="t" r="r" b="b"/>
            <a:pathLst>
              <a:path w="1495" h="2269">
                <a:moveTo>
                  <a:pt x="413" y="881"/>
                </a:moveTo>
                <a:lnTo>
                  <a:pt x="413" y="881"/>
                </a:lnTo>
                <a:lnTo>
                  <a:pt x="342" y="711"/>
                </a:lnTo>
                <a:lnTo>
                  <a:pt x="302" y="540"/>
                </a:lnTo>
                <a:lnTo>
                  <a:pt x="262" y="371"/>
                </a:lnTo>
                <a:lnTo>
                  <a:pt x="252" y="250"/>
                </a:lnTo>
                <a:lnTo>
                  <a:pt x="212" y="119"/>
                </a:lnTo>
                <a:lnTo>
                  <a:pt x="162" y="60"/>
                </a:lnTo>
                <a:lnTo>
                  <a:pt x="101" y="30"/>
                </a:lnTo>
                <a:lnTo>
                  <a:pt x="0" y="0"/>
                </a:lnTo>
                <a:lnTo>
                  <a:pt x="4" y="2268"/>
                </a:lnTo>
                <a:lnTo>
                  <a:pt x="1494" y="2268"/>
                </a:lnTo>
                <a:lnTo>
                  <a:pt x="1494" y="2268"/>
                </a:lnTo>
                <a:lnTo>
                  <a:pt x="1477" y="2194"/>
                </a:lnTo>
                <a:lnTo>
                  <a:pt x="1472" y="2175"/>
                </a:lnTo>
                <a:lnTo>
                  <a:pt x="1465" y="2154"/>
                </a:lnTo>
                <a:lnTo>
                  <a:pt x="1458" y="2131"/>
                </a:lnTo>
                <a:lnTo>
                  <a:pt x="1449" y="2108"/>
                </a:lnTo>
                <a:lnTo>
                  <a:pt x="1441" y="2082"/>
                </a:lnTo>
                <a:lnTo>
                  <a:pt x="1432" y="2059"/>
                </a:lnTo>
                <a:lnTo>
                  <a:pt x="1424" y="2038"/>
                </a:lnTo>
                <a:lnTo>
                  <a:pt x="1418" y="2027"/>
                </a:lnTo>
                <a:lnTo>
                  <a:pt x="1414" y="2015"/>
                </a:lnTo>
                <a:lnTo>
                  <a:pt x="1408" y="2002"/>
                </a:lnTo>
                <a:lnTo>
                  <a:pt x="1402" y="1989"/>
                </a:lnTo>
                <a:lnTo>
                  <a:pt x="1395" y="1975"/>
                </a:lnTo>
                <a:lnTo>
                  <a:pt x="1388" y="1960"/>
                </a:lnTo>
                <a:lnTo>
                  <a:pt x="1380" y="1944"/>
                </a:lnTo>
                <a:lnTo>
                  <a:pt x="1374" y="1929"/>
                </a:lnTo>
                <a:lnTo>
                  <a:pt x="1366" y="1915"/>
                </a:lnTo>
                <a:lnTo>
                  <a:pt x="1358" y="1899"/>
                </a:lnTo>
                <a:lnTo>
                  <a:pt x="1351" y="1885"/>
                </a:lnTo>
                <a:lnTo>
                  <a:pt x="1344" y="1870"/>
                </a:lnTo>
                <a:lnTo>
                  <a:pt x="1336" y="1856"/>
                </a:lnTo>
                <a:lnTo>
                  <a:pt x="1329" y="1844"/>
                </a:lnTo>
                <a:lnTo>
                  <a:pt x="1323" y="1832"/>
                </a:lnTo>
                <a:lnTo>
                  <a:pt x="1317" y="1820"/>
                </a:lnTo>
                <a:lnTo>
                  <a:pt x="1309" y="1810"/>
                </a:lnTo>
                <a:lnTo>
                  <a:pt x="1303" y="1798"/>
                </a:lnTo>
                <a:lnTo>
                  <a:pt x="1294" y="1787"/>
                </a:lnTo>
                <a:lnTo>
                  <a:pt x="1286" y="1774"/>
                </a:lnTo>
                <a:lnTo>
                  <a:pt x="1277" y="1761"/>
                </a:lnTo>
                <a:lnTo>
                  <a:pt x="1266" y="1746"/>
                </a:lnTo>
                <a:lnTo>
                  <a:pt x="1257" y="1733"/>
                </a:lnTo>
                <a:lnTo>
                  <a:pt x="1248" y="1718"/>
                </a:lnTo>
                <a:lnTo>
                  <a:pt x="1235" y="1706"/>
                </a:lnTo>
                <a:lnTo>
                  <a:pt x="1225" y="1692"/>
                </a:lnTo>
                <a:lnTo>
                  <a:pt x="1215" y="1679"/>
                </a:lnTo>
                <a:lnTo>
                  <a:pt x="1206" y="1667"/>
                </a:lnTo>
                <a:lnTo>
                  <a:pt x="1196" y="1656"/>
                </a:lnTo>
                <a:lnTo>
                  <a:pt x="1187" y="1644"/>
                </a:lnTo>
                <a:lnTo>
                  <a:pt x="1178" y="1635"/>
                </a:lnTo>
                <a:lnTo>
                  <a:pt x="1170" y="1626"/>
                </a:lnTo>
                <a:lnTo>
                  <a:pt x="1152" y="1610"/>
                </a:lnTo>
                <a:lnTo>
                  <a:pt x="1133" y="1591"/>
                </a:lnTo>
                <a:lnTo>
                  <a:pt x="1112" y="1572"/>
                </a:lnTo>
                <a:lnTo>
                  <a:pt x="1091" y="1553"/>
                </a:lnTo>
                <a:lnTo>
                  <a:pt x="1070" y="1535"/>
                </a:lnTo>
                <a:lnTo>
                  <a:pt x="1051" y="1517"/>
                </a:lnTo>
                <a:lnTo>
                  <a:pt x="1033" y="1503"/>
                </a:lnTo>
                <a:lnTo>
                  <a:pt x="1020" y="1490"/>
                </a:lnTo>
                <a:lnTo>
                  <a:pt x="1004" y="1482"/>
                </a:lnTo>
                <a:lnTo>
                  <a:pt x="988" y="1470"/>
                </a:lnTo>
                <a:lnTo>
                  <a:pt x="970" y="1458"/>
                </a:lnTo>
                <a:lnTo>
                  <a:pt x="951" y="1445"/>
                </a:lnTo>
                <a:lnTo>
                  <a:pt x="932" y="1434"/>
                </a:lnTo>
                <a:lnTo>
                  <a:pt x="914" y="1423"/>
                </a:lnTo>
                <a:lnTo>
                  <a:pt x="898" y="1414"/>
                </a:lnTo>
                <a:lnTo>
                  <a:pt x="884" y="1406"/>
                </a:lnTo>
                <a:lnTo>
                  <a:pt x="869" y="1400"/>
                </a:lnTo>
                <a:lnTo>
                  <a:pt x="854" y="1393"/>
                </a:lnTo>
                <a:lnTo>
                  <a:pt x="838" y="1387"/>
                </a:lnTo>
                <a:lnTo>
                  <a:pt x="822" y="1379"/>
                </a:lnTo>
                <a:lnTo>
                  <a:pt x="804" y="1373"/>
                </a:lnTo>
                <a:lnTo>
                  <a:pt x="790" y="1367"/>
                </a:lnTo>
                <a:lnTo>
                  <a:pt x="776" y="1364"/>
                </a:lnTo>
                <a:lnTo>
                  <a:pt x="766" y="1360"/>
                </a:lnTo>
                <a:lnTo>
                  <a:pt x="754" y="1359"/>
                </a:lnTo>
                <a:lnTo>
                  <a:pt x="740" y="1356"/>
                </a:lnTo>
                <a:lnTo>
                  <a:pt x="727" y="1354"/>
                </a:lnTo>
                <a:lnTo>
                  <a:pt x="644" y="1292"/>
                </a:lnTo>
                <a:lnTo>
                  <a:pt x="634" y="1292"/>
                </a:lnTo>
                <a:lnTo>
                  <a:pt x="554" y="1142"/>
                </a:lnTo>
                <a:lnTo>
                  <a:pt x="413" y="881"/>
                </a:lnTo>
                <a:lnTo>
                  <a:pt x="413" y="881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4800" y="76320"/>
            <a:ext cx="9453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ficiencia en el problema de R Cruso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238400" y="950760"/>
            <a:ext cx="0" cy="618984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43080" y="7142040"/>
            <a:ext cx="7729560" cy="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0" y="1060560"/>
            <a:ext cx="4551120" cy="5916600"/>
          </a:xfrm>
          <a:custGeom>
            <a:avLst/>
            <a:gdLst/>
            <a:ahLst/>
            <a:rect l="l" t="t" r="r" b="b"/>
            <a:pathLst>
              <a:path w="1926" h="2504">
                <a:moveTo>
                  <a:pt x="0" y="0"/>
                </a:moveTo>
                <a:lnTo>
                  <a:pt x="0" y="21"/>
                </a:lnTo>
                <a:lnTo>
                  <a:pt x="2" y="37"/>
                </a:lnTo>
                <a:lnTo>
                  <a:pt x="2" y="51"/>
                </a:lnTo>
                <a:lnTo>
                  <a:pt x="4" y="61"/>
                </a:lnTo>
                <a:lnTo>
                  <a:pt x="4" y="70"/>
                </a:lnTo>
                <a:lnTo>
                  <a:pt x="5" y="75"/>
                </a:lnTo>
                <a:lnTo>
                  <a:pt x="5" y="80"/>
                </a:lnTo>
                <a:lnTo>
                  <a:pt x="7" y="83"/>
                </a:lnTo>
                <a:lnTo>
                  <a:pt x="7" y="86"/>
                </a:lnTo>
                <a:lnTo>
                  <a:pt x="7" y="88"/>
                </a:lnTo>
                <a:lnTo>
                  <a:pt x="7" y="91"/>
                </a:lnTo>
                <a:lnTo>
                  <a:pt x="8" y="93"/>
                </a:lnTo>
                <a:lnTo>
                  <a:pt x="8" y="98"/>
                </a:lnTo>
                <a:lnTo>
                  <a:pt x="8" y="103"/>
                </a:lnTo>
                <a:lnTo>
                  <a:pt x="8" y="111"/>
                </a:lnTo>
                <a:lnTo>
                  <a:pt x="10" y="120"/>
                </a:lnTo>
                <a:lnTo>
                  <a:pt x="11" y="133"/>
                </a:lnTo>
                <a:lnTo>
                  <a:pt x="13" y="149"/>
                </a:lnTo>
                <a:lnTo>
                  <a:pt x="15" y="169"/>
                </a:lnTo>
                <a:lnTo>
                  <a:pt x="19" y="190"/>
                </a:lnTo>
                <a:lnTo>
                  <a:pt x="22" y="215"/>
                </a:lnTo>
                <a:lnTo>
                  <a:pt x="26" y="242"/>
                </a:lnTo>
                <a:lnTo>
                  <a:pt x="30" y="271"/>
                </a:lnTo>
                <a:lnTo>
                  <a:pt x="36" y="299"/>
                </a:lnTo>
                <a:lnTo>
                  <a:pt x="41" y="331"/>
                </a:lnTo>
                <a:lnTo>
                  <a:pt x="47" y="363"/>
                </a:lnTo>
                <a:lnTo>
                  <a:pt x="52" y="396"/>
                </a:lnTo>
                <a:lnTo>
                  <a:pt x="58" y="427"/>
                </a:lnTo>
                <a:lnTo>
                  <a:pt x="63" y="461"/>
                </a:lnTo>
                <a:lnTo>
                  <a:pt x="69" y="492"/>
                </a:lnTo>
                <a:lnTo>
                  <a:pt x="75" y="524"/>
                </a:lnTo>
                <a:lnTo>
                  <a:pt x="82" y="553"/>
                </a:lnTo>
                <a:lnTo>
                  <a:pt x="88" y="585"/>
                </a:lnTo>
                <a:lnTo>
                  <a:pt x="94" y="617"/>
                </a:lnTo>
                <a:lnTo>
                  <a:pt x="101" y="650"/>
                </a:lnTo>
                <a:lnTo>
                  <a:pt x="108" y="683"/>
                </a:lnTo>
                <a:lnTo>
                  <a:pt x="116" y="718"/>
                </a:lnTo>
                <a:lnTo>
                  <a:pt x="123" y="752"/>
                </a:lnTo>
                <a:lnTo>
                  <a:pt x="131" y="786"/>
                </a:lnTo>
                <a:lnTo>
                  <a:pt x="140" y="819"/>
                </a:lnTo>
                <a:lnTo>
                  <a:pt x="147" y="853"/>
                </a:lnTo>
                <a:lnTo>
                  <a:pt x="155" y="884"/>
                </a:lnTo>
                <a:lnTo>
                  <a:pt x="163" y="914"/>
                </a:lnTo>
                <a:lnTo>
                  <a:pt x="171" y="942"/>
                </a:lnTo>
                <a:lnTo>
                  <a:pt x="177" y="968"/>
                </a:lnTo>
                <a:lnTo>
                  <a:pt x="185" y="990"/>
                </a:lnTo>
                <a:lnTo>
                  <a:pt x="191" y="1011"/>
                </a:lnTo>
                <a:lnTo>
                  <a:pt x="198" y="1026"/>
                </a:lnTo>
                <a:lnTo>
                  <a:pt x="203" y="1042"/>
                </a:lnTo>
                <a:lnTo>
                  <a:pt x="209" y="1060"/>
                </a:lnTo>
                <a:lnTo>
                  <a:pt x="215" y="1080"/>
                </a:lnTo>
                <a:lnTo>
                  <a:pt x="224" y="1101"/>
                </a:lnTo>
                <a:lnTo>
                  <a:pt x="231" y="1125"/>
                </a:lnTo>
                <a:lnTo>
                  <a:pt x="240" y="1148"/>
                </a:lnTo>
                <a:lnTo>
                  <a:pt x="249" y="1174"/>
                </a:lnTo>
                <a:lnTo>
                  <a:pt x="259" y="1198"/>
                </a:lnTo>
                <a:lnTo>
                  <a:pt x="267" y="1224"/>
                </a:lnTo>
                <a:lnTo>
                  <a:pt x="277" y="1251"/>
                </a:lnTo>
                <a:lnTo>
                  <a:pt x="286" y="1276"/>
                </a:lnTo>
                <a:lnTo>
                  <a:pt x="295" y="1301"/>
                </a:lnTo>
                <a:lnTo>
                  <a:pt x="303" y="1325"/>
                </a:lnTo>
                <a:lnTo>
                  <a:pt x="313" y="1349"/>
                </a:lnTo>
                <a:lnTo>
                  <a:pt x="320" y="1370"/>
                </a:lnTo>
                <a:lnTo>
                  <a:pt x="329" y="1390"/>
                </a:lnTo>
                <a:lnTo>
                  <a:pt x="336" y="1411"/>
                </a:lnTo>
                <a:lnTo>
                  <a:pt x="344" y="1432"/>
                </a:lnTo>
                <a:lnTo>
                  <a:pt x="352" y="1455"/>
                </a:lnTo>
                <a:lnTo>
                  <a:pt x="361" y="1478"/>
                </a:lnTo>
                <a:lnTo>
                  <a:pt x="370" y="1502"/>
                </a:lnTo>
                <a:lnTo>
                  <a:pt x="380" y="1526"/>
                </a:lnTo>
                <a:lnTo>
                  <a:pt x="389" y="1550"/>
                </a:lnTo>
                <a:lnTo>
                  <a:pt x="398" y="1574"/>
                </a:lnTo>
                <a:lnTo>
                  <a:pt x="407" y="1598"/>
                </a:lnTo>
                <a:lnTo>
                  <a:pt x="416" y="1621"/>
                </a:lnTo>
                <a:lnTo>
                  <a:pt x="424" y="1644"/>
                </a:lnTo>
                <a:lnTo>
                  <a:pt x="433" y="1664"/>
                </a:lnTo>
                <a:lnTo>
                  <a:pt x="440" y="1684"/>
                </a:lnTo>
                <a:lnTo>
                  <a:pt x="448" y="1701"/>
                </a:lnTo>
                <a:lnTo>
                  <a:pt x="454" y="1717"/>
                </a:lnTo>
                <a:lnTo>
                  <a:pt x="461" y="1731"/>
                </a:lnTo>
                <a:lnTo>
                  <a:pt x="466" y="1744"/>
                </a:lnTo>
                <a:lnTo>
                  <a:pt x="472" y="1758"/>
                </a:lnTo>
                <a:lnTo>
                  <a:pt x="479" y="1774"/>
                </a:lnTo>
                <a:lnTo>
                  <a:pt x="488" y="1790"/>
                </a:lnTo>
                <a:lnTo>
                  <a:pt x="497" y="1808"/>
                </a:lnTo>
                <a:lnTo>
                  <a:pt x="507" y="1825"/>
                </a:lnTo>
                <a:lnTo>
                  <a:pt x="516" y="1844"/>
                </a:lnTo>
                <a:lnTo>
                  <a:pt x="527" y="1861"/>
                </a:lnTo>
                <a:lnTo>
                  <a:pt x="537" y="1880"/>
                </a:lnTo>
                <a:lnTo>
                  <a:pt x="548" y="1899"/>
                </a:lnTo>
                <a:lnTo>
                  <a:pt x="559" y="1918"/>
                </a:lnTo>
                <a:lnTo>
                  <a:pt x="570" y="1935"/>
                </a:lnTo>
                <a:lnTo>
                  <a:pt x="579" y="1952"/>
                </a:lnTo>
                <a:lnTo>
                  <a:pt x="591" y="1967"/>
                </a:lnTo>
                <a:lnTo>
                  <a:pt x="600" y="1983"/>
                </a:lnTo>
                <a:lnTo>
                  <a:pt x="610" y="1995"/>
                </a:lnTo>
                <a:lnTo>
                  <a:pt x="619" y="2009"/>
                </a:lnTo>
                <a:lnTo>
                  <a:pt x="629" y="2022"/>
                </a:lnTo>
                <a:lnTo>
                  <a:pt x="639" y="2037"/>
                </a:lnTo>
                <a:lnTo>
                  <a:pt x="652" y="2051"/>
                </a:lnTo>
                <a:lnTo>
                  <a:pt x="663" y="2065"/>
                </a:lnTo>
                <a:lnTo>
                  <a:pt x="677" y="2081"/>
                </a:lnTo>
                <a:lnTo>
                  <a:pt x="690" y="2095"/>
                </a:lnTo>
                <a:lnTo>
                  <a:pt x="703" y="2111"/>
                </a:lnTo>
                <a:lnTo>
                  <a:pt x="715" y="2125"/>
                </a:lnTo>
                <a:lnTo>
                  <a:pt x="729" y="2140"/>
                </a:lnTo>
                <a:lnTo>
                  <a:pt x="741" y="2154"/>
                </a:lnTo>
                <a:lnTo>
                  <a:pt x="754" y="2167"/>
                </a:lnTo>
                <a:lnTo>
                  <a:pt x="765" y="2180"/>
                </a:lnTo>
                <a:lnTo>
                  <a:pt x="777" y="2190"/>
                </a:lnTo>
                <a:lnTo>
                  <a:pt x="787" y="2200"/>
                </a:lnTo>
                <a:lnTo>
                  <a:pt x="797" y="2208"/>
                </a:lnTo>
                <a:lnTo>
                  <a:pt x="805" y="2217"/>
                </a:lnTo>
                <a:lnTo>
                  <a:pt x="815" y="2224"/>
                </a:lnTo>
                <a:lnTo>
                  <a:pt x="824" y="2233"/>
                </a:lnTo>
                <a:lnTo>
                  <a:pt x="833" y="2240"/>
                </a:lnTo>
                <a:lnTo>
                  <a:pt x="843" y="2249"/>
                </a:lnTo>
                <a:lnTo>
                  <a:pt x="852" y="2257"/>
                </a:lnTo>
                <a:lnTo>
                  <a:pt x="861" y="2264"/>
                </a:lnTo>
                <a:lnTo>
                  <a:pt x="871" y="2271"/>
                </a:lnTo>
                <a:lnTo>
                  <a:pt x="878" y="2279"/>
                </a:lnTo>
                <a:lnTo>
                  <a:pt x="887" y="2286"/>
                </a:lnTo>
                <a:lnTo>
                  <a:pt x="895" y="2293"/>
                </a:lnTo>
                <a:lnTo>
                  <a:pt x="903" y="2299"/>
                </a:lnTo>
                <a:lnTo>
                  <a:pt x="908" y="2305"/>
                </a:lnTo>
                <a:lnTo>
                  <a:pt x="915" y="2309"/>
                </a:lnTo>
                <a:lnTo>
                  <a:pt x="919" y="2313"/>
                </a:lnTo>
                <a:lnTo>
                  <a:pt x="924" y="2315"/>
                </a:lnTo>
                <a:lnTo>
                  <a:pt x="926" y="2319"/>
                </a:lnTo>
                <a:lnTo>
                  <a:pt x="930" y="2321"/>
                </a:lnTo>
                <a:lnTo>
                  <a:pt x="935" y="2325"/>
                </a:lnTo>
                <a:lnTo>
                  <a:pt x="941" y="2327"/>
                </a:lnTo>
                <a:lnTo>
                  <a:pt x="946" y="2331"/>
                </a:lnTo>
                <a:lnTo>
                  <a:pt x="953" y="2335"/>
                </a:lnTo>
                <a:lnTo>
                  <a:pt x="961" y="2338"/>
                </a:lnTo>
                <a:lnTo>
                  <a:pt x="968" y="2342"/>
                </a:lnTo>
                <a:lnTo>
                  <a:pt x="975" y="2347"/>
                </a:lnTo>
                <a:lnTo>
                  <a:pt x="983" y="2351"/>
                </a:lnTo>
                <a:lnTo>
                  <a:pt x="991" y="2355"/>
                </a:lnTo>
                <a:lnTo>
                  <a:pt x="999" y="2358"/>
                </a:lnTo>
                <a:lnTo>
                  <a:pt x="1006" y="2362"/>
                </a:lnTo>
                <a:lnTo>
                  <a:pt x="1014" y="2366"/>
                </a:lnTo>
                <a:lnTo>
                  <a:pt x="1021" y="2369"/>
                </a:lnTo>
                <a:lnTo>
                  <a:pt x="1029" y="2372"/>
                </a:lnTo>
                <a:lnTo>
                  <a:pt x="1035" y="2376"/>
                </a:lnTo>
                <a:lnTo>
                  <a:pt x="1043" y="2379"/>
                </a:lnTo>
                <a:lnTo>
                  <a:pt x="1052" y="2383"/>
                </a:lnTo>
                <a:lnTo>
                  <a:pt x="1063" y="2386"/>
                </a:lnTo>
                <a:lnTo>
                  <a:pt x="1074" y="2392"/>
                </a:lnTo>
                <a:lnTo>
                  <a:pt x="1086" y="2395"/>
                </a:lnTo>
                <a:lnTo>
                  <a:pt x="1099" y="2399"/>
                </a:lnTo>
                <a:lnTo>
                  <a:pt x="1111" y="2403"/>
                </a:lnTo>
                <a:lnTo>
                  <a:pt x="1123" y="2409"/>
                </a:lnTo>
                <a:lnTo>
                  <a:pt x="1137" y="2413"/>
                </a:lnTo>
                <a:lnTo>
                  <a:pt x="1150" y="2417"/>
                </a:lnTo>
                <a:lnTo>
                  <a:pt x="1163" y="2421"/>
                </a:lnTo>
                <a:lnTo>
                  <a:pt x="1175" y="2425"/>
                </a:lnTo>
                <a:lnTo>
                  <a:pt x="1188" y="2429"/>
                </a:lnTo>
                <a:lnTo>
                  <a:pt x="1199" y="2433"/>
                </a:lnTo>
                <a:lnTo>
                  <a:pt x="1211" y="2435"/>
                </a:lnTo>
                <a:lnTo>
                  <a:pt x="1221" y="2439"/>
                </a:lnTo>
                <a:lnTo>
                  <a:pt x="1232" y="2442"/>
                </a:lnTo>
                <a:lnTo>
                  <a:pt x="1245" y="2445"/>
                </a:lnTo>
                <a:lnTo>
                  <a:pt x="1258" y="2447"/>
                </a:lnTo>
                <a:lnTo>
                  <a:pt x="1271" y="2451"/>
                </a:lnTo>
                <a:lnTo>
                  <a:pt x="1285" y="2454"/>
                </a:lnTo>
                <a:lnTo>
                  <a:pt x="1299" y="2458"/>
                </a:lnTo>
                <a:lnTo>
                  <a:pt x="1314" y="2460"/>
                </a:lnTo>
                <a:lnTo>
                  <a:pt x="1327" y="2464"/>
                </a:lnTo>
                <a:lnTo>
                  <a:pt x="1342" y="2466"/>
                </a:lnTo>
                <a:lnTo>
                  <a:pt x="1355" y="2470"/>
                </a:lnTo>
                <a:lnTo>
                  <a:pt x="1369" y="2472"/>
                </a:lnTo>
                <a:lnTo>
                  <a:pt x="1381" y="2474"/>
                </a:lnTo>
                <a:lnTo>
                  <a:pt x="1393" y="2476"/>
                </a:lnTo>
                <a:lnTo>
                  <a:pt x="1403" y="2478"/>
                </a:lnTo>
                <a:lnTo>
                  <a:pt x="1414" y="2479"/>
                </a:lnTo>
                <a:lnTo>
                  <a:pt x="1422" y="2481"/>
                </a:lnTo>
                <a:lnTo>
                  <a:pt x="1433" y="2482"/>
                </a:lnTo>
                <a:lnTo>
                  <a:pt x="1445" y="2484"/>
                </a:lnTo>
                <a:lnTo>
                  <a:pt x="1458" y="2484"/>
                </a:lnTo>
                <a:lnTo>
                  <a:pt x="1471" y="2486"/>
                </a:lnTo>
                <a:lnTo>
                  <a:pt x="1485" y="2487"/>
                </a:lnTo>
                <a:lnTo>
                  <a:pt x="1500" y="2489"/>
                </a:lnTo>
                <a:lnTo>
                  <a:pt x="1515" y="2489"/>
                </a:lnTo>
                <a:lnTo>
                  <a:pt x="1529" y="2491"/>
                </a:lnTo>
                <a:lnTo>
                  <a:pt x="1543" y="2492"/>
                </a:lnTo>
                <a:lnTo>
                  <a:pt x="1558" y="2494"/>
                </a:lnTo>
                <a:lnTo>
                  <a:pt x="1573" y="2494"/>
                </a:lnTo>
                <a:lnTo>
                  <a:pt x="1586" y="2496"/>
                </a:lnTo>
                <a:lnTo>
                  <a:pt x="1599" y="2496"/>
                </a:lnTo>
                <a:lnTo>
                  <a:pt x="1611" y="2497"/>
                </a:lnTo>
                <a:lnTo>
                  <a:pt x="1623" y="2497"/>
                </a:lnTo>
                <a:lnTo>
                  <a:pt x="1634" y="2499"/>
                </a:lnTo>
                <a:lnTo>
                  <a:pt x="1646" y="2499"/>
                </a:lnTo>
                <a:lnTo>
                  <a:pt x="1659" y="2500"/>
                </a:lnTo>
                <a:lnTo>
                  <a:pt x="1673" y="2500"/>
                </a:lnTo>
                <a:lnTo>
                  <a:pt x="1686" y="2502"/>
                </a:lnTo>
                <a:lnTo>
                  <a:pt x="1701" y="2502"/>
                </a:lnTo>
                <a:lnTo>
                  <a:pt x="1716" y="2502"/>
                </a:lnTo>
                <a:lnTo>
                  <a:pt x="1731" y="2502"/>
                </a:lnTo>
                <a:lnTo>
                  <a:pt x="1744" y="2503"/>
                </a:lnTo>
                <a:lnTo>
                  <a:pt x="1759" y="2503"/>
                </a:lnTo>
                <a:lnTo>
                  <a:pt x="1773" y="2503"/>
                </a:lnTo>
                <a:lnTo>
                  <a:pt x="1787" y="2503"/>
                </a:lnTo>
                <a:lnTo>
                  <a:pt x="1799" y="2503"/>
                </a:lnTo>
                <a:lnTo>
                  <a:pt x="1812" y="2503"/>
                </a:lnTo>
                <a:lnTo>
                  <a:pt x="1822" y="2503"/>
                </a:lnTo>
                <a:lnTo>
                  <a:pt x="1832" y="2503"/>
                </a:lnTo>
                <a:lnTo>
                  <a:pt x="1839" y="2503"/>
                </a:lnTo>
                <a:lnTo>
                  <a:pt x="1845" y="2503"/>
                </a:lnTo>
                <a:lnTo>
                  <a:pt x="1849" y="2503"/>
                </a:lnTo>
                <a:lnTo>
                  <a:pt x="1852" y="2503"/>
                </a:lnTo>
                <a:lnTo>
                  <a:pt x="1854" y="2503"/>
                </a:lnTo>
                <a:lnTo>
                  <a:pt x="1856" y="2503"/>
                </a:lnTo>
                <a:lnTo>
                  <a:pt x="1858" y="2503"/>
                </a:lnTo>
                <a:lnTo>
                  <a:pt x="1860" y="2503"/>
                </a:lnTo>
                <a:lnTo>
                  <a:pt x="1862" y="2503"/>
                </a:lnTo>
                <a:lnTo>
                  <a:pt x="1866" y="2503"/>
                </a:lnTo>
                <a:lnTo>
                  <a:pt x="1870" y="2503"/>
                </a:lnTo>
                <a:lnTo>
                  <a:pt x="1877" y="2503"/>
                </a:lnTo>
                <a:lnTo>
                  <a:pt x="1885" y="2503"/>
                </a:lnTo>
                <a:lnTo>
                  <a:pt x="1895" y="2503"/>
                </a:lnTo>
                <a:lnTo>
                  <a:pt x="1909" y="2503"/>
                </a:lnTo>
                <a:lnTo>
                  <a:pt x="1925" y="2503"/>
                </a:lnTo>
                <a:lnTo>
                  <a:pt x="1600" y="1997"/>
                </a:lnTo>
                <a:lnTo>
                  <a:pt x="1590" y="1997"/>
                </a:lnTo>
                <a:lnTo>
                  <a:pt x="1583" y="1997"/>
                </a:lnTo>
                <a:lnTo>
                  <a:pt x="1577" y="1997"/>
                </a:lnTo>
                <a:lnTo>
                  <a:pt x="1573" y="1997"/>
                </a:lnTo>
                <a:lnTo>
                  <a:pt x="1570" y="1997"/>
                </a:lnTo>
                <a:lnTo>
                  <a:pt x="1567" y="1997"/>
                </a:lnTo>
                <a:lnTo>
                  <a:pt x="1565" y="1997"/>
                </a:lnTo>
                <a:lnTo>
                  <a:pt x="1565" y="1997"/>
                </a:lnTo>
                <a:lnTo>
                  <a:pt x="1563" y="1997"/>
                </a:lnTo>
                <a:lnTo>
                  <a:pt x="1562" y="1997"/>
                </a:lnTo>
                <a:lnTo>
                  <a:pt x="1560" y="1997"/>
                </a:lnTo>
                <a:lnTo>
                  <a:pt x="1560" y="1997"/>
                </a:lnTo>
                <a:lnTo>
                  <a:pt x="1558" y="1997"/>
                </a:lnTo>
                <a:lnTo>
                  <a:pt x="1556" y="1997"/>
                </a:lnTo>
                <a:lnTo>
                  <a:pt x="1552" y="1997"/>
                </a:lnTo>
                <a:lnTo>
                  <a:pt x="1549" y="1997"/>
                </a:lnTo>
                <a:lnTo>
                  <a:pt x="1543" y="1997"/>
                </a:lnTo>
                <a:lnTo>
                  <a:pt x="1538" y="1997"/>
                </a:lnTo>
                <a:lnTo>
                  <a:pt x="1530" y="1997"/>
                </a:lnTo>
                <a:lnTo>
                  <a:pt x="1525" y="1997"/>
                </a:lnTo>
                <a:lnTo>
                  <a:pt x="1517" y="1997"/>
                </a:lnTo>
                <a:lnTo>
                  <a:pt x="1509" y="1997"/>
                </a:lnTo>
                <a:lnTo>
                  <a:pt x="1501" y="1997"/>
                </a:lnTo>
                <a:lnTo>
                  <a:pt x="1494" y="1996"/>
                </a:lnTo>
                <a:lnTo>
                  <a:pt x="1485" y="1996"/>
                </a:lnTo>
                <a:lnTo>
                  <a:pt x="1477" y="1996"/>
                </a:lnTo>
                <a:lnTo>
                  <a:pt x="1470" y="1996"/>
                </a:lnTo>
                <a:lnTo>
                  <a:pt x="1462" y="1996"/>
                </a:lnTo>
                <a:lnTo>
                  <a:pt x="1455" y="1996"/>
                </a:lnTo>
                <a:lnTo>
                  <a:pt x="1447" y="1996"/>
                </a:lnTo>
                <a:lnTo>
                  <a:pt x="1441" y="1996"/>
                </a:lnTo>
                <a:lnTo>
                  <a:pt x="1435" y="1994"/>
                </a:lnTo>
                <a:lnTo>
                  <a:pt x="1428" y="1994"/>
                </a:lnTo>
                <a:lnTo>
                  <a:pt x="1422" y="1994"/>
                </a:lnTo>
                <a:lnTo>
                  <a:pt x="1414" y="1994"/>
                </a:lnTo>
                <a:lnTo>
                  <a:pt x="1407" y="1993"/>
                </a:lnTo>
                <a:lnTo>
                  <a:pt x="1399" y="1993"/>
                </a:lnTo>
                <a:lnTo>
                  <a:pt x="1391" y="1993"/>
                </a:lnTo>
                <a:lnTo>
                  <a:pt x="1384" y="1993"/>
                </a:lnTo>
                <a:lnTo>
                  <a:pt x="1376" y="1991"/>
                </a:lnTo>
                <a:lnTo>
                  <a:pt x="1367" y="1991"/>
                </a:lnTo>
                <a:lnTo>
                  <a:pt x="1360" y="1991"/>
                </a:lnTo>
                <a:lnTo>
                  <a:pt x="1353" y="1991"/>
                </a:lnTo>
                <a:lnTo>
                  <a:pt x="1345" y="1989"/>
                </a:lnTo>
                <a:lnTo>
                  <a:pt x="1338" y="1989"/>
                </a:lnTo>
                <a:lnTo>
                  <a:pt x="1332" y="1987"/>
                </a:lnTo>
                <a:lnTo>
                  <a:pt x="1326" y="1987"/>
                </a:lnTo>
                <a:lnTo>
                  <a:pt x="1322" y="1986"/>
                </a:lnTo>
                <a:lnTo>
                  <a:pt x="1316" y="1986"/>
                </a:lnTo>
                <a:lnTo>
                  <a:pt x="1311" y="1984"/>
                </a:lnTo>
                <a:lnTo>
                  <a:pt x="1303" y="1984"/>
                </a:lnTo>
                <a:lnTo>
                  <a:pt x="1297" y="1983"/>
                </a:lnTo>
                <a:lnTo>
                  <a:pt x="1290" y="1983"/>
                </a:lnTo>
                <a:lnTo>
                  <a:pt x="1283" y="1981"/>
                </a:lnTo>
                <a:lnTo>
                  <a:pt x="1275" y="1979"/>
                </a:lnTo>
                <a:lnTo>
                  <a:pt x="1267" y="1977"/>
                </a:lnTo>
                <a:lnTo>
                  <a:pt x="1259" y="1977"/>
                </a:lnTo>
                <a:lnTo>
                  <a:pt x="1251" y="1975"/>
                </a:lnTo>
                <a:lnTo>
                  <a:pt x="1244" y="1973"/>
                </a:lnTo>
                <a:lnTo>
                  <a:pt x="1236" y="1971"/>
                </a:lnTo>
                <a:lnTo>
                  <a:pt x="1229" y="1971"/>
                </a:lnTo>
                <a:lnTo>
                  <a:pt x="1223" y="1969"/>
                </a:lnTo>
                <a:lnTo>
                  <a:pt x="1217" y="1967"/>
                </a:lnTo>
                <a:lnTo>
                  <a:pt x="1211" y="1965"/>
                </a:lnTo>
                <a:lnTo>
                  <a:pt x="1205" y="1965"/>
                </a:lnTo>
                <a:lnTo>
                  <a:pt x="1199" y="1963"/>
                </a:lnTo>
                <a:lnTo>
                  <a:pt x="1191" y="1961"/>
                </a:lnTo>
                <a:lnTo>
                  <a:pt x="1186" y="1959"/>
                </a:lnTo>
                <a:lnTo>
                  <a:pt x="1178" y="1957"/>
                </a:lnTo>
                <a:lnTo>
                  <a:pt x="1171" y="1955"/>
                </a:lnTo>
                <a:lnTo>
                  <a:pt x="1163" y="1953"/>
                </a:lnTo>
                <a:lnTo>
                  <a:pt x="1158" y="1950"/>
                </a:lnTo>
                <a:lnTo>
                  <a:pt x="1150" y="1948"/>
                </a:lnTo>
                <a:lnTo>
                  <a:pt x="1143" y="1946"/>
                </a:lnTo>
                <a:lnTo>
                  <a:pt x="1137" y="1945"/>
                </a:lnTo>
                <a:lnTo>
                  <a:pt x="1131" y="1943"/>
                </a:lnTo>
                <a:lnTo>
                  <a:pt x="1125" y="1941"/>
                </a:lnTo>
                <a:lnTo>
                  <a:pt x="1120" y="1939"/>
                </a:lnTo>
                <a:lnTo>
                  <a:pt x="1116" y="1937"/>
                </a:lnTo>
                <a:lnTo>
                  <a:pt x="1113" y="1935"/>
                </a:lnTo>
                <a:lnTo>
                  <a:pt x="1108" y="1935"/>
                </a:lnTo>
                <a:lnTo>
                  <a:pt x="1104" y="1933"/>
                </a:lnTo>
                <a:lnTo>
                  <a:pt x="1100" y="1931"/>
                </a:lnTo>
                <a:lnTo>
                  <a:pt x="1096" y="1929"/>
                </a:lnTo>
                <a:lnTo>
                  <a:pt x="1091" y="1927"/>
                </a:lnTo>
                <a:lnTo>
                  <a:pt x="1087" y="1925"/>
                </a:lnTo>
                <a:lnTo>
                  <a:pt x="1083" y="1923"/>
                </a:lnTo>
                <a:lnTo>
                  <a:pt x="1080" y="1921"/>
                </a:lnTo>
                <a:lnTo>
                  <a:pt x="1075" y="1919"/>
                </a:lnTo>
                <a:lnTo>
                  <a:pt x="1072" y="1918"/>
                </a:lnTo>
                <a:lnTo>
                  <a:pt x="1068" y="1916"/>
                </a:lnTo>
                <a:lnTo>
                  <a:pt x="1065" y="1914"/>
                </a:lnTo>
                <a:lnTo>
                  <a:pt x="1061" y="1913"/>
                </a:lnTo>
                <a:lnTo>
                  <a:pt x="1059" y="1911"/>
                </a:lnTo>
                <a:lnTo>
                  <a:pt x="1057" y="1910"/>
                </a:lnTo>
                <a:lnTo>
                  <a:pt x="1055" y="1908"/>
                </a:lnTo>
                <a:lnTo>
                  <a:pt x="1052" y="1908"/>
                </a:lnTo>
                <a:lnTo>
                  <a:pt x="1051" y="1906"/>
                </a:lnTo>
                <a:lnTo>
                  <a:pt x="1047" y="1904"/>
                </a:lnTo>
                <a:lnTo>
                  <a:pt x="1044" y="1901"/>
                </a:lnTo>
                <a:lnTo>
                  <a:pt x="1039" y="1899"/>
                </a:lnTo>
                <a:lnTo>
                  <a:pt x="1035" y="1896"/>
                </a:lnTo>
                <a:lnTo>
                  <a:pt x="1031" y="1892"/>
                </a:lnTo>
                <a:lnTo>
                  <a:pt x="1027" y="1888"/>
                </a:lnTo>
                <a:lnTo>
                  <a:pt x="1021" y="1885"/>
                </a:lnTo>
                <a:lnTo>
                  <a:pt x="1016" y="1881"/>
                </a:lnTo>
                <a:lnTo>
                  <a:pt x="1011" y="1878"/>
                </a:lnTo>
                <a:lnTo>
                  <a:pt x="1007" y="1874"/>
                </a:lnTo>
                <a:lnTo>
                  <a:pt x="1001" y="1870"/>
                </a:lnTo>
                <a:lnTo>
                  <a:pt x="997" y="1867"/>
                </a:lnTo>
                <a:lnTo>
                  <a:pt x="991" y="1863"/>
                </a:lnTo>
                <a:lnTo>
                  <a:pt x="987" y="1858"/>
                </a:lnTo>
                <a:lnTo>
                  <a:pt x="981" y="1854"/>
                </a:lnTo>
                <a:lnTo>
                  <a:pt x="975" y="1849"/>
                </a:lnTo>
                <a:lnTo>
                  <a:pt x="969" y="1844"/>
                </a:lnTo>
                <a:lnTo>
                  <a:pt x="963" y="1838"/>
                </a:lnTo>
                <a:lnTo>
                  <a:pt x="955" y="1833"/>
                </a:lnTo>
                <a:lnTo>
                  <a:pt x="949" y="1826"/>
                </a:lnTo>
                <a:lnTo>
                  <a:pt x="941" y="1819"/>
                </a:lnTo>
                <a:lnTo>
                  <a:pt x="936" y="1811"/>
                </a:lnTo>
                <a:lnTo>
                  <a:pt x="928" y="1805"/>
                </a:lnTo>
                <a:lnTo>
                  <a:pt x="921" y="1798"/>
                </a:lnTo>
                <a:lnTo>
                  <a:pt x="914" y="1790"/>
                </a:lnTo>
                <a:lnTo>
                  <a:pt x="908" y="1783"/>
                </a:lnTo>
                <a:lnTo>
                  <a:pt x="901" y="1777"/>
                </a:lnTo>
                <a:lnTo>
                  <a:pt x="896" y="1770"/>
                </a:lnTo>
                <a:lnTo>
                  <a:pt x="890" y="1763"/>
                </a:lnTo>
                <a:lnTo>
                  <a:pt x="886" y="1756"/>
                </a:lnTo>
                <a:lnTo>
                  <a:pt x="880" y="1750"/>
                </a:lnTo>
                <a:lnTo>
                  <a:pt x="875" y="1744"/>
                </a:lnTo>
                <a:lnTo>
                  <a:pt x="869" y="1737"/>
                </a:lnTo>
                <a:lnTo>
                  <a:pt x="863" y="1729"/>
                </a:lnTo>
                <a:lnTo>
                  <a:pt x="858" y="1721"/>
                </a:lnTo>
                <a:lnTo>
                  <a:pt x="852" y="1712"/>
                </a:lnTo>
                <a:lnTo>
                  <a:pt x="846" y="1703"/>
                </a:lnTo>
                <a:lnTo>
                  <a:pt x="841" y="1694"/>
                </a:lnTo>
                <a:lnTo>
                  <a:pt x="835" y="1687"/>
                </a:lnTo>
                <a:lnTo>
                  <a:pt x="829" y="1677"/>
                </a:lnTo>
                <a:lnTo>
                  <a:pt x="824" y="1669"/>
                </a:lnTo>
                <a:lnTo>
                  <a:pt x="819" y="1660"/>
                </a:lnTo>
                <a:lnTo>
                  <a:pt x="815" y="1653"/>
                </a:lnTo>
                <a:lnTo>
                  <a:pt x="811" y="1645"/>
                </a:lnTo>
                <a:lnTo>
                  <a:pt x="807" y="1639"/>
                </a:lnTo>
                <a:lnTo>
                  <a:pt x="805" y="1631"/>
                </a:lnTo>
                <a:lnTo>
                  <a:pt x="801" y="1625"/>
                </a:lnTo>
                <a:lnTo>
                  <a:pt x="798" y="1618"/>
                </a:lnTo>
                <a:lnTo>
                  <a:pt x="793" y="1610"/>
                </a:lnTo>
                <a:lnTo>
                  <a:pt x="790" y="1601"/>
                </a:lnTo>
                <a:lnTo>
                  <a:pt x="784" y="1591"/>
                </a:lnTo>
                <a:lnTo>
                  <a:pt x="780" y="1580"/>
                </a:lnTo>
                <a:lnTo>
                  <a:pt x="775" y="1569"/>
                </a:lnTo>
                <a:lnTo>
                  <a:pt x="771" y="1557"/>
                </a:lnTo>
                <a:lnTo>
                  <a:pt x="765" y="1546"/>
                </a:lnTo>
                <a:lnTo>
                  <a:pt x="760" y="1535"/>
                </a:lnTo>
                <a:lnTo>
                  <a:pt x="755" y="1524"/>
                </a:lnTo>
                <a:lnTo>
                  <a:pt x="751" y="1513"/>
                </a:lnTo>
                <a:lnTo>
                  <a:pt x="745" y="1503"/>
                </a:lnTo>
                <a:lnTo>
                  <a:pt x="741" y="1491"/>
                </a:lnTo>
                <a:lnTo>
                  <a:pt x="737" y="1481"/>
                </a:lnTo>
                <a:lnTo>
                  <a:pt x="733" y="1471"/>
                </a:lnTo>
                <a:lnTo>
                  <a:pt x="728" y="1461"/>
                </a:lnTo>
                <a:lnTo>
                  <a:pt x="724" y="1451"/>
                </a:lnTo>
                <a:lnTo>
                  <a:pt x="719" y="1440"/>
                </a:lnTo>
                <a:lnTo>
                  <a:pt x="715" y="1428"/>
                </a:lnTo>
                <a:lnTo>
                  <a:pt x="709" y="1417"/>
                </a:lnTo>
                <a:lnTo>
                  <a:pt x="704" y="1405"/>
                </a:lnTo>
                <a:lnTo>
                  <a:pt x="699" y="1393"/>
                </a:lnTo>
                <a:lnTo>
                  <a:pt x="695" y="1380"/>
                </a:lnTo>
                <a:lnTo>
                  <a:pt x="689" y="1369"/>
                </a:lnTo>
                <a:lnTo>
                  <a:pt x="685" y="1357"/>
                </a:lnTo>
                <a:lnTo>
                  <a:pt x="680" y="1345"/>
                </a:lnTo>
                <a:lnTo>
                  <a:pt x="676" y="1334"/>
                </a:lnTo>
                <a:lnTo>
                  <a:pt x="672" y="1325"/>
                </a:lnTo>
                <a:lnTo>
                  <a:pt x="668" y="1315"/>
                </a:lnTo>
                <a:lnTo>
                  <a:pt x="664" y="1307"/>
                </a:lnTo>
                <a:lnTo>
                  <a:pt x="662" y="1298"/>
                </a:lnTo>
                <a:lnTo>
                  <a:pt x="658" y="1291"/>
                </a:lnTo>
                <a:lnTo>
                  <a:pt x="655" y="1281"/>
                </a:lnTo>
                <a:lnTo>
                  <a:pt x="651" y="1271"/>
                </a:lnTo>
                <a:lnTo>
                  <a:pt x="647" y="1259"/>
                </a:lnTo>
                <a:lnTo>
                  <a:pt x="642" y="1246"/>
                </a:lnTo>
                <a:lnTo>
                  <a:pt x="638" y="1232"/>
                </a:lnTo>
                <a:lnTo>
                  <a:pt x="634" y="1217"/>
                </a:lnTo>
                <a:lnTo>
                  <a:pt x="631" y="1201"/>
                </a:lnTo>
                <a:lnTo>
                  <a:pt x="625" y="1186"/>
                </a:lnTo>
                <a:lnTo>
                  <a:pt x="621" y="1169"/>
                </a:lnTo>
                <a:lnTo>
                  <a:pt x="617" y="1154"/>
                </a:lnTo>
                <a:lnTo>
                  <a:pt x="613" y="1137"/>
                </a:lnTo>
                <a:lnTo>
                  <a:pt x="609" y="1122"/>
                </a:lnTo>
                <a:lnTo>
                  <a:pt x="605" y="1105"/>
                </a:lnTo>
                <a:lnTo>
                  <a:pt x="602" y="1090"/>
                </a:lnTo>
                <a:lnTo>
                  <a:pt x="599" y="1075"/>
                </a:lnTo>
                <a:lnTo>
                  <a:pt x="595" y="1061"/>
                </a:lnTo>
                <a:lnTo>
                  <a:pt x="592" y="1047"/>
                </a:lnTo>
                <a:lnTo>
                  <a:pt x="588" y="1031"/>
                </a:lnTo>
                <a:lnTo>
                  <a:pt x="585" y="1016"/>
                </a:lnTo>
                <a:lnTo>
                  <a:pt x="582" y="1001"/>
                </a:lnTo>
                <a:lnTo>
                  <a:pt x="579" y="986"/>
                </a:lnTo>
                <a:lnTo>
                  <a:pt x="575" y="971"/>
                </a:lnTo>
                <a:lnTo>
                  <a:pt x="574" y="955"/>
                </a:lnTo>
                <a:lnTo>
                  <a:pt x="570" y="942"/>
                </a:lnTo>
                <a:lnTo>
                  <a:pt x="568" y="929"/>
                </a:lnTo>
                <a:lnTo>
                  <a:pt x="566" y="917"/>
                </a:lnTo>
                <a:lnTo>
                  <a:pt x="564" y="904"/>
                </a:lnTo>
                <a:lnTo>
                  <a:pt x="563" y="894"/>
                </a:lnTo>
                <a:lnTo>
                  <a:pt x="561" y="885"/>
                </a:lnTo>
                <a:lnTo>
                  <a:pt x="559" y="877"/>
                </a:lnTo>
                <a:lnTo>
                  <a:pt x="559" y="870"/>
                </a:lnTo>
                <a:lnTo>
                  <a:pt x="557" y="866"/>
                </a:lnTo>
                <a:lnTo>
                  <a:pt x="557" y="863"/>
                </a:lnTo>
                <a:lnTo>
                  <a:pt x="557" y="860"/>
                </a:lnTo>
                <a:lnTo>
                  <a:pt x="557" y="857"/>
                </a:lnTo>
                <a:lnTo>
                  <a:pt x="557" y="857"/>
                </a:lnTo>
                <a:lnTo>
                  <a:pt x="557" y="855"/>
                </a:lnTo>
                <a:lnTo>
                  <a:pt x="557" y="854"/>
                </a:lnTo>
                <a:lnTo>
                  <a:pt x="557" y="853"/>
                </a:lnTo>
                <a:lnTo>
                  <a:pt x="556" y="851"/>
                </a:lnTo>
                <a:lnTo>
                  <a:pt x="556" y="849"/>
                </a:lnTo>
                <a:lnTo>
                  <a:pt x="556" y="847"/>
                </a:lnTo>
                <a:lnTo>
                  <a:pt x="556" y="843"/>
                </a:lnTo>
                <a:lnTo>
                  <a:pt x="554" y="837"/>
                </a:lnTo>
                <a:lnTo>
                  <a:pt x="554" y="831"/>
                </a:lnTo>
                <a:lnTo>
                  <a:pt x="554" y="823"/>
                </a:lnTo>
                <a:lnTo>
                  <a:pt x="554" y="813"/>
                </a:lnTo>
                <a:lnTo>
                  <a:pt x="534" y="766"/>
                </a:lnTo>
                <a:lnTo>
                  <a:pt x="510" y="711"/>
                </a:lnTo>
                <a:lnTo>
                  <a:pt x="480" y="650"/>
                </a:lnTo>
                <a:lnTo>
                  <a:pt x="447" y="583"/>
                </a:lnTo>
                <a:lnTo>
                  <a:pt x="409" y="515"/>
                </a:lnTo>
                <a:lnTo>
                  <a:pt x="370" y="445"/>
                </a:lnTo>
                <a:lnTo>
                  <a:pt x="329" y="375"/>
                </a:lnTo>
                <a:lnTo>
                  <a:pt x="287" y="305"/>
                </a:lnTo>
                <a:lnTo>
                  <a:pt x="244" y="240"/>
                </a:lnTo>
                <a:lnTo>
                  <a:pt x="201" y="179"/>
                </a:lnTo>
                <a:lnTo>
                  <a:pt x="159" y="125"/>
                </a:lnTo>
                <a:lnTo>
                  <a:pt x="121" y="78"/>
                </a:lnTo>
                <a:lnTo>
                  <a:pt x="84" y="41"/>
                </a:lnTo>
                <a:lnTo>
                  <a:pt x="51" y="15"/>
                </a:lnTo>
                <a:lnTo>
                  <a:pt x="23" y="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475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94080" y="3218040"/>
            <a:ext cx="2700360" cy="3070080"/>
          </a:xfrm>
          <a:custGeom>
            <a:avLst/>
            <a:gdLst/>
            <a:ahLst/>
            <a:rect l="l" t="t" r="r" b="b"/>
            <a:pathLst>
              <a:path w="1143" h="1299">
                <a:moveTo>
                  <a:pt x="0" y="0"/>
                </a:moveTo>
                <a:lnTo>
                  <a:pt x="0" y="12"/>
                </a:lnTo>
                <a:lnTo>
                  <a:pt x="1" y="20"/>
                </a:lnTo>
                <a:lnTo>
                  <a:pt x="1" y="28"/>
                </a:lnTo>
                <a:lnTo>
                  <a:pt x="3" y="32"/>
                </a:lnTo>
                <a:lnTo>
                  <a:pt x="3" y="37"/>
                </a:lnTo>
                <a:lnTo>
                  <a:pt x="3" y="40"/>
                </a:lnTo>
                <a:lnTo>
                  <a:pt x="3" y="42"/>
                </a:lnTo>
                <a:lnTo>
                  <a:pt x="4" y="43"/>
                </a:lnTo>
                <a:lnTo>
                  <a:pt x="4" y="45"/>
                </a:lnTo>
                <a:lnTo>
                  <a:pt x="4" y="46"/>
                </a:lnTo>
                <a:lnTo>
                  <a:pt x="4" y="48"/>
                </a:lnTo>
                <a:lnTo>
                  <a:pt x="4" y="49"/>
                </a:lnTo>
                <a:lnTo>
                  <a:pt x="4" y="52"/>
                </a:lnTo>
                <a:lnTo>
                  <a:pt x="5" y="54"/>
                </a:lnTo>
                <a:lnTo>
                  <a:pt x="5" y="58"/>
                </a:lnTo>
                <a:lnTo>
                  <a:pt x="6" y="62"/>
                </a:lnTo>
                <a:lnTo>
                  <a:pt x="6" y="70"/>
                </a:lnTo>
                <a:lnTo>
                  <a:pt x="8" y="78"/>
                </a:lnTo>
                <a:lnTo>
                  <a:pt x="10" y="89"/>
                </a:lnTo>
                <a:lnTo>
                  <a:pt x="12" y="100"/>
                </a:lnTo>
                <a:lnTo>
                  <a:pt x="14" y="113"/>
                </a:lnTo>
                <a:lnTo>
                  <a:pt x="16" y="126"/>
                </a:lnTo>
                <a:lnTo>
                  <a:pt x="18" y="141"/>
                </a:lnTo>
                <a:lnTo>
                  <a:pt x="22" y="156"/>
                </a:lnTo>
                <a:lnTo>
                  <a:pt x="24" y="173"/>
                </a:lnTo>
                <a:lnTo>
                  <a:pt x="27" y="189"/>
                </a:lnTo>
                <a:lnTo>
                  <a:pt x="30" y="206"/>
                </a:lnTo>
                <a:lnTo>
                  <a:pt x="34" y="222"/>
                </a:lnTo>
                <a:lnTo>
                  <a:pt x="38" y="239"/>
                </a:lnTo>
                <a:lnTo>
                  <a:pt x="42" y="256"/>
                </a:lnTo>
                <a:lnTo>
                  <a:pt x="45" y="273"/>
                </a:lnTo>
                <a:lnTo>
                  <a:pt x="49" y="288"/>
                </a:lnTo>
                <a:lnTo>
                  <a:pt x="52" y="304"/>
                </a:lnTo>
                <a:lnTo>
                  <a:pt x="56" y="321"/>
                </a:lnTo>
                <a:lnTo>
                  <a:pt x="60" y="338"/>
                </a:lnTo>
                <a:lnTo>
                  <a:pt x="64" y="355"/>
                </a:lnTo>
                <a:lnTo>
                  <a:pt x="68" y="374"/>
                </a:lnTo>
                <a:lnTo>
                  <a:pt x="73" y="390"/>
                </a:lnTo>
                <a:lnTo>
                  <a:pt x="78" y="409"/>
                </a:lnTo>
                <a:lnTo>
                  <a:pt x="83" y="426"/>
                </a:lnTo>
                <a:lnTo>
                  <a:pt x="87" y="443"/>
                </a:lnTo>
                <a:lnTo>
                  <a:pt x="92" y="459"/>
                </a:lnTo>
                <a:lnTo>
                  <a:pt x="96" y="475"/>
                </a:lnTo>
                <a:lnTo>
                  <a:pt x="102" y="489"/>
                </a:lnTo>
                <a:lnTo>
                  <a:pt x="105" y="503"/>
                </a:lnTo>
                <a:lnTo>
                  <a:pt x="110" y="514"/>
                </a:lnTo>
                <a:lnTo>
                  <a:pt x="113" y="524"/>
                </a:lnTo>
                <a:lnTo>
                  <a:pt x="118" y="532"/>
                </a:lnTo>
                <a:lnTo>
                  <a:pt x="120" y="541"/>
                </a:lnTo>
                <a:lnTo>
                  <a:pt x="124" y="550"/>
                </a:lnTo>
                <a:lnTo>
                  <a:pt x="128" y="561"/>
                </a:lnTo>
                <a:lnTo>
                  <a:pt x="133" y="572"/>
                </a:lnTo>
                <a:lnTo>
                  <a:pt x="136" y="584"/>
                </a:lnTo>
                <a:lnTo>
                  <a:pt x="142" y="596"/>
                </a:lnTo>
                <a:lnTo>
                  <a:pt x="148" y="609"/>
                </a:lnTo>
                <a:lnTo>
                  <a:pt x="153" y="622"/>
                </a:lnTo>
                <a:lnTo>
                  <a:pt x="158" y="636"/>
                </a:lnTo>
                <a:lnTo>
                  <a:pt x="164" y="649"/>
                </a:lnTo>
                <a:lnTo>
                  <a:pt x="170" y="662"/>
                </a:lnTo>
                <a:lnTo>
                  <a:pt x="175" y="675"/>
                </a:lnTo>
                <a:lnTo>
                  <a:pt x="180" y="688"/>
                </a:lnTo>
                <a:lnTo>
                  <a:pt x="185" y="700"/>
                </a:lnTo>
                <a:lnTo>
                  <a:pt x="190" y="711"/>
                </a:lnTo>
                <a:lnTo>
                  <a:pt x="196" y="721"/>
                </a:lnTo>
                <a:lnTo>
                  <a:pt x="199" y="732"/>
                </a:lnTo>
                <a:lnTo>
                  <a:pt x="204" y="743"/>
                </a:lnTo>
                <a:lnTo>
                  <a:pt x="209" y="756"/>
                </a:lnTo>
                <a:lnTo>
                  <a:pt x="214" y="767"/>
                </a:lnTo>
                <a:lnTo>
                  <a:pt x="220" y="780"/>
                </a:lnTo>
                <a:lnTo>
                  <a:pt x="226" y="792"/>
                </a:lnTo>
                <a:lnTo>
                  <a:pt x="231" y="805"/>
                </a:lnTo>
                <a:lnTo>
                  <a:pt x="237" y="816"/>
                </a:lnTo>
                <a:lnTo>
                  <a:pt x="241" y="829"/>
                </a:lnTo>
                <a:lnTo>
                  <a:pt x="247" y="841"/>
                </a:lnTo>
                <a:lnTo>
                  <a:pt x="252" y="852"/>
                </a:lnTo>
                <a:lnTo>
                  <a:pt x="258" y="863"/>
                </a:lnTo>
                <a:lnTo>
                  <a:pt x="261" y="874"/>
                </a:lnTo>
                <a:lnTo>
                  <a:pt x="266" y="882"/>
                </a:lnTo>
                <a:lnTo>
                  <a:pt x="269" y="890"/>
                </a:lnTo>
                <a:lnTo>
                  <a:pt x="274" y="897"/>
                </a:lnTo>
                <a:lnTo>
                  <a:pt x="276" y="905"/>
                </a:lnTo>
                <a:lnTo>
                  <a:pt x="280" y="912"/>
                </a:lnTo>
                <a:lnTo>
                  <a:pt x="284" y="921"/>
                </a:lnTo>
                <a:lnTo>
                  <a:pt x="290" y="928"/>
                </a:lnTo>
                <a:lnTo>
                  <a:pt x="295" y="938"/>
                </a:lnTo>
                <a:lnTo>
                  <a:pt x="300" y="947"/>
                </a:lnTo>
                <a:lnTo>
                  <a:pt x="306" y="956"/>
                </a:lnTo>
                <a:lnTo>
                  <a:pt x="313" y="965"/>
                </a:lnTo>
                <a:lnTo>
                  <a:pt x="318" y="976"/>
                </a:lnTo>
                <a:lnTo>
                  <a:pt x="325" y="985"/>
                </a:lnTo>
                <a:lnTo>
                  <a:pt x="330" y="995"/>
                </a:lnTo>
                <a:lnTo>
                  <a:pt x="338" y="1003"/>
                </a:lnTo>
                <a:lnTo>
                  <a:pt x="344" y="1013"/>
                </a:lnTo>
                <a:lnTo>
                  <a:pt x="350" y="1020"/>
                </a:lnTo>
                <a:lnTo>
                  <a:pt x="355" y="1028"/>
                </a:lnTo>
                <a:lnTo>
                  <a:pt x="362" y="1034"/>
                </a:lnTo>
                <a:lnTo>
                  <a:pt x="367" y="1042"/>
                </a:lnTo>
                <a:lnTo>
                  <a:pt x="372" y="1048"/>
                </a:lnTo>
                <a:lnTo>
                  <a:pt x="378" y="1056"/>
                </a:lnTo>
                <a:lnTo>
                  <a:pt x="386" y="1063"/>
                </a:lnTo>
                <a:lnTo>
                  <a:pt x="393" y="1072"/>
                </a:lnTo>
                <a:lnTo>
                  <a:pt x="400" y="1080"/>
                </a:lnTo>
                <a:lnTo>
                  <a:pt x="408" y="1087"/>
                </a:lnTo>
                <a:lnTo>
                  <a:pt x="416" y="1094"/>
                </a:lnTo>
                <a:lnTo>
                  <a:pt x="424" y="1102"/>
                </a:lnTo>
                <a:lnTo>
                  <a:pt x="432" y="1110"/>
                </a:lnTo>
                <a:lnTo>
                  <a:pt x="439" y="1118"/>
                </a:lnTo>
                <a:lnTo>
                  <a:pt x="447" y="1124"/>
                </a:lnTo>
                <a:lnTo>
                  <a:pt x="453" y="1130"/>
                </a:lnTo>
                <a:lnTo>
                  <a:pt x="461" y="1136"/>
                </a:lnTo>
                <a:lnTo>
                  <a:pt x="466" y="1141"/>
                </a:lnTo>
                <a:lnTo>
                  <a:pt x="473" y="1144"/>
                </a:lnTo>
                <a:lnTo>
                  <a:pt x="478" y="1150"/>
                </a:lnTo>
                <a:lnTo>
                  <a:pt x="483" y="1154"/>
                </a:lnTo>
                <a:lnTo>
                  <a:pt x="489" y="1158"/>
                </a:lnTo>
                <a:lnTo>
                  <a:pt x="494" y="1162"/>
                </a:lnTo>
                <a:lnTo>
                  <a:pt x="500" y="1167"/>
                </a:lnTo>
                <a:lnTo>
                  <a:pt x="505" y="1170"/>
                </a:lnTo>
                <a:lnTo>
                  <a:pt x="511" y="1174"/>
                </a:lnTo>
                <a:lnTo>
                  <a:pt x="516" y="1178"/>
                </a:lnTo>
                <a:lnTo>
                  <a:pt x="520" y="1182"/>
                </a:lnTo>
                <a:lnTo>
                  <a:pt x="526" y="1186"/>
                </a:lnTo>
                <a:lnTo>
                  <a:pt x="530" y="1190"/>
                </a:lnTo>
                <a:lnTo>
                  <a:pt x="535" y="1192"/>
                </a:lnTo>
                <a:lnTo>
                  <a:pt x="538" y="1196"/>
                </a:lnTo>
                <a:lnTo>
                  <a:pt x="542" y="1198"/>
                </a:lnTo>
                <a:lnTo>
                  <a:pt x="544" y="1200"/>
                </a:lnTo>
                <a:lnTo>
                  <a:pt x="548" y="1200"/>
                </a:lnTo>
                <a:lnTo>
                  <a:pt x="550" y="1202"/>
                </a:lnTo>
                <a:lnTo>
                  <a:pt x="552" y="1204"/>
                </a:lnTo>
                <a:lnTo>
                  <a:pt x="554" y="1206"/>
                </a:lnTo>
                <a:lnTo>
                  <a:pt x="558" y="1207"/>
                </a:lnTo>
                <a:lnTo>
                  <a:pt x="561" y="1209"/>
                </a:lnTo>
                <a:lnTo>
                  <a:pt x="565" y="1210"/>
                </a:lnTo>
                <a:lnTo>
                  <a:pt x="569" y="1212"/>
                </a:lnTo>
                <a:lnTo>
                  <a:pt x="574" y="1214"/>
                </a:lnTo>
                <a:lnTo>
                  <a:pt x="578" y="1217"/>
                </a:lnTo>
                <a:lnTo>
                  <a:pt x="582" y="1219"/>
                </a:lnTo>
                <a:lnTo>
                  <a:pt x="586" y="1221"/>
                </a:lnTo>
                <a:lnTo>
                  <a:pt x="592" y="1223"/>
                </a:lnTo>
                <a:lnTo>
                  <a:pt x="596" y="1225"/>
                </a:lnTo>
                <a:lnTo>
                  <a:pt x="601" y="1227"/>
                </a:lnTo>
                <a:lnTo>
                  <a:pt x="604" y="1229"/>
                </a:lnTo>
                <a:lnTo>
                  <a:pt x="610" y="1230"/>
                </a:lnTo>
                <a:lnTo>
                  <a:pt x="614" y="1232"/>
                </a:lnTo>
                <a:lnTo>
                  <a:pt x="618" y="1234"/>
                </a:lnTo>
                <a:lnTo>
                  <a:pt x="624" y="1236"/>
                </a:lnTo>
                <a:lnTo>
                  <a:pt x="630" y="1238"/>
                </a:lnTo>
                <a:lnTo>
                  <a:pt x="636" y="1241"/>
                </a:lnTo>
                <a:lnTo>
                  <a:pt x="644" y="1243"/>
                </a:lnTo>
                <a:lnTo>
                  <a:pt x="651" y="1245"/>
                </a:lnTo>
                <a:lnTo>
                  <a:pt x="659" y="1247"/>
                </a:lnTo>
                <a:lnTo>
                  <a:pt x="666" y="1250"/>
                </a:lnTo>
                <a:lnTo>
                  <a:pt x="674" y="1252"/>
                </a:lnTo>
                <a:lnTo>
                  <a:pt x="681" y="1254"/>
                </a:lnTo>
                <a:lnTo>
                  <a:pt x="689" y="1256"/>
                </a:lnTo>
                <a:lnTo>
                  <a:pt x="696" y="1257"/>
                </a:lnTo>
                <a:lnTo>
                  <a:pt x="704" y="1259"/>
                </a:lnTo>
                <a:lnTo>
                  <a:pt x="710" y="1261"/>
                </a:lnTo>
                <a:lnTo>
                  <a:pt x="718" y="1262"/>
                </a:lnTo>
                <a:lnTo>
                  <a:pt x="724" y="1264"/>
                </a:lnTo>
                <a:lnTo>
                  <a:pt x="730" y="1266"/>
                </a:lnTo>
                <a:lnTo>
                  <a:pt x="738" y="1268"/>
                </a:lnTo>
                <a:lnTo>
                  <a:pt x="746" y="1270"/>
                </a:lnTo>
                <a:lnTo>
                  <a:pt x="754" y="1272"/>
                </a:lnTo>
                <a:lnTo>
                  <a:pt x="762" y="1274"/>
                </a:lnTo>
                <a:lnTo>
                  <a:pt x="770" y="1276"/>
                </a:lnTo>
                <a:lnTo>
                  <a:pt x="780" y="1276"/>
                </a:lnTo>
                <a:lnTo>
                  <a:pt x="787" y="1278"/>
                </a:lnTo>
                <a:lnTo>
                  <a:pt x="795" y="1280"/>
                </a:lnTo>
                <a:lnTo>
                  <a:pt x="803" y="1282"/>
                </a:lnTo>
                <a:lnTo>
                  <a:pt x="812" y="1282"/>
                </a:lnTo>
                <a:lnTo>
                  <a:pt x="818" y="1284"/>
                </a:lnTo>
                <a:lnTo>
                  <a:pt x="825" y="1284"/>
                </a:lnTo>
                <a:lnTo>
                  <a:pt x="832" y="1286"/>
                </a:lnTo>
                <a:lnTo>
                  <a:pt x="838" y="1286"/>
                </a:lnTo>
                <a:lnTo>
                  <a:pt x="843" y="1287"/>
                </a:lnTo>
                <a:lnTo>
                  <a:pt x="850" y="1287"/>
                </a:lnTo>
                <a:lnTo>
                  <a:pt x="856" y="1288"/>
                </a:lnTo>
                <a:lnTo>
                  <a:pt x="864" y="1288"/>
                </a:lnTo>
                <a:lnTo>
                  <a:pt x="872" y="1290"/>
                </a:lnTo>
                <a:lnTo>
                  <a:pt x="880" y="1290"/>
                </a:lnTo>
                <a:lnTo>
                  <a:pt x="888" y="1290"/>
                </a:lnTo>
                <a:lnTo>
                  <a:pt x="898" y="1290"/>
                </a:lnTo>
                <a:lnTo>
                  <a:pt x="905" y="1292"/>
                </a:lnTo>
                <a:lnTo>
                  <a:pt x="914" y="1292"/>
                </a:lnTo>
                <a:lnTo>
                  <a:pt x="922" y="1294"/>
                </a:lnTo>
                <a:lnTo>
                  <a:pt x="932" y="1294"/>
                </a:lnTo>
                <a:lnTo>
                  <a:pt x="940" y="1295"/>
                </a:lnTo>
                <a:lnTo>
                  <a:pt x="948" y="1295"/>
                </a:lnTo>
                <a:lnTo>
                  <a:pt x="955" y="1295"/>
                </a:lnTo>
                <a:lnTo>
                  <a:pt x="962" y="1295"/>
                </a:lnTo>
                <a:lnTo>
                  <a:pt x="968" y="1297"/>
                </a:lnTo>
                <a:lnTo>
                  <a:pt x="976" y="1297"/>
                </a:lnTo>
                <a:lnTo>
                  <a:pt x="983" y="1297"/>
                </a:lnTo>
                <a:lnTo>
                  <a:pt x="991" y="1297"/>
                </a:lnTo>
                <a:lnTo>
                  <a:pt x="999" y="1297"/>
                </a:lnTo>
                <a:lnTo>
                  <a:pt x="1008" y="1297"/>
                </a:lnTo>
                <a:lnTo>
                  <a:pt x="1017" y="1297"/>
                </a:lnTo>
                <a:lnTo>
                  <a:pt x="1026" y="1297"/>
                </a:lnTo>
                <a:lnTo>
                  <a:pt x="1034" y="1298"/>
                </a:lnTo>
                <a:lnTo>
                  <a:pt x="1043" y="1298"/>
                </a:lnTo>
                <a:lnTo>
                  <a:pt x="1050" y="1298"/>
                </a:lnTo>
                <a:lnTo>
                  <a:pt x="1059" y="1298"/>
                </a:lnTo>
                <a:lnTo>
                  <a:pt x="1066" y="1298"/>
                </a:lnTo>
                <a:lnTo>
                  <a:pt x="1074" y="1298"/>
                </a:lnTo>
                <a:lnTo>
                  <a:pt x="1079" y="1298"/>
                </a:lnTo>
                <a:lnTo>
                  <a:pt x="1086" y="1298"/>
                </a:lnTo>
                <a:lnTo>
                  <a:pt x="1090" y="1298"/>
                </a:lnTo>
                <a:lnTo>
                  <a:pt x="1094" y="1298"/>
                </a:lnTo>
                <a:lnTo>
                  <a:pt x="1096" y="1298"/>
                </a:lnTo>
                <a:lnTo>
                  <a:pt x="1098" y="1298"/>
                </a:lnTo>
                <a:lnTo>
                  <a:pt x="1098" y="1298"/>
                </a:lnTo>
                <a:lnTo>
                  <a:pt x="1100" y="1298"/>
                </a:lnTo>
                <a:lnTo>
                  <a:pt x="1101" y="1298"/>
                </a:lnTo>
                <a:lnTo>
                  <a:pt x="1103" y="1298"/>
                </a:lnTo>
                <a:lnTo>
                  <a:pt x="1104" y="1298"/>
                </a:lnTo>
                <a:lnTo>
                  <a:pt x="1106" y="1298"/>
                </a:lnTo>
                <a:lnTo>
                  <a:pt x="1108" y="1298"/>
                </a:lnTo>
                <a:lnTo>
                  <a:pt x="1113" y="1298"/>
                </a:lnTo>
                <a:lnTo>
                  <a:pt x="1117" y="1298"/>
                </a:lnTo>
                <a:lnTo>
                  <a:pt x="1124" y="1298"/>
                </a:lnTo>
                <a:lnTo>
                  <a:pt x="1131" y="1298"/>
                </a:lnTo>
                <a:lnTo>
                  <a:pt x="1142" y="1298"/>
                </a:lnTo>
              </a:path>
            </a:pathLst>
          </a:custGeom>
          <a:noFill/>
          <a:ln w="5724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97160" y="2867040"/>
            <a:ext cx="2165400" cy="2451240"/>
          </a:xfrm>
          <a:custGeom>
            <a:avLst/>
            <a:gdLst/>
            <a:ahLst/>
            <a:rect l="l" t="t" r="r" b="b"/>
            <a:pathLst>
              <a:path w="916" h="1037">
                <a:moveTo>
                  <a:pt x="0" y="0"/>
                </a:moveTo>
                <a:lnTo>
                  <a:pt x="0" y="9"/>
                </a:lnTo>
                <a:lnTo>
                  <a:pt x="1" y="16"/>
                </a:lnTo>
                <a:lnTo>
                  <a:pt x="1" y="21"/>
                </a:lnTo>
                <a:lnTo>
                  <a:pt x="2" y="25"/>
                </a:lnTo>
                <a:lnTo>
                  <a:pt x="2" y="29"/>
                </a:lnTo>
                <a:lnTo>
                  <a:pt x="2" y="31"/>
                </a:lnTo>
                <a:lnTo>
                  <a:pt x="2" y="33"/>
                </a:lnTo>
                <a:lnTo>
                  <a:pt x="4" y="34"/>
                </a:lnTo>
                <a:lnTo>
                  <a:pt x="4" y="36"/>
                </a:lnTo>
                <a:lnTo>
                  <a:pt x="4" y="36"/>
                </a:lnTo>
                <a:lnTo>
                  <a:pt x="4" y="38"/>
                </a:lnTo>
                <a:lnTo>
                  <a:pt x="4" y="38"/>
                </a:lnTo>
                <a:lnTo>
                  <a:pt x="4" y="41"/>
                </a:lnTo>
                <a:lnTo>
                  <a:pt x="4" y="42"/>
                </a:lnTo>
                <a:lnTo>
                  <a:pt x="4" y="46"/>
                </a:lnTo>
                <a:lnTo>
                  <a:pt x="6" y="49"/>
                </a:lnTo>
                <a:lnTo>
                  <a:pt x="6" y="56"/>
                </a:lnTo>
                <a:lnTo>
                  <a:pt x="7" y="62"/>
                </a:lnTo>
                <a:lnTo>
                  <a:pt x="8" y="71"/>
                </a:lnTo>
                <a:lnTo>
                  <a:pt x="9" y="79"/>
                </a:lnTo>
                <a:lnTo>
                  <a:pt x="10" y="90"/>
                </a:lnTo>
                <a:lnTo>
                  <a:pt x="12" y="100"/>
                </a:lnTo>
                <a:lnTo>
                  <a:pt x="14" y="113"/>
                </a:lnTo>
                <a:lnTo>
                  <a:pt x="18" y="124"/>
                </a:lnTo>
                <a:lnTo>
                  <a:pt x="19" y="138"/>
                </a:lnTo>
                <a:lnTo>
                  <a:pt x="22" y="151"/>
                </a:lnTo>
                <a:lnTo>
                  <a:pt x="24" y="164"/>
                </a:lnTo>
                <a:lnTo>
                  <a:pt x="28" y="177"/>
                </a:lnTo>
                <a:lnTo>
                  <a:pt x="30" y="191"/>
                </a:lnTo>
                <a:lnTo>
                  <a:pt x="34" y="204"/>
                </a:lnTo>
                <a:lnTo>
                  <a:pt x="36" y="217"/>
                </a:lnTo>
                <a:lnTo>
                  <a:pt x="40" y="229"/>
                </a:lnTo>
                <a:lnTo>
                  <a:pt x="42" y="242"/>
                </a:lnTo>
                <a:lnTo>
                  <a:pt x="45" y="255"/>
                </a:lnTo>
                <a:lnTo>
                  <a:pt x="48" y="270"/>
                </a:lnTo>
                <a:lnTo>
                  <a:pt x="52" y="283"/>
                </a:lnTo>
                <a:lnTo>
                  <a:pt x="56" y="298"/>
                </a:lnTo>
                <a:lnTo>
                  <a:pt x="59" y="312"/>
                </a:lnTo>
                <a:lnTo>
                  <a:pt x="63" y="326"/>
                </a:lnTo>
                <a:lnTo>
                  <a:pt x="67" y="339"/>
                </a:lnTo>
                <a:lnTo>
                  <a:pt x="70" y="353"/>
                </a:lnTo>
                <a:lnTo>
                  <a:pt x="74" y="366"/>
                </a:lnTo>
                <a:lnTo>
                  <a:pt x="77" y="378"/>
                </a:lnTo>
                <a:lnTo>
                  <a:pt x="81" y="390"/>
                </a:lnTo>
                <a:lnTo>
                  <a:pt x="84" y="401"/>
                </a:lnTo>
                <a:lnTo>
                  <a:pt x="87" y="410"/>
                </a:lnTo>
                <a:lnTo>
                  <a:pt x="90" y="418"/>
                </a:lnTo>
                <a:lnTo>
                  <a:pt x="94" y="424"/>
                </a:lnTo>
                <a:lnTo>
                  <a:pt x="96" y="431"/>
                </a:lnTo>
                <a:lnTo>
                  <a:pt x="99" y="439"/>
                </a:lnTo>
                <a:lnTo>
                  <a:pt x="103" y="448"/>
                </a:lnTo>
                <a:lnTo>
                  <a:pt x="107" y="456"/>
                </a:lnTo>
                <a:lnTo>
                  <a:pt x="110" y="466"/>
                </a:lnTo>
                <a:lnTo>
                  <a:pt x="114" y="475"/>
                </a:lnTo>
                <a:lnTo>
                  <a:pt x="118" y="486"/>
                </a:lnTo>
                <a:lnTo>
                  <a:pt x="124" y="496"/>
                </a:lnTo>
                <a:lnTo>
                  <a:pt x="127" y="507"/>
                </a:lnTo>
                <a:lnTo>
                  <a:pt x="132" y="517"/>
                </a:lnTo>
                <a:lnTo>
                  <a:pt x="135" y="529"/>
                </a:lnTo>
                <a:lnTo>
                  <a:pt x="141" y="538"/>
                </a:lnTo>
                <a:lnTo>
                  <a:pt x="145" y="548"/>
                </a:lnTo>
                <a:lnTo>
                  <a:pt x="148" y="558"/>
                </a:lnTo>
                <a:lnTo>
                  <a:pt x="152" y="567"/>
                </a:lnTo>
                <a:lnTo>
                  <a:pt x="157" y="575"/>
                </a:lnTo>
                <a:lnTo>
                  <a:pt x="160" y="584"/>
                </a:lnTo>
                <a:lnTo>
                  <a:pt x="164" y="592"/>
                </a:lnTo>
                <a:lnTo>
                  <a:pt x="168" y="602"/>
                </a:lnTo>
                <a:lnTo>
                  <a:pt x="172" y="611"/>
                </a:lnTo>
                <a:lnTo>
                  <a:pt x="176" y="622"/>
                </a:lnTo>
                <a:lnTo>
                  <a:pt x="180" y="632"/>
                </a:lnTo>
                <a:lnTo>
                  <a:pt x="184" y="642"/>
                </a:lnTo>
                <a:lnTo>
                  <a:pt x="190" y="651"/>
                </a:lnTo>
                <a:lnTo>
                  <a:pt x="194" y="662"/>
                </a:lnTo>
                <a:lnTo>
                  <a:pt x="197" y="671"/>
                </a:lnTo>
                <a:lnTo>
                  <a:pt x="201" y="680"/>
                </a:lnTo>
                <a:lnTo>
                  <a:pt x="206" y="688"/>
                </a:lnTo>
                <a:lnTo>
                  <a:pt x="209" y="696"/>
                </a:lnTo>
                <a:lnTo>
                  <a:pt x="213" y="704"/>
                </a:lnTo>
                <a:lnTo>
                  <a:pt x="216" y="710"/>
                </a:lnTo>
                <a:lnTo>
                  <a:pt x="220" y="715"/>
                </a:lnTo>
                <a:lnTo>
                  <a:pt x="222" y="722"/>
                </a:lnTo>
                <a:lnTo>
                  <a:pt x="225" y="727"/>
                </a:lnTo>
                <a:lnTo>
                  <a:pt x="228" y="734"/>
                </a:lnTo>
                <a:lnTo>
                  <a:pt x="232" y="741"/>
                </a:lnTo>
                <a:lnTo>
                  <a:pt x="236" y="748"/>
                </a:lnTo>
                <a:lnTo>
                  <a:pt x="241" y="756"/>
                </a:lnTo>
                <a:lnTo>
                  <a:pt x="245" y="763"/>
                </a:lnTo>
                <a:lnTo>
                  <a:pt x="251" y="770"/>
                </a:lnTo>
                <a:lnTo>
                  <a:pt x="254" y="779"/>
                </a:lnTo>
                <a:lnTo>
                  <a:pt x="260" y="786"/>
                </a:lnTo>
                <a:lnTo>
                  <a:pt x="265" y="794"/>
                </a:lnTo>
                <a:lnTo>
                  <a:pt x="271" y="801"/>
                </a:lnTo>
                <a:lnTo>
                  <a:pt x="274" y="808"/>
                </a:lnTo>
                <a:lnTo>
                  <a:pt x="280" y="814"/>
                </a:lnTo>
                <a:lnTo>
                  <a:pt x="284" y="820"/>
                </a:lnTo>
                <a:lnTo>
                  <a:pt x="290" y="825"/>
                </a:lnTo>
                <a:lnTo>
                  <a:pt x="294" y="831"/>
                </a:lnTo>
                <a:lnTo>
                  <a:pt x="299" y="837"/>
                </a:lnTo>
                <a:lnTo>
                  <a:pt x="304" y="843"/>
                </a:lnTo>
                <a:lnTo>
                  <a:pt x="310" y="849"/>
                </a:lnTo>
                <a:lnTo>
                  <a:pt x="316" y="856"/>
                </a:lnTo>
                <a:lnTo>
                  <a:pt x="321" y="862"/>
                </a:lnTo>
                <a:lnTo>
                  <a:pt x="327" y="868"/>
                </a:lnTo>
                <a:lnTo>
                  <a:pt x="334" y="874"/>
                </a:lnTo>
                <a:lnTo>
                  <a:pt x="340" y="880"/>
                </a:lnTo>
                <a:lnTo>
                  <a:pt x="346" y="886"/>
                </a:lnTo>
                <a:lnTo>
                  <a:pt x="351" y="892"/>
                </a:lnTo>
                <a:lnTo>
                  <a:pt x="358" y="897"/>
                </a:lnTo>
                <a:lnTo>
                  <a:pt x="364" y="902"/>
                </a:lnTo>
                <a:lnTo>
                  <a:pt x="369" y="907"/>
                </a:lnTo>
                <a:lnTo>
                  <a:pt x="374" y="910"/>
                </a:lnTo>
                <a:lnTo>
                  <a:pt x="379" y="914"/>
                </a:lnTo>
                <a:lnTo>
                  <a:pt x="383" y="917"/>
                </a:lnTo>
                <a:lnTo>
                  <a:pt x="387" y="921"/>
                </a:lnTo>
                <a:lnTo>
                  <a:pt x="390" y="925"/>
                </a:lnTo>
                <a:lnTo>
                  <a:pt x="396" y="928"/>
                </a:lnTo>
                <a:lnTo>
                  <a:pt x="400" y="932"/>
                </a:lnTo>
                <a:lnTo>
                  <a:pt x="405" y="935"/>
                </a:lnTo>
                <a:lnTo>
                  <a:pt x="409" y="938"/>
                </a:lnTo>
                <a:lnTo>
                  <a:pt x="414" y="940"/>
                </a:lnTo>
                <a:lnTo>
                  <a:pt x="418" y="944"/>
                </a:lnTo>
                <a:lnTo>
                  <a:pt x="422" y="947"/>
                </a:lnTo>
                <a:lnTo>
                  <a:pt x="425" y="950"/>
                </a:lnTo>
                <a:lnTo>
                  <a:pt x="429" y="952"/>
                </a:lnTo>
                <a:lnTo>
                  <a:pt x="430" y="954"/>
                </a:lnTo>
                <a:lnTo>
                  <a:pt x="434" y="956"/>
                </a:lnTo>
                <a:lnTo>
                  <a:pt x="436" y="958"/>
                </a:lnTo>
                <a:lnTo>
                  <a:pt x="439" y="958"/>
                </a:lnTo>
                <a:lnTo>
                  <a:pt x="440" y="960"/>
                </a:lnTo>
                <a:lnTo>
                  <a:pt x="442" y="961"/>
                </a:lnTo>
                <a:lnTo>
                  <a:pt x="444" y="963"/>
                </a:lnTo>
                <a:lnTo>
                  <a:pt x="447" y="964"/>
                </a:lnTo>
                <a:lnTo>
                  <a:pt x="449" y="966"/>
                </a:lnTo>
                <a:lnTo>
                  <a:pt x="453" y="967"/>
                </a:lnTo>
                <a:lnTo>
                  <a:pt x="457" y="969"/>
                </a:lnTo>
                <a:lnTo>
                  <a:pt x="460" y="970"/>
                </a:lnTo>
                <a:lnTo>
                  <a:pt x="464" y="972"/>
                </a:lnTo>
                <a:lnTo>
                  <a:pt x="467" y="974"/>
                </a:lnTo>
                <a:lnTo>
                  <a:pt x="471" y="975"/>
                </a:lnTo>
                <a:lnTo>
                  <a:pt x="475" y="977"/>
                </a:lnTo>
                <a:lnTo>
                  <a:pt x="478" y="978"/>
                </a:lnTo>
                <a:lnTo>
                  <a:pt x="482" y="980"/>
                </a:lnTo>
                <a:lnTo>
                  <a:pt x="486" y="982"/>
                </a:lnTo>
                <a:lnTo>
                  <a:pt x="489" y="982"/>
                </a:lnTo>
                <a:lnTo>
                  <a:pt x="492" y="984"/>
                </a:lnTo>
                <a:lnTo>
                  <a:pt x="496" y="985"/>
                </a:lnTo>
                <a:lnTo>
                  <a:pt x="500" y="987"/>
                </a:lnTo>
                <a:lnTo>
                  <a:pt x="506" y="988"/>
                </a:lnTo>
                <a:lnTo>
                  <a:pt x="510" y="990"/>
                </a:lnTo>
                <a:lnTo>
                  <a:pt x="516" y="992"/>
                </a:lnTo>
                <a:lnTo>
                  <a:pt x="522" y="994"/>
                </a:lnTo>
                <a:lnTo>
                  <a:pt x="528" y="995"/>
                </a:lnTo>
                <a:lnTo>
                  <a:pt x="534" y="997"/>
                </a:lnTo>
                <a:lnTo>
                  <a:pt x="540" y="998"/>
                </a:lnTo>
                <a:lnTo>
                  <a:pt x="545" y="1000"/>
                </a:lnTo>
                <a:lnTo>
                  <a:pt x="553" y="1002"/>
                </a:lnTo>
                <a:lnTo>
                  <a:pt x="558" y="1004"/>
                </a:lnTo>
                <a:lnTo>
                  <a:pt x="564" y="1005"/>
                </a:lnTo>
                <a:lnTo>
                  <a:pt x="570" y="1007"/>
                </a:lnTo>
                <a:lnTo>
                  <a:pt x="575" y="1007"/>
                </a:lnTo>
                <a:lnTo>
                  <a:pt x="580" y="1009"/>
                </a:lnTo>
                <a:lnTo>
                  <a:pt x="585" y="1011"/>
                </a:lnTo>
                <a:lnTo>
                  <a:pt x="591" y="1013"/>
                </a:lnTo>
                <a:lnTo>
                  <a:pt x="597" y="1013"/>
                </a:lnTo>
                <a:lnTo>
                  <a:pt x="603" y="1015"/>
                </a:lnTo>
                <a:lnTo>
                  <a:pt x="610" y="1016"/>
                </a:lnTo>
                <a:lnTo>
                  <a:pt x="617" y="1018"/>
                </a:lnTo>
                <a:lnTo>
                  <a:pt x="624" y="1018"/>
                </a:lnTo>
                <a:lnTo>
                  <a:pt x="630" y="1020"/>
                </a:lnTo>
                <a:lnTo>
                  <a:pt x="637" y="1020"/>
                </a:lnTo>
                <a:lnTo>
                  <a:pt x="643" y="1022"/>
                </a:lnTo>
                <a:lnTo>
                  <a:pt x="650" y="1022"/>
                </a:lnTo>
                <a:lnTo>
                  <a:pt x="656" y="1024"/>
                </a:lnTo>
                <a:lnTo>
                  <a:pt x="662" y="1024"/>
                </a:lnTo>
                <a:lnTo>
                  <a:pt x="666" y="1025"/>
                </a:lnTo>
                <a:lnTo>
                  <a:pt x="672" y="1025"/>
                </a:lnTo>
                <a:lnTo>
                  <a:pt x="676" y="1026"/>
                </a:lnTo>
                <a:lnTo>
                  <a:pt x="681" y="1026"/>
                </a:lnTo>
                <a:lnTo>
                  <a:pt x="686" y="1028"/>
                </a:lnTo>
                <a:lnTo>
                  <a:pt x="693" y="1028"/>
                </a:lnTo>
                <a:lnTo>
                  <a:pt x="698" y="1030"/>
                </a:lnTo>
                <a:lnTo>
                  <a:pt x="705" y="1030"/>
                </a:lnTo>
                <a:lnTo>
                  <a:pt x="712" y="1030"/>
                </a:lnTo>
                <a:lnTo>
                  <a:pt x="720" y="1030"/>
                </a:lnTo>
                <a:lnTo>
                  <a:pt x="725" y="1032"/>
                </a:lnTo>
                <a:lnTo>
                  <a:pt x="732" y="1032"/>
                </a:lnTo>
                <a:lnTo>
                  <a:pt x="740" y="1032"/>
                </a:lnTo>
                <a:lnTo>
                  <a:pt x="747" y="1032"/>
                </a:lnTo>
                <a:lnTo>
                  <a:pt x="752" y="1033"/>
                </a:lnTo>
                <a:lnTo>
                  <a:pt x="759" y="1033"/>
                </a:lnTo>
                <a:lnTo>
                  <a:pt x="765" y="1033"/>
                </a:lnTo>
                <a:lnTo>
                  <a:pt x="771" y="1033"/>
                </a:lnTo>
                <a:lnTo>
                  <a:pt x="776" y="1035"/>
                </a:lnTo>
                <a:lnTo>
                  <a:pt x="782" y="1035"/>
                </a:lnTo>
                <a:lnTo>
                  <a:pt x="788" y="1035"/>
                </a:lnTo>
                <a:lnTo>
                  <a:pt x="795" y="1035"/>
                </a:lnTo>
                <a:lnTo>
                  <a:pt x="800" y="1035"/>
                </a:lnTo>
                <a:lnTo>
                  <a:pt x="808" y="1035"/>
                </a:lnTo>
                <a:lnTo>
                  <a:pt x="816" y="1035"/>
                </a:lnTo>
                <a:lnTo>
                  <a:pt x="823" y="1035"/>
                </a:lnTo>
                <a:lnTo>
                  <a:pt x="829" y="1036"/>
                </a:lnTo>
                <a:lnTo>
                  <a:pt x="836" y="1036"/>
                </a:lnTo>
                <a:lnTo>
                  <a:pt x="842" y="1036"/>
                </a:lnTo>
                <a:lnTo>
                  <a:pt x="849" y="1036"/>
                </a:lnTo>
                <a:lnTo>
                  <a:pt x="855" y="1036"/>
                </a:lnTo>
                <a:lnTo>
                  <a:pt x="861" y="1036"/>
                </a:lnTo>
                <a:lnTo>
                  <a:pt x="866" y="1036"/>
                </a:lnTo>
                <a:lnTo>
                  <a:pt x="871" y="1036"/>
                </a:lnTo>
                <a:lnTo>
                  <a:pt x="874" y="1036"/>
                </a:lnTo>
                <a:lnTo>
                  <a:pt x="877" y="1036"/>
                </a:lnTo>
                <a:lnTo>
                  <a:pt x="878" y="1036"/>
                </a:lnTo>
                <a:lnTo>
                  <a:pt x="880" y="1036"/>
                </a:lnTo>
                <a:lnTo>
                  <a:pt x="880" y="1036"/>
                </a:lnTo>
                <a:lnTo>
                  <a:pt x="882" y="1036"/>
                </a:lnTo>
                <a:lnTo>
                  <a:pt x="882" y="1036"/>
                </a:lnTo>
                <a:lnTo>
                  <a:pt x="884" y="1036"/>
                </a:lnTo>
                <a:lnTo>
                  <a:pt x="884" y="1036"/>
                </a:lnTo>
                <a:lnTo>
                  <a:pt x="886" y="1036"/>
                </a:lnTo>
                <a:lnTo>
                  <a:pt x="888" y="1036"/>
                </a:lnTo>
                <a:lnTo>
                  <a:pt x="892" y="1036"/>
                </a:lnTo>
                <a:lnTo>
                  <a:pt x="896" y="1036"/>
                </a:lnTo>
                <a:lnTo>
                  <a:pt x="901" y="1036"/>
                </a:lnTo>
                <a:lnTo>
                  <a:pt x="907" y="1036"/>
                </a:lnTo>
                <a:lnTo>
                  <a:pt x="915" y="1036"/>
                </a:lnTo>
              </a:path>
            </a:pathLst>
          </a:custGeom>
          <a:noFill/>
          <a:ln w="5724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46360" y="4457880"/>
            <a:ext cx="2224080" cy="1885680"/>
          </a:xfrm>
          <a:prstGeom prst="line">
            <a:avLst/>
          </a:prstGeom>
          <a:ln w="57240">
            <a:solidFill>
              <a:srgbClr val="ff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57480" y="1596960"/>
            <a:ext cx="2224080" cy="1882800"/>
          </a:xfrm>
          <a:prstGeom prst="line">
            <a:avLst/>
          </a:prstGeom>
          <a:ln w="572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03680" y="2981160"/>
            <a:ext cx="2473200" cy="2800440"/>
          </a:xfrm>
          <a:custGeom>
            <a:avLst/>
            <a:gdLst/>
            <a:ahLst/>
            <a:rect l="l" t="t" r="r" b="b"/>
            <a:pathLst>
              <a:path w="1047" h="1185">
                <a:moveTo>
                  <a:pt x="0" y="0"/>
                </a:moveTo>
                <a:lnTo>
                  <a:pt x="0" y="10"/>
                </a:lnTo>
                <a:lnTo>
                  <a:pt x="0" y="18"/>
                </a:lnTo>
                <a:lnTo>
                  <a:pt x="0" y="24"/>
                </a:lnTo>
                <a:lnTo>
                  <a:pt x="2" y="30"/>
                </a:lnTo>
                <a:lnTo>
                  <a:pt x="2" y="34"/>
                </a:lnTo>
                <a:lnTo>
                  <a:pt x="2" y="36"/>
                </a:lnTo>
                <a:lnTo>
                  <a:pt x="2" y="38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3" y="44"/>
                </a:lnTo>
                <a:lnTo>
                  <a:pt x="3" y="44"/>
                </a:lnTo>
                <a:lnTo>
                  <a:pt x="3" y="47"/>
                </a:lnTo>
                <a:lnTo>
                  <a:pt x="3" y="50"/>
                </a:lnTo>
                <a:lnTo>
                  <a:pt x="3" y="53"/>
                </a:lnTo>
                <a:lnTo>
                  <a:pt x="5" y="57"/>
                </a:lnTo>
                <a:lnTo>
                  <a:pt x="5" y="64"/>
                </a:lnTo>
                <a:lnTo>
                  <a:pt x="7" y="72"/>
                </a:lnTo>
                <a:lnTo>
                  <a:pt x="9" y="81"/>
                </a:lnTo>
                <a:lnTo>
                  <a:pt x="10" y="91"/>
                </a:lnTo>
                <a:lnTo>
                  <a:pt x="12" y="104"/>
                </a:lnTo>
                <a:lnTo>
                  <a:pt x="14" y="116"/>
                </a:lnTo>
                <a:lnTo>
                  <a:pt x="16" y="129"/>
                </a:lnTo>
                <a:lnTo>
                  <a:pt x="20" y="142"/>
                </a:lnTo>
                <a:lnTo>
                  <a:pt x="21" y="158"/>
                </a:lnTo>
                <a:lnTo>
                  <a:pt x="25" y="173"/>
                </a:lnTo>
                <a:lnTo>
                  <a:pt x="28" y="188"/>
                </a:lnTo>
                <a:lnTo>
                  <a:pt x="31" y="203"/>
                </a:lnTo>
                <a:lnTo>
                  <a:pt x="34" y="218"/>
                </a:lnTo>
                <a:lnTo>
                  <a:pt x="38" y="234"/>
                </a:lnTo>
                <a:lnTo>
                  <a:pt x="41" y="248"/>
                </a:lnTo>
                <a:lnTo>
                  <a:pt x="45" y="262"/>
                </a:lnTo>
                <a:lnTo>
                  <a:pt x="48" y="277"/>
                </a:lnTo>
                <a:lnTo>
                  <a:pt x="51" y="292"/>
                </a:lnTo>
                <a:lnTo>
                  <a:pt x="55" y="309"/>
                </a:lnTo>
                <a:lnTo>
                  <a:pt x="59" y="324"/>
                </a:lnTo>
                <a:lnTo>
                  <a:pt x="63" y="341"/>
                </a:lnTo>
                <a:lnTo>
                  <a:pt x="67" y="356"/>
                </a:lnTo>
                <a:lnTo>
                  <a:pt x="71" y="373"/>
                </a:lnTo>
                <a:lnTo>
                  <a:pt x="77" y="388"/>
                </a:lnTo>
                <a:lnTo>
                  <a:pt x="80" y="404"/>
                </a:lnTo>
                <a:lnTo>
                  <a:pt x="84" y="419"/>
                </a:lnTo>
                <a:lnTo>
                  <a:pt x="88" y="433"/>
                </a:lnTo>
                <a:lnTo>
                  <a:pt x="93" y="446"/>
                </a:lnTo>
                <a:lnTo>
                  <a:pt x="97" y="458"/>
                </a:lnTo>
                <a:lnTo>
                  <a:pt x="101" y="468"/>
                </a:lnTo>
                <a:lnTo>
                  <a:pt x="104" y="478"/>
                </a:lnTo>
                <a:lnTo>
                  <a:pt x="108" y="485"/>
                </a:lnTo>
                <a:lnTo>
                  <a:pt x="110" y="494"/>
                </a:lnTo>
                <a:lnTo>
                  <a:pt x="114" y="502"/>
                </a:lnTo>
                <a:lnTo>
                  <a:pt x="118" y="512"/>
                </a:lnTo>
                <a:lnTo>
                  <a:pt x="122" y="521"/>
                </a:lnTo>
                <a:lnTo>
                  <a:pt x="126" y="532"/>
                </a:lnTo>
                <a:lnTo>
                  <a:pt x="131" y="544"/>
                </a:lnTo>
                <a:lnTo>
                  <a:pt x="135" y="556"/>
                </a:lnTo>
                <a:lnTo>
                  <a:pt x="141" y="567"/>
                </a:lnTo>
                <a:lnTo>
                  <a:pt x="145" y="580"/>
                </a:lnTo>
                <a:lnTo>
                  <a:pt x="150" y="592"/>
                </a:lnTo>
                <a:lnTo>
                  <a:pt x="155" y="604"/>
                </a:lnTo>
                <a:lnTo>
                  <a:pt x="161" y="615"/>
                </a:lnTo>
                <a:lnTo>
                  <a:pt x="165" y="627"/>
                </a:lnTo>
                <a:lnTo>
                  <a:pt x="170" y="638"/>
                </a:lnTo>
                <a:lnTo>
                  <a:pt x="174" y="648"/>
                </a:lnTo>
                <a:lnTo>
                  <a:pt x="179" y="658"/>
                </a:lnTo>
                <a:lnTo>
                  <a:pt x="183" y="668"/>
                </a:lnTo>
                <a:lnTo>
                  <a:pt x="187" y="678"/>
                </a:lnTo>
                <a:lnTo>
                  <a:pt x="191" y="690"/>
                </a:lnTo>
                <a:lnTo>
                  <a:pt x="197" y="700"/>
                </a:lnTo>
                <a:lnTo>
                  <a:pt x="201" y="711"/>
                </a:lnTo>
                <a:lnTo>
                  <a:pt x="206" y="722"/>
                </a:lnTo>
                <a:lnTo>
                  <a:pt x="211" y="733"/>
                </a:lnTo>
                <a:lnTo>
                  <a:pt x="217" y="744"/>
                </a:lnTo>
                <a:lnTo>
                  <a:pt x="221" y="756"/>
                </a:lnTo>
                <a:lnTo>
                  <a:pt x="226" y="767"/>
                </a:lnTo>
                <a:lnTo>
                  <a:pt x="230" y="778"/>
                </a:lnTo>
                <a:lnTo>
                  <a:pt x="236" y="788"/>
                </a:lnTo>
                <a:lnTo>
                  <a:pt x="239" y="797"/>
                </a:lnTo>
                <a:lnTo>
                  <a:pt x="244" y="805"/>
                </a:lnTo>
                <a:lnTo>
                  <a:pt x="247" y="812"/>
                </a:lnTo>
                <a:lnTo>
                  <a:pt x="251" y="818"/>
                </a:lnTo>
                <a:lnTo>
                  <a:pt x="253" y="826"/>
                </a:lnTo>
                <a:lnTo>
                  <a:pt x="257" y="832"/>
                </a:lnTo>
                <a:lnTo>
                  <a:pt x="261" y="840"/>
                </a:lnTo>
                <a:lnTo>
                  <a:pt x="265" y="847"/>
                </a:lnTo>
                <a:lnTo>
                  <a:pt x="270" y="856"/>
                </a:lnTo>
                <a:lnTo>
                  <a:pt x="275" y="864"/>
                </a:lnTo>
                <a:lnTo>
                  <a:pt x="281" y="874"/>
                </a:lnTo>
                <a:lnTo>
                  <a:pt x="287" y="881"/>
                </a:lnTo>
                <a:lnTo>
                  <a:pt x="292" y="890"/>
                </a:lnTo>
                <a:lnTo>
                  <a:pt x="298" y="899"/>
                </a:lnTo>
                <a:lnTo>
                  <a:pt x="304" y="908"/>
                </a:lnTo>
                <a:lnTo>
                  <a:pt x="309" y="916"/>
                </a:lnTo>
                <a:lnTo>
                  <a:pt x="315" y="924"/>
                </a:lnTo>
                <a:lnTo>
                  <a:pt x="321" y="931"/>
                </a:lnTo>
                <a:lnTo>
                  <a:pt x="326" y="937"/>
                </a:lnTo>
                <a:lnTo>
                  <a:pt x="332" y="943"/>
                </a:lnTo>
                <a:lnTo>
                  <a:pt x="336" y="950"/>
                </a:lnTo>
                <a:lnTo>
                  <a:pt x="342" y="957"/>
                </a:lnTo>
                <a:lnTo>
                  <a:pt x="347" y="964"/>
                </a:lnTo>
                <a:lnTo>
                  <a:pt x="354" y="970"/>
                </a:lnTo>
                <a:lnTo>
                  <a:pt x="360" y="977"/>
                </a:lnTo>
                <a:lnTo>
                  <a:pt x="367" y="985"/>
                </a:lnTo>
                <a:lnTo>
                  <a:pt x="374" y="992"/>
                </a:lnTo>
                <a:lnTo>
                  <a:pt x="382" y="998"/>
                </a:lnTo>
                <a:lnTo>
                  <a:pt x="387" y="1006"/>
                </a:lnTo>
                <a:lnTo>
                  <a:pt x="395" y="1013"/>
                </a:lnTo>
                <a:lnTo>
                  <a:pt x="401" y="1020"/>
                </a:lnTo>
                <a:lnTo>
                  <a:pt x="409" y="1025"/>
                </a:lnTo>
                <a:lnTo>
                  <a:pt x="415" y="1031"/>
                </a:lnTo>
                <a:lnTo>
                  <a:pt x="421" y="1036"/>
                </a:lnTo>
                <a:lnTo>
                  <a:pt x="427" y="1041"/>
                </a:lnTo>
                <a:lnTo>
                  <a:pt x="433" y="1045"/>
                </a:lnTo>
                <a:lnTo>
                  <a:pt x="437" y="1050"/>
                </a:lnTo>
                <a:lnTo>
                  <a:pt x="443" y="1054"/>
                </a:lnTo>
                <a:lnTo>
                  <a:pt x="447" y="1057"/>
                </a:lnTo>
                <a:lnTo>
                  <a:pt x="453" y="1061"/>
                </a:lnTo>
                <a:lnTo>
                  <a:pt x="457" y="1065"/>
                </a:lnTo>
                <a:lnTo>
                  <a:pt x="462" y="1068"/>
                </a:lnTo>
                <a:lnTo>
                  <a:pt x="467" y="1072"/>
                </a:lnTo>
                <a:lnTo>
                  <a:pt x="473" y="1075"/>
                </a:lnTo>
                <a:lnTo>
                  <a:pt x="477" y="1079"/>
                </a:lnTo>
                <a:lnTo>
                  <a:pt x="481" y="1083"/>
                </a:lnTo>
                <a:lnTo>
                  <a:pt x="485" y="1086"/>
                </a:lnTo>
                <a:lnTo>
                  <a:pt x="490" y="1088"/>
                </a:lnTo>
                <a:lnTo>
                  <a:pt x="493" y="1091"/>
                </a:lnTo>
                <a:lnTo>
                  <a:pt x="497" y="1093"/>
                </a:lnTo>
                <a:lnTo>
                  <a:pt x="498" y="1095"/>
                </a:lnTo>
                <a:lnTo>
                  <a:pt x="501" y="1095"/>
                </a:lnTo>
                <a:lnTo>
                  <a:pt x="503" y="1097"/>
                </a:lnTo>
                <a:lnTo>
                  <a:pt x="505" y="1098"/>
                </a:lnTo>
                <a:lnTo>
                  <a:pt x="507" y="1100"/>
                </a:lnTo>
                <a:lnTo>
                  <a:pt x="511" y="1101"/>
                </a:lnTo>
                <a:lnTo>
                  <a:pt x="514" y="1103"/>
                </a:lnTo>
                <a:lnTo>
                  <a:pt x="518" y="1105"/>
                </a:lnTo>
                <a:lnTo>
                  <a:pt x="521" y="1106"/>
                </a:lnTo>
                <a:lnTo>
                  <a:pt x="526" y="1108"/>
                </a:lnTo>
                <a:lnTo>
                  <a:pt x="529" y="1110"/>
                </a:lnTo>
                <a:lnTo>
                  <a:pt x="533" y="1112"/>
                </a:lnTo>
                <a:lnTo>
                  <a:pt x="537" y="1114"/>
                </a:lnTo>
                <a:lnTo>
                  <a:pt x="542" y="1116"/>
                </a:lnTo>
                <a:lnTo>
                  <a:pt x="546" y="1118"/>
                </a:lnTo>
                <a:lnTo>
                  <a:pt x="550" y="1120"/>
                </a:lnTo>
                <a:lnTo>
                  <a:pt x="554" y="1122"/>
                </a:lnTo>
                <a:lnTo>
                  <a:pt x="559" y="1122"/>
                </a:lnTo>
                <a:lnTo>
                  <a:pt x="562" y="1124"/>
                </a:lnTo>
                <a:lnTo>
                  <a:pt x="566" y="1126"/>
                </a:lnTo>
                <a:lnTo>
                  <a:pt x="571" y="1128"/>
                </a:lnTo>
                <a:lnTo>
                  <a:pt x="577" y="1130"/>
                </a:lnTo>
                <a:lnTo>
                  <a:pt x="583" y="1132"/>
                </a:lnTo>
                <a:lnTo>
                  <a:pt x="589" y="1133"/>
                </a:lnTo>
                <a:lnTo>
                  <a:pt x="596" y="1135"/>
                </a:lnTo>
                <a:lnTo>
                  <a:pt x="604" y="1137"/>
                </a:lnTo>
                <a:lnTo>
                  <a:pt x="609" y="1140"/>
                </a:lnTo>
                <a:lnTo>
                  <a:pt x="617" y="1142"/>
                </a:lnTo>
                <a:lnTo>
                  <a:pt x="624" y="1144"/>
                </a:lnTo>
                <a:lnTo>
                  <a:pt x="632" y="1146"/>
                </a:lnTo>
                <a:lnTo>
                  <a:pt x="637" y="1148"/>
                </a:lnTo>
                <a:lnTo>
                  <a:pt x="645" y="1150"/>
                </a:lnTo>
                <a:lnTo>
                  <a:pt x="651" y="1152"/>
                </a:lnTo>
                <a:lnTo>
                  <a:pt x="657" y="1152"/>
                </a:lnTo>
                <a:lnTo>
                  <a:pt x="663" y="1154"/>
                </a:lnTo>
                <a:lnTo>
                  <a:pt x="669" y="1156"/>
                </a:lnTo>
                <a:lnTo>
                  <a:pt x="675" y="1158"/>
                </a:lnTo>
                <a:lnTo>
                  <a:pt x="682" y="1158"/>
                </a:lnTo>
                <a:lnTo>
                  <a:pt x="690" y="1160"/>
                </a:lnTo>
                <a:lnTo>
                  <a:pt x="697" y="1162"/>
                </a:lnTo>
                <a:lnTo>
                  <a:pt x="705" y="1164"/>
                </a:lnTo>
                <a:lnTo>
                  <a:pt x="713" y="1164"/>
                </a:lnTo>
                <a:lnTo>
                  <a:pt x="721" y="1166"/>
                </a:lnTo>
                <a:lnTo>
                  <a:pt x="729" y="1168"/>
                </a:lnTo>
                <a:lnTo>
                  <a:pt x="736" y="1170"/>
                </a:lnTo>
                <a:lnTo>
                  <a:pt x="743" y="1170"/>
                </a:lnTo>
                <a:lnTo>
                  <a:pt x="749" y="1171"/>
                </a:lnTo>
                <a:lnTo>
                  <a:pt x="757" y="1171"/>
                </a:lnTo>
                <a:lnTo>
                  <a:pt x="762" y="1173"/>
                </a:lnTo>
                <a:lnTo>
                  <a:pt x="768" y="1173"/>
                </a:lnTo>
                <a:lnTo>
                  <a:pt x="772" y="1174"/>
                </a:lnTo>
                <a:lnTo>
                  <a:pt x="778" y="1174"/>
                </a:lnTo>
                <a:lnTo>
                  <a:pt x="784" y="1176"/>
                </a:lnTo>
                <a:lnTo>
                  <a:pt x="791" y="1176"/>
                </a:lnTo>
                <a:lnTo>
                  <a:pt x="799" y="1178"/>
                </a:lnTo>
                <a:lnTo>
                  <a:pt x="806" y="1178"/>
                </a:lnTo>
                <a:lnTo>
                  <a:pt x="813" y="1178"/>
                </a:lnTo>
                <a:lnTo>
                  <a:pt x="822" y="1178"/>
                </a:lnTo>
                <a:lnTo>
                  <a:pt x="830" y="1180"/>
                </a:lnTo>
                <a:lnTo>
                  <a:pt x="837" y="1180"/>
                </a:lnTo>
                <a:lnTo>
                  <a:pt x="845" y="1180"/>
                </a:lnTo>
                <a:lnTo>
                  <a:pt x="853" y="1180"/>
                </a:lnTo>
                <a:lnTo>
                  <a:pt x="860" y="1181"/>
                </a:lnTo>
                <a:lnTo>
                  <a:pt x="868" y="1181"/>
                </a:lnTo>
                <a:lnTo>
                  <a:pt x="874" y="1181"/>
                </a:lnTo>
                <a:lnTo>
                  <a:pt x="881" y="1181"/>
                </a:lnTo>
                <a:lnTo>
                  <a:pt x="887" y="1183"/>
                </a:lnTo>
                <a:lnTo>
                  <a:pt x="893" y="1183"/>
                </a:lnTo>
                <a:lnTo>
                  <a:pt x="901" y="1183"/>
                </a:lnTo>
                <a:lnTo>
                  <a:pt x="908" y="1183"/>
                </a:lnTo>
                <a:lnTo>
                  <a:pt x="916" y="1183"/>
                </a:lnTo>
                <a:lnTo>
                  <a:pt x="923" y="1183"/>
                </a:lnTo>
                <a:lnTo>
                  <a:pt x="931" y="1183"/>
                </a:lnTo>
                <a:lnTo>
                  <a:pt x="940" y="1183"/>
                </a:lnTo>
                <a:lnTo>
                  <a:pt x="947" y="1184"/>
                </a:lnTo>
                <a:lnTo>
                  <a:pt x="955" y="1184"/>
                </a:lnTo>
                <a:lnTo>
                  <a:pt x="963" y="1184"/>
                </a:lnTo>
                <a:lnTo>
                  <a:pt x="971" y="1184"/>
                </a:lnTo>
                <a:lnTo>
                  <a:pt x="976" y="1184"/>
                </a:lnTo>
                <a:lnTo>
                  <a:pt x="984" y="1184"/>
                </a:lnTo>
                <a:lnTo>
                  <a:pt x="989" y="1184"/>
                </a:lnTo>
                <a:lnTo>
                  <a:pt x="995" y="1184"/>
                </a:lnTo>
                <a:lnTo>
                  <a:pt x="998" y="1184"/>
                </a:lnTo>
                <a:lnTo>
                  <a:pt x="1002" y="1184"/>
                </a:lnTo>
                <a:lnTo>
                  <a:pt x="1004" y="1184"/>
                </a:lnTo>
                <a:lnTo>
                  <a:pt x="1006" y="1184"/>
                </a:lnTo>
                <a:lnTo>
                  <a:pt x="1006" y="1184"/>
                </a:lnTo>
                <a:lnTo>
                  <a:pt x="1008" y="1184"/>
                </a:lnTo>
                <a:lnTo>
                  <a:pt x="1009" y="1184"/>
                </a:lnTo>
                <a:lnTo>
                  <a:pt x="1011" y="1184"/>
                </a:lnTo>
                <a:lnTo>
                  <a:pt x="1011" y="1184"/>
                </a:lnTo>
                <a:lnTo>
                  <a:pt x="1013" y="1184"/>
                </a:lnTo>
                <a:lnTo>
                  <a:pt x="1016" y="1184"/>
                </a:lnTo>
                <a:lnTo>
                  <a:pt x="1019" y="1184"/>
                </a:lnTo>
                <a:lnTo>
                  <a:pt x="1023" y="1184"/>
                </a:lnTo>
                <a:lnTo>
                  <a:pt x="1029" y="1184"/>
                </a:lnTo>
                <a:lnTo>
                  <a:pt x="1036" y="1184"/>
                </a:lnTo>
                <a:lnTo>
                  <a:pt x="1046" y="1184"/>
                </a:lnTo>
              </a:path>
            </a:pathLst>
          </a:custGeom>
          <a:noFill/>
          <a:ln w="5724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94000" y="1060560"/>
            <a:ext cx="4551120" cy="5916600"/>
          </a:xfrm>
          <a:custGeom>
            <a:avLst/>
            <a:gdLst/>
            <a:ahLst/>
            <a:rect l="l" t="t" r="r" b="b"/>
            <a:pathLst>
              <a:path w="1926" h="2504">
                <a:moveTo>
                  <a:pt x="0" y="0"/>
                </a:moveTo>
                <a:lnTo>
                  <a:pt x="0" y="21"/>
                </a:lnTo>
                <a:lnTo>
                  <a:pt x="2" y="37"/>
                </a:lnTo>
                <a:lnTo>
                  <a:pt x="2" y="51"/>
                </a:lnTo>
                <a:lnTo>
                  <a:pt x="4" y="61"/>
                </a:lnTo>
                <a:lnTo>
                  <a:pt x="4" y="70"/>
                </a:lnTo>
                <a:lnTo>
                  <a:pt x="5" y="75"/>
                </a:lnTo>
                <a:lnTo>
                  <a:pt x="5" y="80"/>
                </a:lnTo>
                <a:lnTo>
                  <a:pt x="7" y="83"/>
                </a:lnTo>
                <a:lnTo>
                  <a:pt x="7" y="86"/>
                </a:lnTo>
                <a:lnTo>
                  <a:pt x="7" y="88"/>
                </a:lnTo>
                <a:lnTo>
                  <a:pt x="7" y="91"/>
                </a:lnTo>
                <a:lnTo>
                  <a:pt x="8" y="93"/>
                </a:lnTo>
                <a:lnTo>
                  <a:pt x="8" y="98"/>
                </a:lnTo>
                <a:lnTo>
                  <a:pt x="8" y="103"/>
                </a:lnTo>
                <a:lnTo>
                  <a:pt x="8" y="111"/>
                </a:lnTo>
                <a:lnTo>
                  <a:pt x="10" y="120"/>
                </a:lnTo>
                <a:lnTo>
                  <a:pt x="11" y="133"/>
                </a:lnTo>
                <a:lnTo>
                  <a:pt x="13" y="149"/>
                </a:lnTo>
                <a:lnTo>
                  <a:pt x="15" y="169"/>
                </a:lnTo>
                <a:lnTo>
                  <a:pt x="19" y="190"/>
                </a:lnTo>
                <a:lnTo>
                  <a:pt x="22" y="215"/>
                </a:lnTo>
                <a:lnTo>
                  <a:pt x="26" y="242"/>
                </a:lnTo>
                <a:lnTo>
                  <a:pt x="30" y="271"/>
                </a:lnTo>
                <a:lnTo>
                  <a:pt x="36" y="299"/>
                </a:lnTo>
                <a:lnTo>
                  <a:pt x="41" y="331"/>
                </a:lnTo>
                <a:lnTo>
                  <a:pt x="47" y="363"/>
                </a:lnTo>
                <a:lnTo>
                  <a:pt x="52" y="396"/>
                </a:lnTo>
                <a:lnTo>
                  <a:pt x="58" y="427"/>
                </a:lnTo>
                <a:lnTo>
                  <a:pt x="63" y="461"/>
                </a:lnTo>
                <a:lnTo>
                  <a:pt x="69" y="492"/>
                </a:lnTo>
                <a:lnTo>
                  <a:pt x="75" y="524"/>
                </a:lnTo>
                <a:lnTo>
                  <a:pt x="82" y="553"/>
                </a:lnTo>
                <a:lnTo>
                  <a:pt x="88" y="585"/>
                </a:lnTo>
                <a:lnTo>
                  <a:pt x="94" y="617"/>
                </a:lnTo>
                <a:lnTo>
                  <a:pt x="101" y="650"/>
                </a:lnTo>
                <a:lnTo>
                  <a:pt x="108" y="683"/>
                </a:lnTo>
                <a:lnTo>
                  <a:pt x="116" y="718"/>
                </a:lnTo>
                <a:lnTo>
                  <a:pt x="123" y="752"/>
                </a:lnTo>
                <a:lnTo>
                  <a:pt x="131" y="786"/>
                </a:lnTo>
                <a:lnTo>
                  <a:pt x="140" y="819"/>
                </a:lnTo>
                <a:lnTo>
                  <a:pt x="147" y="853"/>
                </a:lnTo>
                <a:lnTo>
                  <a:pt x="155" y="884"/>
                </a:lnTo>
                <a:lnTo>
                  <a:pt x="163" y="914"/>
                </a:lnTo>
                <a:lnTo>
                  <a:pt x="171" y="942"/>
                </a:lnTo>
                <a:lnTo>
                  <a:pt x="177" y="968"/>
                </a:lnTo>
                <a:lnTo>
                  <a:pt x="185" y="990"/>
                </a:lnTo>
                <a:lnTo>
                  <a:pt x="191" y="1011"/>
                </a:lnTo>
                <a:lnTo>
                  <a:pt x="198" y="1026"/>
                </a:lnTo>
                <a:lnTo>
                  <a:pt x="203" y="1042"/>
                </a:lnTo>
                <a:lnTo>
                  <a:pt x="209" y="1060"/>
                </a:lnTo>
                <a:lnTo>
                  <a:pt x="215" y="1080"/>
                </a:lnTo>
                <a:lnTo>
                  <a:pt x="224" y="1101"/>
                </a:lnTo>
                <a:lnTo>
                  <a:pt x="231" y="1125"/>
                </a:lnTo>
                <a:lnTo>
                  <a:pt x="240" y="1148"/>
                </a:lnTo>
                <a:lnTo>
                  <a:pt x="249" y="1174"/>
                </a:lnTo>
                <a:lnTo>
                  <a:pt x="259" y="1198"/>
                </a:lnTo>
                <a:lnTo>
                  <a:pt x="267" y="1224"/>
                </a:lnTo>
                <a:lnTo>
                  <a:pt x="277" y="1251"/>
                </a:lnTo>
                <a:lnTo>
                  <a:pt x="286" y="1276"/>
                </a:lnTo>
                <a:lnTo>
                  <a:pt x="295" y="1301"/>
                </a:lnTo>
                <a:lnTo>
                  <a:pt x="303" y="1325"/>
                </a:lnTo>
                <a:lnTo>
                  <a:pt x="313" y="1349"/>
                </a:lnTo>
                <a:lnTo>
                  <a:pt x="320" y="1370"/>
                </a:lnTo>
                <a:lnTo>
                  <a:pt x="329" y="1390"/>
                </a:lnTo>
                <a:lnTo>
                  <a:pt x="336" y="1411"/>
                </a:lnTo>
                <a:lnTo>
                  <a:pt x="344" y="1432"/>
                </a:lnTo>
                <a:lnTo>
                  <a:pt x="352" y="1455"/>
                </a:lnTo>
                <a:lnTo>
                  <a:pt x="361" y="1478"/>
                </a:lnTo>
                <a:lnTo>
                  <a:pt x="370" y="1502"/>
                </a:lnTo>
                <a:lnTo>
                  <a:pt x="380" y="1526"/>
                </a:lnTo>
                <a:lnTo>
                  <a:pt x="389" y="1550"/>
                </a:lnTo>
                <a:lnTo>
                  <a:pt x="398" y="1574"/>
                </a:lnTo>
                <a:lnTo>
                  <a:pt x="407" y="1598"/>
                </a:lnTo>
                <a:lnTo>
                  <a:pt x="416" y="1621"/>
                </a:lnTo>
                <a:lnTo>
                  <a:pt x="424" y="1644"/>
                </a:lnTo>
                <a:lnTo>
                  <a:pt x="433" y="1664"/>
                </a:lnTo>
                <a:lnTo>
                  <a:pt x="440" y="1684"/>
                </a:lnTo>
                <a:lnTo>
                  <a:pt x="448" y="1701"/>
                </a:lnTo>
                <a:lnTo>
                  <a:pt x="454" y="1717"/>
                </a:lnTo>
                <a:lnTo>
                  <a:pt x="461" y="1731"/>
                </a:lnTo>
                <a:lnTo>
                  <a:pt x="466" y="1744"/>
                </a:lnTo>
                <a:lnTo>
                  <a:pt x="472" y="1758"/>
                </a:lnTo>
                <a:lnTo>
                  <a:pt x="479" y="1774"/>
                </a:lnTo>
                <a:lnTo>
                  <a:pt x="488" y="1790"/>
                </a:lnTo>
                <a:lnTo>
                  <a:pt x="497" y="1808"/>
                </a:lnTo>
                <a:lnTo>
                  <a:pt x="507" y="1825"/>
                </a:lnTo>
                <a:lnTo>
                  <a:pt x="516" y="1844"/>
                </a:lnTo>
                <a:lnTo>
                  <a:pt x="527" y="1861"/>
                </a:lnTo>
                <a:lnTo>
                  <a:pt x="537" y="1880"/>
                </a:lnTo>
                <a:lnTo>
                  <a:pt x="548" y="1899"/>
                </a:lnTo>
                <a:lnTo>
                  <a:pt x="559" y="1918"/>
                </a:lnTo>
                <a:lnTo>
                  <a:pt x="570" y="1935"/>
                </a:lnTo>
                <a:lnTo>
                  <a:pt x="579" y="1952"/>
                </a:lnTo>
                <a:lnTo>
                  <a:pt x="591" y="1967"/>
                </a:lnTo>
                <a:lnTo>
                  <a:pt x="600" y="1983"/>
                </a:lnTo>
                <a:lnTo>
                  <a:pt x="610" y="1995"/>
                </a:lnTo>
                <a:lnTo>
                  <a:pt x="619" y="2009"/>
                </a:lnTo>
                <a:lnTo>
                  <a:pt x="629" y="2022"/>
                </a:lnTo>
                <a:lnTo>
                  <a:pt x="639" y="2037"/>
                </a:lnTo>
                <a:lnTo>
                  <a:pt x="652" y="2051"/>
                </a:lnTo>
                <a:lnTo>
                  <a:pt x="663" y="2065"/>
                </a:lnTo>
                <a:lnTo>
                  <a:pt x="677" y="2081"/>
                </a:lnTo>
                <a:lnTo>
                  <a:pt x="690" y="2095"/>
                </a:lnTo>
                <a:lnTo>
                  <a:pt x="703" y="2111"/>
                </a:lnTo>
                <a:lnTo>
                  <a:pt x="715" y="2125"/>
                </a:lnTo>
                <a:lnTo>
                  <a:pt x="729" y="2140"/>
                </a:lnTo>
                <a:lnTo>
                  <a:pt x="741" y="2154"/>
                </a:lnTo>
                <a:lnTo>
                  <a:pt x="754" y="2167"/>
                </a:lnTo>
                <a:lnTo>
                  <a:pt x="765" y="2180"/>
                </a:lnTo>
                <a:lnTo>
                  <a:pt x="777" y="2190"/>
                </a:lnTo>
                <a:lnTo>
                  <a:pt x="787" y="2200"/>
                </a:lnTo>
                <a:lnTo>
                  <a:pt x="797" y="2208"/>
                </a:lnTo>
                <a:lnTo>
                  <a:pt x="805" y="2217"/>
                </a:lnTo>
                <a:lnTo>
                  <a:pt x="815" y="2224"/>
                </a:lnTo>
                <a:lnTo>
                  <a:pt x="824" y="2233"/>
                </a:lnTo>
                <a:lnTo>
                  <a:pt x="833" y="2240"/>
                </a:lnTo>
                <a:lnTo>
                  <a:pt x="843" y="2249"/>
                </a:lnTo>
                <a:lnTo>
                  <a:pt x="852" y="2257"/>
                </a:lnTo>
                <a:lnTo>
                  <a:pt x="861" y="2264"/>
                </a:lnTo>
                <a:lnTo>
                  <a:pt x="871" y="2271"/>
                </a:lnTo>
                <a:lnTo>
                  <a:pt x="878" y="2279"/>
                </a:lnTo>
                <a:lnTo>
                  <a:pt x="887" y="2286"/>
                </a:lnTo>
                <a:lnTo>
                  <a:pt x="895" y="2293"/>
                </a:lnTo>
                <a:lnTo>
                  <a:pt x="903" y="2299"/>
                </a:lnTo>
                <a:lnTo>
                  <a:pt x="908" y="2305"/>
                </a:lnTo>
                <a:lnTo>
                  <a:pt x="915" y="2309"/>
                </a:lnTo>
                <a:lnTo>
                  <a:pt x="919" y="2313"/>
                </a:lnTo>
                <a:lnTo>
                  <a:pt x="924" y="2315"/>
                </a:lnTo>
                <a:lnTo>
                  <a:pt x="926" y="2319"/>
                </a:lnTo>
                <a:lnTo>
                  <a:pt x="930" y="2321"/>
                </a:lnTo>
                <a:lnTo>
                  <a:pt x="935" y="2325"/>
                </a:lnTo>
                <a:lnTo>
                  <a:pt x="941" y="2327"/>
                </a:lnTo>
                <a:lnTo>
                  <a:pt x="946" y="2331"/>
                </a:lnTo>
                <a:lnTo>
                  <a:pt x="953" y="2335"/>
                </a:lnTo>
                <a:lnTo>
                  <a:pt x="961" y="2338"/>
                </a:lnTo>
                <a:lnTo>
                  <a:pt x="968" y="2342"/>
                </a:lnTo>
                <a:lnTo>
                  <a:pt x="975" y="2347"/>
                </a:lnTo>
                <a:lnTo>
                  <a:pt x="983" y="2351"/>
                </a:lnTo>
                <a:lnTo>
                  <a:pt x="991" y="2355"/>
                </a:lnTo>
                <a:lnTo>
                  <a:pt x="999" y="2358"/>
                </a:lnTo>
                <a:lnTo>
                  <a:pt x="1006" y="2362"/>
                </a:lnTo>
                <a:lnTo>
                  <a:pt x="1014" y="2366"/>
                </a:lnTo>
                <a:lnTo>
                  <a:pt x="1021" y="2369"/>
                </a:lnTo>
                <a:lnTo>
                  <a:pt x="1029" y="2372"/>
                </a:lnTo>
                <a:lnTo>
                  <a:pt x="1035" y="2376"/>
                </a:lnTo>
                <a:lnTo>
                  <a:pt x="1043" y="2379"/>
                </a:lnTo>
                <a:lnTo>
                  <a:pt x="1052" y="2383"/>
                </a:lnTo>
                <a:lnTo>
                  <a:pt x="1063" y="2386"/>
                </a:lnTo>
                <a:lnTo>
                  <a:pt x="1074" y="2392"/>
                </a:lnTo>
                <a:lnTo>
                  <a:pt x="1086" y="2395"/>
                </a:lnTo>
                <a:lnTo>
                  <a:pt x="1099" y="2399"/>
                </a:lnTo>
                <a:lnTo>
                  <a:pt x="1111" y="2403"/>
                </a:lnTo>
                <a:lnTo>
                  <a:pt x="1123" y="2409"/>
                </a:lnTo>
                <a:lnTo>
                  <a:pt x="1137" y="2413"/>
                </a:lnTo>
                <a:lnTo>
                  <a:pt x="1150" y="2417"/>
                </a:lnTo>
                <a:lnTo>
                  <a:pt x="1163" y="2421"/>
                </a:lnTo>
                <a:lnTo>
                  <a:pt x="1175" y="2425"/>
                </a:lnTo>
                <a:lnTo>
                  <a:pt x="1188" y="2429"/>
                </a:lnTo>
                <a:lnTo>
                  <a:pt x="1199" y="2433"/>
                </a:lnTo>
                <a:lnTo>
                  <a:pt x="1211" y="2435"/>
                </a:lnTo>
                <a:lnTo>
                  <a:pt x="1221" y="2439"/>
                </a:lnTo>
                <a:lnTo>
                  <a:pt x="1232" y="2442"/>
                </a:lnTo>
                <a:lnTo>
                  <a:pt x="1245" y="2445"/>
                </a:lnTo>
                <a:lnTo>
                  <a:pt x="1258" y="2447"/>
                </a:lnTo>
                <a:lnTo>
                  <a:pt x="1271" y="2451"/>
                </a:lnTo>
                <a:lnTo>
                  <a:pt x="1285" y="2454"/>
                </a:lnTo>
                <a:lnTo>
                  <a:pt x="1299" y="2458"/>
                </a:lnTo>
                <a:lnTo>
                  <a:pt x="1314" y="2460"/>
                </a:lnTo>
                <a:lnTo>
                  <a:pt x="1327" y="2464"/>
                </a:lnTo>
                <a:lnTo>
                  <a:pt x="1342" y="2466"/>
                </a:lnTo>
                <a:lnTo>
                  <a:pt x="1355" y="2470"/>
                </a:lnTo>
                <a:lnTo>
                  <a:pt x="1369" y="2472"/>
                </a:lnTo>
                <a:lnTo>
                  <a:pt x="1381" y="2474"/>
                </a:lnTo>
                <a:lnTo>
                  <a:pt x="1393" y="2476"/>
                </a:lnTo>
                <a:lnTo>
                  <a:pt x="1403" y="2478"/>
                </a:lnTo>
                <a:lnTo>
                  <a:pt x="1414" y="2479"/>
                </a:lnTo>
                <a:lnTo>
                  <a:pt x="1422" y="2481"/>
                </a:lnTo>
                <a:lnTo>
                  <a:pt x="1433" y="2482"/>
                </a:lnTo>
                <a:lnTo>
                  <a:pt x="1445" y="2484"/>
                </a:lnTo>
                <a:lnTo>
                  <a:pt x="1458" y="2484"/>
                </a:lnTo>
                <a:lnTo>
                  <a:pt x="1471" y="2486"/>
                </a:lnTo>
                <a:lnTo>
                  <a:pt x="1485" y="2487"/>
                </a:lnTo>
                <a:lnTo>
                  <a:pt x="1500" y="2489"/>
                </a:lnTo>
                <a:lnTo>
                  <a:pt x="1515" y="2489"/>
                </a:lnTo>
                <a:lnTo>
                  <a:pt x="1529" y="2491"/>
                </a:lnTo>
                <a:lnTo>
                  <a:pt x="1543" y="2492"/>
                </a:lnTo>
                <a:lnTo>
                  <a:pt x="1558" y="2494"/>
                </a:lnTo>
                <a:lnTo>
                  <a:pt x="1573" y="2494"/>
                </a:lnTo>
                <a:lnTo>
                  <a:pt x="1586" y="2496"/>
                </a:lnTo>
                <a:lnTo>
                  <a:pt x="1599" y="2496"/>
                </a:lnTo>
                <a:lnTo>
                  <a:pt x="1611" y="2497"/>
                </a:lnTo>
                <a:lnTo>
                  <a:pt x="1623" y="2497"/>
                </a:lnTo>
                <a:lnTo>
                  <a:pt x="1634" y="2499"/>
                </a:lnTo>
                <a:lnTo>
                  <a:pt x="1646" y="2499"/>
                </a:lnTo>
                <a:lnTo>
                  <a:pt x="1659" y="2500"/>
                </a:lnTo>
                <a:lnTo>
                  <a:pt x="1673" y="2500"/>
                </a:lnTo>
                <a:lnTo>
                  <a:pt x="1686" y="2502"/>
                </a:lnTo>
                <a:lnTo>
                  <a:pt x="1701" y="2502"/>
                </a:lnTo>
                <a:lnTo>
                  <a:pt x="1716" y="2502"/>
                </a:lnTo>
                <a:lnTo>
                  <a:pt x="1731" y="2502"/>
                </a:lnTo>
                <a:lnTo>
                  <a:pt x="1744" y="2503"/>
                </a:lnTo>
                <a:lnTo>
                  <a:pt x="1759" y="2503"/>
                </a:lnTo>
                <a:lnTo>
                  <a:pt x="1773" y="2503"/>
                </a:lnTo>
                <a:lnTo>
                  <a:pt x="1787" y="2503"/>
                </a:lnTo>
                <a:lnTo>
                  <a:pt x="1799" y="2503"/>
                </a:lnTo>
                <a:lnTo>
                  <a:pt x="1812" y="2503"/>
                </a:lnTo>
                <a:lnTo>
                  <a:pt x="1822" y="2503"/>
                </a:lnTo>
                <a:lnTo>
                  <a:pt x="1832" y="2503"/>
                </a:lnTo>
                <a:lnTo>
                  <a:pt x="1839" y="2503"/>
                </a:lnTo>
                <a:lnTo>
                  <a:pt x="1845" y="2503"/>
                </a:lnTo>
                <a:lnTo>
                  <a:pt x="1849" y="2503"/>
                </a:lnTo>
                <a:lnTo>
                  <a:pt x="1852" y="2503"/>
                </a:lnTo>
                <a:lnTo>
                  <a:pt x="1854" y="2503"/>
                </a:lnTo>
                <a:lnTo>
                  <a:pt x="1856" y="2503"/>
                </a:lnTo>
                <a:lnTo>
                  <a:pt x="1858" y="2503"/>
                </a:lnTo>
                <a:lnTo>
                  <a:pt x="1860" y="2503"/>
                </a:lnTo>
                <a:lnTo>
                  <a:pt x="1862" y="2503"/>
                </a:lnTo>
                <a:lnTo>
                  <a:pt x="1866" y="2503"/>
                </a:lnTo>
                <a:lnTo>
                  <a:pt x="1870" y="2503"/>
                </a:lnTo>
                <a:lnTo>
                  <a:pt x="1877" y="2503"/>
                </a:lnTo>
                <a:lnTo>
                  <a:pt x="1885" y="2503"/>
                </a:lnTo>
                <a:lnTo>
                  <a:pt x="1895" y="2503"/>
                </a:lnTo>
                <a:lnTo>
                  <a:pt x="1909" y="2503"/>
                </a:lnTo>
                <a:lnTo>
                  <a:pt x="1925" y="2503"/>
                </a:lnTo>
              </a:path>
            </a:pathLst>
          </a:custGeom>
          <a:noFill/>
          <a:ln w="5724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5943600"/>
            <a:ext cx="7162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Times New Roman"/>
              </a:rPr>
              <a:t>Pérdida de utilid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3276720"/>
            <a:ext cx="4572000" cy="1904760"/>
          </a:xfrm>
          <a:prstGeom prst="wedgeRoundRectCallout">
            <a:avLst>
              <a:gd name="adj1" fmla="val -44166"/>
              <a:gd name="adj2" fmla="val 46833"/>
              <a:gd name="adj3" fmla="val 16667"/>
            </a:avLst>
          </a:prstGeom>
          <a:solidFill>
            <a:srgbClr val="ffff99"/>
          </a:solidFill>
          <a:ln w="507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a asignación eficiente está aqu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905120"/>
            <a:ext cx="5715000" cy="1371600"/>
          </a:xfrm>
          <a:prstGeom prst="wedgeRoundRectCallout">
            <a:avLst>
              <a:gd name="adj1" fmla="val -62194"/>
              <a:gd name="adj2" fmla="val -39814"/>
              <a:gd name="adj3" fmla="val 16667"/>
            </a:avLst>
          </a:prstGeom>
          <a:solidFill>
            <a:srgbClr val="ffff99"/>
          </a:solidFill>
          <a:ln w="507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qui se maximiza el benef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609480"/>
            <a:ext cx="540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333440"/>
            <a:ext cx="540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80320" y="6362640"/>
            <a:ext cx="540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80320" y="7086600"/>
            <a:ext cx="540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41520" y="1544760"/>
            <a:ext cx="1049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03680" y="2987640"/>
            <a:ext cx="2473200" cy="2800440"/>
          </a:xfrm>
          <a:custGeom>
            <a:avLst/>
            <a:gdLst/>
            <a:ahLst/>
            <a:rect l="l" t="t" r="r" b="b"/>
            <a:pathLst>
              <a:path w="1047" h="1185">
                <a:moveTo>
                  <a:pt x="0" y="0"/>
                </a:moveTo>
                <a:lnTo>
                  <a:pt x="0" y="10"/>
                </a:lnTo>
                <a:lnTo>
                  <a:pt x="0" y="18"/>
                </a:lnTo>
                <a:lnTo>
                  <a:pt x="0" y="24"/>
                </a:lnTo>
                <a:lnTo>
                  <a:pt x="2" y="30"/>
                </a:lnTo>
                <a:lnTo>
                  <a:pt x="2" y="34"/>
                </a:lnTo>
                <a:lnTo>
                  <a:pt x="2" y="36"/>
                </a:lnTo>
                <a:lnTo>
                  <a:pt x="2" y="38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3" y="44"/>
                </a:lnTo>
                <a:lnTo>
                  <a:pt x="3" y="44"/>
                </a:lnTo>
                <a:lnTo>
                  <a:pt x="3" y="47"/>
                </a:lnTo>
                <a:lnTo>
                  <a:pt x="3" y="50"/>
                </a:lnTo>
                <a:lnTo>
                  <a:pt x="3" y="53"/>
                </a:lnTo>
                <a:lnTo>
                  <a:pt x="5" y="57"/>
                </a:lnTo>
                <a:lnTo>
                  <a:pt x="5" y="64"/>
                </a:lnTo>
                <a:lnTo>
                  <a:pt x="7" y="72"/>
                </a:lnTo>
                <a:lnTo>
                  <a:pt x="9" y="81"/>
                </a:lnTo>
                <a:lnTo>
                  <a:pt x="10" y="91"/>
                </a:lnTo>
                <a:lnTo>
                  <a:pt x="12" y="104"/>
                </a:lnTo>
                <a:lnTo>
                  <a:pt x="14" y="116"/>
                </a:lnTo>
                <a:lnTo>
                  <a:pt x="16" y="129"/>
                </a:lnTo>
                <a:lnTo>
                  <a:pt x="20" y="142"/>
                </a:lnTo>
                <a:lnTo>
                  <a:pt x="21" y="158"/>
                </a:lnTo>
                <a:lnTo>
                  <a:pt x="25" y="173"/>
                </a:lnTo>
                <a:lnTo>
                  <a:pt x="28" y="188"/>
                </a:lnTo>
                <a:lnTo>
                  <a:pt x="31" y="203"/>
                </a:lnTo>
                <a:lnTo>
                  <a:pt x="34" y="218"/>
                </a:lnTo>
                <a:lnTo>
                  <a:pt x="38" y="234"/>
                </a:lnTo>
                <a:lnTo>
                  <a:pt x="41" y="248"/>
                </a:lnTo>
                <a:lnTo>
                  <a:pt x="45" y="262"/>
                </a:lnTo>
                <a:lnTo>
                  <a:pt x="48" y="277"/>
                </a:lnTo>
                <a:lnTo>
                  <a:pt x="51" y="292"/>
                </a:lnTo>
                <a:lnTo>
                  <a:pt x="55" y="309"/>
                </a:lnTo>
                <a:lnTo>
                  <a:pt x="59" y="324"/>
                </a:lnTo>
                <a:lnTo>
                  <a:pt x="63" y="341"/>
                </a:lnTo>
                <a:lnTo>
                  <a:pt x="67" y="356"/>
                </a:lnTo>
                <a:lnTo>
                  <a:pt x="71" y="373"/>
                </a:lnTo>
                <a:lnTo>
                  <a:pt x="77" y="388"/>
                </a:lnTo>
                <a:lnTo>
                  <a:pt x="80" y="404"/>
                </a:lnTo>
                <a:lnTo>
                  <a:pt x="84" y="419"/>
                </a:lnTo>
                <a:lnTo>
                  <a:pt x="88" y="433"/>
                </a:lnTo>
                <a:lnTo>
                  <a:pt x="93" y="446"/>
                </a:lnTo>
                <a:lnTo>
                  <a:pt x="97" y="458"/>
                </a:lnTo>
                <a:lnTo>
                  <a:pt x="101" y="468"/>
                </a:lnTo>
                <a:lnTo>
                  <a:pt x="104" y="478"/>
                </a:lnTo>
                <a:lnTo>
                  <a:pt x="108" y="485"/>
                </a:lnTo>
                <a:lnTo>
                  <a:pt x="110" y="494"/>
                </a:lnTo>
                <a:lnTo>
                  <a:pt x="114" y="502"/>
                </a:lnTo>
                <a:lnTo>
                  <a:pt x="118" y="512"/>
                </a:lnTo>
                <a:lnTo>
                  <a:pt x="122" y="521"/>
                </a:lnTo>
                <a:lnTo>
                  <a:pt x="126" y="532"/>
                </a:lnTo>
                <a:lnTo>
                  <a:pt x="131" y="544"/>
                </a:lnTo>
                <a:lnTo>
                  <a:pt x="135" y="556"/>
                </a:lnTo>
                <a:lnTo>
                  <a:pt x="141" y="567"/>
                </a:lnTo>
                <a:lnTo>
                  <a:pt x="145" y="580"/>
                </a:lnTo>
                <a:lnTo>
                  <a:pt x="150" y="592"/>
                </a:lnTo>
                <a:lnTo>
                  <a:pt x="155" y="604"/>
                </a:lnTo>
                <a:lnTo>
                  <a:pt x="161" y="615"/>
                </a:lnTo>
                <a:lnTo>
                  <a:pt x="165" y="627"/>
                </a:lnTo>
                <a:lnTo>
                  <a:pt x="170" y="638"/>
                </a:lnTo>
                <a:lnTo>
                  <a:pt x="174" y="648"/>
                </a:lnTo>
                <a:lnTo>
                  <a:pt x="179" y="658"/>
                </a:lnTo>
                <a:lnTo>
                  <a:pt x="183" y="668"/>
                </a:lnTo>
                <a:lnTo>
                  <a:pt x="187" y="678"/>
                </a:lnTo>
                <a:lnTo>
                  <a:pt x="191" y="690"/>
                </a:lnTo>
                <a:lnTo>
                  <a:pt x="197" y="700"/>
                </a:lnTo>
                <a:lnTo>
                  <a:pt x="201" y="711"/>
                </a:lnTo>
                <a:lnTo>
                  <a:pt x="206" y="722"/>
                </a:lnTo>
                <a:lnTo>
                  <a:pt x="211" y="733"/>
                </a:lnTo>
                <a:lnTo>
                  <a:pt x="217" y="744"/>
                </a:lnTo>
                <a:lnTo>
                  <a:pt x="221" y="756"/>
                </a:lnTo>
                <a:lnTo>
                  <a:pt x="226" y="767"/>
                </a:lnTo>
                <a:lnTo>
                  <a:pt x="230" y="778"/>
                </a:lnTo>
                <a:lnTo>
                  <a:pt x="236" y="788"/>
                </a:lnTo>
                <a:lnTo>
                  <a:pt x="239" y="797"/>
                </a:lnTo>
                <a:lnTo>
                  <a:pt x="244" y="805"/>
                </a:lnTo>
                <a:lnTo>
                  <a:pt x="247" y="812"/>
                </a:lnTo>
                <a:lnTo>
                  <a:pt x="251" y="818"/>
                </a:lnTo>
                <a:lnTo>
                  <a:pt x="253" y="826"/>
                </a:lnTo>
                <a:lnTo>
                  <a:pt x="257" y="832"/>
                </a:lnTo>
                <a:lnTo>
                  <a:pt x="261" y="840"/>
                </a:lnTo>
                <a:lnTo>
                  <a:pt x="265" y="847"/>
                </a:lnTo>
                <a:lnTo>
                  <a:pt x="270" y="856"/>
                </a:lnTo>
                <a:lnTo>
                  <a:pt x="275" y="864"/>
                </a:lnTo>
                <a:lnTo>
                  <a:pt x="281" y="874"/>
                </a:lnTo>
                <a:lnTo>
                  <a:pt x="287" y="881"/>
                </a:lnTo>
                <a:lnTo>
                  <a:pt x="292" y="890"/>
                </a:lnTo>
                <a:lnTo>
                  <a:pt x="298" y="899"/>
                </a:lnTo>
                <a:lnTo>
                  <a:pt x="304" y="908"/>
                </a:lnTo>
                <a:lnTo>
                  <a:pt x="309" y="916"/>
                </a:lnTo>
                <a:lnTo>
                  <a:pt x="315" y="924"/>
                </a:lnTo>
                <a:lnTo>
                  <a:pt x="321" y="931"/>
                </a:lnTo>
                <a:lnTo>
                  <a:pt x="326" y="937"/>
                </a:lnTo>
                <a:lnTo>
                  <a:pt x="332" y="943"/>
                </a:lnTo>
                <a:lnTo>
                  <a:pt x="336" y="950"/>
                </a:lnTo>
                <a:lnTo>
                  <a:pt x="342" y="957"/>
                </a:lnTo>
                <a:lnTo>
                  <a:pt x="347" y="964"/>
                </a:lnTo>
                <a:lnTo>
                  <a:pt x="354" y="970"/>
                </a:lnTo>
                <a:lnTo>
                  <a:pt x="360" y="977"/>
                </a:lnTo>
                <a:lnTo>
                  <a:pt x="367" y="985"/>
                </a:lnTo>
                <a:lnTo>
                  <a:pt x="374" y="992"/>
                </a:lnTo>
                <a:lnTo>
                  <a:pt x="382" y="998"/>
                </a:lnTo>
                <a:lnTo>
                  <a:pt x="387" y="1006"/>
                </a:lnTo>
                <a:lnTo>
                  <a:pt x="395" y="1013"/>
                </a:lnTo>
                <a:lnTo>
                  <a:pt x="401" y="1020"/>
                </a:lnTo>
                <a:lnTo>
                  <a:pt x="409" y="1025"/>
                </a:lnTo>
                <a:lnTo>
                  <a:pt x="415" y="1031"/>
                </a:lnTo>
                <a:lnTo>
                  <a:pt x="421" y="1036"/>
                </a:lnTo>
                <a:lnTo>
                  <a:pt x="427" y="1041"/>
                </a:lnTo>
                <a:lnTo>
                  <a:pt x="433" y="1045"/>
                </a:lnTo>
                <a:lnTo>
                  <a:pt x="437" y="1050"/>
                </a:lnTo>
                <a:lnTo>
                  <a:pt x="443" y="1054"/>
                </a:lnTo>
                <a:lnTo>
                  <a:pt x="447" y="1057"/>
                </a:lnTo>
                <a:lnTo>
                  <a:pt x="453" y="1061"/>
                </a:lnTo>
                <a:lnTo>
                  <a:pt x="457" y="1065"/>
                </a:lnTo>
                <a:lnTo>
                  <a:pt x="462" y="1068"/>
                </a:lnTo>
                <a:lnTo>
                  <a:pt x="467" y="1072"/>
                </a:lnTo>
                <a:lnTo>
                  <a:pt x="473" y="1075"/>
                </a:lnTo>
                <a:lnTo>
                  <a:pt x="477" y="1079"/>
                </a:lnTo>
                <a:lnTo>
                  <a:pt x="481" y="1083"/>
                </a:lnTo>
                <a:lnTo>
                  <a:pt x="485" y="1086"/>
                </a:lnTo>
                <a:lnTo>
                  <a:pt x="490" y="1088"/>
                </a:lnTo>
                <a:lnTo>
                  <a:pt x="493" y="1091"/>
                </a:lnTo>
                <a:lnTo>
                  <a:pt x="497" y="1093"/>
                </a:lnTo>
                <a:lnTo>
                  <a:pt x="498" y="1095"/>
                </a:lnTo>
                <a:lnTo>
                  <a:pt x="501" y="1095"/>
                </a:lnTo>
                <a:lnTo>
                  <a:pt x="503" y="1097"/>
                </a:lnTo>
                <a:lnTo>
                  <a:pt x="505" y="1098"/>
                </a:lnTo>
                <a:lnTo>
                  <a:pt x="507" y="1100"/>
                </a:lnTo>
                <a:lnTo>
                  <a:pt x="511" y="1101"/>
                </a:lnTo>
                <a:lnTo>
                  <a:pt x="514" y="1103"/>
                </a:lnTo>
                <a:lnTo>
                  <a:pt x="518" y="1105"/>
                </a:lnTo>
                <a:lnTo>
                  <a:pt x="521" y="1106"/>
                </a:lnTo>
                <a:lnTo>
                  <a:pt x="526" y="1108"/>
                </a:lnTo>
                <a:lnTo>
                  <a:pt x="529" y="1110"/>
                </a:lnTo>
                <a:lnTo>
                  <a:pt x="533" y="1112"/>
                </a:lnTo>
                <a:lnTo>
                  <a:pt x="537" y="1114"/>
                </a:lnTo>
                <a:lnTo>
                  <a:pt x="542" y="1116"/>
                </a:lnTo>
                <a:lnTo>
                  <a:pt x="546" y="1118"/>
                </a:lnTo>
                <a:lnTo>
                  <a:pt x="550" y="1120"/>
                </a:lnTo>
                <a:lnTo>
                  <a:pt x="554" y="1122"/>
                </a:lnTo>
                <a:lnTo>
                  <a:pt x="559" y="1122"/>
                </a:lnTo>
                <a:lnTo>
                  <a:pt x="562" y="1124"/>
                </a:lnTo>
                <a:lnTo>
                  <a:pt x="566" y="1126"/>
                </a:lnTo>
                <a:lnTo>
                  <a:pt x="571" y="1128"/>
                </a:lnTo>
                <a:lnTo>
                  <a:pt x="577" y="1130"/>
                </a:lnTo>
                <a:lnTo>
                  <a:pt x="583" y="1132"/>
                </a:lnTo>
                <a:lnTo>
                  <a:pt x="589" y="1133"/>
                </a:lnTo>
                <a:lnTo>
                  <a:pt x="596" y="1135"/>
                </a:lnTo>
                <a:lnTo>
                  <a:pt x="604" y="1137"/>
                </a:lnTo>
                <a:lnTo>
                  <a:pt x="609" y="1140"/>
                </a:lnTo>
                <a:lnTo>
                  <a:pt x="617" y="1142"/>
                </a:lnTo>
                <a:lnTo>
                  <a:pt x="624" y="1144"/>
                </a:lnTo>
                <a:lnTo>
                  <a:pt x="632" y="1146"/>
                </a:lnTo>
                <a:lnTo>
                  <a:pt x="637" y="1148"/>
                </a:lnTo>
                <a:lnTo>
                  <a:pt x="645" y="1150"/>
                </a:lnTo>
                <a:lnTo>
                  <a:pt x="651" y="1152"/>
                </a:lnTo>
                <a:lnTo>
                  <a:pt x="657" y="1152"/>
                </a:lnTo>
                <a:lnTo>
                  <a:pt x="663" y="1154"/>
                </a:lnTo>
                <a:lnTo>
                  <a:pt x="669" y="1156"/>
                </a:lnTo>
                <a:lnTo>
                  <a:pt x="675" y="1158"/>
                </a:lnTo>
                <a:lnTo>
                  <a:pt x="682" y="1158"/>
                </a:lnTo>
                <a:lnTo>
                  <a:pt x="690" y="1160"/>
                </a:lnTo>
                <a:lnTo>
                  <a:pt x="697" y="1162"/>
                </a:lnTo>
                <a:lnTo>
                  <a:pt x="705" y="1164"/>
                </a:lnTo>
                <a:lnTo>
                  <a:pt x="713" y="1164"/>
                </a:lnTo>
                <a:lnTo>
                  <a:pt x="721" y="1166"/>
                </a:lnTo>
                <a:lnTo>
                  <a:pt x="729" y="1168"/>
                </a:lnTo>
                <a:lnTo>
                  <a:pt x="736" y="1170"/>
                </a:lnTo>
                <a:lnTo>
                  <a:pt x="743" y="1170"/>
                </a:lnTo>
                <a:lnTo>
                  <a:pt x="749" y="1171"/>
                </a:lnTo>
                <a:lnTo>
                  <a:pt x="757" y="1171"/>
                </a:lnTo>
                <a:lnTo>
                  <a:pt x="762" y="1173"/>
                </a:lnTo>
                <a:lnTo>
                  <a:pt x="768" y="1173"/>
                </a:lnTo>
                <a:lnTo>
                  <a:pt x="772" y="1174"/>
                </a:lnTo>
                <a:lnTo>
                  <a:pt x="778" y="1174"/>
                </a:lnTo>
                <a:lnTo>
                  <a:pt x="784" y="1176"/>
                </a:lnTo>
                <a:lnTo>
                  <a:pt x="791" y="1176"/>
                </a:lnTo>
                <a:lnTo>
                  <a:pt x="799" y="1178"/>
                </a:lnTo>
                <a:lnTo>
                  <a:pt x="806" y="1178"/>
                </a:lnTo>
                <a:lnTo>
                  <a:pt x="813" y="1178"/>
                </a:lnTo>
                <a:lnTo>
                  <a:pt x="822" y="1178"/>
                </a:lnTo>
                <a:lnTo>
                  <a:pt x="830" y="1180"/>
                </a:lnTo>
                <a:lnTo>
                  <a:pt x="837" y="1180"/>
                </a:lnTo>
                <a:lnTo>
                  <a:pt x="845" y="1180"/>
                </a:lnTo>
                <a:lnTo>
                  <a:pt x="853" y="1180"/>
                </a:lnTo>
                <a:lnTo>
                  <a:pt x="860" y="1181"/>
                </a:lnTo>
                <a:lnTo>
                  <a:pt x="868" y="1181"/>
                </a:lnTo>
                <a:lnTo>
                  <a:pt x="874" y="1181"/>
                </a:lnTo>
                <a:lnTo>
                  <a:pt x="881" y="1181"/>
                </a:lnTo>
                <a:lnTo>
                  <a:pt x="887" y="1183"/>
                </a:lnTo>
                <a:lnTo>
                  <a:pt x="893" y="1183"/>
                </a:lnTo>
                <a:lnTo>
                  <a:pt x="901" y="1183"/>
                </a:lnTo>
                <a:lnTo>
                  <a:pt x="908" y="1183"/>
                </a:lnTo>
                <a:lnTo>
                  <a:pt x="916" y="1183"/>
                </a:lnTo>
                <a:lnTo>
                  <a:pt x="923" y="1183"/>
                </a:lnTo>
                <a:lnTo>
                  <a:pt x="931" y="1183"/>
                </a:lnTo>
                <a:lnTo>
                  <a:pt x="940" y="1183"/>
                </a:lnTo>
                <a:lnTo>
                  <a:pt x="947" y="1184"/>
                </a:lnTo>
                <a:lnTo>
                  <a:pt x="955" y="1184"/>
                </a:lnTo>
                <a:lnTo>
                  <a:pt x="963" y="1184"/>
                </a:lnTo>
                <a:lnTo>
                  <a:pt x="971" y="1184"/>
                </a:lnTo>
                <a:lnTo>
                  <a:pt x="976" y="1184"/>
                </a:lnTo>
                <a:lnTo>
                  <a:pt x="984" y="1184"/>
                </a:lnTo>
                <a:lnTo>
                  <a:pt x="989" y="1184"/>
                </a:lnTo>
                <a:lnTo>
                  <a:pt x="995" y="1184"/>
                </a:lnTo>
                <a:lnTo>
                  <a:pt x="998" y="1184"/>
                </a:lnTo>
                <a:lnTo>
                  <a:pt x="1002" y="1184"/>
                </a:lnTo>
                <a:lnTo>
                  <a:pt x="1004" y="1184"/>
                </a:lnTo>
                <a:lnTo>
                  <a:pt x="1006" y="1184"/>
                </a:lnTo>
                <a:lnTo>
                  <a:pt x="1006" y="1184"/>
                </a:lnTo>
                <a:lnTo>
                  <a:pt x="1008" y="1184"/>
                </a:lnTo>
                <a:lnTo>
                  <a:pt x="1009" y="1184"/>
                </a:lnTo>
                <a:lnTo>
                  <a:pt x="1011" y="1184"/>
                </a:lnTo>
                <a:lnTo>
                  <a:pt x="1011" y="1184"/>
                </a:lnTo>
                <a:lnTo>
                  <a:pt x="1013" y="1184"/>
                </a:lnTo>
                <a:lnTo>
                  <a:pt x="1016" y="1184"/>
                </a:lnTo>
                <a:lnTo>
                  <a:pt x="1019" y="1184"/>
                </a:lnTo>
                <a:lnTo>
                  <a:pt x="1023" y="1184"/>
                </a:lnTo>
                <a:lnTo>
                  <a:pt x="1029" y="1184"/>
                </a:lnTo>
                <a:lnTo>
                  <a:pt x="1036" y="1184"/>
                </a:lnTo>
                <a:lnTo>
                  <a:pt x="1046" y="1184"/>
                </a:lnTo>
              </a:path>
            </a:pathLst>
          </a:custGeom>
          <a:noFill/>
          <a:ln w="5724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5105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280" y="0"/>
            <a:ext cx="99871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mo ya sabemos, las no convexidades pueden guiarnos hacia la ineficien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523880" y="1349280"/>
            <a:ext cx="6515280" cy="6176880"/>
            <a:chOff x="1523880" y="1349280"/>
            <a:chExt cx="6515280" cy="6176880"/>
          </a:xfrm>
        </p:grpSpPr>
        <p:sp>
          <p:nvSpPr>
            <p:cNvPr id="168" name=""/>
            <p:cNvSpPr/>
            <p:nvPr/>
          </p:nvSpPr>
          <p:spPr>
            <a:xfrm>
              <a:off x="2154240" y="3941640"/>
              <a:ext cx="2859120" cy="3025800"/>
            </a:xfrm>
            <a:custGeom>
              <a:avLst/>
              <a:gdLst/>
              <a:ahLst/>
              <a:rect l="l" t="t" r="r" b="b"/>
              <a:pathLst>
                <a:path w="1801" h="1906">
                  <a:moveTo>
                    <a:pt x="21" y="0"/>
                  </a:moveTo>
                  <a:lnTo>
                    <a:pt x="21" y="0"/>
                  </a:lnTo>
                  <a:lnTo>
                    <a:pt x="21" y="1898"/>
                  </a:lnTo>
                  <a:lnTo>
                    <a:pt x="1800" y="1905"/>
                  </a:lnTo>
                  <a:lnTo>
                    <a:pt x="1800" y="1905"/>
                  </a:lnTo>
                  <a:lnTo>
                    <a:pt x="1764" y="1753"/>
                  </a:lnTo>
                  <a:lnTo>
                    <a:pt x="1755" y="1716"/>
                  </a:lnTo>
                  <a:lnTo>
                    <a:pt x="1740" y="1674"/>
                  </a:lnTo>
                  <a:lnTo>
                    <a:pt x="1726" y="1626"/>
                  </a:lnTo>
                  <a:lnTo>
                    <a:pt x="1708" y="1577"/>
                  </a:lnTo>
                  <a:lnTo>
                    <a:pt x="1691" y="1526"/>
                  </a:lnTo>
                  <a:lnTo>
                    <a:pt x="1673" y="1477"/>
                  </a:lnTo>
                  <a:lnTo>
                    <a:pt x="1655" y="1433"/>
                  </a:lnTo>
                  <a:lnTo>
                    <a:pt x="1645" y="1412"/>
                  </a:lnTo>
                  <a:lnTo>
                    <a:pt x="1635" y="1389"/>
                  </a:lnTo>
                  <a:lnTo>
                    <a:pt x="1624" y="1363"/>
                  </a:lnTo>
                  <a:lnTo>
                    <a:pt x="1611" y="1334"/>
                  </a:lnTo>
                  <a:lnTo>
                    <a:pt x="1597" y="1306"/>
                  </a:lnTo>
                  <a:lnTo>
                    <a:pt x="1584" y="1276"/>
                  </a:lnTo>
                  <a:lnTo>
                    <a:pt x="1568" y="1244"/>
                  </a:lnTo>
                  <a:lnTo>
                    <a:pt x="1554" y="1212"/>
                  </a:lnTo>
                  <a:lnTo>
                    <a:pt x="1539" y="1182"/>
                  </a:lnTo>
                  <a:lnTo>
                    <a:pt x="1523" y="1151"/>
                  </a:lnTo>
                  <a:lnTo>
                    <a:pt x="1507" y="1122"/>
                  </a:lnTo>
                  <a:lnTo>
                    <a:pt x="1493" y="1091"/>
                  </a:lnTo>
                  <a:lnTo>
                    <a:pt x="1478" y="1064"/>
                  </a:lnTo>
                  <a:lnTo>
                    <a:pt x="1463" y="1036"/>
                  </a:lnTo>
                  <a:lnTo>
                    <a:pt x="1450" y="1013"/>
                  </a:lnTo>
                  <a:lnTo>
                    <a:pt x="1439" y="988"/>
                  </a:lnTo>
                  <a:lnTo>
                    <a:pt x="1423" y="969"/>
                  </a:lnTo>
                  <a:lnTo>
                    <a:pt x="1409" y="945"/>
                  </a:lnTo>
                  <a:lnTo>
                    <a:pt x="1393" y="920"/>
                  </a:lnTo>
                  <a:lnTo>
                    <a:pt x="1375" y="893"/>
                  </a:lnTo>
                  <a:lnTo>
                    <a:pt x="1355" y="868"/>
                  </a:lnTo>
                  <a:lnTo>
                    <a:pt x="1336" y="837"/>
                  </a:lnTo>
                  <a:lnTo>
                    <a:pt x="1317" y="810"/>
                  </a:lnTo>
                  <a:lnTo>
                    <a:pt x="1297" y="781"/>
                  </a:lnTo>
                  <a:lnTo>
                    <a:pt x="1272" y="755"/>
                  </a:lnTo>
                  <a:lnTo>
                    <a:pt x="1252" y="727"/>
                  </a:lnTo>
                  <a:lnTo>
                    <a:pt x="1232" y="701"/>
                  </a:lnTo>
                  <a:lnTo>
                    <a:pt x="1212" y="675"/>
                  </a:lnTo>
                  <a:lnTo>
                    <a:pt x="1192" y="653"/>
                  </a:lnTo>
                  <a:lnTo>
                    <a:pt x="1173" y="631"/>
                  </a:lnTo>
                  <a:lnTo>
                    <a:pt x="1155" y="611"/>
                  </a:lnTo>
                  <a:lnTo>
                    <a:pt x="1139" y="592"/>
                  </a:lnTo>
                  <a:lnTo>
                    <a:pt x="1103" y="559"/>
                  </a:lnTo>
                  <a:lnTo>
                    <a:pt x="1063" y="521"/>
                  </a:lnTo>
                  <a:lnTo>
                    <a:pt x="1021" y="481"/>
                  </a:lnTo>
                  <a:lnTo>
                    <a:pt x="978" y="441"/>
                  </a:lnTo>
                  <a:lnTo>
                    <a:pt x="933" y="403"/>
                  </a:lnTo>
                  <a:lnTo>
                    <a:pt x="895" y="369"/>
                  </a:lnTo>
                  <a:lnTo>
                    <a:pt x="861" y="340"/>
                  </a:lnTo>
                  <a:lnTo>
                    <a:pt x="830" y="314"/>
                  </a:lnTo>
                  <a:lnTo>
                    <a:pt x="801" y="297"/>
                  </a:lnTo>
                  <a:lnTo>
                    <a:pt x="767" y="272"/>
                  </a:lnTo>
                  <a:lnTo>
                    <a:pt x="729" y="247"/>
                  </a:lnTo>
                  <a:lnTo>
                    <a:pt x="691" y="223"/>
                  </a:lnTo>
                  <a:lnTo>
                    <a:pt x="653" y="199"/>
                  </a:lnTo>
                  <a:lnTo>
                    <a:pt x="618" y="177"/>
                  </a:lnTo>
                  <a:lnTo>
                    <a:pt x="583" y="157"/>
                  </a:lnTo>
                  <a:lnTo>
                    <a:pt x="555" y="141"/>
                  </a:lnTo>
                  <a:lnTo>
                    <a:pt x="525" y="129"/>
                  </a:lnTo>
                  <a:lnTo>
                    <a:pt x="496" y="115"/>
                  </a:lnTo>
                  <a:lnTo>
                    <a:pt x="461" y="101"/>
                  </a:lnTo>
                  <a:lnTo>
                    <a:pt x="428" y="87"/>
                  </a:lnTo>
                  <a:lnTo>
                    <a:pt x="392" y="74"/>
                  </a:lnTo>
                  <a:lnTo>
                    <a:pt x="363" y="63"/>
                  </a:lnTo>
                  <a:lnTo>
                    <a:pt x="335" y="55"/>
                  </a:lnTo>
                  <a:lnTo>
                    <a:pt x="313" y="48"/>
                  </a:lnTo>
                  <a:lnTo>
                    <a:pt x="289" y="45"/>
                  </a:lnTo>
                  <a:lnTo>
                    <a:pt x="264" y="39"/>
                  </a:lnTo>
                  <a:lnTo>
                    <a:pt x="235" y="35"/>
                  </a:lnTo>
                  <a:lnTo>
                    <a:pt x="207" y="29"/>
                  </a:lnTo>
                  <a:lnTo>
                    <a:pt x="178" y="27"/>
                  </a:lnTo>
                  <a:lnTo>
                    <a:pt x="150" y="22"/>
                  </a:lnTo>
                  <a:lnTo>
                    <a:pt x="124" y="20"/>
                  </a:lnTo>
                  <a:lnTo>
                    <a:pt x="103" y="17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ffffc2"/>
                </a:gs>
                <a:gs pos="100000">
                  <a:srgbClr val="008000"/>
                </a:gs>
              </a:gsLst>
              <a:lin ang="8100000"/>
            </a:gradFill>
            <a:ln w="47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193840" y="1349280"/>
              <a:ext cx="0" cy="562320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93840" y="6975360"/>
              <a:ext cx="5308560" cy="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56120" y="2073240"/>
              <a:ext cx="3390840" cy="3846600"/>
            </a:xfrm>
            <a:custGeom>
              <a:avLst/>
              <a:gdLst/>
              <a:ahLst/>
              <a:rect l="l" t="t" r="r" b="b"/>
              <a:pathLst>
                <a:path w="2136" h="2423">
                  <a:moveTo>
                    <a:pt x="0" y="0"/>
                  </a:moveTo>
                  <a:lnTo>
                    <a:pt x="0" y="20"/>
                  </a:lnTo>
                  <a:lnTo>
                    <a:pt x="2" y="37"/>
                  </a:lnTo>
                  <a:lnTo>
                    <a:pt x="3" y="50"/>
                  </a:lnTo>
                  <a:lnTo>
                    <a:pt x="5" y="59"/>
                  </a:lnTo>
                  <a:lnTo>
                    <a:pt x="5" y="68"/>
                  </a:lnTo>
                  <a:lnTo>
                    <a:pt x="6" y="74"/>
                  </a:lnTo>
                  <a:lnTo>
                    <a:pt x="6" y="78"/>
                  </a:lnTo>
                  <a:lnTo>
                    <a:pt x="7" y="80"/>
                  </a:lnTo>
                  <a:lnTo>
                    <a:pt x="7" y="84"/>
                  </a:lnTo>
                  <a:lnTo>
                    <a:pt x="7" y="86"/>
                  </a:lnTo>
                  <a:lnTo>
                    <a:pt x="7" y="88"/>
                  </a:lnTo>
                  <a:lnTo>
                    <a:pt x="9" y="90"/>
                  </a:lnTo>
                  <a:lnTo>
                    <a:pt x="9" y="96"/>
                  </a:lnTo>
                  <a:lnTo>
                    <a:pt x="9" y="100"/>
                  </a:lnTo>
                  <a:lnTo>
                    <a:pt x="10" y="107"/>
                  </a:lnTo>
                  <a:lnTo>
                    <a:pt x="12" y="116"/>
                  </a:lnTo>
                  <a:lnTo>
                    <a:pt x="13" y="129"/>
                  </a:lnTo>
                  <a:lnTo>
                    <a:pt x="15" y="145"/>
                  </a:lnTo>
                  <a:lnTo>
                    <a:pt x="18" y="165"/>
                  </a:lnTo>
                  <a:lnTo>
                    <a:pt x="22" y="185"/>
                  </a:lnTo>
                  <a:lnTo>
                    <a:pt x="26" y="210"/>
                  </a:lnTo>
                  <a:lnTo>
                    <a:pt x="30" y="235"/>
                  </a:lnTo>
                  <a:lnTo>
                    <a:pt x="36" y="263"/>
                  </a:lnTo>
                  <a:lnTo>
                    <a:pt x="41" y="291"/>
                  </a:lnTo>
                  <a:lnTo>
                    <a:pt x="47" y="322"/>
                  </a:lnTo>
                  <a:lnTo>
                    <a:pt x="52" y="352"/>
                  </a:lnTo>
                  <a:lnTo>
                    <a:pt x="58" y="384"/>
                  </a:lnTo>
                  <a:lnTo>
                    <a:pt x="65" y="415"/>
                  </a:lnTo>
                  <a:lnTo>
                    <a:pt x="71" y="447"/>
                  </a:lnTo>
                  <a:lnTo>
                    <a:pt x="78" y="477"/>
                  </a:lnTo>
                  <a:lnTo>
                    <a:pt x="84" y="507"/>
                  </a:lnTo>
                  <a:lnTo>
                    <a:pt x="92" y="536"/>
                  </a:lnTo>
                  <a:lnTo>
                    <a:pt x="97" y="566"/>
                  </a:lnTo>
                  <a:lnTo>
                    <a:pt x="105" y="597"/>
                  </a:lnTo>
                  <a:lnTo>
                    <a:pt x="112" y="630"/>
                  </a:lnTo>
                  <a:lnTo>
                    <a:pt x="121" y="661"/>
                  </a:lnTo>
                  <a:lnTo>
                    <a:pt x="128" y="695"/>
                  </a:lnTo>
                  <a:lnTo>
                    <a:pt x="138" y="728"/>
                  </a:lnTo>
                  <a:lnTo>
                    <a:pt x="147" y="760"/>
                  </a:lnTo>
                  <a:lnTo>
                    <a:pt x="156" y="792"/>
                  </a:lnTo>
                  <a:lnTo>
                    <a:pt x="164" y="825"/>
                  </a:lnTo>
                  <a:lnTo>
                    <a:pt x="173" y="856"/>
                  </a:lnTo>
                  <a:lnTo>
                    <a:pt x="182" y="884"/>
                  </a:lnTo>
                  <a:lnTo>
                    <a:pt x="191" y="910"/>
                  </a:lnTo>
                  <a:lnTo>
                    <a:pt x="198" y="936"/>
                  </a:lnTo>
                  <a:lnTo>
                    <a:pt x="206" y="957"/>
                  </a:lnTo>
                  <a:lnTo>
                    <a:pt x="213" y="977"/>
                  </a:lnTo>
                  <a:lnTo>
                    <a:pt x="220" y="992"/>
                  </a:lnTo>
                  <a:lnTo>
                    <a:pt x="226" y="1008"/>
                  </a:lnTo>
                  <a:lnTo>
                    <a:pt x="233" y="1026"/>
                  </a:lnTo>
                  <a:lnTo>
                    <a:pt x="240" y="1046"/>
                  </a:lnTo>
                  <a:lnTo>
                    <a:pt x="249" y="1066"/>
                  </a:lnTo>
                  <a:lnTo>
                    <a:pt x="258" y="1089"/>
                  </a:lnTo>
                  <a:lnTo>
                    <a:pt x="267" y="1111"/>
                  </a:lnTo>
                  <a:lnTo>
                    <a:pt x="276" y="1136"/>
                  </a:lnTo>
                  <a:lnTo>
                    <a:pt x="288" y="1159"/>
                  </a:lnTo>
                  <a:lnTo>
                    <a:pt x="297" y="1186"/>
                  </a:lnTo>
                  <a:lnTo>
                    <a:pt x="308" y="1210"/>
                  </a:lnTo>
                  <a:lnTo>
                    <a:pt x="317" y="1235"/>
                  </a:lnTo>
                  <a:lnTo>
                    <a:pt x="328" y="1258"/>
                  </a:lnTo>
                  <a:lnTo>
                    <a:pt x="338" y="1283"/>
                  </a:lnTo>
                  <a:lnTo>
                    <a:pt x="348" y="1305"/>
                  </a:lnTo>
                  <a:lnTo>
                    <a:pt x="357" y="1326"/>
                  </a:lnTo>
                  <a:lnTo>
                    <a:pt x="366" y="1345"/>
                  </a:lnTo>
                  <a:lnTo>
                    <a:pt x="374" y="1365"/>
                  </a:lnTo>
                  <a:lnTo>
                    <a:pt x="383" y="1386"/>
                  </a:lnTo>
                  <a:lnTo>
                    <a:pt x="392" y="1408"/>
                  </a:lnTo>
                  <a:lnTo>
                    <a:pt x="402" y="1430"/>
                  </a:lnTo>
                  <a:lnTo>
                    <a:pt x="412" y="1454"/>
                  </a:lnTo>
                  <a:lnTo>
                    <a:pt x="422" y="1477"/>
                  </a:lnTo>
                  <a:lnTo>
                    <a:pt x="432" y="1501"/>
                  </a:lnTo>
                  <a:lnTo>
                    <a:pt x="443" y="1523"/>
                  </a:lnTo>
                  <a:lnTo>
                    <a:pt x="452" y="1547"/>
                  </a:lnTo>
                  <a:lnTo>
                    <a:pt x="462" y="1569"/>
                  </a:lnTo>
                  <a:lnTo>
                    <a:pt x="472" y="1590"/>
                  </a:lnTo>
                  <a:lnTo>
                    <a:pt x="482" y="1610"/>
                  </a:lnTo>
                  <a:lnTo>
                    <a:pt x="489" y="1630"/>
                  </a:lnTo>
                  <a:lnTo>
                    <a:pt x="498" y="1647"/>
                  </a:lnTo>
                  <a:lnTo>
                    <a:pt x="505" y="1662"/>
                  </a:lnTo>
                  <a:lnTo>
                    <a:pt x="512" y="1674"/>
                  </a:lnTo>
                  <a:lnTo>
                    <a:pt x="518" y="1688"/>
                  </a:lnTo>
                  <a:lnTo>
                    <a:pt x="525" y="1702"/>
                  </a:lnTo>
                  <a:lnTo>
                    <a:pt x="533" y="1717"/>
                  </a:lnTo>
                  <a:lnTo>
                    <a:pt x="543" y="1733"/>
                  </a:lnTo>
                  <a:lnTo>
                    <a:pt x="552" y="1750"/>
                  </a:lnTo>
                  <a:lnTo>
                    <a:pt x="563" y="1767"/>
                  </a:lnTo>
                  <a:lnTo>
                    <a:pt x="574" y="1785"/>
                  </a:lnTo>
                  <a:lnTo>
                    <a:pt x="586" y="1802"/>
                  </a:lnTo>
                  <a:lnTo>
                    <a:pt x="597" y="1821"/>
                  </a:lnTo>
                  <a:lnTo>
                    <a:pt x="609" y="1838"/>
                  </a:lnTo>
                  <a:lnTo>
                    <a:pt x="620" y="1856"/>
                  </a:lnTo>
                  <a:lnTo>
                    <a:pt x="633" y="1872"/>
                  </a:lnTo>
                  <a:lnTo>
                    <a:pt x="644" y="1889"/>
                  </a:lnTo>
                  <a:lnTo>
                    <a:pt x="656" y="1904"/>
                  </a:lnTo>
                  <a:lnTo>
                    <a:pt x="666" y="1918"/>
                  </a:lnTo>
                  <a:lnTo>
                    <a:pt x="677" y="1929"/>
                  </a:lnTo>
                  <a:lnTo>
                    <a:pt x="687" y="1942"/>
                  </a:lnTo>
                  <a:lnTo>
                    <a:pt x="698" y="1956"/>
                  </a:lnTo>
                  <a:lnTo>
                    <a:pt x="711" y="1970"/>
                  </a:lnTo>
                  <a:lnTo>
                    <a:pt x="724" y="1984"/>
                  </a:lnTo>
                  <a:lnTo>
                    <a:pt x="737" y="1999"/>
                  </a:lnTo>
                  <a:lnTo>
                    <a:pt x="751" y="2014"/>
                  </a:lnTo>
                  <a:lnTo>
                    <a:pt x="766" y="2028"/>
                  </a:lnTo>
                  <a:lnTo>
                    <a:pt x="780" y="2042"/>
                  </a:lnTo>
                  <a:lnTo>
                    <a:pt x="794" y="2057"/>
                  </a:lnTo>
                  <a:lnTo>
                    <a:pt x="808" y="2071"/>
                  </a:lnTo>
                  <a:lnTo>
                    <a:pt x="822" y="2085"/>
                  </a:lnTo>
                  <a:lnTo>
                    <a:pt x="837" y="2097"/>
                  </a:lnTo>
                  <a:lnTo>
                    <a:pt x="849" y="2109"/>
                  </a:lnTo>
                  <a:lnTo>
                    <a:pt x="862" y="2120"/>
                  </a:lnTo>
                  <a:lnTo>
                    <a:pt x="873" y="2130"/>
                  </a:lnTo>
                  <a:lnTo>
                    <a:pt x="884" y="2137"/>
                  </a:lnTo>
                  <a:lnTo>
                    <a:pt x="894" y="2146"/>
                  </a:lnTo>
                  <a:lnTo>
                    <a:pt x="904" y="2153"/>
                  </a:lnTo>
                  <a:lnTo>
                    <a:pt x="913" y="2162"/>
                  </a:lnTo>
                  <a:lnTo>
                    <a:pt x="924" y="2169"/>
                  </a:lnTo>
                  <a:lnTo>
                    <a:pt x="933" y="2178"/>
                  </a:lnTo>
                  <a:lnTo>
                    <a:pt x="945" y="2185"/>
                  </a:lnTo>
                  <a:lnTo>
                    <a:pt x="954" y="2193"/>
                  </a:lnTo>
                  <a:lnTo>
                    <a:pt x="966" y="2200"/>
                  </a:lnTo>
                  <a:lnTo>
                    <a:pt x="974" y="2207"/>
                  </a:lnTo>
                  <a:lnTo>
                    <a:pt x="984" y="2214"/>
                  </a:lnTo>
                  <a:lnTo>
                    <a:pt x="992" y="2220"/>
                  </a:lnTo>
                  <a:lnTo>
                    <a:pt x="1001" y="2226"/>
                  </a:lnTo>
                  <a:lnTo>
                    <a:pt x="1007" y="2231"/>
                  </a:lnTo>
                  <a:lnTo>
                    <a:pt x="1014" y="2235"/>
                  </a:lnTo>
                  <a:lnTo>
                    <a:pt x="1019" y="2239"/>
                  </a:lnTo>
                  <a:lnTo>
                    <a:pt x="1024" y="2241"/>
                  </a:lnTo>
                  <a:lnTo>
                    <a:pt x="1027" y="2244"/>
                  </a:lnTo>
                  <a:lnTo>
                    <a:pt x="1031" y="2247"/>
                  </a:lnTo>
                  <a:lnTo>
                    <a:pt x="1037" y="2251"/>
                  </a:lnTo>
                  <a:lnTo>
                    <a:pt x="1043" y="2253"/>
                  </a:lnTo>
                  <a:lnTo>
                    <a:pt x="1050" y="2257"/>
                  </a:lnTo>
                  <a:lnTo>
                    <a:pt x="1057" y="2261"/>
                  </a:lnTo>
                  <a:lnTo>
                    <a:pt x="1064" y="2264"/>
                  </a:lnTo>
                  <a:lnTo>
                    <a:pt x="1073" y="2268"/>
                  </a:lnTo>
                  <a:lnTo>
                    <a:pt x="1081" y="2272"/>
                  </a:lnTo>
                  <a:lnTo>
                    <a:pt x="1089" y="2276"/>
                  </a:lnTo>
                  <a:lnTo>
                    <a:pt x="1098" y="2280"/>
                  </a:lnTo>
                  <a:lnTo>
                    <a:pt x="1107" y="2283"/>
                  </a:lnTo>
                  <a:lnTo>
                    <a:pt x="1114" y="2287"/>
                  </a:lnTo>
                  <a:lnTo>
                    <a:pt x="1124" y="2290"/>
                  </a:lnTo>
                  <a:lnTo>
                    <a:pt x="1131" y="2294"/>
                  </a:lnTo>
                  <a:lnTo>
                    <a:pt x="1140" y="2296"/>
                  </a:lnTo>
                  <a:lnTo>
                    <a:pt x="1147" y="2299"/>
                  </a:lnTo>
                  <a:lnTo>
                    <a:pt x="1156" y="2302"/>
                  </a:lnTo>
                  <a:lnTo>
                    <a:pt x="1167" y="2306"/>
                  </a:lnTo>
                  <a:lnTo>
                    <a:pt x="1179" y="2310"/>
                  </a:lnTo>
                  <a:lnTo>
                    <a:pt x="1190" y="2316"/>
                  </a:lnTo>
                  <a:lnTo>
                    <a:pt x="1204" y="2319"/>
                  </a:lnTo>
                  <a:lnTo>
                    <a:pt x="1217" y="2323"/>
                  </a:lnTo>
                  <a:lnTo>
                    <a:pt x="1232" y="2327"/>
                  </a:lnTo>
                  <a:lnTo>
                    <a:pt x="1245" y="2332"/>
                  </a:lnTo>
                  <a:lnTo>
                    <a:pt x="1260" y="2336"/>
                  </a:lnTo>
                  <a:lnTo>
                    <a:pt x="1274" y="2340"/>
                  </a:lnTo>
                  <a:lnTo>
                    <a:pt x="1289" y="2344"/>
                  </a:lnTo>
                  <a:lnTo>
                    <a:pt x="1302" y="2348"/>
                  </a:lnTo>
                  <a:lnTo>
                    <a:pt x="1316" y="2351"/>
                  </a:lnTo>
                  <a:lnTo>
                    <a:pt x="1328" y="2355"/>
                  </a:lnTo>
                  <a:lnTo>
                    <a:pt x="1342" y="2357"/>
                  </a:lnTo>
                  <a:lnTo>
                    <a:pt x="1353" y="2360"/>
                  </a:lnTo>
                  <a:lnTo>
                    <a:pt x="1366" y="2364"/>
                  </a:lnTo>
                  <a:lnTo>
                    <a:pt x="1380" y="2367"/>
                  </a:lnTo>
                  <a:lnTo>
                    <a:pt x="1394" y="2369"/>
                  </a:lnTo>
                  <a:lnTo>
                    <a:pt x="1410" y="2373"/>
                  </a:lnTo>
                  <a:lnTo>
                    <a:pt x="1425" y="2376"/>
                  </a:lnTo>
                  <a:lnTo>
                    <a:pt x="1441" y="2380"/>
                  </a:lnTo>
                  <a:lnTo>
                    <a:pt x="1458" y="2382"/>
                  </a:lnTo>
                  <a:lnTo>
                    <a:pt x="1472" y="2386"/>
                  </a:lnTo>
                  <a:lnTo>
                    <a:pt x="1488" y="2388"/>
                  </a:lnTo>
                  <a:lnTo>
                    <a:pt x="1503" y="2391"/>
                  </a:lnTo>
                  <a:lnTo>
                    <a:pt x="1518" y="2393"/>
                  </a:lnTo>
                  <a:lnTo>
                    <a:pt x="1531" y="2396"/>
                  </a:lnTo>
                  <a:lnTo>
                    <a:pt x="1544" y="2397"/>
                  </a:lnTo>
                  <a:lnTo>
                    <a:pt x="1556" y="2399"/>
                  </a:lnTo>
                  <a:lnTo>
                    <a:pt x="1567" y="2400"/>
                  </a:lnTo>
                  <a:lnTo>
                    <a:pt x="1577" y="2402"/>
                  </a:lnTo>
                  <a:lnTo>
                    <a:pt x="1588" y="2404"/>
                  </a:lnTo>
                  <a:lnTo>
                    <a:pt x="1601" y="2406"/>
                  </a:lnTo>
                  <a:lnTo>
                    <a:pt x="1616" y="2406"/>
                  </a:lnTo>
                  <a:lnTo>
                    <a:pt x="1630" y="2407"/>
                  </a:lnTo>
                  <a:lnTo>
                    <a:pt x="1645" y="2408"/>
                  </a:lnTo>
                  <a:lnTo>
                    <a:pt x="1662" y="2410"/>
                  </a:lnTo>
                  <a:lnTo>
                    <a:pt x="1678" y="2410"/>
                  </a:lnTo>
                  <a:lnTo>
                    <a:pt x="1694" y="2412"/>
                  </a:lnTo>
                  <a:lnTo>
                    <a:pt x="1710" y="2413"/>
                  </a:lnTo>
                  <a:lnTo>
                    <a:pt x="1726" y="2415"/>
                  </a:lnTo>
                  <a:lnTo>
                    <a:pt x="1743" y="2415"/>
                  </a:lnTo>
                  <a:lnTo>
                    <a:pt x="1758" y="2417"/>
                  </a:lnTo>
                  <a:lnTo>
                    <a:pt x="1773" y="2417"/>
                  </a:lnTo>
                  <a:lnTo>
                    <a:pt x="1786" y="2417"/>
                  </a:lnTo>
                  <a:lnTo>
                    <a:pt x="1800" y="2417"/>
                  </a:lnTo>
                  <a:lnTo>
                    <a:pt x="1811" y="2419"/>
                  </a:lnTo>
                  <a:lnTo>
                    <a:pt x="1825" y="2419"/>
                  </a:lnTo>
                  <a:lnTo>
                    <a:pt x="1840" y="2419"/>
                  </a:lnTo>
                  <a:lnTo>
                    <a:pt x="1855" y="2419"/>
                  </a:lnTo>
                  <a:lnTo>
                    <a:pt x="1870" y="2421"/>
                  </a:lnTo>
                  <a:lnTo>
                    <a:pt x="1886" y="2421"/>
                  </a:lnTo>
                  <a:lnTo>
                    <a:pt x="1903" y="2421"/>
                  </a:lnTo>
                  <a:lnTo>
                    <a:pt x="1920" y="2421"/>
                  </a:lnTo>
                  <a:lnTo>
                    <a:pt x="1935" y="2422"/>
                  </a:lnTo>
                  <a:lnTo>
                    <a:pt x="1952" y="2422"/>
                  </a:lnTo>
                  <a:lnTo>
                    <a:pt x="1967" y="2422"/>
                  </a:lnTo>
                  <a:lnTo>
                    <a:pt x="1982" y="2422"/>
                  </a:lnTo>
                  <a:lnTo>
                    <a:pt x="1995" y="2422"/>
                  </a:lnTo>
                  <a:lnTo>
                    <a:pt x="2008" y="2422"/>
                  </a:lnTo>
                  <a:lnTo>
                    <a:pt x="2020" y="2422"/>
                  </a:lnTo>
                  <a:lnTo>
                    <a:pt x="2032" y="2422"/>
                  </a:lnTo>
                  <a:lnTo>
                    <a:pt x="2039" y="2422"/>
                  </a:lnTo>
                  <a:lnTo>
                    <a:pt x="2046" y="2422"/>
                  </a:lnTo>
                  <a:lnTo>
                    <a:pt x="2050" y="2422"/>
                  </a:lnTo>
                  <a:lnTo>
                    <a:pt x="2054" y="2422"/>
                  </a:lnTo>
                  <a:lnTo>
                    <a:pt x="2056" y="2422"/>
                  </a:lnTo>
                  <a:lnTo>
                    <a:pt x="2058" y="2422"/>
                  </a:lnTo>
                  <a:lnTo>
                    <a:pt x="2060" y="2422"/>
                  </a:lnTo>
                  <a:lnTo>
                    <a:pt x="2064" y="2422"/>
                  </a:lnTo>
                  <a:lnTo>
                    <a:pt x="2065" y="2422"/>
                  </a:lnTo>
                  <a:lnTo>
                    <a:pt x="2070" y="2422"/>
                  </a:lnTo>
                  <a:lnTo>
                    <a:pt x="2075" y="2422"/>
                  </a:lnTo>
                  <a:lnTo>
                    <a:pt x="2082" y="2422"/>
                  </a:lnTo>
                  <a:lnTo>
                    <a:pt x="2090" y="2422"/>
                  </a:lnTo>
                  <a:lnTo>
                    <a:pt x="2103" y="2422"/>
                  </a:lnTo>
                  <a:lnTo>
                    <a:pt x="2116" y="2422"/>
                  </a:lnTo>
                  <a:lnTo>
                    <a:pt x="2135" y="2422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32040" y="2398680"/>
              <a:ext cx="3699000" cy="4216320"/>
            </a:xfrm>
            <a:custGeom>
              <a:avLst/>
              <a:gdLst/>
              <a:ahLst/>
              <a:rect l="l" t="t" r="r" b="b"/>
              <a:pathLst>
                <a:path w="2330" h="2656">
                  <a:moveTo>
                    <a:pt x="0" y="0"/>
                  </a:moveTo>
                  <a:lnTo>
                    <a:pt x="1" y="23"/>
                  </a:lnTo>
                  <a:lnTo>
                    <a:pt x="3" y="40"/>
                  </a:lnTo>
                  <a:lnTo>
                    <a:pt x="3" y="55"/>
                  </a:lnTo>
                  <a:lnTo>
                    <a:pt x="5" y="65"/>
                  </a:lnTo>
                  <a:lnTo>
                    <a:pt x="5" y="75"/>
                  </a:lnTo>
                  <a:lnTo>
                    <a:pt x="6" y="81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8" y="91"/>
                  </a:lnTo>
                  <a:lnTo>
                    <a:pt x="8" y="93"/>
                  </a:lnTo>
                  <a:lnTo>
                    <a:pt x="8" y="96"/>
                  </a:lnTo>
                  <a:lnTo>
                    <a:pt x="9" y="98"/>
                  </a:lnTo>
                  <a:lnTo>
                    <a:pt x="9" y="103"/>
                  </a:lnTo>
                  <a:lnTo>
                    <a:pt x="11" y="109"/>
                  </a:lnTo>
                  <a:lnTo>
                    <a:pt x="11" y="117"/>
                  </a:lnTo>
                  <a:lnTo>
                    <a:pt x="13" y="127"/>
                  </a:lnTo>
                  <a:lnTo>
                    <a:pt x="14" y="141"/>
                  </a:lnTo>
                  <a:lnTo>
                    <a:pt x="16" y="158"/>
                  </a:lnTo>
                  <a:lnTo>
                    <a:pt x="19" y="179"/>
                  </a:lnTo>
                  <a:lnTo>
                    <a:pt x="23" y="203"/>
                  </a:lnTo>
                  <a:lnTo>
                    <a:pt x="27" y="229"/>
                  </a:lnTo>
                  <a:lnTo>
                    <a:pt x="33" y="257"/>
                  </a:lnTo>
                  <a:lnTo>
                    <a:pt x="39" y="288"/>
                  </a:lnTo>
                  <a:lnTo>
                    <a:pt x="45" y="319"/>
                  </a:lnTo>
                  <a:lnTo>
                    <a:pt x="50" y="352"/>
                  </a:lnTo>
                  <a:lnTo>
                    <a:pt x="57" y="386"/>
                  </a:lnTo>
                  <a:lnTo>
                    <a:pt x="64" y="421"/>
                  </a:lnTo>
                  <a:lnTo>
                    <a:pt x="71" y="455"/>
                  </a:lnTo>
                  <a:lnTo>
                    <a:pt x="78" y="489"/>
                  </a:lnTo>
                  <a:lnTo>
                    <a:pt x="85" y="523"/>
                  </a:lnTo>
                  <a:lnTo>
                    <a:pt x="93" y="556"/>
                  </a:lnTo>
                  <a:lnTo>
                    <a:pt x="100" y="587"/>
                  </a:lnTo>
                  <a:lnTo>
                    <a:pt x="107" y="621"/>
                  </a:lnTo>
                  <a:lnTo>
                    <a:pt x="115" y="654"/>
                  </a:lnTo>
                  <a:lnTo>
                    <a:pt x="123" y="690"/>
                  </a:lnTo>
                  <a:lnTo>
                    <a:pt x="132" y="725"/>
                  </a:lnTo>
                  <a:lnTo>
                    <a:pt x="141" y="763"/>
                  </a:lnTo>
                  <a:lnTo>
                    <a:pt x="151" y="798"/>
                  </a:lnTo>
                  <a:lnTo>
                    <a:pt x="160" y="835"/>
                  </a:lnTo>
                  <a:lnTo>
                    <a:pt x="171" y="869"/>
                  </a:lnTo>
                  <a:lnTo>
                    <a:pt x="181" y="905"/>
                  </a:lnTo>
                  <a:lnTo>
                    <a:pt x="190" y="938"/>
                  </a:lnTo>
                  <a:lnTo>
                    <a:pt x="199" y="970"/>
                  </a:lnTo>
                  <a:lnTo>
                    <a:pt x="209" y="999"/>
                  </a:lnTo>
                  <a:lnTo>
                    <a:pt x="216" y="1026"/>
                  </a:lnTo>
                  <a:lnTo>
                    <a:pt x="225" y="1050"/>
                  </a:lnTo>
                  <a:lnTo>
                    <a:pt x="233" y="1071"/>
                  </a:lnTo>
                  <a:lnTo>
                    <a:pt x="240" y="1088"/>
                  </a:lnTo>
                  <a:lnTo>
                    <a:pt x="246" y="1105"/>
                  </a:lnTo>
                  <a:lnTo>
                    <a:pt x="253" y="1125"/>
                  </a:lnTo>
                  <a:lnTo>
                    <a:pt x="262" y="1147"/>
                  </a:lnTo>
                  <a:lnTo>
                    <a:pt x="271" y="1169"/>
                  </a:lnTo>
                  <a:lnTo>
                    <a:pt x="281" y="1194"/>
                  </a:lnTo>
                  <a:lnTo>
                    <a:pt x="292" y="1219"/>
                  </a:lnTo>
                  <a:lnTo>
                    <a:pt x="303" y="1245"/>
                  </a:lnTo>
                  <a:lnTo>
                    <a:pt x="314" y="1271"/>
                  </a:lnTo>
                  <a:lnTo>
                    <a:pt x="325" y="1299"/>
                  </a:lnTo>
                  <a:lnTo>
                    <a:pt x="336" y="1326"/>
                  </a:lnTo>
                  <a:lnTo>
                    <a:pt x="347" y="1354"/>
                  </a:lnTo>
                  <a:lnTo>
                    <a:pt x="359" y="1380"/>
                  </a:lnTo>
                  <a:lnTo>
                    <a:pt x="369" y="1406"/>
                  </a:lnTo>
                  <a:lnTo>
                    <a:pt x="380" y="1431"/>
                  </a:lnTo>
                  <a:lnTo>
                    <a:pt x="389" y="1453"/>
                  </a:lnTo>
                  <a:lnTo>
                    <a:pt x="400" y="1475"/>
                  </a:lnTo>
                  <a:lnTo>
                    <a:pt x="409" y="1497"/>
                  </a:lnTo>
                  <a:lnTo>
                    <a:pt x="418" y="1519"/>
                  </a:lnTo>
                  <a:lnTo>
                    <a:pt x="428" y="1543"/>
                  </a:lnTo>
                  <a:lnTo>
                    <a:pt x="439" y="1568"/>
                  </a:lnTo>
                  <a:lnTo>
                    <a:pt x="450" y="1594"/>
                  </a:lnTo>
                  <a:lnTo>
                    <a:pt x="461" y="1619"/>
                  </a:lnTo>
                  <a:lnTo>
                    <a:pt x="473" y="1646"/>
                  </a:lnTo>
                  <a:lnTo>
                    <a:pt x="485" y="1670"/>
                  </a:lnTo>
                  <a:lnTo>
                    <a:pt x="495" y="1696"/>
                  </a:lnTo>
                  <a:lnTo>
                    <a:pt x="506" y="1720"/>
                  </a:lnTo>
                  <a:lnTo>
                    <a:pt x="516" y="1743"/>
                  </a:lnTo>
                  <a:lnTo>
                    <a:pt x="527" y="1765"/>
                  </a:lnTo>
                  <a:lnTo>
                    <a:pt x="535" y="1786"/>
                  </a:lnTo>
                  <a:lnTo>
                    <a:pt x="545" y="1805"/>
                  </a:lnTo>
                  <a:lnTo>
                    <a:pt x="552" y="1822"/>
                  </a:lnTo>
                  <a:lnTo>
                    <a:pt x="559" y="1835"/>
                  </a:lnTo>
                  <a:lnTo>
                    <a:pt x="566" y="1850"/>
                  </a:lnTo>
                  <a:lnTo>
                    <a:pt x="574" y="1865"/>
                  </a:lnTo>
                  <a:lnTo>
                    <a:pt x="583" y="1882"/>
                  </a:lnTo>
                  <a:lnTo>
                    <a:pt x="593" y="1899"/>
                  </a:lnTo>
                  <a:lnTo>
                    <a:pt x="603" y="1919"/>
                  </a:lnTo>
                  <a:lnTo>
                    <a:pt x="615" y="1937"/>
                  </a:lnTo>
                  <a:lnTo>
                    <a:pt x="627" y="1957"/>
                  </a:lnTo>
                  <a:lnTo>
                    <a:pt x="640" y="1976"/>
                  </a:lnTo>
                  <a:lnTo>
                    <a:pt x="652" y="1997"/>
                  </a:lnTo>
                  <a:lnTo>
                    <a:pt x="665" y="2015"/>
                  </a:lnTo>
                  <a:lnTo>
                    <a:pt x="678" y="2035"/>
                  </a:lnTo>
                  <a:lnTo>
                    <a:pt x="691" y="2053"/>
                  </a:lnTo>
                  <a:lnTo>
                    <a:pt x="703" y="2071"/>
                  </a:lnTo>
                  <a:lnTo>
                    <a:pt x="715" y="2087"/>
                  </a:lnTo>
                  <a:lnTo>
                    <a:pt x="727" y="2103"/>
                  </a:lnTo>
                  <a:lnTo>
                    <a:pt x="739" y="2115"/>
                  </a:lnTo>
                  <a:lnTo>
                    <a:pt x="750" y="2130"/>
                  </a:lnTo>
                  <a:lnTo>
                    <a:pt x="762" y="2144"/>
                  </a:lnTo>
                  <a:lnTo>
                    <a:pt x="775" y="2160"/>
                  </a:lnTo>
                  <a:lnTo>
                    <a:pt x="790" y="2175"/>
                  </a:lnTo>
                  <a:lnTo>
                    <a:pt x="805" y="2192"/>
                  </a:lnTo>
                  <a:lnTo>
                    <a:pt x="820" y="2207"/>
                  </a:lnTo>
                  <a:lnTo>
                    <a:pt x="835" y="2223"/>
                  </a:lnTo>
                  <a:lnTo>
                    <a:pt x="852" y="2239"/>
                  </a:lnTo>
                  <a:lnTo>
                    <a:pt x="867" y="2255"/>
                  </a:lnTo>
                  <a:lnTo>
                    <a:pt x="883" y="2270"/>
                  </a:lnTo>
                  <a:lnTo>
                    <a:pt x="898" y="2285"/>
                  </a:lnTo>
                  <a:lnTo>
                    <a:pt x="914" y="2299"/>
                  </a:lnTo>
                  <a:lnTo>
                    <a:pt x="927" y="2312"/>
                  </a:lnTo>
                  <a:lnTo>
                    <a:pt x="941" y="2323"/>
                  </a:lnTo>
                  <a:lnTo>
                    <a:pt x="953" y="2334"/>
                  </a:lnTo>
                  <a:lnTo>
                    <a:pt x="965" y="2342"/>
                  </a:lnTo>
                  <a:lnTo>
                    <a:pt x="975" y="2351"/>
                  </a:lnTo>
                  <a:lnTo>
                    <a:pt x="986" y="2360"/>
                  </a:lnTo>
                  <a:lnTo>
                    <a:pt x="997" y="2369"/>
                  </a:lnTo>
                  <a:lnTo>
                    <a:pt x="1009" y="2377"/>
                  </a:lnTo>
                  <a:lnTo>
                    <a:pt x="1021" y="2387"/>
                  </a:lnTo>
                  <a:lnTo>
                    <a:pt x="1032" y="2394"/>
                  </a:lnTo>
                  <a:lnTo>
                    <a:pt x="1043" y="2403"/>
                  </a:lnTo>
                  <a:lnTo>
                    <a:pt x="1055" y="2410"/>
                  </a:lnTo>
                  <a:lnTo>
                    <a:pt x="1064" y="2418"/>
                  </a:lnTo>
                  <a:lnTo>
                    <a:pt x="1075" y="2426"/>
                  </a:lnTo>
                  <a:lnTo>
                    <a:pt x="1084" y="2433"/>
                  </a:lnTo>
                  <a:lnTo>
                    <a:pt x="1093" y="2439"/>
                  </a:lnTo>
                  <a:lnTo>
                    <a:pt x="1101" y="2445"/>
                  </a:lnTo>
                  <a:lnTo>
                    <a:pt x="1107" y="2449"/>
                  </a:lnTo>
                  <a:lnTo>
                    <a:pt x="1113" y="2453"/>
                  </a:lnTo>
                  <a:lnTo>
                    <a:pt x="1118" y="2456"/>
                  </a:lnTo>
                  <a:lnTo>
                    <a:pt x="1122" y="2459"/>
                  </a:lnTo>
                  <a:lnTo>
                    <a:pt x="1127" y="2462"/>
                  </a:lnTo>
                  <a:lnTo>
                    <a:pt x="1132" y="2466"/>
                  </a:lnTo>
                  <a:lnTo>
                    <a:pt x="1139" y="2468"/>
                  </a:lnTo>
                  <a:lnTo>
                    <a:pt x="1146" y="2473"/>
                  </a:lnTo>
                  <a:lnTo>
                    <a:pt x="1154" y="2476"/>
                  </a:lnTo>
                  <a:lnTo>
                    <a:pt x="1162" y="2480"/>
                  </a:lnTo>
                  <a:lnTo>
                    <a:pt x="1172" y="2484"/>
                  </a:lnTo>
                  <a:lnTo>
                    <a:pt x="1180" y="2489"/>
                  </a:lnTo>
                  <a:lnTo>
                    <a:pt x="1189" y="2493"/>
                  </a:lnTo>
                  <a:lnTo>
                    <a:pt x="1199" y="2497"/>
                  </a:lnTo>
                  <a:lnTo>
                    <a:pt x="1208" y="2501"/>
                  </a:lnTo>
                  <a:lnTo>
                    <a:pt x="1217" y="2505"/>
                  </a:lnTo>
                  <a:lnTo>
                    <a:pt x="1226" y="2509"/>
                  </a:lnTo>
                  <a:lnTo>
                    <a:pt x="1235" y="2513"/>
                  </a:lnTo>
                  <a:lnTo>
                    <a:pt x="1244" y="2515"/>
                  </a:lnTo>
                  <a:lnTo>
                    <a:pt x="1252" y="2519"/>
                  </a:lnTo>
                  <a:lnTo>
                    <a:pt x="1262" y="2523"/>
                  </a:lnTo>
                  <a:lnTo>
                    <a:pt x="1273" y="2527"/>
                  </a:lnTo>
                  <a:lnTo>
                    <a:pt x="1287" y="2531"/>
                  </a:lnTo>
                  <a:lnTo>
                    <a:pt x="1299" y="2537"/>
                  </a:lnTo>
                  <a:lnTo>
                    <a:pt x="1314" y="2541"/>
                  </a:lnTo>
                  <a:lnTo>
                    <a:pt x="1329" y="2545"/>
                  </a:lnTo>
                  <a:lnTo>
                    <a:pt x="1345" y="2549"/>
                  </a:lnTo>
                  <a:lnTo>
                    <a:pt x="1359" y="2555"/>
                  </a:lnTo>
                  <a:lnTo>
                    <a:pt x="1375" y="2559"/>
                  </a:lnTo>
                  <a:lnTo>
                    <a:pt x="1390" y="2564"/>
                  </a:lnTo>
                  <a:lnTo>
                    <a:pt x="1406" y="2568"/>
                  </a:lnTo>
                  <a:lnTo>
                    <a:pt x="1421" y="2572"/>
                  </a:lnTo>
                  <a:lnTo>
                    <a:pt x="1436" y="2576"/>
                  </a:lnTo>
                  <a:lnTo>
                    <a:pt x="1449" y="2580"/>
                  </a:lnTo>
                  <a:lnTo>
                    <a:pt x="1464" y="2582"/>
                  </a:lnTo>
                  <a:lnTo>
                    <a:pt x="1476" y="2586"/>
                  </a:lnTo>
                  <a:lnTo>
                    <a:pt x="1490" y="2590"/>
                  </a:lnTo>
                  <a:lnTo>
                    <a:pt x="1505" y="2593"/>
                  </a:lnTo>
                  <a:lnTo>
                    <a:pt x="1522" y="2597"/>
                  </a:lnTo>
                  <a:lnTo>
                    <a:pt x="1538" y="2601"/>
                  </a:lnTo>
                  <a:lnTo>
                    <a:pt x="1555" y="2604"/>
                  </a:lnTo>
                  <a:lnTo>
                    <a:pt x="1572" y="2608"/>
                  </a:lnTo>
                  <a:lnTo>
                    <a:pt x="1590" y="2610"/>
                  </a:lnTo>
                  <a:lnTo>
                    <a:pt x="1607" y="2613"/>
                  </a:lnTo>
                  <a:lnTo>
                    <a:pt x="1624" y="2617"/>
                  </a:lnTo>
                  <a:lnTo>
                    <a:pt x="1640" y="2621"/>
                  </a:lnTo>
                  <a:lnTo>
                    <a:pt x="1657" y="2622"/>
                  </a:lnTo>
                  <a:lnTo>
                    <a:pt x="1671" y="2625"/>
                  </a:lnTo>
                  <a:lnTo>
                    <a:pt x="1686" y="2627"/>
                  </a:lnTo>
                  <a:lnTo>
                    <a:pt x="1698" y="2629"/>
                  </a:lnTo>
                  <a:lnTo>
                    <a:pt x="1711" y="2629"/>
                  </a:lnTo>
                  <a:lnTo>
                    <a:pt x="1721" y="2631"/>
                  </a:lnTo>
                  <a:lnTo>
                    <a:pt x="1734" y="2633"/>
                  </a:lnTo>
                  <a:lnTo>
                    <a:pt x="1748" y="2635"/>
                  </a:lnTo>
                  <a:lnTo>
                    <a:pt x="1763" y="2635"/>
                  </a:lnTo>
                  <a:lnTo>
                    <a:pt x="1779" y="2637"/>
                  </a:lnTo>
                  <a:lnTo>
                    <a:pt x="1796" y="2639"/>
                  </a:lnTo>
                  <a:lnTo>
                    <a:pt x="1813" y="2640"/>
                  </a:lnTo>
                  <a:lnTo>
                    <a:pt x="1832" y="2640"/>
                  </a:lnTo>
                  <a:lnTo>
                    <a:pt x="1849" y="2642"/>
                  </a:lnTo>
                  <a:lnTo>
                    <a:pt x="1867" y="2644"/>
                  </a:lnTo>
                  <a:lnTo>
                    <a:pt x="1884" y="2646"/>
                  </a:lnTo>
                  <a:lnTo>
                    <a:pt x="1902" y="2646"/>
                  </a:lnTo>
                  <a:lnTo>
                    <a:pt x="1918" y="2648"/>
                  </a:lnTo>
                  <a:lnTo>
                    <a:pt x="1934" y="2648"/>
                  </a:lnTo>
                  <a:lnTo>
                    <a:pt x="1949" y="2649"/>
                  </a:lnTo>
                  <a:lnTo>
                    <a:pt x="1963" y="2649"/>
                  </a:lnTo>
                  <a:lnTo>
                    <a:pt x="1977" y="2651"/>
                  </a:lnTo>
                  <a:lnTo>
                    <a:pt x="1992" y="2651"/>
                  </a:lnTo>
                  <a:lnTo>
                    <a:pt x="2007" y="2652"/>
                  </a:lnTo>
                  <a:lnTo>
                    <a:pt x="2024" y="2652"/>
                  </a:lnTo>
                  <a:lnTo>
                    <a:pt x="2041" y="2653"/>
                  </a:lnTo>
                  <a:lnTo>
                    <a:pt x="2058" y="2653"/>
                  </a:lnTo>
                  <a:lnTo>
                    <a:pt x="2076" y="2653"/>
                  </a:lnTo>
                  <a:lnTo>
                    <a:pt x="2095" y="2653"/>
                  </a:lnTo>
                  <a:lnTo>
                    <a:pt x="2111" y="2655"/>
                  </a:lnTo>
                  <a:lnTo>
                    <a:pt x="2129" y="2655"/>
                  </a:lnTo>
                  <a:lnTo>
                    <a:pt x="2145" y="2655"/>
                  </a:lnTo>
                  <a:lnTo>
                    <a:pt x="2162" y="2655"/>
                  </a:lnTo>
                  <a:lnTo>
                    <a:pt x="2176" y="2655"/>
                  </a:lnTo>
                  <a:lnTo>
                    <a:pt x="2191" y="2655"/>
                  </a:lnTo>
                  <a:lnTo>
                    <a:pt x="2203" y="2655"/>
                  </a:lnTo>
                  <a:lnTo>
                    <a:pt x="2216" y="2655"/>
                  </a:lnTo>
                  <a:lnTo>
                    <a:pt x="2224" y="2655"/>
                  </a:lnTo>
                  <a:lnTo>
                    <a:pt x="2231" y="2655"/>
                  </a:lnTo>
                  <a:lnTo>
                    <a:pt x="2235" y="2655"/>
                  </a:lnTo>
                  <a:lnTo>
                    <a:pt x="2241" y="2655"/>
                  </a:lnTo>
                  <a:lnTo>
                    <a:pt x="2243" y="2655"/>
                  </a:lnTo>
                  <a:lnTo>
                    <a:pt x="2245" y="2655"/>
                  </a:lnTo>
                  <a:lnTo>
                    <a:pt x="2247" y="2655"/>
                  </a:lnTo>
                  <a:lnTo>
                    <a:pt x="2251" y="2655"/>
                  </a:lnTo>
                  <a:lnTo>
                    <a:pt x="2253" y="2655"/>
                  </a:lnTo>
                  <a:lnTo>
                    <a:pt x="2257" y="2655"/>
                  </a:lnTo>
                  <a:lnTo>
                    <a:pt x="2262" y="2655"/>
                  </a:lnTo>
                  <a:lnTo>
                    <a:pt x="2270" y="2655"/>
                  </a:lnTo>
                  <a:lnTo>
                    <a:pt x="2279" y="2655"/>
                  </a:lnTo>
                  <a:lnTo>
                    <a:pt x="2292" y="2655"/>
                  </a:lnTo>
                  <a:lnTo>
                    <a:pt x="2308" y="2655"/>
                  </a:lnTo>
                  <a:lnTo>
                    <a:pt x="2329" y="2655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99000" y="1916280"/>
              <a:ext cx="2965320" cy="3365280"/>
            </a:xfrm>
            <a:custGeom>
              <a:avLst/>
              <a:gdLst/>
              <a:ahLst/>
              <a:rect l="l" t="t" r="r" b="b"/>
              <a:pathLst>
                <a:path w="1868" h="2120">
                  <a:moveTo>
                    <a:pt x="0" y="0"/>
                  </a:moveTo>
                  <a:lnTo>
                    <a:pt x="1" y="19"/>
                  </a:lnTo>
                  <a:lnTo>
                    <a:pt x="3" y="32"/>
                  </a:lnTo>
                  <a:lnTo>
                    <a:pt x="3" y="44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6" y="64"/>
                  </a:lnTo>
                  <a:lnTo>
                    <a:pt x="6" y="68"/>
                  </a:lnTo>
                  <a:lnTo>
                    <a:pt x="7" y="70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7" y="77"/>
                  </a:lnTo>
                  <a:lnTo>
                    <a:pt x="8" y="79"/>
                  </a:lnTo>
                  <a:lnTo>
                    <a:pt x="8" y="83"/>
                  </a:lnTo>
                  <a:lnTo>
                    <a:pt x="8" y="87"/>
                  </a:lnTo>
                  <a:lnTo>
                    <a:pt x="8" y="94"/>
                  </a:lnTo>
                  <a:lnTo>
                    <a:pt x="10" y="101"/>
                  </a:lnTo>
                  <a:lnTo>
                    <a:pt x="11" y="113"/>
                  </a:lnTo>
                  <a:lnTo>
                    <a:pt x="13" y="128"/>
                  </a:lnTo>
                  <a:lnTo>
                    <a:pt x="16" y="145"/>
                  </a:lnTo>
                  <a:lnTo>
                    <a:pt x="19" y="163"/>
                  </a:lnTo>
                  <a:lnTo>
                    <a:pt x="22" y="184"/>
                  </a:lnTo>
                  <a:lnTo>
                    <a:pt x="26" y="206"/>
                  </a:lnTo>
                  <a:lnTo>
                    <a:pt x="30" y="231"/>
                  </a:lnTo>
                  <a:lnTo>
                    <a:pt x="35" y="255"/>
                  </a:lnTo>
                  <a:lnTo>
                    <a:pt x="40" y="282"/>
                  </a:lnTo>
                  <a:lnTo>
                    <a:pt x="45" y="309"/>
                  </a:lnTo>
                  <a:lnTo>
                    <a:pt x="51" y="337"/>
                  </a:lnTo>
                  <a:lnTo>
                    <a:pt x="57" y="363"/>
                  </a:lnTo>
                  <a:lnTo>
                    <a:pt x="62" y="391"/>
                  </a:lnTo>
                  <a:lnTo>
                    <a:pt x="68" y="418"/>
                  </a:lnTo>
                  <a:lnTo>
                    <a:pt x="74" y="444"/>
                  </a:lnTo>
                  <a:lnTo>
                    <a:pt x="80" y="469"/>
                  </a:lnTo>
                  <a:lnTo>
                    <a:pt x="85" y="496"/>
                  </a:lnTo>
                  <a:lnTo>
                    <a:pt x="91" y="523"/>
                  </a:lnTo>
                  <a:lnTo>
                    <a:pt x="98" y="551"/>
                  </a:lnTo>
                  <a:lnTo>
                    <a:pt x="105" y="579"/>
                  </a:lnTo>
                  <a:lnTo>
                    <a:pt x="113" y="609"/>
                  </a:lnTo>
                  <a:lnTo>
                    <a:pt x="120" y="637"/>
                  </a:lnTo>
                  <a:lnTo>
                    <a:pt x="128" y="665"/>
                  </a:lnTo>
                  <a:lnTo>
                    <a:pt x="136" y="694"/>
                  </a:lnTo>
                  <a:lnTo>
                    <a:pt x="144" y="722"/>
                  </a:lnTo>
                  <a:lnTo>
                    <a:pt x="152" y="749"/>
                  </a:lnTo>
                  <a:lnTo>
                    <a:pt x="159" y="773"/>
                  </a:lnTo>
                  <a:lnTo>
                    <a:pt x="166" y="797"/>
                  </a:lnTo>
                  <a:lnTo>
                    <a:pt x="172" y="819"/>
                  </a:lnTo>
                  <a:lnTo>
                    <a:pt x="180" y="838"/>
                  </a:lnTo>
                  <a:lnTo>
                    <a:pt x="185" y="855"/>
                  </a:lnTo>
                  <a:lnTo>
                    <a:pt x="191" y="868"/>
                  </a:lnTo>
                  <a:lnTo>
                    <a:pt x="196" y="882"/>
                  </a:lnTo>
                  <a:lnTo>
                    <a:pt x="202" y="898"/>
                  </a:lnTo>
                  <a:lnTo>
                    <a:pt x="209" y="915"/>
                  </a:lnTo>
                  <a:lnTo>
                    <a:pt x="216" y="933"/>
                  </a:lnTo>
                  <a:lnTo>
                    <a:pt x="224" y="953"/>
                  </a:lnTo>
                  <a:lnTo>
                    <a:pt x="232" y="973"/>
                  </a:lnTo>
                  <a:lnTo>
                    <a:pt x="241" y="994"/>
                  </a:lnTo>
                  <a:lnTo>
                    <a:pt x="251" y="1014"/>
                  </a:lnTo>
                  <a:lnTo>
                    <a:pt x="259" y="1037"/>
                  </a:lnTo>
                  <a:lnTo>
                    <a:pt x="268" y="1059"/>
                  </a:lnTo>
                  <a:lnTo>
                    <a:pt x="278" y="1081"/>
                  </a:lnTo>
                  <a:lnTo>
                    <a:pt x="287" y="1102"/>
                  </a:lnTo>
                  <a:lnTo>
                    <a:pt x="294" y="1122"/>
                  </a:lnTo>
                  <a:lnTo>
                    <a:pt x="304" y="1142"/>
                  </a:lnTo>
                  <a:lnTo>
                    <a:pt x="311" y="1161"/>
                  </a:lnTo>
                  <a:lnTo>
                    <a:pt x="320" y="1177"/>
                  </a:lnTo>
                  <a:lnTo>
                    <a:pt x="327" y="1195"/>
                  </a:lnTo>
                  <a:lnTo>
                    <a:pt x="334" y="1213"/>
                  </a:lnTo>
                  <a:lnTo>
                    <a:pt x="342" y="1233"/>
                  </a:lnTo>
                  <a:lnTo>
                    <a:pt x="351" y="1251"/>
                  </a:lnTo>
                  <a:lnTo>
                    <a:pt x="359" y="1272"/>
                  </a:lnTo>
                  <a:lnTo>
                    <a:pt x="369" y="1293"/>
                  </a:lnTo>
                  <a:lnTo>
                    <a:pt x="378" y="1313"/>
                  </a:lnTo>
                  <a:lnTo>
                    <a:pt x="387" y="1333"/>
                  </a:lnTo>
                  <a:lnTo>
                    <a:pt x="395" y="1354"/>
                  </a:lnTo>
                  <a:lnTo>
                    <a:pt x="404" y="1373"/>
                  </a:lnTo>
                  <a:lnTo>
                    <a:pt x="412" y="1392"/>
                  </a:lnTo>
                  <a:lnTo>
                    <a:pt x="422" y="1409"/>
                  </a:lnTo>
                  <a:lnTo>
                    <a:pt x="428" y="1426"/>
                  </a:lnTo>
                  <a:lnTo>
                    <a:pt x="436" y="1441"/>
                  </a:lnTo>
                  <a:lnTo>
                    <a:pt x="442" y="1454"/>
                  </a:lnTo>
                  <a:lnTo>
                    <a:pt x="448" y="1465"/>
                  </a:lnTo>
                  <a:lnTo>
                    <a:pt x="454" y="1477"/>
                  </a:lnTo>
                  <a:lnTo>
                    <a:pt x="460" y="1489"/>
                  </a:lnTo>
                  <a:lnTo>
                    <a:pt x="466" y="1502"/>
                  </a:lnTo>
                  <a:lnTo>
                    <a:pt x="475" y="1515"/>
                  </a:lnTo>
                  <a:lnTo>
                    <a:pt x="483" y="1531"/>
                  </a:lnTo>
                  <a:lnTo>
                    <a:pt x="492" y="1546"/>
                  </a:lnTo>
                  <a:lnTo>
                    <a:pt x="502" y="1561"/>
                  </a:lnTo>
                  <a:lnTo>
                    <a:pt x="513" y="1577"/>
                  </a:lnTo>
                  <a:lnTo>
                    <a:pt x="522" y="1593"/>
                  </a:lnTo>
                  <a:lnTo>
                    <a:pt x="533" y="1608"/>
                  </a:lnTo>
                  <a:lnTo>
                    <a:pt x="542" y="1624"/>
                  </a:lnTo>
                  <a:lnTo>
                    <a:pt x="553" y="1638"/>
                  </a:lnTo>
                  <a:lnTo>
                    <a:pt x="563" y="1653"/>
                  </a:lnTo>
                  <a:lnTo>
                    <a:pt x="573" y="1666"/>
                  </a:lnTo>
                  <a:lnTo>
                    <a:pt x="582" y="1678"/>
                  </a:lnTo>
                  <a:lnTo>
                    <a:pt x="592" y="1688"/>
                  </a:lnTo>
                  <a:lnTo>
                    <a:pt x="601" y="1700"/>
                  </a:lnTo>
                  <a:lnTo>
                    <a:pt x="610" y="1711"/>
                  </a:lnTo>
                  <a:lnTo>
                    <a:pt x="621" y="1725"/>
                  </a:lnTo>
                  <a:lnTo>
                    <a:pt x="632" y="1736"/>
                  </a:lnTo>
                  <a:lnTo>
                    <a:pt x="644" y="1749"/>
                  </a:lnTo>
                  <a:lnTo>
                    <a:pt x="656" y="1763"/>
                  </a:lnTo>
                  <a:lnTo>
                    <a:pt x="669" y="1776"/>
                  </a:lnTo>
                  <a:lnTo>
                    <a:pt x="682" y="1787"/>
                  </a:lnTo>
                  <a:lnTo>
                    <a:pt x="693" y="1801"/>
                  </a:lnTo>
                  <a:lnTo>
                    <a:pt x="706" y="1813"/>
                  </a:lnTo>
                  <a:lnTo>
                    <a:pt x="718" y="1824"/>
                  </a:lnTo>
                  <a:lnTo>
                    <a:pt x="731" y="1835"/>
                  </a:lnTo>
                  <a:lnTo>
                    <a:pt x="742" y="1846"/>
                  </a:lnTo>
                  <a:lnTo>
                    <a:pt x="753" y="1855"/>
                  </a:lnTo>
                  <a:lnTo>
                    <a:pt x="762" y="1863"/>
                  </a:lnTo>
                  <a:lnTo>
                    <a:pt x="772" y="1870"/>
                  </a:lnTo>
                  <a:lnTo>
                    <a:pt x="780" y="1877"/>
                  </a:lnTo>
                  <a:lnTo>
                    <a:pt x="789" y="1884"/>
                  </a:lnTo>
                  <a:lnTo>
                    <a:pt x="798" y="1892"/>
                  </a:lnTo>
                  <a:lnTo>
                    <a:pt x="807" y="1897"/>
                  </a:lnTo>
                  <a:lnTo>
                    <a:pt x="816" y="1905"/>
                  </a:lnTo>
                  <a:lnTo>
                    <a:pt x="825" y="1912"/>
                  </a:lnTo>
                  <a:lnTo>
                    <a:pt x="835" y="1919"/>
                  </a:lnTo>
                  <a:lnTo>
                    <a:pt x="844" y="1925"/>
                  </a:lnTo>
                  <a:lnTo>
                    <a:pt x="852" y="1932"/>
                  </a:lnTo>
                  <a:lnTo>
                    <a:pt x="860" y="1937"/>
                  </a:lnTo>
                  <a:lnTo>
                    <a:pt x="867" y="1943"/>
                  </a:lnTo>
                  <a:lnTo>
                    <a:pt x="875" y="1947"/>
                  </a:lnTo>
                  <a:lnTo>
                    <a:pt x="880" y="1952"/>
                  </a:lnTo>
                  <a:lnTo>
                    <a:pt x="886" y="1956"/>
                  </a:lnTo>
                  <a:lnTo>
                    <a:pt x="890" y="1959"/>
                  </a:lnTo>
                  <a:lnTo>
                    <a:pt x="895" y="1961"/>
                  </a:lnTo>
                  <a:lnTo>
                    <a:pt x="898" y="1964"/>
                  </a:lnTo>
                  <a:lnTo>
                    <a:pt x="902" y="1966"/>
                  </a:lnTo>
                  <a:lnTo>
                    <a:pt x="907" y="1970"/>
                  </a:lnTo>
                  <a:lnTo>
                    <a:pt x="913" y="1971"/>
                  </a:lnTo>
                  <a:lnTo>
                    <a:pt x="918" y="1975"/>
                  </a:lnTo>
                  <a:lnTo>
                    <a:pt x="924" y="1979"/>
                  </a:lnTo>
                  <a:lnTo>
                    <a:pt x="931" y="1982"/>
                  </a:lnTo>
                  <a:lnTo>
                    <a:pt x="938" y="1984"/>
                  </a:lnTo>
                  <a:lnTo>
                    <a:pt x="945" y="1988"/>
                  </a:lnTo>
                  <a:lnTo>
                    <a:pt x="953" y="1991"/>
                  </a:lnTo>
                  <a:lnTo>
                    <a:pt x="960" y="1995"/>
                  </a:lnTo>
                  <a:lnTo>
                    <a:pt x="968" y="1998"/>
                  </a:lnTo>
                  <a:lnTo>
                    <a:pt x="975" y="2001"/>
                  </a:lnTo>
                  <a:lnTo>
                    <a:pt x="983" y="2004"/>
                  </a:lnTo>
                  <a:lnTo>
                    <a:pt x="990" y="2007"/>
                  </a:lnTo>
                  <a:lnTo>
                    <a:pt x="997" y="2009"/>
                  </a:lnTo>
                  <a:lnTo>
                    <a:pt x="1003" y="2013"/>
                  </a:lnTo>
                  <a:lnTo>
                    <a:pt x="1011" y="2015"/>
                  </a:lnTo>
                  <a:lnTo>
                    <a:pt x="1020" y="2019"/>
                  </a:lnTo>
                  <a:lnTo>
                    <a:pt x="1031" y="2021"/>
                  </a:lnTo>
                  <a:lnTo>
                    <a:pt x="1041" y="2025"/>
                  </a:lnTo>
                  <a:lnTo>
                    <a:pt x="1052" y="2028"/>
                  </a:lnTo>
                  <a:lnTo>
                    <a:pt x="1064" y="2032"/>
                  </a:lnTo>
                  <a:lnTo>
                    <a:pt x="1077" y="2035"/>
                  </a:lnTo>
                  <a:lnTo>
                    <a:pt x="1088" y="2039"/>
                  </a:lnTo>
                  <a:lnTo>
                    <a:pt x="1101" y="2043"/>
                  </a:lnTo>
                  <a:lnTo>
                    <a:pt x="1113" y="2047"/>
                  </a:lnTo>
                  <a:lnTo>
                    <a:pt x="1126" y="2050"/>
                  </a:lnTo>
                  <a:lnTo>
                    <a:pt x="1137" y="2054"/>
                  </a:lnTo>
                  <a:lnTo>
                    <a:pt x="1150" y="2057"/>
                  </a:lnTo>
                  <a:lnTo>
                    <a:pt x="1161" y="2060"/>
                  </a:lnTo>
                  <a:lnTo>
                    <a:pt x="1172" y="2062"/>
                  </a:lnTo>
                  <a:lnTo>
                    <a:pt x="1182" y="2066"/>
                  </a:lnTo>
                  <a:lnTo>
                    <a:pt x="1193" y="2068"/>
                  </a:lnTo>
                  <a:lnTo>
                    <a:pt x="1205" y="2071"/>
                  </a:lnTo>
                  <a:lnTo>
                    <a:pt x="1218" y="2073"/>
                  </a:lnTo>
                  <a:lnTo>
                    <a:pt x="1232" y="2076"/>
                  </a:lnTo>
                  <a:lnTo>
                    <a:pt x="1245" y="2078"/>
                  </a:lnTo>
                  <a:lnTo>
                    <a:pt x="1258" y="2081"/>
                  </a:lnTo>
                  <a:lnTo>
                    <a:pt x="1274" y="2083"/>
                  </a:lnTo>
                  <a:lnTo>
                    <a:pt x="1286" y="2087"/>
                  </a:lnTo>
                  <a:lnTo>
                    <a:pt x="1300" y="2089"/>
                  </a:lnTo>
                  <a:lnTo>
                    <a:pt x="1313" y="2091"/>
                  </a:lnTo>
                  <a:lnTo>
                    <a:pt x="1326" y="2093"/>
                  </a:lnTo>
                  <a:lnTo>
                    <a:pt x="1337" y="2095"/>
                  </a:lnTo>
                  <a:lnTo>
                    <a:pt x="1349" y="2097"/>
                  </a:lnTo>
                  <a:lnTo>
                    <a:pt x="1359" y="2099"/>
                  </a:lnTo>
                  <a:lnTo>
                    <a:pt x="1370" y="2099"/>
                  </a:lnTo>
                  <a:lnTo>
                    <a:pt x="1378" y="2101"/>
                  </a:lnTo>
                  <a:lnTo>
                    <a:pt x="1388" y="2102"/>
                  </a:lnTo>
                  <a:lnTo>
                    <a:pt x="1399" y="2104"/>
                  </a:lnTo>
                  <a:lnTo>
                    <a:pt x="1412" y="2104"/>
                  </a:lnTo>
                  <a:lnTo>
                    <a:pt x="1424" y="2106"/>
                  </a:lnTo>
                  <a:lnTo>
                    <a:pt x="1438" y="2106"/>
                  </a:lnTo>
                  <a:lnTo>
                    <a:pt x="1452" y="2107"/>
                  </a:lnTo>
                  <a:lnTo>
                    <a:pt x="1467" y="2107"/>
                  </a:lnTo>
                  <a:lnTo>
                    <a:pt x="1480" y="2109"/>
                  </a:lnTo>
                  <a:lnTo>
                    <a:pt x="1495" y="2110"/>
                  </a:lnTo>
                  <a:lnTo>
                    <a:pt x="1508" y="2112"/>
                  </a:lnTo>
                  <a:lnTo>
                    <a:pt x="1523" y="2112"/>
                  </a:lnTo>
                  <a:lnTo>
                    <a:pt x="1536" y="2114"/>
                  </a:lnTo>
                  <a:lnTo>
                    <a:pt x="1548" y="2114"/>
                  </a:lnTo>
                  <a:lnTo>
                    <a:pt x="1560" y="2115"/>
                  </a:lnTo>
                  <a:lnTo>
                    <a:pt x="1572" y="2115"/>
                  </a:lnTo>
                  <a:lnTo>
                    <a:pt x="1583" y="2116"/>
                  </a:lnTo>
                  <a:lnTo>
                    <a:pt x="1594" y="2116"/>
                  </a:lnTo>
                  <a:lnTo>
                    <a:pt x="1607" y="2116"/>
                  </a:lnTo>
                  <a:lnTo>
                    <a:pt x="1620" y="2116"/>
                  </a:lnTo>
                  <a:lnTo>
                    <a:pt x="1634" y="2118"/>
                  </a:lnTo>
                  <a:lnTo>
                    <a:pt x="1648" y="2118"/>
                  </a:lnTo>
                  <a:lnTo>
                    <a:pt x="1662" y="2118"/>
                  </a:lnTo>
                  <a:lnTo>
                    <a:pt x="1677" y="2118"/>
                  </a:lnTo>
                  <a:lnTo>
                    <a:pt x="1690" y="2119"/>
                  </a:lnTo>
                  <a:lnTo>
                    <a:pt x="1704" y="2119"/>
                  </a:lnTo>
                  <a:lnTo>
                    <a:pt x="1718" y="2119"/>
                  </a:lnTo>
                  <a:lnTo>
                    <a:pt x="1732" y="2119"/>
                  </a:lnTo>
                  <a:lnTo>
                    <a:pt x="1743" y="2119"/>
                  </a:lnTo>
                  <a:lnTo>
                    <a:pt x="1754" y="2119"/>
                  </a:lnTo>
                  <a:lnTo>
                    <a:pt x="1764" y="2119"/>
                  </a:lnTo>
                  <a:lnTo>
                    <a:pt x="1775" y="2119"/>
                  </a:lnTo>
                  <a:lnTo>
                    <a:pt x="1782" y="2119"/>
                  </a:lnTo>
                  <a:lnTo>
                    <a:pt x="1788" y="2119"/>
                  </a:lnTo>
                  <a:lnTo>
                    <a:pt x="1791" y="2119"/>
                  </a:lnTo>
                  <a:lnTo>
                    <a:pt x="1795" y="2119"/>
                  </a:lnTo>
                  <a:lnTo>
                    <a:pt x="1797" y="2119"/>
                  </a:lnTo>
                  <a:lnTo>
                    <a:pt x="1799" y="2119"/>
                  </a:lnTo>
                  <a:lnTo>
                    <a:pt x="1801" y="2119"/>
                  </a:lnTo>
                  <a:lnTo>
                    <a:pt x="1803" y="2119"/>
                  </a:lnTo>
                  <a:lnTo>
                    <a:pt x="1805" y="2119"/>
                  </a:lnTo>
                  <a:lnTo>
                    <a:pt x="1808" y="2119"/>
                  </a:lnTo>
                  <a:lnTo>
                    <a:pt x="1812" y="2119"/>
                  </a:lnTo>
                  <a:lnTo>
                    <a:pt x="1820" y="2119"/>
                  </a:lnTo>
                  <a:lnTo>
                    <a:pt x="1827" y="2119"/>
                  </a:lnTo>
                  <a:lnTo>
                    <a:pt x="1838" y="2119"/>
                  </a:lnTo>
                  <a:lnTo>
                    <a:pt x="1850" y="2119"/>
                  </a:lnTo>
                  <a:lnTo>
                    <a:pt x="1867" y="2119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01120" y="7015320"/>
              <a:ext cx="144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12080" y="7259760"/>
              <a:ext cx="123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02560" y="6621480"/>
              <a:ext cx="1429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13520" y="6865920"/>
              <a:ext cx="125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33600" y="2027160"/>
              <a:ext cx="144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95600" y="2276640"/>
              <a:ext cx="123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3880" y="1452600"/>
              <a:ext cx="144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85880" y="1701720"/>
              <a:ext cx="12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834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ficiencia en el problema de R Crusoe (nuevamente):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-44280"/>
            <a:ext cx="97585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istorción de precios en la is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5240" y="3565440"/>
            <a:ext cx="4098960" cy="2175120"/>
          </a:xfrm>
          <a:prstGeom prst="line">
            <a:avLst/>
          </a:prstGeom>
          <a:ln w="76320">
            <a:solidFill>
              <a:srgbClr val="418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1911240"/>
            <a:ext cx="1844640" cy="4554720"/>
          </a:xfrm>
          <a:prstGeom prst="line">
            <a:avLst/>
          </a:prstGeom>
          <a:ln w="7632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819520"/>
            <a:ext cx="2347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0080"/>
                </a:solidFill>
                <a:latin typeface="Times New Roman"/>
              </a:rPr>
              <a:t>precios a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2520" y="5513400"/>
            <a:ext cx="2197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4181ff"/>
                </a:solidFill>
                <a:latin typeface="Times New Roman"/>
              </a:rPr>
              <a:t>precios al pro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32040" y="2031840"/>
            <a:ext cx="3857760" cy="4583160"/>
          </a:xfrm>
          <a:custGeom>
            <a:avLst/>
            <a:gdLst/>
            <a:ahLst/>
            <a:rect l="l" t="t" r="r" b="b"/>
            <a:pathLst>
              <a:path w="2430" h="2887">
                <a:moveTo>
                  <a:pt x="2429" y="2422"/>
                </a:moveTo>
                <a:lnTo>
                  <a:pt x="2410" y="2422"/>
                </a:lnTo>
                <a:lnTo>
                  <a:pt x="2396" y="2422"/>
                </a:lnTo>
                <a:lnTo>
                  <a:pt x="2383" y="2422"/>
                </a:lnTo>
                <a:lnTo>
                  <a:pt x="2375" y="2422"/>
                </a:lnTo>
                <a:lnTo>
                  <a:pt x="2368" y="2422"/>
                </a:lnTo>
                <a:lnTo>
                  <a:pt x="2363" y="2422"/>
                </a:lnTo>
                <a:lnTo>
                  <a:pt x="2359" y="2422"/>
                </a:lnTo>
                <a:lnTo>
                  <a:pt x="2357" y="2422"/>
                </a:lnTo>
                <a:lnTo>
                  <a:pt x="2353" y="2422"/>
                </a:lnTo>
                <a:lnTo>
                  <a:pt x="2352" y="2422"/>
                </a:lnTo>
                <a:lnTo>
                  <a:pt x="2349" y="2422"/>
                </a:lnTo>
                <a:lnTo>
                  <a:pt x="2347" y="2422"/>
                </a:lnTo>
                <a:lnTo>
                  <a:pt x="2343" y="2422"/>
                </a:lnTo>
                <a:lnTo>
                  <a:pt x="2339" y="2422"/>
                </a:lnTo>
                <a:lnTo>
                  <a:pt x="2332" y="2422"/>
                </a:lnTo>
                <a:lnTo>
                  <a:pt x="2325" y="2422"/>
                </a:lnTo>
                <a:lnTo>
                  <a:pt x="2313" y="2422"/>
                </a:lnTo>
                <a:lnTo>
                  <a:pt x="2302" y="2422"/>
                </a:lnTo>
                <a:lnTo>
                  <a:pt x="2288" y="2422"/>
                </a:lnTo>
                <a:lnTo>
                  <a:pt x="2275" y="2422"/>
                </a:lnTo>
                <a:lnTo>
                  <a:pt x="2260" y="2422"/>
                </a:lnTo>
                <a:lnTo>
                  <a:pt x="2245" y="2422"/>
                </a:lnTo>
                <a:lnTo>
                  <a:pt x="2228" y="2422"/>
                </a:lnTo>
                <a:lnTo>
                  <a:pt x="2213" y="2421"/>
                </a:lnTo>
                <a:lnTo>
                  <a:pt x="2196" y="2421"/>
                </a:lnTo>
                <a:lnTo>
                  <a:pt x="2179" y="2421"/>
                </a:lnTo>
                <a:lnTo>
                  <a:pt x="2163" y="2421"/>
                </a:lnTo>
                <a:lnTo>
                  <a:pt x="2148" y="2419"/>
                </a:lnTo>
                <a:lnTo>
                  <a:pt x="2133" y="2419"/>
                </a:lnTo>
                <a:lnTo>
                  <a:pt x="2118" y="2419"/>
                </a:lnTo>
                <a:lnTo>
                  <a:pt x="2105" y="2419"/>
                </a:lnTo>
                <a:lnTo>
                  <a:pt x="2093" y="2417"/>
                </a:lnTo>
                <a:lnTo>
                  <a:pt x="2079" y="2417"/>
                </a:lnTo>
                <a:lnTo>
                  <a:pt x="2066" y="2416"/>
                </a:lnTo>
                <a:lnTo>
                  <a:pt x="2051" y="2416"/>
                </a:lnTo>
                <a:lnTo>
                  <a:pt x="2036" y="2415"/>
                </a:lnTo>
                <a:lnTo>
                  <a:pt x="2019" y="2415"/>
                </a:lnTo>
                <a:lnTo>
                  <a:pt x="2003" y="2413"/>
                </a:lnTo>
                <a:lnTo>
                  <a:pt x="1987" y="2412"/>
                </a:lnTo>
                <a:lnTo>
                  <a:pt x="1972" y="2410"/>
                </a:lnTo>
                <a:lnTo>
                  <a:pt x="1955" y="2410"/>
                </a:lnTo>
                <a:lnTo>
                  <a:pt x="1939" y="2408"/>
                </a:lnTo>
                <a:lnTo>
                  <a:pt x="1923" y="2407"/>
                </a:lnTo>
                <a:lnTo>
                  <a:pt x="1909" y="2405"/>
                </a:lnTo>
                <a:lnTo>
                  <a:pt x="1894" y="2405"/>
                </a:lnTo>
                <a:lnTo>
                  <a:pt x="1882" y="2403"/>
                </a:lnTo>
                <a:lnTo>
                  <a:pt x="1870" y="2402"/>
                </a:lnTo>
                <a:lnTo>
                  <a:pt x="1861" y="2400"/>
                </a:lnTo>
                <a:lnTo>
                  <a:pt x="1849" y="2399"/>
                </a:lnTo>
                <a:lnTo>
                  <a:pt x="1837" y="2397"/>
                </a:lnTo>
                <a:lnTo>
                  <a:pt x="1824" y="2395"/>
                </a:lnTo>
                <a:lnTo>
                  <a:pt x="1811" y="2393"/>
                </a:lnTo>
                <a:lnTo>
                  <a:pt x="1796" y="2391"/>
                </a:lnTo>
                <a:lnTo>
                  <a:pt x="1781" y="2388"/>
                </a:lnTo>
                <a:lnTo>
                  <a:pt x="1766" y="2385"/>
                </a:lnTo>
                <a:lnTo>
                  <a:pt x="1751" y="2382"/>
                </a:lnTo>
                <a:lnTo>
                  <a:pt x="1734" y="2380"/>
                </a:lnTo>
                <a:lnTo>
                  <a:pt x="1718" y="2376"/>
                </a:lnTo>
                <a:lnTo>
                  <a:pt x="1703" y="2373"/>
                </a:lnTo>
                <a:lnTo>
                  <a:pt x="1688" y="2369"/>
                </a:lnTo>
                <a:lnTo>
                  <a:pt x="1673" y="2367"/>
                </a:lnTo>
                <a:lnTo>
                  <a:pt x="1659" y="2364"/>
                </a:lnTo>
                <a:lnTo>
                  <a:pt x="1646" y="2360"/>
                </a:lnTo>
                <a:lnTo>
                  <a:pt x="1635" y="2356"/>
                </a:lnTo>
                <a:lnTo>
                  <a:pt x="1621" y="2355"/>
                </a:lnTo>
                <a:lnTo>
                  <a:pt x="1609" y="2351"/>
                </a:lnTo>
                <a:lnTo>
                  <a:pt x="1595" y="2347"/>
                </a:lnTo>
                <a:lnTo>
                  <a:pt x="1582" y="2344"/>
                </a:lnTo>
                <a:lnTo>
                  <a:pt x="1567" y="2340"/>
                </a:lnTo>
                <a:lnTo>
                  <a:pt x="1553" y="2336"/>
                </a:lnTo>
                <a:lnTo>
                  <a:pt x="1539" y="2332"/>
                </a:lnTo>
                <a:lnTo>
                  <a:pt x="1525" y="2327"/>
                </a:lnTo>
                <a:lnTo>
                  <a:pt x="1511" y="2323"/>
                </a:lnTo>
                <a:lnTo>
                  <a:pt x="1497" y="2319"/>
                </a:lnTo>
                <a:lnTo>
                  <a:pt x="1484" y="2315"/>
                </a:lnTo>
                <a:lnTo>
                  <a:pt x="1472" y="2310"/>
                </a:lnTo>
                <a:lnTo>
                  <a:pt x="1460" y="2306"/>
                </a:lnTo>
                <a:lnTo>
                  <a:pt x="1449" y="2302"/>
                </a:lnTo>
                <a:lnTo>
                  <a:pt x="1440" y="2299"/>
                </a:lnTo>
                <a:lnTo>
                  <a:pt x="1433" y="2296"/>
                </a:lnTo>
                <a:lnTo>
                  <a:pt x="1424" y="2294"/>
                </a:lnTo>
                <a:lnTo>
                  <a:pt x="1417" y="2290"/>
                </a:lnTo>
                <a:lnTo>
                  <a:pt x="1407" y="2287"/>
                </a:lnTo>
                <a:lnTo>
                  <a:pt x="1400" y="2283"/>
                </a:lnTo>
                <a:lnTo>
                  <a:pt x="1391" y="2279"/>
                </a:lnTo>
                <a:lnTo>
                  <a:pt x="1383" y="2276"/>
                </a:lnTo>
                <a:lnTo>
                  <a:pt x="1374" y="2272"/>
                </a:lnTo>
                <a:lnTo>
                  <a:pt x="1366" y="2267"/>
                </a:lnTo>
                <a:lnTo>
                  <a:pt x="1358" y="2264"/>
                </a:lnTo>
                <a:lnTo>
                  <a:pt x="1350" y="2260"/>
                </a:lnTo>
                <a:lnTo>
                  <a:pt x="1343" y="2257"/>
                </a:lnTo>
                <a:lnTo>
                  <a:pt x="1337" y="2253"/>
                </a:lnTo>
                <a:lnTo>
                  <a:pt x="1330" y="2250"/>
                </a:lnTo>
                <a:lnTo>
                  <a:pt x="1325" y="2247"/>
                </a:lnTo>
                <a:lnTo>
                  <a:pt x="1320" y="2244"/>
                </a:lnTo>
                <a:lnTo>
                  <a:pt x="1317" y="2240"/>
                </a:lnTo>
                <a:lnTo>
                  <a:pt x="1312" y="2239"/>
                </a:lnTo>
                <a:lnTo>
                  <a:pt x="1307" y="2235"/>
                </a:lnTo>
                <a:lnTo>
                  <a:pt x="1300" y="2231"/>
                </a:lnTo>
                <a:lnTo>
                  <a:pt x="1294" y="2226"/>
                </a:lnTo>
                <a:lnTo>
                  <a:pt x="1285" y="2220"/>
                </a:lnTo>
                <a:lnTo>
                  <a:pt x="1277" y="2214"/>
                </a:lnTo>
                <a:lnTo>
                  <a:pt x="1268" y="2207"/>
                </a:lnTo>
                <a:lnTo>
                  <a:pt x="1259" y="2199"/>
                </a:lnTo>
                <a:lnTo>
                  <a:pt x="1248" y="2192"/>
                </a:lnTo>
                <a:lnTo>
                  <a:pt x="1238" y="2185"/>
                </a:lnTo>
                <a:lnTo>
                  <a:pt x="1227" y="2178"/>
                </a:lnTo>
                <a:lnTo>
                  <a:pt x="1217" y="2169"/>
                </a:lnTo>
                <a:lnTo>
                  <a:pt x="1206" y="2161"/>
                </a:lnTo>
                <a:lnTo>
                  <a:pt x="1197" y="2153"/>
                </a:lnTo>
                <a:lnTo>
                  <a:pt x="1187" y="2146"/>
                </a:lnTo>
                <a:lnTo>
                  <a:pt x="1177" y="2137"/>
                </a:lnTo>
                <a:lnTo>
                  <a:pt x="1166" y="2130"/>
                </a:lnTo>
                <a:lnTo>
                  <a:pt x="1155" y="2120"/>
                </a:lnTo>
                <a:lnTo>
                  <a:pt x="1142" y="2109"/>
                </a:lnTo>
                <a:lnTo>
                  <a:pt x="1130" y="2097"/>
                </a:lnTo>
                <a:lnTo>
                  <a:pt x="1115" y="2084"/>
                </a:lnTo>
                <a:lnTo>
                  <a:pt x="1102" y="2071"/>
                </a:lnTo>
                <a:lnTo>
                  <a:pt x="1087" y="2057"/>
                </a:lnTo>
                <a:lnTo>
                  <a:pt x="1074" y="2042"/>
                </a:lnTo>
                <a:lnTo>
                  <a:pt x="1059" y="2028"/>
                </a:lnTo>
                <a:lnTo>
                  <a:pt x="1044" y="2013"/>
                </a:lnTo>
                <a:lnTo>
                  <a:pt x="1030" y="1998"/>
                </a:lnTo>
                <a:lnTo>
                  <a:pt x="1017" y="1984"/>
                </a:lnTo>
                <a:lnTo>
                  <a:pt x="1004" y="1970"/>
                </a:lnTo>
                <a:lnTo>
                  <a:pt x="991" y="1955"/>
                </a:lnTo>
                <a:lnTo>
                  <a:pt x="980" y="1942"/>
                </a:lnTo>
                <a:lnTo>
                  <a:pt x="970" y="1929"/>
                </a:lnTo>
                <a:lnTo>
                  <a:pt x="959" y="1917"/>
                </a:lnTo>
                <a:lnTo>
                  <a:pt x="949" y="1904"/>
                </a:lnTo>
                <a:lnTo>
                  <a:pt x="938" y="1888"/>
                </a:lnTo>
                <a:lnTo>
                  <a:pt x="927" y="1872"/>
                </a:lnTo>
                <a:lnTo>
                  <a:pt x="913" y="1856"/>
                </a:lnTo>
                <a:lnTo>
                  <a:pt x="902" y="1838"/>
                </a:lnTo>
                <a:lnTo>
                  <a:pt x="890" y="1820"/>
                </a:lnTo>
                <a:lnTo>
                  <a:pt x="879" y="1802"/>
                </a:lnTo>
                <a:lnTo>
                  <a:pt x="867" y="1785"/>
                </a:lnTo>
                <a:lnTo>
                  <a:pt x="856" y="1767"/>
                </a:lnTo>
                <a:lnTo>
                  <a:pt x="845" y="1750"/>
                </a:lnTo>
                <a:lnTo>
                  <a:pt x="836" y="1732"/>
                </a:lnTo>
                <a:lnTo>
                  <a:pt x="827" y="1717"/>
                </a:lnTo>
                <a:lnTo>
                  <a:pt x="819" y="1701"/>
                </a:lnTo>
                <a:lnTo>
                  <a:pt x="811" y="1688"/>
                </a:lnTo>
                <a:lnTo>
                  <a:pt x="805" y="1674"/>
                </a:lnTo>
                <a:lnTo>
                  <a:pt x="798" y="1662"/>
                </a:lnTo>
                <a:lnTo>
                  <a:pt x="791" y="1646"/>
                </a:lnTo>
                <a:lnTo>
                  <a:pt x="782" y="1630"/>
                </a:lnTo>
                <a:lnTo>
                  <a:pt x="775" y="1610"/>
                </a:lnTo>
                <a:lnTo>
                  <a:pt x="765" y="1590"/>
                </a:lnTo>
                <a:lnTo>
                  <a:pt x="755" y="1569"/>
                </a:lnTo>
                <a:lnTo>
                  <a:pt x="745" y="1547"/>
                </a:lnTo>
                <a:lnTo>
                  <a:pt x="736" y="1523"/>
                </a:lnTo>
                <a:lnTo>
                  <a:pt x="725" y="1500"/>
                </a:lnTo>
                <a:lnTo>
                  <a:pt x="715" y="1477"/>
                </a:lnTo>
                <a:lnTo>
                  <a:pt x="705" y="1454"/>
                </a:lnTo>
                <a:lnTo>
                  <a:pt x="695" y="1430"/>
                </a:lnTo>
                <a:lnTo>
                  <a:pt x="685" y="1408"/>
                </a:lnTo>
                <a:lnTo>
                  <a:pt x="676" y="1386"/>
                </a:lnTo>
                <a:lnTo>
                  <a:pt x="667" y="1365"/>
                </a:lnTo>
                <a:lnTo>
                  <a:pt x="659" y="1345"/>
                </a:lnTo>
                <a:lnTo>
                  <a:pt x="650" y="1326"/>
                </a:lnTo>
                <a:lnTo>
                  <a:pt x="641" y="1304"/>
                </a:lnTo>
                <a:lnTo>
                  <a:pt x="631" y="1283"/>
                </a:lnTo>
                <a:lnTo>
                  <a:pt x="621" y="1258"/>
                </a:lnTo>
                <a:lnTo>
                  <a:pt x="610" y="1235"/>
                </a:lnTo>
                <a:lnTo>
                  <a:pt x="601" y="1210"/>
                </a:lnTo>
                <a:lnTo>
                  <a:pt x="590" y="1185"/>
                </a:lnTo>
                <a:lnTo>
                  <a:pt x="581" y="1159"/>
                </a:lnTo>
                <a:lnTo>
                  <a:pt x="569" y="1136"/>
                </a:lnTo>
                <a:lnTo>
                  <a:pt x="560" y="1111"/>
                </a:lnTo>
                <a:lnTo>
                  <a:pt x="551" y="1089"/>
                </a:lnTo>
                <a:lnTo>
                  <a:pt x="542" y="1066"/>
                </a:lnTo>
                <a:lnTo>
                  <a:pt x="533" y="1046"/>
                </a:lnTo>
                <a:lnTo>
                  <a:pt x="526" y="1026"/>
                </a:lnTo>
                <a:lnTo>
                  <a:pt x="519" y="1008"/>
                </a:lnTo>
                <a:lnTo>
                  <a:pt x="513" y="992"/>
                </a:lnTo>
                <a:lnTo>
                  <a:pt x="506" y="977"/>
                </a:lnTo>
                <a:lnTo>
                  <a:pt x="500" y="957"/>
                </a:lnTo>
                <a:lnTo>
                  <a:pt x="491" y="936"/>
                </a:lnTo>
                <a:lnTo>
                  <a:pt x="484" y="910"/>
                </a:lnTo>
                <a:lnTo>
                  <a:pt x="475" y="884"/>
                </a:lnTo>
                <a:lnTo>
                  <a:pt x="467" y="855"/>
                </a:lnTo>
                <a:lnTo>
                  <a:pt x="457" y="825"/>
                </a:lnTo>
                <a:lnTo>
                  <a:pt x="450" y="792"/>
                </a:lnTo>
                <a:lnTo>
                  <a:pt x="440" y="760"/>
                </a:lnTo>
                <a:lnTo>
                  <a:pt x="431" y="727"/>
                </a:lnTo>
                <a:lnTo>
                  <a:pt x="422" y="695"/>
                </a:lnTo>
                <a:lnTo>
                  <a:pt x="414" y="661"/>
                </a:lnTo>
                <a:lnTo>
                  <a:pt x="405" y="629"/>
                </a:lnTo>
                <a:lnTo>
                  <a:pt x="398" y="597"/>
                </a:lnTo>
                <a:lnTo>
                  <a:pt x="391" y="566"/>
                </a:lnTo>
                <a:lnTo>
                  <a:pt x="385" y="536"/>
                </a:lnTo>
                <a:lnTo>
                  <a:pt x="377" y="507"/>
                </a:lnTo>
                <a:lnTo>
                  <a:pt x="372" y="477"/>
                </a:lnTo>
                <a:lnTo>
                  <a:pt x="364" y="446"/>
                </a:lnTo>
                <a:lnTo>
                  <a:pt x="359" y="415"/>
                </a:lnTo>
                <a:lnTo>
                  <a:pt x="351" y="384"/>
                </a:lnTo>
                <a:lnTo>
                  <a:pt x="345" y="352"/>
                </a:lnTo>
                <a:lnTo>
                  <a:pt x="340" y="322"/>
                </a:lnTo>
                <a:lnTo>
                  <a:pt x="334" y="290"/>
                </a:lnTo>
                <a:lnTo>
                  <a:pt x="329" y="262"/>
                </a:lnTo>
                <a:lnTo>
                  <a:pt x="323" y="235"/>
                </a:lnTo>
                <a:lnTo>
                  <a:pt x="319" y="209"/>
                </a:lnTo>
                <a:lnTo>
                  <a:pt x="315" y="185"/>
                </a:lnTo>
                <a:lnTo>
                  <a:pt x="311" y="164"/>
                </a:lnTo>
                <a:lnTo>
                  <a:pt x="308" y="145"/>
                </a:lnTo>
                <a:lnTo>
                  <a:pt x="306" y="129"/>
                </a:lnTo>
                <a:lnTo>
                  <a:pt x="305" y="116"/>
                </a:lnTo>
                <a:lnTo>
                  <a:pt x="303" y="107"/>
                </a:lnTo>
                <a:lnTo>
                  <a:pt x="303" y="100"/>
                </a:lnTo>
                <a:lnTo>
                  <a:pt x="302" y="95"/>
                </a:lnTo>
                <a:lnTo>
                  <a:pt x="302" y="90"/>
                </a:lnTo>
                <a:lnTo>
                  <a:pt x="301" y="88"/>
                </a:lnTo>
                <a:lnTo>
                  <a:pt x="301" y="86"/>
                </a:lnTo>
                <a:lnTo>
                  <a:pt x="301" y="84"/>
                </a:lnTo>
                <a:lnTo>
                  <a:pt x="301" y="80"/>
                </a:lnTo>
                <a:lnTo>
                  <a:pt x="299" y="78"/>
                </a:lnTo>
                <a:lnTo>
                  <a:pt x="299" y="73"/>
                </a:lnTo>
                <a:lnTo>
                  <a:pt x="298" y="68"/>
                </a:lnTo>
                <a:lnTo>
                  <a:pt x="298" y="59"/>
                </a:lnTo>
                <a:lnTo>
                  <a:pt x="296" y="50"/>
                </a:lnTo>
                <a:lnTo>
                  <a:pt x="295" y="36"/>
                </a:lnTo>
                <a:lnTo>
                  <a:pt x="294" y="20"/>
                </a:lnTo>
                <a:lnTo>
                  <a:pt x="293" y="0"/>
                </a:lnTo>
                <a:lnTo>
                  <a:pt x="0" y="231"/>
                </a:lnTo>
                <a:lnTo>
                  <a:pt x="1" y="254"/>
                </a:lnTo>
                <a:lnTo>
                  <a:pt x="3" y="271"/>
                </a:lnTo>
                <a:lnTo>
                  <a:pt x="3" y="286"/>
                </a:lnTo>
                <a:lnTo>
                  <a:pt x="5" y="296"/>
                </a:lnTo>
                <a:lnTo>
                  <a:pt x="5" y="306"/>
                </a:lnTo>
                <a:lnTo>
                  <a:pt x="6" y="312"/>
                </a:lnTo>
                <a:lnTo>
                  <a:pt x="6" y="316"/>
                </a:lnTo>
                <a:lnTo>
                  <a:pt x="8" y="318"/>
                </a:lnTo>
                <a:lnTo>
                  <a:pt x="8" y="322"/>
                </a:lnTo>
                <a:lnTo>
                  <a:pt x="8" y="324"/>
                </a:lnTo>
                <a:lnTo>
                  <a:pt x="8" y="327"/>
                </a:lnTo>
                <a:lnTo>
                  <a:pt x="9" y="329"/>
                </a:lnTo>
                <a:lnTo>
                  <a:pt x="9" y="334"/>
                </a:lnTo>
                <a:lnTo>
                  <a:pt x="11" y="340"/>
                </a:lnTo>
                <a:lnTo>
                  <a:pt x="11" y="348"/>
                </a:lnTo>
                <a:lnTo>
                  <a:pt x="13" y="358"/>
                </a:lnTo>
                <a:lnTo>
                  <a:pt x="14" y="372"/>
                </a:lnTo>
                <a:lnTo>
                  <a:pt x="16" y="389"/>
                </a:lnTo>
                <a:lnTo>
                  <a:pt x="19" y="410"/>
                </a:lnTo>
                <a:lnTo>
                  <a:pt x="23" y="434"/>
                </a:lnTo>
                <a:lnTo>
                  <a:pt x="27" y="460"/>
                </a:lnTo>
                <a:lnTo>
                  <a:pt x="33" y="488"/>
                </a:lnTo>
                <a:lnTo>
                  <a:pt x="39" y="519"/>
                </a:lnTo>
                <a:lnTo>
                  <a:pt x="45" y="550"/>
                </a:lnTo>
                <a:lnTo>
                  <a:pt x="50" y="583"/>
                </a:lnTo>
                <a:lnTo>
                  <a:pt x="57" y="617"/>
                </a:lnTo>
                <a:lnTo>
                  <a:pt x="64" y="652"/>
                </a:lnTo>
                <a:lnTo>
                  <a:pt x="71" y="686"/>
                </a:lnTo>
                <a:lnTo>
                  <a:pt x="78" y="720"/>
                </a:lnTo>
                <a:lnTo>
                  <a:pt x="85" y="754"/>
                </a:lnTo>
                <a:lnTo>
                  <a:pt x="93" y="787"/>
                </a:lnTo>
                <a:lnTo>
                  <a:pt x="100" y="818"/>
                </a:lnTo>
                <a:lnTo>
                  <a:pt x="107" y="852"/>
                </a:lnTo>
                <a:lnTo>
                  <a:pt x="115" y="885"/>
                </a:lnTo>
                <a:lnTo>
                  <a:pt x="123" y="921"/>
                </a:lnTo>
                <a:lnTo>
                  <a:pt x="132" y="956"/>
                </a:lnTo>
                <a:lnTo>
                  <a:pt x="141" y="994"/>
                </a:lnTo>
                <a:lnTo>
                  <a:pt x="151" y="1029"/>
                </a:lnTo>
                <a:lnTo>
                  <a:pt x="160" y="1066"/>
                </a:lnTo>
                <a:lnTo>
                  <a:pt x="171" y="1100"/>
                </a:lnTo>
                <a:lnTo>
                  <a:pt x="181" y="1136"/>
                </a:lnTo>
                <a:lnTo>
                  <a:pt x="190" y="1169"/>
                </a:lnTo>
                <a:lnTo>
                  <a:pt x="199" y="1201"/>
                </a:lnTo>
                <a:lnTo>
                  <a:pt x="209" y="1230"/>
                </a:lnTo>
                <a:lnTo>
                  <a:pt x="216" y="1257"/>
                </a:lnTo>
                <a:lnTo>
                  <a:pt x="225" y="1281"/>
                </a:lnTo>
                <a:lnTo>
                  <a:pt x="233" y="1302"/>
                </a:lnTo>
                <a:lnTo>
                  <a:pt x="240" y="1319"/>
                </a:lnTo>
                <a:lnTo>
                  <a:pt x="246" y="1336"/>
                </a:lnTo>
                <a:lnTo>
                  <a:pt x="253" y="1356"/>
                </a:lnTo>
                <a:lnTo>
                  <a:pt x="262" y="1378"/>
                </a:lnTo>
                <a:lnTo>
                  <a:pt x="271" y="1400"/>
                </a:lnTo>
                <a:lnTo>
                  <a:pt x="281" y="1425"/>
                </a:lnTo>
                <a:lnTo>
                  <a:pt x="292" y="1450"/>
                </a:lnTo>
                <a:lnTo>
                  <a:pt x="303" y="1476"/>
                </a:lnTo>
                <a:lnTo>
                  <a:pt x="314" y="1502"/>
                </a:lnTo>
                <a:lnTo>
                  <a:pt x="325" y="1530"/>
                </a:lnTo>
                <a:lnTo>
                  <a:pt x="336" y="1557"/>
                </a:lnTo>
                <a:lnTo>
                  <a:pt x="347" y="1585"/>
                </a:lnTo>
                <a:lnTo>
                  <a:pt x="359" y="1611"/>
                </a:lnTo>
                <a:lnTo>
                  <a:pt x="369" y="1637"/>
                </a:lnTo>
                <a:lnTo>
                  <a:pt x="380" y="1662"/>
                </a:lnTo>
                <a:lnTo>
                  <a:pt x="389" y="1684"/>
                </a:lnTo>
                <a:lnTo>
                  <a:pt x="400" y="1706"/>
                </a:lnTo>
                <a:lnTo>
                  <a:pt x="409" y="1728"/>
                </a:lnTo>
                <a:lnTo>
                  <a:pt x="418" y="1750"/>
                </a:lnTo>
                <a:lnTo>
                  <a:pt x="428" y="1774"/>
                </a:lnTo>
                <a:lnTo>
                  <a:pt x="439" y="1799"/>
                </a:lnTo>
                <a:lnTo>
                  <a:pt x="450" y="1825"/>
                </a:lnTo>
                <a:lnTo>
                  <a:pt x="461" y="1850"/>
                </a:lnTo>
                <a:lnTo>
                  <a:pt x="473" y="1877"/>
                </a:lnTo>
                <a:lnTo>
                  <a:pt x="485" y="1901"/>
                </a:lnTo>
                <a:lnTo>
                  <a:pt x="495" y="1927"/>
                </a:lnTo>
                <a:lnTo>
                  <a:pt x="506" y="1951"/>
                </a:lnTo>
                <a:lnTo>
                  <a:pt x="516" y="1974"/>
                </a:lnTo>
                <a:lnTo>
                  <a:pt x="527" y="1996"/>
                </a:lnTo>
                <a:lnTo>
                  <a:pt x="535" y="2017"/>
                </a:lnTo>
                <a:lnTo>
                  <a:pt x="545" y="2036"/>
                </a:lnTo>
                <a:lnTo>
                  <a:pt x="552" y="2053"/>
                </a:lnTo>
                <a:lnTo>
                  <a:pt x="559" y="2066"/>
                </a:lnTo>
                <a:lnTo>
                  <a:pt x="566" y="2081"/>
                </a:lnTo>
                <a:lnTo>
                  <a:pt x="574" y="2096"/>
                </a:lnTo>
                <a:lnTo>
                  <a:pt x="583" y="2113"/>
                </a:lnTo>
                <a:lnTo>
                  <a:pt x="593" y="2130"/>
                </a:lnTo>
                <a:lnTo>
                  <a:pt x="603" y="2150"/>
                </a:lnTo>
                <a:lnTo>
                  <a:pt x="615" y="2168"/>
                </a:lnTo>
                <a:lnTo>
                  <a:pt x="627" y="2188"/>
                </a:lnTo>
                <a:lnTo>
                  <a:pt x="640" y="2207"/>
                </a:lnTo>
                <a:lnTo>
                  <a:pt x="652" y="2228"/>
                </a:lnTo>
                <a:lnTo>
                  <a:pt x="665" y="2246"/>
                </a:lnTo>
                <a:lnTo>
                  <a:pt x="678" y="2266"/>
                </a:lnTo>
                <a:lnTo>
                  <a:pt x="691" y="2284"/>
                </a:lnTo>
                <a:lnTo>
                  <a:pt x="703" y="2302"/>
                </a:lnTo>
                <a:lnTo>
                  <a:pt x="715" y="2318"/>
                </a:lnTo>
                <a:lnTo>
                  <a:pt x="727" y="2334"/>
                </a:lnTo>
                <a:lnTo>
                  <a:pt x="739" y="2346"/>
                </a:lnTo>
                <a:lnTo>
                  <a:pt x="750" y="2361"/>
                </a:lnTo>
                <a:lnTo>
                  <a:pt x="762" y="2375"/>
                </a:lnTo>
                <a:lnTo>
                  <a:pt x="775" y="2391"/>
                </a:lnTo>
                <a:lnTo>
                  <a:pt x="790" y="2406"/>
                </a:lnTo>
                <a:lnTo>
                  <a:pt x="805" y="2423"/>
                </a:lnTo>
                <a:lnTo>
                  <a:pt x="820" y="2438"/>
                </a:lnTo>
                <a:lnTo>
                  <a:pt x="835" y="2454"/>
                </a:lnTo>
                <a:lnTo>
                  <a:pt x="852" y="2470"/>
                </a:lnTo>
                <a:lnTo>
                  <a:pt x="867" y="2486"/>
                </a:lnTo>
                <a:lnTo>
                  <a:pt x="883" y="2501"/>
                </a:lnTo>
                <a:lnTo>
                  <a:pt x="898" y="2516"/>
                </a:lnTo>
                <a:lnTo>
                  <a:pt x="914" y="2530"/>
                </a:lnTo>
                <a:lnTo>
                  <a:pt x="927" y="2543"/>
                </a:lnTo>
                <a:lnTo>
                  <a:pt x="941" y="2554"/>
                </a:lnTo>
                <a:lnTo>
                  <a:pt x="953" y="2565"/>
                </a:lnTo>
                <a:lnTo>
                  <a:pt x="965" y="2573"/>
                </a:lnTo>
                <a:lnTo>
                  <a:pt x="975" y="2582"/>
                </a:lnTo>
                <a:lnTo>
                  <a:pt x="986" y="2591"/>
                </a:lnTo>
                <a:lnTo>
                  <a:pt x="997" y="2600"/>
                </a:lnTo>
                <a:lnTo>
                  <a:pt x="1009" y="2608"/>
                </a:lnTo>
                <a:lnTo>
                  <a:pt x="1021" y="2618"/>
                </a:lnTo>
                <a:lnTo>
                  <a:pt x="1032" y="2625"/>
                </a:lnTo>
                <a:lnTo>
                  <a:pt x="1043" y="2634"/>
                </a:lnTo>
                <a:lnTo>
                  <a:pt x="1055" y="2641"/>
                </a:lnTo>
                <a:lnTo>
                  <a:pt x="1064" y="2649"/>
                </a:lnTo>
                <a:lnTo>
                  <a:pt x="1075" y="2657"/>
                </a:lnTo>
                <a:lnTo>
                  <a:pt x="1084" y="2664"/>
                </a:lnTo>
                <a:lnTo>
                  <a:pt x="1093" y="2670"/>
                </a:lnTo>
                <a:lnTo>
                  <a:pt x="1101" y="2676"/>
                </a:lnTo>
                <a:lnTo>
                  <a:pt x="1107" y="2680"/>
                </a:lnTo>
                <a:lnTo>
                  <a:pt x="1113" y="2684"/>
                </a:lnTo>
                <a:lnTo>
                  <a:pt x="1118" y="2687"/>
                </a:lnTo>
                <a:lnTo>
                  <a:pt x="1122" y="2690"/>
                </a:lnTo>
                <a:lnTo>
                  <a:pt x="1127" y="2693"/>
                </a:lnTo>
                <a:lnTo>
                  <a:pt x="1132" y="2697"/>
                </a:lnTo>
                <a:lnTo>
                  <a:pt x="1139" y="2699"/>
                </a:lnTo>
                <a:lnTo>
                  <a:pt x="1146" y="2704"/>
                </a:lnTo>
                <a:lnTo>
                  <a:pt x="1154" y="2707"/>
                </a:lnTo>
                <a:lnTo>
                  <a:pt x="1162" y="2711"/>
                </a:lnTo>
                <a:lnTo>
                  <a:pt x="1172" y="2715"/>
                </a:lnTo>
                <a:lnTo>
                  <a:pt x="1180" y="2720"/>
                </a:lnTo>
                <a:lnTo>
                  <a:pt x="1189" y="2724"/>
                </a:lnTo>
                <a:lnTo>
                  <a:pt x="1199" y="2728"/>
                </a:lnTo>
                <a:lnTo>
                  <a:pt x="1208" y="2732"/>
                </a:lnTo>
                <a:lnTo>
                  <a:pt x="1217" y="2736"/>
                </a:lnTo>
                <a:lnTo>
                  <a:pt x="1226" y="2740"/>
                </a:lnTo>
                <a:lnTo>
                  <a:pt x="1235" y="2744"/>
                </a:lnTo>
                <a:lnTo>
                  <a:pt x="1244" y="2746"/>
                </a:lnTo>
                <a:lnTo>
                  <a:pt x="1252" y="2750"/>
                </a:lnTo>
                <a:lnTo>
                  <a:pt x="1262" y="2754"/>
                </a:lnTo>
                <a:lnTo>
                  <a:pt x="1273" y="2758"/>
                </a:lnTo>
                <a:lnTo>
                  <a:pt x="1287" y="2762"/>
                </a:lnTo>
                <a:lnTo>
                  <a:pt x="1299" y="2768"/>
                </a:lnTo>
                <a:lnTo>
                  <a:pt x="1314" y="2772"/>
                </a:lnTo>
                <a:lnTo>
                  <a:pt x="1329" y="2776"/>
                </a:lnTo>
                <a:lnTo>
                  <a:pt x="1345" y="2780"/>
                </a:lnTo>
                <a:lnTo>
                  <a:pt x="1359" y="2786"/>
                </a:lnTo>
                <a:lnTo>
                  <a:pt x="1375" y="2790"/>
                </a:lnTo>
                <a:lnTo>
                  <a:pt x="1390" y="2795"/>
                </a:lnTo>
                <a:lnTo>
                  <a:pt x="1406" y="2799"/>
                </a:lnTo>
                <a:lnTo>
                  <a:pt x="1421" y="2803"/>
                </a:lnTo>
                <a:lnTo>
                  <a:pt x="1436" y="2807"/>
                </a:lnTo>
                <a:lnTo>
                  <a:pt x="1449" y="2811"/>
                </a:lnTo>
                <a:lnTo>
                  <a:pt x="1464" y="2813"/>
                </a:lnTo>
                <a:lnTo>
                  <a:pt x="1476" y="2817"/>
                </a:lnTo>
                <a:lnTo>
                  <a:pt x="1490" y="2821"/>
                </a:lnTo>
                <a:lnTo>
                  <a:pt x="1505" y="2824"/>
                </a:lnTo>
                <a:lnTo>
                  <a:pt x="1522" y="2828"/>
                </a:lnTo>
                <a:lnTo>
                  <a:pt x="1538" y="2832"/>
                </a:lnTo>
                <a:lnTo>
                  <a:pt x="1555" y="2835"/>
                </a:lnTo>
                <a:lnTo>
                  <a:pt x="1572" y="2839"/>
                </a:lnTo>
                <a:lnTo>
                  <a:pt x="1590" y="2841"/>
                </a:lnTo>
                <a:lnTo>
                  <a:pt x="1607" y="2844"/>
                </a:lnTo>
                <a:lnTo>
                  <a:pt x="1624" y="2848"/>
                </a:lnTo>
                <a:lnTo>
                  <a:pt x="1640" y="2852"/>
                </a:lnTo>
                <a:lnTo>
                  <a:pt x="1657" y="2853"/>
                </a:lnTo>
                <a:lnTo>
                  <a:pt x="1671" y="2856"/>
                </a:lnTo>
                <a:lnTo>
                  <a:pt x="1686" y="2858"/>
                </a:lnTo>
                <a:lnTo>
                  <a:pt x="1698" y="2860"/>
                </a:lnTo>
                <a:lnTo>
                  <a:pt x="1711" y="2860"/>
                </a:lnTo>
                <a:lnTo>
                  <a:pt x="1721" y="2862"/>
                </a:lnTo>
                <a:lnTo>
                  <a:pt x="1734" y="2864"/>
                </a:lnTo>
                <a:lnTo>
                  <a:pt x="1748" y="2866"/>
                </a:lnTo>
                <a:lnTo>
                  <a:pt x="1763" y="2866"/>
                </a:lnTo>
                <a:lnTo>
                  <a:pt x="1779" y="2868"/>
                </a:lnTo>
                <a:lnTo>
                  <a:pt x="1796" y="2870"/>
                </a:lnTo>
                <a:lnTo>
                  <a:pt x="1813" y="2871"/>
                </a:lnTo>
                <a:lnTo>
                  <a:pt x="1832" y="2871"/>
                </a:lnTo>
                <a:lnTo>
                  <a:pt x="1849" y="2873"/>
                </a:lnTo>
                <a:lnTo>
                  <a:pt x="1867" y="2875"/>
                </a:lnTo>
                <a:lnTo>
                  <a:pt x="1884" y="2877"/>
                </a:lnTo>
                <a:lnTo>
                  <a:pt x="1902" y="2877"/>
                </a:lnTo>
                <a:lnTo>
                  <a:pt x="1918" y="2879"/>
                </a:lnTo>
                <a:lnTo>
                  <a:pt x="1934" y="2879"/>
                </a:lnTo>
                <a:lnTo>
                  <a:pt x="1949" y="2880"/>
                </a:lnTo>
                <a:lnTo>
                  <a:pt x="1963" y="2880"/>
                </a:lnTo>
                <a:lnTo>
                  <a:pt x="1977" y="2882"/>
                </a:lnTo>
                <a:lnTo>
                  <a:pt x="1992" y="2882"/>
                </a:lnTo>
                <a:lnTo>
                  <a:pt x="2007" y="2883"/>
                </a:lnTo>
                <a:lnTo>
                  <a:pt x="2024" y="2883"/>
                </a:lnTo>
                <a:lnTo>
                  <a:pt x="2041" y="2884"/>
                </a:lnTo>
                <a:lnTo>
                  <a:pt x="2058" y="2884"/>
                </a:lnTo>
                <a:lnTo>
                  <a:pt x="2076" y="2884"/>
                </a:lnTo>
                <a:lnTo>
                  <a:pt x="2095" y="2884"/>
                </a:lnTo>
                <a:lnTo>
                  <a:pt x="2111" y="2886"/>
                </a:lnTo>
                <a:lnTo>
                  <a:pt x="2129" y="2886"/>
                </a:lnTo>
                <a:lnTo>
                  <a:pt x="2145" y="2886"/>
                </a:lnTo>
                <a:lnTo>
                  <a:pt x="2162" y="2886"/>
                </a:lnTo>
                <a:lnTo>
                  <a:pt x="2176" y="2886"/>
                </a:lnTo>
                <a:lnTo>
                  <a:pt x="2191" y="2886"/>
                </a:lnTo>
                <a:lnTo>
                  <a:pt x="2203" y="2886"/>
                </a:lnTo>
                <a:lnTo>
                  <a:pt x="2216" y="2886"/>
                </a:lnTo>
                <a:lnTo>
                  <a:pt x="2224" y="2886"/>
                </a:lnTo>
                <a:lnTo>
                  <a:pt x="2231" y="2886"/>
                </a:lnTo>
                <a:lnTo>
                  <a:pt x="2235" y="2886"/>
                </a:lnTo>
                <a:lnTo>
                  <a:pt x="2241" y="2886"/>
                </a:lnTo>
                <a:lnTo>
                  <a:pt x="2243" y="2886"/>
                </a:lnTo>
                <a:lnTo>
                  <a:pt x="2245" y="2886"/>
                </a:lnTo>
                <a:lnTo>
                  <a:pt x="2247" y="2886"/>
                </a:lnTo>
                <a:lnTo>
                  <a:pt x="2251" y="2886"/>
                </a:lnTo>
                <a:lnTo>
                  <a:pt x="2253" y="2886"/>
                </a:lnTo>
                <a:lnTo>
                  <a:pt x="2257" y="2886"/>
                </a:lnTo>
                <a:lnTo>
                  <a:pt x="2262" y="2886"/>
                </a:lnTo>
                <a:lnTo>
                  <a:pt x="2270" y="2886"/>
                </a:lnTo>
                <a:lnTo>
                  <a:pt x="2279" y="2886"/>
                </a:lnTo>
                <a:lnTo>
                  <a:pt x="2292" y="2886"/>
                </a:lnTo>
                <a:lnTo>
                  <a:pt x="2308" y="2886"/>
                </a:lnTo>
                <a:lnTo>
                  <a:pt x="2329" y="2886"/>
                </a:lnTo>
                <a:lnTo>
                  <a:pt x="2343" y="2870"/>
                </a:lnTo>
                <a:lnTo>
                  <a:pt x="2355" y="2848"/>
                </a:lnTo>
                <a:lnTo>
                  <a:pt x="2363" y="2823"/>
                </a:lnTo>
                <a:lnTo>
                  <a:pt x="2370" y="2793"/>
                </a:lnTo>
                <a:lnTo>
                  <a:pt x="2373" y="2761"/>
                </a:lnTo>
                <a:lnTo>
                  <a:pt x="2376" y="2727"/>
                </a:lnTo>
                <a:lnTo>
                  <a:pt x="2377" y="2691"/>
                </a:lnTo>
                <a:lnTo>
                  <a:pt x="2379" y="2654"/>
                </a:lnTo>
                <a:lnTo>
                  <a:pt x="2379" y="2619"/>
                </a:lnTo>
                <a:lnTo>
                  <a:pt x="2380" y="2582"/>
                </a:lnTo>
                <a:lnTo>
                  <a:pt x="2382" y="2548"/>
                </a:lnTo>
                <a:lnTo>
                  <a:pt x="2386" y="2516"/>
                </a:lnTo>
                <a:lnTo>
                  <a:pt x="2391" y="2487"/>
                </a:lnTo>
                <a:lnTo>
                  <a:pt x="2401" y="2461"/>
                </a:lnTo>
                <a:lnTo>
                  <a:pt x="2412" y="2440"/>
                </a:lnTo>
                <a:lnTo>
                  <a:pt x="2429" y="2422"/>
                </a:lnTo>
                <a:lnTo>
                  <a:pt x="2429" y="2422"/>
                </a:lnTo>
              </a:path>
            </a:pathLst>
          </a:custGeom>
          <a:solidFill>
            <a:srgbClr val="ffff00">
              <a:alpha val="50000"/>
            </a:srgbClr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3840" y="5925960"/>
            <a:ext cx="1832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pérdida de ut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86200" y="2133720"/>
            <a:ext cx="7056360" cy="6171840"/>
            <a:chOff x="3886200" y="2133720"/>
            <a:chExt cx="7056360" cy="6171840"/>
          </a:xfrm>
        </p:grpSpPr>
        <p:sp>
          <p:nvSpPr>
            <p:cNvPr id="191" name=""/>
            <p:cNvSpPr/>
            <p:nvPr/>
          </p:nvSpPr>
          <p:spPr>
            <a:xfrm>
              <a:off x="3886200" y="2133720"/>
              <a:ext cx="7056360" cy="6171840"/>
            </a:xfrm>
            <a:custGeom>
              <a:avLst/>
              <a:gdLst/>
              <a:ahLst/>
              <a:rect l="l" t="t" r="r" b="b"/>
              <a:pathLst>
                <a:path w="4445" h="3357">
                  <a:moveTo>
                    <a:pt x="4444" y="1646"/>
                  </a:moveTo>
                  <a:lnTo>
                    <a:pt x="4444" y="1646"/>
                  </a:lnTo>
                  <a:lnTo>
                    <a:pt x="1826" y="0"/>
                  </a:lnTo>
                  <a:lnTo>
                    <a:pt x="2131" y="822"/>
                  </a:lnTo>
                  <a:lnTo>
                    <a:pt x="0" y="822"/>
                  </a:lnTo>
                  <a:lnTo>
                    <a:pt x="0" y="2587"/>
                  </a:lnTo>
                  <a:lnTo>
                    <a:pt x="2131" y="2587"/>
                  </a:lnTo>
                  <a:lnTo>
                    <a:pt x="1826" y="3356"/>
                  </a:lnTo>
                  <a:lnTo>
                    <a:pt x="4444" y="1646"/>
                  </a:lnTo>
                  <a:lnTo>
                    <a:pt x="4444" y="1646"/>
                  </a:lnTo>
                </a:path>
              </a:pathLst>
            </a:custGeom>
            <a:gradFill rotWithShape="0">
              <a:gsLst>
                <a:gs pos="0">
                  <a:srgbClr val="ffffc2"/>
                </a:gs>
                <a:gs pos="50000">
                  <a:srgbClr val="00ffff"/>
                </a:gs>
                <a:gs pos="100000">
                  <a:srgbClr val="ffffc2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14720" y="3617640"/>
              <a:ext cx="5175360" cy="32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400" spc="-1" strike="noStrike">
                  <a:solidFill>
                    <a:srgbClr val="000080"/>
                  </a:solidFill>
                  <a:latin typeface="Times New Roman"/>
                </a:rPr>
                <a:t>Para ver porqué esto puede ocurrir , miremos el caso de una economía de intercambio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806480" y="4451400"/>
            <a:ext cx="1649520" cy="2395440"/>
          </a:xfrm>
          <a:custGeom>
            <a:avLst/>
            <a:gdLst/>
            <a:ahLst/>
            <a:rect l="l" t="t" r="r" b="b"/>
            <a:pathLst>
              <a:path w="1039" h="1509">
                <a:moveTo>
                  <a:pt x="1" y="0"/>
                </a:moveTo>
                <a:lnTo>
                  <a:pt x="0" y="12"/>
                </a:lnTo>
                <a:lnTo>
                  <a:pt x="0" y="21"/>
                </a:lnTo>
                <a:lnTo>
                  <a:pt x="0" y="29"/>
                </a:lnTo>
                <a:lnTo>
                  <a:pt x="0" y="34"/>
                </a:lnTo>
                <a:lnTo>
                  <a:pt x="0" y="38"/>
                </a:lnTo>
                <a:lnTo>
                  <a:pt x="0" y="41"/>
                </a:lnTo>
                <a:lnTo>
                  <a:pt x="0" y="44"/>
                </a:lnTo>
                <a:lnTo>
                  <a:pt x="0" y="45"/>
                </a:lnTo>
                <a:lnTo>
                  <a:pt x="0" y="47"/>
                </a:lnTo>
                <a:lnTo>
                  <a:pt x="0" y="48"/>
                </a:lnTo>
                <a:lnTo>
                  <a:pt x="0" y="50"/>
                </a:lnTo>
                <a:lnTo>
                  <a:pt x="0" y="51"/>
                </a:lnTo>
                <a:lnTo>
                  <a:pt x="0" y="54"/>
                </a:lnTo>
                <a:lnTo>
                  <a:pt x="0" y="56"/>
                </a:lnTo>
                <a:lnTo>
                  <a:pt x="0" y="61"/>
                </a:lnTo>
                <a:lnTo>
                  <a:pt x="0" y="66"/>
                </a:lnTo>
                <a:lnTo>
                  <a:pt x="0" y="74"/>
                </a:lnTo>
                <a:lnTo>
                  <a:pt x="0" y="83"/>
                </a:lnTo>
                <a:lnTo>
                  <a:pt x="0" y="94"/>
                </a:lnTo>
                <a:lnTo>
                  <a:pt x="2" y="106"/>
                </a:lnTo>
                <a:lnTo>
                  <a:pt x="3" y="120"/>
                </a:lnTo>
                <a:lnTo>
                  <a:pt x="5" y="136"/>
                </a:lnTo>
                <a:lnTo>
                  <a:pt x="7" y="152"/>
                </a:lnTo>
                <a:lnTo>
                  <a:pt x="9" y="168"/>
                </a:lnTo>
                <a:lnTo>
                  <a:pt x="10" y="187"/>
                </a:lnTo>
                <a:lnTo>
                  <a:pt x="12" y="204"/>
                </a:lnTo>
                <a:lnTo>
                  <a:pt x="14" y="223"/>
                </a:lnTo>
                <a:lnTo>
                  <a:pt x="17" y="240"/>
                </a:lnTo>
                <a:lnTo>
                  <a:pt x="19" y="259"/>
                </a:lnTo>
                <a:lnTo>
                  <a:pt x="22" y="277"/>
                </a:lnTo>
                <a:lnTo>
                  <a:pt x="24" y="295"/>
                </a:lnTo>
                <a:lnTo>
                  <a:pt x="28" y="312"/>
                </a:lnTo>
                <a:lnTo>
                  <a:pt x="30" y="330"/>
                </a:lnTo>
                <a:lnTo>
                  <a:pt x="33" y="347"/>
                </a:lnTo>
                <a:lnTo>
                  <a:pt x="37" y="366"/>
                </a:lnTo>
                <a:lnTo>
                  <a:pt x="40" y="385"/>
                </a:lnTo>
                <a:lnTo>
                  <a:pt x="44" y="406"/>
                </a:lnTo>
                <a:lnTo>
                  <a:pt x="49" y="424"/>
                </a:lnTo>
                <a:lnTo>
                  <a:pt x="52" y="444"/>
                </a:lnTo>
                <a:lnTo>
                  <a:pt x="58" y="462"/>
                </a:lnTo>
                <a:lnTo>
                  <a:pt x="62" y="482"/>
                </a:lnTo>
                <a:lnTo>
                  <a:pt x="66" y="500"/>
                </a:lnTo>
                <a:lnTo>
                  <a:pt x="70" y="518"/>
                </a:lnTo>
                <a:lnTo>
                  <a:pt x="76" y="533"/>
                </a:lnTo>
                <a:lnTo>
                  <a:pt x="79" y="549"/>
                </a:lnTo>
                <a:lnTo>
                  <a:pt x="83" y="561"/>
                </a:lnTo>
                <a:lnTo>
                  <a:pt x="87" y="573"/>
                </a:lnTo>
                <a:lnTo>
                  <a:pt x="92" y="582"/>
                </a:lnTo>
                <a:lnTo>
                  <a:pt x="94" y="592"/>
                </a:lnTo>
                <a:lnTo>
                  <a:pt x="98" y="602"/>
                </a:lnTo>
                <a:lnTo>
                  <a:pt x="102" y="615"/>
                </a:lnTo>
                <a:lnTo>
                  <a:pt x="108" y="627"/>
                </a:lnTo>
                <a:lnTo>
                  <a:pt x="113" y="641"/>
                </a:lnTo>
                <a:lnTo>
                  <a:pt x="118" y="654"/>
                </a:lnTo>
                <a:lnTo>
                  <a:pt x="124" y="669"/>
                </a:lnTo>
                <a:lnTo>
                  <a:pt x="131" y="683"/>
                </a:lnTo>
                <a:lnTo>
                  <a:pt x="137" y="698"/>
                </a:lnTo>
                <a:lnTo>
                  <a:pt x="143" y="713"/>
                </a:lnTo>
                <a:lnTo>
                  <a:pt x="148" y="728"/>
                </a:lnTo>
                <a:lnTo>
                  <a:pt x="156" y="743"/>
                </a:lnTo>
                <a:lnTo>
                  <a:pt x="162" y="757"/>
                </a:lnTo>
                <a:lnTo>
                  <a:pt x="167" y="770"/>
                </a:lnTo>
                <a:lnTo>
                  <a:pt x="173" y="783"/>
                </a:lnTo>
                <a:lnTo>
                  <a:pt x="178" y="794"/>
                </a:lnTo>
                <a:lnTo>
                  <a:pt x="182" y="807"/>
                </a:lnTo>
                <a:lnTo>
                  <a:pt x="188" y="819"/>
                </a:lnTo>
                <a:lnTo>
                  <a:pt x="194" y="832"/>
                </a:lnTo>
                <a:lnTo>
                  <a:pt x="199" y="846"/>
                </a:lnTo>
                <a:lnTo>
                  <a:pt x="205" y="861"/>
                </a:lnTo>
                <a:lnTo>
                  <a:pt x="211" y="874"/>
                </a:lnTo>
                <a:lnTo>
                  <a:pt x="216" y="889"/>
                </a:lnTo>
                <a:lnTo>
                  <a:pt x="224" y="902"/>
                </a:lnTo>
                <a:lnTo>
                  <a:pt x="230" y="918"/>
                </a:lnTo>
                <a:lnTo>
                  <a:pt x="235" y="930"/>
                </a:lnTo>
                <a:lnTo>
                  <a:pt x="241" y="944"/>
                </a:lnTo>
                <a:lnTo>
                  <a:pt x="246" y="956"/>
                </a:lnTo>
                <a:lnTo>
                  <a:pt x="251" y="967"/>
                </a:lnTo>
                <a:lnTo>
                  <a:pt x="256" y="978"/>
                </a:lnTo>
                <a:lnTo>
                  <a:pt x="260" y="988"/>
                </a:lnTo>
                <a:lnTo>
                  <a:pt x="265" y="996"/>
                </a:lnTo>
                <a:lnTo>
                  <a:pt x="268" y="1004"/>
                </a:lnTo>
                <a:lnTo>
                  <a:pt x="273" y="1012"/>
                </a:lnTo>
                <a:lnTo>
                  <a:pt x="278" y="1022"/>
                </a:lnTo>
                <a:lnTo>
                  <a:pt x="284" y="1032"/>
                </a:lnTo>
                <a:lnTo>
                  <a:pt x="290" y="1043"/>
                </a:lnTo>
                <a:lnTo>
                  <a:pt x="298" y="1054"/>
                </a:lnTo>
                <a:lnTo>
                  <a:pt x="305" y="1065"/>
                </a:lnTo>
                <a:lnTo>
                  <a:pt x="313" y="1075"/>
                </a:lnTo>
                <a:lnTo>
                  <a:pt x="321" y="1086"/>
                </a:lnTo>
                <a:lnTo>
                  <a:pt x="328" y="1097"/>
                </a:lnTo>
                <a:lnTo>
                  <a:pt x="336" y="1108"/>
                </a:lnTo>
                <a:lnTo>
                  <a:pt x="344" y="1118"/>
                </a:lnTo>
                <a:lnTo>
                  <a:pt x="352" y="1129"/>
                </a:lnTo>
                <a:lnTo>
                  <a:pt x="360" y="1138"/>
                </a:lnTo>
                <a:lnTo>
                  <a:pt x="367" y="1147"/>
                </a:lnTo>
                <a:lnTo>
                  <a:pt x="374" y="1154"/>
                </a:lnTo>
                <a:lnTo>
                  <a:pt x="381" y="1164"/>
                </a:lnTo>
                <a:lnTo>
                  <a:pt x="388" y="1172"/>
                </a:lnTo>
                <a:lnTo>
                  <a:pt x="397" y="1181"/>
                </a:lnTo>
                <a:lnTo>
                  <a:pt x="406" y="1190"/>
                </a:lnTo>
                <a:lnTo>
                  <a:pt x="416" y="1201"/>
                </a:lnTo>
                <a:lnTo>
                  <a:pt x="426" y="1210"/>
                </a:lnTo>
                <a:lnTo>
                  <a:pt x="435" y="1220"/>
                </a:lnTo>
                <a:lnTo>
                  <a:pt x="446" y="1229"/>
                </a:lnTo>
                <a:lnTo>
                  <a:pt x="456" y="1239"/>
                </a:lnTo>
                <a:lnTo>
                  <a:pt x="466" y="1248"/>
                </a:lnTo>
                <a:lnTo>
                  <a:pt x="476" y="1258"/>
                </a:lnTo>
                <a:lnTo>
                  <a:pt x="486" y="1266"/>
                </a:lnTo>
                <a:lnTo>
                  <a:pt x="494" y="1274"/>
                </a:lnTo>
                <a:lnTo>
                  <a:pt x="504" y="1281"/>
                </a:lnTo>
                <a:lnTo>
                  <a:pt x="511" y="1288"/>
                </a:lnTo>
                <a:lnTo>
                  <a:pt x="520" y="1292"/>
                </a:lnTo>
                <a:lnTo>
                  <a:pt x="527" y="1298"/>
                </a:lnTo>
                <a:lnTo>
                  <a:pt x="534" y="1304"/>
                </a:lnTo>
                <a:lnTo>
                  <a:pt x="542" y="1309"/>
                </a:lnTo>
                <a:lnTo>
                  <a:pt x="549" y="1314"/>
                </a:lnTo>
                <a:lnTo>
                  <a:pt x="556" y="1320"/>
                </a:lnTo>
                <a:lnTo>
                  <a:pt x="564" y="1326"/>
                </a:lnTo>
                <a:lnTo>
                  <a:pt x="572" y="1331"/>
                </a:lnTo>
                <a:lnTo>
                  <a:pt x="580" y="1336"/>
                </a:lnTo>
                <a:lnTo>
                  <a:pt x="585" y="1341"/>
                </a:lnTo>
                <a:lnTo>
                  <a:pt x="593" y="1346"/>
                </a:lnTo>
                <a:lnTo>
                  <a:pt x="598" y="1350"/>
                </a:lnTo>
                <a:lnTo>
                  <a:pt x="605" y="1354"/>
                </a:lnTo>
                <a:lnTo>
                  <a:pt x="610" y="1357"/>
                </a:lnTo>
                <a:lnTo>
                  <a:pt x="616" y="1360"/>
                </a:lnTo>
                <a:lnTo>
                  <a:pt x="620" y="1363"/>
                </a:lnTo>
                <a:lnTo>
                  <a:pt x="623" y="1364"/>
                </a:lnTo>
                <a:lnTo>
                  <a:pt x="625" y="1367"/>
                </a:lnTo>
                <a:lnTo>
                  <a:pt x="629" y="1368"/>
                </a:lnTo>
                <a:lnTo>
                  <a:pt x="633" y="1371"/>
                </a:lnTo>
                <a:lnTo>
                  <a:pt x="638" y="1373"/>
                </a:lnTo>
                <a:lnTo>
                  <a:pt x="642" y="1377"/>
                </a:lnTo>
                <a:lnTo>
                  <a:pt x="648" y="1378"/>
                </a:lnTo>
                <a:lnTo>
                  <a:pt x="653" y="1382"/>
                </a:lnTo>
                <a:lnTo>
                  <a:pt x="660" y="1384"/>
                </a:lnTo>
                <a:lnTo>
                  <a:pt x="665" y="1387"/>
                </a:lnTo>
                <a:lnTo>
                  <a:pt x="671" y="1390"/>
                </a:lnTo>
                <a:lnTo>
                  <a:pt x="676" y="1394"/>
                </a:lnTo>
                <a:lnTo>
                  <a:pt x="684" y="1396"/>
                </a:lnTo>
                <a:lnTo>
                  <a:pt x="690" y="1400"/>
                </a:lnTo>
                <a:lnTo>
                  <a:pt x="696" y="1402"/>
                </a:lnTo>
                <a:lnTo>
                  <a:pt x="702" y="1405"/>
                </a:lnTo>
                <a:lnTo>
                  <a:pt x="710" y="1407"/>
                </a:lnTo>
                <a:lnTo>
                  <a:pt x="715" y="1410"/>
                </a:lnTo>
                <a:lnTo>
                  <a:pt x="722" y="1413"/>
                </a:lnTo>
                <a:lnTo>
                  <a:pt x="730" y="1417"/>
                </a:lnTo>
                <a:lnTo>
                  <a:pt x="739" y="1419"/>
                </a:lnTo>
                <a:lnTo>
                  <a:pt x="748" y="1423"/>
                </a:lnTo>
                <a:lnTo>
                  <a:pt x="758" y="1427"/>
                </a:lnTo>
                <a:lnTo>
                  <a:pt x="769" y="1430"/>
                </a:lnTo>
                <a:lnTo>
                  <a:pt x="780" y="1434"/>
                </a:lnTo>
                <a:lnTo>
                  <a:pt x="789" y="1438"/>
                </a:lnTo>
                <a:lnTo>
                  <a:pt x="800" y="1442"/>
                </a:lnTo>
                <a:lnTo>
                  <a:pt x="811" y="1445"/>
                </a:lnTo>
                <a:lnTo>
                  <a:pt x="822" y="1449"/>
                </a:lnTo>
                <a:lnTo>
                  <a:pt x="832" y="1453"/>
                </a:lnTo>
                <a:lnTo>
                  <a:pt x="843" y="1456"/>
                </a:lnTo>
                <a:lnTo>
                  <a:pt x="852" y="1460"/>
                </a:lnTo>
                <a:lnTo>
                  <a:pt x="862" y="1462"/>
                </a:lnTo>
                <a:lnTo>
                  <a:pt x="871" y="1465"/>
                </a:lnTo>
                <a:lnTo>
                  <a:pt x="881" y="1468"/>
                </a:lnTo>
                <a:lnTo>
                  <a:pt x="892" y="1472"/>
                </a:lnTo>
                <a:lnTo>
                  <a:pt x="903" y="1474"/>
                </a:lnTo>
                <a:lnTo>
                  <a:pt x="914" y="1478"/>
                </a:lnTo>
                <a:lnTo>
                  <a:pt x="927" y="1482"/>
                </a:lnTo>
                <a:lnTo>
                  <a:pt x="938" y="1485"/>
                </a:lnTo>
                <a:lnTo>
                  <a:pt x="952" y="1487"/>
                </a:lnTo>
                <a:lnTo>
                  <a:pt x="963" y="1491"/>
                </a:lnTo>
                <a:lnTo>
                  <a:pt x="975" y="1494"/>
                </a:lnTo>
                <a:lnTo>
                  <a:pt x="986" y="1498"/>
                </a:lnTo>
                <a:lnTo>
                  <a:pt x="999" y="1500"/>
                </a:lnTo>
                <a:lnTo>
                  <a:pt x="1009" y="1503"/>
                </a:lnTo>
                <a:lnTo>
                  <a:pt x="1020" y="1505"/>
                </a:lnTo>
                <a:lnTo>
                  <a:pt x="1029" y="1506"/>
                </a:lnTo>
                <a:lnTo>
                  <a:pt x="1038" y="1508"/>
                </a:lnTo>
              </a:path>
            </a:pathLst>
          </a:custGeom>
          <a:noFill/>
          <a:ln w="4752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71720" y="4759200"/>
            <a:ext cx="1087560" cy="1909800"/>
          </a:xfrm>
          <a:custGeom>
            <a:avLst/>
            <a:gdLst/>
            <a:ahLst/>
            <a:rect l="l" t="t" r="r" b="b"/>
            <a:pathLst>
              <a:path w="685" h="1203">
                <a:moveTo>
                  <a:pt x="684" y="1202"/>
                </a:moveTo>
                <a:lnTo>
                  <a:pt x="682" y="1193"/>
                </a:lnTo>
                <a:lnTo>
                  <a:pt x="682" y="1185"/>
                </a:lnTo>
                <a:lnTo>
                  <a:pt x="681" y="1179"/>
                </a:lnTo>
                <a:lnTo>
                  <a:pt x="681" y="1173"/>
                </a:lnTo>
                <a:lnTo>
                  <a:pt x="680" y="1171"/>
                </a:lnTo>
                <a:lnTo>
                  <a:pt x="680" y="1167"/>
                </a:lnTo>
                <a:lnTo>
                  <a:pt x="680" y="1165"/>
                </a:lnTo>
                <a:lnTo>
                  <a:pt x="680" y="1163"/>
                </a:lnTo>
                <a:lnTo>
                  <a:pt x="680" y="1163"/>
                </a:lnTo>
                <a:lnTo>
                  <a:pt x="680" y="1161"/>
                </a:lnTo>
                <a:lnTo>
                  <a:pt x="680" y="1160"/>
                </a:lnTo>
                <a:lnTo>
                  <a:pt x="680" y="1158"/>
                </a:lnTo>
                <a:lnTo>
                  <a:pt x="680" y="1156"/>
                </a:lnTo>
                <a:lnTo>
                  <a:pt x="680" y="1153"/>
                </a:lnTo>
                <a:lnTo>
                  <a:pt x="680" y="1150"/>
                </a:lnTo>
                <a:lnTo>
                  <a:pt x="680" y="1144"/>
                </a:lnTo>
                <a:lnTo>
                  <a:pt x="678" y="1139"/>
                </a:lnTo>
                <a:lnTo>
                  <a:pt x="678" y="1131"/>
                </a:lnTo>
                <a:lnTo>
                  <a:pt x="676" y="1122"/>
                </a:lnTo>
                <a:lnTo>
                  <a:pt x="676" y="1110"/>
                </a:lnTo>
                <a:lnTo>
                  <a:pt x="674" y="1099"/>
                </a:lnTo>
                <a:lnTo>
                  <a:pt x="672" y="1086"/>
                </a:lnTo>
                <a:lnTo>
                  <a:pt x="670" y="1073"/>
                </a:lnTo>
                <a:lnTo>
                  <a:pt x="670" y="1058"/>
                </a:lnTo>
                <a:lnTo>
                  <a:pt x="667" y="1044"/>
                </a:lnTo>
                <a:lnTo>
                  <a:pt x="665" y="1028"/>
                </a:lnTo>
                <a:lnTo>
                  <a:pt x="664" y="1014"/>
                </a:lnTo>
                <a:lnTo>
                  <a:pt x="662" y="997"/>
                </a:lnTo>
                <a:lnTo>
                  <a:pt x="660" y="982"/>
                </a:lnTo>
                <a:lnTo>
                  <a:pt x="658" y="966"/>
                </a:lnTo>
                <a:lnTo>
                  <a:pt x="656" y="951"/>
                </a:lnTo>
                <a:lnTo>
                  <a:pt x="654" y="936"/>
                </a:lnTo>
                <a:lnTo>
                  <a:pt x="650" y="922"/>
                </a:lnTo>
                <a:lnTo>
                  <a:pt x="648" y="907"/>
                </a:lnTo>
                <a:lnTo>
                  <a:pt x="646" y="891"/>
                </a:lnTo>
                <a:lnTo>
                  <a:pt x="644" y="874"/>
                </a:lnTo>
                <a:lnTo>
                  <a:pt x="640" y="859"/>
                </a:lnTo>
                <a:lnTo>
                  <a:pt x="638" y="842"/>
                </a:lnTo>
                <a:lnTo>
                  <a:pt x="635" y="826"/>
                </a:lnTo>
                <a:lnTo>
                  <a:pt x="633" y="809"/>
                </a:lnTo>
                <a:lnTo>
                  <a:pt x="629" y="794"/>
                </a:lnTo>
                <a:lnTo>
                  <a:pt x="627" y="779"/>
                </a:lnTo>
                <a:lnTo>
                  <a:pt x="624" y="765"/>
                </a:lnTo>
                <a:lnTo>
                  <a:pt x="622" y="751"/>
                </a:lnTo>
                <a:lnTo>
                  <a:pt x="618" y="740"/>
                </a:lnTo>
                <a:lnTo>
                  <a:pt x="617" y="728"/>
                </a:lnTo>
                <a:lnTo>
                  <a:pt x="615" y="718"/>
                </a:lnTo>
                <a:lnTo>
                  <a:pt x="613" y="710"/>
                </a:lnTo>
                <a:lnTo>
                  <a:pt x="610" y="703"/>
                </a:lnTo>
                <a:lnTo>
                  <a:pt x="608" y="695"/>
                </a:lnTo>
                <a:lnTo>
                  <a:pt x="605" y="685"/>
                </a:lnTo>
                <a:lnTo>
                  <a:pt x="603" y="675"/>
                </a:lnTo>
                <a:lnTo>
                  <a:pt x="599" y="664"/>
                </a:lnTo>
                <a:lnTo>
                  <a:pt x="596" y="652"/>
                </a:lnTo>
                <a:lnTo>
                  <a:pt x="592" y="641"/>
                </a:lnTo>
                <a:lnTo>
                  <a:pt x="590" y="628"/>
                </a:lnTo>
                <a:lnTo>
                  <a:pt x="587" y="617"/>
                </a:lnTo>
                <a:lnTo>
                  <a:pt x="583" y="604"/>
                </a:lnTo>
                <a:lnTo>
                  <a:pt x="579" y="592"/>
                </a:lnTo>
                <a:lnTo>
                  <a:pt x="577" y="579"/>
                </a:lnTo>
                <a:lnTo>
                  <a:pt x="573" y="568"/>
                </a:lnTo>
                <a:lnTo>
                  <a:pt x="570" y="556"/>
                </a:lnTo>
                <a:lnTo>
                  <a:pt x="568" y="546"/>
                </a:lnTo>
                <a:lnTo>
                  <a:pt x="566" y="536"/>
                </a:lnTo>
                <a:lnTo>
                  <a:pt x="562" y="526"/>
                </a:lnTo>
                <a:lnTo>
                  <a:pt x="559" y="516"/>
                </a:lnTo>
                <a:lnTo>
                  <a:pt x="556" y="505"/>
                </a:lnTo>
                <a:lnTo>
                  <a:pt x="554" y="494"/>
                </a:lnTo>
                <a:lnTo>
                  <a:pt x="550" y="482"/>
                </a:lnTo>
                <a:lnTo>
                  <a:pt x="547" y="471"/>
                </a:lnTo>
                <a:lnTo>
                  <a:pt x="543" y="460"/>
                </a:lnTo>
                <a:lnTo>
                  <a:pt x="541" y="447"/>
                </a:lnTo>
                <a:lnTo>
                  <a:pt x="538" y="437"/>
                </a:lnTo>
                <a:lnTo>
                  <a:pt x="534" y="426"/>
                </a:lnTo>
                <a:lnTo>
                  <a:pt x="530" y="416"/>
                </a:lnTo>
                <a:lnTo>
                  <a:pt x="529" y="404"/>
                </a:lnTo>
                <a:lnTo>
                  <a:pt x="525" y="396"/>
                </a:lnTo>
                <a:lnTo>
                  <a:pt x="523" y="387"/>
                </a:lnTo>
                <a:lnTo>
                  <a:pt x="521" y="380"/>
                </a:lnTo>
                <a:lnTo>
                  <a:pt x="519" y="372"/>
                </a:lnTo>
                <a:lnTo>
                  <a:pt x="516" y="366"/>
                </a:lnTo>
                <a:lnTo>
                  <a:pt x="514" y="359"/>
                </a:lnTo>
                <a:lnTo>
                  <a:pt x="511" y="352"/>
                </a:lnTo>
                <a:lnTo>
                  <a:pt x="509" y="344"/>
                </a:lnTo>
                <a:lnTo>
                  <a:pt x="505" y="336"/>
                </a:lnTo>
                <a:lnTo>
                  <a:pt x="501" y="326"/>
                </a:lnTo>
                <a:lnTo>
                  <a:pt x="498" y="318"/>
                </a:lnTo>
                <a:lnTo>
                  <a:pt x="495" y="308"/>
                </a:lnTo>
                <a:lnTo>
                  <a:pt x="491" y="301"/>
                </a:lnTo>
                <a:lnTo>
                  <a:pt x="487" y="292"/>
                </a:lnTo>
                <a:lnTo>
                  <a:pt x="483" y="284"/>
                </a:lnTo>
                <a:lnTo>
                  <a:pt x="480" y="274"/>
                </a:lnTo>
                <a:lnTo>
                  <a:pt x="476" y="267"/>
                </a:lnTo>
                <a:lnTo>
                  <a:pt x="472" y="258"/>
                </a:lnTo>
                <a:lnTo>
                  <a:pt x="468" y="252"/>
                </a:lnTo>
                <a:lnTo>
                  <a:pt x="466" y="245"/>
                </a:lnTo>
                <a:lnTo>
                  <a:pt x="462" y="239"/>
                </a:lnTo>
                <a:lnTo>
                  <a:pt x="459" y="233"/>
                </a:lnTo>
                <a:lnTo>
                  <a:pt x="455" y="227"/>
                </a:lnTo>
                <a:lnTo>
                  <a:pt x="451" y="219"/>
                </a:lnTo>
                <a:lnTo>
                  <a:pt x="446" y="212"/>
                </a:lnTo>
                <a:lnTo>
                  <a:pt x="442" y="204"/>
                </a:lnTo>
                <a:lnTo>
                  <a:pt x="437" y="197"/>
                </a:lnTo>
                <a:lnTo>
                  <a:pt x="433" y="189"/>
                </a:lnTo>
                <a:lnTo>
                  <a:pt x="428" y="184"/>
                </a:lnTo>
                <a:lnTo>
                  <a:pt x="424" y="176"/>
                </a:lnTo>
                <a:lnTo>
                  <a:pt x="418" y="170"/>
                </a:lnTo>
                <a:lnTo>
                  <a:pt x="414" y="162"/>
                </a:lnTo>
                <a:lnTo>
                  <a:pt x="410" y="157"/>
                </a:lnTo>
                <a:lnTo>
                  <a:pt x="406" y="151"/>
                </a:lnTo>
                <a:lnTo>
                  <a:pt x="403" y="147"/>
                </a:lnTo>
                <a:lnTo>
                  <a:pt x="400" y="142"/>
                </a:lnTo>
                <a:lnTo>
                  <a:pt x="396" y="138"/>
                </a:lnTo>
                <a:lnTo>
                  <a:pt x="393" y="134"/>
                </a:lnTo>
                <a:lnTo>
                  <a:pt x="389" y="131"/>
                </a:lnTo>
                <a:lnTo>
                  <a:pt x="386" y="127"/>
                </a:lnTo>
                <a:lnTo>
                  <a:pt x="383" y="123"/>
                </a:lnTo>
                <a:lnTo>
                  <a:pt x="379" y="120"/>
                </a:lnTo>
                <a:lnTo>
                  <a:pt x="375" y="116"/>
                </a:lnTo>
                <a:lnTo>
                  <a:pt x="373" y="112"/>
                </a:lnTo>
                <a:lnTo>
                  <a:pt x="370" y="110"/>
                </a:lnTo>
                <a:lnTo>
                  <a:pt x="367" y="106"/>
                </a:lnTo>
                <a:lnTo>
                  <a:pt x="364" y="103"/>
                </a:lnTo>
                <a:lnTo>
                  <a:pt x="362" y="100"/>
                </a:lnTo>
                <a:lnTo>
                  <a:pt x="360" y="98"/>
                </a:lnTo>
                <a:lnTo>
                  <a:pt x="358" y="95"/>
                </a:lnTo>
                <a:lnTo>
                  <a:pt x="356" y="93"/>
                </a:lnTo>
                <a:lnTo>
                  <a:pt x="355" y="91"/>
                </a:lnTo>
                <a:lnTo>
                  <a:pt x="353" y="91"/>
                </a:lnTo>
                <a:lnTo>
                  <a:pt x="352" y="89"/>
                </a:lnTo>
                <a:lnTo>
                  <a:pt x="350" y="88"/>
                </a:lnTo>
                <a:lnTo>
                  <a:pt x="348" y="86"/>
                </a:lnTo>
                <a:lnTo>
                  <a:pt x="345" y="84"/>
                </a:lnTo>
                <a:lnTo>
                  <a:pt x="343" y="82"/>
                </a:lnTo>
                <a:lnTo>
                  <a:pt x="341" y="81"/>
                </a:lnTo>
                <a:lnTo>
                  <a:pt x="339" y="79"/>
                </a:lnTo>
                <a:lnTo>
                  <a:pt x="335" y="77"/>
                </a:lnTo>
                <a:lnTo>
                  <a:pt x="334" y="75"/>
                </a:lnTo>
                <a:lnTo>
                  <a:pt x="330" y="73"/>
                </a:lnTo>
                <a:lnTo>
                  <a:pt x="328" y="71"/>
                </a:lnTo>
                <a:lnTo>
                  <a:pt x="324" y="70"/>
                </a:lnTo>
                <a:lnTo>
                  <a:pt x="322" y="68"/>
                </a:lnTo>
                <a:lnTo>
                  <a:pt x="320" y="66"/>
                </a:lnTo>
                <a:lnTo>
                  <a:pt x="318" y="64"/>
                </a:lnTo>
                <a:lnTo>
                  <a:pt x="314" y="63"/>
                </a:lnTo>
                <a:lnTo>
                  <a:pt x="312" y="61"/>
                </a:lnTo>
                <a:lnTo>
                  <a:pt x="308" y="60"/>
                </a:lnTo>
                <a:lnTo>
                  <a:pt x="305" y="58"/>
                </a:lnTo>
                <a:lnTo>
                  <a:pt x="300" y="56"/>
                </a:lnTo>
                <a:lnTo>
                  <a:pt x="296" y="54"/>
                </a:lnTo>
                <a:lnTo>
                  <a:pt x="292" y="52"/>
                </a:lnTo>
                <a:lnTo>
                  <a:pt x="288" y="50"/>
                </a:lnTo>
                <a:lnTo>
                  <a:pt x="283" y="48"/>
                </a:lnTo>
                <a:lnTo>
                  <a:pt x="279" y="46"/>
                </a:lnTo>
                <a:lnTo>
                  <a:pt x="274" y="44"/>
                </a:lnTo>
                <a:lnTo>
                  <a:pt x="270" y="42"/>
                </a:lnTo>
                <a:lnTo>
                  <a:pt x="265" y="40"/>
                </a:lnTo>
                <a:lnTo>
                  <a:pt x="261" y="38"/>
                </a:lnTo>
                <a:lnTo>
                  <a:pt x="257" y="36"/>
                </a:lnTo>
                <a:lnTo>
                  <a:pt x="254" y="33"/>
                </a:lnTo>
                <a:lnTo>
                  <a:pt x="248" y="33"/>
                </a:lnTo>
                <a:lnTo>
                  <a:pt x="245" y="32"/>
                </a:lnTo>
                <a:lnTo>
                  <a:pt x="240" y="30"/>
                </a:lnTo>
                <a:lnTo>
                  <a:pt x="236" y="28"/>
                </a:lnTo>
                <a:lnTo>
                  <a:pt x="230" y="28"/>
                </a:lnTo>
                <a:lnTo>
                  <a:pt x="226" y="26"/>
                </a:lnTo>
                <a:lnTo>
                  <a:pt x="220" y="24"/>
                </a:lnTo>
                <a:lnTo>
                  <a:pt x="216" y="22"/>
                </a:lnTo>
                <a:lnTo>
                  <a:pt x="210" y="22"/>
                </a:lnTo>
                <a:lnTo>
                  <a:pt x="206" y="20"/>
                </a:lnTo>
                <a:lnTo>
                  <a:pt x="200" y="19"/>
                </a:lnTo>
                <a:lnTo>
                  <a:pt x="196" y="17"/>
                </a:lnTo>
                <a:lnTo>
                  <a:pt x="191" y="17"/>
                </a:lnTo>
                <a:lnTo>
                  <a:pt x="187" y="15"/>
                </a:lnTo>
                <a:lnTo>
                  <a:pt x="184" y="14"/>
                </a:lnTo>
                <a:lnTo>
                  <a:pt x="180" y="13"/>
                </a:lnTo>
                <a:lnTo>
                  <a:pt x="176" y="13"/>
                </a:lnTo>
                <a:lnTo>
                  <a:pt x="172" y="13"/>
                </a:lnTo>
                <a:lnTo>
                  <a:pt x="168" y="13"/>
                </a:lnTo>
                <a:lnTo>
                  <a:pt x="164" y="11"/>
                </a:lnTo>
                <a:lnTo>
                  <a:pt x="159" y="11"/>
                </a:lnTo>
                <a:lnTo>
                  <a:pt x="154" y="10"/>
                </a:lnTo>
                <a:lnTo>
                  <a:pt x="149" y="10"/>
                </a:lnTo>
                <a:lnTo>
                  <a:pt x="145" y="8"/>
                </a:lnTo>
                <a:lnTo>
                  <a:pt x="139" y="8"/>
                </a:lnTo>
                <a:lnTo>
                  <a:pt x="134" y="8"/>
                </a:lnTo>
                <a:lnTo>
                  <a:pt x="128" y="8"/>
                </a:lnTo>
                <a:lnTo>
                  <a:pt x="124" y="6"/>
                </a:lnTo>
                <a:lnTo>
                  <a:pt x="118" y="6"/>
                </a:lnTo>
                <a:lnTo>
                  <a:pt x="114" y="5"/>
                </a:lnTo>
                <a:lnTo>
                  <a:pt x="110" y="5"/>
                </a:lnTo>
                <a:lnTo>
                  <a:pt x="106" y="3"/>
                </a:lnTo>
                <a:lnTo>
                  <a:pt x="101" y="3"/>
                </a:lnTo>
                <a:lnTo>
                  <a:pt x="98" y="3"/>
                </a:lnTo>
                <a:lnTo>
                  <a:pt x="92" y="3"/>
                </a:lnTo>
                <a:lnTo>
                  <a:pt x="88" y="3"/>
                </a:lnTo>
                <a:lnTo>
                  <a:pt x="82" y="3"/>
                </a:lnTo>
                <a:lnTo>
                  <a:pt x="77" y="3"/>
                </a:lnTo>
                <a:lnTo>
                  <a:pt x="71" y="3"/>
                </a:lnTo>
                <a:lnTo>
                  <a:pt x="68" y="2"/>
                </a:lnTo>
                <a:lnTo>
                  <a:pt x="62" y="2"/>
                </a:lnTo>
                <a:lnTo>
                  <a:pt x="57" y="2"/>
                </a:lnTo>
                <a:lnTo>
                  <a:pt x="51" y="2"/>
                </a:lnTo>
                <a:lnTo>
                  <a:pt x="48" y="1"/>
                </a:lnTo>
                <a:lnTo>
                  <a:pt x="42" y="1"/>
                </a:lnTo>
                <a:lnTo>
                  <a:pt x="38" y="1"/>
                </a:lnTo>
                <a:lnTo>
                  <a:pt x="34" y="1"/>
                </a:lnTo>
                <a:lnTo>
                  <a:pt x="32" y="0"/>
                </a:lnTo>
                <a:lnTo>
                  <a:pt x="28" y="0"/>
                </a:lnTo>
                <a:lnTo>
                  <a:pt x="26" y="0"/>
                </a:lnTo>
                <a:lnTo>
                  <a:pt x="24" y="0"/>
                </a:lnTo>
                <a:lnTo>
                  <a:pt x="24" y="0"/>
                </a:lnTo>
                <a:lnTo>
                  <a:pt x="23" y="0"/>
                </a:lnTo>
                <a:lnTo>
                  <a:pt x="23" y="0"/>
                </a:lnTo>
                <a:lnTo>
                  <a:pt x="22" y="0"/>
                </a:lnTo>
                <a:lnTo>
                  <a:pt x="22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2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5960" y="2441520"/>
            <a:ext cx="2565360" cy="4297320"/>
          </a:xfrm>
          <a:custGeom>
            <a:avLst/>
            <a:gdLst/>
            <a:ahLst/>
            <a:rect l="l" t="t" r="r" b="b"/>
            <a:pathLst>
              <a:path w="1616" h="2707">
                <a:moveTo>
                  <a:pt x="0" y="0"/>
                </a:moveTo>
                <a:lnTo>
                  <a:pt x="1" y="22"/>
                </a:lnTo>
                <a:lnTo>
                  <a:pt x="3" y="41"/>
                </a:lnTo>
                <a:lnTo>
                  <a:pt x="3" y="56"/>
                </a:lnTo>
                <a:lnTo>
                  <a:pt x="5" y="66"/>
                </a:lnTo>
                <a:lnTo>
                  <a:pt x="5" y="76"/>
                </a:lnTo>
                <a:lnTo>
                  <a:pt x="6" y="82"/>
                </a:lnTo>
                <a:lnTo>
                  <a:pt x="6" y="86"/>
                </a:lnTo>
                <a:lnTo>
                  <a:pt x="8" y="89"/>
                </a:lnTo>
                <a:lnTo>
                  <a:pt x="8" y="93"/>
                </a:lnTo>
                <a:lnTo>
                  <a:pt x="8" y="96"/>
                </a:lnTo>
                <a:lnTo>
                  <a:pt x="8" y="99"/>
                </a:lnTo>
                <a:lnTo>
                  <a:pt x="8" y="101"/>
                </a:lnTo>
                <a:lnTo>
                  <a:pt x="8" y="106"/>
                </a:lnTo>
                <a:lnTo>
                  <a:pt x="9" y="112"/>
                </a:lnTo>
                <a:lnTo>
                  <a:pt x="10" y="120"/>
                </a:lnTo>
                <a:lnTo>
                  <a:pt x="12" y="130"/>
                </a:lnTo>
                <a:lnTo>
                  <a:pt x="13" y="146"/>
                </a:lnTo>
                <a:lnTo>
                  <a:pt x="15" y="163"/>
                </a:lnTo>
                <a:lnTo>
                  <a:pt x="18" y="185"/>
                </a:lnTo>
                <a:lnTo>
                  <a:pt x="22" y="208"/>
                </a:lnTo>
                <a:lnTo>
                  <a:pt x="26" y="235"/>
                </a:lnTo>
                <a:lnTo>
                  <a:pt x="31" y="265"/>
                </a:lnTo>
                <a:lnTo>
                  <a:pt x="37" y="296"/>
                </a:lnTo>
                <a:lnTo>
                  <a:pt x="42" y="328"/>
                </a:lnTo>
                <a:lnTo>
                  <a:pt x="48" y="363"/>
                </a:lnTo>
                <a:lnTo>
                  <a:pt x="54" y="397"/>
                </a:lnTo>
                <a:lnTo>
                  <a:pt x="59" y="432"/>
                </a:lnTo>
                <a:lnTo>
                  <a:pt x="67" y="468"/>
                </a:lnTo>
                <a:lnTo>
                  <a:pt x="73" y="503"/>
                </a:lnTo>
                <a:lnTo>
                  <a:pt x="80" y="538"/>
                </a:lnTo>
                <a:lnTo>
                  <a:pt x="86" y="572"/>
                </a:lnTo>
                <a:lnTo>
                  <a:pt x="93" y="605"/>
                </a:lnTo>
                <a:lnTo>
                  <a:pt x="99" y="639"/>
                </a:lnTo>
                <a:lnTo>
                  <a:pt x="107" y="673"/>
                </a:lnTo>
                <a:lnTo>
                  <a:pt x="115" y="710"/>
                </a:lnTo>
                <a:lnTo>
                  <a:pt x="124" y="746"/>
                </a:lnTo>
                <a:lnTo>
                  <a:pt x="133" y="783"/>
                </a:lnTo>
                <a:lnTo>
                  <a:pt x="142" y="821"/>
                </a:lnTo>
                <a:lnTo>
                  <a:pt x="151" y="858"/>
                </a:lnTo>
                <a:lnTo>
                  <a:pt x="161" y="894"/>
                </a:lnTo>
                <a:lnTo>
                  <a:pt x="169" y="930"/>
                </a:lnTo>
                <a:lnTo>
                  <a:pt x="178" y="964"/>
                </a:lnTo>
                <a:lnTo>
                  <a:pt x="187" y="997"/>
                </a:lnTo>
                <a:lnTo>
                  <a:pt x="196" y="1027"/>
                </a:lnTo>
                <a:lnTo>
                  <a:pt x="204" y="1056"/>
                </a:lnTo>
                <a:lnTo>
                  <a:pt x="212" y="1081"/>
                </a:lnTo>
                <a:lnTo>
                  <a:pt x="219" y="1103"/>
                </a:lnTo>
                <a:lnTo>
                  <a:pt x="226" y="1121"/>
                </a:lnTo>
                <a:lnTo>
                  <a:pt x="232" y="1138"/>
                </a:lnTo>
                <a:lnTo>
                  <a:pt x="239" y="1158"/>
                </a:lnTo>
                <a:lnTo>
                  <a:pt x="246" y="1180"/>
                </a:lnTo>
                <a:lnTo>
                  <a:pt x="255" y="1203"/>
                </a:lnTo>
                <a:lnTo>
                  <a:pt x="265" y="1229"/>
                </a:lnTo>
                <a:lnTo>
                  <a:pt x="275" y="1255"/>
                </a:lnTo>
                <a:lnTo>
                  <a:pt x="285" y="1282"/>
                </a:lnTo>
                <a:lnTo>
                  <a:pt x="296" y="1309"/>
                </a:lnTo>
                <a:lnTo>
                  <a:pt x="305" y="1338"/>
                </a:lnTo>
                <a:lnTo>
                  <a:pt x="317" y="1366"/>
                </a:lnTo>
                <a:lnTo>
                  <a:pt x="327" y="1394"/>
                </a:lnTo>
                <a:lnTo>
                  <a:pt x="339" y="1421"/>
                </a:lnTo>
                <a:lnTo>
                  <a:pt x="348" y="1448"/>
                </a:lnTo>
                <a:lnTo>
                  <a:pt x="359" y="1473"/>
                </a:lnTo>
                <a:lnTo>
                  <a:pt x="368" y="1497"/>
                </a:lnTo>
                <a:lnTo>
                  <a:pt x="378" y="1518"/>
                </a:lnTo>
                <a:lnTo>
                  <a:pt x="386" y="1541"/>
                </a:lnTo>
                <a:lnTo>
                  <a:pt x="395" y="1564"/>
                </a:lnTo>
                <a:lnTo>
                  <a:pt x="405" y="1589"/>
                </a:lnTo>
                <a:lnTo>
                  <a:pt x="415" y="1614"/>
                </a:lnTo>
                <a:lnTo>
                  <a:pt x="425" y="1640"/>
                </a:lnTo>
                <a:lnTo>
                  <a:pt x="436" y="1666"/>
                </a:lnTo>
                <a:lnTo>
                  <a:pt x="446" y="1692"/>
                </a:lnTo>
                <a:lnTo>
                  <a:pt x="457" y="1718"/>
                </a:lnTo>
                <a:lnTo>
                  <a:pt x="466" y="1745"/>
                </a:lnTo>
                <a:lnTo>
                  <a:pt x="477" y="1770"/>
                </a:lnTo>
                <a:lnTo>
                  <a:pt x="486" y="1795"/>
                </a:lnTo>
                <a:lnTo>
                  <a:pt x="496" y="1816"/>
                </a:lnTo>
                <a:lnTo>
                  <a:pt x="504" y="1838"/>
                </a:lnTo>
                <a:lnTo>
                  <a:pt x="513" y="1858"/>
                </a:lnTo>
                <a:lnTo>
                  <a:pt x="519" y="1875"/>
                </a:lnTo>
                <a:lnTo>
                  <a:pt x="527" y="1889"/>
                </a:lnTo>
                <a:lnTo>
                  <a:pt x="533" y="1904"/>
                </a:lnTo>
                <a:lnTo>
                  <a:pt x="540" y="1920"/>
                </a:lnTo>
                <a:lnTo>
                  <a:pt x="549" y="1937"/>
                </a:lnTo>
                <a:lnTo>
                  <a:pt x="559" y="1954"/>
                </a:lnTo>
                <a:lnTo>
                  <a:pt x="568" y="1974"/>
                </a:lnTo>
                <a:lnTo>
                  <a:pt x="579" y="1994"/>
                </a:lnTo>
                <a:lnTo>
                  <a:pt x="591" y="2014"/>
                </a:lnTo>
                <a:lnTo>
                  <a:pt x="604" y="2033"/>
                </a:lnTo>
                <a:lnTo>
                  <a:pt x="615" y="2054"/>
                </a:lnTo>
                <a:lnTo>
                  <a:pt x="627" y="2074"/>
                </a:lnTo>
                <a:lnTo>
                  <a:pt x="639" y="2094"/>
                </a:lnTo>
                <a:lnTo>
                  <a:pt x="652" y="2112"/>
                </a:lnTo>
                <a:lnTo>
                  <a:pt x="663" y="2131"/>
                </a:lnTo>
                <a:lnTo>
                  <a:pt x="675" y="2148"/>
                </a:lnTo>
                <a:lnTo>
                  <a:pt x="686" y="2164"/>
                </a:lnTo>
                <a:lnTo>
                  <a:pt x="697" y="2178"/>
                </a:lnTo>
                <a:lnTo>
                  <a:pt x="707" y="2193"/>
                </a:lnTo>
                <a:lnTo>
                  <a:pt x="719" y="2207"/>
                </a:lnTo>
                <a:lnTo>
                  <a:pt x="731" y="2223"/>
                </a:lnTo>
                <a:lnTo>
                  <a:pt x="745" y="2238"/>
                </a:lnTo>
                <a:lnTo>
                  <a:pt x="759" y="2255"/>
                </a:lnTo>
                <a:lnTo>
                  <a:pt x="774" y="2272"/>
                </a:lnTo>
                <a:lnTo>
                  <a:pt x="789" y="2289"/>
                </a:lnTo>
                <a:lnTo>
                  <a:pt x="804" y="2304"/>
                </a:lnTo>
                <a:lnTo>
                  <a:pt x="818" y="2321"/>
                </a:lnTo>
                <a:lnTo>
                  <a:pt x="833" y="2337"/>
                </a:lnTo>
                <a:lnTo>
                  <a:pt x="847" y="2352"/>
                </a:lnTo>
                <a:lnTo>
                  <a:pt x="862" y="2366"/>
                </a:lnTo>
                <a:lnTo>
                  <a:pt x="875" y="2380"/>
                </a:lnTo>
                <a:lnTo>
                  <a:pt x="888" y="2392"/>
                </a:lnTo>
                <a:lnTo>
                  <a:pt x="899" y="2403"/>
                </a:lnTo>
                <a:lnTo>
                  <a:pt x="911" y="2412"/>
                </a:lnTo>
                <a:lnTo>
                  <a:pt x="921" y="2421"/>
                </a:lnTo>
                <a:lnTo>
                  <a:pt x="931" y="2430"/>
                </a:lnTo>
                <a:lnTo>
                  <a:pt x="941" y="2439"/>
                </a:lnTo>
                <a:lnTo>
                  <a:pt x="953" y="2447"/>
                </a:lnTo>
                <a:lnTo>
                  <a:pt x="963" y="2456"/>
                </a:lnTo>
                <a:lnTo>
                  <a:pt x="974" y="2464"/>
                </a:lnTo>
                <a:lnTo>
                  <a:pt x="984" y="2473"/>
                </a:lnTo>
                <a:lnTo>
                  <a:pt x="995" y="2480"/>
                </a:lnTo>
                <a:lnTo>
                  <a:pt x="1005" y="2488"/>
                </a:lnTo>
                <a:lnTo>
                  <a:pt x="1015" y="2496"/>
                </a:lnTo>
                <a:lnTo>
                  <a:pt x="1023" y="2504"/>
                </a:lnTo>
                <a:lnTo>
                  <a:pt x="1032" y="2509"/>
                </a:lnTo>
                <a:lnTo>
                  <a:pt x="1039" y="2516"/>
                </a:lnTo>
                <a:lnTo>
                  <a:pt x="1045" y="2520"/>
                </a:lnTo>
                <a:lnTo>
                  <a:pt x="1051" y="2524"/>
                </a:lnTo>
                <a:lnTo>
                  <a:pt x="1056" y="2527"/>
                </a:lnTo>
                <a:lnTo>
                  <a:pt x="1059" y="2531"/>
                </a:lnTo>
                <a:lnTo>
                  <a:pt x="1064" y="2534"/>
                </a:lnTo>
                <a:lnTo>
                  <a:pt x="1070" y="2538"/>
                </a:lnTo>
                <a:lnTo>
                  <a:pt x="1077" y="2541"/>
                </a:lnTo>
                <a:lnTo>
                  <a:pt x="1083" y="2546"/>
                </a:lnTo>
                <a:lnTo>
                  <a:pt x="1091" y="2550"/>
                </a:lnTo>
                <a:lnTo>
                  <a:pt x="1099" y="2554"/>
                </a:lnTo>
                <a:lnTo>
                  <a:pt x="1108" y="2557"/>
                </a:lnTo>
                <a:lnTo>
                  <a:pt x="1115" y="2563"/>
                </a:lnTo>
                <a:lnTo>
                  <a:pt x="1125" y="2566"/>
                </a:lnTo>
                <a:lnTo>
                  <a:pt x="1133" y="2571"/>
                </a:lnTo>
                <a:lnTo>
                  <a:pt x="1142" y="2575"/>
                </a:lnTo>
                <a:lnTo>
                  <a:pt x="1150" y="2578"/>
                </a:lnTo>
                <a:lnTo>
                  <a:pt x="1159" y="2582"/>
                </a:lnTo>
                <a:lnTo>
                  <a:pt x="1167" y="2586"/>
                </a:lnTo>
                <a:lnTo>
                  <a:pt x="1176" y="2589"/>
                </a:lnTo>
                <a:lnTo>
                  <a:pt x="1183" y="2594"/>
                </a:lnTo>
                <a:lnTo>
                  <a:pt x="1193" y="2597"/>
                </a:lnTo>
                <a:lnTo>
                  <a:pt x="1204" y="2602"/>
                </a:lnTo>
                <a:lnTo>
                  <a:pt x="1216" y="2605"/>
                </a:lnTo>
                <a:lnTo>
                  <a:pt x="1228" y="2611"/>
                </a:lnTo>
                <a:lnTo>
                  <a:pt x="1242" y="2615"/>
                </a:lnTo>
                <a:lnTo>
                  <a:pt x="1256" y="2620"/>
                </a:lnTo>
                <a:lnTo>
                  <a:pt x="1271" y="2624"/>
                </a:lnTo>
                <a:lnTo>
                  <a:pt x="1285" y="2630"/>
                </a:lnTo>
                <a:lnTo>
                  <a:pt x="1299" y="2634"/>
                </a:lnTo>
                <a:lnTo>
                  <a:pt x="1314" y="2640"/>
                </a:lnTo>
                <a:lnTo>
                  <a:pt x="1329" y="2644"/>
                </a:lnTo>
                <a:lnTo>
                  <a:pt x="1342" y="2648"/>
                </a:lnTo>
                <a:lnTo>
                  <a:pt x="1356" y="2652"/>
                </a:lnTo>
                <a:lnTo>
                  <a:pt x="1369" y="2656"/>
                </a:lnTo>
                <a:lnTo>
                  <a:pt x="1382" y="2659"/>
                </a:lnTo>
                <a:lnTo>
                  <a:pt x="1394" y="2663"/>
                </a:lnTo>
                <a:lnTo>
                  <a:pt x="1407" y="2666"/>
                </a:lnTo>
                <a:lnTo>
                  <a:pt x="1422" y="2670"/>
                </a:lnTo>
                <a:lnTo>
                  <a:pt x="1437" y="2674"/>
                </a:lnTo>
                <a:lnTo>
                  <a:pt x="1452" y="2678"/>
                </a:lnTo>
                <a:lnTo>
                  <a:pt x="1468" y="2681"/>
                </a:lnTo>
                <a:lnTo>
                  <a:pt x="1485" y="2685"/>
                </a:lnTo>
                <a:lnTo>
                  <a:pt x="1501" y="2687"/>
                </a:lnTo>
                <a:lnTo>
                  <a:pt x="1517" y="2691"/>
                </a:lnTo>
                <a:lnTo>
                  <a:pt x="1533" y="2694"/>
                </a:lnTo>
                <a:lnTo>
                  <a:pt x="1548" y="2697"/>
                </a:lnTo>
                <a:lnTo>
                  <a:pt x="1564" y="2699"/>
                </a:lnTo>
                <a:lnTo>
                  <a:pt x="1578" y="2701"/>
                </a:lnTo>
                <a:lnTo>
                  <a:pt x="1591" y="2703"/>
                </a:lnTo>
                <a:lnTo>
                  <a:pt x="1603" y="2705"/>
                </a:lnTo>
                <a:lnTo>
                  <a:pt x="1615" y="2706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133720"/>
            <a:ext cx="6315120" cy="4886280"/>
          </a:xfrm>
          <a:custGeom>
            <a:avLst/>
            <a:gdLst/>
            <a:ahLst/>
            <a:rect l="l" t="t" r="r" b="b"/>
            <a:pathLst>
              <a:path w="3978" h="3078">
                <a:moveTo>
                  <a:pt x="0" y="3077"/>
                </a:moveTo>
                <a:lnTo>
                  <a:pt x="1" y="3076"/>
                </a:lnTo>
                <a:lnTo>
                  <a:pt x="4" y="3072"/>
                </a:lnTo>
                <a:lnTo>
                  <a:pt x="9" y="3066"/>
                </a:lnTo>
                <a:lnTo>
                  <a:pt x="18" y="3058"/>
                </a:lnTo>
                <a:lnTo>
                  <a:pt x="26" y="3049"/>
                </a:lnTo>
                <a:lnTo>
                  <a:pt x="35" y="3039"/>
                </a:lnTo>
                <a:lnTo>
                  <a:pt x="46" y="3028"/>
                </a:lnTo>
                <a:lnTo>
                  <a:pt x="57" y="3016"/>
                </a:lnTo>
                <a:lnTo>
                  <a:pt x="66" y="3005"/>
                </a:lnTo>
                <a:lnTo>
                  <a:pt x="78" y="2993"/>
                </a:lnTo>
                <a:lnTo>
                  <a:pt x="87" y="2983"/>
                </a:lnTo>
                <a:lnTo>
                  <a:pt x="96" y="2973"/>
                </a:lnTo>
                <a:lnTo>
                  <a:pt x="102" y="2966"/>
                </a:lnTo>
                <a:lnTo>
                  <a:pt x="109" y="2959"/>
                </a:lnTo>
                <a:lnTo>
                  <a:pt x="112" y="2955"/>
                </a:lnTo>
                <a:lnTo>
                  <a:pt x="114" y="2953"/>
                </a:lnTo>
                <a:lnTo>
                  <a:pt x="114" y="2953"/>
                </a:lnTo>
                <a:lnTo>
                  <a:pt x="116" y="2951"/>
                </a:lnTo>
                <a:lnTo>
                  <a:pt x="118" y="2947"/>
                </a:lnTo>
                <a:lnTo>
                  <a:pt x="122" y="2941"/>
                </a:lnTo>
                <a:lnTo>
                  <a:pt x="126" y="2936"/>
                </a:lnTo>
                <a:lnTo>
                  <a:pt x="131" y="2928"/>
                </a:lnTo>
                <a:lnTo>
                  <a:pt x="137" y="2921"/>
                </a:lnTo>
                <a:lnTo>
                  <a:pt x="142" y="2911"/>
                </a:lnTo>
                <a:lnTo>
                  <a:pt x="147" y="2904"/>
                </a:lnTo>
                <a:lnTo>
                  <a:pt x="153" y="2895"/>
                </a:lnTo>
                <a:lnTo>
                  <a:pt x="158" y="2886"/>
                </a:lnTo>
                <a:lnTo>
                  <a:pt x="164" y="2877"/>
                </a:lnTo>
                <a:lnTo>
                  <a:pt x="168" y="2869"/>
                </a:lnTo>
                <a:lnTo>
                  <a:pt x="173" y="2861"/>
                </a:lnTo>
                <a:lnTo>
                  <a:pt x="177" y="2855"/>
                </a:lnTo>
                <a:lnTo>
                  <a:pt x="180" y="2849"/>
                </a:lnTo>
                <a:lnTo>
                  <a:pt x="182" y="2844"/>
                </a:lnTo>
                <a:lnTo>
                  <a:pt x="184" y="2839"/>
                </a:lnTo>
                <a:lnTo>
                  <a:pt x="186" y="2833"/>
                </a:lnTo>
                <a:lnTo>
                  <a:pt x="188" y="2825"/>
                </a:lnTo>
                <a:lnTo>
                  <a:pt x="190" y="2819"/>
                </a:lnTo>
                <a:lnTo>
                  <a:pt x="192" y="2811"/>
                </a:lnTo>
                <a:lnTo>
                  <a:pt x="194" y="2803"/>
                </a:lnTo>
                <a:lnTo>
                  <a:pt x="195" y="2796"/>
                </a:lnTo>
                <a:lnTo>
                  <a:pt x="196" y="2789"/>
                </a:lnTo>
                <a:lnTo>
                  <a:pt x="198" y="2782"/>
                </a:lnTo>
                <a:lnTo>
                  <a:pt x="200" y="2775"/>
                </a:lnTo>
                <a:lnTo>
                  <a:pt x="202" y="2767"/>
                </a:lnTo>
                <a:lnTo>
                  <a:pt x="204" y="2762"/>
                </a:lnTo>
                <a:lnTo>
                  <a:pt x="205" y="2755"/>
                </a:lnTo>
                <a:lnTo>
                  <a:pt x="207" y="2749"/>
                </a:lnTo>
                <a:lnTo>
                  <a:pt x="209" y="2744"/>
                </a:lnTo>
                <a:lnTo>
                  <a:pt x="211" y="2739"/>
                </a:lnTo>
                <a:lnTo>
                  <a:pt x="213" y="2734"/>
                </a:lnTo>
                <a:lnTo>
                  <a:pt x="215" y="2727"/>
                </a:lnTo>
                <a:lnTo>
                  <a:pt x="218" y="2720"/>
                </a:lnTo>
                <a:lnTo>
                  <a:pt x="220" y="2713"/>
                </a:lnTo>
                <a:lnTo>
                  <a:pt x="224" y="2705"/>
                </a:lnTo>
                <a:lnTo>
                  <a:pt x="226" y="2698"/>
                </a:lnTo>
                <a:lnTo>
                  <a:pt x="230" y="2690"/>
                </a:lnTo>
                <a:lnTo>
                  <a:pt x="232" y="2684"/>
                </a:lnTo>
                <a:lnTo>
                  <a:pt x="236" y="2676"/>
                </a:lnTo>
                <a:lnTo>
                  <a:pt x="240" y="2669"/>
                </a:lnTo>
                <a:lnTo>
                  <a:pt x="243" y="2662"/>
                </a:lnTo>
                <a:lnTo>
                  <a:pt x="245" y="2656"/>
                </a:lnTo>
                <a:lnTo>
                  <a:pt x="249" y="2650"/>
                </a:lnTo>
                <a:lnTo>
                  <a:pt x="253" y="2645"/>
                </a:lnTo>
                <a:lnTo>
                  <a:pt x="256" y="2639"/>
                </a:lnTo>
                <a:lnTo>
                  <a:pt x="259" y="2635"/>
                </a:lnTo>
                <a:lnTo>
                  <a:pt x="263" y="2629"/>
                </a:lnTo>
                <a:lnTo>
                  <a:pt x="267" y="2624"/>
                </a:lnTo>
                <a:lnTo>
                  <a:pt x="273" y="2618"/>
                </a:lnTo>
                <a:lnTo>
                  <a:pt x="278" y="2613"/>
                </a:lnTo>
                <a:lnTo>
                  <a:pt x="284" y="2607"/>
                </a:lnTo>
                <a:lnTo>
                  <a:pt x="290" y="2601"/>
                </a:lnTo>
                <a:lnTo>
                  <a:pt x="296" y="2594"/>
                </a:lnTo>
                <a:lnTo>
                  <a:pt x="302" y="2588"/>
                </a:lnTo>
                <a:lnTo>
                  <a:pt x="308" y="2583"/>
                </a:lnTo>
                <a:lnTo>
                  <a:pt x="314" y="2577"/>
                </a:lnTo>
                <a:lnTo>
                  <a:pt x="321" y="2571"/>
                </a:lnTo>
                <a:lnTo>
                  <a:pt x="326" y="2568"/>
                </a:lnTo>
                <a:lnTo>
                  <a:pt x="332" y="2562"/>
                </a:lnTo>
                <a:lnTo>
                  <a:pt x="336" y="2558"/>
                </a:lnTo>
                <a:lnTo>
                  <a:pt x="342" y="2553"/>
                </a:lnTo>
                <a:lnTo>
                  <a:pt x="346" y="2551"/>
                </a:lnTo>
                <a:lnTo>
                  <a:pt x="350" y="2548"/>
                </a:lnTo>
                <a:lnTo>
                  <a:pt x="355" y="2544"/>
                </a:lnTo>
                <a:lnTo>
                  <a:pt x="361" y="2540"/>
                </a:lnTo>
                <a:lnTo>
                  <a:pt x="366" y="2537"/>
                </a:lnTo>
                <a:lnTo>
                  <a:pt x="372" y="2533"/>
                </a:lnTo>
                <a:lnTo>
                  <a:pt x="378" y="2529"/>
                </a:lnTo>
                <a:lnTo>
                  <a:pt x="385" y="2525"/>
                </a:lnTo>
                <a:lnTo>
                  <a:pt x="391" y="2521"/>
                </a:lnTo>
                <a:lnTo>
                  <a:pt x="396" y="2518"/>
                </a:lnTo>
                <a:lnTo>
                  <a:pt x="402" y="2514"/>
                </a:lnTo>
                <a:lnTo>
                  <a:pt x="409" y="2510"/>
                </a:lnTo>
                <a:lnTo>
                  <a:pt x="413" y="2507"/>
                </a:lnTo>
                <a:lnTo>
                  <a:pt x="419" y="2503"/>
                </a:lnTo>
                <a:lnTo>
                  <a:pt x="423" y="2500"/>
                </a:lnTo>
                <a:lnTo>
                  <a:pt x="428" y="2496"/>
                </a:lnTo>
                <a:lnTo>
                  <a:pt x="432" y="2492"/>
                </a:lnTo>
                <a:lnTo>
                  <a:pt x="438" y="2487"/>
                </a:lnTo>
                <a:lnTo>
                  <a:pt x="443" y="2480"/>
                </a:lnTo>
                <a:lnTo>
                  <a:pt x="449" y="2473"/>
                </a:lnTo>
                <a:lnTo>
                  <a:pt x="454" y="2465"/>
                </a:lnTo>
                <a:lnTo>
                  <a:pt x="460" y="2457"/>
                </a:lnTo>
                <a:lnTo>
                  <a:pt x="466" y="2450"/>
                </a:lnTo>
                <a:lnTo>
                  <a:pt x="473" y="2440"/>
                </a:lnTo>
                <a:lnTo>
                  <a:pt x="479" y="2433"/>
                </a:lnTo>
                <a:lnTo>
                  <a:pt x="484" y="2425"/>
                </a:lnTo>
                <a:lnTo>
                  <a:pt x="490" y="2418"/>
                </a:lnTo>
                <a:lnTo>
                  <a:pt x="497" y="2411"/>
                </a:lnTo>
                <a:lnTo>
                  <a:pt x="503" y="2405"/>
                </a:lnTo>
                <a:lnTo>
                  <a:pt x="510" y="2399"/>
                </a:lnTo>
                <a:lnTo>
                  <a:pt x="516" y="2395"/>
                </a:lnTo>
                <a:lnTo>
                  <a:pt x="523" y="2391"/>
                </a:lnTo>
                <a:lnTo>
                  <a:pt x="520" y="2386"/>
                </a:lnTo>
                <a:lnTo>
                  <a:pt x="519" y="2380"/>
                </a:lnTo>
                <a:lnTo>
                  <a:pt x="519" y="2372"/>
                </a:lnTo>
                <a:lnTo>
                  <a:pt x="519" y="2364"/>
                </a:lnTo>
                <a:lnTo>
                  <a:pt x="519" y="2357"/>
                </a:lnTo>
                <a:lnTo>
                  <a:pt x="520" y="2347"/>
                </a:lnTo>
                <a:lnTo>
                  <a:pt x="522" y="2338"/>
                </a:lnTo>
                <a:lnTo>
                  <a:pt x="524" y="2329"/>
                </a:lnTo>
                <a:lnTo>
                  <a:pt x="524" y="2321"/>
                </a:lnTo>
                <a:lnTo>
                  <a:pt x="526" y="2312"/>
                </a:lnTo>
                <a:lnTo>
                  <a:pt x="526" y="2304"/>
                </a:lnTo>
                <a:lnTo>
                  <a:pt x="527" y="2294"/>
                </a:lnTo>
                <a:lnTo>
                  <a:pt x="526" y="2287"/>
                </a:lnTo>
                <a:lnTo>
                  <a:pt x="526" y="2280"/>
                </a:lnTo>
                <a:lnTo>
                  <a:pt x="524" y="2274"/>
                </a:lnTo>
                <a:lnTo>
                  <a:pt x="523" y="2267"/>
                </a:lnTo>
                <a:lnTo>
                  <a:pt x="528" y="2264"/>
                </a:lnTo>
                <a:lnTo>
                  <a:pt x="534" y="2257"/>
                </a:lnTo>
                <a:lnTo>
                  <a:pt x="540" y="2251"/>
                </a:lnTo>
                <a:lnTo>
                  <a:pt x="546" y="2242"/>
                </a:lnTo>
                <a:lnTo>
                  <a:pt x="550" y="2233"/>
                </a:lnTo>
                <a:lnTo>
                  <a:pt x="555" y="2223"/>
                </a:lnTo>
                <a:lnTo>
                  <a:pt x="560" y="2213"/>
                </a:lnTo>
                <a:lnTo>
                  <a:pt x="565" y="2201"/>
                </a:lnTo>
                <a:lnTo>
                  <a:pt x="569" y="2191"/>
                </a:lnTo>
                <a:lnTo>
                  <a:pt x="573" y="2180"/>
                </a:lnTo>
                <a:lnTo>
                  <a:pt x="577" y="2170"/>
                </a:lnTo>
                <a:lnTo>
                  <a:pt x="582" y="2159"/>
                </a:lnTo>
                <a:lnTo>
                  <a:pt x="586" y="2149"/>
                </a:lnTo>
                <a:lnTo>
                  <a:pt x="590" y="2140"/>
                </a:lnTo>
                <a:lnTo>
                  <a:pt x="594" y="2133"/>
                </a:lnTo>
                <a:lnTo>
                  <a:pt x="599" y="2125"/>
                </a:lnTo>
                <a:lnTo>
                  <a:pt x="603" y="2119"/>
                </a:lnTo>
                <a:lnTo>
                  <a:pt x="607" y="2113"/>
                </a:lnTo>
                <a:lnTo>
                  <a:pt x="613" y="2105"/>
                </a:lnTo>
                <a:lnTo>
                  <a:pt x="618" y="2098"/>
                </a:lnTo>
                <a:lnTo>
                  <a:pt x="624" y="2090"/>
                </a:lnTo>
                <a:lnTo>
                  <a:pt x="631" y="2083"/>
                </a:lnTo>
                <a:lnTo>
                  <a:pt x="637" y="2075"/>
                </a:lnTo>
                <a:lnTo>
                  <a:pt x="645" y="2066"/>
                </a:lnTo>
                <a:lnTo>
                  <a:pt x="650" y="2059"/>
                </a:lnTo>
                <a:lnTo>
                  <a:pt x="658" y="2051"/>
                </a:lnTo>
                <a:lnTo>
                  <a:pt x="663" y="2043"/>
                </a:lnTo>
                <a:lnTo>
                  <a:pt x="671" y="2035"/>
                </a:lnTo>
                <a:lnTo>
                  <a:pt x="676" y="2029"/>
                </a:lnTo>
                <a:lnTo>
                  <a:pt x="683" y="2022"/>
                </a:lnTo>
                <a:lnTo>
                  <a:pt x="688" y="2016"/>
                </a:lnTo>
                <a:lnTo>
                  <a:pt x="694" y="2010"/>
                </a:lnTo>
                <a:lnTo>
                  <a:pt x="702" y="2003"/>
                </a:lnTo>
                <a:lnTo>
                  <a:pt x="711" y="1995"/>
                </a:lnTo>
                <a:lnTo>
                  <a:pt x="720" y="1988"/>
                </a:lnTo>
                <a:lnTo>
                  <a:pt x="731" y="1979"/>
                </a:lnTo>
                <a:lnTo>
                  <a:pt x="742" y="1971"/>
                </a:lnTo>
                <a:lnTo>
                  <a:pt x="754" y="1962"/>
                </a:lnTo>
                <a:lnTo>
                  <a:pt x="767" y="1953"/>
                </a:lnTo>
                <a:lnTo>
                  <a:pt x="780" y="1944"/>
                </a:lnTo>
                <a:lnTo>
                  <a:pt x="791" y="1936"/>
                </a:lnTo>
                <a:lnTo>
                  <a:pt x="804" y="1927"/>
                </a:lnTo>
                <a:lnTo>
                  <a:pt x="815" y="1918"/>
                </a:lnTo>
                <a:lnTo>
                  <a:pt x="828" y="1909"/>
                </a:lnTo>
                <a:lnTo>
                  <a:pt x="838" y="1901"/>
                </a:lnTo>
                <a:lnTo>
                  <a:pt x="848" y="1893"/>
                </a:lnTo>
                <a:lnTo>
                  <a:pt x="857" y="1885"/>
                </a:lnTo>
                <a:lnTo>
                  <a:pt x="866" y="1877"/>
                </a:lnTo>
                <a:lnTo>
                  <a:pt x="869" y="1874"/>
                </a:lnTo>
                <a:lnTo>
                  <a:pt x="874" y="1870"/>
                </a:lnTo>
                <a:lnTo>
                  <a:pt x="879" y="1866"/>
                </a:lnTo>
                <a:lnTo>
                  <a:pt x="884" y="1861"/>
                </a:lnTo>
                <a:lnTo>
                  <a:pt x="890" y="1857"/>
                </a:lnTo>
                <a:lnTo>
                  <a:pt x="896" y="1853"/>
                </a:lnTo>
                <a:lnTo>
                  <a:pt x="901" y="1849"/>
                </a:lnTo>
                <a:lnTo>
                  <a:pt x="908" y="1843"/>
                </a:lnTo>
                <a:lnTo>
                  <a:pt x="914" y="1839"/>
                </a:lnTo>
                <a:lnTo>
                  <a:pt x="919" y="1836"/>
                </a:lnTo>
                <a:lnTo>
                  <a:pt x="925" y="1832"/>
                </a:lnTo>
                <a:lnTo>
                  <a:pt x="932" y="1826"/>
                </a:lnTo>
                <a:lnTo>
                  <a:pt x="937" y="1823"/>
                </a:lnTo>
                <a:lnTo>
                  <a:pt x="942" y="1819"/>
                </a:lnTo>
                <a:lnTo>
                  <a:pt x="947" y="1815"/>
                </a:lnTo>
                <a:lnTo>
                  <a:pt x="952" y="1811"/>
                </a:lnTo>
                <a:lnTo>
                  <a:pt x="954" y="1809"/>
                </a:lnTo>
                <a:lnTo>
                  <a:pt x="957" y="1808"/>
                </a:lnTo>
                <a:lnTo>
                  <a:pt x="959" y="1806"/>
                </a:lnTo>
                <a:lnTo>
                  <a:pt x="963" y="1803"/>
                </a:lnTo>
                <a:lnTo>
                  <a:pt x="965" y="1801"/>
                </a:lnTo>
                <a:lnTo>
                  <a:pt x="968" y="1797"/>
                </a:lnTo>
                <a:lnTo>
                  <a:pt x="972" y="1795"/>
                </a:lnTo>
                <a:lnTo>
                  <a:pt x="976" y="1791"/>
                </a:lnTo>
                <a:lnTo>
                  <a:pt x="978" y="1789"/>
                </a:lnTo>
                <a:lnTo>
                  <a:pt x="982" y="1788"/>
                </a:lnTo>
                <a:lnTo>
                  <a:pt x="985" y="1786"/>
                </a:lnTo>
                <a:lnTo>
                  <a:pt x="989" y="1783"/>
                </a:lnTo>
                <a:lnTo>
                  <a:pt x="991" y="1783"/>
                </a:lnTo>
                <a:lnTo>
                  <a:pt x="995" y="1781"/>
                </a:lnTo>
                <a:lnTo>
                  <a:pt x="998" y="1780"/>
                </a:lnTo>
                <a:lnTo>
                  <a:pt x="1002" y="1778"/>
                </a:lnTo>
                <a:lnTo>
                  <a:pt x="1004" y="1778"/>
                </a:lnTo>
                <a:lnTo>
                  <a:pt x="1006" y="1778"/>
                </a:lnTo>
                <a:lnTo>
                  <a:pt x="1008" y="1778"/>
                </a:lnTo>
                <a:lnTo>
                  <a:pt x="1012" y="1778"/>
                </a:lnTo>
                <a:lnTo>
                  <a:pt x="1015" y="1778"/>
                </a:lnTo>
                <a:lnTo>
                  <a:pt x="1019" y="1778"/>
                </a:lnTo>
                <a:lnTo>
                  <a:pt x="1023" y="1778"/>
                </a:lnTo>
                <a:lnTo>
                  <a:pt x="1026" y="1777"/>
                </a:lnTo>
                <a:lnTo>
                  <a:pt x="1030" y="1777"/>
                </a:lnTo>
                <a:lnTo>
                  <a:pt x="1033" y="1777"/>
                </a:lnTo>
                <a:lnTo>
                  <a:pt x="1037" y="1777"/>
                </a:lnTo>
                <a:lnTo>
                  <a:pt x="1041" y="1777"/>
                </a:lnTo>
                <a:lnTo>
                  <a:pt x="1043" y="1777"/>
                </a:lnTo>
                <a:lnTo>
                  <a:pt x="1047" y="1777"/>
                </a:lnTo>
                <a:lnTo>
                  <a:pt x="1049" y="1777"/>
                </a:lnTo>
                <a:lnTo>
                  <a:pt x="1052" y="1775"/>
                </a:lnTo>
                <a:lnTo>
                  <a:pt x="1055" y="1775"/>
                </a:lnTo>
                <a:lnTo>
                  <a:pt x="1060" y="1773"/>
                </a:lnTo>
                <a:lnTo>
                  <a:pt x="1064" y="1770"/>
                </a:lnTo>
                <a:lnTo>
                  <a:pt x="1072" y="1767"/>
                </a:lnTo>
                <a:lnTo>
                  <a:pt x="1078" y="1763"/>
                </a:lnTo>
                <a:lnTo>
                  <a:pt x="1086" y="1759"/>
                </a:lnTo>
                <a:lnTo>
                  <a:pt x="1093" y="1756"/>
                </a:lnTo>
                <a:lnTo>
                  <a:pt x="1102" y="1751"/>
                </a:lnTo>
                <a:lnTo>
                  <a:pt x="1110" y="1747"/>
                </a:lnTo>
                <a:lnTo>
                  <a:pt x="1117" y="1743"/>
                </a:lnTo>
                <a:lnTo>
                  <a:pt x="1124" y="1740"/>
                </a:lnTo>
                <a:lnTo>
                  <a:pt x="1132" y="1735"/>
                </a:lnTo>
                <a:lnTo>
                  <a:pt x="1138" y="1732"/>
                </a:lnTo>
                <a:lnTo>
                  <a:pt x="1143" y="1728"/>
                </a:lnTo>
                <a:lnTo>
                  <a:pt x="1148" y="1727"/>
                </a:lnTo>
                <a:lnTo>
                  <a:pt x="1152" y="1725"/>
                </a:lnTo>
                <a:lnTo>
                  <a:pt x="1163" y="1721"/>
                </a:lnTo>
                <a:lnTo>
                  <a:pt x="1176" y="1716"/>
                </a:lnTo>
                <a:lnTo>
                  <a:pt x="1189" y="1712"/>
                </a:lnTo>
                <a:lnTo>
                  <a:pt x="1202" y="1708"/>
                </a:lnTo>
                <a:lnTo>
                  <a:pt x="1216" y="1706"/>
                </a:lnTo>
                <a:lnTo>
                  <a:pt x="1230" y="1703"/>
                </a:lnTo>
                <a:lnTo>
                  <a:pt x="1244" y="1701"/>
                </a:lnTo>
                <a:lnTo>
                  <a:pt x="1259" y="1698"/>
                </a:lnTo>
                <a:lnTo>
                  <a:pt x="1272" y="1698"/>
                </a:lnTo>
                <a:lnTo>
                  <a:pt x="1287" y="1696"/>
                </a:lnTo>
                <a:lnTo>
                  <a:pt x="1300" y="1696"/>
                </a:lnTo>
                <a:lnTo>
                  <a:pt x="1316" y="1695"/>
                </a:lnTo>
                <a:lnTo>
                  <a:pt x="1328" y="1695"/>
                </a:lnTo>
                <a:lnTo>
                  <a:pt x="1342" y="1695"/>
                </a:lnTo>
                <a:lnTo>
                  <a:pt x="1355" y="1696"/>
                </a:lnTo>
                <a:lnTo>
                  <a:pt x="1370" y="1696"/>
                </a:lnTo>
                <a:lnTo>
                  <a:pt x="1377" y="1698"/>
                </a:lnTo>
                <a:lnTo>
                  <a:pt x="1386" y="1700"/>
                </a:lnTo>
                <a:lnTo>
                  <a:pt x="1396" y="1703"/>
                </a:lnTo>
                <a:lnTo>
                  <a:pt x="1408" y="1706"/>
                </a:lnTo>
                <a:lnTo>
                  <a:pt x="1419" y="1711"/>
                </a:lnTo>
                <a:lnTo>
                  <a:pt x="1431" y="1715"/>
                </a:lnTo>
                <a:lnTo>
                  <a:pt x="1442" y="1720"/>
                </a:lnTo>
                <a:lnTo>
                  <a:pt x="1455" y="1723"/>
                </a:lnTo>
                <a:lnTo>
                  <a:pt x="1466" y="1729"/>
                </a:lnTo>
                <a:lnTo>
                  <a:pt x="1478" y="1733"/>
                </a:lnTo>
                <a:lnTo>
                  <a:pt x="1490" y="1738"/>
                </a:lnTo>
                <a:lnTo>
                  <a:pt x="1501" y="1742"/>
                </a:lnTo>
                <a:lnTo>
                  <a:pt x="1511" y="1746"/>
                </a:lnTo>
                <a:lnTo>
                  <a:pt x="1522" y="1749"/>
                </a:lnTo>
                <a:lnTo>
                  <a:pt x="1532" y="1751"/>
                </a:lnTo>
                <a:lnTo>
                  <a:pt x="1541" y="1753"/>
                </a:lnTo>
                <a:lnTo>
                  <a:pt x="1547" y="1755"/>
                </a:lnTo>
                <a:lnTo>
                  <a:pt x="1554" y="1755"/>
                </a:lnTo>
                <a:lnTo>
                  <a:pt x="1562" y="1757"/>
                </a:lnTo>
                <a:lnTo>
                  <a:pt x="1571" y="1757"/>
                </a:lnTo>
                <a:lnTo>
                  <a:pt x="1579" y="1759"/>
                </a:lnTo>
                <a:lnTo>
                  <a:pt x="1589" y="1759"/>
                </a:lnTo>
                <a:lnTo>
                  <a:pt x="1598" y="1760"/>
                </a:lnTo>
                <a:lnTo>
                  <a:pt x="1608" y="1760"/>
                </a:lnTo>
                <a:lnTo>
                  <a:pt x="1616" y="1762"/>
                </a:lnTo>
                <a:lnTo>
                  <a:pt x="1626" y="1762"/>
                </a:lnTo>
                <a:lnTo>
                  <a:pt x="1634" y="1762"/>
                </a:lnTo>
                <a:lnTo>
                  <a:pt x="1644" y="1762"/>
                </a:lnTo>
                <a:lnTo>
                  <a:pt x="1651" y="1762"/>
                </a:lnTo>
                <a:lnTo>
                  <a:pt x="1660" y="1762"/>
                </a:lnTo>
                <a:lnTo>
                  <a:pt x="1667" y="1762"/>
                </a:lnTo>
                <a:lnTo>
                  <a:pt x="1674" y="1762"/>
                </a:lnTo>
                <a:lnTo>
                  <a:pt x="1677" y="1763"/>
                </a:lnTo>
                <a:lnTo>
                  <a:pt x="1680" y="1763"/>
                </a:lnTo>
                <a:lnTo>
                  <a:pt x="1684" y="1763"/>
                </a:lnTo>
                <a:lnTo>
                  <a:pt x="1688" y="1763"/>
                </a:lnTo>
                <a:lnTo>
                  <a:pt x="1692" y="1763"/>
                </a:lnTo>
                <a:lnTo>
                  <a:pt x="1698" y="1763"/>
                </a:lnTo>
                <a:lnTo>
                  <a:pt x="1702" y="1763"/>
                </a:lnTo>
                <a:lnTo>
                  <a:pt x="1707" y="1763"/>
                </a:lnTo>
                <a:lnTo>
                  <a:pt x="1711" y="1763"/>
                </a:lnTo>
                <a:lnTo>
                  <a:pt x="1716" y="1763"/>
                </a:lnTo>
                <a:lnTo>
                  <a:pt x="1720" y="1763"/>
                </a:lnTo>
                <a:lnTo>
                  <a:pt x="1725" y="1763"/>
                </a:lnTo>
                <a:lnTo>
                  <a:pt x="1729" y="1763"/>
                </a:lnTo>
                <a:lnTo>
                  <a:pt x="1734" y="1763"/>
                </a:lnTo>
                <a:lnTo>
                  <a:pt x="1737" y="1763"/>
                </a:lnTo>
                <a:lnTo>
                  <a:pt x="1741" y="1762"/>
                </a:lnTo>
                <a:lnTo>
                  <a:pt x="1742" y="1762"/>
                </a:lnTo>
                <a:lnTo>
                  <a:pt x="1744" y="1762"/>
                </a:lnTo>
                <a:lnTo>
                  <a:pt x="1746" y="1762"/>
                </a:lnTo>
                <a:lnTo>
                  <a:pt x="1749" y="1761"/>
                </a:lnTo>
                <a:lnTo>
                  <a:pt x="1751" y="1761"/>
                </a:lnTo>
                <a:lnTo>
                  <a:pt x="1754" y="1760"/>
                </a:lnTo>
                <a:lnTo>
                  <a:pt x="1756" y="1760"/>
                </a:lnTo>
                <a:lnTo>
                  <a:pt x="1760" y="1758"/>
                </a:lnTo>
                <a:lnTo>
                  <a:pt x="1762" y="1758"/>
                </a:lnTo>
                <a:lnTo>
                  <a:pt x="1765" y="1758"/>
                </a:lnTo>
                <a:lnTo>
                  <a:pt x="1766" y="1758"/>
                </a:lnTo>
                <a:lnTo>
                  <a:pt x="1770" y="1756"/>
                </a:lnTo>
                <a:lnTo>
                  <a:pt x="1772" y="1756"/>
                </a:lnTo>
                <a:lnTo>
                  <a:pt x="1774" y="1755"/>
                </a:lnTo>
                <a:lnTo>
                  <a:pt x="1776" y="1755"/>
                </a:lnTo>
                <a:lnTo>
                  <a:pt x="1779" y="1753"/>
                </a:lnTo>
                <a:lnTo>
                  <a:pt x="1781" y="1753"/>
                </a:lnTo>
                <a:lnTo>
                  <a:pt x="1784" y="1751"/>
                </a:lnTo>
                <a:lnTo>
                  <a:pt x="1786" y="1749"/>
                </a:lnTo>
                <a:lnTo>
                  <a:pt x="1790" y="1748"/>
                </a:lnTo>
                <a:lnTo>
                  <a:pt x="1792" y="1746"/>
                </a:lnTo>
                <a:lnTo>
                  <a:pt x="1795" y="1744"/>
                </a:lnTo>
                <a:lnTo>
                  <a:pt x="1799" y="1742"/>
                </a:lnTo>
                <a:lnTo>
                  <a:pt x="1803" y="1740"/>
                </a:lnTo>
                <a:lnTo>
                  <a:pt x="1805" y="1738"/>
                </a:lnTo>
                <a:lnTo>
                  <a:pt x="1808" y="1736"/>
                </a:lnTo>
                <a:lnTo>
                  <a:pt x="1812" y="1734"/>
                </a:lnTo>
                <a:lnTo>
                  <a:pt x="1815" y="1731"/>
                </a:lnTo>
                <a:lnTo>
                  <a:pt x="1817" y="1730"/>
                </a:lnTo>
                <a:lnTo>
                  <a:pt x="1821" y="1728"/>
                </a:lnTo>
                <a:lnTo>
                  <a:pt x="1823" y="1726"/>
                </a:lnTo>
                <a:lnTo>
                  <a:pt x="1826" y="1724"/>
                </a:lnTo>
                <a:lnTo>
                  <a:pt x="1830" y="1721"/>
                </a:lnTo>
                <a:lnTo>
                  <a:pt x="1836" y="1717"/>
                </a:lnTo>
                <a:lnTo>
                  <a:pt x="1842" y="1711"/>
                </a:lnTo>
                <a:lnTo>
                  <a:pt x="1847" y="1704"/>
                </a:lnTo>
                <a:lnTo>
                  <a:pt x="1851" y="1698"/>
                </a:lnTo>
                <a:lnTo>
                  <a:pt x="1856" y="1690"/>
                </a:lnTo>
                <a:lnTo>
                  <a:pt x="1862" y="1683"/>
                </a:lnTo>
                <a:lnTo>
                  <a:pt x="1868" y="1675"/>
                </a:lnTo>
                <a:lnTo>
                  <a:pt x="1872" y="1667"/>
                </a:lnTo>
                <a:lnTo>
                  <a:pt x="1876" y="1660"/>
                </a:lnTo>
                <a:lnTo>
                  <a:pt x="1880" y="1652"/>
                </a:lnTo>
                <a:lnTo>
                  <a:pt x="1886" y="1645"/>
                </a:lnTo>
                <a:lnTo>
                  <a:pt x="1890" y="1639"/>
                </a:lnTo>
                <a:lnTo>
                  <a:pt x="1893" y="1631"/>
                </a:lnTo>
                <a:lnTo>
                  <a:pt x="1897" y="1625"/>
                </a:lnTo>
                <a:lnTo>
                  <a:pt x="1901" y="1618"/>
                </a:lnTo>
                <a:lnTo>
                  <a:pt x="1901" y="1616"/>
                </a:lnTo>
                <a:lnTo>
                  <a:pt x="1903" y="1613"/>
                </a:lnTo>
                <a:lnTo>
                  <a:pt x="1904" y="1610"/>
                </a:lnTo>
                <a:lnTo>
                  <a:pt x="1906" y="1606"/>
                </a:lnTo>
                <a:lnTo>
                  <a:pt x="1907" y="1602"/>
                </a:lnTo>
                <a:lnTo>
                  <a:pt x="1909" y="1599"/>
                </a:lnTo>
                <a:lnTo>
                  <a:pt x="1911" y="1595"/>
                </a:lnTo>
                <a:lnTo>
                  <a:pt x="1912" y="1591"/>
                </a:lnTo>
                <a:lnTo>
                  <a:pt x="1914" y="1587"/>
                </a:lnTo>
                <a:lnTo>
                  <a:pt x="1916" y="1584"/>
                </a:lnTo>
                <a:lnTo>
                  <a:pt x="1918" y="1580"/>
                </a:lnTo>
                <a:lnTo>
                  <a:pt x="1920" y="1576"/>
                </a:lnTo>
                <a:lnTo>
                  <a:pt x="1921" y="1574"/>
                </a:lnTo>
                <a:lnTo>
                  <a:pt x="1923" y="1571"/>
                </a:lnTo>
                <a:lnTo>
                  <a:pt x="1925" y="1569"/>
                </a:lnTo>
                <a:lnTo>
                  <a:pt x="1928" y="1565"/>
                </a:lnTo>
                <a:lnTo>
                  <a:pt x="1926" y="1565"/>
                </a:lnTo>
                <a:lnTo>
                  <a:pt x="1926" y="1563"/>
                </a:lnTo>
                <a:lnTo>
                  <a:pt x="1926" y="1561"/>
                </a:lnTo>
                <a:lnTo>
                  <a:pt x="1926" y="1559"/>
                </a:lnTo>
                <a:lnTo>
                  <a:pt x="1926" y="1557"/>
                </a:lnTo>
                <a:lnTo>
                  <a:pt x="1928" y="1555"/>
                </a:lnTo>
                <a:lnTo>
                  <a:pt x="1930" y="1554"/>
                </a:lnTo>
                <a:lnTo>
                  <a:pt x="1931" y="1551"/>
                </a:lnTo>
                <a:lnTo>
                  <a:pt x="1932" y="1549"/>
                </a:lnTo>
                <a:lnTo>
                  <a:pt x="1934" y="1547"/>
                </a:lnTo>
                <a:lnTo>
                  <a:pt x="1936" y="1545"/>
                </a:lnTo>
                <a:lnTo>
                  <a:pt x="1938" y="1542"/>
                </a:lnTo>
                <a:lnTo>
                  <a:pt x="1938" y="1540"/>
                </a:lnTo>
                <a:lnTo>
                  <a:pt x="1940" y="1538"/>
                </a:lnTo>
                <a:lnTo>
                  <a:pt x="1940" y="1536"/>
                </a:lnTo>
                <a:lnTo>
                  <a:pt x="1941" y="1534"/>
                </a:lnTo>
                <a:lnTo>
                  <a:pt x="1941" y="1534"/>
                </a:lnTo>
                <a:lnTo>
                  <a:pt x="1941" y="1532"/>
                </a:lnTo>
                <a:lnTo>
                  <a:pt x="1941" y="1530"/>
                </a:lnTo>
                <a:lnTo>
                  <a:pt x="1941" y="1528"/>
                </a:lnTo>
                <a:lnTo>
                  <a:pt x="1941" y="1526"/>
                </a:lnTo>
                <a:lnTo>
                  <a:pt x="1941" y="1524"/>
                </a:lnTo>
                <a:lnTo>
                  <a:pt x="1941" y="1523"/>
                </a:lnTo>
                <a:lnTo>
                  <a:pt x="1942" y="1519"/>
                </a:lnTo>
                <a:lnTo>
                  <a:pt x="1942" y="1517"/>
                </a:lnTo>
                <a:lnTo>
                  <a:pt x="1942" y="1515"/>
                </a:lnTo>
                <a:lnTo>
                  <a:pt x="1942" y="1514"/>
                </a:lnTo>
                <a:lnTo>
                  <a:pt x="1942" y="1511"/>
                </a:lnTo>
                <a:lnTo>
                  <a:pt x="1941" y="1510"/>
                </a:lnTo>
                <a:lnTo>
                  <a:pt x="1941" y="1508"/>
                </a:lnTo>
                <a:lnTo>
                  <a:pt x="1941" y="1507"/>
                </a:lnTo>
                <a:lnTo>
                  <a:pt x="1941" y="1505"/>
                </a:lnTo>
                <a:lnTo>
                  <a:pt x="1941" y="1505"/>
                </a:lnTo>
                <a:lnTo>
                  <a:pt x="1941" y="1504"/>
                </a:lnTo>
                <a:lnTo>
                  <a:pt x="1941" y="1504"/>
                </a:lnTo>
                <a:lnTo>
                  <a:pt x="1942" y="1502"/>
                </a:lnTo>
                <a:lnTo>
                  <a:pt x="1942" y="1502"/>
                </a:lnTo>
                <a:lnTo>
                  <a:pt x="1944" y="1500"/>
                </a:lnTo>
                <a:lnTo>
                  <a:pt x="1944" y="1498"/>
                </a:lnTo>
                <a:lnTo>
                  <a:pt x="1946" y="1496"/>
                </a:lnTo>
                <a:lnTo>
                  <a:pt x="1946" y="1496"/>
                </a:lnTo>
                <a:lnTo>
                  <a:pt x="1946" y="1494"/>
                </a:lnTo>
                <a:lnTo>
                  <a:pt x="1946" y="1493"/>
                </a:lnTo>
                <a:lnTo>
                  <a:pt x="1948" y="1491"/>
                </a:lnTo>
                <a:lnTo>
                  <a:pt x="1948" y="1491"/>
                </a:lnTo>
                <a:lnTo>
                  <a:pt x="1948" y="1489"/>
                </a:lnTo>
                <a:lnTo>
                  <a:pt x="1948" y="1488"/>
                </a:lnTo>
                <a:lnTo>
                  <a:pt x="1950" y="1486"/>
                </a:lnTo>
                <a:lnTo>
                  <a:pt x="1951" y="1484"/>
                </a:lnTo>
                <a:lnTo>
                  <a:pt x="1953" y="1483"/>
                </a:lnTo>
                <a:lnTo>
                  <a:pt x="1955" y="1481"/>
                </a:lnTo>
                <a:lnTo>
                  <a:pt x="1958" y="1477"/>
                </a:lnTo>
                <a:lnTo>
                  <a:pt x="1959" y="1476"/>
                </a:lnTo>
                <a:lnTo>
                  <a:pt x="1962" y="1473"/>
                </a:lnTo>
                <a:lnTo>
                  <a:pt x="1964" y="1471"/>
                </a:lnTo>
                <a:lnTo>
                  <a:pt x="1968" y="1467"/>
                </a:lnTo>
                <a:lnTo>
                  <a:pt x="1970" y="1465"/>
                </a:lnTo>
                <a:lnTo>
                  <a:pt x="1973" y="1463"/>
                </a:lnTo>
                <a:lnTo>
                  <a:pt x="1975" y="1461"/>
                </a:lnTo>
                <a:lnTo>
                  <a:pt x="1979" y="1457"/>
                </a:lnTo>
                <a:lnTo>
                  <a:pt x="1981" y="1455"/>
                </a:lnTo>
                <a:lnTo>
                  <a:pt x="1983" y="1453"/>
                </a:lnTo>
                <a:lnTo>
                  <a:pt x="1985" y="1451"/>
                </a:lnTo>
                <a:lnTo>
                  <a:pt x="1988" y="1448"/>
                </a:lnTo>
                <a:lnTo>
                  <a:pt x="1992" y="1444"/>
                </a:lnTo>
                <a:lnTo>
                  <a:pt x="1997" y="1438"/>
                </a:lnTo>
                <a:lnTo>
                  <a:pt x="2002" y="1432"/>
                </a:lnTo>
                <a:lnTo>
                  <a:pt x="2008" y="1425"/>
                </a:lnTo>
                <a:lnTo>
                  <a:pt x="2011" y="1418"/>
                </a:lnTo>
                <a:lnTo>
                  <a:pt x="2017" y="1410"/>
                </a:lnTo>
                <a:lnTo>
                  <a:pt x="2022" y="1403"/>
                </a:lnTo>
                <a:lnTo>
                  <a:pt x="2028" y="1393"/>
                </a:lnTo>
                <a:lnTo>
                  <a:pt x="2032" y="1386"/>
                </a:lnTo>
                <a:lnTo>
                  <a:pt x="2037" y="1378"/>
                </a:lnTo>
                <a:lnTo>
                  <a:pt x="2041" y="1370"/>
                </a:lnTo>
                <a:lnTo>
                  <a:pt x="2046" y="1361"/>
                </a:lnTo>
                <a:lnTo>
                  <a:pt x="2049" y="1353"/>
                </a:lnTo>
                <a:lnTo>
                  <a:pt x="2052" y="1346"/>
                </a:lnTo>
                <a:lnTo>
                  <a:pt x="2054" y="1339"/>
                </a:lnTo>
                <a:lnTo>
                  <a:pt x="2057" y="1331"/>
                </a:lnTo>
                <a:lnTo>
                  <a:pt x="2057" y="1330"/>
                </a:lnTo>
                <a:lnTo>
                  <a:pt x="2059" y="1328"/>
                </a:lnTo>
                <a:lnTo>
                  <a:pt x="2059" y="1326"/>
                </a:lnTo>
                <a:lnTo>
                  <a:pt x="2060" y="1323"/>
                </a:lnTo>
                <a:lnTo>
                  <a:pt x="2060" y="1321"/>
                </a:lnTo>
                <a:lnTo>
                  <a:pt x="2062" y="1319"/>
                </a:lnTo>
                <a:lnTo>
                  <a:pt x="2064" y="1317"/>
                </a:lnTo>
                <a:lnTo>
                  <a:pt x="2066" y="1313"/>
                </a:lnTo>
                <a:lnTo>
                  <a:pt x="2066" y="1311"/>
                </a:lnTo>
                <a:lnTo>
                  <a:pt x="2068" y="1310"/>
                </a:lnTo>
                <a:lnTo>
                  <a:pt x="2069" y="1308"/>
                </a:lnTo>
                <a:lnTo>
                  <a:pt x="2071" y="1305"/>
                </a:lnTo>
                <a:lnTo>
                  <a:pt x="2071" y="1303"/>
                </a:lnTo>
                <a:lnTo>
                  <a:pt x="2072" y="1301"/>
                </a:lnTo>
                <a:lnTo>
                  <a:pt x="2072" y="1299"/>
                </a:lnTo>
                <a:lnTo>
                  <a:pt x="2074" y="1295"/>
                </a:lnTo>
                <a:lnTo>
                  <a:pt x="2074" y="1291"/>
                </a:lnTo>
                <a:lnTo>
                  <a:pt x="2076" y="1285"/>
                </a:lnTo>
                <a:lnTo>
                  <a:pt x="2077" y="1280"/>
                </a:lnTo>
                <a:lnTo>
                  <a:pt x="2078" y="1273"/>
                </a:lnTo>
                <a:lnTo>
                  <a:pt x="2080" y="1268"/>
                </a:lnTo>
                <a:lnTo>
                  <a:pt x="2082" y="1260"/>
                </a:lnTo>
                <a:lnTo>
                  <a:pt x="2084" y="1253"/>
                </a:lnTo>
                <a:lnTo>
                  <a:pt x="2088" y="1246"/>
                </a:lnTo>
                <a:lnTo>
                  <a:pt x="2090" y="1241"/>
                </a:lnTo>
                <a:lnTo>
                  <a:pt x="2094" y="1233"/>
                </a:lnTo>
                <a:lnTo>
                  <a:pt x="2096" y="1228"/>
                </a:lnTo>
                <a:lnTo>
                  <a:pt x="2100" y="1221"/>
                </a:lnTo>
                <a:lnTo>
                  <a:pt x="2102" y="1215"/>
                </a:lnTo>
                <a:lnTo>
                  <a:pt x="2106" y="1210"/>
                </a:lnTo>
                <a:lnTo>
                  <a:pt x="2108" y="1205"/>
                </a:lnTo>
                <a:lnTo>
                  <a:pt x="2112" y="1201"/>
                </a:lnTo>
                <a:lnTo>
                  <a:pt x="2112" y="1201"/>
                </a:lnTo>
                <a:lnTo>
                  <a:pt x="2114" y="1199"/>
                </a:lnTo>
                <a:lnTo>
                  <a:pt x="2115" y="1199"/>
                </a:lnTo>
                <a:lnTo>
                  <a:pt x="2117" y="1197"/>
                </a:lnTo>
                <a:lnTo>
                  <a:pt x="2119" y="1197"/>
                </a:lnTo>
                <a:lnTo>
                  <a:pt x="2121" y="1195"/>
                </a:lnTo>
                <a:lnTo>
                  <a:pt x="2123" y="1193"/>
                </a:lnTo>
                <a:lnTo>
                  <a:pt x="2126" y="1191"/>
                </a:lnTo>
                <a:lnTo>
                  <a:pt x="2128" y="1191"/>
                </a:lnTo>
                <a:lnTo>
                  <a:pt x="2130" y="1189"/>
                </a:lnTo>
                <a:lnTo>
                  <a:pt x="2132" y="1188"/>
                </a:lnTo>
                <a:lnTo>
                  <a:pt x="2134" y="1186"/>
                </a:lnTo>
                <a:lnTo>
                  <a:pt x="2135" y="1186"/>
                </a:lnTo>
                <a:lnTo>
                  <a:pt x="2137" y="1184"/>
                </a:lnTo>
                <a:lnTo>
                  <a:pt x="2138" y="1183"/>
                </a:lnTo>
                <a:lnTo>
                  <a:pt x="2140" y="1181"/>
                </a:lnTo>
                <a:lnTo>
                  <a:pt x="2141" y="1180"/>
                </a:lnTo>
                <a:lnTo>
                  <a:pt x="2143" y="1178"/>
                </a:lnTo>
                <a:lnTo>
                  <a:pt x="2145" y="1176"/>
                </a:lnTo>
                <a:lnTo>
                  <a:pt x="2146" y="1174"/>
                </a:lnTo>
                <a:lnTo>
                  <a:pt x="2148" y="1172"/>
                </a:lnTo>
                <a:lnTo>
                  <a:pt x="2150" y="1169"/>
                </a:lnTo>
                <a:lnTo>
                  <a:pt x="2152" y="1167"/>
                </a:lnTo>
                <a:lnTo>
                  <a:pt x="2155" y="1163"/>
                </a:lnTo>
                <a:lnTo>
                  <a:pt x="2157" y="1161"/>
                </a:lnTo>
                <a:lnTo>
                  <a:pt x="2159" y="1158"/>
                </a:lnTo>
                <a:lnTo>
                  <a:pt x="2161" y="1156"/>
                </a:lnTo>
                <a:lnTo>
                  <a:pt x="2163" y="1153"/>
                </a:lnTo>
                <a:lnTo>
                  <a:pt x="2164" y="1151"/>
                </a:lnTo>
                <a:lnTo>
                  <a:pt x="2165" y="1148"/>
                </a:lnTo>
                <a:lnTo>
                  <a:pt x="2167" y="1146"/>
                </a:lnTo>
                <a:lnTo>
                  <a:pt x="2169" y="1143"/>
                </a:lnTo>
                <a:lnTo>
                  <a:pt x="2169" y="1143"/>
                </a:lnTo>
                <a:lnTo>
                  <a:pt x="2169" y="1142"/>
                </a:lnTo>
                <a:lnTo>
                  <a:pt x="2169" y="1141"/>
                </a:lnTo>
                <a:lnTo>
                  <a:pt x="2171" y="1139"/>
                </a:lnTo>
                <a:lnTo>
                  <a:pt x="2171" y="1139"/>
                </a:lnTo>
                <a:lnTo>
                  <a:pt x="2172" y="1137"/>
                </a:lnTo>
                <a:lnTo>
                  <a:pt x="2172" y="1135"/>
                </a:lnTo>
                <a:lnTo>
                  <a:pt x="2174" y="1134"/>
                </a:lnTo>
                <a:lnTo>
                  <a:pt x="2174" y="1134"/>
                </a:lnTo>
                <a:lnTo>
                  <a:pt x="2174" y="1132"/>
                </a:lnTo>
                <a:lnTo>
                  <a:pt x="2174" y="1131"/>
                </a:lnTo>
                <a:lnTo>
                  <a:pt x="2175" y="1129"/>
                </a:lnTo>
                <a:lnTo>
                  <a:pt x="2175" y="1129"/>
                </a:lnTo>
                <a:lnTo>
                  <a:pt x="2176" y="1127"/>
                </a:lnTo>
                <a:lnTo>
                  <a:pt x="2176" y="1126"/>
                </a:lnTo>
                <a:lnTo>
                  <a:pt x="2178" y="1124"/>
                </a:lnTo>
                <a:lnTo>
                  <a:pt x="2180" y="1122"/>
                </a:lnTo>
                <a:lnTo>
                  <a:pt x="2184" y="1118"/>
                </a:lnTo>
                <a:lnTo>
                  <a:pt x="2187" y="1114"/>
                </a:lnTo>
                <a:lnTo>
                  <a:pt x="2192" y="1111"/>
                </a:lnTo>
                <a:lnTo>
                  <a:pt x="2195" y="1107"/>
                </a:lnTo>
                <a:lnTo>
                  <a:pt x="2200" y="1103"/>
                </a:lnTo>
                <a:lnTo>
                  <a:pt x="2205" y="1099"/>
                </a:lnTo>
                <a:lnTo>
                  <a:pt x="2211" y="1095"/>
                </a:lnTo>
                <a:lnTo>
                  <a:pt x="2215" y="1091"/>
                </a:lnTo>
                <a:lnTo>
                  <a:pt x="2220" y="1087"/>
                </a:lnTo>
                <a:lnTo>
                  <a:pt x="2224" y="1084"/>
                </a:lnTo>
                <a:lnTo>
                  <a:pt x="2230" y="1080"/>
                </a:lnTo>
                <a:lnTo>
                  <a:pt x="2233" y="1077"/>
                </a:lnTo>
                <a:lnTo>
                  <a:pt x="2238" y="1074"/>
                </a:lnTo>
                <a:lnTo>
                  <a:pt x="2242" y="1071"/>
                </a:lnTo>
                <a:lnTo>
                  <a:pt x="2245" y="1067"/>
                </a:lnTo>
                <a:lnTo>
                  <a:pt x="2247" y="1065"/>
                </a:lnTo>
                <a:lnTo>
                  <a:pt x="2250" y="1063"/>
                </a:lnTo>
                <a:lnTo>
                  <a:pt x="2252" y="1061"/>
                </a:lnTo>
                <a:lnTo>
                  <a:pt x="2255" y="1057"/>
                </a:lnTo>
                <a:lnTo>
                  <a:pt x="2257" y="1055"/>
                </a:lnTo>
                <a:lnTo>
                  <a:pt x="2261" y="1051"/>
                </a:lnTo>
                <a:lnTo>
                  <a:pt x="2264" y="1047"/>
                </a:lnTo>
                <a:lnTo>
                  <a:pt x="2268" y="1043"/>
                </a:lnTo>
                <a:lnTo>
                  <a:pt x="2270" y="1041"/>
                </a:lnTo>
                <a:lnTo>
                  <a:pt x="2274" y="1038"/>
                </a:lnTo>
                <a:lnTo>
                  <a:pt x="2277" y="1034"/>
                </a:lnTo>
                <a:lnTo>
                  <a:pt x="2281" y="1030"/>
                </a:lnTo>
                <a:lnTo>
                  <a:pt x="2283" y="1028"/>
                </a:lnTo>
                <a:lnTo>
                  <a:pt x="2286" y="1025"/>
                </a:lnTo>
                <a:lnTo>
                  <a:pt x="2289" y="1023"/>
                </a:lnTo>
                <a:lnTo>
                  <a:pt x="2293" y="1019"/>
                </a:lnTo>
                <a:lnTo>
                  <a:pt x="2297" y="1016"/>
                </a:lnTo>
                <a:lnTo>
                  <a:pt x="2302" y="1013"/>
                </a:lnTo>
                <a:lnTo>
                  <a:pt x="2309" y="1009"/>
                </a:lnTo>
                <a:lnTo>
                  <a:pt x="2316" y="1005"/>
                </a:lnTo>
                <a:lnTo>
                  <a:pt x="2324" y="1001"/>
                </a:lnTo>
                <a:lnTo>
                  <a:pt x="2331" y="998"/>
                </a:lnTo>
                <a:lnTo>
                  <a:pt x="2339" y="994"/>
                </a:lnTo>
                <a:lnTo>
                  <a:pt x="2348" y="989"/>
                </a:lnTo>
                <a:lnTo>
                  <a:pt x="2356" y="986"/>
                </a:lnTo>
                <a:lnTo>
                  <a:pt x="2364" y="982"/>
                </a:lnTo>
                <a:lnTo>
                  <a:pt x="2371" y="978"/>
                </a:lnTo>
                <a:lnTo>
                  <a:pt x="2380" y="975"/>
                </a:lnTo>
                <a:lnTo>
                  <a:pt x="2386" y="972"/>
                </a:lnTo>
                <a:lnTo>
                  <a:pt x="2394" y="968"/>
                </a:lnTo>
                <a:lnTo>
                  <a:pt x="2400" y="966"/>
                </a:lnTo>
                <a:lnTo>
                  <a:pt x="2407" y="962"/>
                </a:lnTo>
                <a:lnTo>
                  <a:pt x="2416" y="958"/>
                </a:lnTo>
                <a:lnTo>
                  <a:pt x="2428" y="955"/>
                </a:lnTo>
                <a:lnTo>
                  <a:pt x="2440" y="951"/>
                </a:lnTo>
                <a:lnTo>
                  <a:pt x="2455" y="945"/>
                </a:lnTo>
                <a:lnTo>
                  <a:pt x="2469" y="941"/>
                </a:lnTo>
                <a:lnTo>
                  <a:pt x="2484" y="936"/>
                </a:lnTo>
                <a:lnTo>
                  <a:pt x="2499" y="931"/>
                </a:lnTo>
                <a:lnTo>
                  <a:pt x="2515" y="925"/>
                </a:lnTo>
                <a:lnTo>
                  <a:pt x="2530" y="921"/>
                </a:lnTo>
                <a:lnTo>
                  <a:pt x="2545" y="915"/>
                </a:lnTo>
                <a:lnTo>
                  <a:pt x="2559" y="910"/>
                </a:lnTo>
                <a:lnTo>
                  <a:pt x="2574" y="903"/>
                </a:lnTo>
                <a:lnTo>
                  <a:pt x="2585" y="898"/>
                </a:lnTo>
                <a:lnTo>
                  <a:pt x="2597" y="891"/>
                </a:lnTo>
                <a:lnTo>
                  <a:pt x="2607" y="884"/>
                </a:lnTo>
                <a:lnTo>
                  <a:pt x="2616" y="877"/>
                </a:lnTo>
                <a:lnTo>
                  <a:pt x="2616" y="875"/>
                </a:lnTo>
                <a:lnTo>
                  <a:pt x="2618" y="873"/>
                </a:lnTo>
                <a:lnTo>
                  <a:pt x="2619" y="872"/>
                </a:lnTo>
                <a:lnTo>
                  <a:pt x="2621" y="869"/>
                </a:lnTo>
                <a:lnTo>
                  <a:pt x="2621" y="867"/>
                </a:lnTo>
                <a:lnTo>
                  <a:pt x="2623" y="864"/>
                </a:lnTo>
                <a:lnTo>
                  <a:pt x="2624" y="862"/>
                </a:lnTo>
                <a:lnTo>
                  <a:pt x="2626" y="859"/>
                </a:lnTo>
                <a:lnTo>
                  <a:pt x="2626" y="857"/>
                </a:lnTo>
                <a:lnTo>
                  <a:pt x="2628" y="853"/>
                </a:lnTo>
                <a:lnTo>
                  <a:pt x="2628" y="852"/>
                </a:lnTo>
                <a:lnTo>
                  <a:pt x="2630" y="848"/>
                </a:lnTo>
                <a:lnTo>
                  <a:pt x="2630" y="846"/>
                </a:lnTo>
                <a:lnTo>
                  <a:pt x="2632" y="843"/>
                </a:lnTo>
                <a:lnTo>
                  <a:pt x="2633" y="842"/>
                </a:lnTo>
                <a:lnTo>
                  <a:pt x="2635" y="839"/>
                </a:lnTo>
                <a:lnTo>
                  <a:pt x="2636" y="837"/>
                </a:lnTo>
                <a:lnTo>
                  <a:pt x="2638" y="833"/>
                </a:lnTo>
                <a:lnTo>
                  <a:pt x="2640" y="829"/>
                </a:lnTo>
                <a:lnTo>
                  <a:pt x="2642" y="825"/>
                </a:lnTo>
                <a:lnTo>
                  <a:pt x="2644" y="822"/>
                </a:lnTo>
                <a:lnTo>
                  <a:pt x="2646" y="818"/>
                </a:lnTo>
                <a:lnTo>
                  <a:pt x="2648" y="814"/>
                </a:lnTo>
                <a:lnTo>
                  <a:pt x="2652" y="809"/>
                </a:lnTo>
                <a:lnTo>
                  <a:pt x="2654" y="805"/>
                </a:lnTo>
                <a:lnTo>
                  <a:pt x="2657" y="801"/>
                </a:lnTo>
                <a:lnTo>
                  <a:pt x="2659" y="797"/>
                </a:lnTo>
                <a:lnTo>
                  <a:pt x="2663" y="794"/>
                </a:lnTo>
                <a:lnTo>
                  <a:pt x="2664" y="791"/>
                </a:lnTo>
                <a:lnTo>
                  <a:pt x="2668" y="787"/>
                </a:lnTo>
                <a:lnTo>
                  <a:pt x="2670" y="785"/>
                </a:lnTo>
                <a:lnTo>
                  <a:pt x="2673" y="781"/>
                </a:lnTo>
                <a:lnTo>
                  <a:pt x="2675" y="779"/>
                </a:lnTo>
                <a:lnTo>
                  <a:pt x="2679" y="777"/>
                </a:lnTo>
                <a:lnTo>
                  <a:pt x="2683" y="775"/>
                </a:lnTo>
                <a:lnTo>
                  <a:pt x="2687" y="772"/>
                </a:lnTo>
                <a:lnTo>
                  <a:pt x="2691" y="770"/>
                </a:lnTo>
                <a:lnTo>
                  <a:pt x="2696" y="766"/>
                </a:lnTo>
                <a:lnTo>
                  <a:pt x="2700" y="764"/>
                </a:lnTo>
                <a:lnTo>
                  <a:pt x="2706" y="761"/>
                </a:lnTo>
                <a:lnTo>
                  <a:pt x="2710" y="759"/>
                </a:lnTo>
                <a:lnTo>
                  <a:pt x="2714" y="757"/>
                </a:lnTo>
                <a:lnTo>
                  <a:pt x="2718" y="755"/>
                </a:lnTo>
                <a:lnTo>
                  <a:pt x="2724" y="751"/>
                </a:lnTo>
                <a:lnTo>
                  <a:pt x="2728" y="749"/>
                </a:lnTo>
                <a:lnTo>
                  <a:pt x="2732" y="747"/>
                </a:lnTo>
                <a:lnTo>
                  <a:pt x="2736" y="745"/>
                </a:lnTo>
                <a:lnTo>
                  <a:pt x="2740" y="743"/>
                </a:lnTo>
                <a:lnTo>
                  <a:pt x="2747" y="739"/>
                </a:lnTo>
                <a:lnTo>
                  <a:pt x="2755" y="734"/>
                </a:lnTo>
                <a:lnTo>
                  <a:pt x="2764" y="729"/>
                </a:lnTo>
                <a:lnTo>
                  <a:pt x="2773" y="723"/>
                </a:lnTo>
                <a:lnTo>
                  <a:pt x="2782" y="717"/>
                </a:lnTo>
                <a:lnTo>
                  <a:pt x="2793" y="710"/>
                </a:lnTo>
                <a:lnTo>
                  <a:pt x="2803" y="704"/>
                </a:lnTo>
                <a:lnTo>
                  <a:pt x="2814" y="696"/>
                </a:lnTo>
                <a:lnTo>
                  <a:pt x="2824" y="691"/>
                </a:lnTo>
                <a:lnTo>
                  <a:pt x="2835" y="685"/>
                </a:lnTo>
                <a:lnTo>
                  <a:pt x="2845" y="679"/>
                </a:lnTo>
                <a:lnTo>
                  <a:pt x="2856" y="673"/>
                </a:lnTo>
                <a:lnTo>
                  <a:pt x="2866" y="669"/>
                </a:lnTo>
                <a:lnTo>
                  <a:pt x="2875" y="664"/>
                </a:lnTo>
                <a:lnTo>
                  <a:pt x="2883" y="661"/>
                </a:lnTo>
                <a:lnTo>
                  <a:pt x="2892" y="657"/>
                </a:lnTo>
                <a:lnTo>
                  <a:pt x="2900" y="656"/>
                </a:lnTo>
                <a:lnTo>
                  <a:pt x="2909" y="655"/>
                </a:lnTo>
                <a:lnTo>
                  <a:pt x="2919" y="655"/>
                </a:lnTo>
                <a:lnTo>
                  <a:pt x="2930" y="653"/>
                </a:lnTo>
                <a:lnTo>
                  <a:pt x="2942" y="653"/>
                </a:lnTo>
                <a:lnTo>
                  <a:pt x="2954" y="652"/>
                </a:lnTo>
                <a:lnTo>
                  <a:pt x="2965" y="652"/>
                </a:lnTo>
                <a:lnTo>
                  <a:pt x="2978" y="651"/>
                </a:lnTo>
                <a:lnTo>
                  <a:pt x="2989" y="651"/>
                </a:lnTo>
                <a:lnTo>
                  <a:pt x="3002" y="651"/>
                </a:lnTo>
                <a:lnTo>
                  <a:pt x="3013" y="651"/>
                </a:lnTo>
                <a:lnTo>
                  <a:pt x="3024" y="651"/>
                </a:lnTo>
                <a:lnTo>
                  <a:pt x="3034" y="651"/>
                </a:lnTo>
                <a:lnTo>
                  <a:pt x="3045" y="650"/>
                </a:lnTo>
                <a:lnTo>
                  <a:pt x="3054" y="649"/>
                </a:lnTo>
                <a:lnTo>
                  <a:pt x="3063" y="648"/>
                </a:lnTo>
                <a:lnTo>
                  <a:pt x="3070" y="647"/>
                </a:lnTo>
                <a:lnTo>
                  <a:pt x="3078" y="645"/>
                </a:lnTo>
                <a:lnTo>
                  <a:pt x="3086" y="643"/>
                </a:lnTo>
                <a:lnTo>
                  <a:pt x="3095" y="641"/>
                </a:lnTo>
                <a:lnTo>
                  <a:pt x="3104" y="639"/>
                </a:lnTo>
                <a:lnTo>
                  <a:pt x="3114" y="636"/>
                </a:lnTo>
                <a:lnTo>
                  <a:pt x="3123" y="633"/>
                </a:lnTo>
                <a:lnTo>
                  <a:pt x="3134" y="629"/>
                </a:lnTo>
                <a:lnTo>
                  <a:pt x="3144" y="628"/>
                </a:lnTo>
                <a:lnTo>
                  <a:pt x="3153" y="624"/>
                </a:lnTo>
                <a:lnTo>
                  <a:pt x="3162" y="622"/>
                </a:lnTo>
                <a:lnTo>
                  <a:pt x="3173" y="618"/>
                </a:lnTo>
                <a:lnTo>
                  <a:pt x="3181" y="617"/>
                </a:lnTo>
                <a:lnTo>
                  <a:pt x="3190" y="614"/>
                </a:lnTo>
                <a:lnTo>
                  <a:pt x="3198" y="612"/>
                </a:lnTo>
                <a:lnTo>
                  <a:pt x="3206" y="609"/>
                </a:lnTo>
                <a:lnTo>
                  <a:pt x="3218" y="608"/>
                </a:lnTo>
                <a:lnTo>
                  <a:pt x="3232" y="606"/>
                </a:lnTo>
                <a:lnTo>
                  <a:pt x="3247" y="604"/>
                </a:lnTo>
                <a:lnTo>
                  <a:pt x="3264" y="600"/>
                </a:lnTo>
                <a:lnTo>
                  <a:pt x="3281" y="598"/>
                </a:lnTo>
                <a:lnTo>
                  <a:pt x="3299" y="596"/>
                </a:lnTo>
                <a:lnTo>
                  <a:pt x="3317" y="594"/>
                </a:lnTo>
                <a:lnTo>
                  <a:pt x="3336" y="590"/>
                </a:lnTo>
                <a:lnTo>
                  <a:pt x="3353" y="588"/>
                </a:lnTo>
                <a:lnTo>
                  <a:pt x="3372" y="585"/>
                </a:lnTo>
                <a:lnTo>
                  <a:pt x="3388" y="582"/>
                </a:lnTo>
                <a:lnTo>
                  <a:pt x="3406" y="578"/>
                </a:lnTo>
                <a:lnTo>
                  <a:pt x="3422" y="575"/>
                </a:lnTo>
                <a:lnTo>
                  <a:pt x="3437" y="571"/>
                </a:lnTo>
                <a:lnTo>
                  <a:pt x="3451" y="567"/>
                </a:lnTo>
                <a:lnTo>
                  <a:pt x="3463" y="562"/>
                </a:lnTo>
                <a:lnTo>
                  <a:pt x="3471" y="559"/>
                </a:lnTo>
                <a:lnTo>
                  <a:pt x="3480" y="555"/>
                </a:lnTo>
                <a:lnTo>
                  <a:pt x="3490" y="549"/>
                </a:lnTo>
                <a:lnTo>
                  <a:pt x="3501" y="543"/>
                </a:lnTo>
                <a:lnTo>
                  <a:pt x="3512" y="537"/>
                </a:lnTo>
                <a:lnTo>
                  <a:pt x="3523" y="530"/>
                </a:lnTo>
                <a:lnTo>
                  <a:pt x="3534" y="522"/>
                </a:lnTo>
                <a:lnTo>
                  <a:pt x="3547" y="515"/>
                </a:lnTo>
                <a:lnTo>
                  <a:pt x="3558" y="507"/>
                </a:lnTo>
                <a:lnTo>
                  <a:pt x="3569" y="500"/>
                </a:lnTo>
                <a:lnTo>
                  <a:pt x="3579" y="492"/>
                </a:lnTo>
                <a:lnTo>
                  <a:pt x="3590" y="484"/>
                </a:lnTo>
                <a:lnTo>
                  <a:pt x="3599" y="478"/>
                </a:lnTo>
                <a:lnTo>
                  <a:pt x="3609" y="470"/>
                </a:lnTo>
                <a:lnTo>
                  <a:pt x="3616" y="464"/>
                </a:lnTo>
                <a:lnTo>
                  <a:pt x="3625" y="457"/>
                </a:lnTo>
                <a:lnTo>
                  <a:pt x="3630" y="453"/>
                </a:lnTo>
                <a:lnTo>
                  <a:pt x="3636" y="448"/>
                </a:lnTo>
                <a:lnTo>
                  <a:pt x="3641" y="442"/>
                </a:lnTo>
                <a:lnTo>
                  <a:pt x="3648" y="435"/>
                </a:lnTo>
                <a:lnTo>
                  <a:pt x="3654" y="429"/>
                </a:lnTo>
                <a:lnTo>
                  <a:pt x="3662" y="421"/>
                </a:lnTo>
                <a:lnTo>
                  <a:pt x="3669" y="414"/>
                </a:lnTo>
                <a:lnTo>
                  <a:pt x="3677" y="405"/>
                </a:lnTo>
                <a:lnTo>
                  <a:pt x="3682" y="399"/>
                </a:lnTo>
                <a:lnTo>
                  <a:pt x="3690" y="391"/>
                </a:lnTo>
                <a:lnTo>
                  <a:pt x="3697" y="384"/>
                </a:lnTo>
                <a:lnTo>
                  <a:pt x="3704" y="376"/>
                </a:lnTo>
                <a:lnTo>
                  <a:pt x="3710" y="371"/>
                </a:lnTo>
                <a:lnTo>
                  <a:pt x="3717" y="364"/>
                </a:lnTo>
                <a:lnTo>
                  <a:pt x="3723" y="358"/>
                </a:lnTo>
                <a:lnTo>
                  <a:pt x="3730" y="353"/>
                </a:lnTo>
                <a:lnTo>
                  <a:pt x="3734" y="351"/>
                </a:lnTo>
                <a:lnTo>
                  <a:pt x="3738" y="347"/>
                </a:lnTo>
                <a:lnTo>
                  <a:pt x="3744" y="344"/>
                </a:lnTo>
                <a:lnTo>
                  <a:pt x="3749" y="340"/>
                </a:lnTo>
                <a:lnTo>
                  <a:pt x="3755" y="337"/>
                </a:lnTo>
                <a:lnTo>
                  <a:pt x="3761" y="333"/>
                </a:lnTo>
                <a:lnTo>
                  <a:pt x="3766" y="329"/>
                </a:lnTo>
                <a:lnTo>
                  <a:pt x="3774" y="326"/>
                </a:lnTo>
                <a:lnTo>
                  <a:pt x="3780" y="322"/>
                </a:lnTo>
                <a:lnTo>
                  <a:pt x="3786" y="318"/>
                </a:lnTo>
                <a:lnTo>
                  <a:pt x="3792" y="314"/>
                </a:lnTo>
                <a:lnTo>
                  <a:pt x="3798" y="311"/>
                </a:lnTo>
                <a:lnTo>
                  <a:pt x="3802" y="307"/>
                </a:lnTo>
                <a:lnTo>
                  <a:pt x="3808" y="303"/>
                </a:lnTo>
                <a:lnTo>
                  <a:pt x="3812" y="299"/>
                </a:lnTo>
                <a:lnTo>
                  <a:pt x="3815" y="295"/>
                </a:lnTo>
                <a:lnTo>
                  <a:pt x="3818" y="290"/>
                </a:lnTo>
                <a:lnTo>
                  <a:pt x="3822" y="283"/>
                </a:lnTo>
                <a:lnTo>
                  <a:pt x="3823" y="276"/>
                </a:lnTo>
                <a:lnTo>
                  <a:pt x="3826" y="267"/>
                </a:lnTo>
                <a:lnTo>
                  <a:pt x="3828" y="258"/>
                </a:lnTo>
                <a:lnTo>
                  <a:pt x="3830" y="249"/>
                </a:lnTo>
                <a:lnTo>
                  <a:pt x="3832" y="239"/>
                </a:lnTo>
                <a:lnTo>
                  <a:pt x="3834" y="229"/>
                </a:lnTo>
                <a:lnTo>
                  <a:pt x="3836" y="219"/>
                </a:lnTo>
                <a:lnTo>
                  <a:pt x="3838" y="210"/>
                </a:lnTo>
                <a:lnTo>
                  <a:pt x="3840" y="201"/>
                </a:lnTo>
                <a:lnTo>
                  <a:pt x="3842" y="191"/>
                </a:lnTo>
                <a:lnTo>
                  <a:pt x="3844" y="184"/>
                </a:lnTo>
                <a:lnTo>
                  <a:pt x="3847" y="175"/>
                </a:lnTo>
                <a:lnTo>
                  <a:pt x="3850" y="169"/>
                </a:lnTo>
                <a:lnTo>
                  <a:pt x="3853" y="162"/>
                </a:lnTo>
                <a:lnTo>
                  <a:pt x="3856" y="157"/>
                </a:lnTo>
                <a:lnTo>
                  <a:pt x="3861" y="151"/>
                </a:lnTo>
                <a:lnTo>
                  <a:pt x="3867" y="145"/>
                </a:lnTo>
                <a:lnTo>
                  <a:pt x="3874" y="139"/>
                </a:lnTo>
                <a:lnTo>
                  <a:pt x="3881" y="133"/>
                </a:lnTo>
                <a:lnTo>
                  <a:pt x="3889" y="128"/>
                </a:lnTo>
                <a:lnTo>
                  <a:pt x="3896" y="122"/>
                </a:lnTo>
                <a:lnTo>
                  <a:pt x="3905" y="115"/>
                </a:lnTo>
                <a:lnTo>
                  <a:pt x="3912" y="109"/>
                </a:lnTo>
                <a:lnTo>
                  <a:pt x="3920" y="103"/>
                </a:lnTo>
                <a:lnTo>
                  <a:pt x="3928" y="98"/>
                </a:lnTo>
                <a:lnTo>
                  <a:pt x="3936" y="90"/>
                </a:lnTo>
                <a:lnTo>
                  <a:pt x="3941" y="85"/>
                </a:lnTo>
                <a:lnTo>
                  <a:pt x="3948" y="79"/>
                </a:lnTo>
                <a:lnTo>
                  <a:pt x="3953" y="73"/>
                </a:lnTo>
                <a:lnTo>
                  <a:pt x="3958" y="67"/>
                </a:lnTo>
                <a:lnTo>
                  <a:pt x="3958" y="65"/>
                </a:lnTo>
                <a:lnTo>
                  <a:pt x="3960" y="61"/>
                </a:lnTo>
                <a:lnTo>
                  <a:pt x="3962" y="57"/>
                </a:lnTo>
                <a:lnTo>
                  <a:pt x="3964" y="51"/>
                </a:lnTo>
                <a:lnTo>
                  <a:pt x="3965" y="45"/>
                </a:lnTo>
                <a:lnTo>
                  <a:pt x="3967" y="40"/>
                </a:lnTo>
                <a:lnTo>
                  <a:pt x="3969" y="34"/>
                </a:lnTo>
                <a:lnTo>
                  <a:pt x="3970" y="28"/>
                </a:lnTo>
                <a:lnTo>
                  <a:pt x="3970" y="24"/>
                </a:lnTo>
                <a:lnTo>
                  <a:pt x="3972" y="18"/>
                </a:lnTo>
                <a:lnTo>
                  <a:pt x="3973" y="14"/>
                </a:lnTo>
                <a:lnTo>
                  <a:pt x="3975" y="9"/>
                </a:lnTo>
                <a:lnTo>
                  <a:pt x="3975" y="6"/>
                </a:lnTo>
                <a:lnTo>
                  <a:pt x="3976" y="3"/>
                </a:lnTo>
                <a:lnTo>
                  <a:pt x="3976" y="1"/>
                </a:lnTo>
                <a:lnTo>
                  <a:pt x="3977" y="0"/>
                </a:lnTo>
              </a:path>
            </a:pathLst>
          </a:custGeom>
          <a:noFill/>
          <a:ln w="254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133720"/>
            <a:ext cx="6315120" cy="4886280"/>
          </a:xfrm>
          <a:custGeom>
            <a:avLst/>
            <a:gdLst/>
            <a:ahLst/>
            <a:rect l="l" t="t" r="r" b="b"/>
            <a:pathLst>
              <a:path w="3978" h="3078">
                <a:moveTo>
                  <a:pt x="0" y="3077"/>
                </a:moveTo>
                <a:lnTo>
                  <a:pt x="1" y="3076"/>
                </a:lnTo>
                <a:lnTo>
                  <a:pt x="4" y="3072"/>
                </a:lnTo>
                <a:lnTo>
                  <a:pt x="9" y="3066"/>
                </a:lnTo>
                <a:lnTo>
                  <a:pt x="18" y="3058"/>
                </a:lnTo>
                <a:lnTo>
                  <a:pt x="26" y="3049"/>
                </a:lnTo>
                <a:lnTo>
                  <a:pt x="35" y="3039"/>
                </a:lnTo>
                <a:lnTo>
                  <a:pt x="46" y="3028"/>
                </a:lnTo>
                <a:lnTo>
                  <a:pt x="57" y="3016"/>
                </a:lnTo>
                <a:lnTo>
                  <a:pt x="66" y="3005"/>
                </a:lnTo>
                <a:lnTo>
                  <a:pt x="78" y="2993"/>
                </a:lnTo>
                <a:lnTo>
                  <a:pt x="87" y="2983"/>
                </a:lnTo>
                <a:lnTo>
                  <a:pt x="96" y="2973"/>
                </a:lnTo>
                <a:lnTo>
                  <a:pt x="102" y="2966"/>
                </a:lnTo>
                <a:lnTo>
                  <a:pt x="109" y="2959"/>
                </a:lnTo>
                <a:lnTo>
                  <a:pt x="112" y="2955"/>
                </a:lnTo>
                <a:lnTo>
                  <a:pt x="114" y="2953"/>
                </a:lnTo>
                <a:lnTo>
                  <a:pt x="114" y="2953"/>
                </a:lnTo>
                <a:lnTo>
                  <a:pt x="116" y="2951"/>
                </a:lnTo>
                <a:lnTo>
                  <a:pt x="118" y="2947"/>
                </a:lnTo>
                <a:lnTo>
                  <a:pt x="122" y="2941"/>
                </a:lnTo>
                <a:lnTo>
                  <a:pt x="126" y="2936"/>
                </a:lnTo>
                <a:lnTo>
                  <a:pt x="131" y="2928"/>
                </a:lnTo>
                <a:lnTo>
                  <a:pt x="137" y="2921"/>
                </a:lnTo>
                <a:lnTo>
                  <a:pt x="142" y="2911"/>
                </a:lnTo>
                <a:lnTo>
                  <a:pt x="147" y="2904"/>
                </a:lnTo>
                <a:lnTo>
                  <a:pt x="153" y="2895"/>
                </a:lnTo>
                <a:lnTo>
                  <a:pt x="158" y="2886"/>
                </a:lnTo>
                <a:lnTo>
                  <a:pt x="164" y="2877"/>
                </a:lnTo>
                <a:lnTo>
                  <a:pt x="168" y="2869"/>
                </a:lnTo>
                <a:lnTo>
                  <a:pt x="173" y="2861"/>
                </a:lnTo>
                <a:lnTo>
                  <a:pt x="177" y="2855"/>
                </a:lnTo>
                <a:lnTo>
                  <a:pt x="180" y="2849"/>
                </a:lnTo>
                <a:lnTo>
                  <a:pt x="182" y="2844"/>
                </a:lnTo>
                <a:lnTo>
                  <a:pt x="184" y="2839"/>
                </a:lnTo>
                <a:lnTo>
                  <a:pt x="186" y="2833"/>
                </a:lnTo>
                <a:lnTo>
                  <a:pt x="188" y="2825"/>
                </a:lnTo>
                <a:lnTo>
                  <a:pt x="190" y="2819"/>
                </a:lnTo>
                <a:lnTo>
                  <a:pt x="192" y="2811"/>
                </a:lnTo>
                <a:lnTo>
                  <a:pt x="194" y="2803"/>
                </a:lnTo>
                <a:lnTo>
                  <a:pt x="195" y="2796"/>
                </a:lnTo>
                <a:lnTo>
                  <a:pt x="196" y="2789"/>
                </a:lnTo>
                <a:lnTo>
                  <a:pt x="198" y="2782"/>
                </a:lnTo>
                <a:lnTo>
                  <a:pt x="200" y="2775"/>
                </a:lnTo>
                <a:lnTo>
                  <a:pt x="202" y="2767"/>
                </a:lnTo>
                <a:lnTo>
                  <a:pt x="204" y="2762"/>
                </a:lnTo>
                <a:lnTo>
                  <a:pt x="205" y="2755"/>
                </a:lnTo>
                <a:lnTo>
                  <a:pt x="207" y="2749"/>
                </a:lnTo>
                <a:lnTo>
                  <a:pt x="209" y="2744"/>
                </a:lnTo>
                <a:lnTo>
                  <a:pt x="211" y="2739"/>
                </a:lnTo>
                <a:lnTo>
                  <a:pt x="213" y="2734"/>
                </a:lnTo>
                <a:lnTo>
                  <a:pt x="215" y="2727"/>
                </a:lnTo>
                <a:lnTo>
                  <a:pt x="218" y="2720"/>
                </a:lnTo>
                <a:lnTo>
                  <a:pt x="220" y="2713"/>
                </a:lnTo>
                <a:lnTo>
                  <a:pt x="224" y="2705"/>
                </a:lnTo>
                <a:lnTo>
                  <a:pt x="226" y="2698"/>
                </a:lnTo>
                <a:lnTo>
                  <a:pt x="230" y="2690"/>
                </a:lnTo>
                <a:lnTo>
                  <a:pt x="232" y="2684"/>
                </a:lnTo>
                <a:lnTo>
                  <a:pt x="236" y="2676"/>
                </a:lnTo>
                <a:lnTo>
                  <a:pt x="240" y="2669"/>
                </a:lnTo>
                <a:lnTo>
                  <a:pt x="243" y="2662"/>
                </a:lnTo>
                <a:lnTo>
                  <a:pt x="245" y="2656"/>
                </a:lnTo>
                <a:lnTo>
                  <a:pt x="249" y="2650"/>
                </a:lnTo>
                <a:lnTo>
                  <a:pt x="253" y="2645"/>
                </a:lnTo>
                <a:lnTo>
                  <a:pt x="256" y="2639"/>
                </a:lnTo>
                <a:lnTo>
                  <a:pt x="259" y="2635"/>
                </a:lnTo>
                <a:lnTo>
                  <a:pt x="263" y="2629"/>
                </a:lnTo>
                <a:lnTo>
                  <a:pt x="267" y="2624"/>
                </a:lnTo>
                <a:lnTo>
                  <a:pt x="273" y="2618"/>
                </a:lnTo>
                <a:lnTo>
                  <a:pt x="278" y="2613"/>
                </a:lnTo>
                <a:lnTo>
                  <a:pt x="284" y="2607"/>
                </a:lnTo>
                <a:lnTo>
                  <a:pt x="290" y="2601"/>
                </a:lnTo>
                <a:lnTo>
                  <a:pt x="296" y="2594"/>
                </a:lnTo>
                <a:lnTo>
                  <a:pt x="302" y="2588"/>
                </a:lnTo>
                <a:lnTo>
                  <a:pt x="308" y="2583"/>
                </a:lnTo>
                <a:lnTo>
                  <a:pt x="314" y="2577"/>
                </a:lnTo>
                <a:lnTo>
                  <a:pt x="321" y="2571"/>
                </a:lnTo>
                <a:lnTo>
                  <a:pt x="326" y="2568"/>
                </a:lnTo>
                <a:lnTo>
                  <a:pt x="332" y="2562"/>
                </a:lnTo>
                <a:lnTo>
                  <a:pt x="336" y="2558"/>
                </a:lnTo>
                <a:lnTo>
                  <a:pt x="342" y="2553"/>
                </a:lnTo>
                <a:lnTo>
                  <a:pt x="346" y="2551"/>
                </a:lnTo>
                <a:lnTo>
                  <a:pt x="350" y="2548"/>
                </a:lnTo>
                <a:lnTo>
                  <a:pt x="355" y="2544"/>
                </a:lnTo>
                <a:lnTo>
                  <a:pt x="361" y="2540"/>
                </a:lnTo>
                <a:lnTo>
                  <a:pt x="366" y="2537"/>
                </a:lnTo>
                <a:lnTo>
                  <a:pt x="372" y="2533"/>
                </a:lnTo>
                <a:lnTo>
                  <a:pt x="378" y="2529"/>
                </a:lnTo>
                <a:lnTo>
                  <a:pt x="385" y="2525"/>
                </a:lnTo>
                <a:lnTo>
                  <a:pt x="391" y="2521"/>
                </a:lnTo>
                <a:lnTo>
                  <a:pt x="396" y="2518"/>
                </a:lnTo>
                <a:lnTo>
                  <a:pt x="402" y="2514"/>
                </a:lnTo>
                <a:lnTo>
                  <a:pt x="409" y="2510"/>
                </a:lnTo>
                <a:lnTo>
                  <a:pt x="413" y="2507"/>
                </a:lnTo>
                <a:lnTo>
                  <a:pt x="419" y="2503"/>
                </a:lnTo>
                <a:lnTo>
                  <a:pt x="423" y="2500"/>
                </a:lnTo>
                <a:lnTo>
                  <a:pt x="428" y="2496"/>
                </a:lnTo>
                <a:lnTo>
                  <a:pt x="432" y="2492"/>
                </a:lnTo>
                <a:lnTo>
                  <a:pt x="438" y="2487"/>
                </a:lnTo>
                <a:lnTo>
                  <a:pt x="443" y="2480"/>
                </a:lnTo>
                <a:lnTo>
                  <a:pt x="449" y="2473"/>
                </a:lnTo>
                <a:lnTo>
                  <a:pt x="454" y="2465"/>
                </a:lnTo>
                <a:lnTo>
                  <a:pt x="460" y="2457"/>
                </a:lnTo>
                <a:lnTo>
                  <a:pt x="466" y="2450"/>
                </a:lnTo>
                <a:lnTo>
                  <a:pt x="473" y="2440"/>
                </a:lnTo>
                <a:lnTo>
                  <a:pt x="479" y="2433"/>
                </a:lnTo>
                <a:lnTo>
                  <a:pt x="484" y="2425"/>
                </a:lnTo>
                <a:lnTo>
                  <a:pt x="490" y="2418"/>
                </a:lnTo>
                <a:lnTo>
                  <a:pt x="497" y="2411"/>
                </a:lnTo>
                <a:lnTo>
                  <a:pt x="503" y="2405"/>
                </a:lnTo>
                <a:lnTo>
                  <a:pt x="510" y="2399"/>
                </a:lnTo>
                <a:lnTo>
                  <a:pt x="516" y="2395"/>
                </a:lnTo>
                <a:lnTo>
                  <a:pt x="523" y="2391"/>
                </a:lnTo>
                <a:lnTo>
                  <a:pt x="520" y="2386"/>
                </a:lnTo>
                <a:lnTo>
                  <a:pt x="519" y="2380"/>
                </a:lnTo>
                <a:lnTo>
                  <a:pt x="519" y="2372"/>
                </a:lnTo>
                <a:lnTo>
                  <a:pt x="519" y="2364"/>
                </a:lnTo>
                <a:lnTo>
                  <a:pt x="519" y="2357"/>
                </a:lnTo>
                <a:lnTo>
                  <a:pt x="520" y="2347"/>
                </a:lnTo>
                <a:lnTo>
                  <a:pt x="522" y="2338"/>
                </a:lnTo>
                <a:lnTo>
                  <a:pt x="524" y="2329"/>
                </a:lnTo>
                <a:lnTo>
                  <a:pt x="524" y="2321"/>
                </a:lnTo>
                <a:lnTo>
                  <a:pt x="526" y="2312"/>
                </a:lnTo>
                <a:lnTo>
                  <a:pt x="526" y="2304"/>
                </a:lnTo>
                <a:lnTo>
                  <a:pt x="527" y="2294"/>
                </a:lnTo>
                <a:lnTo>
                  <a:pt x="526" y="2287"/>
                </a:lnTo>
                <a:lnTo>
                  <a:pt x="526" y="2280"/>
                </a:lnTo>
                <a:lnTo>
                  <a:pt x="524" y="2274"/>
                </a:lnTo>
                <a:lnTo>
                  <a:pt x="523" y="2267"/>
                </a:lnTo>
                <a:lnTo>
                  <a:pt x="528" y="2264"/>
                </a:lnTo>
                <a:lnTo>
                  <a:pt x="534" y="2257"/>
                </a:lnTo>
                <a:lnTo>
                  <a:pt x="540" y="2251"/>
                </a:lnTo>
                <a:lnTo>
                  <a:pt x="546" y="2242"/>
                </a:lnTo>
                <a:lnTo>
                  <a:pt x="550" y="2233"/>
                </a:lnTo>
                <a:lnTo>
                  <a:pt x="555" y="2223"/>
                </a:lnTo>
                <a:lnTo>
                  <a:pt x="560" y="2213"/>
                </a:lnTo>
                <a:lnTo>
                  <a:pt x="565" y="2201"/>
                </a:lnTo>
                <a:lnTo>
                  <a:pt x="569" y="2191"/>
                </a:lnTo>
                <a:lnTo>
                  <a:pt x="573" y="2180"/>
                </a:lnTo>
                <a:lnTo>
                  <a:pt x="577" y="2170"/>
                </a:lnTo>
                <a:lnTo>
                  <a:pt x="582" y="2159"/>
                </a:lnTo>
                <a:lnTo>
                  <a:pt x="586" y="2149"/>
                </a:lnTo>
                <a:lnTo>
                  <a:pt x="590" y="2140"/>
                </a:lnTo>
                <a:lnTo>
                  <a:pt x="594" y="2133"/>
                </a:lnTo>
                <a:lnTo>
                  <a:pt x="599" y="2125"/>
                </a:lnTo>
                <a:lnTo>
                  <a:pt x="603" y="2119"/>
                </a:lnTo>
                <a:lnTo>
                  <a:pt x="607" y="2113"/>
                </a:lnTo>
                <a:lnTo>
                  <a:pt x="613" y="2105"/>
                </a:lnTo>
                <a:lnTo>
                  <a:pt x="618" y="2098"/>
                </a:lnTo>
                <a:lnTo>
                  <a:pt x="624" y="2090"/>
                </a:lnTo>
                <a:lnTo>
                  <a:pt x="631" y="2083"/>
                </a:lnTo>
                <a:lnTo>
                  <a:pt x="637" y="2075"/>
                </a:lnTo>
                <a:lnTo>
                  <a:pt x="645" y="2066"/>
                </a:lnTo>
                <a:lnTo>
                  <a:pt x="650" y="2059"/>
                </a:lnTo>
                <a:lnTo>
                  <a:pt x="658" y="2051"/>
                </a:lnTo>
                <a:lnTo>
                  <a:pt x="663" y="2043"/>
                </a:lnTo>
                <a:lnTo>
                  <a:pt x="671" y="2035"/>
                </a:lnTo>
                <a:lnTo>
                  <a:pt x="676" y="2029"/>
                </a:lnTo>
                <a:lnTo>
                  <a:pt x="683" y="2022"/>
                </a:lnTo>
                <a:lnTo>
                  <a:pt x="688" y="2016"/>
                </a:lnTo>
                <a:lnTo>
                  <a:pt x="694" y="2010"/>
                </a:lnTo>
                <a:lnTo>
                  <a:pt x="702" y="2003"/>
                </a:lnTo>
                <a:lnTo>
                  <a:pt x="711" y="1995"/>
                </a:lnTo>
                <a:lnTo>
                  <a:pt x="720" y="1988"/>
                </a:lnTo>
                <a:lnTo>
                  <a:pt x="731" y="1979"/>
                </a:lnTo>
                <a:lnTo>
                  <a:pt x="742" y="1971"/>
                </a:lnTo>
                <a:lnTo>
                  <a:pt x="754" y="1962"/>
                </a:lnTo>
                <a:lnTo>
                  <a:pt x="767" y="1953"/>
                </a:lnTo>
                <a:lnTo>
                  <a:pt x="780" y="1944"/>
                </a:lnTo>
                <a:lnTo>
                  <a:pt x="791" y="1936"/>
                </a:lnTo>
                <a:lnTo>
                  <a:pt x="804" y="1927"/>
                </a:lnTo>
                <a:lnTo>
                  <a:pt x="815" y="1918"/>
                </a:lnTo>
                <a:lnTo>
                  <a:pt x="828" y="1909"/>
                </a:lnTo>
                <a:lnTo>
                  <a:pt x="838" y="1901"/>
                </a:lnTo>
                <a:lnTo>
                  <a:pt x="848" y="1893"/>
                </a:lnTo>
                <a:lnTo>
                  <a:pt x="857" y="1885"/>
                </a:lnTo>
                <a:lnTo>
                  <a:pt x="866" y="1877"/>
                </a:lnTo>
                <a:lnTo>
                  <a:pt x="869" y="1874"/>
                </a:lnTo>
                <a:lnTo>
                  <a:pt x="874" y="1870"/>
                </a:lnTo>
                <a:lnTo>
                  <a:pt x="879" y="1866"/>
                </a:lnTo>
                <a:lnTo>
                  <a:pt x="884" y="1861"/>
                </a:lnTo>
                <a:lnTo>
                  <a:pt x="890" y="1857"/>
                </a:lnTo>
                <a:lnTo>
                  <a:pt x="896" y="1853"/>
                </a:lnTo>
                <a:lnTo>
                  <a:pt x="901" y="1849"/>
                </a:lnTo>
                <a:lnTo>
                  <a:pt x="908" y="1843"/>
                </a:lnTo>
                <a:lnTo>
                  <a:pt x="914" y="1839"/>
                </a:lnTo>
                <a:lnTo>
                  <a:pt x="919" y="1836"/>
                </a:lnTo>
                <a:lnTo>
                  <a:pt x="925" y="1832"/>
                </a:lnTo>
                <a:lnTo>
                  <a:pt x="932" y="1826"/>
                </a:lnTo>
                <a:lnTo>
                  <a:pt x="937" y="1823"/>
                </a:lnTo>
                <a:lnTo>
                  <a:pt x="942" y="1819"/>
                </a:lnTo>
                <a:lnTo>
                  <a:pt x="947" y="1815"/>
                </a:lnTo>
                <a:lnTo>
                  <a:pt x="952" y="1811"/>
                </a:lnTo>
                <a:lnTo>
                  <a:pt x="954" y="1809"/>
                </a:lnTo>
                <a:lnTo>
                  <a:pt x="957" y="1808"/>
                </a:lnTo>
                <a:lnTo>
                  <a:pt x="959" y="1806"/>
                </a:lnTo>
                <a:lnTo>
                  <a:pt x="963" y="1803"/>
                </a:lnTo>
                <a:lnTo>
                  <a:pt x="965" y="1801"/>
                </a:lnTo>
                <a:lnTo>
                  <a:pt x="968" y="1797"/>
                </a:lnTo>
                <a:lnTo>
                  <a:pt x="972" y="1795"/>
                </a:lnTo>
                <a:lnTo>
                  <a:pt x="976" y="1791"/>
                </a:lnTo>
                <a:lnTo>
                  <a:pt x="978" y="1789"/>
                </a:lnTo>
                <a:lnTo>
                  <a:pt x="982" y="1788"/>
                </a:lnTo>
                <a:lnTo>
                  <a:pt x="985" y="1786"/>
                </a:lnTo>
                <a:lnTo>
                  <a:pt x="989" y="1783"/>
                </a:lnTo>
                <a:lnTo>
                  <a:pt x="991" y="1783"/>
                </a:lnTo>
                <a:lnTo>
                  <a:pt x="995" y="1781"/>
                </a:lnTo>
                <a:lnTo>
                  <a:pt x="998" y="1780"/>
                </a:lnTo>
                <a:lnTo>
                  <a:pt x="1002" y="1778"/>
                </a:lnTo>
                <a:lnTo>
                  <a:pt x="1004" y="1778"/>
                </a:lnTo>
                <a:lnTo>
                  <a:pt x="1006" y="1778"/>
                </a:lnTo>
                <a:lnTo>
                  <a:pt x="1008" y="1778"/>
                </a:lnTo>
                <a:lnTo>
                  <a:pt x="1012" y="1778"/>
                </a:lnTo>
                <a:lnTo>
                  <a:pt x="1015" y="1778"/>
                </a:lnTo>
                <a:lnTo>
                  <a:pt x="1019" y="1778"/>
                </a:lnTo>
                <a:lnTo>
                  <a:pt x="1023" y="1778"/>
                </a:lnTo>
                <a:lnTo>
                  <a:pt x="1026" y="1777"/>
                </a:lnTo>
                <a:lnTo>
                  <a:pt x="1030" y="1777"/>
                </a:lnTo>
                <a:lnTo>
                  <a:pt x="1033" y="1777"/>
                </a:lnTo>
                <a:lnTo>
                  <a:pt x="1037" y="1777"/>
                </a:lnTo>
                <a:lnTo>
                  <a:pt x="1041" y="1777"/>
                </a:lnTo>
                <a:lnTo>
                  <a:pt x="1043" y="1777"/>
                </a:lnTo>
                <a:lnTo>
                  <a:pt x="1047" y="1777"/>
                </a:lnTo>
                <a:lnTo>
                  <a:pt x="1049" y="1777"/>
                </a:lnTo>
                <a:lnTo>
                  <a:pt x="1052" y="1775"/>
                </a:lnTo>
                <a:lnTo>
                  <a:pt x="1055" y="1775"/>
                </a:lnTo>
                <a:lnTo>
                  <a:pt x="1060" y="1773"/>
                </a:lnTo>
                <a:lnTo>
                  <a:pt x="1064" y="1770"/>
                </a:lnTo>
                <a:lnTo>
                  <a:pt x="1072" y="1767"/>
                </a:lnTo>
                <a:lnTo>
                  <a:pt x="1078" y="1763"/>
                </a:lnTo>
                <a:lnTo>
                  <a:pt x="1086" y="1759"/>
                </a:lnTo>
                <a:lnTo>
                  <a:pt x="1093" y="1756"/>
                </a:lnTo>
                <a:lnTo>
                  <a:pt x="1102" y="1751"/>
                </a:lnTo>
                <a:lnTo>
                  <a:pt x="1110" y="1747"/>
                </a:lnTo>
                <a:lnTo>
                  <a:pt x="1117" y="1743"/>
                </a:lnTo>
                <a:lnTo>
                  <a:pt x="1124" y="1740"/>
                </a:lnTo>
                <a:lnTo>
                  <a:pt x="1132" y="1735"/>
                </a:lnTo>
                <a:lnTo>
                  <a:pt x="1138" y="1732"/>
                </a:lnTo>
                <a:lnTo>
                  <a:pt x="1143" y="1728"/>
                </a:lnTo>
                <a:lnTo>
                  <a:pt x="1148" y="1727"/>
                </a:lnTo>
                <a:lnTo>
                  <a:pt x="1152" y="1725"/>
                </a:lnTo>
                <a:lnTo>
                  <a:pt x="1163" y="1721"/>
                </a:lnTo>
                <a:lnTo>
                  <a:pt x="1176" y="1716"/>
                </a:lnTo>
                <a:lnTo>
                  <a:pt x="1189" y="1712"/>
                </a:lnTo>
                <a:lnTo>
                  <a:pt x="1202" y="1708"/>
                </a:lnTo>
                <a:lnTo>
                  <a:pt x="1216" y="1706"/>
                </a:lnTo>
                <a:lnTo>
                  <a:pt x="1230" y="1703"/>
                </a:lnTo>
                <a:lnTo>
                  <a:pt x="1244" y="1701"/>
                </a:lnTo>
                <a:lnTo>
                  <a:pt x="1259" y="1698"/>
                </a:lnTo>
                <a:lnTo>
                  <a:pt x="1272" y="1698"/>
                </a:lnTo>
                <a:lnTo>
                  <a:pt x="1287" y="1696"/>
                </a:lnTo>
                <a:lnTo>
                  <a:pt x="1300" y="1696"/>
                </a:lnTo>
                <a:lnTo>
                  <a:pt x="1316" y="1695"/>
                </a:lnTo>
                <a:lnTo>
                  <a:pt x="1328" y="1695"/>
                </a:lnTo>
                <a:lnTo>
                  <a:pt x="1342" y="1695"/>
                </a:lnTo>
                <a:lnTo>
                  <a:pt x="1355" y="1696"/>
                </a:lnTo>
                <a:lnTo>
                  <a:pt x="1370" y="1696"/>
                </a:lnTo>
                <a:lnTo>
                  <a:pt x="1377" y="1698"/>
                </a:lnTo>
                <a:lnTo>
                  <a:pt x="1386" y="1700"/>
                </a:lnTo>
                <a:lnTo>
                  <a:pt x="1396" y="1703"/>
                </a:lnTo>
                <a:lnTo>
                  <a:pt x="1408" y="1706"/>
                </a:lnTo>
                <a:lnTo>
                  <a:pt x="1419" y="1711"/>
                </a:lnTo>
                <a:lnTo>
                  <a:pt x="1431" y="1715"/>
                </a:lnTo>
                <a:lnTo>
                  <a:pt x="1442" y="1720"/>
                </a:lnTo>
                <a:lnTo>
                  <a:pt x="1455" y="1723"/>
                </a:lnTo>
                <a:lnTo>
                  <a:pt x="1466" y="1729"/>
                </a:lnTo>
                <a:lnTo>
                  <a:pt x="1478" y="1733"/>
                </a:lnTo>
                <a:lnTo>
                  <a:pt x="1490" y="1738"/>
                </a:lnTo>
                <a:lnTo>
                  <a:pt x="1501" y="1742"/>
                </a:lnTo>
                <a:lnTo>
                  <a:pt x="1511" y="1746"/>
                </a:lnTo>
                <a:lnTo>
                  <a:pt x="1522" y="1749"/>
                </a:lnTo>
                <a:lnTo>
                  <a:pt x="1532" y="1751"/>
                </a:lnTo>
                <a:lnTo>
                  <a:pt x="1541" y="1753"/>
                </a:lnTo>
                <a:lnTo>
                  <a:pt x="1547" y="1755"/>
                </a:lnTo>
                <a:lnTo>
                  <a:pt x="1554" y="1755"/>
                </a:lnTo>
                <a:lnTo>
                  <a:pt x="1562" y="1757"/>
                </a:lnTo>
                <a:lnTo>
                  <a:pt x="1571" y="1757"/>
                </a:lnTo>
                <a:lnTo>
                  <a:pt x="1579" y="1759"/>
                </a:lnTo>
                <a:lnTo>
                  <a:pt x="1589" y="1759"/>
                </a:lnTo>
                <a:lnTo>
                  <a:pt x="1598" y="1760"/>
                </a:lnTo>
                <a:lnTo>
                  <a:pt x="1608" y="1760"/>
                </a:lnTo>
                <a:lnTo>
                  <a:pt x="1616" y="1762"/>
                </a:lnTo>
                <a:lnTo>
                  <a:pt x="1626" y="1762"/>
                </a:lnTo>
                <a:lnTo>
                  <a:pt x="1634" y="1762"/>
                </a:lnTo>
                <a:lnTo>
                  <a:pt x="1644" y="1762"/>
                </a:lnTo>
                <a:lnTo>
                  <a:pt x="1651" y="1762"/>
                </a:lnTo>
                <a:lnTo>
                  <a:pt x="1660" y="1762"/>
                </a:lnTo>
                <a:lnTo>
                  <a:pt x="1667" y="1762"/>
                </a:lnTo>
                <a:lnTo>
                  <a:pt x="1674" y="1762"/>
                </a:lnTo>
                <a:lnTo>
                  <a:pt x="1677" y="1763"/>
                </a:lnTo>
                <a:lnTo>
                  <a:pt x="1680" y="1763"/>
                </a:lnTo>
                <a:lnTo>
                  <a:pt x="1684" y="1763"/>
                </a:lnTo>
                <a:lnTo>
                  <a:pt x="1688" y="1763"/>
                </a:lnTo>
                <a:lnTo>
                  <a:pt x="1692" y="1763"/>
                </a:lnTo>
                <a:lnTo>
                  <a:pt x="1698" y="1763"/>
                </a:lnTo>
                <a:lnTo>
                  <a:pt x="1702" y="1763"/>
                </a:lnTo>
                <a:lnTo>
                  <a:pt x="1707" y="1763"/>
                </a:lnTo>
                <a:lnTo>
                  <a:pt x="1711" y="1763"/>
                </a:lnTo>
                <a:lnTo>
                  <a:pt x="1716" y="1763"/>
                </a:lnTo>
                <a:lnTo>
                  <a:pt x="1720" y="1763"/>
                </a:lnTo>
                <a:lnTo>
                  <a:pt x="1725" y="1763"/>
                </a:lnTo>
                <a:lnTo>
                  <a:pt x="1729" y="1763"/>
                </a:lnTo>
                <a:lnTo>
                  <a:pt x="1734" y="1763"/>
                </a:lnTo>
                <a:lnTo>
                  <a:pt x="1737" y="1763"/>
                </a:lnTo>
                <a:lnTo>
                  <a:pt x="1741" y="1762"/>
                </a:lnTo>
                <a:lnTo>
                  <a:pt x="1742" y="1762"/>
                </a:lnTo>
                <a:lnTo>
                  <a:pt x="1744" y="1762"/>
                </a:lnTo>
                <a:lnTo>
                  <a:pt x="1746" y="1762"/>
                </a:lnTo>
                <a:lnTo>
                  <a:pt x="1749" y="1761"/>
                </a:lnTo>
                <a:lnTo>
                  <a:pt x="1751" y="1761"/>
                </a:lnTo>
                <a:lnTo>
                  <a:pt x="1754" y="1760"/>
                </a:lnTo>
                <a:lnTo>
                  <a:pt x="1756" y="1760"/>
                </a:lnTo>
                <a:lnTo>
                  <a:pt x="1760" y="1758"/>
                </a:lnTo>
                <a:lnTo>
                  <a:pt x="1762" y="1758"/>
                </a:lnTo>
                <a:lnTo>
                  <a:pt x="1765" y="1758"/>
                </a:lnTo>
                <a:lnTo>
                  <a:pt x="1766" y="1758"/>
                </a:lnTo>
                <a:lnTo>
                  <a:pt x="1770" y="1756"/>
                </a:lnTo>
                <a:lnTo>
                  <a:pt x="1772" y="1756"/>
                </a:lnTo>
                <a:lnTo>
                  <a:pt x="1774" y="1755"/>
                </a:lnTo>
                <a:lnTo>
                  <a:pt x="1776" y="1755"/>
                </a:lnTo>
                <a:lnTo>
                  <a:pt x="1779" y="1753"/>
                </a:lnTo>
                <a:lnTo>
                  <a:pt x="1781" y="1753"/>
                </a:lnTo>
                <a:lnTo>
                  <a:pt x="1784" y="1751"/>
                </a:lnTo>
                <a:lnTo>
                  <a:pt x="1786" y="1749"/>
                </a:lnTo>
                <a:lnTo>
                  <a:pt x="1790" y="1748"/>
                </a:lnTo>
                <a:lnTo>
                  <a:pt x="1792" y="1746"/>
                </a:lnTo>
                <a:lnTo>
                  <a:pt x="1795" y="1744"/>
                </a:lnTo>
                <a:lnTo>
                  <a:pt x="1799" y="1742"/>
                </a:lnTo>
                <a:lnTo>
                  <a:pt x="1803" y="1740"/>
                </a:lnTo>
                <a:lnTo>
                  <a:pt x="1805" y="1738"/>
                </a:lnTo>
                <a:lnTo>
                  <a:pt x="1808" y="1736"/>
                </a:lnTo>
                <a:lnTo>
                  <a:pt x="1812" y="1734"/>
                </a:lnTo>
                <a:lnTo>
                  <a:pt x="1815" y="1731"/>
                </a:lnTo>
                <a:lnTo>
                  <a:pt x="1817" y="1730"/>
                </a:lnTo>
                <a:lnTo>
                  <a:pt x="1821" y="1728"/>
                </a:lnTo>
                <a:lnTo>
                  <a:pt x="1823" y="1726"/>
                </a:lnTo>
                <a:lnTo>
                  <a:pt x="1826" y="1724"/>
                </a:lnTo>
                <a:lnTo>
                  <a:pt x="1830" y="1721"/>
                </a:lnTo>
                <a:lnTo>
                  <a:pt x="1836" y="1717"/>
                </a:lnTo>
                <a:lnTo>
                  <a:pt x="1842" y="1711"/>
                </a:lnTo>
                <a:lnTo>
                  <a:pt x="1847" y="1704"/>
                </a:lnTo>
                <a:lnTo>
                  <a:pt x="1851" y="1698"/>
                </a:lnTo>
                <a:lnTo>
                  <a:pt x="1856" y="1690"/>
                </a:lnTo>
                <a:lnTo>
                  <a:pt x="1862" y="1683"/>
                </a:lnTo>
                <a:lnTo>
                  <a:pt x="1868" y="1675"/>
                </a:lnTo>
                <a:lnTo>
                  <a:pt x="1872" y="1667"/>
                </a:lnTo>
                <a:lnTo>
                  <a:pt x="1876" y="1660"/>
                </a:lnTo>
                <a:lnTo>
                  <a:pt x="1880" y="1652"/>
                </a:lnTo>
                <a:lnTo>
                  <a:pt x="1886" y="1645"/>
                </a:lnTo>
                <a:lnTo>
                  <a:pt x="1890" y="1639"/>
                </a:lnTo>
                <a:lnTo>
                  <a:pt x="1893" y="1631"/>
                </a:lnTo>
                <a:lnTo>
                  <a:pt x="1897" y="1625"/>
                </a:lnTo>
                <a:lnTo>
                  <a:pt x="1901" y="1618"/>
                </a:lnTo>
                <a:lnTo>
                  <a:pt x="1901" y="1616"/>
                </a:lnTo>
                <a:lnTo>
                  <a:pt x="1903" y="1613"/>
                </a:lnTo>
                <a:lnTo>
                  <a:pt x="1904" y="1610"/>
                </a:lnTo>
                <a:lnTo>
                  <a:pt x="1906" y="1606"/>
                </a:lnTo>
                <a:lnTo>
                  <a:pt x="1907" y="1602"/>
                </a:lnTo>
                <a:lnTo>
                  <a:pt x="1909" y="1599"/>
                </a:lnTo>
                <a:lnTo>
                  <a:pt x="1911" y="1595"/>
                </a:lnTo>
                <a:lnTo>
                  <a:pt x="1912" y="1591"/>
                </a:lnTo>
                <a:lnTo>
                  <a:pt x="1914" y="1587"/>
                </a:lnTo>
                <a:lnTo>
                  <a:pt x="1916" y="1584"/>
                </a:lnTo>
                <a:lnTo>
                  <a:pt x="1918" y="1580"/>
                </a:lnTo>
                <a:lnTo>
                  <a:pt x="1920" y="1576"/>
                </a:lnTo>
                <a:lnTo>
                  <a:pt x="1921" y="1574"/>
                </a:lnTo>
                <a:lnTo>
                  <a:pt x="1923" y="1571"/>
                </a:lnTo>
                <a:lnTo>
                  <a:pt x="1925" y="1569"/>
                </a:lnTo>
                <a:lnTo>
                  <a:pt x="1928" y="1565"/>
                </a:lnTo>
                <a:lnTo>
                  <a:pt x="1926" y="1565"/>
                </a:lnTo>
                <a:lnTo>
                  <a:pt x="1926" y="1563"/>
                </a:lnTo>
                <a:lnTo>
                  <a:pt x="1926" y="1561"/>
                </a:lnTo>
                <a:lnTo>
                  <a:pt x="1926" y="1559"/>
                </a:lnTo>
                <a:lnTo>
                  <a:pt x="1926" y="1557"/>
                </a:lnTo>
                <a:lnTo>
                  <a:pt x="1928" y="1555"/>
                </a:lnTo>
                <a:lnTo>
                  <a:pt x="1930" y="1554"/>
                </a:lnTo>
                <a:lnTo>
                  <a:pt x="1931" y="1551"/>
                </a:lnTo>
                <a:lnTo>
                  <a:pt x="1932" y="1549"/>
                </a:lnTo>
                <a:lnTo>
                  <a:pt x="1934" y="1547"/>
                </a:lnTo>
                <a:lnTo>
                  <a:pt x="1936" y="1545"/>
                </a:lnTo>
                <a:lnTo>
                  <a:pt x="1938" y="1542"/>
                </a:lnTo>
                <a:lnTo>
                  <a:pt x="1938" y="1540"/>
                </a:lnTo>
                <a:lnTo>
                  <a:pt x="1940" y="1538"/>
                </a:lnTo>
                <a:lnTo>
                  <a:pt x="1940" y="1536"/>
                </a:lnTo>
                <a:lnTo>
                  <a:pt x="1941" y="1534"/>
                </a:lnTo>
                <a:lnTo>
                  <a:pt x="1941" y="1534"/>
                </a:lnTo>
                <a:lnTo>
                  <a:pt x="1941" y="1532"/>
                </a:lnTo>
                <a:lnTo>
                  <a:pt x="1941" y="1530"/>
                </a:lnTo>
                <a:lnTo>
                  <a:pt x="1941" y="1528"/>
                </a:lnTo>
                <a:lnTo>
                  <a:pt x="1941" y="1526"/>
                </a:lnTo>
                <a:lnTo>
                  <a:pt x="1941" y="1524"/>
                </a:lnTo>
                <a:lnTo>
                  <a:pt x="1941" y="1523"/>
                </a:lnTo>
                <a:lnTo>
                  <a:pt x="1942" y="1519"/>
                </a:lnTo>
                <a:lnTo>
                  <a:pt x="1942" y="1517"/>
                </a:lnTo>
                <a:lnTo>
                  <a:pt x="1942" y="1515"/>
                </a:lnTo>
                <a:lnTo>
                  <a:pt x="1942" y="1514"/>
                </a:lnTo>
                <a:lnTo>
                  <a:pt x="1942" y="1511"/>
                </a:lnTo>
                <a:lnTo>
                  <a:pt x="1941" y="1510"/>
                </a:lnTo>
                <a:lnTo>
                  <a:pt x="1941" y="1508"/>
                </a:lnTo>
                <a:lnTo>
                  <a:pt x="1941" y="1507"/>
                </a:lnTo>
                <a:lnTo>
                  <a:pt x="1941" y="1505"/>
                </a:lnTo>
                <a:lnTo>
                  <a:pt x="1941" y="1505"/>
                </a:lnTo>
                <a:lnTo>
                  <a:pt x="1941" y="1504"/>
                </a:lnTo>
                <a:lnTo>
                  <a:pt x="1941" y="1504"/>
                </a:lnTo>
                <a:lnTo>
                  <a:pt x="1942" y="1502"/>
                </a:lnTo>
                <a:lnTo>
                  <a:pt x="1942" y="1502"/>
                </a:lnTo>
                <a:lnTo>
                  <a:pt x="1944" y="1500"/>
                </a:lnTo>
                <a:lnTo>
                  <a:pt x="1944" y="1498"/>
                </a:lnTo>
                <a:lnTo>
                  <a:pt x="1946" y="1496"/>
                </a:lnTo>
                <a:lnTo>
                  <a:pt x="1946" y="1496"/>
                </a:lnTo>
                <a:lnTo>
                  <a:pt x="1946" y="1494"/>
                </a:lnTo>
                <a:lnTo>
                  <a:pt x="1946" y="1493"/>
                </a:lnTo>
                <a:lnTo>
                  <a:pt x="1948" y="1491"/>
                </a:lnTo>
                <a:lnTo>
                  <a:pt x="1948" y="1491"/>
                </a:lnTo>
                <a:lnTo>
                  <a:pt x="1948" y="1489"/>
                </a:lnTo>
                <a:lnTo>
                  <a:pt x="1948" y="1488"/>
                </a:lnTo>
                <a:lnTo>
                  <a:pt x="1950" y="1486"/>
                </a:lnTo>
                <a:lnTo>
                  <a:pt x="1951" y="1484"/>
                </a:lnTo>
                <a:lnTo>
                  <a:pt x="1953" y="1483"/>
                </a:lnTo>
                <a:lnTo>
                  <a:pt x="1955" y="1481"/>
                </a:lnTo>
                <a:lnTo>
                  <a:pt x="1958" y="1477"/>
                </a:lnTo>
                <a:lnTo>
                  <a:pt x="1959" y="1476"/>
                </a:lnTo>
                <a:lnTo>
                  <a:pt x="1962" y="1473"/>
                </a:lnTo>
                <a:lnTo>
                  <a:pt x="1964" y="1471"/>
                </a:lnTo>
                <a:lnTo>
                  <a:pt x="1968" y="1467"/>
                </a:lnTo>
                <a:lnTo>
                  <a:pt x="1970" y="1465"/>
                </a:lnTo>
                <a:lnTo>
                  <a:pt x="1973" y="1463"/>
                </a:lnTo>
                <a:lnTo>
                  <a:pt x="1975" y="1461"/>
                </a:lnTo>
                <a:lnTo>
                  <a:pt x="1979" y="1457"/>
                </a:lnTo>
                <a:lnTo>
                  <a:pt x="1981" y="1455"/>
                </a:lnTo>
                <a:lnTo>
                  <a:pt x="1983" y="1453"/>
                </a:lnTo>
                <a:lnTo>
                  <a:pt x="1985" y="1451"/>
                </a:lnTo>
                <a:lnTo>
                  <a:pt x="1988" y="1448"/>
                </a:lnTo>
                <a:lnTo>
                  <a:pt x="1992" y="1444"/>
                </a:lnTo>
                <a:lnTo>
                  <a:pt x="1997" y="1438"/>
                </a:lnTo>
                <a:lnTo>
                  <a:pt x="2002" y="1432"/>
                </a:lnTo>
                <a:lnTo>
                  <a:pt x="2008" y="1425"/>
                </a:lnTo>
                <a:lnTo>
                  <a:pt x="2011" y="1418"/>
                </a:lnTo>
                <a:lnTo>
                  <a:pt x="2017" y="1410"/>
                </a:lnTo>
                <a:lnTo>
                  <a:pt x="2022" y="1403"/>
                </a:lnTo>
                <a:lnTo>
                  <a:pt x="2028" y="1393"/>
                </a:lnTo>
                <a:lnTo>
                  <a:pt x="2032" y="1386"/>
                </a:lnTo>
                <a:lnTo>
                  <a:pt x="2037" y="1378"/>
                </a:lnTo>
                <a:lnTo>
                  <a:pt x="2041" y="1370"/>
                </a:lnTo>
                <a:lnTo>
                  <a:pt x="2046" y="1361"/>
                </a:lnTo>
                <a:lnTo>
                  <a:pt x="2049" y="1353"/>
                </a:lnTo>
                <a:lnTo>
                  <a:pt x="2052" y="1346"/>
                </a:lnTo>
                <a:lnTo>
                  <a:pt x="2054" y="1339"/>
                </a:lnTo>
                <a:lnTo>
                  <a:pt x="2057" y="1331"/>
                </a:lnTo>
                <a:lnTo>
                  <a:pt x="2057" y="1330"/>
                </a:lnTo>
                <a:lnTo>
                  <a:pt x="2059" y="1328"/>
                </a:lnTo>
                <a:lnTo>
                  <a:pt x="2059" y="1326"/>
                </a:lnTo>
                <a:lnTo>
                  <a:pt x="2060" y="1323"/>
                </a:lnTo>
                <a:lnTo>
                  <a:pt x="2060" y="1321"/>
                </a:lnTo>
                <a:lnTo>
                  <a:pt x="2062" y="1319"/>
                </a:lnTo>
                <a:lnTo>
                  <a:pt x="2064" y="1317"/>
                </a:lnTo>
                <a:lnTo>
                  <a:pt x="2066" y="1313"/>
                </a:lnTo>
                <a:lnTo>
                  <a:pt x="2066" y="1311"/>
                </a:lnTo>
                <a:lnTo>
                  <a:pt x="2068" y="1310"/>
                </a:lnTo>
                <a:lnTo>
                  <a:pt x="2069" y="1308"/>
                </a:lnTo>
                <a:lnTo>
                  <a:pt x="2071" y="1305"/>
                </a:lnTo>
                <a:lnTo>
                  <a:pt x="2071" y="1303"/>
                </a:lnTo>
                <a:lnTo>
                  <a:pt x="2072" y="1301"/>
                </a:lnTo>
                <a:lnTo>
                  <a:pt x="2072" y="1299"/>
                </a:lnTo>
                <a:lnTo>
                  <a:pt x="2074" y="1295"/>
                </a:lnTo>
                <a:lnTo>
                  <a:pt x="2074" y="1291"/>
                </a:lnTo>
                <a:lnTo>
                  <a:pt x="2076" y="1285"/>
                </a:lnTo>
                <a:lnTo>
                  <a:pt x="2077" y="1280"/>
                </a:lnTo>
                <a:lnTo>
                  <a:pt x="2078" y="1273"/>
                </a:lnTo>
                <a:lnTo>
                  <a:pt x="2080" y="1268"/>
                </a:lnTo>
                <a:lnTo>
                  <a:pt x="2082" y="1260"/>
                </a:lnTo>
                <a:lnTo>
                  <a:pt x="2084" y="1253"/>
                </a:lnTo>
                <a:lnTo>
                  <a:pt x="2088" y="1246"/>
                </a:lnTo>
                <a:lnTo>
                  <a:pt x="2090" y="1241"/>
                </a:lnTo>
                <a:lnTo>
                  <a:pt x="2094" y="1233"/>
                </a:lnTo>
                <a:lnTo>
                  <a:pt x="2096" y="1228"/>
                </a:lnTo>
                <a:lnTo>
                  <a:pt x="2100" y="1221"/>
                </a:lnTo>
                <a:lnTo>
                  <a:pt x="2102" y="1215"/>
                </a:lnTo>
                <a:lnTo>
                  <a:pt x="2106" y="1210"/>
                </a:lnTo>
                <a:lnTo>
                  <a:pt x="2108" y="1205"/>
                </a:lnTo>
                <a:lnTo>
                  <a:pt x="2112" y="1201"/>
                </a:lnTo>
                <a:lnTo>
                  <a:pt x="2112" y="1201"/>
                </a:lnTo>
                <a:lnTo>
                  <a:pt x="2114" y="1199"/>
                </a:lnTo>
                <a:lnTo>
                  <a:pt x="2115" y="1199"/>
                </a:lnTo>
                <a:lnTo>
                  <a:pt x="2117" y="1197"/>
                </a:lnTo>
                <a:lnTo>
                  <a:pt x="2119" y="1197"/>
                </a:lnTo>
                <a:lnTo>
                  <a:pt x="2121" y="1195"/>
                </a:lnTo>
                <a:lnTo>
                  <a:pt x="2123" y="1193"/>
                </a:lnTo>
                <a:lnTo>
                  <a:pt x="2126" y="1191"/>
                </a:lnTo>
                <a:lnTo>
                  <a:pt x="2128" y="1191"/>
                </a:lnTo>
                <a:lnTo>
                  <a:pt x="2130" y="1189"/>
                </a:lnTo>
                <a:lnTo>
                  <a:pt x="2132" y="1188"/>
                </a:lnTo>
                <a:lnTo>
                  <a:pt x="2134" y="1186"/>
                </a:lnTo>
                <a:lnTo>
                  <a:pt x="2135" y="1186"/>
                </a:lnTo>
                <a:lnTo>
                  <a:pt x="2137" y="1184"/>
                </a:lnTo>
                <a:lnTo>
                  <a:pt x="2138" y="1183"/>
                </a:lnTo>
                <a:lnTo>
                  <a:pt x="2140" y="1181"/>
                </a:lnTo>
                <a:lnTo>
                  <a:pt x="2141" y="1180"/>
                </a:lnTo>
                <a:lnTo>
                  <a:pt x="2143" y="1178"/>
                </a:lnTo>
                <a:lnTo>
                  <a:pt x="2145" y="1176"/>
                </a:lnTo>
                <a:lnTo>
                  <a:pt x="2146" y="1174"/>
                </a:lnTo>
                <a:lnTo>
                  <a:pt x="2148" y="1172"/>
                </a:lnTo>
                <a:lnTo>
                  <a:pt x="2150" y="1169"/>
                </a:lnTo>
                <a:lnTo>
                  <a:pt x="2152" y="1167"/>
                </a:lnTo>
                <a:lnTo>
                  <a:pt x="2155" y="1163"/>
                </a:lnTo>
                <a:lnTo>
                  <a:pt x="2157" y="1161"/>
                </a:lnTo>
                <a:lnTo>
                  <a:pt x="2159" y="1158"/>
                </a:lnTo>
                <a:lnTo>
                  <a:pt x="2161" y="1156"/>
                </a:lnTo>
                <a:lnTo>
                  <a:pt x="2163" y="1153"/>
                </a:lnTo>
                <a:lnTo>
                  <a:pt x="2164" y="1151"/>
                </a:lnTo>
                <a:lnTo>
                  <a:pt x="2165" y="1148"/>
                </a:lnTo>
                <a:lnTo>
                  <a:pt x="2167" y="1146"/>
                </a:lnTo>
                <a:lnTo>
                  <a:pt x="2169" y="1143"/>
                </a:lnTo>
                <a:lnTo>
                  <a:pt x="2169" y="1143"/>
                </a:lnTo>
                <a:lnTo>
                  <a:pt x="2169" y="1142"/>
                </a:lnTo>
                <a:lnTo>
                  <a:pt x="2169" y="1141"/>
                </a:lnTo>
                <a:lnTo>
                  <a:pt x="2171" y="1139"/>
                </a:lnTo>
                <a:lnTo>
                  <a:pt x="2171" y="1139"/>
                </a:lnTo>
                <a:lnTo>
                  <a:pt x="2172" y="1137"/>
                </a:lnTo>
                <a:lnTo>
                  <a:pt x="2172" y="1135"/>
                </a:lnTo>
                <a:lnTo>
                  <a:pt x="2174" y="1134"/>
                </a:lnTo>
                <a:lnTo>
                  <a:pt x="2174" y="1134"/>
                </a:lnTo>
                <a:lnTo>
                  <a:pt x="2174" y="1132"/>
                </a:lnTo>
                <a:lnTo>
                  <a:pt x="2174" y="1131"/>
                </a:lnTo>
                <a:lnTo>
                  <a:pt x="2175" y="1129"/>
                </a:lnTo>
                <a:lnTo>
                  <a:pt x="2175" y="1129"/>
                </a:lnTo>
                <a:lnTo>
                  <a:pt x="2176" y="1127"/>
                </a:lnTo>
                <a:lnTo>
                  <a:pt x="2176" y="1126"/>
                </a:lnTo>
                <a:lnTo>
                  <a:pt x="2178" y="1124"/>
                </a:lnTo>
                <a:lnTo>
                  <a:pt x="2180" y="1122"/>
                </a:lnTo>
                <a:lnTo>
                  <a:pt x="2184" y="1118"/>
                </a:lnTo>
                <a:lnTo>
                  <a:pt x="2187" y="1114"/>
                </a:lnTo>
                <a:lnTo>
                  <a:pt x="2192" y="1111"/>
                </a:lnTo>
                <a:lnTo>
                  <a:pt x="2195" y="1107"/>
                </a:lnTo>
                <a:lnTo>
                  <a:pt x="2200" y="1103"/>
                </a:lnTo>
                <a:lnTo>
                  <a:pt x="2205" y="1099"/>
                </a:lnTo>
                <a:lnTo>
                  <a:pt x="2211" y="1095"/>
                </a:lnTo>
                <a:lnTo>
                  <a:pt x="2215" y="1091"/>
                </a:lnTo>
                <a:lnTo>
                  <a:pt x="2220" y="1087"/>
                </a:lnTo>
                <a:lnTo>
                  <a:pt x="2224" y="1084"/>
                </a:lnTo>
                <a:lnTo>
                  <a:pt x="2230" y="1080"/>
                </a:lnTo>
                <a:lnTo>
                  <a:pt x="2233" y="1077"/>
                </a:lnTo>
                <a:lnTo>
                  <a:pt x="2238" y="1074"/>
                </a:lnTo>
                <a:lnTo>
                  <a:pt x="2242" y="1071"/>
                </a:lnTo>
                <a:lnTo>
                  <a:pt x="2245" y="1067"/>
                </a:lnTo>
                <a:lnTo>
                  <a:pt x="2247" y="1065"/>
                </a:lnTo>
                <a:lnTo>
                  <a:pt x="2250" y="1063"/>
                </a:lnTo>
                <a:lnTo>
                  <a:pt x="2252" y="1061"/>
                </a:lnTo>
                <a:lnTo>
                  <a:pt x="2255" y="1057"/>
                </a:lnTo>
                <a:lnTo>
                  <a:pt x="2257" y="1055"/>
                </a:lnTo>
                <a:lnTo>
                  <a:pt x="2261" y="1051"/>
                </a:lnTo>
                <a:lnTo>
                  <a:pt x="2264" y="1047"/>
                </a:lnTo>
                <a:lnTo>
                  <a:pt x="2268" y="1043"/>
                </a:lnTo>
                <a:lnTo>
                  <a:pt x="2270" y="1041"/>
                </a:lnTo>
                <a:lnTo>
                  <a:pt x="2274" y="1038"/>
                </a:lnTo>
                <a:lnTo>
                  <a:pt x="2277" y="1034"/>
                </a:lnTo>
                <a:lnTo>
                  <a:pt x="2281" y="1030"/>
                </a:lnTo>
                <a:lnTo>
                  <a:pt x="2283" y="1028"/>
                </a:lnTo>
                <a:lnTo>
                  <a:pt x="2286" y="1025"/>
                </a:lnTo>
                <a:lnTo>
                  <a:pt x="2289" y="1023"/>
                </a:lnTo>
                <a:lnTo>
                  <a:pt x="2293" y="1019"/>
                </a:lnTo>
                <a:lnTo>
                  <a:pt x="2297" y="1016"/>
                </a:lnTo>
                <a:lnTo>
                  <a:pt x="2302" y="1013"/>
                </a:lnTo>
                <a:lnTo>
                  <a:pt x="2309" y="1009"/>
                </a:lnTo>
                <a:lnTo>
                  <a:pt x="2316" y="1005"/>
                </a:lnTo>
                <a:lnTo>
                  <a:pt x="2324" y="1001"/>
                </a:lnTo>
                <a:lnTo>
                  <a:pt x="2331" y="998"/>
                </a:lnTo>
                <a:lnTo>
                  <a:pt x="2339" y="994"/>
                </a:lnTo>
                <a:lnTo>
                  <a:pt x="2348" y="989"/>
                </a:lnTo>
                <a:lnTo>
                  <a:pt x="2356" y="986"/>
                </a:lnTo>
                <a:lnTo>
                  <a:pt x="2364" y="982"/>
                </a:lnTo>
                <a:lnTo>
                  <a:pt x="2371" y="978"/>
                </a:lnTo>
                <a:lnTo>
                  <a:pt x="2380" y="975"/>
                </a:lnTo>
                <a:lnTo>
                  <a:pt x="2386" y="972"/>
                </a:lnTo>
                <a:lnTo>
                  <a:pt x="2394" y="968"/>
                </a:lnTo>
                <a:lnTo>
                  <a:pt x="2400" y="966"/>
                </a:lnTo>
                <a:lnTo>
                  <a:pt x="2407" y="962"/>
                </a:lnTo>
                <a:lnTo>
                  <a:pt x="2416" y="958"/>
                </a:lnTo>
                <a:lnTo>
                  <a:pt x="2428" y="955"/>
                </a:lnTo>
                <a:lnTo>
                  <a:pt x="2440" y="951"/>
                </a:lnTo>
                <a:lnTo>
                  <a:pt x="2455" y="945"/>
                </a:lnTo>
                <a:lnTo>
                  <a:pt x="2469" y="941"/>
                </a:lnTo>
                <a:lnTo>
                  <a:pt x="2484" y="936"/>
                </a:lnTo>
                <a:lnTo>
                  <a:pt x="2499" y="931"/>
                </a:lnTo>
                <a:lnTo>
                  <a:pt x="2515" y="925"/>
                </a:lnTo>
                <a:lnTo>
                  <a:pt x="2530" y="921"/>
                </a:lnTo>
                <a:lnTo>
                  <a:pt x="2545" y="915"/>
                </a:lnTo>
                <a:lnTo>
                  <a:pt x="2559" y="910"/>
                </a:lnTo>
                <a:lnTo>
                  <a:pt x="2574" y="903"/>
                </a:lnTo>
                <a:lnTo>
                  <a:pt x="2585" y="898"/>
                </a:lnTo>
                <a:lnTo>
                  <a:pt x="2597" y="891"/>
                </a:lnTo>
                <a:lnTo>
                  <a:pt x="2607" y="884"/>
                </a:lnTo>
                <a:lnTo>
                  <a:pt x="2616" y="877"/>
                </a:lnTo>
                <a:lnTo>
                  <a:pt x="2616" y="875"/>
                </a:lnTo>
                <a:lnTo>
                  <a:pt x="2618" y="873"/>
                </a:lnTo>
                <a:lnTo>
                  <a:pt x="2619" y="872"/>
                </a:lnTo>
                <a:lnTo>
                  <a:pt x="2621" y="869"/>
                </a:lnTo>
                <a:lnTo>
                  <a:pt x="2621" y="867"/>
                </a:lnTo>
                <a:lnTo>
                  <a:pt x="2623" y="864"/>
                </a:lnTo>
                <a:lnTo>
                  <a:pt x="2624" y="862"/>
                </a:lnTo>
                <a:lnTo>
                  <a:pt x="2626" y="859"/>
                </a:lnTo>
                <a:lnTo>
                  <a:pt x="2626" y="857"/>
                </a:lnTo>
                <a:lnTo>
                  <a:pt x="2628" y="853"/>
                </a:lnTo>
                <a:lnTo>
                  <a:pt x="2628" y="852"/>
                </a:lnTo>
                <a:lnTo>
                  <a:pt x="2630" y="848"/>
                </a:lnTo>
                <a:lnTo>
                  <a:pt x="2630" y="846"/>
                </a:lnTo>
                <a:lnTo>
                  <a:pt x="2632" y="843"/>
                </a:lnTo>
                <a:lnTo>
                  <a:pt x="2633" y="842"/>
                </a:lnTo>
                <a:lnTo>
                  <a:pt x="2635" y="839"/>
                </a:lnTo>
                <a:lnTo>
                  <a:pt x="2636" y="837"/>
                </a:lnTo>
                <a:lnTo>
                  <a:pt x="2638" y="833"/>
                </a:lnTo>
                <a:lnTo>
                  <a:pt x="2640" y="829"/>
                </a:lnTo>
                <a:lnTo>
                  <a:pt x="2642" y="825"/>
                </a:lnTo>
                <a:lnTo>
                  <a:pt x="2644" y="822"/>
                </a:lnTo>
                <a:lnTo>
                  <a:pt x="2646" y="818"/>
                </a:lnTo>
                <a:lnTo>
                  <a:pt x="2648" y="814"/>
                </a:lnTo>
                <a:lnTo>
                  <a:pt x="2652" y="809"/>
                </a:lnTo>
                <a:lnTo>
                  <a:pt x="2654" y="805"/>
                </a:lnTo>
                <a:lnTo>
                  <a:pt x="2657" y="801"/>
                </a:lnTo>
                <a:lnTo>
                  <a:pt x="2659" y="797"/>
                </a:lnTo>
                <a:lnTo>
                  <a:pt x="2663" y="794"/>
                </a:lnTo>
                <a:lnTo>
                  <a:pt x="2664" y="791"/>
                </a:lnTo>
                <a:lnTo>
                  <a:pt x="2668" y="787"/>
                </a:lnTo>
                <a:lnTo>
                  <a:pt x="2670" y="785"/>
                </a:lnTo>
                <a:lnTo>
                  <a:pt x="2673" y="781"/>
                </a:lnTo>
                <a:lnTo>
                  <a:pt x="2675" y="779"/>
                </a:lnTo>
                <a:lnTo>
                  <a:pt x="2679" y="777"/>
                </a:lnTo>
                <a:lnTo>
                  <a:pt x="2683" y="775"/>
                </a:lnTo>
                <a:lnTo>
                  <a:pt x="2687" y="772"/>
                </a:lnTo>
                <a:lnTo>
                  <a:pt x="2691" y="770"/>
                </a:lnTo>
                <a:lnTo>
                  <a:pt x="2696" y="766"/>
                </a:lnTo>
                <a:lnTo>
                  <a:pt x="2700" y="764"/>
                </a:lnTo>
                <a:lnTo>
                  <a:pt x="2706" y="761"/>
                </a:lnTo>
                <a:lnTo>
                  <a:pt x="2710" y="759"/>
                </a:lnTo>
                <a:lnTo>
                  <a:pt x="2714" y="757"/>
                </a:lnTo>
                <a:lnTo>
                  <a:pt x="2718" y="755"/>
                </a:lnTo>
                <a:lnTo>
                  <a:pt x="2724" y="751"/>
                </a:lnTo>
                <a:lnTo>
                  <a:pt x="2728" y="749"/>
                </a:lnTo>
                <a:lnTo>
                  <a:pt x="2732" y="747"/>
                </a:lnTo>
                <a:lnTo>
                  <a:pt x="2736" y="745"/>
                </a:lnTo>
                <a:lnTo>
                  <a:pt x="2740" y="743"/>
                </a:lnTo>
                <a:lnTo>
                  <a:pt x="2747" y="739"/>
                </a:lnTo>
                <a:lnTo>
                  <a:pt x="2755" y="734"/>
                </a:lnTo>
                <a:lnTo>
                  <a:pt x="2764" y="729"/>
                </a:lnTo>
                <a:lnTo>
                  <a:pt x="2773" y="723"/>
                </a:lnTo>
                <a:lnTo>
                  <a:pt x="2782" y="717"/>
                </a:lnTo>
                <a:lnTo>
                  <a:pt x="2793" y="710"/>
                </a:lnTo>
                <a:lnTo>
                  <a:pt x="2803" y="704"/>
                </a:lnTo>
                <a:lnTo>
                  <a:pt x="2814" y="696"/>
                </a:lnTo>
                <a:lnTo>
                  <a:pt x="2824" y="691"/>
                </a:lnTo>
                <a:lnTo>
                  <a:pt x="2835" y="685"/>
                </a:lnTo>
                <a:lnTo>
                  <a:pt x="2845" y="679"/>
                </a:lnTo>
                <a:lnTo>
                  <a:pt x="2856" y="673"/>
                </a:lnTo>
                <a:lnTo>
                  <a:pt x="2866" y="669"/>
                </a:lnTo>
                <a:lnTo>
                  <a:pt x="2875" y="664"/>
                </a:lnTo>
                <a:lnTo>
                  <a:pt x="2883" y="661"/>
                </a:lnTo>
                <a:lnTo>
                  <a:pt x="2892" y="657"/>
                </a:lnTo>
                <a:lnTo>
                  <a:pt x="2900" y="656"/>
                </a:lnTo>
                <a:lnTo>
                  <a:pt x="2909" y="655"/>
                </a:lnTo>
                <a:lnTo>
                  <a:pt x="2919" y="655"/>
                </a:lnTo>
                <a:lnTo>
                  <a:pt x="2930" y="653"/>
                </a:lnTo>
                <a:lnTo>
                  <a:pt x="2942" y="653"/>
                </a:lnTo>
                <a:lnTo>
                  <a:pt x="2954" y="652"/>
                </a:lnTo>
                <a:lnTo>
                  <a:pt x="2965" y="652"/>
                </a:lnTo>
                <a:lnTo>
                  <a:pt x="2978" y="651"/>
                </a:lnTo>
                <a:lnTo>
                  <a:pt x="2989" y="651"/>
                </a:lnTo>
                <a:lnTo>
                  <a:pt x="3002" y="651"/>
                </a:lnTo>
                <a:lnTo>
                  <a:pt x="3013" y="651"/>
                </a:lnTo>
                <a:lnTo>
                  <a:pt x="3024" y="651"/>
                </a:lnTo>
                <a:lnTo>
                  <a:pt x="3034" y="651"/>
                </a:lnTo>
                <a:lnTo>
                  <a:pt x="3045" y="650"/>
                </a:lnTo>
                <a:lnTo>
                  <a:pt x="3054" y="649"/>
                </a:lnTo>
                <a:lnTo>
                  <a:pt x="3063" y="648"/>
                </a:lnTo>
                <a:lnTo>
                  <a:pt x="3070" y="647"/>
                </a:lnTo>
                <a:lnTo>
                  <a:pt x="3078" y="645"/>
                </a:lnTo>
                <a:lnTo>
                  <a:pt x="3086" y="643"/>
                </a:lnTo>
                <a:lnTo>
                  <a:pt x="3095" y="641"/>
                </a:lnTo>
                <a:lnTo>
                  <a:pt x="3104" y="639"/>
                </a:lnTo>
                <a:lnTo>
                  <a:pt x="3114" y="636"/>
                </a:lnTo>
                <a:lnTo>
                  <a:pt x="3123" y="633"/>
                </a:lnTo>
                <a:lnTo>
                  <a:pt x="3134" y="629"/>
                </a:lnTo>
                <a:lnTo>
                  <a:pt x="3144" y="628"/>
                </a:lnTo>
                <a:lnTo>
                  <a:pt x="3153" y="624"/>
                </a:lnTo>
                <a:lnTo>
                  <a:pt x="3162" y="622"/>
                </a:lnTo>
                <a:lnTo>
                  <a:pt x="3173" y="618"/>
                </a:lnTo>
                <a:lnTo>
                  <a:pt x="3181" y="617"/>
                </a:lnTo>
                <a:lnTo>
                  <a:pt x="3190" y="614"/>
                </a:lnTo>
                <a:lnTo>
                  <a:pt x="3198" y="612"/>
                </a:lnTo>
                <a:lnTo>
                  <a:pt x="3206" y="609"/>
                </a:lnTo>
                <a:lnTo>
                  <a:pt x="3218" y="608"/>
                </a:lnTo>
                <a:lnTo>
                  <a:pt x="3232" y="606"/>
                </a:lnTo>
                <a:lnTo>
                  <a:pt x="3247" y="604"/>
                </a:lnTo>
                <a:lnTo>
                  <a:pt x="3264" y="600"/>
                </a:lnTo>
                <a:lnTo>
                  <a:pt x="3281" y="598"/>
                </a:lnTo>
                <a:lnTo>
                  <a:pt x="3299" y="596"/>
                </a:lnTo>
                <a:lnTo>
                  <a:pt x="3317" y="594"/>
                </a:lnTo>
                <a:lnTo>
                  <a:pt x="3336" y="590"/>
                </a:lnTo>
                <a:lnTo>
                  <a:pt x="3353" y="588"/>
                </a:lnTo>
                <a:lnTo>
                  <a:pt x="3372" y="585"/>
                </a:lnTo>
                <a:lnTo>
                  <a:pt x="3388" y="582"/>
                </a:lnTo>
                <a:lnTo>
                  <a:pt x="3406" y="578"/>
                </a:lnTo>
                <a:lnTo>
                  <a:pt x="3422" y="575"/>
                </a:lnTo>
                <a:lnTo>
                  <a:pt x="3437" y="571"/>
                </a:lnTo>
                <a:lnTo>
                  <a:pt x="3451" y="567"/>
                </a:lnTo>
                <a:lnTo>
                  <a:pt x="3463" y="562"/>
                </a:lnTo>
                <a:lnTo>
                  <a:pt x="3471" y="559"/>
                </a:lnTo>
                <a:lnTo>
                  <a:pt x="3480" y="555"/>
                </a:lnTo>
                <a:lnTo>
                  <a:pt x="3490" y="549"/>
                </a:lnTo>
                <a:lnTo>
                  <a:pt x="3501" y="543"/>
                </a:lnTo>
                <a:lnTo>
                  <a:pt x="3512" y="537"/>
                </a:lnTo>
                <a:lnTo>
                  <a:pt x="3523" y="530"/>
                </a:lnTo>
                <a:lnTo>
                  <a:pt x="3534" y="522"/>
                </a:lnTo>
                <a:lnTo>
                  <a:pt x="3547" y="515"/>
                </a:lnTo>
                <a:lnTo>
                  <a:pt x="3558" y="507"/>
                </a:lnTo>
                <a:lnTo>
                  <a:pt x="3569" y="500"/>
                </a:lnTo>
                <a:lnTo>
                  <a:pt x="3579" y="492"/>
                </a:lnTo>
                <a:lnTo>
                  <a:pt x="3590" y="484"/>
                </a:lnTo>
                <a:lnTo>
                  <a:pt x="3599" y="478"/>
                </a:lnTo>
                <a:lnTo>
                  <a:pt x="3609" y="470"/>
                </a:lnTo>
                <a:lnTo>
                  <a:pt x="3616" y="464"/>
                </a:lnTo>
                <a:lnTo>
                  <a:pt x="3625" y="457"/>
                </a:lnTo>
                <a:lnTo>
                  <a:pt x="3630" y="453"/>
                </a:lnTo>
                <a:lnTo>
                  <a:pt x="3636" y="448"/>
                </a:lnTo>
                <a:lnTo>
                  <a:pt x="3641" y="442"/>
                </a:lnTo>
                <a:lnTo>
                  <a:pt x="3648" y="435"/>
                </a:lnTo>
                <a:lnTo>
                  <a:pt x="3654" y="429"/>
                </a:lnTo>
                <a:lnTo>
                  <a:pt x="3662" y="421"/>
                </a:lnTo>
                <a:lnTo>
                  <a:pt x="3669" y="414"/>
                </a:lnTo>
                <a:lnTo>
                  <a:pt x="3677" y="405"/>
                </a:lnTo>
                <a:lnTo>
                  <a:pt x="3682" y="399"/>
                </a:lnTo>
                <a:lnTo>
                  <a:pt x="3690" y="391"/>
                </a:lnTo>
                <a:lnTo>
                  <a:pt x="3697" y="384"/>
                </a:lnTo>
                <a:lnTo>
                  <a:pt x="3704" y="376"/>
                </a:lnTo>
                <a:lnTo>
                  <a:pt x="3710" y="371"/>
                </a:lnTo>
                <a:lnTo>
                  <a:pt x="3717" y="364"/>
                </a:lnTo>
                <a:lnTo>
                  <a:pt x="3723" y="358"/>
                </a:lnTo>
                <a:lnTo>
                  <a:pt x="3730" y="353"/>
                </a:lnTo>
                <a:lnTo>
                  <a:pt x="3734" y="351"/>
                </a:lnTo>
                <a:lnTo>
                  <a:pt x="3738" y="347"/>
                </a:lnTo>
                <a:lnTo>
                  <a:pt x="3744" y="344"/>
                </a:lnTo>
                <a:lnTo>
                  <a:pt x="3749" y="340"/>
                </a:lnTo>
                <a:lnTo>
                  <a:pt x="3755" y="337"/>
                </a:lnTo>
                <a:lnTo>
                  <a:pt x="3761" y="333"/>
                </a:lnTo>
                <a:lnTo>
                  <a:pt x="3766" y="329"/>
                </a:lnTo>
                <a:lnTo>
                  <a:pt x="3774" y="326"/>
                </a:lnTo>
                <a:lnTo>
                  <a:pt x="3780" y="322"/>
                </a:lnTo>
                <a:lnTo>
                  <a:pt x="3786" y="318"/>
                </a:lnTo>
                <a:lnTo>
                  <a:pt x="3792" y="314"/>
                </a:lnTo>
                <a:lnTo>
                  <a:pt x="3798" y="311"/>
                </a:lnTo>
                <a:lnTo>
                  <a:pt x="3802" y="307"/>
                </a:lnTo>
                <a:lnTo>
                  <a:pt x="3808" y="303"/>
                </a:lnTo>
                <a:lnTo>
                  <a:pt x="3812" y="299"/>
                </a:lnTo>
                <a:lnTo>
                  <a:pt x="3815" y="295"/>
                </a:lnTo>
                <a:lnTo>
                  <a:pt x="3818" y="290"/>
                </a:lnTo>
                <a:lnTo>
                  <a:pt x="3822" y="283"/>
                </a:lnTo>
                <a:lnTo>
                  <a:pt x="3823" y="276"/>
                </a:lnTo>
                <a:lnTo>
                  <a:pt x="3826" y="267"/>
                </a:lnTo>
                <a:lnTo>
                  <a:pt x="3828" y="258"/>
                </a:lnTo>
                <a:lnTo>
                  <a:pt x="3830" y="249"/>
                </a:lnTo>
                <a:lnTo>
                  <a:pt x="3832" y="239"/>
                </a:lnTo>
                <a:lnTo>
                  <a:pt x="3834" y="229"/>
                </a:lnTo>
                <a:lnTo>
                  <a:pt x="3836" y="219"/>
                </a:lnTo>
                <a:lnTo>
                  <a:pt x="3838" y="210"/>
                </a:lnTo>
                <a:lnTo>
                  <a:pt x="3840" y="201"/>
                </a:lnTo>
                <a:lnTo>
                  <a:pt x="3842" y="191"/>
                </a:lnTo>
                <a:lnTo>
                  <a:pt x="3844" y="184"/>
                </a:lnTo>
                <a:lnTo>
                  <a:pt x="3847" y="175"/>
                </a:lnTo>
                <a:lnTo>
                  <a:pt x="3850" y="169"/>
                </a:lnTo>
                <a:lnTo>
                  <a:pt x="3853" y="162"/>
                </a:lnTo>
                <a:lnTo>
                  <a:pt x="3856" y="157"/>
                </a:lnTo>
                <a:lnTo>
                  <a:pt x="3861" y="151"/>
                </a:lnTo>
                <a:lnTo>
                  <a:pt x="3867" y="145"/>
                </a:lnTo>
                <a:lnTo>
                  <a:pt x="3874" y="139"/>
                </a:lnTo>
                <a:lnTo>
                  <a:pt x="3881" y="133"/>
                </a:lnTo>
                <a:lnTo>
                  <a:pt x="3889" y="128"/>
                </a:lnTo>
                <a:lnTo>
                  <a:pt x="3896" y="122"/>
                </a:lnTo>
                <a:lnTo>
                  <a:pt x="3905" y="115"/>
                </a:lnTo>
                <a:lnTo>
                  <a:pt x="3912" y="109"/>
                </a:lnTo>
                <a:lnTo>
                  <a:pt x="3920" y="103"/>
                </a:lnTo>
                <a:lnTo>
                  <a:pt x="3928" y="98"/>
                </a:lnTo>
                <a:lnTo>
                  <a:pt x="3936" y="90"/>
                </a:lnTo>
                <a:lnTo>
                  <a:pt x="3941" y="85"/>
                </a:lnTo>
                <a:lnTo>
                  <a:pt x="3948" y="79"/>
                </a:lnTo>
                <a:lnTo>
                  <a:pt x="3953" y="73"/>
                </a:lnTo>
                <a:lnTo>
                  <a:pt x="3958" y="67"/>
                </a:lnTo>
                <a:lnTo>
                  <a:pt x="3958" y="65"/>
                </a:lnTo>
                <a:lnTo>
                  <a:pt x="3960" y="61"/>
                </a:lnTo>
                <a:lnTo>
                  <a:pt x="3962" y="57"/>
                </a:lnTo>
                <a:lnTo>
                  <a:pt x="3964" y="51"/>
                </a:lnTo>
                <a:lnTo>
                  <a:pt x="3965" y="45"/>
                </a:lnTo>
                <a:lnTo>
                  <a:pt x="3967" y="40"/>
                </a:lnTo>
                <a:lnTo>
                  <a:pt x="3969" y="34"/>
                </a:lnTo>
                <a:lnTo>
                  <a:pt x="3970" y="28"/>
                </a:lnTo>
                <a:lnTo>
                  <a:pt x="3970" y="24"/>
                </a:lnTo>
                <a:lnTo>
                  <a:pt x="3972" y="18"/>
                </a:lnTo>
                <a:lnTo>
                  <a:pt x="3973" y="14"/>
                </a:lnTo>
                <a:lnTo>
                  <a:pt x="3975" y="9"/>
                </a:lnTo>
                <a:lnTo>
                  <a:pt x="3975" y="6"/>
                </a:lnTo>
                <a:lnTo>
                  <a:pt x="3976" y="3"/>
                </a:lnTo>
                <a:lnTo>
                  <a:pt x="3976" y="1"/>
                </a:lnTo>
                <a:lnTo>
                  <a:pt x="3977" y="0"/>
                </a:lnTo>
              </a:path>
            </a:pathLst>
          </a:custGeom>
          <a:noFill/>
          <a:ln w="954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453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3000"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entro de la Caja de  Edgeworth 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9720" y="2511360"/>
            <a:ext cx="3504960" cy="4019760"/>
          </a:xfrm>
          <a:custGeom>
            <a:avLst/>
            <a:gdLst/>
            <a:ahLst/>
            <a:rect l="l" t="t" r="r" b="b"/>
            <a:pathLst>
              <a:path w="2208" h="2532">
                <a:moveTo>
                  <a:pt x="2207" y="2531"/>
                </a:moveTo>
                <a:lnTo>
                  <a:pt x="2203" y="2511"/>
                </a:lnTo>
                <a:lnTo>
                  <a:pt x="2202" y="2494"/>
                </a:lnTo>
                <a:lnTo>
                  <a:pt x="2200" y="2481"/>
                </a:lnTo>
                <a:lnTo>
                  <a:pt x="2199" y="2470"/>
                </a:lnTo>
                <a:lnTo>
                  <a:pt x="2197" y="2463"/>
                </a:lnTo>
                <a:lnTo>
                  <a:pt x="2197" y="2456"/>
                </a:lnTo>
                <a:lnTo>
                  <a:pt x="2197" y="2452"/>
                </a:lnTo>
                <a:lnTo>
                  <a:pt x="2197" y="2448"/>
                </a:lnTo>
                <a:lnTo>
                  <a:pt x="2195" y="2446"/>
                </a:lnTo>
                <a:lnTo>
                  <a:pt x="2195" y="2444"/>
                </a:lnTo>
                <a:lnTo>
                  <a:pt x="2195" y="2442"/>
                </a:lnTo>
                <a:lnTo>
                  <a:pt x="2195" y="2438"/>
                </a:lnTo>
                <a:lnTo>
                  <a:pt x="2193" y="2434"/>
                </a:lnTo>
                <a:lnTo>
                  <a:pt x="2193" y="2428"/>
                </a:lnTo>
                <a:lnTo>
                  <a:pt x="2193" y="2421"/>
                </a:lnTo>
                <a:lnTo>
                  <a:pt x="2193" y="2410"/>
                </a:lnTo>
                <a:lnTo>
                  <a:pt x="2190" y="2397"/>
                </a:lnTo>
                <a:lnTo>
                  <a:pt x="2189" y="2380"/>
                </a:lnTo>
                <a:lnTo>
                  <a:pt x="2185" y="2362"/>
                </a:lnTo>
                <a:lnTo>
                  <a:pt x="2182" y="2338"/>
                </a:lnTo>
                <a:lnTo>
                  <a:pt x="2177" y="2315"/>
                </a:lnTo>
                <a:lnTo>
                  <a:pt x="2172" y="2287"/>
                </a:lnTo>
                <a:lnTo>
                  <a:pt x="2167" y="2259"/>
                </a:lnTo>
                <a:lnTo>
                  <a:pt x="2162" y="2228"/>
                </a:lnTo>
                <a:lnTo>
                  <a:pt x="2155" y="2197"/>
                </a:lnTo>
                <a:lnTo>
                  <a:pt x="2149" y="2165"/>
                </a:lnTo>
                <a:lnTo>
                  <a:pt x="2142" y="2133"/>
                </a:lnTo>
                <a:lnTo>
                  <a:pt x="2137" y="2100"/>
                </a:lnTo>
                <a:lnTo>
                  <a:pt x="2129" y="2068"/>
                </a:lnTo>
                <a:lnTo>
                  <a:pt x="2124" y="2035"/>
                </a:lnTo>
                <a:lnTo>
                  <a:pt x="2116" y="2004"/>
                </a:lnTo>
                <a:lnTo>
                  <a:pt x="2111" y="1972"/>
                </a:lnTo>
                <a:lnTo>
                  <a:pt x="2103" y="1942"/>
                </a:lnTo>
                <a:lnTo>
                  <a:pt x="2095" y="1910"/>
                </a:lnTo>
                <a:lnTo>
                  <a:pt x="2087" y="1877"/>
                </a:lnTo>
                <a:lnTo>
                  <a:pt x="2080" y="1842"/>
                </a:lnTo>
                <a:lnTo>
                  <a:pt x="2071" y="1808"/>
                </a:lnTo>
                <a:lnTo>
                  <a:pt x="2062" y="1772"/>
                </a:lnTo>
                <a:lnTo>
                  <a:pt x="2053" y="1738"/>
                </a:lnTo>
                <a:lnTo>
                  <a:pt x="2044" y="1703"/>
                </a:lnTo>
                <a:lnTo>
                  <a:pt x="2034" y="1671"/>
                </a:lnTo>
                <a:lnTo>
                  <a:pt x="2025" y="1638"/>
                </a:lnTo>
                <a:lnTo>
                  <a:pt x="2016" y="1608"/>
                </a:lnTo>
                <a:lnTo>
                  <a:pt x="2007" y="1580"/>
                </a:lnTo>
                <a:lnTo>
                  <a:pt x="1999" y="1554"/>
                </a:lnTo>
                <a:lnTo>
                  <a:pt x="1992" y="1531"/>
                </a:lnTo>
                <a:lnTo>
                  <a:pt x="1985" y="1510"/>
                </a:lnTo>
                <a:lnTo>
                  <a:pt x="1979" y="1493"/>
                </a:lnTo>
                <a:lnTo>
                  <a:pt x="1971" y="1478"/>
                </a:lnTo>
                <a:lnTo>
                  <a:pt x="1965" y="1460"/>
                </a:lnTo>
                <a:lnTo>
                  <a:pt x="1956" y="1440"/>
                </a:lnTo>
                <a:lnTo>
                  <a:pt x="1948" y="1418"/>
                </a:lnTo>
                <a:lnTo>
                  <a:pt x="1938" y="1395"/>
                </a:lnTo>
                <a:lnTo>
                  <a:pt x="1928" y="1371"/>
                </a:lnTo>
                <a:lnTo>
                  <a:pt x="1917" y="1345"/>
                </a:lnTo>
                <a:lnTo>
                  <a:pt x="1908" y="1319"/>
                </a:lnTo>
                <a:lnTo>
                  <a:pt x="1897" y="1294"/>
                </a:lnTo>
                <a:lnTo>
                  <a:pt x="1885" y="1268"/>
                </a:lnTo>
                <a:lnTo>
                  <a:pt x="1874" y="1242"/>
                </a:lnTo>
                <a:lnTo>
                  <a:pt x="1864" y="1216"/>
                </a:lnTo>
                <a:lnTo>
                  <a:pt x="1853" y="1192"/>
                </a:lnTo>
                <a:lnTo>
                  <a:pt x="1843" y="1168"/>
                </a:lnTo>
                <a:lnTo>
                  <a:pt x="1834" y="1146"/>
                </a:lnTo>
                <a:lnTo>
                  <a:pt x="1827" y="1125"/>
                </a:lnTo>
                <a:lnTo>
                  <a:pt x="1817" y="1105"/>
                </a:lnTo>
                <a:lnTo>
                  <a:pt x="1808" y="1084"/>
                </a:lnTo>
                <a:lnTo>
                  <a:pt x="1797" y="1061"/>
                </a:lnTo>
                <a:lnTo>
                  <a:pt x="1788" y="1037"/>
                </a:lnTo>
                <a:lnTo>
                  <a:pt x="1777" y="1013"/>
                </a:lnTo>
                <a:lnTo>
                  <a:pt x="1767" y="989"/>
                </a:lnTo>
                <a:lnTo>
                  <a:pt x="1755" y="964"/>
                </a:lnTo>
                <a:lnTo>
                  <a:pt x="1746" y="940"/>
                </a:lnTo>
                <a:lnTo>
                  <a:pt x="1735" y="918"/>
                </a:lnTo>
                <a:lnTo>
                  <a:pt x="1725" y="894"/>
                </a:lnTo>
                <a:lnTo>
                  <a:pt x="1715" y="873"/>
                </a:lnTo>
                <a:lnTo>
                  <a:pt x="1706" y="851"/>
                </a:lnTo>
                <a:lnTo>
                  <a:pt x="1697" y="832"/>
                </a:lnTo>
                <a:lnTo>
                  <a:pt x="1689" y="814"/>
                </a:lnTo>
                <a:lnTo>
                  <a:pt x="1683" y="797"/>
                </a:lnTo>
                <a:lnTo>
                  <a:pt x="1677" y="782"/>
                </a:lnTo>
                <a:lnTo>
                  <a:pt x="1669" y="770"/>
                </a:lnTo>
                <a:lnTo>
                  <a:pt x="1662" y="756"/>
                </a:lnTo>
                <a:lnTo>
                  <a:pt x="1653" y="740"/>
                </a:lnTo>
                <a:lnTo>
                  <a:pt x="1644" y="722"/>
                </a:lnTo>
                <a:lnTo>
                  <a:pt x="1633" y="706"/>
                </a:lnTo>
                <a:lnTo>
                  <a:pt x="1623" y="687"/>
                </a:lnTo>
                <a:lnTo>
                  <a:pt x="1611" y="668"/>
                </a:lnTo>
                <a:lnTo>
                  <a:pt x="1600" y="649"/>
                </a:lnTo>
                <a:lnTo>
                  <a:pt x="1587" y="631"/>
                </a:lnTo>
                <a:lnTo>
                  <a:pt x="1575" y="612"/>
                </a:lnTo>
                <a:lnTo>
                  <a:pt x="1562" y="595"/>
                </a:lnTo>
                <a:lnTo>
                  <a:pt x="1551" y="576"/>
                </a:lnTo>
                <a:lnTo>
                  <a:pt x="1538" y="560"/>
                </a:lnTo>
                <a:lnTo>
                  <a:pt x="1527" y="544"/>
                </a:lnTo>
                <a:lnTo>
                  <a:pt x="1515" y="530"/>
                </a:lnTo>
                <a:lnTo>
                  <a:pt x="1505" y="515"/>
                </a:lnTo>
                <a:lnTo>
                  <a:pt x="1494" y="503"/>
                </a:lnTo>
                <a:lnTo>
                  <a:pt x="1483" y="489"/>
                </a:lnTo>
                <a:lnTo>
                  <a:pt x="1470" y="475"/>
                </a:lnTo>
                <a:lnTo>
                  <a:pt x="1457" y="460"/>
                </a:lnTo>
                <a:lnTo>
                  <a:pt x="1442" y="445"/>
                </a:lnTo>
                <a:lnTo>
                  <a:pt x="1429" y="430"/>
                </a:lnTo>
                <a:lnTo>
                  <a:pt x="1413" y="415"/>
                </a:lnTo>
                <a:lnTo>
                  <a:pt x="1400" y="398"/>
                </a:lnTo>
                <a:lnTo>
                  <a:pt x="1384" y="384"/>
                </a:lnTo>
                <a:lnTo>
                  <a:pt x="1369" y="369"/>
                </a:lnTo>
                <a:lnTo>
                  <a:pt x="1354" y="356"/>
                </a:lnTo>
                <a:lnTo>
                  <a:pt x="1341" y="342"/>
                </a:lnTo>
                <a:lnTo>
                  <a:pt x="1326" y="330"/>
                </a:lnTo>
                <a:lnTo>
                  <a:pt x="1314" y="319"/>
                </a:lnTo>
                <a:lnTo>
                  <a:pt x="1302" y="309"/>
                </a:lnTo>
                <a:lnTo>
                  <a:pt x="1291" y="299"/>
                </a:lnTo>
                <a:lnTo>
                  <a:pt x="1280" y="292"/>
                </a:lnTo>
                <a:lnTo>
                  <a:pt x="1270" y="284"/>
                </a:lnTo>
                <a:lnTo>
                  <a:pt x="1259" y="277"/>
                </a:lnTo>
                <a:lnTo>
                  <a:pt x="1249" y="268"/>
                </a:lnTo>
                <a:lnTo>
                  <a:pt x="1237" y="260"/>
                </a:lnTo>
                <a:lnTo>
                  <a:pt x="1227" y="251"/>
                </a:lnTo>
                <a:lnTo>
                  <a:pt x="1216" y="244"/>
                </a:lnTo>
                <a:lnTo>
                  <a:pt x="1207" y="234"/>
                </a:lnTo>
                <a:lnTo>
                  <a:pt x="1196" y="228"/>
                </a:lnTo>
                <a:lnTo>
                  <a:pt x="1187" y="221"/>
                </a:lnTo>
                <a:lnTo>
                  <a:pt x="1178" y="214"/>
                </a:lnTo>
                <a:lnTo>
                  <a:pt x="1170" y="208"/>
                </a:lnTo>
                <a:lnTo>
                  <a:pt x="1163" y="202"/>
                </a:lnTo>
                <a:lnTo>
                  <a:pt x="1157" y="197"/>
                </a:lnTo>
                <a:lnTo>
                  <a:pt x="1151" y="193"/>
                </a:lnTo>
                <a:lnTo>
                  <a:pt x="1148" y="190"/>
                </a:lnTo>
                <a:lnTo>
                  <a:pt x="1143" y="188"/>
                </a:lnTo>
                <a:lnTo>
                  <a:pt x="1138" y="184"/>
                </a:lnTo>
                <a:lnTo>
                  <a:pt x="1131" y="182"/>
                </a:lnTo>
                <a:lnTo>
                  <a:pt x="1126" y="178"/>
                </a:lnTo>
                <a:lnTo>
                  <a:pt x="1118" y="174"/>
                </a:lnTo>
                <a:lnTo>
                  <a:pt x="1111" y="171"/>
                </a:lnTo>
                <a:lnTo>
                  <a:pt x="1103" y="167"/>
                </a:lnTo>
                <a:lnTo>
                  <a:pt x="1095" y="163"/>
                </a:lnTo>
                <a:lnTo>
                  <a:pt x="1086" y="159"/>
                </a:lnTo>
                <a:lnTo>
                  <a:pt x="1077" y="155"/>
                </a:lnTo>
                <a:lnTo>
                  <a:pt x="1068" y="151"/>
                </a:lnTo>
                <a:lnTo>
                  <a:pt x="1060" y="146"/>
                </a:lnTo>
                <a:lnTo>
                  <a:pt x="1050" y="143"/>
                </a:lnTo>
                <a:lnTo>
                  <a:pt x="1042" y="140"/>
                </a:lnTo>
                <a:lnTo>
                  <a:pt x="1033" y="136"/>
                </a:lnTo>
                <a:lnTo>
                  <a:pt x="1026" y="132"/>
                </a:lnTo>
                <a:lnTo>
                  <a:pt x="1017" y="130"/>
                </a:lnTo>
                <a:lnTo>
                  <a:pt x="1008" y="126"/>
                </a:lnTo>
                <a:lnTo>
                  <a:pt x="997" y="123"/>
                </a:lnTo>
                <a:lnTo>
                  <a:pt x="985" y="119"/>
                </a:lnTo>
                <a:lnTo>
                  <a:pt x="972" y="115"/>
                </a:lnTo>
                <a:lnTo>
                  <a:pt x="959" y="110"/>
                </a:lnTo>
                <a:lnTo>
                  <a:pt x="944" y="106"/>
                </a:lnTo>
                <a:lnTo>
                  <a:pt x="931" y="101"/>
                </a:lnTo>
                <a:lnTo>
                  <a:pt x="916" y="97"/>
                </a:lnTo>
                <a:lnTo>
                  <a:pt x="901" y="92"/>
                </a:lnTo>
                <a:lnTo>
                  <a:pt x="886" y="88"/>
                </a:lnTo>
                <a:lnTo>
                  <a:pt x="872" y="83"/>
                </a:lnTo>
                <a:lnTo>
                  <a:pt x="857" y="79"/>
                </a:lnTo>
                <a:lnTo>
                  <a:pt x="843" y="75"/>
                </a:lnTo>
                <a:lnTo>
                  <a:pt x="830" y="72"/>
                </a:lnTo>
                <a:lnTo>
                  <a:pt x="819" y="68"/>
                </a:lnTo>
                <a:lnTo>
                  <a:pt x="806" y="66"/>
                </a:lnTo>
                <a:lnTo>
                  <a:pt x="793" y="62"/>
                </a:lnTo>
                <a:lnTo>
                  <a:pt x="778" y="60"/>
                </a:lnTo>
                <a:lnTo>
                  <a:pt x="763" y="56"/>
                </a:lnTo>
                <a:lnTo>
                  <a:pt x="747" y="54"/>
                </a:lnTo>
                <a:lnTo>
                  <a:pt x="731" y="50"/>
                </a:lnTo>
                <a:lnTo>
                  <a:pt x="714" y="46"/>
                </a:lnTo>
                <a:lnTo>
                  <a:pt x="699" y="43"/>
                </a:lnTo>
                <a:lnTo>
                  <a:pt x="681" y="41"/>
                </a:lnTo>
                <a:lnTo>
                  <a:pt x="665" y="38"/>
                </a:lnTo>
                <a:lnTo>
                  <a:pt x="650" y="36"/>
                </a:lnTo>
                <a:lnTo>
                  <a:pt x="635" y="32"/>
                </a:lnTo>
                <a:lnTo>
                  <a:pt x="620" y="30"/>
                </a:lnTo>
                <a:lnTo>
                  <a:pt x="607" y="28"/>
                </a:lnTo>
                <a:lnTo>
                  <a:pt x="595" y="26"/>
                </a:lnTo>
                <a:lnTo>
                  <a:pt x="584" y="24"/>
                </a:lnTo>
                <a:lnTo>
                  <a:pt x="573" y="24"/>
                </a:lnTo>
                <a:lnTo>
                  <a:pt x="561" y="22"/>
                </a:lnTo>
                <a:lnTo>
                  <a:pt x="547" y="22"/>
                </a:lnTo>
                <a:lnTo>
                  <a:pt x="534" y="20"/>
                </a:lnTo>
                <a:lnTo>
                  <a:pt x="517" y="20"/>
                </a:lnTo>
                <a:lnTo>
                  <a:pt x="503" y="18"/>
                </a:lnTo>
                <a:lnTo>
                  <a:pt x="486" y="16"/>
                </a:lnTo>
                <a:lnTo>
                  <a:pt x="470" y="14"/>
                </a:lnTo>
                <a:lnTo>
                  <a:pt x="453" y="14"/>
                </a:lnTo>
                <a:lnTo>
                  <a:pt x="436" y="12"/>
                </a:lnTo>
                <a:lnTo>
                  <a:pt x="419" y="12"/>
                </a:lnTo>
                <a:lnTo>
                  <a:pt x="403" y="10"/>
                </a:lnTo>
                <a:lnTo>
                  <a:pt x="387" y="10"/>
                </a:lnTo>
                <a:lnTo>
                  <a:pt x="371" y="8"/>
                </a:lnTo>
                <a:lnTo>
                  <a:pt x="357" y="7"/>
                </a:lnTo>
                <a:lnTo>
                  <a:pt x="345" y="5"/>
                </a:lnTo>
                <a:lnTo>
                  <a:pt x="331" y="5"/>
                </a:lnTo>
                <a:lnTo>
                  <a:pt x="318" y="5"/>
                </a:lnTo>
                <a:lnTo>
                  <a:pt x="303" y="5"/>
                </a:lnTo>
                <a:lnTo>
                  <a:pt x="288" y="4"/>
                </a:lnTo>
                <a:lnTo>
                  <a:pt x="271" y="4"/>
                </a:lnTo>
                <a:lnTo>
                  <a:pt x="255" y="4"/>
                </a:lnTo>
                <a:lnTo>
                  <a:pt x="239" y="4"/>
                </a:lnTo>
                <a:lnTo>
                  <a:pt x="222" y="2"/>
                </a:lnTo>
                <a:lnTo>
                  <a:pt x="205" y="2"/>
                </a:lnTo>
                <a:lnTo>
                  <a:pt x="189" y="2"/>
                </a:lnTo>
                <a:lnTo>
                  <a:pt x="172" y="2"/>
                </a:lnTo>
                <a:lnTo>
                  <a:pt x="157" y="1"/>
                </a:lnTo>
                <a:lnTo>
                  <a:pt x="143" y="1"/>
                </a:lnTo>
                <a:lnTo>
                  <a:pt x="129" y="1"/>
                </a:lnTo>
                <a:lnTo>
                  <a:pt x="116" y="1"/>
                </a:lnTo>
                <a:lnTo>
                  <a:pt x="106" y="0"/>
                </a:lnTo>
                <a:lnTo>
                  <a:pt x="96" y="0"/>
                </a:lnTo>
                <a:lnTo>
                  <a:pt x="90" y="0"/>
                </a:lnTo>
                <a:lnTo>
                  <a:pt x="85" y="0"/>
                </a:lnTo>
                <a:lnTo>
                  <a:pt x="82" y="0"/>
                </a:lnTo>
                <a:lnTo>
                  <a:pt x="79" y="0"/>
                </a:lnTo>
                <a:lnTo>
                  <a:pt x="77" y="0"/>
                </a:lnTo>
                <a:lnTo>
                  <a:pt x="75" y="0"/>
                </a:lnTo>
                <a:lnTo>
                  <a:pt x="73" y="0"/>
                </a:lnTo>
                <a:lnTo>
                  <a:pt x="69" y="0"/>
                </a:lnTo>
                <a:lnTo>
                  <a:pt x="66" y="0"/>
                </a:lnTo>
                <a:lnTo>
                  <a:pt x="60" y="0"/>
                </a:lnTo>
                <a:lnTo>
                  <a:pt x="53" y="0"/>
                </a:lnTo>
                <a:lnTo>
                  <a:pt x="43" y="0"/>
                </a:lnTo>
                <a:lnTo>
                  <a:pt x="32" y="0"/>
                </a:lnTo>
                <a:lnTo>
                  <a:pt x="1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9280" y="2857680"/>
            <a:ext cx="3052800" cy="2984400"/>
          </a:xfrm>
          <a:custGeom>
            <a:avLst/>
            <a:gdLst/>
            <a:ahLst/>
            <a:rect l="l" t="t" r="r" b="b"/>
            <a:pathLst>
              <a:path w="1923" h="1880">
                <a:moveTo>
                  <a:pt x="1922" y="1879"/>
                </a:moveTo>
                <a:lnTo>
                  <a:pt x="1919" y="1864"/>
                </a:lnTo>
                <a:lnTo>
                  <a:pt x="1915" y="1851"/>
                </a:lnTo>
                <a:lnTo>
                  <a:pt x="1913" y="1841"/>
                </a:lnTo>
                <a:lnTo>
                  <a:pt x="1912" y="1832"/>
                </a:lnTo>
                <a:lnTo>
                  <a:pt x="1910" y="1827"/>
                </a:lnTo>
                <a:lnTo>
                  <a:pt x="1910" y="1822"/>
                </a:lnTo>
                <a:lnTo>
                  <a:pt x="1909" y="1819"/>
                </a:lnTo>
                <a:lnTo>
                  <a:pt x="1909" y="1815"/>
                </a:lnTo>
                <a:lnTo>
                  <a:pt x="1908" y="1814"/>
                </a:lnTo>
                <a:lnTo>
                  <a:pt x="1908" y="1812"/>
                </a:lnTo>
                <a:lnTo>
                  <a:pt x="1908" y="1810"/>
                </a:lnTo>
                <a:lnTo>
                  <a:pt x="1908" y="1807"/>
                </a:lnTo>
                <a:lnTo>
                  <a:pt x="1906" y="1804"/>
                </a:lnTo>
                <a:lnTo>
                  <a:pt x="1906" y="1800"/>
                </a:lnTo>
                <a:lnTo>
                  <a:pt x="1904" y="1794"/>
                </a:lnTo>
                <a:lnTo>
                  <a:pt x="1904" y="1786"/>
                </a:lnTo>
                <a:lnTo>
                  <a:pt x="1901" y="1776"/>
                </a:lnTo>
                <a:lnTo>
                  <a:pt x="1899" y="1763"/>
                </a:lnTo>
                <a:lnTo>
                  <a:pt x="1894" y="1748"/>
                </a:lnTo>
                <a:lnTo>
                  <a:pt x="1890" y="1730"/>
                </a:lnTo>
                <a:lnTo>
                  <a:pt x="1885" y="1710"/>
                </a:lnTo>
                <a:lnTo>
                  <a:pt x="1879" y="1689"/>
                </a:lnTo>
                <a:lnTo>
                  <a:pt x="1873" y="1667"/>
                </a:lnTo>
                <a:lnTo>
                  <a:pt x="1867" y="1642"/>
                </a:lnTo>
                <a:lnTo>
                  <a:pt x="1860" y="1618"/>
                </a:lnTo>
                <a:lnTo>
                  <a:pt x="1853" y="1593"/>
                </a:lnTo>
                <a:lnTo>
                  <a:pt x="1845" y="1568"/>
                </a:lnTo>
                <a:lnTo>
                  <a:pt x="1838" y="1542"/>
                </a:lnTo>
                <a:lnTo>
                  <a:pt x="1831" y="1517"/>
                </a:lnTo>
                <a:lnTo>
                  <a:pt x="1823" y="1491"/>
                </a:lnTo>
                <a:lnTo>
                  <a:pt x="1815" y="1466"/>
                </a:lnTo>
                <a:lnTo>
                  <a:pt x="1809" y="1442"/>
                </a:lnTo>
                <a:lnTo>
                  <a:pt x="1800" y="1418"/>
                </a:lnTo>
                <a:lnTo>
                  <a:pt x="1792" y="1393"/>
                </a:lnTo>
                <a:lnTo>
                  <a:pt x="1783" y="1367"/>
                </a:lnTo>
                <a:lnTo>
                  <a:pt x="1775" y="1340"/>
                </a:lnTo>
                <a:lnTo>
                  <a:pt x="1765" y="1314"/>
                </a:lnTo>
                <a:lnTo>
                  <a:pt x="1755" y="1287"/>
                </a:lnTo>
                <a:lnTo>
                  <a:pt x="1746" y="1261"/>
                </a:lnTo>
                <a:lnTo>
                  <a:pt x="1737" y="1233"/>
                </a:lnTo>
                <a:lnTo>
                  <a:pt x="1727" y="1209"/>
                </a:lnTo>
                <a:lnTo>
                  <a:pt x="1717" y="1184"/>
                </a:lnTo>
                <a:lnTo>
                  <a:pt x="1708" y="1161"/>
                </a:lnTo>
                <a:lnTo>
                  <a:pt x="1700" y="1139"/>
                </a:lnTo>
                <a:lnTo>
                  <a:pt x="1691" y="1120"/>
                </a:lnTo>
                <a:lnTo>
                  <a:pt x="1684" y="1102"/>
                </a:lnTo>
                <a:lnTo>
                  <a:pt x="1677" y="1086"/>
                </a:lnTo>
                <a:lnTo>
                  <a:pt x="1671" y="1072"/>
                </a:lnTo>
                <a:lnTo>
                  <a:pt x="1665" y="1060"/>
                </a:lnTo>
                <a:lnTo>
                  <a:pt x="1658" y="1046"/>
                </a:lnTo>
                <a:lnTo>
                  <a:pt x="1649" y="1032"/>
                </a:lnTo>
                <a:lnTo>
                  <a:pt x="1641" y="1014"/>
                </a:lnTo>
                <a:lnTo>
                  <a:pt x="1632" y="997"/>
                </a:lnTo>
                <a:lnTo>
                  <a:pt x="1623" y="978"/>
                </a:lnTo>
                <a:lnTo>
                  <a:pt x="1613" y="959"/>
                </a:lnTo>
                <a:lnTo>
                  <a:pt x="1603" y="938"/>
                </a:lnTo>
                <a:lnTo>
                  <a:pt x="1592" y="919"/>
                </a:lnTo>
                <a:lnTo>
                  <a:pt x="1582" y="898"/>
                </a:lnTo>
                <a:lnTo>
                  <a:pt x="1571" y="879"/>
                </a:lnTo>
                <a:lnTo>
                  <a:pt x="1562" y="858"/>
                </a:lnTo>
                <a:lnTo>
                  <a:pt x="1552" y="840"/>
                </a:lnTo>
                <a:lnTo>
                  <a:pt x="1543" y="821"/>
                </a:lnTo>
                <a:lnTo>
                  <a:pt x="1533" y="804"/>
                </a:lnTo>
                <a:lnTo>
                  <a:pt x="1526" y="787"/>
                </a:lnTo>
                <a:lnTo>
                  <a:pt x="1517" y="773"/>
                </a:lnTo>
                <a:lnTo>
                  <a:pt x="1509" y="756"/>
                </a:lnTo>
                <a:lnTo>
                  <a:pt x="1499" y="739"/>
                </a:lnTo>
                <a:lnTo>
                  <a:pt x="1490" y="721"/>
                </a:lnTo>
                <a:lnTo>
                  <a:pt x="1479" y="703"/>
                </a:lnTo>
                <a:lnTo>
                  <a:pt x="1469" y="684"/>
                </a:lnTo>
                <a:lnTo>
                  <a:pt x="1459" y="665"/>
                </a:lnTo>
                <a:lnTo>
                  <a:pt x="1450" y="646"/>
                </a:lnTo>
                <a:lnTo>
                  <a:pt x="1439" y="629"/>
                </a:lnTo>
                <a:lnTo>
                  <a:pt x="1429" y="611"/>
                </a:lnTo>
                <a:lnTo>
                  <a:pt x="1420" y="594"/>
                </a:lnTo>
                <a:lnTo>
                  <a:pt x="1412" y="577"/>
                </a:lnTo>
                <a:lnTo>
                  <a:pt x="1403" y="563"/>
                </a:lnTo>
                <a:lnTo>
                  <a:pt x="1395" y="549"/>
                </a:lnTo>
                <a:lnTo>
                  <a:pt x="1389" y="537"/>
                </a:lnTo>
                <a:lnTo>
                  <a:pt x="1383" y="525"/>
                </a:lnTo>
                <a:lnTo>
                  <a:pt x="1376" y="516"/>
                </a:lnTo>
                <a:lnTo>
                  <a:pt x="1369" y="504"/>
                </a:lnTo>
                <a:lnTo>
                  <a:pt x="1361" y="492"/>
                </a:lnTo>
                <a:lnTo>
                  <a:pt x="1353" y="479"/>
                </a:lnTo>
                <a:lnTo>
                  <a:pt x="1343" y="466"/>
                </a:lnTo>
                <a:lnTo>
                  <a:pt x="1334" y="452"/>
                </a:lnTo>
                <a:lnTo>
                  <a:pt x="1323" y="440"/>
                </a:lnTo>
                <a:lnTo>
                  <a:pt x="1313" y="424"/>
                </a:lnTo>
                <a:lnTo>
                  <a:pt x="1302" y="411"/>
                </a:lnTo>
                <a:lnTo>
                  <a:pt x="1291" y="397"/>
                </a:lnTo>
                <a:lnTo>
                  <a:pt x="1279" y="384"/>
                </a:lnTo>
                <a:lnTo>
                  <a:pt x="1269" y="370"/>
                </a:lnTo>
                <a:lnTo>
                  <a:pt x="1258" y="358"/>
                </a:lnTo>
                <a:lnTo>
                  <a:pt x="1248" y="346"/>
                </a:lnTo>
                <a:lnTo>
                  <a:pt x="1238" y="335"/>
                </a:lnTo>
                <a:lnTo>
                  <a:pt x="1228" y="325"/>
                </a:lnTo>
                <a:lnTo>
                  <a:pt x="1218" y="316"/>
                </a:lnTo>
                <a:lnTo>
                  <a:pt x="1208" y="306"/>
                </a:lnTo>
                <a:lnTo>
                  <a:pt x="1197" y="296"/>
                </a:lnTo>
                <a:lnTo>
                  <a:pt x="1186" y="285"/>
                </a:lnTo>
                <a:lnTo>
                  <a:pt x="1173" y="274"/>
                </a:lnTo>
                <a:lnTo>
                  <a:pt x="1161" y="262"/>
                </a:lnTo>
                <a:lnTo>
                  <a:pt x="1148" y="251"/>
                </a:lnTo>
                <a:lnTo>
                  <a:pt x="1136" y="239"/>
                </a:lnTo>
                <a:lnTo>
                  <a:pt x="1123" y="229"/>
                </a:lnTo>
                <a:lnTo>
                  <a:pt x="1110" y="218"/>
                </a:lnTo>
                <a:lnTo>
                  <a:pt x="1097" y="208"/>
                </a:lnTo>
                <a:lnTo>
                  <a:pt x="1085" y="197"/>
                </a:lnTo>
                <a:lnTo>
                  <a:pt x="1073" y="189"/>
                </a:lnTo>
                <a:lnTo>
                  <a:pt x="1063" y="180"/>
                </a:lnTo>
                <a:lnTo>
                  <a:pt x="1053" y="174"/>
                </a:lnTo>
                <a:lnTo>
                  <a:pt x="1044" y="167"/>
                </a:lnTo>
                <a:lnTo>
                  <a:pt x="1035" y="162"/>
                </a:lnTo>
                <a:lnTo>
                  <a:pt x="1026" y="156"/>
                </a:lnTo>
                <a:lnTo>
                  <a:pt x="1017" y="150"/>
                </a:lnTo>
                <a:lnTo>
                  <a:pt x="1008" y="145"/>
                </a:lnTo>
                <a:lnTo>
                  <a:pt x="999" y="139"/>
                </a:lnTo>
                <a:lnTo>
                  <a:pt x="989" y="134"/>
                </a:lnTo>
                <a:lnTo>
                  <a:pt x="980" y="128"/>
                </a:lnTo>
                <a:lnTo>
                  <a:pt x="973" y="122"/>
                </a:lnTo>
                <a:lnTo>
                  <a:pt x="963" y="119"/>
                </a:lnTo>
                <a:lnTo>
                  <a:pt x="956" y="113"/>
                </a:lnTo>
                <a:lnTo>
                  <a:pt x="948" y="109"/>
                </a:lnTo>
                <a:lnTo>
                  <a:pt x="942" y="104"/>
                </a:lnTo>
                <a:lnTo>
                  <a:pt x="935" y="101"/>
                </a:lnTo>
                <a:lnTo>
                  <a:pt x="930" y="98"/>
                </a:lnTo>
                <a:lnTo>
                  <a:pt x="926" y="95"/>
                </a:lnTo>
                <a:lnTo>
                  <a:pt x="923" y="92"/>
                </a:lnTo>
                <a:lnTo>
                  <a:pt x="918" y="91"/>
                </a:lnTo>
                <a:lnTo>
                  <a:pt x="915" y="89"/>
                </a:lnTo>
                <a:lnTo>
                  <a:pt x="909" y="87"/>
                </a:lnTo>
                <a:lnTo>
                  <a:pt x="905" y="84"/>
                </a:lnTo>
                <a:lnTo>
                  <a:pt x="897" y="82"/>
                </a:lnTo>
                <a:lnTo>
                  <a:pt x="892" y="79"/>
                </a:lnTo>
                <a:lnTo>
                  <a:pt x="885" y="78"/>
                </a:lnTo>
                <a:lnTo>
                  <a:pt x="879" y="74"/>
                </a:lnTo>
                <a:lnTo>
                  <a:pt x="871" y="72"/>
                </a:lnTo>
                <a:lnTo>
                  <a:pt x="864" y="70"/>
                </a:lnTo>
                <a:lnTo>
                  <a:pt x="856" y="68"/>
                </a:lnTo>
                <a:lnTo>
                  <a:pt x="849" y="64"/>
                </a:lnTo>
                <a:lnTo>
                  <a:pt x="842" y="62"/>
                </a:lnTo>
                <a:lnTo>
                  <a:pt x="836" y="60"/>
                </a:lnTo>
                <a:lnTo>
                  <a:pt x="829" y="58"/>
                </a:lnTo>
                <a:lnTo>
                  <a:pt x="823" y="55"/>
                </a:lnTo>
                <a:lnTo>
                  <a:pt x="815" y="54"/>
                </a:lnTo>
                <a:lnTo>
                  <a:pt x="808" y="52"/>
                </a:lnTo>
                <a:lnTo>
                  <a:pt x="798" y="50"/>
                </a:lnTo>
                <a:lnTo>
                  <a:pt x="789" y="48"/>
                </a:lnTo>
                <a:lnTo>
                  <a:pt x="778" y="46"/>
                </a:lnTo>
                <a:lnTo>
                  <a:pt x="768" y="43"/>
                </a:lnTo>
                <a:lnTo>
                  <a:pt x="757" y="41"/>
                </a:lnTo>
                <a:lnTo>
                  <a:pt x="745" y="38"/>
                </a:lnTo>
                <a:lnTo>
                  <a:pt x="732" y="36"/>
                </a:lnTo>
                <a:lnTo>
                  <a:pt x="721" y="34"/>
                </a:lnTo>
                <a:lnTo>
                  <a:pt x="709" y="32"/>
                </a:lnTo>
                <a:lnTo>
                  <a:pt x="697" y="28"/>
                </a:lnTo>
                <a:lnTo>
                  <a:pt x="685" y="26"/>
                </a:lnTo>
                <a:lnTo>
                  <a:pt x="674" y="24"/>
                </a:lnTo>
                <a:lnTo>
                  <a:pt x="663" y="23"/>
                </a:lnTo>
                <a:lnTo>
                  <a:pt x="653" y="20"/>
                </a:lnTo>
                <a:lnTo>
                  <a:pt x="642" y="20"/>
                </a:lnTo>
                <a:lnTo>
                  <a:pt x="632" y="18"/>
                </a:lnTo>
                <a:lnTo>
                  <a:pt x="619" y="16"/>
                </a:lnTo>
                <a:lnTo>
                  <a:pt x="608" y="14"/>
                </a:lnTo>
                <a:lnTo>
                  <a:pt x="595" y="13"/>
                </a:lnTo>
                <a:lnTo>
                  <a:pt x="583" y="11"/>
                </a:lnTo>
                <a:lnTo>
                  <a:pt x="569" y="10"/>
                </a:lnTo>
                <a:lnTo>
                  <a:pt x="557" y="8"/>
                </a:lnTo>
                <a:lnTo>
                  <a:pt x="544" y="8"/>
                </a:lnTo>
                <a:lnTo>
                  <a:pt x="531" y="6"/>
                </a:lnTo>
                <a:lnTo>
                  <a:pt x="517" y="5"/>
                </a:lnTo>
                <a:lnTo>
                  <a:pt x="506" y="3"/>
                </a:lnTo>
                <a:lnTo>
                  <a:pt x="495" y="3"/>
                </a:lnTo>
                <a:lnTo>
                  <a:pt x="484" y="1"/>
                </a:lnTo>
                <a:lnTo>
                  <a:pt x="475" y="1"/>
                </a:lnTo>
                <a:lnTo>
                  <a:pt x="466" y="0"/>
                </a:lnTo>
                <a:lnTo>
                  <a:pt x="457" y="0"/>
                </a:lnTo>
                <a:lnTo>
                  <a:pt x="447" y="0"/>
                </a:lnTo>
                <a:lnTo>
                  <a:pt x="436" y="0"/>
                </a:lnTo>
                <a:lnTo>
                  <a:pt x="425" y="0"/>
                </a:lnTo>
                <a:lnTo>
                  <a:pt x="412" y="0"/>
                </a:lnTo>
                <a:lnTo>
                  <a:pt x="400" y="0"/>
                </a:lnTo>
                <a:lnTo>
                  <a:pt x="387" y="0"/>
                </a:lnTo>
                <a:lnTo>
                  <a:pt x="374" y="0"/>
                </a:lnTo>
                <a:lnTo>
                  <a:pt x="360" y="1"/>
                </a:lnTo>
                <a:lnTo>
                  <a:pt x="347" y="1"/>
                </a:lnTo>
                <a:lnTo>
                  <a:pt x="333" y="1"/>
                </a:lnTo>
                <a:lnTo>
                  <a:pt x="320" y="1"/>
                </a:lnTo>
                <a:lnTo>
                  <a:pt x="307" y="1"/>
                </a:lnTo>
                <a:lnTo>
                  <a:pt x="295" y="1"/>
                </a:lnTo>
                <a:lnTo>
                  <a:pt x="284" y="1"/>
                </a:lnTo>
                <a:lnTo>
                  <a:pt x="275" y="1"/>
                </a:lnTo>
                <a:lnTo>
                  <a:pt x="263" y="3"/>
                </a:lnTo>
                <a:lnTo>
                  <a:pt x="252" y="3"/>
                </a:lnTo>
                <a:lnTo>
                  <a:pt x="239" y="4"/>
                </a:lnTo>
                <a:lnTo>
                  <a:pt x="227" y="4"/>
                </a:lnTo>
                <a:lnTo>
                  <a:pt x="214" y="6"/>
                </a:lnTo>
                <a:lnTo>
                  <a:pt x="201" y="6"/>
                </a:lnTo>
                <a:lnTo>
                  <a:pt x="187" y="8"/>
                </a:lnTo>
                <a:lnTo>
                  <a:pt x="174" y="8"/>
                </a:lnTo>
                <a:lnTo>
                  <a:pt x="161" y="10"/>
                </a:lnTo>
                <a:lnTo>
                  <a:pt x="147" y="10"/>
                </a:lnTo>
                <a:lnTo>
                  <a:pt x="135" y="11"/>
                </a:lnTo>
                <a:lnTo>
                  <a:pt x="123" y="11"/>
                </a:lnTo>
                <a:lnTo>
                  <a:pt x="111" y="13"/>
                </a:lnTo>
                <a:lnTo>
                  <a:pt x="101" y="13"/>
                </a:lnTo>
                <a:lnTo>
                  <a:pt x="91" y="14"/>
                </a:lnTo>
                <a:lnTo>
                  <a:pt x="83" y="14"/>
                </a:lnTo>
                <a:lnTo>
                  <a:pt x="76" y="16"/>
                </a:lnTo>
                <a:lnTo>
                  <a:pt x="71" y="16"/>
                </a:lnTo>
                <a:lnTo>
                  <a:pt x="67" y="16"/>
                </a:lnTo>
                <a:lnTo>
                  <a:pt x="64" y="16"/>
                </a:lnTo>
                <a:lnTo>
                  <a:pt x="61" y="16"/>
                </a:lnTo>
                <a:lnTo>
                  <a:pt x="59" y="16"/>
                </a:lnTo>
                <a:lnTo>
                  <a:pt x="58" y="16"/>
                </a:lnTo>
                <a:lnTo>
                  <a:pt x="57" y="16"/>
                </a:lnTo>
                <a:lnTo>
                  <a:pt x="54" y="18"/>
                </a:lnTo>
                <a:lnTo>
                  <a:pt x="51" y="18"/>
                </a:lnTo>
                <a:lnTo>
                  <a:pt x="47" y="18"/>
                </a:lnTo>
                <a:lnTo>
                  <a:pt x="41" y="18"/>
                </a:lnTo>
                <a:lnTo>
                  <a:pt x="34" y="20"/>
                </a:lnTo>
                <a:lnTo>
                  <a:pt x="25" y="20"/>
                </a:lnTo>
                <a:lnTo>
                  <a:pt x="13" y="22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16240" y="4532400"/>
            <a:ext cx="1087200" cy="1911240"/>
          </a:xfrm>
          <a:custGeom>
            <a:avLst/>
            <a:gdLst/>
            <a:ahLst/>
            <a:rect l="l" t="t" r="r" b="b"/>
            <a:pathLst>
              <a:path w="685" h="1204">
                <a:moveTo>
                  <a:pt x="684" y="1203"/>
                </a:moveTo>
                <a:lnTo>
                  <a:pt x="682" y="1194"/>
                </a:lnTo>
                <a:lnTo>
                  <a:pt x="682" y="1186"/>
                </a:lnTo>
                <a:lnTo>
                  <a:pt x="682" y="1180"/>
                </a:lnTo>
                <a:lnTo>
                  <a:pt x="682" y="1174"/>
                </a:lnTo>
                <a:lnTo>
                  <a:pt x="681" y="1171"/>
                </a:lnTo>
                <a:lnTo>
                  <a:pt x="681" y="1168"/>
                </a:lnTo>
                <a:lnTo>
                  <a:pt x="681" y="1166"/>
                </a:lnTo>
                <a:lnTo>
                  <a:pt x="681" y="1163"/>
                </a:lnTo>
                <a:lnTo>
                  <a:pt x="681" y="1163"/>
                </a:lnTo>
                <a:lnTo>
                  <a:pt x="681" y="1161"/>
                </a:lnTo>
                <a:lnTo>
                  <a:pt x="681" y="1160"/>
                </a:lnTo>
                <a:lnTo>
                  <a:pt x="681" y="1159"/>
                </a:lnTo>
                <a:lnTo>
                  <a:pt x="681" y="1157"/>
                </a:lnTo>
                <a:lnTo>
                  <a:pt x="681" y="1154"/>
                </a:lnTo>
                <a:lnTo>
                  <a:pt x="681" y="1150"/>
                </a:lnTo>
                <a:lnTo>
                  <a:pt x="681" y="1145"/>
                </a:lnTo>
                <a:lnTo>
                  <a:pt x="679" y="1140"/>
                </a:lnTo>
                <a:lnTo>
                  <a:pt x="679" y="1132"/>
                </a:lnTo>
                <a:lnTo>
                  <a:pt x="677" y="1122"/>
                </a:lnTo>
                <a:lnTo>
                  <a:pt x="677" y="1111"/>
                </a:lnTo>
                <a:lnTo>
                  <a:pt x="675" y="1100"/>
                </a:lnTo>
                <a:lnTo>
                  <a:pt x="673" y="1087"/>
                </a:lnTo>
                <a:lnTo>
                  <a:pt x="671" y="1074"/>
                </a:lnTo>
                <a:lnTo>
                  <a:pt x="671" y="1059"/>
                </a:lnTo>
                <a:lnTo>
                  <a:pt x="668" y="1044"/>
                </a:lnTo>
                <a:lnTo>
                  <a:pt x="666" y="1029"/>
                </a:lnTo>
                <a:lnTo>
                  <a:pt x="664" y="1014"/>
                </a:lnTo>
                <a:lnTo>
                  <a:pt x="663" y="997"/>
                </a:lnTo>
                <a:lnTo>
                  <a:pt x="661" y="983"/>
                </a:lnTo>
                <a:lnTo>
                  <a:pt x="659" y="967"/>
                </a:lnTo>
                <a:lnTo>
                  <a:pt x="657" y="952"/>
                </a:lnTo>
                <a:lnTo>
                  <a:pt x="655" y="936"/>
                </a:lnTo>
                <a:lnTo>
                  <a:pt x="651" y="923"/>
                </a:lnTo>
                <a:lnTo>
                  <a:pt x="649" y="908"/>
                </a:lnTo>
                <a:lnTo>
                  <a:pt x="646" y="892"/>
                </a:lnTo>
                <a:lnTo>
                  <a:pt x="644" y="875"/>
                </a:lnTo>
                <a:lnTo>
                  <a:pt x="641" y="859"/>
                </a:lnTo>
                <a:lnTo>
                  <a:pt x="639" y="843"/>
                </a:lnTo>
                <a:lnTo>
                  <a:pt x="635" y="827"/>
                </a:lnTo>
                <a:lnTo>
                  <a:pt x="634" y="810"/>
                </a:lnTo>
                <a:lnTo>
                  <a:pt x="630" y="795"/>
                </a:lnTo>
                <a:lnTo>
                  <a:pt x="628" y="780"/>
                </a:lnTo>
                <a:lnTo>
                  <a:pt x="624" y="766"/>
                </a:lnTo>
                <a:lnTo>
                  <a:pt x="623" y="752"/>
                </a:lnTo>
                <a:lnTo>
                  <a:pt x="619" y="740"/>
                </a:lnTo>
                <a:lnTo>
                  <a:pt x="617" y="729"/>
                </a:lnTo>
                <a:lnTo>
                  <a:pt x="616" y="719"/>
                </a:lnTo>
                <a:lnTo>
                  <a:pt x="614" y="711"/>
                </a:lnTo>
                <a:lnTo>
                  <a:pt x="611" y="703"/>
                </a:lnTo>
                <a:lnTo>
                  <a:pt x="609" y="695"/>
                </a:lnTo>
                <a:lnTo>
                  <a:pt x="606" y="686"/>
                </a:lnTo>
                <a:lnTo>
                  <a:pt x="604" y="675"/>
                </a:lnTo>
                <a:lnTo>
                  <a:pt x="600" y="665"/>
                </a:lnTo>
                <a:lnTo>
                  <a:pt x="597" y="653"/>
                </a:lnTo>
                <a:lnTo>
                  <a:pt x="593" y="642"/>
                </a:lnTo>
                <a:lnTo>
                  <a:pt x="591" y="629"/>
                </a:lnTo>
                <a:lnTo>
                  <a:pt x="587" y="617"/>
                </a:lnTo>
                <a:lnTo>
                  <a:pt x="584" y="604"/>
                </a:lnTo>
                <a:lnTo>
                  <a:pt x="580" y="593"/>
                </a:lnTo>
                <a:lnTo>
                  <a:pt x="577" y="580"/>
                </a:lnTo>
                <a:lnTo>
                  <a:pt x="574" y="569"/>
                </a:lnTo>
                <a:lnTo>
                  <a:pt x="571" y="557"/>
                </a:lnTo>
                <a:lnTo>
                  <a:pt x="568" y="547"/>
                </a:lnTo>
                <a:lnTo>
                  <a:pt x="566" y="536"/>
                </a:lnTo>
                <a:lnTo>
                  <a:pt x="563" y="527"/>
                </a:lnTo>
                <a:lnTo>
                  <a:pt x="560" y="517"/>
                </a:lnTo>
                <a:lnTo>
                  <a:pt x="556" y="506"/>
                </a:lnTo>
                <a:lnTo>
                  <a:pt x="555" y="495"/>
                </a:lnTo>
                <a:lnTo>
                  <a:pt x="551" y="483"/>
                </a:lnTo>
                <a:lnTo>
                  <a:pt x="547" y="472"/>
                </a:lnTo>
                <a:lnTo>
                  <a:pt x="544" y="461"/>
                </a:lnTo>
                <a:lnTo>
                  <a:pt x="542" y="448"/>
                </a:lnTo>
                <a:lnTo>
                  <a:pt x="538" y="438"/>
                </a:lnTo>
                <a:lnTo>
                  <a:pt x="535" y="427"/>
                </a:lnTo>
                <a:lnTo>
                  <a:pt x="531" y="417"/>
                </a:lnTo>
                <a:lnTo>
                  <a:pt x="529" y="405"/>
                </a:lnTo>
                <a:lnTo>
                  <a:pt x="526" y="397"/>
                </a:lnTo>
                <a:lnTo>
                  <a:pt x="524" y="388"/>
                </a:lnTo>
                <a:lnTo>
                  <a:pt x="522" y="380"/>
                </a:lnTo>
                <a:lnTo>
                  <a:pt x="520" y="373"/>
                </a:lnTo>
                <a:lnTo>
                  <a:pt x="517" y="367"/>
                </a:lnTo>
                <a:lnTo>
                  <a:pt x="515" y="360"/>
                </a:lnTo>
                <a:lnTo>
                  <a:pt x="511" y="352"/>
                </a:lnTo>
                <a:lnTo>
                  <a:pt x="509" y="344"/>
                </a:lnTo>
                <a:lnTo>
                  <a:pt x="506" y="337"/>
                </a:lnTo>
                <a:lnTo>
                  <a:pt x="502" y="327"/>
                </a:lnTo>
                <a:lnTo>
                  <a:pt x="498" y="319"/>
                </a:lnTo>
                <a:lnTo>
                  <a:pt x="496" y="309"/>
                </a:lnTo>
                <a:lnTo>
                  <a:pt x="491" y="302"/>
                </a:lnTo>
                <a:lnTo>
                  <a:pt x="488" y="292"/>
                </a:lnTo>
                <a:lnTo>
                  <a:pt x="484" y="284"/>
                </a:lnTo>
                <a:lnTo>
                  <a:pt x="480" y="275"/>
                </a:lnTo>
                <a:lnTo>
                  <a:pt x="477" y="267"/>
                </a:lnTo>
                <a:lnTo>
                  <a:pt x="473" y="259"/>
                </a:lnTo>
                <a:lnTo>
                  <a:pt x="469" y="253"/>
                </a:lnTo>
                <a:lnTo>
                  <a:pt x="467" y="245"/>
                </a:lnTo>
                <a:lnTo>
                  <a:pt x="463" y="240"/>
                </a:lnTo>
                <a:lnTo>
                  <a:pt x="460" y="234"/>
                </a:lnTo>
                <a:lnTo>
                  <a:pt x="456" y="227"/>
                </a:lnTo>
                <a:lnTo>
                  <a:pt x="452" y="220"/>
                </a:lnTo>
                <a:lnTo>
                  <a:pt x="447" y="213"/>
                </a:lnTo>
                <a:lnTo>
                  <a:pt x="443" y="205"/>
                </a:lnTo>
                <a:lnTo>
                  <a:pt x="438" y="197"/>
                </a:lnTo>
                <a:lnTo>
                  <a:pt x="434" y="190"/>
                </a:lnTo>
                <a:lnTo>
                  <a:pt x="429" y="185"/>
                </a:lnTo>
                <a:lnTo>
                  <a:pt x="425" y="177"/>
                </a:lnTo>
                <a:lnTo>
                  <a:pt x="419" y="171"/>
                </a:lnTo>
                <a:lnTo>
                  <a:pt x="415" y="163"/>
                </a:lnTo>
                <a:lnTo>
                  <a:pt x="411" y="157"/>
                </a:lnTo>
                <a:lnTo>
                  <a:pt x="407" y="152"/>
                </a:lnTo>
                <a:lnTo>
                  <a:pt x="403" y="147"/>
                </a:lnTo>
                <a:lnTo>
                  <a:pt x="401" y="143"/>
                </a:lnTo>
                <a:lnTo>
                  <a:pt x="397" y="139"/>
                </a:lnTo>
                <a:lnTo>
                  <a:pt x="393" y="135"/>
                </a:lnTo>
                <a:lnTo>
                  <a:pt x="390" y="131"/>
                </a:lnTo>
                <a:lnTo>
                  <a:pt x="387" y="128"/>
                </a:lnTo>
                <a:lnTo>
                  <a:pt x="383" y="124"/>
                </a:lnTo>
                <a:lnTo>
                  <a:pt x="380" y="120"/>
                </a:lnTo>
                <a:lnTo>
                  <a:pt x="376" y="116"/>
                </a:lnTo>
                <a:lnTo>
                  <a:pt x="374" y="113"/>
                </a:lnTo>
                <a:lnTo>
                  <a:pt x="370" y="111"/>
                </a:lnTo>
                <a:lnTo>
                  <a:pt x="368" y="107"/>
                </a:lnTo>
                <a:lnTo>
                  <a:pt x="365" y="104"/>
                </a:lnTo>
                <a:lnTo>
                  <a:pt x="363" y="100"/>
                </a:lnTo>
                <a:lnTo>
                  <a:pt x="360" y="98"/>
                </a:lnTo>
                <a:lnTo>
                  <a:pt x="359" y="96"/>
                </a:lnTo>
                <a:lnTo>
                  <a:pt x="357" y="94"/>
                </a:lnTo>
                <a:lnTo>
                  <a:pt x="356" y="91"/>
                </a:lnTo>
                <a:lnTo>
                  <a:pt x="354" y="91"/>
                </a:lnTo>
                <a:lnTo>
                  <a:pt x="352" y="89"/>
                </a:lnTo>
                <a:lnTo>
                  <a:pt x="351" y="89"/>
                </a:lnTo>
                <a:lnTo>
                  <a:pt x="349" y="87"/>
                </a:lnTo>
                <a:lnTo>
                  <a:pt x="345" y="85"/>
                </a:lnTo>
                <a:lnTo>
                  <a:pt x="343" y="83"/>
                </a:lnTo>
                <a:lnTo>
                  <a:pt x="342" y="81"/>
                </a:lnTo>
                <a:lnTo>
                  <a:pt x="340" y="79"/>
                </a:lnTo>
                <a:lnTo>
                  <a:pt x="336" y="78"/>
                </a:lnTo>
                <a:lnTo>
                  <a:pt x="334" y="76"/>
                </a:lnTo>
                <a:lnTo>
                  <a:pt x="331" y="74"/>
                </a:lnTo>
                <a:lnTo>
                  <a:pt x="329" y="72"/>
                </a:lnTo>
                <a:lnTo>
                  <a:pt x="325" y="70"/>
                </a:lnTo>
                <a:lnTo>
                  <a:pt x="323" y="68"/>
                </a:lnTo>
                <a:lnTo>
                  <a:pt x="321" y="67"/>
                </a:lnTo>
                <a:lnTo>
                  <a:pt x="319" y="65"/>
                </a:lnTo>
                <a:lnTo>
                  <a:pt x="315" y="64"/>
                </a:lnTo>
                <a:lnTo>
                  <a:pt x="312" y="62"/>
                </a:lnTo>
                <a:lnTo>
                  <a:pt x="309" y="60"/>
                </a:lnTo>
                <a:lnTo>
                  <a:pt x="305" y="58"/>
                </a:lnTo>
                <a:lnTo>
                  <a:pt x="301" y="57"/>
                </a:lnTo>
                <a:lnTo>
                  <a:pt x="297" y="55"/>
                </a:lnTo>
                <a:lnTo>
                  <a:pt x="293" y="53"/>
                </a:lnTo>
                <a:lnTo>
                  <a:pt x="289" y="50"/>
                </a:lnTo>
                <a:lnTo>
                  <a:pt x="284" y="48"/>
                </a:lnTo>
                <a:lnTo>
                  <a:pt x="280" y="47"/>
                </a:lnTo>
                <a:lnTo>
                  <a:pt x="274" y="45"/>
                </a:lnTo>
                <a:lnTo>
                  <a:pt x="271" y="42"/>
                </a:lnTo>
                <a:lnTo>
                  <a:pt x="265" y="40"/>
                </a:lnTo>
                <a:lnTo>
                  <a:pt x="262" y="38"/>
                </a:lnTo>
                <a:lnTo>
                  <a:pt x="258" y="37"/>
                </a:lnTo>
                <a:lnTo>
                  <a:pt x="254" y="34"/>
                </a:lnTo>
                <a:lnTo>
                  <a:pt x="249" y="34"/>
                </a:lnTo>
                <a:lnTo>
                  <a:pt x="245" y="32"/>
                </a:lnTo>
                <a:lnTo>
                  <a:pt x="241" y="31"/>
                </a:lnTo>
                <a:lnTo>
                  <a:pt x="237" y="29"/>
                </a:lnTo>
                <a:lnTo>
                  <a:pt x="231" y="29"/>
                </a:lnTo>
                <a:lnTo>
                  <a:pt x="226" y="27"/>
                </a:lnTo>
                <a:lnTo>
                  <a:pt x="221" y="25"/>
                </a:lnTo>
                <a:lnTo>
                  <a:pt x="217" y="23"/>
                </a:lnTo>
                <a:lnTo>
                  <a:pt x="211" y="23"/>
                </a:lnTo>
                <a:lnTo>
                  <a:pt x="206" y="21"/>
                </a:lnTo>
                <a:lnTo>
                  <a:pt x="201" y="20"/>
                </a:lnTo>
                <a:lnTo>
                  <a:pt x="197" y="18"/>
                </a:lnTo>
                <a:lnTo>
                  <a:pt x="192" y="18"/>
                </a:lnTo>
                <a:lnTo>
                  <a:pt x="188" y="16"/>
                </a:lnTo>
                <a:lnTo>
                  <a:pt x="185" y="15"/>
                </a:lnTo>
                <a:lnTo>
                  <a:pt x="181" y="13"/>
                </a:lnTo>
                <a:lnTo>
                  <a:pt x="177" y="13"/>
                </a:lnTo>
                <a:lnTo>
                  <a:pt x="173" y="13"/>
                </a:lnTo>
                <a:lnTo>
                  <a:pt x="169" y="13"/>
                </a:lnTo>
                <a:lnTo>
                  <a:pt x="165" y="11"/>
                </a:lnTo>
                <a:lnTo>
                  <a:pt x="159" y="11"/>
                </a:lnTo>
                <a:lnTo>
                  <a:pt x="155" y="10"/>
                </a:lnTo>
                <a:lnTo>
                  <a:pt x="149" y="10"/>
                </a:lnTo>
                <a:lnTo>
                  <a:pt x="146" y="9"/>
                </a:lnTo>
                <a:lnTo>
                  <a:pt x="140" y="9"/>
                </a:lnTo>
                <a:lnTo>
                  <a:pt x="135" y="9"/>
                </a:lnTo>
                <a:lnTo>
                  <a:pt x="129" y="9"/>
                </a:lnTo>
                <a:lnTo>
                  <a:pt x="125" y="7"/>
                </a:lnTo>
                <a:lnTo>
                  <a:pt x="119" y="7"/>
                </a:lnTo>
                <a:lnTo>
                  <a:pt x="115" y="6"/>
                </a:lnTo>
                <a:lnTo>
                  <a:pt x="111" y="6"/>
                </a:lnTo>
                <a:lnTo>
                  <a:pt x="107" y="4"/>
                </a:lnTo>
                <a:lnTo>
                  <a:pt x="102" y="4"/>
                </a:lnTo>
                <a:lnTo>
                  <a:pt x="98" y="4"/>
                </a:lnTo>
                <a:lnTo>
                  <a:pt x="93" y="4"/>
                </a:lnTo>
                <a:lnTo>
                  <a:pt x="89" y="4"/>
                </a:lnTo>
                <a:lnTo>
                  <a:pt x="83" y="4"/>
                </a:lnTo>
                <a:lnTo>
                  <a:pt x="78" y="4"/>
                </a:lnTo>
                <a:lnTo>
                  <a:pt x="72" y="4"/>
                </a:lnTo>
                <a:lnTo>
                  <a:pt x="68" y="2"/>
                </a:lnTo>
                <a:lnTo>
                  <a:pt x="63" y="2"/>
                </a:lnTo>
                <a:lnTo>
                  <a:pt x="58" y="2"/>
                </a:lnTo>
                <a:lnTo>
                  <a:pt x="52" y="2"/>
                </a:lnTo>
                <a:lnTo>
                  <a:pt x="48" y="1"/>
                </a:lnTo>
                <a:lnTo>
                  <a:pt x="43" y="1"/>
                </a:lnTo>
                <a:lnTo>
                  <a:pt x="39" y="1"/>
                </a:lnTo>
                <a:lnTo>
                  <a:pt x="35" y="1"/>
                </a:lnTo>
                <a:lnTo>
                  <a:pt x="33" y="0"/>
                </a:lnTo>
                <a:lnTo>
                  <a:pt x="29" y="0"/>
                </a:lnTo>
                <a:lnTo>
                  <a:pt x="27" y="0"/>
                </a:lnTo>
                <a:lnTo>
                  <a:pt x="25" y="0"/>
                </a:lnTo>
                <a:lnTo>
                  <a:pt x="25" y="0"/>
                </a:lnTo>
                <a:lnTo>
                  <a:pt x="23" y="0"/>
                </a:lnTo>
                <a:lnTo>
                  <a:pt x="23" y="0"/>
                </a:lnTo>
                <a:lnTo>
                  <a:pt x="22" y="0"/>
                </a:lnTo>
                <a:lnTo>
                  <a:pt x="22" y="0"/>
                </a:lnTo>
                <a:lnTo>
                  <a:pt x="20" y="0"/>
                </a:lnTo>
                <a:lnTo>
                  <a:pt x="20" y="0"/>
                </a:lnTo>
                <a:lnTo>
                  <a:pt x="18" y="0"/>
                </a:lnTo>
                <a:lnTo>
                  <a:pt x="17" y="0"/>
                </a:ln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3080" y="2505240"/>
            <a:ext cx="3598920" cy="4130640"/>
          </a:xfrm>
          <a:custGeom>
            <a:avLst/>
            <a:gdLst/>
            <a:ahLst/>
            <a:rect l="l" t="t" r="r" b="b"/>
            <a:pathLst>
              <a:path w="2267" h="2602">
                <a:moveTo>
                  <a:pt x="0" y="0"/>
                </a:moveTo>
                <a:lnTo>
                  <a:pt x="2" y="22"/>
                </a:lnTo>
                <a:lnTo>
                  <a:pt x="4" y="39"/>
                </a:lnTo>
                <a:lnTo>
                  <a:pt x="4" y="54"/>
                </a:lnTo>
                <a:lnTo>
                  <a:pt x="6" y="64"/>
                </a:lnTo>
                <a:lnTo>
                  <a:pt x="6" y="73"/>
                </a:lnTo>
                <a:lnTo>
                  <a:pt x="7" y="79"/>
                </a:lnTo>
                <a:lnTo>
                  <a:pt x="7" y="84"/>
                </a:lnTo>
                <a:lnTo>
                  <a:pt x="9" y="86"/>
                </a:lnTo>
                <a:lnTo>
                  <a:pt x="9" y="90"/>
                </a:lnTo>
                <a:lnTo>
                  <a:pt x="9" y="92"/>
                </a:lnTo>
                <a:lnTo>
                  <a:pt x="9" y="94"/>
                </a:lnTo>
                <a:lnTo>
                  <a:pt x="9" y="97"/>
                </a:lnTo>
                <a:lnTo>
                  <a:pt x="9" y="102"/>
                </a:lnTo>
                <a:lnTo>
                  <a:pt x="10" y="107"/>
                </a:lnTo>
                <a:lnTo>
                  <a:pt x="11" y="116"/>
                </a:lnTo>
                <a:lnTo>
                  <a:pt x="13" y="125"/>
                </a:lnTo>
                <a:lnTo>
                  <a:pt x="14" y="139"/>
                </a:lnTo>
                <a:lnTo>
                  <a:pt x="16" y="156"/>
                </a:lnTo>
                <a:lnTo>
                  <a:pt x="19" y="176"/>
                </a:lnTo>
                <a:lnTo>
                  <a:pt x="23" y="199"/>
                </a:lnTo>
                <a:lnTo>
                  <a:pt x="27" y="225"/>
                </a:lnTo>
                <a:lnTo>
                  <a:pt x="32" y="253"/>
                </a:lnTo>
                <a:lnTo>
                  <a:pt x="37" y="282"/>
                </a:lnTo>
                <a:lnTo>
                  <a:pt x="44" y="313"/>
                </a:lnTo>
                <a:lnTo>
                  <a:pt x="49" y="346"/>
                </a:lnTo>
                <a:lnTo>
                  <a:pt x="56" y="379"/>
                </a:lnTo>
                <a:lnTo>
                  <a:pt x="61" y="412"/>
                </a:lnTo>
                <a:lnTo>
                  <a:pt x="68" y="446"/>
                </a:lnTo>
                <a:lnTo>
                  <a:pt x="74" y="480"/>
                </a:lnTo>
                <a:lnTo>
                  <a:pt x="82" y="514"/>
                </a:lnTo>
                <a:lnTo>
                  <a:pt x="88" y="546"/>
                </a:lnTo>
                <a:lnTo>
                  <a:pt x="96" y="576"/>
                </a:lnTo>
                <a:lnTo>
                  <a:pt x="102" y="609"/>
                </a:lnTo>
                <a:lnTo>
                  <a:pt x="110" y="642"/>
                </a:lnTo>
                <a:lnTo>
                  <a:pt x="118" y="676"/>
                </a:lnTo>
                <a:lnTo>
                  <a:pt x="127" y="711"/>
                </a:lnTo>
                <a:lnTo>
                  <a:pt x="136" y="746"/>
                </a:lnTo>
                <a:lnTo>
                  <a:pt x="145" y="782"/>
                </a:lnTo>
                <a:lnTo>
                  <a:pt x="155" y="818"/>
                </a:lnTo>
                <a:lnTo>
                  <a:pt x="165" y="851"/>
                </a:lnTo>
                <a:lnTo>
                  <a:pt x="174" y="886"/>
                </a:lnTo>
                <a:lnTo>
                  <a:pt x="183" y="918"/>
                </a:lnTo>
                <a:lnTo>
                  <a:pt x="193" y="950"/>
                </a:lnTo>
                <a:lnTo>
                  <a:pt x="202" y="978"/>
                </a:lnTo>
                <a:lnTo>
                  <a:pt x="210" y="1006"/>
                </a:lnTo>
                <a:lnTo>
                  <a:pt x="218" y="1029"/>
                </a:lnTo>
                <a:lnTo>
                  <a:pt x="226" y="1050"/>
                </a:lnTo>
                <a:lnTo>
                  <a:pt x="233" y="1067"/>
                </a:lnTo>
                <a:lnTo>
                  <a:pt x="239" y="1084"/>
                </a:lnTo>
                <a:lnTo>
                  <a:pt x="246" y="1103"/>
                </a:lnTo>
                <a:lnTo>
                  <a:pt x="254" y="1124"/>
                </a:lnTo>
                <a:lnTo>
                  <a:pt x="264" y="1146"/>
                </a:lnTo>
                <a:lnTo>
                  <a:pt x="273" y="1170"/>
                </a:lnTo>
                <a:lnTo>
                  <a:pt x="283" y="1194"/>
                </a:lnTo>
                <a:lnTo>
                  <a:pt x="294" y="1220"/>
                </a:lnTo>
                <a:lnTo>
                  <a:pt x="306" y="1246"/>
                </a:lnTo>
                <a:lnTo>
                  <a:pt x="316" y="1274"/>
                </a:lnTo>
                <a:lnTo>
                  <a:pt x="327" y="1300"/>
                </a:lnTo>
                <a:lnTo>
                  <a:pt x="338" y="1327"/>
                </a:lnTo>
                <a:lnTo>
                  <a:pt x="349" y="1353"/>
                </a:lnTo>
                <a:lnTo>
                  <a:pt x="359" y="1379"/>
                </a:lnTo>
                <a:lnTo>
                  <a:pt x="370" y="1403"/>
                </a:lnTo>
                <a:lnTo>
                  <a:pt x="380" y="1426"/>
                </a:lnTo>
                <a:lnTo>
                  <a:pt x="390" y="1446"/>
                </a:lnTo>
                <a:lnTo>
                  <a:pt x="398" y="1468"/>
                </a:lnTo>
                <a:lnTo>
                  <a:pt x="407" y="1490"/>
                </a:lnTo>
                <a:lnTo>
                  <a:pt x="417" y="1513"/>
                </a:lnTo>
                <a:lnTo>
                  <a:pt x="428" y="1536"/>
                </a:lnTo>
                <a:lnTo>
                  <a:pt x="438" y="1562"/>
                </a:lnTo>
                <a:lnTo>
                  <a:pt x="449" y="1586"/>
                </a:lnTo>
                <a:lnTo>
                  <a:pt x="460" y="1611"/>
                </a:lnTo>
                <a:lnTo>
                  <a:pt x="472" y="1636"/>
                </a:lnTo>
                <a:lnTo>
                  <a:pt x="481" y="1660"/>
                </a:lnTo>
                <a:lnTo>
                  <a:pt x="492" y="1684"/>
                </a:lnTo>
                <a:lnTo>
                  <a:pt x="502" y="1707"/>
                </a:lnTo>
                <a:lnTo>
                  <a:pt x="512" y="1728"/>
                </a:lnTo>
                <a:lnTo>
                  <a:pt x="520" y="1750"/>
                </a:lnTo>
                <a:lnTo>
                  <a:pt x="528" y="1768"/>
                </a:lnTo>
                <a:lnTo>
                  <a:pt x="536" y="1784"/>
                </a:lnTo>
                <a:lnTo>
                  <a:pt x="543" y="1798"/>
                </a:lnTo>
                <a:lnTo>
                  <a:pt x="550" y="1812"/>
                </a:lnTo>
                <a:lnTo>
                  <a:pt x="558" y="1827"/>
                </a:lnTo>
                <a:lnTo>
                  <a:pt x="566" y="1843"/>
                </a:lnTo>
                <a:lnTo>
                  <a:pt x="576" y="1860"/>
                </a:lnTo>
                <a:lnTo>
                  <a:pt x="586" y="1879"/>
                </a:lnTo>
                <a:lnTo>
                  <a:pt x="598" y="1898"/>
                </a:lnTo>
                <a:lnTo>
                  <a:pt x="609" y="1916"/>
                </a:lnTo>
                <a:lnTo>
                  <a:pt x="622" y="1935"/>
                </a:lnTo>
                <a:lnTo>
                  <a:pt x="633" y="1955"/>
                </a:lnTo>
                <a:lnTo>
                  <a:pt x="646" y="1974"/>
                </a:lnTo>
                <a:lnTo>
                  <a:pt x="658" y="1992"/>
                </a:lnTo>
                <a:lnTo>
                  <a:pt x="671" y="2010"/>
                </a:lnTo>
                <a:lnTo>
                  <a:pt x="682" y="2028"/>
                </a:lnTo>
                <a:lnTo>
                  <a:pt x="696" y="2044"/>
                </a:lnTo>
                <a:lnTo>
                  <a:pt x="707" y="2060"/>
                </a:lnTo>
                <a:lnTo>
                  <a:pt x="719" y="2073"/>
                </a:lnTo>
                <a:lnTo>
                  <a:pt x="729" y="2087"/>
                </a:lnTo>
                <a:lnTo>
                  <a:pt x="741" y="2101"/>
                </a:lnTo>
                <a:lnTo>
                  <a:pt x="754" y="2116"/>
                </a:lnTo>
                <a:lnTo>
                  <a:pt x="768" y="2130"/>
                </a:lnTo>
                <a:lnTo>
                  <a:pt x="782" y="2147"/>
                </a:lnTo>
                <a:lnTo>
                  <a:pt x="797" y="2162"/>
                </a:lnTo>
                <a:lnTo>
                  <a:pt x="812" y="2178"/>
                </a:lnTo>
                <a:lnTo>
                  <a:pt x="828" y="2193"/>
                </a:lnTo>
                <a:lnTo>
                  <a:pt x="844" y="2210"/>
                </a:lnTo>
                <a:lnTo>
                  <a:pt x="858" y="2224"/>
                </a:lnTo>
                <a:lnTo>
                  <a:pt x="874" y="2240"/>
                </a:lnTo>
                <a:lnTo>
                  <a:pt x="888" y="2253"/>
                </a:lnTo>
                <a:lnTo>
                  <a:pt x="902" y="2266"/>
                </a:lnTo>
                <a:lnTo>
                  <a:pt x="915" y="2277"/>
                </a:lnTo>
                <a:lnTo>
                  <a:pt x="927" y="2288"/>
                </a:lnTo>
                <a:lnTo>
                  <a:pt x="939" y="2296"/>
                </a:lnTo>
                <a:lnTo>
                  <a:pt x="948" y="2305"/>
                </a:lnTo>
                <a:lnTo>
                  <a:pt x="960" y="2312"/>
                </a:lnTo>
                <a:lnTo>
                  <a:pt x="971" y="2321"/>
                </a:lnTo>
                <a:lnTo>
                  <a:pt x="982" y="2329"/>
                </a:lnTo>
                <a:lnTo>
                  <a:pt x="993" y="2338"/>
                </a:lnTo>
                <a:lnTo>
                  <a:pt x="1004" y="2346"/>
                </a:lnTo>
                <a:lnTo>
                  <a:pt x="1015" y="2353"/>
                </a:lnTo>
                <a:lnTo>
                  <a:pt x="1026" y="2360"/>
                </a:lnTo>
                <a:lnTo>
                  <a:pt x="1036" y="2369"/>
                </a:lnTo>
                <a:lnTo>
                  <a:pt x="1046" y="2376"/>
                </a:lnTo>
                <a:lnTo>
                  <a:pt x="1054" y="2383"/>
                </a:lnTo>
                <a:lnTo>
                  <a:pt x="1064" y="2389"/>
                </a:lnTo>
                <a:lnTo>
                  <a:pt x="1071" y="2394"/>
                </a:lnTo>
                <a:lnTo>
                  <a:pt x="1078" y="2399"/>
                </a:lnTo>
                <a:lnTo>
                  <a:pt x="1083" y="2403"/>
                </a:lnTo>
                <a:lnTo>
                  <a:pt x="1088" y="2406"/>
                </a:lnTo>
                <a:lnTo>
                  <a:pt x="1092" y="2409"/>
                </a:lnTo>
                <a:lnTo>
                  <a:pt x="1097" y="2412"/>
                </a:lnTo>
                <a:lnTo>
                  <a:pt x="1102" y="2416"/>
                </a:lnTo>
                <a:lnTo>
                  <a:pt x="1109" y="2418"/>
                </a:lnTo>
                <a:lnTo>
                  <a:pt x="1116" y="2422"/>
                </a:lnTo>
                <a:lnTo>
                  <a:pt x="1124" y="2426"/>
                </a:lnTo>
                <a:lnTo>
                  <a:pt x="1132" y="2430"/>
                </a:lnTo>
                <a:lnTo>
                  <a:pt x="1141" y="2434"/>
                </a:lnTo>
                <a:lnTo>
                  <a:pt x="1149" y="2438"/>
                </a:lnTo>
                <a:lnTo>
                  <a:pt x="1158" y="2442"/>
                </a:lnTo>
                <a:lnTo>
                  <a:pt x="1167" y="2446"/>
                </a:lnTo>
                <a:lnTo>
                  <a:pt x="1177" y="2450"/>
                </a:lnTo>
                <a:lnTo>
                  <a:pt x="1185" y="2454"/>
                </a:lnTo>
                <a:lnTo>
                  <a:pt x="1194" y="2457"/>
                </a:lnTo>
                <a:lnTo>
                  <a:pt x="1202" y="2461"/>
                </a:lnTo>
                <a:lnTo>
                  <a:pt x="1212" y="2464"/>
                </a:lnTo>
                <a:lnTo>
                  <a:pt x="1220" y="2468"/>
                </a:lnTo>
                <a:lnTo>
                  <a:pt x="1230" y="2472"/>
                </a:lnTo>
                <a:lnTo>
                  <a:pt x="1240" y="2476"/>
                </a:lnTo>
                <a:lnTo>
                  <a:pt x="1253" y="2479"/>
                </a:lnTo>
                <a:lnTo>
                  <a:pt x="1265" y="2485"/>
                </a:lnTo>
                <a:lnTo>
                  <a:pt x="1279" y="2488"/>
                </a:lnTo>
                <a:lnTo>
                  <a:pt x="1294" y="2494"/>
                </a:lnTo>
                <a:lnTo>
                  <a:pt x="1309" y="2497"/>
                </a:lnTo>
                <a:lnTo>
                  <a:pt x="1324" y="2503"/>
                </a:lnTo>
                <a:lnTo>
                  <a:pt x="1339" y="2507"/>
                </a:lnTo>
                <a:lnTo>
                  <a:pt x="1354" y="2512"/>
                </a:lnTo>
                <a:lnTo>
                  <a:pt x="1369" y="2516"/>
                </a:lnTo>
                <a:lnTo>
                  <a:pt x="1383" y="2520"/>
                </a:lnTo>
                <a:lnTo>
                  <a:pt x="1398" y="2524"/>
                </a:lnTo>
                <a:lnTo>
                  <a:pt x="1411" y="2528"/>
                </a:lnTo>
                <a:lnTo>
                  <a:pt x="1424" y="2530"/>
                </a:lnTo>
                <a:lnTo>
                  <a:pt x="1436" y="2534"/>
                </a:lnTo>
                <a:lnTo>
                  <a:pt x="1450" y="2538"/>
                </a:lnTo>
                <a:lnTo>
                  <a:pt x="1464" y="2542"/>
                </a:lnTo>
                <a:lnTo>
                  <a:pt x="1481" y="2545"/>
                </a:lnTo>
                <a:lnTo>
                  <a:pt x="1496" y="2548"/>
                </a:lnTo>
                <a:lnTo>
                  <a:pt x="1513" y="2552"/>
                </a:lnTo>
                <a:lnTo>
                  <a:pt x="1530" y="2555"/>
                </a:lnTo>
                <a:lnTo>
                  <a:pt x="1547" y="2557"/>
                </a:lnTo>
                <a:lnTo>
                  <a:pt x="1563" y="2561"/>
                </a:lnTo>
                <a:lnTo>
                  <a:pt x="1580" y="2563"/>
                </a:lnTo>
                <a:lnTo>
                  <a:pt x="1596" y="2566"/>
                </a:lnTo>
                <a:lnTo>
                  <a:pt x="1612" y="2568"/>
                </a:lnTo>
                <a:lnTo>
                  <a:pt x="1625" y="2571"/>
                </a:lnTo>
                <a:lnTo>
                  <a:pt x="1640" y="2573"/>
                </a:lnTo>
                <a:lnTo>
                  <a:pt x="1652" y="2575"/>
                </a:lnTo>
                <a:lnTo>
                  <a:pt x="1664" y="2575"/>
                </a:lnTo>
                <a:lnTo>
                  <a:pt x="1675" y="2577"/>
                </a:lnTo>
                <a:lnTo>
                  <a:pt x="1687" y="2579"/>
                </a:lnTo>
                <a:lnTo>
                  <a:pt x="1700" y="2581"/>
                </a:lnTo>
                <a:lnTo>
                  <a:pt x="1715" y="2581"/>
                </a:lnTo>
                <a:lnTo>
                  <a:pt x="1730" y="2583"/>
                </a:lnTo>
                <a:lnTo>
                  <a:pt x="1747" y="2585"/>
                </a:lnTo>
                <a:lnTo>
                  <a:pt x="1764" y="2586"/>
                </a:lnTo>
                <a:lnTo>
                  <a:pt x="1782" y="2586"/>
                </a:lnTo>
                <a:lnTo>
                  <a:pt x="1799" y="2588"/>
                </a:lnTo>
                <a:lnTo>
                  <a:pt x="1816" y="2590"/>
                </a:lnTo>
                <a:lnTo>
                  <a:pt x="1832" y="2592"/>
                </a:lnTo>
                <a:lnTo>
                  <a:pt x="1850" y="2592"/>
                </a:lnTo>
                <a:lnTo>
                  <a:pt x="1866" y="2593"/>
                </a:lnTo>
                <a:lnTo>
                  <a:pt x="1882" y="2593"/>
                </a:lnTo>
                <a:lnTo>
                  <a:pt x="1896" y="2594"/>
                </a:lnTo>
                <a:lnTo>
                  <a:pt x="1910" y="2594"/>
                </a:lnTo>
                <a:lnTo>
                  <a:pt x="1923" y="2596"/>
                </a:lnTo>
                <a:lnTo>
                  <a:pt x="1937" y="2596"/>
                </a:lnTo>
                <a:lnTo>
                  <a:pt x="1952" y="2598"/>
                </a:lnTo>
                <a:lnTo>
                  <a:pt x="1969" y="2598"/>
                </a:lnTo>
                <a:lnTo>
                  <a:pt x="1986" y="2600"/>
                </a:lnTo>
                <a:lnTo>
                  <a:pt x="2002" y="2600"/>
                </a:lnTo>
                <a:lnTo>
                  <a:pt x="2019" y="2600"/>
                </a:lnTo>
                <a:lnTo>
                  <a:pt x="2038" y="2600"/>
                </a:lnTo>
                <a:lnTo>
                  <a:pt x="2055" y="2601"/>
                </a:lnTo>
                <a:lnTo>
                  <a:pt x="2072" y="2601"/>
                </a:lnTo>
                <a:lnTo>
                  <a:pt x="2087" y="2601"/>
                </a:lnTo>
                <a:lnTo>
                  <a:pt x="2103" y="2601"/>
                </a:lnTo>
                <a:lnTo>
                  <a:pt x="2117" y="2601"/>
                </a:lnTo>
                <a:lnTo>
                  <a:pt x="2132" y="2601"/>
                </a:lnTo>
                <a:lnTo>
                  <a:pt x="2144" y="2601"/>
                </a:lnTo>
                <a:lnTo>
                  <a:pt x="2156" y="2601"/>
                </a:lnTo>
                <a:lnTo>
                  <a:pt x="2164" y="2601"/>
                </a:lnTo>
                <a:lnTo>
                  <a:pt x="2171" y="2601"/>
                </a:lnTo>
                <a:lnTo>
                  <a:pt x="2175" y="2601"/>
                </a:lnTo>
                <a:lnTo>
                  <a:pt x="2180" y="2601"/>
                </a:lnTo>
                <a:lnTo>
                  <a:pt x="2181" y="2601"/>
                </a:lnTo>
                <a:lnTo>
                  <a:pt x="2184" y="2601"/>
                </a:lnTo>
                <a:lnTo>
                  <a:pt x="2186" y="2601"/>
                </a:lnTo>
                <a:lnTo>
                  <a:pt x="2190" y="2601"/>
                </a:lnTo>
                <a:lnTo>
                  <a:pt x="2191" y="2601"/>
                </a:lnTo>
                <a:lnTo>
                  <a:pt x="2196" y="2601"/>
                </a:lnTo>
                <a:lnTo>
                  <a:pt x="2201" y="2601"/>
                </a:lnTo>
                <a:lnTo>
                  <a:pt x="2209" y="2601"/>
                </a:lnTo>
                <a:lnTo>
                  <a:pt x="2218" y="2601"/>
                </a:lnTo>
                <a:lnTo>
                  <a:pt x="2231" y="2601"/>
                </a:lnTo>
                <a:lnTo>
                  <a:pt x="2246" y="2601"/>
                </a:lnTo>
                <a:lnTo>
                  <a:pt x="2266" y="2601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27280" y="2641680"/>
            <a:ext cx="2789280" cy="3211560"/>
          </a:xfrm>
          <a:custGeom>
            <a:avLst/>
            <a:gdLst/>
            <a:ahLst/>
            <a:rect l="l" t="t" r="r" b="b"/>
            <a:pathLst>
              <a:path w="1757" h="2023">
                <a:moveTo>
                  <a:pt x="0" y="0"/>
                </a:moveTo>
                <a:lnTo>
                  <a:pt x="0" y="18"/>
                </a:lnTo>
                <a:lnTo>
                  <a:pt x="2" y="31"/>
                </a:lnTo>
                <a:lnTo>
                  <a:pt x="2" y="41"/>
                </a:lnTo>
                <a:lnTo>
                  <a:pt x="4" y="50"/>
                </a:lnTo>
                <a:lnTo>
                  <a:pt x="4" y="56"/>
                </a:lnTo>
                <a:lnTo>
                  <a:pt x="5" y="61"/>
                </a:lnTo>
                <a:lnTo>
                  <a:pt x="5" y="64"/>
                </a:lnTo>
                <a:lnTo>
                  <a:pt x="7" y="66"/>
                </a:lnTo>
                <a:lnTo>
                  <a:pt x="7" y="69"/>
                </a:lnTo>
                <a:lnTo>
                  <a:pt x="7" y="71"/>
                </a:lnTo>
                <a:lnTo>
                  <a:pt x="7" y="72"/>
                </a:lnTo>
                <a:lnTo>
                  <a:pt x="7" y="74"/>
                </a:lnTo>
                <a:lnTo>
                  <a:pt x="7" y="78"/>
                </a:lnTo>
                <a:lnTo>
                  <a:pt x="8" y="82"/>
                </a:lnTo>
                <a:lnTo>
                  <a:pt x="8" y="89"/>
                </a:lnTo>
                <a:lnTo>
                  <a:pt x="10" y="96"/>
                </a:lnTo>
                <a:lnTo>
                  <a:pt x="10" y="108"/>
                </a:lnTo>
                <a:lnTo>
                  <a:pt x="12" y="120"/>
                </a:lnTo>
                <a:lnTo>
                  <a:pt x="14" y="137"/>
                </a:lnTo>
                <a:lnTo>
                  <a:pt x="17" y="154"/>
                </a:lnTo>
                <a:lnTo>
                  <a:pt x="20" y="175"/>
                </a:lnTo>
                <a:lnTo>
                  <a:pt x="24" y="196"/>
                </a:lnTo>
                <a:lnTo>
                  <a:pt x="28" y="219"/>
                </a:lnTo>
                <a:lnTo>
                  <a:pt x="34" y="242"/>
                </a:lnTo>
                <a:lnTo>
                  <a:pt x="37" y="268"/>
                </a:lnTo>
                <a:lnTo>
                  <a:pt x="43" y="294"/>
                </a:lnTo>
                <a:lnTo>
                  <a:pt x="48" y="320"/>
                </a:lnTo>
                <a:lnTo>
                  <a:pt x="54" y="346"/>
                </a:lnTo>
                <a:lnTo>
                  <a:pt x="59" y="372"/>
                </a:lnTo>
                <a:lnTo>
                  <a:pt x="65" y="398"/>
                </a:lnTo>
                <a:lnTo>
                  <a:pt x="70" y="423"/>
                </a:lnTo>
                <a:lnTo>
                  <a:pt x="77" y="447"/>
                </a:lnTo>
                <a:lnTo>
                  <a:pt x="81" y="472"/>
                </a:lnTo>
                <a:lnTo>
                  <a:pt x="87" y="498"/>
                </a:lnTo>
                <a:lnTo>
                  <a:pt x="92" y="526"/>
                </a:lnTo>
                <a:lnTo>
                  <a:pt x="100" y="552"/>
                </a:lnTo>
                <a:lnTo>
                  <a:pt x="106" y="580"/>
                </a:lnTo>
                <a:lnTo>
                  <a:pt x="114" y="608"/>
                </a:lnTo>
                <a:lnTo>
                  <a:pt x="121" y="636"/>
                </a:lnTo>
                <a:lnTo>
                  <a:pt x="128" y="662"/>
                </a:lnTo>
                <a:lnTo>
                  <a:pt x="135" y="689"/>
                </a:lnTo>
                <a:lnTo>
                  <a:pt x="143" y="714"/>
                </a:lnTo>
                <a:lnTo>
                  <a:pt x="150" y="740"/>
                </a:lnTo>
                <a:lnTo>
                  <a:pt x="157" y="761"/>
                </a:lnTo>
                <a:lnTo>
                  <a:pt x="163" y="783"/>
                </a:lnTo>
                <a:lnTo>
                  <a:pt x="170" y="801"/>
                </a:lnTo>
                <a:lnTo>
                  <a:pt x="175" y="817"/>
                </a:lnTo>
                <a:lnTo>
                  <a:pt x="182" y="830"/>
                </a:lnTo>
                <a:lnTo>
                  <a:pt x="186" y="843"/>
                </a:lnTo>
                <a:lnTo>
                  <a:pt x="192" y="858"/>
                </a:lnTo>
                <a:lnTo>
                  <a:pt x="198" y="874"/>
                </a:lnTo>
                <a:lnTo>
                  <a:pt x="205" y="890"/>
                </a:lnTo>
                <a:lnTo>
                  <a:pt x="212" y="910"/>
                </a:lnTo>
                <a:lnTo>
                  <a:pt x="220" y="929"/>
                </a:lnTo>
                <a:lnTo>
                  <a:pt x="228" y="949"/>
                </a:lnTo>
                <a:lnTo>
                  <a:pt x="237" y="968"/>
                </a:lnTo>
                <a:lnTo>
                  <a:pt x="244" y="991"/>
                </a:lnTo>
                <a:lnTo>
                  <a:pt x="254" y="1012"/>
                </a:lnTo>
                <a:lnTo>
                  <a:pt x="261" y="1032"/>
                </a:lnTo>
                <a:lnTo>
                  <a:pt x="271" y="1052"/>
                </a:lnTo>
                <a:lnTo>
                  <a:pt x="278" y="1072"/>
                </a:lnTo>
                <a:lnTo>
                  <a:pt x="286" y="1091"/>
                </a:lnTo>
                <a:lnTo>
                  <a:pt x="294" y="1108"/>
                </a:lnTo>
                <a:lnTo>
                  <a:pt x="302" y="1124"/>
                </a:lnTo>
                <a:lnTo>
                  <a:pt x="308" y="1142"/>
                </a:lnTo>
                <a:lnTo>
                  <a:pt x="315" y="1158"/>
                </a:lnTo>
                <a:lnTo>
                  <a:pt x="322" y="1177"/>
                </a:lnTo>
                <a:lnTo>
                  <a:pt x="330" y="1195"/>
                </a:lnTo>
                <a:lnTo>
                  <a:pt x="338" y="1215"/>
                </a:lnTo>
                <a:lnTo>
                  <a:pt x="348" y="1234"/>
                </a:lnTo>
                <a:lnTo>
                  <a:pt x="356" y="1253"/>
                </a:lnTo>
                <a:lnTo>
                  <a:pt x="365" y="1272"/>
                </a:lnTo>
                <a:lnTo>
                  <a:pt x="372" y="1291"/>
                </a:lnTo>
                <a:lnTo>
                  <a:pt x="381" y="1310"/>
                </a:lnTo>
                <a:lnTo>
                  <a:pt x="389" y="1328"/>
                </a:lnTo>
                <a:lnTo>
                  <a:pt x="397" y="1344"/>
                </a:lnTo>
                <a:lnTo>
                  <a:pt x="404" y="1360"/>
                </a:lnTo>
                <a:lnTo>
                  <a:pt x="411" y="1374"/>
                </a:lnTo>
                <a:lnTo>
                  <a:pt x="417" y="1387"/>
                </a:lnTo>
                <a:lnTo>
                  <a:pt x="422" y="1397"/>
                </a:lnTo>
                <a:lnTo>
                  <a:pt x="427" y="1408"/>
                </a:lnTo>
                <a:lnTo>
                  <a:pt x="432" y="1420"/>
                </a:lnTo>
                <a:lnTo>
                  <a:pt x="439" y="1433"/>
                </a:lnTo>
                <a:lnTo>
                  <a:pt x="447" y="1446"/>
                </a:lnTo>
                <a:lnTo>
                  <a:pt x="454" y="1461"/>
                </a:lnTo>
                <a:lnTo>
                  <a:pt x="464" y="1475"/>
                </a:lnTo>
                <a:lnTo>
                  <a:pt x="473" y="1490"/>
                </a:lnTo>
                <a:lnTo>
                  <a:pt x="483" y="1504"/>
                </a:lnTo>
                <a:lnTo>
                  <a:pt x="492" y="1519"/>
                </a:lnTo>
                <a:lnTo>
                  <a:pt x="502" y="1534"/>
                </a:lnTo>
                <a:lnTo>
                  <a:pt x="511" y="1549"/>
                </a:lnTo>
                <a:lnTo>
                  <a:pt x="522" y="1563"/>
                </a:lnTo>
                <a:lnTo>
                  <a:pt x="531" y="1576"/>
                </a:lnTo>
                <a:lnTo>
                  <a:pt x="540" y="1589"/>
                </a:lnTo>
                <a:lnTo>
                  <a:pt x="548" y="1601"/>
                </a:lnTo>
                <a:lnTo>
                  <a:pt x="558" y="1611"/>
                </a:lnTo>
                <a:lnTo>
                  <a:pt x="565" y="1622"/>
                </a:lnTo>
                <a:lnTo>
                  <a:pt x="574" y="1633"/>
                </a:lnTo>
                <a:lnTo>
                  <a:pt x="584" y="1645"/>
                </a:lnTo>
                <a:lnTo>
                  <a:pt x="596" y="1656"/>
                </a:lnTo>
                <a:lnTo>
                  <a:pt x="607" y="1669"/>
                </a:lnTo>
                <a:lnTo>
                  <a:pt x="619" y="1680"/>
                </a:lnTo>
                <a:lnTo>
                  <a:pt x="630" y="1694"/>
                </a:lnTo>
                <a:lnTo>
                  <a:pt x="643" y="1705"/>
                </a:lnTo>
                <a:lnTo>
                  <a:pt x="654" y="1718"/>
                </a:lnTo>
                <a:lnTo>
                  <a:pt x="666" y="1729"/>
                </a:lnTo>
                <a:lnTo>
                  <a:pt x="678" y="1740"/>
                </a:lnTo>
                <a:lnTo>
                  <a:pt x="689" y="1750"/>
                </a:lnTo>
                <a:lnTo>
                  <a:pt x="699" y="1761"/>
                </a:lnTo>
                <a:lnTo>
                  <a:pt x="711" y="1770"/>
                </a:lnTo>
                <a:lnTo>
                  <a:pt x="720" y="1778"/>
                </a:lnTo>
                <a:lnTo>
                  <a:pt x="729" y="1784"/>
                </a:lnTo>
                <a:lnTo>
                  <a:pt x="737" y="1792"/>
                </a:lnTo>
                <a:lnTo>
                  <a:pt x="745" y="1797"/>
                </a:lnTo>
                <a:lnTo>
                  <a:pt x="752" y="1804"/>
                </a:lnTo>
                <a:lnTo>
                  <a:pt x="762" y="1810"/>
                </a:lnTo>
                <a:lnTo>
                  <a:pt x="769" y="1817"/>
                </a:lnTo>
                <a:lnTo>
                  <a:pt x="779" y="1823"/>
                </a:lnTo>
                <a:lnTo>
                  <a:pt x="786" y="1830"/>
                </a:lnTo>
                <a:lnTo>
                  <a:pt x="796" y="1835"/>
                </a:lnTo>
                <a:lnTo>
                  <a:pt x="803" y="1842"/>
                </a:lnTo>
                <a:lnTo>
                  <a:pt x="810" y="1847"/>
                </a:lnTo>
                <a:lnTo>
                  <a:pt x="817" y="1853"/>
                </a:lnTo>
                <a:lnTo>
                  <a:pt x="824" y="1857"/>
                </a:lnTo>
                <a:lnTo>
                  <a:pt x="829" y="1862"/>
                </a:lnTo>
                <a:lnTo>
                  <a:pt x="835" y="1866"/>
                </a:lnTo>
                <a:lnTo>
                  <a:pt x="838" y="1868"/>
                </a:lnTo>
                <a:lnTo>
                  <a:pt x="844" y="1870"/>
                </a:lnTo>
                <a:lnTo>
                  <a:pt x="846" y="1873"/>
                </a:lnTo>
                <a:lnTo>
                  <a:pt x="850" y="1875"/>
                </a:lnTo>
                <a:lnTo>
                  <a:pt x="854" y="1878"/>
                </a:lnTo>
                <a:lnTo>
                  <a:pt x="860" y="1880"/>
                </a:lnTo>
                <a:lnTo>
                  <a:pt x="865" y="1884"/>
                </a:lnTo>
                <a:lnTo>
                  <a:pt x="871" y="1886"/>
                </a:lnTo>
                <a:lnTo>
                  <a:pt x="877" y="1890"/>
                </a:lnTo>
                <a:lnTo>
                  <a:pt x="885" y="1892"/>
                </a:lnTo>
                <a:lnTo>
                  <a:pt x="890" y="1896"/>
                </a:lnTo>
                <a:lnTo>
                  <a:pt x="898" y="1900"/>
                </a:lnTo>
                <a:lnTo>
                  <a:pt x="905" y="1903"/>
                </a:lnTo>
                <a:lnTo>
                  <a:pt x="912" y="1906"/>
                </a:lnTo>
                <a:lnTo>
                  <a:pt x="918" y="1910"/>
                </a:lnTo>
                <a:lnTo>
                  <a:pt x="925" y="1912"/>
                </a:lnTo>
                <a:lnTo>
                  <a:pt x="932" y="1914"/>
                </a:lnTo>
                <a:lnTo>
                  <a:pt x="939" y="1916"/>
                </a:lnTo>
                <a:lnTo>
                  <a:pt x="945" y="1920"/>
                </a:lnTo>
                <a:lnTo>
                  <a:pt x="952" y="1923"/>
                </a:lnTo>
                <a:lnTo>
                  <a:pt x="961" y="1927"/>
                </a:lnTo>
                <a:lnTo>
                  <a:pt x="971" y="1929"/>
                </a:lnTo>
                <a:lnTo>
                  <a:pt x="980" y="1933"/>
                </a:lnTo>
                <a:lnTo>
                  <a:pt x="992" y="1936"/>
                </a:lnTo>
                <a:lnTo>
                  <a:pt x="1003" y="1940"/>
                </a:lnTo>
                <a:lnTo>
                  <a:pt x="1014" y="1943"/>
                </a:lnTo>
                <a:lnTo>
                  <a:pt x="1026" y="1946"/>
                </a:lnTo>
                <a:lnTo>
                  <a:pt x="1038" y="1950"/>
                </a:lnTo>
                <a:lnTo>
                  <a:pt x="1049" y="1954"/>
                </a:lnTo>
                <a:lnTo>
                  <a:pt x="1061" y="1957"/>
                </a:lnTo>
                <a:lnTo>
                  <a:pt x="1072" y="1961"/>
                </a:lnTo>
                <a:lnTo>
                  <a:pt x="1084" y="1962"/>
                </a:lnTo>
                <a:lnTo>
                  <a:pt x="1094" y="1966"/>
                </a:lnTo>
                <a:lnTo>
                  <a:pt x="1104" y="1968"/>
                </a:lnTo>
                <a:lnTo>
                  <a:pt x="1114" y="1971"/>
                </a:lnTo>
                <a:lnTo>
                  <a:pt x="1124" y="1973"/>
                </a:lnTo>
                <a:lnTo>
                  <a:pt x="1136" y="1976"/>
                </a:lnTo>
                <a:lnTo>
                  <a:pt x="1148" y="1978"/>
                </a:lnTo>
                <a:lnTo>
                  <a:pt x="1160" y="1982"/>
                </a:lnTo>
                <a:lnTo>
                  <a:pt x="1173" y="1984"/>
                </a:lnTo>
                <a:lnTo>
                  <a:pt x="1186" y="1986"/>
                </a:lnTo>
                <a:lnTo>
                  <a:pt x="1199" y="1988"/>
                </a:lnTo>
                <a:lnTo>
                  <a:pt x="1211" y="1992"/>
                </a:lnTo>
                <a:lnTo>
                  <a:pt x="1224" y="1994"/>
                </a:lnTo>
                <a:lnTo>
                  <a:pt x="1236" y="1996"/>
                </a:lnTo>
                <a:lnTo>
                  <a:pt x="1249" y="1998"/>
                </a:lnTo>
                <a:lnTo>
                  <a:pt x="1260" y="2000"/>
                </a:lnTo>
                <a:lnTo>
                  <a:pt x="1271" y="2001"/>
                </a:lnTo>
                <a:lnTo>
                  <a:pt x="1280" y="2003"/>
                </a:lnTo>
                <a:lnTo>
                  <a:pt x="1290" y="2003"/>
                </a:lnTo>
                <a:lnTo>
                  <a:pt x="1298" y="2005"/>
                </a:lnTo>
                <a:lnTo>
                  <a:pt x="1307" y="2006"/>
                </a:lnTo>
                <a:lnTo>
                  <a:pt x="1318" y="2008"/>
                </a:lnTo>
                <a:lnTo>
                  <a:pt x="1330" y="2008"/>
                </a:lnTo>
                <a:lnTo>
                  <a:pt x="1341" y="2009"/>
                </a:lnTo>
                <a:lnTo>
                  <a:pt x="1354" y="2009"/>
                </a:lnTo>
                <a:lnTo>
                  <a:pt x="1367" y="2011"/>
                </a:lnTo>
                <a:lnTo>
                  <a:pt x="1381" y="2011"/>
                </a:lnTo>
                <a:lnTo>
                  <a:pt x="1394" y="2013"/>
                </a:lnTo>
                <a:lnTo>
                  <a:pt x="1407" y="2013"/>
                </a:lnTo>
                <a:lnTo>
                  <a:pt x="1420" y="2015"/>
                </a:lnTo>
                <a:lnTo>
                  <a:pt x="1433" y="2015"/>
                </a:lnTo>
                <a:lnTo>
                  <a:pt x="1445" y="2017"/>
                </a:lnTo>
                <a:lnTo>
                  <a:pt x="1458" y="2017"/>
                </a:lnTo>
                <a:lnTo>
                  <a:pt x="1469" y="2018"/>
                </a:lnTo>
                <a:lnTo>
                  <a:pt x="1480" y="2018"/>
                </a:lnTo>
                <a:lnTo>
                  <a:pt x="1489" y="2019"/>
                </a:lnTo>
                <a:lnTo>
                  <a:pt x="1500" y="2019"/>
                </a:lnTo>
                <a:lnTo>
                  <a:pt x="1512" y="2019"/>
                </a:lnTo>
                <a:lnTo>
                  <a:pt x="1526" y="2019"/>
                </a:lnTo>
                <a:lnTo>
                  <a:pt x="1538" y="2021"/>
                </a:lnTo>
                <a:lnTo>
                  <a:pt x="1551" y="2021"/>
                </a:lnTo>
                <a:lnTo>
                  <a:pt x="1564" y="2021"/>
                </a:lnTo>
                <a:lnTo>
                  <a:pt x="1578" y="2021"/>
                </a:lnTo>
                <a:lnTo>
                  <a:pt x="1591" y="2022"/>
                </a:lnTo>
                <a:lnTo>
                  <a:pt x="1604" y="2022"/>
                </a:lnTo>
                <a:lnTo>
                  <a:pt x="1616" y="2022"/>
                </a:lnTo>
                <a:lnTo>
                  <a:pt x="1629" y="2022"/>
                </a:lnTo>
                <a:lnTo>
                  <a:pt x="1640" y="2022"/>
                </a:lnTo>
                <a:lnTo>
                  <a:pt x="1651" y="2022"/>
                </a:lnTo>
                <a:lnTo>
                  <a:pt x="1660" y="2022"/>
                </a:lnTo>
                <a:lnTo>
                  <a:pt x="1670" y="2022"/>
                </a:lnTo>
                <a:lnTo>
                  <a:pt x="1676" y="2022"/>
                </a:lnTo>
                <a:lnTo>
                  <a:pt x="1682" y="2022"/>
                </a:lnTo>
                <a:lnTo>
                  <a:pt x="1685" y="2022"/>
                </a:lnTo>
                <a:lnTo>
                  <a:pt x="1689" y="2022"/>
                </a:lnTo>
                <a:lnTo>
                  <a:pt x="1691" y="2022"/>
                </a:lnTo>
                <a:lnTo>
                  <a:pt x="1693" y="2022"/>
                </a:lnTo>
                <a:lnTo>
                  <a:pt x="1695" y="2022"/>
                </a:lnTo>
                <a:lnTo>
                  <a:pt x="1696" y="2022"/>
                </a:lnTo>
                <a:lnTo>
                  <a:pt x="1698" y="2022"/>
                </a:lnTo>
                <a:lnTo>
                  <a:pt x="1702" y="2022"/>
                </a:lnTo>
                <a:lnTo>
                  <a:pt x="1706" y="2022"/>
                </a:lnTo>
                <a:lnTo>
                  <a:pt x="1712" y="2022"/>
                </a:lnTo>
                <a:lnTo>
                  <a:pt x="1719" y="2022"/>
                </a:lnTo>
                <a:lnTo>
                  <a:pt x="1729" y="2022"/>
                </a:lnTo>
                <a:lnTo>
                  <a:pt x="1741" y="2022"/>
                </a:lnTo>
                <a:lnTo>
                  <a:pt x="1756" y="2022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97400" y="2225520"/>
            <a:ext cx="1282680" cy="1455840"/>
          </a:xfrm>
          <a:custGeom>
            <a:avLst/>
            <a:gdLst/>
            <a:ahLst/>
            <a:rect l="l" t="t" r="r" b="b"/>
            <a:pathLst>
              <a:path w="808" h="917">
                <a:moveTo>
                  <a:pt x="0" y="0"/>
                </a:moveTo>
                <a:lnTo>
                  <a:pt x="0" y="8"/>
                </a:lnTo>
                <a:lnTo>
                  <a:pt x="0" y="14"/>
                </a:lnTo>
                <a:lnTo>
                  <a:pt x="0" y="19"/>
                </a:lnTo>
                <a:lnTo>
                  <a:pt x="1" y="23"/>
                </a:lnTo>
                <a:lnTo>
                  <a:pt x="1" y="27"/>
                </a:lnTo>
                <a:lnTo>
                  <a:pt x="1" y="29"/>
                </a:lnTo>
                <a:lnTo>
                  <a:pt x="1" y="31"/>
                </a:lnTo>
                <a:lnTo>
                  <a:pt x="3" y="31"/>
                </a:lnTo>
                <a:lnTo>
                  <a:pt x="3" y="32"/>
                </a:lnTo>
                <a:lnTo>
                  <a:pt x="3" y="32"/>
                </a:lnTo>
                <a:lnTo>
                  <a:pt x="3" y="34"/>
                </a:lnTo>
                <a:lnTo>
                  <a:pt x="3" y="34"/>
                </a:lnTo>
                <a:lnTo>
                  <a:pt x="3" y="36"/>
                </a:lnTo>
                <a:lnTo>
                  <a:pt x="3" y="38"/>
                </a:lnTo>
                <a:lnTo>
                  <a:pt x="3" y="41"/>
                </a:lnTo>
                <a:lnTo>
                  <a:pt x="4" y="44"/>
                </a:lnTo>
                <a:lnTo>
                  <a:pt x="4" y="49"/>
                </a:lnTo>
                <a:lnTo>
                  <a:pt x="5" y="55"/>
                </a:lnTo>
                <a:lnTo>
                  <a:pt x="5" y="62"/>
                </a:lnTo>
                <a:lnTo>
                  <a:pt x="7" y="69"/>
                </a:lnTo>
                <a:lnTo>
                  <a:pt x="9" y="79"/>
                </a:lnTo>
                <a:lnTo>
                  <a:pt x="11" y="88"/>
                </a:lnTo>
                <a:lnTo>
                  <a:pt x="13" y="99"/>
                </a:lnTo>
                <a:lnTo>
                  <a:pt x="15" y="109"/>
                </a:lnTo>
                <a:lnTo>
                  <a:pt x="17" y="122"/>
                </a:lnTo>
                <a:lnTo>
                  <a:pt x="19" y="133"/>
                </a:lnTo>
                <a:lnTo>
                  <a:pt x="21" y="146"/>
                </a:lnTo>
                <a:lnTo>
                  <a:pt x="24" y="157"/>
                </a:lnTo>
                <a:lnTo>
                  <a:pt x="25" y="169"/>
                </a:lnTo>
                <a:lnTo>
                  <a:pt x="28" y="180"/>
                </a:lnTo>
                <a:lnTo>
                  <a:pt x="30" y="192"/>
                </a:lnTo>
                <a:lnTo>
                  <a:pt x="34" y="202"/>
                </a:lnTo>
                <a:lnTo>
                  <a:pt x="35" y="214"/>
                </a:lnTo>
                <a:lnTo>
                  <a:pt x="39" y="225"/>
                </a:lnTo>
                <a:lnTo>
                  <a:pt x="41" y="238"/>
                </a:lnTo>
                <a:lnTo>
                  <a:pt x="44" y="250"/>
                </a:lnTo>
                <a:lnTo>
                  <a:pt x="47" y="263"/>
                </a:lnTo>
                <a:lnTo>
                  <a:pt x="51" y="275"/>
                </a:lnTo>
                <a:lnTo>
                  <a:pt x="54" y="288"/>
                </a:lnTo>
                <a:lnTo>
                  <a:pt x="58" y="300"/>
                </a:lnTo>
                <a:lnTo>
                  <a:pt x="60" y="312"/>
                </a:lnTo>
                <a:lnTo>
                  <a:pt x="64" y="323"/>
                </a:lnTo>
                <a:lnTo>
                  <a:pt x="67" y="334"/>
                </a:lnTo>
                <a:lnTo>
                  <a:pt x="71" y="344"/>
                </a:lnTo>
                <a:lnTo>
                  <a:pt x="73" y="354"/>
                </a:lnTo>
                <a:lnTo>
                  <a:pt x="77" y="362"/>
                </a:lnTo>
                <a:lnTo>
                  <a:pt x="79" y="370"/>
                </a:lnTo>
                <a:lnTo>
                  <a:pt x="83" y="375"/>
                </a:lnTo>
                <a:lnTo>
                  <a:pt x="85" y="382"/>
                </a:lnTo>
                <a:lnTo>
                  <a:pt x="87" y="388"/>
                </a:lnTo>
                <a:lnTo>
                  <a:pt x="90" y="396"/>
                </a:lnTo>
                <a:lnTo>
                  <a:pt x="93" y="403"/>
                </a:lnTo>
                <a:lnTo>
                  <a:pt x="97" y="412"/>
                </a:lnTo>
                <a:lnTo>
                  <a:pt x="101" y="421"/>
                </a:lnTo>
                <a:lnTo>
                  <a:pt x="104" y="430"/>
                </a:lnTo>
                <a:lnTo>
                  <a:pt x="108" y="438"/>
                </a:lnTo>
                <a:lnTo>
                  <a:pt x="112" y="448"/>
                </a:lnTo>
                <a:lnTo>
                  <a:pt x="115" y="458"/>
                </a:lnTo>
                <a:lnTo>
                  <a:pt x="119" y="467"/>
                </a:lnTo>
                <a:lnTo>
                  <a:pt x="123" y="476"/>
                </a:lnTo>
                <a:lnTo>
                  <a:pt x="127" y="485"/>
                </a:lnTo>
                <a:lnTo>
                  <a:pt x="130" y="493"/>
                </a:lnTo>
                <a:lnTo>
                  <a:pt x="134" y="501"/>
                </a:lnTo>
                <a:lnTo>
                  <a:pt x="138" y="508"/>
                </a:lnTo>
                <a:lnTo>
                  <a:pt x="140" y="517"/>
                </a:lnTo>
                <a:lnTo>
                  <a:pt x="143" y="524"/>
                </a:lnTo>
                <a:lnTo>
                  <a:pt x="147" y="534"/>
                </a:lnTo>
                <a:lnTo>
                  <a:pt x="151" y="541"/>
                </a:lnTo>
                <a:lnTo>
                  <a:pt x="155" y="550"/>
                </a:lnTo>
                <a:lnTo>
                  <a:pt x="159" y="559"/>
                </a:lnTo>
                <a:lnTo>
                  <a:pt x="162" y="568"/>
                </a:lnTo>
                <a:lnTo>
                  <a:pt x="167" y="576"/>
                </a:lnTo>
                <a:lnTo>
                  <a:pt x="170" y="585"/>
                </a:lnTo>
                <a:lnTo>
                  <a:pt x="173" y="594"/>
                </a:lnTo>
                <a:lnTo>
                  <a:pt x="177" y="602"/>
                </a:lnTo>
                <a:lnTo>
                  <a:pt x="181" y="609"/>
                </a:lnTo>
                <a:lnTo>
                  <a:pt x="183" y="616"/>
                </a:lnTo>
                <a:lnTo>
                  <a:pt x="187" y="623"/>
                </a:lnTo>
                <a:lnTo>
                  <a:pt x="190" y="628"/>
                </a:lnTo>
                <a:lnTo>
                  <a:pt x="193" y="632"/>
                </a:lnTo>
                <a:lnTo>
                  <a:pt x="195" y="638"/>
                </a:lnTo>
                <a:lnTo>
                  <a:pt x="198" y="643"/>
                </a:lnTo>
                <a:lnTo>
                  <a:pt x="200" y="649"/>
                </a:lnTo>
                <a:lnTo>
                  <a:pt x="204" y="655"/>
                </a:lnTo>
                <a:lnTo>
                  <a:pt x="208" y="662"/>
                </a:lnTo>
                <a:lnTo>
                  <a:pt x="211" y="668"/>
                </a:lnTo>
                <a:lnTo>
                  <a:pt x="215" y="674"/>
                </a:lnTo>
                <a:lnTo>
                  <a:pt x="220" y="680"/>
                </a:lnTo>
                <a:lnTo>
                  <a:pt x="224" y="688"/>
                </a:lnTo>
                <a:lnTo>
                  <a:pt x="228" y="694"/>
                </a:lnTo>
                <a:lnTo>
                  <a:pt x="232" y="702"/>
                </a:lnTo>
                <a:lnTo>
                  <a:pt x="238" y="707"/>
                </a:lnTo>
                <a:lnTo>
                  <a:pt x="241" y="713"/>
                </a:lnTo>
                <a:lnTo>
                  <a:pt x="247" y="719"/>
                </a:lnTo>
                <a:lnTo>
                  <a:pt x="250" y="724"/>
                </a:lnTo>
                <a:lnTo>
                  <a:pt x="255" y="729"/>
                </a:lnTo>
                <a:lnTo>
                  <a:pt x="258" y="734"/>
                </a:lnTo>
                <a:lnTo>
                  <a:pt x="262" y="740"/>
                </a:lnTo>
                <a:lnTo>
                  <a:pt x="267" y="745"/>
                </a:lnTo>
                <a:lnTo>
                  <a:pt x="272" y="750"/>
                </a:lnTo>
                <a:lnTo>
                  <a:pt x="277" y="755"/>
                </a:lnTo>
                <a:lnTo>
                  <a:pt x="283" y="761"/>
                </a:lnTo>
                <a:lnTo>
                  <a:pt x="288" y="766"/>
                </a:lnTo>
                <a:lnTo>
                  <a:pt x="294" y="772"/>
                </a:lnTo>
                <a:lnTo>
                  <a:pt x="299" y="778"/>
                </a:lnTo>
                <a:lnTo>
                  <a:pt x="305" y="783"/>
                </a:lnTo>
                <a:lnTo>
                  <a:pt x="310" y="789"/>
                </a:lnTo>
                <a:lnTo>
                  <a:pt x="316" y="792"/>
                </a:lnTo>
                <a:lnTo>
                  <a:pt x="319" y="797"/>
                </a:lnTo>
                <a:lnTo>
                  <a:pt x="325" y="801"/>
                </a:lnTo>
                <a:lnTo>
                  <a:pt x="329" y="804"/>
                </a:lnTo>
                <a:lnTo>
                  <a:pt x="334" y="807"/>
                </a:lnTo>
                <a:lnTo>
                  <a:pt x="337" y="811"/>
                </a:lnTo>
                <a:lnTo>
                  <a:pt x="341" y="814"/>
                </a:lnTo>
                <a:lnTo>
                  <a:pt x="345" y="818"/>
                </a:lnTo>
                <a:lnTo>
                  <a:pt x="349" y="819"/>
                </a:lnTo>
                <a:lnTo>
                  <a:pt x="353" y="823"/>
                </a:lnTo>
                <a:lnTo>
                  <a:pt x="356" y="825"/>
                </a:lnTo>
                <a:lnTo>
                  <a:pt x="360" y="829"/>
                </a:lnTo>
                <a:lnTo>
                  <a:pt x="365" y="830"/>
                </a:lnTo>
                <a:lnTo>
                  <a:pt x="367" y="834"/>
                </a:lnTo>
                <a:lnTo>
                  <a:pt x="371" y="836"/>
                </a:lnTo>
                <a:lnTo>
                  <a:pt x="374" y="839"/>
                </a:lnTo>
                <a:lnTo>
                  <a:pt x="378" y="840"/>
                </a:lnTo>
                <a:lnTo>
                  <a:pt x="380" y="842"/>
                </a:lnTo>
                <a:lnTo>
                  <a:pt x="383" y="844"/>
                </a:lnTo>
                <a:lnTo>
                  <a:pt x="385" y="846"/>
                </a:lnTo>
                <a:lnTo>
                  <a:pt x="387" y="846"/>
                </a:lnTo>
                <a:lnTo>
                  <a:pt x="388" y="848"/>
                </a:lnTo>
                <a:lnTo>
                  <a:pt x="390" y="849"/>
                </a:lnTo>
                <a:lnTo>
                  <a:pt x="392" y="850"/>
                </a:lnTo>
                <a:lnTo>
                  <a:pt x="394" y="850"/>
                </a:lnTo>
                <a:lnTo>
                  <a:pt x="396" y="852"/>
                </a:lnTo>
                <a:lnTo>
                  <a:pt x="399" y="854"/>
                </a:lnTo>
                <a:lnTo>
                  <a:pt x="402" y="856"/>
                </a:lnTo>
                <a:lnTo>
                  <a:pt x="405" y="856"/>
                </a:lnTo>
                <a:lnTo>
                  <a:pt x="407" y="858"/>
                </a:lnTo>
                <a:lnTo>
                  <a:pt x="411" y="860"/>
                </a:lnTo>
                <a:lnTo>
                  <a:pt x="414" y="862"/>
                </a:lnTo>
                <a:lnTo>
                  <a:pt x="418" y="862"/>
                </a:lnTo>
                <a:lnTo>
                  <a:pt x="420" y="864"/>
                </a:lnTo>
                <a:lnTo>
                  <a:pt x="424" y="866"/>
                </a:lnTo>
                <a:lnTo>
                  <a:pt x="427" y="867"/>
                </a:lnTo>
                <a:lnTo>
                  <a:pt x="431" y="867"/>
                </a:lnTo>
                <a:lnTo>
                  <a:pt x="433" y="869"/>
                </a:lnTo>
                <a:lnTo>
                  <a:pt x="437" y="871"/>
                </a:lnTo>
                <a:lnTo>
                  <a:pt x="441" y="873"/>
                </a:lnTo>
                <a:lnTo>
                  <a:pt x="445" y="874"/>
                </a:lnTo>
                <a:lnTo>
                  <a:pt x="449" y="876"/>
                </a:lnTo>
                <a:lnTo>
                  <a:pt x="454" y="877"/>
                </a:lnTo>
                <a:lnTo>
                  <a:pt x="459" y="879"/>
                </a:lnTo>
                <a:lnTo>
                  <a:pt x="465" y="879"/>
                </a:lnTo>
                <a:lnTo>
                  <a:pt x="469" y="881"/>
                </a:lnTo>
                <a:lnTo>
                  <a:pt x="475" y="883"/>
                </a:lnTo>
                <a:lnTo>
                  <a:pt x="481" y="885"/>
                </a:lnTo>
                <a:lnTo>
                  <a:pt x="486" y="886"/>
                </a:lnTo>
                <a:lnTo>
                  <a:pt x="491" y="887"/>
                </a:lnTo>
                <a:lnTo>
                  <a:pt x="496" y="888"/>
                </a:lnTo>
                <a:lnTo>
                  <a:pt x="501" y="890"/>
                </a:lnTo>
                <a:lnTo>
                  <a:pt x="507" y="890"/>
                </a:lnTo>
                <a:lnTo>
                  <a:pt x="510" y="892"/>
                </a:lnTo>
                <a:lnTo>
                  <a:pt x="515" y="894"/>
                </a:lnTo>
                <a:lnTo>
                  <a:pt x="521" y="896"/>
                </a:lnTo>
                <a:lnTo>
                  <a:pt x="527" y="896"/>
                </a:lnTo>
                <a:lnTo>
                  <a:pt x="532" y="897"/>
                </a:lnTo>
                <a:lnTo>
                  <a:pt x="538" y="898"/>
                </a:lnTo>
                <a:lnTo>
                  <a:pt x="543" y="900"/>
                </a:lnTo>
                <a:lnTo>
                  <a:pt x="550" y="900"/>
                </a:lnTo>
                <a:lnTo>
                  <a:pt x="556" y="902"/>
                </a:lnTo>
                <a:lnTo>
                  <a:pt x="561" y="902"/>
                </a:lnTo>
                <a:lnTo>
                  <a:pt x="567" y="904"/>
                </a:lnTo>
                <a:lnTo>
                  <a:pt x="573" y="904"/>
                </a:lnTo>
                <a:lnTo>
                  <a:pt x="577" y="906"/>
                </a:lnTo>
                <a:lnTo>
                  <a:pt x="583" y="906"/>
                </a:lnTo>
                <a:lnTo>
                  <a:pt x="587" y="907"/>
                </a:lnTo>
                <a:lnTo>
                  <a:pt x="592" y="907"/>
                </a:lnTo>
                <a:lnTo>
                  <a:pt x="596" y="908"/>
                </a:lnTo>
                <a:lnTo>
                  <a:pt x="600" y="908"/>
                </a:lnTo>
                <a:lnTo>
                  <a:pt x="605" y="908"/>
                </a:lnTo>
                <a:lnTo>
                  <a:pt x="610" y="908"/>
                </a:lnTo>
                <a:lnTo>
                  <a:pt x="616" y="910"/>
                </a:lnTo>
                <a:lnTo>
                  <a:pt x="621" y="910"/>
                </a:lnTo>
                <a:lnTo>
                  <a:pt x="627" y="910"/>
                </a:lnTo>
                <a:lnTo>
                  <a:pt x="634" y="910"/>
                </a:lnTo>
                <a:lnTo>
                  <a:pt x="639" y="912"/>
                </a:lnTo>
                <a:lnTo>
                  <a:pt x="645" y="912"/>
                </a:lnTo>
                <a:lnTo>
                  <a:pt x="651" y="912"/>
                </a:lnTo>
                <a:lnTo>
                  <a:pt x="658" y="912"/>
                </a:lnTo>
                <a:lnTo>
                  <a:pt x="663" y="914"/>
                </a:lnTo>
                <a:lnTo>
                  <a:pt x="669" y="914"/>
                </a:lnTo>
                <a:lnTo>
                  <a:pt x="674" y="914"/>
                </a:lnTo>
                <a:lnTo>
                  <a:pt x="679" y="914"/>
                </a:lnTo>
                <a:lnTo>
                  <a:pt x="683" y="915"/>
                </a:lnTo>
                <a:lnTo>
                  <a:pt x="688" y="915"/>
                </a:lnTo>
                <a:lnTo>
                  <a:pt x="694" y="915"/>
                </a:lnTo>
                <a:lnTo>
                  <a:pt x="699" y="915"/>
                </a:lnTo>
                <a:lnTo>
                  <a:pt x="705" y="915"/>
                </a:lnTo>
                <a:lnTo>
                  <a:pt x="711" y="915"/>
                </a:lnTo>
                <a:lnTo>
                  <a:pt x="717" y="915"/>
                </a:lnTo>
                <a:lnTo>
                  <a:pt x="725" y="915"/>
                </a:lnTo>
                <a:lnTo>
                  <a:pt x="730" y="916"/>
                </a:lnTo>
                <a:lnTo>
                  <a:pt x="736" y="916"/>
                </a:lnTo>
                <a:lnTo>
                  <a:pt x="741" y="916"/>
                </a:lnTo>
                <a:lnTo>
                  <a:pt x="748" y="916"/>
                </a:lnTo>
                <a:lnTo>
                  <a:pt x="753" y="916"/>
                </a:lnTo>
                <a:lnTo>
                  <a:pt x="758" y="916"/>
                </a:lnTo>
                <a:lnTo>
                  <a:pt x="763" y="916"/>
                </a:lnTo>
                <a:lnTo>
                  <a:pt x="767" y="916"/>
                </a:lnTo>
                <a:lnTo>
                  <a:pt x="769" y="916"/>
                </a:lnTo>
                <a:lnTo>
                  <a:pt x="773" y="916"/>
                </a:lnTo>
                <a:lnTo>
                  <a:pt x="774" y="916"/>
                </a:lnTo>
                <a:lnTo>
                  <a:pt x="775" y="916"/>
                </a:lnTo>
                <a:lnTo>
                  <a:pt x="775" y="916"/>
                </a:lnTo>
                <a:lnTo>
                  <a:pt x="777" y="916"/>
                </a:lnTo>
                <a:lnTo>
                  <a:pt x="777" y="916"/>
                </a:lnTo>
                <a:lnTo>
                  <a:pt x="779" y="916"/>
                </a:lnTo>
                <a:lnTo>
                  <a:pt x="779" y="916"/>
                </a:lnTo>
                <a:lnTo>
                  <a:pt x="781" y="916"/>
                </a:lnTo>
                <a:lnTo>
                  <a:pt x="783" y="916"/>
                </a:lnTo>
                <a:lnTo>
                  <a:pt x="786" y="916"/>
                </a:lnTo>
                <a:lnTo>
                  <a:pt x="789" y="916"/>
                </a:lnTo>
                <a:lnTo>
                  <a:pt x="794" y="916"/>
                </a:lnTo>
                <a:lnTo>
                  <a:pt x="799" y="916"/>
                </a:lnTo>
                <a:lnTo>
                  <a:pt x="807" y="916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65360" y="3629160"/>
            <a:ext cx="2554200" cy="2928960"/>
          </a:xfrm>
          <a:custGeom>
            <a:avLst/>
            <a:gdLst/>
            <a:ahLst/>
            <a:rect l="l" t="t" r="r" b="b"/>
            <a:pathLst>
              <a:path w="1609" h="1845">
                <a:moveTo>
                  <a:pt x="1608" y="1844"/>
                </a:moveTo>
                <a:lnTo>
                  <a:pt x="1606" y="1830"/>
                </a:lnTo>
                <a:lnTo>
                  <a:pt x="1604" y="1817"/>
                </a:lnTo>
                <a:lnTo>
                  <a:pt x="1602" y="1808"/>
                </a:lnTo>
                <a:lnTo>
                  <a:pt x="1602" y="1800"/>
                </a:lnTo>
                <a:lnTo>
                  <a:pt x="1601" y="1795"/>
                </a:lnTo>
                <a:lnTo>
                  <a:pt x="1601" y="1790"/>
                </a:lnTo>
                <a:lnTo>
                  <a:pt x="1601" y="1787"/>
                </a:lnTo>
                <a:lnTo>
                  <a:pt x="1601" y="1784"/>
                </a:lnTo>
                <a:lnTo>
                  <a:pt x="1600" y="1782"/>
                </a:lnTo>
                <a:lnTo>
                  <a:pt x="1600" y="1780"/>
                </a:lnTo>
                <a:lnTo>
                  <a:pt x="1600" y="1779"/>
                </a:lnTo>
                <a:lnTo>
                  <a:pt x="1600" y="1776"/>
                </a:lnTo>
                <a:lnTo>
                  <a:pt x="1599" y="1774"/>
                </a:lnTo>
                <a:lnTo>
                  <a:pt x="1599" y="1769"/>
                </a:lnTo>
                <a:lnTo>
                  <a:pt x="1598" y="1764"/>
                </a:lnTo>
                <a:lnTo>
                  <a:pt x="1598" y="1756"/>
                </a:lnTo>
                <a:lnTo>
                  <a:pt x="1596" y="1748"/>
                </a:lnTo>
                <a:lnTo>
                  <a:pt x="1594" y="1735"/>
                </a:lnTo>
                <a:lnTo>
                  <a:pt x="1592" y="1721"/>
                </a:lnTo>
                <a:lnTo>
                  <a:pt x="1590" y="1704"/>
                </a:lnTo>
                <a:lnTo>
                  <a:pt x="1586" y="1687"/>
                </a:lnTo>
                <a:lnTo>
                  <a:pt x="1583" y="1667"/>
                </a:lnTo>
                <a:lnTo>
                  <a:pt x="1579" y="1646"/>
                </a:lnTo>
                <a:lnTo>
                  <a:pt x="1576" y="1623"/>
                </a:lnTo>
                <a:lnTo>
                  <a:pt x="1570" y="1601"/>
                </a:lnTo>
                <a:lnTo>
                  <a:pt x="1566" y="1578"/>
                </a:lnTo>
                <a:lnTo>
                  <a:pt x="1560" y="1554"/>
                </a:lnTo>
                <a:lnTo>
                  <a:pt x="1557" y="1530"/>
                </a:lnTo>
                <a:lnTo>
                  <a:pt x="1551" y="1507"/>
                </a:lnTo>
                <a:lnTo>
                  <a:pt x="1548" y="1483"/>
                </a:lnTo>
                <a:lnTo>
                  <a:pt x="1542" y="1460"/>
                </a:lnTo>
                <a:lnTo>
                  <a:pt x="1538" y="1437"/>
                </a:lnTo>
                <a:lnTo>
                  <a:pt x="1532" y="1415"/>
                </a:lnTo>
                <a:lnTo>
                  <a:pt x="1527" y="1392"/>
                </a:lnTo>
                <a:lnTo>
                  <a:pt x="1521" y="1368"/>
                </a:lnTo>
                <a:lnTo>
                  <a:pt x="1515" y="1342"/>
                </a:lnTo>
                <a:lnTo>
                  <a:pt x="1508" y="1318"/>
                </a:lnTo>
                <a:lnTo>
                  <a:pt x="1502" y="1291"/>
                </a:lnTo>
                <a:lnTo>
                  <a:pt x="1495" y="1267"/>
                </a:lnTo>
                <a:lnTo>
                  <a:pt x="1490" y="1241"/>
                </a:lnTo>
                <a:lnTo>
                  <a:pt x="1482" y="1218"/>
                </a:lnTo>
                <a:lnTo>
                  <a:pt x="1476" y="1194"/>
                </a:lnTo>
                <a:lnTo>
                  <a:pt x="1469" y="1173"/>
                </a:lnTo>
                <a:lnTo>
                  <a:pt x="1463" y="1152"/>
                </a:lnTo>
                <a:lnTo>
                  <a:pt x="1457" y="1134"/>
                </a:lnTo>
                <a:lnTo>
                  <a:pt x="1451" y="1116"/>
                </a:lnTo>
                <a:lnTo>
                  <a:pt x="1446" y="1101"/>
                </a:lnTo>
                <a:lnTo>
                  <a:pt x="1442" y="1088"/>
                </a:lnTo>
                <a:lnTo>
                  <a:pt x="1436" y="1077"/>
                </a:lnTo>
                <a:lnTo>
                  <a:pt x="1432" y="1064"/>
                </a:lnTo>
                <a:lnTo>
                  <a:pt x="1424" y="1049"/>
                </a:lnTo>
                <a:lnTo>
                  <a:pt x="1419" y="1033"/>
                </a:lnTo>
                <a:lnTo>
                  <a:pt x="1412" y="1017"/>
                </a:lnTo>
                <a:lnTo>
                  <a:pt x="1404" y="999"/>
                </a:lnTo>
                <a:lnTo>
                  <a:pt x="1397" y="980"/>
                </a:lnTo>
                <a:lnTo>
                  <a:pt x="1390" y="961"/>
                </a:lnTo>
                <a:lnTo>
                  <a:pt x="1381" y="942"/>
                </a:lnTo>
                <a:lnTo>
                  <a:pt x="1373" y="924"/>
                </a:lnTo>
                <a:lnTo>
                  <a:pt x="1366" y="905"/>
                </a:lnTo>
                <a:lnTo>
                  <a:pt x="1358" y="886"/>
                </a:lnTo>
                <a:lnTo>
                  <a:pt x="1351" y="870"/>
                </a:lnTo>
                <a:lnTo>
                  <a:pt x="1344" y="851"/>
                </a:lnTo>
                <a:lnTo>
                  <a:pt x="1336" y="836"/>
                </a:lnTo>
                <a:lnTo>
                  <a:pt x="1331" y="820"/>
                </a:lnTo>
                <a:lnTo>
                  <a:pt x="1324" y="805"/>
                </a:lnTo>
                <a:lnTo>
                  <a:pt x="1317" y="790"/>
                </a:lnTo>
                <a:lnTo>
                  <a:pt x="1310" y="773"/>
                </a:lnTo>
                <a:lnTo>
                  <a:pt x="1303" y="756"/>
                </a:lnTo>
                <a:lnTo>
                  <a:pt x="1295" y="739"/>
                </a:lnTo>
                <a:lnTo>
                  <a:pt x="1287" y="721"/>
                </a:lnTo>
                <a:lnTo>
                  <a:pt x="1280" y="704"/>
                </a:lnTo>
                <a:lnTo>
                  <a:pt x="1272" y="685"/>
                </a:lnTo>
                <a:lnTo>
                  <a:pt x="1264" y="668"/>
                </a:lnTo>
                <a:lnTo>
                  <a:pt x="1257" y="652"/>
                </a:lnTo>
                <a:lnTo>
                  <a:pt x="1249" y="636"/>
                </a:lnTo>
                <a:lnTo>
                  <a:pt x="1243" y="620"/>
                </a:lnTo>
                <a:lnTo>
                  <a:pt x="1236" y="606"/>
                </a:lnTo>
                <a:lnTo>
                  <a:pt x="1230" y="592"/>
                </a:lnTo>
                <a:lnTo>
                  <a:pt x="1226" y="580"/>
                </a:lnTo>
                <a:lnTo>
                  <a:pt x="1222" y="570"/>
                </a:lnTo>
                <a:lnTo>
                  <a:pt x="1216" y="561"/>
                </a:lnTo>
                <a:lnTo>
                  <a:pt x="1210" y="551"/>
                </a:lnTo>
                <a:lnTo>
                  <a:pt x="1204" y="539"/>
                </a:lnTo>
                <a:lnTo>
                  <a:pt x="1198" y="526"/>
                </a:lnTo>
                <a:lnTo>
                  <a:pt x="1189" y="514"/>
                </a:lnTo>
                <a:lnTo>
                  <a:pt x="1182" y="501"/>
                </a:lnTo>
                <a:lnTo>
                  <a:pt x="1173" y="488"/>
                </a:lnTo>
                <a:lnTo>
                  <a:pt x="1166" y="473"/>
                </a:lnTo>
                <a:lnTo>
                  <a:pt x="1156" y="460"/>
                </a:lnTo>
                <a:lnTo>
                  <a:pt x="1147" y="447"/>
                </a:lnTo>
                <a:lnTo>
                  <a:pt x="1138" y="434"/>
                </a:lnTo>
                <a:lnTo>
                  <a:pt x="1130" y="420"/>
                </a:lnTo>
                <a:lnTo>
                  <a:pt x="1121" y="409"/>
                </a:lnTo>
                <a:lnTo>
                  <a:pt x="1112" y="396"/>
                </a:lnTo>
                <a:lnTo>
                  <a:pt x="1104" y="386"/>
                </a:lnTo>
                <a:lnTo>
                  <a:pt x="1097" y="375"/>
                </a:lnTo>
                <a:lnTo>
                  <a:pt x="1088" y="366"/>
                </a:lnTo>
                <a:lnTo>
                  <a:pt x="1080" y="356"/>
                </a:lnTo>
                <a:lnTo>
                  <a:pt x="1071" y="346"/>
                </a:lnTo>
                <a:lnTo>
                  <a:pt x="1061" y="335"/>
                </a:lnTo>
                <a:lnTo>
                  <a:pt x="1050" y="324"/>
                </a:lnTo>
                <a:lnTo>
                  <a:pt x="1040" y="313"/>
                </a:lnTo>
                <a:lnTo>
                  <a:pt x="1029" y="302"/>
                </a:lnTo>
                <a:lnTo>
                  <a:pt x="1020" y="290"/>
                </a:lnTo>
                <a:lnTo>
                  <a:pt x="1008" y="280"/>
                </a:lnTo>
                <a:lnTo>
                  <a:pt x="997" y="269"/>
                </a:lnTo>
                <a:lnTo>
                  <a:pt x="986" y="259"/>
                </a:lnTo>
                <a:lnTo>
                  <a:pt x="976" y="248"/>
                </a:lnTo>
                <a:lnTo>
                  <a:pt x="966" y="240"/>
                </a:lnTo>
                <a:lnTo>
                  <a:pt x="957" y="232"/>
                </a:lnTo>
                <a:lnTo>
                  <a:pt x="948" y="225"/>
                </a:lnTo>
                <a:lnTo>
                  <a:pt x="941" y="218"/>
                </a:lnTo>
                <a:lnTo>
                  <a:pt x="932" y="213"/>
                </a:lnTo>
                <a:lnTo>
                  <a:pt x="925" y="208"/>
                </a:lnTo>
                <a:lnTo>
                  <a:pt x="917" y="202"/>
                </a:lnTo>
                <a:lnTo>
                  <a:pt x="910" y="195"/>
                </a:lnTo>
                <a:lnTo>
                  <a:pt x="902" y="189"/>
                </a:lnTo>
                <a:lnTo>
                  <a:pt x="894" y="184"/>
                </a:lnTo>
                <a:lnTo>
                  <a:pt x="887" y="178"/>
                </a:lnTo>
                <a:lnTo>
                  <a:pt x="879" y="171"/>
                </a:lnTo>
                <a:lnTo>
                  <a:pt x="872" y="167"/>
                </a:lnTo>
                <a:lnTo>
                  <a:pt x="864" y="161"/>
                </a:lnTo>
                <a:lnTo>
                  <a:pt x="858" y="157"/>
                </a:lnTo>
                <a:lnTo>
                  <a:pt x="852" y="151"/>
                </a:lnTo>
                <a:lnTo>
                  <a:pt x="847" y="148"/>
                </a:lnTo>
                <a:lnTo>
                  <a:pt x="842" y="144"/>
                </a:lnTo>
                <a:lnTo>
                  <a:pt x="838" y="141"/>
                </a:lnTo>
                <a:lnTo>
                  <a:pt x="836" y="138"/>
                </a:lnTo>
                <a:lnTo>
                  <a:pt x="832" y="137"/>
                </a:lnTo>
                <a:lnTo>
                  <a:pt x="829" y="135"/>
                </a:lnTo>
                <a:lnTo>
                  <a:pt x="824" y="133"/>
                </a:lnTo>
                <a:lnTo>
                  <a:pt x="820" y="130"/>
                </a:lnTo>
                <a:lnTo>
                  <a:pt x="814" y="128"/>
                </a:lnTo>
                <a:lnTo>
                  <a:pt x="809" y="124"/>
                </a:lnTo>
                <a:lnTo>
                  <a:pt x="804" y="122"/>
                </a:lnTo>
                <a:lnTo>
                  <a:pt x="798" y="119"/>
                </a:lnTo>
                <a:lnTo>
                  <a:pt x="790" y="117"/>
                </a:lnTo>
                <a:lnTo>
                  <a:pt x="785" y="113"/>
                </a:lnTo>
                <a:lnTo>
                  <a:pt x="778" y="111"/>
                </a:lnTo>
                <a:lnTo>
                  <a:pt x="772" y="108"/>
                </a:lnTo>
                <a:lnTo>
                  <a:pt x="765" y="106"/>
                </a:lnTo>
                <a:lnTo>
                  <a:pt x="759" y="102"/>
                </a:lnTo>
                <a:lnTo>
                  <a:pt x="753" y="100"/>
                </a:lnTo>
                <a:lnTo>
                  <a:pt x="748" y="96"/>
                </a:lnTo>
                <a:lnTo>
                  <a:pt x="741" y="94"/>
                </a:lnTo>
                <a:lnTo>
                  <a:pt x="734" y="92"/>
                </a:lnTo>
                <a:lnTo>
                  <a:pt x="726" y="90"/>
                </a:lnTo>
                <a:lnTo>
                  <a:pt x="718" y="86"/>
                </a:lnTo>
                <a:lnTo>
                  <a:pt x="708" y="84"/>
                </a:lnTo>
                <a:lnTo>
                  <a:pt x="699" y="81"/>
                </a:lnTo>
                <a:lnTo>
                  <a:pt x="688" y="77"/>
                </a:lnTo>
                <a:lnTo>
                  <a:pt x="678" y="73"/>
                </a:lnTo>
                <a:lnTo>
                  <a:pt x="667" y="71"/>
                </a:lnTo>
                <a:lnTo>
                  <a:pt x="656" y="68"/>
                </a:lnTo>
                <a:lnTo>
                  <a:pt x="644" y="64"/>
                </a:lnTo>
                <a:lnTo>
                  <a:pt x="634" y="61"/>
                </a:lnTo>
                <a:lnTo>
                  <a:pt x="623" y="59"/>
                </a:lnTo>
                <a:lnTo>
                  <a:pt x="614" y="55"/>
                </a:lnTo>
                <a:lnTo>
                  <a:pt x="605" y="53"/>
                </a:lnTo>
                <a:lnTo>
                  <a:pt x="596" y="50"/>
                </a:lnTo>
                <a:lnTo>
                  <a:pt x="586" y="48"/>
                </a:lnTo>
                <a:lnTo>
                  <a:pt x="577" y="46"/>
                </a:lnTo>
                <a:lnTo>
                  <a:pt x="566" y="44"/>
                </a:lnTo>
                <a:lnTo>
                  <a:pt x="556" y="41"/>
                </a:lnTo>
                <a:lnTo>
                  <a:pt x="544" y="39"/>
                </a:lnTo>
                <a:lnTo>
                  <a:pt x="532" y="37"/>
                </a:lnTo>
                <a:lnTo>
                  <a:pt x="520" y="35"/>
                </a:lnTo>
                <a:lnTo>
                  <a:pt x="508" y="32"/>
                </a:lnTo>
                <a:lnTo>
                  <a:pt x="496" y="30"/>
                </a:lnTo>
                <a:lnTo>
                  <a:pt x="484" y="28"/>
                </a:lnTo>
                <a:lnTo>
                  <a:pt x="473" y="26"/>
                </a:lnTo>
                <a:lnTo>
                  <a:pt x="462" y="23"/>
                </a:lnTo>
                <a:lnTo>
                  <a:pt x="451" y="23"/>
                </a:lnTo>
                <a:lnTo>
                  <a:pt x="442" y="21"/>
                </a:lnTo>
                <a:lnTo>
                  <a:pt x="433" y="20"/>
                </a:lnTo>
                <a:lnTo>
                  <a:pt x="426" y="18"/>
                </a:lnTo>
                <a:lnTo>
                  <a:pt x="417" y="18"/>
                </a:lnTo>
                <a:lnTo>
                  <a:pt x="409" y="16"/>
                </a:lnTo>
                <a:lnTo>
                  <a:pt x="398" y="16"/>
                </a:lnTo>
                <a:lnTo>
                  <a:pt x="389" y="14"/>
                </a:lnTo>
                <a:lnTo>
                  <a:pt x="377" y="14"/>
                </a:lnTo>
                <a:lnTo>
                  <a:pt x="366" y="12"/>
                </a:lnTo>
                <a:lnTo>
                  <a:pt x="353" y="12"/>
                </a:lnTo>
                <a:lnTo>
                  <a:pt x="342" y="10"/>
                </a:lnTo>
                <a:lnTo>
                  <a:pt x="329" y="10"/>
                </a:lnTo>
                <a:lnTo>
                  <a:pt x="317" y="9"/>
                </a:lnTo>
                <a:lnTo>
                  <a:pt x="304" y="9"/>
                </a:lnTo>
                <a:lnTo>
                  <a:pt x="293" y="7"/>
                </a:lnTo>
                <a:lnTo>
                  <a:pt x="281" y="7"/>
                </a:lnTo>
                <a:lnTo>
                  <a:pt x="270" y="6"/>
                </a:lnTo>
                <a:lnTo>
                  <a:pt x="260" y="6"/>
                </a:lnTo>
                <a:lnTo>
                  <a:pt x="251" y="4"/>
                </a:lnTo>
                <a:lnTo>
                  <a:pt x="240" y="4"/>
                </a:lnTo>
                <a:lnTo>
                  <a:pt x="231" y="4"/>
                </a:lnTo>
                <a:lnTo>
                  <a:pt x="220" y="4"/>
                </a:lnTo>
                <a:lnTo>
                  <a:pt x="209" y="3"/>
                </a:lnTo>
                <a:lnTo>
                  <a:pt x="196" y="3"/>
                </a:lnTo>
                <a:lnTo>
                  <a:pt x="185" y="3"/>
                </a:lnTo>
                <a:lnTo>
                  <a:pt x="173" y="3"/>
                </a:lnTo>
                <a:lnTo>
                  <a:pt x="162" y="2"/>
                </a:lnTo>
                <a:lnTo>
                  <a:pt x="148" y="2"/>
                </a:lnTo>
                <a:lnTo>
                  <a:pt x="137" y="2"/>
                </a:lnTo>
                <a:lnTo>
                  <a:pt x="125" y="2"/>
                </a:lnTo>
                <a:lnTo>
                  <a:pt x="114" y="1"/>
                </a:lnTo>
                <a:lnTo>
                  <a:pt x="103" y="1"/>
                </a:lnTo>
                <a:lnTo>
                  <a:pt x="94" y="1"/>
                </a:lnTo>
                <a:lnTo>
                  <a:pt x="84" y="1"/>
                </a:lnTo>
                <a:lnTo>
                  <a:pt x="77" y="0"/>
                </a:lnTo>
                <a:lnTo>
                  <a:pt x="70" y="0"/>
                </a:lnTo>
                <a:lnTo>
                  <a:pt x="65" y="0"/>
                </a:lnTo>
                <a:lnTo>
                  <a:pt x="61" y="0"/>
                </a:lnTo>
                <a:lnTo>
                  <a:pt x="59" y="0"/>
                </a:lnTo>
                <a:lnTo>
                  <a:pt x="57" y="0"/>
                </a:lnTo>
                <a:lnTo>
                  <a:pt x="56" y="0"/>
                </a:lnTo>
                <a:lnTo>
                  <a:pt x="54" y="0"/>
                </a:lnTo>
                <a:lnTo>
                  <a:pt x="53" y="0"/>
                </a:lnTo>
                <a:lnTo>
                  <a:pt x="50" y="0"/>
                </a:lnTo>
                <a:lnTo>
                  <a:pt x="47" y="0"/>
                </a:lnTo>
                <a:lnTo>
                  <a:pt x="43" y="0"/>
                </a:lnTo>
                <a:lnTo>
                  <a:pt x="39" y="0"/>
                </a:lnTo>
                <a:lnTo>
                  <a:pt x="31" y="0"/>
                </a:lnTo>
                <a:lnTo>
                  <a:pt x="23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23960" y="4114800"/>
            <a:ext cx="2230560" cy="2567160"/>
          </a:xfrm>
          <a:custGeom>
            <a:avLst/>
            <a:gdLst/>
            <a:ahLst/>
            <a:rect l="l" t="t" r="r" b="b"/>
            <a:pathLst>
              <a:path w="1405" h="1617">
                <a:moveTo>
                  <a:pt x="1404" y="1616"/>
                </a:moveTo>
                <a:lnTo>
                  <a:pt x="1402" y="1604"/>
                </a:lnTo>
                <a:lnTo>
                  <a:pt x="1401" y="1593"/>
                </a:lnTo>
                <a:lnTo>
                  <a:pt x="1399" y="1584"/>
                </a:lnTo>
                <a:lnTo>
                  <a:pt x="1399" y="1578"/>
                </a:lnTo>
                <a:lnTo>
                  <a:pt x="1398" y="1573"/>
                </a:lnTo>
                <a:lnTo>
                  <a:pt x="1398" y="1569"/>
                </a:lnTo>
                <a:lnTo>
                  <a:pt x="1398" y="1566"/>
                </a:lnTo>
                <a:lnTo>
                  <a:pt x="1398" y="1563"/>
                </a:lnTo>
                <a:lnTo>
                  <a:pt x="1397" y="1562"/>
                </a:lnTo>
                <a:lnTo>
                  <a:pt x="1397" y="1561"/>
                </a:lnTo>
                <a:lnTo>
                  <a:pt x="1397" y="1559"/>
                </a:lnTo>
                <a:lnTo>
                  <a:pt x="1397" y="1556"/>
                </a:lnTo>
                <a:lnTo>
                  <a:pt x="1396" y="1554"/>
                </a:lnTo>
                <a:lnTo>
                  <a:pt x="1396" y="1550"/>
                </a:lnTo>
                <a:lnTo>
                  <a:pt x="1396" y="1545"/>
                </a:lnTo>
                <a:lnTo>
                  <a:pt x="1396" y="1538"/>
                </a:lnTo>
                <a:lnTo>
                  <a:pt x="1394" y="1531"/>
                </a:lnTo>
                <a:lnTo>
                  <a:pt x="1393" y="1520"/>
                </a:lnTo>
                <a:lnTo>
                  <a:pt x="1391" y="1508"/>
                </a:lnTo>
                <a:lnTo>
                  <a:pt x="1390" y="1493"/>
                </a:lnTo>
                <a:lnTo>
                  <a:pt x="1386" y="1477"/>
                </a:lnTo>
                <a:lnTo>
                  <a:pt x="1383" y="1460"/>
                </a:lnTo>
                <a:lnTo>
                  <a:pt x="1380" y="1442"/>
                </a:lnTo>
                <a:lnTo>
                  <a:pt x="1377" y="1422"/>
                </a:lnTo>
                <a:lnTo>
                  <a:pt x="1372" y="1402"/>
                </a:lnTo>
                <a:lnTo>
                  <a:pt x="1368" y="1382"/>
                </a:lnTo>
                <a:lnTo>
                  <a:pt x="1364" y="1361"/>
                </a:lnTo>
                <a:lnTo>
                  <a:pt x="1361" y="1340"/>
                </a:lnTo>
                <a:lnTo>
                  <a:pt x="1355" y="1319"/>
                </a:lnTo>
                <a:lnTo>
                  <a:pt x="1351" y="1298"/>
                </a:lnTo>
                <a:lnTo>
                  <a:pt x="1348" y="1278"/>
                </a:lnTo>
                <a:lnTo>
                  <a:pt x="1344" y="1258"/>
                </a:lnTo>
                <a:lnTo>
                  <a:pt x="1338" y="1239"/>
                </a:lnTo>
                <a:lnTo>
                  <a:pt x="1334" y="1219"/>
                </a:lnTo>
                <a:lnTo>
                  <a:pt x="1328" y="1198"/>
                </a:lnTo>
                <a:lnTo>
                  <a:pt x="1324" y="1176"/>
                </a:lnTo>
                <a:lnTo>
                  <a:pt x="1318" y="1154"/>
                </a:lnTo>
                <a:lnTo>
                  <a:pt x="1312" y="1132"/>
                </a:lnTo>
                <a:lnTo>
                  <a:pt x="1306" y="1110"/>
                </a:lnTo>
                <a:lnTo>
                  <a:pt x="1301" y="1088"/>
                </a:lnTo>
                <a:lnTo>
                  <a:pt x="1294" y="1068"/>
                </a:lnTo>
                <a:lnTo>
                  <a:pt x="1288" y="1047"/>
                </a:lnTo>
                <a:lnTo>
                  <a:pt x="1283" y="1028"/>
                </a:lnTo>
                <a:lnTo>
                  <a:pt x="1278" y="1010"/>
                </a:lnTo>
                <a:lnTo>
                  <a:pt x="1272" y="995"/>
                </a:lnTo>
                <a:lnTo>
                  <a:pt x="1268" y="979"/>
                </a:lnTo>
                <a:lnTo>
                  <a:pt x="1263" y="966"/>
                </a:lnTo>
                <a:lnTo>
                  <a:pt x="1260" y="955"/>
                </a:lnTo>
                <a:lnTo>
                  <a:pt x="1254" y="945"/>
                </a:lnTo>
                <a:lnTo>
                  <a:pt x="1250" y="934"/>
                </a:lnTo>
                <a:lnTo>
                  <a:pt x="1244" y="921"/>
                </a:lnTo>
                <a:lnTo>
                  <a:pt x="1239" y="907"/>
                </a:lnTo>
                <a:lnTo>
                  <a:pt x="1232" y="893"/>
                </a:lnTo>
                <a:lnTo>
                  <a:pt x="1226" y="877"/>
                </a:lnTo>
                <a:lnTo>
                  <a:pt x="1220" y="861"/>
                </a:lnTo>
                <a:lnTo>
                  <a:pt x="1214" y="844"/>
                </a:lnTo>
                <a:lnTo>
                  <a:pt x="1206" y="829"/>
                </a:lnTo>
                <a:lnTo>
                  <a:pt x="1199" y="812"/>
                </a:lnTo>
                <a:lnTo>
                  <a:pt x="1192" y="796"/>
                </a:lnTo>
                <a:lnTo>
                  <a:pt x="1186" y="779"/>
                </a:lnTo>
                <a:lnTo>
                  <a:pt x="1178" y="764"/>
                </a:lnTo>
                <a:lnTo>
                  <a:pt x="1173" y="748"/>
                </a:lnTo>
                <a:lnTo>
                  <a:pt x="1167" y="734"/>
                </a:lnTo>
                <a:lnTo>
                  <a:pt x="1162" y="720"/>
                </a:lnTo>
                <a:lnTo>
                  <a:pt x="1156" y="708"/>
                </a:lnTo>
                <a:lnTo>
                  <a:pt x="1150" y="694"/>
                </a:lnTo>
                <a:lnTo>
                  <a:pt x="1144" y="679"/>
                </a:lnTo>
                <a:lnTo>
                  <a:pt x="1138" y="664"/>
                </a:lnTo>
                <a:lnTo>
                  <a:pt x="1131" y="649"/>
                </a:lnTo>
                <a:lnTo>
                  <a:pt x="1126" y="633"/>
                </a:lnTo>
                <a:lnTo>
                  <a:pt x="1118" y="618"/>
                </a:lnTo>
                <a:lnTo>
                  <a:pt x="1112" y="602"/>
                </a:lnTo>
                <a:lnTo>
                  <a:pt x="1105" y="587"/>
                </a:lnTo>
                <a:lnTo>
                  <a:pt x="1099" y="572"/>
                </a:lnTo>
                <a:lnTo>
                  <a:pt x="1092" y="558"/>
                </a:lnTo>
                <a:lnTo>
                  <a:pt x="1086" y="544"/>
                </a:lnTo>
                <a:lnTo>
                  <a:pt x="1080" y="532"/>
                </a:lnTo>
                <a:lnTo>
                  <a:pt x="1075" y="520"/>
                </a:lnTo>
                <a:lnTo>
                  <a:pt x="1070" y="510"/>
                </a:lnTo>
                <a:lnTo>
                  <a:pt x="1067" y="500"/>
                </a:lnTo>
                <a:lnTo>
                  <a:pt x="1061" y="493"/>
                </a:lnTo>
                <a:lnTo>
                  <a:pt x="1057" y="484"/>
                </a:lnTo>
                <a:lnTo>
                  <a:pt x="1050" y="474"/>
                </a:lnTo>
                <a:lnTo>
                  <a:pt x="1045" y="462"/>
                </a:lnTo>
                <a:lnTo>
                  <a:pt x="1038" y="452"/>
                </a:lnTo>
                <a:lnTo>
                  <a:pt x="1031" y="440"/>
                </a:lnTo>
                <a:lnTo>
                  <a:pt x="1024" y="429"/>
                </a:lnTo>
                <a:lnTo>
                  <a:pt x="1018" y="416"/>
                </a:lnTo>
                <a:lnTo>
                  <a:pt x="1009" y="404"/>
                </a:lnTo>
                <a:lnTo>
                  <a:pt x="1001" y="392"/>
                </a:lnTo>
                <a:lnTo>
                  <a:pt x="994" y="381"/>
                </a:lnTo>
                <a:lnTo>
                  <a:pt x="986" y="370"/>
                </a:lnTo>
                <a:lnTo>
                  <a:pt x="979" y="360"/>
                </a:lnTo>
                <a:lnTo>
                  <a:pt x="971" y="348"/>
                </a:lnTo>
                <a:lnTo>
                  <a:pt x="964" y="339"/>
                </a:lnTo>
                <a:lnTo>
                  <a:pt x="958" y="330"/>
                </a:lnTo>
                <a:lnTo>
                  <a:pt x="951" y="322"/>
                </a:lnTo>
                <a:lnTo>
                  <a:pt x="943" y="313"/>
                </a:lnTo>
                <a:lnTo>
                  <a:pt x="934" y="304"/>
                </a:lnTo>
                <a:lnTo>
                  <a:pt x="927" y="294"/>
                </a:lnTo>
                <a:lnTo>
                  <a:pt x="918" y="285"/>
                </a:lnTo>
                <a:lnTo>
                  <a:pt x="908" y="276"/>
                </a:lnTo>
                <a:lnTo>
                  <a:pt x="899" y="266"/>
                </a:lnTo>
                <a:lnTo>
                  <a:pt x="890" y="255"/>
                </a:lnTo>
                <a:lnTo>
                  <a:pt x="880" y="246"/>
                </a:lnTo>
                <a:lnTo>
                  <a:pt x="871" y="236"/>
                </a:lnTo>
                <a:lnTo>
                  <a:pt x="862" y="228"/>
                </a:lnTo>
                <a:lnTo>
                  <a:pt x="853" y="219"/>
                </a:lnTo>
                <a:lnTo>
                  <a:pt x="844" y="212"/>
                </a:lnTo>
                <a:lnTo>
                  <a:pt x="836" y="204"/>
                </a:lnTo>
                <a:lnTo>
                  <a:pt x="828" y="198"/>
                </a:lnTo>
                <a:lnTo>
                  <a:pt x="823" y="192"/>
                </a:lnTo>
                <a:lnTo>
                  <a:pt x="815" y="188"/>
                </a:lnTo>
                <a:lnTo>
                  <a:pt x="808" y="182"/>
                </a:lnTo>
                <a:lnTo>
                  <a:pt x="801" y="177"/>
                </a:lnTo>
                <a:lnTo>
                  <a:pt x="795" y="172"/>
                </a:lnTo>
                <a:lnTo>
                  <a:pt x="788" y="167"/>
                </a:lnTo>
                <a:lnTo>
                  <a:pt x="782" y="162"/>
                </a:lnTo>
                <a:lnTo>
                  <a:pt x="774" y="157"/>
                </a:lnTo>
                <a:lnTo>
                  <a:pt x="768" y="151"/>
                </a:lnTo>
                <a:lnTo>
                  <a:pt x="761" y="147"/>
                </a:lnTo>
                <a:lnTo>
                  <a:pt x="756" y="143"/>
                </a:lnTo>
                <a:lnTo>
                  <a:pt x="750" y="139"/>
                </a:lnTo>
                <a:lnTo>
                  <a:pt x="745" y="134"/>
                </a:lnTo>
                <a:lnTo>
                  <a:pt x="739" y="132"/>
                </a:lnTo>
                <a:lnTo>
                  <a:pt x="736" y="128"/>
                </a:lnTo>
                <a:lnTo>
                  <a:pt x="732" y="126"/>
                </a:lnTo>
                <a:lnTo>
                  <a:pt x="730" y="123"/>
                </a:lnTo>
                <a:lnTo>
                  <a:pt x="726" y="122"/>
                </a:lnTo>
                <a:lnTo>
                  <a:pt x="724" y="120"/>
                </a:lnTo>
                <a:lnTo>
                  <a:pt x="720" y="118"/>
                </a:lnTo>
                <a:lnTo>
                  <a:pt x="717" y="116"/>
                </a:lnTo>
                <a:lnTo>
                  <a:pt x="711" y="114"/>
                </a:lnTo>
                <a:lnTo>
                  <a:pt x="707" y="112"/>
                </a:lnTo>
                <a:lnTo>
                  <a:pt x="701" y="110"/>
                </a:lnTo>
                <a:lnTo>
                  <a:pt x="697" y="106"/>
                </a:lnTo>
                <a:lnTo>
                  <a:pt x="692" y="104"/>
                </a:lnTo>
                <a:lnTo>
                  <a:pt x="686" y="102"/>
                </a:lnTo>
                <a:lnTo>
                  <a:pt x="680" y="100"/>
                </a:lnTo>
                <a:lnTo>
                  <a:pt x="675" y="96"/>
                </a:lnTo>
                <a:lnTo>
                  <a:pt x="669" y="94"/>
                </a:lnTo>
                <a:lnTo>
                  <a:pt x="664" y="92"/>
                </a:lnTo>
                <a:lnTo>
                  <a:pt x="658" y="90"/>
                </a:lnTo>
                <a:lnTo>
                  <a:pt x="653" y="86"/>
                </a:lnTo>
                <a:lnTo>
                  <a:pt x="647" y="85"/>
                </a:lnTo>
                <a:lnTo>
                  <a:pt x="641" y="83"/>
                </a:lnTo>
                <a:lnTo>
                  <a:pt x="634" y="81"/>
                </a:lnTo>
                <a:lnTo>
                  <a:pt x="627" y="78"/>
                </a:lnTo>
                <a:lnTo>
                  <a:pt x="618" y="76"/>
                </a:lnTo>
                <a:lnTo>
                  <a:pt x="610" y="72"/>
                </a:lnTo>
                <a:lnTo>
                  <a:pt x="601" y="70"/>
                </a:lnTo>
                <a:lnTo>
                  <a:pt x="592" y="67"/>
                </a:lnTo>
                <a:lnTo>
                  <a:pt x="582" y="65"/>
                </a:lnTo>
                <a:lnTo>
                  <a:pt x="573" y="62"/>
                </a:lnTo>
                <a:lnTo>
                  <a:pt x="564" y="60"/>
                </a:lnTo>
                <a:lnTo>
                  <a:pt x="554" y="56"/>
                </a:lnTo>
                <a:lnTo>
                  <a:pt x="545" y="54"/>
                </a:lnTo>
                <a:lnTo>
                  <a:pt x="536" y="51"/>
                </a:lnTo>
                <a:lnTo>
                  <a:pt x="528" y="49"/>
                </a:lnTo>
                <a:lnTo>
                  <a:pt x="521" y="46"/>
                </a:lnTo>
                <a:lnTo>
                  <a:pt x="512" y="44"/>
                </a:lnTo>
                <a:lnTo>
                  <a:pt x="504" y="42"/>
                </a:lnTo>
                <a:lnTo>
                  <a:pt x="494" y="40"/>
                </a:lnTo>
                <a:lnTo>
                  <a:pt x="485" y="39"/>
                </a:lnTo>
                <a:lnTo>
                  <a:pt x="474" y="37"/>
                </a:lnTo>
                <a:lnTo>
                  <a:pt x="465" y="35"/>
                </a:lnTo>
                <a:lnTo>
                  <a:pt x="454" y="33"/>
                </a:lnTo>
                <a:lnTo>
                  <a:pt x="444" y="30"/>
                </a:lnTo>
                <a:lnTo>
                  <a:pt x="433" y="29"/>
                </a:lnTo>
                <a:lnTo>
                  <a:pt x="424" y="27"/>
                </a:lnTo>
                <a:lnTo>
                  <a:pt x="414" y="25"/>
                </a:lnTo>
                <a:lnTo>
                  <a:pt x="404" y="23"/>
                </a:lnTo>
                <a:lnTo>
                  <a:pt x="395" y="22"/>
                </a:lnTo>
                <a:lnTo>
                  <a:pt x="386" y="20"/>
                </a:lnTo>
                <a:lnTo>
                  <a:pt x="378" y="19"/>
                </a:lnTo>
                <a:lnTo>
                  <a:pt x="372" y="18"/>
                </a:lnTo>
                <a:lnTo>
                  <a:pt x="364" y="18"/>
                </a:lnTo>
                <a:lnTo>
                  <a:pt x="357" y="17"/>
                </a:lnTo>
                <a:lnTo>
                  <a:pt x="347" y="17"/>
                </a:lnTo>
                <a:lnTo>
                  <a:pt x="339" y="15"/>
                </a:lnTo>
                <a:lnTo>
                  <a:pt x="329" y="15"/>
                </a:lnTo>
                <a:lnTo>
                  <a:pt x="319" y="13"/>
                </a:lnTo>
                <a:lnTo>
                  <a:pt x="308" y="13"/>
                </a:lnTo>
                <a:lnTo>
                  <a:pt x="299" y="11"/>
                </a:lnTo>
                <a:lnTo>
                  <a:pt x="288" y="11"/>
                </a:lnTo>
                <a:lnTo>
                  <a:pt x="276" y="10"/>
                </a:lnTo>
                <a:lnTo>
                  <a:pt x="265" y="10"/>
                </a:lnTo>
                <a:lnTo>
                  <a:pt x="256" y="8"/>
                </a:lnTo>
                <a:lnTo>
                  <a:pt x="245" y="8"/>
                </a:lnTo>
                <a:lnTo>
                  <a:pt x="236" y="7"/>
                </a:lnTo>
                <a:lnTo>
                  <a:pt x="226" y="7"/>
                </a:lnTo>
                <a:lnTo>
                  <a:pt x="219" y="5"/>
                </a:lnTo>
                <a:lnTo>
                  <a:pt x="210" y="5"/>
                </a:lnTo>
                <a:lnTo>
                  <a:pt x="201" y="5"/>
                </a:lnTo>
                <a:lnTo>
                  <a:pt x="191" y="5"/>
                </a:lnTo>
                <a:lnTo>
                  <a:pt x="181" y="4"/>
                </a:lnTo>
                <a:lnTo>
                  <a:pt x="170" y="4"/>
                </a:lnTo>
                <a:lnTo>
                  <a:pt x="160" y="4"/>
                </a:lnTo>
                <a:lnTo>
                  <a:pt x="149" y="4"/>
                </a:lnTo>
                <a:lnTo>
                  <a:pt x="140" y="2"/>
                </a:lnTo>
                <a:lnTo>
                  <a:pt x="128" y="2"/>
                </a:lnTo>
                <a:lnTo>
                  <a:pt x="118" y="2"/>
                </a:lnTo>
                <a:lnTo>
                  <a:pt x="108" y="2"/>
                </a:lnTo>
                <a:lnTo>
                  <a:pt x="98" y="1"/>
                </a:lnTo>
                <a:lnTo>
                  <a:pt x="89" y="1"/>
                </a:lnTo>
                <a:lnTo>
                  <a:pt x="80" y="1"/>
                </a:lnTo>
                <a:lnTo>
                  <a:pt x="73" y="1"/>
                </a:lnTo>
                <a:lnTo>
                  <a:pt x="66" y="0"/>
                </a:lnTo>
                <a:lnTo>
                  <a:pt x="60" y="0"/>
                </a:lnTo>
                <a:lnTo>
                  <a:pt x="56" y="0"/>
                </a:lnTo>
                <a:lnTo>
                  <a:pt x="53" y="0"/>
                </a:lnTo>
                <a:lnTo>
                  <a:pt x="51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5" y="0"/>
                </a:lnTo>
                <a:lnTo>
                  <a:pt x="42" y="0"/>
                </a:lnTo>
                <a:lnTo>
                  <a:pt x="40" y="0"/>
                </a:lnTo>
                <a:lnTo>
                  <a:pt x="36" y="0"/>
                </a:lnTo>
                <a:lnTo>
                  <a:pt x="33" y="0"/>
                </a:lnTo>
                <a:lnTo>
                  <a:pt x="26" y="0"/>
                </a:lnTo>
                <a:lnTo>
                  <a:pt x="19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49840" y="2395440"/>
            <a:ext cx="2552400" cy="2928960"/>
          </a:xfrm>
          <a:custGeom>
            <a:avLst/>
            <a:gdLst/>
            <a:ahLst/>
            <a:rect l="l" t="t" r="r" b="b"/>
            <a:pathLst>
              <a:path w="1608" h="1845">
                <a:moveTo>
                  <a:pt x="0" y="0"/>
                </a:moveTo>
                <a:lnTo>
                  <a:pt x="0" y="16"/>
                </a:lnTo>
                <a:lnTo>
                  <a:pt x="1" y="28"/>
                </a:lnTo>
                <a:lnTo>
                  <a:pt x="1" y="39"/>
                </a:lnTo>
                <a:lnTo>
                  <a:pt x="3" y="45"/>
                </a:lnTo>
                <a:lnTo>
                  <a:pt x="3" y="51"/>
                </a:lnTo>
                <a:lnTo>
                  <a:pt x="3" y="56"/>
                </a:lnTo>
                <a:lnTo>
                  <a:pt x="3" y="59"/>
                </a:lnTo>
                <a:lnTo>
                  <a:pt x="5" y="61"/>
                </a:lnTo>
                <a:lnTo>
                  <a:pt x="5" y="63"/>
                </a:lnTo>
                <a:lnTo>
                  <a:pt x="5" y="65"/>
                </a:lnTo>
                <a:lnTo>
                  <a:pt x="5" y="67"/>
                </a:lnTo>
                <a:lnTo>
                  <a:pt x="6" y="69"/>
                </a:lnTo>
                <a:lnTo>
                  <a:pt x="6" y="73"/>
                </a:lnTo>
                <a:lnTo>
                  <a:pt x="7" y="77"/>
                </a:lnTo>
                <a:lnTo>
                  <a:pt x="7" y="82"/>
                </a:lnTo>
                <a:lnTo>
                  <a:pt x="9" y="88"/>
                </a:lnTo>
                <a:lnTo>
                  <a:pt x="9" y="98"/>
                </a:lnTo>
                <a:lnTo>
                  <a:pt x="10" y="111"/>
                </a:lnTo>
                <a:lnTo>
                  <a:pt x="12" y="125"/>
                </a:lnTo>
                <a:lnTo>
                  <a:pt x="15" y="141"/>
                </a:lnTo>
                <a:lnTo>
                  <a:pt x="18" y="160"/>
                </a:lnTo>
                <a:lnTo>
                  <a:pt x="21" y="179"/>
                </a:lnTo>
                <a:lnTo>
                  <a:pt x="25" y="201"/>
                </a:lnTo>
                <a:lnTo>
                  <a:pt x="30" y="222"/>
                </a:lnTo>
                <a:lnTo>
                  <a:pt x="33" y="245"/>
                </a:lnTo>
                <a:lnTo>
                  <a:pt x="38" y="269"/>
                </a:lnTo>
                <a:lnTo>
                  <a:pt x="42" y="293"/>
                </a:lnTo>
                <a:lnTo>
                  <a:pt x="48" y="316"/>
                </a:lnTo>
                <a:lnTo>
                  <a:pt x="51" y="341"/>
                </a:lnTo>
                <a:lnTo>
                  <a:pt x="57" y="364"/>
                </a:lnTo>
                <a:lnTo>
                  <a:pt x="61" y="387"/>
                </a:lnTo>
                <a:lnTo>
                  <a:pt x="67" y="409"/>
                </a:lnTo>
                <a:lnTo>
                  <a:pt x="71" y="431"/>
                </a:lnTo>
                <a:lnTo>
                  <a:pt x="77" y="455"/>
                </a:lnTo>
                <a:lnTo>
                  <a:pt x="83" y="479"/>
                </a:lnTo>
                <a:lnTo>
                  <a:pt x="89" y="503"/>
                </a:lnTo>
                <a:lnTo>
                  <a:pt x="95" y="529"/>
                </a:lnTo>
                <a:lnTo>
                  <a:pt x="102" y="555"/>
                </a:lnTo>
                <a:lnTo>
                  <a:pt x="109" y="579"/>
                </a:lnTo>
                <a:lnTo>
                  <a:pt x="116" y="604"/>
                </a:lnTo>
                <a:lnTo>
                  <a:pt x="122" y="628"/>
                </a:lnTo>
                <a:lnTo>
                  <a:pt x="129" y="651"/>
                </a:lnTo>
                <a:lnTo>
                  <a:pt x="135" y="674"/>
                </a:lnTo>
                <a:lnTo>
                  <a:pt x="142" y="694"/>
                </a:lnTo>
                <a:lnTo>
                  <a:pt x="147" y="713"/>
                </a:lnTo>
                <a:lnTo>
                  <a:pt x="154" y="730"/>
                </a:lnTo>
                <a:lnTo>
                  <a:pt x="159" y="745"/>
                </a:lnTo>
                <a:lnTo>
                  <a:pt x="165" y="757"/>
                </a:lnTo>
                <a:lnTo>
                  <a:pt x="168" y="769"/>
                </a:lnTo>
                <a:lnTo>
                  <a:pt x="174" y="782"/>
                </a:lnTo>
                <a:lnTo>
                  <a:pt x="179" y="797"/>
                </a:lnTo>
                <a:lnTo>
                  <a:pt x="186" y="813"/>
                </a:lnTo>
                <a:lnTo>
                  <a:pt x="193" y="831"/>
                </a:lnTo>
                <a:lnTo>
                  <a:pt x="200" y="848"/>
                </a:lnTo>
                <a:lnTo>
                  <a:pt x="207" y="867"/>
                </a:lnTo>
                <a:lnTo>
                  <a:pt x="215" y="884"/>
                </a:lnTo>
                <a:lnTo>
                  <a:pt x="223" y="903"/>
                </a:lnTo>
                <a:lnTo>
                  <a:pt x="231" y="922"/>
                </a:lnTo>
                <a:lnTo>
                  <a:pt x="238" y="941"/>
                </a:lnTo>
                <a:lnTo>
                  <a:pt x="247" y="959"/>
                </a:lnTo>
                <a:lnTo>
                  <a:pt x="254" y="977"/>
                </a:lnTo>
                <a:lnTo>
                  <a:pt x="262" y="994"/>
                </a:lnTo>
                <a:lnTo>
                  <a:pt x="268" y="1011"/>
                </a:lnTo>
                <a:lnTo>
                  <a:pt x="275" y="1025"/>
                </a:lnTo>
                <a:lnTo>
                  <a:pt x="281" y="1041"/>
                </a:lnTo>
                <a:lnTo>
                  <a:pt x="288" y="1056"/>
                </a:lnTo>
                <a:lnTo>
                  <a:pt x="295" y="1073"/>
                </a:lnTo>
                <a:lnTo>
                  <a:pt x="302" y="1089"/>
                </a:lnTo>
                <a:lnTo>
                  <a:pt x="310" y="1108"/>
                </a:lnTo>
                <a:lnTo>
                  <a:pt x="317" y="1125"/>
                </a:lnTo>
                <a:lnTo>
                  <a:pt x="325" y="1143"/>
                </a:lnTo>
                <a:lnTo>
                  <a:pt x="333" y="1160"/>
                </a:lnTo>
                <a:lnTo>
                  <a:pt x="340" y="1178"/>
                </a:lnTo>
                <a:lnTo>
                  <a:pt x="348" y="1195"/>
                </a:lnTo>
                <a:lnTo>
                  <a:pt x="355" y="1211"/>
                </a:lnTo>
                <a:lnTo>
                  <a:pt x="362" y="1226"/>
                </a:lnTo>
                <a:lnTo>
                  <a:pt x="368" y="1241"/>
                </a:lnTo>
                <a:lnTo>
                  <a:pt x="374" y="1253"/>
                </a:lnTo>
                <a:lnTo>
                  <a:pt x="379" y="1265"/>
                </a:lnTo>
                <a:lnTo>
                  <a:pt x="385" y="1275"/>
                </a:lnTo>
                <a:lnTo>
                  <a:pt x="389" y="1285"/>
                </a:lnTo>
                <a:lnTo>
                  <a:pt x="394" y="1296"/>
                </a:lnTo>
                <a:lnTo>
                  <a:pt x="400" y="1308"/>
                </a:lnTo>
                <a:lnTo>
                  <a:pt x="408" y="1319"/>
                </a:lnTo>
                <a:lnTo>
                  <a:pt x="415" y="1333"/>
                </a:lnTo>
                <a:lnTo>
                  <a:pt x="423" y="1346"/>
                </a:lnTo>
                <a:lnTo>
                  <a:pt x="431" y="1359"/>
                </a:lnTo>
                <a:lnTo>
                  <a:pt x="440" y="1373"/>
                </a:lnTo>
                <a:lnTo>
                  <a:pt x="448" y="1387"/>
                </a:lnTo>
                <a:lnTo>
                  <a:pt x="457" y="1400"/>
                </a:lnTo>
                <a:lnTo>
                  <a:pt x="466" y="1413"/>
                </a:lnTo>
                <a:lnTo>
                  <a:pt x="475" y="1425"/>
                </a:lnTo>
                <a:lnTo>
                  <a:pt x="483" y="1439"/>
                </a:lnTo>
                <a:lnTo>
                  <a:pt x="492" y="1450"/>
                </a:lnTo>
                <a:lnTo>
                  <a:pt x="500" y="1461"/>
                </a:lnTo>
                <a:lnTo>
                  <a:pt x="509" y="1470"/>
                </a:lnTo>
                <a:lnTo>
                  <a:pt x="516" y="1481"/>
                </a:lnTo>
                <a:lnTo>
                  <a:pt x="524" y="1490"/>
                </a:lnTo>
                <a:lnTo>
                  <a:pt x="533" y="1501"/>
                </a:lnTo>
                <a:lnTo>
                  <a:pt x="543" y="1511"/>
                </a:lnTo>
                <a:lnTo>
                  <a:pt x="553" y="1522"/>
                </a:lnTo>
                <a:lnTo>
                  <a:pt x="564" y="1533"/>
                </a:lnTo>
                <a:lnTo>
                  <a:pt x="576" y="1545"/>
                </a:lnTo>
                <a:lnTo>
                  <a:pt x="587" y="1555"/>
                </a:lnTo>
                <a:lnTo>
                  <a:pt x="596" y="1567"/>
                </a:lnTo>
                <a:lnTo>
                  <a:pt x="607" y="1578"/>
                </a:lnTo>
                <a:lnTo>
                  <a:pt x="618" y="1588"/>
                </a:lnTo>
                <a:lnTo>
                  <a:pt x="629" y="1597"/>
                </a:lnTo>
                <a:lnTo>
                  <a:pt x="639" y="1607"/>
                </a:lnTo>
                <a:lnTo>
                  <a:pt x="649" y="1615"/>
                </a:lnTo>
                <a:lnTo>
                  <a:pt x="657" y="1622"/>
                </a:lnTo>
                <a:lnTo>
                  <a:pt x="665" y="1628"/>
                </a:lnTo>
                <a:lnTo>
                  <a:pt x="672" y="1635"/>
                </a:lnTo>
                <a:lnTo>
                  <a:pt x="680" y="1640"/>
                </a:lnTo>
                <a:lnTo>
                  <a:pt x="687" y="1646"/>
                </a:lnTo>
                <a:lnTo>
                  <a:pt x="695" y="1651"/>
                </a:lnTo>
                <a:lnTo>
                  <a:pt x="703" y="1658"/>
                </a:lnTo>
                <a:lnTo>
                  <a:pt x="711" y="1663"/>
                </a:lnTo>
                <a:lnTo>
                  <a:pt x="719" y="1669"/>
                </a:lnTo>
                <a:lnTo>
                  <a:pt x="727" y="1675"/>
                </a:lnTo>
                <a:lnTo>
                  <a:pt x="733" y="1680"/>
                </a:lnTo>
                <a:lnTo>
                  <a:pt x="741" y="1686"/>
                </a:lnTo>
                <a:lnTo>
                  <a:pt x="747" y="1691"/>
                </a:lnTo>
                <a:lnTo>
                  <a:pt x="753" y="1695"/>
                </a:lnTo>
                <a:lnTo>
                  <a:pt x="758" y="1698"/>
                </a:lnTo>
                <a:lnTo>
                  <a:pt x="763" y="1701"/>
                </a:lnTo>
                <a:lnTo>
                  <a:pt x="767" y="1704"/>
                </a:lnTo>
                <a:lnTo>
                  <a:pt x="771" y="1706"/>
                </a:lnTo>
                <a:lnTo>
                  <a:pt x="773" y="1709"/>
                </a:lnTo>
                <a:lnTo>
                  <a:pt x="777" y="1711"/>
                </a:lnTo>
                <a:lnTo>
                  <a:pt x="780" y="1713"/>
                </a:lnTo>
                <a:lnTo>
                  <a:pt x="785" y="1715"/>
                </a:lnTo>
                <a:lnTo>
                  <a:pt x="790" y="1719"/>
                </a:lnTo>
                <a:lnTo>
                  <a:pt x="796" y="1721"/>
                </a:lnTo>
                <a:lnTo>
                  <a:pt x="801" y="1724"/>
                </a:lnTo>
                <a:lnTo>
                  <a:pt x="808" y="1726"/>
                </a:lnTo>
                <a:lnTo>
                  <a:pt x="814" y="1729"/>
                </a:lnTo>
                <a:lnTo>
                  <a:pt x="821" y="1732"/>
                </a:lnTo>
                <a:lnTo>
                  <a:pt x="827" y="1736"/>
                </a:lnTo>
                <a:lnTo>
                  <a:pt x="834" y="1737"/>
                </a:lnTo>
                <a:lnTo>
                  <a:pt x="839" y="1741"/>
                </a:lnTo>
                <a:lnTo>
                  <a:pt x="847" y="1743"/>
                </a:lnTo>
                <a:lnTo>
                  <a:pt x="852" y="1746"/>
                </a:lnTo>
                <a:lnTo>
                  <a:pt x="859" y="1747"/>
                </a:lnTo>
                <a:lnTo>
                  <a:pt x="865" y="1751"/>
                </a:lnTo>
                <a:lnTo>
                  <a:pt x="871" y="1753"/>
                </a:lnTo>
                <a:lnTo>
                  <a:pt x="879" y="1757"/>
                </a:lnTo>
                <a:lnTo>
                  <a:pt x="888" y="1759"/>
                </a:lnTo>
                <a:lnTo>
                  <a:pt x="897" y="1763"/>
                </a:lnTo>
                <a:lnTo>
                  <a:pt x="907" y="1766"/>
                </a:lnTo>
                <a:lnTo>
                  <a:pt x="917" y="1769"/>
                </a:lnTo>
                <a:lnTo>
                  <a:pt x="928" y="1771"/>
                </a:lnTo>
                <a:lnTo>
                  <a:pt x="937" y="1775"/>
                </a:lnTo>
                <a:lnTo>
                  <a:pt x="949" y="1779"/>
                </a:lnTo>
                <a:lnTo>
                  <a:pt x="959" y="1783"/>
                </a:lnTo>
                <a:lnTo>
                  <a:pt x="970" y="1784"/>
                </a:lnTo>
                <a:lnTo>
                  <a:pt x="979" y="1788"/>
                </a:lnTo>
                <a:lnTo>
                  <a:pt x="991" y="1790"/>
                </a:lnTo>
                <a:lnTo>
                  <a:pt x="1000" y="1793"/>
                </a:lnTo>
                <a:lnTo>
                  <a:pt x="1010" y="1794"/>
                </a:lnTo>
                <a:lnTo>
                  <a:pt x="1019" y="1798"/>
                </a:lnTo>
                <a:lnTo>
                  <a:pt x="1028" y="1800"/>
                </a:lnTo>
                <a:lnTo>
                  <a:pt x="1038" y="1803"/>
                </a:lnTo>
                <a:lnTo>
                  <a:pt x="1049" y="1804"/>
                </a:lnTo>
                <a:lnTo>
                  <a:pt x="1061" y="1808"/>
                </a:lnTo>
                <a:lnTo>
                  <a:pt x="1072" y="1810"/>
                </a:lnTo>
                <a:lnTo>
                  <a:pt x="1083" y="1812"/>
                </a:lnTo>
                <a:lnTo>
                  <a:pt x="1097" y="1814"/>
                </a:lnTo>
                <a:lnTo>
                  <a:pt x="1108" y="1816"/>
                </a:lnTo>
                <a:lnTo>
                  <a:pt x="1119" y="1818"/>
                </a:lnTo>
                <a:lnTo>
                  <a:pt x="1130" y="1820"/>
                </a:lnTo>
                <a:lnTo>
                  <a:pt x="1142" y="1822"/>
                </a:lnTo>
                <a:lnTo>
                  <a:pt x="1151" y="1824"/>
                </a:lnTo>
                <a:lnTo>
                  <a:pt x="1162" y="1825"/>
                </a:lnTo>
                <a:lnTo>
                  <a:pt x="1171" y="1826"/>
                </a:lnTo>
                <a:lnTo>
                  <a:pt x="1180" y="1826"/>
                </a:lnTo>
                <a:lnTo>
                  <a:pt x="1187" y="1828"/>
                </a:lnTo>
                <a:lnTo>
                  <a:pt x="1195" y="1829"/>
                </a:lnTo>
                <a:lnTo>
                  <a:pt x="1205" y="1831"/>
                </a:lnTo>
                <a:lnTo>
                  <a:pt x="1216" y="1831"/>
                </a:lnTo>
                <a:lnTo>
                  <a:pt x="1227" y="1833"/>
                </a:lnTo>
                <a:lnTo>
                  <a:pt x="1238" y="1833"/>
                </a:lnTo>
                <a:lnTo>
                  <a:pt x="1249" y="1834"/>
                </a:lnTo>
                <a:lnTo>
                  <a:pt x="1263" y="1834"/>
                </a:lnTo>
                <a:lnTo>
                  <a:pt x="1274" y="1836"/>
                </a:lnTo>
                <a:lnTo>
                  <a:pt x="1287" y="1836"/>
                </a:lnTo>
                <a:lnTo>
                  <a:pt x="1298" y="1838"/>
                </a:lnTo>
                <a:lnTo>
                  <a:pt x="1311" y="1838"/>
                </a:lnTo>
                <a:lnTo>
                  <a:pt x="1323" y="1840"/>
                </a:lnTo>
                <a:lnTo>
                  <a:pt x="1334" y="1840"/>
                </a:lnTo>
                <a:lnTo>
                  <a:pt x="1344" y="1840"/>
                </a:lnTo>
                <a:lnTo>
                  <a:pt x="1354" y="1840"/>
                </a:lnTo>
                <a:lnTo>
                  <a:pt x="1363" y="1842"/>
                </a:lnTo>
                <a:lnTo>
                  <a:pt x="1373" y="1842"/>
                </a:lnTo>
                <a:lnTo>
                  <a:pt x="1384" y="1842"/>
                </a:lnTo>
                <a:lnTo>
                  <a:pt x="1395" y="1842"/>
                </a:lnTo>
                <a:lnTo>
                  <a:pt x="1407" y="1844"/>
                </a:lnTo>
                <a:lnTo>
                  <a:pt x="1419" y="1844"/>
                </a:lnTo>
                <a:lnTo>
                  <a:pt x="1431" y="1844"/>
                </a:lnTo>
                <a:lnTo>
                  <a:pt x="1444" y="1844"/>
                </a:lnTo>
                <a:lnTo>
                  <a:pt x="1455" y="1844"/>
                </a:lnTo>
                <a:lnTo>
                  <a:pt x="1468" y="1844"/>
                </a:lnTo>
                <a:lnTo>
                  <a:pt x="1479" y="1844"/>
                </a:lnTo>
                <a:lnTo>
                  <a:pt x="1491" y="1844"/>
                </a:lnTo>
                <a:lnTo>
                  <a:pt x="1500" y="1844"/>
                </a:lnTo>
                <a:lnTo>
                  <a:pt x="1511" y="1844"/>
                </a:lnTo>
                <a:lnTo>
                  <a:pt x="1520" y="1844"/>
                </a:lnTo>
                <a:lnTo>
                  <a:pt x="1529" y="1844"/>
                </a:lnTo>
                <a:lnTo>
                  <a:pt x="1534" y="1844"/>
                </a:lnTo>
                <a:lnTo>
                  <a:pt x="1539" y="1844"/>
                </a:lnTo>
                <a:lnTo>
                  <a:pt x="1542" y="1844"/>
                </a:lnTo>
                <a:lnTo>
                  <a:pt x="1546" y="1844"/>
                </a:lnTo>
                <a:lnTo>
                  <a:pt x="1547" y="1844"/>
                </a:lnTo>
                <a:lnTo>
                  <a:pt x="1549" y="1844"/>
                </a:lnTo>
                <a:lnTo>
                  <a:pt x="1551" y="1844"/>
                </a:lnTo>
                <a:lnTo>
                  <a:pt x="1553" y="1844"/>
                </a:lnTo>
                <a:lnTo>
                  <a:pt x="1555" y="1844"/>
                </a:lnTo>
                <a:lnTo>
                  <a:pt x="1557" y="1844"/>
                </a:lnTo>
                <a:lnTo>
                  <a:pt x="1561" y="1844"/>
                </a:lnTo>
                <a:lnTo>
                  <a:pt x="1567" y="1844"/>
                </a:lnTo>
                <a:lnTo>
                  <a:pt x="1573" y="1844"/>
                </a:lnTo>
                <a:lnTo>
                  <a:pt x="1582" y="1844"/>
                </a:lnTo>
                <a:lnTo>
                  <a:pt x="1593" y="1844"/>
                </a:lnTo>
                <a:lnTo>
                  <a:pt x="1607" y="1844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2232000"/>
            <a:ext cx="2205000" cy="2502000"/>
          </a:xfrm>
          <a:custGeom>
            <a:avLst/>
            <a:gdLst/>
            <a:ahLst/>
            <a:rect l="l" t="t" r="r" b="b"/>
            <a:pathLst>
              <a:path w="1389" h="1576">
                <a:moveTo>
                  <a:pt x="0" y="0"/>
                </a:moveTo>
                <a:lnTo>
                  <a:pt x="0" y="14"/>
                </a:lnTo>
                <a:lnTo>
                  <a:pt x="1" y="24"/>
                </a:lnTo>
                <a:lnTo>
                  <a:pt x="1" y="33"/>
                </a:lnTo>
                <a:lnTo>
                  <a:pt x="3" y="39"/>
                </a:lnTo>
                <a:lnTo>
                  <a:pt x="3" y="45"/>
                </a:lnTo>
                <a:lnTo>
                  <a:pt x="3" y="48"/>
                </a:lnTo>
                <a:lnTo>
                  <a:pt x="3" y="50"/>
                </a:lnTo>
                <a:lnTo>
                  <a:pt x="4" y="52"/>
                </a:lnTo>
                <a:lnTo>
                  <a:pt x="4" y="54"/>
                </a:lnTo>
                <a:lnTo>
                  <a:pt x="4" y="56"/>
                </a:lnTo>
                <a:lnTo>
                  <a:pt x="4" y="58"/>
                </a:lnTo>
                <a:lnTo>
                  <a:pt x="5" y="59"/>
                </a:lnTo>
                <a:lnTo>
                  <a:pt x="5" y="62"/>
                </a:lnTo>
                <a:lnTo>
                  <a:pt x="6" y="65"/>
                </a:lnTo>
                <a:lnTo>
                  <a:pt x="6" y="70"/>
                </a:lnTo>
                <a:lnTo>
                  <a:pt x="8" y="75"/>
                </a:lnTo>
                <a:lnTo>
                  <a:pt x="8" y="84"/>
                </a:lnTo>
                <a:lnTo>
                  <a:pt x="9" y="94"/>
                </a:lnTo>
                <a:lnTo>
                  <a:pt x="11" y="106"/>
                </a:lnTo>
                <a:lnTo>
                  <a:pt x="13" y="120"/>
                </a:lnTo>
                <a:lnTo>
                  <a:pt x="15" y="136"/>
                </a:lnTo>
                <a:lnTo>
                  <a:pt x="18" y="152"/>
                </a:lnTo>
                <a:lnTo>
                  <a:pt x="22" y="170"/>
                </a:lnTo>
                <a:lnTo>
                  <a:pt x="26" y="188"/>
                </a:lnTo>
                <a:lnTo>
                  <a:pt x="29" y="208"/>
                </a:lnTo>
                <a:lnTo>
                  <a:pt x="33" y="228"/>
                </a:lnTo>
                <a:lnTo>
                  <a:pt x="37" y="249"/>
                </a:lnTo>
                <a:lnTo>
                  <a:pt x="42" y="269"/>
                </a:lnTo>
                <a:lnTo>
                  <a:pt x="46" y="289"/>
                </a:lnTo>
                <a:lnTo>
                  <a:pt x="49" y="310"/>
                </a:lnTo>
                <a:lnTo>
                  <a:pt x="53" y="329"/>
                </a:lnTo>
                <a:lnTo>
                  <a:pt x="59" y="348"/>
                </a:lnTo>
                <a:lnTo>
                  <a:pt x="62" y="368"/>
                </a:lnTo>
                <a:lnTo>
                  <a:pt x="67" y="388"/>
                </a:lnTo>
                <a:lnTo>
                  <a:pt x="72" y="409"/>
                </a:lnTo>
                <a:lnTo>
                  <a:pt x="78" y="430"/>
                </a:lnTo>
                <a:lnTo>
                  <a:pt x="83" y="452"/>
                </a:lnTo>
                <a:lnTo>
                  <a:pt x="89" y="473"/>
                </a:lnTo>
                <a:lnTo>
                  <a:pt x="94" y="494"/>
                </a:lnTo>
                <a:lnTo>
                  <a:pt x="101" y="514"/>
                </a:lnTo>
                <a:lnTo>
                  <a:pt x="107" y="536"/>
                </a:lnTo>
                <a:lnTo>
                  <a:pt x="112" y="556"/>
                </a:lnTo>
                <a:lnTo>
                  <a:pt x="118" y="574"/>
                </a:lnTo>
                <a:lnTo>
                  <a:pt x="124" y="591"/>
                </a:lnTo>
                <a:lnTo>
                  <a:pt x="128" y="608"/>
                </a:lnTo>
                <a:lnTo>
                  <a:pt x="134" y="622"/>
                </a:lnTo>
                <a:lnTo>
                  <a:pt x="138" y="635"/>
                </a:lnTo>
                <a:lnTo>
                  <a:pt x="143" y="645"/>
                </a:lnTo>
                <a:lnTo>
                  <a:pt x="147" y="656"/>
                </a:lnTo>
                <a:lnTo>
                  <a:pt x="151" y="667"/>
                </a:lnTo>
                <a:lnTo>
                  <a:pt x="156" y="680"/>
                </a:lnTo>
                <a:lnTo>
                  <a:pt x="162" y="693"/>
                </a:lnTo>
                <a:lnTo>
                  <a:pt x="167" y="708"/>
                </a:lnTo>
                <a:lnTo>
                  <a:pt x="174" y="723"/>
                </a:lnTo>
                <a:lnTo>
                  <a:pt x="179" y="739"/>
                </a:lnTo>
                <a:lnTo>
                  <a:pt x="187" y="754"/>
                </a:lnTo>
                <a:lnTo>
                  <a:pt x="192" y="771"/>
                </a:lnTo>
                <a:lnTo>
                  <a:pt x="200" y="787"/>
                </a:lnTo>
                <a:lnTo>
                  <a:pt x="206" y="804"/>
                </a:lnTo>
                <a:lnTo>
                  <a:pt x="214" y="818"/>
                </a:lnTo>
                <a:lnTo>
                  <a:pt x="219" y="834"/>
                </a:lnTo>
                <a:lnTo>
                  <a:pt x="225" y="848"/>
                </a:lnTo>
                <a:lnTo>
                  <a:pt x="231" y="862"/>
                </a:lnTo>
                <a:lnTo>
                  <a:pt x="238" y="875"/>
                </a:lnTo>
                <a:lnTo>
                  <a:pt x="243" y="889"/>
                </a:lnTo>
                <a:lnTo>
                  <a:pt x="248" y="902"/>
                </a:lnTo>
                <a:lnTo>
                  <a:pt x="254" y="917"/>
                </a:lnTo>
                <a:lnTo>
                  <a:pt x="261" y="931"/>
                </a:lnTo>
                <a:lnTo>
                  <a:pt x="266" y="946"/>
                </a:lnTo>
                <a:lnTo>
                  <a:pt x="274" y="961"/>
                </a:lnTo>
                <a:lnTo>
                  <a:pt x="280" y="976"/>
                </a:lnTo>
                <a:lnTo>
                  <a:pt x="288" y="991"/>
                </a:lnTo>
                <a:lnTo>
                  <a:pt x="293" y="1006"/>
                </a:lnTo>
                <a:lnTo>
                  <a:pt x="300" y="1021"/>
                </a:lnTo>
                <a:lnTo>
                  <a:pt x="306" y="1034"/>
                </a:lnTo>
                <a:lnTo>
                  <a:pt x="313" y="1047"/>
                </a:lnTo>
                <a:lnTo>
                  <a:pt x="318" y="1059"/>
                </a:lnTo>
                <a:lnTo>
                  <a:pt x="323" y="1070"/>
                </a:lnTo>
                <a:lnTo>
                  <a:pt x="328" y="1080"/>
                </a:lnTo>
                <a:lnTo>
                  <a:pt x="333" y="1088"/>
                </a:lnTo>
                <a:lnTo>
                  <a:pt x="336" y="1097"/>
                </a:lnTo>
                <a:lnTo>
                  <a:pt x="340" y="1106"/>
                </a:lnTo>
                <a:lnTo>
                  <a:pt x="346" y="1117"/>
                </a:lnTo>
                <a:lnTo>
                  <a:pt x="352" y="1126"/>
                </a:lnTo>
                <a:lnTo>
                  <a:pt x="358" y="1137"/>
                </a:lnTo>
                <a:lnTo>
                  <a:pt x="365" y="1148"/>
                </a:lnTo>
                <a:lnTo>
                  <a:pt x="372" y="1160"/>
                </a:lnTo>
                <a:lnTo>
                  <a:pt x="380" y="1171"/>
                </a:lnTo>
                <a:lnTo>
                  <a:pt x="388" y="1184"/>
                </a:lnTo>
                <a:lnTo>
                  <a:pt x="395" y="1195"/>
                </a:lnTo>
                <a:lnTo>
                  <a:pt x="402" y="1206"/>
                </a:lnTo>
                <a:lnTo>
                  <a:pt x="410" y="1216"/>
                </a:lnTo>
                <a:lnTo>
                  <a:pt x="418" y="1228"/>
                </a:lnTo>
                <a:lnTo>
                  <a:pt x="425" y="1237"/>
                </a:lnTo>
                <a:lnTo>
                  <a:pt x="432" y="1246"/>
                </a:lnTo>
                <a:lnTo>
                  <a:pt x="439" y="1254"/>
                </a:lnTo>
                <a:lnTo>
                  <a:pt x="445" y="1263"/>
                </a:lnTo>
                <a:lnTo>
                  <a:pt x="452" y="1272"/>
                </a:lnTo>
                <a:lnTo>
                  <a:pt x="460" y="1281"/>
                </a:lnTo>
                <a:lnTo>
                  <a:pt x="469" y="1290"/>
                </a:lnTo>
                <a:lnTo>
                  <a:pt x="477" y="1300"/>
                </a:lnTo>
                <a:lnTo>
                  <a:pt x="487" y="1309"/>
                </a:lnTo>
                <a:lnTo>
                  <a:pt x="496" y="1318"/>
                </a:lnTo>
                <a:lnTo>
                  <a:pt x="506" y="1328"/>
                </a:lnTo>
                <a:lnTo>
                  <a:pt x="515" y="1337"/>
                </a:lnTo>
                <a:lnTo>
                  <a:pt x="524" y="1346"/>
                </a:lnTo>
                <a:lnTo>
                  <a:pt x="534" y="1356"/>
                </a:lnTo>
                <a:lnTo>
                  <a:pt x="543" y="1363"/>
                </a:lnTo>
                <a:lnTo>
                  <a:pt x="550" y="1371"/>
                </a:lnTo>
                <a:lnTo>
                  <a:pt x="560" y="1378"/>
                </a:lnTo>
                <a:lnTo>
                  <a:pt x="567" y="1383"/>
                </a:lnTo>
                <a:lnTo>
                  <a:pt x="575" y="1388"/>
                </a:lnTo>
                <a:lnTo>
                  <a:pt x="580" y="1394"/>
                </a:lnTo>
                <a:lnTo>
                  <a:pt x="587" y="1400"/>
                </a:lnTo>
                <a:lnTo>
                  <a:pt x="594" y="1405"/>
                </a:lnTo>
                <a:lnTo>
                  <a:pt x="601" y="1409"/>
                </a:lnTo>
                <a:lnTo>
                  <a:pt x="606" y="1414"/>
                </a:lnTo>
                <a:lnTo>
                  <a:pt x="614" y="1419"/>
                </a:lnTo>
                <a:lnTo>
                  <a:pt x="621" y="1425"/>
                </a:lnTo>
                <a:lnTo>
                  <a:pt x="628" y="1429"/>
                </a:lnTo>
                <a:lnTo>
                  <a:pt x="634" y="1434"/>
                </a:lnTo>
                <a:lnTo>
                  <a:pt x="640" y="1438"/>
                </a:lnTo>
                <a:lnTo>
                  <a:pt x="645" y="1442"/>
                </a:lnTo>
                <a:lnTo>
                  <a:pt x="651" y="1446"/>
                </a:lnTo>
                <a:lnTo>
                  <a:pt x="655" y="1449"/>
                </a:lnTo>
                <a:lnTo>
                  <a:pt x="660" y="1452"/>
                </a:lnTo>
                <a:lnTo>
                  <a:pt x="663" y="1454"/>
                </a:lnTo>
                <a:lnTo>
                  <a:pt x="666" y="1456"/>
                </a:lnTo>
                <a:lnTo>
                  <a:pt x="668" y="1458"/>
                </a:lnTo>
                <a:lnTo>
                  <a:pt x="672" y="1459"/>
                </a:lnTo>
                <a:lnTo>
                  <a:pt x="675" y="1461"/>
                </a:lnTo>
                <a:lnTo>
                  <a:pt x="679" y="1463"/>
                </a:lnTo>
                <a:lnTo>
                  <a:pt x="683" y="1467"/>
                </a:lnTo>
                <a:lnTo>
                  <a:pt x="688" y="1469"/>
                </a:lnTo>
                <a:lnTo>
                  <a:pt x="693" y="1470"/>
                </a:lnTo>
                <a:lnTo>
                  <a:pt x="698" y="1472"/>
                </a:lnTo>
                <a:lnTo>
                  <a:pt x="703" y="1476"/>
                </a:lnTo>
                <a:lnTo>
                  <a:pt x="708" y="1478"/>
                </a:lnTo>
                <a:lnTo>
                  <a:pt x="714" y="1482"/>
                </a:lnTo>
                <a:lnTo>
                  <a:pt x="720" y="1484"/>
                </a:lnTo>
                <a:lnTo>
                  <a:pt x="724" y="1487"/>
                </a:lnTo>
                <a:lnTo>
                  <a:pt x="730" y="1489"/>
                </a:lnTo>
                <a:lnTo>
                  <a:pt x="736" y="1490"/>
                </a:lnTo>
                <a:lnTo>
                  <a:pt x="741" y="1492"/>
                </a:lnTo>
                <a:lnTo>
                  <a:pt x="746" y="1496"/>
                </a:lnTo>
                <a:lnTo>
                  <a:pt x="752" y="1497"/>
                </a:lnTo>
                <a:lnTo>
                  <a:pt x="759" y="1500"/>
                </a:lnTo>
                <a:lnTo>
                  <a:pt x="766" y="1502"/>
                </a:lnTo>
                <a:lnTo>
                  <a:pt x="774" y="1506"/>
                </a:lnTo>
                <a:lnTo>
                  <a:pt x="782" y="1507"/>
                </a:lnTo>
                <a:lnTo>
                  <a:pt x="791" y="1510"/>
                </a:lnTo>
                <a:lnTo>
                  <a:pt x="801" y="1512"/>
                </a:lnTo>
                <a:lnTo>
                  <a:pt x="809" y="1516"/>
                </a:lnTo>
                <a:lnTo>
                  <a:pt x="819" y="1518"/>
                </a:lnTo>
                <a:lnTo>
                  <a:pt x="828" y="1521"/>
                </a:lnTo>
                <a:lnTo>
                  <a:pt x="838" y="1523"/>
                </a:lnTo>
                <a:lnTo>
                  <a:pt x="846" y="1526"/>
                </a:lnTo>
                <a:lnTo>
                  <a:pt x="855" y="1528"/>
                </a:lnTo>
                <a:lnTo>
                  <a:pt x="863" y="1530"/>
                </a:lnTo>
                <a:lnTo>
                  <a:pt x="872" y="1531"/>
                </a:lnTo>
                <a:lnTo>
                  <a:pt x="879" y="1534"/>
                </a:lnTo>
                <a:lnTo>
                  <a:pt x="887" y="1536"/>
                </a:lnTo>
                <a:lnTo>
                  <a:pt x="897" y="1538"/>
                </a:lnTo>
                <a:lnTo>
                  <a:pt x="906" y="1540"/>
                </a:lnTo>
                <a:lnTo>
                  <a:pt x="916" y="1542"/>
                </a:lnTo>
                <a:lnTo>
                  <a:pt x="926" y="1544"/>
                </a:lnTo>
                <a:lnTo>
                  <a:pt x="936" y="1546"/>
                </a:lnTo>
                <a:lnTo>
                  <a:pt x="947" y="1548"/>
                </a:lnTo>
                <a:lnTo>
                  <a:pt x="957" y="1550"/>
                </a:lnTo>
                <a:lnTo>
                  <a:pt x="967" y="1552"/>
                </a:lnTo>
                <a:lnTo>
                  <a:pt x="976" y="1554"/>
                </a:lnTo>
                <a:lnTo>
                  <a:pt x="986" y="1556"/>
                </a:lnTo>
                <a:lnTo>
                  <a:pt x="995" y="1557"/>
                </a:lnTo>
                <a:lnTo>
                  <a:pt x="1004" y="1558"/>
                </a:lnTo>
                <a:lnTo>
                  <a:pt x="1012" y="1560"/>
                </a:lnTo>
                <a:lnTo>
                  <a:pt x="1019" y="1560"/>
                </a:lnTo>
                <a:lnTo>
                  <a:pt x="1025" y="1562"/>
                </a:lnTo>
                <a:lnTo>
                  <a:pt x="1033" y="1562"/>
                </a:lnTo>
                <a:lnTo>
                  <a:pt x="1042" y="1563"/>
                </a:lnTo>
                <a:lnTo>
                  <a:pt x="1051" y="1563"/>
                </a:lnTo>
                <a:lnTo>
                  <a:pt x="1060" y="1565"/>
                </a:lnTo>
                <a:lnTo>
                  <a:pt x="1070" y="1565"/>
                </a:lnTo>
                <a:lnTo>
                  <a:pt x="1080" y="1565"/>
                </a:lnTo>
                <a:lnTo>
                  <a:pt x="1092" y="1565"/>
                </a:lnTo>
                <a:lnTo>
                  <a:pt x="1101" y="1567"/>
                </a:lnTo>
                <a:lnTo>
                  <a:pt x="1112" y="1567"/>
                </a:lnTo>
                <a:lnTo>
                  <a:pt x="1121" y="1569"/>
                </a:lnTo>
                <a:lnTo>
                  <a:pt x="1132" y="1569"/>
                </a:lnTo>
                <a:lnTo>
                  <a:pt x="1142" y="1571"/>
                </a:lnTo>
                <a:lnTo>
                  <a:pt x="1152" y="1571"/>
                </a:lnTo>
                <a:lnTo>
                  <a:pt x="1160" y="1572"/>
                </a:lnTo>
                <a:lnTo>
                  <a:pt x="1170" y="1572"/>
                </a:lnTo>
                <a:lnTo>
                  <a:pt x="1177" y="1574"/>
                </a:lnTo>
                <a:lnTo>
                  <a:pt x="1186" y="1574"/>
                </a:lnTo>
                <a:lnTo>
                  <a:pt x="1195" y="1574"/>
                </a:lnTo>
                <a:lnTo>
                  <a:pt x="1205" y="1574"/>
                </a:lnTo>
                <a:lnTo>
                  <a:pt x="1214" y="1574"/>
                </a:lnTo>
                <a:lnTo>
                  <a:pt x="1226" y="1574"/>
                </a:lnTo>
                <a:lnTo>
                  <a:pt x="1236" y="1574"/>
                </a:lnTo>
                <a:lnTo>
                  <a:pt x="1248" y="1574"/>
                </a:lnTo>
                <a:lnTo>
                  <a:pt x="1257" y="1575"/>
                </a:lnTo>
                <a:lnTo>
                  <a:pt x="1267" y="1575"/>
                </a:lnTo>
                <a:lnTo>
                  <a:pt x="1277" y="1575"/>
                </a:lnTo>
                <a:lnTo>
                  <a:pt x="1287" y="1575"/>
                </a:lnTo>
                <a:lnTo>
                  <a:pt x="1296" y="1575"/>
                </a:lnTo>
                <a:lnTo>
                  <a:pt x="1305" y="1575"/>
                </a:lnTo>
                <a:lnTo>
                  <a:pt x="1312" y="1575"/>
                </a:lnTo>
                <a:lnTo>
                  <a:pt x="1320" y="1575"/>
                </a:lnTo>
                <a:lnTo>
                  <a:pt x="1324" y="1575"/>
                </a:lnTo>
                <a:lnTo>
                  <a:pt x="1329" y="1575"/>
                </a:lnTo>
                <a:lnTo>
                  <a:pt x="1332" y="1575"/>
                </a:lnTo>
                <a:lnTo>
                  <a:pt x="1335" y="1575"/>
                </a:lnTo>
                <a:lnTo>
                  <a:pt x="1335" y="1575"/>
                </a:lnTo>
                <a:lnTo>
                  <a:pt x="1337" y="1575"/>
                </a:lnTo>
                <a:lnTo>
                  <a:pt x="1338" y="1575"/>
                </a:lnTo>
                <a:lnTo>
                  <a:pt x="1340" y="1575"/>
                </a:lnTo>
                <a:lnTo>
                  <a:pt x="1342" y="1575"/>
                </a:lnTo>
                <a:lnTo>
                  <a:pt x="1344" y="1575"/>
                </a:lnTo>
                <a:lnTo>
                  <a:pt x="1347" y="1575"/>
                </a:lnTo>
                <a:lnTo>
                  <a:pt x="1352" y="1575"/>
                </a:lnTo>
                <a:lnTo>
                  <a:pt x="1358" y="1575"/>
                </a:lnTo>
                <a:lnTo>
                  <a:pt x="1366" y="1575"/>
                </a:lnTo>
                <a:lnTo>
                  <a:pt x="1375" y="1575"/>
                </a:lnTo>
                <a:lnTo>
                  <a:pt x="1388" y="1575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632448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1600200"/>
            <a:ext cx="761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7010280"/>
            <a:ext cx="540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05740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6858000"/>
            <a:ext cx="761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1371600"/>
            <a:ext cx="540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43960" y="2117880"/>
            <a:ext cx="0" cy="47368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68360" y="7005600"/>
            <a:ext cx="634536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368360" y="2104560"/>
            <a:ext cx="0" cy="49006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589040" y="2119320"/>
            <a:ext cx="614376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4800" y="1066680"/>
            <a:ext cx="945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dibujamos la curva de contra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828440" y="2743200"/>
            <a:ext cx="4800960" cy="2819520"/>
            <a:chOff x="1828440" y="2743200"/>
            <a:chExt cx="4800960" cy="2819520"/>
          </a:xfrm>
        </p:grpSpPr>
        <p:sp>
          <p:nvSpPr>
            <p:cNvPr id="221" name=""/>
            <p:cNvSpPr/>
            <p:nvPr/>
          </p:nvSpPr>
          <p:spPr>
            <a:xfrm flipH="1">
              <a:off x="1828440" y="3352680"/>
              <a:ext cx="228600" cy="2210040"/>
            </a:xfrm>
            <a:prstGeom prst="line">
              <a:avLst/>
            </a:prstGeom>
            <a:ln w="7632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3429000"/>
              <a:ext cx="609480" cy="1219320"/>
            </a:xfrm>
            <a:prstGeom prst="line">
              <a:avLst/>
            </a:prstGeom>
            <a:ln w="7632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29200" y="2743200"/>
              <a:ext cx="1600200" cy="0"/>
            </a:xfrm>
            <a:prstGeom prst="line">
              <a:avLst/>
            </a:prstGeom>
            <a:ln w="7632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718160" y="2209680"/>
            <a:ext cx="1792080" cy="2264040"/>
            <a:chOff x="4718160" y="2209680"/>
            <a:chExt cx="1792080" cy="2264040"/>
          </a:xfrm>
        </p:grpSpPr>
        <p:sp>
          <p:nvSpPr>
            <p:cNvPr id="225" name=""/>
            <p:cNvSpPr/>
            <p:nvPr/>
          </p:nvSpPr>
          <p:spPr>
            <a:xfrm>
              <a:off x="5043600" y="2552760"/>
              <a:ext cx="1466640" cy="192096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13480" y="3063960"/>
              <a:ext cx="603000" cy="463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18160" y="2209680"/>
              <a:ext cx="31104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946680" y="2209680"/>
            <a:ext cx="2082600" cy="3840120"/>
            <a:chOff x="3946680" y="2209680"/>
            <a:chExt cx="2082600" cy="3840120"/>
          </a:xfrm>
        </p:grpSpPr>
        <p:sp>
          <p:nvSpPr>
            <p:cNvPr id="229" name=""/>
            <p:cNvSpPr/>
            <p:nvPr/>
          </p:nvSpPr>
          <p:spPr>
            <a:xfrm>
              <a:off x="4168800" y="2654280"/>
              <a:ext cx="1860480" cy="339552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6680" y="2209680"/>
              <a:ext cx="311040" cy="462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22920" y="3581280"/>
              <a:ext cx="647640" cy="462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308400" y="2838600"/>
            <a:ext cx="1666800" cy="3676680"/>
            <a:chOff x="3308400" y="2838600"/>
            <a:chExt cx="1666800" cy="3676680"/>
          </a:xfrm>
        </p:grpSpPr>
        <p:sp>
          <p:nvSpPr>
            <p:cNvPr id="233" name=""/>
            <p:cNvSpPr/>
            <p:nvPr/>
          </p:nvSpPr>
          <p:spPr>
            <a:xfrm>
              <a:off x="3438360" y="3292560"/>
              <a:ext cx="1536840" cy="322272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46480" y="4572000"/>
              <a:ext cx="447840" cy="463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08400" y="2838600"/>
              <a:ext cx="311040" cy="463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581280" y="2355840"/>
            <a:ext cx="1658880" cy="3720960"/>
            <a:chOff x="3581280" y="2355840"/>
            <a:chExt cx="1658880" cy="3720960"/>
          </a:xfrm>
        </p:grpSpPr>
        <p:sp>
          <p:nvSpPr>
            <p:cNvPr id="237" name=""/>
            <p:cNvSpPr/>
            <p:nvPr/>
          </p:nvSpPr>
          <p:spPr>
            <a:xfrm>
              <a:off x="3705120" y="2854440"/>
              <a:ext cx="1535040" cy="322236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35560" y="4191120"/>
              <a:ext cx="406440" cy="463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81280" y="2355840"/>
              <a:ext cx="311400" cy="463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133720" y="2666880"/>
            <a:ext cx="1699920" cy="4060800"/>
            <a:chOff x="2133720" y="2666880"/>
            <a:chExt cx="1699920" cy="4060800"/>
          </a:xfrm>
        </p:grpSpPr>
        <p:sp>
          <p:nvSpPr>
            <p:cNvPr id="241" name=""/>
            <p:cNvSpPr/>
            <p:nvPr/>
          </p:nvSpPr>
          <p:spPr>
            <a:xfrm>
              <a:off x="2311560" y="3147840"/>
              <a:ext cx="1522080" cy="357984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25800" y="4603680"/>
              <a:ext cx="539640" cy="461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3720" y="2666880"/>
              <a:ext cx="311040" cy="462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72200" y="3429000"/>
            <a:ext cx="3733920" cy="4038480"/>
          </a:xfrm>
          <a:prstGeom prst="rect">
            <a:avLst/>
          </a:prstGeom>
          <a:solidFill>
            <a:srgbClr val="ffff99"/>
          </a:solidFill>
          <a:ln w="38160">
            <a:solidFill>
              <a:srgbClr val="c2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do es lindo y convexo de modo que podríamos obtener cualquier asignación eficiente como un equilibrio competitivo E simplemente escogiendo una distribución dela propiedad 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371600"/>
            <a:ext cx="5016600" cy="214956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ff6699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6699"/>
                </a:solidFill>
                <a:latin typeface="Times New Roman"/>
              </a:rPr>
              <a:t>Todas las asignaciones son efic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076400" y="1644480"/>
            <a:ext cx="2340000" cy="5102280"/>
            <a:chOff x="1076400" y="1644480"/>
            <a:chExt cx="2340000" cy="5102280"/>
          </a:xfrm>
        </p:grpSpPr>
        <p:sp>
          <p:nvSpPr>
            <p:cNvPr id="247" name=""/>
            <p:cNvSpPr/>
            <p:nvPr/>
          </p:nvSpPr>
          <p:spPr>
            <a:xfrm>
              <a:off x="1447920" y="2133720"/>
              <a:ext cx="1968480" cy="461304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4870440"/>
              <a:ext cx="60984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76400" y="1644480"/>
              <a:ext cx="31104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0" y="0"/>
            <a:ext cx="97772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odemos usar el mecanismo competitiv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7772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sto funciona aún en un caso extrem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380880"/>
            <a:ext cx="6095880" cy="1371600"/>
          </a:xfrm>
          <a:prstGeom prst="wedgeRoundRectCallout">
            <a:avLst>
              <a:gd name="adj1" fmla="val -51537"/>
              <a:gd name="adj2" fmla="val 74074"/>
              <a:gd name="adj3" fmla="val 16667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edro es dueño de todo el bie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103633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ero, ¿qué pasa si Pedro obtiene el PODER...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5080" y="2071800"/>
            <a:ext cx="509400" cy="364320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2133720"/>
            <a:ext cx="1218960" cy="3581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133720"/>
            <a:ext cx="990360" cy="365760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2133720"/>
            <a:ext cx="761760" cy="365760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4572000"/>
            <a:ext cx="609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352680"/>
            <a:ext cx="3962520" cy="4038840"/>
          </a:xfrm>
          <a:prstGeom prst="rect">
            <a:avLst/>
          </a:prstGeom>
          <a:solidFill>
            <a:srgbClr val="ffff99"/>
          </a:solidFill>
          <a:ln w="38160">
            <a:solidFill>
              <a:srgbClr val="c2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un cuando las condiciones técnicas del problema son “bien comportadas”, otorgarle el poder monopólico a Pedro nos lleva a una pérdida de eficienci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uerza un incremento en el precio del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solución con precios aceptados-por todos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2133720"/>
            <a:ext cx="990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) s.a.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2971800"/>
            <a:ext cx="990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3657600"/>
            <a:ext cx="990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562720"/>
            <a:ext cx="990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6248520"/>
            <a:ext cx="990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60" y="1523880"/>
            <a:ext cx="7544520" cy="6426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800080"/>
                </a:solidFill>
                <a:latin typeface="Arial"/>
              </a:rPr>
              <a:t>La conducta competitiva de Ju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00" y="4648320"/>
            <a:ext cx="5665680" cy="6426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800080"/>
                </a:solidFill>
                <a:latin typeface="Arial"/>
              </a:rPr>
              <a:t>Pedro se comporta igua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60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edro como monopolista del bie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5981760"/>
            <a:ext cx="990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.a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2971800"/>
            <a:ext cx="990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3657600"/>
            <a:ext cx="990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2560" y="1905120"/>
            <a:ext cx="6912360" cy="6426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800080"/>
                </a:solidFill>
                <a:latin typeface="Arial"/>
              </a:rPr>
              <a:t>Juan se comporta como an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4572000"/>
            <a:ext cx="9067680" cy="119124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800080"/>
                </a:solidFill>
                <a:latin typeface="Arial"/>
              </a:rPr>
              <a:t>Pero ahora Pedro se aprovecha de la complacencia de Ju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94536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lgún poder cría distorcione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57040" y="1402200"/>
            <a:ext cx="6299280" cy="6262920"/>
          </a:xfrm>
          <a:prstGeom prst="roundRect">
            <a:avLst>
              <a:gd name="adj" fmla="val 0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08040" y="1554120"/>
            <a:ext cx="419040" cy="735120"/>
            <a:chOff x="608040" y="1554120"/>
            <a:chExt cx="419040" cy="735120"/>
          </a:xfrm>
        </p:grpSpPr>
        <p:sp>
          <p:nvSpPr>
            <p:cNvPr id="277" name=""/>
            <p:cNvSpPr/>
            <p:nvPr/>
          </p:nvSpPr>
          <p:spPr>
            <a:xfrm>
              <a:off x="608040" y="1638360"/>
              <a:ext cx="2379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9880" y="1943280"/>
              <a:ext cx="179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7800" y="1554120"/>
              <a:ext cx="179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43040" y="7035840"/>
            <a:ext cx="561960" cy="663480"/>
            <a:chOff x="743040" y="7035840"/>
            <a:chExt cx="561960" cy="663480"/>
          </a:xfrm>
        </p:grpSpPr>
        <p:sp>
          <p:nvSpPr>
            <p:cNvPr id="281" name=""/>
            <p:cNvSpPr/>
            <p:nvPr/>
          </p:nvSpPr>
          <p:spPr>
            <a:xfrm>
              <a:off x="743040" y="7180200"/>
              <a:ext cx="371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25360" y="7035840"/>
              <a:ext cx="17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533600" y="3400560"/>
            <a:ext cx="2014560" cy="3014640"/>
          </a:xfrm>
          <a:custGeom>
            <a:avLst/>
            <a:gdLst/>
            <a:ahLst/>
            <a:rect l="l" t="t" r="r" b="b"/>
            <a:pathLst>
              <a:path w="1269" h="1899">
                <a:moveTo>
                  <a:pt x="1268" y="1898"/>
                </a:moveTo>
                <a:lnTo>
                  <a:pt x="1266" y="1883"/>
                </a:lnTo>
                <a:lnTo>
                  <a:pt x="1264" y="1870"/>
                </a:lnTo>
                <a:lnTo>
                  <a:pt x="1262" y="1861"/>
                </a:lnTo>
                <a:lnTo>
                  <a:pt x="1262" y="1853"/>
                </a:lnTo>
                <a:lnTo>
                  <a:pt x="1260" y="1848"/>
                </a:lnTo>
                <a:lnTo>
                  <a:pt x="1260" y="1843"/>
                </a:lnTo>
                <a:lnTo>
                  <a:pt x="1260" y="1840"/>
                </a:lnTo>
                <a:lnTo>
                  <a:pt x="1260" y="1836"/>
                </a:lnTo>
                <a:lnTo>
                  <a:pt x="1258" y="1835"/>
                </a:lnTo>
                <a:lnTo>
                  <a:pt x="1258" y="1833"/>
                </a:lnTo>
                <a:lnTo>
                  <a:pt x="1258" y="1831"/>
                </a:lnTo>
                <a:lnTo>
                  <a:pt x="1258" y="1828"/>
                </a:lnTo>
                <a:lnTo>
                  <a:pt x="1258" y="1825"/>
                </a:lnTo>
                <a:lnTo>
                  <a:pt x="1258" y="1821"/>
                </a:lnTo>
                <a:lnTo>
                  <a:pt x="1258" y="1815"/>
                </a:lnTo>
                <a:lnTo>
                  <a:pt x="1258" y="1806"/>
                </a:lnTo>
                <a:lnTo>
                  <a:pt x="1256" y="1797"/>
                </a:lnTo>
                <a:lnTo>
                  <a:pt x="1255" y="1785"/>
                </a:lnTo>
                <a:lnTo>
                  <a:pt x="1253" y="1771"/>
                </a:lnTo>
                <a:lnTo>
                  <a:pt x="1252" y="1754"/>
                </a:lnTo>
                <a:lnTo>
                  <a:pt x="1249" y="1736"/>
                </a:lnTo>
                <a:lnTo>
                  <a:pt x="1247" y="1715"/>
                </a:lnTo>
                <a:lnTo>
                  <a:pt x="1243" y="1694"/>
                </a:lnTo>
                <a:lnTo>
                  <a:pt x="1242" y="1670"/>
                </a:lnTo>
                <a:lnTo>
                  <a:pt x="1238" y="1648"/>
                </a:lnTo>
                <a:lnTo>
                  <a:pt x="1234" y="1624"/>
                </a:lnTo>
                <a:lnTo>
                  <a:pt x="1230" y="1600"/>
                </a:lnTo>
                <a:lnTo>
                  <a:pt x="1227" y="1574"/>
                </a:lnTo>
                <a:lnTo>
                  <a:pt x="1224" y="1550"/>
                </a:lnTo>
                <a:lnTo>
                  <a:pt x="1220" y="1525"/>
                </a:lnTo>
                <a:lnTo>
                  <a:pt x="1216" y="1502"/>
                </a:lnTo>
                <a:lnTo>
                  <a:pt x="1212" y="1478"/>
                </a:lnTo>
                <a:lnTo>
                  <a:pt x="1207" y="1456"/>
                </a:lnTo>
                <a:lnTo>
                  <a:pt x="1204" y="1432"/>
                </a:lnTo>
                <a:lnTo>
                  <a:pt x="1198" y="1408"/>
                </a:lnTo>
                <a:lnTo>
                  <a:pt x="1194" y="1382"/>
                </a:lnTo>
                <a:lnTo>
                  <a:pt x="1188" y="1356"/>
                </a:lnTo>
                <a:lnTo>
                  <a:pt x="1183" y="1330"/>
                </a:lnTo>
                <a:lnTo>
                  <a:pt x="1177" y="1304"/>
                </a:lnTo>
                <a:lnTo>
                  <a:pt x="1173" y="1278"/>
                </a:lnTo>
                <a:lnTo>
                  <a:pt x="1167" y="1254"/>
                </a:lnTo>
                <a:lnTo>
                  <a:pt x="1162" y="1231"/>
                </a:lnTo>
                <a:lnTo>
                  <a:pt x="1156" y="1209"/>
                </a:lnTo>
                <a:lnTo>
                  <a:pt x="1151" y="1187"/>
                </a:lnTo>
                <a:lnTo>
                  <a:pt x="1146" y="1168"/>
                </a:lnTo>
                <a:lnTo>
                  <a:pt x="1142" y="1150"/>
                </a:lnTo>
                <a:lnTo>
                  <a:pt x="1138" y="1135"/>
                </a:lnTo>
                <a:lnTo>
                  <a:pt x="1135" y="1122"/>
                </a:lnTo>
                <a:lnTo>
                  <a:pt x="1130" y="1111"/>
                </a:lnTo>
                <a:lnTo>
                  <a:pt x="1126" y="1097"/>
                </a:lnTo>
                <a:lnTo>
                  <a:pt x="1120" y="1083"/>
                </a:lnTo>
                <a:lnTo>
                  <a:pt x="1117" y="1066"/>
                </a:lnTo>
                <a:lnTo>
                  <a:pt x="1110" y="1049"/>
                </a:lnTo>
                <a:lnTo>
                  <a:pt x="1105" y="1030"/>
                </a:lnTo>
                <a:lnTo>
                  <a:pt x="1099" y="1012"/>
                </a:lnTo>
                <a:lnTo>
                  <a:pt x="1094" y="992"/>
                </a:lnTo>
                <a:lnTo>
                  <a:pt x="1086" y="973"/>
                </a:lnTo>
                <a:lnTo>
                  <a:pt x="1080" y="954"/>
                </a:lnTo>
                <a:lnTo>
                  <a:pt x="1074" y="935"/>
                </a:lnTo>
                <a:lnTo>
                  <a:pt x="1069" y="915"/>
                </a:lnTo>
                <a:lnTo>
                  <a:pt x="1062" y="898"/>
                </a:lnTo>
                <a:lnTo>
                  <a:pt x="1057" y="879"/>
                </a:lnTo>
                <a:lnTo>
                  <a:pt x="1051" y="864"/>
                </a:lnTo>
                <a:lnTo>
                  <a:pt x="1046" y="848"/>
                </a:lnTo>
                <a:lnTo>
                  <a:pt x="1040" y="832"/>
                </a:lnTo>
                <a:lnTo>
                  <a:pt x="1036" y="816"/>
                </a:lnTo>
                <a:lnTo>
                  <a:pt x="1031" y="799"/>
                </a:lnTo>
                <a:lnTo>
                  <a:pt x="1026" y="780"/>
                </a:lnTo>
                <a:lnTo>
                  <a:pt x="1019" y="763"/>
                </a:lnTo>
                <a:lnTo>
                  <a:pt x="1014" y="744"/>
                </a:lnTo>
                <a:lnTo>
                  <a:pt x="1008" y="725"/>
                </a:lnTo>
                <a:lnTo>
                  <a:pt x="1002" y="706"/>
                </a:lnTo>
                <a:lnTo>
                  <a:pt x="996" y="690"/>
                </a:lnTo>
                <a:lnTo>
                  <a:pt x="990" y="672"/>
                </a:lnTo>
                <a:lnTo>
                  <a:pt x="984" y="655"/>
                </a:lnTo>
                <a:lnTo>
                  <a:pt x="980" y="638"/>
                </a:lnTo>
                <a:lnTo>
                  <a:pt x="974" y="625"/>
                </a:lnTo>
                <a:lnTo>
                  <a:pt x="970" y="610"/>
                </a:lnTo>
                <a:lnTo>
                  <a:pt x="965" y="598"/>
                </a:lnTo>
                <a:lnTo>
                  <a:pt x="962" y="587"/>
                </a:lnTo>
                <a:lnTo>
                  <a:pt x="957" y="578"/>
                </a:lnTo>
                <a:lnTo>
                  <a:pt x="953" y="567"/>
                </a:lnTo>
                <a:lnTo>
                  <a:pt x="948" y="555"/>
                </a:lnTo>
                <a:lnTo>
                  <a:pt x="943" y="542"/>
                </a:lnTo>
                <a:lnTo>
                  <a:pt x="936" y="529"/>
                </a:lnTo>
                <a:lnTo>
                  <a:pt x="930" y="515"/>
                </a:lnTo>
                <a:lnTo>
                  <a:pt x="923" y="502"/>
                </a:lnTo>
                <a:lnTo>
                  <a:pt x="917" y="487"/>
                </a:lnTo>
                <a:lnTo>
                  <a:pt x="910" y="474"/>
                </a:lnTo>
                <a:lnTo>
                  <a:pt x="902" y="459"/>
                </a:lnTo>
                <a:lnTo>
                  <a:pt x="894" y="446"/>
                </a:lnTo>
                <a:lnTo>
                  <a:pt x="889" y="432"/>
                </a:lnTo>
                <a:lnTo>
                  <a:pt x="882" y="421"/>
                </a:lnTo>
                <a:lnTo>
                  <a:pt x="876" y="408"/>
                </a:lnTo>
                <a:lnTo>
                  <a:pt x="870" y="397"/>
                </a:lnTo>
                <a:lnTo>
                  <a:pt x="865" y="386"/>
                </a:lnTo>
                <a:lnTo>
                  <a:pt x="858" y="377"/>
                </a:lnTo>
                <a:lnTo>
                  <a:pt x="852" y="367"/>
                </a:lnTo>
                <a:lnTo>
                  <a:pt x="844" y="356"/>
                </a:lnTo>
                <a:lnTo>
                  <a:pt x="836" y="344"/>
                </a:lnTo>
                <a:lnTo>
                  <a:pt x="826" y="333"/>
                </a:lnTo>
                <a:lnTo>
                  <a:pt x="819" y="322"/>
                </a:lnTo>
                <a:lnTo>
                  <a:pt x="810" y="311"/>
                </a:lnTo>
                <a:lnTo>
                  <a:pt x="802" y="298"/>
                </a:lnTo>
                <a:lnTo>
                  <a:pt x="793" y="288"/>
                </a:lnTo>
                <a:lnTo>
                  <a:pt x="784" y="276"/>
                </a:lnTo>
                <a:lnTo>
                  <a:pt x="775" y="266"/>
                </a:lnTo>
                <a:lnTo>
                  <a:pt x="768" y="255"/>
                </a:lnTo>
                <a:lnTo>
                  <a:pt x="760" y="246"/>
                </a:lnTo>
                <a:lnTo>
                  <a:pt x="752" y="238"/>
                </a:lnTo>
                <a:lnTo>
                  <a:pt x="745" y="230"/>
                </a:lnTo>
                <a:lnTo>
                  <a:pt x="739" y="223"/>
                </a:lnTo>
                <a:lnTo>
                  <a:pt x="733" y="217"/>
                </a:lnTo>
                <a:lnTo>
                  <a:pt x="727" y="212"/>
                </a:lnTo>
                <a:lnTo>
                  <a:pt x="722" y="206"/>
                </a:lnTo>
                <a:lnTo>
                  <a:pt x="716" y="200"/>
                </a:lnTo>
                <a:lnTo>
                  <a:pt x="709" y="195"/>
                </a:lnTo>
                <a:lnTo>
                  <a:pt x="704" y="189"/>
                </a:lnTo>
                <a:lnTo>
                  <a:pt x="698" y="184"/>
                </a:lnTo>
                <a:lnTo>
                  <a:pt x="692" y="177"/>
                </a:lnTo>
                <a:lnTo>
                  <a:pt x="686" y="172"/>
                </a:lnTo>
                <a:lnTo>
                  <a:pt x="680" y="167"/>
                </a:lnTo>
                <a:lnTo>
                  <a:pt x="675" y="162"/>
                </a:lnTo>
                <a:lnTo>
                  <a:pt x="670" y="157"/>
                </a:lnTo>
                <a:lnTo>
                  <a:pt x="666" y="154"/>
                </a:lnTo>
                <a:lnTo>
                  <a:pt x="662" y="150"/>
                </a:lnTo>
                <a:lnTo>
                  <a:pt x="660" y="147"/>
                </a:lnTo>
                <a:lnTo>
                  <a:pt x="658" y="144"/>
                </a:lnTo>
                <a:lnTo>
                  <a:pt x="655" y="143"/>
                </a:lnTo>
                <a:lnTo>
                  <a:pt x="652" y="141"/>
                </a:lnTo>
                <a:lnTo>
                  <a:pt x="649" y="139"/>
                </a:lnTo>
                <a:lnTo>
                  <a:pt x="646" y="136"/>
                </a:lnTo>
                <a:lnTo>
                  <a:pt x="641" y="134"/>
                </a:lnTo>
                <a:lnTo>
                  <a:pt x="638" y="130"/>
                </a:lnTo>
                <a:lnTo>
                  <a:pt x="632" y="127"/>
                </a:lnTo>
                <a:lnTo>
                  <a:pt x="629" y="124"/>
                </a:lnTo>
                <a:lnTo>
                  <a:pt x="623" y="122"/>
                </a:lnTo>
                <a:lnTo>
                  <a:pt x="618" y="118"/>
                </a:lnTo>
                <a:lnTo>
                  <a:pt x="612" y="115"/>
                </a:lnTo>
                <a:lnTo>
                  <a:pt x="608" y="111"/>
                </a:lnTo>
                <a:lnTo>
                  <a:pt x="602" y="109"/>
                </a:lnTo>
                <a:lnTo>
                  <a:pt x="598" y="106"/>
                </a:lnTo>
                <a:lnTo>
                  <a:pt x="592" y="104"/>
                </a:lnTo>
                <a:lnTo>
                  <a:pt x="588" y="101"/>
                </a:lnTo>
                <a:lnTo>
                  <a:pt x="583" y="99"/>
                </a:lnTo>
                <a:lnTo>
                  <a:pt x="579" y="97"/>
                </a:lnTo>
                <a:lnTo>
                  <a:pt x="572" y="95"/>
                </a:lnTo>
                <a:lnTo>
                  <a:pt x="566" y="91"/>
                </a:lnTo>
                <a:lnTo>
                  <a:pt x="559" y="89"/>
                </a:lnTo>
                <a:lnTo>
                  <a:pt x="551" y="86"/>
                </a:lnTo>
                <a:lnTo>
                  <a:pt x="543" y="82"/>
                </a:lnTo>
                <a:lnTo>
                  <a:pt x="536" y="78"/>
                </a:lnTo>
                <a:lnTo>
                  <a:pt x="526" y="76"/>
                </a:lnTo>
                <a:lnTo>
                  <a:pt x="518" y="72"/>
                </a:lnTo>
                <a:lnTo>
                  <a:pt x="509" y="69"/>
                </a:lnTo>
                <a:lnTo>
                  <a:pt x="502" y="65"/>
                </a:lnTo>
                <a:lnTo>
                  <a:pt x="493" y="63"/>
                </a:lnTo>
                <a:lnTo>
                  <a:pt x="485" y="59"/>
                </a:lnTo>
                <a:lnTo>
                  <a:pt x="478" y="56"/>
                </a:lnTo>
                <a:lnTo>
                  <a:pt x="472" y="52"/>
                </a:lnTo>
                <a:lnTo>
                  <a:pt x="463" y="51"/>
                </a:lnTo>
                <a:lnTo>
                  <a:pt x="456" y="49"/>
                </a:lnTo>
                <a:lnTo>
                  <a:pt x="446" y="47"/>
                </a:lnTo>
                <a:lnTo>
                  <a:pt x="438" y="44"/>
                </a:lnTo>
                <a:lnTo>
                  <a:pt x="429" y="42"/>
                </a:lnTo>
                <a:lnTo>
                  <a:pt x="420" y="40"/>
                </a:lnTo>
                <a:lnTo>
                  <a:pt x="410" y="38"/>
                </a:lnTo>
                <a:lnTo>
                  <a:pt x="401" y="34"/>
                </a:lnTo>
                <a:lnTo>
                  <a:pt x="391" y="32"/>
                </a:lnTo>
                <a:lnTo>
                  <a:pt x="382" y="31"/>
                </a:lnTo>
                <a:lnTo>
                  <a:pt x="372" y="29"/>
                </a:lnTo>
                <a:lnTo>
                  <a:pt x="364" y="26"/>
                </a:lnTo>
                <a:lnTo>
                  <a:pt x="355" y="24"/>
                </a:lnTo>
                <a:lnTo>
                  <a:pt x="347" y="22"/>
                </a:lnTo>
                <a:lnTo>
                  <a:pt x="340" y="21"/>
                </a:lnTo>
                <a:lnTo>
                  <a:pt x="335" y="19"/>
                </a:lnTo>
                <a:lnTo>
                  <a:pt x="328" y="19"/>
                </a:lnTo>
                <a:lnTo>
                  <a:pt x="322" y="18"/>
                </a:lnTo>
                <a:lnTo>
                  <a:pt x="314" y="18"/>
                </a:lnTo>
                <a:lnTo>
                  <a:pt x="306" y="16"/>
                </a:lnTo>
                <a:lnTo>
                  <a:pt x="297" y="16"/>
                </a:lnTo>
                <a:lnTo>
                  <a:pt x="288" y="14"/>
                </a:lnTo>
                <a:lnTo>
                  <a:pt x="279" y="13"/>
                </a:lnTo>
                <a:lnTo>
                  <a:pt x="270" y="11"/>
                </a:lnTo>
                <a:lnTo>
                  <a:pt x="259" y="11"/>
                </a:lnTo>
                <a:lnTo>
                  <a:pt x="250" y="10"/>
                </a:lnTo>
                <a:lnTo>
                  <a:pt x="241" y="10"/>
                </a:lnTo>
                <a:lnTo>
                  <a:pt x="231" y="8"/>
                </a:lnTo>
                <a:lnTo>
                  <a:pt x="222" y="8"/>
                </a:lnTo>
                <a:lnTo>
                  <a:pt x="214" y="6"/>
                </a:lnTo>
                <a:lnTo>
                  <a:pt x="206" y="6"/>
                </a:lnTo>
                <a:lnTo>
                  <a:pt x="198" y="4"/>
                </a:lnTo>
                <a:lnTo>
                  <a:pt x="190" y="4"/>
                </a:lnTo>
                <a:lnTo>
                  <a:pt x="182" y="4"/>
                </a:lnTo>
                <a:lnTo>
                  <a:pt x="173" y="4"/>
                </a:lnTo>
                <a:lnTo>
                  <a:pt x="164" y="4"/>
                </a:lnTo>
                <a:lnTo>
                  <a:pt x="154" y="4"/>
                </a:lnTo>
                <a:lnTo>
                  <a:pt x="145" y="4"/>
                </a:lnTo>
                <a:lnTo>
                  <a:pt x="136" y="4"/>
                </a:lnTo>
                <a:lnTo>
                  <a:pt x="126" y="2"/>
                </a:lnTo>
                <a:lnTo>
                  <a:pt x="116" y="2"/>
                </a:lnTo>
                <a:lnTo>
                  <a:pt x="107" y="2"/>
                </a:lnTo>
                <a:lnTo>
                  <a:pt x="98" y="2"/>
                </a:lnTo>
                <a:lnTo>
                  <a:pt x="90" y="1"/>
                </a:lnTo>
                <a:lnTo>
                  <a:pt x="81" y="1"/>
                </a:lnTo>
                <a:lnTo>
                  <a:pt x="73" y="1"/>
                </a:lnTo>
                <a:lnTo>
                  <a:pt x="66" y="1"/>
                </a:lnTo>
                <a:lnTo>
                  <a:pt x="61" y="0"/>
                </a:lnTo>
                <a:lnTo>
                  <a:pt x="55" y="0"/>
                </a:lnTo>
                <a:lnTo>
                  <a:pt x="52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4" y="0"/>
                </a:lnTo>
                <a:lnTo>
                  <a:pt x="42" y="0"/>
                </a:lnTo>
                <a:lnTo>
                  <a:pt x="42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0" y="0"/>
                </a:lnTo>
                <a:lnTo>
                  <a:pt x="24" y="0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14720" y="2378160"/>
            <a:ext cx="2947680" cy="4279680"/>
          </a:xfrm>
          <a:custGeom>
            <a:avLst/>
            <a:gdLst/>
            <a:ahLst/>
            <a:rect l="l" t="t" r="r" b="b"/>
            <a:pathLst>
              <a:path w="1857" h="2696">
                <a:moveTo>
                  <a:pt x="2" y="0"/>
                </a:moveTo>
                <a:lnTo>
                  <a:pt x="0" y="20"/>
                </a:lnTo>
                <a:lnTo>
                  <a:pt x="0" y="37"/>
                </a:lnTo>
                <a:lnTo>
                  <a:pt x="0" y="51"/>
                </a:lnTo>
                <a:lnTo>
                  <a:pt x="0" y="60"/>
                </a:lnTo>
                <a:lnTo>
                  <a:pt x="0" y="69"/>
                </a:lnTo>
                <a:lnTo>
                  <a:pt x="0" y="74"/>
                </a:lnTo>
                <a:lnTo>
                  <a:pt x="0" y="78"/>
                </a:lnTo>
                <a:lnTo>
                  <a:pt x="0" y="81"/>
                </a:lnTo>
                <a:lnTo>
                  <a:pt x="0" y="84"/>
                </a:lnTo>
                <a:lnTo>
                  <a:pt x="0" y="86"/>
                </a:lnTo>
                <a:lnTo>
                  <a:pt x="0" y="89"/>
                </a:lnTo>
                <a:lnTo>
                  <a:pt x="0" y="91"/>
                </a:lnTo>
                <a:lnTo>
                  <a:pt x="0" y="96"/>
                </a:lnTo>
                <a:lnTo>
                  <a:pt x="0" y="100"/>
                </a:lnTo>
                <a:lnTo>
                  <a:pt x="0" y="108"/>
                </a:lnTo>
                <a:lnTo>
                  <a:pt x="0" y="118"/>
                </a:lnTo>
                <a:lnTo>
                  <a:pt x="0" y="131"/>
                </a:lnTo>
                <a:lnTo>
                  <a:pt x="1" y="148"/>
                </a:lnTo>
                <a:lnTo>
                  <a:pt x="3" y="168"/>
                </a:lnTo>
                <a:lnTo>
                  <a:pt x="5" y="190"/>
                </a:lnTo>
                <a:lnTo>
                  <a:pt x="6" y="215"/>
                </a:lnTo>
                <a:lnTo>
                  <a:pt x="9" y="242"/>
                </a:lnTo>
                <a:lnTo>
                  <a:pt x="12" y="271"/>
                </a:lnTo>
                <a:lnTo>
                  <a:pt x="16" y="300"/>
                </a:lnTo>
                <a:lnTo>
                  <a:pt x="19" y="333"/>
                </a:lnTo>
                <a:lnTo>
                  <a:pt x="23" y="364"/>
                </a:lnTo>
                <a:lnTo>
                  <a:pt x="26" y="398"/>
                </a:lnTo>
                <a:lnTo>
                  <a:pt x="31" y="430"/>
                </a:lnTo>
                <a:lnTo>
                  <a:pt x="34" y="464"/>
                </a:lnTo>
                <a:lnTo>
                  <a:pt x="40" y="496"/>
                </a:lnTo>
                <a:lnTo>
                  <a:pt x="44" y="528"/>
                </a:lnTo>
                <a:lnTo>
                  <a:pt x="50" y="557"/>
                </a:lnTo>
                <a:lnTo>
                  <a:pt x="54" y="588"/>
                </a:lnTo>
                <a:lnTo>
                  <a:pt x="60" y="620"/>
                </a:lnTo>
                <a:lnTo>
                  <a:pt x="65" y="654"/>
                </a:lnTo>
                <a:lnTo>
                  <a:pt x="73" y="688"/>
                </a:lnTo>
                <a:lnTo>
                  <a:pt x="80" y="723"/>
                </a:lnTo>
                <a:lnTo>
                  <a:pt x="87" y="758"/>
                </a:lnTo>
                <a:lnTo>
                  <a:pt x="95" y="793"/>
                </a:lnTo>
                <a:lnTo>
                  <a:pt x="104" y="826"/>
                </a:lnTo>
                <a:lnTo>
                  <a:pt x="111" y="861"/>
                </a:lnTo>
                <a:lnTo>
                  <a:pt x="119" y="893"/>
                </a:lnTo>
                <a:lnTo>
                  <a:pt x="126" y="924"/>
                </a:lnTo>
                <a:lnTo>
                  <a:pt x="135" y="952"/>
                </a:lnTo>
                <a:lnTo>
                  <a:pt x="142" y="979"/>
                </a:lnTo>
                <a:lnTo>
                  <a:pt x="150" y="1002"/>
                </a:lnTo>
                <a:lnTo>
                  <a:pt x="157" y="1023"/>
                </a:lnTo>
                <a:lnTo>
                  <a:pt x="164" y="1040"/>
                </a:lnTo>
                <a:lnTo>
                  <a:pt x="170" y="1057"/>
                </a:lnTo>
                <a:lnTo>
                  <a:pt x="177" y="1076"/>
                </a:lnTo>
                <a:lnTo>
                  <a:pt x="184" y="1097"/>
                </a:lnTo>
                <a:lnTo>
                  <a:pt x="193" y="1119"/>
                </a:lnTo>
                <a:lnTo>
                  <a:pt x="203" y="1144"/>
                </a:lnTo>
                <a:lnTo>
                  <a:pt x="213" y="1168"/>
                </a:lnTo>
                <a:lnTo>
                  <a:pt x="224" y="1194"/>
                </a:lnTo>
                <a:lnTo>
                  <a:pt x="235" y="1220"/>
                </a:lnTo>
                <a:lnTo>
                  <a:pt x="245" y="1248"/>
                </a:lnTo>
                <a:lnTo>
                  <a:pt x="257" y="1274"/>
                </a:lnTo>
                <a:lnTo>
                  <a:pt x="268" y="1300"/>
                </a:lnTo>
                <a:lnTo>
                  <a:pt x="279" y="1326"/>
                </a:lnTo>
                <a:lnTo>
                  <a:pt x="288" y="1352"/>
                </a:lnTo>
                <a:lnTo>
                  <a:pt x="299" y="1376"/>
                </a:lnTo>
                <a:lnTo>
                  <a:pt x="309" y="1398"/>
                </a:lnTo>
                <a:lnTo>
                  <a:pt x="319" y="1418"/>
                </a:lnTo>
                <a:lnTo>
                  <a:pt x="327" y="1441"/>
                </a:lnTo>
                <a:lnTo>
                  <a:pt x="337" y="1464"/>
                </a:lnTo>
                <a:lnTo>
                  <a:pt x="346" y="1488"/>
                </a:lnTo>
                <a:lnTo>
                  <a:pt x="357" y="1512"/>
                </a:lnTo>
                <a:lnTo>
                  <a:pt x="368" y="1538"/>
                </a:lnTo>
                <a:lnTo>
                  <a:pt x="379" y="1563"/>
                </a:lnTo>
                <a:lnTo>
                  <a:pt x="390" y="1589"/>
                </a:lnTo>
                <a:lnTo>
                  <a:pt x="401" y="1613"/>
                </a:lnTo>
                <a:lnTo>
                  <a:pt x="411" y="1639"/>
                </a:lnTo>
                <a:lnTo>
                  <a:pt x="422" y="1663"/>
                </a:lnTo>
                <a:lnTo>
                  <a:pt x="432" y="1686"/>
                </a:lnTo>
                <a:lnTo>
                  <a:pt x="443" y="1708"/>
                </a:lnTo>
                <a:lnTo>
                  <a:pt x="451" y="1729"/>
                </a:lnTo>
                <a:lnTo>
                  <a:pt x="459" y="1748"/>
                </a:lnTo>
                <a:lnTo>
                  <a:pt x="467" y="1766"/>
                </a:lnTo>
                <a:lnTo>
                  <a:pt x="474" y="1780"/>
                </a:lnTo>
                <a:lnTo>
                  <a:pt x="481" y="1794"/>
                </a:lnTo>
                <a:lnTo>
                  <a:pt x="489" y="1810"/>
                </a:lnTo>
                <a:lnTo>
                  <a:pt x="499" y="1826"/>
                </a:lnTo>
                <a:lnTo>
                  <a:pt x="510" y="1844"/>
                </a:lnTo>
                <a:lnTo>
                  <a:pt x="521" y="1863"/>
                </a:lnTo>
                <a:lnTo>
                  <a:pt x="533" y="1882"/>
                </a:lnTo>
                <a:lnTo>
                  <a:pt x="547" y="1902"/>
                </a:lnTo>
                <a:lnTo>
                  <a:pt x="561" y="1920"/>
                </a:lnTo>
                <a:lnTo>
                  <a:pt x="573" y="1941"/>
                </a:lnTo>
                <a:lnTo>
                  <a:pt x="588" y="1961"/>
                </a:lnTo>
                <a:lnTo>
                  <a:pt x="602" y="1980"/>
                </a:lnTo>
                <a:lnTo>
                  <a:pt x="617" y="1999"/>
                </a:lnTo>
                <a:lnTo>
                  <a:pt x="630" y="2018"/>
                </a:lnTo>
                <a:lnTo>
                  <a:pt x="643" y="2034"/>
                </a:lnTo>
                <a:lnTo>
                  <a:pt x="657" y="2050"/>
                </a:lnTo>
                <a:lnTo>
                  <a:pt x="670" y="2064"/>
                </a:lnTo>
                <a:lnTo>
                  <a:pt x="681" y="2079"/>
                </a:lnTo>
                <a:lnTo>
                  <a:pt x="695" y="2094"/>
                </a:lnTo>
                <a:lnTo>
                  <a:pt x="709" y="2110"/>
                </a:lnTo>
                <a:lnTo>
                  <a:pt x="727" y="2126"/>
                </a:lnTo>
                <a:lnTo>
                  <a:pt x="743" y="2144"/>
                </a:lnTo>
                <a:lnTo>
                  <a:pt x="761" y="2161"/>
                </a:lnTo>
                <a:lnTo>
                  <a:pt x="779" y="2178"/>
                </a:lnTo>
                <a:lnTo>
                  <a:pt x="797" y="2195"/>
                </a:lnTo>
                <a:lnTo>
                  <a:pt x="814" y="2213"/>
                </a:lnTo>
                <a:lnTo>
                  <a:pt x="833" y="2230"/>
                </a:lnTo>
                <a:lnTo>
                  <a:pt x="851" y="2246"/>
                </a:lnTo>
                <a:lnTo>
                  <a:pt x="869" y="2261"/>
                </a:lnTo>
                <a:lnTo>
                  <a:pt x="884" y="2276"/>
                </a:lnTo>
                <a:lnTo>
                  <a:pt x="901" y="2289"/>
                </a:lnTo>
                <a:lnTo>
                  <a:pt x="914" y="2301"/>
                </a:lnTo>
                <a:lnTo>
                  <a:pt x="929" y="2310"/>
                </a:lnTo>
                <a:lnTo>
                  <a:pt x="941" y="2321"/>
                </a:lnTo>
                <a:lnTo>
                  <a:pt x="954" y="2330"/>
                </a:lnTo>
                <a:lnTo>
                  <a:pt x="967" y="2340"/>
                </a:lnTo>
                <a:lnTo>
                  <a:pt x="982" y="2349"/>
                </a:lnTo>
                <a:lnTo>
                  <a:pt x="995" y="2359"/>
                </a:lnTo>
                <a:lnTo>
                  <a:pt x="1009" y="2368"/>
                </a:lnTo>
                <a:lnTo>
                  <a:pt x="1022" y="2378"/>
                </a:lnTo>
                <a:lnTo>
                  <a:pt x="1037" y="2386"/>
                </a:lnTo>
                <a:lnTo>
                  <a:pt x="1048" y="2396"/>
                </a:lnTo>
                <a:lnTo>
                  <a:pt x="1061" y="2404"/>
                </a:lnTo>
                <a:lnTo>
                  <a:pt x="1072" y="2412"/>
                </a:lnTo>
                <a:lnTo>
                  <a:pt x="1083" y="2419"/>
                </a:lnTo>
                <a:lnTo>
                  <a:pt x="1092" y="2426"/>
                </a:lnTo>
                <a:lnTo>
                  <a:pt x="1101" y="2431"/>
                </a:lnTo>
                <a:lnTo>
                  <a:pt x="1108" y="2435"/>
                </a:lnTo>
                <a:lnTo>
                  <a:pt x="1115" y="2438"/>
                </a:lnTo>
                <a:lnTo>
                  <a:pt x="1119" y="2442"/>
                </a:lnTo>
                <a:lnTo>
                  <a:pt x="1125" y="2445"/>
                </a:lnTo>
                <a:lnTo>
                  <a:pt x="1132" y="2449"/>
                </a:lnTo>
                <a:lnTo>
                  <a:pt x="1140" y="2453"/>
                </a:lnTo>
                <a:lnTo>
                  <a:pt x="1149" y="2459"/>
                </a:lnTo>
                <a:lnTo>
                  <a:pt x="1158" y="2464"/>
                </a:lnTo>
                <a:lnTo>
                  <a:pt x="1168" y="2469"/>
                </a:lnTo>
                <a:lnTo>
                  <a:pt x="1179" y="2473"/>
                </a:lnTo>
                <a:lnTo>
                  <a:pt x="1190" y="2479"/>
                </a:lnTo>
                <a:lnTo>
                  <a:pt x="1201" y="2484"/>
                </a:lnTo>
                <a:lnTo>
                  <a:pt x="1213" y="2490"/>
                </a:lnTo>
                <a:lnTo>
                  <a:pt x="1224" y="2496"/>
                </a:lnTo>
                <a:lnTo>
                  <a:pt x="1234" y="2501"/>
                </a:lnTo>
                <a:lnTo>
                  <a:pt x="1245" y="2506"/>
                </a:lnTo>
                <a:lnTo>
                  <a:pt x="1256" y="2510"/>
                </a:lnTo>
                <a:lnTo>
                  <a:pt x="1267" y="2514"/>
                </a:lnTo>
                <a:lnTo>
                  <a:pt x="1278" y="2520"/>
                </a:lnTo>
                <a:lnTo>
                  <a:pt x="1291" y="2524"/>
                </a:lnTo>
                <a:lnTo>
                  <a:pt x="1305" y="2530"/>
                </a:lnTo>
                <a:lnTo>
                  <a:pt x="1322" y="2536"/>
                </a:lnTo>
                <a:lnTo>
                  <a:pt x="1338" y="2543"/>
                </a:lnTo>
                <a:lnTo>
                  <a:pt x="1356" y="2548"/>
                </a:lnTo>
                <a:lnTo>
                  <a:pt x="1375" y="2556"/>
                </a:lnTo>
                <a:lnTo>
                  <a:pt x="1394" y="2562"/>
                </a:lnTo>
                <a:lnTo>
                  <a:pt x="1413" y="2569"/>
                </a:lnTo>
                <a:lnTo>
                  <a:pt x="1433" y="2576"/>
                </a:lnTo>
                <a:lnTo>
                  <a:pt x="1451" y="2584"/>
                </a:lnTo>
                <a:lnTo>
                  <a:pt x="1471" y="2589"/>
                </a:lnTo>
                <a:lnTo>
                  <a:pt x="1489" y="2596"/>
                </a:lnTo>
                <a:lnTo>
                  <a:pt x="1508" y="2602"/>
                </a:lnTo>
                <a:lnTo>
                  <a:pt x="1525" y="2607"/>
                </a:lnTo>
                <a:lnTo>
                  <a:pt x="1542" y="2612"/>
                </a:lnTo>
                <a:lnTo>
                  <a:pt x="1557" y="2618"/>
                </a:lnTo>
                <a:lnTo>
                  <a:pt x="1576" y="2624"/>
                </a:lnTo>
                <a:lnTo>
                  <a:pt x="1594" y="2629"/>
                </a:lnTo>
                <a:lnTo>
                  <a:pt x="1615" y="2635"/>
                </a:lnTo>
                <a:lnTo>
                  <a:pt x="1635" y="2641"/>
                </a:lnTo>
                <a:lnTo>
                  <a:pt x="1657" y="2646"/>
                </a:lnTo>
                <a:lnTo>
                  <a:pt x="1679" y="2652"/>
                </a:lnTo>
                <a:lnTo>
                  <a:pt x="1702" y="2658"/>
                </a:lnTo>
                <a:lnTo>
                  <a:pt x="1722" y="2663"/>
                </a:lnTo>
                <a:lnTo>
                  <a:pt x="1745" y="2669"/>
                </a:lnTo>
                <a:lnTo>
                  <a:pt x="1765" y="2674"/>
                </a:lnTo>
                <a:lnTo>
                  <a:pt x="1786" y="2680"/>
                </a:lnTo>
                <a:lnTo>
                  <a:pt x="1805" y="2685"/>
                </a:lnTo>
                <a:lnTo>
                  <a:pt x="1823" y="2689"/>
                </a:lnTo>
                <a:lnTo>
                  <a:pt x="1840" y="2693"/>
                </a:lnTo>
                <a:lnTo>
                  <a:pt x="1856" y="2695"/>
                </a:lnTo>
              </a:path>
            </a:pathLst>
          </a:custGeom>
          <a:noFill/>
          <a:ln w="4752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09760" y="6943680"/>
            <a:ext cx="442260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430280" y="1536840"/>
            <a:ext cx="0" cy="54259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65200" y="3092400"/>
            <a:ext cx="3270240" cy="3838680"/>
          </a:xfrm>
          <a:custGeom>
            <a:avLst/>
            <a:gdLst/>
            <a:ahLst/>
            <a:rect l="l" t="t" r="r" b="b"/>
            <a:pathLst>
              <a:path w="2060" h="2418">
                <a:moveTo>
                  <a:pt x="0" y="2417"/>
                </a:moveTo>
                <a:lnTo>
                  <a:pt x="2" y="2415"/>
                </a:lnTo>
                <a:lnTo>
                  <a:pt x="9" y="2408"/>
                </a:lnTo>
                <a:lnTo>
                  <a:pt x="18" y="2398"/>
                </a:lnTo>
                <a:lnTo>
                  <a:pt x="31" y="2382"/>
                </a:lnTo>
                <a:lnTo>
                  <a:pt x="46" y="2367"/>
                </a:lnTo>
                <a:lnTo>
                  <a:pt x="63" y="2348"/>
                </a:lnTo>
                <a:lnTo>
                  <a:pt x="81" y="2328"/>
                </a:lnTo>
                <a:lnTo>
                  <a:pt x="101" y="2307"/>
                </a:lnTo>
                <a:lnTo>
                  <a:pt x="119" y="2287"/>
                </a:lnTo>
                <a:lnTo>
                  <a:pt x="138" y="2267"/>
                </a:lnTo>
                <a:lnTo>
                  <a:pt x="156" y="2249"/>
                </a:lnTo>
                <a:lnTo>
                  <a:pt x="171" y="2232"/>
                </a:lnTo>
                <a:lnTo>
                  <a:pt x="184" y="2217"/>
                </a:lnTo>
                <a:lnTo>
                  <a:pt x="194" y="2206"/>
                </a:lnTo>
                <a:lnTo>
                  <a:pt x="201" y="2199"/>
                </a:lnTo>
                <a:lnTo>
                  <a:pt x="204" y="2196"/>
                </a:lnTo>
                <a:lnTo>
                  <a:pt x="204" y="2195"/>
                </a:lnTo>
                <a:lnTo>
                  <a:pt x="207" y="2190"/>
                </a:lnTo>
                <a:lnTo>
                  <a:pt x="212" y="2184"/>
                </a:lnTo>
                <a:lnTo>
                  <a:pt x="219" y="2174"/>
                </a:lnTo>
                <a:lnTo>
                  <a:pt x="225" y="2164"/>
                </a:lnTo>
                <a:lnTo>
                  <a:pt x="235" y="2150"/>
                </a:lnTo>
                <a:lnTo>
                  <a:pt x="244" y="2137"/>
                </a:lnTo>
                <a:lnTo>
                  <a:pt x="255" y="2121"/>
                </a:lnTo>
                <a:lnTo>
                  <a:pt x="264" y="2106"/>
                </a:lnTo>
                <a:lnTo>
                  <a:pt x="274" y="2090"/>
                </a:lnTo>
                <a:lnTo>
                  <a:pt x="284" y="2076"/>
                </a:lnTo>
                <a:lnTo>
                  <a:pt x="294" y="2059"/>
                </a:lnTo>
                <a:lnTo>
                  <a:pt x="302" y="2046"/>
                </a:lnTo>
                <a:lnTo>
                  <a:pt x="311" y="2031"/>
                </a:lnTo>
                <a:lnTo>
                  <a:pt x="317" y="2019"/>
                </a:lnTo>
                <a:lnTo>
                  <a:pt x="322" y="2008"/>
                </a:lnTo>
                <a:lnTo>
                  <a:pt x="324" y="2000"/>
                </a:lnTo>
                <a:lnTo>
                  <a:pt x="328" y="1990"/>
                </a:lnTo>
                <a:lnTo>
                  <a:pt x="332" y="1979"/>
                </a:lnTo>
                <a:lnTo>
                  <a:pt x="335" y="1968"/>
                </a:lnTo>
                <a:lnTo>
                  <a:pt x="339" y="1956"/>
                </a:lnTo>
                <a:lnTo>
                  <a:pt x="342" y="1942"/>
                </a:lnTo>
                <a:lnTo>
                  <a:pt x="346" y="1930"/>
                </a:lnTo>
                <a:lnTo>
                  <a:pt x="350" y="1915"/>
                </a:lnTo>
                <a:lnTo>
                  <a:pt x="352" y="1902"/>
                </a:lnTo>
                <a:lnTo>
                  <a:pt x="355" y="1889"/>
                </a:lnTo>
                <a:lnTo>
                  <a:pt x="358" y="1876"/>
                </a:lnTo>
                <a:lnTo>
                  <a:pt x="362" y="1863"/>
                </a:lnTo>
                <a:lnTo>
                  <a:pt x="363" y="1852"/>
                </a:lnTo>
                <a:lnTo>
                  <a:pt x="367" y="1841"/>
                </a:lnTo>
                <a:lnTo>
                  <a:pt x="370" y="1831"/>
                </a:lnTo>
                <a:lnTo>
                  <a:pt x="373" y="1821"/>
                </a:lnTo>
                <a:lnTo>
                  <a:pt x="377" y="1812"/>
                </a:lnTo>
                <a:lnTo>
                  <a:pt x="380" y="1802"/>
                </a:lnTo>
                <a:lnTo>
                  <a:pt x="384" y="1790"/>
                </a:lnTo>
                <a:lnTo>
                  <a:pt x="390" y="1778"/>
                </a:lnTo>
                <a:lnTo>
                  <a:pt x="395" y="1766"/>
                </a:lnTo>
                <a:lnTo>
                  <a:pt x="400" y="1753"/>
                </a:lnTo>
                <a:lnTo>
                  <a:pt x="406" y="1740"/>
                </a:lnTo>
                <a:lnTo>
                  <a:pt x="412" y="1725"/>
                </a:lnTo>
                <a:lnTo>
                  <a:pt x="418" y="1712"/>
                </a:lnTo>
                <a:lnTo>
                  <a:pt x="423" y="1699"/>
                </a:lnTo>
                <a:lnTo>
                  <a:pt x="429" y="1687"/>
                </a:lnTo>
                <a:lnTo>
                  <a:pt x="435" y="1674"/>
                </a:lnTo>
                <a:lnTo>
                  <a:pt x="441" y="1663"/>
                </a:lnTo>
                <a:lnTo>
                  <a:pt x="447" y="1652"/>
                </a:lnTo>
                <a:lnTo>
                  <a:pt x="452" y="1643"/>
                </a:lnTo>
                <a:lnTo>
                  <a:pt x="458" y="1634"/>
                </a:lnTo>
                <a:lnTo>
                  <a:pt x="464" y="1626"/>
                </a:lnTo>
                <a:lnTo>
                  <a:pt x="471" y="1616"/>
                </a:lnTo>
                <a:lnTo>
                  <a:pt x="479" y="1607"/>
                </a:lnTo>
                <a:lnTo>
                  <a:pt x="489" y="1596"/>
                </a:lnTo>
                <a:lnTo>
                  <a:pt x="498" y="1586"/>
                </a:lnTo>
                <a:lnTo>
                  <a:pt x="508" y="1575"/>
                </a:lnTo>
                <a:lnTo>
                  <a:pt x="519" y="1564"/>
                </a:lnTo>
                <a:lnTo>
                  <a:pt x="531" y="1552"/>
                </a:lnTo>
                <a:lnTo>
                  <a:pt x="541" y="1543"/>
                </a:lnTo>
                <a:lnTo>
                  <a:pt x="552" y="1532"/>
                </a:lnTo>
                <a:lnTo>
                  <a:pt x="563" y="1522"/>
                </a:lnTo>
                <a:lnTo>
                  <a:pt x="574" y="1513"/>
                </a:lnTo>
                <a:lnTo>
                  <a:pt x="583" y="1504"/>
                </a:lnTo>
                <a:lnTo>
                  <a:pt x="593" y="1496"/>
                </a:lnTo>
                <a:lnTo>
                  <a:pt x="602" y="1489"/>
                </a:lnTo>
                <a:lnTo>
                  <a:pt x="611" y="1482"/>
                </a:lnTo>
                <a:lnTo>
                  <a:pt x="618" y="1476"/>
                </a:lnTo>
                <a:lnTo>
                  <a:pt x="626" y="1470"/>
                </a:lnTo>
                <a:lnTo>
                  <a:pt x="635" y="1464"/>
                </a:lnTo>
                <a:lnTo>
                  <a:pt x="645" y="1458"/>
                </a:lnTo>
                <a:lnTo>
                  <a:pt x="655" y="1452"/>
                </a:lnTo>
                <a:lnTo>
                  <a:pt x="666" y="1444"/>
                </a:lnTo>
                <a:lnTo>
                  <a:pt x="677" y="1438"/>
                </a:lnTo>
                <a:lnTo>
                  <a:pt x="689" y="1430"/>
                </a:lnTo>
                <a:lnTo>
                  <a:pt x="699" y="1425"/>
                </a:lnTo>
                <a:lnTo>
                  <a:pt x="711" y="1417"/>
                </a:lnTo>
                <a:lnTo>
                  <a:pt x="721" y="1411"/>
                </a:lnTo>
                <a:lnTo>
                  <a:pt x="732" y="1404"/>
                </a:lnTo>
                <a:lnTo>
                  <a:pt x="740" y="1398"/>
                </a:lnTo>
                <a:lnTo>
                  <a:pt x="750" y="1391"/>
                </a:lnTo>
                <a:lnTo>
                  <a:pt x="757" y="1385"/>
                </a:lnTo>
                <a:lnTo>
                  <a:pt x="765" y="1378"/>
                </a:lnTo>
                <a:lnTo>
                  <a:pt x="774" y="1370"/>
                </a:lnTo>
                <a:lnTo>
                  <a:pt x="783" y="1360"/>
                </a:lnTo>
                <a:lnTo>
                  <a:pt x="793" y="1349"/>
                </a:lnTo>
                <a:lnTo>
                  <a:pt x="803" y="1336"/>
                </a:lnTo>
                <a:lnTo>
                  <a:pt x="813" y="1323"/>
                </a:lnTo>
                <a:lnTo>
                  <a:pt x="824" y="1308"/>
                </a:lnTo>
                <a:lnTo>
                  <a:pt x="835" y="1294"/>
                </a:lnTo>
                <a:lnTo>
                  <a:pt x="847" y="1279"/>
                </a:lnTo>
                <a:lnTo>
                  <a:pt x="857" y="1266"/>
                </a:lnTo>
                <a:lnTo>
                  <a:pt x="868" y="1251"/>
                </a:lnTo>
                <a:lnTo>
                  <a:pt x="879" y="1238"/>
                </a:lnTo>
                <a:lnTo>
                  <a:pt x="890" y="1225"/>
                </a:lnTo>
                <a:lnTo>
                  <a:pt x="901" y="1215"/>
                </a:lnTo>
                <a:lnTo>
                  <a:pt x="912" y="1205"/>
                </a:lnTo>
                <a:lnTo>
                  <a:pt x="923" y="1197"/>
                </a:lnTo>
                <a:lnTo>
                  <a:pt x="935" y="1191"/>
                </a:lnTo>
                <a:lnTo>
                  <a:pt x="930" y="1181"/>
                </a:lnTo>
                <a:lnTo>
                  <a:pt x="929" y="1170"/>
                </a:lnTo>
                <a:lnTo>
                  <a:pt x="928" y="1157"/>
                </a:lnTo>
                <a:lnTo>
                  <a:pt x="929" y="1142"/>
                </a:lnTo>
                <a:lnTo>
                  <a:pt x="930" y="1128"/>
                </a:lnTo>
                <a:lnTo>
                  <a:pt x="932" y="1112"/>
                </a:lnTo>
                <a:lnTo>
                  <a:pt x="934" y="1096"/>
                </a:lnTo>
                <a:lnTo>
                  <a:pt x="937" y="1079"/>
                </a:lnTo>
                <a:lnTo>
                  <a:pt x="939" y="1064"/>
                </a:lnTo>
                <a:lnTo>
                  <a:pt x="941" y="1048"/>
                </a:lnTo>
                <a:lnTo>
                  <a:pt x="941" y="1033"/>
                </a:lnTo>
                <a:lnTo>
                  <a:pt x="943" y="1018"/>
                </a:lnTo>
                <a:lnTo>
                  <a:pt x="941" y="1005"/>
                </a:lnTo>
                <a:lnTo>
                  <a:pt x="941" y="992"/>
                </a:lnTo>
                <a:lnTo>
                  <a:pt x="937" y="981"/>
                </a:lnTo>
                <a:lnTo>
                  <a:pt x="935" y="970"/>
                </a:lnTo>
                <a:lnTo>
                  <a:pt x="945" y="963"/>
                </a:lnTo>
                <a:lnTo>
                  <a:pt x="956" y="952"/>
                </a:lnTo>
                <a:lnTo>
                  <a:pt x="965" y="939"/>
                </a:lnTo>
                <a:lnTo>
                  <a:pt x="976" y="924"/>
                </a:lnTo>
                <a:lnTo>
                  <a:pt x="984" y="907"/>
                </a:lnTo>
                <a:lnTo>
                  <a:pt x="993" y="890"/>
                </a:lnTo>
                <a:lnTo>
                  <a:pt x="1001" y="871"/>
                </a:lnTo>
                <a:lnTo>
                  <a:pt x="1011" y="851"/>
                </a:lnTo>
                <a:lnTo>
                  <a:pt x="1018" y="832"/>
                </a:lnTo>
                <a:lnTo>
                  <a:pt x="1025" y="813"/>
                </a:lnTo>
                <a:lnTo>
                  <a:pt x="1033" y="794"/>
                </a:lnTo>
                <a:lnTo>
                  <a:pt x="1041" y="775"/>
                </a:lnTo>
                <a:lnTo>
                  <a:pt x="1049" y="758"/>
                </a:lnTo>
                <a:lnTo>
                  <a:pt x="1056" y="742"/>
                </a:lnTo>
                <a:lnTo>
                  <a:pt x="1064" y="728"/>
                </a:lnTo>
                <a:lnTo>
                  <a:pt x="1071" y="715"/>
                </a:lnTo>
                <a:lnTo>
                  <a:pt x="1078" y="704"/>
                </a:lnTo>
                <a:lnTo>
                  <a:pt x="1086" y="693"/>
                </a:lnTo>
                <a:lnTo>
                  <a:pt x="1095" y="680"/>
                </a:lnTo>
                <a:lnTo>
                  <a:pt x="1105" y="666"/>
                </a:lnTo>
                <a:lnTo>
                  <a:pt x="1116" y="653"/>
                </a:lnTo>
                <a:lnTo>
                  <a:pt x="1127" y="638"/>
                </a:lnTo>
                <a:lnTo>
                  <a:pt x="1139" y="624"/>
                </a:lnTo>
                <a:lnTo>
                  <a:pt x="1152" y="609"/>
                </a:lnTo>
                <a:lnTo>
                  <a:pt x="1163" y="596"/>
                </a:lnTo>
                <a:lnTo>
                  <a:pt x="1175" y="581"/>
                </a:lnTo>
                <a:lnTo>
                  <a:pt x="1187" y="568"/>
                </a:lnTo>
                <a:lnTo>
                  <a:pt x="1200" y="554"/>
                </a:lnTo>
                <a:lnTo>
                  <a:pt x="1210" y="542"/>
                </a:lnTo>
                <a:lnTo>
                  <a:pt x="1221" y="530"/>
                </a:lnTo>
                <a:lnTo>
                  <a:pt x="1231" y="520"/>
                </a:lnTo>
                <a:lnTo>
                  <a:pt x="1241" y="510"/>
                </a:lnTo>
                <a:lnTo>
                  <a:pt x="1255" y="497"/>
                </a:lnTo>
                <a:lnTo>
                  <a:pt x="1271" y="484"/>
                </a:lnTo>
                <a:lnTo>
                  <a:pt x="1288" y="469"/>
                </a:lnTo>
                <a:lnTo>
                  <a:pt x="1308" y="454"/>
                </a:lnTo>
                <a:lnTo>
                  <a:pt x="1327" y="439"/>
                </a:lnTo>
                <a:lnTo>
                  <a:pt x="1349" y="423"/>
                </a:lnTo>
                <a:lnTo>
                  <a:pt x="1371" y="407"/>
                </a:lnTo>
                <a:lnTo>
                  <a:pt x="1394" y="390"/>
                </a:lnTo>
                <a:lnTo>
                  <a:pt x="1414" y="375"/>
                </a:lnTo>
                <a:lnTo>
                  <a:pt x="1437" y="359"/>
                </a:lnTo>
                <a:lnTo>
                  <a:pt x="1457" y="344"/>
                </a:lnTo>
                <a:lnTo>
                  <a:pt x="1479" y="328"/>
                </a:lnTo>
                <a:lnTo>
                  <a:pt x="1498" y="313"/>
                </a:lnTo>
                <a:lnTo>
                  <a:pt x="1516" y="298"/>
                </a:lnTo>
                <a:lnTo>
                  <a:pt x="1532" y="285"/>
                </a:lnTo>
                <a:lnTo>
                  <a:pt x="1547" y="272"/>
                </a:lnTo>
                <a:lnTo>
                  <a:pt x="1554" y="266"/>
                </a:lnTo>
                <a:lnTo>
                  <a:pt x="1562" y="259"/>
                </a:lnTo>
                <a:lnTo>
                  <a:pt x="1571" y="252"/>
                </a:lnTo>
                <a:lnTo>
                  <a:pt x="1581" y="244"/>
                </a:lnTo>
                <a:lnTo>
                  <a:pt x="1590" y="236"/>
                </a:lnTo>
                <a:lnTo>
                  <a:pt x="1601" y="228"/>
                </a:lnTo>
                <a:lnTo>
                  <a:pt x="1611" y="221"/>
                </a:lnTo>
                <a:lnTo>
                  <a:pt x="1623" y="212"/>
                </a:lnTo>
                <a:lnTo>
                  <a:pt x="1633" y="204"/>
                </a:lnTo>
                <a:lnTo>
                  <a:pt x="1644" y="196"/>
                </a:lnTo>
                <a:lnTo>
                  <a:pt x="1655" y="189"/>
                </a:lnTo>
                <a:lnTo>
                  <a:pt x="1666" y="182"/>
                </a:lnTo>
                <a:lnTo>
                  <a:pt x="1675" y="175"/>
                </a:lnTo>
                <a:lnTo>
                  <a:pt x="1685" y="168"/>
                </a:lnTo>
                <a:lnTo>
                  <a:pt x="1693" y="162"/>
                </a:lnTo>
                <a:lnTo>
                  <a:pt x="1703" y="156"/>
                </a:lnTo>
                <a:lnTo>
                  <a:pt x="1706" y="152"/>
                </a:lnTo>
                <a:lnTo>
                  <a:pt x="1712" y="148"/>
                </a:lnTo>
                <a:lnTo>
                  <a:pt x="1716" y="145"/>
                </a:lnTo>
                <a:lnTo>
                  <a:pt x="1722" y="139"/>
                </a:lnTo>
                <a:lnTo>
                  <a:pt x="1727" y="136"/>
                </a:lnTo>
                <a:lnTo>
                  <a:pt x="1733" y="130"/>
                </a:lnTo>
                <a:lnTo>
                  <a:pt x="1739" y="126"/>
                </a:lnTo>
                <a:lnTo>
                  <a:pt x="1745" y="120"/>
                </a:lnTo>
                <a:lnTo>
                  <a:pt x="1750" y="116"/>
                </a:lnTo>
                <a:lnTo>
                  <a:pt x="1756" y="112"/>
                </a:lnTo>
                <a:lnTo>
                  <a:pt x="1761" y="108"/>
                </a:lnTo>
                <a:lnTo>
                  <a:pt x="1767" y="104"/>
                </a:lnTo>
                <a:lnTo>
                  <a:pt x="1773" y="102"/>
                </a:lnTo>
                <a:lnTo>
                  <a:pt x="1779" y="99"/>
                </a:lnTo>
                <a:lnTo>
                  <a:pt x="1784" y="97"/>
                </a:lnTo>
                <a:lnTo>
                  <a:pt x="1792" y="96"/>
                </a:lnTo>
                <a:lnTo>
                  <a:pt x="1795" y="96"/>
                </a:lnTo>
                <a:lnTo>
                  <a:pt x="1799" y="96"/>
                </a:lnTo>
                <a:lnTo>
                  <a:pt x="1804" y="96"/>
                </a:lnTo>
                <a:lnTo>
                  <a:pt x="1809" y="95"/>
                </a:lnTo>
                <a:lnTo>
                  <a:pt x="1815" y="95"/>
                </a:lnTo>
                <a:lnTo>
                  <a:pt x="1822" y="95"/>
                </a:lnTo>
                <a:lnTo>
                  <a:pt x="1829" y="95"/>
                </a:lnTo>
                <a:lnTo>
                  <a:pt x="1836" y="93"/>
                </a:lnTo>
                <a:lnTo>
                  <a:pt x="1842" y="93"/>
                </a:lnTo>
                <a:lnTo>
                  <a:pt x="1849" y="93"/>
                </a:lnTo>
                <a:lnTo>
                  <a:pt x="1854" y="93"/>
                </a:lnTo>
                <a:lnTo>
                  <a:pt x="1861" y="91"/>
                </a:lnTo>
                <a:lnTo>
                  <a:pt x="1866" y="91"/>
                </a:lnTo>
                <a:lnTo>
                  <a:pt x="1872" y="91"/>
                </a:lnTo>
                <a:lnTo>
                  <a:pt x="1875" y="91"/>
                </a:lnTo>
                <a:lnTo>
                  <a:pt x="1881" y="89"/>
                </a:lnTo>
                <a:lnTo>
                  <a:pt x="1886" y="88"/>
                </a:lnTo>
                <a:lnTo>
                  <a:pt x="1894" y="85"/>
                </a:lnTo>
                <a:lnTo>
                  <a:pt x="1904" y="80"/>
                </a:lnTo>
                <a:lnTo>
                  <a:pt x="1916" y="74"/>
                </a:lnTo>
                <a:lnTo>
                  <a:pt x="1929" y="69"/>
                </a:lnTo>
                <a:lnTo>
                  <a:pt x="1941" y="61"/>
                </a:lnTo>
                <a:lnTo>
                  <a:pt x="1956" y="54"/>
                </a:lnTo>
                <a:lnTo>
                  <a:pt x="1971" y="46"/>
                </a:lnTo>
                <a:lnTo>
                  <a:pt x="1984" y="39"/>
                </a:lnTo>
                <a:lnTo>
                  <a:pt x="1998" y="32"/>
                </a:lnTo>
                <a:lnTo>
                  <a:pt x="2011" y="25"/>
                </a:lnTo>
                <a:lnTo>
                  <a:pt x="2024" y="18"/>
                </a:lnTo>
                <a:lnTo>
                  <a:pt x="2035" y="12"/>
                </a:lnTo>
                <a:lnTo>
                  <a:pt x="2045" y="7"/>
                </a:lnTo>
                <a:lnTo>
                  <a:pt x="2053" y="3"/>
                </a:lnTo>
                <a:lnTo>
                  <a:pt x="2059" y="0"/>
                </a:lnTo>
              </a:path>
            </a:pathLst>
          </a:custGeom>
          <a:noFill/>
          <a:ln w="633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94040" y="1554120"/>
            <a:ext cx="447480" cy="311472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5880" y="2523960"/>
            <a:ext cx="1942920" cy="3413160"/>
          </a:xfrm>
          <a:custGeom>
            <a:avLst/>
            <a:gdLst/>
            <a:ahLst/>
            <a:rect l="l" t="t" r="r" b="b"/>
            <a:pathLst>
              <a:path w="1224" h="2150">
                <a:moveTo>
                  <a:pt x="1223" y="2149"/>
                </a:moveTo>
                <a:lnTo>
                  <a:pt x="1221" y="2132"/>
                </a:lnTo>
                <a:lnTo>
                  <a:pt x="1220" y="2118"/>
                </a:lnTo>
                <a:lnTo>
                  <a:pt x="1219" y="2106"/>
                </a:lnTo>
                <a:lnTo>
                  <a:pt x="1219" y="2097"/>
                </a:lnTo>
                <a:lnTo>
                  <a:pt x="1217" y="2091"/>
                </a:lnTo>
                <a:lnTo>
                  <a:pt x="1217" y="2085"/>
                </a:lnTo>
                <a:lnTo>
                  <a:pt x="1217" y="2082"/>
                </a:lnTo>
                <a:lnTo>
                  <a:pt x="1217" y="2078"/>
                </a:lnTo>
                <a:lnTo>
                  <a:pt x="1217" y="2076"/>
                </a:lnTo>
                <a:lnTo>
                  <a:pt x="1217" y="2075"/>
                </a:lnTo>
                <a:lnTo>
                  <a:pt x="1217" y="2073"/>
                </a:lnTo>
                <a:lnTo>
                  <a:pt x="1217" y="2070"/>
                </a:lnTo>
                <a:lnTo>
                  <a:pt x="1216" y="2066"/>
                </a:lnTo>
                <a:lnTo>
                  <a:pt x="1216" y="2062"/>
                </a:lnTo>
                <a:lnTo>
                  <a:pt x="1216" y="2055"/>
                </a:lnTo>
                <a:lnTo>
                  <a:pt x="1216" y="2045"/>
                </a:lnTo>
                <a:lnTo>
                  <a:pt x="1215" y="2035"/>
                </a:lnTo>
                <a:lnTo>
                  <a:pt x="1213" y="2020"/>
                </a:lnTo>
                <a:lnTo>
                  <a:pt x="1211" y="2004"/>
                </a:lnTo>
                <a:lnTo>
                  <a:pt x="1210" y="1985"/>
                </a:lnTo>
                <a:lnTo>
                  <a:pt x="1207" y="1964"/>
                </a:lnTo>
                <a:lnTo>
                  <a:pt x="1205" y="1941"/>
                </a:lnTo>
                <a:lnTo>
                  <a:pt x="1201" y="1917"/>
                </a:lnTo>
                <a:lnTo>
                  <a:pt x="1199" y="1890"/>
                </a:lnTo>
                <a:lnTo>
                  <a:pt x="1196" y="1864"/>
                </a:lnTo>
                <a:lnTo>
                  <a:pt x="1192" y="1837"/>
                </a:lnTo>
                <a:lnTo>
                  <a:pt x="1188" y="1810"/>
                </a:lnTo>
                <a:lnTo>
                  <a:pt x="1185" y="1781"/>
                </a:lnTo>
                <a:lnTo>
                  <a:pt x="1181" y="1754"/>
                </a:lnTo>
                <a:lnTo>
                  <a:pt x="1178" y="1726"/>
                </a:lnTo>
                <a:lnTo>
                  <a:pt x="1174" y="1700"/>
                </a:lnTo>
                <a:lnTo>
                  <a:pt x="1171" y="1673"/>
                </a:lnTo>
                <a:lnTo>
                  <a:pt x="1166" y="1647"/>
                </a:lnTo>
                <a:lnTo>
                  <a:pt x="1162" y="1620"/>
                </a:lnTo>
                <a:lnTo>
                  <a:pt x="1157" y="1592"/>
                </a:lnTo>
                <a:lnTo>
                  <a:pt x="1153" y="1563"/>
                </a:lnTo>
                <a:lnTo>
                  <a:pt x="1147" y="1535"/>
                </a:lnTo>
                <a:lnTo>
                  <a:pt x="1142" y="1505"/>
                </a:lnTo>
                <a:lnTo>
                  <a:pt x="1137" y="1476"/>
                </a:lnTo>
                <a:lnTo>
                  <a:pt x="1133" y="1446"/>
                </a:lnTo>
                <a:lnTo>
                  <a:pt x="1127" y="1420"/>
                </a:lnTo>
                <a:lnTo>
                  <a:pt x="1122" y="1392"/>
                </a:lnTo>
                <a:lnTo>
                  <a:pt x="1117" y="1367"/>
                </a:lnTo>
                <a:lnTo>
                  <a:pt x="1113" y="1342"/>
                </a:lnTo>
                <a:lnTo>
                  <a:pt x="1108" y="1321"/>
                </a:lnTo>
                <a:lnTo>
                  <a:pt x="1104" y="1301"/>
                </a:lnTo>
                <a:lnTo>
                  <a:pt x="1100" y="1284"/>
                </a:lnTo>
                <a:lnTo>
                  <a:pt x="1097" y="1268"/>
                </a:lnTo>
                <a:lnTo>
                  <a:pt x="1092" y="1256"/>
                </a:lnTo>
                <a:lnTo>
                  <a:pt x="1089" y="1240"/>
                </a:lnTo>
                <a:lnTo>
                  <a:pt x="1083" y="1224"/>
                </a:lnTo>
                <a:lnTo>
                  <a:pt x="1079" y="1206"/>
                </a:lnTo>
                <a:lnTo>
                  <a:pt x="1073" y="1186"/>
                </a:lnTo>
                <a:lnTo>
                  <a:pt x="1068" y="1166"/>
                </a:lnTo>
                <a:lnTo>
                  <a:pt x="1062" y="1144"/>
                </a:lnTo>
                <a:lnTo>
                  <a:pt x="1057" y="1122"/>
                </a:lnTo>
                <a:lnTo>
                  <a:pt x="1049" y="1100"/>
                </a:lnTo>
                <a:lnTo>
                  <a:pt x="1043" y="1078"/>
                </a:lnTo>
                <a:lnTo>
                  <a:pt x="1038" y="1057"/>
                </a:lnTo>
                <a:lnTo>
                  <a:pt x="1032" y="1034"/>
                </a:lnTo>
                <a:lnTo>
                  <a:pt x="1027" y="1014"/>
                </a:lnTo>
                <a:lnTo>
                  <a:pt x="1021" y="994"/>
                </a:lnTo>
                <a:lnTo>
                  <a:pt x="1015" y="976"/>
                </a:lnTo>
                <a:lnTo>
                  <a:pt x="1012" y="958"/>
                </a:lnTo>
                <a:lnTo>
                  <a:pt x="1006" y="941"/>
                </a:lnTo>
                <a:lnTo>
                  <a:pt x="1002" y="922"/>
                </a:lnTo>
                <a:lnTo>
                  <a:pt x="996" y="904"/>
                </a:lnTo>
                <a:lnTo>
                  <a:pt x="992" y="883"/>
                </a:lnTo>
                <a:lnTo>
                  <a:pt x="985" y="862"/>
                </a:lnTo>
                <a:lnTo>
                  <a:pt x="980" y="842"/>
                </a:lnTo>
                <a:lnTo>
                  <a:pt x="974" y="821"/>
                </a:lnTo>
                <a:lnTo>
                  <a:pt x="969" y="800"/>
                </a:lnTo>
                <a:lnTo>
                  <a:pt x="962" y="780"/>
                </a:lnTo>
                <a:lnTo>
                  <a:pt x="957" y="760"/>
                </a:lnTo>
                <a:lnTo>
                  <a:pt x="951" y="742"/>
                </a:lnTo>
                <a:lnTo>
                  <a:pt x="946" y="723"/>
                </a:lnTo>
                <a:lnTo>
                  <a:pt x="941" y="708"/>
                </a:lnTo>
                <a:lnTo>
                  <a:pt x="937" y="692"/>
                </a:lnTo>
                <a:lnTo>
                  <a:pt x="933" y="678"/>
                </a:lnTo>
                <a:lnTo>
                  <a:pt x="930" y="666"/>
                </a:lnTo>
                <a:lnTo>
                  <a:pt x="925" y="655"/>
                </a:lnTo>
                <a:lnTo>
                  <a:pt x="921" y="642"/>
                </a:lnTo>
                <a:lnTo>
                  <a:pt x="915" y="630"/>
                </a:lnTo>
                <a:lnTo>
                  <a:pt x="911" y="614"/>
                </a:lnTo>
                <a:lnTo>
                  <a:pt x="904" y="600"/>
                </a:lnTo>
                <a:lnTo>
                  <a:pt x="899" y="584"/>
                </a:lnTo>
                <a:lnTo>
                  <a:pt x="892" y="570"/>
                </a:lnTo>
                <a:lnTo>
                  <a:pt x="886" y="553"/>
                </a:lnTo>
                <a:lnTo>
                  <a:pt x="879" y="538"/>
                </a:lnTo>
                <a:lnTo>
                  <a:pt x="872" y="522"/>
                </a:lnTo>
                <a:lnTo>
                  <a:pt x="864" y="506"/>
                </a:lnTo>
                <a:lnTo>
                  <a:pt x="859" y="491"/>
                </a:lnTo>
                <a:lnTo>
                  <a:pt x="851" y="478"/>
                </a:lnTo>
                <a:lnTo>
                  <a:pt x="846" y="464"/>
                </a:lnTo>
                <a:lnTo>
                  <a:pt x="840" y="451"/>
                </a:lnTo>
                <a:lnTo>
                  <a:pt x="835" y="438"/>
                </a:lnTo>
                <a:lnTo>
                  <a:pt x="827" y="428"/>
                </a:lnTo>
                <a:lnTo>
                  <a:pt x="821" y="417"/>
                </a:lnTo>
                <a:lnTo>
                  <a:pt x="814" y="405"/>
                </a:lnTo>
                <a:lnTo>
                  <a:pt x="808" y="392"/>
                </a:lnTo>
                <a:lnTo>
                  <a:pt x="799" y="379"/>
                </a:lnTo>
                <a:lnTo>
                  <a:pt x="791" y="366"/>
                </a:lnTo>
                <a:lnTo>
                  <a:pt x="783" y="352"/>
                </a:lnTo>
                <a:lnTo>
                  <a:pt x="775" y="339"/>
                </a:lnTo>
                <a:lnTo>
                  <a:pt x="766" y="327"/>
                </a:lnTo>
                <a:lnTo>
                  <a:pt x="758" y="314"/>
                </a:lnTo>
                <a:lnTo>
                  <a:pt x="750" y="302"/>
                </a:lnTo>
                <a:lnTo>
                  <a:pt x="743" y="291"/>
                </a:lnTo>
                <a:lnTo>
                  <a:pt x="735" y="281"/>
                </a:lnTo>
                <a:lnTo>
                  <a:pt x="728" y="271"/>
                </a:lnTo>
                <a:lnTo>
                  <a:pt x="721" y="262"/>
                </a:lnTo>
                <a:lnTo>
                  <a:pt x="716" y="254"/>
                </a:lnTo>
                <a:lnTo>
                  <a:pt x="710" y="248"/>
                </a:lnTo>
                <a:lnTo>
                  <a:pt x="704" y="241"/>
                </a:lnTo>
                <a:lnTo>
                  <a:pt x="699" y="235"/>
                </a:lnTo>
                <a:lnTo>
                  <a:pt x="693" y="228"/>
                </a:lnTo>
                <a:lnTo>
                  <a:pt x="687" y="222"/>
                </a:lnTo>
                <a:lnTo>
                  <a:pt x="681" y="214"/>
                </a:lnTo>
                <a:lnTo>
                  <a:pt x="675" y="208"/>
                </a:lnTo>
                <a:lnTo>
                  <a:pt x="670" y="200"/>
                </a:lnTo>
                <a:lnTo>
                  <a:pt x="664" y="194"/>
                </a:lnTo>
                <a:lnTo>
                  <a:pt x="659" y="189"/>
                </a:lnTo>
                <a:lnTo>
                  <a:pt x="653" y="184"/>
                </a:lnTo>
                <a:lnTo>
                  <a:pt x="649" y="178"/>
                </a:lnTo>
                <a:lnTo>
                  <a:pt x="645" y="174"/>
                </a:lnTo>
                <a:lnTo>
                  <a:pt x="641" y="170"/>
                </a:lnTo>
                <a:lnTo>
                  <a:pt x="639" y="166"/>
                </a:lnTo>
                <a:lnTo>
                  <a:pt x="637" y="163"/>
                </a:lnTo>
                <a:lnTo>
                  <a:pt x="633" y="162"/>
                </a:lnTo>
                <a:lnTo>
                  <a:pt x="631" y="160"/>
                </a:lnTo>
                <a:lnTo>
                  <a:pt x="627" y="158"/>
                </a:lnTo>
                <a:lnTo>
                  <a:pt x="625" y="154"/>
                </a:lnTo>
                <a:lnTo>
                  <a:pt x="620" y="152"/>
                </a:lnTo>
                <a:lnTo>
                  <a:pt x="616" y="148"/>
                </a:lnTo>
                <a:lnTo>
                  <a:pt x="611" y="145"/>
                </a:lnTo>
                <a:lnTo>
                  <a:pt x="607" y="141"/>
                </a:lnTo>
                <a:lnTo>
                  <a:pt x="602" y="138"/>
                </a:lnTo>
                <a:lnTo>
                  <a:pt x="597" y="135"/>
                </a:lnTo>
                <a:lnTo>
                  <a:pt x="591" y="131"/>
                </a:lnTo>
                <a:lnTo>
                  <a:pt x="587" y="127"/>
                </a:lnTo>
                <a:lnTo>
                  <a:pt x="582" y="125"/>
                </a:lnTo>
                <a:lnTo>
                  <a:pt x="578" y="122"/>
                </a:lnTo>
                <a:lnTo>
                  <a:pt x="573" y="118"/>
                </a:lnTo>
                <a:lnTo>
                  <a:pt x="569" y="115"/>
                </a:lnTo>
                <a:lnTo>
                  <a:pt x="564" y="113"/>
                </a:lnTo>
                <a:lnTo>
                  <a:pt x="559" y="110"/>
                </a:lnTo>
                <a:lnTo>
                  <a:pt x="552" y="107"/>
                </a:lnTo>
                <a:lnTo>
                  <a:pt x="547" y="104"/>
                </a:lnTo>
                <a:lnTo>
                  <a:pt x="539" y="100"/>
                </a:lnTo>
                <a:lnTo>
                  <a:pt x="532" y="96"/>
                </a:lnTo>
                <a:lnTo>
                  <a:pt x="524" y="93"/>
                </a:lnTo>
                <a:lnTo>
                  <a:pt x="517" y="89"/>
                </a:lnTo>
                <a:lnTo>
                  <a:pt x="507" y="86"/>
                </a:lnTo>
                <a:lnTo>
                  <a:pt x="500" y="82"/>
                </a:lnTo>
                <a:lnTo>
                  <a:pt x="491" y="78"/>
                </a:lnTo>
                <a:lnTo>
                  <a:pt x="484" y="75"/>
                </a:lnTo>
                <a:lnTo>
                  <a:pt x="476" y="72"/>
                </a:lnTo>
                <a:lnTo>
                  <a:pt x="468" y="68"/>
                </a:lnTo>
                <a:lnTo>
                  <a:pt x="461" y="64"/>
                </a:lnTo>
                <a:lnTo>
                  <a:pt x="455" y="60"/>
                </a:lnTo>
                <a:lnTo>
                  <a:pt x="447" y="58"/>
                </a:lnTo>
                <a:lnTo>
                  <a:pt x="439" y="57"/>
                </a:lnTo>
                <a:lnTo>
                  <a:pt x="431" y="55"/>
                </a:lnTo>
                <a:lnTo>
                  <a:pt x="423" y="51"/>
                </a:lnTo>
                <a:lnTo>
                  <a:pt x="414" y="49"/>
                </a:lnTo>
                <a:lnTo>
                  <a:pt x="405" y="46"/>
                </a:lnTo>
                <a:lnTo>
                  <a:pt x="396" y="44"/>
                </a:lnTo>
                <a:lnTo>
                  <a:pt x="387" y="40"/>
                </a:lnTo>
                <a:lnTo>
                  <a:pt x="378" y="38"/>
                </a:lnTo>
                <a:lnTo>
                  <a:pt x="368" y="36"/>
                </a:lnTo>
                <a:lnTo>
                  <a:pt x="359" y="34"/>
                </a:lnTo>
                <a:lnTo>
                  <a:pt x="351" y="30"/>
                </a:lnTo>
                <a:lnTo>
                  <a:pt x="343" y="28"/>
                </a:lnTo>
                <a:lnTo>
                  <a:pt x="336" y="27"/>
                </a:lnTo>
                <a:lnTo>
                  <a:pt x="330" y="26"/>
                </a:lnTo>
                <a:lnTo>
                  <a:pt x="324" y="24"/>
                </a:lnTo>
                <a:lnTo>
                  <a:pt x="317" y="24"/>
                </a:lnTo>
                <a:lnTo>
                  <a:pt x="311" y="22"/>
                </a:lnTo>
                <a:lnTo>
                  <a:pt x="303" y="22"/>
                </a:lnTo>
                <a:lnTo>
                  <a:pt x="296" y="20"/>
                </a:lnTo>
                <a:lnTo>
                  <a:pt x="287" y="20"/>
                </a:lnTo>
                <a:lnTo>
                  <a:pt x="279" y="18"/>
                </a:lnTo>
                <a:lnTo>
                  <a:pt x="269" y="16"/>
                </a:lnTo>
                <a:lnTo>
                  <a:pt x="261" y="14"/>
                </a:lnTo>
                <a:lnTo>
                  <a:pt x="251" y="14"/>
                </a:lnTo>
                <a:lnTo>
                  <a:pt x="242" y="12"/>
                </a:lnTo>
                <a:lnTo>
                  <a:pt x="232" y="12"/>
                </a:lnTo>
                <a:lnTo>
                  <a:pt x="223" y="10"/>
                </a:lnTo>
                <a:lnTo>
                  <a:pt x="214" y="10"/>
                </a:lnTo>
                <a:lnTo>
                  <a:pt x="206" y="8"/>
                </a:lnTo>
                <a:lnTo>
                  <a:pt x="198" y="8"/>
                </a:lnTo>
                <a:lnTo>
                  <a:pt x="191" y="6"/>
                </a:lnTo>
                <a:lnTo>
                  <a:pt x="183" y="6"/>
                </a:lnTo>
                <a:lnTo>
                  <a:pt x="175" y="6"/>
                </a:lnTo>
                <a:lnTo>
                  <a:pt x="166" y="6"/>
                </a:lnTo>
                <a:lnTo>
                  <a:pt x="159" y="4"/>
                </a:lnTo>
                <a:lnTo>
                  <a:pt x="149" y="4"/>
                </a:lnTo>
                <a:lnTo>
                  <a:pt x="141" y="4"/>
                </a:lnTo>
                <a:lnTo>
                  <a:pt x="131" y="4"/>
                </a:lnTo>
                <a:lnTo>
                  <a:pt x="123" y="2"/>
                </a:lnTo>
                <a:lnTo>
                  <a:pt x="113" y="2"/>
                </a:lnTo>
                <a:lnTo>
                  <a:pt x="104" y="2"/>
                </a:lnTo>
                <a:lnTo>
                  <a:pt x="94" y="2"/>
                </a:lnTo>
                <a:lnTo>
                  <a:pt x="86" y="1"/>
                </a:lnTo>
                <a:lnTo>
                  <a:pt x="77" y="1"/>
                </a:lnTo>
                <a:lnTo>
                  <a:pt x="70" y="1"/>
                </a:lnTo>
                <a:lnTo>
                  <a:pt x="64" y="1"/>
                </a:lnTo>
                <a:lnTo>
                  <a:pt x="58" y="0"/>
                </a:lnTo>
                <a:lnTo>
                  <a:pt x="53" y="0"/>
                </a:lnTo>
                <a:lnTo>
                  <a:pt x="49" y="0"/>
                </a:lnTo>
                <a:lnTo>
                  <a:pt x="46" y="0"/>
                </a:lnTo>
                <a:lnTo>
                  <a:pt x="45" y="0"/>
                </a:lnTo>
                <a:lnTo>
                  <a:pt x="43" y="0"/>
                </a:lnTo>
                <a:lnTo>
                  <a:pt x="42" y="0"/>
                </a:lnTo>
                <a:lnTo>
                  <a:pt x="40" y="0"/>
                </a:lnTo>
                <a:lnTo>
                  <a:pt x="40" y="0"/>
                </a:lnTo>
                <a:lnTo>
                  <a:pt x="37" y="0"/>
                </a:lnTo>
                <a:lnTo>
                  <a:pt x="36" y="0"/>
                </a:lnTo>
                <a:lnTo>
                  <a:pt x="32" y="0"/>
                </a:lnTo>
                <a:lnTo>
                  <a:pt x="29" y="0"/>
                </a:lnTo>
                <a:lnTo>
                  <a:pt x="23" y="0"/>
                </a:ln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08120" y="2927520"/>
            <a:ext cx="1943280" cy="3414600"/>
          </a:xfrm>
          <a:custGeom>
            <a:avLst/>
            <a:gdLst/>
            <a:ahLst/>
            <a:rect l="l" t="t" r="r" b="b"/>
            <a:pathLst>
              <a:path w="1224" h="2151">
                <a:moveTo>
                  <a:pt x="1223" y="2150"/>
                </a:moveTo>
                <a:lnTo>
                  <a:pt x="1221" y="2133"/>
                </a:lnTo>
                <a:lnTo>
                  <a:pt x="1220" y="2118"/>
                </a:lnTo>
                <a:lnTo>
                  <a:pt x="1218" y="2107"/>
                </a:lnTo>
                <a:lnTo>
                  <a:pt x="1218" y="2098"/>
                </a:lnTo>
                <a:lnTo>
                  <a:pt x="1217" y="2092"/>
                </a:lnTo>
                <a:lnTo>
                  <a:pt x="1217" y="2086"/>
                </a:lnTo>
                <a:lnTo>
                  <a:pt x="1217" y="2083"/>
                </a:lnTo>
                <a:lnTo>
                  <a:pt x="1217" y="2079"/>
                </a:lnTo>
                <a:lnTo>
                  <a:pt x="1216" y="2077"/>
                </a:lnTo>
                <a:lnTo>
                  <a:pt x="1216" y="2075"/>
                </a:lnTo>
                <a:lnTo>
                  <a:pt x="1216" y="2073"/>
                </a:lnTo>
                <a:lnTo>
                  <a:pt x="1216" y="2070"/>
                </a:lnTo>
                <a:lnTo>
                  <a:pt x="1216" y="2067"/>
                </a:lnTo>
                <a:lnTo>
                  <a:pt x="1216" y="2062"/>
                </a:lnTo>
                <a:lnTo>
                  <a:pt x="1216" y="2055"/>
                </a:lnTo>
                <a:lnTo>
                  <a:pt x="1216" y="2046"/>
                </a:lnTo>
                <a:lnTo>
                  <a:pt x="1214" y="2035"/>
                </a:lnTo>
                <a:lnTo>
                  <a:pt x="1213" y="2021"/>
                </a:lnTo>
                <a:lnTo>
                  <a:pt x="1211" y="2005"/>
                </a:lnTo>
                <a:lnTo>
                  <a:pt x="1210" y="1985"/>
                </a:lnTo>
                <a:lnTo>
                  <a:pt x="1206" y="1964"/>
                </a:lnTo>
                <a:lnTo>
                  <a:pt x="1205" y="1941"/>
                </a:lnTo>
                <a:lnTo>
                  <a:pt x="1201" y="1917"/>
                </a:lnTo>
                <a:lnTo>
                  <a:pt x="1199" y="1890"/>
                </a:lnTo>
                <a:lnTo>
                  <a:pt x="1195" y="1864"/>
                </a:lnTo>
                <a:lnTo>
                  <a:pt x="1192" y="1837"/>
                </a:lnTo>
                <a:lnTo>
                  <a:pt x="1188" y="1810"/>
                </a:lnTo>
                <a:lnTo>
                  <a:pt x="1185" y="1781"/>
                </a:lnTo>
                <a:lnTo>
                  <a:pt x="1181" y="1754"/>
                </a:lnTo>
                <a:lnTo>
                  <a:pt x="1177" y="1726"/>
                </a:lnTo>
                <a:lnTo>
                  <a:pt x="1174" y="1700"/>
                </a:lnTo>
                <a:lnTo>
                  <a:pt x="1170" y="1673"/>
                </a:lnTo>
                <a:lnTo>
                  <a:pt x="1166" y="1648"/>
                </a:lnTo>
                <a:lnTo>
                  <a:pt x="1162" y="1621"/>
                </a:lnTo>
                <a:lnTo>
                  <a:pt x="1156" y="1593"/>
                </a:lnTo>
                <a:lnTo>
                  <a:pt x="1152" y="1564"/>
                </a:lnTo>
                <a:lnTo>
                  <a:pt x="1147" y="1536"/>
                </a:lnTo>
                <a:lnTo>
                  <a:pt x="1142" y="1506"/>
                </a:lnTo>
                <a:lnTo>
                  <a:pt x="1136" y="1477"/>
                </a:lnTo>
                <a:lnTo>
                  <a:pt x="1132" y="1447"/>
                </a:lnTo>
                <a:lnTo>
                  <a:pt x="1127" y="1420"/>
                </a:lnTo>
                <a:lnTo>
                  <a:pt x="1122" y="1393"/>
                </a:lnTo>
                <a:lnTo>
                  <a:pt x="1116" y="1368"/>
                </a:lnTo>
                <a:lnTo>
                  <a:pt x="1112" y="1343"/>
                </a:lnTo>
                <a:lnTo>
                  <a:pt x="1107" y="1322"/>
                </a:lnTo>
                <a:lnTo>
                  <a:pt x="1104" y="1302"/>
                </a:lnTo>
                <a:lnTo>
                  <a:pt x="1100" y="1285"/>
                </a:lnTo>
                <a:lnTo>
                  <a:pt x="1097" y="1270"/>
                </a:lnTo>
                <a:lnTo>
                  <a:pt x="1092" y="1257"/>
                </a:lnTo>
                <a:lnTo>
                  <a:pt x="1088" y="1242"/>
                </a:lnTo>
                <a:lnTo>
                  <a:pt x="1082" y="1225"/>
                </a:lnTo>
                <a:lnTo>
                  <a:pt x="1079" y="1206"/>
                </a:lnTo>
                <a:lnTo>
                  <a:pt x="1073" y="1187"/>
                </a:lnTo>
                <a:lnTo>
                  <a:pt x="1068" y="1166"/>
                </a:lnTo>
                <a:lnTo>
                  <a:pt x="1062" y="1145"/>
                </a:lnTo>
                <a:lnTo>
                  <a:pt x="1056" y="1122"/>
                </a:lnTo>
                <a:lnTo>
                  <a:pt x="1049" y="1101"/>
                </a:lnTo>
                <a:lnTo>
                  <a:pt x="1043" y="1079"/>
                </a:lnTo>
                <a:lnTo>
                  <a:pt x="1038" y="1058"/>
                </a:lnTo>
                <a:lnTo>
                  <a:pt x="1032" y="1035"/>
                </a:lnTo>
                <a:lnTo>
                  <a:pt x="1026" y="1015"/>
                </a:lnTo>
                <a:lnTo>
                  <a:pt x="1021" y="995"/>
                </a:lnTo>
                <a:lnTo>
                  <a:pt x="1015" y="976"/>
                </a:lnTo>
                <a:lnTo>
                  <a:pt x="1011" y="958"/>
                </a:lnTo>
                <a:lnTo>
                  <a:pt x="1006" y="942"/>
                </a:lnTo>
                <a:lnTo>
                  <a:pt x="1001" y="923"/>
                </a:lnTo>
                <a:lnTo>
                  <a:pt x="996" y="904"/>
                </a:lnTo>
                <a:lnTo>
                  <a:pt x="991" y="884"/>
                </a:lnTo>
                <a:lnTo>
                  <a:pt x="985" y="863"/>
                </a:lnTo>
                <a:lnTo>
                  <a:pt x="980" y="842"/>
                </a:lnTo>
                <a:lnTo>
                  <a:pt x="974" y="822"/>
                </a:lnTo>
                <a:lnTo>
                  <a:pt x="968" y="800"/>
                </a:lnTo>
                <a:lnTo>
                  <a:pt x="962" y="780"/>
                </a:lnTo>
                <a:lnTo>
                  <a:pt x="956" y="760"/>
                </a:lnTo>
                <a:lnTo>
                  <a:pt x="951" y="742"/>
                </a:lnTo>
                <a:lnTo>
                  <a:pt x="946" y="723"/>
                </a:lnTo>
                <a:lnTo>
                  <a:pt x="940" y="708"/>
                </a:lnTo>
                <a:lnTo>
                  <a:pt x="936" y="692"/>
                </a:lnTo>
                <a:lnTo>
                  <a:pt x="933" y="678"/>
                </a:lnTo>
                <a:lnTo>
                  <a:pt x="930" y="666"/>
                </a:lnTo>
                <a:lnTo>
                  <a:pt x="924" y="655"/>
                </a:lnTo>
                <a:lnTo>
                  <a:pt x="921" y="642"/>
                </a:lnTo>
                <a:lnTo>
                  <a:pt x="915" y="630"/>
                </a:lnTo>
                <a:lnTo>
                  <a:pt x="911" y="614"/>
                </a:lnTo>
                <a:lnTo>
                  <a:pt x="904" y="600"/>
                </a:lnTo>
                <a:lnTo>
                  <a:pt x="898" y="584"/>
                </a:lnTo>
                <a:lnTo>
                  <a:pt x="892" y="569"/>
                </a:lnTo>
                <a:lnTo>
                  <a:pt x="886" y="552"/>
                </a:lnTo>
                <a:lnTo>
                  <a:pt x="878" y="537"/>
                </a:lnTo>
                <a:lnTo>
                  <a:pt x="872" y="521"/>
                </a:lnTo>
                <a:lnTo>
                  <a:pt x="864" y="506"/>
                </a:lnTo>
                <a:lnTo>
                  <a:pt x="858" y="490"/>
                </a:lnTo>
                <a:lnTo>
                  <a:pt x="851" y="477"/>
                </a:lnTo>
                <a:lnTo>
                  <a:pt x="845" y="463"/>
                </a:lnTo>
                <a:lnTo>
                  <a:pt x="840" y="450"/>
                </a:lnTo>
                <a:lnTo>
                  <a:pt x="834" y="438"/>
                </a:lnTo>
                <a:lnTo>
                  <a:pt x="827" y="427"/>
                </a:lnTo>
                <a:lnTo>
                  <a:pt x="821" y="416"/>
                </a:lnTo>
                <a:lnTo>
                  <a:pt x="814" y="404"/>
                </a:lnTo>
                <a:lnTo>
                  <a:pt x="807" y="391"/>
                </a:lnTo>
                <a:lnTo>
                  <a:pt x="798" y="378"/>
                </a:lnTo>
                <a:lnTo>
                  <a:pt x="791" y="366"/>
                </a:lnTo>
                <a:lnTo>
                  <a:pt x="782" y="352"/>
                </a:lnTo>
                <a:lnTo>
                  <a:pt x="775" y="339"/>
                </a:lnTo>
                <a:lnTo>
                  <a:pt x="766" y="328"/>
                </a:lnTo>
                <a:lnTo>
                  <a:pt x="758" y="314"/>
                </a:lnTo>
                <a:lnTo>
                  <a:pt x="750" y="303"/>
                </a:lnTo>
                <a:lnTo>
                  <a:pt x="742" y="291"/>
                </a:lnTo>
                <a:lnTo>
                  <a:pt x="735" y="281"/>
                </a:lnTo>
                <a:lnTo>
                  <a:pt x="727" y="271"/>
                </a:lnTo>
                <a:lnTo>
                  <a:pt x="721" y="263"/>
                </a:lnTo>
                <a:lnTo>
                  <a:pt x="716" y="254"/>
                </a:lnTo>
                <a:lnTo>
                  <a:pt x="709" y="249"/>
                </a:lnTo>
                <a:lnTo>
                  <a:pt x="704" y="241"/>
                </a:lnTo>
                <a:lnTo>
                  <a:pt x="698" y="235"/>
                </a:lnTo>
                <a:lnTo>
                  <a:pt x="692" y="228"/>
                </a:lnTo>
                <a:lnTo>
                  <a:pt x="686" y="222"/>
                </a:lnTo>
                <a:lnTo>
                  <a:pt x="680" y="214"/>
                </a:lnTo>
                <a:lnTo>
                  <a:pt x="675" y="208"/>
                </a:lnTo>
                <a:lnTo>
                  <a:pt x="669" y="200"/>
                </a:lnTo>
                <a:lnTo>
                  <a:pt x="664" y="194"/>
                </a:lnTo>
                <a:lnTo>
                  <a:pt x="658" y="189"/>
                </a:lnTo>
                <a:lnTo>
                  <a:pt x="652" y="184"/>
                </a:lnTo>
                <a:lnTo>
                  <a:pt x="649" y="178"/>
                </a:lnTo>
                <a:lnTo>
                  <a:pt x="644" y="174"/>
                </a:lnTo>
                <a:lnTo>
                  <a:pt x="641" y="170"/>
                </a:lnTo>
                <a:lnTo>
                  <a:pt x="638" y="167"/>
                </a:lnTo>
                <a:lnTo>
                  <a:pt x="636" y="163"/>
                </a:lnTo>
                <a:lnTo>
                  <a:pt x="633" y="162"/>
                </a:lnTo>
                <a:lnTo>
                  <a:pt x="631" y="160"/>
                </a:lnTo>
                <a:lnTo>
                  <a:pt x="627" y="158"/>
                </a:lnTo>
                <a:lnTo>
                  <a:pt x="624" y="154"/>
                </a:lnTo>
                <a:lnTo>
                  <a:pt x="620" y="153"/>
                </a:lnTo>
                <a:lnTo>
                  <a:pt x="616" y="149"/>
                </a:lnTo>
                <a:lnTo>
                  <a:pt x="611" y="145"/>
                </a:lnTo>
                <a:lnTo>
                  <a:pt x="608" y="142"/>
                </a:lnTo>
                <a:lnTo>
                  <a:pt x="602" y="139"/>
                </a:lnTo>
                <a:lnTo>
                  <a:pt x="597" y="135"/>
                </a:lnTo>
                <a:lnTo>
                  <a:pt x="591" y="132"/>
                </a:lnTo>
                <a:lnTo>
                  <a:pt x="588" y="128"/>
                </a:lnTo>
                <a:lnTo>
                  <a:pt x="582" y="126"/>
                </a:lnTo>
                <a:lnTo>
                  <a:pt x="578" y="122"/>
                </a:lnTo>
                <a:lnTo>
                  <a:pt x="573" y="119"/>
                </a:lnTo>
                <a:lnTo>
                  <a:pt x="569" y="115"/>
                </a:lnTo>
                <a:lnTo>
                  <a:pt x="563" y="113"/>
                </a:lnTo>
                <a:lnTo>
                  <a:pt x="559" y="110"/>
                </a:lnTo>
                <a:lnTo>
                  <a:pt x="552" y="108"/>
                </a:lnTo>
                <a:lnTo>
                  <a:pt x="546" y="104"/>
                </a:lnTo>
                <a:lnTo>
                  <a:pt x="539" y="100"/>
                </a:lnTo>
                <a:lnTo>
                  <a:pt x="532" y="96"/>
                </a:lnTo>
                <a:lnTo>
                  <a:pt x="524" y="93"/>
                </a:lnTo>
                <a:lnTo>
                  <a:pt x="516" y="89"/>
                </a:lnTo>
                <a:lnTo>
                  <a:pt x="507" y="86"/>
                </a:lnTo>
                <a:lnTo>
                  <a:pt x="500" y="82"/>
                </a:lnTo>
                <a:lnTo>
                  <a:pt x="491" y="78"/>
                </a:lnTo>
                <a:lnTo>
                  <a:pt x="483" y="75"/>
                </a:lnTo>
                <a:lnTo>
                  <a:pt x="475" y="72"/>
                </a:lnTo>
                <a:lnTo>
                  <a:pt x="468" y="68"/>
                </a:lnTo>
                <a:lnTo>
                  <a:pt x="460" y="64"/>
                </a:lnTo>
                <a:lnTo>
                  <a:pt x="454" y="60"/>
                </a:lnTo>
                <a:lnTo>
                  <a:pt x="446" y="58"/>
                </a:lnTo>
                <a:lnTo>
                  <a:pt x="439" y="57"/>
                </a:lnTo>
                <a:lnTo>
                  <a:pt x="430" y="55"/>
                </a:lnTo>
                <a:lnTo>
                  <a:pt x="423" y="51"/>
                </a:lnTo>
                <a:lnTo>
                  <a:pt x="414" y="49"/>
                </a:lnTo>
                <a:lnTo>
                  <a:pt x="405" y="45"/>
                </a:lnTo>
                <a:lnTo>
                  <a:pt x="395" y="44"/>
                </a:lnTo>
                <a:lnTo>
                  <a:pt x="387" y="40"/>
                </a:lnTo>
                <a:lnTo>
                  <a:pt x="378" y="38"/>
                </a:lnTo>
                <a:lnTo>
                  <a:pt x="368" y="36"/>
                </a:lnTo>
                <a:lnTo>
                  <a:pt x="359" y="34"/>
                </a:lnTo>
                <a:lnTo>
                  <a:pt x="352" y="31"/>
                </a:lnTo>
                <a:lnTo>
                  <a:pt x="344" y="29"/>
                </a:lnTo>
                <a:lnTo>
                  <a:pt x="336" y="27"/>
                </a:lnTo>
                <a:lnTo>
                  <a:pt x="329" y="26"/>
                </a:lnTo>
                <a:lnTo>
                  <a:pt x="324" y="24"/>
                </a:lnTo>
                <a:lnTo>
                  <a:pt x="317" y="24"/>
                </a:lnTo>
                <a:lnTo>
                  <a:pt x="310" y="22"/>
                </a:lnTo>
                <a:lnTo>
                  <a:pt x="303" y="22"/>
                </a:lnTo>
                <a:lnTo>
                  <a:pt x="296" y="20"/>
                </a:lnTo>
                <a:lnTo>
                  <a:pt x="286" y="20"/>
                </a:lnTo>
                <a:lnTo>
                  <a:pt x="278" y="18"/>
                </a:lnTo>
                <a:lnTo>
                  <a:pt x="269" y="16"/>
                </a:lnTo>
                <a:lnTo>
                  <a:pt x="261" y="14"/>
                </a:lnTo>
                <a:lnTo>
                  <a:pt x="251" y="14"/>
                </a:lnTo>
                <a:lnTo>
                  <a:pt x="241" y="12"/>
                </a:lnTo>
                <a:lnTo>
                  <a:pt x="232" y="12"/>
                </a:lnTo>
                <a:lnTo>
                  <a:pt x="223" y="10"/>
                </a:lnTo>
                <a:lnTo>
                  <a:pt x="214" y="10"/>
                </a:lnTo>
                <a:lnTo>
                  <a:pt x="206" y="8"/>
                </a:lnTo>
                <a:lnTo>
                  <a:pt x="198" y="8"/>
                </a:lnTo>
                <a:lnTo>
                  <a:pt x="191" y="7"/>
                </a:lnTo>
                <a:lnTo>
                  <a:pt x="183" y="7"/>
                </a:lnTo>
                <a:lnTo>
                  <a:pt x="175" y="7"/>
                </a:lnTo>
                <a:lnTo>
                  <a:pt x="166" y="7"/>
                </a:lnTo>
                <a:lnTo>
                  <a:pt x="158" y="5"/>
                </a:lnTo>
                <a:lnTo>
                  <a:pt x="149" y="5"/>
                </a:lnTo>
                <a:lnTo>
                  <a:pt x="140" y="5"/>
                </a:lnTo>
                <a:lnTo>
                  <a:pt x="131" y="5"/>
                </a:lnTo>
                <a:lnTo>
                  <a:pt x="122" y="3"/>
                </a:lnTo>
                <a:lnTo>
                  <a:pt x="113" y="3"/>
                </a:lnTo>
                <a:lnTo>
                  <a:pt x="103" y="3"/>
                </a:lnTo>
                <a:lnTo>
                  <a:pt x="94" y="3"/>
                </a:lnTo>
                <a:lnTo>
                  <a:pt x="86" y="1"/>
                </a:lnTo>
                <a:lnTo>
                  <a:pt x="77" y="1"/>
                </a:lnTo>
                <a:lnTo>
                  <a:pt x="70" y="1"/>
                </a:lnTo>
                <a:lnTo>
                  <a:pt x="64" y="1"/>
                </a:lnTo>
                <a:lnTo>
                  <a:pt x="58" y="0"/>
                </a:lnTo>
                <a:lnTo>
                  <a:pt x="52" y="0"/>
                </a:lnTo>
                <a:lnTo>
                  <a:pt x="48" y="0"/>
                </a:lnTo>
                <a:lnTo>
                  <a:pt x="46" y="0"/>
                </a:lnTo>
                <a:lnTo>
                  <a:pt x="44" y="0"/>
                </a:lnTo>
                <a:lnTo>
                  <a:pt x="42" y="0"/>
                </a:lnTo>
                <a:lnTo>
                  <a:pt x="42" y="0"/>
                </a:lnTo>
                <a:lnTo>
                  <a:pt x="40" y="0"/>
                </a:lnTo>
                <a:lnTo>
                  <a:pt x="40" y="0"/>
                </a:lnTo>
                <a:lnTo>
                  <a:pt x="37" y="0"/>
                </a:lnTo>
                <a:lnTo>
                  <a:pt x="35" y="0"/>
                </a:lnTo>
                <a:lnTo>
                  <a:pt x="32" y="0"/>
                </a:lnTo>
                <a:lnTo>
                  <a:pt x="28" y="0"/>
                </a:lnTo>
                <a:lnTo>
                  <a:pt x="23" y="0"/>
                </a:ln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25520" y="3484440"/>
            <a:ext cx="25560" cy="4932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105600" y="6629400"/>
            <a:ext cx="419040" cy="735120"/>
            <a:chOff x="6105600" y="6629400"/>
            <a:chExt cx="419040" cy="735120"/>
          </a:xfrm>
        </p:grpSpPr>
        <p:sp>
          <p:nvSpPr>
            <p:cNvPr id="293" name=""/>
            <p:cNvSpPr/>
            <p:nvPr/>
          </p:nvSpPr>
          <p:spPr>
            <a:xfrm>
              <a:off x="6105600" y="6711840"/>
              <a:ext cx="2379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40320" y="7018200"/>
              <a:ext cx="1778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46800" y="6629400"/>
              <a:ext cx="177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721560" y="3119400"/>
            <a:ext cx="37656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Hay una brecha entre las TMS de estos individu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2480" y="3149640"/>
            <a:ext cx="3281400" cy="649080"/>
          </a:xfrm>
          <a:prstGeom prst="line">
            <a:avLst/>
          </a:prstGeom>
          <a:ln w="63360">
            <a:solidFill>
              <a:srgbClr val="ff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4860000">
            <a:off x="1240560" y="2621520"/>
            <a:ext cx="259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MS de Ju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09680" y="3124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600000">
            <a:off x="463680" y="2835360"/>
            <a:ext cx="251460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Times New Roman"/>
              </a:rPr>
              <a:t>TMS de Pe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715000" y="1600200"/>
            <a:ext cx="4832280" cy="4664160"/>
            <a:chOff x="5715000" y="1600200"/>
            <a:chExt cx="4832280" cy="4664160"/>
          </a:xfrm>
        </p:grpSpPr>
        <p:sp>
          <p:nvSpPr>
            <p:cNvPr id="302" name=""/>
            <p:cNvSpPr/>
            <p:nvPr/>
          </p:nvSpPr>
          <p:spPr>
            <a:xfrm>
              <a:off x="5715000" y="1600200"/>
              <a:ext cx="4832280" cy="4664160"/>
            </a:xfrm>
            <a:custGeom>
              <a:avLst/>
              <a:gdLst/>
              <a:ahLst/>
              <a:rect l="l" t="t" r="r" b="b"/>
              <a:pathLst>
                <a:path w="3044" h="2938">
                  <a:moveTo>
                    <a:pt x="3043" y="1443"/>
                  </a:moveTo>
                  <a:lnTo>
                    <a:pt x="3043" y="1443"/>
                  </a:lnTo>
                  <a:lnTo>
                    <a:pt x="1250" y="0"/>
                  </a:lnTo>
                  <a:lnTo>
                    <a:pt x="1459" y="722"/>
                  </a:lnTo>
                  <a:lnTo>
                    <a:pt x="0" y="722"/>
                  </a:lnTo>
                  <a:lnTo>
                    <a:pt x="0" y="2264"/>
                  </a:lnTo>
                  <a:lnTo>
                    <a:pt x="1459" y="2264"/>
                  </a:lnTo>
                  <a:lnTo>
                    <a:pt x="1250" y="2937"/>
                  </a:lnTo>
                  <a:lnTo>
                    <a:pt x="3043" y="1443"/>
                  </a:lnTo>
                  <a:lnTo>
                    <a:pt x="3043" y="1443"/>
                  </a:lnTo>
                </a:path>
              </a:pathLst>
            </a:custGeom>
            <a:gradFill rotWithShape="0">
              <a:gsLst>
                <a:gs pos="0">
                  <a:srgbClr val="ffffc2"/>
                </a:gs>
                <a:gs pos="50000">
                  <a:srgbClr val="00ffff"/>
                </a:gs>
                <a:gs pos="100000">
                  <a:srgbClr val="ffffc2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8760" y="3068640"/>
              <a:ext cx="4668840" cy="28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200" spc="-1" strike="noStrike">
                  <a:solidFill>
                    <a:srgbClr val="000080"/>
                  </a:solidFill>
                  <a:latin typeface="Times New Roman"/>
                </a:rPr>
                <a:t>Pero qué puede causar esto...?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80880" y="759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otivos para las distorcion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265400" y="1978200"/>
            <a:ext cx="8137440" cy="5225760"/>
            <a:chOff x="1265400" y="1978200"/>
            <a:chExt cx="8137440" cy="5225760"/>
          </a:xfrm>
        </p:grpSpPr>
        <p:grpSp>
          <p:nvGrpSpPr>
            <p:cNvPr id="306" name=""/>
            <p:cNvGrpSpPr/>
            <p:nvPr/>
          </p:nvGrpSpPr>
          <p:grpSpPr>
            <a:xfrm>
              <a:off x="1265400" y="2120760"/>
              <a:ext cx="7756200" cy="5083200"/>
              <a:chOff x="1265400" y="2120760"/>
              <a:chExt cx="7756200" cy="5083200"/>
            </a:xfrm>
          </p:grpSpPr>
          <p:sp>
            <p:nvSpPr>
              <p:cNvPr id="307" name=""/>
              <p:cNvSpPr/>
              <p:nvPr/>
            </p:nvSpPr>
            <p:spPr>
              <a:xfrm>
                <a:off x="1265400" y="2455920"/>
                <a:ext cx="7756200" cy="4748040"/>
              </a:xfrm>
              <a:custGeom>
                <a:avLst/>
                <a:gdLst/>
                <a:ahLst/>
                <a:rect l="l" t="t" r="r" b="b"/>
                <a:pathLst>
                  <a:path w="4886" h="2991">
                    <a:moveTo>
                      <a:pt x="174" y="0"/>
                    </a:moveTo>
                    <a:lnTo>
                      <a:pt x="174" y="0"/>
                    </a:lnTo>
                    <a:lnTo>
                      <a:pt x="128" y="3"/>
                    </a:lnTo>
                    <a:lnTo>
                      <a:pt x="89" y="25"/>
                    </a:lnTo>
                    <a:lnTo>
                      <a:pt x="58" y="49"/>
                    </a:lnTo>
                    <a:lnTo>
                      <a:pt x="33" y="75"/>
                    </a:lnTo>
                    <a:lnTo>
                      <a:pt x="12" y="105"/>
                    </a:lnTo>
                    <a:lnTo>
                      <a:pt x="3" y="139"/>
                    </a:lnTo>
                    <a:lnTo>
                      <a:pt x="0" y="175"/>
                    </a:lnTo>
                    <a:lnTo>
                      <a:pt x="3" y="191"/>
                    </a:lnTo>
                    <a:lnTo>
                      <a:pt x="3" y="203"/>
                    </a:lnTo>
                    <a:lnTo>
                      <a:pt x="3" y="2848"/>
                    </a:lnTo>
                    <a:lnTo>
                      <a:pt x="10" y="2881"/>
                    </a:lnTo>
                    <a:lnTo>
                      <a:pt x="23" y="2915"/>
                    </a:lnTo>
                    <a:lnTo>
                      <a:pt x="47" y="2941"/>
                    </a:lnTo>
                    <a:lnTo>
                      <a:pt x="80" y="2964"/>
                    </a:lnTo>
                    <a:lnTo>
                      <a:pt x="114" y="2983"/>
                    </a:lnTo>
                    <a:lnTo>
                      <a:pt x="154" y="2987"/>
                    </a:lnTo>
                    <a:lnTo>
                      <a:pt x="193" y="2990"/>
                    </a:lnTo>
                    <a:lnTo>
                      <a:pt x="4668" y="2990"/>
                    </a:lnTo>
                    <a:lnTo>
                      <a:pt x="4677" y="2990"/>
                    </a:lnTo>
                    <a:lnTo>
                      <a:pt x="4715" y="2987"/>
                    </a:lnTo>
                    <a:lnTo>
                      <a:pt x="4765" y="2983"/>
                    </a:lnTo>
                    <a:lnTo>
                      <a:pt x="4793" y="2973"/>
                    </a:lnTo>
                    <a:lnTo>
                      <a:pt x="4825" y="2954"/>
                    </a:lnTo>
                    <a:lnTo>
                      <a:pt x="4853" y="2927"/>
                    </a:lnTo>
                    <a:lnTo>
                      <a:pt x="4874" y="2898"/>
                    </a:lnTo>
                    <a:lnTo>
                      <a:pt x="4885" y="2863"/>
                    </a:lnTo>
                    <a:lnTo>
                      <a:pt x="4885" y="2830"/>
                    </a:lnTo>
                    <a:lnTo>
                      <a:pt x="4885" y="2809"/>
                    </a:lnTo>
                    <a:lnTo>
                      <a:pt x="4881" y="2809"/>
                    </a:lnTo>
                    <a:lnTo>
                      <a:pt x="4885" y="161"/>
                    </a:lnTo>
                    <a:lnTo>
                      <a:pt x="4879" y="128"/>
                    </a:lnTo>
                    <a:lnTo>
                      <a:pt x="4863" y="96"/>
                    </a:lnTo>
                    <a:lnTo>
                      <a:pt x="4839" y="67"/>
                    </a:lnTo>
                    <a:lnTo>
                      <a:pt x="4809" y="42"/>
                    </a:lnTo>
                    <a:lnTo>
                      <a:pt x="4772" y="25"/>
                    </a:lnTo>
                    <a:lnTo>
                      <a:pt x="4736" y="17"/>
                    </a:lnTo>
                    <a:lnTo>
                      <a:pt x="4695" y="12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34200" y="2179800"/>
                <a:ext cx="2502000" cy="295200"/>
              </a:xfrm>
              <a:custGeom>
                <a:avLst/>
                <a:gdLst/>
                <a:ahLst/>
                <a:rect l="l" t="t" r="r" b="b"/>
                <a:pathLst>
                  <a:path w="1576" h="186">
                    <a:moveTo>
                      <a:pt x="1430" y="25"/>
                    </a:moveTo>
                    <a:lnTo>
                      <a:pt x="1430" y="25"/>
                    </a:lnTo>
                    <a:lnTo>
                      <a:pt x="1405" y="10"/>
                    </a:lnTo>
                    <a:lnTo>
                      <a:pt x="1374" y="1"/>
                    </a:lnTo>
                    <a:lnTo>
                      <a:pt x="1351" y="0"/>
                    </a:lnTo>
                    <a:lnTo>
                      <a:pt x="1352" y="0"/>
                    </a:lnTo>
                    <a:lnTo>
                      <a:pt x="229" y="0"/>
                    </a:lnTo>
                    <a:lnTo>
                      <a:pt x="209" y="0"/>
                    </a:lnTo>
                    <a:lnTo>
                      <a:pt x="194" y="3"/>
                    </a:lnTo>
                    <a:lnTo>
                      <a:pt x="178" y="8"/>
                    </a:lnTo>
                    <a:lnTo>
                      <a:pt x="158" y="16"/>
                    </a:lnTo>
                    <a:lnTo>
                      <a:pt x="150" y="25"/>
                    </a:lnTo>
                    <a:lnTo>
                      <a:pt x="122" y="60"/>
                    </a:lnTo>
                    <a:lnTo>
                      <a:pt x="90" y="120"/>
                    </a:lnTo>
                    <a:lnTo>
                      <a:pt x="52" y="161"/>
                    </a:lnTo>
                    <a:lnTo>
                      <a:pt x="0" y="185"/>
                    </a:lnTo>
                    <a:lnTo>
                      <a:pt x="1575" y="185"/>
                    </a:lnTo>
                    <a:lnTo>
                      <a:pt x="1521" y="155"/>
                    </a:lnTo>
                    <a:lnTo>
                      <a:pt x="1491" y="120"/>
                    </a:lnTo>
                    <a:lnTo>
                      <a:pt x="1454" y="51"/>
                    </a:lnTo>
                    <a:lnTo>
                      <a:pt x="1430" y="25"/>
                    </a:lnTo>
                    <a:lnTo>
                      <a:pt x="1430" y="25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98960" y="2141640"/>
                <a:ext cx="2652840" cy="333360"/>
              </a:xfrm>
              <a:custGeom>
                <a:avLst/>
                <a:gdLst/>
                <a:ahLst/>
                <a:rect l="l" t="t" r="r" b="b"/>
                <a:pathLst>
                  <a:path w="1671" h="210">
                    <a:moveTo>
                      <a:pt x="1516" y="41"/>
                    </a:moveTo>
                    <a:lnTo>
                      <a:pt x="1516" y="41"/>
                    </a:lnTo>
                    <a:lnTo>
                      <a:pt x="1491" y="22"/>
                    </a:lnTo>
                    <a:lnTo>
                      <a:pt x="1457" y="4"/>
                    </a:lnTo>
                    <a:lnTo>
                      <a:pt x="1433" y="0"/>
                    </a:lnTo>
                    <a:lnTo>
                      <a:pt x="243" y="2"/>
                    </a:lnTo>
                    <a:lnTo>
                      <a:pt x="222" y="2"/>
                    </a:lnTo>
                    <a:lnTo>
                      <a:pt x="205" y="5"/>
                    </a:lnTo>
                    <a:lnTo>
                      <a:pt x="188" y="11"/>
                    </a:lnTo>
                    <a:lnTo>
                      <a:pt x="171" y="18"/>
                    </a:lnTo>
                    <a:lnTo>
                      <a:pt x="160" y="25"/>
                    </a:lnTo>
                    <a:lnTo>
                      <a:pt x="158" y="29"/>
                    </a:lnTo>
                    <a:lnTo>
                      <a:pt x="128" y="65"/>
                    </a:lnTo>
                    <a:lnTo>
                      <a:pt x="94" y="130"/>
                    </a:lnTo>
                    <a:lnTo>
                      <a:pt x="54" y="173"/>
                    </a:lnTo>
                    <a:lnTo>
                      <a:pt x="0" y="197"/>
                    </a:lnTo>
                    <a:lnTo>
                      <a:pt x="1670" y="209"/>
                    </a:lnTo>
                    <a:lnTo>
                      <a:pt x="1614" y="176"/>
                    </a:lnTo>
                    <a:lnTo>
                      <a:pt x="1581" y="141"/>
                    </a:lnTo>
                    <a:lnTo>
                      <a:pt x="1541" y="67"/>
                    </a:lnTo>
                    <a:lnTo>
                      <a:pt x="1516" y="41"/>
                    </a:lnTo>
                    <a:lnTo>
                      <a:pt x="1516" y="41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811160" y="2120760"/>
                <a:ext cx="2673360" cy="339840"/>
              </a:xfrm>
              <a:custGeom>
                <a:avLst/>
                <a:gdLst/>
                <a:ahLst/>
                <a:rect l="l" t="t" r="r" b="b"/>
                <a:pathLst>
                  <a:path w="1684" h="214">
                    <a:moveTo>
                      <a:pt x="1525" y="30"/>
                    </a:moveTo>
                    <a:lnTo>
                      <a:pt x="1525" y="30"/>
                    </a:lnTo>
                    <a:lnTo>
                      <a:pt x="1498" y="12"/>
                    </a:lnTo>
                    <a:lnTo>
                      <a:pt x="1465" y="1"/>
                    </a:lnTo>
                    <a:lnTo>
                      <a:pt x="1440" y="0"/>
                    </a:lnTo>
                    <a:lnTo>
                      <a:pt x="1441" y="0"/>
                    </a:lnTo>
                    <a:lnTo>
                      <a:pt x="251" y="0"/>
                    </a:lnTo>
                    <a:lnTo>
                      <a:pt x="229" y="0"/>
                    </a:lnTo>
                    <a:lnTo>
                      <a:pt x="214" y="2"/>
                    </a:lnTo>
                    <a:lnTo>
                      <a:pt x="197" y="9"/>
                    </a:lnTo>
                    <a:lnTo>
                      <a:pt x="181" y="16"/>
                    </a:lnTo>
                    <a:lnTo>
                      <a:pt x="168" y="26"/>
                    </a:lnTo>
                    <a:lnTo>
                      <a:pt x="167" y="30"/>
                    </a:lnTo>
                    <a:lnTo>
                      <a:pt x="137" y="72"/>
                    </a:lnTo>
                    <a:lnTo>
                      <a:pt x="103" y="147"/>
                    </a:lnTo>
                    <a:lnTo>
                      <a:pt x="0" y="210"/>
                    </a:lnTo>
                    <a:lnTo>
                      <a:pt x="1683" y="213"/>
                    </a:lnTo>
                    <a:lnTo>
                      <a:pt x="1589" y="147"/>
                    </a:lnTo>
                    <a:lnTo>
                      <a:pt x="1551" y="62"/>
                    </a:lnTo>
                    <a:lnTo>
                      <a:pt x="1525" y="30"/>
                    </a:lnTo>
                    <a:lnTo>
                      <a:pt x="1525" y="3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353960" y="2309760"/>
              <a:ext cx="7756560" cy="4749840"/>
            </a:xfrm>
            <a:custGeom>
              <a:avLst/>
              <a:gdLst/>
              <a:ahLst/>
              <a:rect l="l" t="t" r="r" b="b"/>
              <a:pathLst>
                <a:path w="4886" h="2992">
                  <a:moveTo>
                    <a:pt x="174" y="0"/>
                  </a:moveTo>
                  <a:lnTo>
                    <a:pt x="174" y="0"/>
                  </a:lnTo>
                  <a:lnTo>
                    <a:pt x="127" y="4"/>
                  </a:lnTo>
                  <a:lnTo>
                    <a:pt x="89" y="23"/>
                  </a:lnTo>
                  <a:lnTo>
                    <a:pt x="58" y="51"/>
                  </a:lnTo>
                  <a:lnTo>
                    <a:pt x="33" y="76"/>
                  </a:lnTo>
                  <a:lnTo>
                    <a:pt x="11" y="106"/>
                  </a:lnTo>
                  <a:lnTo>
                    <a:pt x="2" y="141"/>
                  </a:lnTo>
                  <a:lnTo>
                    <a:pt x="0" y="177"/>
                  </a:lnTo>
                  <a:lnTo>
                    <a:pt x="2" y="193"/>
                  </a:lnTo>
                  <a:lnTo>
                    <a:pt x="2" y="205"/>
                  </a:lnTo>
                  <a:lnTo>
                    <a:pt x="2" y="2850"/>
                  </a:lnTo>
                  <a:lnTo>
                    <a:pt x="9" y="2883"/>
                  </a:lnTo>
                  <a:lnTo>
                    <a:pt x="23" y="2916"/>
                  </a:lnTo>
                  <a:lnTo>
                    <a:pt x="46" y="2942"/>
                  </a:lnTo>
                  <a:lnTo>
                    <a:pt x="79" y="2966"/>
                  </a:lnTo>
                  <a:lnTo>
                    <a:pt x="113" y="2984"/>
                  </a:lnTo>
                  <a:lnTo>
                    <a:pt x="153" y="2989"/>
                  </a:lnTo>
                  <a:lnTo>
                    <a:pt x="193" y="2991"/>
                  </a:lnTo>
                  <a:lnTo>
                    <a:pt x="4668" y="2991"/>
                  </a:lnTo>
                  <a:lnTo>
                    <a:pt x="4677" y="2991"/>
                  </a:lnTo>
                  <a:lnTo>
                    <a:pt x="4715" y="2989"/>
                  </a:lnTo>
                  <a:lnTo>
                    <a:pt x="4764" y="2985"/>
                  </a:lnTo>
                  <a:lnTo>
                    <a:pt x="4793" y="2973"/>
                  </a:lnTo>
                  <a:lnTo>
                    <a:pt x="4825" y="2955"/>
                  </a:lnTo>
                  <a:lnTo>
                    <a:pt x="4853" y="2929"/>
                  </a:lnTo>
                  <a:lnTo>
                    <a:pt x="4873" y="2899"/>
                  </a:lnTo>
                  <a:lnTo>
                    <a:pt x="4885" y="2864"/>
                  </a:lnTo>
                  <a:lnTo>
                    <a:pt x="4885" y="2831"/>
                  </a:lnTo>
                  <a:lnTo>
                    <a:pt x="4885" y="2811"/>
                  </a:lnTo>
                  <a:lnTo>
                    <a:pt x="4881" y="2811"/>
                  </a:lnTo>
                  <a:lnTo>
                    <a:pt x="4885" y="163"/>
                  </a:lnTo>
                  <a:lnTo>
                    <a:pt x="4878" y="129"/>
                  </a:lnTo>
                  <a:lnTo>
                    <a:pt x="4862" y="97"/>
                  </a:lnTo>
                  <a:lnTo>
                    <a:pt x="4839" y="67"/>
                  </a:lnTo>
                  <a:lnTo>
                    <a:pt x="4809" y="43"/>
                  </a:lnTo>
                  <a:lnTo>
                    <a:pt x="4771" y="27"/>
                  </a:lnTo>
                  <a:lnTo>
                    <a:pt x="4735" y="19"/>
                  </a:lnTo>
                  <a:lnTo>
                    <a:pt x="4693" y="14"/>
                  </a:lnTo>
                  <a:lnTo>
                    <a:pt x="174" y="0"/>
                  </a:lnTo>
                  <a:lnTo>
                    <a:pt x="174" y="0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63680" y="2309760"/>
              <a:ext cx="7756560" cy="4749840"/>
            </a:xfrm>
            <a:custGeom>
              <a:avLst/>
              <a:gdLst/>
              <a:ahLst/>
              <a:rect l="l" t="t" r="r" b="b"/>
              <a:pathLst>
                <a:path w="4886" h="2992">
                  <a:moveTo>
                    <a:pt x="174" y="0"/>
                  </a:moveTo>
                  <a:lnTo>
                    <a:pt x="174" y="0"/>
                  </a:lnTo>
                  <a:lnTo>
                    <a:pt x="128" y="4"/>
                  </a:lnTo>
                  <a:lnTo>
                    <a:pt x="90" y="26"/>
                  </a:lnTo>
                  <a:lnTo>
                    <a:pt x="59" y="51"/>
                  </a:lnTo>
                  <a:lnTo>
                    <a:pt x="33" y="76"/>
                  </a:lnTo>
                  <a:lnTo>
                    <a:pt x="12" y="106"/>
                  </a:lnTo>
                  <a:lnTo>
                    <a:pt x="3" y="141"/>
                  </a:lnTo>
                  <a:lnTo>
                    <a:pt x="0" y="177"/>
                  </a:lnTo>
                  <a:lnTo>
                    <a:pt x="3" y="193"/>
                  </a:lnTo>
                  <a:lnTo>
                    <a:pt x="3" y="205"/>
                  </a:lnTo>
                  <a:lnTo>
                    <a:pt x="3" y="2850"/>
                  </a:lnTo>
                  <a:lnTo>
                    <a:pt x="10" y="2883"/>
                  </a:lnTo>
                  <a:lnTo>
                    <a:pt x="24" y="2916"/>
                  </a:lnTo>
                  <a:lnTo>
                    <a:pt x="46" y="2942"/>
                  </a:lnTo>
                  <a:lnTo>
                    <a:pt x="79" y="2966"/>
                  </a:lnTo>
                  <a:lnTo>
                    <a:pt x="113" y="2984"/>
                  </a:lnTo>
                  <a:lnTo>
                    <a:pt x="153" y="2989"/>
                  </a:lnTo>
                  <a:lnTo>
                    <a:pt x="193" y="2991"/>
                  </a:lnTo>
                  <a:lnTo>
                    <a:pt x="4668" y="2991"/>
                  </a:lnTo>
                  <a:lnTo>
                    <a:pt x="4677" y="2991"/>
                  </a:lnTo>
                  <a:lnTo>
                    <a:pt x="4715" y="2989"/>
                  </a:lnTo>
                  <a:lnTo>
                    <a:pt x="4764" y="2985"/>
                  </a:lnTo>
                  <a:lnTo>
                    <a:pt x="4794" y="2973"/>
                  </a:lnTo>
                  <a:lnTo>
                    <a:pt x="4825" y="2955"/>
                  </a:lnTo>
                  <a:lnTo>
                    <a:pt x="4853" y="2929"/>
                  </a:lnTo>
                  <a:lnTo>
                    <a:pt x="4874" y="2899"/>
                  </a:lnTo>
                  <a:lnTo>
                    <a:pt x="4885" y="2864"/>
                  </a:lnTo>
                  <a:lnTo>
                    <a:pt x="4885" y="2831"/>
                  </a:lnTo>
                  <a:lnTo>
                    <a:pt x="4885" y="2811"/>
                  </a:lnTo>
                  <a:lnTo>
                    <a:pt x="4881" y="2811"/>
                  </a:lnTo>
                  <a:lnTo>
                    <a:pt x="4885" y="163"/>
                  </a:lnTo>
                  <a:lnTo>
                    <a:pt x="4879" y="129"/>
                  </a:lnTo>
                  <a:lnTo>
                    <a:pt x="4863" y="97"/>
                  </a:lnTo>
                  <a:lnTo>
                    <a:pt x="4839" y="67"/>
                  </a:lnTo>
                  <a:lnTo>
                    <a:pt x="4809" y="43"/>
                  </a:lnTo>
                  <a:lnTo>
                    <a:pt x="4772" y="27"/>
                  </a:lnTo>
                  <a:lnTo>
                    <a:pt x="4735" y="19"/>
                  </a:lnTo>
                  <a:lnTo>
                    <a:pt x="4695" y="14"/>
                  </a:lnTo>
                  <a:lnTo>
                    <a:pt x="174" y="0"/>
                  </a:lnTo>
                  <a:lnTo>
                    <a:pt x="174" y="0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79600" y="2303640"/>
              <a:ext cx="7758000" cy="4781520"/>
            </a:xfrm>
            <a:custGeom>
              <a:avLst/>
              <a:gdLst/>
              <a:ahLst/>
              <a:rect l="l" t="t" r="r" b="b"/>
              <a:pathLst>
                <a:path w="4887" h="3012">
                  <a:moveTo>
                    <a:pt x="167" y="5"/>
                  </a:moveTo>
                  <a:lnTo>
                    <a:pt x="128" y="23"/>
                  </a:lnTo>
                  <a:lnTo>
                    <a:pt x="93" y="39"/>
                  </a:lnTo>
                  <a:lnTo>
                    <a:pt x="59" y="58"/>
                  </a:lnTo>
                  <a:lnTo>
                    <a:pt x="32" y="84"/>
                  </a:lnTo>
                  <a:lnTo>
                    <a:pt x="12" y="113"/>
                  </a:lnTo>
                  <a:lnTo>
                    <a:pt x="2" y="149"/>
                  </a:lnTo>
                  <a:lnTo>
                    <a:pt x="0" y="185"/>
                  </a:lnTo>
                  <a:lnTo>
                    <a:pt x="2" y="201"/>
                  </a:lnTo>
                  <a:lnTo>
                    <a:pt x="2" y="213"/>
                  </a:lnTo>
                  <a:lnTo>
                    <a:pt x="2" y="2869"/>
                  </a:lnTo>
                  <a:lnTo>
                    <a:pt x="10" y="2901"/>
                  </a:lnTo>
                  <a:lnTo>
                    <a:pt x="24" y="2935"/>
                  </a:lnTo>
                  <a:lnTo>
                    <a:pt x="47" y="2962"/>
                  </a:lnTo>
                  <a:lnTo>
                    <a:pt x="79" y="2985"/>
                  </a:lnTo>
                  <a:lnTo>
                    <a:pt x="114" y="3003"/>
                  </a:lnTo>
                  <a:lnTo>
                    <a:pt x="154" y="3008"/>
                  </a:lnTo>
                  <a:lnTo>
                    <a:pt x="194" y="3011"/>
                  </a:lnTo>
                  <a:lnTo>
                    <a:pt x="4668" y="3011"/>
                  </a:lnTo>
                  <a:lnTo>
                    <a:pt x="4677" y="3011"/>
                  </a:lnTo>
                  <a:lnTo>
                    <a:pt x="4715" y="3007"/>
                  </a:lnTo>
                  <a:lnTo>
                    <a:pt x="4765" y="3004"/>
                  </a:lnTo>
                  <a:lnTo>
                    <a:pt x="4794" y="2993"/>
                  </a:lnTo>
                  <a:lnTo>
                    <a:pt x="4826" y="2974"/>
                  </a:lnTo>
                  <a:lnTo>
                    <a:pt x="4854" y="2947"/>
                  </a:lnTo>
                  <a:lnTo>
                    <a:pt x="4874" y="2917"/>
                  </a:lnTo>
                  <a:lnTo>
                    <a:pt x="4886" y="2883"/>
                  </a:lnTo>
                  <a:lnTo>
                    <a:pt x="4886" y="2849"/>
                  </a:lnTo>
                  <a:lnTo>
                    <a:pt x="4886" y="183"/>
                  </a:lnTo>
                  <a:lnTo>
                    <a:pt x="4879" y="148"/>
                  </a:lnTo>
                  <a:lnTo>
                    <a:pt x="4863" y="116"/>
                  </a:lnTo>
                  <a:lnTo>
                    <a:pt x="4840" y="87"/>
                  </a:lnTo>
                  <a:lnTo>
                    <a:pt x="4810" y="63"/>
                  </a:lnTo>
                  <a:lnTo>
                    <a:pt x="4771" y="42"/>
                  </a:lnTo>
                  <a:lnTo>
                    <a:pt x="4735" y="25"/>
                  </a:lnTo>
                  <a:lnTo>
                    <a:pt x="4708" y="13"/>
                  </a:lnTo>
                  <a:lnTo>
                    <a:pt x="4681" y="5"/>
                  </a:lnTo>
                  <a:lnTo>
                    <a:pt x="4650" y="0"/>
                  </a:lnTo>
                  <a:lnTo>
                    <a:pt x="167" y="5"/>
                  </a:lnTo>
                  <a:lnTo>
                    <a:pt x="167" y="5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6880" y="2309760"/>
              <a:ext cx="7756560" cy="4749840"/>
            </a:xfrm>
            <a:custGeom>
              <a:avLst/>
              <a:gdLst/>
              <a:ahLst/>
              <a:rect l="l" t="t" r="r" b="b"/>
              <a:pathLst>
                <a:path w="4886" h="2992">
                  <a:moveTo>
                    <a:pt x="174" y="0"/>
                  </a:moveTo>
                  <a:lnTo>
                    <a:pt x="174" y="0"/>
                  </a:lnTo>
                  <a:lnTo>
                    <a:pt x="128" y="4"/>
                  </a:lnTo>
                  <a:lnTo>
                    <a:pt x="93" y="19"/>
                  </a:lnTo>
                  <a:lnTo>
                    <a:pt x="58" y="38"/>
                  </a:lnTo>
                  <a:lnTo>
                    <a:pt x="32" y="65"/>
                  </a:lnTo>
                  <a:lnTo>
                    <a:pt x="11" y="106"/>
                  </a:lnTo>
                  <a:lnTo>
                    <a:pt x="2" y="141"/>
                  </a:lnTo>
                  <a:lnTo>
                    <a:pt x="0" y="177"/>
                  </a:lnTo>
                  <a:lnTo>
                    <a:pt x="2" y="193"/>
                  </a:lnTo>
                  <a:lnTo>
                    <a:pt x="2" y="205"/>
                  </a:lnTo>
                  <a:lnTo>
                    <a:pt x="2" y="2850"/>
                  </a:lnTo>
                  <a:lnTo>
                    <a:pt x="9" y="2883"/>
                  </a:lnTo>
                  <a:lnTo>
                    <a:pt x="23" y="2916"/>
                  </a:lnTo>
                  <a:lnTo>
                    <a:pt x="47" y="2942"/>
                  </a:lnTo>
                  <a:lnTo>
                    <a:pt x="79" y="2966"/>
                  </a:lnTo>
                  <a:lnTo>
                    <a:pt x="113" y="2984"/>
                  </a:lnTo>
                  <a:lnTo>
                    <a:pt x="153" y="2989"/>
                  </a:lnTo>
                  <a:lnTo>
                    <a:pt x="193" y="2991"/>
                  </a:lnTo>
                  <a:lnTo>
                    <a:pt x="4667" y="2991"/>
                  </a:lnTo>
                  <a:lnTo>
                    <a:pt x="4677" y="2991"/>
                  </a:lnTo>
                  <a:lnTo>
                    <a:pt x="4714" y="2989"/>
                  </a:lnTo>
                  <a:lnTo>
                    <a:pt x="4765" y="2985"/>
                  </a:lnTo>
                  <a:lnTo>
                    <a:pt x="4793" y="2973"/>
                  </a:lnTo>
                  <a:lnTo>
                    <a:pt x="4825" y="2955"/>
                  </a:lnTo>
                  <a:lnTo>
                    <a:pt x="4853" y="2929"/>
                  </a:lnTo>
                  <a:lnTo>
                    <a:pt x="4874" y="2899"/>
                  </a:lnTo>
                  <a:lnTo>
                    <a:pt x="4885" y="2864"/>
                  </a:lnTo>
                  <a:lnTo>
                    <a:pt x="4885" y="2831"/>
                  </a:lnTo>
                  <a:lnTo>
                    <a:pt x="4885" y="2811"/>
                  </a:lnTo>
                  <a:lnTo>
                    <a:pt x="4881" y="2811"/>
                  </a:lnTo>
                  <a:lnTo>
                    <a:pt x="4885" y="163"/>
                  </a:lnTo>
                  <a:lnTo>
                    <a:pt x="4878" y="129"/>
                  </a:lnTo>
                  <a:lnTo>
                    <a:pt x="4862" y="97"/>
                  </a:lnTo>
                  <a:lnTo>
                    <a:pt x="4839" y="67"/>
                  </a:lnTo>
                  <a:lnTo>
                    <a:pt x="4809" y="43"/>
                  </a:lnTo>
                  <a:lnTo>
                    <a:pt x="4771" y="27"/>
                  </a:lnTo>
                  <a:lnTo>
                    <a:pt x="4735" y="19"/>
                  </a:lnTo>
                  <a:lnTo>
                    <a:pt x="4693" y="14"/>
                  </a:lnTo>
                  <a:lnTo>
                    <a:pt x="174" y="0"/>
                  </a:lnTo>
                  <a:lnTo>
                    <a:pt x="174" y="0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27200" y="2303640"/>
              <a:ext cx="7759800" cy="4781520"/>
            </a:xfrm>
            <a:custGeom>
              <a:avLst/>
              <a:gdLst/>
              <a:ahLst/>
              <a:rect l="l" t="t" r="r" b="b"/>
              <a:pathLst>
                <a:path w="4888" h="3012">
                  <a:moveTo>
                    <a:pt x="167" y="5"/>
                  </a:moveTo>
                  <a:lnTo>
                    <a:pt x="128" y="23"/>
                  </a:lnTo>
                  <a:lnTo>
                    <a:pt x="94" y="39"/>
                  </a:lnTo>
                  <a:lnTo>
                    <a:pt x="59" y="58"/>
                  </a:lnTo>
                  <a:lnTo>
                    <a:pt x="33" y="84"/>
                  </a:lnTo>
                  <a:lnTo>
                    <a:pt x="13" y="113"/>
                  </a:lnTo>
                  <a:lnTo>
                    <a:pt x="3" y="149"/>
                  </a:lnTo>
                  <a:lnTo>
                    <a:pt x="0" y="185"/>
                  </a:lnTo>
                  <a:lnTo>
                    <a:pt x="3" y="201"/>
                  </a:lnTo>
                  <a:lnTo>
                    <a:pt x="3" y="213"/>
                  </a:lnTo>
                  <a:lnTo>
                    <a:pt x="3" y="2869"/>
                  </a:lnTo>
                  <a:lnTo>
                    <a:pt x="9" y="2901"/>
                  </a:lnTo>
                  <a:lnTo>
                    <a:pt x="23" y="2935"/>
                  </a:lnTo>
                  <a:lnTo>
                    <a:pt x="47" y="2962"/>
                  </a:lnTo>
                  <a:lnTo>
                    <a:pt x="80" y="2985"/>
                  </a:lnTo>
                  <a:lnTo>
                    <a:pt x="114" y="3003"/>
                  </a:lnTo>
                  <a:lnTo>
                    <a:pt x="153" y="3008"/>
                  </a:lnTo>
                  <a:lnTo>
                    <a:pt x="193" y="3011"/>
                  </a:lnTo>
                  <a:lnTo>
                    <a:pt x="4668" y="3011"/>
                  </a:lnTo>
                  <a:lnTo>
                    <a:pt x="4677" y="3011"/>
                  </a:lnTo>
                  <a:lnTo>
                    <a:pt x="4714" y="3007"/>
                  </a:lnTo>
                  <a:lnTo>
                    <a:pt x="4765" y="3004"/>
                  </a:lnTo>
                  <a:lnTo>
                    <a:pt x="4793" y="2993"/>
                  </a:lnTo>
                  <a:lnTo>
                    <a:pt x="4826" y="2974"/>
                  </a:lnTo>
                  <a:lnTo>
                    <a:pt x="4853" y="2947"/>
                  </a:lnTo>
                  <a:lnTo>
                    <a:pt x="4873" y="2917"/>
                  </a:lnTo>
                  <a:lnTo>
                    <a:pt x="4887" y="2883"/>
                  </a:lnTo>
                  <a:lnTo>
                    <a:pt x="4887" y="2849"/>
                  </a:lnTo>
                  <a:lnTo>
                    <a:pt x="4887" y="183"/>
                  </a:lnTo>
                  <a:lnTo>
                    <a:pt x="4879" y="148"/>
                  </a:lnTo>
                  <a:lnTo>
                    <a:pt x="4863" y="116"/>
                  </a:lnTo>
                  <a:lnTo>
                    <a:pt x="4840" y="87"/>
                  </a:lnTo>
                  <a:lnTo>
                    <a:pt x="4810" y="63"/>
                  </a:lnTo>
                  <a:lnTo>
                    <a:pt x="4772" y="42"/>
                  </a:lnTo>
                  <a:lnTo>
                    <a:pt x="4735" y="25"/>
                  </a:lnTo>
                  <a:lnTo>
                    <a:pt x="4708" y="13"/>
                  </a:lnTo>
                  <a:lnTo>
                    <a:pt x="4681" y="5"/>
                  </a:lnTo>
                  <a:lnTo>
                    <a:pt x="4649" y="0"/>
                  </a:lnTo>
                  <a:lnTo>
                    <a:pt x="167" y="5"/>
                  </a:lnTo>
                  <a:lnTo>
                    <a:pt x="167" y="5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32480" y="2035080"/>
              <a:ext cx="2502000" cy="295200"/>
            </a:xfrm>
            <a:custGeom>
              <a:avLst/>
              <a:gdLst/>
              <a:ahLst/>
              <a:rect l="l" t="t" r="r" b="b"/>
              <a:pathLst>
                <a:path w="1576" h="186">
                  <a:moveTo>
                    <a:pt x="1430" y="25"/>
                  </a:moveTo>
                  <a:lnTo>
                    <a:pt x="1430" y="25"/>
                  </a:lnTo>
                  <a:lnTo>
                    <a:pt x="1405" y="10"/>
                  </a:lnTo>
                  <a:lnTo>
                    <a:pt x="1374" y="2"/>
                  </a:lnTo>
                  <a:lnTo>
                    <a:pt x="1350" y="0"/>
                  </a:lnTo>
                  <a:lnTo>
                    <a:pt x="1352" y="0"/>
                  </a:lnTo>
                  <a:lnTo>
                    <a:pt x="229" y="0"/>
                  </a:lnTo>
                  <a:lnTo>
                    <a:pt x="209" y="0"/>
                  </a:lnTo>
                  <a:lnTo>
                    <a:pt x="194" y="3"/>
                  </a:lnTo>
                  <a:lnTo>
                    <a:pt x="178" y="9"/>
                  </a:lnTo>
                  <a:lnTo>
                    <a:pt x="158" y="16"/>
                  </a:lnTo>
                  <a:lnTo>
                    <a:pt x="150" y="25"/>
                  </a:lnTo>
                  <a:lnTo>
                    <a:pt x="122" y="60"/>
                  </a:lnTo>
                  <a:lnTo>
                    <a:pt x="89" y="121"/>
                  </a:lnTo>
                  <a:lnTo>
                    <a:pt x="52" y="162"/>
                  </a:lnTo>
                  <a:lnTo>
                    <a:pt x="0" y="185"/>
                  </a:lnTo>
                  <a:lnTo>
                    <a:pt x="1575" y="185"/>
                  </a:lnTo>
                  <a:lnTo>
                    <a:pt x="1521" y="154"/>
                  </a:lnTo>
                  <a:lnTo>
                    <a:pt x="1490" y="121"/>
                  </a:lnTo>
                  <a:lnTo>
                    <a:pt x="1454" y="52"/>
                  </a:lnTo>
                  <a:lnTo>
                    <a:pt x="1430" y="25"/>
                  </a:lnTo>
                  <a:lnTo>
                    <a:pt x="1430" y="25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97240" y="1998720"/>
              <a:ext cx="2654280" cy="331560"/>
            </a:xfrm>
            <a:custGeom>
              <a:avLst/>
              <a:gdLst/>
              <a:ahLst/>
              <a:rect l="l" t="t" r="r" b="b"/>
              <a:pathLst>
                <a:path w="1672" h="209">
                  <a:moveTo>
                    <a:pt x="1516" y="40"/>
                  </a:moveTo>
                  <a:lnTo>
                    <a:pt x="1516" y="40"/>
                  </a:lnTo>
                  <a:lnTo>
                    <a:pt x="1490" y="21"/>
                  </a:lnTo>
                  <a:lnTo>
                    <a:pt x="1457" y="4"/>
                  </a:lnTo>
                  <a:lnTo>
                    <a:pt x="1433" y="0"/>
                  </a:lnTo>
                  <a:lnTo>
                    <a:pt x="243" y="2"/>
                  </a:lnTo>
                  <a:lnTo>
                    <a:pt x="222" y="2"/>
                  </a:lnTo>
                  <a:lnTo>
                    <a:pt x="205" y="5"/>
                  </a:lnTo>
                  <a:lnTo>
                    <a:pt x="188" y="9"/>
                  </a:lnTo>
                  <a:lnTo>
                    <a:pt x="171" y="18"/>
                  </a:lnTo>
                  <a:lnTo>
                    <a:pt x="160" y="25"/>
                  </a:lnTo>
                  <a:lnTo>
                    <a:pt x="158" y="28"/>
                  </a:lnTo>
                  <a:lnTo>
                    <a:pt x="129" y="64"/>
                  </a:lnTo>
                  <a:lnTo>
                    <a:pt x="94" y="129"/>
                  </a:lnTo>
                  <a:lnTo>
                    <a:pt x="55" y="172"/>
                  </a:lnTo>
                  <a:lnTo>
                    <a:pt x="0" y="196"/>
                  </a:lnTo>
                  <a:lnTo>
                    <a:pt x="1671" y="208"/>
                  </a:lnTo>
                  <a:lnTo>
                    <a:pt x="1613" y="175"/>
                  </a:lnTo>
                  <a:lnTo>
                    <a:pt x="1582" y="141"/>
                  </a:lnTo>
                  <a:lnTo>
                    <a:pt x="1542" y="66"/>
                  </a:lnTo>
                  <a:lnTo>
                    <a:pt x="1516" y="40"/>
                  </a:lnTo>
                  <a:lnTo>
                    <a:pt x="1516" y="40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44480" y="2303640"/>
              <a:ext cx="7758360" cy="4781520"/>
            </a:xfrm>
            <a:custGeom>
              <a:avLst/>
              <a:gdLst/>
              <a:ahLst/>
              <a:rect l="l" t="t" r="r" b="b"/>
              <a:pathLst>
                <a:path w="4887" h="3012">
                  <a:moveTo>
                    <a:pt x="166" y="5"/>
                  </a:moveTo>
                  <a:lnTo>
                    <a:pt x="128" y="23"/>
                  </a:lnTo>
                  <a:lnTo>
                    <a:pt x="92" y="39"/>
                  </a:lnTo>
                  <a:lnTo>
                    <a:pt x="57" y="58"/>
                  </a:lnTo>
                  <a:lnTo>
                    <a:pt x="32" y="84"/>
                  </a:lnTo>
                  <a:lnTo>
                    <a:pt x="11" y="113"/>
                  </a:lnTo>
                  <a:lnTo>
                    <a:pt x="3" y="149"/>
                  </a:lnTo>
                  <a:lnTo>
                    <a:pt x="0" y="185"/>
                  </a:lnTo>
                  <a:lnTo>
                    <a:pt x="3" y="201"/>
                  </a:lnTo>
                  <a:lnTo>
                    <a:pt x="3" y="213"/>
                  </a:lnTo>
                  <a:lnTo>
                    <a:pt x="3" y="2869"/>
                  </a:lnTo>
                  <a:lnTo>
                    <a:pt x="9" y="2901"/>
                  </a:lnTo>
                  <a:lnTo>
                    <a:pt x="23" y="2935"/>
                  </a:lnTo>
                  <a:lnTo>
                    <a:pt x="46" y="2962"/>
                  </a:lnTo>
                  <a:lnTo>
                    <a:pt x="79" y="2985"/>
                  </a:lnTo>
                  <a:lnTo>
                    <a:pt x="113" y="3003"/>
                  </a:lnTo>
                  <a:lnTo>
                    <a:pt x="152" y="3008"/>
                  </a:lnTo>
                  <a:lnTo>
                    <a:pt x="192" y="3011"/>
                  </a:lnTo>
                  <a:lnTo>
                    <a:pt x="4667" y="3011"/>
                  </a:lnTo>
                  <a:lnTo>
                    <a:pt x="4676" y="3011"/>
                  </a:lnTo>
                  <a:lnTo>
                    <a:pt x="4714" y="3007"/>
                  </a:lnTo>
                  <a:lnTo>
                    <a:pt x="4764" y="3004"/>
                  </a:lnTo>
                  <a:lnTo>
                    <a:pt x="4792" y="2993"/>
                  </a:lnTo>
                  <a:lnTo>
                    <a:pt x="4824" y="2974"/>
                  </a:lnTo>
                  <a:lnTo>
                    <a:pt x="4853" y="2947"/>
                  </a:lnTo>
                  <a:lnTo>
                    <a:pt x="4874" y="2917"/>
                  </a:lnTo>
                  <a:lnTo>
                    <a:pt x="4886" y="2883"/>
                  </a:lnTo>
                  <a:lnTo>
                    <a:pt x="4886" y="2849"/>
                  </a:lnTo>
                  <a:lnTo>
                    <a:pt x="4886" y="183"/>
                  </a:lnTo>
                  <a:lnTo>
                    <a:pt x="4878" y="148"/>
                  </a:lnTo>
                  <a:lnTo>
                    <a:pt x="4862" y="116"/>
                  </a:lnTo>
                  <a:lnTo>
                    <a:pt x="4839" y="87"/>
                  </a:lnTo>
                  <a:lnTo>
                    <a:pt x="4809" y="63"/>
                  </a:lnTo>
                  <a:lnTo>
                    <a:pt x="4771" y="42"/>
                  </a:lnTo>
                  <a:lnTo>
                    <a:pt x="4734" y="25"/>
                  </a:lnTo>
                  <a:lnTo>
                    <a:pt x="4707" y="13"/>
                  </a:lnTo>
                  <a:lnTo>
                    <a:pt x="4680" y="5"/>
                  </a:lnTo>
                  <a:lnTo>
                    <a:pt x="4648" y="0"/>
                  </a:lnTo>
                  <a:lnTo>
                    <a:pt x="166" y="5"/>
                  </a:lnTo>
                  <a:lnTo>
                    <a:pt x="166" y="5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89480" y="2070000"/>
              <a:ext cx="274680" cy="24624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0" y="28"/>
                  </a:moveTo>
                  <a:lnTo>
                    <a:pt x="28" y="89"/>
                  </a:lnTo>
                  <a:lnTo>
                    <a:pt x="120" y="154"/>
                  </a:lnTo>
                  <a:lnTo>
                    <a:pt x="172" y="154"/>
                  </a:lnTo>
                  <a:lnTo>
                    <a:pt x="78" y="88"/>
                  </a:lnTo>
                  <a:lnTo>
                    <a:pt x="48" y="59"/>
                  </a:lnTo>
                  <a:lnTo>
                    <a:pt x="22" y="0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11240" y="1978200"/>
              <a:ext cx="2671920" cy="338040"/>
            </a:xfrm>
            <a:custGeom>
              <a:avLst/>
              <a:gdLst/>
              <a:ahLst/>
              <a:rect l="l" t="t" r="r" b="b"/>
              <a:pathLst>
                <a:path w="1683" h="213">
                  <a:moveTo>
                    <a:pt x="1524" y="29"/>
                  </a:moveTo>
                  <a:lnTo>
                    <a:pt x="1524" y="29"/>
                  </a:lnTo>
                  <a:lnTo>
                    <a:pt x="1497" y="11"/>
                  </a:lnTo>
                  <a:lnTo>
                    <a:pt x="1464" y="1"/>
                  </a:lnTo>
                  <a:lnTo>
                    <a:pt x="1438" y="0"/>
                  </a:lnTo>
                  <a:lnTo>
                    <a:pt x="1440" y="0"/>
                  </a:lnTo>
                  <a:lnTo>
                    <a:pt x="250" y="0"/>
                  </a:lnTo>
                  <a:lnTo>
                    <a:pt x="228" y="0"/>
                  </a:lnTo>
                  <a:lnTo>
                    <a:pt x="213" y="2"/>
                  </a:lnTo>
                  <a:lnTo>
                    <a:pt x="196" y="8"/>
                  </a:lnTo>
                  <a:lnTo>
                    <a:pt x="179" y="16"/>
                  </a:lnTo>
                  <a:lnTo>
                    <a:pt x="167" y="24"/>
                  </a:lnTo>
                  <a:lnTo>
                    <a:pt x="165" y="29"/>
                  </a:lnTo>
                  <a:lnTo>
                    <a:pt x="136" y="71"/>
                  </a:lnTo>
                  <a:lnTo>
                    <a:pt x="101" y="146"/>
                  </a:lnTo>
                  <a:lnTo>
                    <a:pt x="0" y="208"/>
                  </a:lnTo>
                  <a:lnTo>
                    <a:pt x="1682" y="212"/>
                  </a:lnTo>
                  <a:lnTo>
                    <a:pt x="1588" y="146"/>
                  </a:lnTo>
                  <a:lnTo>
                    <a:pt x="1550" y="60"/>
                  </a:lnTo>
                  <a:lnTo>
                    <a:pt x="1524" y="29"/>
                  </a:lnTo>
                  <a:lnTo>
                    <a:pt x="1524" y="29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45240" y="2063880"/>
              <a:ext cx="255600" cy="241200"/>
            </a:xfrm>
            <a:custGeom>
              <a:avLst/>
              <a:gdLst/>
              <a:ahLst/>
              <a:rect l="l" t="t" r="r" b="b"/>
              <a:pathLst>
                <a:path w="161" h="152">
                  <a:moveTo>
                    <a:pt x="0" y="25"/>
                  </a:moveTo>
                  <a:lnTo>
                    <a:pt x="17" y="60"/>
                  </a:lnTo>
                  <a:lnTo>
                    <a:pt x="36" y="93"/>
                  </a:lnTo>
                  <a:lnTo>
                    <a:pt x="70" y="134"/>
                  </a:lnTo>
                  <a:lnTo>
                    <a:pt x="100" y="151"/>
                  </a:lnTo>
                  <a:lnTo>
                    <a:pt x="160" y="151"/>
                  </a:lnTo>
                  <a:lnTo>
                    <a:pt x="94" y="111"/>
                  </a:lnTo>
                  <a:lnTo>
                    <a:pt x="55" y="63"/>
                  </a:lnTo>
                  <a:lnTo>
                    <a:pt x="22" y="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16280" y="2287440"/>
              <a:ext cx="6972120" cy="20880"/>
            </a:xfrm>
            <a:custGeom>
              <a:avLst/>
              <a:gdLst/>
              <a:ahLst/>
              <a:rect l="l" t="t" r="r" b="b"/>
              <a:pathLst>
                <a:path w="4392" h="13">
                  <a:moveTo>
                    <a:pt x="0" y="12"/>
                  </a:moveTo>
                  <a:lnTo>
                    <a:pt x="4391" y="10"/>
                  </a:lnTo>
                  <a:lnTo>
                    <a:pt x="4373" y="0"/>
                  </a:lnTo>
                  <a:lnTo>
                    <a:pt x="18" y="1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600200" y="2209680"/>
            <a:ext cx="8001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866880" indent="-409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Courier New"/>
              </a:rPr>
              <a:t>Numer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4096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Un gran comprador-vendedor de B-muchos compradores-vendedores de 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409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Courier New"/>
              </a:rPr>
              <a:t>Institu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4096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¿Monopolio legal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409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Courier New"/>
              </a:rPr>
              <a:t>Información imperfect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4096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Pedro conoce las preferencias de Juan pero puede disimular las suyas propi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4096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721560" y="3200400"/>
            <a:ext cx="3717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Reinterpretemos el modelo de monopolio como uno de mala inform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4536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monopolio y la  mendacidad pueden ir juntos 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7040" y="1402200"/>
            <a:ext cx="6299280" cy="6262920"/>
          </a:xfrm>
          <a:prstGeom prst="roundRect">
            <a:avLst>
              <a:gd name="adj" fmla="val 0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08040" y="1554120"/>
            <a:ext cx="419040" cy="735120"/>
            <a:chOff x="608040" y="1554120"/>
            <a:chExt cx="419040" cy="735120"/>
          </a:xfrm>
        </p:grpSpPr>
        <p:sp>
          <p:nvSpPr>
            <p:cNvPr id="328" name=""/>
            <p:cNvSpPr/>
            <p:nvPr/>
          </p:nvSpPr>
          <p:spPr>
            <a:xfrm>
              <a:off x="608040" y="1638360"/>
              <a:ext cx="2379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9880" y="1943280"/>
              <a:ext cx="179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7800" y="1554120"/>
              <a:ext cx="179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43040" y="7035840"/>
            <a:ext cx="561960" cy="663480"/>
            <a:chOff x="743040" y="7035840"/>
            <a:chExt cx="561960" cy="663480"/>
          </a:xfrm>
        </p:grpSpPr>
        <p:sp>
          <p:nvSpPr>
            <p:cNvPr id="332" name=""/>
            <p:cNvSpPr/>
            <p:nvPr/>
          </p:nvSpPr>
          <p:spPr>
            <a:xfrm>
              <a:off x="743040" y="7180200"/>
              <a:ext cx="371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25360" y="7035840"/>
              <a:ext cx="17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533600" y="3400560"/>
            <a:ext cx="2014560" cy="3014640"/>
          </a:xfrm>
          <a:custGeom>
            <a:avLst/>
            <a:gdLst/>
            <a:ahLst/>
            <a:rect l="l" t="t" r="r" b="b"/>
            <a:pathLst>
              <a:path w="1269" h="1899">
                <a:moveTo>
                  <a:pt x="1268" y="1898"/>
                </a:moveTo>
                <a:lnTo>
                  <a:pt x="1266" y="1883"/>
                </a:lnTo>
                <a:lnTo>
                  <a:pt x="1264" y="1870"/>
                </a:lnTo>
                <a:lnTo>
                  <a:pt x="1262" y="1861"/>
                </a:lnTo>
                <a:lnTo>
                  <a:pt x="1262" y="1853"/>
                </a:lnTo>
                <a:lnTo>
                  <a:pt x="1260" y="1848"/>
                </a:lnTo>
                <a:lnTo>
                  <a:pt x="1260" y="1843"/>
                </a:lnTo>
                <a:lnTo>
                  <a:pt x="1260" y="1840"/>
                </a:lnTo>
                <a:lnTo>
                  <a:pt x="1260" y="1836"/>
                </a:lnTo>
                <a:lnTo>
                  <a:pt x="1258" y="1835"/>
                </a:lnTo>
                <a:lnTo>
                  <a:pt x="1258" y="1833"/>
                </a:lnTo>
                <a:lnTo>
                  <a:pt x="1258" y="1831"/>
                </a:lnTo>
                <a:lnTo>
                  <a:pt x="1258" y="1828"/>
                </a:lnTo>
                <a:lnTo>
                  <a:pt x="1258" y="1825"/>
                </a:lnTo>
                <a:lnTo>
                  <a:pt x="1258" y="1821"/>
                </a:lnTo>
                <a:lnTo>
                  <a:pt x="1258" y="1815"/>
                </a:lnTo>
                <a:lnTo>
                  <a:pt x="1258" y="1806"/>
                </a:lnTo>
                <a:lnTo>
                  <a:pt x="1256" y="1797"/>
                </a:lnTo>
                <a:lnTo>
                  <a:pt x="1255" y="1785"/>
                </a:lnTo>
                <a:lnTo>
                  <a:pt x="1253" y="1771"/>
                </a:lnTo>
                <a:lnTo>
                  <a:pt x="1252" y="1754"/>
                </a:lnTo>
                <a:lnTo>
                  <a:pt x="1249" y="1736"/>
                </a:lnTo>
                <a:lnTo>
                  <a:pt x="1247" y="1715"/>
                </a:lnTo>
                <a:lnTo>
                  <a:pt x="1243" y="1694"/>
                </a:lnTo>
                <a:lnTo>
                  <a:pt x="1242" y="1670"/>
                </a:lnTo>
                <a:lnTo>
                  <a:pt x="1238" y="1648"/>
                </a:lnTo>
                <a:lnTo>
                  <a:pt x="1234" y="1624"/>
                </a:lnTo>
                <a:lnTo>
                  <a:pt x="1230" y="1600"/>
                </a:lnTo>
                <a:lnTo>
                  <a:pt x="1227" y="1574"/>
                </a:lnTo>
                <a:lnTo>
                  <a:pt x="1224" y="1550"/>
                </a:lnTo>
                <a:lnTo>
                  <a:pt x="1220" y="1525"/>
                </a:lnTo>
                <a:lnTo>
                  <a:pt x="1216" y="1502"/>
                </a:lnTo>
                <a:lnTo>
                  <a:pt x="1212" y="1478"/>
                </a:lnTo>
                <a:lnTo>
                  <a:pt x="1207" y="1456"/>
                </a:lnTo>
                <a:lnTo>
                  <a:pt x="1204" y="1432"/>
                </a:lnTo>
                <a:lnTo>
                  <a:pt x="1198" y="1408"/>
                </a:lnTo>
                <a:lnTo>
                  <a:pt x="1194" y="1382"/>
                </a:lnTo>
                <a:lnTo>
                  <a:pt x="1188" y="1356"/>
                </a:lnTo>
                <a:lnTo>
                  <a:pt x="1183" y="1330"/>
                </a:lnTo>
                <a:lnTo>
                  <a:pt x="1177" y="1304"/>
                </a:lnTo>
                <a:lnTo>
                  <a:pt x="1173" y="1278"/>
                </a:lnTo>
                <a:lnTo>
                  <a:pt x="1167" y="1254"/>
                </a:lnTo>
                <a:lnTo>
                  <a:pt x="1162" y="1231"/>
                </a:lnTo>
                <a:lnTo>
                  <a:pt x="1156" y="1209"/>
                </a:lnTo>
                <a:lnTo>
                  <a:pt x="1151" y="1187"/>
                </a:lnTo>
                <a:lnTo>
                  <a:pt x="1146" y="1168"/>
                </a:lnTo>
                <a:lnTo>
                  <a:pt x="1142" y="1150"/>
                </a:lnTo>
                <a:lnTo>
                  <a:pt x="1138" y="1135"/>
                </a:lnTo>
                <a:lnTo>
                  <a:pt x="1135" y="1122"/>
                </a:lnTo>
                <a:lnTo>
                  <a:pt x="1130" y="1111"/>
                </a:lnTo>
                <a:lnTo>
                  <a:pt x="1126" y="1097"/>
                </a:lnTo>
                <a:lnTo>
                  <a:pt x="1120" y="1083"/>
                </a:lnTo>
                <a:lnTo>
                  <a:pt x="1117" y="1066"/>
                </a:lnTo>
                <a:lnTo>
                  <a:pt x="1110" y="1049"/>
                </a:lnTo>
                <a:lnTo>
                  <a:pt x="1105" y="1030"/>
                </a:lnTo>
                <a:lnTo>
                  <a:pt x="1099" y="1012"/>
                </a:lnTo>
                <a:lnTo>
                  <a:pt x="1094" y="992"/>
                </a:lnTo>
                <a:lnTo>
                  <a:pt x="1086" y="973"/>
                </a:lnTo>
                <a:lnTo>
                  <a:pt x="1080" y="954"/>
                </a:lnTo>
                <a:lnTo>
                  <a:pt x="1074" y="935"/>
                </a:lnTo>
                <a:lnTo>
                  <a:pt x="1069" y="915"/>
                </a:lnTo>
                <a:lnTo>
                  <a:pt x="1062" y="898"/>
                </a:lnTo>
                <a:lnTo>
                  <a:pt x="1057" y="879"/>
                </a:lnTo>
                <a:lnTo>
                  <a:pt x="1051" y="864"/>
                </a:lnTo>
                <a:lnTo>
                  <a:pt x="1046" y="848"/>
                </a:lnTo>
                <a:lnTo>
                  <a:pt x="1040" y="832"/>
                </a:lnTo>
                <a:lnTo>
                  <a:pt x="1036" y="816"/>
                </a:lnTo>
                <a:lnTo>
                  <a:pt x="1031" y="799"/>
                </a:lnTo>
                <a:lnTo>
                  <a:pt x="1026" y="780"/>
                </a:lnTo>
                <a:lnTo>
                  <a:pt x="1019" y="763"/>
                </a:lnTo>
                <a:lnTo>
                  <a:pt x="1014" y="744"/>
                </a:lnTo>
                <a:lnTo>
                  <a:pt x="1008" y="725"/>
                </a:lnTo>
                <a:lnTo>
                  <a:pt x="1002" y="706"/>
                </a:lnTo>
                <a:lnTo>
                  <a:pt x="996" y="690"/>
                </a:lnTo>
                <a:lnTo>
                  <a:pt x="990" y="672"/>
                </a:lnTo>
                <a:lnTo>
                  <a:pt x="984" y="655"/>
                </a:lnTo>
                <a:lnTo>
                  <a:pt x="980" y="638"/>
                </a:lnTo>
                <a:lnTo>
                  <a:pt x="974" y="625"/>
                </a:lnTo>
                <a:lnTo>
                  <a:pt x="970" y="610"/>
                </a:lnTo>
                <a:lnTo>
                  <a:pt x="965" y="598"/>
                </a:lnTo>
                <a:lnTo>
                  <a:pt x="962" y="587"/>
                </a:lnTo>
                <a:lnTo>
                  <a:pt x="957" y="578"/>
                </a:lnTo>
                <a:lnTo>
                  <a:pt x="953" y="567"/>
                </a:lnTo>
                <a:lnTo>
                  <a:pt x="948" y="555"/>
                </a:lnTo>
                <a:lnTo>
                  <a:pt x="943" y="542"/>
                </a:lnTo>
                <a:lnTo>
                  <a:pt x="936" y="529"/>
                </a:lnTo>
                <a:lnTo>
                  <a:pt x="930" y="515"/>
                </a:lnTo>
                <a:lnTo>
                  <a:pt x="923" y="502"/>
                </a:lnTo>
                <a:lnTo>
                  <a:pt x="917" y="487"/>
                </a:lnTo>
                <a:lnTo>
                  <a:pt x="910" y="474"/>
                </a:lnTo>
                <a:lnTo>
                  <a:pt x="902" y="459"/>
                </a:lnTo>
                <a:lnTo>
                  <a:pt x="894" y="446"/>
                </a:lnTo>
                <a:lnTo>
                  <a:pt x="889" y="432"/>
                </a:lnTo>
                <a:lnTo>
                  <a:pt x="882" y="421"/>
                </a:lnTo>
                <a:lnTo>
                  <a:pt x="876" y="408"/>
                </a:lnTo>
                <a:lnTo>
                  <a:pt x="870" y="397"/>
                </a:lnTo>
                <a:lnTo>
                  <a:pt x="865" y="386"/>
                </a:lnTo>
                <a:lnTo>
                  <a:pt x="858" y="377"/>
                </a:lnTo>
                <a:lnTo>
                  <a:pt x="852" y="367"/>
                </a:lnTo>
                <a:lnTo>
                  <a:pt x="844" y="356"/>
                </a:lnTo>
                <a:lnTo>
                  <a:pt x="836" y="344"/>
                </a:lnTo>
                <a:lnTo>
                  <a:pt x="826" y="333"/>
                </a:lnTo>
                <a:lnTo>
                  <a:pt x="819" y="322"/>
                </a:lnTo>
                <a:lnTo>
                  <a:pt x="810" y="311"/>
                </a:lnTo>
                <a:lnTo>
                  <a:pt x="802" y="298"/>
                </a:lnTo>
                <a:lnTo>
                  <a:pt x="793" y="288"/>
                </a:lnTo>
                <a:lnTo>
                  <a:pt x="784" y="276"/>
                </a:lnTo>
                <a:lnTo>
                  <a:pt x="775" y="266"/>
                </a:lnTo>
                <a:lnTo>
                  <a:pt x="768" y="255"/>
                </a:lnTo>
                <a:lnTo>
                  <a:pt x="760" y="246"/>
                </a:lnTo>
                <a:lnTo>
                  <a:pt x="752" y="238"/>
                </a:lnTo>
                <a:lnTo>
                  <a:pt x="745" y="230"/>
                </a:lnTo>
                <a:lnTo>
                  <a:pt x="739" y="223"/>
                </a:lnTo>
                <a:lnTo>
                  <a:pt x="733" y="217"/>
                </a:lnTo>
                <a:lnTo>
                  <a:pt x="727" y="212"/>
                </a:lnTo>
                <a:lnTo>
                  <a:pt x="722" y="206"/>
                </a:lnTo>
                <a:lnTo>
                  <a:pt x="716" y="200"/>
                </a:lnTo>
                <a:lnTo>
                  <a:pt x="709" y="195"/>
                </a:lnTo>
                <a:lnTo>
                  <a:pt x="704" y="189"/>
                </a:lnTo>
                <a:lnTo>
                  <a:pt x="698" y="184"/>
                </a:lnTo>
                <a:lnTo>
                  <a:pt x="692" y="177"/>
                </a:lnTo>
                <a:lnTo>
                  <a:pt x="686" y="172"/>
                </a:lnTo>
                <a:lnTo>
                  <a:pt x="680" y="167"/>
                </a:lnTo>
                <a:lnTo>
                  <a:pt x="675" y="162"/>
                </a:lnTo>
                <a:lnTo>
                  <a:pt x="670" y="157"/>
                </a:lnTo>
                <a:lnTo>
                  <a:pt x="666" y="154"/>
                </a:lnTo>
                <a:lnTo>
                  <a:pt x="662" y="150"/>
                </a:lnTo>
                <a:lnTo>
                  <a:pt x="660" y="147"/>
                </a:lnTo>
                <a:lnTo>
                  <a:pt x="658" y="144"/>
                </a:lnTo>
                <a:lnTo>
                  <a:pt x="655" y="143"/>
                </a:lnTo>
                <a:lnTo>
                  <a:pt x="652" y="141"/>
                </a:lnTo>
                <a:lnTo>
                  <a:pt x="649" y="139"/>
                </a:lnTo>
                <a:lnTo>
                  <a:pt x="646" y="136"/>
                </a:lnTo>
                <a:lnTo>
                  <a:pt x="641" y="134"/>
                </a:lnTo>
                <a:lnTo>
                  <a:pt x="638" y="130"/>
                </a:lnTo>
                <a:lnTo>
                  <a:pt x="632" y="127"/>
                </a:lnTo>
                <a:lnTo>
                  <a:pt x="629" y="124"/>
                </a:lnTo>
                <a:lnTo>
                  <a:pt x="623" y="122"/>
                </a:lnTo>
                <a:lnTo>
                  <a:pt x="618" y="118"/>
                </a:lnTo>
                <a:lnTo>
                  <a:pt x="612" y="115"/>
                </a:lnTo>
                <a:lnTo>
                  <a:pt x="608" y="111"/>
                </a:lnTo>
                <a:lnTo>
                  <a:pt x="602" y="109"/>
                </a:lnTo>
                <a:lnTo>
                  <a:pt x="598" y="106"/>
                </a:lnTo>
                <a:lnTo>
                  <a:pt x="592" y="104"/>
                </a:lnTo>
                <a:lnTo>
                  <a:pt x="588" y="101"/>
                </a:lnTo>
                <a:lnTo>
                  <a:pt x="583" y="99"/>
                </a:lnTo>
                <a:lnTo>
                  <a:pt x="579" y="97"/>
                </a:lnTo>
                <a:lnTo>
                  <a:pt x="572" y="95"/>
                </a:lnTo>
                <a:lnTo>
                  <a:pt x="566" y="91"/>
                </a:lnTo>
                <a:lnTo>
                  <a:pt x="559" y="89"/>
                </a:lnTo>
                <a:lnTo>
                  <a:pt x="551" y="86"/>
                </a:lnTo>
                <a:lnTo>
                  <a:pt x="543" y="82"/>
                </a:lnTo>
                <a:lnTo>
                  <a:pt x="536" y="78"/>
                </a:lnTo>
                <a:lnTo>
                  <a:pt x="526" y="76"/>
                </a:lnTo>
                <a:lnTo>
                  <a:pt x="518" y="72"/>
                </a:lnTo>
                <a:lnTo>
                  <a:pt x="509" y="69"/>
                </a:lnTo>
                <a:lnTo>
                  <a:pt x="502" y="65"/>
                </a:lnTo>
                <a:lnTo>
                  <a:pt x="493" y="63"/>
                </a:lnTo>
                <a:lnTo>
                  <a:pt x="485" y="59"/>
                </a:lnTo>
                <a:lnTo>
                  <a:pt x="478" y="56"/>
                </a:lnTo>
                <a:lnTo>
                  <a:pt x="472" y="52"/>
                </a:lnTo>
                <a:lnTo>
                  <a:pt x="463" y="51"/>
                </a:lnTo>
                <a:lnTo>
                  <a:pt x="456" y="49"/>
                </a:lnTo>
                <a:lnTo>
                  <a:pt x="446" y="47"/>
                </a:lnTo>
                <a:lnTo>
                  <a:pt x="438" y="44"/>
                </a:lnTo>
                <a:lnTo>
                  <a:pt x="429" y="42"/>
                </a:lnTo>
                <a:lnTo>
                  <a:pt x="420" y="40"/>
                </a:lnTo>
                <a:lnTo>
                  <a:pt x="410" y="38"/>
                </a:lnTo>
                <a:lnTo>
                  <a:pt x="401" y="34"/>
                </a:lnTo>
                <a:lnTo>
                  <a:pt x="391" y="32"/>
                </a:lnTo>
                <a:lnTo>
                  <a:pt x="382" y="31"/>
                </a:lnTo>
                <a:lnTo>
                  <a:pt x="372" y="29"/>
                </a:lnTo>
                <a:lnTo>
                  <a:pt x="364" y="26"/>
                </a:lnTo>
                <a:lnTo>
                  <a:pt x="355" y="24"/>
                </a:lnTo>
                <a:lnTo>
                  <a:pt x="347" y="22"/>
                </a:lnTo>
                <a:lnTo>
                  <a:pt x="340" y="21"/>
                </a:lnTo>
                <a:lnTo>
                  <a:pt x="335" y="19"/>
                </a:lnTo>
                <a:lnTo>
                  <a:pt x="328" y="19"/>
                </a:lnTo>
                <a:lnTo>
                  <a:pt x="322" y="18"/>
                </a:lnTo>
                <a:lnTo>
                  <a:pt x="314" y="18"/>
                </a:lnTo>
                <a:lnTo>
                  <a:pt x="306" y="16"/>
                </a:lnTo>
                <a:lnTo>
                  <a:pt x="297" y="16"/>
                </a:lnTo>
                <a:lnTo>
                  <a:pt x="288" y="14"/>
                </a:lnTo>
                <a:lnTo>
                  <a:pt x="279" y="13"/>
                </a:lnTo>
                <a:lnTo>
                  <a:pt x="270" y="11"/>
                </a:lnTo>
                <a:lnTo>
                  <a:pt x="259" y="11"/>
                </a:lnTo>
                <a:lnTo>
                  <a:pt x="250" y="10"/>
                </a:lnTo>
                <a:lnTo>
                  <a:pt x="241" y="10"/>
                </a:lnTo>
                <a:lnTo>
                  <a:pt x="231" y="8"/>
                </a:lnTo>
                <a:lnTo>
                  <a:pt x="222" y="8"/>
                </a:lnTo>
                <a:lnTo>
                  <a:pt x="214" y="6"/>
                </a:lnTo>
                <a:lnTo>
                  <a:pt x="206" y="6"/>
                </a:lnTo>
                <a:lnTo>
                  <a:pt x="198" y="4"/>
                </a:lnTo>
                <a:lnTo>
                  <a:pt x="190" y="4"/>
                </a:lnTo>
                <a:lnTo>
                  <a:pt x="182" y="4"/>
                </a:lnTo>
                <a:lnTo>
                  <a:pt x="173" y="4"/>
                </a:lnTo>
                <a:lnTo>
                  <a:pt x="164" y="4"/>
                </a:lnTo>
                <a:lnTo>
                  <a:pt x="154" y="4"/>
                </a:lnTo>
                <a:lnTo>
                  <a:pt x="145" y="4"/>
                </a:lnTo>
                <a:lnTo>
                  <a:pt x="136" y="4"/>
                </a:lnTo>
                <a:lnTo>
                  <a:pt x="126" y="2"/>
                </a:lnTo>
                <a:lnTo>
                  <a:pt x="116" y="2"/>
                </a:lnTo>
                <a:lnTo>
                  <a:pt x="107" y="2"/>
                </a:lnTo>
                <a:lnTo>
                  <a:pt x="98" y="2"/>
                </a:lnTo>
                <a:lnTo>
                  <a:pt x="90" y="1"/>
                </a:lnTo>
                <a:lnTo>
                  <a:pt x="81" y="1"/>
                </a:lnTo>
                <a:lnTo>
                  <a:pt x="73" y="1"/>
                </a:lnTo>
                <a:lnTo>
                  <a:pt x="66" y="1"/>
                </a:lnTo>
                <a:lnTo>
                  <a:pt x="61" y="0"/>
                </a:lnTo>
                <a:lnTo>
                  <a:pt x="55" y="0"/>
                </a:lnTo>
                <a:lnTo>
                  <a:pt x="52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4" y="0"/>
                </a:lnTo>
                <a:lnTo>
                  <a:pt x="42" y="0"/>
                </a:lnTo>
                <a:lnTo>
                  <a:pt x="42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0" y="0"/>
                </a:lnTo>
                <a:lnTo>
                  <a:pt x="24" y="0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14720" y="2378160"/>
            <a:ext cx="2947680" cy="4279680"/>
          </a:xfrm>
          <a:custGeom>
            <a:avLst/>
            <a:gdLst/>
            <a:ahLst/>
            <a:rect l="l" t="t" r="r" b="b"/>
            <a:pathLst>
              <a:path w="1857" h="2696">
                <a:moveTo>
                  <a:pt x="2" y="0"/>
                </a:moveTo>
                <a:lnTo>
                  <a:pt x="0" y="20"/>
                </a:lnTo>
                <a:lnTo>
                  <a:pt x="0" y="37"/>
                </a:lnTo>
                <a:lnTo>
                  <a:pt x="0" y="51"/>
                </a:lnTo>
                <a:lnTo>
                  <a:pt x="0" y="60"/>
                </a:lnTo>
                <a:lnTo>
                  <a:pt x="0" y="69"/>
                </a:lnTo>
                <a:lnTo>
                  <a:pt x="0" y="74"/>
                </a:lnTo>
                <a:lnTo>
                  <a:pt x="0" y="78"/>
                </a:lnTo>
                <a:lnTo>
                  <a:pt x="0" y="81"/>
                </a:lnTo>
                <a:lnTo>
                  <a:pt x="0" y="84"/>
                </a:lnTo>
                <a:lnTo>
                  <a:pt x="0" y="86"/>
                </a:lnTo>
                <a:lnTo>
                  <a:pt x="0" y="89"/>
                </a:lnTo>
                <a:lnTo>
                  <a:pt x="0" y="91"/>
                </a:lnTo>
                <a:lnTo>
                  <a:pt x="0" y="96"/>
                </a:lnTo>
                <a:lnTo>
                  <a:pt x="0" y="100"/>
                </a:lnTo>
                <a:lnTo>
                  <a:pt x="0" y="108"/>
                </a:lnTo>
                <a:lnTo>
                  <a:pt x="0" y="118"/>
                </a:lnTo>
                <a:lnTo>
                  <a:pt x="0" y="131"/>
                </a:lnTo>
                <a:lnTo>
                  <a:pt x="1" y="148"/>
                </a:lnTo>
                <a:lnTo>
                  <a:pt x="3" y="168"/>
                </a:lnTo>
                <a:lnTo>
                  <a:pt x="5" y="190"/>
                </a:lnTo>
                <a:lnTo>
                  <a:pt x="6" y="215"/>
                </a:lnTo>
                <a:lnTo>
                  <a:pt x="9" y="242"/>
                </a:lnTo>
                <a:lnTo>
                  <a:pt x="12" y="271"/>
                </a:lnTo>
                <a:lnTo>
                  <a:pt x="16" y="300"/>
                </a:lnTo>
                <a:lnTo>
                  <a:pt x="19" y="333"/>
                </a:lnTo>
                <a:lnTo>
                  <a:pt x="23" y="364"/>
                </a:lnTo>
                <a:lnTo>
                  <a:pt x="26" y="398"/>
                </a:lnTo>
                <a:lnTo>
                  <a:pt x="31" y="430"/>
                </a:lnTo>
                <a:lnTo>
                  <a:pt x="34" y="464"/>
                </a:lnTo>
                <a:lnTo>
                  <a:pt x="40" y="496"/>
                </a:lnTo>
                <a:lnTo>
                  <a:pt x="44" y="528"/>
                </a:lnTo>
                <a:lnTo>
                  <a:pt x="50" y="557"/>
                </a:lnTo>
                <a:lnTo>
                  <a:pt x="54" y="588"/>
                </a:lnTo>
                <a:lnTo>
                  <a:pt x="60" y="620"/>
                </a:lnTo>
                <a:lnTo>
                  <a:pt x="65" y="654"/>
                </a:lnTo>
                <a:lnTo>
                  <a:pt x="73" y="688"/>
                </a:lnTo>
                <a:lnTo>
                  <a:pt x="80" y="723"/>
                </a:lnTo>
                <a:lnTo>
                  <a:pt x="87" y="758"/>
                </a:lnTo>
                <a:lnTo>
                  <a:pt x="95" y="793"/>
                </a:lnTo>
                <a:lnTo>
                  <a:pt x="104" y="826"/>
                </a:lnTo>
                <a:lnTo>
                  <a:pt x="111" y="861"/>
                </a:lnTo>
                <a:lnTo>
                  <a:pt x="119" y="893"/>
                </a:lnTo>
                <a:lnTo>
                  <a:pt x="126" y="924"/>
                </a:lnTo>
                <a:lnTo>
                  <a:pt x="135" y="952"/>
                </a:lnTo>
                <a:lnTo>
                  <a:pt x="142" y="979"/>
                </a:lnTo>
                <a:lnTo>
                  <a:pt x="150" y="1002"/>
                </a:lnTo>
                <a:lnTo>
                  <a:pt x="157" y="1023"/>
                </a:lnTo>
                <a:lnTo>
                  <a:pt x="164" y="1040"/>
                </a:lnTo>
                <a:lnTo>
                  <a:pt x="170" y="1057"/>
                </a:lnTo>
                <a:lnTo>
                  <a:pt x="177" y="1076"/>
                </a:lnTo>
                <a:lnTo>
                  <a:pt x="184" y="1097"/>
                </a:lnTo>
                <a:lnTo>
                  <a:pt x="193" y="1119"/>
                </a:lnTo>
                <a:lnTo>
                  <a:pt x="203" y="1144"/>
                </a:lnTo>
                <a:lnTo>
                  <a:pt x="213" y="1168"/>
                </a:lnTo>
                <a:lnTo>
                  <a:pt x="224" y="1194"/>
                </a:lnTo>
                <a:lnTo>
                  <a:pt x="235" y="1220"/>
                </a:lnTo>
                <a:lnTo>
                  <a:pt x="245" y="1248"/>
                </a:lnTo>
                <a:lnTo>
                  <a:pt x="257" y="1274"/>
                </a:lnTo>
                <a:lnTo>
                  <a:pt x="268" y="1300"/>
                </a:lnTo>
                <a:lnTo>
                  <a:pt x="279" y="1326"/>
                </a:lnTo>
                <a:lnTo>
                  <a:pt x="288" y="1352"/>
                </a:lnTo>
                <a:lnTo>
                  <a:pt x="299" y="1376"/>
                </a:lnTo>
                <a:lnTo>
                  <a:pt x="309" y="1398"/>
                </a:lnTo>
                <a:lnTo>
                  <a:pt x="319" y="1418"/>
                </a:lnTo>
                <a:lnTo>
                  <a:pt x="327" y="1441"/>
                </a:lnTo>
                <a:lnTo>
                  <a:pt x="337" y="1464"/>
                </a:lnTo>
                <a:lnTo>
                  <a:pt x="346" y="1488"/>
                </a:lnTo>
                <a:lnTo>
                  <a:pt x="357" y="1512"/>
                </a:lnTo>
                <a:lnTo>
                  <a:pt x="368" y="1538"/>
                </a:lnTo>
                <a:lnTo>
                  <a:pt x="379" y="1563"/>
                </a:lnTo>
                <a:lnTo>
                  <a:pt x="390" y="1589"/>
                </a:lnTo>
                <a:lnTo>
                  <a:pt x="401" y="1613"/>
                </a:lnTo>
                <a:lnTo>
                  <a:pt x="411" y="1639"/>
                </a:lnTo>
                <a:lnTo>
                  <a:pt x="422" y="1663"/>
                </a:lnTo>
                <a:lnTo>
                  <a:pt x="432" y="1686"/>
                </a:lnTo>
                <a:lnTo>
                  <a:pt x="443" y="1708"/>
                </a:lnTo>
                <a:lnTo>
                  <a:pt x="451" y="1729"/>
                </a:lnTo>
                <a:lnTo>
                  <a:pt x="459" y="1748"/>
                </a:lnTo>
                <a:lnTo>
                  <a:pt x="467" y="1766"/>
                </a:lnTo>
                <a:lnTo>
                  <a:pt x="474" y="1780"/>
                </a:lnTo>
                <a:lnTo>
                  <a:pt x="481" y="1794"/>
                </a:lnTo>
                <a:lnTo>
                  <a:pt x="489" y="1810"/>
                </a:lnTo>
                <a:lnTo>
                  <a:pt x="499" y="1826"/>
                </a:lnTo>
                <a:lnTo>
                  <a:pt x="510" y="1844"/>
                </a:lnTo>
                <a:lnTo>
                  <a:pt x="521" y="1863"/>
                </a:lnTo>
                <a:lnTo>
                  <a:pt x="533" y="1882"/>
                </a:lnTo>
                <a:lnTo>
                  <a:pt x="547" y="1902"/>
                </a:lnTo>
                <a:lnTo>
                  <a:pt x="561" y="1920"/>
                </a:lnTo>
                <a:lnTo>
                  <a:pt x="573" y="1941"/>
                </a:lnTo>
                <a:lnTo>
                  <a:pt x="588" y="1961"/>
                </a:lnTo>
                <a:lnTo>
                  <a:pt x="602" y="1980"/>
                </a:lnTo>
                <a:lnTo>
                  <a:pt x="617" y="1999"/>
                </a:lnTo>
                <a:lnTo>
                  <a:pt x="630" y="2018"/>
                </a:lnTo>
                <a:lnTo>
                  <a:pt x="643" y="2034"/>
                </a:lnTo>
                <a:lnTo>
                  <a:pt x="657" y="2050"/>
                </a:lnTo>
                <a:lnTo>
                  <a:pt x="670" y="2064"/>
                </a:lnTo>
                <a:lnTo>
                  <a:pt x="681" y="2079"/>
                </a:lnTo>
                <a:lnTo>
                  <a:pt x="695" y="2094"/>
                </a:lnTo>
                <a:lnTo>
                  <a:pt x="709" y="2110"/>
                </a:lnTo>
                <a:lnTo>
                  <a:pt x="727" y="2126"/>
                </a:lnTo>
                <a:lnTo>
                  <a:pt x="743" y="2144"/>
                </a:lnTo>
                <a:lnTo>
                  <a:pt x="761" y="2161"/>
                </a:lnTo>
                <a:lnTo>
                  <a:pt x="779" y="2178"/>
                </a:lnTo>
                <a:lnTo>
                  <a:pt x="797" y="2195"/>
                </a:lnTo>
                <a:lnTo>
                  <a:pt x="814" y="2213"/>
                </a:lnTo>
                <a:lnTo>
                  <a:pt x="833" y="2230"/>
                </a:lnTo>
                <a:lnTo>
                  <a:pt x="851" y="2246"/>
                </a:lnTo>
                <a:lnTo>
                  <a:pt x="869" y="2261"/>
                </a:lnTo>
                <a:lnTo>
                  <a:pt x="884" y="2276"/>
                </a:lnTo>
                <a:lnTo>
                  <a:pt x="901" y="2289"/>
                </a:lnTo>
                <a:lnTo>
                  <a:pt x="914" y="2301"/>
                </a:lnTo>
                <a:lnTo>
                  <a:pt x="929" y="2310"/>
                </a:lnTo>
                <a:lnTo>
                  <a:pt x="941" y="2321"/>
                </a:lnTo>
                <a:lnTo>
                  <a:pt x="954" y="2330"/>
                </a:lnTo>
                <a:lnTo>
                  <a:pt x="967" y="2340"/>
                </a:lnTo>
                <a:lnTo>
                  <a:pt x="982" y="2349"/>
                </a:lnTo>
                <a:lnTo>
                  <a:pt x="995" y="2359"/>
                </a:lnTo>
                <a:lnTo>
                  <a:pt x="1009" y="2368"/>
                </a:lnTo>
                <a:lnTo>
                  <a:pt x="1022" y="2378"/>
                </a:lnTo>
                <a:lnTo>
                  <a:pt x="1037" y="2386"/>
                </a:lnTo>
                <a:lnTo>
                  <a:pt x="1048" y="2396"/>
                </a:lnTo>
                <a:lnTo>
                  <a:pt x="1061" y="2404"/>
                </a:lnTo>
                <a:lnTo>
                  <a:pt x="1072" y="2412"/>
                </a:lnTo>
                <a:lnTo>
                  <a:pt x="1083" y="2419"/>
                </a:lnTo>
                <a:lnTo>
                  <a:pt x="1092" y="2426"/>
                </a:lnTo>
                <a:lnTo>
                  <a:pt x="1101" y="2431"/>
                </a:lnTo>
                <a:lnTo>
                  <a:pt x="1108" y="2435"/>
                </a:lnTo>
                <a:lnTo>
                  <a:pt x="1115" y="2438"/>
                </a:lnTo>
                <a:lnTo>
                  <a:pt x="1119" y="2442"/>
                </a:lnTo>
                <a:lnTo>
                  <a:pt x="1125" y="2445"/>
                </a:lnTo>
                <a:lnTo>
                  <a:pt x="1132" y="2449"/>
                </a:lnTo>
                <a:lnTo>
                  <a:pt x="1140" y="2453"/>
                </a:lnTo>
                <a:lnTo>
                  <a:pt x="1149" y="2459"/>
                </a:lnTo>
                <a:lnTo>
                  <a:pt x="1158" y="2464"/>
                </a:lnTo>
                <a:lnTo>
                  <a:pt x="1168" y="2469"/>
                </a:lnTo>
                <a:lnTo>
                  <a:pt x="1179" y="2473"/>
                </a:lnTo>
                <a:lnTo>
                  <a:pt x="1190" y="2479"/>
                </a:lnTo>
                <a:lnTo>
                  <a:pt x="1201" y="2484"/>
                </a:lnTo>
                <a:lnTo>
                  <a:pt x="1213" y="2490"/>
                </a:lnTo>
                <a:lnTo>
                  <a:pt x="1224" y="2496"/>
                </a:lnTo>
                <a:lnTo>
                  <a:pt x="1234" y="2501"/>
                </a:lnTo>
                <a:lnTo>
                  <a:pt x="1245" y="2506"/>
                </a:lnTo>
                <a:lnTo>
                  <a:pt x="1256" y="2510"/>
                </a:lnTo>
                <a:lnTo>
                  <a:pt x="1267" y="2514"/>
                </a:lnTo>
                <a:lnTo>
                  <a:pt x="1278" y="2520"/>
                </a:lnTo>
                <a:lnTo>
                  <a:pt x="1291" y="2524"/>
                </a:lnTo>
                <a:lnTo>
                  <a:pt x="1305" y="2530"/>
                </a:lnTo>
                <a:lnTo>
                  <a:pt x="1322" y="2536"/>
                </a:lnTo>
                <a:lnTo>
                  <a:pt x="1338" y="2543"/>
                </a:lnTo>
                <a:lnTo>
                  <a:pt x="1356" y="2548"/>
                </a:lnTo>
                <a:lnTo>
                  <a:pt x="1375" y="2556"/>
                </a:lnTo>
                <a:lnTo>
                  <a:pt x="1394" y="2562"/>
                </a:lnTo>
                <a:lnTo>
                  <a:pt x="1413" y="2569"/>
                </a:lnTo>
                <a:lnTo>
                  <a:pt x="1433" y="2576"/>
                </a:lnTo>
                <a:lnTo>
                  <a:pt x="1451" y="2584"/>
                </a:lnTo>
                <a:lnTo>
                  <a:pt x="1471" y="2589"/>
                </a:lnTo>
                <a:lnTo>
                  <a:pt x="1489" y="2596"/>
                </a:lnTo>
                <a:lnTo>
                  <a:pt x="1508" y="2602"/>
                </a:lnTo>
                <a:lnTo>
                  <a:pt x="1525" y="2607"/>
                </a:lnTo>
                <a:lnTo>
                  <a:pt x="1542" y="2612"/>
                </a:lnTo>
                <a:lnTo>
                  <a:pt x="1557" y="2618"/>
                </a:lnTo>
                <a:lnTo>
                  <a:pt x="1576" y="2624"/>
                </a:lnTo>
                <a:lnTo>
                  <a:pt x="1594" y="2629"/>
                </a:lnTo>
                <a:lnTo>
                  <a:pt x="1615" y="2635"/>
                </a:lnTo>
                <a:lnTo>
                  <a:pt x="1635" y="2641"/>
                </a:lnTo>
                <a:lnTo>
                  <a:pt x="1657" y="2646"/>
                </a:lnTo>
                <a:lnTo>
                  <a:pt x="1679" y="2652"/>
                </a:lnTo>
                <a:lnTo>
                  <a:pt x="1702" y="2658"/>
                </a:lnTo>
                <a:lnTo>
                  <a:pt x="1722" y="2663"/>
                </a:lnTo>
                <a:lnTo>
                  <a:pt x="1745" y="2669"/>
                </a:lnTo>
                <a:lnTo>
                  <a:pt x="1765" y="2674"/>
                </a:lnTo>
                <a:lnTo>
                  <a:pt x="1786" y="2680"/>
                </a:lnTo>
                <a:lnTo>
                  <a:pt x="1805" y="2685"/>
                </a:lnTo>
                <a:lnTo>
                  <a:pt x="1823" y="2689"/>
                </a:lnTo>
                <a:lnTo>
                  <a:pt x="1840" y="2693"/>
                </a:lnTo>
                <a:lnTo>
                  <a:pt x="1856" y="2695"/>
                </a:lnTo>
              </a:path>
            </a:pathLst>
          </a:custGeom>
          <a:noFill/>
          <a:ln w="4752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9760" y="6943680"/>
            <a:ext cx="442260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30280" y="1536840"/>
            <a:ext cx="0" cy="54259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65200" y="3092400"/>
            <a:ext cx="3270240" cy="3838680"/>
          </a:xfrm>
          <a:custGeom>
            <a:avLst/>
            <a:gdLst/>
            <a:ahLst/>
            <a:rect l="l" t="t" r="r" b="b"/>
            <a:pathLst>
              <a:path w="2060" h="2418">
                <a:moveTo>
                  <a:pt x="0" y="2417"/>
                </a:moveTo>
                <a:lnTo>
                  <a:pt x="2" y="2415"/>
                </a:lnTo>
                <a:lnTo>
                  <a:pt x="9" y="2408"/>
                </a:lnTo>
                <a:lnTo>
                  <a:pt x="18" y="2398"/>
                </a:lnTo>
                <a:lnTo>
                  <a:pt x="31" y="2382"/>
                </a:lnTo>
                <a:lnTo>
                  <a:pt x="46" y="2367"/>
                </a:lnTo>
                <a:lnTo>
                  <a:pt x="63" y="2348"/>
                </a:lnTo>
                <a:lnTo>
                  <a:pt x="81" y="2328"/>
                </a:lnTo>
                <a:lnTo>
                  <a:pt x="101" y="2307"/>
                </a:lnTo>
                <a:lnTo>
                  <a:pt x="119" y="2287"/>
                </a:lnTo>
                <a:lnTo>
                  <a:pt x="138" y="2267"/>
                </a:lnTo>
                <a:lnTo>
                  <a:pt x="156" y="2249"/>
                </a:lnTo>
                <a:lnTo>
                  <a:pt x="171" y="2232"/>
                </a:lnTo>
                <a:lnTo>
                  <a:pt x="184" y="2217"/>
                </a:lnTo>
                <a:lnTo>
                  <a:pt x="194" y="2206"/>
                </a:lnTo>
                <a:lnTo>
                  <a:pt x="201" y="2199"/>
                </a:lnTo>
                <a:lnTo>
                  <a:pt x="204" y="2196"/>
                </a:lnTo>
                <a:lnTo>
                  <a:pt x="204" y="2195"/>
                </a:lnTo>
                <a:lnTo>
                  <a:pt x="207" y="2190"/>
                </a:lnTo>
                <a:lnTo>
                  <a:pt x="212" y="2184"/>
                </a:lnTo>
                <a:lnTo>
                  <a:pt x="219" y="2174"/>
                </a:lnTo>
                <a:lnTo>
                  <a:pt x="225" y="2164"/>
                </a:lnTo>
                <a:lnTo>
                  <a:pt x="235" y="2150"/>
                </a:lnTo>
                <a:lnTo>
                  <a:pt x="244" y="2137"/>
                </a:lnTo>
                <a:lnTo>
                  <a:pt x="255" y="2121"/>
                </a:lnTo>
                <a:lnTo>
                  <a:pt x="264" y="2106"/>
                </a:lnTo>
                <a:lnTo>
                  <a:pt x="274" y="2090"/>
                </a:lnTo>
                <a:lnTo>
                  <a:pt x="284" y="2076"/>
                </a:lnTo>
                <a:lnTo>
                  <a:pt x="294" y="2059"/>
                </a:lnTo>
                <a:lnTo>
                  <a:pt x="302" y="2046"/>
                </a:lnTo>
                <a:lnTo>
                  <a:pt x="311" y="2031"/>
                </a:lnTo>
                <a:lnTo>
                  <a:pt x="317" y="2019"/>
                </a:lnTo>
                <a:lnTo>
                  <a:pt x="322" y="2008"/>
                </a:lnTo>
                <a:lnTo>
                  <a:pt x="324" y="2000"/>
                </a:lnTo>
                <a:lnTo>
                  <a:pt x="328" y="1990"/>
                </a:lnTo>
                <a:lnTo>
                  <a:pt x="332" y="1979"/>
                </a:lnTo>
                <a:lnTo>
                  <a:pt x="335" y="1968"/>
                </a:lnTo>
                <a:lnTo>
                  <a:pt x="339" y="1956"/>
                </a:lnTo>
                <a:lnTo>
                  <a:pt x="342" y="1942"/>
                </a:lnTo>
                <a:lnTo>
                  <a:pt x="346" y="1930"/>
                </a:lnTo>
                <a:lnTo>
                  <a:pt x="350" y="1915"/>
                </a:lnTo>
                <a:lnTo>
                  <a:pt x="352" y="1902"/>
                </a:lnTo>
                <a:lnTo>
                  <a:pt x="355" y="1889"/>
                </a:lnTo>
                <a:lnTo>
                  <a:pt x="358" y="1876"/>
                </a:lnTo>
                <a:lnTo>
                  <a:pt x="362" y="1863"/>
                </a:lnTo>
                <a:lnTo>
                  <a:pt x="363" y="1852"/>
                </a:lnTo>
                <a:lnTo>
                  <a:pt x="367" y="1841"/>
                </a:lnTo>
                <a:lnTo>
                  <a:pt x="370" y="1831"/>
                </a:lnTo>
                <a:lnTo>
                  <a:pt x="373" y="1821"/>
                </a:lnTo>
                <a:lnTo>
                  <a:pt x="377" y="1812"/>
                </a:lnTo>
                <a:lnTo>
                  <a:pt x="380" y="1802"/>
                </a:lnTo>
                <a:lnTo>
                  <a:pt x="384" y="1790"/>
                </a:lnTo>
                <a:lnTo>
                  <a:pt x="390" y="1778"/>
                </a:lnTo>
                <a:lnTo>
                  <a:pt x="395" y="1766"/>
                </a:lnTo>
                <a:lnTo>
                  <a:pt x="400" y="1753"/>
                </a:lnTo>
                <a:lnTo>
                  <a:pt x="406" y="1740"/>
                </a:lnTo>
                <a:lnTo>
                  <a:pt x="412" y="1725"/>
                </a:lnTo>
                <a:lnTo>
                  <a:pt x="418" y="1712"/>
                </a:lnTo>
                <a:lnTo>
                  <a:pt x="423" y="1699"/>
                </a:lnTo>
                <a:lnTo>
                  <a:pt x="429" y="1687"/>
                </a:lnTo>
                <a:lnTo>
                  <a:pt x="435" y="1674"/>
                </a:lnTo>
                <a:lnTo>
                  <a:pt x="441" y="1663"/>
                </a:lnTo>
                <a:lnTo>
                  <a:pt x="447" y="1652"/>
                </a:lnTo>
                <a:lnTo>
                  <a:pt x="452" y="1643"/>
                </a:lnTo>
                <a:lnTo>
                  <a:pt x="458" y="1634"/>
                </a:lnTo>
                <a:lnTo>
                  <a:pt x="464" y="1626"/>
                </a:lnTo>
                <a:lnTo>
                  <a:pt x="471" y="1616"/>
                </a:lnTo>
                <a:lnTo>
                  <a:pt x="479" y="1607"/>
                </a:lnTo>
                <a:lnTo>
                  <a:pt x="489" y="1596"/>
                </a:lnTo>
                <a:lnTo>
                  <a:pt x="498" y="1586"/>
                </a:lnTo>
                <a:lnTo>
                  <a:pt x="508" y="1575"/>
                </a:lnTo>
                <a:lnTo>
                  <a:pt x="519" y="1564"/>
                </a:lnTo>
                <a:lnTo>
                  <a:pt x="531" y="1552"/>
                </a:lnTo>
                <a:lnTo>
                  <a:pt x="541" y="1543"/>
                </a:lnTo>
                <a:lnTo>
                  <a:pt x="552" y="1532"/>
                </a:lnTo>
                <a:lnTo>
                  <a:pt x="563" y="1522"/>
                </a:lnTo>
                <a:lnTo>
                  <a:pt x="574" y="1513"/>
                </a:lnTo>
                <a:lnTo>
                  <a:pt x="583" y="1504"/>
                </a:lnTo>
                <a:lnTo>
                  <a:pt x="593" y="1496"/>
                </a:lnTo>
                <a:lnTo>
                  <a:pt x="602" y="1489"/>
                </a:lnTo>
                <a:lnTo>
                  <a:pt x="611" y="1482"/>
                </a:lnTo>
                <a:lnTo>
                  <a:pt x="618" y="1476"/>
                </a:lnTo>
                <a:lnTo>
                  <a:pt x="626" y="1470"/>
                </a:lnTo>
                <a:lnTo>
                  <a:pt x="635" y="1464"/>
                </a:lnTo>
                <a:lnTo>
                  <a:pt x="645" y="1458"/>
                </a:lnTo>
                <a:lnTo>
                  <a:pt x="655" y="1452"/>
                </a:lnTo>
                <a:lnTo>
                  <a:pt x="666" y="1444"/>
                </a:lnTo>
                <a:lnTo>
                  <a:pt x="677" y="1438"/>
                </a:lnTo>
                <a:lnTo>
                  <a:pt x="689" y="1430"/>
                </a:lnTo>
                <a:lnTo>
                  <a:pt x="699" y="1425"/>
                </a:lnTo>
                <a:lnTo>
                  <a:pt x="711" y="1417"/>
                </a:lnTo>
                <a:lnTo>
                  <a:pt x="721" y="1411"/>
                </a:lnTo>
                <a:lnTo>
                  <a:pt x="732" y="1404"/>
                </a:lnTo>
                <a:lnTo>
                  <a:pt x="740" y="1398"/>
                </a:lnTo>
                <a:lnTo>
                  <a:pt x="750" y="1391"/>
                </a:lnTo>
                <a:lnTo>
                  <a:pt x="757" y="1385"/>
                </a:lnTo>
                <a:lnTo>
                  <a:pt x="765" y="1378"/>
                </a:lnTo>
                <a:lnTo>
                  <a:pt x="774" y="1370"/>
                </a:lnTo>
                <a:lnTo>
                  <a:pt x="783" y="1360"/>
                </a:lnTo>
                <a:lnTo>
                  <a:pt x="793" y="1349"/>
                </a:lnTo>
                <a:lnTo>
                  <a:pt x="803" y="1336"/>
                </a:lnTo>
                <a:lnTo>
                  <a:pt x="813" y="1323"/>
                </a:lnTo>
                <a:lnTo>
                  <a:pt x="824" y="1308"/>
                </a:lnTo>
                <a:lnTo>
                  <a:pt x="835" y="1294"/>
                </a:lnTo>
                <a:lnTo>
                  <a:pt x="847" y="1279"/>
                </a:lnTo>
                <a:lnTo>
                  <a:pt x="857" y="1266"/>
                </a:lnTo>
                <a:lnTo>
                  <a:pt x="868" y="1251"/>
                </a:lnTo>
                <a:lnTo>
                  <a:pt x="879" y="1238"/>
                </a:lnTo>
                <a:lnTo>
                  <a:pt x="890" y="1225"/>
                </a:lnTo>
                <a:lnTo>
                  <a:pt x="901" y="1215"/>
                </a:lnTo>
                <a:lnTo>
                  <a:pt x="912" y="1205"/>
                </a:lnTo>
                <a:lnTo>
                  <a:pt x="923" y="1197"/>
                </a:lnTo>
                <a:lnTo>
                  <a:pt x="935" y="1191"/>
                </a:lnTo>
                <a:lnTo>
                  <a:pt x="930" y="1181"/>
                </a:lnTo>
                <a:lnTo>
                  <a:pt x="929" y="1170"/>
                </a:lnTo>
                <a:lnTo>
                  <a:pt x="928" y="1157"/>
                </a:lnTo>
                <a:lnTo>
                  <a:pt x="929" y="1142"/>
                </a:lnTo>
                <a:lnTo>
                  <a:pt x="930" y="1128"/>
                </a:lnTo>
                <a:lnTo>
                  <a:pt x="932" y="1112"/>
                </a:lnTo>
                <a:lnTo>
                  <a:pt x="934" y="1096"/>
                </a:lnTo>
                <a:lnTo>
                  <a:pt x="937" y="1079"/>
                </a:lnTo>
                <a:lnTo>
                  <a:pt x="939" y="1064"/>
                </a:lnTo>
                <a:lnTo>
                  <a:pt x="941" y="1048"/>
                </a:lnTo>
                <a:lnTo>
                  <a:pt x="941" y="1033"/>
                </a:lnTo>
                <a:lnTo>
                  <a:pt x="943" y="1018"/>
                </a:lnTo>
                <a:lnTo>
                  <a:pt x="941" y="1005"/>
                </a:lnTo>
                <a:lnTo>
                  <a:pt x="941" y="992"/>
                </a:lnTo>
                <a:lnTo>
                  <a:pt x="937" y="981"/>
                </a:lnTo>
                <a:lnTo>
                  <a:pt x="935" y="970"/>
                </a:lnTo>
                <a:lnTo>
                  <a:pt x="945" y="963"/>
                </a:lnTo>
                <a:lnTo>
                  <a:pt x="956" y="952"/>
                </a:lnTo>
                <a:lnTo>
                  <a:pt x="965" y="939"/>
                </a:lnTo>
                <a:lnTo>
                  <a:pt x="976" y="924"/>
                </a:lnTo>
                <a:lnTo>
                  <a:pt x="984" y="907"/>
                </a:lnTo>
                <a:lnTo>
                  <a:pt x="993" y="890"/>
                </a:lnTo>
                <a:lnTo>
                  <a:pt x="1001" y="871"/>
                </a:lnTo>
                <a:lnTo>
                  <a:pt x="1011" y="851"/>
                </a:lnTo>
                <a:lnTo>
                  <a:pt x="1018" y="832"/>
                </a:lnTo>
                <a:lnTo>
                  <a:pt x="1025" y="813"/>
                </a:lnTo>
                <a:lnTo>
                  <a:pt x="1033" y="794"/>
                </a:lnTo>
                <a:lnTo>
                  <a:pt x="1041" y="775"/>
                </a:lnTo>
                <a:lnTo>
                  <a:pt x="1049" y="758"/>
                </a:lnTo>
                <a:lnTo>
                  <a:pt x="1056" y="742"/>
                </a:lnTo>
                <a:lnTo>
                  <a:pt x="1064" y="728"/>
                </a:lnTo>
                <a:lnTo>
                  <a:pt x="1071" y="715"/>
                </a:lnTo>
                <a:lnTo>
                  <a:pt x="1078" y="704"/>
                </a:lnTo>
                <a:lnTo>
                  <a:pt x="1086" y="693"/>
                </a:lnTo>
                <a:lnTo>
                  <a:pt x="1095" y="680"/>
                </a:lnTo>
                <a:lnTo>
                  <a:pt x="1105" y="666"/>
                </a:lnTo>
                <a:lnTo>
                  <a:pt x="1116" y="653"/>
                </a:lnTo>
                <a:lnTo>
                  <a:pt x="1127" y="638"/>
                </a:lnTo>
                <a:lnTo>
                  <a:pt x="1139" y="624"/>
                </a:lnTo>
                <a:lnTo>
                  <a:pt x="1152" y="609"/>
                </a:lnTo>
                <a:lnTo>
                  <a:pt x="1163" y="596"/>
                </a:lnTo>
                <a:lnTo>
                  <a:pt x="1175" y="581"/>
                </a:lnTo>
                <a:lnTo>
                  <a:pt x="1187" y="568"/>
                </a:lnTo>
                <a:lnTo>
                  <a:pt x="1200" y="554"/>
                </a:lnTo>
                <a:lnTo>
                  <a:pt x="1210" y="542"/>
                </a:lnTo>
                <a:lnTo>
                  <a:pt x="1221" y="530"/>
                </a:lnTo>
                <a:lnTo>
                  <a:pt x="1231" y="520"/>
                </a:lnTo>
                <a:lnTo>
                  <a:pt x="1241" y="510"/>
                </a:lnTo>
                <a:lnTo>
                  <a:pt x="1255" y="497"/>
                </a:lnTo>
                <a:lnTo>
                  <a:pt x="1271" y="484"/>
                </a:lnTo>
                <a:lnTo>
                  <a:pt x="1288" y="469"/>
                </a:lnTo>
                <a:lnTo>
                  <a:pt x="1308" y="454"/>
                </a:lnTo>
                <a:lnTo>
                  <a:pt x="1327" y="439"/>
                </a:lnTo>
                <a:lnTo>
                  <a:pt x="1349" y="423"/>
                </a:lnTo>
                <a:lnTo>
                  <a:pt x="1371" y="407"/>
                </a:lnTo>
                <a:lnTo>
                  <a:pt x="1394" y="390"/>
                </a:lnTo>
                <a:lnTo>
                  <a:pt x="1414" y="375"/>
                </a:lnTo>
                <a:lnTo>
                  <a:pt x="1437" y="359"/>
                </a:lnTo>
                <a:lnTo>
                  <a:pt x="1457" y="344"/>
                </a:lnTo>
                <a:lnTo>
                  <a:pt x="1479" y="328"/>
                </a:lnTo>
                <a:lnTo>
                  <a:pt x="1498" y="313"/>
                </a:lnTo>
                <a:lnTo>
                  <a:pt x="1516" y="298"/>
                </a:lnTo>
                <a:lnTo>
                  <a:pt x="1532" y="285"/>
                </a:lnTo>
                <a:lnTo>
                  <a:pt x="1547" y="272"/>
                </a:lnTo>
                <a:lnTo>
                  <a:pt x="1554" y="266"/>
                </a:lnTo>
                <a:lnTo>
                  <a:pt x="1562" y="259"/>
                </a:lnTo>
                <a:lnTo>
                  <a:pt x="1571" y="252"/>
                </a:lnTo>
                <a:lnTo>
                  <a:pt x="1581" y="244"/>
                </a:lnTo>
                <a:lnTo>
                  <a:pt x="1590" y="236"/>
                </a:lnTo>
                <a:lnTo>
                  <a:pt x="1601" y="228"/>
                </a:lnTo>
                <a:lnTo>
                  <a:pt x="1611" y="221"/>
                </a:lnTo>
                <a:lnTo>
                  <a:pt x="1623" y="212"/>
                </a:lnTo>
                <a:lnTo>
                  <a:pt x="1633" y="204"/>
                </a:lnTo>
                <a:lnTo>
                  <a:pt x="1644" y="196"/>
                </a:lnTo>
                <a:lnTo>
                  <a:pt x="1655" y="189"/>
                </a:lnTo>
                <a:lnTo>
                  <a:pt x="1666" y="182"/>
                </a:lnTo>
                <a:lnTo>
                  <a:pt x="1675" y="175"/>
                </a:lnTo>
                <a:lnTo>
                  <a:pt x="1685" y="168"/>
                </a:lnTo>
                <a:lnTo>
                  <a:pt x="1693" y="162"/>
                </a:lnTo>
                <a:lnTo>
                  <a:pt x="1703" y="156"/>
                </a:lnTo>
                <a:lnTo>
                  <a:pt x="1706" y="152"/>
                </a:lnTo>
                <a:lnTo>
                  <a:pt x="1712" y="148"/>
                </a:lnTo>
                <a:lnTo>
                  <a:pt x="1716" y="145"/>
                </a:lnTo>
                <a:lnTo>
                  <a:pt x="1722" y="139"/>
                </a:lnTo>
                <a:lnTo>
                  <a:pt x="1727" y="136"/>
                </a:lnTo>
                <a:lnTo>
                  <a:pt x="1733" y="130"/>
                </a:lnTo>
                <a:lnTo>
                  <a:pt x="1739" y="126"/>
                </a:lnTo>
                <a:lnTo>
                  <a:pt x="1745" y="120"/>
                </a:lnTo>
                <a:lnTo>
                  <a:pt x="1750" y="116"/>
                </a:lnTo>
                <a:lnTo>
                  <a:pt x="1756" y="112"/>
                </a:lnTo>
                <a:lnTo>
                  <a:pt x="1761" y="108"/>
                </a:lnTo>
                <a:lnTo>
                  <a:pt x="1767" y="104"/>
                </a:lnTo>
                <a:lnTo>
                  <a:pt x="1773" y="102"/>
                </a:lnTo>
                <a:lnTo>
                  <a:pt x="1779" y="99"/>
                </a:lnTo>
                <a:lnTo>
                  <a:pt x="1784" y="97"/>
                </a:lnTo>
                <a:lnTo>
                  <a:pt x="1792" y="96"/>
                </a:lnTo>
                <a:lnTo>
                  <a:pt x="1795" y="96"/>
                </a:lnTo>
                <a:lnTo>
                  <a:pt x="1799" y="96"/>
                </a:lnTo>
                <a:lnTo>
                  <a:pt x="1804" y="96"/>
                </a:lnTo>
                <a:lnTo>
                  <a:pt x="1809" y="95"/>
                </a:lnTo>
                <a:lnTo>
                  <a:pt x="1815" y="95"/>
                </a:lnTo>
                <a:lnTo>
                  <a:pt x="1822" y="95"/>
                </a:lnTo>
                <a:lnTo>
                  <a:pt x="1829" y="95"/>
                </a:lnTo>
                <a:lnTo>
                  <a:pt x="1836" y="93"/>
                </a:lnTo>
                <a:lnTo>
                  <a:pt x="1842" y="93"/>
                </a:lnTo>
                <a:lnTo>
                  <a:pt x="1849" y="93"/>
                </a:lnTo>
                <a:lnTo>
                  <a:pt x="1854" y="93"/>
                </a:lnTo>
                <a:lnTo>
                  <a:pt x="1861" y="91"/>
                </a:lnTo>
                <a:lnTo>
                  <a:pt x="1866" y="91"/>
                </a:lnTo>
                <a:lnTo>
                  <a:pt x="1872" y="91"/>
                </a:lnTo>
                <a:lnTo>
                  <a:pt x="1875" y="91"/>
                </a:lnTo>
                <a:lnTo>
                  <a:pt x="1881" y="89"/>
                </a:lnTo>
                <a:lnTo>
                  <a:pt x="1886" y="88"/>
                </a:lnTo>
                <a:lnTo>
                  <a:pt x="1894" y="85"/>
                </a:lnTo>
                <a:lnTo>
                  <a:pt x="1904" y="80"/>
                </a:lnTo>
                <a:lnTo>
                  <a:pt x="1916" y="74"/>
                </a:lnTo>
                <a:lnTo>
                  <a:pt x="1929" y="69"/>
                </a:lnTo>
                <a:lnTo>
                  <a:pt x="1941" y="61"/>
                </a:lnTo>
                <a:lnTo>
                  <a:pt x="1956" y="54"/>
                </a:lnTo>
                <a:lnTo>
                  <a:pt x="1971" y="46"/>
                </a:lnTo>
                <a:lnTo>
                  <a:pt x="1984" y="39"/>
                </a:lnTo>
                <a:lnTo>
                  <a:pt x="1998" y="32"/>
                </a:lnTo>
                <a:lnTo>
                  <a:pt x="2011" y="25"/>
                </a:lnTo>
                <a:lnTo>
                  <a:pt x="2024" y="18"/>
                </a:lnTo>
                <a:lnTo>
                  <a:pt x="2035" y="12"/>
                </a:lnTo>
                <a:lnTo>
                  <a:pt x="2045" y="7"/>
                </a:lnTo>
                <a:lnTo>
                  <a:pt x="2053" y="3"/>
                </a:lnTo>
                <a:lnTo>
                  <a:pt x="2059" y="0"/>
                </a:lnTo>
              </a:path>
            </a:pathLst>
          </a:custGeom>
          <a:noFill/>
          <a:ln w="633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94040" y="1554120"/>
            <a:ext cx="447480" cy="311472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5880" y="2523960"/>
            <a:ext cx="1942920" cy="3413160"/>
          </a:xfrm>
          <a:custGeom>
            <a:avLst/>
            <a:gdLst/>
            <a:ahLst/>
            <a:rect l="l" t="t" r="r" b="b"/>
            <a:pathLst>
              <a:path w="1224" h="2150">
                <a:moveTo>
                  <a:pt x="1223" y="2149"/>
                </a:moveTo>
                <a:lnTo>
                  <a:pt x="1221" y="2132"/>
                </a:lnTo>
                <a:lnTo>
                  <a:pt x="1220" y="2118"/>
                </a:lnTo>
                <a:lnTo>
                  <a:pt x="1219" y="2106"/>
                </a:lnTo>
                <a:lnTo>
                  <a:pt x="1219" y="2097"/>
                </a:lnTo>
                <a:lnTo>
                  <a:pt x="1217" y="2091"/>
                </a:lnTo>
                <a:lnTo>
                  <a:pt x="1217" y="2085"/>
                </a:lnTo>
                <a:lnTo>
                  <a:pt x="1217" y="2082"/>
                </a:lnTo>
                <a:lnTo>
                  <a:pt x="1217" y="2078"/>
                </a:lnTo>
                <a:lnTo>
                  <a:pt x="1217" y="2076"/>
                </a:lnTo>
                <a:lnTo>
                  <a:pt x="1217" y="2075"/>
                </a:lnTo>
                <a:lnTo>
                  <a:pt x="1217" y="2073"/>
                </a:lnTo>
                <a:lnTo>
                  <a:pt x="1217" y="2070"/>
                </a:lnTo>
                <a:lnTo>
                  <a:pt x="1216" y="2066"/>
                </a:lnTo>
                <a:lnTo>
                  <a:pt x="1216" y="2062"/>
                </a:lnTo>
                <a:lnTo>
                  <a:pt x="1216" y="2055"/>
                </a:lnTo>
                <a:lnTo>
                  <a:pt x="1216" y="2045"/>
                </a:lnTo>
                <a:lnTo>
                  <a:pt x="1215" y="2035"/>
                </a:lnTo>
                <a:lnTo>
                  <a:pt x="1213" y="2020"/>
                </a:lnTo>
                <a:lnTo>
                  <a:pt x="1211" y="2004"/>
                </a:lnTo>
                <a:lnTo>
                  <a:pt x="1210" y="1985"/>
                </a:lnTo>
                <a:lnTo>
                  <a:pt x="1207" y="1964"/>
                </a:lnTo>
                <a:lnTo>
                  <a:pt x="1205" y="1941"/>
                </a:lnTo>
                <a:lnTo>
                  <a:pt x="1201" y="1917"/>
                </a:lnTo>
                <a:lnTo>
                  <a:pt x="1199" y="1890"/>
                </a:lnTo>
                <a:lnTo>
                  <a:pt x="1196" y="1864"/>
                </a:lnTo>
                <a:lnTo>
                  <a:pt x="1192" y="1837"/>
                </a:lnTo>
                <a:lnTo>
                  <a:pt x="1188" y="1810"/>
                </a:lnTo>
                <a:lnTo>
                  <a:pt x="1185" y="1781"/>
                </a:lnTo>
                <a:lnTo>
                  <a:pt x="1181" y="1754"/>
                </a:lnTo>
                <a:lnTo>
                  <a:pt x="1178" y="1726"/>
                </a:lnTo>
                <a:lnTo>
                  <a:pt x="1174" y="1700"/>
                </a:lnTo>
                <a:lnTo>
                  <a:pt x="1171" y="1673"/>
                </a:lnTo>
                <a:lnTo>
                  <a:pt x="1166" y="1647"/>
                </a:lnTo>
                <a:lnTo>
                  <a:pt x="1162" y="1620"/>
                </a:lnTo>
                <a:lnTo>
                  <a:pt x="1157" y="1592"/>
                </a:lnTo>
                <a:lnTo>
                  <a:pt x="1153" y="1563"/>
                </a:lnTo>
                <a:lnTo>
                  <a:pt x="1147" y="1535"/>
                </a:lnTo>
                <a:lnTo>
                  <a:pt x="1142" y="1505"/>
                </a:lnTo>
                <a:lnTo>
                  <a:pt x="1137" y="1476"/>
                </a:lnTo>
                <a:lnTo>
                  <a:pt x="1133" y="1446"/>
                </a:lnTo>
                <a:lnTo>
                  <a:pt x="1127" y="1420"/>
                </a:lnTo>
                <a:lnTo>
                  <a:pt x="1122" y="1392"/>
                </a:lnTo>
                <a:lnTo>
                  <a:pt x="1117" y="1367"/>
                </a:lnTo>
                <a:lnTo>
                  <a:pt x="1113" y="1342"/>
                </a:lnTo>
                <a:lnTo>
                  <a:pt x="1108" y="1321"/>
                </a:lnTo>
                <a:lnTo>
                  <a:pt x="1104" y="1301"/>
                </a:lnTo>
                <a:lnTo>
                  <a:pt x="1100" y="1284"/>
                </a:lnTo>
                <a:lnTo>
                  <a:pt x="1097" y="1268"/>
                </a:lnTo>
                <a:lnTo>
                  <a:pt x="1092" y="1256"/>
                </a:lnTo>
                <a:lnTo>
                  <a:pt x="1089" y="1240"/>
                </a:lnTo>
                <a:lnTo>
                  <a:pt x="1083" y="1224"/>
                </a:lnTo>
                <a:lnTo>
                  <a:pt x="1079" y="1206"/>
                </a:lnTo>
                <a:lnTo>
                  <a:pt x="1073" y="1186"/>
                </a:lnTo>
                <a:lnTo>
                  <a:pt x="1068" y="1166"/>
                </a:lnTo>
                <a:lnTo>
                  <a:pt x="1062" y="1144"/>
                </a:lnTo>
                <a:lnTo>
                  <a:pt x="1057" y="1122"/>
                </a:lnTo>
                <a:lnTo>
                  <a:pt x="1049" y="1100"/>
                </a:lnTo>
                <a:lnTo>
                  <a:pt x="1043" y="1078"/>
                </a:lnTo>
                <a:lnTo>
                  <a:pt x="1038" y="1057"/>
                </a:lnTo>
                <a:lnTo>
                  <a:pt x="1032" y="1034"/>
                </a:lnTo>
                <a:lnTo>
                  <a:pt x="1027" y="1014"/>
                </a:lnTo>
                <a:lnTo>
                  <a:pt x="1021" y="994"/>
                </a:lnTo>
                <a:lnTo>
                  <a:pt x="1015" y="976"/>
                </a:lnTo>
                <a:lnTo>
                  <a:pt x="1012" y="958"/>
                </a:lnTo>
                <a:lnTo>
                  <a:pt x="1006" y="941"/>
                </a:lnTo>
                <a:lnTo>
                  <a:pt x="1002" y="922"/>
                </a:lnTo>
                <a:lnTo>
                  <a:pt x="996" y="904"/>
                </a:lnTo>
                <a:lnTo>
                  <a:pt x="992" y="883"/>
                </a:lnTo>
                <a:lnTo>
                  <a:pt x="985" y="862"/>
                </a:lnTo>
                <a:lnTo>
                  <a:pt x="980" y="842"/>
                </a:lnTo>
                <a:lnTo>
                  <a:pt x="974" y="821"/>
                </a:lnTo>
                <a:lnTo>
                  <a:pt x="969" y="800"/>
                </a:lnTo>
                <a:lnTo>
                  <a:pt x="962" y="780"/>
                </a:lnTo>
                <a:lnTo>
                  <a:pt x="957" y="760"/>
                </a:lnTo>
                <a:lnTo>
                  <a:pt x="951" y="742"/>
                </a:lnTo>
                <a:lnTo>
                  <a:pt x="946" y="723"/>
                </a:lnTo>
                <a:lnTo>
                  <a:pt x="941" y="708"/>
                </a:lnTo>
                <a:lnTo>
                  <a:pt x="937" y="692"/>
                </a:lnTo>
                <a:lnTo>
                  <a:pt x="933" y="678"/>
                </a:lnTo>
                <a:lnTo>
                  <a:pt x="930" y="666"/>
                </a:lnTo>
                <a:lnTo>
                  <a:pt x="925" y="655"/>
                </a:lnTo>
                <a:lnTo>
                  <a:pt x="921" y="642"/>
                </a:lnTo>
                <a:lnTo>
                  <a:pt x="915" y="630"/>
                </a:lnTo>
                <a:lnTo>
                  <a:pt x="911" y="614"/>
                </a:lnTo>
                <a:lnTo>
                  <a:pt x="904" y="600"/>
                </a:lnTo>
                <a:lnTo>
                  <a:pt x="899" y="584"/>
                </a:lnTo>
                <a:lnTo>
                  <a:pt x="892" y="570"/>
                </a:lnTo>
                <a:lnTo>
                  <a:pt x="886" y="553"/>
                </a:lnTo>
                <a:lnTo>
                  <a:pt x="879" y="538"/>
                </a:lnTo>
                <a:lnTo>
                  <a:pt x="872" y="522"/>
                </a:lnTo>
                <a:lnTo>
                  <a:pt x="864" y="506"/>
                </a:lnTo>
                <a:lnTo>
                  <a:pt x="859" y="491"/>
                </a:lnTo>
                <a:lnTo>
                  <a:pt x="851" y="478"/>
                </a:lnTo>
                <a:lnTo>
                  <a:pt x="846" y="464"/>
                </a:lnTo>
                <a:lnTo>
                  <a:pt x="840" y="451"/>
                </a:lnTo>
                <a:lnTo>
                  <a:pt x="835" y="438"/>
                </a:lnTo>
                <a:lnTo>
                  <a:pt x="827" y="428"/>
                </a:lnTo>
                <a:lnTo>
                  <a:pt x="821" y="417"/>
                </a:lnTo>
                <a:lnTo>
                  <a:pt x="814" y="405"/>
                </a:lnTo>
                <a:lnTo>
                  <a:pt x="808" y="392"/>
                </a:lnTo>
                <a:lnTo>
                  <a:pt x="799" y="379"/>
                </a:lnTo>
                <a:lnTo>
                  <a:pt x="791" y="366"/>
                </a:lnTo>
                <a:lnTo>
                  <a:pt x="783" y="352"/>
                </a:lnTo>
                <a:lnTo>
                  <a:pt x="775" y="339"/>
                </a:lnTo>
                <a:lnTo>
                  <a:pt x="766" y="327"/>
                </a:lnTo>
                <a:lnTo>
                  <a:pt x="758" y="314"/>
                </a:lnTo>
                <a:lnTo>
                  <a:pt x="750" y="302"/>
                </a:lnTo>
                <a:lnTo>
                  <a:pt x="743" y="291"/>
                </a:lnTo>
                <a:lnTo>
                  <a:pt x="735" y="281"/>
                </a:lnTo>
                <a:lnTo>
                  <a:pt x="728" y="271"/>
                </a:lnTo>
                <a:lnTo>
                  <a:pt x="721" y="262"/>
                </a:lnTo>
                <a:lnTo>
                  <a:pt x="716" y="254"/>
                </a:lnTo>
                <a:lnTo>
                  <a:pt x="710" y="248"/>
                </a:lnTo>
                <a:lnTo>
                  <a:pt x="704" y="241"/>
                </a:lnTo>
                <a:lnTo>
                  <a:pt x="699" y="235"/>
                </a:lnTo>
                <a:lnTo>
                  <a:pt x="693" y="228"/>
                </a:lnTo>
                <a:lnTo>
                  <a:pt x="687" y="222"/>
                </a:lnTo>
                <a:lnTo>
                  <a:pt x="681" y="214"/>
                </a:lnTo>
                <a:lnTo>
                  <a:pt x="675" y="208"/>
                </a:lnTo>
                <a:lnTo>
                  <a:pt x="670" y="200"/>
                </a:lnTo>
                <a:lnTo>
                  <a:pt x="664" y="194"/>
                </a:lnTo>
                <a:lnTo>
                  <a:pt x="659" y="189"/>
                </a:lnTo>
                <a:lnTo>
                  <a:pt x="653" y="184"/>
                </a:lnTo>
                <a:lnTo>
                  <a:pt x="649" y="178"/>
                </a:lnTo>
                <a:lnTo>
                  <a:pt x="645" y="174"/>
                </a:lnTo>
                <a:lnTo>
                  <a:pt x="641" y="170"/>
                </a:lnTo>
                <a:lnTo>
                  <a:pt x="639" y="166"/>
                </a:lnTo>
                <a:lnTo>
                  <a:pt x="637" y="163"/>
                </a:lnTo>
                <a:lnTo>
                  <a:pt x="633" y="162"/>
                </a:lnTo>
                <a:lnTo>
                  <a:pt x="631" y="160"/>
                </a:lnTo>
                <a:lnTo>
                  <a:pt x="627" y="158"/>
                </a:lnTo>
                <a:lnTo>
                  <a:pt x="625" y="154"/>
                </a:lnTo>
                <a:lnTo>
                  <a:pt x="620" y="152"/>
                </a:lnTo>
                <a:lnTo>
                  <a:pt x="616" y="148"/>
                </a:lnTo>
                <a:lnTo>
                  <a:pt x="611" y="145"/>
                </a:lnTo>
                <a:lnTo>
                  <a:pt x="607" y="141"/>
                </a:lnTo>
                <a:lnTo>
                  <a:pt x="602" y="138"/>
                </a:lnTo>
                <a:lnTo>
                  <a:pt x="597" y="135"/>
                </a:lnTo>
                <a:lnTo>
                  <a:pt x="591" y="131"/>
                </a:lnTo>
                <a:lnTo>
                  <a:pt x="587" y="127"/>
                </a:lnTo>
                <a:lnTo>
                  <a:pt x="582" y="125"/>
                </a:lnTo>
                <a:lnTo>
                  <a:pt x="578" y="122"/>
                </a:lnTo>
                <a:lnTo>
                  <a:pt x="573" y="118"/>
                </a:lnTo>
                <a:lnTo>
                  <a:pt x="569" y="115"/>
                </a:lnTo>
                <a:lnTo>
                  <a:pt x="564" y="113"/>
                </a:lnTo>
                <a:lnTo>
                  <a:pt x="559" y="110"/>
                </a:lnTo>
                <a:lnTo>
                  <a:pt x="552" y="107"/>
                </a:lnTo>
                <a:lnTo>
                  <a:pt x="547" y="104"/>
                </a:lnTo>
                <a:lnTo>
                  <a:pt x="539" y="100"/>
                </a:lnTo>
                <a:lnTo>
                  <a:pt x="532" y="96"/>
                </a:lnTo>
                <a:lnTo>
                  <a:pt x="524" y="93"/>
                </a:lnTo>
                <a:lnTo>
                  <a:pt x="517" y="89"/>
                </a:lnTo>
                <a:lnTo>
                  <a:pt x="507" y="86"/>
                </a:lnTo>
                <a:lnTo>
                  <a:pt x="500" y="82"/>
                </a:lnTo>
                <a:lnTo>
                  <a:pt x="491" y="78"/>
                </a:lnTo>
                <a:lnTo>
                  <a:pt x="484" y="75"/>
                </a:lnTo>
                <a:lnTo>
                  <a:pt x="476" y="72"/>
                </a:lnTo>
                <a:lnTo>
                  <a:pt x="468" y="68"/>
                </a:lnTo>
                <a:lnTo>
                  <a:pt x="461" y="64"/>
                </a:lnTo>
                <a:lnTo>
                  <a:pt x="455" y="60"/>
                </a:lnTo>
                <a:lnTo>
                  <a:pt x="447" y="58"/>
                </a:lnTo>
                <a:lnTo>
                  <a:pt x="439" y="57"/>
                </a:lnTo>
                <a:lnTo>
                  <a:pt x="431" y="55"/>
                </a:lnTo>
                <a:lnTo>
                  <a:pt x="423" y="51"/>
                </a:lnTo>
                <a:lnTo>
                  <a:pt x="414" y="49"/>
                </a:lnTo>
                <a:lnTo>
                  <a:pt x="405" y="46"/>
                </a:lnTo>
                <a:lnTo>
                  <a:pt x="396" y="44"/>
                </a:lnTo>
                <a:lnTo>
                  <a:pt x="387" y="40"/>
                </a:lnTo>
                <a:lnTo>
                  <a:pt x="378" y="38"/>
                </a:lnTo>
                <a:lnTo>
                  <a:pt x="368" y="36"/>
                </a:lnTo>
                <a:lnTo>
                  <a:pt x="359" y="34"/>
                </a:lnTo>
                <a:lnTo>
                  <a:pt x="351" y="30"/>
                </a:lnTo>
                <a:lnTo>
                  <a:pt x="343" y="28"/>
                </a:lnTo>
                <a:lnTo>
                  <a:pt x="336" y="27"/>
                </a:lnTo>
                <a:lnTo>
                  <a:pt x="330" y="26"/>
                </a:lnTo>
                <a:lnTo>
                  <a:pt x="324" y="24"/>
                </a:lnTo>
                <a:lnTo>
                  <a:pt x="317" y="24"/>
                </a:lnTo>
                <a:lnTo>
                  <a:pt x="311" y="22"/>
                </a:lnTo>
                <a:lnTo>
                  <a:pt x="303" y="22"/>
                </a:lnTo>
                <a:lnTo>
                  <a:pt x="296" y="20"/>
                </a:lnTo>
                <a:lnTo>
                  <a:pt x="287" y="20"/>
                </a:lnTo>
                <a:lnTo>
                  <a:pt x="279" y="18"/>
                </a:lnTo>
                <a:lnTo>
                  <a:pt x="269" y="16"/>
                </a:lnTo>
                <a:lnTo>
                  <a:pt x="261" y="14"/>
                </a:lnTo>
                <a:lnTo>
                  <a:pt x="251" y="14"/>
                </a:lnTo>
                <a:lnTo>
                  <a:pt x="242" y="12"/>
                </a:lnTo>
                <a:lnTo>
                  <a:pt x="232" y="12"/>
                </a:lnTo>
                <a:lnTo>
                  <a:pt x="223" y="10"/>
                </a:lnTo>
                <a:lnTo>
                  <a:pt x="214" y="10"/>
                </a:lnTo>
                <a:lnTo>
                  <a:pt x="206" y="8"/>
                </a:lnTo>
                <a:lnTo>
                  <a:pt x="198" y="8"/>
                </a:lnTo>
                <a:lnTo>
                  <a:pt x="191" y="6"/>
                </a:lnTo>
                <a:lnTo>
                  <a:pt x="183" y="6"/>
                </a:lnTo>
                <a:lnTo>
                  <a:pt x="175" y="6"/>
                </a:lnTo>
                <a:lnTo>
                  <a:pt x="166" y="6"/>
                </a:lnTo>
                <a:lnTo>
                  <a:pt x="159" y="4"/>
                </a:lnTo>
                <a:lnTo>
                  <a:pt x="149" y="4"/>
                </a:lnTo>
                <a:lnTo>
                  <a:pt x="141" y="4"/>
                </a:lnTo>
                <a:lnTo>
                  <a:pt x="131" y="4"/>
                </a:lnTo>
                <a:lnTo>
                  <a:pt x="123" y="2"/>
                </a:lnTo>
                <a:lnTo>
                  <a:pt x="113" y="2"/>
                </a:lnTo>
                <a:lnTo>
                  <a:pt x="104" y="2"/>
                </a:lnTo>
                <a:lnTo>
                  <a:pt x="94" y="2"/>
                </a:lnTo>
                <a:lnTo>
                  <a:pt x="86" y="1"/>
                </a:lnTo>
                <a:lnTo>
                  <a:pt x="77" y="1"/>
                </a:lnTo>
                <a:lnTo>
                  <a:pt x="70" y="1"/>
                </a:lnTo>
                <a:lnTo>
                  <a:pt x="64" y="1"/>
                </a:lnTo>
                <a:lnTo>
                  <a:pt x="58" y="0"/>
                </a:lnTo>
                <a:lnTo>
                  <a:pt x="53" y="0"/>
                </a:lnTo>
                <a:lnTo>
                  <a:pt x="49" y="0"/>
                </a:lnTo>
                <a:lnTo>
                  <a:pt x="46" y="0"/>
                </a:lnTo>
                <a:lnTo>
                  <a:pt x="45" y="0"/>
                </a:lnTo>
                <a:lnTo>
                  <a:pt x="43" y="0"/>
                </a:lnTo>
                <a:lnTo>
                  <a:pt x="42" y="0"/>
                </a:lnTo>
                <a:lnTo>
                  <a:pt x="40" y="0"/>
                </a:lnTo>
                <a:lnTo>
                  <a:pt x="40" y="0"/>
                </a:lnTo>
                <a:lnTo>
                  <a:pt x="37" y="0"/>
                </a:lnTo>
                <a:lnTo>
                  <a:pt x="36" y="0"/>
                </a:lnTo>
                <a:lnTo>
                  <a:pt x="32" y="0"/>
                </a:lnTo>
                <a:lnTo>
                  <a:pt x="29" y="0"/>
                </a:lnTo>
                <a:lnTo>
                  <a:pt x="23" y="0"/>
                </a:ln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08120" y="2927520"/>
            <a:ext cx="1943280" cy="3414600"/>
          </a:xfrm>
          <a:custGeom>
            <a:avLst/>
            <a:gdLst/>
            <a:ahLst/>
            <a:rect l="l" t="t" r="r" b="b"/>
            <a:pathLst>
              <a:path w="1224" h="2151">
                <a:moveTo>
                  <a:pt x="1223" y="2150"/>
                </a:moveTo>
                <a:lnTo>
                  <a:pt x="1221" y="2133"/>
                </a:lnTo>
                <a:lnTo>
                  <a:pt x="1220" y="2118"/>
                </a:lnTo>
                <a:lnTo>
                  <a:pt x="1218" y="2107"/>
                </a:lnTo>
                <a:lnTo>
                  <a:pt x="1218" y="2098"/>
                </a:lnTo>
                <a:lnTo>
                  <a:pt x="1217" y="2092"/>
                </a:lnTo>
                <a:lnTo>
                  <a:pt x="1217" y="2086"/>
                </a:lnTo>
                <a:lnTo>
                  <a:pt x="1217" y="2083"/>
                </a:lnTo>
                <a:lnTo>
                  <a:pt x="1217" y="2079"/>
                </a:lnTo>
                <a:lnTo>
                  <a:pt x="1216" y="2077"/>
                </a:lnTo>
                <a:lnTo>
                  <a:pt x="1216" y="2075"/>
                </a:lnTo>
                <a:lnTo>
                  <a:pt x="1216" y="2073"/>
                </a:lnTo>
                <a:lnTo>
                  <a:pt x="1216" y="2070"/>
                </a:lnTo>
                <a:lnTo>
                  <a:pt x="1216" y="2067"/>
                </a:lnTo>
                <a:lnTo>
                  <a:pt x="1216" y="2062"/>
                </a:lnTo>
                <a:lnTo>
                  <a:pt x="1216" y="2055"/>
                </a:lnTo>
                <a:lnTo>
                  <a:pt x="1216" y="2046"/>
                </a:lnTo>
                <a:lnTo>
                  <a:pt x="1214" y="2035"/>
                </a:lnTo>
                <a:lnTo>
                  <a:pt x="1213" y="2021"/>
                </a:lnTo>
                <a:lnTo>
                  <a:pt x="1211" y="2005"/>
                </a:lnTo>
                <a:lnTo>
                  <a:pt x="1210" y="1985"/>
                </a:lnTo>
                <a:lnTo>
                  <a:pt x="1206" y="1964"/>
                </a:lnTo>
                <a:lnTo>
                  <a:pt x="1205" y="1941"/>
                </a:lnTo>
                <a:lnTo>
                  <a:pt x="1201" y="1917"/>
                </a:lnTo>
                <a:lnTo>
                  <a:pt x="1199" y="1890"/>
                </a:lnTo>
                <a:lnTo>
                  <a:pt x="1195" y="1864"/>
                </a:lnTo>
                <a:lnTo>
                  <a:pt x="1192" y="1837"/>
                </a:lnTo>
                <a:lnTo>
                  <a:pt x="1188" y="1810"/>
                </a:lnTo>
                <a:lnTo>
                  <a:pt x="1185" y="1781"/>
                </a:lnTo>
                <a:lnTo>
                  <a:pt x="1181" y="1754"/>
                </a:lnTo>
                <a:lnTo>
                  <a:pt x="1177" y="1726"/>
                </a:lnTo>
                <a:lnTo>
                  <a:pt x="1174" y="1700"/>
                </a:lnTo>
                <a:lnTo>
                  <a:pt x="1170" y="1673"/>
                </a:lnTo>
                <a:lnTo>
                  <a:pt x="1166" y="1648"/>
                </a:lnTo>
                <a:lnTo>
                  <a:pt x="1162" y="1621"/>
                </a:lnTo>
                <a:lnTo>
                  <a:pt x="1156" y="1593"/>
                </a:lnTo>
                <a:lnTo>
                  <a:pt x="1152" y="1564"/>
                </a:lnTo>
                <a:lnTo>
                  <a:pt x="1147" y="1536"/>
                </a:lnTo>
                <a:lnTo>
                  <a:pt x="1142" y="1506"/>
                </a:lnTo>
                <a:lnTo>
                  <a:pt x="1136" y="1477"/>
                </a:lnTo>
                <a:lnTo>
                  <a:pt x="1132" y="1447"/>
                </a:lnTo>
                <a:lnTo>
                  <a:pt x="1127" y="1420"/>
                </a:lnTo>
                <a:lnTo>
                  <a:pt x="1122" y="1393"/>
                </a:lnTo>
                <a:lnTo>
                  <a:pt x="1116" y="1368"/>
                </a:lnTo>
                <a:lnTo>
                  <a:pt x="1112" y="1343"/>
                </a:lnTo>
                <a:lnTo>
                  <a:pt x="1107" y="1322"/>
                </a:lnTo>
                <a:lnTo>
                  <a:pt x="1104" y="1302"/>
                </a:lnTo>
                <a:lnTo>
                  <a:pt x="1100" y="1285"/>
                </a:lnTo>
                <a:lnTo>
                  <a:pt x="1097" y="1270"/>
                </a:lnTo>
                <a:lnTo>
                  <a:pt x="1092" y="1257"/>
                </a:lnTo>
                <a:lnTo>
                  <a:pt x="1088" y="1242"/>
                </a:lnTo>
                <a:lnTo>
                  <a:pt x="1082" y="1225"/>
                </a:lnTo>
                <a:lnTo>
                  <a:pt x="1079" y="1206"/>
                </a:lnTo>
                <a:lnTo>
                  <a:pt x="1073" y="1187"/>
                </a:lnTo>
                <a:lnTo>
                  <a:pt x="1068" y="1166"/>
                </a:lnTo>
                <a:lnTo>
                  <a:pt x="1062" y="1145"/>
                </a:lnTo>
                <a:lnTo>
                  <a:pt x="1056" y="1122"/>
                </a:lnTo>
                <a:lnTo>
                  <a:pt x="1049" y="1101"/>
                </a:lnTo>
                <a:lnTo>
                  <a:pt x="1043" y="1079"/>
                </a:lnTo>
                <a:lnTo>
                  <a:pt x="1038" y="1058"/>
                </a:lnTo>
                <a:lnTo>
                  <a:pt x="1032" y="1035"/>
                </a:lnTo>
                <a:lnTo>
                  <a:pt x="1026" y="1015"/>
                </a:lnTo>
                <a:lnTo>
                  <a:pt x="1021" y="995"/>
                </a:lnTo>
                <a:lnTo>
                  <a:pt x="1015" y="976"/>
                </a:lnTo>
                <a:lnTo>
                  <a:pt x="1011" y="958"/>
                </a:lnTo>
                <a:lnTo>
                  <a:pt x="1006" y="942"/>
                </a:lnTo>
                <a:lnTo>
                  <a:pt x="1001" y="923"/>
                </a:lnTo>
                <a:lnTo>
                  <a:pt x="996" y="904"/>
                </a:lnTo>
                <a:lnTo>
                  <a:pt x="991" y="884"/>
                </a:lnTo>
                <a:lnTo>
                  <a:pt x="985" y="863"/>
                </a:lnTo>
                <a:lnTo>
                  <a:pt x="980" y="842"/>
                </a:lnTo>
                <a:lnTo>
                  <a:pt x="974" y="822"/>
                </a:lnTo>
                <a:lnTo>
                  <a:pt x="968" y="800"/>
                </a:lnTo>
                <a:lnTo>
                  <a:pt x="962" y="780"/>
                </a:lnTo>
                <a:lnTo>
                  <a:pt x="956" y="760"/>
                </a:lnTo>
                <a:lnTo>
                  <a:pt x="951" y="742"/>
                </a:lnTo>
                <a:lnTo>
                  <a:pt x="946" y="723"/>
                </a:lnTo>
                <a:lnTo>
                  <a:pt x="940" y="708"/>
                </a:lnTo>
                <a:lnTo>
                  <a:pt x="936" y="692"/>
                </a:lnTo>
                <a:lnTo>
                  <a:pt x="933" y="678"/>
                </a:lnTo>
                <a:lnTo>
                  <a:pt x="930" y="666"/>
                </a:lnTo>
                <a:lnTo>
                  <a:pt x="924" y="655"/>
                </a:lnTo>
                <a:lnTo>
                  <a:pt x="921" y="642"/>
                </a:lnTo>
                <a:lnTo>
                  <a:pt x="915" y="630"/>
                </a:lnTo>
                <a:lnTo>
                  <a:pt x="911" y="614"/>
                </a:lnTo>
                <a:lnTo>
                  <a:pt x="904" y="600"/>
                </a:lnTo>
                <a:lnTo>
                  <a:pt x="898" y="584"/>
                </a:lnTo>
                <a:lnTo>
                  <a:pt x="892" y="569"/>
                </a:lnTo>
                <a:lnTo>
                  <a:pt x="886" y="552"/>
                </a:lnTo>
                <a:lnTo>
                  <a:pt x="878" y="537"/>
                </a:lnTo>
                <a:lnTo>
                  <a:pt x="872" y="521"/>
                </a:lnTo>
                <a:lnTo>
                  <a:pt x="864" y="506"/>
                </a:lnTo>
                <a:lnTo>
                  <a:pt x="858" y="490"/>
                </a:lnTo>
                <a:lnTo>
                  <a:pt x="851" y="477"/>
                </a:lnTo>
                <a:lnTo>
                  <a:pt x="845" y="463"/>
                </a:lnTo>
                <a:lnTo>
                  <a:pt x="840" y="450"/>
                </a:lnTo>
                <a:lnTo>
                  <a:pt x="834" y="438"/>
                </a:lnTo>
                <a:lnTo>
                  <a:pt x="827" y="427"/>
                </a:lnTo>
                <a:lnTo>
                  <a:pt x="821" y="416"/>
                </a:lnTo>
                <a:lnTo>
                  <a:pt x="814" y="404"/>
                </a:lnTo>
                <a:lnTo>
                  <a:pt x="807" y="391"/>
                </a:lnTo>
                <a:lnTo>
                  <a:pt x="798" y="378"/>
                </a:lnTo>
                <a:lnTo>
                  <a:pt x="791" y="366"/>
                </a:lnTo>
                <a:lnTo>
                  <a:pt x="782" y="352"/>
                </a:lnTo>
                <a:lnTo>
                  <a:pt x="775" y="339"/>
                </a:lnTo>
                <a:lnTo>
                  <a:pt x="766" y="328"/>
                </a:lnTo>
                <a:lnTo>
                  <a:pt x="758" y="314"/>
                </a:lnTo>
                <a:lnTo>
                  <a:pt x="750" y="303"/>
                </a:lnTo>
                <a:lnTo>
                  <a:pt x="742" y="291"/>
                </a:lnTo>
                <a:lnTo>
                  <a:pt x="735" y="281"/>
                </a:lnTo>
                <a:lnTo>
                  <a:pt x="727" y="271"/>
                </a:lnTo>
                <a:lnTo>
                  <a:pt x="721" y="263"/>
                </a:lnTo>
                <a:lnTo>
                  <a:pt x="716" y="254"/>
                </a:lnTo>
                <a:lnTo>
                  <a:pt x="709" y="249"/>
                </a:lnTo>
                <a:lnTo>
                  <a:pt x="704" y="241"/>
                </a:lnTo>
                <a:lnTo>
                  <a:pt x="698" y="235"/>
                </a:lnTo>
                <a:lnTo>
                  <a:pt x="692" y="228"/>
                </a:lnTo>
                <a:lnTo>
                  <a:pt x="686" y="222"/>
                </a:lnTo>
                <a:lnTo>
                  <a:pt x="680" y="214"/>
                </a:lnTo>
                <a:lnTo>
                  <a:pt x="675" y="208"/>
                </a:lnTo>
                <a:lnTo>
                  <a:pt x="669" y="200"/>
                </a:lnTo>
                <a:lnTo>
                  <a:pt x="664" y="194"/>
                </a:lnTo>
                <a:lnTo>
                  <a:pt x="658" y="189"/>
                </a:lnTo>
                <a:lnTo>
                  <a:pt x="652" y="184"/>
                </a:lnTo>
                <a:lnTo>
                  <a:pt x="649" y="178"/>
                </a:lnTo>
                <a:lnTo>
                  <a:pt x="644" y="174"/>
                </a:lnTo>
                <a:lnTo>
                  <a:pt x="641" y="170"/>
                </a:lnTo>
                <a:lnTo>
                  <a:pt x="638" y="167"/>
                </a:lnTo>
                <a:lnTo>
                  <a:pt x="636" y="163"/>
                </a:lnTo>
                <a:lnTo>
                  <a:pt x="633" y="162"/>
                </a:lnTo>
                <a:lnTo>
                  <a:pt x="631" y="160"/>
                </a:lnTo>
                <a:lnTo>
                  <a:pt x="627" y="158"/>
                </a:lnTo>
                <a:lnTo>
                  <a:pt x="624" y="154"/>
                </a:lnTo>
                <a:lnTo>
                  <a:pt x="620" y="153"/>
                </a:lnTo>
                <a:lnTo>
                  <a:pt x="616" y="149"/>
                </a:lnTo>
                <a:lnTo>
                  <a:pt x="611" y="145"/>
                </a:lnTo>
                <a:lnTo>
                  <a:pt x="608" y="142"/>
                </a:lnTo>
                <a:lnTo>
                  <a:pt x="602" y="139"/>
                </a:lnTo>
                <a:lnTo>
                  <a:pt x="597" y="135"/>
                </a:lnTo>
                <a:lnTo>
                  <a:pt x="591" y="132"/>
                </a:lnTo>
                <a:lnTo>
                  <a:pt x="588" y="128"/>
                </a:lnTo>
                <a:lnTo>
                  <a:pt x="582" y="126"/>
                </a:lnTo>
                <a:lnTo>
                  <a:pt x="578" y="122"/>
                </a:lnTo>
                <a:lnTo>
                  <a:pt x="573" y="119"/>
                </a:lnTo>
                <a:lnTo>
                  <a:pt x="569" y="115"/>
                </a:lnTo>
                <a:lnTo>
                  <a:pt x="563" y="113"/>
                </a:lnTo>
                <a:lnTo>
                  <a:pt x="559" y="110"/>
                </a:lnTo>
                <a:lnTo>
                  <a:pt x="552" y="108"/>
                </a:lnTo>
                <a:lnTo>
                  <a:pt x="546" y="104"/>
                </a:lnTo>
                <a:lnTo>
                  <a:pt x="539" y="100"/>
                </a:lnTo>
                <a:lnTo>
                  <a:pt x="532" y="96"/>
                </a:lnTo>
                <a:lnTo>
                  <a:pt x="524" y="93"/>
                </a:lnTo>
                <a:lnTo>
                  <a:pt x="516" y="89"/>
                </a:lnTo>
                <a:lnTo>
                  <a:pt x="507" y="86"/>
                </a:lnTo>
                <a:lnTo>
                  <a:pt x="500" y="82"/>
                </a:lnTo>
                <a:lnTo>
                  <a:pt x="491" y="78"/>
                </a:lnTo>
                <a:lnTo>
                  <a:pt x="483" y="75"/>
                </a:lnTo>
                <a:lnTo>
                  <a:pt x="475" y="72"/>
                </a:lnTo>
                <a:lnTo>
                  <a:pt x="468" y="68"/>
                </a:lnTo>
                <a:lnTo>
                  <a:pt x="460" y="64"/>
                </a:lnTo>
                <a:lnTo>
                  <a:pt x="454" y="60"/>
                </a:lnTo>
                <a:lnTo>
                  <a:pt x="446" y="58"/>
                </a:lnTo>
                <a:lnTo>
                  <a:pt x="439" y="57"/>
                </a:lnTo>
                <a:lnTo>
                  <a:pt x="430" y="55"/>
                </a:lnTo>
                <a:lnTo>
                  <a:pt x="423" y="51"/>
                </a:lnTo>
                <a:lnTo>
                  <a:pt x="414" y="49"/>
                </a:lnTo>
                <a:lnTo>
                  <a:pt x="405" y="45"/>
                </a:lnTo>
                <a:lnTo>
                  <a:pt x="395" y="44"/>
                </a:lnTo>
                <a:lnTo>
                  <a:pt x="387" y="40"/>
                </a:lnTo>
                <a:lnTo>
                  <a:pt x="378" y="38"/>
                </a:lnTo>
                <a:lnTo>
                  <a:pt x="368" y="36"/>
                </a:lnTo>
                <a:lnTo>
                  <a:pt x="359" y="34"/>
                </a:lnTo>
                <a:lnTo>
                  <a:pt x="352" y="31"/>
                </a:lnTo>
                <a:lnTo>
                  <a:pt x="344" y="29"/>
                </a:lnTo>
                <a:lnTo>
                  <a:pt x="336" y="27"/>
                </a:lnTo>
                <a:lnTo>
                  <a:pt x="329" y="26"/>
                </a:lnTo>
                <a:lnTo>
                  <a:pt x="324" y="24"/>
                </a:lnTo>
                <a:lnTo>
                  <a:pt x="317" y="24"/>
                </a:lnTo>
                <a:lnTo>
                  <a:pt x="310" y="22"/>
                </a:lnTo>
                <a:lnTo>
                  <a:pt x="303" y="22"/>
                </a:lnTo>
                <a:lnTo>
                  <a:pt x="296" y="20"/>
                </a:lnTo>
                <a:lnTo>
                  <a:pt x="286" y="20"/>
                </a:lnTo>
                <a:lnTo>
                  <a:pt x="278" y="18"/>
                </a:lnTo>
                <a:lnTo>
                  <a:pt x="269" y="16"/>
                </a:lnTo>
                <a:lnTo>
                  <a:pt x="261" y="14"/>
                </a:lnTo>
                <a:lnTo>
                  <a:pt x="251" y="14"/>
                </a:lnTo>
                <a:lnTo>
                  <a:pt x="241" y="12"/>
                </a:lnTo>
                <a:lnTo>
                  <a:pt x="232" y="12"/>
                </a:lnTo>
                <a:lnTo>
                  <a:pt x="223" y="10"/>
                </a:lnTo>
                <a:lnTo>
                  <a:pt x="214" y="10"/>
                </a:lnTo>
                <a:lnTo>
                  <a:pt x="206" y="8"/>
                </a:lnTo>
                <a:lnTo>
                  <a:pt x="198" y="8"/>
                </a:lnTo>
                <a:lnTo>
                  <a:pt x="191" y="7"/>
                </a:lnTo>
                <a:lnTo>
                  <a:pt x="183" y="7"/>
                </a:lnTo>
                <a:lnTo>
                  <a:pt x="175" y="7"/>
                </a:lnTo>
                <a:lnTo>
                  <a:pt x="166" y="7"/>
                </a:lnTo>
                <a:lnTo>
                  <a:pt x="158" y="5"/>
                </a:lnTo>
                <a:lnTo>
                  <a:pt x="149" y="5"/>
                </a:lnTo>
                <a:lnTo>
                  <a:pt x="140" y="5"/>
                </a:lnTo>
                <a:lnTo>
                  <a:pt x="131" y="5"/>
                </a:lnTo>
                <a:lnTo>
                  <a:pt x="122" y="3"/>
                </a:lnTo>
                <a:lnTo>
                  <a:pt x="113" y="3"/>
                </a:lnTo>
                <a:lnTo>
                  <a:pt x="103" y="3"/>
                </a:lnTo>
                <a:lnTo>
                  <a:pt x="94" y="3"/>
                </a:lnTo>
                <a:lnTo>
                  <a:pt x="86" y="1"/>
                </a:lnTo>
                <a:lnTo>
                  <a:pt x="77" y="1"/>
                </a:lnTo>
                <a:lnTo>
                  <a:pt x="70" y="1"/>
                </a:lnTo>
                <a:lnTo>
                  <a:pt x="64" y="1"/>
                </a:lnTo>
                <a:lnTo>
                  <a:pt x="58" y="0"/>
                </a:lnTo>
                <a:lnTo>
                  <a:pt x="52" y="0"/>
                </a:lnTo>
                <a:lnTo>
                  <a:pt x="48" y="0"/>
                </a:lnTo>
                <a:lnTo>
                  <a:pt x="46" y="0"/>
                </a:lnTo>
                <a:lnTo>
                  <a:pt x="44" y="0"/>
                </a:lnTo>
                <a:lnTo>
                  <a:pt x="42" y="0"/>
                </a:lnTo>
                <a:lnTo>
                  <a:pt x="42" y="0"/>
                </a:lnTo>
                <a:lnTo>
                  <a:pt x="40" y="0"/>
                </a:lnTo>
                <a:lnTo>
                  <a:pt x="40" y="0"/>
                </a:lnTo>
                <a:lnTo>
                  <a:pt x="37" y="0"/>
                </a:lnTo>
                <a:lnTo>
                  <a:pt x="35" y="0"/>
                </a:lnTo>
                <a:lnTo>
                  <a:pt x="32" y="0"/>
                </a:lnTo>
                <a:lnTo>
                  <a:pt x="28" y="0"/>
                </a:lnTo>
                <a:lnTo>
                  <a:pt x="23" y="0"/>
                </a:ln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105600" y="6629400"/>
            <a:ext cx="419040" cy="735120"/>
            <a:chOff x="6105600" y="6629400"/>
            <a:chExt cx="419040" cy="735120"/>
          </a:xfrm>
        </p:grpSpPr>
        <p:sp>
          <p:nvSpPr>
            <p:cNvPr id="343" name=""/>
            <p:cNvSpPr/>
            <p:nvPr/>
          </p:nvSpPr>
          <p:spPr>
            <a:xfrm>
              <a:off x="6105600" y="6711840"/>
              <a:ext cx="2379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40320" y="7018200"/>
              <a:ext cx="1778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46800" y="6629400"/>
              <a:ext cx="177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6721560" y="3119400"/>
            <a:ext cx="333684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Pedro pued revelar curvas de indiferencias “pretendidas”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52480" y="3149640"/>
            <a:ext cx="3281400" cy="649080"/>
          </a:xfrm>
          <a:prstGeom prst="line">
            <a:avLst/>
          </a:prstGeom>
          <a:ln w="63360">
            <a:solidFill>
              <a:srgbClr val="ff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32004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1447920"/>
            <a:ext cx="2057400" cy="205740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90920" y="2133720"/>
            <a:ext cx="2948040" cy="4279680"/>
          </a:xfrm>
          <a:custGeom>
            <a:avLst/>
            <a:gdLst/>
            <a:ahLst/>
            <a:rect l="l" t="t" r="r" b="b"/>
            <a:pathLst>
              <a:path w="1857" h="2696">
                <a:moveTo>
                  <a:pt x="2" y="0"/>
                </a:moveTo>
                <a:lnTo>
                  <a:pt x="0" y="20"/>
                </a:lnTo>
                <a:lnTo>
                  <a:pt x="0" y="37"/>
                </a:lnTo>
                <a:lnTo>
                  <a:pt x="0" y="51"/>
                </a:lnTo>
                <a:lnTo>
                  <a:pt x="0" y="60"/>
                </a:lnTo>
                <a:lnTo>
                  <a:pt x="0" y="69"/>
                </a:lnTo>
                <a:lnTo>
                  <a:pt x="0" y="74"/>
                </a:lnTo>
                <a:lnTo>
                  <a:pt x="0" y="78"/>
                </a:lnTo>
                <a:lnTo>
                  <a:pt x="0" y="81"/>
                </a:lnTo>
                <a:lnTo>
                  <a:pt x="0" y="84"/>
                </a:lnTo>
                <a:lnTo>
                  <a:pt x="0" y="86"/>
                </a:lnTo>
                <a:lnTo>
                  <a:pt x="0" y="89"/>
                </a:lnTo>
                <a:lnTo>
                  <a:pt x="0" y="91"/>
                </a:lnTo>
                <a:lnTo>
                  <a:pt x="0" y="96"/>
                </a:lnTo>
                <a:lnTo>
                  <a:pt x="0" y="100"/>
                </a:lnTo>
                <a:lnTo>
                  <a:pt x="0" y="108"/>
                </a:lnTo>
                <a:lnTo>
                  <a:pt x="0" y="118"/>
                </a:lnTo>
                <a:lnTo>
                  <a:pt x="0" y="131"/>
                </a:lnTo>
                <a:lnTo>
                  <a:pt x="1" y="148"/>
                </a:lnTo>
                <a:lnTo>
                  <a:pt x="3" y="168"/>
                </a:lnTo>
                <a:lnTo>
                  <a:pt x="5" y="190"/>
                </a:lnTo>
                <a:lnTo>
                  <a:pt x="6" y="215"/>
                </a:lnTo>
                <a:lnTo>
                  <a:pt x="9" y="242"/>
                </a:lnTo>
                <a:lnTo>
                  <a:pt x="12" y="271"/>
                </a:lnTo>
                <a:lnTo>
                  <a:pt x="16" y="300"/>
                </a:lnTo>
                <a:lnTo>
                  <a:pt x="19" y="333"/>
                </a:lnTo>
                <a:lnTo>
                  <a:pt x="23" y="364"/>
                </a:lnTo>
                <a:lnTo>
                  <a:pt x="26" y="398"/>
                </a:lnTo>
                <a:lnTo>
                  <a:pt x="31" y="430"/>
                </a:lnTo>
                <a:lnTo>
                  <a:pt x="34" y="464"/>
                </a:lnTo>
                <a:lnTo>
                  <a:pt x="40" y="496"/>
                </a:lnTo>
                <a:lnTo>
                  <a:pt x="44" y="528"/>
                </a:lnTo>
                <a:lnTo>
                  <a:pt x="50" y="557"/>
                </a:lnTo>
                <a:lnTo>
                  <a:pt x="54" y="588"/>
                </a:lnTo>
                <a:lnTo>
                  <a:pt x="60" y="620"/>
                </a:lnTo>
                <a:lnTo>
                  <a:pt x="65" y="654"/>
                </a:lnTo>
                <a:lnTo>
                  <a:pt x="73" y="688"/>
                </a:lnTo>
                <a:lnTo>
                  <a:pt x="80" y="723"/>
                </a:lnTo>
                <a:lnTo>
                  <a:pt x="87" y="758"/>
                </a:lnTo>
                <a:lnTo>
                  <a:pt x="95" y="793"/>
                </a:lnTo>
                <a:lnTo>
                  <a:pt x="104" y="826"/>
                </a:lnTo>
                <a:lnTo>
                  <a:pt x="111" y="861"/>
                </a:lnTo>
                <a:lnTo>
                  <a:pt x="119" y="893"/>
                </a:lnTo>
                <a:lnTo>
                  <a:pt x="126" y="924"/>
                </a:lnTo>
                <a:lnTo>
                  <a:pt x="135" y="952"/>
                </a:lnTo>
                <a:lnTo>
                  <a:pt x="142" y="979"/>
                </a:lnTo>
                <a:lnTo>
                  <a:pt x="150" y="1002"/>
                </a:lnTo>
                <a:lnTo>
                  <a:pt x="157" y="1023"/>
                </a:lnTo>
                <a:lnTo>
                  <a:pt x="164" y="1040"/>
                </a:lnTo>
                <a:lnTo>
                  <a:pt x="170" y="1057"/>
                </a:lnTo>
                <a:lnTo>
                  <a:pt x="177" y="1076"/>
                </a:lnTo>
                <a:lnTo>
                  <a:pt x="184" y="1097"/>
                </a:lnTo>
                <a:lnTo>
                  <a:pt x="193" y="1119"/>
                </a:lnTo>
                <a:lnTo>
                  <a:pt x="203" y="1144"/>
                </a:lnTo>
                <a:lnTo>
                  <a:pt x="213" y="1168"/>
                </a:lnTo>
                <a:lnTo>
                  <a:pt x="224" y="1194"/>
                </a:lnTo>
                <a:lnTo>
                  <a:pt x="235" y="1220"/>
                </a:lnTo>
                <a:lnTo>
                  <a:pt x="245" y="1248"/>
                </a:lnTo>
                <a:lnTo>
                  <a:pt x="257" y="1274"/>
                </a:lnTo>
                <a:lnTo>
                  <a:pt x="268" y="1300"/>
                </a:lnTo>
                <a:lnTo>
                  <a:pt x="279" y="1326"/>
                </a:lnTo>
                <a:lnTo>
                  <a:pt x="288" y="1352"/>
                </a:lnTo>
                <a:lnTo>
                  <a:pt x="299" y="1376"/>
                </a:lnTo>
                <a:lnTo>
                  <a:pt x="309" y="1398"/>
                </a:lnTo>
                <a:lnTo>
                  <a:pt x="319" y="1418"/>
                </a:lnTo>
                <a:lnTo>
                  <a:pt x="327" y="1441"/>
                </a:lnTo>
                <a:lnTo>
                  <a:pt x="337" y="1464"/>
                </a:lnTo>
                <a:lnTo>
                  <a:pt x="346" y="1488"/>
                </a:lnTo>
                <a:lnTo>
                  <a:pt x="357" y="1512"/>
                </a:lnTo>
                <a:lnTo>
                  <a:pt x="368" y="1538"/>
                </a:lnTo>
                <a:lnTo>
                  <a:pt x="379" y="1563"/>
                </a:lnTo>
                <a:lnTo>
                  <a:pt x="390" y="1589"/>
                </a:lnTo>
                <a:lnTo>
                  <a:pt x="401" y="1613"/>
                </a:lnTo>
                <a:lnTo>
                  <a:pt x="411" y="1639"/>
                </a:lnTo>
                <a:lnTo>
                  <a:pt x="422" y="1663"/>
                </a:lnTo>
                <a:lnTo>
                  <a:pt x="432" y="1686"/>
                </a:lnTo>
                <a:lnTo>
                  <a:pt x="443" y="1708"/>
                </a:lnTo>
                <a:lnTo>
                  <a:pt x="451" y="1729"/>
                </a:lnTo>
                <a:lnTo>
                  <a:pt x="459" y="1748"/>
                </a:lnTo>
                <a:lnTo>
                  <a:pt x="467" y="1766"/>
                </a:lnTo>
                <a:lnTo>
                  <a:pt x="474" y="1780"/>
                </a:lnTo>
                <a:lnTo>
                  <a:pt x="481" y="1794"/>
                </a:lnTo>
                <a:lnTo>
                  <a:pt x="489" y="1810"/>
                </a:lnTo>
                <a:lnTo>
                  <a:pt x="499" y="1826"/>
                </a:lnTo>
                <a:lnTo>
                  <a:pt x="510" y="1844"/>
                </a:lnTo>
                <a:lnTo>
                  <a:pt x="521" y="1863"/>
                </a:lnTo>
                <a:lnTo>
                  <a:pt x="533" y="1882"/>
                </a:lnTo>
                <a:lnTo>
                  <a:pt x="547" y="1902"/>
                </a:lnTo>
                <a:lnTo>
                  <a:pt x="561" y="1920"/>
                </a:lnTo>
                <a:lnTo>
                  <a:pt x="573" y="1941"/>
                </a:lnTo>
                <a:lnTo>
                  <a:pt x="588" y="1961"/>
                </a:lnTo>
                <a:lnTo>
                  <a:pt x="602" y="1980"/>
                </a:lnTo>
                <a:lnTo>
                  <a:pt x="617" y="1999"/>
                </a:lnTo>
                <a:lnTo>
                  <a:pt x="630" y="2018"/>
                </a:lnTo>
                <a:lnTo>
                  <a:pt x="643" y="2034"/>
                </a:lnTo>
                <a:lnTo>
                  <a:pt x="657" y="2050"/>
                </a:lnTo>
                <a:lnTo>
                  <a:pt x="670" y="2064"/>
                </a:lnTo>
                <a:lnTo>
                  <a:pt x="681" y="2079"/>
                </a:lnTo>
                <a:lnTo>
                  <a:pt x="695" y="2094"/>
                </a:lnTo>
                <a:lnTo>
                  <a:pt x="709" y="2110"/>
                </a:lnTo>
                <a:lnTo>
                  <a:pt x="727" y="2126"/>
                </a:lnTo>
                <a:lnTo>
                  <a:pt x="743" y="2144"/>
                </a:lnTo>
                <a:lnTo>
                  <a:pt x="761" y="2161"/>
                </a:lnTo>
                <a:lnTo>
                  <a:pt x="779" y="2178"/>
                </a:lnTo>
                <a:lnTo>
                  <a:pt x="797" y="2195"/>
                </a:lnTo>
                <a:lnTo>
                  <a:pt x="814" y="2213"/>
                </a:lnTo>
                <a:lnTo>
                  <a:pt x="833" y="2230"/>
                </a:lnTo>
                <a:lnTo>
                  <a:pt x="851" y="2246"/>
                </a:lnTo>
                <a:lnTo>
                  <a:pt x="869" y="2261"/>
                </a:lnTo>
                <a:lnTo>
                  <a:pt x="884" y="2276"/>
                </a:lnTo>
                <a:lnTo>
                  <a:pt x="901" y="2289"/>
                </a:lnTo>
                <a:lnTo>
                  <a:pt x="914" y="2301"/>
                </a:lnTo>
                <a:lnTo>
                  <a:pt x="929" y="2310"/>
                </a:lnTo>
                <a:lnTo>
                  <a:pt x="941" y="2321"/>
                </a:lnTo>
                <a:lnTo>
                  <a:pt x="954" y="2330"/>
                </a:lnTo>
                <a:lnTo>
                  <a:pt x="967" y="2340"/>
                </a:lnTo>
                <a:lnTo>
                  <a:pt x="982" y="2349"/>
                </a:lnTo>
                <a:lnTo>
                  <a:pt x="995" y="2359"/>
                </a:lnTo>
                <a:lnTo>
                  <a:pt x="1009" y="2368"/>
                </a:lnTo>
                <a:lnTo>
                  <a:pt x="1022" y="2378"/>
                </a:lnTo>
                <a:lnTo>
                  <a:pt x="1037" y="2386"/>
                </a:lnTo>
                <a:lnTo>
                  <a:pt x="1048" y="2396"/>
                </a:lnTo>
                <a:lnTo>
                  <a:pt x="1061" y="2404"/>
                </a:lnTo>
                <a:lnTo>
                  <a:pt x="1072" y="2412"/>
                </a:lnTo>
                <a:lnTo>
                  <a:pt x="1083" y="2419"/>
                </a:lnTo>
                <a:lnTo>
                  <a:pt x="1092" y="2426"/>
                </a:lnTo>
                <a:lnTo>
                  <a:pt x="1101" y="2431"/>
                </a:lnTo>
                <a:lnTo>
                  <a:pt x="1108" y="2435"/>
                </a:lnTo>
                <a:lnTo>
                  <a:pt x="1115" y="2438"/>
                </a:lnTo>
                <a:lnTo>
                  <a:pt x="1119" y="2442"/>
                </a:lnTo>
                <a:lnTo>
                  <a:pt x="1125" y="2445"/>
                </a:lnTo>
                <a:lnTo>
                  <a:pt x="1132" y="2449"/>
                </a:lnTo>
                <a:lnTo>
                  <a:pt x="1140" y="2453"/>
                </a:lnTo>
                <a:lnTo>
                  <a:pt x="1149" y="2459"/>
                </a:lnTo>
                <a:lnTo>
                  <a:pt x="1158" y="2464"/>
                </a:lnTo>
                <a:lnTo>
                  <a:pt x="1168" y="2469"/>
                </a:lnTo>
                <a:lnTo>
                  <a:pt x="1179" y="2473"/>
                </a:lnTo>
                <a:lnTo>
                  <a:pt x="1190" y="2479"/>
                </a:lnTo>
                <a:lnTo>
                  <a:pt x="1201" y="2484"/>
                </a:lnTo>
                <a:lnTo>
                  <a:pt x="1213" y="2490"/>
                </a:lnTo>
                <a:lnTo>
                  <a:pt x="1224" y="2496"/>
                </a:lnTo>
                <a:lnTo>
                  <a:pt x="1234" y="2501"/>
                </a:lnTo>
                <a:lnTo>
                  <a:pt x="1245" y="2506"/>
                </a:lnTo>
                <a:lnTo>
                  <a:pt x="1256" y="2510"/>
                </a:lnTo>
                <a:lnTo>
                  <a:pt x="1267" y="2514"/>
                </a:lnTo>
                <a:lnTo>
                  <a:pt x="1278" y="2520"/>
                </a:lnTo>
                <a:lnTo>
                  <a:pt x="1291" y="2524"/>
                </a:lnTo>
                <a:lnTo>
                  <a:pt x="1305" y="2530"/>
                </a:lnTo>
                <a:lnTo>
                  <a:pt x="1322" y="2536"/>
                </a:lnTo>
                <a:lnTo>
                  <a:pt x="1338" y="2543"/>
                </a:lnTo>
                <a:lnTo>
                  <a:pt x="1356" y="2548"/>
                </a:lnTo>
                <a:lnTo>
                  <a:pt x="1375" y="2556"/>
                </a:lnTo>
                <a:lnTo>
                  <a:pt x="1394" y="2562"/>
                </a:lnTo>
                <a:lnTo>
                  <a:pt x="1413" y="2569"/>
                </a:lnTo>
                <a:lnTo>
                  <a:pt x="1433" y="2576"/>
                </a:lnTo>
                <a:lnTo>
                  <a:pt x="1451" y="2584"/>
                </a:lnTo>
                <a:lnTo>
                  <a:pt x="1471" y="2589"/>
                </a:lnTo>
                <a:lnTo>
                  <a:pt x="1489" y="2596"/>
                </a:lnTo>
                <a:lnTo>
                  <a:pt x="1508" y="2602"/>
                </a:lnTo>
                <a:lnTo>
                  <a:pt x="1525" y="2607"/>
                </a:lnTo>
                <a:lnTo>
                  <a:pt x="1542" y="2612"/>
                </a:lnTo>
                <a:lnTo>
                  <a:pt x="1557" y="2618"/>
                </a:lnTo>
                <a:lnTo>
                  <a:pt x="1576" y="2624"/>
                </a:lnTo>
                <a:lnTo>
                  <a:pt x="1594" y="2629"/>
                </a:lnTo>
                <a:lnTo>
                  <a:pt x="1615" y="2635"/>
                </a:lnTo>
                <a:lnTo>
                  <a:pt x="1635" y="2641"/>
                </a:lnTo>
                <a:lnTo>
                  <a:pt x="1657" y="2646"/>
                </a:lnTo>
                <a:lnTo>
                  <a:pt x="1679" y="2652"/>
                </a:lnTo>
                <a:lnTo>
                  <a:pt x="1702" y="2658"/>
                </a:lnTo>
                <a:lnTo>
                  <a:pt x="1722" y="2663"/>
                </a:lnTo>
                <a:lnTo>
                  <a:pt x="1745" y="2669"/>
                </a:lnTo>
                <a:lnTo>
                  <a:pt x="1765" y="2674"/>
                </a:lnTo>
                <a:lnTo>
                  <a:pt x="1786" y="2680"/>
                </a:lnTo>
                <a:lnTo>
                  <a:pt x="1805" y="2685"/>
                </a:lnTo>
                <a:lnTo>
                  <a:pt x="1823" y="2689"/>
                </a:lnTo>
                <a:lnTo>
                  <a:pt x="1840" y="2693"/>
                </a:lnTo>
                <a:lnTo>
                  <a:pt x="1856" y="2695"/>
                </a:lnTo>
              </a:path>
            </a:pathLst>
          </a:custGeom>
          <a:noFill/>
          <a:ln w="4752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1676520"/>
            <a:ext cx="2301840" cy="3340080"/>
          </a:xfrm>
          <a:custGeom>
            <a:avLst/>
            <a:gdLst/>
            <a:ahLst/>
            <a:rect l="l" t="t" r="r" b="b"/>
            <a:pathLst>
              <a:path w="1857" h="2696">
                <a:moveTo>
                  <a:pt x="2" y="0"/>
                </a:moveTo>
                <a:lnTo>
                  <a:pt x="0" y="20"/>
                </a:lnTo>
                <a:lnTo>
                  <a:pt x="0" y="37"/>
                </a:lnTo>
                <a:lnTo>
                  <a:pt x="0" y="51"/>
                </a:lnTo>
                <a:lnTo>
                  <a:pt x="0" y="60"/>
                </a:lnTo>
                <a:lnTo>
                  <a:pt x="0" y="69"/>
                </a:lnTo>
                <a:lnTo>
                  <a:pt x="0" y="74"/>
                </a:lnTo>
                <a:lnTo>
                  <a:pt x="0" y="78"/>
                </a:lnTo>
                <a:lnTo>
                  <a:pt x="0" y="81"/>
                </a:lnTo>
                <a:lnTo>
                  <a:pt x="0" y="84"/>
                </a:lnTo>
                <a:lnTo>
                  <a:pt x="0" y="86"/>
                </a:lnTo>
                <a:lnTo>
                  <a:pt x="0" y="89"/>
                </a:lnTo>
                <a:lnTo>
                  <a:pt x="0" y="91"/>
                </a:lnTo>
                <a:lnTo>
                  <a:pt x="0" y="96"/>
                </a:lnTo>
                <a:lnTo>
                  <a:pt x="0" y="100"/>
                </a:lnTo>
                <a:lnTo>
                  <a:pt x="0" y="108"/>
                </a:lnTo>
                <a:lnTo>
                  <a:pt x="0" y="118"/>
                </a:lnTo>
                <a:lnTo>
                  <a:pt x="0" y="131"/>
                </a:lnTo>
                <a:lnTo>
                  <a:pt x="1" y="148"/>
                </a:lnTo>
                <a:lnTo>
                  <a:pt x="3" y="168"/>
                </a:lnTo>
                <a:lnTo>
                  <a:pt x="5" y="190"/>
                </a:lnTo>
                <a:lnTo>
                  <a:pt x="6" y="215"/>
                </a:lnTo>
                <a:lnTo>
                  <a:pt x="9" y="242"/>
                </a:lnTo>
                <a:lnTo>
                  <a:pt x="12" y="271"/>
                </a:lnTo>
                <a:lnTo>
                  <a:pt x="16" y="300"/>
                </a:lnTo>
                <a:lnTo>
                  <a:pt x="19" y="333"/>
                </a:lnTo>
                <a:lnTo>
                  <a:pt x="23" y="364"/>
                </a:lnTo>
                <a:lnTo>
                  <a:pt x="26" y="398"/>
                </a:lnTo>
                <a:lnTo>
                  <a:pt x="31" y="430"/>
                </a:lnTo>
                <a:lnTo>
                  <a:pt x="34" y="464"/>
                </a:lnTo>
                <a:lnTo>
                  <a:pt x="40" y="496"/>
                </a:lnTo>
                <a:lnTo>
                  <a:pt x="44" y="528"/>
                </a:lnTo>
                <a:lnTo>
                  <a:pt x="50" y="557"/>
                </a:lnTo>
                <a:lnTo>
                  <a:pt x="54" y="588"/>
                </a:lnTo>
                <a:lnTo>
                  <a:pt x="60" y="620"/>
                </a:lnTo>
                <a:lnTo>
                  <a:pt x="65" y="654"/>
                </a:lnTo>
                <a:lnTo>
                  <a:pt x="73" y="688"/>
                </a:lnTo>
                <a:lnTo>
                  <a:pt x="80" y="723"/>
                </a:lnTo>
                <a:lnTo>
                  <a:pt x="87" y="758"/>
                </a:lnTo>
                <a:lnTo>
                  <a:pt x="95" y="793"/>
                </a:lnTo>
                <a:lnTo>
                  <a:pt x="104" y="826"/>
                </a:lnTo>
                <a:lnTo>
                  <a:pt x="111" y="861"/>
                </a:lnTo>
                <a:lnTo>
                  <a:pt x="119" y="893"/>
                </a:lnTo>
                <a:lnTo>
                  <a:pt x="126" y="924"/>
                </a:lnTo>
                <a:lnTo>
                  <a:pt x="135" y="952"/>
                </a:lnTo>
                <a:lnTo>
                  <a:pt x="142" y="979"/>
                </a:lnTo>
                <a:lnTo>
                  <a:pt x="150" y="1002"/>
                </a:lnTo>
                <a:lnTo>
                  <a:pt x="157" y="1023"/>
                </a:lnTo>
                <a:lnTo>
                  <a:pt x="164" y="1040"/>
                </a:lnTo>
                <a:lnTo>
                  <a:pt x="170" y="1057"/>
                </a:lnTo>
                <a:lnTo>
                  <a:pt x="177" y="1076"/>
                </a:lnTo>
                <a:lnTo>
                  <a:pt x="184" y="1097"/>
                </a:lnTo>
                <a:lnTo>
                  <a:pt x="193" y="1119"/>
                </a:lnTo>
                <a:lnTo>
                  <a:pt x="203" y="1144"/>
                </a:lnTo>
                <a:lnTo>
                  <a:pt x="213" y="1168"/>
                </a:lnTo>
                <a:lnTo>
                  <a:pt x="224" y="1194"/>
                </a:lnTo>
                <a:lnTo>
                  <a:pt x="235" y="1220"/>
                </a:lnTo>
                <a:lnTo>
                  <a:pt x="245" y="1248"/>
                </a:lnTo>
                <a:lnTo>
                  <a:pt x="257" y="1274"/>
                </a:lnTo>
                <a:lnTo>
                  <a:pt x="268" y="1300"/>
                </a:lnTo>
                <a:lnTo>
                  <a:pt x="279" y="1326"/>
                </a:lnTo>
                <a:lnTo>
                  <a:pt x="288" y="1352"/>
                </a:lnTo>
                <a:lnTo>
                  <a:pt x="299" y="1376"/>
                </a:lnTo>
                <a:lnTo>
                  <a:pt x="309" y="1398"/>
                </a:lnTo>
                <a:lnTo>
                  <a:pt x="319" y="1418"/>
                </a:lnTo>
                <a:lnTo>
                  <a:pt x="327" y="1441"/>
                </a:lnTo>
                <a:lnTo>
                  <a:pt x="337" y="1464"/>
                </a:lnTo>
                <a:lnTo>
                  <a:pt x="346" y="1488"/>
                </a:lnTo>
                <a:lnTo>
                  <a:pt x="357" y="1512"/>
                </a:lnTo>
                <a:lnTo>
                  <a:pt x="368" y="1538"/>
                </a:lnTo>
                <a:lnTo>
                  <a:pt x="379" y="1563"/>
                </a:lnTo>
                <a:lnTo>
                  <a:pt x="390" y="1589"/>
                </a:lnTo>
                <a:lnTo>
                  <a:pt x="401" y="1613"/>
                </a:lnTo>
                <a:lnTo>
                  <a:pt x="411" y="1639"/>
                </a:lnTo>
                <a:lnTo>
                  <a:pt x="422" y="1663"/>
                </a:lnTo>
                <a:lnTo>
                  <a:pt x="432" y="1686"/>
                </a:lnTo>
                <a:lnTo>
                  <a:pt x="443" y="1708"/>
                </a:lnTo>
                <a:lnTo>
                  <a:pt x="451" y="1729"/>
                </a:lnTo>
                <a:lnTo>
                  <a:pt x="459" y="1748"/>
                </a:lnTo>
                <a:lnTo>
                  <a:pt x="467" y="1766"/>
                </a:lnTo>
                <a:lnTo>
                  <a:pt x="474" y="1780"/>
                </a:lnTo>
                <a:lnTo>
                  <a:pt x="481" y="1794"/>
                </a:lnTo>
                <a:lnTo>
                  <a:pt x="489" y="1810"/>
                </a:lnTo>
                <a:lnTo>
                  <a:pt x="499" y="1826"/>
                </a:lnTo>
                <a:lnTo>
                  <a:pt x="510" y="1844"/>
                </a:lnTo>
                <a:lnTo>
                  <a:pt x="521" y="1863"/>
                </a:lnTo>
                <a:lnTo>
                  <a:pt x="533" y="1882"/>
                </a:lnTo>
                <a:lnTo>
                  <a:pt x="547" y="1902"/>
                </a:lnTo>
                <a:lnTo>
                  <a:pt x="561" y="1920"/>
                </a:lnTo>
                <a:lnTo>
                  <a:pt x="573" y="1941"/>
                </a:lnTo>
                <a:lnTo>
                  <a:pt x="588" y="1961"/>
                </a:lnTo>
                <a:lnTo>
                  <a:pt x="602" y="1980"/>
                </a:lnTo>
                <a:lnTo>
                  <a:pt x="617" y="1999"/>
                </a:lnTo>
                <a:lnTo>
                  <a:pt x="630" y="2018"/>
                </a:lnTo>
                <a:lnTo>
                  <a:pt x="643" y="2034"/>
                </a:lnTo>
                <a:lnTo>
                  <a:pt x="657" y="2050"/>
                </a:lnTo>
                <a:lnTo>
                  <a:pt x="670" y="2064"/>
                </a:lnTo>
                <a:lnTo>
                  <a:pt x="681" y="2079"/>
                </a:lnTo>
                <a:lnTo>
                  <a:pt x="695" y="2094"/>
                </a:lnTo>
                <a:lnTo>
                  <a:pt x="709" y="2110"/>
                </a:lnTo>
                <a:lnTo>
                  <a:pt x="727" y="2126"/>
                </a:lnTo>
                <a:lnTo>
                  <a:pt x="743" y="2144"/>
                </a:lnTo>
                <a:lnTo>
                  <a:pt x="761" y="2161"/>
                </a:lnTo>
                <a:lnTo>
                  <a:pt x="779" y="2178"/>
                </a:lnTo>
                <a:lnTo>
                  <a:pt x="797" y="2195"/>
                </a:lnTo>
                <a:lnTo>
                  <a:pt x="814" y="2213"/>
                </a:lnTo>
                <a:lnTo>
                  <a:pt x="833" y="2230"/>
                </a:lnTo>
                <a:lnTo>
                  <a:pt x="851" y="2246"/>
                </a:lnTo>
                <a:lnTo>
                  <a:pt x="869" y="2261"/>
                </a:lnTo>
                <a:lnTo>
                  <a:pt x="884" y="2276"/>
                </a:lnTo>
                <a:lnTo>
                  <a:pt x="901" y="2289"/>
                </a:lnTo>
                <a:lnTo>
                  <a:pt x="914" y="2301"/>
                </a:lnTo>
                <a:lnTo>
                  <a:pt x="929" y="2310"/>
                </a:lnTo>
                <a:lnTo>
                  <a:pt x="941" y="2321"/>
                </a:lnTo>
                <a:lnTo>
                  <a:pt x="954" y="2330"/>
                </a:lnTo>
                <a:lnTo>
                  <a:pt x="967" y="2340"/>
                </a:lnTo>
                <a:lnTo>
                  <a:pt x="982" y="2349"/>
                </a:lnTo>
                <a:lnTo>
                  <a:pt x="995" y="2359"/>
                </a:lnTo>
                <a:lnTo>
                  <a:pt x="1009" y="2368"/>
                </a:lnTo>
                <a:lnTo>
                  <a:pt x="1022" y="2378"/>
                </a:lnTo>
                <a:lnTo>
                  <a:pt x="1037" y="2386"/>
                </a:lnTo>
                <a:lnTo>
                  <a:pt x="1048" y="2396"/>
                </a:lnTo>
                <a:lnTo>
                  <a:pt x="1061" y="2404"/>
                </a:lnTo>
                <a:lnTo>
                  <a:pt x="1072" y="2412"/>
                </a:lnTo>
                <a:lnTo>
                  <a:pt x="1083" y="2419"/>
                </a:lnTo>
                <a:lnTo>
                  <a:pt x="1092" y="2426"/>
                </a:lnTo>
                <a:lnTo>
                  <a:pt x="1101" y="2431"/>
                </a:lnTo>
                <a:lnTo>
                  <a:pt x="1108" y="2435"/>
                </a:lnTo>
                <a:lnTo>
                  <a:pt x="1115" y="2438"/>
                </a:lnTo>
                <a:lnTo>
                  <a:pt x="1119" y="2442"/>
                </a:lnTo>
                <a:lnTo>
                  <a:pt x="1125" y="2445"/>
                </a:lnTo>
                <a:lnTo>
                  <a:pt x="1132" y="2449"/>
                </a:lnTo>
                <a:lnTo>
                  <a:pt x="1140" y="2453"/>
                </a:lnTo>
                <a:lnTo>
                  <a:pt x="1149" y="2459"/>
                </a:lnTo>
                <a:lnTo>
                  <a:pt x="1158" y="2464"/>
                </a:lnTo>
                <a:lnTo>
                  <a:pt x="1168" y="2469"/>
                </a:lnTo>
                <a:lnTo>
                  <a:pt x="1179" y="2473"/>
                </a:lnTo>
                <a:lnTo>
                  <a:pt x="1190" y="2479"/>
                </a:lnTo>
                <a:lnTo>
                  <a:pt x="1201" y="2484"/>
                </a:lnTo>
                <a:lnTo>
                  <a:pt x="1213" y="2490"/>
                </a:lnTo>
                <a:lnTo>
                  <a:pt x="1224" y="2496"/>
                </a:lnTo>
                <a:lnTo>
                  <a:pt x="1234" y="2501"/>
                </a:lnTo>
                <a:lnTo>
                  <a:pt x="1245" y="2506"/>
                </a:lnTo>
                <a:lnTo>
                  <a:pt x="1256" y="2510"/>
                </a:lnTo>
                <a:lnTo>
                  <a:pt x="1267" y="2514"/>
                </a:lnTo>
                <a:lnTo>
                  <a:pt x="1278" y="2520"/>
                </a:lnTo>
                <a:lnTo>
                  <a:pt x="1291" y="2524"/>
                </a:lnTo>
                <a:lnTo>
                  <a:pt x="1305" y="2530"/>
                </a:lnTo>
                <a:lnTo>
                  <a:pt x="1322" y="2536"/>
                </a:lnTo>
                <a:lnTo>
                  <a:pt x="1338" y="2543"/>
                </a:lnTo>
                <a:lnTo>
                  <a:pt x="1356" y="2548"/>
                </a:lnTo>
                <a:lnTo>
                  <a:pt x="1375" y="2556"/>
                </a:lnTo>
                <a:lnTo>
                  <a:pt x="1394" y="2562"/>
                </a:lnTo>
                <a:lnTo>
                  <a:pt x="1413" y="2569"/>
                </a:lnTo>
                <a:lnTo>
                  <a:pt x="1433" y="2576"/>
                </a:lnTo>
                <a:lnTo>
                  <a:pt x="1451" y="2584"/>
                </a:lnTo>
                <a:lnTo>
                  <a:pt x="1471" y="2589"/>
                </a:lnTo>
                <a:lnTo>
                  <a:pt x="1489" y="2596"/>
                </a:lnTo>
                <a:lnTo>
                  <a:pt x="1508" y="2602"/>
                </a:lnTo>
                <a:lnTo>
                  <a:pt x="1525" y="2607"/>
                </a:lnTo>
                <a:lnTo>
                  <a:pt x="1542" y="2612"/>
                </a:lnTo>
                <a:lnTo>
                  <a:pt x="1557" y="2618"/>
                </a:lnTo>
                <a:lnTo>
                  <a:pt x="1576" y="2624"/>
                </a:lnTo>
                <a:lnTo>
                  <a:pt x="1594" y="2629"/>
                </a:lnTo>
                <a:lnTo>
                  <a:pt x="1615" y="2635"/>
                </a:lnTo>
                <a:lnTo>
                  <a:pt x="1635" y="2641"/>
                </a:lnTo>
                <a:lnTo>
                  <a:pt x="1657" y="2646"/>
                </a:lnTo>
                <a:lnTo>
                  <a:pt x="1679" y="2652"/>
                </a:lnTo>
                <a:lnTo>
                  <a:pt x="1702" y="2658"/>
                </a:lnTo>
                <a:lnTo>
                  <a:pt x="1722" y="2663"/>
                </a:lnTo>
                <a:lnTo>
                  <a:pt x="1745" y="2669"/>
                </a:lnTo>
                <a:lnTo>
                  <a:pt x="1765" y="2674"/>
                </a:lnTo>
                <a:lnTo>
                  <a:pt x="1786" y="2680"/>
                </a:lnTo>
                <a:lnTo>
                  <a:pt x="1805" y="2685"/>
                </a:lnTo>
                <a:lnTo>
                  <a:pt x="1823" y="2689"/>
                </a:lnTo>
                <a:lnTo>
                  <a:pt x="1840" y="2693"/>
                </a:lnTo>
                <a:lnTo>
                  <a:pt x="1856" y="2695"/>
                </a:lnTo>
              </a:path>
            </a:pathLst>
          </a:custGeom>
          <a:noFill/>
          <a:ln w="4752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21496200">
            <a:off x="1458720" y="2057040"/>
            <a:ext cx="826920" cy="3730680"/>
          </a:xfrm>
          <a:custGeom>
            <a:avLst/>
            <a:gdLst/>
            <a:ahLst/>
            <a:rect l="l" t="t" r="r" b="b"/>
            <a:pathLst>
              <a:path w="821" h="2350">
                <a:moveTo>
                  <a:pt x="766" y="2350"/>
                </a:moveTo>
                <a:lnTo>
                  <a:pt x="768" y="2333"/>
                </a:lnTo>
                <a:lnTo>
                  <a:pt x="770" y="2319"/>
                </a:lnTo>
                <a:lnTo>
                  <a:pt x="771" y="2307"/>
                </a:lnTo>
                <a:lnTo>
                  <a:pt x="773" y="2299"/>
                </a:lnTo>
                <a:lnTo>
                  <a:pt x="772" y="2292"/>
                </a:lnTo>
                <a:lnTo>
                  <a:pt x="773" y="2286"/>
                </a:lnTo>
                <a:lnTo>
                  <a:pt x="774" y="2283"/>
                </a:lnTo>
                <a:lnTo>
                  <a:pt x="775" y="2280"/>
                </a:lnTo>
                <a:lnTo>
                  <a:pt x="775" y="2278"/>
                </a:lnTo>
                <a:lnTo>
                  <a:pt x="775" y="2277"/>
                </a:lnTo>
                <a:lnTo>
                  <a:pt x="776" y="2275"/>
                </a:lnTo>
                <a:lnTo>
                  <a:pt x="776" y="2272"/>
                </a:lnTo>
                <a:lnTo>
                  <a:pt x="776" y="2268"/>
                </a:lnTo>
                <a:lnTo>
                  <a:pt x="777" y="2264"/>
                </a:lnTo>
                <a:lnTo>
                  <a:pt x="778" y="2257"/>
                </a:lnTo>
                <a:lnTo>
                  <a:pt x="781" y="2247"/>
                </a:lnTo>
                <a:lnTo>
                  <a:pt x="782" y="2237"/>
                </a:lnTo>
                <a:lnTo>
                  <a:pt x="783" y="2222"/>
                </a:lnTo>
                <a:lnTo>
                  <a:pt x="784" y="2206"/>
                </a:lnTo>
                <a:lnTo>
                  <a:pt x="787" y="2187"/>
                </a:lnTo>
                <a:lnTo>
                  <a:pt x="788" y="2166"/>
                </a:lnTo>
                <a:lnTo>
                  <a:pt x="791" y="2143"/>
                </a:lnTo>
                <a:lnTo>
                  <a:pt x="792" y="2119"/>
                </a:lnTo>
                <a:lnTo>
                  <a:pt x="795" y="2092"/>
                </a:lnTo>
                <a:lnTo>
                  <a:pt x="797" y="2066"/>
                </a:lnTo>
                <a:lnTo>
                  <a:pt x="799" y="2038"/>
                </a:lnTo>
                <a:lnTo>
                  <a:pt x="800" y="2011"/>
                </a:lnTo>
                <a:lnTo>
                  <a:pt x="803" y="1982"/>
                </a:lnTo>
                <a:lnTo>
                  <a:pt x="805" y="1955"/>
                </a:lnTo>
                <a:lnTo>
                  <a:pt x="807" y="1927"/>
                </a:lnTo>
                <a:lnTo>
                  <a:pt x="809" y="1901"/>
                </a:lnTo>
                <a:lnTo>
                  <a:pt x="811" y="1874"/>
                </a:lnTo>
                <a:lnTo>
                  <a:pt x="811" y="1847"/>
                </a:lnTo>
                <a:lnTo>
                  <a:pt x="813" y="1820"/>
                </a:lnTo>
                <a:lnTo>
                  <a:pt x="814" y="1791"/>
                </a:lnTo>
                <a:lnTo>
                  <a:pt x="816" y="1762"/>
                </a:lnTo>
                <a:lnTo>
                  <a:pt x="815" y="1734"/>
                </a:lnTo>
                <a:lnTo>
                  <a:pt x="816" y="1703"/>
                </a:lnTo>
                <a:lnTo>
                  <a:pt x="817" y="1674"/>
                </a:lnTo>
                <a:lnTo>
                  <a:pt x="819" y="1644"/>
                </a:lnTo>
                <a:lnTo>
                  <a:pt x="819" y="1617"/>
                </a:lnTo>
                <a:lnTo>
                  <a:pt x="819" y="1588"/>
                </a:lnTo>
                <a:lnTo>
                  <a:pt x="820" y="1563"/>
                </a:lnTo>
                <a:lnTo>
                  <a:pt x="821" y="1538"/>
                </a:lnTo>
                <a:lnTo>
                  <a:pt x="820" y="1516"/>
                </a:lnTo>
                <a:lnTo>
                  <a:pt x="820" y="1496"/>
                </a:lnTo>
                <a:lnTo>
                  <a:pt x="820" y="1478"/>
                </a:lnTo>
                <a:lnTo>
                  <a:pt x="820" y="1462"/>
                </a:lnTo>
                <a:lnTo>
                  <a:pt x="817" y="1449"/>
                </a:lnTo>
                <a:lnTo>
                  <a:pt x="818" y="1433"/>
                </a:lnTo>
                <a:lnTo>
                  <a:pt x="815" y="1416"/>
                </a:lnTo>
                <a:lnTo>
                  <a:pt x="815" y="1398"/>
                </a:lnTo>
                <a:lnTo>
                  <a:pt x="813" y="1377"/>
                </a:lnTo>
                <a:lnTo>
                  <a:pt x="812" y="1356"/>
                </a:lnTo>
                <a:lnTo>
                  <a:pt x="810" y="1333"/>
                </a:lnTo>
                <a:lnTo>
                  <a:pt x="810" y="1311"/>
                </a:lnTo>
                <a:lnTo>
                  <a:pt x="807" y="1288"/>
                </a:lnTo>
                <a:lnTo>
                  <a:pt x="805" y="1265"/>
                </a:lnTo>
                <a:lnTo>
                  <a:pt x="804" y="1243"/>
                </a:lnTo>
                <a:lnTo>
                  <a:pt x="803" y="1220"/>
                </a:lnTo>
                <a:lnTo>
                  <a:pt x="802" y="1199"/>
                </a:lnTo>
                <a:lnTo>
                  <a:pt x="800" y="1178"/>
                </a:lnTo>
                <a:lnTo>
                  <a:pt x="798" y="1159"/>
                </a:lnTo>
                <a:lnTo>
                  <a:pt x="799" y="1141"/>
                </a:lnTo>
                <a:lnTo>
                  <a:pt x="796" y="1123"/>
                </a:lnTo>
                <a:lnTo>
                  <a:pt x="796" y="1104"/>
                </a:lnTo>
                <a:lnTo>
                  <a:pt x="794" y="1085"/>
                </a:lnTo>
                <a:lnTo>
                  <a:pt x="794" y="1064"/>
                </a:lnTo>
                <a:lnTo>
                  <a:pt x="792" y="1042"/>
                </a:lnTo>
                <a:lnTo>
                  <a:pt x="791" y="1021"/>
                </a:lnTo>
                <a:lnTo>
                  <a:pt x="789" y="999"/>
                </a:lnTo>
                <a:lnTo>
                  <a:pt x="788" y="978"/>
                </a:lnTo>
                <a:lnTo>
                  <a:pt x="786" y="957"/>
                </a:lnTo>
                <a:lnTo>
                  <a:pt x="785" y="936"/>
                </a:lnTo>
                <a:lnTo>
                  <a:pt x="782" y="917"/>
                </a:lnTo>
                <a:lnTo>
                  <a:pt x="781" y="898"/>
                </a:lnTo>
                <a:lnTo>
                  <a:pt x="779" y="882"/>
                </a:lnTo>
                <a:lnTo>
                  <a:pt x="779" y="866"/>
                </a:lnTo>
                <a:lnTo>
                  <a:pt x="778" y="851"/>
                </a:lnTo>
                <a:lnTo>
                  <a:pt x="777" y="839"/>
                </a:lnTo>
                <a:lnTo>
                  <a:pt x="774" y="827"/>
                </a:lnTo>
                <a:lnTo>
                  <a:pt x="773" y="813"/>
                </a:lnTo>
                <a:lnTo>
                  <a:pt x="770" y="800"/>
                </a:lnTo>
                <a:lnTo>
                  <a:pt x="769" y="784"/>
                </a:lnTo>
                <a:lnTo>
                  <a:pt x="765" y="769"/>
                </a:lnTo>
                <a:lnTo>
                  <a:pt x="763" y="752"/>
                </a:lnTo>
                <a:lnTo>
                  <a:pt x="759" y="737"/>
                </a:lnTo>
                <a:lnTo>
                  <a:pt x="757" y="719"/>
                </a:lnTo>
                <a:lnTo>
                  <a:pt x="753" y="703"/>
                </a:lnTo>
                <a:lnTo>
                  <a:pt x="749" y="686"/>
                </a:lnTo>
                <a:lnTo>
                  <a:pt x="745" y="669"/>
                </a:lnTo>
                <a:lnTo>
                  <a:pt x="743" y="653"/>
                </a:lnTo>
                <a:lnTo>
                  <a:pt x="737" y="639"/>
                </a:lnTo>
                <a:lnTo>
                  <a:pt x="735" y="624"/>
                </a:lnTo>
                <a:lnTo>
                  <a:pt x="732" y="610"/>
                </a:lnTo>
                <a:lnTo>
                  <a:pt x="730" y="596"/>
                </a:lnTo>
                <a:lnTo>
                  <a:pt x="724" y="585"/>
                </a:lnTo>
                <a:lnTo>
                  <a:pt x="720" y="573"/>
                </a:lnTo>
                <a:lnTo>
                  <a:pt x="716" y="560"/>
                </a:lnTo>
                <a:lnTo>
                  <a:pt x="713" y="546"/>
                </a:lnTo>
                <a:lnTo>
                  <a:pt x="706" y="531"/>
                </a:lnTo>
                <a:lnTo>
                  <a:pt x="701" y="517"/>
                </a:lnTo>
                <a:lnTo>
                  <a:pt x="696" y="502"/>
                </a:lnTo>
                <a:lnTo>
                  <a:pt x="691" y="487"/>
                </a:lnTo>
                <a:lnTo>
                  <a:pt x="685" y="474"/>
                </a:lnTo>
                <a:lnTo>
                  <a:pt x="679" y="459"/>
                </a:lnTo>
                <a:lnTo>
                  <a:pt x="674" y="446"/>
                </a:lnTo>
                <a:lnTo>
                  <a:pt x="669" y="434"/>
                </a:lnTo>
                <a:lnTo>
                  <a:pt x="663" y="422"/>
                </a:lnTo>
                <a:lnTo>
                  <a:pt x="659" y="411"/>
                </a:lnTo>
                <a:lnTo>
                  <a:pt x="646" y="385"/>
                </a:lnTo>
                <a:lnTo>
                  <a:pt x="641" y="377"/>
                </a:lnTo>
                <a:lnTo>
                  <a:pt x="637" y="370"/>
                </a:lnTo>
                <a:lnTo>
                  <a:pt x="633" y="362"/>
                </a:lnTo>
                <a:lnTo>
                  <a:pt x="628" y="355"/>
                </a:lnTo>
                <a:lnTo>
                  <a:pt x="624" y="346"/>
                </a:lnTo>
                <a:lnTo>
                  <a:pt x="619" y="339"/>
                </a:lnTo>
                <a:lnTo>
                  <a:pt x="616" y="330"/>
                </a:lnTo>
                <a:lnTo>
                  <a:pt x="611" y="323"/>
                </a:lnTo>
                <a:lnTo>
                  <a:pt x="607" y="317"/>
                </a:lnTo>
                <a:lnTo>
                  <a:pt x="603" y="311"/>
                </a:lnTo>
                <a:lnTo>
                  <a:pt x="600" y="304"/>
                </a:lnTo>
                <a:lnTo>
                  <a:pt x="597" y="299"/>
                </a:lnTo>
                <a:lnTo>
                  <a:pt x="594" y="295"/>
                </a:lnTo>
                <a:lnTo>
                  <a:pt x="592" y="290"/>
                </a:lnTo>
                <a:lnTo>
                  <a:pt x="591" y="287"/>
                </a:lnTo>
                <a:lnTo>
                  <a:pt x="587" y="285"/>
                </a:lnTo>
                <a:lnTo>
                  <a:pt x="586" y="283"/>
                </a:lnTo>
                <a:lnTo>
                  <a:pt x="581" y="276"/>
                </a:lnTo>
                <a:lnTo>
                  <a:pt x="577" y="273"/>
                </a:lnTo>
                <a:lnTo>
                  <a:pt x="573" y="268"/>
                </a:lnTo>
                <a:lnTo>
                  <a:pt x="569" y="264"/>
                </a:lnTo>
                <a:lnTo>
                  <a:pt x="566" y="260"/>
                </a:lnTo>
                <a:lnTo>
                  <a:pt x="562" y="256"/>
                </a:lnTo>
                <a:lnTo>
                  <a:pt x="557" y="252"/>
                </a:lnTo>
                <a:lnTo>
                  <a:pt x="552" y="246"/>
                </a:lnTo>
                <a:lnTo>
                  <a:pt x="549" y="242"/>
                </a:lnTo>
                <a:lnTo>
                  <a:pt x="545" y="239"/>
                </a:lnTo>
                <a:lnTo>
                  <a:pt x="541" y="235"/>
                </a:lnTo>
                <a:lnTo>
                  <a:pt x="537" y="230"/>
                </a:lnTo>
                <a:lnTo>
                  <a:pt x="534" y="226"/>
                </a:lnTo>
                <a:lnTo>
                  <a:pt x="530" y="223"/>
                </a:lnTo>
                <a:lnTo>
                  <a:pt x="525" y="220"/>
                </a:lnTo>
                <a:lnTo>
                  <a:pt x="519" y="215"/>
                </a:lnTo>
                <a:lnTo>
                  <a:pt x="515" y="211"/>
                </a:lnTo>
                <a:lnTo>
                  <a:pt x="502" y="200"/>
                </a:lnTo>
                <a:lnTo>
                  <a:pt x="494" y="196"/>
                </a:lnTo>
                <a:lnTo>
                  <a:pt x="488" y="190"/>
                </a:lnTo>
                <a:lnTo>
                  <a:pt x="479" y="186"/>
                </a:lnTo>
                <a:lnTo>
                  <a:pt x="473" y="180"/>
                </a:lnTo>
                <a:lnTo>
                  <a:pt x="465" y="175"/>
                </a:lnTo>
                <a:lnTo>
                  <a:pt x="459" y="170"/>
                </a:lnTo>
                <a:lnTo>
                  <a:pt x="452" y="166"/>
                </a:lnTo>
                <a:lnTo>
                  <a:pt x="445" y="160"/>
                </a:lnTo>
                <a:lnTo>
                  <a:pt x="439" y="155"/>
                </a:lnTo>
                <a:lnTo>
                  <a:pt x="433" y="150"/>
                </a:lnTo>
                <a:lnTo>
                  <a:pt x="426" y="146"/>
                </a:lnTo>
                <a:lnTo>
                  <a:pt x="418" y="143"/>
                </a:lnTo>
                <a:lnTo>
                  <a:pt x="411" y="140"/>
                </a:lnTo>
                <a:lnTo>
                  <a:pt x="404" y="134"/>
                </a:lnTo>
                <a:lnTo>
                  <a:pt x="395" y="131"/>
                </a:lnTo>
                <a:lnTo>
                  <a:pt x="387" y="126"/>
                </a:lnTo>
                <a:lnTo>
                  <a:pt x="379" y="122"/>
                </a:lnTo>
                <a:lnTo>
                  <a:pt x="371" y="116"/>
                </a:lnTo>
                <a:lnTo>
                  <a:pt x="362" y="113"/>
                </a:lnTo>
                <a:lnTo>
                  <a:pt x="353" y="109"/>
                </a:lnTo>
                <a:lnTo>
                  <a:pt x="345" y="105"/>
                </a:lnTo>
                <a:lnTo>
                  <a:pt x="338" y="99"/>
                </a:lnTo>
                <a:lnTo>
                  <a:pt x="330" y="96"/>
                </a:lnTo>
                <a:lnTo>
                  <a:pt x="323" y="93"/>
                </a:lnTo>
                <a:lnTo>
                  <a:pt x="318" y="91"/>
                </a:lnTo>
                <a:lnTo>
                  <a:pt x="312" y="88"/>
                </a:lnTo>
                <a:lnTo>
                  <a:pt x="305" y="87"/>
                </a:lnTo>
                <a:lnTo>
                  <a:pt x="300" y="84"/>
                </a:lnTo>
                <a:lnTo>
                  <a:pt x="292" y="82"/>
                </a:lnTo>
                <a:lnTo>
                  <a:pt x="286" y="79"/>
                </a:lnTo>
                <a:lnTo>
                  <a:pt x="277" y="77"/>
                </a:lnTo>
                <a:lnTo>
                  <a:pt x="269" y="73"/>
                </a:lnTo>
                <a:lnTo>
                  <a:pt x="260" y="69"/>
                </a:lnTo>
                <a:lnTo>
                  <a:pt x="253" y="66"/>
                </a:lnTo>
                <a:lnTo>
                  <a:pt x="243" y="64"/>
                </a:lnTo>
                <a:lnTo>
                  <a:pt x="234" y="60"/>
                </a:lnTo>
                <a:lnTo>
                  <a:pt x="225" y="58"/>
                </a:lnTo>
                <a:lnTo>
                  <a:pt x="216" y="54"/>
                </a:lnTo>
                <a:lnTo>
                  <a:pt x="207" y="52"/>
                </a:lnTo>
                <a:lnTo>
                  <a:pt x="200" y="49"/>
                </a:lnTo>
                <a:lnTo>
                  <a:pt x="192" y="47"/>
                </a:lnTo>
                <a:lnTo>
                  <a:pt x="186" y="44"/>
                </a:lnTo>
                <a:lnTo>
                  <a:pt x="178" y="42"/>
                </a:lnTo>
                <a:lnTo>
                  <a:pt x="170" y="41"/>
                </a:lnTo>
                <a:lnTo>
                  <a:pt x="161" y="39"/>
                </a:lnTo>
                <a:lnTo>
                  <a:pt x="155" y="35"/>
                </a:lnTo>
                <a:lnTo>
                  <a:pt x="145" y="33"/>
                </a:lnTo>
                <a:lnTo>
                  <a:pt x="137" y="32"/>
                </a:lnTo>
                <a:lnTo>
                  <a:pt x="127" y="30"/>
                </a:lnTo>
                <a:lnTo>
                  <a:pt x="120" y="26"/>
                </a:lnTo>
                <a:lnTo>
                  <a:pt x="110" y="24"/>
                </a:lnTo>
                <a:lnTo>
                  <a:pt x="101" y="22"/>
                </a:lnTo>
                <a:lnTo>
                  <a:pt x="91" y="20"/>
                </a:lnTo>
                <a:lnTo>
                  <a:pt x="84" y="18"/>
                </a:lnTo>
                <a:lnTo>
                  <a:pt x="75" y="16"/>
                </a:lnTo>
                <a:lnTo>
                  <a:pt x="68" y="15"/>
                </a:lnTo>
                <a:lnTo>
                  <a:pt x="62" y="13"/>
                </a:lnTo>
                <a:lnTo>
                  <a:pt x="57" y="11"/>
                </a:lnTo>
                <a:lnTo>
                  <a:pt x="52" y="10"/>
                </a:lnTo>
                <a:lnTo>
                  <a:pt x="48" y="9"/>
                </a:lnTo>
                <a:lnTo>
                  <a:pt x="45" y="9"/>
                </a:lnTo>
                <a:lnTo>
                  <a:pt x="44" y="9"/>
                </a:lnTo>
                <a:lnTo>
                  <a:pt x="39" y="8"/>
                </a:lnTo>
                <a:lnTo>
                  <a:pt x="39" y="8"/>
                </a:lnTo>
                <a:lnTo>
                  <a:pt x="36" y="7"/>
                </a:lnTo>
                <a:lnTo>
                  <a:pt x="35" y="7"/>
                </a:lnTo>
                <a:lnTo>
                  <a:pt x="16" y="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21496200">
            <a:off x="2133360" y="1599840"/>
            <a:ext cx="826920" cy="3730680"/>
          </a:xfrm>
          <a:custGeom>
            <a:avLst/>
            <a:gdLst/>
            <a:ahLst/>
            <a:rect l="l" t="t" r="r" b="b"/>
            <a:pathLst>
              <a:path w="821" h="2350">
                <a:moveTo>
                  <a:pt x="766" y="2350"/>
                </a:moveTo>
                <a:lnTo>
                  <a:pt x="768" y="2333"/>
                </a:lnTo>
                <a:lnTo>
                  <a:pt x="770" y="2319"/>
                </a:lnTo>
                <a:lnTo>
                  <a:pt x="771" y="2307"/>
                </a:lnTo>
                <a:lnTo>
                  <a:pt x="773" y="2299"/>
                </a:lnTo>
                <a:lnTo>
                  <a:pt x="772" y="2292"/>
                </a:lnTo>
                <a:lnTo>
                  <a:pt x="773" y="2286"/>
                </a:lnTo>
                <a:lnTo>
                  <a:pt x="774" y="2283"/>
                </a:lnTo>
                <a:lnTo>
                  <a:pt x="775" y="2280"/>
                </a:lnTo>
                <a:lnTo>
                  <a:pt x="775" y="2278"/>
                </a:lnTo>
                <a:lnTo>
                  <a:pt x="775" y="2277"/>
                </a:lnTo>
                <a:lnTo>
                  <a:pt x="776" y="2275"/>
                </a:lnTo>
                <a:lnTo>
                  <a:pt x="776" y="2272"/>
                </a:lnTo>
                <a:lnTo>
                  <a:pt x="776" y="2268"/>
                </a:lnTo>
                <a:lnTo>
                  <a:pt x="777" y="2264"/>
                </a:lnTo>
                <a:lnTo>
                  <a:pt x="778" y="2257"/>
                </a:lnTo>
                <a:lnTo>
                  <a:pt x="781" y="2247"/>
                </a:lnTo>
                <a:lnTo>
                  <a:pt x="782" y="2237"/>
                </a:lnTo>
                <a:lnTo>
                  <a:pt x="783" y="2222"/>
                </a:lnTo>
                <a:lnTo>
                  <a:pt x="784" y="2206"/>
                </a:lnTo>
                <a:lnTo>
                  <a:pt x="787" y="2187"/>
                </a:lnTo>
                <a:lnTo>
                  <a:pt x="788" y="2166"/>
                </a:lnTo>
                <a:lnTo>
                  <a:pt x="791" y="2143"/>
                </a:lnTo>
                <a:lnTo>
                  <a:pt x="792" y="2119"/>
                </a:lnTo>
                <a:lnTo>
                  <a:pt x="795" y="2092"/>
                </a:lnTo>
                <a:lnTo>
                  <a:pt x="797" y="2066"/>
                </a:lnTo>
                <a:lnTo>
                  <a:pt x="799" y="2038"/>
                </a:lnTo>
                <a:lnTo>
                  <a:pt x="800" y="2011"/>
                </a:lnTo>
                <a:lnTo>
                  <a:pt x="803" y="1982"/>
                </a:lnTo>
                <a:lnTo>
                  <a:pt x="805" y="1955"/>
                </a:lnTo>
                <a:lnTo>
                  <a:pt x="807" y="1927"/>
                </a:lnTo>
                <a:lnTo>
                  <a:pt x="809" y="1901"/>
                </a:lnTo>
                <a:lnTo>
                  <a:pt x="811" y="1874"/>
                </a:lnTo>
                <a:lnTo>
                  <a:pt x="811" y="1847"/>
                </a:lnTo>
                <a:lnTo>
                  <a:pt x="813" y="1820"/>
                </a:lnTo>
                <a:lnTo>
                  <a:pt x="814" y="1791"/>
                </a:lnTo>
                <a:lnTo>
                  <a:pt x="816" y="1762"/>
                </a:lnTo>
                <a:lnTo>
                  <a:pt x="815" y="1734"/>
                </a:lnTo>
                <a:lnTo>
                  <a:pt x="816" y="1703"/>
                </a:lnTo>
                <a:lnTo>
                  <a:pt x="817" y="1674"/>
                </a:lnTo>
                <a:lnTo>
                  <a:pt x="819" y="1644"/>
                </a:lnTo>
                <a:lnTo>
                  <a:pt x="819" y="1617"/>
                </a:lnTo>
                <a:lnTo>
                  <a:pt x="819" y="1588"/>
                </a:lnTo>
                <a:lnTo>
                  <a:pt x="820" y="1563"/>
                </a:lnTo>
                <a:lnTo>
                  <a:pt x="821" y="1538"/>
                </a:lnTo>
                <a:lnTo>
                  <a:pt x="820" y="1516"/>
                </a:lnTo>
                <a:lnTo>
                  <a:pt x="820" y="1496"/>
                </a:lnTo>
                <a:lnTo>
                  <a:pt x="820" y="1478"/>
                </a:lnTo>
                <a:lnTo>
                  <a:pt x="820" y="1462"/>
                </a:lnTo>
                <a:lnTo>
                  <a:pt x="817" y="1449"/>
                </a:lnTo>
                <a:lnTo>
                  <a:pt x="818" y="1433"/>
                </a:lnTo>
                <a:lnTo>
                  <a:pt x="815" y="1416"/>
                </a:lnTo>
                <a:lnTo>
                  <a:pt x="815" y="1398"/>
                </a:lnTo>
                <a:lnTo>
                  <a:pt x="813" y="1377"/>
                </a:lnTo>
                <a:lnTo>
                  <a:pt x="812" y="1356"/>
                </a:lnTo>
                <a:lnTo>
                  <a:pt x="810" y="1333"/>
                </a:lnTo>
                <a:lnTo>
                  <a:pt x="810" y="1311"/>
                </a:lnTo>
                <a:lnTo>
                  <a:pt x="807" y="1288"/>
                </a:lnTo>
                <a:lnTo>
                  <a:pt x="805" y="1265"/>
                </a:lnTo>
                <a:lnTo>
                  <a:pt x="804" y="1243"/>
                </a:lnTo>
                <a:lnTo>
                  <a:pt x="803" y="1220"/>
                </a:lnTo>
                <a:lnTo>
                  <a:pt x="802" y="1199"/>
                </a:lnTo>
                <a:lnTo>
                  <a:pt x="800" y="1178"/>
                </a:lnTo>
                <a:lnTo>
                  <a:pt x="798" y="1159"/>
                </a:lnTo>
                <a:lnTo>
                  <a:pt x="799" y="1141"/>
                </a:lnTo>
                <a:lnTo>
                  <a:pt x="796" y="1123"/>
                </a:lnTo>
                <a:lnTo>
                  <a:pt x="796" y="1104"/>
                </a:lnTo>
                <a:lnTo>
                  <a:pt x="794" y="1085"/>
                </a:lnTo>
                <a:lnTo>
                  <a:pt x="794" y="1064"/>
                </a:lnTo>
                <a:lnTo>
                  <a:pt x="792" y="1042"/>
                </a:lnTo>
                <a:lnTo>
                  <a:pt x="791" y="1021"/>
                </a:lnTo>
                <a:lnTo>
                  <a:pt x="789" y="999"/>
                </a:lnTo>
                <a:lnTo>
                  <a:pt x="788" y="978"/>
                </a:lnTo>
                <a:lnTo>
                  <a:pt x="786" y="957"/>
                </a:lnTo>
                <a:lnTo>
                  <a:pt x="785" y="936"/>
                </a:lnTo>
                <a:lnTo>
                  <a:pt x="782" y="917"/>
                </a:lnTo>
                <a:lnTo>
                  <a:pt x="781" y="898"/>
                </a:lnTo>
                <a:lnTo>
                  <a:pt x="779" y="882"/>
                </a:lnTo>
                <a:lnTo>
                  <a:pt x="779" y="866"/>
                </a:lnTo>
                <a:lnTo>
                  <a:pt x="778" y="851"/>
                </a:lnTo>
                <a:lnTo>
                  <a:pt x="777" y="839"/>
                </a:lnTo>
                <a:lnTo>
                  <a:pt x="774" y="827"/>
                </a:lnTo>
                <a:lnTo>
                  <a:pt x="773" y="813"/>
                </a:lnTo>
                <a:lnTo>
                  <a:pt x="770" y="800"/>
                </a:lnTo>
                <a:lnTo>
                  <a:pt x="769" y="784"/>
                </a:lnTo>
                <a:lnTo>
                  <a:pt x="765" y="769"/>
                </a:lnTo>
                <a:lnTo>
                  <a:pt x="763" y="752"/>
                </a:lnTo>
                <a:lnTo>
                  <a:pt x="759" y="737"/>
                </a:lnTo>
                <a:lnTo>
                  <a:pt x="757" y="719"/>
                </a:lnTo>
                <a:lnTo>
                  <a:pt x="753" y="703"/>
                </a:lnTo>
                <a:lnTo>
                  <a:pt x="749" y="686"/>
                </a:lnTo>
                <a:lnTo>
                  <a:pt x="745" y="669"/>
                </a:lnTo>
                <a:lnTo>
                  <a:pt x="743" y="653"/>
                </a:lnTo>
                <a:lnTo>
                  <a:pt x="737" y="639"/>
                </a:lnTo>
                <a:lnTo>
                  <a:pt x="735" y="624"/>
                </a:lnTo>
                <a:lnTo>
                  <a:pt x="732" y="610"/>
                </a:lnTo>
                <a:lnTo>
                  <a:pt x="730" y="596"/>
                </a:lnTo>
                <a:lnTo>
                  <a:pt x="724" y="585"/>
                </a:lnTo>
                <a:lnTo>
                  <a:pt x="720" y="573"/>
                </a:lnTo>
                <a:lnTo>
                  <a:pt x="716" y="560"/>
                </a:lnTo>
                <a:lnTo>
                  <a:pt x="713" y="546"/>
                </a:lnTo>
                <a:lnTo>
                  <a:pt x="706" y="531"/>
                </a:lnTo>
                <a:lnTo>
                  <a:pt x="701" y="517"/>
                </a:lnTo>
                <a:lnTo>
                  <a:pt x="696" y="502"/>
                </a:lnTo>
                <a:lnTo>
                  <a:pt x="691" y="487"/>
                </a:lnTo>
                <a:lnTo>
                  <a:pt x="685" y="474"/>
                </a:lnTo>
                <a:lnTo>
                  <a:pt x="679" y="459"/>
                </a:lnTo>
                <a:lnTo>
                  <a:pt x="674" y="446"/>
                </a:lnTo>
                <a:lnTo>
                  <a:pt x="669" y="434"/>
                </a:lnTo>
                <a:lnTo>
                  <a:pt x="663" y="422"/>
                </a:lnTo>
                <a:lnTo>
                  <a:pt x="659" y="411"/>
                </a:lnTo>
                <a:lnTo>
                  <a:pt x="646" y="385"/>
                </a:lnTo>
                <a:lnTo>
                  <a:pt x="641" y="377"/>
                </a:lnTo>
                <a:lnTo>
                  <a:pt x="637" y="370"/>
                </a:lnTo>
                <a:lnTo>
                  <a:pt x="633" y="362"/>
                </a:lnTo>
                <a:lnTo>
                  <a:pt x="628" y="355"/>
                </a:lnTo>
                <a:lnTo>
                  <a:pt x="624" y="346"/>
                </a:lnTo>
                <a:lnTo>
                  <a:pt x="619" y="339"/>
                </a:lnTo>
                <a:lnTo>
                  <a:pt x="616" y="330"/>
                </a:lnTo>
                <a:lnTo>
                  <a:pt x="611" y="323"/>
                </a:lnTo>
                <a:lnTo>
                  <a:pt x="607" y="317"/>
                </a:lnTo>
                <a:lnTo>
                  <a:pt x="603" y="311"/>
                </a:lnTo>
                <a:lnTo>
                  <a:pt x="600" y="304"/>
                </a:lnTo>
                <a:lnTo>
                  <a:pt x="597" y="299"/>
                </a:lnTo>
                <a:lnTo>
                  <a:pt x="594" y="295"/>
                </a:lnTo>
                <a:lnTo>
                  <a:pt x="592" y="290"/>
                </a:lnTo>
                <a:lnTo>
                  <a:pt x="591" y="287"/>
                </a:lnTo>
                <a:lnTo>
                  <a:pt x="587" y="285"/>
                </a:lnTo>
                <a:lnTo>
                  <a:pt x="586" y="283"/>
                </a:lnTo>
                <a:lnTo>
                  <a:pt x="581" y="276"/>
                </a:lnTo>
                <a:lnTo>
                  <a:pt x="577" y="273"/>
                </a:lnTo>
                <a:lnTo>
                  <a:pt x="573" y="268"/>
                </a:lnTo>
                <a:lnTo>
                  <a:pt x="569" y="264"/>
                </a:lnTo>
                <a:lnTo>
                  <a:pt x="566" y="260"/>
                </a:lnTo>
                <a:lnTo>
                  <a:pt x="562" y="256"/>
                </a:lnTo>
                <a:lnTo>
                  <a:pt x="557" y="252"/>
                </a:lnTo>
                <a:lnTo>
                  <a:pt x="552" y="246"/>
                </a:lnTo>
                <a:lnTo>
                  <a:pt x="549" y="242"/>
                </a:lnTo>
                <a:lnTo>
                  <a:pt x="545" y="239"/>
                </a:lnTo>
                <a:lnTo>
                  <a:pt x="541" y="235"/>
                </a:lnTo>
                <a:lnTo>
                  <a:pt x="537" y="230"/>
                </a:lnTo>
                <a:lnTo>
                  <a:pt x="534" y="226"/>
                </a:lnTo>
                <a:lnTo>
                  <a:pt x="530" y="223"/>
                </a:lnTo>
                <a:lnTo>
                  <a:pt x="525" y="220"/>
                </a:lnTo>
                <a:lnTo>
                  <a:pt x="519" y="215"/>
                </a:lnTo>
                <a:lnTo>
                  <a:pt x="515" y="211"/>
                </a:lnTo>
                <a:lnTo>
                  <a:pt x="502" y="200"/>
                </a:lnTo>
                <a:lnTo>
                  <a:pt x="494" y="196"/>
                </a:lnTo>
                <a:lnTo>
                  <a:pt x="488" y="190"/>
                </a:lnTo>
                <a:lnTo>
                  <a:pt x="479" y="186"/>
                </a:lnTo>
                <a:lnTo>
                  <a:pt x="473" y="180"/>
                </a:lnTo>
                <a:lnTo>
                  <a:pt x="465" y="175"/>
                </a:lnTo>
                <a:lnTo>
                  <a:pt x="459" y="170"/>
                </a:lnTo>
                <a:lnTo>
                  <a:pt x="452" y="166"/>
                </a:lnTo>
                <a:lnTo>
                  <a:pt x="445" y="160"/>
                </a:lnTo>
                <a:lnTo>
                  <a:pt x="439" y="155"/>
                </a:lnTo>
                <a:lnTo>
                  <a:pt x="433" y="150"/>
                </a:lnTo>
                <a:lnTo>
                  <a:pt x="426" y="146"/>
                </a:lnTo>
                <a:lnTo>
                  <a:pt x="418" y="143"/>
                </a:lnTo>
                <a:lnTo>
                  <a:pt x="411" y="140"/>
                </a:lnTo>
                <a:lnTo>
                  <a:pt x="404" y="134"/>
                </a:lnTo>
                <a:lnTo>
                  <a:pt x="395" y="131"/>
                </a:lnTo>
                <a:lnTo>
                  <a:pt x="387" y="126"/>
                </a:lnTo>
                <a:lnTo>
                  <a:pt x="379" y="122"/>
                </a:lnTo>
                <a:lnTo>
                  <a:pt x="371" y="116"/>
                </a:lnTo>
                <a:lnTo>
                  <a:pt x="362" y="113"/>
                </a:lnTo>
                <a:lnTo>
                  <a:pt x="353" y="109"/>
                </a:lnTo>
                <a:lnTo>
                  <a:pt x="345" y="105"/>
                </a:lnTo>
                <a:lnTo>
                  <a:pt x="338" y="99"/>
                </a:lnTo>
                <a:lnTo>
                  <a:pt x="330" y="96"/>
                </a:lnTo>
                <a:lnTo>
                  <a:pt x="323" y="93"/>
                </a:lnTo>
                <a:lnTo>
                  <a:pt x="318" y="91"/>
                </a:lnTo>
                <a:lnTo>
                  <a:pt x="312" y="88"/>
                </a:lnTo>
                <a:lnTo>
                  <a:pt x="305" y="87"/>
                </a:lnTo>
                <a:lnTo>
                  <a:pt x="300" y="84"/>
                </a:lnTo>
                <a:lnTo>
                  <a:pt x="292" y="82"/>
                </a:lnTo>
                <a:lnTo>
                  <a:pt x="286" y="79"/>
                </a:lnTo>
                <a:lnTo>
                  <a:pt x="277" y="77"/>
                </a:lnTo>
                <a:lnTo>
                  <a:pt x="269" y="73"/>
                </a:lnTo>
                <a:lnTo>
                  <a:pt x="260" y="69"/>
                </a:lnTo>
                <a:lnTo>
                  <a:pt x="253" y="66"/>
                </a:lnTo>
                <a:lnTo>
                  <a:pt x="243" y="64"/>
                </a:lnTo>
                <a:lnTo>
                  <a:pt x="234" y="60"/>
                </a:lnTo>
                <a:lnTo>
                  <a:pt x="225" y="58"/>
                </a:lnTo>
                <a:lnTo>
                  <a:pt x="216" y="54"/>
                </a:lnTo>
                <a:lnTo>
                  <a:pt x="207" y="52"/>
                </a:lnTo>
                <a:lnTo>
                  <a:pt x="200" y="49"/>
                </a:lnTo>
                <a:lnTo>
                  <a:pt x="192" y="47"/>
                </a:lnTo>
                <a:lnTo>
                  <a:pt x="186" y="44"/>
                </a:lnTo>
                <a:lnTo>
                  <a:pt x="178" y="42"/>
                </a:lnTo>
                <a:lnTo>
                  <a:pt x="170" y="41"/>
                </a:lnTo>
                <a:lnTo>
                  <a:pt x="161" y="39"/>
                </a:lnTo>
                <a:lnTo>
                  <a:pt x="155" y="35"/>
                </a:lnTo>
                <a:lnTo>
                  <a:pt x="145" y="33"/>
                </a:lnTo>
                <a:lnTo>
                  <a:pt x="137" y="32"/>
                </a:lnTo>
                <a:lnTo>
                  <a:pt x="127" y="30"/>
                </a:lnTo>
                <a:lnTo>
                  <a:pt x="120" y="26"/>
                </a:lnTo>
                <a:lnTo>
                  <a:pt x="110" y="24"/>
                </a:lnTo>
                <a:lnTo>
                  <a:pt x="101" y="22"/>
                </a:lnTo>
                <a:lnTo>
                  <a:pt x="91" y="20"/>
                </a:lnTo>
                <a:lnTo>
                  <a:pt x="84" y="18"/>
                </a:lnTo>
                <a:lnTo>
                  <a:pt x="75" y="16"/>
                </a:lnTo>
                <a:lnTo>
                  <a:pt x="68" y="15"/>
                </a:lnTo>
                <a:lnTo>
                  <a:pt x="62" y="13"/>
                </a:lnTo>
                <a:lnTo>
                  <a:pt x="57" y="11"/>
                </a:lnTo>
                <a:lnTo>
                  <a:pt x="52" y="10"/>
                </a:lnTo>
                <a:lnTo>
                  <a:pt x="48" y="9"/>
                </a:lnTo>
                <a:lnTo>
                  <a:pt x="45" y="9"/>
                </a:lnTo>
                <a:lnTo>
                  <a:pt x="44" y="9"/>
                </a:lnTo>
                <a:lnTo>
                  <a:pt x="39" y="8"/>
                </a:lnTo>
                <a:lnTo>
                  <a:pt x="39" y="8"/>
                </a:lnTo>
                <a:lnTo>
                  <a:pt x="36" y="7"/>
                </a:lnTo>
                <a:lnTo>
                  <a:pt x="35" y="7"/>
                </a:lnTo>
                <a:lnTo>
                  <a:pt x="16" y="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4536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edro podrá usar su poder para manipular confiando en Jua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4536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Y si Juan tiene la misma idea..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21560" y="3200400"/>
            <a:ext cx="3336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Juan trata de manipular los precios en retaliac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1523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2209680"/>
            <a:ext cx="3581280" cy="1371600"/>
          </a:xfrm>
          <a:prstGeom prst="wedgeRoundRectCallout">
            <a:avLst>
              <a:gd name="adj1" fmla="val -81425"/>
              <a:gd name="adj2" fmla="val -74074"/>
              <a:gd name="adj3" fmla="val 16667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e punto de retaliación puede ser aun pe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rucos con resultados eficientes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066680"/>
            <a:ext cx="10515600" cy="670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3500000"/>
          </a:gradFill>
          <a:ln w="2556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2251"/>
              </a:spcBef>
              <a:buClr>
                <a:srgbClr val="0000ff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El resultado de eficiencia parece sugerir que podemos alcanzar mediante algun tipo de ingeniería económica una asignación PE escogiendo una distribución “adecuada” de la propie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251"/>
              </a:spcBef>
              <a:buClr>
                <a:srgbClr val="0000ff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Pero cuidado con las no convexidad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251"/>
              </a:spcBef>
              <a:buClr>
                <a:srgbClr val="0000ff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...y el poder distorcionante de los precio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251"/>
              </a:spcBef>
              <a:buClr>
                <a:srgbClr val="0000ff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...tanto en economías de intercambio como de produc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251"/>
              </a:spcBef>
              <a:buClr>
                <a:srgbClr val="0000ff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¿Ademas, cómo vamos a elegir entre las distintas asignaciones 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812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0824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xtención de la 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30960" y="586728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857240" y="5315040"/>
            <a:ext cx="4540320" cy="552240"/>
            <a:chOff x="1857240" y="5315040"/>
            <a:chExt cx="4540320" cy="552240"/>
          </a:xfrm>
        </p:grpSpPr>
        <p:sp>
          <p:nvSpPr>
            <p:cNvPr id="370" name=""/>
            <p:cNvSpPr/>
            <p:nvPr/>
          </p:nvSpPr>
          <p:spPr>
            <a:xfrm>
              <a:off x="412596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7240" y="561348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2596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961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5724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08160" y="561348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2596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378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3124080" y="4091040"/>
            <a:ext cx="20368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ncipio de Bie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42080" y="408924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Economía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10080" y="586728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95480" y="5334120"/>
            <a:ext cx="2486160" cy="205884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Principio de Bienesta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38080" y="4143240"/>
            <a:ext cx="88236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ienestar:  efici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8680" y="1681200"/>
            <a:ext cx="775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Microeconomía II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GB" sz="5200" spc="-1" strike="noStrike">
                <a:solidFill>
                  <a:srgbClr val="000000"/>
                </a:solidFill>
                <a:latin typeface="Arial"/>
              </a:rPr>
              <a:t>1998 -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321080" y="6068880"/>
            <a:ext cx="1227240" cy="826920"/>
            <a:chOff x="4321080" y="6068880"/>
            <a:chExt cx="1227240" cy="826920"/>
          </a:xfrm>
        </p:grpSpPr>
        <p:sp>
          <p:nvSpPr>
            <p:cNvPr id="45" name=""/>
            <p:cNvSpPr/>
            <p:nvPr/>
          </p:nvSpPr>
          <p:spPr>
            <a:xfrm flipV="1">
              <a:off x="4344840" y="6093720"/>
              <a:ext cx="1203480" cy="801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22880" y="6068880"/>
              <a:ext cx="1201680" cy="266760"/>
            </a:xfrm>
            <a:custGeom>
              <a:avLst/>
              <a:gdLst/>
              <a:ahLst/>
              <a:rect l="l" t="t" r="r" b="b"/>
              <a:pathLst>
                <a:path w="757" h="168">
                  <a:moveTo>
                    <a:pt x="0" y="167"/>
                  </a:moveTo>
                  <a:lnTo>
                    <a:pt x="0" y="167"/>
                  </a:lnTo>
                  <a:lnTo>
                    <a:pt x="756" y="166"/>
                  </a:lnTo>
                  <a:lnTo>
                    <a:pt x="756" y="0"/>
                  </a:lnTo>
                  <a:lnTo>
                    <a:pt x="0" y="1"/>
                  </a:lnTo>
                  <a:lnTo>
                    <a:pt x="0" y="167"/>
                  </a:lnTo>
                  <a:lnTo>
                    <a:pt x="0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22880" y="6334200"/>
              <a:ext cx="1201680" cy="271440"/>
            </a:xfrm>
            <a:custGeom>
              <a:avLst/>
              <a:gdLst/>
              <a:ahLst/>
              <a:rect l="l" t="t" r="r" b="b"/>
              <a:pathLst>
                <a:path w="757" h="171">
                  <a:moveTo>
                    <a:pt x="0" y="170"/>
                  </a:moveTo>
                  <a:lnTo>
                    <a:pt x="0" y="170"/>
                  </a:lnTo>
                  <a:lnTo>
                    <a:pt x="756" y="170"/>
                  </a:lnTo>
                  <a:lnTo>
                    <a:pt x="756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22880" y="6603840"/>
              <a:ext cx="1201680" cy="268560"/>
            </a:xfrm>
            <a:custGeom>
              <a:avLst/>
              <a:gdLst/>
              <a:ahLst/>
              <a:rect l="l" t="t" r="r" b="b"/>
              <a:pathLst>
                <a:path w="757" h="169">
                  <a:moveTo>
                    <a:pt x="0" y="168"/>
                  </a:moveTo>
                  <a:lnTo>
                    <a:pt x="0" y="168"/>
                  </a:lnTo>
                  <a:lnTo>
                    <a:pt x="756" y="168"/>
                  </a:lnTo>
                  <a:lnTo>
                    <a:pt x="756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0" y="168"/>
                  </a:lnTo>
                </a:path>
              </a:pathLst>
            </a:custGeom>
            <a:solidFill>
              <a:srgbClr val="ff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321080" y="6069960"/>
              <a:ext cx="1201680" cy="80172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46040" y="5029200"/>
            <a:ext cx="842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6699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800080"/>
                </a:solidFill>
                <a:latin typeface="Times New Roman"/>
              </a:rPr>
              <a:t>Otros conceptos tales como eficiencia potencial o equidad pueden lograr apoyo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46040" y="746280"/>
            <a:ext cx="9453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Porqué habríamos de extender el concepto de eficiencia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82680" y="2567160"/>
            <a:ext cx="84265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6699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800080"/>
                </a:solidFill>
                <a:latin typeface="Times New Roman"/>
              </a:rPr>
              <a:t>La eficiencia de Pareto es "indecisiva"</a:t>
            </a:r>
            <a:br>
              <a:rPr sz="3300"/>
            </a:br>
            <a:r>
              <a:rPr b="1" lang="en-GB" sz="33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048120" y="4342320"/>
            <a:ext cx="6332400" cy="302580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700" spc="-1" strike="noStrike">
                <a:solidFill>
                  <a:srgbClr val="ff0080"/>
                </a:solidFill>
                <a:latin typeface="Arial"/>
              </a:rPr>
              <a:t>¿Qué hay de las infinitas asignaciones PE que se encuentran sobre la curva de contrato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17600" y="3886200"/>
            <a:ext cx="842652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6699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800080"/>
                </a:solidFill>
                <a:latin typeface="Times New Roman"/>
              </a:rPr>
              <a:t>Las mejoras de Pareto pueden ser elusivas</a:t>
            </a:r>
            <a:br>
              <a:rPr sz="3300"/>
            </a:br>
            <a:r>
              <a:rPr b="1" lang="en-GB" sz="33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438280" y="3809880"/>
            <a:ext cx="7099200" cy="3488760"/>
            <a:chOff x="2438280" y="3809880"/>
            <a:chExt cx="7099200" cy="3488760"/>
          </a:xfrm>
        </p:grpSpPr>
        <p:grpSp>
          <p:nvGrpSpPr>
            <p:cNvPr id="401" name=""/>
            <p:cNvGrpSpPr/>
            <p:nvPr/>
          </p:nvGrpSpPr>
          <p:grpSpPr>
            <a:xfrm>
              <a:off x="2438280" y="3809880"/>
              <a:ext cx="7099200" cy="3467160"/>
              <a:chOff x="2438280" y="3809880"/>
              <a:chExt cx="7099200" cy="3467160"/>
            </a:xfrm>
          </p:grpSpPr>
          <p:sp>
            <p:nvSpPr>
              <p:cNvPr id="402" name=""/>
              <p:cNvSpPr/>
              <p:nvPr/>
            </p:nvSpPr>
            <p:spPr>
              <a:xfrm>
                <a:off x="2438280" y="3809880"/>
                <a:ext cx="7099200" cy="3467160"/>
              </a:xfrm>
              <a:custGeom>
                <a:avLst/>
                <a:gdLst/>
                <a:ahLst/>
                <a:rect l="l" t="t" r="r" b="b"/>
                <a:pathLst>
                  <a:path w="4472" h="2184">
                    <a:moveTo>
                      <a:pt x="0" y="140"/>
                    </a:moveTo>
                    <a:lnTo>
                      <a:pt x="0" y="140"/>
                    </a:lnTo>
                    <a:lnTo>
                      <a:pt x="212" y="140"/>
                    </a:lnTo>
                    <a:lnTo>
                      <a:pt x="212" y="0"/>
                    </a:lnTo>
                    <a:lnTo>
                      <a:pt x="4266" y="0"/>
                    </a:lnTo>
                    <a:lnTo>
                      <a:pt x="4266" y="140"/>
                    </a:lnTo>
                    <a:lnTo>
                      <a:pt x="4471" y="140"/>
                    </a:lnTo>
                    <a:lnTo>
                      <a:pt x="4471" y="2048"/>
                    </a:lnTo>
                    <a:lnTo>
                      <a:pt x="4266" y="2048"/>
                    </a:lnTo>
                    <a:lnTo>
                      <a:pt x="4266" y="2183"/>
                    </a:lnTo>
                    <a:lnTo>
                      <a:pt x="212" y="2183"/>
                    </a:lnTo>
                    <a:lnTo>
                      <a:pt x="212" y="2048"/>
                    </a:lnTo>
                    <a:lnTo>
                      <a:pt x="0" y="2048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solidFill>
                <a:srgbClr val="008280"/>
              </a:solidFill>
              <a:ln w="31680">
                <a:solidFill>
                  <a:srgbClr val="0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843280" y="3924720"/>
                <a:ext cx="6200640" cy="325908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8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2512800" y="4109040"/>
                <a:ext cx="6826320" cy="285444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2919240" y="3980520"/>
                <a:ext cx="6107040" cy="8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8280"/>
                  </a:gs>
                  <a:gs pos="50000">
                    <a:srgbClr val="e1e1e1"/>
                  </a:gs>
                  <a:gs pos="100000">
                    <a:srgbClr val="0082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2933640" y="7047000"/>
                <a:ext cx="6089760" cy="115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8280"/>
                  </a:gs>
                  <a:gs pos="50000">
                    <a:srgbClr val="e1e1e1"/>
                  </a:gs>
                  <a:gs pos="100000">
                    <a:srgbClr val="0082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585880" y="4180680"/>
                <a:ext cx="227160" cy="27082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-360 h 2708280"/>
                  <a:gd name="textAreaBottom" fmla="*/ 2708280 h 2708280"/>
                </a:gdLst>
                <a:ahLst/>
                <a:rect l="textAreaLeft" t="textAreaTop" r="textAreaRight" b="textAreaBottom"/>
                <a:pathLst>
                  <a:path w="21600" h="257149">
                    <a:moveTo>
                      <a:pt x="0" y="0"/>
                    </a:moveTo>
                    <a:arcTo wR="0" hR="0" stAng="16200000" swAng="-5400000"/>
                    <a:lnTo>
                      <a:pt x="0" y="257149"/>
                    </a:lnTo>
                    <a:arcTo wR="0" hR="0" stAng="10800000" swAng="-5400000"/>
                    <a:lnTo>
                      <a:pt x="21600" y="25714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008280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82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093240" y="4180680"/>
                <a:ext cx="187200" cy="27082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2708280"/>
                  <a:gd name="textAreaBottom" fmla="*/ 2708280 h 2708280"/>
                </a:gdLst>
                <a:ahLst/>
                <a:rect l="textAreaLeft" t="textAreaTop" r="textAreaRight" b="textAreaBottom"/>
                <a:pathLst>
                  <a:path w="21600" h="311936">
                    <a:moveTo>
                      <a:pt x="0" y="0"/>
                    </a:moveTo>
                    <a:arcTo wR="0" hR="0" stAng="16200000" swAng="-5400000"/>
                    <a:lnTo>
                      <a:pt x="0" y="311936"/>
                    </a:lnTo>
                    <a:arcTo wR="0" hR="0" stAng="10800000" swAng="-5400000"/>
                    <a:lnTo>
                      <a:pt x="21600" y="31193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008280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82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3060000" y="4280040"/>
              <a:ext cx="64594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ShelleyVolante BT"/>
                </a:rPr>
                <a:t>Cuidate del polític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ShelleyVolante BT"/>
                </a:rPr>
                <a:t> </a:t>
              </a:r>
              <a:r>
                <a:rPr b="1" lang="en-GB" sz="4800" spc="-1" strike="noStrike">
                  <a:solidFill>
                    <a:srgbClr val="000000"/>
                  </a:solidFill>
                  <a:latin typeface="ShelleyVolante BT"/>
                </a:rPr>
                <a:t>que dice que puede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ShelleyVolante BT"/>
                </a:rPr>
                <a:t>mejorar la situación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ShelleyVolante BT"/>
                </a:rPr>
                <a:t>de todo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172200" y="4191120"/>
            <a:ext cx="3886200" cy="1981080"/>
          </a:xfrm>
          <a:prstGeom prst="wedgeRoundRectCallout">
            <a:avLst>
              <a:gd name="adj1" fmla="val -45995"/>
              <a:gd name="adj2" fmla="val 70592"/>
              <a:gd name="adj3" fmla="val 16667"/>
            </a:avLst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8080" indent="-208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Especialmente en discursos previos al Presupues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-76320" y="151920"/>
            <a:ext cx="10134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6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cordemos el mapeo del conjunto alcanzable al conjunto de posibilidades de utilidad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3360" y="4638240"/>
            <a:ext cx="2652840" cy="2616120"/>
            <a:chOff x="63360" y="4638240"/>
            <a:chExt cx="2652840" cy="2616120"/>
          </a:xfrm>
        </p:grpSpPr>
        <p:sp>
          <p:nvSpPr>
            <p:cNvPr id="413" name=""/>
            <p:cNvSpPr/>
            <p:nvPr/>
          </p:nvSpPr>
          <p:spPr>
            <a:xfrm flipV="1">
              <a:off x="63360" y="4637880"/>
              <a:ext cx="2652840" cy="2616120"/>
            </a:xfrm>
            <a:prstGeom prst="roundRect">
              <a:avLst>
                <a:gd name="adj" fmla="val 10106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0920" y="5425920"/>
              <a:ext cx="1716120" cy="1560600"/>
            </a:xfrm>
            <a:custGeom>
              <a:avLst/>
              <a:gdLst/>
              <a:ahLst/>
              <a:rect l="l" t="t" r="r" b="b"/>
              <a:pathLst>
                <a:path w="1081" h="983">
                  <a:moveTo>
                    <a:pt x="14" y="0"/>
                  </a:moveTo>
                  <a:lnTo>
                    <a:pt x="14" y="0"/>
                  </a:lnTo>
                  <a:lnTo>
                    <a:pt x="14" y="979"/>
                  </a:lnTo>
                  <a:lnTo>
                    <a:pt x="1080" y="982"/>
                  </a:lnTo>
                  <a:lnTo>
                    <a:pt x="1080" y="982"/>
                  </a:lnTo>
                  <a:lnTo>
                    <a:pt x="1058" y="904"/>
                  </a:lnTo>
                  <a:lnTo>
                    <a:pt x="1053" y="884"/>
                  </a:lnTo>
                  <a:lnTo>
                    <a:pt x="1044" y="863"/>
                  </a:lnTo>
                  <a:lnTo>
                    <a:pt x="1036" y="838"/>
                  </a:lnTo>
                  <a:lnTo>
                    <a:pt x="1024" y="813"/>
                  </a:lnTo>
                  <a:lnTo>
                    <a:pt x="1014" y="787"/>
                  </a:lnTo>
                  <a:lnTo>
                    <a:pt x="1004" y="762"/>
                  </a:lnTo>
                  <a:lnTo>
                    <a:pt x="993" y="739"/>
                  </a:lnTo>
                  <a:lnTo>
                    <a:pt x="987" y="728"/>
                  </a:lnTo>
                  <a:lnTo>
                    <a:pt x="981" y="716"/>
                  </a:lnTo>
                  <a:lnTo>
                    <a:pt x="974" y="702"/>
                  </a:lnTo>
                  <a:lnTo>
                    <a:pt x="966" y="688"/>
                  </a:lnTo>
                  <a:lnTo>
                    <a:pt x="958" y="673"/>
                  </a:lnTo>
                  <a:lnTo>
                    <a:pt x="950" y="658"/>
                  </a:lnTo>
                  <a:lnTo>
                    <a:pt x="941" y="641"/>
                  </a:lnTo>
                  <a:lnTo>
                    <a:pt x="932" y="625"/>
                  </a:lnTo>
                  <a:lnTo>
                    <a:pt x="923" y="609"/>
                  </a:lnTo>
                  <a:lnTo>
                    <a:pt x="914" y="593"/>
                  </a:lnTo>
                  <a:lnTo>
                    <a:pt x="904" y="578"/>
                  </a:lnTo>
                  <a:lnTo>
                    <a:pt x="895" y="562"/>
                  </a:lnTo>
                  <a:lnTo>
                    <a:pt x="886" y="549"/>
                  </a:lnTo>
                  <a:lnTo>
                    <a:pt x="878" y="534"/>
                  </a:lnTo>
                  <a:lnTo>
                    <a:pt x="870" y="522"/>
                  </a:lnTo>
                  <a:lnTo>
                    <a:pt x="863" y="509"/>
                  </a:lnTo>
                  <a:lnTo>
                    <a:pt x="853" y="499"/>
                  </a:lnTo>
                  <a:lnTo>
                    <a:pt x="845" y="487"/>
                  </a:lnTo>
                  <a:lnTo>
                    <a:pt x="835" y="474"/>
                  </a:lnTo>
                  <a:lnTo>
                    <a:pt x="825" y="460"/>
                  </a:lnTo>
                  <a:lnTo>
                    <a:pt x="813" y="447"/>
                  </a:lnTo>
                  <a:lnTo>
                    <a:pt x="802" y="431"/>
                  </a:lnTo>
                  <a:lnTo>
                    <a:pt x="790" y="418"/>
                  </a:lnTo>
                  <a:lnTo>
                    <a:pt x="778" y="402"/>
                  </a:lnTo>
                  <a:lnTo>
                    <a:pt x="764" y="389"/>
                  </a:lnTo>
                  <a:lnTo>
                    <a:pt x="752" y="374"/>
                  </a:lnTo>
                  <a:lnTo>
                    <a:pt x="739" y="361"/>
                  </a:lnTo>
                  <a:lnTo>
                    <a:pt x="727" y="348"/>
                  </a:lnTo>
                  <a:lnTo>
                    <a:pt x="715" y="336"/>
                  </a:lnTo>
                  <a:lnTo>
                    <a:pt x="704" y="325"/>
                  </a:lnTo>
                  <a:lnTo>
                    <a:pt x="693" y="315"/>
                  </a:lnTo>
                  <a:lnTo>
                    <a:pt x="684" y="305"/>
                  </a:lnTo>
                  <a:lnTo>
                    <a:pt x="662" y="288"/>
                  </a:lnTo>
                  <a:lnTo>
                    <a:pt x="638" y="268"/>
                  </a:lnTo>
                  <a:lnTo>
                    <a:pt x="612" y="247"/>
                  </a:lnTo>
                  <a:lnTo>
                    <a:pt x="587" y="227"/>
                  </a:lnTo>
                  <a:lnTo>
                    <a:pt x="560" y="207"/>
                  </a:lnTo>
                  <a:lnTo>
                    <a:pt x="537" y="190"/>
                  </a:lnTo>
                  <a:lnTo>
                    <a:pt x="516" y="175"/>
                  </a:lnTo>
                  <a:lnTo>
                    <a:pt x="498" y="161"/>
                  </a:lnTo>
                  <a:lnTo>
                    <a:pt x="480" y="153"/>
                  </a:lnTo>
                  <a:lnTo>
                    <a:pt x="461" y="139"/>
                  </a:lnTo>
                  <a:lnTo>
                    <a:pt x="438" y="127"/>
                  </a:lnTo>
                  <a:lnTo>
                    <a:pt x="415" y="114"/>
                  </a:lnTo>
                  <a:lnTo>
                    <a:pt x="392" y="102"/>
                  </a:lnTo>
                  <a:lnTo>
                    <a:pt x="371" y="91"/>
                  </a:lnTo>
                  <a:lnTo>
                    <a:pt x="350" y="81"/>
                  </a:lnTo>
                  <a:lnTo>
                    <a:pt x="333" y="72"/>
                  </a:lnTo>
                  <a:lnTo>
                    <a:pt x="315" y="66"/>
                  </a:lnTo>
                  <a:lnTo>
                    <a:pt x="298" y="58"/>
                  </a:lnTo>
                  <a:lnTo>
                    <a:pt x="277" y="52"/>
                  </a:lnTo>
                  <a:lnTo>
                    <a:pt x="257" y="44"/>
                  </a:lnTo>
                  <a:lnTo>
                    <a:pt x="236" y="38"/>
                  </a:lnTo>
                  <a:lnTo>
                    <a:pt x="218" y="32"/>
                  </a:lnTo>
                  <a:lnTo>
                    <a:pt x="201" y="28"/>
                  </a:lnTo>
                  <a:lnTo>
                    <a:pt x="188" y="24"/>
                  </a:lnTo>
                  <a:lnTo>
                    <a:pt x="174" y="23"/>
                  </a:lnTo>
                  <a:lnTo>
                    <a:pt x="159" y="20"/>
                  </a:lnTo>
                  <a:lnTo>
                    <a:pt x="141" y="17"/>
                  </a:lnTo>
                  <a:lnTo>
                    <a:pt x="124" y="14"/>
                  </a:lnTo>
                  <a:lnTo>
                    <a:pt x="107" y="13"/>
                  </a:lnTo>
                  <a:lnTo>
                    <a:pt x="91" y="11"/>
                  </a:lnTo>
                  <a:lnTo>
                    <a:pt x="75" y="10"/>
                  </a:lnTo>
                  <a:lnTo>
                    <a:pt x="62" y="8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ffffc2"/>
                </a:gs>
              </a:gsLst>
              <a:lin ang="8100000"/>
            </a:gradFill>
            <a:ln w="316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66760" y="4816080"/>
              <a:ext cx="0" cy="218124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2080" y="6991200"/>
              <a:ext cx="2162160" cy="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3880" y="6081840"/>
              <a:ext cx="3096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88800" y="3838680"/>
            <a:ext cx="847800" cy="968400"/>
          </a:xfrm>
          <a:custGeom>
            <a:avLst/>
            <a:gdLst/>
            <a:ahLst/>
            <a:rect l="l" t="t" r="r" b="b"/>
            <a:pathLst>
              <a:path w="534" h="610">
                <a:moveTo>
                  <a:pt x="533" y="0"/>
                </a:moveTo>
                <a:lnTo>
                  <a:pt x="479" y="15"/>
                </a:lnTo>
                <a:lnTo>
                  <a:pt x="427" y="32"/>
                </a:lnTo>
                <a:lnTo>
                  <a:pt x="376" y="55"/>
                </a:lnTo>
                <a:lnTo>
                  <a:pt x="329" y="80"/>
                </a:lnTo>
                <a:lnTo>
                  <a:pt x="283" y="110"/>
                </a:lnTo>
                <a:lnTo>
                  <a:pt x="241" y="142"/>
                </a:lnTo>
                <a:lnTo>
                  <a:pt x="200" y="178"/>
                </a:lnTo>
                <a:lnTo>
                  <a:pt x="165" y="216"/>
                </a:lnTo>
                <a:lnTo>
                  <a:pt x="131" y="258"/>
                </a:lnTo>
                <a:lnTo>
                  <a:pt x="101" y="302"/>
                </a:lnTo>
                <a:lnTo>
                  <a:pt x="74" y="349"/>
                </a:lnTo>
                <a:lnTo>
                  <a:pt x="51" y="397"/>
                </a:lnTo>
                <a:lnTo>
                  <a:pt x="32" y="448"/>
                </a:lnTo>
                <a:lnTo>
                  <a:pt x="17" y="500"/>
                </a:lnTo>
                <a:lnTo>
                  <a:pt x="6" y="555"/>
                </a:lnTo>
                <a:lnTo>
                  <a:pt x="0" y="609"/>
                </a:lnTo>
              </a:path>
            </a:pathLst>
          </a:custGeom>
          <a:noFill/>
          <a:ln w="127080">
            <a:solidFill>
              <a:srgbClr val="ff0000"/>
            </a:solidFill>
            <a:round/>
            <a:headEnd len="med" type="triangle" w="med"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342900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Brush738 BT"/>
              </a:rPr>
              <a:t>(ecuaciones de balance material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157400" y="1835280"/>
            <a:ext cx="3186000" cy="2211120"/>
            <a:chOff x="1157400" y="1835280"/>
            <a:chExt cx="3186000" cy="2211120"/>
          </a:xfrm>
        </p:grpSpPr>
        <p:sp>
          <p:nvSpPr>
            <p:cNvPr id="421" name=""/>
            <p:cNvSpPr/>
            <p:nvPr/>
          </p:nvSpPr>
          <p:spPr>
            <a:xfrm>
              <a:off x="1157400" y="1835280"/>
              <a:ext cx="2781360" cy="2211120"/>
            </a:xfrm>
            <a:custGeom>
              <a:avLst/>
              <a:gdLst/>
              <a:ahLst/>
              <a:rect l="l" t="t" r="r" b="b"/>
              <a:pathLst>
                <a:path w="1752" h="1393">
                  <a:moveTo>
                    <a:pt x="971" y="3"/>
                  </a:moveTo>
                  <a:lnTo>
                    <a:pt x="808" y="0"/>
                  </a:lnTo>
                  <a:lnTo>
                    <a:pt x="657" y="18"/>
                  </a:lnTo>
                  <a:lnTo>
                    <a:pt x="519" y="55"/>
                  </a:lnTo>
                  <a:lnTo>
                    <a:pt x="396" y="109"/>
                  </a:lnTo>
                  <a:lnTo>
                    <a:pt x="286" y="177"/>
                  </a:lnTo>
                  <a:lnTo>
                    <a:pt x="193" y="258"/>
                  </a:lnTo>
                  <a:lnTo>
                    <a:pt x="117" y="349"/>
                  </a:lnTo>
                  <a:lnTo>
                    <a:pt x="59" y="447"/>
                  </a:lnTo>
                  <a:lnTo>
                    <a:pt x="20" y="552"/>
                  </a:lnTo>
                  <a:lnTo>
                    <a:pt x="0" y="660"/>
                  </a:lnTo>
                  <a:lnTo>
                    <a:pt x="2" y="770"/>
                  </a:lnTo>
                  <a:lnTo>
                    <a:pt x="27" y="878"/>
                  </a:lnTo>
                  <a:lnTo>
                    <a:pt x="74" y="984"/>
                  </a:lnTo>
                  <a:lnTo>
                    <a:pt x="146" y="1085"/>
                  </a:lnTo>
                  <a:lnTo>
                    <a:pt x="244" y="1178"/>
                  </a:lnTo>
                  <a:lnTo>
                    <a:pt x="369" y="1260"/>
                  </a:lnTo>
                  <a:lnTo>
                    <a:pt x="507" y="1327"/>
                  </a:lnTo>
                  <a:lnTo>
                    <a:pt x="649" y="1370"/>
                  </a:lnTo>
                  <a:lnTo>
                    <a:pt x="792" y="1392"/>
                  </a:lnTo>
                  <a:lnTo>
                    <a:pt x="934" y="1392"/>
                  </a:lnTo>
                  <a:lnTo>
                    <a:pt x="1071" y="1376"/>
                  </a:lnTo>
                  <a:lnTo>
                    <a:pt x="1201" y="1341"/>
                  </a:lnTo>
                  <a:lnTo>
                    <a:pt x="1324" y="1291"/>
                  </a:lnTo>
                  <a:lnTo>
                    <a:pt x="1436" y="1227"/>
                  </a:lnTo>
                  <a:lnTo>
                    <a:pt x="1533" y="1152"/>
                  </a:lnTo>
                  <a:lnTo>
                    <a:pt x="1617" y="1064"/>
                  </a:lnTo>
                  <a:lnTo>
                    <a:pt x="1682" y="968"/>
                  </a:lnTo>
                  <a:lnTo>
                    <a:pt x="1728" y="863"/>
                  </a:lnTo>
                  <a:lnTo>
                    <a:pt x="1751" y="753"/>
                  </a:lnTo>
                  <a:lnTo>
                    <a:pt x="1751" y="637"/>
                  </a:lnTo>
                  <a:lnTo>
                    <a:pt x="1723" y="519"/>
                  </a:lnTo>
                  <a:lnTo>
                    <a:pt x="1666" y="397"/>
                  </a:lnTo>
                </a:path>
              </a:pathLst>
            </a:custGeom>
            <a:noFill/>
            <a:ln w="127080">
              <a:solidFill>
                <a:srgbClr val="ff81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24400" y="2166840"/>
              <a:ext cx="18154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28800" y="2940120"/>
              <a:ext cx="25146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600880" y="1674720"/>
            <a:ext cx="3009600" cy="2211480"/>
            <a:chOff x="5600880" y="1674720"/>
            <a:chExt cx="3009600" cy="2211480"/>
          </a:xfrm>
        </p:grpSpPr>
        <p:sp>
          <p:nvSpPr>
            <p:cNvPr id="425" name=""/>
            <p:cNvSpPr/>
            <p:nvPr/>
          </p:nvSpPr>
          <p:spPr>
            <a:xfrm>
              <a:off x="5600880" y="1674720"/>
              <a:ext cx="3009600" cy="2211480"/>
            </a:xfrm>
            <a:custGeom>
              <a:avLst/>
              <a:gdLst/>
              <a:ahLst/>
              <a:rect l="l" t="t" r="r" b="b"/>
              <a:pathLst>
                <a:path w="1752" h="1393">
                  <a:moveTo>
                    <a:pt x="971" y="3"/>
                  </a:moveTo>
                  <a:lnTo>
                    <a:pt x="808" y="0"/>
                  </a:lnTo>
                  <a:lnTo>
                    <a:pt x="657" y="18"/>
                  </a:lnTo>
                  <a:lnTo>
                    <a:pt x="519" y="55"/>
                  </a:lnTo>
                  <a:lnTo>
                    <a:pt x="396" y="109"/>
                  </a:lnTo>
                  <a:lnTo>
                    <a:pt x="286" y="177"/>
                  </a:lnTo>
                  <a:lnTo>
                    <a:pt x="193" y="258"/>
                  </a:lnTo>
                  <a:lnTo>
                    <a:pt x="117" y="349"/>
                  </a:lnTo>
                  <a:lnTo>
                    <a:pt x="59" y="447"/>
                  </a:lnTo>
                  <a:lnTo>
                    <a:pt x="20" y="552"/>
                  </a:lnTo>
                  <a:lnTo>
                    <a:pt x="0" y="660"/>
                  </a:lnTo>
                  <a:lnTo>
                    <a:pt x="2" y="770"/>
                  </a:lnTo>
                  <a:lnTo>
                    <a:pt x="27" y="878"/>
                  </a:lnTo>
                  <a:lnTo>
                    <a:pt x="74" y="984"/>
                  </a:lnTo>
                  <a:lnTo>
                    <a:pt x="146" y="1085"/>
                  </a:lnTo>
                  <a:lnTo>
                    <a:pt x="244" y="1178"/>
                  </a:lnTo>
                  <a:lnTo>
                    <a:pt x="369" y="1260"/>
                  </a:lnTo>
                  <a:lnTo>
                    <a:pt x="507" y="1327"/>
                  </a:lnTo>
                  <a:lnTo>
                    <a:pt x="649" y="1370"/>
                  </a:lnTo>
                  <a:lnTo>
                    <a:pt x="792" y="1392"/>
                  </a:lnTo>
                  <a:lnTo>
                    <a:pt x="934" y="1392"/>
                  </a:lnTo>
                  <a:lnTo>
                    <a:pt x="1071" y="1376"/>
                  </a:lnTo>
                  <a:lnTo>
                    <a:pt x="1201" y="1341"/>
                  </a:lnTo>
                  <a:lnTo>
                    <a:pt x="1324" y="1291"/>
                  </a:lnTo>
                  <a:lnTo>
                    <a:pt x="1436" y="1227"/>
                  </a:lnTo>
                  <a:lnTo>
                    <a:pt x="1533" y="1152"/>
                  </a:lnTo>
                  <a:lnTo>
                    <a:pt x="1617" y="1064"/>
                  </a:lnTo>
                  <a:lnTo>
                    <a:pt x="1682" y="968"/>
                  </a:lnTo>
                  <a:lnTo>
                    <a:pt x="1728" y="863"/>
                  </a:lnTo>
                  <a:lnTo>
                    <a:pt x="1751" y="753"/>
                  </a:lnTo>
                  <a:lnTo>
                    <a:pt x="1751" y="637"/>
                  </a:lnTo>
                  <a:lnTo>
                    <a:pt x="1723" y="519"/>
                  </a:lnTo>
                  <a:lnTo>
                    <a:pt x="1666" y="397"/>
                  </a:lnTo>
                </a:path>
              </a:pathLst>
            </a:custGeom>
            <a:noFill/>
            <a:ln w="127080">
              <a:solidFill>
                <a:srgbClr val="ff81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6040" y="2006640"/>
              <a:ext cx="2329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9920" y="2779560"/>
              <a:ext cx="251460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4278240" y="2959200"/>
            <a:ext cx="1131840" cy="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081920" y="4714560"/>
            <a:ext cx="2809800" cy="2616120"/>
            <a:chOff x="7081920" y="4714560"/>
            <a:chExt cx="2809800" cy="2616120"/>
          </a:xfrm>
        </p:grpSpPr>
        <p:sp>
          <p:nvSpPr>
            <p:cNvPr id="430" name=""/>
            <p:cNvSpPr/>
            <p:nvPr/>
          </p:nvSpPr>
          <p:spPr>
            <a:xfrm flipV="1">
              <a:off x="7081920" y="4714200"/>
              <a:ext cx="2809800" cy="2616120"/>
            </a:xfrm>
            <a:prstGeom prst="roundRect">
              <a:avLst>
                <a:gd name="adj" fmla="val 10106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7093080" y="4950000"/>
              <a:ext cx="2670120" cy="2074680"/>
              <a:chOff x="7093080" y="4950000"/>
              <a:chExt cx="2670120" cy="2074680"/>
            </a:xfrm>
          </p:grpSpPr>
          <p:sp>
            <p:nvSpPr>
              <p:cNvPr id="432" name=""/>
              <p:cNvSpPr/>
              <p:nvPr/>
            </p:nvSpPr>
            <p:spPr>
              <a:xfrm>
                <a:off x="7093080" y="5408640"/>
                <a:ext cx="2530440" cy="1616040"/>
              </a:xfrm>
              <a:custGeom>
                <a:avLst/>
                <a:gdLst/>
                <a:ahLst/>
                <a:rect l="l" t="t" r="r" b="b"/>
                <a:pathLst>
                  <a:path w="1594" h="1018">
                    <a:moveTo>
                      <a:pt x="144" y="46"/>
                    </a:moveTo>
                    <a:lnTo>
                      <a:pt x="144" y="46"/>
                    </a:lnTo>
                    <a:lnTo>
                      <a:pt x="76" y="81"/>
                    </a:lnTo>
                    <a:lnTo>
                      <a:pt x="72" y="197"/>
                    </a:lnTo>
                    <a:lnTo>
                      <a:pt x="72" y="341"/>
                    </a:lnTo>
                    <a:lnTo>
                      <a:pt x="0" y="485"/>
                    </a:lnTo>
                    <a:lnTo>
                      <a:pt x="76" y="629"/>
                    </a:lnTo>
                    <a:lnTo>
                      <a:pt x="76" y="717"/>
                    </a:lnTo>
                    <a:lnTo>
                      <a:pt x="3" y="890"/>
                    </a:lnTo>
                    <a:lnTo>
                      <a:pt x="3" y="978"/>
                    </a:lnTo>
                    <a:lnTo>
                      <a:pt x="217" y="957"/>
                    </a:lnTo>
                    <a:lnTo>
                      <a:pt x="358" y="1017"/>
                    </a:lnTo>
                    <a:lnTo>
                      <a:pt x="430" y="1017"/>
                    </a:lnTo>
                    <a:lnTo>
                      <a:pt x="503" y="957"/>
                    </a:lnTo>
                    <a:lnTo>
                      <a:pt x="644" y="932"/>
                    </a:lnTo>
                    <a:lnTo>
                      <a:pt x="785" y="993"/>
                    </a:lnTo>
                    <a:lnTo>
                      <a:pt x="926" y="961"/>
                    </a:lnTo>
                    <a:lnTo>
                      <a:pt x="956" y="993"/>
                    </a:lnTo>
                    <a:lnTo>
                      <a:pt x="1097" y="993"/>
                    </a:lnTo>
                    <a:lnTo>
                      <a:pt x="1237" y="982"/>
                    </a:lnTo>
                    <a:lnTo>
                      <a:pt x="1379" y="1013"/>
                    </a:lnTo>
                    <a:lnTo>
                      <a:pt x="1520" y="953"/>
                    </a:lnTo>
                    <a:lnTo>
                      <a:pt x="1593" y="839"/>
                    </a:lnTo>
                    <a:lnTo>
                      <a:pt x="1556" y="753"/>
                    </a:lnTo>
                    <a:lnTo>
                      <a:pt x="1554" y="744"/>
                    </a:lnTo>
                    <a:lnTo>
                      <a:pt x="1550" y="736"/>
                    </a:lnTo>
                    <a:lnTo>
                      <a:pt x="1546" y="726"/>
                    </a:lnTo>
                    <a:lnTo>
                      <a:pt x="1542" y="717"/>
                    </a:lnTo>
                    <a:lnTo>
                      <a:pt x="1536" y="706"/>
                    </a:lnTo>
                    <a:lnTo>
                      <a:pt x="1532" y="696"/>
                    </a:lnTo>
                    <a:lnTo>
                      <a:pt x="1528" y="686"/>
                    </a:lnTo>
                    <a:lnTo>
                      <a:pt x="1522" y="676"/>
                    </a:lnTo>
                    <a:lnTo>
                      <a:pt x="1518" y="666"/>
                    </a:lnTo>
                    <a:lnTo>
                      <a:pt x="1512" y="657"/>
                    </a:lnTo>
                    <a:lnTo>
                      <a:pt x="1508" y="648"/>
                    </a:lnTo>
                    <a:lnTo>
                      <a:pt x="1503" y="639"/>
                    </a:lnTo>
                    <a:lnTo>
                      <a:pt x="1499" y="631"/>
                    </a:lnTo>
                    <a:lnTo>
                      <a:pt x="1495" y="624"/>
                    </a:lnTo>
                    <a:lnTo>
                      <a:pt x="1492" y="618"/>
                    </a:lnTo>
                    <a:lnTo>
                      <a:pt x="1483" y="606"/>
                    </a:lnTo>
                    <a:lnTo>
                      <a:pt x="1474" y="592"/>
                    </a:lnTo>
                    <a:lnTo>
                      <a:pt x="1464" y="578"/>
                    </a:lnTo>
                    <a:lnTo>
                      <a:pt x="1453" y="564"/>
                    </a:lnTo>
                    <a:lnTo>
                      <a:pt x="1442" y="551"/>
                    </a:lnTo>
                    <a:lnTo>
                      <a:pt x="1432" y="539"/>
                    </a:lnTo>
                    <a:lnTo>
                      <a:pt x="1423" y="529"/>
                    </a:lnTo>
                    <a:lnTo>
                      <a:pt x="1414" y="521"/>
                    </a:lnTo>
                    <a:lnTo>
                      <a:pt x="1406" y="515"/>
                    </a:lnTo>
                    <a:lnTo>
                      <a:pt x="1396" y="509"/>
                    </a:lnTo>
                    <a:lnTo>
                      <a:pt x="1386" y="502"/>
                    </a:lnTo>
                    <a:lnTo>
                      <a:pt x="1375" y="495"/>
                    </a:lnTo>
                    <a:lnTo>
                      <a:pt x="1364" y="488"/>
                    </a:lnTo>
                    <a:lnTo>
                      <a:pt x="1354" y="482"/>
                    </a:lnTo>
                    <a:lnTo>
                      <a:pt x="1344" y="477"/>
                    </a:lnTo>
                    <a:lnTo>
                      <a:pt x="1336" y="473"/>
                    </a:lnTo>
                    <a:lnTo>
                      <a:pt x="1327" y="471"/>
                    </a:lnTo>
                    <a:lnTo>
                      <a:pt x="1319" y="467"/>
                    </a:lnTo>
                    <a:lnTo>
                      <a:pt x="1308" y="463"/>
                    </a:lnTo>
                    <a:lnTo>
                      <a:pt x="1297" y="459"/>
                    </a:lnTo>
                    <a:lnTo>
                      <a:pt x="1286" y="457"/>
                    </a:lnTo>
                    <a:lnTo>
                      <a:pt x="1276" y="453"/>
                    </a:lnTo>
                    <a:lnTo>
                      <a:pt x="1266" y="451"/>
                    </a:lnTo>
                    <a:lnTo>
                      <a:pt x="1258" y="449"/>
                    </a:lnTo>
                    <a:lnTo>
                      <a:pt x="1220" y="443"/>
                    </a:lnTo>
                    <a:lnTo>
                      <a:pt x="989" y="442"/>
                    </a:lnTo>
                    <a:lnTo>
                      <a:pt x="952" y="439"/>
                    </a:lnTo>
                    <a:lnTo>
                      <a:pt x="933" y="435"/>
                    </a:lnTo>
                    <a:lnTo>
                      <a:pt x="911" y="432"/>
                    </a:lnTo>
                    <a:lnTo>
                      <a:pt x="888" y="428"/>
                    </a:lnTo>
                    <a:lnTo>
                      <a:pt x="876" y="427"/>
                    </a:lnTo>
                    <a:lnTo>
                      <a:pt x="865" y="424"/>
                    </a:lnTo>
                    <a:lnTo>
                      <a:pt x="852" y="421"/>
                    </a:lnTo>
                    <a:lnTo>
                      <a:pt x="840" y="419"/>
                    </a:lnTo>
                    <a:lnTo>
                      <a:pt x="827" y="417"/>
                    </a:lnTo>
                    <a:lnTo>
                      <a:pt x="816" y="414"/>
                    </a:lnTo>
                    <a:lnTo>
                      <a:pt x="806" y="412"/>
                    </a:lnTo>
                    <a:lnTo>
                      <a:pt x="799" y="410"/>
                    </a:lnTo>
                    <a:lnTo>
                      <a:pt x="792" y="408"/>
                    </a:lnTo>
                    <a:lnTo>
                      <a:pt x="783" y="405"/>
                    </a:lnTo>
                    <a:lnTo>
                      <a:pt x="775" y="402"/>
                    </a:lnTo>
                    <a:lnTo>
                      <a:pt x="766" y="398"/>
                    </a:lnTo>
                    <a:lnTo>
                      <a:pt x="756" y="394"/>
                    </a:lnTo>
                    <a:lnTo>
                      <a:pt x="747" y="390"/>
                    </a:lnTo>
                    <a:lnTo>
                      <a:pt x="739" y="386"/>
                    </a:lnTo>
                    <a:lnTo>
                      <a:pt x="732" y="382"/>
                    </a:lnTo>
                    <a:lnTo>
                      <a:pt x="698" y="363"/>
                    </a:lnTo>
                    <a:lnTo>
                      <a:pt x="699" y="236"/>
                    </a:lnTo>
                    <a:lnTo>
                      <a:pt x="646" y="193"/>
                    </a:lnTo>
                    <a:lnTo>
                      <a:pt x="635" y="185"/>
                    </a:lnTo>
                    <a:lnTo>
                      <a:pt x="620" y="174"/>
                    </a:lnTo>
                    <a:lnTo>
                      <a:pt x="605" y="162"/>
                    </a:lnTo>
                    <a:lnTo>
                      <a:pt x="588" y="151"/>
                    </a:lnTo>
                    <a:lnTo>
                      <a:pt x="572" y="140"/>
                    </a:lnTo>
                    <a:lnTo>
                      <a:pt x="557" y="130"/>
                    </a:lnTo>
                    <a:lnTo>
                      <a:pt x="543" y="121"/>
                    </a:lnTo>
                    <a:lnTo>
                      <a:pt x="528" y="112"/>
                    </a:lnTo>
                    <a:lnTo>
                      <a:pt x="511" y="103"/>
                    </a:lnTo>
                    <a:lnTo>
                      <a:pt x="493" y="92"/>
                    </a:lnTo>
                    <a:lnTo>
                      <a:pt x="473" y="82"/>
                    </a:lnTo>
                    <a:lnTo>
                      <a:pt x="453" y="72"/>
                    </a:lnTo>
                    <a:lnTo>
                      <a:pt x="434" y="62"/>
                    </a:lnTo>
                    <a:lnTo>
                      <a:pt x="417" y="55"/>
                    </a:lnTo>
                    <a:lnTo>
                      <a:pt x="403" y="47"/>
                    </a:lnTo>
                    <a:lnTo>
                      <a:pt x="386" y="42"/>
                    </a:lnTo>
                    <a:lnTo>
                      <a:pt x="369" y="36"/>
                    </a:lnTo>
                    <a:lnTo>
                      <a:pt x="349" y="30"/>
                    </a:lnTo>
                    <a:lnTo>
                      <a:pt x="328" y="24"/>
                    </a:lnTo>
                    <a:lnTo>
                      <a:pt x="307" y="19"/>
                    </a:lnTo>
                    <a:lnTo>
                      <a:pt x="286" y="15"/>
                    </a:lnTo>
                    <a:lnTo>
                      <a:pt x="267" y="11"/>
                    </a:lnTo>
                    <a:lnTo>
                      <a:pt x="250" y="9"/>
                    </a:lnTo>
                    <a:lnTo>
                      <a:pt x="169" y="0"/>
                    </a:lnTo>
                    <a:lnTo>
                      <a:pt x="144" y="46"/>
                    </a:lnTo>
                    <a:lnTo>
                      <a:pt x="144" y="46"/>
                    </a:lnTo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ffffc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7599240" y="4950000"/>
                <a:ext cx="0" cy="17668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99240" y="6721560"/>
                <a:ext cx="2163960" cy="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934400" y="6186600"/>
              <a:ext cx="5238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helleyVolante BT"/>
                </a:rPr>
                <a:t>U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8048520" y="4079880"/>
            <a:ext cx="1211400" cy="1089000"/>
          </a:xfrm>
          <a:custGeom>
            <a:avLst/>
            <a:gdLst/>
            <a:ahLst/>
            <a:rect l="l" t="t" r="r" b="b"/>
            <a:pathLst>
              <a:path w="763" h="686">
                <a:moveTo>
                  <a:pt x="762" y="685"/>
                </a:moveTo>
                <a:lnTo>
                  <a:pt x="727" y="630"/>
                </a:lnTo>
                <a:lnTo>
                  <a:pt x="690" y="576"/>
                </a:lnTo>
                <a:lnTo>
                  <a:pt x="652" y="524"/>
                </a:lnTo>
                <a:lnTo>
                  <a:pt x="612" y="472"/>
                </a:lnTo>
                <a:lnTo>
                  <a:pt x="570" y="423"/>
                </a:lnTo>
                <a:lnTo>
                  <a:pt x="526" y="374"/>
                </a:lnTo>
                <a:lnTo>
                  <a:pt x="481" y="329"/>
                </a:lnTo>
                <a:lnTo>
                  <a:pt x="434" y="284"/>
                </a:lnTo>
                <a:lnTo>
                  <a:pt x="384" y="242"/>
                </a:lnTo>
                <a:lnTo>
                  <a:pt x="334" y="201"/>
                </a:lnTo>
                <a:lnTo>
                  <a:pt x="281" y="163"/>
                </a:lnTo>
                <a:lnTo>
                  <a:pt x="228" y="126"/>
                </a:lnTo>
                <a:lnTo>
                  <a:pt x="173" y="91"/>
                </a:lnTo>
                <a:lnTo>
                  <a:pt x="116" y="59"/>
                </a:lnTo>
                <a:lnTo>
                  <a:pt x="58" y="28"/>
                </a:lnTo>
                <a:lnTo>
                  <a:pt x="0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  <a:headEnd len="med" type="triangle" w="med"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927000" y="2874960"/>
            <a:ext cx="5865840" cy="4524480"/>
          </a:xfrm>
          <a:custGeom>
            <a:avLst/>
            <a:gdLst/>
            <a:ahLst/>
            <a:rect l="l" t="t" r="r" b="b"/>
            <a:pathLst>
              <a:path w="3695" h="2850">
                <a:moveTo>
                  <a:pt x="337" y="128"/>
                </a:moveTo>
                <a:lnTo>
                  <a:pt x="337" y="128"/>
                </a:lnTo>
                <a:lnTo>
                  <a:pt x="178" y="227"/>
                </a:lnTo>
                <a:lnTo>
                  <a:pt x="168" y="552"/>
                </a:lnTo>
                <a:lnTo>
                  <a:pt x="168" y="956"/>
                </a:lnTo>
                <a:lnTo>
                  <a:pt x="0" y="1361"/>
                </a:lnTo>
                <a:lnTo>
                  <a:pt x="178" y="1765"/>
                </a:lnTo>
                <a:lnTo>
                  <a:pt x="178" y="2011"/>
                </a:lnTo>
                <a:lnTo>
                  <a:pt x="10" y="2495"/>
                </a:lnTo>
                <a:lnTo>
                  <a:pt x="10" y="2741"/>
                </a:lnTo>
                <a:lnTo>
                  <a:pt x="505" y="2682"/>
                </a:lnTo>
                <a:lnTo>
                  <a:pt x="832" y="2849"/>
                </a:lnTo>
                <a:lnTo>
                  <a:pt x="1000" y="2849"/>
                </a:lnTo>
                <a:lnTo>
                  <a:pt x="1168" y="2682"/>
                </a:lnTo>
                <a:lnTo>
                  <a:pt x="1494" y="2613"/>
                </a:lnTo>
                <a:lnTo>
                  <a:pt x="1821" y="2781"/>
                </a:lnTo>
                <a:lnTo>
                  <a:pt x="2148" y="2692"/>
                </a:lnTo>
                <a:lnTo>
                  <a:pt x="2216" y="2781"/>
                </a:lnTo>
                <a:lnTo>
                  <a:pt x="2543" y="2781"/>
                </a:lnTo>
                <a:lnTo>
                  <a:pt x="2870" y="2751"/>
                </a:lnTo>
                <a:lnTo>
                  <a:pt x="3197" y="2839"/>
                </a:lnTo>
                <a:lnTo>
                  <a:pt x="3523" y="2672"/>
                </a:lnTo>
                <a:lnTo>
                  <a:pt x="3694" y="2351"/>
                </a:lnTo>
                <a:lnTo>
                  <a:pt x="3610" y="2110"/>
                </a:lnTo>
                <a:lnTo>
                  <a:pt x="3603" y="2087"/>
                </a:lnTo>
                <a:lnTo>
                  <a:pt x="3594" y="2062"/>
                </a:lnTo>
                <a:lnTo>
                  <a:pt x="3585" y="2035"/>
                </a:lnTo>
                <a:lnTo>
                  <a:pt x="3574" y="2009"/>
                </a:lnTo>
                <a:lnTo>
                  <a:pt x="3563" y="1980"/>
                </a:lnTo>
                <a:lnTo>
                  <a:pt x="3552" y="1951"/>
                </a:lnTo>
                <a:lnTo>
                  <a:pt x="3542" y="1922"/>
                </a:lnTo>
                <a:lnTo>
                  <a:pt x="3528" y="1896"/>
                </a:lnTo>
                <a:lnTo>
                  <a:pt x="3518" y="1868"/>
                </a:lnTo>
                <a:lnTo>
                  <a:pt x="3507" y="1842"/>
                </a:lnTo>
                <a:lnTo>
                  <a:pt x="3496" y="1815"/>
                </a:lnTo>
                <a:lnTo>
                  <a:pt x="3485" y="1793"/>
                </a:lnTo>
                <a:lnTo>
                  <a:pt x="3476" y="1769"/>
                </a:lnTo>
                <a:lnTo>
                  <a:pt x="3467" y="1749"/>
                </a:lnTo>
                <a:lnTo>
                  <a:pt x="3459" y="1731"/>
                </a:lnTo>
                <a:lnTo>
                  <a:pt x="3438" y="1697"/>
                </a:lnTo>
                <a:lnTo>
                  <a:pt x="3418" y="1658"/>
                </a:lnTo>
                <a:lnTo>
                  <a:pt x="3394" y="1619"/>
                </a:lnTo>
                <a:lnTo>
                  <a:pt x="3370" y="1580"/>
                </a:lnTo>
                <a:lnTo>
                  <a:pt x="3344" y="1545"/>
                </a:lnTo>
                <a:lnTo>
                  <a:pt x="3321" y="1512"/>
                </a:lnTo>
                <a:lnTo>
                  <a:pt x="3299" y="1484"/>
                </a:lnTo>
                <a:lnTo>
                  <a:pt x="3280" y="1462"/>
                </a:lnTo>
                <a:lnTo>
                  <a:pt x="3260" y="1445"/>
                </a:lnTo>
                <a:lnTo>
                  <a:pt x="3238" y="1427"/>
                </a:lnTo>
                <a:lnTo>
                  <a:pt x="3214" y="1406"/>
                </a:lnTo>
                <a:lnTo>
                  <a:pt x="3189" y="1386"/>
                </a:lnTo>
                <a:lnTo>
                  <a:pt x="3163" y="1368"/>
                </a:lnTo>
                <a:lnTo>
                  <a:pt x="3140" y="1351"/>
                </a:lnTo>
                <a:lnTo>
                  <a:pt x="3118" y="1338"/>
                </a:lnTo>
                <a:lnTo>
                  <a:pt x="3099" y="1326"/>
                </a:lnTo>
                <a:lnTo>
                  <a:pt x="3078" y="1318"/>
                </a:lnTo>
                <a:lnTo>
                  <a:pt x="3057" y="1308"/>
                </a:lnTo>
                <a:lnTo>
                  <a:pt x="3032" y="1298"/>
                </a:lnTo>
                <a:lnTo>
                  <a:pt x="3008" y="1288"/>
                </a:lnTo>
                <a:lnTo>
                  <a:pt x="2981" y="1281"/>
                </a:lnTo>
                <a:lnTo>
                  <a:pt x="2958" y="1271"/>
                </a:lnTo>
                <a:lnTo>
                  <a:pt x="2936" y="1265"/>
                </a:lnTo>
                <a:lnTo>
                  <a:pt x="2918" y="1260"/>
                </a:lnTo>
                <a:lnTo>
                  <a:pt x="2827" y="1241"/>
                </a:lnTo>
                <a:lnTo>
                  <a:pt x="2294" y="1238"/>
                </a:lnTo>
                <a:lnTo>
                  <a:pt x="2210" y="1229"/>
                </a:lnTo>
                <a:lnTo>
                  <a:pt x="2164" y="1220"/>
                </a:lnTo>
                <a:lnTo>
                  <a:pt x="2112" y="1210"/>
                </a:lnTo>
                <a:lnTo>
                  <a:pt x="2061" y="1199"/>
                </a:lnTo>
                <a:lnTo>
                  <a:pt x="2034" y="1195"/>
                </a:lnTo>
                <a:lnTo>
                  <a:pt x="2007" y="1188"/>
                </a:lnTo>
                <a:lnTo>
                  <a:pt x="1977" y="1182"/>
                </a:lnTo>
                <a:lnTo>
                  <a:pt x="1948" y="1174"/>
                </a:lnTo>
                <a:lnTo>
                  <a:pt x="1919" y="1167"/>
                </a:lnTo>
                <a:lnTo>
                  <a:pt x="1894" y="1160"/>
                </a:lnTo>
                <a:lnTo>
                  <a:pt x="1871" y="1154"/>
                </a:lnTo>
                <a:lnTo>
                  <a:pt x="1855" y="1149"/>
                </a:lnTo>
                <a:lnTo>
                  <a:pt x="1836" y="1144"/>
                </a:lnTo>
                <a:lnTo>
                  <a:pt x="1818" y="1137"/>
                </a:lnTo>
                <a:lnTo>
                  <a:pt x="1798" y="1127"/>
                </a:lnTo>
                <a:lnTo>
                  <a:pt x="1777" y="1116"/>
                </a:lnTo>
                <a:lnTo>
                  <a:pt x="1754" y="1105"/>
                </a:lnTo>
                <a:lnTo>
                  <a:pt x="1734" y="1094"/>
                </a:lnTo>
                <a:lnTo>
                  <a:pt x="1715" y="1083"/>
                </a:lnTo>
                <a:lnTo>
                  <a:pt x="1700" y="1072"/>
                </a:lnTo>
                <a:lnTo>
                  <a:pt x="1622" y="1017"/>
                </a:lnTo>
                <a:lnTo>
                  <a:pt x="1623" y="661"/>
                </a:lnTo>
                <a:lnTo>
                  <a:pt x="1500" y="542"/>
                </a:lnTo>
                <a:lnTo>
                  <a:pt x="1473" y="517"/>
                </a:lnTo>
                <a:lnTo>
                  <a:pt x="1440" y="488"/>
                </a:lnTo>
                <a:lnTo>
                  <a:pt x="1404" y="456"/>
                </a:lnTo>
                <a:lnTo>
                  <a:pt x="1366" y="426"/>
                </a:lnTo>
                <a:lnTo>
                  <a:pt x="1329" y="395"/>
                </a:lnTo>
                <a:lnTo>
                  <a:pt x="1294" y="366"/>
                </a:lnTo>
                <a:lnTo>
                  <a:pt x="1262" y="341"/>
                </a:lnTo>
                <a:lnTo>
                  <a:pt x="1227" y="316"/>
                </a:lnTo>
                <a:lnTo>
                  <a:pt x="1187" y="289"/>
                </a:lnTo>
                <a:lnTo>
                  <a:pt x="1143" y="259"/>
                </a:lnTo>
                <a:lnTo>
                  <a:pt x="1098" y="230"/>
                </a:lnTo>
                <a:lnTo>
                  <a:pt x="1051" y="203"/>
                </a:lnTo>
                <a:lnTo>
                  <a:pt x="1008" y="175"/>
                </a:lnTo>
                <a:lnTo>
                  <a:pt x="969" y="153"/>
                </a:lnTo>
                <a:lnTo>
                  <a:pt x="935" y="133"/>
                </a:lnTo>
                <a:lnTo>
                  <a:pt x="898" y="119"/>
                </a:lnTo>
                <a:lnTo>
                  <a:pt x="858" y="102"/>
                </a:lnTo>
                <a:lnTo>
                  <a:pt x="812" y="85"/>
                </a:lnTo>
                <a:lnTo>
                  <a:pt x="764" y="68"/>
                </a:lnTo>
                <a:lnTo>
                  <a:pt x="713" y="55"/>
                </a:lnTo>
                <a:lnTo>
                  <a:pt x="666" y="42"/>
                </a:lnTo>
                <a:lnTo>
                  <a:pt x="621" y="31"/>
                </a:lnTo>
                <a:lnTo>
                  <a:pt x="584" y="25"/>
                </a:lnTo>
                <a:lnTo>
                  <a:pt x="396" y="0"/>
                </a:lnTo>
                <a:lnTo>
                  <a:pt x="337" y="128"/>
                </a:lnTo>
                <a:lnTo>
                  <a:pt x="337" y="128"/>
                </a:lnTo>
              </a:path>
            </a:pathLst>
          </a:custGeom>
          <a:gradFill rotWithShape="0">
            <a:gsLst>
              <a:gs pos="0">
                <a:srgbClr val="810000"/>
              </a:gs>
              <a:gs pos="100000">
                <a:srgbClr val="ffffc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104920" y="1592280"/>
            <a:ext cx="0" cy="494496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04920" y="6553080"/>
            <a:ext cx="5011920" cy="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07360" y="6361200"/>
            <a:ext cx="9745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1447920"/>
            <a:ext cx="9748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58520" y="5104800"/>
            <a:ext cx="640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helleyVolante BT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10058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se el conjunto de posibilidades de utilidad para mostrar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555920" y="2854440"/>
            <a:ext cx="5236920" cy="3735360"/>
            <a:chOff x="1555920" y="2854440"/>
            <a:chExt cx="5236920" cy="3735360"/>
          </a:xfrm>
        </p:grpSpPr>
        <p:sp>
          <p:nvSpPr>
            <p:cNvPr id="445" name=""/>
            <p:cNvSpPr/>
            <p:nvPr/>
          </p:nvSpPr>
          <p:spPr>
            <a:xfrm>
              <a:off x="1555920" y="2854440"/>
              <a:ext cx="1949400" cy="1049400"/>
            </a:xfrm>
            <a:custGeom>
              <a:avLst/>
              <a:gdLst/>
              <a:ahLst/>
              <a:rect l="l" t="t" r="r" b="b"/>
              <a:pathLst>
                <a:path w="1228" h="661">
                  <a:moveTo>
                    <a:pt x="0" y="0"/>
                  </a:moveTo>
                  <a:lnTo>
                    <a:pt x="31" y="5"/>
                  </a:lnTo>
                  <a:lnTo>
                    <a:pt x="58" y="8"/>
                  </a:lnTo>
                  <a:lnTo>
                    <a:pt x="78" y="11"/>
                  </a:lnTo>
                  <a:lnTo>
                    <a:pt x="94" y="13"/>
                  </a:lnTo>
                  <a:lnTo>
                    <a:pt x="106" y="15"/>
                  </a:lnTo>
                  <a:lnTo>
                    <a:pt x="116" y="16"/>
                  </a:lnTo>
                  <a:lnTo>
                    <a:pt x="123" y="17"/>
                  </a:lnTo>
                  <a:lnTo>
                    <a:pt x="129" y="17"/>
                  </a:lnTo>
                  <a:lnTo>
                    <a:pt x="132" y="19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5" y="20"/>
                  </a:lnTo>
                  <a:lnTo>
                    <a:pt x="150" y="22"/>
                  </a:lnTo>
                  <a:lnTo>
                    <a:pt x="160" y="22"/>
                  </a:lnTo>
                  <a:lnTo>
                    <a:pt x="171" y="23"/>
                  </a:lnTo>
                  <a:lnTo>
                    <a:pt x="188" y="25"/>
                  </a:lnTo>
                  <a:lnTo>
                    <a:pt x="206" y="28"/>
                  </a:lnTo>
                  <a:lnTo>
                    <a:pt x="226" y="32"/>
                  </a:lnTo>
                  <a:lnTo>
                    <a:pt x="247" y="37"/>
                  </a:lnTo>
                  <a:lnTo>
                    <a:pt x="270" y="42"/>
                  </a:lnTo>
                  <a:lnTo>
                    <a:pt x="293" y="48"/>
                  </a:lnTo>
                  <a:lnTo>
                    <a:pt x="318" y="54"/>
                  </a:lnTo>
                  <a:lnTo>
                    <a:pt x="342" y="62"/>
                  </a:lnTo>
                  <a:lnTo>
                    <a:pt x="368" y="68"/>
                  </a:lnTo>
                  <a:lnTo>
                    <a:pt x="391" y="77"/>
                  </a:lnTo>
                  <a:lnTo>
                    <a:pt x="416" y="84"/>
                  </a:lnTo>
                  <a:lnTo>
                    <a:pt x="439" y="93"/>
                  </a:lnTo>
                  <a:lnTo>
                    <a:pt x="462" y="101"/>
                  </a:lnTo>
                  <a:lnTo>
                    <a:pt x="483" y="110"/>
                  </a:lnTo>
                  <a:lnTo>
                    <a:pt x="504" y="118"/>
                  </a:lnTo>
                  <a:lnTo>
                    <a:pt x="522" y="125"/>
                  </a:lnTo>
                  <a:lnTo>
                    <a:pt x="539" y="132"/>
                  </a:lnTo>
                  <a:lnTo>
                    <a:pt x="555" y="142"/>
                  </a:lnTo>
                  <a:lnTo>
                    <a:pt x="572" y="152"/>
                  </a:lnTo>
                  <a:lnTo>
                    <a:pt x="592" y="163"/>
                  </a:lnTo>
                  <a:lnTo>
                    <a:pt x="613" y="174"/>
                  </a:lnTo>
                  <a:lnTo>
                    <a:pt x="634" y="188"/>
                  </a:lnTo>
                  <a:lnTo>
                    <a:pt x="656" y="201"/>
                  </a:lnTo>
                  <a:lnTo>
                    <a:pt x="678" y="216"/>
                  </a:lnTo>
                  <a:lnTo>
                    <a:pt x="702" y="229"/>
                  </a:lnTo>
                  <a:lnTo>
                    <a:pt x="724" y="244"/>
                  </a:lnTo>
                  <a:lnTo>
                    <a:pt x="747" y="259"/>
                  </a:lnTo>
                  <a:lnTo>
                    <a:pt x="769" y="274"/>
                  </a:lnTo>
                  <a:lnTo>
                    <a:pt x="791" y="288"/>
                  </a:lnTo>
                  <a:lnTo>
                    <a:pt x="811" y="302"/>
                  </a:lnTo>
                  <a:lnTo>
                    <a:pt x="831" y="315"/>
                  </a:lnTo>
                  <a:lnTo>
                    <a:pt x="848" y="328"/>
                  </a:lnTo>
                  <a:lnTo>
                    <a:pt x="866" y="340"/>
                  </a:lnTo>
                  <a:lnTo>
                    <a:pt x="880" y="353"/>
                  </a:lnTo>
                  <a:lnTo>
                    <a:pt x="898" y="366"/>
                  </a:lnTo>
                  <a:lnTo>
                    <a:pt x="914" y="380"/>
                  </a:lnTo>
                  <a:lnTo>
                    <a:pt x="933" y="394"/>
                  </a:lnTo>
                  <a:lnTo>
                    <a:pt x="952" y="410"/>
                  </a:lnTo>
                  <a:lnTo>
                    <a:pt x="970" y="425"/>
                  </a:lnTo>
                  <a:lnTo>
                    <a:pt x="989" y="441"/>
                  </a:lnTo>
                  <a:lnTo>
                    <a:pt x="1008" y="456"/>
                  </a:lnTo>
                  <a:lnTo>
                    <a:pt x="1025" y="472"/>
                  </a:lnTo>
                  <a:lnTo>
                    <a:pt x="1044" y="487"/>
                  </a:lnTo>
                  <a:lnTo>
                    <a:pt x="1060" y="502"/>
                  </a:lnTo>
                  <a:lnTo>
                    <a:pt x="1077" y="515"/>
                  </a:lnTo>
                  <a:lnTo>
                    <a:pt x="1091" y="529"/>
                  </a:lnTo>
                  <a:lnTo>
                    <a:pt x="1105" y="541"/>
                  </a:lnTo>
                  <a:lnTo>
                    <a:pt x="1117" y="552"/>
                  </a:lnTo>
                  <a:lnTo>
                    <a:pt x="1128" y="562"/>
                  </a:lnTo>
                  <a:lnTo>
                    <a:pt x="1134" y="571"/>
                  </a:lnTo>
                  <a:lnTo>
                    <a:pt x="1142" y="577"/>
                  </a:lnTo>
                  <a:lnTo>
                    <a:pt x="1146" y="581"/>
                  </a:lnTo>
                  <a:lnTo>
                    <a:pt x="1150" y="584"/>
                  </a:lnTo>
                  <a:lnTo>
                    <a:pt x="1151" y="587"/>
                  </a:lnTo>
                  <a:lnTo>
                    <a:pt x="1154" y="589"/>
                  </a:lnTo>
                  <a:lnTo>
                    <a:pt x="1156" y="590"/>
                  </a:lnTo>
                  <a:lnTo>
                    <a:pt x="1158" y="592"/>
                  </a:lnTo>
                  <a:lnTo>
                    <a:pt x="1160" y="596"/>
                  </a:lnTo>
                  <a:lnTo>
                    <a:pt x="1164" y="599"/>
                  </a:lnTo>
                  <a:lnTo>
                    <a:pt x="1169" y="604"/>
                  </a:lnTo>
                  <a:lnTo>
                    <a:pt x="1176" y="610"/>
                  </a:lnTo>
                  <a:lnTo>
                    <a:pt x="1184" y="619"/>
                  </a:lnTo>
                  <a:lnTo>
                    <a:pt x="1195" y="630"/>
                  </a:lnTo>
                  <a:lnTo>
                    <a:pt x="1209" y="644"/>
                  </a:lnTo>
                  <a:lnTo>
                    <a:pt x="1227" y="660"/>
                  </a:lnTo>
                </a:path>
              </a:pathLst>
            </a:custGeom>
            <a:noFill/>
            <a:ln w="1015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05320" y="4470480"/>
              <a:ext cx="1065240" cy="350640"/>
            </a:xfrm>
            <a:custGeom>
              <a:avLst/>
              <a:gdLst/>
              <a:ahLst/>
              <a:rect l="l" t="t" r="r" b="b"/>
              <a:pathLst>
                <a:path w="671" h="221">
                  <a:moveTo>
                    <a:pt x="0" y="0"/>
                  </a:moveTo>
                  <a:lnTo>
                    <a:pt x="12" y="10"/>
                  </a:lnTo>
                  <a:lnTo>
                    <a:pt x="23" y="18"/>
                  </a:lnTo>
                  <a:lnTo>
                    <a:pt x="31" y="24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7" y="34"/>
                  </a:lnTo>
                  <a:lnTo>
                    <a:pt x="50" y="36"/>
                  </a:lnTo>
                  <a:lnTo>
                    <a:pt x="52" y="38"/>
                  </a:lnTo>
                  <a:lnTo>
                    <a:pt x="53" y="39"/>
                  </a:lnTo>
                  <a:lnTo>
                    <a:pt x="55" y="40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61" y="45"/>
                  </a:lnTo>
                  <a:lnTo>
                    <a:pt x="65" y="47"/>
                  </a:lnTo>
                  <a:lnTo>
                    <a:pt x="70" y="50"/>
                  </a:lnTo>
                  <a:lnTo>
                    <a:pt x="77" y="54"/>
                  </a:lnTo>
                  <a:lnTo>
                    <a:pt x="84" y="59"/>
                  </a:lnTo>
                  <a:lnTo>
                    <a:pt x="92" y="65"/>
                  </a:lnTo>
                  <a:lnTo>
                    <a:pt x="101" y="70"/>
                  </a:lnTo>
                  <a:lnTo>
                    <a:pt x="111" y="76"/>
                  </a:lnTo>
                  <a:lnTo>
                    <a:pt x="120" y="82"/>
                  </a:lnTo>
                  <a:lnTo>
                    <a:pt x="132" y="87"/>
                  </a:lnTo>
                  <a:lnTo>
                    <a:pt x="142" y="93"/>
                  </a:lnTo>
                  <a:lnTo>
                    <a:pt x="154" y="98"/>
                  </a:lnTo>
                  <a:lnTo>
                    <a:pt x="163" y="104"/>
                  </a:lnTo>
                  <a:lnTo>
                    <a:pt x="174" y="109"/>
                  </a:lnTo>
                  <a:lnTo>
                    <a:pt x="185" y="114"/>
                  </a:lnTo>
                  <a:lnTo>
                    <a:pt x="196" y="118"/>
                  </a:lnTo>
                  <a:lnTo>
                    <a:pt x="206" y="122"/>
                  </a:lnTo>
                  <a:lnTo>
                    <a:pt x="216" y="126"/>
                  </a:lnTo>
                  <a:lnTo>
                    <a:pt x="224" y="129"/>
                  </a:lnTo>
                  <a:lnTo>
                    <a:pt x="232" y="131"/>
                  </a:lnTo>
                  <a:lnTo>
                    <a:pt x="239" y="135"/>
                  </a:lnTo>
                  <a:lnTo>
                    <a:pt x="248" y="137"/>
                  </a:lnTo>
                  <a:lnTo>
                    <a:pt x="259" y="140"/>
                  </a:lnTo>
                  <a:lnTo>
                    <a:pt x="271" y="142"/>
                  </a:lnTo>
                  <a:lnTo>
                    <a:pt x="284" y="146"/>
                  </a:lnTo>
                  <a:lnTo>
                    <a:pt x="296" y="150"/>
                  </a:lnTo>
                  <a:lnTo>
                    <a:pt x="310" y="154"/>
                  </a:lnTo>
                  <a:lnTo>
                    <a:pt x="325" y="155"/>
                  </a:lnTo>
                  <a:lnTo>
                    <a:pt x="339" y="159"/>
                  </a:lnTo>
                  <a:lnTo>
                    <a:pt x="354" y="163"/>
                  </a:lnTo>
                  <a:lnTo>
                    <a:pt x="369" y="167"/>
                  </a:lnTo>
                  <a:lnTo>
                    <a:pt x="384" y="170"/>
                  </a:lnTo>
                  <a:lnTo>
                    <a:pt x="397" y="174"/>
                  </a:lnTo>
                  <a:lnTo>
                    <a:pt x="412" y="177"/>
                  </a:lnTo>
                  <a:lnTo>
                    <a:pt x="425" y="180"/>
                  </a:lnTo>
                  <a:lnTo>
                    <a:pt x="438" y="182"/>
                  </a:lnTo>
                  <a:lnTo>
                    <a:pt x="450" y="185"/>
                  </a:lnTo>
                  <a:lnTo>
                    <a:pt x="462" y="187"/>
                  </a:lnTo>
                  <a:lnTo>
                    <a:pt x="476" y="191"/>
                  </a:lnTo>
                  <a:lnTo>
                    <a:pt x="489" y="193"/>
                  </a:lnTo>
                  <a:lnTo>
                    <a:pt x="502" y="196"/>
                  </a:lnTo>
                  <a:lnTo>
                    <a:pt x="515" y="198"/>
                  </a:lnTo>
                  <a:lnTo>
                    <a:pt x="528" y="200"/>
                  </a:lnTo>
                  <a:lnTo>
                    <a:pt x="542" y="202"/>
                  </a:lnTo>
                  <a:lnTo>
                    <a:pt x="553" y="205"/>
                  </a:lnTo>
                  <a:lnTo>
                    <a:pt x="566" y="206"/>
                  </a:lnTo>
                  <a:lnTo>
                    <a:pt x="576" y="208"/>
                  </a:lnTo>
                  <a:lnTo>
                    <a:pt x="587" y="210"/>
                  </a:lnTo>
                  <a:lnTo>
                    <a:pt x="596" y="212"/>
                  </a:lnTo>
                  <a:lnTo>
                    <a:pt x="604" y="214"/>
                  </a:lnTo>
                  <a:lnTo>
                    <a:pt x="611" y="215"/>
                  </a:lnTo>
                  <a:lnTo>
                    <a:pt x="618" y="215"/>
                  </a:lnTo>
                  <a:lnTo>
                    <a:pt x="621" y="216"/>
                  </a:lnTo>
                  <a:lnTo>
                    <a:pt x="625" y="216"/>
                  </a:lnTo>
                  <a:lnTo>
                    <a:pt x="627" y="216"/>
                  </a:lnTo>
                  <a:lnTo>
                    <a:pt x="629" y="216"/>
                  </a:lnTo>
                  <a:lnTo>
                    <a:pt x="630" y="216"/>
                  </a:lnTo>
                  <a:lnTo>
                    <a:pt x="632" y="216"/>
                  </a:lnTo>
                  <a:lnTo>
                    <a:pt x="632" y="216"/>
                  </a:lnTo>
                  <a:lnTo>
                    <a:pt x="634" y="216"/>
                  </a:lnTo>
                  <a:lnTo>
                    <a:pt x="635" y="218"/>
                  </a:lnTo>
                  <a:lnTo>
                    <a:pt x="637" y="218"/>
                  </a:lnTo>
                  <a:lnTo>
                    <a:pt x="639" y="218"/>
                  </a:lnTo>
                  <a:lnTo>
                    <a:pt x="643" y="218"/>
                  </a:lnTo>
                  <a:lnTo>
                    <a:pt x="647" y="220"/>
                  </a:lnTo>
                  <a:lnTo>
                    <a:pt x="654" y="220"/>
                  </a:lnTo>
                  <a:lnTo>
                    <a:pt x="660" y="220"/>
                  </a:lnTo>
                  <a:lnTo>
                    <a:pt x="670" y="220"/>
                  </a:lnTo>
                </a:path>
              </a:pathLst>
            </a:custGeom>
            <a:noFill/>
            <a:ln w="1015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5120" y="4826160"/>
              <a:ext cx="1377720" cy="1763640"/>
            </a:xfrm>
            <a:custGeom>
              <a:avLst/>
              <a:gdLst/>
              <a:ahLst/>
              <a:rect l="l" t="t" r="r" b="b"/>
              <a:pathLst>
                <a:path w="868" h="1111">
                  <a:moveTo>
                    <a:pt x="0" y="0"/>
                  </a:moveTo>
                  <a:lnTo>
                    <a:pt x="15" y="4"/>
                  </a:lnTo>
                  <a:lnTo>
                    <a:pt x="28" y="7"/>
                  </a:lnTo>
                  <a:lnTo>
                    <a:pt x="37" y="9"/>
                  </a:lnTo>
                  <a:lnTo>
                    <a:pt x="45" y="11"/>
                  </a:lnTo>
                  <a:lnTo>
                    <a:pt x="50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5"/>
                  </a:lnTo>
                  <a:lnTo>
                    <a:pt x="72" y="17"/>
                  </a:lnTo>
                  <a:lnTo>
                    <a:pt x="76" y="17"/>
                  </a:lnTo>
                  <a:lnTo>
                    <a:pt x="82" y="19"/>
                  </a:lnTo>
                  <a:lnTo>
                    <a:pt x="91" y="19"/>
                  </a:lnTo>
                  <a:lnTo>
                    <a:pt x="99" y="22"/>
                  </a:lnTo>
                  <a:lnTo>
                    <a:pt x="109" y="24"/>
                  </a:lnTo>
                  <a:lnTo>
                    <a:pt x="119" y="28"/>
                  </a:lnTo>
                  <a:lnTo>
                    <a:pt x="131" y="31"/>
                  </a:lnTo>
                  <a:lnTo>
                    <a:pt x="143" y="35"/>
                  </a:lnTo>
                  <a:lnTo>
                    <a:pt x="155" y="39"/>
                  </a:lnTo>
                  <a:lnTo>
                    <a:pt x="167" y="43"/>
                  </a:lnTo>
                  <a:lnTo>
                    <a:pt x="181" y="47"/>
                  </a:lnTo>
                  <a:lnTo>
                    <a:pt x="192" y="52"/>
                  </a:lnTo>
                  <a:lnTo>
                    <a:pt x="205" y="58"/>
                  </a:lnTo>
                  <a:lnTo>
                    <a:pt x="217" y="63"/>
                  </a:lnTo>
                  <a:lnTo>
                    <a:pt x="230" y="67"/>
                  </a:lnTo>
                  <a:lnTo>
                    <a:pt x="241" y="72"/>
                  </a:lnTo>
                  <a:lnTo>
                    <a:pt x="252" y="76"/>
                  </a:lnTo>
                  <a:lnTo>
                    <a:pt x="262" y="81"/>
                  </a:lnTo>
                  <a:lnTo>
                    <a:pt x="272" y="85"/>
                  </a:lnTo>
                  <a:lnTo>
                    <a:pt x="281" y="90"/>
                  </a:lnTo>
                  <a:lnTo>
                    <a:pt x="290" y="96"/>
                  </a:lnTo>
                  <a:lnTo>
                    <a:pt x="301" y="103"/>
                  </a:lnTo>
                  <a:lnTo>
                    <a:pt x="313" y="110"/>
                  </a:lnTo>
                  <a:lnTo>
                    <a:pt x="324" y="119"/>
                  </a:lnTo>
                  <a:lnTo>
                    <a:pt x="337" y="127"/>
                  </a:lnTo>
                  <a:lnTo>
                    <a:pt x="349" y="137"/>
                  </a:lnTo>
                  <a:lnTo>
                    <a:pt x="362" y="145"/>
                  </a:lnTo>
                  <a:lnTo>
                    <a:pt x="373" y="156"/>
                  </a:lnTo>
                  <a:lnTo>
                    <a:pt x="387" y="165"/>
                  </a:lnTo>
                  <a:lnTo>
                    <a:pt x="398" y="175"/>
                  </a:lnTo>
                  <a:lnTo>
                    <a:pt x="411" y="185"/>
                  </a:lnTo>
                  <a:lnTo>
                    <a:pt x="422" y="195"/>
                  </a:lnTo>
                  <a:lnTo>
                    <a:pt x="433" y="204"/>
                  </a:lnTo>
                  <a:lnTo>
                    <a:pt x="443" y="214"/>
                  </a:lnTo>
                  <a:lnTo>
                    <a:pt x="453" y="222"/>
                  </a:lnTo>
                  <a:lnTo>
                    <a:pt x="462" y="232"/>
                  </a:lnTo>
                  <a:lnTo>
                    <a:pt x="471" y="243"/>
                  </a:lnTo>
                  <a:lnTo>
                    <a:pt x="482" y="256"/>
                  </a:lnTo>
                  <a:lnTo>
                    <a:pt x="493" y="270"/>
                  </a:lnTo>
                  <a:lnTo>
                    <a:pt x="505" y="287"/>
                  </a:lnTo>
                  <a:lnTo>
                    <a:pt x="517" y="304"/>
                  </a:lnTo>
                  <a:lnTo>
                    <a:pt x="529" y="322"/>
                  </a:lnTo>
                  <a:lnTo>
                    <a:pt x="543" y="340"/>
                  </a:lnTo>
                  <a:lnTo>
                    <a:pt x="554" y="360"/>
                  </a:lnTo>
                  <a:lnTo>
                    <a:pt x="567" y="378"/>
                  </a:lnTo>
                  <a:lnTo>
                    <a:pt x="579" y="398"/>
                  </a:lnTo>
                  <a:lnTo>
                    <a:pt x="591" y="417"/>
                  </a:lnTo>
                  <a:lnTo>
                    <a:pt x="602" y="436"/>
                  </a:lnTo>
                  <a:lnTo>
                    <a:pt x="613" y="455"/>
                  </a:lnTo>
                  <a:lnTo>
                    <a:pt x="622" y="473"/>
                  </a:lnTo>
                  <a:lnTo>
                    <a:pt x="632" y="489"/>
                  </a:lnTo>
                  <a:lnTo>
                    <a:pt x="639" y="508"/>
                  </a:lnTo>
                  <a:lnTo>
                    <a:pt x="649" y="528"/>
                  </a:lnTo>
                  <a:lnTo>
                    <a:pt x="658" y="551"/>
                  </a:lnTo>
                  <a:lnTo>
                    <a:pt x="669" y="574"/>
                  </a:lnTo>
                  <a:lnTo>
                    <a:pt x="680" y="600"/>
                  </a:lnTo>
                  <a:lnTo>
                    <a:pt x="691" y="626"/>
                  </a:lnTo>
                  <a:lnTo>
                    <a:pt x="702" y="654"/>
                  </a:lnTo>
                  <a:lnTo>
                    <a:pt x="714" y="681"/>
                  </a:lnTo>
                  <a:lnTo>
                    <a:pt x="725" y="710"/>
                  </a:lnTo>
                  <a:lnTo>
                    <a:pt x="736" y="738"/>
                  </a:lnTo>
                  <a:lnTo>
                    <a:pt x="747" y="766"/>
                  </a:lnTo>
                  <a:lnTo>
                    <a:pt x="758" y="792"/>
                  </a:lnTo>
                  <a:lnTo>
                    <a:pt x="767" y="819"/>
                  </a:lnTo>
                  <a:lnTo>
                    <a:pt x="777" y="844"/>
                  </a:lnTo>
                  <a:lnTo>
                    <a:pt x="785" y="867"/>
                  </a:lnTo>
                  <a:lnTo>
                    <a:pt x="793" y="889"/>
                  </a:lnTo>
                  <a:lnTo>
                    <a:pt x="798" y="908"/>
                  </a:lnTo>
                  <a:lnTo>
                    <a:pt x="803" y="922"/>
                  </a:lnTo>
                  <a:lnTo>
                    <a:pt x="806" y="932"/>
                  </a:lnTo>
                  <a:lnTo>
                    <a:pt x="809" y="939"/>
                  </a:lnTo>
                  <a:lnTo>
                    <a:pt x="810" y="945"/>
                  </a:lnTo>
                  <a:lnTo>
                    <a:pt x="812" y="950"/>
                  </a:lnTo>
                  <a:lnTo>
                    <a:pt x="814" y="955"/>
                  </a:lnTo>
                  <a:lnTo>
                    <a:pt x="816" y="958"/>
                  </a:lnTo>
                  <a:lnTo>
                    <a:pt x="818" y="965"/>
                  </a:lnTo>
                  <a:lnTo>
                    <a:pt x="820" y="973"/>
                  </a:lnTo>
                  <a:lnTo>
                    <a:pt x="823" y="984"/>
                  </a:lnTo>
                  <a:lnTo>
                    <a:pt x="829" y="998"/>
                  </a:lnTo>
                  <a:lnTo>
                    <a:pt x="835" y="1018"/>
                  </a:lnTo>
                  <a:lnTo>
                    <a:pt x="844" y="1043"/>
                  </a:lnTo>
                  <a:lnTo>
                    <a:pt x="854" y="1073"/>
                  </a:lnTo>
                  <a:lnTo>
                    <a:pt x="867" y="1110"/>
                  </a:lnTo>
                </a:path>
              </a:pathLst>
            </a:custGeom>
            <a:noFill/>
            <a:ln w="1015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209680" y="3657600"/>
            <a:ext cx="525600" cy="1149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255760" y="698400"/>
            <a:ext cx="4832280" cy="3380040"/>
            <a:chOff x="2255760" y="698400"/>
            <a:chExt cx="4832280" cy="3380040"/>
          </a:xfrm>
        </p:grpSpPr>
        <p:sp>
          <p:nvSpPr>
            <p:cNvPr id="450" name=""/>
            <p:cNvSpPr/>
            <p:nvPr/>
          </p:nvSpPr>
          <p:spPr>
            <a:xfrm>
              <a:off x="2268360" y="725400"/>
              <a:ext cx="3911760" cy="3353040"/>
            </a:xfrm>
            <a:custGeom>
              <a:avLst/>
              <a:gdLst/>
              <a:ahLst/>
              <a:rect l="l" t="t" r="r" b="b"/>
              <a:pathLst>
                <a:path w="2464" h="2112">
                  <a:moveTo>
                    <a:pt x="0" y="0"/>
                  </a:moveTo>
                  <a:lnTo>
                    <a:pt x="0" y="2111"/>
                  </a:lnTo>
                  <a:lnTo>
                    <a:pt x="2463" y="2111"/>
                  </a:lnTo>
                  <a:lnTo>
                    <a:pt x="2105" y="1746"/>
                  </a:lnTo>
                  <a:lnTo>
                    <a:pt x="1980" y="1411"/>
                  </a:lnTo>
                  <a:lnTo>
                    <a:pt x="1604" y="1210"/>
                  </a:lnTo>
                  <a:lnTo>
                    <a:pt x="1545" y="1051"/>
                  </a:lnTo>
                  <a:lnTo>
                    <a:pt x="1228" y="859"/>
                  </a:lnTo>
                  <a:lnTo>
                    <a:pt x="977" y="608"/>
                  </a:lnTo>
                  <a:lnTo>
                    <a:pt x="826" y="190"/>
                  </a:lnTo>
                  <a:lnTo>
                    <a:pt x="517" y="1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55760" y="698400"/>
              <a:ext cx="3911760" cy="3354480"/>
            </a:xfrm>
            <a:custGeom>
              <a:avLst/>
              <a:gdLst/>
              <a:ahLst/>
              <a:rect l="l" t="t" r="r" b="b"/>
              <a:pathLst>
                <a:path w="2464" h="2113">
                  <a:moveTo>
                    <a:pt x="0" y="0"/>
                  </a:moveTo>
                  <a:lnTo>
                    <a:pt x="0" y="2112"/>
                  </a:lnTo>
                  <a:lnTo>
                    <a:pt x="2463" y="2112"/>
                  </a:lnTo>
                </a:path>
              </a:pathLst>
            </a:custGeom>
            <a:noFill/>
            <a:ln w="3168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53040" y="1236600"/>
              <a:ext cx="2835000" cy="10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810000"/>
                  </a:solidFill>
                  <a:latin typeface="Times New Roman"/>
                </a:rPr>
                <a:t>puntos Pareto</a:t>
              </a:r>
              <a:br>
                <a:rPr sz="3600"/>
              </a:br>
              <a:r>
                <a:rPr b="1" lang="en-GB" sz="3600" spc="-1" strike="noStrike">
                  <a:solidFill>
                    <a:srgbClr val="810000"/>
                  </a:solidFill>
                  <a:latin typeface="Times New Roman"/>
                </a:rPr>
                <a:t>superior a J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371600" y="914400"/>
            <a:ext cx="94536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limitaciones del concepto de E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922480" y="1655640"/>
            <a:ext cx="6432480" cy="3373560"/>
            <a:chOff x="2922480" y="1655640"/>
            <a:chExt cx="6432480" cy="3373560"/>
          </a:xfrm>
        </p:grpSpPr>
        <p:sp>
          <p:nvSpPr>
            <p:cNvPr id="455" name=""/>
            <p:cNvSpPr/>
            <p:nvPr/>
          </p:nvSpPr>
          <p:spPr>
            <a:xfrm flipH="1">
              <a:off x="6019560" y="2666880"/>
              <a:ext cx="392040" cy="236232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922480" y="2733840"/>
              <a:ext cx="2779920" cy="51732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00600" y="1655640"/>
              <a:ext cx="4554360" cy="10875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008000"/>
                  </a:solidFill>
                  <a:latin typeface="Arial"/>
                </a:rPr>
                <a:t>No se pueden comparar en términos de eficiencia solamen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3809880" y="5251320"/>
            <a:ext cx="525600" cy="1149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886200" y="2286000"/>
            <a:ext cx="4832280" cy="3379320"/>
            <a:chOff x="3886200" y="2286000"/>
            <a:chExt cx="4832280" cy="3379320"/>
          </a:xfrm>
        </p:grpSpPr>
        <p:sp>
          <p:nvSpPr>
            <p:cNvPr id="460" name=""/>
            <p:cNvSpPr/>
            <p:nvPr/>
          </p:nvSpPr>
          <p:spPr>
            <a:xfrm>
              <a:off x="3898800" y="2312640"/>
              <a:ext cx="3911760" cy="3352680"/>
            </a:xfrm>
            <a:custGeom>
              <a:avLst/>
              <a:gdLst/>
              <a:ahLst/>
              <a:rect l="l" t="t" r="r" b="b"/>
              <a:pathLst>
                <a:path w="2464" h="2112">
                  <a:moveTo>
                    <a:pt x="0" y="0"/>
                  </a:moveTo>
                  <a:lnTo>
                    <a:pt x="0" y="2111"/>
                  </a:lnTo>
                  <a:lnTo>
                    <a:pt x="2463" y="2111"/>
                  </a:lnTo>
                  <a:lnTo>
                    <a:pt x="2105" y="1746"/>
                  </a:lnTo>
                  <a:lnTo>
                    <a:pt x="1980" y="1411"/>
                  </a:lnTo>
                  <a:lnTo>
                    <a:pt x="1604" y="1210"/>
                  </a:lnTo>
                  <a:lnTo>
                    <a:pt x="1545" y="1051"/>
                  </a:lnTo>
                  <a:lnTo>
                    <a:pt x="1228" y="859"/>
                  </a:lnTo>
                  <a:lnTo>
                    <a:pt x="977" y="608"/>
                  </a:lnTo>
                  <a:lnTo>
                    <a:pt x="826" y="190"/>
                  </a:lnTo>
                  <a:lnTo>
                    <a:pt x="517" y="1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86200" y="2286000"/>
              <a:ext cx="3911760" cy="3354120"/>
            </a:xfrm>
            <a:custGeom>
              <a:avLst/>
              <a:gdLst/>
              <a:ahLst/>
              <a:rect l="l" t="t" r="r" b="b"/>
              <a:pathLst>
                <a:path w="2464" h="2113">
                  <a:moveTo>
                    <a:pt x="0" y="0"/>
                  </a:moveTo>
                  <a:lnTo>
                    <a:pt x="0" y="2112"/>
                  </a:lnTo>
                  <a:lnTo>
                    <a:pt x="2463" y="2112"/>
                  </a:lnTo>
                </a:path>
              </a:pathLst>
            </a:custGeom>
            <a:noFill/>
            <a:ln w="3168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83480" y="2823840"/>
              <a:ext cx="2835000" cy="10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810000"/>
                  </a:solidFill>
                  <a:latin typeface="Times New Roman"/>
                </a:rPr>
                <a:t>puntos Pareto</a:t>
              </a:r>
              <a:br>
                <a:rPr sz="3600"/>
              </a:br>
              <a:r>
                <a:rPr b="1" lang="en-GB" sz="3600" spc="-1" strike="noStrike">
                  <a:solidFill>
                    <a:srgbClr val="810000"/>
                  </a:solidFill>
                  <a:latin typeface="Times New Roman"/>
                </a:rPr>
                <a:t>superior a 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285640" y="2514600"/>
            <a:ext cx="7410960" cy="2895120"/>
            <a:chOff x="2285640" y="2514600"/>
            <a:chExt cx="7410960" cy="2895120"/>
          </a:xfrm>
        </p:grpSpPr>
        <p:sp>
          <p:nvSpPr>
            <p:cNvPr id="464" name=""/>
            <p:cNvSpPr/>
            <p:nvPr/>
          </p:nvSpPr>
          <p:spPr>
            <a:xfrm flipH="1">
              <a:off x="4430880" y="4180680"/>
              <a:ext cx="549360" cy="122904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285640" y="3374280"/>
              <a:ext cx="2705400" cy="5068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9000" y="2514600"/>
              <a:ext cx="4827600" cy="2091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"/>
                </a:rPr>
                <a:t>No se pueden comparar siquiera en términos de Paret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uperioridad “Potencial” de Pare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317600" y="3125520"/>
            <a:ext cx="8491680" cy="206856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5638680"/>
            <a:ext cx="9372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810000"/>
                </a:solidFill>
                <a:latin typeface="Times New Roman"/>
              </a:rPr>
              <a:t>Para hacer usos de este concepto necesitamos la definición de “accesibilidad”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23880" y="3352680"/>
            <a:ext cx="8153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1  Existe un  H que es Pareto superior a J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2  H  es “acequible” desde 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2246400"/>
            <a:ext cx="1003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810000"/>
                </a:solidFill>
                <a:latin typeface="Times New Roman"/>
              </a:rPr>
              <a:t>K es </a:t>
            </a:r>
            <a:r>
              <a:rPr b="1" i="1" lang="en-GB" sz="4800" spc="-1" strike="noStrike">
                <a:solidFill>
                  <a:srgbClr val="810000"/>
                </a:solidFill>
                <a:latin typeface="Times New Roman"/>
              </a:rPr>
              <a:t>potencialmente</a:t>
            </a:r>
            <a:r>
              <a:rPr b="1" lang="en-GB" sz="4800" spc="-1" strike="noStrike">
                <a:solidFill>
                  <a:srgbClr val="810000"/>
                </a:solidFill>
                <a:latin typeface="Times New Roman"/>
              </a:rPr>
              <a:t> </a:t>
            </a:r>
            <a:r>
              <a:rPr b="1" i="1" lang="en-GB" sz="4800" spc="-1" strike="noStrike">
                <a:solidFill>
                  <a:srgbClr val="810000"/>
                </a:solidFill>
                <a:latin typeface="Times New Roman"/>
              </a:rPr>
              <a:t>superior</a:t>
            </a:r>
            <a:r>
              <a:rPr b="1" lang="en-GB" sz="4800" spc="-1" strike="noStrike">
                <a:solidFill>
                  <a:srgbClr val="810000"/>
                </a:solidFill>
                <a:latin typeface="Times New Roman"/>
              </a:rPr>
              <a:t> a J si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9372600" cy="6705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3300"/>
            </a:solidFill>
            <a:miter/>
          </a:ln>
        </p:spPr>
        <p:txBody>
          <a:bodyPr lIns="0" rIns="0" tIns="0" bIns="0" anchor="t">
            <a:normAutofit fontScale="95000"/>
          </a:bodyPr>
          <a:p>
            <a:pPr marL="197640" indent="-19764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6600"/>
                </a:solidFill>
                <a:latin typeface="Times New Roman"/>
              </a:rPr>
              <a:t>Habitualmente "H es acequible desde K ”significa que el ingreso total en H es no mayor que en K.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6600"/>
                </a:solidFill>
                <a:latin typeface="Times New Roman"/>
              </a:rPr>
              <a:t>Esto puede interpretarse como una “ regla de compensación”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6600"/>
                </a:solidFill>
                <a:latin typeface="Times New Roman"/>
              </a:rPr>
              <a:t>Los vencedores en H se mueven de J a K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6600"/>
                </a:solidFill>
                <a:latin typeface="Times New Roman"/>
              </a:rPr>
              <a:t>...par obtener suficiente ingreso para compensar a los perdedor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6600"/>
                </a:solidFill>
                <a:latin typeface="Times New Roman"/>
              </a:rPr>
              <a:t>Esto puede expresarse en términos de criterios convencionales de bienestar individual: la VC para cada persona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0880" y="15228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idea de accecibili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45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J no es  superior a K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14400" y="1820880"/>
            <a:ext cx="7454880" cy="5951520"/>
            <a:chOff x="914400" y="1820880"/>
            <a:chExt cx="7454880" cy="5951520"/>
          </a:xfrm>
        </p:grpSpPr>
        <p:sp>
          <p:nvSpPr>
            <p:cNvPr id="476" name=""/>
            <p:cNvSpPr/>
            <p:nvPr/>
          </p:nvSpPr>
          <p:spPr>
            <a:xfrm>
              <a:off x="914400" y="3247920"/>
              <a:ext cx="5865840" cy="4524480"/>
            </a:xfrm>
            <a:custGeom>
              <a:avLst/>
              <a:gdLst/>
              <a:ahLst/>
              <a:rect l="l" t="t" r="r" b="b"/>
              <a:pathLst>
                <a:path w="3695" h="2850">
                  <a:moveTo>
                    <a:pt x="337" y="128"/>
                  </a:moveTo>
                  <a:lnTo>
                    <a:pt x="337" y="128"/>
                  </a:lnTo>
                  <a:lnTo>
                    <a:pt x="178" y="227"/>
                  </a:lnTo>
                  <a:lnTo>
                    <a:pt x="168" y="552"/>
                  </a:lnTo>
                  <a:lnTo>
                    <a:pt x="168" y="956"/>
                  </a:lnTo>
                  <a:lnTo>
                    <a:pt x="0" y="1361"/>
                  </a:lnTo>
                  <a:lnTo>
                    <a:pt x="178" y="1765"/>
                  </a:lnTo>
                  <a:lnTo>
                    <a:pt x="178" y="2011"/>
                  </a:lnTo>
                  <a:lnTo>
                    <a:pt x="10" y="2495"/>
                  </a:lnTo>
                  <a:lnTo>
                    <a:pt x="10" y="2741"/>
                  </a:lnTo>
                  <a:lnTo>
                    <a:pt x="505" y="2682"/>
                  </a:lnTo>
                  <a:lnTo>
                    <a:pt x="832" y="2849"/>
                  </a:lnTo>
                  <a:lnTo>
                    <a:pt x="1000" y="2849"/>
                  </a:lnTo>
                  <a:lnTo>
                    <a:pt x="1168" y="2682"/>
                  </a:lnTo>
                  <a:lnTo>
                    <a:pt x="1494" y="2613"/>
                  </a:lnTo>
                  <a:lnTo>
                    <a:pt x="1821" y="2781"/>
                  </a:lnTo>
                  <a:lnTo>
                    <a:pt x="2148" y="2692"/>
                  </a:lnTo>
                  <a:lnTo>
                    <a:pt x="2216" y="2781"/>
                  </a:lnTo>
                  <a:lnTo>
                    <a:pt x="2543" y="2781"/>
                  </a:lnTo>
                  <a:lnTo>
                    <a:pt x="2870" y="2751"/>
                  </a:lnTo>
                  <a:lnTo>
                    <a:pt x="3197" y="2839"/>
                  </a:lnTo>
                  <a:lnTo>
                    <a:pt x="3523" y="2672"/>
                  </a:lnTo>
                  <a:lnTo>
                    <a:pt x="3694" y="2351"/>
                  </a:lnTo>
                  <a:lnTo>
                    <a:pt x="3610" y="2110"/>
                  </a:lnTo>
                  <a:lnTo>
                    <a:pt x="3603" y="2087"/>
                  </a:lnTo>
                  <a:lnTo>
                    <a:pt x="3594" y="2062"/>
                  </a:lnTo>
                  <a:lnTo>
                    <a:pt x="3585" y="2035"/>
                  </a:lnTo>
                  <a:lnTo>
                    <a:pt x="3574" y="2009"/>
                  </a:lnTo>
                  <a:lnTo>
                    <a:pt x="3563" y="1980"/>
                  </a:lnTo>
                  <a:lnTo>
                    <a:pt x="3552" y="1951"/>
                  </a:lnTo>
                  <a:lnTo>
                    <a:pt x="3542" y="1922"/>
                  </a:lnTo>
                  <a:lnTo>
                    <a:pt x="3528" y="1896"/>
                  </a:lnTo>
                  <a:lnTo>
                    <a:pt x="3518" y="1868"/>
                  </a:lnTo>
                  <a:lnTo>
                    <a:pt x="3507" y="1842"/>
                  </a:lnTo>
                  <a:lnTo>
                    <a:pt x="3496" y="1815"/>
                  </a:lnTo>
                  <a:lnTo>
                    <a:pt x="3485" y="1793"/>
                  </a:lnTo>
                  <a:lnTo>
                    <a:pt x="3476" y="1769"/>
                  </a:lnTo>
                  <a:lnTo>
                    <a:pt x="3467" y="1749"/>
                  </a:lnTo>
                  <a:lnTo>
                    <a:pt x="3459" y="1731"/>
                  </a:lnTo>
                  <a:lnTo>
                    <a:pt x="3438" y="1697"/>
                  </a:lnTo>
                  <a:lnTo>
                    <a:pt x="3418" y="1658"/>
                  </a:lnTo>
                  <a:lnTo>
                    <a:pt x="3394" y="1619"/>
                  </a:lnTo>
                  <a:lnTo>
                    <a:pt x="3370" y="1580"/>
                  </a:lnTo>
                  <a:lnTo>
                    <a:pt x="3344" y="1545"/>
                  </a:lnTo>
                  <a:lnTo>
                    <a:pt x="3321" y="1512"/>
                  </a:lnTo>
                  <a:lnTo>
                    <a:pt x="3299" y="1484"/>
                  </a:lnTo>
                  <a:lnTo>
                    <a:pt x="3280" y="1462"/>
                  </a:lnTo>
                  <a:lnTo>
                    <a:pt x="3260" y="1445"/>
                  </a:lnTo>
                  <a:lnTo>
                    <a:pt x="3238" y="1427"/>
                  </a:lnTo>
                  <a:lnTo>
                    <a:pt x="3214" y="1406"/>
                  </a:lnTo>
                  <a:lnTo>
                    <a:pt x="3189" y="1386"/>
                  </a:lnTo>
                  <a:lnTo>
                    <a:pt x="3163" y="1368"/>
                  </a:lnTo>
                  <a:lnTo>
                    <a:pt x="3140" y="1351"/>
                  </a:lnTo>
                  <a:lnTo>
                    <a:pt x="3118" y="1338"/>
                  </a:lnTo>
                  <a:lnTo>
                    <a:pt x="3099" y="1326"/>
                  </a:lnTo>
                  <a:lnTo>
                    <a:pt x="3078" y="1318"/>
                  </a:lnTo>
                  <a:lnTo>
                    <a:pt x="3057" y="1308"/>
                  </a:lnTo>
                  <a:lnTo>
                    <a:pt x="3032" y="1298"/>
                  </a:lnTo>
                  <a:lnTo>
                    <a:pt x="3008" y="1288"/>
                  </a:lnTo>
                  <a:lnTo>
                    <a:pt x="2981" y="1281"/>
                  </a:lnTo>
                  <a:lnTo>
                    <a:pt x="2958" y="1271"/>
                  </a:lnTo>
                  <a:lnTo>
                    <a:pt x="2936" y="1265"/>
                  </a:lnTo>
                  <a:lnTo>
                    <a:pt x="2918" y="1260"/>
                  </a:lnTo>
                  <a:lnTo>
                    <a:pt x="2827" y="1241"/>
                  </a:lnTo>
                  <a:lnTo>
                    <a:pt x="2294" y="1238"/>
                  </a:lnTo>
                  <a:lnTo>
                    <a:pt x="2210" y="1229"/>
                  </a:lnTo>
                  <a:lnTo>
                    <a:pt x="2164" y="1220"/>
                  </a:lnTo>
                  <a:lnTo>
                    <a:pt x="2112" y="1210"/>
                  </a:lnTo>
                  <a:lnTo>
                    <a:pt x="2061" y="1199"/>
                  </a:lnTo>
                  <a:lnTo>
                    <a:pt x="2034" y="1195"/>
                  </a:lnTo>
                  <a:lnTo>
                    <a:pt x="2007" y="1188"/>
                  </a:lnTo>
                  <a:lnTo>
                    <a:pt x="1977" y="1182"/>
                  </a:lnTo>
                  <a:lnTo>
                    <a:pt x="1948" y="1174"/>
                  </a:lnTo>
                  <a:lnTo>
                    <a:pt x="1919" y="1167"/>
                  </a:lnTo>
                  <a:lnTo>
                    <a:pt x="1894" y="1160"/>
                  </a:lnTo>
                  <a:lnTo>
                    <a:pt x="1871" y="1154"/>
                  </a:lnTo>
                  <a:lnTo>
                    <a:pt x="1855" y="1149"/>
                  </a:lnTo>
                  <a:lnTo>
                    <a:pt x="1836" y="1144"/>
                  </a:lnTo>
                  <a:lnTo>
                    <a:pt x="1818" y="1137"/>
                  </a:lnTo>
                  <a:lnTo>
                    <a:pt x="1798" y="1127"/>
                  </a:lnTo>
                  <a:lnTo>
                    <a:pt x="1777" y="1116"/>
                  </a:lnTo>
                  <a:lnTo>
                    <a:pt x="1754" y="1105"/>
                  </a:lnTo>
                  <a:lnTo>
                    <a:pt x="1734" y="1094"/>
                  </a:lnTo>
                  <a:lnTo>
                    <a:pt x="1715" y="1083"/>
                  </a:lnTo>
                  <a:lnTo>
                    <a:pt x="1700" y="1072"/>
                  </a:lnTo>
                  <a:lnTo>
                    <a:pt x="1622" y="1017"/>
                  </a:lnTo>
                  <a:lnTo>
                    <a:pt x="1623" y="661"/>
                  </a:lnTo>
                  <a:lnTo>
                    <a:pt x="1500" y="542"/>
                  </a:lnTo>
                  <a:lnTo>
                    <a:pt x="1473" y="517"/>
                  </a:lnTo>
                  <a:lnTo>
                    <a:pt x="1440" y="488"/>
                  </a:lnTo>
                  <a:lnTo>
                    <a:pt x="1404" y="456"/>
                  </a:lnTo>
                  <a:lnTo>
                    <a:pt x="1366" y="426"/>
                  </a:lnTo>
                  <a:lnTo>
                    <a:pt x="1329" y="395"/>
                  </a:lnTo>
                  <a:lnTo>
                    <a:pt x="1294" y="366"/>
                  </a:lnTo>
                  <a:lnTo>
                    <a:pt x="1262" y="341"/>
                  </a:lnTo>
                  <a:lnTo>
                    <a:pt x="1227" y="316"/>
                  </a:lnTo>
                  <a:lnTo>
                    <a:pt x="1187" y="289"/>
                  </a:lnTo>
                  <a:lnTo>
                    <a:pt x="1143" y="259"/>
                  </a:lnTo>
                  <a:lnTo>
                    <a:pt x="1098" y="230"/>
                  </a:lnTo>
                  <a:lnTo>
                    <a:pt x="1051" y="203"/>
                  </a:lnTo>
                  <a:lnTo>
                    <a:pt x="1008" y="175"/>
                  </a:lnTo>
                  <a:lnTo>
                    <a:pt x="969" y="153"/>
                  </a:lnTo>
                  <a:lnTo>
                    <a:pt x="935" y="133"/>
                  </a:lnTo>
                  <a:lnTo>
                    <a:pt x="898" y="119"/>
                  </a:lnTo>
                  <a:lnTo>
                    <a:pt x="858" y="102"/>
                  </a:lnTo>
                  <a:lnTo>
                    <a:pt x="812" y="85"/>
                  </a:lnTo>
                  <a:lnTo>
                    <a:pt x="764" y="68"/>
                  </a:lnTo>
                  <a:lnTo>
                    <a:pt x="713" y="55"/>
                  </a:lnTo>
                  <a:lnTo>
                    <a:pt x="666" y="42"/>
                  </a:lnTo>
                  <a:lnTo>
                    <a:pt x="621" y="31"/>
                  </a:lnTo>
                  <a:lnTo>
                    <a:pt x="584" y="25"/>
                  </a:lnTo>
                  <a:lnTo>
                    <a:pt x="396" y="0"/>
                  </a:lnTo>
                  <a:lnTo>
                    <a:pt x="337" y="128"/>
                  </a:lnTo>
                  <a:lnTo>
                    <a:pt x="337" y="128"/>
                  </a:lnTo>
                </a:path>
              </a:pathLst>
            </a:custGeom>
            <a:gradFill rotWithShape="0">
              <a:gsLst>
                <a:gs pos="0">
                  <a:srgbClr val="810000"/>
                </a:gs>
                <a:gs pos="100000">
                  <a:srgbClr val="ffff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092320" y="1965240"/>
              <a:ext cx="0" cy="494496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92320" y="6926040"/>
              <a:ext cx="5011920" cy="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94760" y="6734160"/>
              <a:ext cx="9745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11280" y="1820880"/>
              <a:ext cx="97488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26960" y="5782680"/>
              <a:ext cx="640800" cy="825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helleyVolante BT"/>
                </a:rPr>
                <a:t>U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543320" y="3227400"/>
              <a:ext cx="5236920" cy="3735360"/>
              <a:chOff x="1543320" y="3227400"/>
              <a:chExt cx="5236920" cy="3735360"/>
            </a:xfrm>
          </p:grpSpPr>
          <p:sp>
            <p:nvSpPr>
              <p:cNvPr id="483" name=""/>
              <p:cNvSpPr/>
              <p:nvPr/>
            </p:nvSpPr>
            <p:spPr>
              <a:xfrm>
                <a:off x="1543320" y="3227400"/>
                <a:ext cx="1949400" cy="1049400"/>
              </a:xfrm>
              <a:custGeom>
                <a:avLst/>
                <a:gdLst/>
                <a:ahLst/>
                <a:rect l="l" t="t" r="r" b="b"/>
                <a:pathLst>
                  <a:path w="1228" h="661">
                    <a:moveTo>
                      <a:pt x="0" y="0"/>
                    </a:moveTo>
                    <a:lnTo>
                      <a:pt x="31" y="5"/>
                    </a:lnTo>
                    <a:lnTo>
                      <a:pt x="58" y="8"/>
                    </a:lnTo>
                    <a:lnTo>
                      <a:pt x="78" y="11"/>
                    </a:lnTo>
                    <a:lnTo>
                      <a:pt x="94" y="13"/>
                    </a:lnTo>
                    <a:lnTo>
                      <a:pt x="106" y="15"/>
                    </a:lnTo>
                    <a:lnTo>
                      <a:pt x="116" y="16"/>
                    </a:lnTo>
                    <a:lnTo>
                      <a:pt x="123" y="17"/>
                    </a:lnTo>
                    <a:lnTo>
                      <a:pt x="129" y="17"/>
                    </a:lnTo>
                    <a:lnTo>
                      <a:pt x="132" y="19"/>
                    </a:lnTo>
                    <a:lnTo>
                      <a:pt x="136" y="19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0" y="22"/>
                    </a:lnTo>
                    <a:lnTo>
                      <a:pt x="160" y="22"/>
                    </a:lnTo>
                    <a:lnTo>
                      <a:pt x="171" y="23"/>
                    </a:lnTo>
                    <a:lnTo>
                      <a:pt x="188" y="25"/>
                    </a:lnTo>
                    <a:lnTo>
                      <a:pt x="206" y="28"/>
                    </a:lnTo>
                    <a:lnTo>
                      <a:pt x="226" y="32"/>
                    </a:lnTo>
                    <a:lnTo>
                      <a:pt x="247" y="37"/>
                    </a:lnTo>
                    <a:lnTo>
                      <a:pt x="270" y="42"/>
                    </a:lnTo>
                    <a:lnTo>
                      <a:pt x="293" y="48"/>
                    </a:lnTo>
                    <a:lnTo>
                      <a:pt x="318" y="54"/>
                    </a:lnTo>
                    <a:lnTo>
                      <a:pt x="342" y="62"/>
                    </a:lnTo>
                    <a:lnTo>
                      <a:pt x="368" y="68"/>
                    </a:lnTo>
                    <a:lnTo>
                      <a:pt x="391" y="77"/>
                    </a:lnTo>
                    <a:lnTo>
                      <a:pt x="416" y="84"/>
                    </a:lnTo>
                    <a:lnTo>
                      <a:pt x="439" y="93"/>
                    </a:lnTo>
                    <a:lnTo>
                      <a:pt x="462" y="101"/>
                    </a:lnTo>
                    <a:lnTo>
                      <a:pt x="483" y="110"/>
                    </a:lnTo>
                    <a:lnTo>
                      <a:pt x="504" y="118"/>
                    </a:lnTo>
                    <a:lnTo>
                      <a:pt x="522" y="125"/>
                    </a:lnTo>
                    <a:lnTo>
                      <a:pt x="539" y="132"/>
                    </a:lnTo>
                    <a:lnTo>
                      <a:pt x="555" y="142"/>
                    </a:lnTo>
                    <a:lnTo>
                      <a:pt x="572" y="152"/>
                    </a:lnTo>
                    <a:lnTo>
                      <a:pt x="592" y="163"/>
                    </a:lnTo>
                    <a:lnTo>
                      <a:pt x="613" y="174"/>
                    </a:lnTo>
                    <a:lnTo>
                      <a:pt x="634" y="188"/>
                    </a:lnTo>
                    <a:lnTo>
                      <a:pt x="656" y="201"/>
                    </a:lnTo>
                    <a:lnTo>
                      <a:pt x="678" y="216"/>
                    </a:lnTo>
                    <a:lnTo>
                      <a:pt x="702" y="229"/>
                    </a:lnTo>
                    <a:lnTo>
                      <a:pt x="724" y="244"/>
                    </a:lnTo>
                    <a:lnTo>
                      <a:pt x="747" y="259"/>
                    </a:lnTo>
                    <a:lnTo>
                      <a:pt x="769" y="274"/>
                    </a:lnTo>
                    <a:lnTo>
                      <a:pt x="791" y="288"/>
                    </a:lnTo>
                    <a:lnTo>
                      <a:pt x="811" y="302"/>
                    </a:lnTo>
                    <a:lnTo>
                      <a:pt x="831" y="315"/>
                    </a:lnTo>
                    <a:lnTo>
                      <a:pt x="848" y="328"/>
                    </a:lnTo>
                    <a:lnTo>
                      <a:pt x="866" y="340"/>
                    </a:lnTo>
                    <a:lnTo>
                      <a:pt x="880" y="353"/>
                    </a:lnTo>
                    <a:lnTo>
                      <a:pt x="898" y="366"/>
                    </a:lnTo>
                    <a:lnTo>
                      <a:pt x="914" y="380"/>
                    </a:lnTo>
                    <a:lnTo>
                      <a:pt x="933" y="394"/>
                    </a:lnTo>
                    <a:lnTo>
                      <a:pt x="952" y="410"/>
                    </a:lnTo>
                    <a:lnTo>
                      <a:pt x="970" y="425"/>
                    </a:lnTo>
                    <a:lnTo>
                      <a:pt x="989" y="441"/>
                    </a:lnTo>
                    <a:lnTo>
                      <a:pt x="1008" y="456"/>
                    </a:lnTo>
                    <a:lnTo>
                      <a:pt x="1025" y="472"/>
                    </a:lnTo>
                    <a:lnTo>
                      <a:pt x="1044" y="487"/>
                    </a:lnTo>
                    <a:lnTo>
                      <a:pt x="1060" y="502"/>
                    </a:lnTo>
                    <a:lnTo>
                      <a:pt x="1077" y="515"/>
                    </a:lnTo>
                    <a:lnTo>
                      <a:pt x="1091" y="529"/>
                    </a:lnTo>
                    <a:lnTo>
                      <a:pt x="1105" y="541"/>
                    </a:lnTo>
                    <a:lnTo>
                      <a:pt x="1117" y="552"/>
                    </a:lnTo>
                    <a:lnTo>
                      <a:pt x="1128" y="562"/>
                    </a:lnTo>
                    <a:lnTo>
                      <a:pt x="1134" y="571"/>
                    </a:lnTo>
                    <a:lnTo>
                      <a:pt x="1142" y="577"/>
                    </a:lnTo>
                    <a:lnTo>
                      <a:pt x="1146" y="581"/>
                    </a:lnTo>
                    <a:lnTo>
                      <a:pt x="1150" y="584"/>
                    </a:lnTo>
                    <a:lnTo>
                      <a:pt x="1151" y="587"/>
                    </a:lnTo>
                    <a:lnTo>
                      <a:pt x="1154" y="589"/>
                    </a:lnTo>
                    <a:lnTo>
                      <a:pt x="1156" y="590"/>
                    </a:lnTo>
                    <a:lnTo>
                      <a:pt x="1158" y="592"/>
                    </a:lnTo>
                    <a:lnTo>
                      <a:pt x="1160" y="596"/>
                    </a:lnTo>
                    <a:lnTo>
                      <a:pt x="1164" y="599"/>
                    </a:lnTo>
                    <a:lnTo>
                      <a:pt x="1169" y="604"/>
                    </a:lnTo>
                    <a:lnTo>
                      <a:pt x="1176" y="610"/>
                    </a:lnTo>
                    <a:lnTo>
                      <a:pt x="1184" y="619"/>
                    </a:lnTo>
                    <a:lnTo>
                      <a:pt x="1195" y="630"/>
                    </a:lnTo>
                    <a:lnTo>
                      <a:pt x="1209" y="644"/>
                    </a:lnTo>
                    <a:lnTo>
                      <a:pt x="1227" y="660"/>
                    </a:lnTo>
                  </a:path>
                </a:pathLst>
              </a:custGeom>
              <a:noFill/>
              <a:ln w="1015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492720" y="4843440"/>
                <a:ext cx="1065240" cy="350640"/>
              </a:xfrm>
              <a:custGeom>
                <a:avLst/>
                <a:gdLst/>
                <a:ahLst/>
                <a:rect l="l" t="t" r="r" b="b"/>
                <a:pathLst>
                  <a:path w="671" h="221">
                    <a:moveTo>
                      <a:pt x="0" y="0"/>
                    </a:moveTo>
                    <a:lnTo>
                      <a:pt x="12" y="10"/>
                    </a:lnTo>
                    <a:lnTo>
                      <a:pt x="23" y="18"/>
                    </a:lnTo>
                    <a:lnTo>
                      <a:pt x="31" y="24"/>
                    </a:lnTo>
                    <a:lnTo>
                      <a:pt x="38" y="28"/>
                    </a:lnTo>
                    <a:lnTo>
                      <a:pt x="42" y="32"/>
                    </a:lnTo>
                    <a:lnTo>
                      <a:pt x="47" y="34"/>
                    </a:lnTo>
                    <a:lnTo>
                      <a:pt x="50" y="36"/>
                    </a:lnTo>
                    <a:lnTo>
                      <a:pt x="52" y="38"/>
                    </a:lnTo>
                    <a:lnTo>
                      <a:pt x="53" y="39"/>
                    </a:lnTo>
                    <a:lnTo>
                      <a:pt x="55" y="40"/>
                    </a:lnTo>
                    <a:lnTo>
                      <a:pt x="57" y="42"/>
                    </a:lnTo>
                    <a:lnTo>
                      <a:pt x="59" y="42"/>
                    </a:lnTo>
                    <a:lnTo>
                      <a:pt x="61" y="45"/>
                    </a:lnTo>
                    <a:lnTo>
                      <a:pt x="65" y="47"/>
                    </a:lnTo>
                    <a:lnTo>
                      <a:pt x="70" y="50"/>
                    </a:lnTo>
                    <a:lnTo>
                      <a:pt x="77" y="54"/>
                    </a:lnTo>
                    <a:lnTo>
                      <a:pt x="84" y="59"/>
                    </a:lnTo>
                    <a:lnTo>
                      <a:pt x="92" y="65"/>
                    </a:lnTo>
                    <a:lnTo>
                      <a:pt x="101" y="70"/>
                    </a:lnTo>
                    <a:lnTo>
                      <a:pt x="111" y="76"/>
                    </a:lnTo>
                    <a:lnTo>
                      <a:pt x="120" y="82"/>
                    </a:lnTo>
                    <a:lnTo>
                      <a:pt x="132" y="87"/>
                    </a:lnTo>
                    <a:lnTo>
                      <a:pt x="142" y="93"/>
                    </a:lnTo>
                    <a:lnTo>
                      <a:pt x="154" y="98"/>
                    </a:lnTo>
                    <a:lnTo>
                      <a:pt x="163" y="104"/>
                    </a:lnTo>
                    <a:lnTo>
                      <a:pt x="174" y="109"/>
                    </a:lnTo>
                    <a:lnTo>
                      <a:pt x="185" y="114"/>
                    </a:lnTo>
                    <a:lnTo>
                      <a:pt x="196" y="118"/>
                    </a:lnTo>
                    <a:lnTo>
                      <a:pt x="206" y="122"/>
                    </a:lnTo>
                    <a:lnTo>
                      <a:pt x="216" y="126"/>
                    </a:lnTo>
                    <a:lnTo>
                      <a:pt x="224" y="129"/>
                    </a:lnTo>
                    <a:lnTo>
                      <a:pt x="232" y="131"/>
                    </a:lnTo>
                    <a:lnTo>
                      <a:pt x="239" y="135"/>
                    </a:lnTo>
                    <a:lnTo>
                      <a:pt x="248" y="137"/>
                    </a:lnTo>
                    <a:lnTo>
                      <a:pt x="259" y="140"/>
                    </a:lnTo>
                    <a:lnTo>
                      <a:pt x="271" y="142"/>
                    </a:lnTo>
                    <a:lnTo>
                      <a:pt x="284" y="146"/>
                    </a:lnTo>
                    <a:lnTo>
                      <a:pt x="296" y="150"/>
                    </a:lnTo>
                    <a:lnTo>
                      <a:pt x="310" y="154"/>
                    </a:lnTo>
                    <a:lnTo>
                      <a:pt x="325" y="155"/>
                    </a:lnTo>
                    <a:lnTo>
                      <a:pt x="339" y="159"/>
                    </a:lnTo>
                    <a:lnTo>
                      <a:pt x="354" y="163"/>
                    </a:lnTo>
                    <a:lnTo>
                      <a:pt x="369" y="167"/>
                    </a:lnTo>
                    <a:lnTo>
                      <a:pt x="384" y="170"/>
                    </a:lnTo>
                    <a:lnTo>
                      <a:pt x="397" y="174"/>
                    </a:lnTo>
                    <a:lnTo>
                      <a:pt x="412" y="177"/>
                    </a:lnTo>
                    <a:lnTo>
                      <a:pt x="425" y="180"/>
                    </a:lnTo>
                    <a:lnTo>
                      <a:pt x="438" y="182"/>
                    </a:lnTo>
                    <a:lnTo>
                      <a:pt x="450" y="185"/>
                    </a:lnTo>
                    <a:lnTo>
                      <a:pt x="462" y="187"/>
                    </a:lnTo>
                    <a:lnTo>
                      <a:pt x="476" y="191"/>
                    </a:lnTo>
                    <a:lnTo>
                      <a:pt x="489" y="193"/>
                    </a:lnTo>
                    <a:lnTo>
                      <a:pt x="502" y="196"/>
                    </a:lnTo>
                    <a:lnTo>
                      <a:pt x="515" y="198"/>
                    </a:lnTo>
                    <a:lnTo>
                      <a:pt x="528" y="200"/>
                    </a:lnTo>
                    <a:lnTo>
                      <a:pt x="542" y="202"/>
                    </a:lnTo>
                    <a:lnTo>
                      <a:pt x="553" y="205"/>
                    </a:lnTo>
                    <a:lnTo>
                      <a:pt x="566" y="206"/>
                    </a:lnTo>
                    <a:lnTo>
                      <a:pt x="576" y="208"/>
                    </a:lnTo>
                    <a:lnTo>
                      <a:pt x="587" y="210"/>
                    </a:lnTo>
                    <a:lnTo>
                      <a:pt x="596" y="212"/>
                    </a:lnTo>
                    <a:lnTo>
                      <a:pt x="604" y="214"/>
                    </a:lnTo>
                    <a:lnTo>
                      <a:pt x="611" y="215"/>
                    </a:lnTo>
                    <a:lnTo>
                      <a:pt x="618" y="215"/>
                    </a:lnTo>
                    <a:lnTo>
                      <a:pt x="621" y="216"/>
                    </a:lnTo>
                    <a:lnTo>
                      <a:pt x="625" y="216"/>
                    </a:lnTo>
                    <a:lnTo>
                      <a:pt x="627" y="216"/>
                    </a:lnTo>
                    <a:lnTo>
                      <a:pt x="629" y="216"/>
                    </a:lnTo>
                    <a:lnTo>
                      <a:pt x="630" y="216"/>
                    </a:lnTo>
                    <a:lnTo>
                      <a:pt x="632" y="216"/>
                    </a:lnTo>
                    <a:lnTo>
                      <a:pt x="632" y="216"/>
                    </a:lnTo>
                    <a:lnTo>
                      <a:pt x="634" y="216"/>
                    </a:lnTo>
                    <a:lnTo>
                      <a:pt x="635" y="218"/>
                    </a:lnTo>
                    <a:lnTo>
                      <a:pt x="637" y="218"/>
                    </a:lnTo>
                    <a:lnTo>
                      <a:pt x="639" y="218"/>
                    </a:lnTo>
                    <a:lnTo>
                      <a:pt x="643" y="218"/>
                    </a:lnTo>
                    <a:lnTo>
                      <a:pt x="647" y="220"/>
                    </a:lnTo>
                    <a:lnTo>
                      <a:pt x="654" y="220"/>
                    </a:lnTo>
                    <a:lnTo>
                      <a:pt x="660" y="220"/>
                    </a:lnTo>
                    <a:lnTo>
                      <a:pt x="670" y="220"/>
                    </a:lnTo>
                  </a:path>
                </a:pathLst>
              </a:custGeom>
              <a:noFill/>
              <a:ln w="1015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02520" y="5199120"/>
                <a:ext cx="1377720" cy="176364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9"/>
                    </a:lnTo>
                    <a:lnTo>
                      <a:pt x="45" y="11"/>
                    </a:lnTo>
                    <a:lnTo>
                      <a:pt x="50" y="12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9"/>
                    </a:lnTo>
                    <a:lnTo>
                      <a:pt x="91" y="19"/>
                    </a:lnTo>
                    <a:lnTo>
                      <a:pt x="99" y="22"/>
                    </a:lnTo>
                    <a:lnTo>
                      <a:pt x="109" y="24"/>
                    </a:lnTo>
                    <a:lnTo>
                      <a:pt x="119" y="28"/>
                    </a:lnTo>
                    <a:lnTo>
                      <a:pt x="131" y="31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3"/>
                    </a:lnTo>
                    <a:lnTo>
                      <a:pt x="181" y="47"/>
                    </a:lnTo>
                    <a:lnTo>
                      <a:pt x="192" y="52"/>
                    </a:lnTo>
                    <a:lnTo>
                      <a:pt x="205" y="58"/>
                    </a:lnTo>
                    <a:lnTo>
                      <a:pt x="217" y="63"/>
                    </a:lnTo>
                    <a:lnTo>
                      <a:pt x="230" y="67"/>
                    </a:lnTo>
                    <a:lnTo>
                      <a:pt x="241" y="72"/>
                    </a:lnTo>
                    <a:lnTo>
                      <a:pt x="252" y="76"/>
                    </a:lnTo>
                    <a:lnTo>
                      <a:pt x="262" y="81"/>
                    </a:lnTo>
                    <a:lnTo>
                      <a:pt x="272" y="85"/>
                    </a:lnTo>
                    <a:lnTo>
                      <a:pt x="281" y="90"/>
                    </a:lnTo>
                    <a:lnTo>
                      <a:pt x="290" y="96"/>
                    </a:lnTo>
                    <a:lnTo>
                      <a:pt x="301" y="103"/>
                    </a:lnTo>
                    <a:lnTo>
                      <a:pt x="313" y="110"/>
                    </a:lnTo>
                    <a:lnTo>
                      <a:pt x="324" y="119"/>
                    </a:lnTo>
                    <a:lnTo>
                      <a:pt x="337" y="127"/>
                    </a:lnTo>
                    <a:lnTo>
                      <a:pt x="349" y="137"/>
                    </a:lnTo>
                    <a:lnTo>
                      <a:pt x="362" y="145"/>
                    </a:lnTo>
                    <a:lnTo>
                      <a:pt x="373" y="156"/>
                    </a:lnTo>
                    <a:lnTo>
                      <a:pt x="387" y="165"/>
                    </a:lnTo>
                    <a:lnTo>
                      <a:pt x="398" y="175"/>
                    </a:lnTo>
                    <a:lnTo>
                      <a:pt x="411" y="185"/>
                    </a:lnTo>
                    <a:lnTo>
                      <a:pt x="422" y="195"/>
                    </a:lnTo>
                    <a:lnTo>
                      <a:pt x="433" y="204"/>
                    </a:lnTo>
                    <a:lnTo>
                      <a:pt x="443" y="214"/>
                    </a:lnTo>
                    <a:lnTo>
                      <a:pt x="453" y="222"/>
                    </a:lnTo>
                    <a:lnTo>
                      <a:pt x="462" y="232"/>
                    </a:lnTo>
                    <a:lnTo>
                      <a:pt x="471" y="243"/>
                    </a:lnTo>
                    <a:lnTo>
                      <a:pt x="482" y="256"/>
                    </a:lnTo>
                    <a:lnTo>
                      <a:pt x="493" y="270"/>
                    </a:lnTo>
                    <a:lnTo>
                      <a:pt x="505" y="287"/>
                    </a:lnTo>
                    <a:lnTo>
                      <a:pt x="517" y="304"/>
                    </a:lnTo>
                    <a:lnTo>
                      <a:pt x="529" y="322"/>
                    </a:lnTo>
                    <a:lnTo>
                      <a:pt x="543" y="340"/>
                    </a:lnTo>
                    <a:lnTo>
                      <a:pt x="554" y="360"/>
                    </a:lnTo>
                    <a:lnTo>
                      <a:pt x="567" y="378"/>
                    </a:lnTo>
                    <a:lnTo>
                      <a:pt x="579" y="398"/>
                    </a:lnTo>
                    <a:lnTo>
                      <a:pt x="591" y="417"/>
                    </a:lnTo>
                    <a:lnTo>
                      <a:pt x="602" y="436"/>
                    </a:lnTo>
                    <a:lnTo>
                      <a:pt x="613" y="455"/>
                    </a:lnTo>
                    <a:lnTo>
                      <a:pt x="622" y="473"/>
                    </a:lnTo>
                    <a:lnTo>
                      <a:pt x="632" y="489"/>
                    </a:lnTo>
                    <a:lnTo>
                      <a:pt x="639" y="508"/>
                    </a:lnTo>
                    <a:lnTo>
                      <a:pt x="649" y="528"/>
                    </a:lnTo>
                    <a:lnTo>
                      <a:pt x="658" y="551"/>
                    </a:lnTo>
                    <a:lnTo>
                      <a:pt x="669" y="574"/>
                    </a:lnTo>
                    <a:lnTo>
                      <a:pt x="680" y="600"/>
                    </a:lnTo>
                    <a:lnTo>
                      <a:pt x="691" y="626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7" y="766"/>
                    </a:lnTo>
                    <a:lnTo>
                      <a:pt x="758" y="792"/>
                    </a:lnTo>
                    <a:lnTo>
                      <a:pt x="767" y="819"/>
                    </a:lnTo>
                    <a:lnTo>
                      <a:pt x="777" y="844"/>
                    </a:lnTo>
                    <a:lnTo>
                      <a:pt x="785" y="867"/>
                    </a:lnTo>
                    <a:lnTo>
                      <a:pt x="793" y="889"/>
                    </a:lnTo>
                    <a:lnTo>
                      <a:pt x="798" y="908"/>
                    </a:lnTo>
                    <a:lnTo>
                      <a:pt x="803" y="922"/>
                    </a:lnTo>
                    <a:lnTo>
                      <a:pt x="806" y="932"/>
                    </a:lnTo>
                    <a:lnTo>
                      <a:pt x="809" y="939"/>
                    </a:lnTo>
                    <a:lnTo>
                      <a:pt x="810" y="945"/>
                    </a:lnTo>
                    <a:lnTo>
                      <a:pt x="812" y="950"/>
                    </a:lnTo>
                    <a:lnTo>
                      <a:pt x="814" y="955"/>
                    </a:lnTo>
                    <a:lnTo>
                      <a:pt x="816" y="958"/>
                    </a:lnTo>
                    <a:lnTo>
                      <a:pt x="818" y="965"/>
                    </a:lnTo>
                    <a:lnTo>
                      <a:pt x="820" y="973"/>
                    </a:lnTo>
                    <a:lnTo>
                      <a:pt x="823" y="984"/>
                    </a:lnTo>
                    <a:lnTo>
                      <a:pt x="829" y="998"/>
                    </a:lnTo>
                    <a:lnTo>
                      <a:pt x="835" y="1018"/>
                    </a:lnTo>
                    <a:lnTo>
                      <a:pt x="844" y="1043"/>
                    </a:lnTo>
                    <a:lnTo>
                      <a:pt x="854" y="1073"/>
                    </a:lnTo>
                    <a:lnTo>
                      <a:pt x="867" y="1110"/>
                    </a:lnTo>
                  </a:path>
                </a:pathLst>
              </a:custGeom>
              <a:noFill/>
              <a:ln w="1015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>
            <a:off x="2133720" y="3276720"/>
            <a:ext cx="1828800" cy="3200400"/>
          </a:xfrm>
          <a:custGeom>
            <a:avLst/>
            <a:gdLst/>
            <a:ahLst/>
            <a:rect l="l" t="t" r="r" b="b"/>
            <a:pathLst>
              <a:path w="2009" h="2761">
                <a:moveTo>
                  <a:pt x="2008" y="2759"/>
                </a:moveTo>
                <a:lnTo>
                  <a:pt x="2008" y="2759"/>
                </a:lnTo>
                <a:lnTo>
                  <a:pt x="0" y="2760"/>
                </a:lnTo>
                <a:lnTo>
                  <a:pt x="0" y="0"/>
                </a:lnTo>
                <a:lnTo>
                  <a:pt x="0" y="0"/>
                </a:lnTo>
                <a:lnTo>
                  <a:pt x="160" y="55"/>
                </a:lnTo>
                <a:lnTo>
                  <a:pt x="199" y="69"/>
                </a:lnTo>
                <a:lnTo>
                  <a:pt x="244" y="91"/>
                </a:lnTo>
                <a:lnTo>
                  <a:pt x="296" y="114"/>
                </a:lnTo>
                <a:lnTo>
                  <a:pt x="347" y="142"/>
                </a:lnTo>
                <a:lnTo>
                  <a:pt x="401" y="168"/>
                </a:lnTo>
                <a:lnTo>
                  <a:pt x="452" y="194"/>
                </a:lnTo>
                <a:lnTo>
                  <a:pt x="500" y="220"/>
                </a:lnTo>
                <a:lnTo>
                  <a:pt x="521" y="238"/>
                </a:lnTo>
                <a:lnTo>
                  <a:pt x="546" y="253"/>
                </a:lnTo>
                <a:lnTo>
                  <a:pt x="575" y="271"/>
                </a:lnTo>
                <a:lnTo>
                  <a:pt x="604" y="289"/>
                </a:lnTo>
                <a:lnTo>
                  <a:pt x="635" y="311"/>
                </a:lnTo>
                <a:lnTo>
                  <a:pt x="668" y="332"/>
                </a:lnTo>
                <a:lnTo>
                  <a:pt x="700" y="355"/>
                </a:lnTo>
                <a:lnTo>
                  <a:pt x="734" y="377"/>
                </a:lnTo>
                <a:lnTo>
                  <a:pt x="765" y="401"/>
                </a:lnTo>
                <a:lnTo>
                  <a:pt x="798" y="425"/>
                </a:lnTo>
                <a:lnTo>
                  <a:pt x="830" y="449"/>
                </a:lnTo>
                <a:lnTo>
                  <a:pt x="863" y="471"/>
                </a:lnTo>
                <a:lnTo>
                  <a:pt x="891" y="494"/>
                </a:lnTo>
                <a:lnTo>
                  <a:pt x="920" y="515"/>
                </a:lnTo>
                <a:lnTo>
                  <a:pt x="946" y="536"/>
                </a:lnTo>
                <a:lnTo>
                  <a:pt x="971" y="553"/>
                </a:lnTo>
                <a:lnTo>
                  <a:pt x="992" y="578"/>
                </a:lnTo>
                <a:lnTo>
                  <a:pt x="1017" y="598"/>
                </a:lnTo>
                <a:lnTo>
                  <a:pt x="1043" y="624"/>
                </a:lnTo>
                <a:lnTo>
                  <a:pt x="1072" y="651"/>
                </a:lnTo>
                <a:lnTo>
                  <a:pt x="1099" y="680"/>
                </a:lnTo>
                <a:lnTo>
                  <a:pt x="1130" y="709"/>
                </a:lnTo>
                <a:lnTo>
                  <a:pt x="1160" y="741"/>
                </a:lnTo>
                <a:lnTo>
                  <a:pt x="1189" y="772"/>
                </a:lnTo>
                <a:lnTo>
                  <a:pt x="1216" y="807"/>
                </a:lnTo>
                <a:lnTo>
                  <a:pt x="1246" y="839"/>
                </a:lnTo>
                <a:lnTo>
                  <a:pt x="1274" y="870"/>
                </a:lnTo>
                <a:lnTo>
                  <a:pt x="1301" y="901"/>
                </a:lnTo>
                <a:lnTo>
                  <a:pt x="1327" y="933"/>
                </a:lnTo>
                <a:lnTo>
                  <a:pt x="1350" y="961"/>
                </a:lnTo>
                <a:lnTo>
                  <a:pt x="1371" y="988"/>
                </a:lnTo>
                <a:lnTo>
                  <a:pt x="1391" y="1013"/>
                </a:lnTo>
                <a:lnTo>
                  <a:pt x="1425" y="1069"/>
                </a:lnTo>
                <a:lnTo>
                  <a:pt x="1466" y="1129"/>
                </a:lnTo>
                <a:lnTo>
                  <a:pt x="1508" y="1193"/>
                </a:lnTo>
                <a:lnTo>
                  <a:pt x="1550" y="1260"/>
                </a:lnTo>
                <a:lnTo>
                  <a:pt x="1589" y="1327"/>
                </a:lnTo>
                <a:lnTo>
                  <a:pt x="1628" y="1387"/>
                </a:lnTo>
                <a:lnTo>
                  <a:pt x="1658" y="1441"/>
                </a:lnTo>
                <a:lnTo>
                  <a:pt x="1684" y="1485"/>
                </a:lnTo>
                <a:lnTo>
                  <a:pt x="1703" y="1531"/>
                </a:lnTo>
                <a:lnTo>
                  <a:pt x="1730" y="1583"/>
                </a:lnTo>
                <a:lnTo>
                  <a:pt x="1756" y="1640"/>
                </a:lnTo>
                <a:lnTo>
                  <a:pt x="1783" y="1697"/>
                </a:lnTo>
                <a:lnTo>
                  <a:pt x="1806" y="1757"/>
                </a:lnTo>
                <a:lnTo>
                  <a:pt x="1831" y="1813"/>
                </a:lnTo>
                <a:lnTo>
                  <a:pt x="1851" y="1864"/>
                </a:lnTo>
                <a:lnTo>
                  <a:pt x="1869" y="1907"/>
                </a:lnTo>
                <a:lnTo>
                  <a:pt x="1880" y="1953"/>
                </a:lnTo>
                <a:lnTo>
                  <a:pt x="1897" y="1999"/>
                </a:lnTo>
                <a:lnTo>
                  <a:pt x="1911" y="2051"/>
                </a:lnTo>
                <a:lnTo>
                  <a:pt x="1927" y="2103"/>
                </a:lnTo>
                <a:lnTo>
                  <a:pt x="1939" y="2156"/>
                </a:lnTo>
                <a:lnTo>
                  <a:pt x="1952" y="2204"/>
                </a:lnTo>
                <a:lnTo>
                  <a:pt x="1961" y="2246"/>
                </a:lnTo>
                <a:lnTo>
                  <a:pt x="1968" y="2279"/>
                </a:lnTo>
                <a:lnTo>
                  <a:pt x="1971" y="2315"/>
                </a:lnTo>
                <a:lnTo>
                  <a:pt x="1976" y="2355"/>
                </a:lnTo>
                <a:lnTo>
                  <a:pt x="1982" y="2397"/>
                </a:lnTo>
                <a:lnTo>
                  <a:pt x="1988" y="2441"/>
                </a:lnTo>
                <a:lnTo>
                  <a:pt x="1990" y="2487"/>
                </a:lnTo>
                <a:lnTo>
                  <a:pt x="1995" y="2529"/>
                </a:lnTo>
                <a:lnTo>
                  <a:pt x="1998" y="2568"/>
                </a:lnTo>
                <a:lnTo>
                  <a:pt x="2001" y="2601"/>
                </a:lnTo>
                <a:lnTo>
                  <a:pt x="2008" y="2759"/>
                </a:lnTo>
                <a:lnTo>
                  <a:pt x="2008" y="2759"/>
                </a:lnTo>
              </a:path>
            </a:pathLst>
          </a:custGeom>
          <a:solidFill>
            <a:srgbClr val="000080"/>
          </a:solidFill>
          <a:ln w="127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09680" y="3657600"/>
            <a:ext cx="525600" cy="1149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4800" y="0"/>
            <a:ext cx="9453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K no es superior a J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644920" y="2690640"/>
            <a:ext cx="7077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3195720"/>
            <a:ext cx="304920" cy="3045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0" y="0"/>
            <a:ext cx="945360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ero H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uperior a J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10280" y="3657600"/>
            <a:ext cx="644760" cy="687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848720" y="4495680"/>
            <a:ext cx="647640" cy="68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10058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de modo  que K es potencialmente superior a J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38280" y="1676520"/>
            <a:ext cx="5334120" cy="1600200"/>
          </a:xfrm>
          <a:prstGeom prst="wedgeRoundRectCallout">
            <a:avLst>
              <a:gd name="adj1" fmla="val -47680"/>
              <a:gd name="adj2" fmla="val 53967"/>
              <a:gd name="adj3" fmla="val 16667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H es acequible desde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mediante transferencia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sum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4800" y="0"/>
            <a:ext cx="94536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ibujemos los puntos acequibles desde K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33720" y="3276720"/>
            <a:ext cx="1827000" cy="3198600"/>
          </a:xfrm>
          <a:custGeom>
            <a:avLst/>
            <a:gdLst/>
            <a:ahLst/>
            <a:rect l="l" t="t" r="r" b="b"/>
            <a:pathLst>
              <a:path w="1151" h="2015">
                <a:moveTo>
                  <a:pt x="0" y="0"/>
                </a:moveTo>
                <a:lnTo>
                  <a:pt x="0" y="0"/>
                </a:lnTo>
                <a:lnTo>
                  <a:pt x="92" y="40"/>
                </a:lnTo>
                <a:lnTo>
                  <a:pt x="114" y="50"/>
                </a:lnTo>
                <a:lnTo>
                  <a:pt x="140" y="66"/>
                </a:lnTo>
                <a:lnTo>
                  <a:pt x="170" y="83"/>
                </a:lnTo>
                <a:lnTo>
                  <a:pt x="199" y="104"/>
                </a:lnTo>
                <a:lnTo>
                  <a:pt x="230" y="123"/>
                </a:lnTo>
                <a:lnTo>
                  <a:pt x="259" y="142"/>
                </a:lnTo>
                <a:lnTo>
                  <a:pt x="287" y="161"/>
                </a:lnTo>
                <a:lnTo>
                  <a:pt x="299" y="174"/>
                </a:lnTo>
                <a:lnTo>
                  <a:pt x="313" y="185"/>
                </a:lnTo>
                <a:lnTo>
                  <a:pt x="330" y="198"/>
                </a:lnTo>
                <a:lnTo>
                  <a:pt x="346" y="211"/>
                </a:lnTo>
                <a:lnTo>
                  <a:pt x="364" y="227"/>
                </a:lnTo>
                <a:lnTo>
                  <a:pt x="383" y="242"/>
                </a:lnTo>
                <a:lnTo>
                  <a:pt x="401" y="259"/>
                </a:lnTo>
                <a:lnTo>
                  <a:pt x="421" y="275"/>
                </a:lnTo>
                <a:lnTo>
                  <a:pt x="439" y="293"/>
                </a:lnTo>
                <a:lnTo>
                  <a:pt x="458" y="310"/>
                </a:lnTo>
                <a:lnTo>
                  <a:pt x="476" y="328"/>
                </a:lnTo>
                <a:lnTo>
                  <a:pt x="495" y="344"/>
                </a:lnTo>
                <a:lnTo>
                  <a:pt x="511" y="361"/>
                </a:lnTo>
                <a:lnTo>
                  <a:pt x="528" y="376"/>
                </a:lnTo>
                <a:lnTo>
                  <a:pt x="542" y="391"/>
                </a:lnTo>
                <a:lnTo>
                  <a:pt x="557" y="404"/>
                </a:lnTo>
                <a:lnTo>
                  <a:pt x="569" y="422"/>
                </a:lnTo>
                <a:lnTo>
                  <a:pt x="583" y="437"/>
                </a:lnTo>
                <a:lnTo>
                  <a:pt x="598" y="456"/>
                </a:lnTo>
                <a:lnTo>
                  <a:pt x="615" y="475"/>
                </a:lnTo>
                <a:lnTo>
                  <a:pt x="630" y="497"/>
                </a:lnTo>
                <a:lnTo>
                  <a:pt x="648" y="518"/>
                </a:lnTo>
                <a:lnTo>
                  <a:pt x="665" y="541"/>
                </a:lnTo>
                <a:lnTo>
                  <a:pt x="682" y="564"/>
                </a:lnTo>
                <a:lnTo>
                  <a:pt x="697" y="589"/>
                </a:lnTo>
                <a:lnTo>
                  <a:pt x="714" y="613"/>
                </a:lnTo>
                <a:lnTo>
                  <a:pt x="731" y="635"/>
                </a:lnTo>
                <a:lnTo>
                  <a:pt x="746" y="658"/>
                </a:lnTo>
                <a:lnTo>
                  <a:pt x="761" y="681"/>
                </a:lnTo>
                <a:lnTo>
                  <a:pt x="774" y="702"/>
                </a:lnTo>
                <a:lnTo>
                  <a:pt x="786" y="721"/>
                </a:lnTo>
                <a:lnTo>
                  <a:pt x="798" y="740"/>
                </a:lnTo>
                <a:lnTo>
                  <a:pt x="817" y="781"/>
                </a:lnTo>
                <a:lnTo>
                  <a:pt x="841" y="824"/>
                </a:lnTo>
                <a:lnTo>
                  <a:pt x="865" y="871"/>
                </a:lnTo>
                <a:lnTo>
                  <a:pt x="889" y="920"/>
                </a:lnTo>
                <a:lnTo>
                  <a:pt x="911" y="969"/>
                </a:lnTo>
                <a:lnTo>
                  <a:pt x="934" y="1013"/>
                </a:lnTo>
                <a:lnTo>
                  <a:pt x="951" y="1052"/>
                </a:lnTo>
                <a:lnTo>
                  <a:pt x="966" y="1084"/>
                </a:lnTo>
                <a:lnTo>
                  <a:pt x="977" y="1118"/>
                </a:lnTo>
                <a:lnTo>
                  <a:pt x="992" y="1156"/>
                </a:lnTo>
                <a:lnTo>
                  <a:pt x="1007" y="1197"/>
                </a:lnTo>
                <a:lnTo>
                  <a:pt x="1022" y="1239"/>
                </a:lnTo>
                <a:lnTo>
                  <a:pt x="1036" y="1283"/>
                </a:lnTo>
                <a:lnTo>
                  <a:pt x="1050" y="1324"/>
                </a:lnTo>
                <a:lnTo>
                  <a:pt x="1061" y="1361"/>
                </a:lnTo>
                <a:lnTo>
                  <a:pt x="1072" y="1392"/>
                </a:lnTo>
                <a:lnTo>
                  <a:pt x="1078" y="1426"/>
                </a:lnTo>
                <a:lnTo>
                  <a:pt x="1088" y="1460"/>
                </a:lnTo>
                <a:lnTo>
                  <a:pt x="1096" y="1498"/>
                </a:lnTo>
                <a:lnTo>
                  <a:pt x="1105" y="1536"/>
                </a:lnTo>
                <a:lnTo>
                  <a:pt x="1112" y="1574"/>
                </a:lnTo>
                <a:lnTo>
                  <a:pt x="1119" y="1609"/>
                </a:lnTo>
                <a:lnTo>
                  <a:pt x="1124" y="1640"/>
                </a:lnTo>
                <a:lnTo>
                  <a:pt x="1128" y="1664"/>
                </a:lnTo>
                <a:lnTo>
                  <a:pt x="1130" y="1690"/>
                </a:lnTo>
                <a:lnTo>
                  <a:pt x="1133" y="1720"/>
                </a:lnTo>
                <a:lnTo>
                  <a:pt x="1137" y="1750"/>
                </a:lnTo>
                <a:lnTo>
                  <a:pt x="1140" y="1782"/>
                </a:lnTo>
                <a:lnTo>
                  <a:pt x="1141" y="1816"/>
                </a:lnTo>
                <a:lnTo>
                  <a:pt x="1144" y="1847"/>
                </a:lnTo>
                <a:lnTo>
                  <a:pt x="1146" y="1875"/>
                </a:lnTo>
                <a:lnTo>
                  <a:pt x="1147" y="1899"/>
                </a:lnTo>
                <a:lnTo>
                  <a:pt x="1151" y="2015"/>
                </a:lnTo>
                <a:lnTo>
                  <a:pt x="1151" y="2015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5334120"/>
            <a:ext cx="525600" cy="1149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4800" y="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si aplicamos el concepto de accecibilidad en forma gener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3352680"/>
            <a:ext cx="3124080" cy="990720"/>
          </a:xfrm>
          <a:prstGeom prst="wedgeRoundRectCallout">
            <a:avLst>
              <a:gd name="adj1" fmla="val -63819"/>
              <a:gd name="adj2" fmla="val 116347"/>
              <a:gd name="adj3" fmla="val 16667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Otros puntos acequibles desde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4724280"/>
            <a:ext cx="4724280" cy="3048120"/>
          </a:xfrm>
          <a:prstGeom prst="rect">
            <a:avLst/>
          </a:prstGeom>
          <a:solidFill>
            <a:srgbClr val="ccffff"/>
          </a:solidFill>
          <a:ln w="5724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810000"/>
                </a:solidFill>
                <a:latin typeface="Brush738 BT"/>
              </a:rPr>
              <a:t>(Podría haber muchos puntos acequibles mediante transferencias de suma fij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686800" cy="6400800"/>
          </a:xfrm>
          <a:prstGeom prst="rect">
            <a:avLst/>
          </a:prstGeom>
          <a:solidFill>
            <a:srgbClr val="00ffff">
              <a:alpha val="50000"/>
            </a:srgbClr>
          </a:solidFill>
          <a:ln w="57240">
            <a:solidFill>
              <a:srgbClr val="000080"/>
            </a:solidFill>
            <a:miter/>
          </a:ln>
        </p:spPr>
        <p:txBody>
          <a:bodyPr lIns="0" rIns="0" tIns="0" bIns="0" anchor="t">
            <a:norm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3366"/>
                </a:solidFill>
                <a:latin typeface="Times New Roman"/>
              </a:rPr>
              <a:t>¿Cuáles precios deben utilizarse en la evaluación? ¿Los vigentes en K? ¿Los vigentes en J?</a:t>
            </a:r>
            <a:br>
              <a:rPr sz="3300"/>
            </a:br>
            <a:r>
              <a:rPr b="1" lang="en-GB" sz="33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3366"/>
                </a:solidFill>
                <a:latin typeface="Times New Roman"/>
              </a:rPr>
              <a:t>Hablamos sólo de ganancia potencial en ingreso.La compensación no es abonada. ¿Esto importa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3366"/>
                </a:solidFill>
                <a:latin typeface="Times New Roman"/>
              </a:rPr>
              <a:t>Y si no tiene lugar transferencia de ingreso alguna, de modo que no existe respuesta por parte de los consumidores ¿pueden evaluarse acertadamente las ganancias y pérdida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0880" y="15228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oblemas con el concepto “accesibilidad”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4952880"/>
            <a:ext cx="3809880" cy="2514600"/>
          </a:xfrm>
          <a:prstGeom prst="wedgeEllipseCallout">
            <a:avLst>
              <a:gd name="adj1" fmla="val 52458"/>
              <a:gd name="adj2" fmla="val 55680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10000"/>
                </a:solidFill>
                <a:latin typeface="Brush738 BT"/>
              </a:rPr>
              <a:t>Si ,pero este no es el mayor de los problemas,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604800" y="0"/>
            <a:ext cx="9453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odemos utilizar la terminología del bienestar individual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3200400"/>
            <a:ext cx="8948520" cy="3429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290760" indent="-28335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EOREMA: Una condición necesaria y suficiente para que s sea potencialmente superior a s´ es:                        </a:t>
            </a:r>
            <a:br>
              <a:rPr sz="3000"/>
            </a:b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GB" sz="30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VC</a:t>
            </a:r>
            <a:r>
              <a:rPr b="0" i="1" lang="en-GB" sz="3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s'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&gt; 0.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1736640"/>
            <a:ext cx="6464160" cy="300528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008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8000"/>
                </a:solidFill>
                <a:latin typeface="Times New Roman"/>
              </a:rPr>
              <a:t>¿Podemos realmente basar la economía del bienestar en la variación compensada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04800" y="0"/>
            <a:ext cx="9453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7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chemos una nueva mirada al argumento que K es potencialmente superior a J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17600" y="2843280"/>
            <a:ext cx="3189240" cy="4383000"/>
          </a:xfrm>
          <a:custGeom>
            <a:avLst/>
            <a:gdLst/>
            <a:ahLst/>
            <a:rect l="l" t="t" r="r" b="b"/>
            <a:pathLst>
              <a:path w="2009" h="2761">
                <a:moveTo>
                  <a:pt x="2008" y="2759"/>
                </a:moveTo>
                <a:lnTo>
                  <a:pt x="2008" y="2759"/>
                </a:lnTo>
                <a:lnTo>
                  <a:pt x="0" y="2760"/>
                </a:lnTo>
                <a:lnTo>
                  <a:pt x="0" y="0"/>
                </a:lnTo>
                <a:lnTo>
                  <a:pt x="0" y="0"/>
                </a:lnTo>
                <a:lnTo>
                  <a:pt x="160" y="55"/>
                </a:lnTo>
                <a:lnTo>
                  <a:pt x="199" y="69"/>
                </a:lnTo>
                <a:lnTo>
                  <a:pt x="244" y="91"/>
                </a:lnTo>
                <a:lnTo>
                  <a:pt x="296" y="114"/>
                </a:lnTo>
                <a:lnTo>
                  <a:pt x="347" y="142"/>
                </a:lnTo>
                <a:lnTo>
                  <a:pt x="401" y="168"/>
                </a:lnTo>
                <a:lnTo>
                  <a:pt x="452" y="194"/>
                </a:lnTo>
                <a:lnTo>
                  <a:pt x="500" y="220"/>
                </a:lnTo>
                <a:lnTo>
                  <a:pt x="521" y="238"/>
                </a:lnTo>
                <a:lnTo>
                  <a:pt x="546" y="253"/>
                </a:lnTo>
                <a:lnTo>
                  <a:pt x="575" y="271"/>
                </a:lnTo>
                <a:lnTo>
                  <a:pt x="604" y="289"/>
                </a:lnTo>
                <a:lnTo>
                  <a:pt x="635" y="311"/>
                </a:lnTo>
                <a:lnTo>
                  <a:pt x="668" y="332"/>
                </a:lnTo>
                <a:lnTo>
                  <a:pt x="700" y="355"/>
                </a:lnTo>
                <a:lnTo>
                  <a:pt x="734" y="377"/>
                </a:lnTo>
                <a:lnTo>
                  <a:pt x="765" y="401"/>
                </a:lnTo>
                <a:lnTo>
                  <a:pt x="798" y="425"/>
                </a:lnTo>
                <a:lnTo>
                  <a:pt x="830" y="449"/>
                </a:lnTo>
                <a:lnTo>
                  <a:pt x="863" y="471"/>
                </a:lnTo>
                <a:lnTo>
                  <a:pt x="891" y="494"/>
                </a:lnTo>
                <a:lnTo>
                  <a:pt x="920" y="515"/>
                </a:lnTo>
                <a:lnTo>
                  <a:pt x="946" y="536"/>
                </a:lnTo>
                <a:lnTo>
                  <a:pt x="971" y="553"/>
                </a:lnTo>
                <a:lnTo>
                  <a:pt x="992" y="578"/>
                </a:lnTo>
                <a:lnTo>
                  <a:pt x="1017" y="598"/>
                </a:lnTo>
                <a:lnTo>
                  <a:pt x="1043" y="624"/>
                </a:lnTo>
                <a:lnTo>
                  <a:pt x="1072" y="651"/>
                </a:lnTo>
                <a:lnTo>
                  <a:pt x="1099" y="680"/>
                </a:lnTo>
                <a:lnTo>
                  <a:pt x="1130" y="709"/>
                </a:lnTo>
                <a:lnTo>
                  <a:pt x="1160" y="741"/>
                </a:lnTo>
                <a:lnTo>
                  <a:pt x="1189" y="772"/>
                </a:lnTo>
                <a:lnTo>
                  <a:pt x="1216" y="807"/>
                </a:lnTo>
                <a:lnTo>
                  <a:pt x="1246" y="839"/>
                </a:lnTo>
                <a:lnTo>
                  <a:pt x="1274" y="870"/>
                </a:lnTo>
                <a:lnTo>
                  <a:pt x="1301" y="901"/>
                </a:lnTo>
                <a:lnTo>
                  <a:pt x="1327" y="933"/>
                </a:lnTo>
                <a:lnTo>
                  <a:pt x="1350" y="961"/>
                </a:lnTo>
                <a:lnTo>
                  <a:pt x="1371" y="988"/>
                </a:lnTo>
                <a:lnTo>
                  <a:pt x="1391" y="1013"/>
                </a:lnTo>
                <a:lnTo>
                  <a:pt x="1425" y="1069"/>
                </a:lnTo>
                <a:lnTo>
                  <a:pt x="1466" y="1129"/>
                </a:lnTo>
                <a:lnTo>
                  <a:pt x="1508" y="1193"/>
                </a:lnTo>
                <a:lnTo>
                  <a:pt x="1550" y="1260"/>
                </a:lnTo>
                <a:lnTo>
                  <a:pt x="1589" y="1327"/>
                </a:lnTo>
                <a:lnTo>
                  <a:pt x="1628" y="1387"/>
                </a:lnTo>
                <a:lnTo>
                  <a:pt x="1658" y="1441"/>
                </a:lnTo>
                <a:lnTo>
                  <a:pt x="1684" y="1485"/>
                </a:lnTo>
                <a:lnTo>
                  <a:pt x="1703" y="1531"/>
                </a:lnTo>
                <a:lnTo>
                  <a:pt x="1730" y="1583"/>
                </a:lnTo>
                <a:lnTo>
                  <a:pt x="1756" y="1640"/>
                </a:lnTo>
                <a:lnTo>
                  <a:pt x="1783" y="1697"/>
                </a:lnTo>
                <a:lnTo>
                  <a:pt x="1806" y="1757"/>
                </a:lnTo>
                <a:lnTo>
                  <a:pt x="1831" y="1813"/>
                </a:lnTo>
                <a:lnTo>
                  <a:pt x="1851" y="1864"/>
                </a:lnTo>
                <a:lnTo>
                  <a:pt x="1869" y="1907"/>
                </a:lnTo>
                <a:lnTo>
                  <a:pt x="1880" y="1953"/>
                </a:lnTo>
                <a:lnTo>
                  <a:pt x="1897" y="1999"/>
                </a:lnTo>
                <a:lnTo>
                  <a:pt x="1911" y="2051"/>
                </a:lnTo>
                <a:lnTo>
                  <a:pt x="1927" y="2103"/>
                </a:lnTo>
                <a:lnTo>
                  <a:pt x="1939" y="2156"/>
                </a:lnTo>
                <a:lnTo>
                  <a:pt x="1952" y="2204"/>
                </a:lnTo>
                <a:lnTo>
                  <a:pt x="1961" y="2246"/>
                </a:lnTo>
                <a:lnTo>
                  <a:pt x="1968" y="2279"/>
                </a:lnTo>
                <a:lnTo>
                  <a:pt x="1971" y="2315"/>
                </a:lnTo>
                <a:lnTo>
                  <a:pt x="1976" y="2355"/>
                </a:lnTo>
                <a:lnTo>
                  <a:pt x="1982" y="2397"/>
                </a:lnTo>
                <a:lnTo>
                  <a:pt x="1988" y="2441"/>
                </a:lnTo>
                <a:lnTo>
                  <a:pt x="1990" y="2487"/>
                </a:lnTo>
                <a:lnTo>
                  <a:pt x="1995" y="2529"/>
                </a:lnTo>
                <a:lnTo>
                  <a:pt x="1998" y="2568"/>
                </a:lnTo>
                <a:lnTo>
                  <a:pt x="2001" y="2601"/>
                </a:lnTo>
                <a:lnTo>
                  <a:pt x="2008" y="2759"/>
                </a:lnTo>
                <a:lnTo>
                  <a:pt x="2008" y="275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4062240"/>
            <a:ext cx="4381560" cy="3186360"/>
          </a:xfrm>
          <a:custGeom>
            <a:avLst/>
            <a:gdLst/>
            <a:ahLst/>
            <a:rect l="l" t="t" r="r" b="b"/>
            <a:pathLst>
              <a:path w="2760" h="2007">
                <a:moveTo>
                  <a:pt x="0" y="0"/>
                </a:moveTo>
                <a:lnTo>
                  <a:pt x="0" y="0"/>
                </a:lnTo>
                <a:lnTo>
                  <a:pt x="0" y="2006"/>
                </a:lnTo>
                <a:lnTo>
                  <a:pt x="2759" y="2006"/>
                </a:lnTo>
                <a:lnTo>
                  <a:pt x="2759" y="2006"/>
                </a:lnTo>
                <a:lnTo>
                  <a:pt x="2704" y="1847"/>
                </a:lnTo>
                <a:lnTo>
                  <a:pt x="2689" y="1808"/>
                </a:lnTo>
                <a:lnTo>
                  <a:pt x="2667" y="1762"/>
                </a:lnTo>
                <a:lnTo>
                  <a:pt x="2645" y="1710"/>
                </a:lnTo>
                <a:lnTo>
                  <a:pt x="2617" y="1660"/>
                </a:lnTo>
                <a:lnTo>
                  <a:pt x="2591" y="1606"/>
                </a:lnTo>
                <a:lnTo>
                  <a:pt x="2565" y="1555"/>
                </a:lnTo>
                <a:lnTo>
                  <a:pt x="2539" y="1506"/>
                </a:lnTo>
                <a:lnTo>
                  <a:pt x="2521" y="1485"/>
                </a:lnTo>
                <a:lnTo>
                  <a:pt x="2507" y="1460"/>
                </a:lnTo>
                <a:lnTo>
                  <a:pt x="2489" y="1431"/>
                </a:lnTo>
                <a:lnTo>
                  <a:pt x="2471" y="1402"/>
                </a:lnTo>
                <a:lnTo>
                  <a:pt x="2448" y="1372"/>
                </a:lnTo>
                <a:lnTo>
                  <a:pt x="2427" y="1339"/>
                </a:lnTo>
                <a:lnTo>
                  <a:pt x="2405" y="1306"/>
                </a:lnTo>
                <a:lnTo>
                  <a:pt x="2383" y="1272"/>
                </a:lnTo>
                <a:lnTo>
                  <a:pt x="2357" y="1241"/>
                </a:lnTo>
                <a:lnTo>
                  <a:pt x="2335" y="1208"/>
                </a:lnTo>
                <a:lnTo>
                  <a:pt x="2311" y="1176"/>
                </a:lnTo>
                <a:lnTo>
                  <a:pt x="2288" y="1143"/>
                </a:lnTo>
                <a:lnTo>
                  <a:pt x="2265" y="1115"/>
                </a:lnTo>
                <a:lnTo>
                  <a:pt x="2244" y="1086"/>
                </a:lnTo>
                <a:lnTo>
                  <a:pt x="2223" y="1060"/>
                </a:lnTo>
                <a:lnTo>
                  <a:pt x="2205" y="1036"/>
                </a:lnTo>
                <a:lnTo>
                  <a:pt x="2180" y="1014"/>
                </a:lnTo>
                <a:lnTo>
                  <a:pt x="2159" y="989"/>
                </a:lnTo>
                <a:lnTo>
                  <a:pt x="2135" y="963"/>
                </a:lnTo>
                <a:lnTo>
                  <a:pt x="2107" y="934"/>
                </a:lnTo>
                <a:lnTo>
                  <a:pt x="2078" y="907"/>
                </a:lnTo>
                <a:lnTo>
                  <a:pt x="2049" y="876"/>
                </a:lnTo>
                <a:lnTo>
                  <a:pt x="2017" y="846"/>
                </a:lnTo>
                <a:lnTo>
                  <a:pt x="1986" y="817"/>
                </a:lnTo>
                <a:lnTo>
                  <a:pt x="1951" y="790"/>
                </a:lnTo>
                <a:lnTo>
                  <a:pt x="1919" y="760"/>
                </a:lnTo>
                <a:lnTo>
                  <a:pt x="1888" y="732"/>
                </a:lnTo>
                <a:lnTo>
                  <a:pt x="1858" y="705"/>
                </a:lnTo>
                <a:lnTo>
                  <a:pt x="1826" y="679"/>
                </a:lnTo>
                <a:lnTo>
                  <a:pt x="1797" y="657"/>
                </a:lnTo>
                <a:lnTo>
                  <a:pt x="1770" y="636"/>
                </a:lnTo>
                <a:lnTo>
                  <a:pt x="1745" y="616"/>
                </a:lnTo>
                <a:lnTo>
                  <a:pt x="1689" y="582"/>
                </a:lnTo>
                <a:lnTo>
                  <a:pt x="1629" y="540"/>
                </a:lnTo>
                <a:lnTo>
                  <a:pt x="1565" y="498"/>
                </a:lnTo>
                <a:lnTo>
                  <a:pt x="1498" y="456"/>
                </a:lnTo>
                <a:lnTo>
                  <a:pt x="1432" y="417"/>
                </a:lnTo>
                <a:lnTo>
                  <a:pt x="1372" y="380"/>
                </a:lnTo>
                <a:lnTo>
                  <a:pt x="1316" y="348"/>
                </a:lnTo>
                <a:lnTo>
                  <a:pt x="1273" y="322"/>
                </a:lnTo>
                <a:lnTo>
                  <a:pt x="1227" y="304"/>
                </a:lnTo>
                <a:lnTo>
                  <a:pt x="1175" y="277"/>
                </a:lnTo>
                <a:lnTo>
                  <a:pt x="1118" y="251"/>
                </a:lnTo>
                <a:lnTo>
                  <a:pt x="1061" y="224"/>
                </a:lnTo>
                <a:lnTo>
                  <a:pt x="1000" y="200"/>
                </a:lnTo>
                <a:lnTo>
                  <a:pt x="945" y="176"/>
                </a:lnTo>
                <a:lnTo>
                  <a:pt x="894" y="156"/>
                </a:lnTo>
                <a:lnTo>
                  <a:pt x="852" y="138"/>
                </a:lnTo>
                <a:lnTo>
                  <a:pt x="805" y="127"/>
                </a:lnTo>
                <a:lnTo>
                  <a:pt x="759" y="110"/>
                </a:lnTo>
                <a:lnTo>
                  <a:pt x="707" y="96"/>
                </a:lnTo>
                <a:lnTo>
                  <a:pt x="655" y="80"/>
                </a:lnTo>
                <a:lnTo>
                  <a:pt x="602" y="68"/>
                </a:lnTo>
                <a:lnTo>
                  <a:pt x="555" y="55"/>
                </a:lnTo>
                <a:lnTo>
                  <a:pt x="513" y="46"/>
                </a:lnTo>
                <a:lnTo>
                  <a:pt x="478" y="38"/>
                </a:lnTo>
                <a:lnTo>
                  <a:pt x="443" y="36"/>
                </a:lnTo>
                <a:lnTo>
                  <a:pt x="405" y="30"/>
                </a:lnTo>
                <a:lnTo>
                  <a:pt x="361" y="24"/>
                </a:lnTo>
                <a:lnTo>
                  <a:pt x="317" y="19"/>
                </a:lnTo>
                <a:lnTo>
                  <a:pt x="272" y="16"/>
                </a:lnTo>
                <a:lnTo>
                  <a:pt x="229" y="12"/>
                </a:lnTo>
                <a:lnTo>
                  <a:pt x="191" y="9"/>
                </a:lnTo>
                <a:lnTo>
                  <a:pt x="158" y="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8100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643040"/>
            <a:ext cx="914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4800" y="0"/>
            <a:ext cx="94536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¿porqué no considerar el proceso “ en reversa” 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62840" y="6956280"/>
            <a:ext cx="93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14800" y="3124080"/>
            <a:ext cx="3809880" cy="1219320"/>
          </a:xfrm>
          <a:prstGeom prst="wedgeRoundRectCallout">
            <a:avLst>
              <a:gd name="adj1" fmla="val -61333"/>
              <a:gd name="adj2" fmla="val 103907"/>
              <a:gd name="adj3" fmla="val 16667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puntos acequibles desde  K (usando los precios en 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86400" y="4114800"/>
            <a:ext cx="3809880" cy="1219320"/>
          </a:xfrm>
          <a:prstGeom prst="wedgeRoundRectCallout">
            <a:avLst>
              <a:gd name="adj1" fmla="val -73083"/>
              <a:gd name="adj2" fmla="val 88282"/>
              <a:gd name="adj3" fmla="val 16667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puntos acequibles desde  J (usando los precios en J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11120" y="2819520"/>
            <a:ext cx="3189600" cy="4383000"/>
          </a:xfrm>
          <a:custGeom>
            <a:avLst/>
            <a:gdLst/>
            <a:ahLst/>
            <a:rect l="l" t="t" r="r" b="b"/>
            <a:pathLst>
              <a:path w="2009" h="2761">
                <a:moveTo>
                  <a:pt x="2008" y="2759"/>
                </a:moveTo>
                <a:lnTo>
                  <a:pt x="2008" y="2759"/>
                </a:lnTo>
                <a:lnTo>
                  <a:pt x="0" y="2760"/>
                </a:lnTo>
                <a:lnTo>
                  <a:pt x="0" y="0"/>
                </a:lnTo>
                <a:lnTo>
                  <a:pt x="0" y="0"/>
                </a:lnTo>
                <a:lnTo>
                  <a:pt x="160" y="55"/>
                </a:lnTo>
                <a:lnTo>
                  <a:pt x="199" y="69"/>
                </a:lnTo>
                <a:lnTo>
                  <a:pt x="244" y="91"/>
                </a:lnTo>
                <a:lnTo>
                  <a:pt x="296" y="114"/>
                </a:lnTo>
                <a:lnTo>
                  <a:pt x="347" y="142"/>
                </a:lnTo>
                <a:lnTo>
                  <a:pt x="401" y="168"/>
                </a:lnTo>
                <a:lnTo>
                  <a:pt x="452" y="194"/>
                </a:lnTo>
                <a:lnTo>
                  <a:pt x="500" y="220"/>
                </a:lnTo>
                <a:lnTo>
                  <a:pt x="521" y="238"/>
                </a:lnTo>
                <a:lnTo>
                  <a:pt x="546" y="253"/>
                </a:lnTo>
                <a:lnTo>
                  <a:pt x="575" y="271"/>
                </a:lnTo>
                <a:lnTo>
                  <a:pt x="604" y="289"/>
                </a:lnTo>
                <a:lnTo>
                  <a:pt x="635" y="311"/>
                </a:lnTo>
                <a:lnTo>
                  <a:pt x="668" y="332"/>
                </a:lnTo>
                <a:lnTo>
                  <a:pt x="700" y="355"/>
                </a:lnTo>
                <a:lnTo>
                  <a:pt x="734" y="377"/>
                </a:lnTo>
                <a:lnTo>
                  <a:pt x="765" y="401"/>
                </a:lnTo>
                <a:lnTo>
                  <a:pt x="798" y="425"/>
                </a:lnTo>
                <a:lnTo>
                  <a:pt x="830" y="449"/>
                </a:lnTo>
                <a:lnTo>
                  <a:pt x="863" y="471"/>
                </a:lnTo>
                <a:lnTo>
                  <a:pt x="891" y="494"/>
                </a:lnTo>
                <a:lnTo>
                  <a:pt x="920" y="515"/>
                </a:lnTo>
                <a:lnTo>
                  <a:pt x="946" y="536"/>
                </a:lnTo>
                <a:lnTo>
                  <a:pt x="971" y="553"/>
                </a:lnTo>
                <a:lnTo>
                  <a:pt x="992" y="578"/>
                </a:lnTo>
                <a:lnTo>
                  <a:pt x="1017" y="598"/>
                </a:lnTo>
                <a:lnTo>
                  <a:pt x="1043" y="624"/>
                </a:lnTo>
                <a:lnTo>
                  <a:pt x="1072" y="651"/>
                </a:lnTo>
                <a:lnTo>
                  <a:pt x="1099" y="680"/>
                </a:lnTo>
                <a:lnTo>
                  <a:pt x="1130" y="709"/>
                </a:lnTo>
                <a:lnTo>
                  <a:pt x="1160" y="741"/>
                </a:lnTo>
                <a:lnTo>
                  <a:pt x="1189" y="772"/>
                </a:lnTo>
                <a:lnTo>
                  <a:pt x="1216" y="807"/>
                </a:lnTo>
                <a:lnTo>
                  <a:pt x="1246" y="839"/>
                </a:lnTo>
                <a:lnTo>
                  <a:pt x="1274" y="870"/>
                </a:lnTo>
                <a:lnTo>
                  <a:pt x="1301" y="901"/>
                </a:lnTo>
                <a:lnTo>
                  <a:pt x="1327" y="933"/>
                </a:lnTo>
                <a:lnTo>
                  <a:pt x="1350" y="961"/>
                </a:lnTo>
                <a:lnTo>
                  <a:pt x="1371" y="988"/>
                </a:lnTo>
                <a:lnTo>
                  <a:pt x="1391" y="1013"/>
                </a:lnTo>
                <a:lnTo>
                  <a:pt x="1425" y="1069"/>
                </a:lnTo>
                <a:lnTo>
                  <a:pt x="1466" y="1129"/>
                </a:lnTo>
                <a:lnTo>
                  <a:pt x="1508" y="1193"/>
                </a:lnTo>
                <a:lnTo>
                  <a:pt x="1550" y="1260"/>
                </a:lnTo>
                <a:lnTo>
                  <a:pt x="1589" y="1327"/>
                </a:lnTo>
                <a:lnTo>
                  <a:pt x="1628" y="1387"/>
                </a:lnTo>
                <a:lnTo>
                  <a:pt x="1658" y="1441"/>
                </a:lnTo>
                <a:lnTo>
                  <a:pt x="1684" y="1485"/>
                </a:lnTo>
                <a:lnTo>
                  <a:pt x="1703" y="1531"/>
                </a:lnTo>
                <a:lnTo>
                  <a:pt x="1730" y="1583"/>
                </a:lnTo>
                <a:lnTo>
                  <a:pt x="1756" y="1640"/>
                </a:lnTo>
                <a:lnTo>
                  <a:pt x="1783" y="1697"/>
                </a:lnTo>
                <a:lnTo>
                  <a:pt x="1806" y="1757"/>
                </a:lnTo>
                <a:lnTo>
                  <a:pt x="1831" y="1813"/>
                </a:lnTo>
                <a:lnTo>
                  <a:pt x="1851" y="1864"/>
                </a:lnTo>
                <a:lnTo>
                  <a:pt x="1869" y="1907"/>
                </a:lnTo>
                <a:lnTo>
                  <a:pt x="1880" y="1953"/>
                </a:lnTo>
                <a:lnTo>
                  <a:pt x="1897" y="1999"/>
                </a:lnTo>
                <a:lnTo>
                  <a:pt x="1911" y="2051"/>
                </a:lnTo>
                <a:lnTo>
                  <a:pt x="1927" y="2103"/>
                </a:lnTo>
                <a:lnTo>
                  <a:pt x="1939" y="2156"/>
                </a:lnTo>
                <a:lnTo>
                  <a:pt x="1952" y="2204"/>
                </a:lnTo>
                <a:lnTo>
                  <a:pt x="1961" y="2246"/>
                </a:lnTo>
                <a:lnTo>
                  <a:pt x="1968" y="2279"/>
                </a:lnTo>
                <a:lnTo>
                  <a:pt x="1971" y="2315"/>
                </a:lnTo>
                <a:lnTo>
                  <a:pt x="1976" y="2355"/>
                </a:lnTo>
                <a:lnTo>
                  <a:pt x="1982" y="2397"/>
                </a:lnTo>
                <a:lnTo>
                  <a:pt x="1988" y="2441"/>
                </a:lnTo>
                <a:lnTo>
                  <a:pt x="1990" y="2487"/>
                </a:lnTo>
                <a:lnTo>
                  <a:pt x="1995" y="2529"/>
                </a:lnTo>
                <a:lnTo>
                  <a:pt x="1998" y="2568"/>
                </a:lnTo>
                <a:lnTo>
                  <a:pt x="2001" y="2601"/>
                </a:lnTo>
                <a:lnTo>
                  <a:pt x="2008" y="2759"/>
                </a:lnTo>
                <a:lnTo>
                  <a:pt x="2008" y="2759"/>
                </a:lnTo>
              </a:path>
            </a:pathLst>
          </a:custGeom>
          <a:solidFill>
            <a:srgbClr val="008080"/>
          </a:solidFill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711600" y="6062760"/>
            <a:ext cx="647640" cy="684000"/>
            <a:chOff x="3711600" y="6062760"/>
            <a:chExt cx="647640" cy="684000"/>
          </a:xfrm>
        </p:grpSpPr>
        <p:sp>
          <p:nvSpPr>
            <p:cNvPr id="518" name=""/>
            <p:cNvSpPr/>
            <p:nvPr/>
          </p:nvSpPr>
          <p:spPr>
            <a:xfrm>
              <a:off x="3711600" y="6062760"/>
              <a:ext cx="647640" cy="684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2960" y="6173640"/>
              <a:ext cx="31428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819440" y="4302000"/>
            <a:ext cx="644400" cy="687600"/>
            <a:chOff x="1819440" y="4302000"/>
            <a:chExt cx="644400" cy="687600"/>
          </a:xfrm>
        </p:grpSpPr>
        <p:sp>
          <p:nvSpPr>
            <p:cNvPr id="521" name=""/>
            <p:cNvSpPr/>
            <p:nvPr/>
          </p:nvSpPr>
          <p:spPr>
            <a:xfrm>
              <a:off x="1819440" y="4302000"/>
              <a:ext cx="644400" cy="687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9000" y="4413240"/>
              <a:ext cx="241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1357200" y="2895480"/>
            <a:ext cx="2222640" cy="1737000"/>
          </a:xfrm>
          <a:custGeom>
            <a:avLst/>
            <a:gdLst/>
            <a:ahLst/>
            <a:rect l="l" t="t" r="r" b="b"/>
            <a:pathLst>
              <a:path w="1400" h="1094">
                <a:moveTo>
                  <a:pt x="1400" y="1094"/>
                </a:moveTo>
                <a:lnTo>
                  <a:pt x="1269" y="1022"/>
                </a:lnTo>
                <a:lnTo>
                  <a:pt x="1226" y="997"/>
                </a:lnTo>
                <a:lnTo>
                  <a:pt x="1183" y="979"/>
                </a:lnTo>
                <a:lnTo>
                  <a:pt x="1133" y="954"/>
                </a:lnTo>
                <a:lnTo>
                  <a:pt x="1078" y="930"/>
                </a:lnTo>
                <a:lnTo>
                  <a:pt x="1023" y="906"/>
                </a:lnTo>
                <a:lnTo>
                  <a:pt x="964" y="883"/>
                </a:lnTo>
                <a:lnTo>
                  <a:pt x="912" y="859"/>
                </a:lnTo>
                <a:lnTo>
                  <a:pt x="862" y="841"/>
                </a:lnTo>
                <a:lnTo>
                  <a:pt x="821" y="824"/>
                </a:lnTo>
                <a:lnTo>
                  <a:pt x="776" y="814"/>
                </a:lnTo>
                <a:lnTo>
                  <a:pt x="733" y="798"/>
                </a:lnTo>
                <a:lnTo>
                  <a:pt x="682" y="784"/>
                </a:lnTo>
                <a:lnTo>
                  <a:pt x="632" y="770"/>
                </a:lnTo>
                <a:lnTo>
                  <a:pt x="581" y="758"/>
                </a:lnTo>
                <a:lnTo>
                  <a:pt x="535" y="746"/>
                </a:lnTo>
                <a:lnTo>
                  <a:pt x="495" y="737"/>
                </a:lnTo>
                <a:lnTo>
                  <a:pt x="461" y="731"/>
                </a:lnTo>
                <a:lnTo>
                  <a:pt x="426" y="728"/>
                </a:lnTo>
                <a:lnTo>
                  <a:pt x="390" y="723"/>
                </a:lnTo>
                <a:lnTo>
                  <a:pt x="348" y="718"/>
                </a:lnTo>
                <a:lnTo>
                  <a:pt x="306" y="712"/>
                </a:lnTo>
                <a:lnTo>
                  <a:pt x="262" y="709"/>
                </a:lnTo>
                <a:lnTo>
                  <a:pt x="221" y="706"/>
                </a:lnTo>
                <a:lnTo>
                  <a:pt x="184" y="703"/>
                </a:lnTo>
                <a:lnTo>
                  <a:pt x="152" y="699"/>
                </a:lnTo>
                <a:lnTo>
                  <a:pt x="0" y="693"/>
                </a:lnTo>
                <a:lnTo>
                  <a:pt x="3" y="688"/>
                </a:lnTo>
                <a:lnTo>
                  <a:pt x="3" y="6"/>
                </a:lnTo>
                <a:lnTo>
                  <a:pt x="0" y="0"/>
                </a:lnTo>
                <a:lnTo>
                  <a:pt x="0" y="0"/>
                </a:lnTo>
                <a:lnTo>
                  <a:pt x="154" y="54"/>
                </a:lnTo>
                <a:lnTo>
                  <a:pt x="192" y="68"/>
                </a:lnTo>
                <a:lnTo>
                  <a:pt x="236" y="88"/>
                </a:lnTo>
                <a:lnTo>
                  <a:pt x="286" y="110"/>
                </a:lnTo>
                <a:lnTo>
                  <a:pt x="336" y="136"/>
                </a:lnTo>
                <a:lnTo>
                  <a:pt x="387" y="161"/>
                </a:lnTo>
                <a:lnTo>
                  <a:pt x="436" y="185"/>
                </a:lnTo>
                <a:lnTo>
                  <a:pt x="482" y="210"/>
                </a:lnTo>
                <a:lnTo>
                  <a:pt x="504" y="227"/>
                </a:lnTo>
                <a:lnTo>
                  <a:pt x="527" y="240"/>
                </a:lnTo>
                <a:lnTo>
                  <a:pt x="555" y="257"/>
                </a:lnTo>
                <a:lnTo>
                  <a:pt x="584" y="274"/>
                </a:lnTo>
                <a:lnTo>
                  <a:pt x="612" y="295"/>
                </a:lnTo>
                <a:lnTo>
                  <a:pt x="644" y="315"/>
                </a:lnTo>
                <a:lnTo>
                  <a:pt x="676" y="336"/>
                </a:lnTo>
                <a:lnTo>
                  <a:pt x="709" y="357"/>
                </a:lnTo>
                <a:lnTo>
                  <a:pt x="739" y="380"/>
                </a:lnTo>
                <a:lnTo>
                  <a:pt x="771" y="403"/>
                </a:lnTo>
                <a:lnTo>
                  <a:pt x="800" y="424"/>
                </a:lnTo>
                <a:lnTo>
                  <a:pt x="833" y="446"/>
                </a:lnTo>
                <a:lnTo>
                  <a:pt x="859" y="468"/>
                </a:lnTo>
                <a:lnTo>
                  <a:pt x="888" y="487"/>
                </a:lnTo>
                <a:lnTo>
                  <a:pt x="913" y="506"/>
                </a:lnTo>
                <a:lnTo>
                  <a:pt x="936" y="523"/>
                </a:lnTo>
                <a:lnTo>
                  <a:pt x="957" y="547"/>
                </a:lnTo>
                <a:lnTo>
                  <a:pt x="982" y="565"/>
                </a:lnTo>
                <a:lnTo>
                  <a:pt x="1007" y="589"/>
                </a:lnTo>
                <a:lnTo>
                  <a:pt x="1034" y="614"/>
                </a:lnTo>
                <a:lnTo>
                  <a:pt x="1062" y="642"/>
                </a:lnTo>
                <a:lnTo>
                  <a:pt x="1091" y="670"/>
                </a:lnTo>
                <a:lnTo>
                  <a:pt x="1118" y="699"/>
                </a:lnTo>
                <a:lnTo>
                  <a:pt x="1147" y="729"/>
                </a:lnTo>
                <a:lnTo>
                  <a:pt x="1174" y="761"/>
                </a:lnTo>
                <a:lnTo>
                  <a:pt x="1202" y="791"/>
                </a:lnTo>
                <a:lnTo>
                  <a:pt x="1230" y="821"/>
                </a:lnTo>
                <a:lnTo>
                  <a:pt x="1256" y="850"/>
                </a:lnTo>
                <a:lnTo>
                  <a:pt x="1280" y="880"/>
                </a:lnTo>
                <a:lnTo>
                  <a:pt x="1303" y="907"/>
                </a:lnTo>
                <a:lnTo>
                  <a:pt x="1323" y="932"/>
                </a:lnTo>
                <a:lnTo>
                  <a:pt x="1341" y="956"/>
                </a:lnTo>
                <a:lnTo>
                  <a:pt x="1374" y="1008"/>
                </a:lnTo>
                <a:lnTo>
                  <a:pt x="1392" y="1082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4800" y="0"/>
            <a:ext cx="94536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mbine los d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95280" y="4021200"/>
            <a:ext cx="4381560" cy="3217680"/>
          </a:xfrm>
          <a:custGeom>
            <a:avLst/>
            <a:gdLst/>
            <a:ahLst/>
            <a:rect l="l" t="t" r="r" b="b"/>
            <a:pathLst>
              <a:path w="2760" h="2009">
                <a:moveTo>
                  <a:pt x="0" y="0"/>
                </a:moveTo>
                <a:lnTo>
                  <a:pt x="0" y="0"/>
                </a:lnTo>
                <a:lnTo>
                  <a:pt x="0" y="2008"/>
                </a:lnTo>
                <a:lnTo>
                  <a:pt x="2759" y="2008"/>
                </a:lnTo>
                <a:lnTo>
                  <a:pt x="2759" y="2008"/>
                </a:lnTo>
                <a:lnTo>
                  <a:pt x="2704" y="1847"/>
                </a:lnTo>
                <a:lnTo>
                  <a:pt x="2689" y="1808"/>
                </a:lnTo>
                <a:lnTo>
                  <a:pt x="2667" y="1762"/>
                </a:lnTo>
                <a:lnTo>
                  <a:pt x="2645" y="1711"/>
                </a:lnTo>
                <a:lnTo>
                  <a:pt x="2617" y="1660"/>
                </a:lnTo>
                <a:lnTo>
                  <a:pt x="2591" y="1606"/>
                </a:lnTo>
                <a:lnTo>
                  <a:pt x="2565" y="1555"/>
                </a:lnTo>
                <a:lnTo>
                  <a:pt x="2539" y="1507"/>
                </a:lnTo>
                <a:lnTo>
                  <a:pt x="2521" y="1486"/>
                </a:lnTo>
                <a:lnTo>
                  <a:pt x="2507" y="1460"/>
                </a:lnTo>
                <a:lnTo>
                  <a:pt x="2489" y="1431"/>
                </a:lnTo>
                <a:lnTo>
                  <a:pt x="2471" y="1402"/>
                </a:lnTo>
                <a:lnTo>
                  <a:pt x="2448" y="1372"/>
                </a:lnTo>
                <a:lnTo>
                  <a:pt x="2427" y="1340"/>
                </a:lnTo>
                <a:lnTo>
                  <a:pt x="2405" y="1306"/>
                </a:lnTo>
                <a:lnTo>
                  <a:pt x="2383" y="1273"/>
                </a:lnTo>
                <a:lnTo>
                  <a:pt x="2357" y="1242"/>
                </a:lnTo>
                <a:lnTo>
                  <a:pt x="2335" y="1208"/>
                </a:lnTo>
                <a:lnTo>
                  <a:pt x="2311" y="1177"/>
                </a:lnTo>
                <a:lnTo>
                  <a:pt x="2288" y="1144"/>
                </a:lnTo>
                <a:lnTo>
                  <a:pt x="2265" y="1116"/>
                </a:lnTo>
                <a:lnTo>
                  <a:pt x="2244" y="1087"/>
                </a:lnTo>
                <a:lnTo>
                  <a:pt x="2223" y="1061"/>
                </a:lnTo>
                <a:lnTo>
                  <a:pt x="2205" y="1036"/>
                </a:lnTo>
                <a:lnTo>
                  <a:pt x="2180" y="1015"/>
                </a:lnTo>
                <a:lnTo>
                  <a:pt x="2159" y="989"/>
                </a:lnTo>
                <a:lnTo>
                  <a:pt x="2135" y="963"/>
                </a:lnTo>
                <a:lnTo>
                  <a:pt x="2107" y="936"/>
                </a:lnTo>
                <a:lnTo>
                  <a:pt x="2078" y="907"/>
                </a:lnTo>
                <a:lnTo>
                  <a:pt x="2049" y="877"/>
                </a:lnTo>
                <a:lnTo>
                  <a:pt x="2017" y="848"/>
                </a:lnTo>
                <a:lnTo>
                  <a:pt x="1986" y="818"/>
                </a:lnTo>
                <a:lnTo>
                  <a:pt x="1951" y="790"/>
                </a:lnTo>
                <a:lnTo>
                  <a:pt x="1919" y="760"/>
                </a:lnTo>
                <a:lnTo>
                  <a:pt x="1888" y="732"/>
                </a:lnTo>
                <a:lnTo>
                  <a:pt x="1858" y="705"/>
                </a:lnTo>
                <a:lnTo>
                  <a:pt x="1826" y="680"/>
                </a:lnTo>
                <a:lnTo>
                  <a:pt x="1797" y="658"/>
                </a:lnTo>
                <a:lnTo>
                  <a:pt x="1770" y="636"/>
                </a:lnTo>
                <a:lnTo>
                  <a:pt x="1745" y="616"/>
                </a:lnTo>
                <a:lnTo>
                  <a:pt x="1689" y="582"/>
                </a:lnTo>
                <a:lnTo>
                  <a:pt x="1629" y="540"/>
                </a:lnTo>
                <a:lnTo>
                  <a:pt x="1565" y="499"/>
                </a:lnTo>
                <a:lnTo>
                  <a:pt x="1498" y="456"/>
                </a:lnTo>
                <a:lnTo>
                  <a:pt x="1432" y="417"/>
                </a:lnTo>
                <a:lnTo>
                  <a:pt x="1372" y="380"/>
                </a:lnTo>
                <a:lnTo>
                  <a:pt x="1316" y="348"/>
                </a:lnTo>
                <a:lnTo>
                  <a:pt x="1273" y="322"/>
                </a:lnTo>
                <a:lnTo>
                  <a:pt x="1227" y="304"/>
                </a:lnTo>
                <a:lnTo>
                  <a:pt x="1175" y="277"/>
                </a:lnTo>
                <a:lnTo>
                  <a:pt x="1118" y="252"/>
                </a:lnTo>
                <a:lnTo>
                  <a:pt x="1061" y="225"/>
                </a:lnTo>
                <a:lnTo>
                  <a:pt x="1000" y="201"/>
                </a:lnTo>
                <a:lnTo>
                  <a:pt x="945" y="176"/>
                </a:lnTo>
                <a:lnTo>
                  <a:pt x="894" y="156"/>
                </a:lnTo>
                <a:lnTo>
                  <a:pt x="852" y="138"/>
                </a:lnTo>
                <a:lnTo>
                  <a:pt x="805" y="127"/>
                </a:lnTo>
                <a:lnTo>
                  <a:pt x="759" y="111"/>
                </a:lnTo>
                <a:lnTo>
                  <a:pt x="707" y="96"/>
                </a:lnTo>
                <a:lnTo>
                  <a:pt x="655" y="80"/>
                </a:lnTo>
                <a:lnTo>
                  <a:pt x="602" y="68"/>
                </a:lnTo>
                <a:lnTo>
                  <a:pt x="555" y="56"/>
                </a:lnTo>
                <a:lnTo>
                  <a:pt x="513" y="46"/>
                </a:lnTo>
                <a:lnTo>
                  <a:pt x="478" y="39"/>
                </a:lnTo>
                <a:lnTo>
                  <a:pt x="443" y="36"/>
                </a:lnTo>
                <a:lnTo>
                  <a:pt x="405" y="31"/>
                </a:lnTo>
                <a:lnTo>
                  <a:pt x="361" y="26"/>
                </a:lnTo>
                <a:lnTo>
                  <a:pt x="317" y="19"/>
                </a:lnTo>
                <a:lnTo>
                  <a:pt x="272" y="17"/>
                </a:lnTo>
                <a:lnTo>
                  <a:pt x="229" y="12"/>
                </a:lnTo>
                <a:lnTo>
                  <a:pt x="191" y="10"/>
                </a:lnTo>
                <a:lnTo>
                  <a:pt x="158" y="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81240" y="2743200"/>
            <a:ext cx="3214440" cy="4495680"/>
          </a:xfrm>
          <a:custGeom>
            <a:avLst/>
            <a:gdLst/>
            <a:ahLst/>
            <a:rect l="l" t="t" r="r" b="b"/>
            <a:pathLst>
              <a:path w="2009" h="2761">
                <a:moveTo>
                  <a:pt x="2008" y="2759"/>
                </a:moveTo>
                <a:lnTo>
                  <a:pt x="2008" y="2759"/>
                </a:lnTo>
                <a:lnTo>
                  <a:pt x="0" y="2760"/>
                </a:lnTo>
                <a:lnTo>
                  <a:pt x="0" y="0"/>
                </a:lnTo>
                <a:lnTo>
                  <a:pt x="0" y="0"/>
                </a:lnTo>
                <a:lnTo>
                  <a:pt x="160" y="55"/>
                </a:lnTo>
                <a:lnTo>
                  <a:pt x="199" y="69"/>
                </a:lnTo>
                <a:lnTo>
                  <a:pt x="244" y="91"/>
                </a:lnTo>
                <a:lnTo>
                  <a:pt x="296" y="114"/>
                </a:lnTo>
                <a:lnTo>
                  <a:pt x="347" y="142"/>
                </a:lnTo>
                <a:lnTo>
                  <a:pt x="401" y="168"/>
                </a:lnTo>
                <a:lnTo>
                  <a:pt x="452" y="194"/>
                </a:lnTo>
                <a:lnTo>
                  <a:pt x="500" y="220"/>
                </a:lnTo>
                <a:lnTo>
                  <a:pt x="521" y="238"/>
                </a:lnTo>
                <a:lnTo>
                  <a:pt x="546" y="253"/>
                </a:lnTo>
                <a:lnTo>
                  <a:pt x="575" y="271"/>
                </a:lnTo>
                <a:lnTo>
                  <a:pt x="604" y="289"/>
                </a:lnTo>
                <a:lnTo>
                  <a:pt x="635" y="311"/>
                </a:lnTo>
                <a:lnTo>
                  <a:pt x="668" y="332"/>
                </a:lnTo>
                <a:lnTo>
                  <a:pt x="700" y="355"/>
                </a:lnTo>
                <a:lnTo>
                  <a:pt x="734" y="377"/>
                </a:lnTo>
                <a:lnTo>
                  <a:pt x="765" y="401"/>
                </a:lnTo>
                <a:lnTo>
                  <a:pt x="798" y="425"/>
                </a:lnTo>
                <a:lnTo>
                  <a:pt x="830" y="449"/>
                </a:lnTo>
                <a:lnTo>
                  <a:pt x="863" y="471"/>
                </a:lnTo>
                <a:lnTo>
                  <a:pt x="891" y="494"/>
                </a:lnTo>
                <a:lnTo>
                  <a:pt x="920" y="515"/>
                </a:lnTo>
                <a:lnTo>
                  <a:pt x="946" y="536"/>
                </a:lnTo>
                <a:lnTo>
                  <a:pt x="971" y="553"/>
                </a:lnTo>
                <a:lnTo>
                  <a:pt x="992" y="578"/>
                </a:lnTo>
                <a:lnTo>
                  <a:pt x="1017" y="598"/>
                </a:lnTo>
                <a:lnTo>
                  <a:pt x="1043" y="624"/>
                </a:lnTo>
                <a:lnTo>
                  <a:pt x="1072" y="651"/>
                </a:lnTo>
                <a:lnTo>
                  <a:pt x="1099" y="680"/>
                </a:lnTo>
                <a:lnTo>
                  <a:pt x="1130" y="709"/>
                </a:lnTo>
                <a:lnTo>
                  <a:pt x="1160" y="741"/>
                </a:lnTo>
                <a:lnTo>
                  <a:pt x="1189" y="772"/>
                </a:lnTo>
                <a:lnTo>
                  <a:pt x="1216" y="807"/>
                </a:lnTo>
                <a:lnTo>
                  <a:pt x="1246" y="839"/>
                </a:lnTo>
                <a:lnTo>
                  <a:pt x="1274" y="870"/>
                </a:lnTo>
                <a:lnTo>
                  <a:pt x="1301" y="901"/>
                </a:lnTo>
                <a:lnTo>
                  <a:pt x="1327" y="933"/>
                </a:lnTo>
                <a:lnTo>
                  <a:pt x="1350" y="961"/>
                </a:lnTo>
                <a:lnTo>
                  <a:pt x="1371" y="988"/>
                </a:lnTo>
                <a:lnTo>
                  <a:pt x="1391" y="1013"/>
                </a:lnTo>
                <a:lnTo>
                  <a:pt x="1425" y="1069"/>
                </a:lnTo>
                <a:lnTo>
                  <a:pt x="1466" y="1129"/>
                </a:lnTo>
                <a:lnTo>
                  <a:pt x="1508" y="1193"/>
                </a:lnTo>
                <a:lnTo>
                  <a:pt x="1550" y="1260"/>
                </a:lnTo>
                <a:lnTo>
                  <a:pt x="1589" y="1327"/>
                </a:lnTo>
                <a:lnTo>
                  <a:pt x="1628" y="1387"/>
                </a:lnTo>
                <a:lnTo>
                  <a:pt x="1658" y="1441"/>
                </a:lnTo>
                <a:lnTo>
                  <a:pt x="1684" y="1485"/>
                </a:lnTo>
                <a:lnTo>
                  <a:pt x="1703" y="1531"/>
                </a:lnTo>
                <a:lnTo>
                  <a:pt x="1730" y="1583"/>
                </a:lnTo>
                <a:lnTo>
                  <a:pt x="1756" y="1640"/>
                </a:lnTo>
                <a:lnTo>
                  <a:pt x="1783" y="1697"/>
                </a:lnTo>
                <a:lnTo>
                  <a:pt x="1806" y="1757"/>
                </a:lnTo>
                <a:lnTo>
                  <a:pt x="1831" y="1813"/>
                </a:lnTo>
                <a:lnTo>
                  <a:pt x="1851" y="1864"/>
                </a:lnTo>
                <a:lnTo>
                  <a:pt x="1869" y="1907"/>
                </a:lnTo>
                <a:lnTo>
                  <a:pt x="1880" y="1953"/>
                </a:lnTo>
                <a:lnTo>
                  <a:pt x="1897" y="1999"/>
                </a:lnTo>
                <a:lnTo>
                  <a:pt x="1911" y="2051"/>
                </a:lnTo>
                <a:lnTo>
                  <a:pt x="1927" y="2103"/>
                </a:lnTo>
                <a:lnTo>
                  <a:pt x="1939" y="2156"/>
                </a:lnTo>
                <a:lnTo>
                  <a:pt x="1952" y="2204"/>
                </a:lnTo>
                <a:lnTo>
                  <a:pt x="1961" y="2246"/>
                </a:lnTo>
                <a:lnTo>
                  <a:pt x="1968" y="2279"/>
                </a:lnTo>
                <a:lnTo>
                  <a:pt x="1971" y="2315"/>
                </a:lnTo>
                <a:lnTo>
                  <a:pt x="1976" y="2355"/>
                </a:lnTo>
                <a:lnTo>
                  <a:pt x="1982" y="2397"/>
                </a:lnTo>
                <a:lnTo>
                  <a:pt x="1988" y="2441"/>
                </a:lnTo>
                <a:lnTo>
                  <a:pt x="1990" y="2487"/>
                </a:lnTo>
                <a:lnTo>
                  <a:pt x="1995" y="2529"/>
                </a:lnTo>
                <a:lnTo>
                  <a:pt x="1998" y="2568"/>
                </a:lnTo>
                <a:lnTo>
                  <a:pt x="2001" y="2601"/>
                </a:lnTo>
                <a:lnTo>
                  <a:pt x="2008" y="2759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38400" y="7245360"/>
            <a:ext cx="5643360" cy="0"/>
          </a:xfrm>
          <a:prstGeom prst="line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279440" y="1885680"/>
            <a:ext cx="0" cy="5337000"/>
          </a:xfrm>
          <a:prstGeom prst="line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3727440"/>
            <a:ext cx="5256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5638680"/>
            <a:ext cx="52524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3505320"/>
            <a:ext cx="3810240" cy="2590560"/>
          </a:xfrm>
          <a:prstGeom prst="wedgeRoundRectCallout">
            <a:avLst>
              <a:gd name="adj1" fmla="val -61083"/>
              <a:gd name="adj2" fmla="val 44486"/>
              <a:gd name="adj3" fmla="val 16667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De modo que  K es potencialmente superior a 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J es potencialmente superior a K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xtensión del concepto de eficien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33480" y="2217600"/>
            <a:ext cx="842652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Es la base del análisis de Costo-Beneficio.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e fundamenta en la curiosa nocón de “accesibilidad”.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La “compensación “nunca se pag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Puede producir contradiccion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66120" y="4498920"/>
            <a:ext cx="203508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s 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incipios de 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56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anorám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08280" y="3524400"/>
            <a:ext cx="6810120" cy="947160"/>
            <a:chOff x="1808280" y="3524400"/>
            <a:chExt cx="6810120" cy="947160"/>
          </a:xfrm>
        </p:grpSpPr>
        <p:sp>
          <p:nvSpPr>
            <p:cNvPr id="57" name=""/>
            <p:cNvSpPr/>
            <p:nvPr/>
          </p:nvSpPr>
          <p:spPr>
            <a:xfrm>
              <a:off x="5229360" y="3524400"/>
              <a:ext cx="1440" cy="511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0828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7844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4680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0828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78440" y="4035960"/>
              <a:ext cx="115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29360" y="4035960"/>
              <a:ext cx="11174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4680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33520" y="4495680"/>
            <a:ext cx="2209680" cy="2054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4572000"/>
            <a:ext cx="2035080" cy="205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495680"/>
            <a:ext cx="234000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4495680"/>
            <a:ext cx="203508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s 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962520"/>
            <a:ext cx="3822840" cy="295416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812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19520" y="5872320"/>
            <a:ext cx="232704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xtensiones de la 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30960" y="586728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857240" y="5315040"/>
            <a:ext cx="4540320" cy="552240"/>
            <a:chOff x="1857240" y="5315040"/>
            <a:chExt cx="4540320" cy="552240"/>
          </a:xfrm>
        </p:grpSpPr>
        <p:sp>
          <p:nvSpPr>
            <p:cNvPr id="543" name=""/>
            <p:cNvSpPr/>
            <p:nvPr/>
          </p:nvSpPr>
          <p:spPr>
            <a:xfrm>
              <a:off x="412596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57240" y="561348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2596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961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5724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08160" y="561348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2596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551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124080" y="4091040"/>
            <a:ext cx="20368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ncipios de Bie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42080" y="408924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licación de la teoria del 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212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5867280"/>
            <a:ext cx="234000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xtensiones de la 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5410080"/>
            <a:ext cx="248616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Principio de Bienesta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2120" y="586728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dad :algunos problemas conceptu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¿Cómo relacionarlo con nuestro enfoque individualis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¿Cómo incorporalo a un mode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¿En qué lo podemos fundament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.. y porqué habriamos de introducir el concepto en un primer luga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46040" y="-3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1144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Conceptos de equid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-152280" y="1371600"/>
            <a:ext cx="99820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 anchorCtr="1">
            <a:noAutofit/>
          </a:bodyPr>
          <a:p>
            <a:pPr marL="979560" indent="-979560">
              <a:lnSpc>
                <a:spcPct val="75000"/>
              </a:lnSpc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ShelleyVolante BT"/>
              </a:rPr>
              <a:t>Equidad como un imperativo moral extern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979560" indent="-979560">
              <a:lnSpc>
                <a:spcPct val="75000"/>
              </a:lnSpc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979560" indent="-979560">
              <a:lnSpc>
                <a:spcPct val="75000"/>
              </a:lnSpc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ShelleyVolante BT"/>
              </a:rPr>
              <a:t>Equidad como la imagen espejo de la Superioridad de Pareto.</a:t>
            </a:r>
            <a:br>
              <a:rPr sz="5400"/>
            </a:br>
            <a:r>
              <a:rPr b="1" lang="en-GB" sz="5400" spc="-1" strike="noStrike">
                <a:solidFill>
                  <a:srgbClr val="ffff00"/>
                </a:solidFill>
                <a:latin typeface="ShelleyVolante B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979560" indent="-979560">
              <a:lnSpc>
                <a:spcPct val="75000"/>
              </a:lnSpc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ShelleyVolante BT"/>
              </a:rPr>
              <a:t>¿Equidad basada en el egoism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02040" y="2133720"/>
            <a:ext cx="8046720" cy="5329080"/>
            <a:chOff x="3002040" y="2133720"/>
            <a:chExt cx="8046720" cy="5329080"/>
          </a:xfrm>
        </p:grpSpPr>
        <p:sp>
          <p:nvSpPr>
            <p:cNvPr id="573" name=""/>
            <p:cNvSpPr/>
            <p:nvPr/>
          </p:nvSpPr>
          <p:spPr>
            <a:xfrm>
              <a:off x="3002040" y="2133720"/>
              <a:ext cx="8046720" cy="5329080"/>
            </a:xfrm>
            <a:custGeom>
              <a:avLst/>
              <a:gdLst/>
              <a:ahLst/>
              <a:rect l="l" t="t" r="r" b="b"/>
              <a:pathLst>
                <a:path w="4445" h="3357">
                  <a:moveTo>
                    <a:pt x="4444" y="1646"/>
                  </a:moveTo>
                  <a:lnTo>
                    <a:pt x="4444" y="1646"/>
                  </a:lnTo>
                  <a:lnTo>
                    <a:pt x="1826" y="0"/>
                  </a:lnTo>
                  <a:lnTo>
                    <a:pt x="2131" y="822"/>
                  </a:lnTo>
                  <a:lnTo>
                    <a:pt x="0" y="822"/>
                  </a:lnTo>
                  <a:lnTo>
                    <a:pt x="0" y="2587"/>
                  </a:lnTo>
                  <a:lnTo>
                    <a:pt x="2131" y="2587"/>
                  </a:lnTo>
                  <a:lnTo>
                    <a:pt x="1826" y="3356"/>
                  </a:lnTo>
                  <a:lnTo>
                    <a:pt x="4444" y="1646"/>
                  </a:lnTo>
                  <a:lnTo>
                    <a:pt x="4444" y="1646"/>
                  </a:lnTo>
                </a:path>
              </a:pathLst>
            </a:custGeom>
            <a:gradFill rotWithShape="0">
              <a:gsLst>
                <a:gs pos="0">
                  <a:srgbClr val="ffffc2"/>
                </a:gs>
                <a:gs pos="50000">
                  <a:srgbClr val="00ffff"/>
                </a:gs>
                <a:gs pos="100000">
                  <a:srgbClr val="ffffc2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48560" y="3414960"/>
              <a:ext cx="5901840" cy="28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400" spc="-1" strike="noStrike">
                  <a:solidFill>
                    <a:srgbClr val="000080"/>
                  </a:solidFill>
                  <a:latin typeface="Times New Roman"/>
                </a:rPr>
                <a:t>Algunas veces el concepto de eficiencia produce resultados aberrantes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971720" y="4759200"/>
            <a:ext cx="1087560" cy="1909800"/>
          </a:xfrm>
          <a:custGeom>
            <a:avLst/>
            <a:gdLst/>
            <a:ahLst/>
            <a:rect l="l" t="t" r="r" b="b"/>
            <a:pathLst>
              <a:path w="685" h="1203">
                <a:moveTo>
                  <a:pt x="684" y="1202"/>
                </a:moveTo>
                <a:lnTo>
                  <a:pt x="682" y="1193"/>
                </a:lnTo>
                <a:lnTo>
                  <a:pt x="682" y="1185"/>
                </a:lnTo>
                <a:lnTo>
                  <a:pt x="681" y="1179"/>
                </a:lnTo>
                <a:lnTo>
                  <a:pt x="681" y="1173"/>
                </a:lnTo>
                <a:lnTo>
                  <a:pt x="680" y="1171"/>
                </a:lnTo>
                <a:lnTo>
                  <a:pt x="680" y="1167"/>
                </a:lnTo>
                <a:lnTo>
                  <a:pt x="680" y="1165"/>
                </a:lnTo>
                <a:lnTo>
                  <a:pt x="680" y="1163"/>
                </a:lnTo>
                <a:lnTo>
                  <a:pt x="680" y="1163"/>
                </a:lnTo>
                <a:lnTo>
                  <a:pt x="680" y="1161"/>
                </a:lnTo>
                <a:lnTo>
                  <a:pt x="680" y="1160"/>
                </a:lnTo>
                <a:lnTo>
                  <a:pt x="680" y="1158"/>
                </a:lnTo>
                <a:lnTo>
                  <a:pt x="680" y="1156"/>
                </a:lnTo>
                <a:lnTo>
                  <a:pt x="680" y="1153"/>
                </a:lnTo>
                <a:lnTo>
                  <a:pt x="680" y="1150"/>
                </a:lnTo>
                <a:lnTo>
                  <a:pt x="680" y="1144"/>
                </a:lnTo>
                <a:lnTo>
                  <a:pt x="678" y="1139"/>
                </a:lnTo>
                <a:lnTo>
                  <a:pt x="678" y="1131"/>
                </a:lnTo>
                <a:lnTo>
                  <a:pt x="676" y="1122"/>
                </a:lnTo>
                <a:lnTo>
                  <a:pt x="676" y="1110"/>
                </a:lnTo>
                <a:lnTo>
                  <a:pt x="674" y="1099"/>
                </a:lnTo>
                <a:lnTo>
                  <a:pt x="672" y="1086"/>
                </a:lnTo>
                <a:lnTo>
                  <a:pt x="670" y="1073"/>
                </a:lnTo>
                <a:lnTo>
                  <a:pt x="670" y="1058"/>
                </a:lnTo>
                <a:lnTo>
                  <a:pt x="667" y="1044"/>
                </a:lnTo>
                <a:lnTo>
                  <a:pt x="665" y="1028"/>
                </a:lnTo>
                <a:lnTo>
                  <a:pt x="664" y="1014"/>
                </a:lnTo>
                <a:lnTo>
                  <a:pt x="662" y="997"/>
                </a:lnTo>
                <a:lnTo>
                  <a:pt x="660" y="982"/>
                </a:lnTo>
                <a:lnTo>
                  <a:pt x="658" y="966"/>
                </a:lnTo>
                <a:lnTo>
                  <a:pt x="656" y="951"/>
                </a:lnTo>
                <a:lnTo>
                  <a:pt x="654" y="936"/>
                </a:lnTo>
                <a:lnTo>
                  <a:pt x="650" y="922"/>
                </a:lnTo>
                <a:lnTo>
                  <a:pt x="648" y="907"/>
                </a:lnTo>
                <a:lnTo>
                  <a:pt x="646" y="891"/>
                </a:lnTo>
                <a:lnTo>
                  <a:pt x="644" y="874"/>
                </a:lnTo>
                <a:lnTo>
                  <a:pt x="640" y="859"/>
                </a:lnTo>
                <a:lnTo>
                  <a:pt x="638" y="842"/>
                </a:lnTo>
                <a:lnTo>
                  <a:pt x="635" y="826"/>
                </a:lnTo>
                <a:lnTo>
                  <a:pt x="633" y="809"/>
                </a:lnTo>
                <a:lnTo>
                  <a:pt x="629" y="794"/>
                </a:lnTo>
                <a:lnTo>
                  <a:pt x="627" y="779"/>
                </a:lnTo>
                <a:lnTo>
                  <a:pt x="624" y="765"/>
                </a:lnTo>
                <a:lnTo>
                  <a:pt x="622" y="751"/>
                </a:lnTo>
                <a:lnTo>
                  <a:pt x="618" y="740"/>
                </a:lnTo>
                <a:lnTo>
                  <a:pt x="617" y="728"/>
                </a:lnTo>
                <a:lnTo>
                  <a:pt x="615" y="718"/>
                </a:lnTo>
                <a:lnTo>
                  <a:pt x="613" y="710"/>
                </a:lnTo>
                <a:lnTo>
                  <a:pt x="610" y="703"/>
                </a:lnTo>
                <a:lnTo>
                  <a:pt x="608" y="695"/>
                </a:lnTo>
                <a:lnTo>
                  <a:pt x="605" y="685"/>
                </a:lnTo>
                <a:lnTo>
                  <a:pt x="603" y="675"/>
                </a:lnTo>
                <a:lnTo>
                  <a:pt x="599" y="664"/>
                </a:lnTo>
                <a:lnTo>
                  <a:pt x="596" y="652"/>
                </a:lnTo>
                <a:lnTo>
                  <a:pt x="592" y="641"/>
                </a:lnTo>
                <a:lnTo>
                  <a:pt x="590" y="628"/>
                </a:lnTo>
                <a:lnTo>
                  <a:pt x="587" y="617"/>
                </a:lnTo>
                <a:lnTo>
                  <a:pt x="583" y="604"/>
                </a:lnTo>
                <a:lnTo>
                  <a:pt x="579" y="592"/>
                </a:lnTo>
                <a:lnTo>
                  <a:pt x="577" y="579"/>
                </a:lnTo>
                <a:lnTo>
                  <a:pt x="573" y="568"/>
                </a:lnTo>
                <a:lnTo>
                  <a:pt x="570" y="556"/>
                </a:lnTo>
                <a:lnTo>
                  <a:pt x="568" y="546"/>
                </a:lnTo>
                <a:lnTo>
                  <a:pt x="566" y="536"/>
                </a:lnTo>
                <a:lnTo>
                  <a:pt x="562" y="526"/>
                </a:lnTo>
                <a:lnTo>
                  <a:pt x="559" y="516"/>
                </a:lnTo>
                <a:lnTo>
                  <a:pt x="556" y="505"/>
                </a:lnTo>
                <a:lnTo>
                  <a:pt x="554" y="494"/>
                </a:lnTo>
                <a:lnTo>
                  <a:pt x="550" y="482"/>
                </a:lnTo>
                <a:lnTo>
                  <a:pt x="547" y="471"/>
                </a:lnTo>
                <a:lnTo>
                  <a:pt x="543" y="460"/>
                </a:lnTo>
                <a:lnTo>
                  <a:pt x="541" y="447"/>
                </a:lnTo>
                <a:lnTo>
                  <a:pt x="538" y="437"/>
                </a:lnTo>
                <a:lnTo>
                  <a:pt x="534" y="426"/>
                </a:lnTo>
                <a:lnTo>
                  <a:pt x="530" y="416"/>
                </a:lnTo>
                <a:lnTo>
                  <a:pt x="529" y="404"/>
                </a:lnTo>
                <a:lnTo>
                  <a:pt x="525" y="396"/>
                </a:lnTo>
                <a:lnTo>
                  <a:pt x="523" y="387"/>
                </a:lnTo>
                <a:lnTo>
                  <a:pt x="521" y="380"/>
                </a:lnTo>
                <a:lnTo>
                  <a:pt x="519" y="372"/>
                </a:lnTo>
                <a:lnTo>
                  <a:pt x="516" y="366"/>
                </a:lnTo>
                <a:lnTo>
                  <a:pt x="514" y="359"/>
                </a:lnTo>
                <a:lnTo>
                  <a:pt x="511" y="352"/>
                </a:lnTo>
                <a:lnTo>
                  <a:pt x="509" y="344"/>
                </a:lnTo>
                <a:lnTo>
                  <a:pt x="505" y="336"/>
                </a:lnTo>
                <a:lnTo>
                  <a:pt x="501" y="326"/>
                </a:lnTo>
                <a:lnTo>
                  <a:pt x="498" y="318"/>
                </a:lnTo>
                <a:lnTo>
                  <a:pt x="495" y="308"/>
                </a:lnTo>
                <a:lnTo>
                  <a:pt x="491" y="301"/>
                </a:lnTo>
                <a:lnTo>
                  <a:pt x="487" y="292"/>
                </a:lnTo>
                <a:lnTo>
                  <a:pt x="483" y="284"/>
                </a:lnTo>
                <a:lnTo>
                  <a:pt x="480" y="274"/>
                </a:lnTo>
                <a:lnTo>
                  <a:pt x="476" y="267"/>
                </a:lnTo>
                <a:lnTo>
                  <a:pt x="472" y="258"/>
                </a:lnTo>
                <a:lnTo>
                  <a:pt x="468" y="252"/>
                </a:lnTo>
                <a:lnTo>
                  <a:pt x="466" y="245"/>
                </a:lnTo>
                <a:lnTo>
                  <a:pt x="462" y="239"/>
                </a:lnTo>
                <a:lnTo>
                  <a:pt x="459" y="233"/>
                </a:lnTo>
                <a:lnTo>
                  <a:pt x="455" y="227"/>
                </a:lnTo>
                <a:lnTo>
                  <a:pt x="451" y="219"/>
                </a:lnTo>
                <a:lnTo>
                  <a:pt x="446" y="212"/>
                </a:lnTo>
                <a:lnTo>
                  <a:pt x="442" y="204"/>
                </a:lnTo>
                <a:lnTo>
                  <a:pt x="437" y="197"/>
                </a:lnTo>
                <a:lnTo>
                  <a:pt x="433" y="189"/>
                </a:lnTo>
                <a:lnTo>
                  <a:pt x="428" y="184"/>
                </a:lnTo>
                <a:lnTo>
                  <a:pt x="424" y="176"/>
                </a:lnTo>
                <a:lnTo>
                  <a:pt x="418" y="170"/>
                </a:lnTo>
                <a:lnTo>
                  <a:pt x="414" y="162"/>
                </a:lnTo>
                <a:lnTo>
                  <a:pt x="410" y="157"/>
                </a:lnTo>
                <a:lnTo>
                  <a:pt x="406" y="151"/>
                </a:lnTo>
                <a:lnTo>
                  <a:pt x="403" y="147"/>
                </a:lnTo>
                <a:lnTo>
                  <a:pt x="400" y="142"/>
                </a:lnTo>
                <a:lnTo>
                  <a:pt x="396" y="138"/>
                </a:lnTo>
                <a:lnTo>
                  <a:pt x="393" y="134"/>
                </a:lnTo>
                <a:lnTo>
                  <a:pt x="389" y="131"/>
                </a:lnTo>
                <a:lnTo>
                  <a:pt x="386" y="127"/>
                </a:lnTo>
                <a:lnTo>
                  <a:pt x="383" y="123"/>
                </a:lnTo>
                <a:lnTo>
                  <a:pt x="379" y="120"/>
                </a:lnTo>
                <a:lnTo>
                  <a:pt x="375" y="116"/>
                </a:lnTo>
                <a:lnTo>
                  <a:pt x="373" y="112"/>
                </a:lnTo>
                <a:lnTo>
                  <a:pt x="370" y="110"/>
                </a:lnTo>
                <a:lnTo>
                  <a:pt x="367" y="106"/>
                </a:lnTo>
                <a:lnTo>
                  <a:pt x="364" y="103"/>
                </a:lnTo>
                <a:lnTo>
                  <a:pt x="362" y="100"/>
                </a:lnTo>
                <a:lnTo>
                  <a:pt x="360" y="98"/>
                </a:lnTo>
                <a:lnTo>
                  <a:pt x="358" y="95"/>
                </a:lnTo>
                <a:lnTo>
                  <a:pt x="356" y="93"/>
                </a:lnTo>
                <a:lnTo>
                  <a:pt x="355" y="91"/>
                </a:lnTo>
                <a:lnTo>
                  <a:pt x="353" y="91"/>
                </a:lnTo>
                <a:lnTo>
                  <a:pt x="352" y="89"/>
                </a:lnTo>
                <a:lnTo>
                  <a:pt x="350" y="88"/>
                </a:lnTo>
                <a:lnTo>
                  <a:pt x="348" y="86"/>
                </a:lnTo>
                <a:lnTo>
                  <a:pt x="345" y="84"/>
                </a:lnTo>
                <a:lnTo>
                  <a:pt x="343" y="82"/>
                </a:lnTo>
                <a:lnTo>
                  <a:pt x="341" y="81"/>
                </a:lnTo>
                <a:lnTo>
                  <a:pt x="339" y="79"/>
                </a:lnTo>
                <a:lnTo>
                  <a:pt x="335" y="77"/>
                </a:lnTo>
                <a:lnTo>
                  <a:pt x="334" y="75"/>
                </a:lnTo>
                <a:lnTo>
                  <a:pt x="330" y="73"/>
                </a:lnTo>
                <a:lnTo>
                  <a:pt x="328" y="71"/>
                </a:lnTo>
                <a:lnTo>
                  <a:pt x="324" y="70"/>
                </a:lnTo>
                <a:lnTo>
                  <a:pt x="322" y="68"/>
                </a:lnTo>
                <a:lnTo>
                  <a:pt x="320" y="66"/>
                </a:lnTo>
                <a:lnTo>
                  <a:pt x="318" y="64"/>
                </a:lnTo>
                <a:lnTo>
                  <a:pt x="314" y="63"/>
                </a:lnTo>
                <a:lnTo>
                  <a:pt x="312" y="61"/>
                </a:lnTo>
                <a:lnTo>
                  <a:pt x="308" y="60"/>
                </a:lnTo>
                <a:lnTo>
                  <a:pt x="305" y="58"/>
                </a:lnTo>
                <a:lnTo>
                  <a:pt x="300" y="56"/>
                </a:lnTo>
                <a:lnTo>
                  <a:pt x="296" y="54"/>
                </a:lnTo>
                <a:lnTo>
                  <a:pt x="292" y="52"/>
                </a:lnTo>
                <a:lnTo>
                  <a:pt x="288" y="50"/>
                </a:lnTo>
                <a:lnTo>
                  <a:pt x="283" y="48"/>
                </a:lnTo>
                <a:lnTo>
                  <a:pt x="279" y="46"/>
                </a:lnTo>
                <a:lnTo>
                  <a:pt x="274" y="44"/>
                </a:lnTo>
                <a:lnTo>
                  <a:pt x="270" y="42"/>
                </a:lnTo>
                <a:lnTo>
                  <a:pt x="265" y="40"/>
                </a:lnTo>
                <a:lnTo>
                  <a:pt x="261" y="38"/>
                </a:lnTo>
                <a:lnTo>
                  <a:pt x="257" y="36"/>
                </a:lnTo>
                <a:lnTo>
                  <a:pt x="254" y="33"/>
                </a:lnTo>
                <a:lnTo>
                  <a:pt x="248" y="33"/>
                </a:lnTo>
                <a:lnTo>
                  <a:pt x="245" y="32"/>
                </a:lnTo>
                <a:lnTo>
                  <a:pt x="240" y="30"/>
                </a:lnTo>
                <a:lnTo>
                  <a:pt x="236" y="28"/>
                </a:lnTo>
                <a:lnTo>
                  <a:pt x="230" y="28"/>
                </a:lnTo>
                <a:lnTo>
                  <a:pt x="226" y="26"/>
                </a:lnTo>
                <a:lnTo>
                  <a:pt x="220" y="24"/>
                </a:lnTo>
                <a:lnTo>
                  <a:pt x="216" y="22"/>
                </a:lnTo>
                <a:lnTo>
                  <a:pt x="210" y="22"/>
                </a:lnTo>
                <a:lnTo>
                  <a:pt x="206" y="20"/>
                </a:lnTo>
                <a:lnTo>
                  <a:pt x="200" y="19"/>
                </a:lnTo>
                <a:lnTo>
                  <a:pt x="196" y="17"/>
                </a:lnTo>
                <a:lnTo>
                  <a:pt x="191" y="17"/>
                </a:lnTo>
                <a:lnTo>
                  <a:pt x="187" y="15"/>
                </a:lnTo>
                <a:lnTo>
                  <a:pt x="184" y="14"/>
                </a:lnTo>
                <a:lnTo>
                  <a:pt x="180" y="13"/>
                </a:lnTo>
                <a:lnTo>
                  <a:pt x="176" y="13"/>
                </a:lnTo>
                <a:lnTo>
                  <a:pt x="172" y="13"/>
                </a:lnTo>
                <a:lnTo>
                  <a:pt x="168" y="13"/>
                </a:lnTo>
                <a:lnTo>
                  <a:pt x="164" y="11"/>
                </a:lnTo>
                <a:lnTo>
                  <a:pt x="159" y="11"/>
                </a:lnTo>
                <a:lnTo>
                  <a:pt x="154" y="10"/>
                </a:lnTo>
                <a:lnTo>
                  <a:pt x="149" y="10"/>
                </a:lnTo>
                <a:lnTo>
                  <a:pt x="145" y="8"/>
                </a:lnTo>
                <a:lnTo>
                  <a:pt x="139" y="8"/>
                </a:lnTo>
                <a:lnTo>
                  <a:pt x="134" y="8"/>
                </a:lnTo>
                <a:lnTo>
                  <a:pt x="128" y="8"/>
                </a:lnTo>
                <a:lnTo>
                  <a:pt x="124" y="6"/>
                </a:lnTo>
                <a:lnTo>
                  <a:pt x="118" y="6"/>
                </a:lnTo>
                <a:lnTo>
                  <a:pt x="114" y="5"/>
                </a:lnTo>
                <a:lnTo>
                  <a:pt x="110" y="5"/>
                </a:lnTo>
                <a:lnTo>
                  <a:pt x="106" y="3"/>
                </a:lnTo>
                <a:lnTo>
                  <a:pt x="101" y="3"/>
                </a:lnTo>
                <a:lnTo>
                  <a:pt x="98" y="3"/>
                </a:lnTo>
                <a:lnTo>
                  <a:pt x="92" y="3"/>
                </a:lnTo>
                <a:lnTo>
                  <a:pt x="88" y="3"/>
                </a:lnTo>
                <a:lnTo>
                  <a:pt x="82" y="3"/>
                </a:lnTo>
                <a:lnTo>
                  <a:pt x="77" y="3"/>
                </a:lnTo>
                <a:lnTo>
                  <a:pt x="71" y="3"/>
                </a:lnTo>
                <a:lnTo>
                  <a:pt x="68" y="2"/>
                </a:lnTo>
                <a:lnTo>
                  <a:pt x="62" y="2"/>
                </a:lnTo>
                <a:lnTo>
                  <a:pt x="57" y="2"/>
                </a:lnTo>
                <a:lnTo>
                  <a:pt x="51" y="2"/>
                </a:lnTo>
                <a:lnTo>
                  <a:pt x="48" y="1"/>
                </a:lnTo>
                <a:lnTo>
                  <a:pt x="42" y="1"/>
                </a:lnTo>
                <a:lnTo>
                  <a:pt x="38" y="1"/>
                </a:lnTo>
                <a:lnTo>
                  <a:pt x="34" y="1"/>
                </a:lnTo>
                <a:lnTo>
                  <a:pt x="32" y="0"/>
                </a:lnTo>
                <a:lnTo>
                  <a:pt x="28" y="0"/>
                </a:lnTo>
                <a:lnTo>
                  <a:pt x="26" y="0"/>
                </a:lnTo>
                <a:lnTo>
                  <a:pt x="24" y="0"/>
                </a:lnTo>
                <a:lnTo>
                  <a:pt x="24" y="0"/>
                </a:lnTo>
                <a:lnTo>
                  <a:pt x="23" y="0"/>
                </a:lnTo>
                <a:lnTo>
                  <a:pt x="23" y="0"/>
                </a:lnTo>
                <a:lnTo>
                  <a:pt x="22" y="0"/>
                </a:lnTo>
                <a:lnTo>
                  <a:pt x="22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2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5960" y="2441520"/>
            <a:ext cx="2565360" cy="4297320"/>
          </a:xfrm>
          <a:custGeom>
            <a:avLst/>
            <a:gdLst/>
            <a:ahLst/>
            <a:rect l="l" t="t" r="r" b="b"/>
            <a:pathLst>
              <a:path w="1616" h="2707">
                <a:moveTo>
                  <a:pt x="0" y="0"/>
                </a:moveTo>
                <a:lnTo>
                  <a:pt x="1" y="22"/>
                </a:lnTo>
                <a:lnTo>
                  <a:pt x="3" y="41"/>
                </a:lnTo>
                <a:lnTo>
                  <a:pt x="3" y="56"/>
                </a:lnTo>
                <a:lnTo>
                  <a:pt x="5" y="66"/>
                </a:lnTo>
                <a:lnTo>
                  <a:pt x="5" y="76"/>
                </a:lnTo>
                <a:lnTo>
                  <a:pt x="6" y="82"/>
                </a:lnTo>
                <a:lnTo>
                  <a:pt x="6" y="86"/>
                </a:lnTo>
                <a:lnTo>
                  <a:pt x="8" y="89"/>
                </a:lnTo>
                <a:lnTo>
                  <a:pt x="8" y="93"/>
                </a:lnTo>
                <a:lnTo>
                  <a:pt x="8" y="96"/>
                </a:lnTo>
                <a:lnTo>
                  <a:pt x="8" y="99"/>
                </a:lnTo>
                <a:lnTo>
                  <a:pt x="8" y="101"/>
                </a:lnTo>
                <a:lnTo>
                  <a:pt x="8" y="106"/>
                </a:lnTo>
                <a:lnTo>
                  <a:pt x="9" y="112"/>
                </a:lnTo>
                <a:lnTo>
                  <a:pt x="10" y="120"/>
                </a:lnTo>
                <a:lnTo>
                  <a:pt x="12" y="130"/>
                </a:lnTo>
                <a:lnTo>
                  <a:pt x="13" y="146"/>
                </a:lnTo>
                <a:lnTo>
                  <a:pt x="15" y="163"/>
                </a:lnTo>
                <a:lnTo>
                  <a:pt x="18" y="185"/>
                </a:lnTo>
                <a:lnTo>
                  <a:pt x="22" y="208"/>
                </a:lnTo>
                <a:lnTo>
                  <a:pt x="26" y="235"/>
                </a:lnTo>
                <a:lnTo>
                  <a:pt x="31" y="265"/>
                </a:lnTo>
                <a:lnTo>
                  <a:pt x="37" y="296"/>
                </a:lnTo>
                <a:lnTo>
                  <a:pt x="42" y="328"/>
                </a:lnTo>
                <a:lnTo>
                  <a:pt x="48" y="363"/>
                </a:lnTo>
                <a:lnTo>
                  <a:pt x="54" y="397"/>
                </a:lnTo>
                <a:lnTo>
                  <a:pt x="59" y="432"/>
                </a:lnTo>
                <a:lnTo>
                  <a:pt x="67" y="468"/>
                </a:lnTo>
                <a:lnTo>
                  <a:pt x="73" y="503"/>
                </a:lnTo>
                <a:lnTo>
                  <a:pt x="80" y="538"/>
                </a:lnTo>
                <a:lnTo>
                  <a:pt x="86" y="572"/>
                </a:lnTo>
                <a:lnTo>
                  <a:pt x="93" y="605"/>
                </a:lnTo>
                <a:lnTo>
                  <a:pt x="99" y="639"/>
                </a:lnTo>
                <a:lnTo>
                  <a:pt x="107" y="673"/>
                </a:lnTo>
                <a:lnTo>
                  <a:pt x="115" y="710"/>
                </a:lnTo>
                <a:lnTo>
                  <a:pt x="124" y="746"/>
                </a:lnTo>
                <a:lnTo>
                  <a:pt x="133" y="783"/>
                </a:lnTo>
                <a:lnTo>
                  <a:pt x="142" y="821"/>
                </a:lnTo>
                <a:lnTo>
                  <a:pt x="151" y="858"/>
                </a:lnTo>
                <a:lnTo>
                  <a:pt x="161" y="894"/>
                </a:lnTo>
                <a:lnTo>
                  <a:pt x="169" y="930"/>
                </a:lnTo>
                <a:lnTo>
                  <a:pt x="178" y="964"/>
                </a:lnTo>
                <a:lnTo>
                  <a:pt x="187" y="997"/>
                </a:lnTo>
                <a:lnTo>
                  <a:pt x="196" y="1027"/>
                </a:lnTo>
                <a:lnTo>
                  <a:pt x="204" y="1056"/>
                </a:lnTo>
                <a:lnTo>
                  <a:pt x="212" y="1081"/>
                </a:lnTo>
                <a:lnTo>
                  <a:pt x="219" y="1103"/>
                </a:lnTo>
                <a:lnTo>
                  <a:pt x="226" y="1121"/>
                </a:lnTo>
                <a:lnTo>
                  <a:pt x="232" y="1138"/>
                </a:lnTo>
                <a:lnTo>
                  <a:pt x="239" y="1158"/>
                </a:lnTo>
                <a:lnTo>
                  <a:pt x="246" y="1180"/>
                </a:lnTo>
                <a:lnTo>
                  <a:pt x="255" y="1203"/>
                </a:lnTo>
                <a:lnTo>
                  <a:pt x="265" y="1229"/>
                </a:lnTo>
                <a:lnTo>
                  <a:pt x="275" y="1255"/>
                </a:lnTo>
                <a:lnTo>
                  <a:pt x="285" y="1282"/>
                </a:lnTo>
                <a:lnTo>
                  <a:pt x="296" y="1309"/>
                </a:lnTo>
                <a:lnTo>
                  <a:pt x="305" y="1338"/>
                </a:lnTo>
                <a:lnTo>
                  <a:pt x="317" y="1366"/>
                </a:lnTo>
                <a:lnTo>
                  <a:pt x="327" y="1394"/>
                </a:lnTo>
                <a:lnTo>
                  <a:pt x="339" y="1421"/>
                </a:lnTo>
                <a:lnTo>
                  <a:pt x="348" y="1448"/>
                </a:lnTo>
                <a:lnTo>
                  <a:pt x="359" y="1473"/>
                </a:lnTo>
                <a:lnTo>
                  <a:pt x="368" y="1497"/>
                </a:lnTo>
                <a:lnTo>
                  <a:pt x="378" y="1518"/>
                </a:lnTo>
                <a:lnTo>
                  <a:pt x="386" y="1541"/>
                </a:lnTo>
                <a:lnTo>
                  <a:pt x="395" y="1564"/>
                </a:lnTo>
                <a:lnTo>
                  <a:pt x="405" y="1589"/>
                </a:lnTo>
                <a:lnTo>
                  <a:pt x="415" y="1614"/>
                </a:lnTo>
                <a:lnTo>
                  <a:pt x="425" y="1640"/>
                </a:lnTo>
                <a:lnTo>
                  <a:pt x="436" y="1666"/>
                </a:lnTo>
                <a:lnTo>
                  <a:pt x="446" y="1692"/>
                </a:lnTo>
                <a:lnTo>
                  <a:pt x="457" y="1718"/>
                </a:lnTo>
                <a:lnTo>
                  <a:pt x="466" y="1745"/>
                </a:lnTo>
                <a:lnTo>
                  <a:pt x="477" y="1770"/>
                </a:lnTo>
                <a:lnTo>
                  <a:pt x="486" y="1795"/>
                </a:lnTo>
                <a:lnTo>
                  <a:pt x="496" y="1816"/>
                </a:lnTo>
                <a:lnTo>
                  <a:pt x="504" y="1838"/>
                </a:lnTo>
                <a:lnTo>
                  <a:pt x="513" y="1858"/>
                </a:lnTo>
                <a:lnTo>
                  <a:pt x="519" y="1875"/>
                </a:lnTo>
                <a:lnTo>
                  <a:pt x="527" y="1889"/>
                </a:lnTo>
                <a:lnTo>
                  <a:pt x="533" y="1904"/>
                </a:lnTo>
                <a:lnTo>
                  <a:pt x="540" y="1920"/>
                </a:lnTo>
                <a:lnTo>
                  <a:pt x="549" y="1937"/>
                </a:lnTo>
                <a:lnTo>
                  <a:pt x="559" y="1954"/>
                </a:lnTo>
                <a:lnTo>
                  <a:pt x="568" y="1974"/>
                </a:lnTo>
                <a:lnTo>
                  <a:pt x="579" y="1994"/>
                </a:lnTo>
                <a:lnTo>
                  <a:pt x="591" y="2014"/>
                </a:lnTo>
                <a:lnTo>
                  <a:pt x="604" y="2033"/>
                </a:lnTo>
                <a:lnTo>
                  <a:pt x="615" y="2054"/>
                </a:lnTo>
                <a:lnTo>
                  <a:pt x="627" y="2074"/>
                </a:lnTo>
                <a:lnTo>
                  <a:pt x="639" y="2094"/>
                </a:lnTo>
                <a:lnTo>
                  <a:pt x="652" y="2112"/>
                </a:lnTo>
                <a:lnTo>
                  <a:pt x="663" y="2131"/>
                </a:lnTo>
                <a:lnTo>
                  <a:pt x="675" y="2148"/>
                </a:lnTo>
                <a:lnTo>
                  <a:pt x="686" y="2164"/>
                </a:lnTo>
                <a:lnTo>
                  <a:pt x="697" y="2178"/>
                </a:lnTo>
                <a:lnTo>
                  <a:pt x="707" y="2193"/>
                </a:lnTo>
                <a:lnTo>
                  <a:pt x="719" y="2207"/>
                </a:lnTo>
                <a:lnTo>
                  <a:pt x="731" y="2223"/>
                </a:lnTo>
                <a:lnTo>
                  <a:pt x="745" y="2238"/>
                </a:lnTo>
                <a:lnTo>
                  <a:pt x="759" y="2255"/>
                </a:lnTo>
                <a:lnTo>
                  <a:pt x="774" y="2272"/>
                </a:lnTo>
                <a:lnTo>
                  <a:pt x="789" y="2289"/>
                </a:lnTo>
                <a:lnTo>
                  <a:pt x="804" y="2304"/>
                </a:lnTo>
                <a:lnTo>
                  <a:pt x="818" y="2321"/>
                </a:lnTo>
                <a:lnTo>
                  <a:pt x="833" y="2337"/>
                </a:lnTo>
                <a:lnTo>
                  <a:pt x="847" y="2352"/>
                </a:lnTo>
                <a:lnTo>
                  <a:pt x="862" y="2366"/>
                </a:lnTo>
                <a:lnTo>
                  <a:pt x="875" y="2380"/>
                </a:lnTo>
                <a:lnTo>
                  <a:pt x="888" y="2392"/>
                </a:lnTo>
                <a:lnTo>
                  <a:pt x="899" y="2403"/>
                </a:lnTo>
                <a:lnTo>
                  <a:pt x="911" y="2412"/>
                </a:lnTo>
                <a:lnTo>
                  <a:pt x="921" y="2421"/>
                </a:lnTo>
                <a:lnTo>
                  <a:pt x="931" y="2430"/>
                </a:lnTo>
                <a:lnTo>
                  <a:pt x="941" y="2439"/>
                </a:lnTo>
                <a:lnTo>
                  <a:pt x="953" y="2447"/>
                </a:lnTo>
                <a:lnTo>
                  <a:pt x="963" y="2456"/>
                </a:lnTo>
                <a:lnTo>
                  <a:pt x="974" y="2464"/>
                </a:lnTo>
                <a:lnTo>
                  <a:pt x="984" y="2473"/>
                </a:lnTo>
                <a:lnTo>
                  <a:pt x="995" y="2480"/>
                </a:lnTo>
                <a:lnTo>
                  <a:pt x="1005" y="2488"/>
                </a:lnTo>
                <a:lnTo>
                  <a:pt x="1015" y="2496"/>
                </a:lnTo>
                <a:lnTo>
                  <a:pt x="1023" y="2504"/>
                </a:lnTo>
                <a:lnTo>
                  <a:pt x="1032" y="2509"/>
                </a:lnTo>
                <a:lnTo>
                  <a:pt x="1039" y="2516"/>
                </a:lnTo>
                <a:lnTo>
                  <a:pt x="1045" y="2520"/>
                </a:lnTo>
                <a:lnTo>
                  <a:pt x="1051" y="2524"/>
                </a:lnTo>
                <a:lnTo>
                  <a:pt x="1056" y="2527"/>
                </a:lnTo>
                <a:lnTo>
                  <a:pt x="1059" y="2531"/>
                </a:lnTo>
                <a:lnTo>
                  <a:pt x="1064" y="2534"/>
                </a:lnTo>
                <a:lnTo>
                  <a:pt x="1070" y="2538"/>
                </a:lnTo>
                <a:lnTo>
                  <a:pt x="1077" y="2541"/>
                </a:lnTo>
                <a:lnTo>
                  <a:pt x="1083" y="2546"/>
                </a:lnTo>
                <a:lnTo>
                  <a:pt x="1091" y="2550"/>
                </a:lnTo>
                <a:lnTo>
                  <a:pt x="1099" y="2554"/>
                </a:lnTo>
                <a:lnTo>
                  <a:pt x="1108" y="2557"/>
                </a:lnTo>
                <a:lnTo>
                  <a:pt x="1115" y="2563"/>
                </a:lnTo>
                <a:lnTo>
                  <a:pt x="1125" y="2566"/>
                </a:lnTo>
                <a:lnTo>
                  <a:pt x="1133" y="2571"/>
                </a:lnTo>
                <a:lnTo>
                  <a:pt x="1142" y="2575"/>
                </a:lnTo>
                <a:lnTo>
                  <a:pt x="1150" y="2578"/>
                </a:lnTo>
                <a:lnTo>
                  <a:pt x="1159" y="2582"/>
                </a:lnTo>
                <a:lnTo>
                  <a:pt x="1167" y="2586"/>
                </a:lnTo>
                <a:lnTo>
                  <a:pt x="1176" y="2589"/>
                </a:lnTo>
                <a:lnTo>
                  <a:pt x="1183" y="2594"/>
                </a:lnTo>
                <a:lnTo>
                  <a:pt x="1193" y="2597"/>
                </a:lnTo>
                <a:lnTo>
                  <a:pt x="1204" y="2602"/>
                </a:lnTo>
                <a:lnTo>
                  <a:pt x="1216" y="2605"/>
                </a:lnTo>
                <a:lnTo>
                  <a:pt x="1228" y="2611"/>
                </a:lnTo>
                <a:lnTo>
                  <a:pt x="1242" y="2615"/>
                </a:lnTo>
                <a:lnTo>
                  <a:pt x="1256" y="2620"/>
                </a:lnTo>
                <a:lnTo>
                  <a:pt x="1271" y="2624"/>
                </a:lnTo>
                <a:lnTo>
                  <a:pt x="1285" y="2630"/>
                </a:lnTo>
                <a:lnTo>
                  <a:pt x="1299" y="2634"/>
                </a:lnTo>
                <a:lnTo>
                  <a:pt x="1314" y="2640"/>
                </a:lnTo>
                <a:lnTo>
                  <a:pt x="1329" y="2644"/>
                </a:lnTo>
                <a:lnTo>
                  <a:pt x="1342" y="2648"/>
                </a:lnTo>
                <a:lnTo>
                  <a:pt x="1356" y="2652"/>
                </a:lnTo>
                <a:lnTo>
                  <a:pt x="1369" y="2656"/>
                </a:lnTo>
                <a:lnTo>
                  <a:pt x="1382" y="2659"/>
                </a:lnTo>
                <a:lnTo>
                  <a:pt x="1394" y="2663"/>
                </a:lnTo>
                <a:lnTo>
                  <a:pt x="1407" y="2666"/>
                </a:lnTo>
                <a:lnTo>
                  <a:pt x="1422" y="2670"/>
                </a:lnTo>
                <a:lnTo>
                  <a:pt x="1437" y="2674"/>
                </a:lnTo>
                <a:lnTo>
                  <a:pt x="1452" y="2678"/>
                </a:lnTo>
                <a:lnTo>
                  <a:pt x="1468" y="2681"/>
                </a:lnTo>
                <a:lnTo>
                  <a:pt x="1485" y="2685"/>
                </a:lnTo>
                <a:lnTo>
                  <a:pt x="1501" y="2687"/>
                </a:lnTo>
                <a:lnTo>
                  <a:pt x="1517" y="2691"/>
                </a:lnTo>
                <a:lnTo>
                  <a:pt x="1533" y="2694"/>
                </a:lnTo>
                <a:lnTo>
                  <a:pt x="1548" y="2697"/>
                </a:lnTo>
                <a:lnTo>
                  <a:pt x="1564" y="2699"/>
                </a:lnTo>
                <a:lnTo>
                  <a:pt x="1578" y="2701"/>
                </a:lnTo>
                <a:lnTo>
                  <a:pt x="1591" y="2703"/>
                </a:lnTo>
                <a:lnTo>
                  <a:pt x="1603" y="2705"/>
                </a:lnTo>
                <a:lnTo>
                  <a:pt x="1615" y="2706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2133720"/>
            <a:ext cx="6315120" cy="4886280"/>
          </a:xfrm>
          <a:custGeom>
            <a:avLst/>
            <a:gdLst/>
            <a:ahLst/>
            <a:rect l="l" t="t" r="r" b="b"/>
            <a:pathLst>
              <a:path w="3978" h="3078">
                <a:moveTo>
                  <a:pt x="0" y="3077"/>
                </a:moveTo>
                <a:lnTo>
                  <a:pt x="1" y="3076"/>
                </a:lnTo>
                <a:lnTo>
                  <a:pt x="4" y="3072"/>
                </a:lnTo>
                <a:lnTo>
                  <a:pt x="9" y="3066"/>
                </a:lnTo>
                <a:lnTo>
                  <a:pt x="18" y="3058"/>
                </a:lnTo>
                <a:lnTo>
                  <a:pt x="26" y="3049"/>
                </a:lnTo>
                <a:lnTo>
                  <a:pt x="35" y="3039"/>
                </a:lnTo>
                <a:lnTo>
                  <a:pt x="46" y="3028"/>
                </a:lnTo>
                <a:lnTo>
                  <a:pt x="57" y="3016"/>
                </a:lnTo>
                <a:lnTo>
                  <a:pt x="66" y="3005"/>
                </a:lnTo>
                <a:lnTo>
                  <a:pt x="78" y="2993"/>
                </a:lnTo>
                <a:lnTo>
                  <a:pt x="87" y="2983"/>
                </a:lnTo>
                <a:lnTo>
                  <a:pt x="96" y="2973"/>
                </a:lnTo>
                <a:lnTo>
                  <a:pt x="102" y="2966"/>
                </a:lnTo>
                <a:lnTo>
                  <a:pt x="109" y="2959"/>
                </a:lnTo>
                <a:lnTo>
                  <a:pt x="112" y="2955"/>
                </a:lnTo>
                <a:lnTo>
                  <a:pt x="114" y="2953"/>
                </a:lnTo>
                <a:lnTo>
                  <a:pt x="114" y="2953"/>
                </a:lnTo>
                <a:lnTo>
                  <a:pt x="116" y="2951"/>
                </a:lnTo>
                <a:lnTo>
                  <a:pt x="118" y="2947"/>
                </a:lnTo>
                <a:lnTo>
                  <a:pt x="122" y="2941"/>
                </a:lnTo>
                <a:lnTo>
                  <a:pt x="126" y="2936"/>
                </a:lnTo>
                <a:lnTo>
                  <a:pt x="131" y="2928"/>
                </a:lnTo>
                <a:lnTo>
                  <a:pt x="137" y="2921"/>
                </a:lnTo>
                <a:lnTo>
                  <a:pt x="142" y="2911"/>
                </a:lnTo>
                <a:lnTo>
                  <a:pt x="147" y="2904"/>
                </a:lnTo>
                <a:lnTo>
                  <a:pt x="153" y="2895"/>
                </a:lnTo>
                <a:lnTo>
                  <a:pt x="158" y="2886"/>
                </a:lnTo>
                <a:lnTo>
                  <a:pt x="164" y="2877"/>
                </a:lnTo>
                <a:lnTo>
                  <a:pt x="168" y="2869"/>
                </a:lnTo>
                <a:lnTo>
                  <a:pt x="173" y="2861"/>
                </a:lnTo>
                <a:lnTo>
                  <a:pt x="177" y="2855"/>
                </a:lnTo>
                <a:lnTo>
                  <a:pt x="180" y="2849"/>
                </a:lnTo>
                <a:lnTo>
                  <a:pt x="182" y="2844"/>
                </a:lnTo>
                <a:lnTo>
                  <a:pt x="184" y="2839"/>
                </a:lnTo>
                <a:lnTo>
                  <a:pt x="186" y="2833"/>
                </a:lnTo>
                <a:lnTo>
                  <a:pt x="188" y="2825"/>
                </a:lnTo>
                <a:lnTo>
                  <a:pt x="190" y="2819"/>
                </a:lnTo>
                <a:lnTo>
                  <a:pt x="192" y="2811"/>
                </a:lnTo>
                <a:lnTo>
                  <a:pt x="194" y="2803"/>
                </a:lnTo>
                <a:lnTo>
                  <a:pt x="195" y="2796"/>
                </a:lnTo>
                <a:lnTo>
                  <a:pt x="196" y="2789"/>
                </a:lnTo>
                <a:lnTo>
                  <a:pt x="198" y="2782"/>
                </a:lnTo>
                <a:lnTo>
                  <a:pt x="200" y="2775"/>
                </a:lnTo>
                <a:lnTo>
                  <a:pt x="202" y="2767"/>
                </a:lnTo>
                <a:lnTo>
                  <a:pt x="204" y="2762"/>
                </a:lnTo>
                <a:lnTo>
                  <a:pt x="205" y="2755"/>
                </a:lnTo>
                <a:lnTo>
                  <a:pt x="207" y="2749"/>
                </a:lnTo>
                <a:lnTo>
                  <a:pt x="209" y="2744"/>
                </a:lnTo>
                <a:lnTo>
                  <a:pt x="211" y="2739"/>
                </a:lnTo>
                <a:lnTo>
                  <a:pt x="213" y="2734"/>
                </a:lnTo>
                <a:lnTo>
                  <a:pt x="215" y="2727"/>
                </a:lnTo>
                <a:lnTo>
                  <a:pt x="218" y="2720"/>
                </a:lnTo>
                <a:lnTo>
                  <a:pt x="220" y="2713"/>
                </a:lnTo>
                <a:lnTo>
                  <a:pt x="224" y="2705"/>
                </a:lnTo>
                <a:lnTo>
                  <a:pt x="226" y="2698"/>
                </a:lnTo>
                <a:lnTo>
                  <a:pt x="230" y="2690"/>
                </a:lnTo>
                <a:lnTo>
                  <a:pt x="232" y="2684"/>
                </a:lnTo>
                <a:lnTo>
                  <a:pt x="236" y="2676"/>
                </a:lnTo>
                <a:lnTo>
                  <a:pt x="240" y="2669"/>
                </a:lnTo>
                <a:lnTo>
                  <a:pt x="243" y="2662"/>
                </a:lnTo>
                <a:lnTo>
                  <a:pt x="245" y="2656"/>
                </a:lnTo>
                <a:lnTo>
                  <a:pt x="249" y="2650"/>
                </a:lnTo>
                <a:lnTo>
                  <a:pt x="253" y="2645"/>
                </a:lnTo>
                <a:lnTo>
                  <a:pt x="256" y="2639"/>
                </a:lnTo>
                <a:lnTo>
                  <a:pt x="259" y="2635"/>
                </a:lnTo>
                <a:lnTo>
                  <a:pt x="263" y="2629"/>
                </a:lnTo>
                <a:lnTo>
                  <a:pt x="267" y="2624"/>
                </a:lnTo>
                <a:lnTo>
                  <a:pt x="273" y="2618"/>
                </a:lnTo>
                <a:lnTo>
                  <a:pt x="278" y="2613"/>
                </a:lnTo>
                <a:lnTo>
                  <a:pt x="284" y="2607"/>
                </a:lnTo>
                <a:lnTo>
                  <a:pt x="290" y="2601"/>
                </a:lnTo>
                <a:lnTo>
                  <a:pt x="296" y="2594"/>
                </a:lnTo>
                <a:lnTo>
                  <a:pt x="302" y="2588"/>
                </a:lnTo>
                <a:lnTo>
                  <a:pt x="308" y="2583"/>
                </a:lnTo>
                <a:lnTo>
                  <a:pt x="314" y="2577"/>
                </a:lnTo>
                <a:lnTo>
                  <a:pt x="321" y="2571"/>
                </a:lnTo>
                <a:lnTo>
                  <a:pt x="326" y="2568"/>
                </a:lnTo>
                <a:lnTo>
                  <a:pt x="332" y="2562"/>
                </a:lnTo>
                <a:lnTo>
                  <a:pt x="336" y="2558"/>
                </a:lnTo>
                <a:lnTo>
                  <a:pt x="342" y="2553"/>
                </a:lnTo>
                <a:lnTo>
                  <a:pt x="346" y="2551"/>
                </a:lnTo>
                <a:lnTo>
                  <a:pt x="350" y="2548"/>
                </a:lnTo>
                <a:lnTo>
                  <a:pt x="355" y="2544"/>
                </a:lnTo>
                <a:lnTo>
                  <a:pt x="361" y="2540"/>
                </a:lnTo>
                <a:lnTo>
                  <a:pt x="366" y="2537"/>
                </a:lnTo>
                <a:lnTo>
                  <a:pt x="372" y="2533"/>
                </a:lnTo>
                <a:lnTo>
                  <a:pt x="378" y="2529"/>
                </a:lnTo>
                <a:lnTo>
                  <a:pt x="385" y="2525"/>
                </a:lnTo>
                <a:lnTo>
                  <a:pt x="391" y="2521"/>
                </a:lnTo>
                <a:lnTo>
                  <a:pt x="396" y="2518"/>
                </a:lnTo>
                <a:lnTo>
                  <a:pt x="402" y="2514"/>
                </a:lnTo>
                <a:lnTo>
                  <a:pt x="409" y="2510"/>
                </a:lnTo>
                <a:lnTo>
                  <a:pt x="413" y="2507"/>
                </a:lnTo>
                <a:lnTo>
                  <a:pt x="419" y="2503"/>
                </a:lnTo>
                <a:lnTo>
                  <a:pt x="423" y="2500"/>
                </a:lnTo>
                <a:lnTo>
                  <a:pt x="428" y="2496"/>
                </a:lnTo>
                <a:lnTo>
                  <a:pt x="432" y="2492"/>
                </a:lnTo>
                <a:lnTo>
                  <a:pt x="438" y="2487"/>
                </a:lnTo>
                <a:lnTo>
                  <a:pt x="443" y="2480"/>
                </a:lnTo>
                <a:lnTo>
                  <a:pt x="449" y="2473"/>
                </a:lnTo>
                <a:lnTo>
                  <a:pt x="454" y="2465"/>
                </a:lnTo>
                <a:lnTo>
                  <a:pt x="460" y="2457"/>
                </a:lnTo>
                <a:lnTo>
                  <a:pt x="466" y="2450"/>
                </a:lnTo>
                <a:lnTo>
                  <a:pt x="473" y="2440"/>
                </a:lnTo>
                <a:lnTo>
                  <a:pt x="479" y="2433"/>
                </a:lnTo>
                <a:lnTo>
                  <a:pt x="484" y="2425"/>
                </a:lnTo>
                <a:lnTo>
                  <a:pt x="490" y="2418"/>
                </a:lnTo>
                <a:lnTo>
                  <a:pt x="497" y="2411"/>
                </a:lnTo>
                <a:lnTo>
                  <a:pt x="503" y="2405"/>
                </a:lnTo>
                <a:lnTo>
                  <a:pt x="510" y="2399"/>
                </a:lnTo>
                <a:lnTo>
                  <a:pt x="516" y="2395"/>
                </a:lnTo>
                <a:lnTo>
                  <a:pt x="523" y="2391"/>
                </a:lnTo>
                <a:lnTo>
                  <a:pt x="520" y="2386"/>
                </a:lnTo>
                <a:lnTo>
                  <a:pt x="519" y="2380"/>
                </a:lnTo>
                <a:lnTo>
                  <a:pt x="519" y="2372"/>
                </a:lnTo>
                <a:lnTo>
                  <a:pt x="519" y="2364"/>
                </a:lnTo>
                <a:lnTo>
                  <a:pt x="519" y="2357"/>
                </a:lnTo>
                <a:lnTo>
                  <a:pt x="520" y="2347"/>
                </a:lnTo>
                <a:lnTo>
                  <a:pt x="522" y="2338"/>
                </a:lnTo>
                <a:lnTo>
                  <a:pt x="524" y="2329"/>
                </a:lnTo>
                <a:lnTo>
                  <a:pt x="524" y="2321"/>
                </a:lnTo>
                <a:lnTo>
                  <a:pt x="526" y="2312"/>
                </a:lnTo>
                <a:lnTo>
                  <a:pt x="526" y="2304"/>
                </a:lnTo>
                <a:lnTo>
                  <a:pt x="527" y="2294"/>
                </a:lnTo>
                <a:lnTo>
                  <a:pt x="526" y="2287"/>
                </a:lnTo>
                <a:lnTo>
                  <a:pt x="526" y="2280"/>
                </a:lnTo>
                <a:lnTo>
                  <a:pt x="524" y="2274"/>
                </a:lnTo>
                <a:lnTo>
                  <a:pt x="523" y="2267"/>
                </a:lnTo>
                <a:lnTo>
                  <a:pt x="528" y="2264"/>
                </a:lnTo>
                <a:lnTo>
                  <a:pt x="534" y="2257"/>
                </a:lnTo>
                <a:lnTo>
                  <a:pt x="540" y="2251"/>
                </a:lnTo>
                <a:lnTo>
                  <a:pt x="546" y="2242"/>
                </a:lnTo>
                <a:lnTo>
                  <a:pt x="550" y="2233"/>
                </a:lnTo>
                <a:lnTo>
                  <a:pt x="555" y="2223"/>
                </a:lnTo>
                <a:lnTo>
                  <a:pt x="560" y="2213"/>
                </a:lnTo>
                <a:lnTo>
                  <a:pt x="565" y="2201"/>
                </a:lnTo>
                <a:lnTo>
                  <a:pt x="569" y="2191"/>
                </a:lnTo>
                <a:lnTo>
                  <a:pt x="573" y="2180"/>
                </a:lnTo>
                <a:lnTo>
                  <a:pt x="577" y="2170"/>
                </a:lnTo>
                <a:lnTo>
                  <a:pt x="582" y="2159"/>
                </a:lnTo>
                <a:lnTo>
                  <a:pt x="586" y="2149"/>
                </a:lnTo>
                <a:lnTo>
                  <a:pt x="590" y="2140"/>
                </a:lnTo>
                <a:lnTo>
                  <a:pt x="594" y="2133"/>
                </a:lnTo>
                <a:lnTo>
                  <a:pt x="599" y="2125"/>
                </a:lnTo>
                <a:lnTo>
                  <a:pt x="603" y="2119"/>
                </a:lnTo>
                <a:lnTo>
                  <a:pt x="607" y="2113"/>
                </a:lnTo>
                <a:lnTo>
                  <a:pt x="613" y="2105"/>
                </a:lnTo>
                <a:lnTo>
                  <a:pt x="618" y="2098"/>
                </a:lnTo>
                <a:lnTo>
                  <a:pt x="624" y="2090"/>
                </a:lnTo>
                <a:lnTo>
                  <a:pt x="631" y="2083"/>
                </a:lnTo>
                <a:lnTo>
                  <a:pt x="637" y="2075"/>
                </a:lnTo>
                <a:lnTo>
                  <a:pt x="645" y="2066"/>
                </a:lnTo>
                <a:lnTo>
                  <a:pt x="650" y="2059"/>
                </a:lnTo>
                <a:lnTo>
                  <a:pt x="658" y="2051"/>
                </a:lnTo>
                <a:lnTo>
                  <a:pt x="663" y="2043"/>
                </a:lnTo>
                <a:lnTo>
                  <a:pt x="671" y="2035"/>
                </a:lnTo>
                <a:lnTo>
                  <a:pt x="676" y="2029"/>
                </a:lnTo>
                <a:lnTo>
                  <a:pt x="683" y="2022"/>
                </a:lnTo>
                <a:lnTo>
                  <a:pt x="688" y="2016"/>
                </a:lnTo>
                <a:lnTo>
                  <a:pt x="694" y="2010"/>
                </a:lnTo>
                <a:lnTo>
                  <a:pt x="702" y="2003"/>
                </a:lnTo>
                <a:lnTo>
                  <a:pt x="711" y="1995"/>
                </a:lnTo>
                <a:lnTo>
                  <a:pt x="720" y="1988"/>
                </a:lnTo>
                <a:lnTo>
                  <a:pt x="731" y="1979"/>
                </a:lnTo>
                <a:lnTo>
                  <a:pt x="742" y="1971"/>
                </a:lnTo>
                <a:lnTo>
                  <a:pt x="754" y="1962"/>
                </a:lnTo>
                <a:lnTo>
                  <a:pt x="767" y="1953"/>
                </a:lnTo>
                <a:lnTo>
                  <a:pt x="780" y="1944"/>
                </a:lnTo>
                <a:lnTo>
                  <a:pt x="791" y="1936"/>
                </a:lnTo>
                <a:lnTo>
                  <a:pt x="804" y="1927"/>
                </a:lnTo>
                <a:lnTo>
                  <a:pt x="815" y="1918"/>
                </a:lnTo>
                <a:lnTo>
                  <a:pt x="828" y="1909"/>
                </a:lnTo>
                <a:lnTo>
                  <a:pt x="838" y="1901"/>
                </a:lnTo>
                <a:lnTo>
                  <a:pt x="848" y="1893"/>
                </a:lnTo>
                <a:lnTo>
                  <a:pt x="857" y="1885"/>
                </a:lnTo>
                <a:lnTo>
                  <a:pt x="866" y="1877"/>
                </a:lnTo>
                <a:lnTo>
                  <a:pt x="869" y="1874"/>
                </a:lnTo>
                <a:lnTo>
                  <a:pt x="874" y="1870"/>
                </a:lnTo>
                <a:lnTo>
                  <a:pt x="879" y="1866"/>
                </a:lnTo>
                <a:lnTo>
                  <a:pt x="884" y="1861"/>
                </a:lnTo>
                <a:lnTo>
                  <a:pt x="890" y="1857"/>
                </a:lnTo>
                <a:lnTo>
                  <a:pt x="896" y="1853"/>
                </a:lnTo>
                <a:lnTo>
                  <a:pt x="901" y="1849"/>
                </a:lnTo>
                <a:lnTo>
                  <a:pt x="908" y="1843"/>
                </a:lnTo>
                <a:lnTo>
                  <a:pt x="914" y="1839"/>
                </a:lnTo>
                <a:lnTo>
                  <a:pt x="919" y="1836"/>
                </a:lnTo>
                <a:lnTo>
                  <a:pt x="925" y="1832"/>
                </a:lnTo>
                <a:lnTo>
                  <a:pt x="932" y="1826"/>
                </a:lnTo>
                <a:lnTo>
                  <a:pt x="937" y="1823"/>
                </a:lnTo>
                <a:lnTo>
                  <a:pt x="942" y="1819"/>
                </a:lnTo>
                <a:lnTo>
                  <a:pt x="947" y="1815"/>
                </a:lnTo>
                <a:lnTo>
                  <a:pt x="952" y="1811"/>
                </a:lnTo>
                <a:lnTo>
                  <a:pt x="954" y="1809"/>
                </a:lnTo>
                <a:lnTo>
                  <a:pt x="957" y="1808"/>
                </a:lnTo>
                <a:lnTo>
                  <a:pt x="959" y="1806"/>
                </a:lnTo>
                <a:lnTo>
                  <a:pt x="963" y="1803"/>
                </a:lnTo>
                <a:lnTo>
                  <a:pt x="965" y="1801"/>
                </a:lnTo>
                <a:lnTo>
                  <a:pt x="968" y="1797"/>
                </a:lnTo>
                <a:lnTo>
                  <a:pt x="972" y="1795"/>
                </a:lnTo>
                <a:lnTo>
                  <a:pt x="976" y="1791"/>
                </a:lnTo>
                <a:lnTo>
                  <a:pt x="978" y="1789"/>
                </a:lnTo>
                <a:lnTo>
                  <a:pt x="982" y="1788"/>
                </a:lnTo>
                <a:lnTo>
                  <a:pt x="985" y="1786"/>
                </a:lnTo>
                <a:lnTo>
                  <a:pt x="989" y="1783"/>
                </a:lnTo>
                <a:lnTo>
                  <a:pt x="991" y="1783"/>
                </a:lnTo>
                <a:lnTo>
                  <a:pt x="995" y="1781"/>
                </a:lnTo>
                <a:lnTo>
                  <a:pt x="998" y="1780"/>
                </a:lnTo>
                <a:lnTo>
                  <a:pt x="1002" y="1778"/>
                </a:lnTo>
                <a:lnTo>
                  <a:pt x="1004" y="1778"/>
                </a:lnTo>
                <a:lnTo>
                  <a:pt x="1006" y="1778"/>
                </a:lnTo>
                <a:lnTo>
                  <a:pt x="1008" y="1778"/>
                </a:lnTo>
                <a:lnTo>
                  <a:pt x="1012" y="1778"/>
                </a:lnTo>
                <a:lnTo>
                  <a:pt x="1015" y="1778"/>
                </a:lnTo>
                <a:lnTo>
                  <a:pt x="1019" y="1778"/>
                </a:lnTo>
                <a:lnTo>
                  <a:pt x="1023" y="1778"/>
                </a:lnTo>
                <a:lnTo>
                  <a:pt x="1026" y="1777"/>
                </a:lnTo>
                <a:lnTo>
                  <a:pt x="1030" y="1777"/>
                </a:lnTo>
                <a:lnTo>
                  <a:pt x="1033" y="1777"/>
                </a:lnTo>
                <a:lnTo>
                  <a:pt x="1037" y="1777"/>
                </a:lnTo>
                <a:lnTo>
                  <a:pt x="1041" y="1777"/>
                </a:lnTo>
                <a:lnTo>
                  <a:pt x="1043" y="1777"/>
                </a:lnTo>
                <a:lnTo>
                  <a:pt x="1047" y="1777"/>
                </a:lnTo>
                <a:lnTo>
                  <a:pt x="1049" y="1777"/>
                </a:lnTo>
                <a:lnTo>
                  <a:pt x="1052" y="1775"/>
                </a:lnTo>
                <a:lnTo>
                  <a:pt x="1055" y="1775"/>
                </a:lnTo>
                <a:lnTo>
                  <a:pt x="1060" y="1773"/>
                </a:lnTo>
                <a:lnTo>
                  <a:pt x="1064" y="1770"/>
                </a:lnTo>
                <a:lnTo>
                  <a:pt x="1072" y="1767"/>
                </a:lnTo>
                <a:lnTo>
                  <a:pt x="1078" y="1763"/>
                </a:lnTo>
                <a:lnTo>
                  <a:pt x="1086" y="1759"/>
                </a:lnTo>
                <a:lnTo>
                  <a:pt x="1093" y="1756"/>
                </a:lnTo>
                <a:lnTo>
                  <a:pt x="1102" y="1751"/>
                </a:lnTo>
                <a:lnTo>
                  <a:pt x="1110" y="1747"/>
                </a:lnTo>
                <a:lnTo>
                  <a:pt x="1117" y="1743"/>
                </a:lnTo>
                <a:lnTo>
                  <a:pt x="1124" y="1740"/>
                </a:lnTo>
                <a:lnTo>
                  <a:pt x="1132" y="1735"/>
                </a:lnTo>
                <a:lnTo>
                  <a:pt x="1138" y="1732"/>
                </a:lnTo>
                <a:lnTo>
                  <a:pt x="1143" y="1728"/>
                </a:lnTo>
                <a:lnTo>
                  <a:pt x="1148" y="1727"/>
                </a:lnTo>
                <a:lnTo>
                  <a:pt x="1152" y="1725"/>
                </a:lnTo>
                <a:lnTo>
                  <a:pt x="1163" y="1721"/>
                </a:lnTo>
                <a:lnTo>
                  <a:pt x="1176" y="1716"/>
                </a:lnTo>
                <a:lnTo>
                  <a:pt x="1189" y="1712"/>
                </a:lnTo>
                <a:lnTo>
                  <a:pt x="1202" y="1708"/>
                </a:lnTo>
                <a:lnTo>
                  <a:pt x="1216" y="1706"/>
                </a:lnTo>
                <a:lnTo>
                  <a:pt x="1230" y="1703"/>
                </a:lnTo>
                <a:lnTo>
                  <a:pt x="1244" y="1701"/>
                </a:lnTo>
                <a:lnTo>
                  <a:pt x="1259" y="1698"/>
                </a:lnTo>
                <a:lnTo>
                  <a:pt x="1272" y="1698"/>
                </a:lnTo>
                <a:lnTo>
                  <a:pt x="1287" y="1696"/>
                </a:lnTo>
                <a:lnTo>
                  <a:pt x="1300" y="1696"/>
                </a:lnTo>
                <a:lnTo>
                  <a:pt x="1316" y="1695"/>
                </a:lnTo>
                <a:lnTo>
                  <a:pt x="1328" y="1695"/>
                </a:lnTo>
                <a:lnTo>
                  <a:pt x="1342" y="1695"/>
                </a:lnTo>
                <a:lnTo>
                  <a:pt x="1355" y="1696"/>
                </a:lnTo>
                <a:lnTo>
                  <a:pt x="1370" y="1696"/>
                </a:lnTo>
                <a:lnTo>
                  <a:pt x="1377" y="1698"/>
                </a:lnTo>
                <a:lnTo>
                  <a:pt x="1386" y="1700"/>
                </a:lnTo>
                <a:lnTo>
                  <a:pt x="1396" y="1703"/>
                </a:lnTo>
                <a:lnTo>
                  <a:pt x="1408" y="1706"/>
                </a:lnTo>
                <a:lnTo>
                  <a:pt x="1419" y="1711"/>
                </a:lnTo>
                <a:lnTo>
                  <a:pt x="1431" y="1715"/>
                </a:lnTo>
                <a:lnTo>
                  <a:pt x="1442" y="1720"/>
                </a:lnTo>
                <a:lnTo>
                  <a:pt x="1455" y="1723"/>
                </a:lnTo>
                <a:lnTo>
                  <a:pt x="1466" y="1729"/>
                </a:lnTo>
                <a:lnTo>
                  <a:pt x="1478" y="1733"/>
                </a:lnTo>
                <a:lnTo>
                  <a:pt x="1490" y="1738"/>
                </a:lnTo>
                <a:lnTo>
                  <a:pt x="1501" y="1742"/>
                </a:lnTo>
                <a:lnTo>
                  <a:pt x="1511" y="1746"/>
                </a:lnTo>
                <a:lnTo>
                  <a:pt x="1522" y="1749"/>
                </a:lnTo>
                <a:lnTo>
                  <a:pt x="1532" y="1751"/>
                </a:lnTo>
                <a:lnTo>
                  <a:pt x="1541" y="1753"/>
                </a:lnTo>
                <a:lnTo>
                  <a:pt x="1547" y="1755"/>
                </a:lnTo>
                <a:lnTo>
                  <a:pt x="1554" y="1755"/>
                </a:lnTo>
                <a:lnTo>
                  <a:pt x="1562" y="1757"/>
                </a:lnTo>
                <a:lnTo>
                  <a:pt x="1571" y="1757"/>
                </a:lnTo>
                <a:lnTo>
                  <a:pt x="1579" y="1759"/>
                </a:lnTo>
                <a:lnTo>
                  <a:pt x="1589" y="1759"/>
                </a:lnTo>
                <a:lnTo>
                  <a:pt x="1598" y="1760"/>
                </a:lnTo>
                <a:lnTo>
                  <a:pt x="1608" y="1760"/>
                </a:lnTo>
                <a:lnTo>
                  <a:pt x="1616" y="1762"/>
                </a:lnTo>
                <a:lnTo>
                  <a:pt x="1626" y="1762"/>
                </a:lnTo>
                <a:lnTo>
                  <a:pt x="1634" y="1762"/>
                </a:lnTo>
                <a:lnTo>
                  <a:pt x="1644" y="1762"/>
                </a:lnTo>
                <a:lnTo>
                  <a:pt x="1651" y="1762"/>
                </a:lnTo>
                <a:lnTo>
                  <a:pt x="1660" y="1762"/>
                </a:lnTo>
                <a:lnTo>
                  <a:pt x="1667" y="1762"/>
                </a:lnTo>
                <a:lnTo>
                  <a:pt x="1674" y="1762"/>
                </a:lnTo>
                <a:lnTo>
                  <a:pt x="1677" y="1763"/>
                </a:lnTo>
                <a:lnTo>
                  <a:pt x="1680" y="1763"/>
                </a:lnTo>
                <a:lnTo>
                  <a:pt x="1684" y="1763"/>
                </a:lnTo>
                <a:lnTo>
                  <a:pt x="1688" y="1763"/>
                </a:lnTo>
                <a:lnTo>
                  <a:pt x="1692" y="1763"/>
                </a:lnTo>
                <a:lnTo>
                  <a:pt x="1698" y="1763"/>
                </a:lnTo>
                <a:lnTo>
                  <a:pt x="1702" y="1763"/>
                </a:lnTo>
                <a:lnTo>
                  <a:pt x="1707" y="1763"/>
                </a:lnTo>
                <a:lnTo>
                  <a:pt x="1711" y="1763"/>
                </a:lnTo>
                <a:lnTo>
                  <a:pt x="1716" y="1763"/>
                </a:lnTo>
                <a:lnTo>
                  <a:pt x="1720" y="1763"/>
                </a:lnTo>
                <a:lnTo>
                  <a:pt x="1725" y="1763"/>
                </a:lnTo>
                <a:lnTo>
                  <a:pt x="1729" y="1763"/>
                </a:lnTo>
                <a:lnTo>
                  <a:pt x="1734" y="1763"/>
                </a:lnTo>
                <a:lnTo>
                  <a:pt x="1737" y="1763"/>
                </a:lnTo>
                <a:lnTo>
                  <a:pt x="1741" y="1762"/>
                </a:lnTo>
                <a:lnTo>
                  <a:pt x="1742" y="1762"/>
                </a:lnTo>
                <a:lnTo>
                  <a:pt x="1744" y="1762"/>
                </a:lnTo>
                <a:lnTo>
                  <a:pt x="1746" y="1762"/>
                </a:lnTo>
                <a:lnTo>
                  <a:pt x="1749" y="1761"/>
                </a:lnTo>
                <a:lnTo>
                  <a:pt x="1751" y="1761"/>
                </a:lnTo>
                <a:lnTo>
                  <a:pt x="1754" y="1760"/>
                </a:lnTo>
                <a:lnTo>
                  <a:pt x="1756" y="1760"/>
                </a:lnTo>
                <a:lnTo>
                  <a:pt x="1760" y="1758"/>
                </a:lnTo>
                <a:lnTo>
                  <a:pt x="1762" y="1758"/>
                </a:lnTo>
                <a:lnTo>
                  <a:pt x="1765" y="1758"/>
                </a:lnTo>
                <a:lnTo>
                  <a:pt x="1766" y="1758"/>
                </a:lnTo>
                <a:lnTo>
                  <a:pt x="1770" y="1756"/>
                </a:lnTo>
                <a:lnTo>
                  <a:pt x="1772" y="1756"/>
                </a:lnTo>
                <a:lnTo>
                  <a:pt x="1774" y="1755"/>
                </a:lnTo>
                <a:lnTo>
                  <a:pt x="1776" y="1755"/>
                </a:lnTo>
                <a:lnTo>
                  <a:pt x="1779" y="1753"/>
                </a:lnTo>
                <a:lnTo>
                  <a:pt x="1781" y="1753"/>
                </a:lnTo>
                <a:lnTo>
                  <a:pt x="1784" y="1751"/>
                </a:lnTo>
                <a:lnTo>
                  <a:pt x="1786" y="1749"/>
                </a:lnTo>
                <a:lnTo>
                  <a:pt x="1790" y="1748"/>
                </a:lnTo>
                <a:lnTo>
                  <a:pt x="1792" y="1746"/>
                </a:lnTo>
                <a:lnTo>
                  <a:pt x="1795" y="1744"/>
                </a:lnTo>
                <a:lnTo>
                  <a:pt x="1799" y="1742"/>
                </a:lnTo>
                <a:lnTo>
                  <a:pt x="1803" y="1740"/>
                </a:lnTo>
                <a:lnTo>
                  <a:pt x="1805" y="1738"/>
                </a:lnTo>
                <a:lnTo>
                  <a:pt x="1808" y="1736"/>
                </a:lnTo>
                <a:lnTo>
                  <a:pt x="1812" y="1734"/>
                </a:lnTo>
                <a:lnTo>
                  <a:pt x="1815" y="1731"/>
                </a:lnTo>
                <a:lnTo>
                  <a:pt x="1817" y="1730"/>
                </a:lnTo>
                <a:lnTo>
                  <a:pt x="1821" y="1728"/>
                </a:lnTo>
                <a:lnTo>
                  <a:pt x="1823" y="1726"/>
                </a:lnTo>
                <a:lnTo>
                  <a:pt x="1826" y="1724"/>
                </a:lnTo>
                <a:lnTo>
                  <a:pt x="1830" y="1721"/>
                </a:lnTo>
                <a:lnTo>
                  <a:pt x="1836" y="1717"/>
                </a:lnTo>
                <a:lnTo>
                  <a:pt x="1842" y="1711"/>
                </a:lnTo>
                <a:lnTo>
                  <a:pt x="1847" y="1704"/>
                </a:lnTo>
                <a:lnTo>
                  <a:pt x="1851" y="1698"/>
                </a:lnTo>
                <a:lnTo>
                  <a:pt x="1856" y="1690"/>
                </a:lnTo>
                <a:lnTo>
                  <a:pt x="1862" y="1683"/>
                </a:lnTo>
                <a:lnTo>
                  <a:pt x="1868" y="1675"/>
                </a:lnTo>
                <a:lnTo>
                  <a:pt x="1872" y="1667"/>
                </a:lnTo>
                <a:lnTo>
                  <a:pt x="1876" y="1660"/>
                </a:lnTo>
                <a:lnTo>
                  <a:pt x="1880" y="1652"/>
                </a:lnTo>
                <a:lnTo>
                  <a:pt x="1886" y="1645"/>
                </a:lnTo>
                <a:lnTo>
                  <a:pt x="1890" y="1639"/>
                </a:lnTo>
                <a:lnTo>
                  <a:pt x="1893" y="1631"/>
                </a:lnTo>
                <a:lnTo>
                  <a:pt x="1897" y="1625"/>
                </a:lnTo>
                <a:lnTo>
                  <a:pt x="1901" y="1618"/>
                </a:lnTo>
                <a:lnTo>
                  <a:pt x="1901" y="1616"/>
                </a:lnTo>
                <a:lnTo>
                  <a:pt x="1903" y="1613"/>
                </a:lnTo>
                <a:lnTo>
                  <a:pt x="1904" y="1610"/>
                </a:lnTo>
                <a:lnTo>
                  <a:pt x="1906" y="1606"/>
                </a:lnTo>
                <a:lnTo>
                  <a:pt x="1907" y="1602"/>
                </a:lnTo>
                <a:lnTo>
                  <a:pt x="1909" y="1599"/>
                </a:lnTo>
                <a:lnTo>
                  <a:pt x="1911" y="1595"/>
                </a:lnTo>
                <a:lnTo>
                  <a:pt x="1912" y="1591"/>
                </a:lnTo>
                <a:lnTo>
                  <a:pt x="1914" y="1587"/>
                </a:lnTo>
                <a:lnTo>
                  <a:pt x="1916" y="1584"/>
                </a:lnTo>
                <a:lnTo>
                  <a:pt x="1918" y="1580"/>
                </a:lnTo>
                <a:lnTo>
                  <a:pt x="1920" y="1576"/>
                </a:lnTo>
                <a:lnTo>
                  <a:pt x="1921" y="1574"/>
                </a:lnTo>
                <a:lnTo>
                  <a:pt x="1923" y="1571"/>
                </a:lnTo>
                <a:lnTo>
                  <a:pt x="1925" y="1569"/>
                </a:lnTo>
                <a:lnTo>
                  <a:pt x="1928" y="1565"/>
                </a:lnTo>
                <a:lnTo>
                  <a:pt x="1926" y="1565"/>
                </a:lnTo>
                <a:lnTo>
                  <a:pt x="1926" y="1563"/>
                </a:lnTo>
                <a:lnTo>
                  <a:pt x="1926" y="1561"/>
                </a:lnTo>
                <a:lnTo>
                  <a:pt x="1926" y="1559"/>
                </a:lnTo>
                <a:lnTo>
                  <a:pt x="1926" y="1557"/>
                </a:lnTo>
                <a:lnTo>
                  <a:pt x="1928" y="1555"/>
                </a:lnTo>
                <a:lnTo>
                  <a:pt x="1930" y="1554"/>
                </a:lnTo>
                <a:lnTo>
                  <a:pt x="1931" y="1551"/>
                </a:lnTo>
                <a:lnTo>
                  <a:pt x="1932" y="1549"/>
                </a:lnTo>
                <a:lnTo>
                  <a:pt x="1934" y="1547"/>
                </a:lnTo>
                <a:lnTo>
                  <a:pt x="1936" y="1545"/>
                </a:lnTo>
                <a:lnTo>
                  <a:pt x="1938" y="1542"/>
                </a:lnTo>
                <a:lnTo>
                  <a:pt x="1938" y="1540"/>
                </a:lnTo>
                <a:lnTo>
                  <a:pt x="1940" y="1538"/>
                </a:lnTo>
                <a:lnTo>
                  <a:pt x="1940" y="1536"/>
                </a:lnTo>
                <a:lnTo>
                  <a:pt x="1941" y="1534"/>
                </a:lnTo>
                <a:lnTo>
                  <a:pt x="1941" y="1534"/>
                </a:lnTo>
                <a:lnTo>
                  <a:pt x="1941" y="1532"/>
                </a:lnTo>
                <a:lnTo>
                  <a:pt x="1941" y="1530"/>
                </a:lnTo>
                <a:lnTo>
                  <a:pt x="1941" y="1528"/>
                </a:lnTo>
                <a:lnTo>
                  <a:pt x="1941" y="1526"/>
                </a:lnTo>
                <a:lnTo>
                  <a:pt x="1941" y="1524"/>
                </a:lnTo>
                <a:lnTo>
                  <a:pt x="1941" y="1523"/>
                </a:lnTo>
                <a:lnTo>
                  <a:pt x="1942" y="1519"/>
                </a:lnTo>
                <a:lnTo>
                  <a:pt x="1942" y="1517"/>
                </a:lnTo>
                <a:lnTo>
                  <a:pt x="1942" y="1515"/>
                </a:lnTo>
                <a:lnTo>
                  <a:pt x="1942" y="1514"/>
                </a:lnTo>
                <a:lnTo>
                  <a:pt x="1942" y="1511"/>
                </a:lnTo>
                <a:lnTo>
                  <a:pt x="1941" y="1510"/>
                </a:lnTo>
                <a:lnTo>
                  <a:pt x="1941" y="1508"/>
                </a:lnTo>
                <a:lnTo>
                  <a:pt x="1941" y="1507"/>
                </a:lnTo>
                <a:lnTo>
                  <a:pt x="1941" y="1505"/>
                </a:lnTo>
                <a:lnTo>
                  <a:pt x="1941" y="1505"/>
                </a:lnTo>
                <a:lnTo>
                  <a:pt x="1941" y="1504"/>
                </a:lnTo>
                <a:lnTo>
                  <a:pt x="1941" y="1504"/>
                </a:lnTo>
                <a:lnTo>
                  <a:pt x="1942" y="1502"/>
                </a:lnTo>
                <a:lnTo>
                  <a:pt x="1942" y="1502"/>
                </a:lnTo>
                <a:lnTo>
                  <a:pt x="1944" y="1500"/>
                </a:lnTo>
                <a:lnTo>
                  <a:pt x="1944" y="1498"/>
                </a:lnTo>
                <a:lnTo>
                  <a:pt x="1946" y="1496"/>
                </a:lnTo>
                <a:lnTo>
                  <a:pt x="1946" y="1496"/>
                </a:lnTo>
                <a:lnTo>
                  <a:pt x="1946" y="1494"/>
                </a:lnTo>
                <a:lnTo>
                  <a:pt x="1946" y="1493"/>
                </a:lnTo>
                <a:lnTo>
                  <a:pt x="1948" y="1491"/>
                </a:lnTo>
                <a:lnTo>
                  <a:pt x="1948" y="1491"/>
                </a:lnTo>
                <a:lnTo>
                  <a:pt x="1948" y="1489"/>
                </a:lnTo>
                <a:lnTo>
                  <a:pt x="1948" y="1488"/>
                </a:lnTo>
                <a:lnTo>
                  <a:pt x="1950" y="1486"/>
                </a:lnTo>
                <a:lnTo>
                  <a:pt x="1951" y="1484"/>
                </a:lnTo>
                <a:lnTo>
                  <a:pt x="1953" y="1483"/>
                </a:lnTo>
                <a:lnTo>
                  <a:pt x="1955" y="1481"/>
                </a:lnTo>
                <a:lnTo>
                  <a:pt x="1958" y="1477"/>
                </a:lnTo>
                <a:lnTo>
                  <a:pt x="1959" y="1476"/>
                </a:lnTo>
                <a:lnTo>
                  <a:pt x="1962" y="1473"/>
                </a:lnTo>
                <a:lnTo>
                  <a:pt x="1964" y="1471"/>
                </a:lnTo>
                <a:lnTo>
                  <a:pt x="1968" y="1467"/>
                </a:lnTo>
                <a:lnTo>
                  <a:pt x="1970" y="1465"/>
                </a:lnTo>
                <a:lnTo>
                  <a:pt x="1973" y="1463"/>
                </a:lnTo>
                <a:lnTo>
                  <a:pt x="1975" y="1461"/>
                </a:lnTo>
                <a:lnTo>
                  <a:pt x="1979" y="1457"/>
                </a:lnTo>
                <a:lnTo>
                  <a:pt x="1981" y="1455"/>
                </a:lnTo>
                <a:lnTo>
                  <a:pt x="1983" y="1453"/>
                </a:lnTo>
                <a:lnTo>
                  <a:pt x="1985" y="1451"/>
                </a:lnTo>
                <a:lnTo>
                  <a:pt x="1988" y="1448"/>
                </a:lnTo>
                <a:lnTo>
                  <a:pt x="1992" y="1444"/>
                </a:lnTo>
                <a:lnTo>
                  <a:pt x="1997" y="1438"/>
                </a:lnTo>
                <a:lnTo>
                  <a:pt x="2002" y="1432"/>
                </a:lnTo>
                <a:lnTo>
                  <a:pt x="2008" y="1425"/>
                </a:lnTo>
                <a:lnTo>
                  <a:pt x="2011" y="1418"/>
                </a:lnTo>
                <a:lnTo>
                  <a:pt x="2017" y="1410"/>
                </a:lnTo>
                <a:lnTo>
                  <a:pt x="2022" y="1403"/>
                </a:lnTo>
                <a:lnTo>
                  <a:pt x="2028" y="1393"/>
                </a:lnTo>
                <a:lnTo>
                  <a:pt x="2032" y="1386"/>
                </a:lnTo>
                <a:lnTo>
                  <a:pt x="2037" y="1378"/>
                </a:lnTo>
                <a:lnTo>
                  <a:pt x="2041" y="1370"/>
                </a:lnTo>
                <a:lnTo>
                  <a:pt x="2046" y="1361"/>
                </a:lnTo>
                <a:lnTo>
                  <a:pt x="2049" y="1353"/>
                </a:lnTo>
                <a:lnTo>
                  <a:pt x="2052" y="1346"/>
                </a:lnTo>
                <a:lnTo>
                  <a:pt x="2054" y="1339"/>
                </a:lnTo>
                <a:lnTo>
                  <a:pt x="2057" y="1331"/>
                </a:lnTo>
                <a:lnTo>
                  <a:pt x="2057" y="1330"/>
                </a:lnTo>
                <a:lnTo>
                  <a:pt x="2059" y="1328"/>
                </a:lnTo>
                <a:lnTo>
                  <a:pt x="2059" y="1326"/>
                </a:lnTo>
                <a:lnTo>
                  <a:pt x="2060" y="1323"/>
                </a:lnTo>
                <a:lnTo>
                  <a:pt x="2060" y="1321"/>
                </a:lnTo>
                <a:lnTo>
                  <a:pt x="2062" y="1319"/>
                </a:lnTo>
                <a:lnTo>
                  <a:pt x="2064" y="1317"/>
                </a:lnTo>
                <a:lnTo>
                  <a:pt x="2066" y="1313"/>
                </a:lnTo>
                <a:lnTo>
                  <a:pt x="2066" y="1311"/>
                </a:lnTo>
                <a:lnTo>
                  <a:pt x="2068" y="1310"/>
                </a:lnTo>
                <a:lnTo>
                  <a:pt x="2069" y="1308"/>
                </a:lnTo>
                <a:lnTo>
                  <a:pt x="2071" y="1305"/>
                </a:lnTo>
                <a:lnTo>
                  <a:pt x="2071" y="1303"/>
                </a:lnTo>
                <a:lnTo>
                  <a:pt x="2072" y="1301"/>
                </a:lnTo>
                <a:lnTo>
                  <a:pt x="2072" y="1299"/>
                </a:lnTo>
                <a:lnTo>
                  <a:pt x="2074" y="1295"/>
                </a:lnTo>
                <a:lnTo>
                  <a:pt x="2074" y="1291"/>
                </a:lnTo>
                <a:lnTo>
                  <a:pt x="2076" y="1285"/>
                </a:lnTo>
                <a:lnTo>
                  <a:pt x="2077" y="1280"/>
                </a:lnTo>
                <a:lnTo>
                  <a:pt x="2078" y="1273"/>
                </a:lnTo>
                <a:lnTo>
                  <a:pt x="2080" y="1268"/>
                </a:lnTo>
                <a:lnTo>
                  <a:pt x="2082" y="1260"/>
                </a:lnTo>
                <a:lnTo>
                  <a:pt x="2084" y="1253"/>
                </a:lnTo>
                <a:lnTo>
                  <a:pt x="2088" y="1246"/>
                </a:lnTo>
                <a:lnTo>
                  <a:pt x="2090" y="1241"/>
                </a:lnTo>
                <a:lnTo>
                  <a:pt x="2094" y="1233"/>
                </a:lnTo>
                <a:lnTo>
                  <a:pt x="2096" y="1228"/>
                </a:lnTo>
                <a:lnTo>
                  <a:pt x="2100" y="1221"/>
                </a:lnTo>
                <a:lnTo>
                  <a:pt x="2102" y="1215"/>
                </a:lnTo>
                <a:lnTo>
                  <a:pt x="2106" y="1210"/>
                </a:lnTo>
                <a:lnTo>
                  <a:pt x="2108" y="1205"/>
                </a:lnTo>
                <a:lnTo>
                  <a:pt x="2112" y="1201"/>
                </a:lnTo>
                <a:lnTo>
                  <a:pt x="2112" y="1201"/>
                </a:lnTo>
                <a:lnTo>
                  <a:pt x="2114" y="1199"/>
                </a:lnTo>
                <a:lnTo>
                  <a:pt x="2115" y="1199"/>
                </a:lnTo>
                <a:lnTo>
                  <a:pt x="2117" y="1197"/>
                </a:lnTo>
                <a:lnTo>
                  <a:pt x="2119" y="1197"/>
                </a:lnTo>
                <a:lnTo>
                  <a:pt x="2121" y="1195"/>
                </a:lnTo>
                <a:lnTo>
                  <a:pt x="2123" y="1193"/>
                </a:lnTo>
                <a:lnTo>
                  <a:pt x="2126" y="1191"/>
                </a:lnTo>
                <a:lnTo>
                  <a:pt x="2128" y="1191"/>
                </a:lnTo>
                <a:lnTo>
                  <a:pt x="2130" y="1189"/>
                </a:lnTo>
                <a:lnTo>
                  <a:pt x="2132" y="1188"/>
                </a:lnTo>
                <a:lnTo>
                  <a:pt x="2134" y="1186"/>
                </a:lnTo>
                <a:lnTo>
                  <a:pt x="2135" y="1186"/>
                </a:lnTo>
                <a:lnTo>
                  <a:pt x="2137" y="1184"/>
                </a:lnTo>
                <a:lnTo>
                  <a:pt x="2138" y="1183"/>
                </a:lnTo>
                <a:lnTo>
                  <a:pt x="2140" y="1181"/>
                </a:lnTo>
                <a:lnTo>
                  <a:pt x="2141" y="1180"/>
                </a:lnTo>
                <a:lnTo>
                  <a:pt x="2143" y="1178"/>
                </a:lnTo>
                <a:lnTo>
                  <a:pt x="2145" y="1176"/>
                </a:lnTo>
                <a:lnTo>
                  <a:pt x="2146" y="1174"/>
                </a:lnTo>
                <a:lnTo>
                  <a:pt x="2148" y="1172"/>
                </a:lnTo>
                <a:lnTo>
                  <a:pt x="2150" y="1169"/>
                </a:lnTo>
                <a:lnTo>
                  <a:pt x="2152" y="1167"/>
                </a:lnTo>
                <a:lnTo>
                  <a:pt x="2155" y="1163"/>
                </a:lnTo>
                <a:lnTo>
                  <a:pt x="2157" y="1161"/>
                </a:lnTo>
                <a:lnTo>
                  <a:pt x="2159" y="1158"/>
                </a:lnTo>
                <a:lnTo>
                  <a:pt x="2161" y="1156"/>
                </a:lnTo>
                <a:lnTo>
                  <a:pt x="2163" y="1153"/>
                </a:lnTo>
                <a:lnTo>
                  <a:pt x="2164" y="1151"/>
                </a:lnTo>
                <a:lnTo>
                  <a:pt x="2165" y="1148"/>
                </a:lnTo>
                <a:lnTo>
                  <a:pt x="2167" y="1146"/>
                </a:lnTo>
                <a:lnTo>
                  <a:pt x="2169" y="1143"/>
                </a:lnTo>
                <a:lnTo>
                  <a:pt x="2169" y="1143"/>
                </a:lnTo>
                <a:lnTo>
                  <a:pt x="2169" y="1142"/>
                </a:lnTo>
                <a:lnTo>
                  <a:pt x="2169" y="1141"/>
                </a:lnTo>
                <a:lnTo>
                  <a:pt x="2171" y="1139"/>
                </a:lnTo>
                <a:lnTo>
                  <a:pt x="2171" y="1139"/>
                </a:lnTo>
                <a:lnTo>
                  <a:pt x="2172" y="1137"/>
                </a:lnTo>
                <a:lnTo>
                  <a:pt x="2172" y="1135"/>
                </a:lnTo>
                <a:lnTo>
                  <a:pt x="2174" y="1134"/>
                </a:lnTo>
                <a:lnTo>
                  <a:pt x="2174" y="1134"/>
                </a:lnTo>
                <a:lnTo>
                  <a:pt x="2174" y="1132"/>
                </a:lnTo>
                <a:lnTo>
                  <a:pt x="2174" y="1131"/>
                </a:lnTo>
                <a:lnTo>
                  <a:pt x="2175" y="1129"/>
                </a:lnTo>
                <a:lnTo>
                  <a:pt x="2175" y="1129"/>
                </a:lnTo>
                <a:lnTo>
                  <a:pt x="2176" y="1127"/>
                </a:lnTo>
                <a:lnTo>
                  <a:pt x="2176" y="1126"/>
                </a:lnTo>
                <a:lnTo>
                  <a:pt x="2178" y="1124"/>
                </a:lnTo>
                <a:lnTo>
                  <a:pt x="2180" y="1122"/>
                </a:lnTo>
                <a:lnTo>
                  <a:pt x="2184" y="1118"/>
                </a:lnTo>
                <a:lnTo>
                  <a:pt x="2187" y="1114"/>
                </a:lnTo>
                <a:lnTo>
                  <a:pt x="2192" y="1111"/>
                </a:lnTo>
                <a:lnTo>
                  <a:pt x="2195" y="1107"/>
                </a:lnTo>
                <a:lnTo>
                  <a:pt x="2200" y="1103"/>
                </a:lnTo>
                <a:lnTo>
                  <a:pt x="2205" y="1099"/>
                </a:lnTo>
                <a:lnTo>
                  <a:pt x="2211" y="1095"/>
                </a:lnTo>
                <a:lnTo>
                  <a:pt x="2215" y="1091"/>
                </a:lnTo>
                <a:lnTo>
                  <a:pt x="2220" y="1087"/>
                </a:lnTo>
                <a:lnTo>
                  <a:pt x="2224" y="1084"/>
                </a:lnTo>
                <a:lnTo>
                  <a:pt x="2230" y="1080"/>
                </a:lnTo>
                <a:lnTo>
                  <a:pt x="2233" y="1077"/>
                </a:lnTo>
                <a:lnTo>
                  <a:pt x="2238" y="1074"/>
                </a:lnTo>
                <a:lnTo>
                  <a:pt x="2242" y="1071"/>
                </a:lnTo>
                <a:lnTo>
                  <a:pt x="2245" y="1067"/>
                </a:lnTo>
                <a:lnTo>
                  <a:pt x="2247" y="1065"/>
                </a:lnTo>
                <a:lnTo>
                  <a:pt x="2250" y="1063"/>
                </a:lnTo>
                <a:lnTo>
                  <a:pt x="2252" y="1061"/>
                </a:lnTo>
                <a:lnTo>
                  <a:pt x="2255" y="1057"/>
                </a:lnTo>
                <a:lnTo>
                  <a:pt x="2257" y="1055"/>
                </a:lnTo>
                <a:lnTo>
                  <a:pt x="2261" y="1051"/>
                </a:lnTo>
                <a:lnTo>
                  <a:pt x="2264" y="1047"/>
                </a:lnTo>
                <a:lnTo>
                  <a:pt x="2268" y="1043"/>
                </a:lnTo>
                <a:lnTo>
                  <a:pt x="2270" y="1041"/>
                </a:lnTo>
                <a:lnTo>
                  <a:pt x="2274" y="1038"/>
                </a:lnTo>
                <a:lnTo>
                  <a:pt x="2277" y="1034"/>
                </a:lnTo>
                <a:lnTo>
                  <a:pt x="2281" y="1030"/>
                </a:lnTo>
                <a:lnTo>
                  <a:pt x="2283" y="1028"/>
                </a:lnTo>
                <a:lnTo>
                  <a:pt x="2286" y="1025"/>
                </a:lnTo>
                <a:lnTo>
                  <a:pt x="2289" y="1023"/>
                </a:lnTo>
                <a:lnTo>
                  <a:pt x="2293" y="1019"/>
                </a:lnTo>
                <a:lnTo>
                  <a:pt x="2297" y="1016"/>
                </a:lnTo>
                <a:lnTo>
                  <a:pt x="2302" y="1013"/>
                </a:lnTo>
                <a:lnTo>
                  <a:pt x="2309" y="1009"/>
                </a:lnTo>
                <a:lnTo>
                  <a:pt x="2316" y="1005"/>
                </a:lnTo>
                <a:lnTo>
                  <a:pt x="2324" y="1001"/>
                </a:lnTo>
                <a:lnTo>
                  <a:pt x="2331" y="998"/>
                </a:lnTo>
                <a:lnTo>
                  <a:pt x="2339" y="994"/>
                </a:lnTo>
                <a:lnTo>
                  <a:pt x="2348" y="989"/>
                </a:lnTo>
                <a:lnTo>
                  <a:pt x="2356" y="986"/>
                </a:lnTo>
                <a:lnTo>
                  <a:pt x="2364" y="982"/>
                </a:lnTo>
                <a:lnTo>
                  <a:pt x="2371" y="978"/>
                </a:lnTo>
                <a:lnTo>
                  <a:pt x="2380" y="975"/>
                </a:lnTo>
                <a:lnTo>
                  <a:pt x="2386" y="972"/>
                </a:lnTo>
                <a:lnTo>
                  <a:pt x="2394" y="968"/>
                </a:lnTo>
                <a:lnTo>
                  <a:pt x="2400" y="966"/>
                </a:lnTo>
                <a:lnTo>
                  <a:pt x="2407" y="962"/>
                </a:lnTo>
                <a:lnTo>
                  <a:pt x="2416" y="958"/>
                </a:lnTo>
                <a:lnTo>
                  <a:pt x="2428" y="955"/>
                </a:lnTo>
                <a:lnTo>
                  <a:pt x="2440" y="951"/>
                </a:lnTo>
                <a:lnTo>
                  <a:pt x="2455" y="945"/>
                </a:lnTo>
                <a:lnTo>
                  <a:pt x="2469" y="941"/>
                </a:lnTo>
                <a:lnTo>
                  <a:pt x="2484" y="936"/>
                </a:lnTo>
                <a:lnTo>
                  <a:pt x="2499" y="931"/>
                </a:lnTo>
                <a:lnTo>
                  <a:pt x="2515" y="925"/>
                </a:lnTo>
                <a:lnTo>
                  <a:pt x="2530" y="921"/>
                </a:lnTo>
                <a:lnTo>
                  <a:pt x="2545" y="915"/>
                </a:lnTo>
                <a:lnTo>
                  <a:pt x="2559" y="910"/>
                </a:lnTo>
                <a:lnTo>
                  <a:pt x="2574" y="903"/>
                </a:lnTo>
                <a:lnTo>
                  <a:pt x="2585" y="898"/>
                </a:lnTo>
                <a:lnTo>
                  <a:pt x="2597" y="891"/>
                </a:lnTo>
                <a:lnTo>
                  <a:pt x="2607" y="884"/>
                </a:lnTo>
                <a:lnTo>
                  <a:pt x="2616" y="877"/>
                </a:lnTo>
                <a:lnTo>
                  <a:pt x="2616" y="875"/>
                </a:lnTo>
                <a:lnTo>
                  <a:pt x="2618" y="873"/>
                </a:lnTo>
                <a:lnTo>
                  <a:pt x="2619" y="872"/>
                </a:lnTo>
                <a:lnTo>
                  <a:pt x="2621" y="869"/>
                </a:lnTo>
                <a:lnTo>
                  <a:pt x="2621" y="867"/>
                </a:lnTo>
                <a:lnTo>
                  <a:pt x="2623" y="864"/>
                </a:lnTo>
                <a:lnTo>
                  <a:pt x="2624" y="862"/>
                </a:lnTo>
                <a:lnTo>
                  <a:pt x="2626" y="859"/>
                </a:lnTo>
                <a:lnTo>
                  <a:pt x="2626" y="857"/>
                </a:lnTo>
                <a:lnTo>
                  <a:pt x="2628" y="853"/>
                </a:lnTo>
                <a:lnTo>
                  <a:pt x="2628" y="852"/>
                </a:lnTo>
                <a:lnTo>
                  <a:pt x="2630" y="848"/>
                </a:lnTo>
                <a:lnTo>
                  <a:pt x="2630" y="846"/>
                </a:lnTo>
                <a:lnTo>
                  <a:pt x="2632" y="843"/>
                </a:lnTo>
                <a:lnTo>
                  <a:pt x="2633" y="842"/>
                </a:lnTo>
                <a:lnTo>
                  <a:pt x="2635" y="839"/>
                </a:lnTo>
                <a:lnTo>
                  <a:pt x="2636" y="837"/>
                </a:lnTo>
                <a:lnTo>
                  <a:pt x="2638" y="833"/>
                </a:lnTo>
                <a:lnTo>
                  <a:pt x="2640" y="829"/>
                </a:lnTo>
                <a:lnTo>
                  <a:pt x="2642" y="825"/>
                </a:lnTo>
                <a:lnTo>
                  <a:pt x="2644" y="822"/>
                </a:lnTo>
                <a:lnTo>
                  <a:pt x="2646" y="818"/>
                </a:lnTo>
                <a:lnTo>
                  <a:pt x="2648" y="814"/>
                </a:lnTo>
                <a:lnTo>
                  <a:pt x="2652" y="809"/>
                </a:lnTo>
                <a:lnTo>
                  <a:pt x="2654" y="805"/>
                </a:lnTo>
                <a:lnTo>
                  <a:pt x="2657" y="801"/>
                </a:lnTo>
                <a:lnTo>
                  <a:pt x="2659" y="797"/>
                </a:lnTo>
                <a:lnTo>
                  <a:pt x="2663" y="794"/>
                </a:lnTo>
                <a:lnTo>
                  <a:pt x="2664" y="791"/>
                </a:lnTo>
                <a:lnTo>
                  <a:pt x="2668" y="787"/>
                </a:lnTo>
                <a:lnTo>
                  <a:pt x="2670" y="785"/>
                </a:lnTo>
                <a:lnTo>
                  <a:pt x="2673" y="781"/>
                </a:lnTo>
                <a:lnTo>
                  <a:pt x="2675" y="779"/>
                </a:lnTo>
                <a:lnTo>
                  <a:pt x="2679" y="777"/>
                </a:lnTo>
                <a:lnTo>
                  <a:pt x="2683" y="775"/>
                </a:lnTo>
                <a:lnTo>
                  <a:pt x="2687" y="772"/>
                </a:lnTo>
                <a:lnTo>
                  <a:pt x="2691" y="770"/>
                </a:lnTo>
                <a:lnTo>
                  <a:pt x="2696" y="766"/>
                </a:lnTo>
                <a:lnTo>
                  <a:pt x="2700" y="764"/>
                </a:lnTo>
                <a:lnTo>
                  <a:pt x="2706" y="761"/>
                </a:lnTo>
                <a:lnTo>
                  <a:pt x="2710" y="759"/>
                </a:lnTo>
                <a:lnTo>
                  <a:pt x="2714" y="757"/>
                </a:lnTo>
                <a:lnTo>
                  <a:pt x="2718" y="755"/>
                </a:lnTo>
                <a:lnTo>
                  <a:pt x="2724" y="751"/>
                </a:lnTo>
                <a:lnTo>
                  <a:pt x="2728" y="749"/>
                </a:lnTo>
                <a:lnTo>
                  <a:pt x="2732" y="747"/>
                </a:lnTo>
                <a:lnTo>
                  <a:pt x="2736" y="745"/>
                </a:lnTo>
                <a:lnTo>
                  <a:pt x="2740" y="743"/>
                </a:lnTo>
                <a:lnTo>
                  <a:pt x="2747" y="739"/>
                </a:lnTo>
                <a:lnTo>
                  <a:pt x="2755" y="734"/>
                </a:lnTo>
                <a:lnTo>
                  <a:pt x="2764" y="729"/>
                </a:lnTo>
                <a:lnTo>
                  <a:pt x="2773" y="723"/>
                </a:lnTo>
                <a:lnTo>
                  <a:pt x="2782" y="717"/>
                </a:lnTo>
                <a:lnTo>
                  <a:pt x="2793" y="710"/>
                </a:lnTo>
                <a:lnTo>
                  <a:pt x="2803" y="704"/>
                </a:lnTo>
                <a:lnTo>
                  <a:pt x="2814" y="696"/>
                </a:lnTo>
                <a:lnTo>
                  <a:pt x="2824" y="691"/>
                </a:lnTo>
                <a:lnTo>
                  <a:pt x="2835" y="685"/>
                </a:lnTo>
                <a:lnTo>
                  <a:pt x="2845" y="679"/>
                </a:lnTo>
                <a:lnTo>
                  <a:pt x="2856" y="673"/>
                </a:lnTo>
                <a:lnTo>
                  <a:pt x="2866" y="669"/>
                </a:lnTo>
                <a:lnTo>
                  <a:pt x="2875" y="664"/>
                </a:lnTo>
                <a:lnTo>
                  <a:pt x="2883" y="661"/>
                </a:lnTo>
                <a:lnTo>
                  <a:pt x="2892" y="657"/>
                </a:lnTo>
                <a:lnTo>
                  <a:pt x="2900" y="656"/>
                </a:lnTo>
                <a:lnTo>
                  <a:pt x="2909" y="655"/>
                </a:lnTo>
                <a:lnTo>
                  <a:pt x="2919" y="655"/>
                </a:lnTo>
                <a:lnTo>
                  <a:pt x="2930" y="653"/>
                </a:lnTo>
                <a:lnTo>
                  <a:pt x="2942" y="653"/>
                </a:lnTo>
                <a:lnTo>
                  <a:pt x="2954" y="652"/>
                </a:lnTo>
                <a:lnTo>
                  <a:pt x="2965" y="652"/>
                </a:lnTo>
                <a:lnTo>
                  <a:pt x="2978" y="651"/>
                </a:lnTo>
                <a:lnTo>
                  <a:pt x="2989" y="651"/>
                </a:lnTo>
                <a:lnTo>
                  <a:pt x="3002" y="651"/>
                </a:lnTo>
                <a:lnTo>
                  <a:pt x="3013" y="651"/>
                </a:lnTo>
                <a:lnTo>
                  <a:pt x="3024" y="651"/>
                </a:lnTo>
                <a:lnTo>
                  <a:pt x="3034" y="651"/>
                </a:lnTo>
                <a:lnTo>
                  <a:pt x="3045" y="650"/>
                </a:lnTo>
                <a:lnTo>
                  <a:pt x="3054" y="649"/>
                </a:lnTo>
                <a:lnTo>
                  <a:pt x="3063" y="648"/>
                </a:lnTo>
                <a:lnTo>
                  <a:pt x="3070" y="647"/>
                </a:lnTo>
                <a:lnTo>
                  <a:pt x="3078" y="645"/>
                </a:lnTo>
                <a:lnTo>
                  <a:pt x="3086" y="643"/>
                </a:lnTo>
                <a:lnTo>
                  <a:pt x="3095" y="641"/>
                </a:lnTo>
                <a:lnTo>
                  <a:pt x="3104" y="639"/>
                </a:lnTo>
                <a:lnTo>
                  <a:pt x="3114" y="636"/>
                </a:lnTo>
                <a:lnTo>
                  <a:pt x="3123" y="633"/>
                </a:lnTo>
                <a:lnTo>
                  <a:pt x="3134" y="629"/>
                </a:lnTo>
                <a:lnTo>
                  <a:pt x="3144" y="628"/>
                </a:lnTo>
                <a:lnTo>
                  <a:pt x="3153" y="624"/>
                </a:lnTo>
                <a:lnTo>
                  <a:pt x="3162" y="622"/>
                </a:lnTo>
                <a:lnTo>
                  <a:pt x="3173" y="618"/>
                </a:lnTo>
                <a:lnTo>
                  <a:pt x="3181" y="617"/>
                </a:lnTo>
                <a:lnTo>
                  <a:pt x="3190" y="614"/>
                </a:lnTo>
                <a:lnTo>
                  <a:pt x="3198" y="612"/>
                </a:lnTo>
                <a:lnTo>
                  <a:pt x="3206" y="609"/>
                </a:lnTo>
                <a:lnTo>
                  <a:pt x="3218" y="608"/>
                </a:lnTo>
                <a:lnTo>
                  <a:pt x="3232" y="606"/>
                </a:lnTo>
                <a:lnTo>
                  <a:pt x="3247" y="604"/>
                </a:lnTo>
                <a:lnTo>
                  <a:pt x="3264" y="600"/>
                </a:lnTo>
                <a:lnTo>
                  <a:pt x="3281" y="598"/>
                </a:lnTo>
                <a:lnTo>
                  <a:pt x="3299" y="596"/>
                </a:lnTo>
                <a:lnTo>
                  <a:pt x="3317" y="594"/>
                </a:lnTo>
                <a:lnTo>
                  <a:pt x="3336" y="590"/>
                </a:lnTo>
                <a:lnTo>
                  <a:pt x="3353" y="588"/>
                </a:lnTo>
                <a:lnTo>
                  <a:pt x="3372" y="585"/>
                </a:lnTo>
                <a:lnTo>
                  <a:pt x="3388" y="582"/>
                </a:lnTo>
                <a:lnTo>
                  <a:pt x="3406" y="578"/>
                </a:lnTo>
                <a:lnTo>
                  <a:pt x="3422" y="575"/>
                </a:lnTo>
                <a:lnTo>
                  <a:pt x="3437" y="571"/>
                </a:lnTo>
                <a:lnTo>
                  <a:pt x="3451" y="567"/>
                </a:lnTo>
                <a:lnTo>
                  <a:pt x="3463" y="562"/>
                </a:lnTo>
                <a:lnTo>
                  <a:pt x="3471" y="559"/>
                </a:lnTo>
                <a:lnTo>
                  <a:pt x="3480" y="555"/>
                </a:lnTo>
                <a:lnTo>
                  <a:pt x="3490" y="549"/>
                </a:lnTo>
                <a:lnTo>
                  <a:pt x="3501" y="543"/>
                </a:lnTo>
                <a:lnTo>
                  <a:pt x="3512" y="537"/>
                </a:lnTo>
                <a:lnTo>
                  <a:pt x="3523" y="530"/>
                </a:lnTo>
                <a:lnTo>
                  <a:pt x="3534" y="522"/>
                </a:lnTo>
                <a:lnTo>
                  <a:pt x="3547" y="515"/>
                </a:lnTo>
                <a:lnTo>
                  <a:pt x="3558" y="507"/>
                </a:lnTo>
                <a:lnTo>
                  <a:pt x="3569" y="500"/>
                </a:lnTo>
                <a:lnTo>
                  <a:pt x="3579" y="492"/>
                </a:lnTo>
                <a:lnTo>
                  <a:pt x="3590" y="484"/>
                </a:lnTo>
                <a:lnTo>
                  <a:pt x="3599" y="478"/>
                </a:lnTo>
                <a:lnTo>
                  <a:pt x="3609" y="470"/>
                </a:lnTo>
                <a:lnTo>
                  <a:pt x="3616" y="464"/>
                </a:lnTo>
                <a:lnTo>
                  <a:pt x="3625" y="457"/>
                </a:lnTo>
                <a:lnTo>
                  <a:pt x="3630" y="453"/>
                </a:lnTo>
                <a:lnTo>
                  <a:pt x="3636" y="448"/>
                </a:lnTo>
                <a:lnTo>
                  <a:pt x="3641" y="442"/>
                </a:lnTo>
                <a:lnTo>
                  <a:pt x="3648" y="435"/>
                </a:lnTo>
                <a:lnTo>
                  <a:pt x="3654" y="429"/>
                </a:lnTo>
                <a:lnTo>
                  <a:pt x="3662" y="421"/>
                </a:lnTo>
                <a:lnTo>
                  <a:pt x="3669" y="414"/>
                </a:lnTo>
                <a:lnTo>
                  <a:pt x="3677" y="405"/>
                </a:lnTo>
                <a:lnTo>
                  <a:pt x="3682" y="399"/>
                </a:lnTo>
                <a:lnTo>
                  <a:pt x="3690" y="391"/>
                </a:lnTo>
                <a:lnTo>
                  <a:pt x="3697" y="384"/>
                </a:lnTo>
                <a:lnTo>
                  <a:pt x="3704" y="376"/>
                </a:lnTo>
                <a:lnTo>
                  <a:pt x="3710" y="371"/>
                </a:lnTo>
                <a:lnTo>
                  <a:pt x="3717" y="364"/>
                </a:lnTo>
                <a:lnTo>
                  <a:pt x="3723" y="358"/>
                </a:lnTo>
                <a:lnTo>
                  <a:pt x="3730" y="353"/>
                </a:lnTo>
                <a:lnTo>
                  <a:pt x="3734" y="351"/>
                </a:lnTo>
                <a:lnTo>
                  <a:pt x="3738" y="347"/>
                </a:lnTo>
                <a:lnTo>
                  <a:pt x="3744" y="344"/>
                </a:lnTo>
                <a:lnTo>
                  <a:pt x="3749" y="340"/>
                </a:lnTo>
                <a:lnTo>
                  <a:pt x="3755" y="337"/>
                </a:lnTo>
                <a:lnTo>
                  <a:pt x="3761" y="333"/>
                </a:lnTo>
                <a:lnTo>
                  <a:pt x="3766" y="329"/>
                </a:lnTo>
                <a:lnTo>
                  <a:pt x="3774" y="326"/>
                </a:lnTo>
                <a:lnTo>
                  <a:pt x="3780" y="322"/>
                </a:lnTo>
                <a:lnTo>
                  <a:pt x="3786" y="318"/>
                </a:lnTo>
                <a:lnTo>
                  <a:pt x="3792" y="314"/>
                </a:lnTo>
                <a:lnTo>
                  <a:pt x="3798" y="311"/>
                </a:lnTo>
                <a:lnTo>
                  <a:pt x="3802" y="307"/>
                </a:lnTo>
                <a:lnTo>
                  <a:pt x="3808" y="303"/>
                </a:lnTo>
                <a:lnTo>
                  <a:pt x="3812" y="299"/>
                </a:lnTo>
                <a:lnTo>
                  <a:pt x="3815" y="295"/>
                </a:lnTo>
                <a:lnTo>
                  <a:pt x="3818" y="290"/>
                </a:lnTo>
                <a:lnTo>
                  <a:pt x="3822" y="283"/>
                </a:lnTo>
                <a:lnTo>
                  <a:pt x="3823" y="276"/>
                </a:lnTo>
                <a:lnTo>
                  <a:pt x="3826" y="267"/>
                </a:lnTo>
                <a:lnTo>
                  <a:pt x="3828" y="258"/>
                </a:lnTo>
                <a:lnTo>
                  <a:pt x="3830" y="249"/>
                </a:lnTo>
                <a:lnTo>
                  <a:pt x="3832" y="239"/>
                </a:lnTo>
                <a:lnTo>
                  <a:pt x="3834" y="229"/>
                </a:lnTo>
                <a:lnTo>
                  <a:pt x="3836" y="219"/>
                </a:lnTo>
                <a:lnTo>
                  <a:pt x="3838" y="210"/>
                </a:lnTo>
                <a:lnTo>
                  <a:pt x="3840" y="201"/>
                </a:lnTo>
                <a:lnTo>
                  <a:pt x="3842" y="191"/>
                </a:lnTo>
                <a:lnTo>
                  <a:pt x="3844" y="184"/>
                </a:lnTo>
                <a:lnTo>
                  <a:pt x="3847" y="175"/>
                </a:lnTo>
                <a:lnTo>
                  <a:pt x="3850" y="169"/>
                </a:lnTo>
                <a:lnTo>
                  <a:pt x="3853" y="162"/>
                </a:lnTo>
                <a:lnTo>
                  <a:pt x="3856" y="157"/>
                </a:lnTo>
                <a:lnTo>
                  <a:pt x="3861" y="151"/>
                </a:lnTo>
                <a:lnTo>
                  <a:pt x="3867" y="145"/>
                </a:lnTo>
                <a:lnTo>
                  <a:pt x="3874" y="139"/>
                </a:lnTo>
                <a:lnTo>
                  <a:pt x="3881" y="133"/>
                </a:lnTo>
                <a:lnTo>
                  <a:pt x="3889" y="128"/>
                </a:lnTo>
                <a:lnTo>
                  <a:pt x="3896" y="122"/>
                </a:lnTo>
                <a:lnTo>
                  <a:pt x="3905" y="115"/>
                </a:lnTo>
                <a:lnTo>
                  <a:pt x="3912" y="109"/>
                </a:lnTo>
                <a:lnTo>
                  <a:pt x="3920" y="103"/>
                </a:lnTo>
                <a:lnTo>
                  <a:pt x="3928" y="98"/>
                </a:lnTo>
                <a:lnTo>
                  <a:pt x="3936" y="90"/>
                </a:lnTo>
                <a:lnTo>
                  <a:pt x="3941" y="85"/>
                </a:lnTo>
                <a:lnTo>
                  <a:pt x="3948" y="79"/>
                </a:lnTo>
                <a:lnTo>
                  <a:pt x="3953" y="73"/>
                </a:lnTo>
                <a:lnTo>
                  <a:pt x="3958" y="67"/>
                </a:lnTo>
                <a:lnTo>
                  <a:pt x="3958" y="65"/>
                </a:lnTo>
                <a:lnTo>
                  <a:pt x="3960" y="61"/>
                </a:lnTo>
                <a:lnTo>
                  <a:pt x="3962" y="57"/>
                </a:lnTo>
                <a:lnTo>
                  <a:pt x="3964" y="51"/>
                </a:lnTo>
                <a:lnTo>
                  <a:pt x="3965" y="45"/>
                </a:lnTo>
                <a:lnTo>
                  <a:pt x="3967" y="40"/>
                </a:lnTo>
                <a:lnTo>
                  <a:pt x="3969" y="34"/>
                </a:lnTo>
                <a:lnTo>
                  <a:pt x="3970" y="28"/>
                </a:lnTo>
                <a:lnTo>
                  <a:pt x="3970" y="24"/>
                </a:lnTo>
                <a:lnTo>
                  <a:pt x="3972" y="18"/>
                </a:lnTo>
                <a:lnTo>
                  <a:pt x="3973" y="14"/>
                </a:lnTo>
                <a:lnTo>
                  <a:pt x="3975" y="9"/>
                </a:lnTo>
                <a:lnTo>
                  <a:pt x="3975" y="6"/>
                </a:lnTo>
                <a:lnTo>
                  <a:pt x="3976" y="3"/>
                </a:lnTo>
                <a:lnTo>
                  <a:pt x="3976" y="1"/>
                </a:lnTo>
                <a:lnTo>
                  <a:pt x="3977" y="0"/>
                </a:lnTo>
              </a:path>
            </a:pathLst>
          </a:custGeom>
          <a:noFill/>
          <a:ln w="954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604800" y="-360"/>
            <a:ext cx="9453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Podemos incorporar el conceto de “equidad” al modelo de intercambio?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49720" y="2511360"/>
            <a:ext cx="3504960" cy="4019760"/>
          </a:xfrm>
          <a:custGeom>
            <a:avLst/>
            <a:gdLst/>
            <a:ahLst/>
            <a:rect l="l" t="t" r="r" b="b"/>
            <a:pathLst>
              <a:path w="2208" h="2532">
                <a:moveTo>
                  <a:pt x="2207" y="2531"/>
                </a:moveTo>
                <a:lnTo>
                  <a:pt x="2203" y="2511"/>
                </a:lnTo>
                <a:lnTo>
                  <a:pt x="2202" y="2494"/>
                </a:lnTo>
                <a:lnTo>
                  <a:pt x="2200" y="2481"/>
                </a:lnTo>
                <a:lnTo>
                  <a:pt x="2199" y="2470"/>
                </a:lnTo>
                <a:lnTo>
                  <a:pt x="2197" y="2463"/>
                </a:lnTo>
                <a:lnTo>
                  <a:pt x="2197" y="2456"/>
                </a:lnTo>
                <a:lnTo>
                  <a:pt x="2197" y="2452"/>
                </a:lnTo>
                <a:lnTo>
                  <a:pt x="2197" y="2448"/>
                </a:lnTo>
                <a:lnTo>
                  <a:pt x="2195" y="2446"/>
                </a:lnTo>
                <a:lnTo>
                  <a:pt x="2195" y="2444"/>
                </a:lnTo>
                <a:lnTo>
                  <a:pt x="2195" y="2442"/>
                </a:lnTo>
                <a:lnTo>
                  <a:pt x="2195" y="2438"/>
                </a:lnTo>
                <a:lnTo>
                  <a:pt x="2193" y="2434"/>
                </a:lnTo>
                <a:lnTo>
                  <a:pt x="2193" y="2428"/>
                </a:lnTo>
                <a:lnTo>
                  <a:pt x="2193" y="2421"/>
                </a:lnTo>
                <a:lnTo>
                  <a:pt x="2193" y="2410"/>
                </a:lnTo>
                <a:lnTo>
                  <a:pt x="2190" y="2397"/>
                </a:lnTo>
                <a:lnTo>
                  <a:pt x="2189" y="2380"/>
                </a:lnTo>
                <a:lnTo>
                  <a:pt x="2185" y="2362"/>
                </a:lnTo>
                <a:lnTo>
                  <a:pt x="2182" y="2338"/>
                </a:lnTo>
                <a:lnTo>
                  <a:pt x="2177" y="2315"/>
                </a:lnTo>
                <a:lnTo>
                  <a:pt x="2172" y="2287"/>
                </a:lnTo>
                <a:lnTo>
                  <a:pt x="2167" y="2259"/>
                </a:lnTo>
                <a:lnTo>
                  <a:pt x="2162" y="2228"/>
                </a:lnTo>
                <a:lnTo>
                  <a:pt x="2155" y="2197"/>
                </a:lnTo>
                <a:lnTo>
                  <a:pt x="2149" y="2165"/>
                </a:lnTo>
                <a:lnTo>
                  <a:pt x="2142" y="2133"/>
                </a:lnTo>
                <a:lnTo>
                  <a:pt x="2137" y="2100"/>
                </a:lnTo>
                <a:lnTo>
                  <a:pt x="2129" y="2068"/>
                </a:lnTo>
                <a:lnTo>
                  <a:pt x="2124" y="2035"/>
                </a:lnTo>
                <a:lnTo>
                  <a:pt x="2116" y="2004"/>
                </a:lnTo>
                <a:lnTo>
                  <a:pt x="2111" y="1972"/>
                </a:lnTo>
                <a:lnTo>
                  <a:pt x="2103" y="1942"/>
                </a:lnTo>
                <a:lnTo>
                  <a:pt x="2095" y="1910"/>
                </a:lnTo>
                <a:lnTo>
                  <a:pt x="2087" y="1877"/>
                </a:lnTo>
                <a:lnTo>
                  <a:pt x="2080" y="1842"/>
                </a:lnTo>
                <a:lnTo>
                  <a:pt x="2071" y="1808"/>
                </a:lnTo>
                <a:lnTo>
                  <a:pt x="2062" y="1772"/>
                </a:lnTo>
                <a:lnTo>
                  <a:pt x="2053" y="1738"/>
                </a:lnTo>
                <a:lnTo>
                  <a:pt x="2044" y="1703"/>
                </a:lnTo>
                <a:lnTo>
                  <a:pt x="2034" y="1671"/>
                </a:lnTo>
                <a:lnTo>
                  <a:pt x="2025" y="1638"/>
                </a:lnTo>
                <a:lnTo>
                  <a:pt x="2016" y="1608"/>
                </a:lnTo>
                <a:lnTo>
                  <a:pt x="2007" y="1580"/>
                </a:lnTo>
                <a:lnTo>
                  <a:pt x="1999" y="1554"/>
                </a:lnTo>
                <a:lnTo>
                  <a:pt x="1992" y="1531"/>
                </a:lnTo>
                <a:lnTo>
                  <a:pt x="1985" y="1510"/>
                </a:lnTo>
                <a:lnTo>
                  <a:pt x="1979" y="1493"/>
                </a:lnTo>
                <a:lnTo>
                  <a:pt x="1971" y="1478"/>
                </a:lnTo>
                <a:lnTo>
                  <a:pt x="1965" y="1460"/>
                </a:lnTo>
                <a:lnTo>
                  <a:pt x="1956" y="1440"/>
                </a:lnTo>
                <a:lnTo>
                  <a:pt x="1948" y="1418"/>
                </a:lnTo>
                <a:lnTo>
                  <a:pt x="1938" y="1395"/>
                </a:lnTo>
                <a:lnTo>
                  <a:pt x="1928" y="1371"/>
                </a:lnTo>
                <a:lnTo>
                  <a:pt x="1917" y="1345"/>
                </a:lnTo>
                <a:lnTo>
                  <a:pt x="1908" y="1319"/>
                </a:lnTo>
                <a:lnTo>
                  <a:pt x="1897" y="1294"/>
                </a:lnTo>
                <a:lnTo>
                  <a:pt x="1885" y="1268"/>
                </a:lnTo>
                <a:lnTo>
                  <a:pt x="1874" y="1242"/>
                </a:lnTo>
                <a:lnTo>
                  <a:pt x="1864" y="1216"/>
                </a:lnTo>
                <a:lnTo>
                  <a:pt x="1853" y="1192"/>
                </a:lnTo>
                <a:lnTo>
                  <a:pt x="1843" y="1168"/>
                </a:lnTo>
                <a:lnTo>
                  <a:pt x="1834" y="1146"/>
                </a:lnTo>
                <a:lnTo>
                  <a:pt x="1827" y="1125"/>
                </a:lnTo>
                <a:lnTo>
                  <a:pt x="1817" y="1105"/>
                </a:lnTo>
                <a:lnTo>
                  <a:pt x="1808" y="1084"/>
                </a:lnTo>
                <a:lnTo>
                  <a:pt x="1797" y="1061"/>
                </a:lnTo>
                <a:lnTo>
                  <a:pt x="1788" y="1037"/>
                </a:lnTo>
                <a:lnTo>
                  <a:pt x="1777" y="1013"/>
                </a:lnTo>
                <a:lnTo>
                  <a:pt x="1767" y="989"/>
                </a:lnTo>
                <a:lnTo>
                  <a:pt x="1755" y="964"/>
                </a:lnTo>
                <a:lnTo>
                  <a:pt x="1746" y="940"/>
                </a:lnTo>
                <a:lnTo>
                  <a:pt x="1735" y="918"/>
                </a:lnTo>
                <a:lnTo>
                  <a:pt x="1725" y="894"/>
                </a:lnTo>
                <a:lnTo>
                  <a:pt x="1715" y="873"/>
                </a:lnTo>
                <a:lnTo>
                  <a:pt x="1706" y="851"/>
                </a:lnTo>
                <a:lnTo>
                  <a:pt x="1697" y="832"/>
                </a:lnTo>
                <a:lnTo>
                  <a:pt x="1689" y="814"/>
                </a:lnTo>
                <a:lnTo>
                  <a:pt x="1683" y="797"/>
                </a:lnTo>
                <a:lnTo>
                  <a:pt x="1677" y="782"/>
                </a:lnTo>
                <a:lnTo>
                  <a:pt x="1669" y="770"/>
                </a:lnTo>
                <a:lnTo>
                  <a:pt x="1662" y="756"/>
                </a:lnTo>
                <a:lnTo>
                  <a:pt x="1653" y="740"/>
                </a:lnTo>
                <a:lnTo>
                  <a:pt x="1644" y="722"/>
                </a:lnTo>
                <a:lnTo>
                  <a:pt x="1633" y="706"/>
                </a:lnTo>
                <a:lnTo>
                  <a:pt x="1623" y="687"/>
                </a:lnTo>
                <a:lnTo>
                  <a:pt x="1611" y="668"/>
                </a:lnTo>
                <a:lnTo>
                  <a:pt x="1600" y="649"/>
                </a:lnTo>
                <a:lnTo>
                  <a:pt x="1587" y="631"/>
                </a:lnTo>
                <a:lnTo>
                  <a:pt x="1575" y="612"/>
                </a:lnTo>
                <a:lnTo>
                  <a:pt x="1562" y="595"/>
                </a:lnTo>
                <a:lnTo>
                  <a:pt x="1551" y="576"/>
                </a:lnTo>
                <a:lnTo>
                  <a:pt x="1538" y="560"/>
                </a:lnTo>
                <a:lnTo>
                  <a:pt x="1527" y="544"/>
                </a:lnTo>
                <a:lnTo>
                  <a:pt x="1515" y="530"/>
                </a:lnTo>
                <a:lnTo>
                  <a:pt x="1505" y="515"/>
                </a:lnTo>
                <a:lnTo>
                  <a:pt x="1494" y="503"/>
                </a:lnTo>
                <a:lnTo>
                  <a:pt x="1483" y="489"/>
                </a:lnTo>
                <a:lnTo>
                  <a:pt x="1470" y="475"/>
                </a:lnTo>
                <a:lnTo>
                  <a:pt x="1457" y="460"/>
                </a:lnTo>
                <a:lnTo>
                  <a:pt x="1442" y="445"/>
                </a:lnTo>
                <a:lnTo>
                  <a:pt x="1429" y="430"/>
                </a:lnTo>
                <a:lnTo>
                  <a:pt x="1413" y="415"/>
                </a:lnTo>
                <a:lnTo>
                  <a:pt x="1400" y="398"/>
                </a:lnTo>
                <a:lnTo>
                  <a:pt x="1384" y="384"/>
                </a:lnTo>
                <a:lnTo>
                  <a:pt x="1369" y="369"/>
                </a:lnTo>
                <a:lnTo>
                  <a:pt x="1354" y="356"/>
                </a:lnTo>
                <a:lnTo>
                  <a:pt x="1341" y="342"/>
                </a:lnTo>
                <a:lnTo>
                  <a:pt x="1326" y="330"/>
                </a:lnTo>
                <a:lnTo>
                  <a:pt x="1314" y="319"/>
                </a:lnTo>
                <a:lnTo>
                  <a:pt x="1302" y="309"/>
                </a:lnTo>
                <a:lnTo>
                  <a:pt x="1291" y="299"/>
                </a:lnTo>
                <a:lnTo>
                  <a:pt x="1280" y="292"/>
                </a:lnTo>
                <a:lnTo>
                  <a:pt x="1270" y="284"/>
                </a:lnTo>
                <a:lnTo>
                  <a:pt x="1259" y="277"/>
                </a:lnTo>
                <a:lnTo>
                  <a:pt x="1249" y="268"/>
                </a:lnTo>
                <a:lnTo>
                  <a:pt x="1237" y="260"/>
                </a:lnTo>
                <a:lnTo>
                  <a:pt x="1227" y="251"/>
                </a:lnTo>
                <a:lnTo>
                  <a:pt x="1216" y="244"/>
                </a:lnTo>
                <a:lnTo>
                  <a:pt x="1207" y="234"/>
                </a:lnTo>
                <a:lnTo>
                  <a:pt x="1196" y="228"/>
                </a:lnTo>
                <a:lnTo>
                  <a:pt x="1187" y="221"/>
                </a:lnTo>
                <a:lnTo>
                  <a:pt x="1178" y="214"/>
                </a:lnTo>
                <a:lnTo>
                  <a:pt x="1170" y="208"/>
                </a:lnTo>
                <a:lnTo>
                  <a:pt x="1163" y="202"/>
                </a:lnTo>
                <a:lnTo>
                  <a:pt x="1157" y="197"/>
                </a:lnTo>
                <a:lnTo>
                  <a:pt x="1151" y="193"/>
                </a:lnTo>
                <a:lnTo>
                  <a:pt x="1148" y="190"/>
                </a:lnTo>
                <a:lnTo>
                  <a:pt x="1143" y="188"/>
                </a:lnTo>
                <a:lnTo>
                  <a:pt x="1138" y="184"/>
                </a:lnTo>
                <a:lnTo>
                  <a:pt x="1131" y="182"/>
                </a:lnTo>
                <a:lnTo>
                  <a:pt x="1126" y="178"/>
                </a:lnTo>
                <a:lnTo>
                  <a:pt x="1118" y="174"/>
                </a:lnTo>
                <a:lnTo>
                  <a:pt x="1111" y="171"/>
                </a:lnTo>
                <a:lnTo>
                  <a:pt x="1103" y="167"/>
                </a:lnTo>
                <a:lnTo>
                  <a:pt x="1095" y="163"/>
                </a:lnTo>
                <a:lnTo>
                  <a:pt x="1086" y="159"/>
                </a:lnTo>
                <a:lnTo>
                  <a:pt x="1077" y="155"/>
                </a:lnTo>
                <a:lnTo>
                  <a:pt x="1068" y="151"/>
                </a:lnTo>
                <a:lnTo>
                  <a:pt x="1060" y="146"/>
                </a:lnTo>
                <a:lnTo>
                  <a:pt x="1050" y="143"/>
                </a:lnTo>
                <a:lnTo>
                  <a:pt x="1042" y="140"/>
                </a:lnTo>
                <a:lnTo>
                  <a:pt x="1033" y="136"/>
                </a:lnTo>
                <a:lnTo>
                  <a:pt x="1026" y="132"/>
                </a:lnTo>
                <a:lnTo>
                  <a:pt x="1017" y="130"/>
                </a:lnTo>
                <a:lnTo>
                  <a:pt x="1008" y="126"/>
                </a:lnTo>
                <a:lnTo>
                  <a:pt x="997" y="123"/>
                </a:lnTo>
                <a:lnTo>
                  <a:pt x="985" y="119"/>
                </a:lnTo>
                <a:lnTo>
                  <a:pt x="972" y="115"/>
                </a:lnTo>
                <a:lnTo>
                  <a:pt x="959" y="110"/>
                </a:lnTo>
                <a:lnTo>
                  <a:pt x="944" y="106"/>
                </a:lnTo>
                <a:lnTo>
                  <a:pt x="931" y="101"/>
                </a:lnTo>
                <a:lnTo>
                  <a:pt x="916" y="97"/>
                </a:lnTo>
                <a:lnTo>
                  <a:pt x="901" y="92"/>
                </a:lnTo>
                <a:lnTo>
                  <a:pt x="886" y="88"/>
                </a:lnTo>
                <a:lnTo>
                  <a:pt x="872" y="83"/>
                </a:lnTo>
                <a:lnTo>
                  <a:pt x="857" y="79"/>
                </a:lnTo>
                <a:lnTo>
                  <a:pt x="843" y="75"/>
                </a:lnTo>
                <a:lnTo>
                  <a:pt x="830" y="72"/>
                </a:lnTo>
                <a:lnTo>
                  <a:pt x="819" y="68"/>
                </a:lnTo>
                <a:lnTo>
                  <a:pt x="806" y="66"/>
                </a:lnTo>
                <a:lnTo>
                  <a:pt x="793" y="62"/>
                </a:lnTo>
                <a:lnTo>
                  <a:pt x="778" y="60"/>
                </a:lnTo>
                <a:lnTo>
                  <a:pt x="763" y="56"/>
                </a:lnTo>
                <a:lnTo>
                  <a:pt x="747" y="54"/>
                </a:lnTo>
                <a:lnTo>
                  <a:pt x="731" y="50"/>
                </a:lnTo>
                <a:lnTo>
                  <a:pt x="714" y="46"/>
                </a:lnTo>
                <a:lnTo>
                  <a:pt x="699" y="43"/>
                </a:lnTo>
                <a:lnTo>
                  <a:pt x="681" y="41"/>
                </a:lnTo>
                <a:lnTo>
                  <a:pt x="665" y="38"/>
                </a:lnTo>
                <a:lnTo>
                  <a:pt x="650" y="36"/>
                </a:lnTo>
                <a:lnTo>
                  <a:pt x="635" y="32"/>
                </a:lnTo>
                <a:lnTo>
                  <a:pt x="620" y="30"/>
                </a:lnTo>
                <a:lnTo>
                  <a:pt x="607" y="28"/>
                </a:lnTo>
                <a:lnTo>
                  <a:pt x="595" y="26"/>
                </a:lnTo>
                <a:lnTo>
                  <a:pt x="584" y="24"/>
                </a:lnTo>
                <a:lnTo>
                  <a:pt x="573" y="24"/>
                </a:lnTo>
                <a:lnTo>
                  <a:pt x="561" y="22"/>
                </a:lnTo>
                <a:lnTo>
                  <a:pt x="547" y="22"/>
                </a:lnTo>
                <a:lnTo>
                  <a:pt x="534" y="20"/>
                </a:lnTo>
                <a:lnTo>
                  <a:pt x="517" y="20"/>
                </a:lnTo>
                <a:lnTo>
                  <a:pt x="503" y="18"/>
                </a:lnTo>
                <a:lnTo>
                  <a:pt x="486" y="16"/>
                </a:lnTo>
                <a:lnTo>
                  <a:pt x="470" y="14"/>
                </a:lnTo>
                <a:lnTo>
                  <a:pt x="453" y="14"/>
                </a:lnTo>
                <a:lnTo>
                  <a:pt x="436" y="12"/>
                </a:lnTo>
                <a:lnTo>
                  <a:pt x="419" y="12"/>
                </a:lnTo>
                <a:lnTo>
                  <a:pt x="403" y="10"/>
                </a:lnTo>
                <a:lnTo>
                  <a:pt x="387" y="10"/>
                </a:lnTo>
                <a:lnTo>
                  <a:pt x="371" y="8"/>
                </a:lnTo>
                <a:lnTo>
                  <a:pt x="357" y="7"/>
                </a:lnTo>
                <a:lnTo>
                  <a:pt x="345" y="5"/>
                </a:lnTo>
                <a:lnTo>
                  <a:pt x="331" y="5"/>
                </a:lnTo>
                <a:lnTo>
                  <a:pt x="318" y="5"/>
                </a:lnTo>
                <a:lnTo>
                  <a:pt x="303" y="5"/>
                </a:lnTo>
                <a:lnTo>
                  <a:pt x="288" y="4"/>
                </a:lnTo>
                <a:lnTo>
                  <a:pt x="271" y="4"/>
                </a:lnTo>
                <a:lnTo>
                  <a:pt x="255" y="4"/>
                </a:lnTo>
                <a:lnTo>
                  <a:pt x="239" y="4"/>
                </a:lnTo>
                <a:lnTo>
                  <a:pt x="222" y="2"/>
                </a:lnTo>
                <a:lnTo>
                  <a:pt x="205" y="2"/>
                </a:lnTo>
                <a:lnTo>
                  <a:pt x="189" y="2"/>
                </a:lnTo>
                <a:lnTo>
                  <a:pt x="172" y="2"/>
                </a:lnTo>
                <a:lnTo>
                  <a:pt x="157" y="1"/>
                </a:lnTo>
                <a:lnTo>
                  <a:pt x="143" y="1"/>
                </a:lnTo>
                <a:lnTo>
                  <a:pt x="129" y="1"/>
                </a:lnTo>
                <a:lnTo>
                  <a:pt x="116" y="1"/>
                </a:lnTo>
                <a:lnTo>
                  <a:pt x="106" y="0"/>
                </a:lnTo>
                <a:lnTo>
                  <a:pt x="96" y="0"/>
                </a:lnTo>
                <a:lnTo>
                  <a:pt x="90" y="0"/>
                </a:lnTo>
                <a:lnTo>
                  <a:pt x="85" y="0"/>
                </a:lnTo>
                <a:lnTo>
                  <a:pt x="82" y="0"/>
                </a:lnTo>
                <a:lnTo>
                  <a:pt x="79" y="0"/>
                </a:lnTo>
                <a:lnTo>
                  <a:pt x="77" y="0"/>
                </a:lnTo>
                <a:lnTo>
                  <a:pt x="75" y="0"/>
                </a:lnTo>
                <a:lnTo>
                  <a:pt x="73" y="0"/>
                </a:lnTo>
                <a:lnTo>
                  <a:pt x="69" y="0"/>
                </a:lnTo>
                <a:lnTo>
                  <a:pt x="66" y="0"/>
                </a:lnTo>
                <a:lnTo>
                  <a:pt x="60" y="0"/>
                </a:lnTo>
                <a:lnTo>
                  <a:pt x="53" y="0"/>
                </a:lnTo>
                <a:lnTo>
                  <a:pt x="43" y="0"/>
                </a:lnTo>
                <a:lnTo>
                  <a:pt x="32" y="0"/>
                </a:lnTo>
                <a:lnTo>
                  <a:pt x="1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19280" y="2857680"/>
            <a:ext cx="3052800" cy="2984400"/>
          </a:xfrm>
          <a:custGeom>
            <a:avLst/>
            <a:gdLst/>
            <a:ahLst/>
            <a:rect l="l" t="t" r="r" b="b"/>
            <a:pathLst>
              <a:path w="1923" h="1880">
                <a:moveTo>
                  <a:pt x="1922" y="1879"/>
                </a:moveTo>
                <a:lnTo>
                  <a:pt x="1919" y="1864"/>
                </a:lnTo>
                <a:lnTo>
                  <a:pt x="1915" y="1851"/>
                </a:lnTo>
                <a:lnTo>
                  <a:pt x="1913" y="1841"/>
                </a:lnTo>
                <a:lnTo>
                  <a:pt x="1912" y="1832"/>
                </a:lnTo>
                <a:lnTo>
                  <a:pt x="1910" y="1827"/>
                </a:lnTo>
                <a:lnTo>
                  <a:pt x="1910" y="1822"/>
                </a:lnTo>
                <a:lnTo>
                  <a:pt x="1909" y="1819"/>
                </a:lnTo>
                <a:lnTo>
                  <a:pt x="1909" y="1815"/>
                </a:lnTo>
                <a:lnTo>
                  <a:pt x="1908" y="1814"/>
                </a:lnTo>
                <a:lnTo>
                  <a:pt x="1908" y="1812"/>
                </a:lnTo>
                <a:lnTo>
                  <a:pt x="1908" y="1810"/>
                </a:lnTo>
                <a:lnTo>
                  <a:pt x="1908" y="1807"/>
                </a:lnTo>
                <a:lnTo>
                  <a:pt x="1906" y="1804"/>
                </a:lnTo>
                <a:lnTo>
                  <a:pt x="1906" y="1800"/>
                </a:lnTo>
                <a:lnTo>
                  <a:pt x="1904" y="1794"/>
                </a:lnTo>
                <a:lnTo>
                  <a:pt x="1904" y="1786"/>
                </a:lnTo>
                <a:lnTo>
                  <a:pt x="1901" y="1776"/>
                </a:lnTo>
                <a:lnTo>
                  <a:pt x="1899" y="1763"/>
                </a:lnTo>
                <a:lnTo>
                  <a:pt x="1894" y="1748"/>
                </a:lnTo>
                <a:lnTo>
                  <a:pt x="1890" y="1730"/>
                </a:lnTo>
                <a:lnTo>
                  <a:pt x="1885" y="1710"/>
                </a:lnTo>
                <a:lnTo>
                  <a:pt x="1879" y="1689"/>
                </a:lnTo>
                <a:lnTo>
                  <a:pt x="1873" y="1667"/>
                </a:lnTo>
                <a:lnTo>
                  <a:pt x="1867" y="1642"/>
                </a:lnTo>
                <a:lnTo>
                  <a:pt x="1860" y="1618"/>
                </a:lnTo>
                <a:lnTo>
                  <a:pt x="1853" y="1593"/>
                </a:lnTo>
                <a:lnTo>
                  <a:pt x="1845" y="1568"/>
                </a:lnTo>
                <a:lnTo>
                  <a:pt x="1838" y="1542"/>
                </a:lnTo>
                <a:lnTo>
                  <a:pt x="1831" y="1517"/>
                </a:lnTo>
                <a:lnTo>
                  <a:pt x="1823" y="1491"/>
                </a:lnTo>
                <a:lnTo>
                  <a:pt x="1815" y="1466"/>
                </a:lnTo>
                <a:lnTo>
                  <a:pt x="1809" y="1442"/>
                </a:lnTo>
                <a:lnTo>
                  <a:pt x="1800" y="1418"/>
                </a:lnTo>
                <a:lnTo>
                  <a:pt x="1792" y="1393"/>
                </a:lnTo>
                <a:lnTo>
                  <a:pt x="1783" y="1367"/>
                </a:lnTo>
                <a:lnTo>
                  <a:pt x="1775" y="1340"/>
                </a:lnTo>
                <a:lnTo>
                  <a:pt x="1765" y="1314"/>
                </a:lnTo>
                <a:lnTo>
                  <a:pt x="1755" y="1287"/>
                </a:lnTo>
                <a:lnTo>
                  <a:pt x="1746" y="1261"/>
                </a:lnTo>
                <a:lnTo>
                  <a:pt x="1737" y="1233"/>
                </a:lnTo>
                <a:lnTo>
                  <a:pt x="1727" y="1209"/>
                </a:lnTo>
                <a:lnTo>
                  <a:pt x="1717" y="1184"/>
                </a:lnTo>
                <a:lnTo>
                  <a:pt x="1708" y="1161"/>
                </a:lnTo>
                <a:lnTo>
                  <a:pt x="1700" y="1139"/>
                </a:lnTo>
                <a:lnTo>
                  <a:pt x="1691" y="1120"/>
                </a:lnTo>
                <a:lnTo>
                  <a:pt x="1684" y="1102"/>
                </a:lnTo>
                <a:lnTo>
                  <a:pt x="1677" y="1086"/>
                </a:lnTo>
                <a:lnTo>
                  <a:pt x="1671" y="1072"/>
                </a:lnTo>
                <a:lnTo>
                  <a:pt x="1665" y="1060"/>
                </a:lnTo>
                <a:lnTo>
                  <a:pt x="1658" y="1046"/>
                </a:lnTo>
                <a:lnTo>
                  <a:pt x="1649" y="1032"/>
                </a:lnTo>
                <a:lnTo>
                  <a:pt x="1641" y="1014"/>
                </a:lnTo>
                <a:lnTo>
                  <a:pt x="1632" y="997"/>
                </a:lnTo>
                <a:lnTo>
                  <a:pt x="1623" y="978"/>
                </a:lnTo>
                <a:lnTo>
                  <a:pt x="1613" y="959"/>
                </a:lnTo>
                <a:lnTo>
                  <a:pt x="1603" y="938"/>
                </a:lnTo>
                <a:lnTo>
                  <a:pt x="1592" y="919"/>
                </a:lnTo>
                <a:lnTo>
                  <a:pt x="1582" y="898"/>
                </a:lnTo>
                <a:lnTo>
                  <a:pt x="1571" y="879"/>
                </a:lnTo>
                <a:lnTo>
                  <a:pt x="1562" y="858"/>
                </a:lnTo>
                <a:lnTo>
                  <a:pt x="1552" y="840"/>
                </a:lnTo>
                <a:lnTo>
                  <a:pt x="1543" y="821"/>
                </a:lnTo>
                <a:lnTo>
                  <a:pt x="1533" y="804"/>
                </a:lnTo>
                <a:lnTo>
                  <a:pt x="1526" y="787"/>
                </a:lnTo>
                <a:lnTo>
                  <a:pt x="1517" y="773"/>
                </a:lnTo>
                <a:lnTo>
                  <a:pt x="1509" y="756"/>
                </a:lnTo>
                <a:lnTo>
                  <a:pt x="1499" y="739"/>
                </a:lnTo>
                <a:lnTo>
                  <a:pt x="1490" y="721"/>
                </a:lnTo>
                <a:lnTo>
                  <a:pt x="1479" y="703"/>
                </a:lnTo>
                <a:lnTo>
                  <a:pt x="1469" y="684"/>
                </a:lnTo>
                <a:lnTo>
                  <a:pt x="1459" y="665"/>
                </a:lnTo>
                <a:lnTo>
                  <a:pt x="1450" y="646"/>
                </a:lnTo>
                <a:lnTo>
                  <a:pt x="1439" y="629"/>
                </a:lnTo>
                <a:lnTo>
                  <a:pt x="1429" y="611"/>
                </a:lnTo>
                <a:lnTo>
                  <a:pt x="1420" y="594"/>
                </a:lnTo>
                <a:lnTo>
                  <a:pt x="1412" y="577"/>
                </a:lnTo>
                <a:lnTo>
                  <a:pt x="1403" y="563"/>
                </a:lnTo>
                <a:lnTo>
                  <a:pt x="1395" y="549"/>
                </a:lnTo>
                <a:lnTo>
                  <a:pt x="1389" y="537"/>
                </a:lnTo>
                <a:lnTo>
                  <a:pt x="1383" y="525"/>
                </a:lnTo>
                <a:lnTo>
                  <a:pt x="1376" y="516"/>
                </a:lnTo>
                <a:lnTo>
                  <a:pt x="1369" y="504"/>
                </a:lnTo>
                <a:lnTo>
                  <a:pt x="1361" y="492"/>
                </a:lnTo>
                <a:lnTo>
                  <a:pt x="1353" y="479"/>
                </a:lnTo>
                <a:lnTo>
                  <a:pt x="1343" y="466"/>
                </a:lnTo>
                <a:lnTo>
                  <a:pt x="1334" y="452"/>
                </a:lnTo>
                <a:lnTo>
                  <a:pt x="1323" y="440"/>
                </a:lnTo>
                <a:lnTo>
                  <a:pt x="1313" y="424"/>
                </a:lnTo>
                <a:lnTo>
                  <a:pt x="1302" y="411"/>
                </a:lnTo>
                <a:lnTo>
                  <a:pt x="1291" y="397"/>
                </a:lnTo>
                <a:lnTo>
                  <a:pt x="1279" y="384"/>
                </a:lnTo>
                <a:lnTo>
                  <a:pt x="1269" y="370"/>
                </a:lnTo>
                <a:lnTo>
                  <a:pt x="1258" y="358"/>
                </a:lnTo>
                <a:lnTo>
                  <a:pt x="1248" y="346"/>
                </a:lnTo>
                <a:lnTo>
                  <a:pt x="1238" y="335"/>
                </a:lnTo>
                <a:lnTo>
                  <a:pt x="1228" y="325"/>
                </a:lnTo>
                <a:lnTo>
                  <a:pt x="1218" y="316"/>
                </a:lnTo>
                <a:lnTo>
                  <a:pt x="1208" y="306"/>
                </a:lnTo>
                <a:lnTo>
                  <a:pt x="1197" y="296"/>
                </a:lnTo>
                <a:lnTo>
                  <a:pt x="1186" y="285"/>
                </a:lnTo>
                <a:lnTo>
                  <a:pt x="1173" y="274"/>
                </a:lnTo>
                <a:lnTo>
                  <a:pt x="1161" y="262"/>
                </a:lnTo>
                <a:lnTo>
                  <a:pt x="1148" y="251"/>
                </a:lnTo>
                <a:lnTo>
                  <a:pt x="1136" y="239"/>
                </a:lnTo>
                <a:lnTo>
                  <a:pt x="1123" y="229"/>
                </a:lnTo>
                <a:lnTo>
                  <a:pt x="1110" y="218"/>
                </a:lnTo>
                <a:lnTo>
                  <a:pt x="1097" y="208"/>
                </a:lnTo>
                <a:lnTo>
                  <a:pt x="1085" y="197"/>
                </a:lnTo>
                <a:lnTo>
                  <a:pt x="1073" y="189"/>
                </a:lnTo>
                <a:lnTo>
                  <a:pt x="1063" y="180"/>
                </a:lnTo>
                <a:lnTo>
                  <a:pt x="1053" y="174"/>
                </a:lnTo>
                <a:lnTo>
                  <a:pt x="1044" y="167"/>
                </a:lnTo>
                <a:lnTo>
                  <a:pt x="1035" y="162"/>
                </a:lnTo>
                <a:lnTo>
                  <a:pt x="1026" y="156"/>
                </a:lnTo>
                <a:lnTo>
                  <a:pt x="1017" y="150"/>
                </a:lnTo>
                <a:lnTo>
                  <a:pt x="1008" y="145"/>
                </a:lnTo>
                <a:lnTo>
                  <a:pt x="999" y="139"/>
                </a:lnTo>
                <a:lnTo>
                  <a:pt x="989" y="134"/>
                </a:lnTo>
                <a:lnTo>
                  <a:pt x="980" y="128"/>
                </a:lnTo>
                <a:lnTo>
                  <a:pt x="973" y="122"/>
                </a:lnTo>
                <a:lnTo>
                  <a:pt x="963" y="119"/>
                </a:lnTo>
                <a:lnTo>
                  <a:pt x="956" y="113"/>
                </a:lnTo>
                <a:lnTo>
                  <a:pt x="948" y="109"/>
                </a:lnTo>
                <a:lnTo>
                  <a:pt x="942" y="104"/>
                </a:lnTo>
                <a:lnTo>
                  <a:pt x="935" y="101"/>
                </a:lnTo>
                <a:lnTo>
                  <a:pt x="930" y="98"/>
                </a:lnTo>
                <a:lnTo>
                  <a:pt x="926" y="95"/>
                </a:lnTo>
                <a:lnTo>
                  <a:pt x="923" y="92"/>
                </a:lnTo>
                <a:lnTo>
                  <a:pt x="918" y="91"/>
                </a:lnTo>
                <a:lnTo>
                  <a:pt x="915" y="89"/>
                </a:lnTo>
                <a:lnTo>
                  <a:pt x="909" y="87"/>
                </a:lnTo>
                <a:lnTo>
                  <a:pt x="905" y="84"/>
                </a:lnTo>
                <a:lnTo>
                  <a:pt x="897" y="82"/>
                </a:lnTo>
                <a:lnTo>
                  <a:pt x="892" y="79"/>
                </a:lnTo>
                <a:lnTo>
                  <a:pt x="885" y="78"/>
                </a:lnTo>
                <a:lnTo>
                  <a:pt x="879" y="74"/>
                </a:lnTo>
                <a:lnTo>
                  <a:pt x="871" y="72"/>
                </a:lnTo>
                <a:lnTo>
                  <a:pt x="864" y="70"/>
                </a:lnTo>
                <a:lnTo>
                  <a:pt x="856" y="68"/>
                </a:lnTo>
                <a:lnTo>
                  <a:pt x="849" y="64"/>
                </a:lnTo>
                <a:lnTo>
                  <a:pt x="842" y="62"/>
                </a:lnTo>
                <a:lnTo>
                  <a:pt x="836" y="60"/>
                </a:lnTo>
                <a:lnTo>
                  <a:pt x="829" y="58"/>
                </a:lnTo>
                <a:lnTo>
                  <a:pt x="823" y="55"/>
                </a:lnTo>
                <a:lnTo>
                  <a:pt x="815" y="54"/>
                </a:lnTo>
                <a:lnTo>
                  <a:pt x="808" y="52"/>
                </a:lnTo>
                <a:lnTo>
                  <a:pt x="798" y="50"/>
                </a:lnTo>
                <a:lnTo>
                  <a:pt x="789" y="48"/>
                </a:lnTo>
                <a:lnTo>
                  <a:pt x="778" y="46"/>
                </a:lnTo>
                <a:lnTo>
                  <a:pt x="768" y="43"/>
                </a:lnTo>
                <a:lnTo>
                  <a:pt x="757" y="41"/>
                </a:lnTo>
                <a:lnTo>
                  <a:pt x="745" y="38"/>
                </a:lnTo>
                <a:lnTo>
                  <a:pt x="732" y="36"/>
                </a:lnTo>
                <a:lnTo>
                  <a:pt x="721" y="34"/>
                </a:lnTo>
                <a:lnTo>
                  <a:pt x="709" y="32"/>
                </a:lnTo>
                <a:lnTo>
                  <a:pt x="697" y="28"/>
                </a:lnTo>
                <a:lnTo>
                  <a:pt x="685" y="26"/>
                </a:lnTo>
                <a:lnTo>
                  <a:pt x="674" y="24"/>
                </a:lnTo>
                <a:lnTo>
                  <a:pt x="663" y="23"/>
                </a:lnTo>
                <a:lnTo>
                  <a:pt x="653" y="20"/>
                </a:lnTo>
                <a:lnTo>
                  <a:pt x="642" y="20"/>
                </a:lnTo>
                <a:lnTo>
                  <a:pt x="632" y="18"/>
                </a:lnTo>
                <a:lnTo>
                  <a:pt x="619" y="16"/>
                </a:lnTo>
                <a:lnTo>
                  <a:pt x="608" y="14"/>
                </a:lnTo>
                <a:lnTo>
                  <a:pt x="595" y="13"/>
                </a:lnTo>
                <a:lnTo>
                  <a:pt x="583" y="11"/>
                </a:lnTo>
                <a:lnTo>
                  <a:pt x="569" y="10"/>
                </a:lnTo>
                <a:lnTo>
                  <a:pt x="557" y="8"/>
                </a:lnTo>
                <a:lnTo>
                  <a:pt x="544" y="8"/>
                </a:lnTo>
                <a:lnTo>
                  <a:pt x="531" y="6"/>
                </a:lnTo>
                <a:lnTo>
                  <a:pt x="517" y="5"/>
                </a:lnTo>
                <a:lnTo>
                  <a:pt x="506" y="3"/>
                </a:lnTo>
                <a:lnTo>
                  <a:pt x="495" y="3"/>
                </a:lnTo>
                <a:lnTo>
                  <a:pt x="484" y="1"/>
                </a:lnTo>
                <a:lnTo>
                  <a:pt x="475" y="1"/>
                </a:lnTo>
                <a:lnTo>
                  <a:pt x="466" y="0"/>
                </a:lnTo>
                <a:lnTo>
                  <a:pt x="457" y="0"/>
                </a:lnTo>
                <a:lnTo>
                  <a:pt x="447" y="0"/>
                </a:lnTo>
                <a:lnTo>
                  <a:pt x="436" y="0"/>
                </a:lnTo>
                <a:lnTo>
                  <a:pt x="425" y="0"/>
                </a:lnTo>
                <a:lnTo>
                  <a:pt x="412" y="0"/>
                </a:lnTo>
                <a:lnTo>
                  <a:pt x="400" y="0"/>
                </a:lnTo>
                <a:lnTo>
                  <a:pt x="387" y="0"/>
                </a:lnTo>
                <a:lnTo>
                  <a:pt x="374" y="0"/>
                </a:lnTo>
                <a:lnTo>
                  <a:pt x="360" y="1"/>
                </a:lnTo>
                <a:lnTo>
                  <a:pt x="347" y="1"/>
                </a:lnTo>
                <a:lnTo>
                  <a:pt x="333" y="1"/>
                </a:lnTo>
                <a:lnTo>
                  <a:pt x="320" y="1"/>
                </a:lnTo>
                <a:lnTo>
                  <a:pt x="307" y="1"/>
                </a:lnTo>
                <a:lnTo>
                  <a:pt x="295" y="1"/>
                </a:lnTo>
                <a:lnTo>
                  <a:pt x="284" y="1"/>
                </a:lnTo>
                <a:lnTo>
                  <a:pt x="275" y="1"/>
                </a:lnTo>
                <a:lnTo>
                  <a:pt x="263" y="3"/>
                </a:lnTo>
                <a:lnTo>
                  <a:pt x="252" y="3"/>
                </a:lnTo>
                <a:lnTo>
                  <a:pt x="239" y="4"/>
                </a:lnTo>
                <a:lnTo>
                  <a:pt x="227" y="4"/>
                </a:lnTo>
                <a:lnTo>
                  <a:pt x="214" y="6"/>
                </a:lnTo>
                <a:lnTo>
                  <a:pt x="201" y="6"/>
                </a:lnTo>
                <a:lnTo>
                  <a:pt x="187" y="8"/>
                </a:lnTo>
                <a:lnTo>
                  <a:pt x="174" y="8"/>
                </a:lnTo>
                <a:lnTo>
                  <a:pt x="161" y="10"/>
                </a:lnTo>
                <a:lnTo>
                  <a:pt x="147" y="10"/>
                </a:lnTo>
                <a:lnTo>
                  <a:pt x="135" y="11"/>
                </a:lnTo>
                <a:lnTo>
                  <a:pt x="123" y="11"/>
                </a:lnTo>
                <a:lnTo>
                  <a:pt x="111" y="13"/>
                </a:lnTo>
                <a:lnTo>
                  <a:pt x="101" y="13"/>
                </a:lnTo>
                <a:lnTo>
                  <a:pt x="91" y="14"/>
                </a:lnTo>
                <a:lnTo>
                  <a:pt x="83" y="14"/>
                </a:lnTo>
                <a:lnTo>
                  <a:pt x="76" y="16"/>
                </a:lnTo>
                <a:lnTo>
                  <a:pt x="71" y="16"/>
                </a:lnTo>
                <a:lnTo>
                  <a:pt x="67" y="16"/>
                </a:lnTo>
                <a:lnTo>
                  <a:pt x="64" y="16"/>
                </a:lnTo>
                <a:lnTo>
                  <a:pt x="61" y="16"/>
                </a:lnTo>
                <a:lnTo>
                  <a:pt x="59" y="16"/>
                </a:lnTo>
                <a:lnTo>
                  <a:pt x="58" y="16"/>
                </a:lnTo>
                <a:lnTo>
                  <a:pt x="57" y="16"/>
                </a:lnTo>
                <a:lnTo>
                  <a:pt x="54" y="18"/>
                </a:lnTo>
                <a:lnTo>
                  <a:pt x="51" y="18"/>
                </a:lnTo>
                <a:lnTo>
                  <a:pt x="47" y="18"/>
                </a:lnTo>
                <a:lnTo>
                  <a:pt x="41" y="18"/>
                </a:lnTo>
                <a:lnTo>
                  <a:pt x="34" y="20"/>
                </a:lnTo>
                <a:lnTo>
                  <a:pt x="25" y="20"/>
                </a:lnTo>
                <a:lnTo>
                  <a:pt x="13" y="22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16240" y="4532400"/>
            <a:ext cx="1087200" cy="1911240"/>
          </a:xfrm>
          <a:custGeom>
            <a:avLst/>
            <a:gdLst/>
            <a:ahLst/>
            <a:rect l="l" t="t" r="r" b="b"/>
            <a:pathLst>
              <a:path w="685" h="1204">
                <a:moveTo>
                  <a:pt x="684" y="1203"/>
                </a:moveTo>
                <a:lnTo>
                  <a:pt x="682" y="1194"/>
                </a:lnTo>
                <a:lnTo>
                  <a:pt x="682" y="1186"/>
                </a:lnTo>
                <a:lnTo>
                  <a:pt x="682" y="1180"/>
                </a:lnTo>
                <a:lnTo>
                  <a:pt x="682" y="1174"/>
                </a:lnTo>
                <a:lnTo>
                  <a:pt x="681" y="1171"/>
                </a:lnTo>
                <a:lnTo>
                  <a:pt x="681" y="1168"/>
                </a:lnTo>
                <a:lnTo>
                  <a:pt x="681" y="1166"/>
                </a:lnTo>
                <a:lnTo>
                  <a:pt x="681" y="1163"/>
                </a:lnTo>
                <a:lnTo>
                  <a:pt x="681" y="1163"/>
                </a:lnTo>
                <a:lnTo>
                  <a:pt x="681" y="1161"/>
                </a:lnTo>
                <a:lnTo>
                  <a:pt x="681" y="1160"/>
                </a:lnTo>
                <a:lnTo>
                  <a:pt x="681" y="1159"/>
                </a:lnTo>
                <a:lnTo>
                  <a:pt x="681" y="1157"/>
                </a:lnTo>
                <a:lnTo>
                  <a:pt x="681" y="1154"/>
                </a:lnTo>
                <a:lnTo>
                  <a:pt x="681" y="1150"/>
                </a:lnTo>
                <a:lnTo>
                  <a:pt x="681" y="1145"/>
                </a:lnTo>
                <a:lnTo>
                  <a:pt x="679" y="1140"/>
                </a:lnTo>
                <a:lnTo>
                  <a:pt x="679" y="1132"/>
                </a:lnTo>
                <a:lnTo>
                  <a:pt x="677" y="1122"/>
                </a:lnTo>
                <a:lnTo>
                  <a:pt x="677" y="1111"/>
                </a:lnTo>
                <a:lnTo>
                  <a:pt x="675" y="1100"/>
                </a:lnTo>
                <a:lnTo>
                  <a:pt x="673" y="1087"/>
                </a:lnTo>
                <a:lnTo>
                  <a:pt x="671" y="1074"/>
                </a:lnTo>
                <a:lnTo>
                  <a:pt x="671" y="1059"/>
                </a:lnTo>
                <a:lnTo>
                  <a:pt x="668" y="1044"/>
                </a:lnTo>
                <a:lnTo>
                  <a:pt x="666" y="1029"/>
                </a:lnTo>
                <a:lnTo>
                  <a:pt x="664" y="1014"/>
                </a:lnTo>
                <a:lnTo>
                  <a:pt x="663" y="997"/>
                </a:lnTo>
                <a:lnTo>
                  <a:pt x="661" y="983"/>
                </a:lnTo>
                <a:lnTo>
                  <a:pt x="659" y="967"/>
                </a:lnTo>
                <a:lnTo>
                  <a:pt x="657" y="952"/>
                </a:lnTo>
                <a:lnTo>
                  <a:pt x="655" y="936"/>
                </a:lnTo>
                <a:lnTo>
                  <a:pt x="651" y="923"/>
                </a:lnTo>
                <a:lnTo>
                  <a:pt x="649" y="908"/>
                </a:lnTo>
                <a:lnTo>
                  <a:pt x="646" y="892"/>
                </a:lnTo>
                <a:lnTo>
                  <a:pt x="644" y="875"/>
                </a:lnTo>
                <a:lnTo>
                  <a:pt x="641" y="859"/>
                </a:lnTo>
                <a:lnTo>
                  <a:pt x="639" y="843"/>
                </a:lnTo>
                <a:lnTo>
                  <a:pt x="635" y="827"/>
                </a:lnTo>
                <a:lnTo>
                  <a:pt x="634" y="810"/>
                </a:lnTo>
                <a:lnTo>
                  <a:pt x="630" y="795"/>
                </a:lnTo>
                <a:lnTo>
                  <a:pt x="628" y="780"/>
                </a:lnTo>
                <a:lnTo>
                  <a:pt x="624" y="766"/>
                </a:lnTo>
                <a:lnTo>
                  <a:pt x="623" y="752"/>
                </a:lnTo>
                <a:lnTo>
                  <a:pt x="619" y="740"/>
                </a:lnTo>
                <a:lnTo>
                  <a:pt x="617" y="729"/>
                </a:lnTo>
                <a:lnTo>
                  <a:pt x="616" y="719"/>
                </a:lnTo>
                <a:lnTo>
                  <a:pt x="614" y="711"/>
                </a:lnTo>
                <a:lnTo>
                  <a:pt x="611" y="703"/>
                </a:lnTo>
                <a:lnTo>
                  <a:pt x="609" y="695"/>
                </a:lnTo>
                <a:lnTo>
                  <a:pt x="606" y="686"/>
                </a:lnTo>
                <a:lnTo>
                  <a:pt x="604" y="675"/>
                </a:lnTo>
                <a:lnTo>
                  <a:pt x="600" y="665"/>
                </a:lnTo>
                <a:lnTo>
                  <a:pt x="597" y="653"/>
                </a:lnTo>
                <a:lnTo>
                  <a:pt x="593" y="642"/>
                </a:lnTo>
                <a:lnTo>
                  <a:pt x="591" y="629"/>
                </a:lnTo>
                <a:lnTo>
                  <a:pt x="587" y="617"/>
                </a:lnTo>
                <a:lnTo>
                  <a:pt x="584" y="604"/>
                </a:lnTo>
                <a:lnTo>
                  <a:pt x="580" y="593"/>
                </a:lnTo>
                <a:lnTo>
                  <a:pt x="577" y="580"/>
                </a:lnTo>
                <a:lnTo>
                  <a:pt x="574" y="569"/>
                </a:lnTo>
                <a:lnTo>
                  <a:pt x="571" y="557"/>
                </a:lnTo>
                <a:lnTo>
                  <a:pt x="568" y="547"/>
                </a:lnTo>
                <a:lnTo>
                  <a:pt x="566" y="536"/>
                </a:lnTo>
                <a:lnTo>
                  <a:pt x="563" y="527"/>
                </a:lnTo>
                <a:lnTo>
                  <a:pt x="560" y="517"/>
                </a:lnTo>
                <a:lnTo>
                  <a:pt x="556" y="506"/>
                </a:lnTo>
                <a:lnTo>
                  <a:pt x="555" y="495"/>
                </a:lnTo>
                <a:lnTo>
                  <a:pt x="551" y="483"/>
                </a:lnTo>
                <a:lnTo>
                  <a:pt x="547" y="472"/>
                </a:lnTo>
                <a:lnTo>
                  <a:pt x="544" y="461"/>
                </a:lnTo>
                <a:lnTo>
                  <a:pt x="542" y="448"/>
                </a:lnTo>
                <a:lnTo>
                  <a:pt x="538" y="438"/>
                </a:lnTo>
                <a:lnTo>
                  <a:pt x="535" y="427"/>
                </a:lnTo>
                <a:lnTo>
                  <a:pt x="531" y="417"/>
                </a:lnTo>
                <a:lnTo>
                  <a:pt x="529" y="405"/>
                </a:lnTo>
                <a:lnTo>
                  <a:pt x="526" y="397"/>
                </a:lnTo>
                <a:lnTo>
                  <a:pt x="524" y="388"/>
                </a:lnTo>
                <a:lnTo>
                  <a:pt x="522" y="380"/>
                </a:lnTo>
                <a:lnTo>
                  <a:pt x="520" y="373"/>
                </a:lnTo>
                <a:lnTo>
                  <a:pt x="517" y="367"/>
                </a:lnTo>
                <a:lnTo>
                  <a:pt x="515" y="360"/>
                </a:lnTo>
                <a:lnTo>
                  <a:pt x="511" y="352"/>
                </a:lnTo>
                <a:lnTo>
                  <a:pt x="509" y="344"/>
                </a:lnTo>
                <a:lnTo>
                  <a:pt x="506" y="337"/>
                </a:lnTo>
                <a:lnTo>
                  <a:pt x="502" y="327"/>
                </a:lnTo>
                <a:lnTo>
                  <a:pt x="498" y="319"/>
                </a:lnTo>
                <a:lnTo>
                  <a:pt x="496" y="309"/>
                </a:lnTo>
                <a:lnTo>
                  <a:pt x="491" y="302"/>
                </a:lnTo>
                <a:lnTo>
                  <a:pt x="488" y="292"/>
                </a:lnTo>
                <a:lnTo>
                  <a:pt x="484" y="284"/>
                </a:lnTo>
                <a:lnTo>
                  <a:pt x="480" y="275"/>
                </a:lnTo>
                <a:lnTo>
                  <a:pt x="477" y="267"/>
                </a:lnTo>
                <a:lnTo>
                  <a:pt x="473" y="259"/>
                </a:lnTo>
                <a:lnTo>
                  <a:pt x="469" y="253"/>
                </a:lnTo>
                <a:lnTo>
                  <a:pt x="467" y="245"/>
                </a:lnTo>
                <a:lnTo>
                  <a:pt x="463" y="240"/>
                </a:lnTo>
                <a:lnTo>
                  <a:pt x="460" y="234"/>
                </a:lnTo>
                <a:lnTo>
                  <a:pt x="456" y="227"/>
                </a:lnTo>
                <a:lnTo>
                  <a:pt x="452" y="220"/>
                </a:lnTo>
                <a:lnTo>
                  <a:pt x="447" y="213"/>
                </a:lnTo>
                <a:lnTo>
                  <a:pt x="443" y="205"/>
                </a:lnTo>
                <a:lnTo>
                  <a:pt x="438" y="197"/>
                </a:lnTo>
                <a:lnTo>
                  <a:pt x="434" y="190"/>
                </a:lnTo>
                <a:lnTo>
                  <a:pt x="429" y="185"/>
                </a:lnTo>
                <a:lnTo>
                  <a:pt x="425" y="177"/>
                </a:lnTo>
                <a:lnTo>
                  <a:pt x="419" y="171"/>
                </a:lnTo>
                <a:lnTo>
                  <a:pt x="415" y="163"/>
                </a:lnTo>
                <a:lnTo>
                  <a:pt x="411" y="157"/>
                </a:lnTo>
                <a:lnTo>
                  <a:pt x="407" y="152"/>
                </a:lnTo>
                <a:lnTo>
                  <a:pt x="403" y="147"/>
                </a:lnTo>
                <a:lnTo>
                  <a:pt x="401" y="143"/>
                </a:lnTo>
                <a:lnTo>
                  <a:pt x="397" y="139"/>
                </a:lnTo>
                <a:lnTo>
                  <a:pt x="393" y="135"/>
                </a:lnTo>
                <a:lnTo>
                  <a:pt x="390" y="131"/>
                </a:lnTo>
                <a:lnTo>
                  <a:pt x="387" y="128"/>
                </a:lnTo>
                <a:lnTo>
                  <a:pt x="383" y="124"/>
                </a:lnTo>
                <a:lnTo>
                  <a:pt x="380" y="120"/>
                </a:lnTo>
                <a:lnTo>
                  <a:pt x="376" y="116"/>
                </a:lnTo>
                <a:lnTo>
                  <a:pt x="374" y="113"/>
                </a:lnTo>
                <a:lnTo>
                  <a:pt x="370" y="111"/>
                </a:lnTo>
                <a:lnTo>
                  <a:pt x="368" y="107"/>
                </a:lnTo>
                <a:lnTo>
                  <a:pt x="365" y="104"/>
                </a:lnTo>
                <a:lnTo>
                  <a:pt x="363" y="100"/>
                </a:lnTo>
                <a:lnTo>
                  <a:pt x="360" y="98"/>
                </a:lnTo>
                <a:lnTo>
                  <a:pt x="359" y="96"/>
                </a:lnTo>
                <a:lnTo>
                  <a:pt x="357" y="94"/>
                </a:lnTo>
                <a:lnTo>
                  <a:pt x="356" y="91"/>
                </a:lnTo>
                <a:lnTo>
                  <a:pt x="354" y="91"/>
                </a:lnTo>
                <a:lnTo>
                  <a:pt x="352" y="89"/>
                </a:lnTo>
                <a:lnTo>
                  <a:pt x="351" y="89"/>
                </a:lnTo>
                <a:lnTo>
                  <a:pt x="349" y="87"/>
                </a:lnTo>
                <a:lnTo>
                  <a:pt x="345" y="85"/>
                </a:lnTo>
                <a:lnTo>
                  <a:pt x="343" y="83"/>
                </a:lnTo>
                <a:lnTo>
                  <a:pt x="342" y="81"/>
                </a:lnTo>
                <a:lnTo>
                  <a:pt x="340" y="79"/>
                </a:lnTo>
                <a:lnTo>
                  <a:pt x="336" y="78"/>
                </a:lnTo>
                <a:lnTo>
                  <a:pt x="334" y="76"/>
                </a:lnTo>
                <a:lnTo>
                  <a:pt x="331" y="74"/>
                </a:lnTo>
                <a:lnTo>
                  <a:pt x="329" y="72"/>
                </a:lnTo>
                <a:lnTo>
                  <a:pt x="325" y="70"/>
                </a:lnTo>
                <a:lnTo>
                  <a:pt x="323" y="68"/>
                </a:lnTo>
                <a:lnTo>
                  <a:pt x="321" y="67"/>
                </a:lnTo>
                <a:lnTo>
                  <a:pt x="319" y="65"/>
                </a:lnTo>
                <a:lnTo>
                  <a:pt x="315" y="64"/>
                </a:lnTo>
                <a:lnTo>
                  <a:pt x="312" y="62"/>
                </a:lnTo>
                <a:lnTo>
                  <a:pt x="309" y="60"/>
                </a:lnTo>
                <a:lnTo>
                  <a:pt x="305" y="58"/>
                </a:lnTo>
                <a:lnTo>
                  <a:pt x="301" y="57"/>
                </a:lnTo>
                <a:lnTo>
                  <a:pt x="297" y="55"/>
                </a:lnTo>
                <a:lnTo>
                  <a:pt x="293" y="53"/>
                </a:lnTo>
                <a:lnTo>
                  <a:pt x="289" y="50"/>
                </a:lnTo>
                <a:lnTo>
                  <a:pt x="284" y="48"/>
                </a:lnTo>
                <a:lnTo>
                  <a:pt x="280" y="47"/>
                </a:lnTo>
                <a:lnTo>
                  <a:pt x="274" y="45"/>
                </a:lnTo>
                <a:lnTo>
                  <a:pt x="271" y="42"/>
                </a:lnTo>
                <a:lnTo>
                  <a:pt x="265" y="40"/>
                </a:lnTo>
                <a:lnTo>
                  <a:pt x="262" y="38"/>
                </a:lnTo>
                <a:lnTo>
                  <a:pt x="258" y="37"/>
                </a:lnTo>
                <a:lnTo>
                  <a:pt x="254" y="34"/>
                </a:lnTo>
                <a:lnTo>
                  <a:pt x="249" y="34"/>
                </a:lnTo>
                <a:lnTo>
                  <a:pt x="245" y="32"/>
                </a:lnTo>
                <a:lnTo>
                  <a:pt x="241" y="31"/>
                </a:lnTo>
                <a:lnTo>
                  <a:pt x="237" y="29"/>
                </a:lnTo>
                <a:lnTo>
                  <a:pt x="231" y="29"/>
                </a:lnTo>
                <a:lnTo>
                  <a:pt x="226" y="27"/>
                </a:lnTo>
                <a:lnTo>
                  <a:pt x="221" y="25"/>
                </a:lnTo>
                <a:lnTo>
                  <a:pt x="217" y="23"/>
                </a:lnTo>
                <a:lnTo>
                  <a:pt x="211" y="23"/>
                </a:lnTo>
                <a:lnTo>
                  <a:pt x="206" y="21"/>
                </a:lnTo>
                <a:lnTo>
                  <a:pt x="201" y="20"/>
                </a:lnTo>
                <a:lnTo>
                  <a:pt x="197" y="18"/>
                </a:lnTo>
                <a:lnTo>
                  <a:pt x="192" y="18"/>
                </a:lnTo>
                <a:lnTo>
                  <a:pt x="188" y="16"/>
                </a:lnTo>
                <a:lnTo>
                  <a:pt x="185" y="15"/>
                </a:lnTo>
                <a:lnTo>
                  <a:pt x="181" y="13"/>
                </a:lnTo>
                <a:lnTo>
                  <a:pt x="177" y="13"/>
                </a:lnTo>
                <a:lnTo>
                  <a:pt x="173" y="13"/>
                </a:lnTo>
                <a:lnTo>
                  <a:pt x="169" y="13"/>
                </a:lnTo>
                <a:lnTo>
                  <a:pt x="165" y="11"/>
                </a:lnTo>
                <a:lnTo>
                  <a:pt x="159" y="11"/>
                </a:lnTo>
                <a:lnTo>
                  <a:pt x="155" y="10"/>
                </a:lnTo>
                <a:lnTo>
                  <a:pt x="149" y="10"/>
                </a:lnTo>
                <a:lnTo>
                  <a:pt x="146" y="9"/>
                </a:lnTo>
                <a:lnTo>
                  <a:pt x="140" y="9"/>
                </a:lnTo>
                <a:lnTo>
                  <a:pt x="135" y="9"/>
                </a:lnTo>
                <a:lnTo>
                  <a:pt x="129" y="9"/>
                </a:lnTo>
                <a:lnTo>
                  <a:pt x="125" y="7"/>
                </a:lnTo>
                <a:lnTo>
                  <a:pt x="119" y="7"/>
                </a:lnTo>
                <a:lnTo>
                  <a:pt x="115" y="6"/>
                </a:lnTo>
                <a:lnTo>
                  <a:pt x="111" y="6"/>
                </a:lnTo>
                <a:lnTo>
                  <a:pt x="107" y="4"/>
                </a:lnTo>
                <a:lnTo>
                  <a:pt x="102" y="4"/>
                </a:lnTo>
                <a:lnTo>
                  <a:pt x="98" y="4"/>
                </a:lnTo>
                <a:lnTo>
                  <a:pt x="93" y="4"/>
                </a:lnTo>
                <a:lnTo>
                  <a:pt x="89" y="4"/>
                </a:lnTo>
                <a:lnTo>
                  <a:pt x="83" y="4"/>
                </a:lnTo>
                <a:lnTo>
                  <a:pt x="78" y="4"/>
                </a:lnTo>
                <a:lnTo>
                  <a:pt x="72" y="4"/>
                </a:lnTo>
                <a:lnTo>
                  <a:pt x="68" y="2"/>
                </a:lnTo>
                <a:lnTo>
                  <a:pt x="63" y="2"/>
                </a:lnTo>
                <a:lnTo>
                  <a:pt x="58" y="2"/>
                </a:lnTo>
                <a:lnTo>
                  <a:pt x="52" y="2"/>
                </a:lnTo>
                <a:lnTo>
                  <a:pt x="48" y="1"/>
                </a:lnTo>
                <a:lnTo>
                  <a:pt x="43" y="1"/>
                </a:lnTo>
                <a:lnTo>
                  <a:pt x="39" y="1"/>
                </a:lnTo>
                <a:lnTo>
                  <a:pt x="35" y="1"/>
                </a:lnTo>
                <a:lnTo>
                  <a:pt x="33" y="0"/>
                </a:lnTo>
                <a:lnTo>
                  <a:pt x="29" y="0"/>
                </a:lnTo>
                <a:lnTo>
                  <a:pt x="27" y="0"/>
                </a:lnTo>
                <a:lnTo>
                  <a:pt x="25" y="0"/>
                </a:lnTo>
                <a:lnTo>
                  <a:pt x="25" y="0"/>
                </a:lnTo>
                <a:lnTo>
                  <a:pt x="23" y="0"/>
                </a:lnTo>
                <a:lnTo>
                  <a:pt x="23" y="0"/>
                </a:lnTo>
                <a:lnTo>
                  <a:pt x="22" y="0"/>
                </a:lnTo>
                <a:lnTo>
                  <a:pt x="22" y="0"/>
                </a:lnTo>
                <a:lnTo>
                  <a:pt x="20" y="0"/>
                </a:lnTo>
                <a:lnTo>
                  <a:pt x="20" y="0"/>
                </a:lnTo>
                <a:lnTo>
                  <a:pt x="18" y="0"/>
                </a:lnTo>
                <a:lnTo>
                  <a:pt x="17" y="0"/>
                </a:ln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13080" y="2505240"/>
            <a:ext cx="3598920" cy="4130640"/>
          </a:xfrm>
          <a:custGeom>
            <a:avLst/>
            <a:gdLst/>
            <a:ahLst/>
            <a:rect l="l" t="t" r="r" b="b"/>
            <a:pathLst>
              <a:path w="2267" h="2602">
                <a:moveTo>
                  <a:pt x="0" y="0"/>
                </a:moveTo>
                <a:lnTo>
                  <a:pt x="2" y="22"/>
                </a:lnTo>
                <a:lnTo>
                  <a:pt x="4" y="39"/>
                </a:lnTo>
                <a:lnTo>
                  <a:pt x="4" y="54"/>
                </a:lnTo>
                <a:lnTo>
                  <a:pt x="6" y="64"/>
                </a:lnTo>
                <a:lnTo>
                  <a:pt x="6" y="73"/>
                </a:lnTo>
                <a:lnTo>
                  <a:pt x="7" y="79"/>
                </a:lnTo>
                <a:lnTo>
                  <a:pt x="7" y="84"/>
                </a:lnTo>
                <a:lnTo>
                  <a:pt x="9" y="86"/>
                </a:lnTo>
                <a:lnTo>
                  <a:pt x="9" y="90"/>
                </a:lnTo>
                <a:lnTo>
                  <a:pt x="9" y="92"/>
                </a:lnTo>
                <a:lnTo>
                  <a:pt x="9" y="94"/>
                </a:lnTo>
                <a:lnTo>
                  <a:pt x="9" y="97"/>
                </a:lnTo>
                <a:lnTo>
                  <a:pt x="9" y="102"/>
                </a:lnTo>
                <a:lnTo>
                  <a:pt x="10" y="107"/>
                </a:lnTo>
                <a:lnTo>
                  <a:pt x="11" y="116"/>
                </a:lnTo>
                <a:lnTo>
                  <a:pt x="13" y="125"/>
                </a:lnTo>
                <a:lnTo>
                  <a:pt x="14" y="139"/>
                </a:lnTo>
                <a:lnTo>
                  <a:pt x="16" y="156"/>
                </a:lnTo>
                <a:lnTo>
                  <a:pt x="19" y="176"/>
                </a:lnTo>
                <a:lnTo>
                  <a:pt x="23" y="199"/>
                </a:lnTo>
                <a:lnTo>
                  <a:pt x="27" y="225"/>
                </a:lnTo>
                <a:lnTo>
                  <a:pt x="32" y="253"/>
                </a:lnTo>
                <a:lnTo>
                  <a:pt x="37" y="282"/>
                </a:lnTo>
                <a:lnTo>
                  <a:pt x="44" y="313"/>
                </a:lnTo>
                <a:lnTo>
                  <a:pt x="49" y="346"/>
                </a:lnTo>
                <a:lnTo>
                  <a:pt x="56" y="379"/>
                </a:lnTo>
                <a:lnTo>
                  <a:pt x="61" y="412"/>
                </a:lnTo>
                <a:lnTo>
                  <a:pt x="68" y="446"/>
                </a:lnTo>
                <a:lnTo>
                  <a:pt x="74" y="480"/>
                </a:lnTo>
                <a:lnTo>
                  <a:pt x="82" y="514"/>
                </a:lnTo>
                <a:lnTo>
                  <a:pt x="88" y="546"/>
                </a:lnTo>
                <a:lnTo>
                  <a:pt x="96" y="576"/>
                </a:lnTo>
                <a:lnTo>
                  <a:pt x="102" y="609"/>
                </a:lnTo>
                <a:lnTo>
                  <a:pt x="110" y="642"/>
                </a:lnTo>
                <a:lnTo>
                  <a:pt x="118" y="676"/>
                </a:lnTo>
                <a:lnTo>
                  <a:pt x="127" y="711"/>
                </a:lnTo>
                <a:lnTo>
                  <a:pt x="136" y="746"/>
                </a:lnTo>
                <a:lnTo>
                  <a:pt x="145" y="782"/>
                </a:lnTo>
                <a:lnTo>
                  <a:pt x="155" y="818"/>
                </a:lnTo>
                <a:lnTo>
                  <a:pt x="165" y="851"/>
                </a:lnTo>
                <a:lnTo>
                  <a:pt x="174" y="886"/>
                </a:lnTo>
                <a:lnTo>
                  <a:pt x="183" y="918"/>
                </a:lnTo>
                <a:lnTo>
                  <a:pt x="193" y="950"/>
                </a:lnTo>
                <a:lnTo>
                  <a:pt x="202" y="978"/>
                </a:lnTo>
                <a:lnTo>
                  <a:pt x="210" y="1006"/>
                </a:lnTo>
                <a:lnTo>
                  <a:pt x="218" y="1029"/>
                </a:lnTo>
                <a:lnTo>
                  <a:pt x="226" y="1050"/>
                </a:lnTo>
                <a:lnTo>
                  <a:pt x="233" y="1067"/>
                </a:lnTo>
                <a:lnTo>
                  <a:pt x="239" y="1084"/>
                </a:lnTo>
                <a:lnTo>
                  <a:pt x="246" y="1103"/>
                </a:lnTo>
                <a:lnTo>
                  <a:pt x="254" y="1124"/>
                </a:lnTo>
                <a:lnTo>
                  <a:pt x="264" y="1146"/>
                </a:lnTo>
                <a:lnTo>
                  <a:pt x="273" y="1170"/>
                </a:lnTo>
                <a:lnTo>
                  <a:pt x="283" y="1194"/>
                </a:lnTo>
                <a:lnTo>
                  <a:pt x="294" y="1220"/>
                </a:lnTo>
                <a:lnTo>
                  <a:pt x="306" y="1246"/>
                </a:lnTo>
                <a:lnTo>
                  <a:pt x="316" y="1274"/>
                </a:lnTo>
                <a:lnTo>
                  <a:pt x="327" y="1300"/>
                </a:lnTo>
                <a:lnTo>
                  <a:pt x="338" y="1327"/>
                </a:lnTo>
                <a:lnTo>
                  <a:pt x="349" y="1353"/>
                </a:lnTo>
                <a:lnTo>
                  <a:pt x="359" y="1379"/>
                </a:lnTo>
                <a:lnTo>
                  <a:pt x="370" y="1403"/>
                </a:lnTo>
                <a:lnTo>
                  <a:pt x="380" y="1426"/>
                </a:lnTo>
                <a:lnTo>
                  <a:pt x="390" y="1446"/>
                </a:lnTo>
                <a:lnTo>
                  <a:pt x="398" y="1468"/>
                </a:lnTo>
                <a:lnTo>
                  <a:pt x="407" y="1490"/>
                </a:lnTo>
                <a:lnTo>
                  <a:pt x="417" y="1513"/>
                </a:lnTo>
                <a:lnTo>
                  <a:pt x="428" y="1536"/>
                </a:lnTo>
                <a:lnTo>
                  <a:pt x="438" y="1562"/>
                </a:lnTo>
                <a:lnTo>
                  <a:pt x="449" y="1586"/>
                </a:lnTo>
                <a:lnTo>
                  <a:pt x="460" y="1611"/>
                </a:lnTo>
                <a:lnTo>
                  <a:pt x="472" y="1636"/>
                </a:lnTo>
                <a:lnTo>
                  <a:pt x="481" y="1660"/>
                </a:lnTo>
                <a:lnTo>
                  <a:pt x="492" y="1684"/>
                </a:lnTo>
                <a:lnTo>
                  <a:pt x="502" y="1707"/>
                </a:lnTo>
                <a:lnTo>
                  <a:pt x="512" y="1728"/>
                </a:lnTo>
                <a:lnTo>
                  <a:pt x="520" y="1750"/>
                </a:lnTo>
                <a:lnTo>
                  <a:pt x="528" y="1768"/>
                </a:lnTo>
                <a:lnTo>
                  <a:pt x="536" y="1784"/>
                </a:lnTo>
                <a:lnTo>
                  <a:pt x="543" y="1798"/>
                </a:lnTo>
                <a:lnTo>
                  <a:pt x="550" y="1812"/>
                </a:lnTo>
                <a:lnTo>
                  <a:pt x="558" y="1827"/>
                </a:lnTo>
                <a:lnTo>
                  <a:pt x="566" y="1843"/>
                </a:lnTo>
                <a:lnTo>
                  <a:pt x="576" y="1860"/>
                </a:lnTo>
                <a:lnTo>
                  <a:pt x="586" y="1879"/>
                </a:lnTo>
                <a:lnTo>
                  <a:pt x="598" y="1898"/>
                </a:lnTo>
                <a:lnTo>
                  <a:pt x="609" y="1916"/>
                </a:lnTo>
                <a:lnTo>
                  <a:pt x="622" y="1935"/>
                </a:lnTo>
                <a:lnTo>
                  <a:pt x="633" y="1955"/>
                </a:lnTo>
                <a:lnTo>
                  <a:pt x="646" y="1974"/>
                </a:lnTo>
                <a:lnTo>
                  <a:pt x="658" y="1992"/>
                </a:lnTo>
                <a:lnTo>
                  <a:pt x="671" y="2010"/>
                </a:lnTo>
                <a:lnTo>
                  <a:pt x="682" y="2028"/>
                </a:lnTo>
                <a:lnTo>
                  <a:pt x="696" y="2044"/>
                </a:lnTo>
                <a:lnTo>
                  <a:pt x="707" y="2060"/>
                </a:lnTo>
                <a:lnTo>
                  <a:pt x="719" y="2073"/>
                </a:lnTo>
                <a:lnTo>
                  <a:pt x="729" y="2087"/>
                </a:lnTo>
                <a:lnTo>
                  <a:pt x="741" y="2101"/>
                </a:lnTo>
                <a:lnTo>
                  <a:pt x="754" y="2116"/>
                </a:lnTo>
                <a:lnTo>
                  <a:pt x="768" y="2130"/>
                </a:lnTo>
                <a:lnTo>
                  <a:pt x="782" y="2147"/>
                </a:lnTo>
                <a:lnTo>
                  <a:pt x="797" y="2162"/>
                </a:lnTo>
                <a:lnTo>
                  <a:pt x="812" y="2178"/>
                </a:lnTo>
                <a:lnTo>
                  <a:pt x="828" y="2193"/>
                </a:lnTo>
                <a:lnTo>
                  <a:pt x="844" y="2210"/>
                </a:lnTo>
                <a:lnTo>
                  <a:pt x="858" y="2224"/>
                </a:lnTo>
                <a:lnTo>
                  <a:pt x="874" y="2240"/>
                </a:lnTo>
                <a:lnTo>
                  <a:pt x="888" y="2253"/>
                </a:lnTo>
                <a:lnTo>
                  <a:pt x="902" y="2266"/>
                </a:lnTo>
                <a:lnTo>
                  <a:pt x="915" y="2277"/>
                </a:lnTo>
                <a:lnTo>
                  <a:pt x="927" y="2288"/>
                </a:lnTo>
                <a:lnTo>
                  <a:pt x="939" y="2296"/>
                </a:lnTo>
                <a:lnTo>
                  <a:pt x="948" y="2305"/>
                </a:lnTo>
                <a:lnTo>
                  <a:pt x="960" y="2312"/>
                </a:lnTo>
                <a:lnTo>
                  <a:pt x="971" y="2321"/>
                </a:lnTo>
                <a:lnTo>
                  <a:pt x="982" y="2329"/>
                </a:lnTo>
                <a:lnTo>
                  <a:pt x="993" y="2338"/>
                </a:lnTo>
                <a:lnTo>
                  <a:pt x="1004" y="2346"/>
                </a:lnTo>
                <a:lnTo>
                  <a:pt x="1015" y="2353"/>
                </a:lnTo>
                <a:lnTo>
                  <a:pt x="1026" y="2360"/>
                </a:lnTo>
                <a:lnTo>
                  <a:pt x="1036" y="2369"/>
                </a:lnTo>
                <a:lnTo>
                  <a:pt x="1046" y="2376"/>
                </a:lnTo>
                <a:lnTo>
                  <a:pt x="1054" y="2383"/>
                </a:lnTo>
                <a:lnTo>
                  <a:pt x="1064" y="2389"/>
                </a:lnTo>
                <a:lnTo>
                  <a:pt x="1071" y="2394"/>
                </a:lnTo>
                <a:lnTo>
                  <a:pt x="1078" y="2399"/>
                </a:lnTo>
                <a:lnTo>
                  <a:pt x="1083" y="2403"/>
                </a:lnTo>
                <a:lnTo>
                  <a:pt x="1088" y="2406"/>
                </a:lnTo>
                <a:lnTo>
                  <a:pt x="1092" y="2409"/>
                </a:lnTo>
                <a:lnTo>
                  <a:pt x="1097" y="2412"/>
                </a:lnTo>
                <a:lnTo>
                  <a:pt x="1102" y="2416"/>
                </a:lnTo>
                <a:lnTo>
                  <a:pt x="1109" y="2418"/>
                </a:lnTo>
                <a:lnTo>
                  <a:pt x="1116" y="2422"/>
                </a:lnTo>
                <a:lnTo>
                  <a:pt x="1124" y="2426"/>
                </a:lnTo>
                <a:lnTo>
                  <a:pt x="1132" y="2430"/>
                </a:lnTo>
                <a:lnTo>
                  <a:pt x="1141" y="2434"/>
                </a:lnTo>
                <a:lnTo>
                  <a:pt x="1149" y="2438"/>
                </a:lnTo>
                <a:lnTo>
                  <a:pt x="1158" y="2442"/>
                </a:lnTo>
                <a:lnTo>
                  <a:pt x="1167" y="2446"/>
                </a:lnTo>
                <a:lnTo>
                  <a:pt x="1177" y="2450"/>
                </a:lnTo>
                <a:lnTo>
                  <a:pt x="1185" y="2454"/>
                </a:lnTo>
                <a:lnTo>
                  <a:pt x="1194" y="2457"/>
                </a:lnTo>
                <a:lnTo>
                  <a:pt x="1202" y="2461"/>
                </a:lnTo>
                <a:lnTo>
                  <a:pt x="1212" y="2464"/>
                </a:lnTo>
                <a:lnTo>
                  <a:pt x="1220" y="2468"/>
                </a:lnTo>
                <a:lnTo>
                  <a:pt x="1230" y="2472"/>
                </a:lnTo>
                <a:lnTo>
                  <a:pt x="1240" y="2476"/>
                </a:lnTo>
                <a:lnTo>
                  <a:pt x="1253" y="2479"/>
                </a:lnTo>
                <a:lnTo>
                  <a:pt x="1265" y="2485"/>
                </a:lnTo>
                <a:lnTo>
                  <a:pt x="1279" y="2488"/>
                </a:lnTo>
                <a:lnTo>
                  <a:pt x="1294" y="2494"/>
                </a:lnTo>
                <a:lnTo>
                  <a:pt x="1309" y="2497"/>
                </a:lnTo>
                <a:lnTo>
                  <a:pt x="1324" y="2503"/>
                </a:lnTo>
                <a:lnTo>
                  <a:pt x="1339" y="2507"/>
                </a:lnTo>
                <a:lnTo>
                  <a:pt x="1354" y="2512"/>
                </a:lnTo>
                <a:lnTo>
                  <a:pt x="1369" y="2516"/>
                </a:lnTo>
                <a:lnTo>
                  <a:pt x="1383" y="2520"/>
                </a:lnTo>
                <a:lnTo>
                  <a:pt x="1398" y="2524"/>
                </a:lnTo>
                <a:lnTo>
                  <a:pt x="1411" y="2528"/>
                </a:lnTo>
                <a:lnTo>
                  <a:pt x="1424" y="2530"/>
                </a:lnTo>
                <a:lnTo>
                  <a:pt x="1436" y="2534"/>
                </a:lnTo>
                <a:lnTo>
                  <a:pt x="1450" y="2538"/>
                </a:lnTo>
                <a:lnTo>
                  <a:pt x="1464" y="2542"/>
                </a:lnTo>
                <a:lnTo>
                  <a:pt x="1481" y="2545"/>
                </a:lnTo>
                <a:lnTo>
                  <a:pt x="1496" y="2548"/>
                </a:lnTo>
                <a:lnTo>
                  <a:pt x="1513" y="2552"/>
                </a:lnTo>
                <a:lnTo>
                  <a:pt x="1530" y="2555"/>
                </a:lnTo>
                <a:lnTo>
                  <a:pt x="1547" y="2557"/>
                </a:lnTo>
                <a:lnTo>
                  <a:pt x="1563" y="2561"/>
                </a:lnTo>
                <a:lnTo>
                  <a:pt x="1580" y="2563"/>
                </a:lnTo>
                <a:lnTo>
                  <a:pt x="1596" y="2566"/>
                </a:lnTo>
                <a:lnTo>
                  <a:pt x="1612" y="2568"/>
                </a:lnTo>
                <a:lnTo>
                  <a:pt x="1625" y="2571"/>
                </a:lnTo>
                <a:lnTo>
                  <a:pt x="1640" y="2573"/>
                </a:lnTo>
                <a:lnTo>
                  <a:pt x="1652" y="2575"/>
                </a:lnTo>
                <a:lnTo>
                  <a:pt x="1664" y="2575"/>
                </a:lnTo>
                <a:lnTo>
                  <a:pt x="1675" y="2577"/>
                </a:lnTo>
                <a:lnTo>
                  <a:pt x="1687" y="2579"/>
                </a:lnTo>
                <a:lnTo>
                  <a:pt x="1700" y="2581"/>
                </a:lnTo>
                <a:lnTo>
                  <a:pt x="1715" y="2581"/>
                </a:lnTo>
                <a:lnTo>
                  <a:pt x="1730" y="2583"/>
                </a:lnTo>
                <a:lnTo>
                  <a:pt x="1747" y="2585"/>
                </a:lnTo>
                <a:lnTo>
                  <a:pt x="1764" y="2586"/>
                </a:lnTo>
                <a:lnTo>
                  <a:pt x="1782" y="2586"/>
                </a:lnTo>
                <a:lnTo>
                  <a:pt x="1799" y="2588"/>
                </a:lnTo>
                <a:lnTo>
                  <a:pt x="1816" y="2590"/>
                </a:lnTo>
                <a:lnTo>
                  <a:pt x="1832" y="2592"/>
                </a:lnTo>
                <a:lnTo>
                  <a:pt x="1850" y="2592"/>
                </a:lnTo>
                <a:lnTo>
                  <a:pt x="1866" y="2593"/>
                </a:lnTo>
                <a:lnTo>
                  <a:pt x="1882" y="2593"/>
                </a:lnTo>
                <a:lnTo>
                  <a:pt x="1896" y="2594"/>
                </a:lnTo>
                <a:lnTo>
                  <a:pt x="1910" y="2594"/>
                </a:lnTo>
                <a:lnTo>
                  <a:pt x="1923" y="2596"/>
                </a:lnTo>
                <a:lnTo>
                  <a:pt x="1937" y="2596"/>
                </a:lnTo>
                <a:lnTo>
                  <a:pt x="1952" y="2598"/>
                </a:lnTo>
                <a:lnTo>
                  <a:pt x="1969" y="2598"/>
                </a:lnTo>
                <a:lnTo>
                  <a:pt x="1986" y="2600"/>
                </a:lnTo>
                <a:lnTo>
                  <a:pt x="2002" y="2600"/>
                </a:lnTo>
                <a:lnTo>
                  <a:pt x="2019" y="2600"/>
                </a:lnTo>
                <a:lnTo>
                  <a:pt x="2038" y="2600"/>
                </a:lnTo>
                <a:lnTo>
                  <a:pt x="2055" y="2601"/>
                </a:lnTo>
                <a:lnTo>
                  <a:pt x="2072" y="2601"/>
                </a:lnTo>
                <a:lnTo>
                  <a:pt x="2087" y="2601"/>
                </a:lnTo>
                <a:lnTo>
                  <a:pt x="2103" y="2601"/>
                </a:lnTo>
                <a:lnTo>
                  <a:pt x="2117" y="2601"/>
                </a:lnTo>
                <a:lnTo>
                  <a:pt x="2132" y="2601"/>
                </a:lnTo>
                <a:lnTo>
                  <a:pt x="2144" y="2601"/>
                </a:lnTo>
                <a:lnTo>
                  <a:pt x="2156" y="2601"/>
                </a:lnTo>
                <a:lnTo>
                  <a:pt x="2164" y="2601"/>
                </a:lnTo>
                <a:lnTo>
                  <a:pt x="2171" y="2601"/>
                </a:lnTo>
                <a:lnTo>
                  <a:pt x="2175" y="2601"/>
                </a:lnTo>
                <a:lnTo>
                  <a:pt x="2180" y="2601"/>
                </a:lnTo>
                <a:lnTo>
                  <a:pt x="2181" y="2601"/>
                </a:lnTo>
                <a:lnTo>
                  <a:pt x="2184" y="2601"/>
                </a:lnTo>
                <a:lnTo>
                  <a:pt x="2186" y="2601"/>
                </a:lnTo>
                <a:lnTo>
                  <a:pt x="2190" y="2601"/>
                </a:lnTo>
                <a:lnTo>
                  <a:pt x="2191" y="2601"/>
                </a:lnTo>
                <a:lnTo>
                  <a:pt x="2196" y="2601"/>
                </a:lnTo>
                <a:lnTo>
                  <a:pt x="2201" y="2601"/>
                </a:lnTo>
                <a:lnTo>
                  <a:pt x="2209" y="2601"/>
                </a:lnTo>
                <a:lnTo>
                  <a:pt x="2218" y="2601"/>
                </a:lnTo>
                <a:lnTo>
                  <a:pt x="2231" y="2601"/>
                </a:lnTo>
                <a:lnTo>
                  <a:pt x="2246" y="2601"/>
                </a:lnTo>
                <a:lnTo>
                  <a:pt x="2266" y="2601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27280" y="2641680"/>
            <a:ext cx="2789280" cy="3211560"/>
          </a:xfrm>
          <a:custGeom>
            <a:avLst/>
            <a:gdLst/>
            <a:ahLst/>
            <a:rect l="l" t="t" r="r" b="b"/>
            <a:pathLst>
              <a:path w="1757" h="2023">
                <a:moveTo>
                  <a:pt x="0" y="0"/>
                </a:moveTo>
                <a:lnTo>
                  <a:pt x="0" y="18"/>
                </a:lnTo>
                <a:lnTo>
                  <a:pt x="2" y="31"/>
                </a:lnTo>
                <a:lnTo>
                  <a:pt x="2" y="41"/>
                </a:lnTo>
                <a:lnTo>
                  <a:pt x="4" y="50"/>
                </a:lnTo>
                <a:lnTo>
                  <a:pt x="4" y="56"/>
                </a:lnTo>
                <a:lnTo>
                  <a:pt x="5" y="61"/>
                </a:lnTo>
                <a:lnTo>
                  <a:pt x="5" y="64"/>
                </a:lnTo>
                <a:lnTo>
                  <a:pt x="7" y="66"/>
                </a:lnTo>
                <a:lnTo>
                  <a:pt x="7" y="69"/>
                </a:lnTo>
                <a:lnTo>
                  <a:pt x="7" y="71"/>
                </a:lnTo>
                <a:lnTo>
                  <a:pt x="7" y="72"/>
                </a:lnTo>
                <a:lnTo>
                  <a:pt x="7" y="74"/>
                </a:lnTo>
                <a:lnTo>
                  <a:pt x="7" y="78"/>
                </a:lnTo>
                <a:lnTo>
                  <a:pt x="8" y="82"/>
                </a:lnTo>
                <a:lnTo>
                  <a:pt x="8" y="89"/>
                </a:lnTo>
                <a:lnTo>
                  <a:pt x="10" y="96"/>
                </a:lnTo>
                <a:lnTo>
                  <a:pt x="10" y="108"/>
                </a:lnTo>
                <a:lnTo>
                  <a:pt x="12" y="120"/>
                </a:lnTo>
                <a:lnTo>
                  <a:pt x="14" y="137"/>
                </a:lnTo>
                <a:lnTo>
                  <a:pt x="17" y="154"/>
                </a:lnTo>
                <a:lnTo>
                  <a:pt x="20" y="175"/>
                </a:lnTo>
                <a:lnTo>
                  <a:pt x="24" y="196"/>
                </a:lnTo>
                <a:lnTo>
                  <a:pt x="28" y="219"/>
                </a:lnTo>
                <a:lnTo>
                  <a:pt x="34" y="242"/>
                </a:lnTo>
                <a:lnTo>
                  <a:pt x="37" y="268"/>
                </a:lnTo>
                <a:lnTo>
                  <a:pt x="43" y="294"/>
                </a:lnTo>
                <a:lnTo>
                  <a:pt x="48" y="320"/>
                </a:lnTo>
                <a:lnTo>
                  <a:pt x="54" y="346"/>
                </a:lnTo>
                <a:lnTo>
                  <a:pt x="59" y="372"/>
                </a:lnTo>
                <a:lnTo>
                  <a:pt x="65" y="398"/>
                </a:lnTo>
                <a:lnTo>
                  <a:pt x="70" y="423"/>
                </a:lnTo>
                <a:lnTo>
                  <a:pt x="77" y="447"/>
                </a:lnTo>
                <a:lnTo>
                  <a:pt x="81" y="472"/>
                </a:lnTo>
                <a:lnTo>
                  <a:pt x="87" y="498"/>
                </a:lnTo>
                <a:lnTo>
                  <a:pt x="92" y="526"/>
                </a:lnTo>
                <a:lnTo>
                  <a:pt x="100" y="552"/>
                </a:lnTo>
                <a:lnTo>
                  <a:pt x="106" y="580"/>
                </a:lnTo>
                <a:lnTo>
                  <a:pt x="114" y="608"/>
                </a:lnTo>
                <a:lnTo>
                  <a:pt x="121" y="636"/>
                </a:lnTo>
                <a:lnTo>
                  <a:pt x="128" y="662"/>
                </a:lnTo>
                <a:lnTo>
                  <a:pt x="135" y="689"/>
                </a:lnTo>
                <a:lnTo>
                  <a:pt x="143" y="714"/>
                </a:lnTo>
                <a:lnTo>
                  <a:pt x="150" y="740"/>
                </a:lnTo>
                <a:lnTo>
                  <a:pt x="157" y="761"/>
                </a:lnTo>
                <a:lnTo>
                  <a:pt x="163" y="783"/>
                </a:lnTo>
                <a:lnTo>
                  <a:pt x="170" y="801"/>
                </a:lnTo>
                <a:lnTo>
                  <a:pt x="175" y="817"/>
                </a:lnTo>
                <a:lnTo>
                  <a:pt x="182" y="830"/>
                </a:lnTo>
                <a:lnTo>
                  <a:pt x="186" y="843"/>
                </a:lnTo>
                <a:lnTo>
                  <a:pt x="192" y="858"/>
                </a:lnTo>
                <a:lnTo>
                  <a:pt x="198" y="874"/>
                </a:lnTo>
                <a:lnTo>
                  <a:pt x="205" y="890"/>
                </a:lnTo>
                <a:lnTo>
                  <a:pt x="212" y="910"/>
                </a:lnTo>
                <a:lnTo>
                  <a:pt x="220" y="929"/>
                </a:lnTo>
                <a:lnTo>
                  <a:pt x="228" y="949"/>
                </a:lnTo>
                <a:lnTo>
                  <a:pt x="237" y="968"/>
                </a:lnTo>
                <a:lnTo>
                  <a:pt x="244" y="991"/>
                </a:lnTo>
                <a:lnTo>
                  <a:pt x="254" y="1012"/>
                </a:lnTo>
                <a:lnTo>
                  <a:pt x="261" y="1032"/>
                </a:lnTo>
                <a:lnTo>
                  <a:pt x="271" y="1052"/>
                </a:lnTo>
                <a:lnTo>
                  <a:pt x="278" y="1072"/>
                </a:lnTo>
                <a:lnTo>
                  <a:pt x="286" y="1091"/>
                </a:lnTo>
                <a:lnTo>
                  <a:pt x="294" y="1108"/>
                </a:lnTo>
                <a:lnTo>
                  <a:pt x="302" y="1124"/>
                </a:lnTo>
                <a:lnTo>
                  <a:pt x="308" y="1142"/>
                </a:lnTo>
                <a:lnTo>
                  <a:pt x="315" y="1158"/>
                </a:lnTo>
                <a:lnTo>
                  <a:pt x="322" y="1177"/>
                </a:lnTo>
                <a:lnTo>
                  <a:pt x="330" y="1195"/>
                </a:lnTo>
                <a:lnTo>
                  <a:pt x="338" y="1215"/>
                </a:lnTo>
                <a:lnTo>
                  <a:pt x="348" y="1234"/>
                </a:lnTo>
                <a:lnTo>
                  <a:pt x="356" y="1253"/>
                </a:lnTo>
                <a:lnTo>
                  <a:pt x="365" y="1272"/>
                </a:lnTo>
                <a:lnTo>
                  <a:pt x="372" y="1291"/>
                </a:lnTo>
                <a:lnTo>
                  <a:pt x="381" y="1310"/>
                </a:lnTo>
                <a:lnTo>
                  <a:pt x="389" y="1328"/>
                </a:lnTo>
                <a:lnTo>
                  <a:pt x="397" y="1344"/>
                </a:lnTo>
                <a:lnTo>
                  <a:pt x="404" y="1360"/>
                </a:lnTo>
                <a:lnTo>
                  <a:pt x="411" y="1374"/>
                </a:lnTo>
                <a:lnTo>
                  <a:pt x="417" y="1387"/>
                </a:lnTo>
                <a:lnTo>
                  <a:pt x="422" y="1397"/>
                </a:lnTo>
                <a:lnTo>
                  <a:pt x="427" y="1408"/>
                </a:lnTo>
                <a:lnTo>
                  <a:pt x="432" y="1420"/>
                </a:lnTo>
                <a:lnTo>
                  <a:pt x="439" y="1433"/>
                </a:lnTo>
                <a:lnTo>
                  <a:pt x="447" y="1446"/>
                </a:lnTo>
                <a:lnTo>
                  <a:pt x="454" y="1461"/>
                </a:lnTo>
                <a:lnTo>
                  <a:pt x="464" y="1475"/>
                </a:lnTo>
                <a:lnTo>
                  <a:pt x="473" y="1490"/>
                </a:lnTo>
                <a:lnTo>
                  <a:pt x="483" y="1504"/>
                </a:lnTo>
                <a:lnTo>
                  <a:pt x="492" y="1519"/>
                </a:lnTo>
                <a:lnTo>
                  <a:pt x="502" y="1534"/>
                </a:lnTo>
                <a:lnTo>
                  <a:pt x="511" y="1549"/>
                </a:lnTo>
                <a:lnTo>
                  <a:pt x="522" y="1563"/>
                </a:lnTo>
                <a:lnTo>
                  <a:pt x="531" y="1576"/>
                </a:lnTo>
                <a:lnTo>
                  <a:pt x="540" y="1589"/>
                </a:lnTo>
                <a:lnTo>
                  <a:pt x="548" y="1601"/>
                </a:lnTo>
                <a:lnTo>
                  <a:pt x="558" y="1611"/>
                </a:lnTo>
                <a:lnTo>
                  <a:pt x="565" y="1622"/>
                </a:lnTo>
                <a:lnTo>
                  <a:pt x="574" y="1633"/>
                </a:lnTo>
                <a:lnTo>
                  <a:pt x="584" y="1645"/>
                </a:lnTo>
                <a:lnTo>
                  <a:pt x="596" y="1656"/>
                </a:lnTo>
                <a:lnTo>
                  <a:pt x="607" y="1669"/>
                </a:lnTo>
                <a:lnTo>
                  <a:pt x="619" y="1680"/>
                </a:lnTo>
                <a:lnTo>
                  <a:pt x="630" y="1694"/>
                </a:lnTo>
                <a:lnTo>
                  <a:pt x="643" y="1705"/>
                </a:lnTo>
                <a:lnTo>
                  <a:pt x="654" y="1718"/>
                </a:lnTo>
                <a:lnTo>
                  <a:pt x="666" y="1729"/>
                </a:lnTo>
                <a:lnTo>
                  <a:pt x="678" y="1740"/>
                </a:lnTo>
                <a:lnTo>
                  <a:pt x="689" y="1750"/>
                </a:lnTo>
                <a:lnTo>
                  <a:pt x="699" y="1761"/>
                </a:lnTo>
                <a:lnTo>
                  <a:pt x="711" y="1770"/>
                </a:lnTo>
                <a:lnTo>
                  <a:pt x="720" y="1778"/>
                </a:lnTo>
                <a:lnTo>
                  <a:pt x="729" y="1784"/>
                </a:lnTo>
                <a:lnTo>
                  <a:pt x="737" y="1792"/>
                </a:lnTo>
                <a:lnTo>
                  <a:pt x="745" y="1797"/>
                </a:lnTo>
                <a:lnTo>
                  <a:pt x="752" y="1804"/>
                </a:lnTo>
                <a:lnTo>
                  <a:pt x="762" y="1810"/>
                </a:lnTo>
                <a:lnTo>
                  <a:pt x="769" y="1817"/>
                </a:lnTo>
                <a:lnTo>
                  <a:pt x="779" y="1823"/>
                </a:lnTo>
                <a:lnTo>
                  <a:pt x="786" y="1830"/>
                </a:lnTo>
                <a:lnTo>
                  <a:pt x="796" y="1835"/>
                </a:lnTo>
                <a:lnTo>
                  <a:pt x="803" y="1842"/>
                </a:lnTo>
                <a:lnTo>
                  <a:pt x="810" y="1847"/>
                </a:lnTo>
                <a:lnTo>
                  <a:pt x="817" y="1853"/>
                </a:lnTo>
                <a:lnTo>
                  <a:pt x="824" y="1857"/>
                </a:lnTo>
                <a:lnTo>
                  <a:pt x="829" y="1862"/>
                </a:lnTo>
                <a:lnTo>
                  <a:pt x="835" y="1866"/>
                </a:lnTo>
                <a:lnTo>
                  <a:pt x="838" y="1868"/>
                </a:lnTo>
                <a:lnTo>
                  <a:pt x="844" y="1870"/>
                </a:lnTo>
                <a:lnTo>
                  <a:pt x="846" y="1873"/>
                </a:lnTo>
                <a:lnTo>
                  <a:pt x="850" y="1875"/>
                </a:lnTo>
                <a:lnTo>
                  <a:pt x="854" y="1878"/>
                </a:lnTo>
                <a:lnTo>
                  <a:pt x="860" y="1880"/>
                </a:lnTo>
                <a:lnTo>
                  <a:pt x="865" y="1884"/>
                </a:lnTo>
                <a:lnTo>
                  <a:pt x="871" y="1886"/>
                </a:lnTo>
                <a:lnTo>
                  <a:pt x="877" y="1890"/>
                </a:lnTo>
                <a:lnTo>
                  <a:pt x="885" y="1892"/>
                </a:lnTo>
                <a:lnTo>
                  <a:pt x="890" y="1896"/>
                </a:lnTo>
                <a:lnTo>
                  <a:pt x="898" y="1900"/>
                </a:lnTo>
                <a:lnTo>
                  <a:pt x="905" y="1903"/>
                </a:lnTo>
                <a:lnTo>
                  <a:pt x="912" y="1906"/>
                </a:lnTo>
                <a:lnTo>
                  <a:pt x="918" y="1910"/>
                </a:lnTo>
                <a:lnTo>
                  <a:pt x="925" y="1912"/>
                </a:lnTo>
                <a:lnTo>
                  <a:pt x="932" y="1914"/>
                </a:lnTo>
                <a:lnTo>
                  <a:pt x="939" y="1916"/>
                </a:lnTo>
                <a:lnTo>
                  <a:pt x="945" y="1920"/>
                </a:lnTo>
                <a:lnTo>
                  <a:pt x="952" y="1923"/>
                </a:lnTo>
                <a:lnTo>
                  <a:pt x="961" y="1927"/>
                </a:lnTo>
                <a:lnTo>
                  <a:pt x="971" y="1929"/>
                </a:lnTo>
                <a:lnTo>
                  <a:pt x="980" y="1933"/>
                </a:lnTo>
                <a:lnTo>
                  <a:pt x="992" y="1936"/>
                </a:lnTo>
                <a:lnTo>
                  <a:pt x="1003" y="1940"/>
                </a:lnTo>
                <a:lnTo>
                  <a:pt x="1014" y="1943"/>
                </a:lnTo>
                <a:lnTo>
                  <a:pt x="1026" y="1946"/>
                </a:lnTo>
                <a:lnTo>
                  <a:pt x="1038" y="1950"/>
                </a:lnTo>
                <a:lnTo>
                  <a:pt x="1049" y="1954"/>
                </a:lnTo>
                <a:lnTo>
                  <a:pt x="1061" y="1957"/>
                </a:lnTo>
                <a:lnTo>
                  <a:pt x="1072" y="1961"/>
                </a:lnTo>
                <a:lnTo>
                  <a:pt x="1084" y="1962"/>
                </a:lnTo>
                <a:lnTo>
                  <a:pt x="1094" y="1966"/>
                </a:lnTo>
                <a:lnTo>
                  <a:pt x="1104" y="1968"/>
                </a:lnTo>
                <a:lnTo>
                  <a:pt x="1114" y="1971"/>
                </a:lnTo>
                <a:lnTo>
                  <a:pt x="1124" y="1973"/>
                </a:lnTo>
                <a:lnTo>
                  <a:pt x="1136" y="1976"/>
                </a:lnTo>
                <a:lnTo>
                  <a:pt x="1148" y="1978"/>
                </a:lnTo>
                <a:lnTo>
                  <a:pt x="1160" y="1982"/>
                </a:lnTo>
                <a:lnTo>
                  <a:pt x="1173" y="1984"/>
                </a:lnTo>
                <a:lnTo>
                  <a:pt x="1186" y="1986"/>
                </a:lnTo>
                <a:lnTo>
                  <a:pt x="1199" y="1988"/>
                </a:lnTo>
                <a:lnTo>
                  <a:pt x="1211" y="1992"/>
                </a:lnTo>
                <a:lnTo>
                  <a:pt x="1224" y="1994"/>
                </a:lnTo>
                <a:lnTo>
                  <a:pt x="1236" y="1996"/>
                </a:lnTo>
                <a:lnTo>
                  <a:pt x="1249" y="1998"/>
                </a:lnTo>
                <a:lnTo>
                  <a:pt x="1260" y="2000"/>
                </a:lnTo>
                <a:lnTo>
                  <a:pt x="1271" y="2001"/>
                </a:lnTo>
                <a:lnTo>
                  <a:pt x="1280" y="2003"/>
                </a:lnTo>
                <a:lnTo>
                  <a:pt x="1290" y="2003"/>
                </a:lnTo>
                <a:lnTo>
                  <a:pt x="1298" y="2005"/>
                </a:lnTo>
                <a:lnTo>
                  <a:pt x="1307" y="2006"/>
                </a:lnTo>
                <a:lnTo>
                  <a:pt x="1318" y="2008"/>
                </a:lnTo>
                <a:lnTo>
                  <a:pt x="1330" y="2008"/>
                </a:lnTo>
                <a:lnTo>
                  <a:pt x="1341" y="2009"/>
                </a:lnTo>
                <a:lnTo>
                  <a:pt x="1354" y="2009"/>
                </a:lnTo>
                <a:lnTo>
                  <a:pt x="1367" y="2011"/>
                </a:lnTo>
                <a:lnTo>
                  <a:pt x="1381" y="2011"/>
                </a:lnTo>
                <a:lnTo>
                  <a:pt x="1394" y="2013"/>
                </a:lnTo>
                <a:lnTo>
                  <a:pt x="1407" y="2013"/>
                </a:lnTo>
                <a:lnTo>
                  <a:pt x="1420" y="2015"/>
                </a:lnTo>
                <a:lnTo>
                  <a:pt x="1433" y="2015"/>
                </a:lnTo>
                <a:lnTo>
                  <a:pt x="1445" y="2017"/>
                </a:lnTo>
                <a:lnTo>
                  <a:pt x="1458" y="2017"/>
                </a:lnTo>
                <a:lnTo>
                  <a:pt x="1469" y="2018"/>
                </a:lnTo>
                <a:lnTo>
                  <a:pt x="1480" y="2018"/>
                </a:lnTo>
                <a:lnTo>
                  <a:pt x="1489" y="2019"/>
                </a:lnTo>
                <a:lnTo>
                  <a:pt x="1500" y="2019"/>
                </a:lnTo>
                <a:lnTo>
                  <a:pt x="1512" y="2019"/>
                </a:lnTo>
                <a:lnTo>
                  <a:pt x="1526" y="2019"/>
                </a:lnTo>
                <a:lnTo>
                  <a:pt x="1538" y="2021"/>
                </a:lnTo>
                <a:lnTo>
                  <a:pt x="1551" y="2021"/>
                </a:lnTo>
                <a:lnTo>
                  <a:pt x="1564" y="2021"/>
                </a:lnTo>
                <a:lnTo>
                  <a:pt x="1578" y="2021"/>
                </a:lnTo>
                <a:lnTo>
                  <a:pt x="1591" y="2022"/>
                </a:lnTo>
                <a:lnTo>
                  <a:pt x="1604" y="2022"/>
                </a:lnTo>
                <a:lnTo>
                  <a:pt x="1616" y="2022"/>
                </a:lnTo>
                <a:lnTo>
                  <a:pt x="1629" y="2022"/>
                </a:lnTo>
                <a:lnTo>
                  <a:pt x="1640" y="2022"/>
                </a:lnTo>
                <a:lnTo>
                  <a:pt x="1651" y="2022"/>
                </a:lnTo>
                <a:lnTo>
                  <a:pt x="1660" y="2022"/>
                </a:lnTo>
                <a:lnTo>
                  <a:pt x="1670" y="2022"/>
                </a:lnTo>
                <a:lnTo>
                  <a:pt x="1676" y="2022"/>
                </a:lnTo>
                <a:lnTo>
                  <a:pt x="1682" y="2022"/>
                </a:lnTo>
                <a:lnTo>
                  <a:pt x="1685" y="2022"/>
                </a:lnTo>
                <a:lnTo>
                  <a:pt x="1689" y="2022"/>
                </a:lnTo>
                <a:lnTo>
                  <a:pt x="1691" y="2022"/>
                </a:lnTo>
                <a:lnTo>
                  <a:pt x="1693" y="2022"/>
                </a:lnTo>
                <a:lnTo>
                  <a:pt x="1695" y="2022"/>
                </a:lnTo>
                <a:lnTo>
                  <a:pt x="1696" y="2022"/>
                </a:lnTo>
                <a:lnTo>
                  <a:pt x="1698" y="2022"/>
                </a:lnTo>
                <a:lnTo>
                  <a:pt x="1702" y="2022"/>
                </a:lnTo>
                <a:lnTo>
                  <a:pt x="1706" y="2022"/>
                </a:lnTo>
                <a:lnTo>
                  <a:pt x="1712" y="2022"/>
                </a:lnTo>
                <a:lnTo>
                  <a:pt x="1719" y="2022"/>
                </a:lnTo>
                <a:lnTo>
                  <a:pt x="1729" y="2022"/>
                </a:lnTo>
                <a:lnTo>
                  <a:pt x="1741" y="2022"/>
                </a:lnTo>
                <a:lnTo>
                  <a:pt x="1756" y="2022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97400" y="2225520"/>
            <a:ext cx="1282680" cy="1455840"/>
          </a:xfrm>
          <a:custGeom>
            <a:avLst/>
            <a:gdLst/>
            <a:ahLst/>
            <a:rect l="l" t="t" r="r" b="b"/>
            <a:pathLst>
              <a:path w="808" h="917">
                <a:moveTo>
                  <a:pt x="0" y="0"/>
                </a:moveTo>
                <a:lnTo>
                  <a:pt x="0" y="8"/>
                </a:lnTo>
                <a:lnTo>
                  <a:pt x="0" y="14"/>
                </a:lnTo>
                <a:lnTo>
                  <a:pt x="0" y="19"/>
                </a:lnTo>
                <a:lnTo>
                  <a:pt x="1" y="23"/>
                </a:lnTo>
                <a:lnTo>
                  <a:pt x="1" y="27"/>
                </a:lnTo>
                <a:lnTo>
                  <a:pt x="1" y="29"/>
                </a:lnTo>
                <a:lnTo>
                  <a:pt x="1" y="31"/>
                </a:lnTo>
                <a:lnTo>
                  <a:pt x="3" y="31"/>
                </a:lnTo>
                <a:lnTo>
                  <a:pt x="3" y="32"/>
                </a:lnTo>
                <a:lnTo>
                  <a:pt x="3" y="32"/>
                </a:lnTo>
                <a:lnTo>
                  <a:pt x="3" y="34"/>
                </a:lnTo>
                <a:lnTo>
                  <a:pt x="3" y="34"/>
                </a:lnTo>
                <a:lnTo>
                  <a:pt x="3" y="36"/>
                </a:lnTo>
                <a:lnTo>
                  <a:pt x="3" y="38"/>
                </a:lnTo>
                <a:lnTo>
                  <a:pt x="3" y="41"/>
                </a:lnTo>
                <a:lnTo>
                  <a:pt x="4" y="44"/>
                </a:lnTo>
                <a:lnTo>
                  <a:pt x="4" y="49"/>
                </a:lnTo>
                <a:lnTo>
                  <a:pt x="5" y="55"/>
                </a:lnTo>
                <a:lnTo>
                  <a:pt x="5" y="62"/>
                </a:lnTo>
                <a:lnTo>
                  <a:pt x="7" y="69"/>
                </a:lnTo>
                <a:lnTo>
                  <a:pt x="9" y="79"/>
                </a:lnTo>
                <a:lnTo>
                  <a:pt x="11" y="88"/>
                </a:lnTo>
                <a:lnTo>
                  <a:pt x="13" y="99"/>
                </a:lnTo>
                <a:lnTo>
                  <a:pt x="15" y="109"/>
                </a:lnTo>
                <a:lnTo>
                  <a:pt x="17" y="122"/>
                </a:lnTo>
                <a:lnTo>
                  <a:pt x="19" y="133"/>
                </a:lnTo>
                <a:lnTo>
                  <a:pt x="21" y="146"/>
                </a:lnTo>
                <a:lnTo>
                  <a:pt x="24" y="157"/>
                </a:lnTo>
                <a:lnTo>
                  <a:pt x="25" y="169"/>
                </a:lnTo>
                <a:lnTo>
                  <a:pt x="28" y="180"/>
                </a:lnTo>
                <a:lnTo>
                  <a:pt x="30" y="192"/>
                </a:lnTo>
                <a:lnTo>
                  <a:pt x="34" y="202"/>
                </a:lnTo>
                <a:lnTo>
                  <a:pt x="35" y="214"/>
                </a:lnTo>
                <a:lnTo>
                  <a:pt x="39" y="225"/>
                </a:lnTo>
                <a:lnTo>
                  <a:pt x="41" y="238"/>
                </a:lnTo>
                <a:lnTo>
                  <a:pt x="44" y="250"/>
                </a:lnTo>
                <a:lnTo>
                  <a:pt x="47" y="263"/>
                </a:lnTo>
                <a:lnTo>
                  <a:pt x="51" y="275"/>
                </a:lnTo>
                <a:lnTo>
                  <a:pt x="54" y="288"/>
                </a:lnTo>
                <a:lnTo>
                  <a:pt x="58" y="300"/>
                </a:lnTo>
                <a:lnTo>
                  <a:pt x="60" y="312"/>
                </a:lnTo>
                <a:lnTo>
                  <a:pt x="64" y="323"/>
                </a:lnTo>
                <a:lnTo>
                  <a:pt x="67" y="334"/>
                </a:lnTo>
                <a:lnTo>
                  <a:pt x="71" y="344"/>
                </a:lnTo>
                <a:lnTo>
                  <a:pt x="73" y="354"/>
                </a:lnTo>
                <a:lnTo>
                  <a:pt x="77" y="362"/>
                </a:lnTo>
                <a:lnTo>
                  <a:pt x="79" y="370"/>
                </a:lnTo>
                <a:lnTo>
                  <a:pt x="83" y="375"/>
                </a:lnTo>
                <a:lnTo>
                  <a:pt x="85" y="382"/>
                </a:lnTo>
                <a:lnTo>
                  <a:pt x="87" y="388"/>
                </a:lnTo>
                <a:lnTo>
                  <a:pt x="90" y="396"/>
                </a:lnTo>
                <a:lnTo>
                  <a:pt x="93" y="403"/>
                </a:lnTo>
                <a:lnTo>
                  <a:pt x="97" y="412"/>
                </a:lnTo>
                <a:lnTo>
                  <a:pt x="101" y="421"/>
                </a:lnTo>
                <a:lnTo>
                  <a:pt x="104" y="430"/>
                </a:lnTo>
                <a:lnTo>
                  <a:pt x="108" y="438"/>
                </a:lnTo>
                <a:lnTo>
                  <a:pt x="112" y="448"/>
                </a:lnTo>
                <a:lnTo>
                  <a:pt x="115" y="458"/>
                </a:lnTo>
                <a:lnTo>
                  <a:pt x="119" y="467"/>
                </a:lnTo>
                <a:lnTo>
                  <a:pt x="123" y="476"/>
                </a:lnTo>
                <a:lnTo>
                  <a:pt x="127" y="485"/>
                </a:lnTo>
                <a:lnTo>
                  <a:pt x="130" y="493"/>
                </a:lnTo>
                <a:lnTo>
                  <a:pt x="134" y="501"/>
                </a:lnTo>
                <a:lnTo>
                  <a:pt x="138" y="508"/>
                </a:lnTo>
                <a:lnTo>
                  <a:pt x="140" y="517"/>
                </a:lnTo>
                <a:lnTo>
                  <a:pt x="143" y="524"/>
                </a:lnTo>
                <a:lnTo>
                  <a:pt x="147" y="534"/>
                </a:lnTo>
                <a:lnTo>
                  <a:pt x="151" y="541"/>
                </a:lnTo>
                <a:lnTo>
                  <a:pt x="155" y="550"/>
                </a:lnTo>
                <a:lnTo>
                  <a:pt x="159" y="559"/>
                </a:lnTo>
                <a:lnTo>
                  <a:pt x="162" y="568"/>
                </a:lnTo>
                <a:lnTo>
                  <a:pt x="167" y="576"/>
                </a:lnTo>
                <a:lnTo>
                  <a:pt x="170" y="585"/>
                </a:lnTo>
                <a:lnTo>
                  <a:pt x="173" y="594"/>
                </a:lnTo>
                <a:lnTo>
                  <a:pt x="177" y="602"/>
                </a:lnTo>
                <a:lnTo>
                  <a:pt x="181" y="609"/>
                </a:lnTo>
                <a:lnTo>
                  <a:pt x="183" y="616"/>
                </a:lnTo>
                <a:lnTo>
                  <a:pt x="187" y="623"/>
                </a:lnTo>
                <a:lnTo>
                  <a:pt x="190" y="628"/>
                </a:lnTo>
                <a:lnTo>
                  <a:pt x="193" y="632"/>
                </a:lnTo>
                <a:lnTo>
                  <a:pt x="195" y="638"/>
                </a:lnTo>
                <a:lnTo>
                  <a:pt x="198" y="643"/>
                </a:lnTo>
                <a:lnTo>
                  <a:pt x="200" y="649"/>
                </a:lnTo>
                <a:lnTo>
                  <a:pt x="204" y="655"/>
                </a:lnTo>
                <a:lnTo>
                  <a:pt x="208" y="662"/>
                </a:lnTo>
                <a:lnTo>
                  <a:pt x="211" y="668"/>
                </a:lnTo>
                <a:lnTo>
                  <a:pt x="215" y="674"/>
                </a:lnTo>
                <a:lnTo>
                  <a:pt x="220" y="680"/>
                </a:lnTo>
                <a:lnTo>
                  <a:pt x="224" y="688"/>
                </a:lnTo>
                <a:lnTo>
                  <a:pt x="228" y="694"/>
                </a:lnTo>
                <a:lnTo>
                  <a:pt x="232" y="702"/>
                </a:lnTo>
                <a:lnTo>
                  <a:pt x="238" y="707"/>
                </a:lnTo>
                <a:lnTo>
                  <a:pt x="241" y="713"/>
                </a:lnTo>
                <a:lnTo>
                  <a:pt x="247" y="719"/>
                </a:lnTo>
                <a:lnTo>
                  <a:pt x="250" y="724"/>
                </a:lnTo>
                <a:lnTo>
                  <a:pt x="255" y="729"/>
                </a:lnTo>
                <a:lnTo>
                  <a:pt x="258" y="734"/>
                </a:lnTo>
                <a:lnTo>
                  <a:pt x="262" y="740"/>
                </a:lnTo>
                <a:lnTo>
                  <a:pt x="267" y="745"/>
                </a:lnTo>
                <a:lnTo>
                  <a:pt x="272" y="750"/>
                </a:lnTo>
                <a:lnTo>
                  <a:pt x="277" y="755"/>
                </a:lnTo>
                <a:lnTo>
                  <a:pt x="283" y="761"/>
                </a:lnTo>
                <a:lnTo>
                  <a:pt x="288" y="766"/>
                </a:lnTo>
                <a:lnTo>
                  <a:pt x="294" y="772"/>
                </a:lnTo>
                <a:lnTo>
                  <a:pt x="299" y="778"/>
                </a:lnTo>
                <a:lnTo>
                  <a:pt x="305" y="783"/>
                </a:lnTo>
                <a:lnTo>
                  <a:pt x="310" y="789"/>
                </a:lnTo>
                <a:lnTo>
                  <a:pt x="316" y="792"/>
                </a:lnTo>
                <a:lnTo>
                  <a:pt x="319" y="797"/>
                </a:lnTo>
                <a:lnTo>
                  <a:pt x="325" y="801"/>
                </a:lnTo>
                <a:lnTo>
                  <a:pt x="329" y="804"/>
                </a:lnTo>
                <a:lnTo>
                  <a:pt x="334" y="807"/>
                </a:lnTo>
                <a:lnTo>
                  <a:pt x="337" y="811"/>
                </a:lnTo>
                <a:lnTo>
                  <a:pt x="341" y="814"/>
                </a:lnTo>
                <a:lnTo>
                  <a:pt x="345" y="818"/>
                </a:lnTo>
                <a:lnTo>
                  <a:pt x="349" y="819"/>
                </a:lnTo>
                <a:lnTo>
                  <a:pt x="353" y="823"/>
                </a:lnTo>
                <a:lnTo>
                  <a:pt x="356" y="825"/>
                </a:lnTo>
                <a:lnTo>
                  <a:pt x="360" y="829"/>
                </a:lnTo>
                <a:lnTo>
                  <a:pt x="365" y="830"/>
                </a:lnTo>
                <a:lnTo>
                  <a:pt x="367" y="834"/>
                </a:lnTo>
                <a:lnTo>
                  <a:pt x="371" y="836"/>
                </a:lnTo>
                <a:lnTo>
                  <a:pt x="374" y="839"/>
                </a:lnTo>
                <a:lnTo>
                  <a:pt x="378" y="840"/>
                </a:lnTo>
                <a:lnTo>
                  <a:pt x="380" y="842"/>
                </a:lnTo>
                <a:lnTo>
                  <a:pt x="383" y="844"/>
                </a:lnTo>
                <a:lnTo>
                  <a:pt x="385" y="846"/>
                </a:lnTo>
                <a:lnTo>
                  <a:pt x="387" y="846"/>
                </a:lnTo>
                <a:lnTo>
                  <a:pt x="388" y="848"/>
                </a:lnTo>
                <a:lnTo>
                  <a:pt x="390" y="849"/>
                </a:lnTo>
                <a:lnTo>
                  <a:pt x="392" y="850"/>
                </a:lnTo>
                <a:lnTo>
                  <a:pt x="394" y="850"/>
                </a:lnTo>
                <a:lnTo>
                  <a:pt x="396" y="852"/>
                </a:lnTo>
                <a:lnTo>
                  <a:pt x="399" y="854"/>
                </a:lnTo>
                <a:lnTo>
                  <a:pt x="402" y="856"/>
                </a:lnTo>
                <a:lnTo>
                  <a:pt x="405" y="856"/>
                </a:lnTo>
                <a:lnTo>
                  <a:pt x="407" y="858"/>
                </a:lnTo>
                <a:lnTo>
                  <a:pt x="411" y="860"/>
                </a:lnTo>
                <a:lnTo>
                  <a:pt x="414" y="862"/>
                </a:lnTo>
                <a:lnTo>
                  <a:pt x="418" y="862"/>
                </a:lnTo>
                <a:lnTo>
                  <a:pt x="420" y="864"/>
                </a:lnTo>
                <a:lnTo>
                  <a:pt x="424" y="866"/>
                </a:lnTo>
                <a:lnTo>
                  <a:pt x="427" y="867"/>
                </a:lnTo>
                <a:lnTo>
                  <a:pt x="431" y="867"/>
                </a:lnTo>
                <a:lnTo>
                  <a:pt x="433" y="869"/>
                </a:lnTo>
                <a:lnTo>
                  <a:pt x="437" y="871"/>
                </a:lnTo>
                <a:lnTo>
                  <a:pt x="441" y="873"/>
                </a:lnTo>
                <a:lnTo>
                  <a:pt x="445" y="874"/>
                </a:lnTo>
                <a:lnTo>
                  <a:pt x="449" y="876"/>
                </a:lnTo>
                <a:lnTo>
                  <a:pt x="454" y="877"/>
                </a:lnTo>
                <a:lnTo>
                  <a:pt x="459" y="879"/>
                </a:lnTo>
                <a:lnTo>
                  <a:pt x="465" y="879"/>
                </a:lnTo>
                <a:lnTo>
                  <a:pt x="469" y="881"/>
                </a:lnTo>
                <a:lnTo>
                  <a:pt x="475" y="883"/>
                </a:lnTo>
                <a:lnTo>
                  <a:pt x="481" y="885"/>
                </a:lnTo>
                <a:lnTo>
                  <a:pt x="486" y="886"/>
                </a:lnTo>
                <a:lnTo>
                  <a:pt x="491" y="887"/>
                </a:lnTo>
                <a:lnTo>
                  <a:pt x="496" y="888"/>
                </a:lnTo>
                <a:lnTo>
                  <a:pt x="501" y="890"/>
                </a:lnTo>
                <a:lnTo>
                  <a:pt x="507" y="890"/>
                </a:lnTo>
                <a:lnTo>
                  <a:pt x="510" y="892"/>
                </a:lnTo>
                <a:lnTo>
                  <a:pt x="515" y="894"/>
                </a:lnTo>
                <a:lnTo>
                  <a:pt x="521" y="896"/>
                </a:lnTo>
                <a:lnTo>
                  <a:pt x="527" y="896"/>
                </a:lnTo>
                <a:lnTo>
                  <a:pt x="532" y="897"/>
                </a:lnTo>
                <a:lnTo>
                  <a:pt x="538" y="898"/>
                </a:lnTo>
                <a:lnTo>
                  <a:pt x="543" y="900"/>
                </a:lnTo>
                <a:lnTo>
                  <a:pt x="550" y="900"/>
                </a:lnTo>
                <a:lnTo>
                  <a:pt x="556" y="902"/>
                </a:lnTo>
                <a:lnTo>
                  <a:pt x="561" y="902"/>
                </a:lnTo>
                <a:lnTo>
                  <a:pt x="567" y="904"/>
                </a:lnTo>
                <a:lnTo>
                  <a:pt x="573" y="904"/>
                </a:lnTo>
                <a:lnTo>
                  <a:pt x="577" y="906"/>
                </a:lnTo>
                <a:lnTo>
                  <a:pt x="583" y="906"/>
                </a:lnTo>
                <a:lnTo>
                  <a:pt x="587" y="907"/>
                </a:lnTo>
                <a:lnTo>
                  <a:pt x="592" y="907"/>
                </a:lnTo>
                <a:lnTo>
                  <a:pt x="596" y="908"/>
                </a:lnTo>
                <a:lnTo>
                  <a:pt x="600" y="908"/>
                </a:lnTo>
                <a:lnTo>
                  <a:pt x="605" y="908"/>
                </a:lnTo>
                <a:lnTo>
                  <a:pt x="610" y="908"/>
                </a:lnTo>
                <a:lnTo>
                  <a:pt x="616" y="910"/>
                </a:lnTo>
                <a:lnTo>
                  <a:pt x="621" y="910"/>
                </a:lnTo>
                <a:lnTo>
                  <a:pt x="627" y="910"/>
                </a:lnTo>
                <a:lnTo>
                  <a:pt x="634" y="910"/>
                </a:lnTo>
                <a:lnTo>
                  <a:pt x="639" y="912"/>
                </a:lnTo>
                <a:lnTo>
                  <a:pt x="645" y="912"/>
                </a:lnTo>
                <a:lnTo>
                  <a:pt x="651" y="912"/>
                </a:lnTo>
                <a:lnTo>
                  <a:pt x="658" y="912"/>
                </a:lnTo>
                <a:lnTo>
                  <a:pt x="663" y="914"/>
                </a:lnTo>
                <a:lnTo>
                  <a:pt x="669" y="914"/>
                </a:lnTo>
                <a:lnTo>
                  <a:pt x="674" y="914"/>
                </a:lnTo>
                <a:lnTo>
                  <a:pt x="679" y="914"/>
                </a:lnTo>
                <a:lnTo>
                  <a:pt x="683" y="915"/>
                </a:lnTo>
                <a:lnTo>
                  <a:pt x="688" y="915"/>
                </a:lnTo>
                <a:lnTo>
                  <a:pt x="694" y="915"/>
                </a:lnTo>
                <a:lnTo>
                  <a:pt x="699" y="915"/>
                </a:lnTo>
                <a:lnTo>
                  <a:pt x="705" y="915"/>
                </a:lnTo>
                <a:lnTo>
                  <a:pt x="711" y="915"/>
                </a:lnTo>
                <a:lnTo>
                  <a:pt x="717" y="915"/>
                </a:lnTo>
                <a:lnTo>
                  <a:pt x="725" y="915"/>
                </a:lnTo>
                <a:lnTo>
                  <a:pt x="730" y="916"/>
                </a:lnTo>
                <a:lnTo>
                  <a:pt x="736" y="916"/>
                </a:lnTo>
                <a:lnTo>
                  <a:pt x="741" y="916"/>
                </a:lnTo>
                <a:lnTo>
                  <a:pt x="748" y="916"/>
                </a:lnTo>
                <a:lnTo>
                  <a:pt x="753" y="916"/>
                </a:lnTo>
                <a:lnTo>
                  <a:pt x="758" y="916"/>
                </a:lnTo>
                <a:lnTo>
                  <a:pt x="763" y="916"/>
                </a:lnTo>
                <a:lnTo>
                  <a:pt x="767" y="916"/>
                </a:lnTo>
                <a:lnTo>
                  <a:pt x="769" y="916"/>
                </a:lnTo>
                <a:lnTo>
                  <a:pt x="773" y="916"/>
                </a:lnTo>
                <a:lnTo>
                  <a:pt x="774" y="916"/>
                </a:lnTo>
                <a:lnTo>
                  <a:pt x="775" y="916"/>
                </a:lnTo>
                <a:lnTo>
                  <a:pt x="775" y="916"/>
                </a:lnTo>
                <a:lnTo>
                  <a:pt x="777" y="916"/>
                </a:lnTo>
                <a:lnTo>
                  <a:pt x="777" y="916"/>
                </a:lnTo>
                <a:lnTo>
                  <a:pt x="779" y="916"/>
                </a:lnTo>
                <a:lnTo>
                  <a:pt x="779" y="916"/>
                </a:lnTo>
                <a:lnTo>
                  <a:pt x="781" y="916"/>
                </a:lnTo>
                <a:lnTo>
                  <a:pt x="783" y="916"/>
                </a:lnTo>
                <a:lnTo>
                  <a:pt x="786" y="916"/>
                </a:lnTo>
                <a:lnTo>
                  <a:pt x="789" y="916"/>
                </a:lnTo>
                <a:lnTo>
                  <a:pt x="794" y="916"/>
                </a:lnTo>
                <a:lnTo>
                  <a:pt x="799" y="916"/>
                </a:lnTo>
                <a:lnTo>
                  <a:pt x="807" y="916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65360" y="3629160"/>
            <a:ext cx="2554200" cy="2928960"/>
          </a:xfrm>
          <a:custGeom>
            <a:avLst/>
            <a:gdLst/>
            <a:ahLst/>
            <a:rect l="l" t="t" r="r" b="b"/>
            <a:pathLst>
              <a:path w="1609" h="1845">
                <a:moveTo>
                  <a:pt x="1608" y="1844"/>
                </a:moveTo>
                <a:lnTo>
                  <a:pt x="1606" y="1830"/>
                </a:lnTo>
                <a:lnTo>
                  <a:pt x="1604" y="1817"/>
                </a:lnTo>
                <a:lnTo>
                  <a:pt x="1602" y="1808"/>
                </a:lnTo>
                <a:lnTo>
                  <a:pt x="1602" y="1800"/>
                </a:lnTo>
                <a:lnTo>
                  <a:pt x="1601" y="1795"/>
                </a:lnTo>
                <a:lnTo>
                  <a:pt x="1601" y="1790"/>
                </a:lnTo>
                <a:lnTo>
                  <a:pt x="1601" y="1787"/>
                </a:lnTo>
                <a:lnTo>
                  <a:pt x="1601" y="1784"/>
                </a:lnTo>
                <a:lnTo>
                  <a:pt x="1600" y="1782"/>
                </a:lnTo>
                <a:lnTo>
                  <a:pt x="1600" y="1780"/>
                </a:lnTo>
                <a:lnTo>
                  <a:pt x="1600" y="1779"/>
                </a:lnTo>
                <a:lnTo>
                  <a:pt x="1600" y="1776"/>
                </a:lnTo>
                <a:lnTo>
                  <a:pt x="1599" y="1774"/>
                </a:lnTo>
                <a:lnTo>
                  <a:pt x="1599" y="1769"/>
                </a:lnTo>
                <a:lnTo>
                  <a:pt x="1598" y="1764"/>
                </a:lnTo>
                <a:lnTo>
                  <a:pt x="1598" y="1756"/>
                </a:lnTo>
                <a:lnTo>
                  <a:pt x="1596" y="1748"/>
                </a:lnTo>
                <a:lnTo>
                  <a:pt x="1594" y="1735"/>
                </a:lnTo>
                <a:lnTo>
                  <a:pt x="1592" y="1721"/>
                </a:lnTo>
                <a:lnTo>
                  <a:pt x="1590" y="1704"/>
                </a:lnTo>
                <a:lnTo>
                  <a:pt x="1586" y="1687"/>
                </a:lnTo>
                <a:lnTo>
                  <a:pt x="1583" y="1667"/>
                </a:lnTo>
                <a:lnTo>
                  <a:pt x="1579" y="1646"/>
                </a:lnTo>
                <a:lnTo>
                  <a:pt x="1576" y="1623"/>
                </a:lnTo>
                <a:lnTo>
                  <a:pt x="1570" y="1601"/>
                </a:lnTo>
                <a:lnTo>
                  <a:pt x="1566" y="1578"/>
                </a:lnTo>
                <a:lnTo>
                  <a:pt x="1560" y="1554"/>
                </a:lnTo>
                <a:lnTo>
                  <a:pt x="1557" y="1530"/>
                </a:lnTo>
                <a:lnTo>
                  <a:pt x="1551" y="1507"/>
                </a:lnTo>
                <a:lnTo>
                  <a:pt x="1548" y="1483"/>
                </a:lnTo>
                <a:lnTo>
                  <a:pt x="1542" y="1460"/>
                </a:lnTo>
                <a:lnTo>
                  <a:pt x="1538" y="1437"/>
                </a:lnTo>
                <a:lnTo>
                  <a:pt x="1532" y="1415"/>
                </a:lnTo>
                <a:lnTo>
                  <a:pt x="1527" y="1392"/>
                </a:lnTo>
                <a:lnTo>
                  <a:pt x="1521" y="1368"/>
                </a:lnTo>
                <a:lnTo>
                  <a:pt x="1515" y="1342"/>
                </a:lnTo>
                <a:lnTo>
                  <a:pt x="1508" y="1318"/>
                </a:lnTo>
                <a:lnTo>
                  <a:pt x="1502" y="1291"/>
                </a:lnTo>
                <a:lnTo>
                  <a:pt x="1495" y="1267"/>
                </a:lnTo>
                <a:lnTo>
                  <a:pt x="1490" y="1241"/>
                </a:lnTo>
                <a:lnTo>
                  <a:pt x="1482" y="1218"/>
                </a:lnTo>
                <a:lnTo>
                  <a:pt x="1476" y="1194"/>
                </a:lnTo>
                <a:lnTo>
                  <a:pt x="1469" y="1173"/>
                </a:lnTo>
                <a:lnTo>
                  <a:pt x="1463" y="1152"/>
                </a:lnTo>
                <a:lnTo>
                  <a:pt x="1457" y="1134"/>
                </a:lnTo>
                <a:lnTo>
                  <a:pt x="1451" y="1116"/>
                </a:lnTo>
                <a:lnTo>
                  <a:pt x="1446" y="1101"/>
                </a:lnTo>
                <a:lnTo>
                  <a:pt x="1442" y="1088"/>
                </a:lnTo>
                <a:lnTo>
                  <a:pt x="1436" y="1077"/>
                </a:lnTo>
                <a:lnTo>
                  <a:pt x="1432" y="1064"/>
                </a:lnTo>
                <a:lnTo>
                  <a:pt x="1424" y="1049"/>
                </a:lnTo>
                <a:lnTo>
                  <a:pt x="1419" y="1033"/>
                </a:lnTo>
                <a:lnTo>
                  <a:pt x="1412" y="1017"/>
                </a:lnTo>
                <a:lnTo>
                  <a:pt x="1404" y="999"/>
                </a:lnTo>
                <a:lnTo>
                  <a:pt x="1397" y="980"/>
                </a:lnTo>
                <a:lnTo>
                  <a:pt x="1390" y="961"/>
                </a:lnTo>
                <a:lnTo>
                  <a:pt x="1381" y="942"/>
                </a:lnTo>
                <a:lnTo>
                  <a:pt x="1373" y="924"/>
                </a:lnTo>
                <a:lnTo>
                  <a:pt x="1366" y="905"/>
                </a:lnTo>
                <a:lnTo>
                  <a:pt x="1358" y="886"/>
                </a:lnTo>
                <a:lnTo>
                  <a:pt x="1351" y="870"/>
                </a:lnTo>
                <a:lnTo>
                  <a:pt x="1344" y="851"/>
                </a:lnTo>
                <a:lnTo>
                  <a:pt x="1336" y="836"/>
                </a:lnTo>
                <a:lnTo>
                  <a:pt x="1331" y="820"/>
                </a:lnTo>
                <a:lnTo>
                  <a:pt x="1324" y="805"/>
                </a:lnTo>
                <a:lnTo>
                  <a:pt x="1317" y="790"/>
                </a:lnTo>
                <a:lnTo>
                  <a:pt x="1310" y="773"/>
                </a:lnTo>
                <a:lnTo>
                  <a:pt x="1303" y="756"/>
                </a:lnTo>
                <a:lnTo>
                  <a:pt x="1295" y="739"/>
                </a:lnTo>
                <a:lnTo>
                  <a:pt x="1287" y="721"/>
                </a:lnTo>
                <a:lnTo>
                  <a:pt x="1280" y="704"/>
                </a:lnTo>
                <a:lnTo>
                  <a:pt x="1272" y="685"/>
                </a:lnTo>
                <a:lnTo>
                  <a:pt x="1264" y="668"/>
                </a:lnTo>
                <a:lnTo>
                  <a:pt x="1257" y="652"/>
                </a:lnTo>
                <a:lnTo>
                  <a:pt x="1249" y="636"/>
                </a:lnTo>
                <a:lnTo>
                  <a:pt x="1243" y="620"/>
                </a:lnTo>
                <a:lnTo>
                  <a:pt x="1236" y="606"/>
                </a:lnTo>
                <a:lnTo>
                  <a:pt x="1230" y="592"/>
                </a:lnTo>
                <a:lnTo>
                  <a:pt x="1226" y="580"/>
                </a:lnTo>
                <a:lnTo>
                  <a:pt x="1222" y="570"/>
                </a:lnTo>
                <a:lnTo>
                  <a:pt x="1216" y="561"/>
                </a:lnTo>
                <a:lnTo>
                  <a:pt x="1210" y="551"/>
                </a:lnTo>
                <a:lnTo>
                  <a:pt x="1204" y="539"/>
                </a:lnTo>
                <a:lnTo>
                  <a:pt x="1198" y="526"/>
                </a:lnTo>
                <a:lnTo>
                  <a:pt x="1189" y="514"/>
                </a:lnTo>
                <a:lnTo>
                  <a:pt x="1182" y="501"/>
                </a:lnTo>
                <a:lnTo>
                  <a:pt x="1173" y="488"/>
                </a:lnTo>
                <a:lnTo>
                  <a:pt x="1166" y="473"/>
                </a:lnTo>
                <a:lnTo>
                  <a:pt x="1156" y="460"/>
                </a:lnTo>
                <a:lnTo>
                  <a:pt x="1147" y="447"/>
                </a:lnTo>
                <a:lnTo>
                  <a:pt x="1138" y="434"/>
                </a:lnTo>
                <a:lnTo>
                  <a:pt x="1130" y="420"/>
                </a:lnTo>
                <a:lnTo>
                  <a:pt x="1121" y="409"/>
                </a:lnTo>
                <a:lnTo>
                  <a:pt x="1112" y="396"/>
                </a:lnTo>
                <a:lnTo>
                  <a:pt x="1104" y="386"/>
                </a:lnTo>
                <a:lnTo>
                  <a:pt x="1097" y="375"/>
                </a:lnTo>
                <a:lnTo>
                  <a:pt x="1088" y="366"/>
                </a:lnTo>
                <a:lnTo>
                  <a:pt x="1080" y="356"/>
                </a:lnTo>
                <a:lnTo>
                  <a:pt x="1071" y="346"/>
                </a:lnTo>
                <a:lnTo>
                  <a:pt x="1061" y="335"/>
                </a:lnTo>
                <a:lnTo>
                  <a:pt x="1050" y="324"/>
                </a:lnTo>
                <a:lnTo>
                  <a:pt x="1040" y="313"/>
                </a:lnTo>
                <a:lnTo>
                  <a:pt x="1029" y="302"/>
                </a:lnTo>
                <a:lnTo>
                  <a:pt x="1020" y="290"/>
                </a:lnTo>
                <a:lnTo>
                  <a:pt x="1008" y="280"/>
                </a:lnTo>
                <a:lnTo>
                  <a:pt x="997" y="269"/>
                </a:lnTo>
                <a:lnTo>
                  <a:pt x="986" y="259"/>
                </a:lnTo>
                <a:lnTo>
                  <a:pt x="976" y="248"/>
                </a:lnTo>
                <a:lnTo>
                  <a:pt x="966" y="240"/>
                </a:lnTo>
                <a:lnTo>
                  <a:pt x="957" y="232"/>
                </a:lnTo>
                <a:lnTo>
                  <a:pt x="948" y="225"/>
                </a:lnTo>
                <a:lnTo>
                  <a:pt x="941" y="218"/>
                </a:lnTo>
                <a:lnTo>
                  <a:pt x="932" y="213"/>
                </a:lnTo>
                <a:lnTo>
                  <a:pt x="925" y="208"/>
                </a:lnTo>
                <a:lnTo>
                  <a:pt x="917" y="202"/>
                </a:lnTo>
                <a:lnTo>
                  <a:pt x="910" y="195"/>
                </a:lnTo>
                <a:lnTo>
                  <a:pt x="902" y="189"/>
                </a:lnTo>
                <a:lnTo>
                  <a:pt x="894" y="184"/>
                </a:lnTo>
                <a:lnTo>
                  <a:pt x="887" y="178"/>
                </a:lnTo>
                <a:lnTo>
                  <a:pt x="879" y="171"/>
                </a:lnTo>
                <a:lnTo>
                  <a:pt x="872" y="167"/>
                </a:lnTo>
                <a:lnTo>
                  <a:pt x="864" y="161"/>
                </a:lnTo>
                <a:lnTo>
                  <a:pt x="858" y="157"/>
                </a:lnTo>
                <a:lnTo>
                  <a:pt x="852" y="151"/>
                </a:lnTo>
                <a:lnTo>
                  <a:pt x="847" y="148"/>
                </a:lnTo>
                <a:lnTo>
                  <a:pt x="842" y="144"/>
                </a:lnTo>
                <a:lnTo>
                  <a:pt x="838" y="141"/>
                </a:lnTo>
                <a:lnTo>
                  <a:pt x="836" y="138"/>
                </a:lnTo>
                <a:lnTo>
                  <a:pt x="832" y="137"/>
                </a:lnTo>
                <a:lnTo>
                  <a:pt x="829" y="135"/>
                </a:lnTo>
                <a:lnTo>
                  <a:pt x="824" y="133"/>
                </a:lnTo>
                <a:lnTo>
                  <a:pt x="820" y="130"/>
                </a:lnTo>
                <a:lnTo>
                  <a:pt x="814" y="128"/>
                </a:lnTo>
                <a:lnTo>
                  <a:pt x="809" y="124"/>
                </a:lnTo>
                <a:lnTo>
                  <a:pt x="804" y="122"/>
                </a:lnTo>
                <a:lnTo>
                  <a:pt x="798" y="119"/>
                </a:lnTo>
                <a:lnTo>
                  <a:pt x="790" y="117"/>
                </a:lnTo>
                <a:lnTo>
                  <a:pt x="785" y="113"/>
                </a:lnTo>
                <a:lnTo>
                  <a:pt x="778" y="111"/>
                </a:lnTo>
                <a:lnTo>
                  <a:pt x="772" y="108"/>
                </a:lnTo>
                <a:lnTo>
                  <a:pt x="765" y="106"/>
                </a:lnTo>
                <a:lnTo>
                  <a:pt x="759" y="102"/>
                </a:lnTo>
                <a:lnTo>
                  <a:pt x="753" y="100"/>
                </a:lnTo>
                <a:lnTo>
                  <a:pt x="748" y="96"/>
                </a:lnTo>
                <a:lnTo>
                  <a:pt x="741" y="94"/>
                </a:lnTo>
                <a:lnTo>
                  <a:pt x="734" y="92"/>
                </a:lnTo>
                <a:lnTo>
                  <a:pt x="726" y="90"/>
                </a:lnTo>
                <a:lnTo>
                  <a:pt x="718" y="86"/>
                </a:lnTo>
                <a:lnTo>
                  <a:pt x="708" y="84"/>
                </a:lnTo>
                <a:lnTo>
                  <a:pt x="699" y="81"/>
                </a:lnTo>
                <a:lnTo>
                  <a:pt x="688" y="77"/>
                </a:lnTo>
                <a:lnTo>
                  <a:pt x="678" y="73"/>
                </a:lnTo>
                <a:lnTo>
                  <a:pt x="667" y="71"/>
                </a:lnTo>
                <a:lnTo>
                  <a:pt x="656" y="68"/>
                </a:lnTo>
                <a:lnTo>
                  <a:pt x="644" y="64"/>
                </a:lnTo>
                <a:lnTo>
                  <a:pt x="634" y="61"/>
                </a:lnTo>
                <a:lnTo>
                  <a:pt x="623" y="59"/>
                </a:lnTo>
                <a:lnTo>
                  <a:pt x="614" y="55"/>
                </a:lnTo>
                <a:lnTo>
                  <a:pt x="605" y="53"/>
                </a:lnTo>
                <a:lnTo>
                  <a:pt x="596" y="50"/>
                </a:lnTo>
                <a:lnTo>
                  <a:pt x="586" y="48"/>
                </a:lnTo>
                <a:lnTo>
                  <a:pt x="577" y="46"/>
                </a:lnTo>
                <a:lnTo>
                  <a:pt x="566" y="44"/>
                </a:lnTo>
                <a:lnTo>
                  <a:pt x="556" y="41"/>
                </a:lnTo>
                <a:lnTo>
                  <a:pt x="544" y="39"/>
                </a:lnTo>
                <a:lnTo>
                  <a:pt x="532" y="37"/>
                </a:lnTo>
                <a:lnTo>
                  <a:pt x="520" y="35"/>
                </a:lnTo>
                <a:lnTo>
                  <a:pt x="508" y="32"/>
                </a:lnTo>
                <a:lnTo>
                  <a:pt x="496" y="30"/>
                </a:lnTo>
                <a:lnTo>
                  <a:pt x="484" y="28"/>
                </a:lnTo>
                <a:lnTo>
                  <a:pt x="473" y="26"/>
                </a:lnTo>
                <a:lnTo>
                  <a:pt x="462" y="23"/>
                </a:lnTo>
                <a:lnTo>
                  <a:pt x="451" y="23"/>
                </a:lnTo>
                <a:lnTo>
                  <a:pt x="442" y="21"/>
                </a:lnTo>
                <a:lnTo>
                  <a:pt x="433" y="20"/>
                </a:lnTo>
                <a:lnTo>
                  <a:pt x="426" y="18"/>
                </a:lnTo>
                <a:lnTo>
                  <a:pt x="417" y="18"/>
                </a:lnTo>
                <a:lnTo>
                  <a:pt x="409" y="16"/>
                </a:lnTo>
                <a:lnTo>
                  <a:pt x="398" y="16"/>
                </a:lnTo>
                <a:lnTo>
                  <a:pt x="389" y="14"/>
                </a:lnTo>
                <a:lnTo>
                  <a:pt x="377" y="14"/>
                </a:lnTo>
                <a:lnTo>
                  <a:pt x="366" y="12"/>
                </a:lnTo>
                <a:lnTo>
                  <a:pt x="353" y="12"/>
                </a:lnTo>
                <a:lnTo>
                  <a:pt x="342" y="10"/>
                </a:lnTo>
                <a:lnTo>
                  <a:pt x="329" y="10"/>
                </a:lnTo>
                <a:lnTo>
                  <a:pt x="317" y="9"/>
                </a:lnTo>
                <a:lnTo>
                  <a:pt x="304" y="9"/>
                </a:lnTo>
                <a:lnTo>
                  <a:pt x="293" y="7"/>
                </a:lnTo>
                <a:lnTo>
                  <a:pt x="281" y="7"/>
                </a:lnTo>
                <a:lnTo>
                  <a:pt x="270" y="6"/>
                </a:lnTo>
                <a:lnTo>
                  <a:pt x="260" y="6"/>
                </a:lnTo>
                <a:lnTo>
                  <a:pt x="251" y="4"/>
                </a:lnTo>
                <a:lnTo>
                  <a:pt x="240" y="4"/>
                </a:lnTo>
                <a:lnTo>
                  <a:pt x="231" y="4"/>
                </a:lnTo>
                <a:lnTo>
                  <a:pt x="220" y="4"/>
                </a:lnTo>
                <a:lnTo>
                  <a:pt x="209" y="3"/>
                </a:lnTo>
                <a:lnTo>
                  <a:pt x="196" y="3"/>
                </a:lnTo>
                <a:lnTo>
                  <a:pt x="185" y="3"/>
                </a:lnTo>
                <a:lnTo>
                  <a:pt x="173" y="3"/>
                </a:lnTo>
                <a:lnTo>
                  <a:pt x="162" y="2"/>
                </a:lnTo>
                <a:lnTo>
                  <a:pt x="148" y="2"/>
                </a:lnTo>
                <a:lnTo>
                  <a:pt x="137" y="2"/>
                </a:lnTo>
                <a:lnTo>
                  <a:pt x="125" y="2"/>
                </a:lnTo>
                <a:lnTo>
                  <a:pt x="114" y="1"/>
                </a:lnTo>
                <a:lnTo>
                  <a:pt x="103" y="1"/>
                </a:lnTo>
                <a:lnTo>
                  <a:pt x="94" y="1"/>
                </a:lnTo>
                <a:lnTo>
                  <a:pt x="84" y="1"/>
                </a:lnTo>
                <a:lnTo>
                  <a:pt x="77" y="0"/>
                </a:lnTo>
                <a:lnTo>
                  <a:pt x="70" y="0"/>
                </a:lnTo>
                <a:lnTo>
                  <a:pt x="65" y="0"/>
                </a:lnTo>
                <a:lnTo>
                  <a:pt x="61" y="0"/>
                </a:lnTo>
                <a:lnTo>
                  <a:pt x="59" y="0"/>
                </a:lnTo>
                <a:lnTo>
                  <a:pt x="57" y="0"/>
                </a:lnTo>
                <a:lnTo>
                  <a:pt x="56" y="0"/>
                </a:lnTo>
                <a:lnTo>
                  <a:pt x="54" y="0"/>
                </a:lnTo>
                <a:lnTo>
                  <a:pt x="53" y="0"/>
                </a:lnTo>
                <a:lnTo>
                  <a:pt x="50" y="0"/>
                </a:lnTo>
                <a:lnTo>
                  <a:pt x="47" y="0"/>
                </a:lnTo>
                <a:lnTo>
                  <a:pt x="43" y="0"/>
                </a:lnTo>
                <a:lnTo>
                  <a:pt x="39" y="0"/>
                </a:lnTo>
                <a:lnTo>
                  <a:pt x="31" y="0"/>
                </a:lnTo>
                <a:lnTo>
                  <a:pt x="23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23960" y="4114800"/>
            <a:ext cx="2230560" cy="2567160"/>
          </a:xfrm>
          <a:custGeom>
            <a:avLst/>
            <a:gdLst/>
            <a:ahLst/>
            <a:rect l="l" t="t" r="r" b="b"/>
            <a:pathLst>
              <a:path w="1405" h="1617">
                <a:moveTo>
                  <a:pt x="1404" y="1616"/>
                </a:moveTo>
                <a:lnTo>
                  <a:pt x="1402" y="1604"/>
                </a:lnTo>
                <a:lnTo>
                  <a:pt x="1401" y="1593"/>
                </a:lnTo>
                <a:lnTo>
                  <a:pt x="1399" y="1584"/>
                </a:lnTo>
                <a:lnTo>
                  <a:pt x="1399" y="1578"/>
                </a:lnTo>
                <a:lnTo>
                  <a:pt x="1398" y="1573"/>
                </a:lnTo>
                <a:lnTo>
                  <a:pt x="1398" y="1569"/>
                </a:lnTo>
                <a:lnTo>
                  <a:pt x="1398" y="1566"/>
                </a:lnTo>
                <a:lnTo>
                  <a:pt x="1398" y="1563"/>
                </a:lnTo>
                <a:lnTo>
                  <a:pt x="1397" y="1562"/>
                </a:lnTo>
                <a:lnTo>
                  <a:pt x="1397" y="1561"/>
                </a:lnTo>
                <a:lnTo>
                  <a:pt x="1397" y="1559"/>
                </a:lnTo>
                <a:lnTo>
                  <a:pt x="1397" y="1556"/>
                </a:lnTo>
                <a:lnTo>
                  <a:pt x="1396" y="1554"/>
                </a:lnTo>
                <a:lnTo>
                  <a:pt x="1396" y="1550"/>
                </a:lnTo>
                <a:lnTo>
                  <a:pt x="1396" y="1545"/>
                </a:lnTo>
                <a:lnTo>
                  <a:pt x="1396" y="1538"/>
                </a:lnTo>
                <a:lnTo>
                  <a:pt x="1394" y="1531"/>
                </a:lnTo>
                <a:lnTo>
                  <a:pt x="1393" y="1520"/>
                </a:lnTo>
                <a:lnTo>
                  <a:pt x="1391" y="1508"/>
                </a:lnTo>
                <a:lnTo>
                  <a:pt x="1390" y="1493"/>
                </a:lnTo>
                <a:lnTo>
                  <a:pt x="1386" y="1477"/>
                </a:lnTo>
                <a:lnTo>
                  <a:pt x="1383" y="1460"/>
                </a:lnTo>
                <a:lnTo>
                  <a:pt x="1380" y="1442"/>
                </a:lnTo>
                <a:lnTo>
                  <a:pt x="1377" y="1422"/>
                </a:lnTo>
                <a:lnTo>
                  <a:pt x="1372" y="1402"/>
                </a:lnTo>
                <a:lnTo>
                  <a:pt x="1368" y="1382"/>
                </a:lnTo>
                <a:lnTo>
                  <a:pt x="1364" y="1361"/>
                </a:lnTo>
                <a:lnTo>
                  <a:pt x="1361" y="1340"/>
                </a:lnTo>
                <a:lnTo>
                  <a:pt x="1355" y="1319"/>
                </a:lnTo>
                <a:lnTo>
                  <a:pt x="1351" y="1298"/>
                </a:lnTo>
                <a:lnTo>
                  <a:pt x="1348" y="1278"/>
                </a:lnTo>
                <a:lnTo>
                  <a:pt x="1344" y="1258"/>
                </a:lnTo>
                <a:lnTo>
                  <a:pt x="1338" y="1239"/>
                </a:lnTo>
                <a:lnTo>
                  <a:pt x="1334" y="1219"/>
                </a:lnTo>
                <a:lnTo>
                  <a:pt x="1328" y="1198"/>
                </a:lnTo>
                <a:lnTo>
                  <a:pt x="1324" y="1176"/>
                </a:lnTo>
                <a:lnTo>
                  <a:pt x="1318" y="1154"/>
                </a:lnTo>
                <a:lnTo>
                  <a:pt x="1312" y="1132"/>
                </a:lnTo>
                <a:lnTo>
                  <a:pt x="1306" y="1110"/>
                </a:lnTo>
                <a:lnTo>
                  <a:pt x="1301" y="1088"/>
                </a:lnTo>
                <a:lnTo>
                  <a:pt x="1294" y="1068"/>
                </a:lnTo>
                <a:lnTo>
                  <a:pt x="1288" y="1047"/>
                </a:lnTo>
                <a:lnTo>
                  <a:pt x="1283" y="1028"/>
                </a:lnTo>
                <a:lnTo>
                  <a:pt x="1278" y="1010"/>
                </a:lnTo>
                <a:lnTo>
                  <a:pt x="1272" y="995"/>
                </a:lnTo>
                <a:lnTo>
                  <a:pt x="1268" y="979"/>
                </a:lnTo>
                <a:lnTo>
                  <a:pt x="1263" y="966"/>
                </a:lnTo>
                <a:lnTo>
                  <a:pt x="1260" y="955"/>
                </a:lnTo>
                <a:lnTo>
                  <a:pt x="1254" y="945"/>
                </a:lnTo>
                <a:lnTo>
                  <a:pt x="1250" y="934"/>
                </a:lnTo>
                <a:lnTo>
                  <a:pt x="1244" y="921"/>
                </a:lnTo>
                <a:lnTo>
                  <a:pt x="1239" y="907"/>
                </a:lnTo>
                <a:lnTo>
                  <a:pt x="1232" y="893"/>
                </a:lnTo>
                <a:lnTo>
                  <a:pt x="1226" y="877"/>
                </a:lnTo>
                <a:lnTo>
                  <a:pt x="1220" y="861"/>
                </a:lnTo>
                <a:lnTo>
                  <a:pt x="1214" y="844"/>
                </a:lnTo>
                <a:lnTo>
                  <a:pt x="1206" y="829"/>
                </a:lnTo>
                <a:lnTo>
                  <a:pt x="1199" y="812"/>
                </a:lnTo>
                <a:lnTo>
                  <a:pt x="1192" y="796"/>
                </a:lnTo>
                <a:lnTo>
                  <a:pt x="1186" y="779"/>
                </a:lnTo>
                <a:lnTo>
                  <a:pt x="1178" y="764"/>
                </a:lnTo>
                <a:lnTo>
                  <a:pt x="1173" y="748"/>
                </a:lnTo>
                <a:lnTo>
                  <a:pt x="1167" y="734"/>
                </a:lnTo>
                <a:lnTo>
                  <a:pt x="1162" y="720"/>
                </a:lnTo>
                <a:lnTo>
                  <a:pt x="1156" y="708"/>
                </a:lnTo>
                <a:lnTo>
                  <a:pt x="1150" y="694"/>
                </a:lnTo>
                <a:lnTo>
                  <a:pt x="1144" y="679"/>
                </a:lnTo>
                <a:lnTo>
                  <a:pt x="1138" y="664"/>
                </a:lnTo>
                <a:lnTo>
                  <a:pt x="1131" y="649"/>
                </a:lnTo>
                <a:lnTo>
                  <a:pt x="1126" y="633"/>
                </a:lnTo>
                <a:lnTo>
                  <a:pt x="1118" y="618"/>
                </a:lnTo>
                <a:lnTo>
                  <a:pt x="1112" y="602"/>
                </a:lnTo>
                <a:lnTo>
                  <a:pt x="1105" y="587"/>
                </a:lnTo>
                <a:lnTo>
                  <a:pt x="1099" y="572"/>
                </a:lnTo>
                <a:lnTo>
                  <a:pt x="1092" y="558"/>
                </a:lnTo>
                <a:lnTo>
                  <a:pt x="1086" y="544"/>
                </a:lnTo>
                <a:lnTo>
                  <a:pt x="1080" y="532"/>
                </a:lnTo>
                <a:lnTo>
                  <a:pt x="1075" y="520"/>
                </a:lnTo>
                <a:lnTo>
                  <a:pt x="1070" y="510"/>
                </a:lnTo>
                <a:lnTo>
                  <a:pt x="1067" y="500"/>
                </a:lnTo>
                <a:lnTo>
                  <a:pt x="1061" y="493"/>
                </a:lnTo>
                <a:lnTo>
                  <a:pt x="1057" y="484"/>
                </a:lnTo>
                <a:lnTo>
                  <a:pt x="1050" y="474"/>
                </a:lnTo>
                <a:lnTo>
                  <a:pt x="1045" y="462"/>
                </a:lnTo>
                <a:lnTo>
                  <a:pt x="1038" y="452"/>
                </a:lnTo>
                <a:lnTo>
                  <a:pt x="1031" y="440"/>
                </a:lnTo>
                <a:lnTo>
                  <a:pt x="1024" y="429"/>
                </a:lnTo>
                <a:lnTo>
                  <a:pt x="1018" y="416"/>
                </a:lnTo>
                <a:lnTo>
                  <a:pt x="1009" y="404"/>
                </a:lnTo>
                <a:lnTo>
                  <a:pt x="1001" y="392"/>
                </a:lnTo>
                <a:lnTo>
                  <a:pt x="994" y="381"/>
                </a:lnTo>
                <a:lnTo>
                  <a:pt x="986" y="370"/>
                </a:lnTo>
                <a:lnTo>
                  <a:pt x="979" y="360"/>
                </a:lnTo>
                <a:lnTo>
                  <a:pt x="971" y="348"/>
                </a:lnTo>
                <a:lnTo>
                  <a:pt x="964" y="339"/>
                </a:lnTo>
                <a:lnTo>
                  <a:pt x="958" y="330"/>
                </a:lnTo>
                <a:lnTo>
                  <a:pt x="951" y="322"/>
                </a:lnTo>
                <a:lnTo>
                  <a:pt x="943" y="313"/>
                </a:lnTo>
                <a:lnTo>
                  <a:pt x="934" y="304"/>
                </a:lnTo>
                <a:lnTo>
                  <a:pt x="927" y="294"/>
                </a:lnTo>
                <a:lnTo>
                  <a:pt x="918" y="285"/>
                </a:lnTo>
                <a:lnTo>
                  <a:pt x="908" y="276"/>
                </a:lnTo>
                <a:lnTo>
                  <a:pt x="899" y="266"/>
                </a:lnTo>
                <a:lnTo>
                  <a:pt x="890" y="255"/>
                </a:lnTo>
                <a:lnTo>
                  <a:pt x="880" y="246"/>
                </a:lnTo>
                <a:lnTo>
                  <a:pt x="871" y="236"/>
                </a:lnTo>
                <a:lnTo>
                  <a:pt x="862" y="228"/>
                </a:lnTo>
                <a:lnTo>
                  <a:pt x="853" y="219"/>
                </a:lnTo>
                <a:lnTo>
                  <a:pt x="844" y="212"/>
                </a:lnTo>
                <a:lnTo>
                  <a:pt x="836" y="204"/>
                </a:lnTo>
                <a:lnTo>
                  <a:pt x="828" y="198"/>
                </a:lnTo>
                <a:lnTo>
                  <a:pt x="823" y="192"/>
                </a:lnTo>
                <a:lnTo>
                  <a:pt x="815" y="188"/>
                </a:lnTo>
                <a:lnTo>
                  <a:pt x="808" y="182"/>
                </a:lnTo>
                <a:lnTo>
                  <a:pt x="801" y="177"/>
                </a:lnTo>
                <a:lnTo>
                  <a:pt x="795" y="172"/>
                </a:lnTo>
                <a:lnTo>
                  <a:pt x="788" y="167"/>
                </a:lnTo>
                <a:lnTo>
                  <a:pt x="782" y="162"/>
                </a:lnTo>
                <a:lnTo>
                  <a:pt x="774" y="157"/>
                </a:lnTo>
                <a:lnTo>
                  <a:pt x="768" y="151"/>
                </a:lnTo>
                <a:lnTo>
                  <a:pt x="761" y="147"/>
                </a:lnTo>
                <a:lnTo>
                  <a:pt x="756" y="143"/>
                </a:lnTo>
                <a:lnTo>
                  <a:pt x="750" y="139"/>
                </a:lnTo>
                <a:lnTo>
                  <a:pt x="745" y="134"/>
                </a:lnTo>
                <a:lnTo>
                  <a:pt x="739" y="132"/>
                </a:lnTo>
                <a:lnTo>
                  <a:pt x="736" y="128"/>
                </a:lnTo>
                <a:lnTo>
                  <a:pt x="732" y="126"/>
                </a:lnTo>
                <a:lnTo>
                  <a:pt x="730" y="123"/>
                </a:lnTo>
                <a:lnTo>
                  <a:pt x="726" y="122"/>
                </a:lnTo>
                <a:lnTo>
                  <a:pt x="724" y="120"/>
                </a:lnTo>
                <a:lnTo>
                  <a:pt x="720" y="118"/>
                </a:lnTo>
                <a:lnTo>
                  <a:pt x="717" y="116"/>
                </a:lnTo>
                <a:lnTo>
                  <a:pt x="711" y="114"/>
                </a:lnTo>
                <a:lnTo>
                  <a:pt x="707" y="112"/>
                </a:lnTo>
                <a:lnTo>
                  <a:pt x="701" y="110"/>
                </a:lnTo>
                <a:lnTo>
                  <a:pt x="697" y="106"/>
                </a:lnTo>
                <a:lnTo>
                  <a:pt x="692" y="104"/>
                </a:lnTo>
                <a:lnTo>
                  <a:pt x="686" y="102"/>
                </a:lnTo>
                <a:lnTo>
                  <a:pt x="680" y="100"/>
                </a:lnTo>
                <a:lnTo>
                  <a:pt x="675" y="96"/>
                </a:lnTo>
                <a:lnTo>
                  <a:pt x="669" y="94"/>
                </a:lnTo>
                <a:lnTo>
                  <a:pt x="664" y="92"/>
                </a:lnTo>
                <a:lnTo>
                  <a:pt x="658" y="90"/>
                </a:lnTo>
                <a:lnTo>
                  <a:pt x="653" y="86"/>
                </a:lnTo>
                <a:lnTo>
                  <a:pt x="647" y="85"/>
                </a:lnTo>
                <a:lnTo>
                  <a:pt x="641" y="83"/>
                </a:lnTo>
                <a:lnTo>
                  <a:pt x="634" y="81"/>
                </a:lnTo>
                <a:lnTo>
                  <a:pt x="627" y="78"/>
                </a:lnTo>
                <a:lnTo>
                  <a:pt x="618" y="76"/>
                </a:lnTo>
                <a:lnTo>
                  <a:pt x="610" y="72"/>
                </a:lnTo>
                <a:lnTo>
                  <a:pt x="601" y="70"/>
                </a:lnTo>
                <a:lnTo>
                  <a:pt x="592" y="67"/>
                </a:lnTo>
                <a:lnTo>
                  <a:pt x="582" y="65"/>
                </a:lnTo>
                <a:lnTo>
                  <a:pt x="573" y="62"/>
                </a:lnTo>
                <a:lnTo>
                  <a:pt x="564" y="60"/>
                </a:lnTo>
                <a:lnTo>
                  <a:pt x="554" y="56"/>
                </a:lnTo>
                <a:lnTo>
                  <a:pt x="545" y="54"/>
                </a:lnTo>
                <a:lnTo>
                  <a:pt x="536" y="51"/>
                </a:lnTo>
                <a:lnTo>
                  <a:pt x="528" y="49"/>
                </a:lnTo>
                <a:lnTo>
                  <a:pt x="521" y="46"/>
                </a:lnTo>
                <a:lnTo>
                  <a:pt x="512" y="44"/>
                </a:lnTo>
                <a:lnTo>
                  <a:pt x="504" y="42"/>
                </a:lnTo>
                <a:lnTo>
                  <a:pt x="494" y="40"/>
                </a:lnTo>
                <a:lnTo>
                  <a:pt x="485" y="39"/>
                </a:lnTo>
                <a:lnTo>
                  <a:pt x="474" y="37"/>
                </a:lnTo>
                <a:lnTo>
                  <a:pt x="465" y="35"/>
                </a:lnTo>
                <a:lnTo>
                  <a:pt x="454" y="33"/>
                </a:lnTo>
                <a:lnTo>
                  <a:pt x="444" y="30"/>
                </a:lnTo>
                <a:lnTo>
                  <a:pt x="433" y="29"/>
                </a:lnTo>
                <a:lnTo>
                  <a:pt x="424" y="27"/>
                </a:lnTo>
                <a:lnTo>
                  <a:pt x="414" y="25"/>
                </a:lnTo>
                <a:lnTo>
                  <a:pt x="404" y="23"/>
                </a:lnTo>
                <a:lnTo>
                  <a:pt x="395" y="22"/>
                </a:lnTo>
                <a:lnTo>
                  <a:pt x="386" y="20"/>
                </a:lnTo>
                <a:lnTo>
                  <a:pt x="378" y="19"/>
                </a:lnTo>
                <a:lnTo>
                  <a:pt x="372" y="18"/>
                </a:lnTo>
                <a:lnTo>
                  <a:pt x="364" y="18"/>
                </a:lnTo>
                <a:lnTo>
                  <a:pt x="357" y="17"/>
                </a:lnTo>
                <a:lnTo>
                  <a:pt x="347" y="17"/>
                </a:lnTo>
                <a:lnTo>
                  <a:pt x="339" y="15"/>
                </a:lnTo>
                <a:lnTo>
                  <a:pt x="329" y="15"/>
                </a:lnTo>
                <a:lnTo>
                  <a:pt x="319" y="13"/>
                </a:lnTo>
                <a:lnTo>
                  <a:pt x="308" y="13"/>
                </a:lnTo>
                <a:lnTo>
                  <a:pt x="299" y="11"/>
                </a:lnTo>
                <a:lnTo>
                  <a:pt x="288" y="11"/>
                </a:lnTo>
                <a:lnTo>
                  <a:pt x="276" y="10"/>
                </a:lnTo>
                <a:lnTo>
                  <a:pt x="265" y="10"/>
                </a:lnTo>
                <a:lnTo>
                  <a:pt x="256" y="8"/>
                </a:lnTo>
                <a:lnTo>
                  <a:pt x="245" y="8"/>
                </a:lnTo>
                <a:lnTo>
                  <a:pt x="236" y="7"/>
                </a:lnTo>
                <a:lnTo>
                  <a:pt x="226" y="7"/>
                </a:lnTo>
                <a:lnTo>
                  <a:pt x="219" y="5"/>
                </a:lnTo>
                <a:lnTo>
                  <a:pt x="210" y="5"/>
                </a:lnTo>
                <a:lnTo>
                  <a:pt x="201" y="5"/>
                </a:lnTo>
                <a:lnTo>
                  <a:pt x="191" y="5"/>
                </a:lnTo>
                <a:lnTo>
                  <a:pt x="181" y="4"/>
                </a:lnTo>
                <a:lnTo>
                  <a:pt x="170" y="4"/>
                </a:lnTo>
                <a:lnTo>
                  <a:pt x="160" y="4"/>
                </a:lnTo>
                <a:lnTo>
                  <a:pt x="149" y="4"/>
                </a:lnTo>
                <a:lnTo>
                  <a:pt x="140" y="2"/>
                </a:lnTo>
                <a:lnTo>
                  <a:pt x="128" y="2"/>
                </a:lnTo>
                <a:lnTo>
                  <a:pt x="118" y="2"/>
                </a:lnTo>
                <a:lnTo>
                  <a:pt x="108" y="2"/>
                </a:lnTo>
                <a:lnTo>
                  <a:pt x="98" y="1"/>
                </a:lnTo>
                <a:lnTo>
                  <a:pt x="89" y="1"/>
                </a:lnTo>
                <a:lnTo>
                  <a:pt x="80" y="1"/>
                </a:lnTo>
                <a:lnTo>
                  <a:pt x="73" y="1"/>
                </a:lnTo>
                <a:lnTo>
                  <a:pt x="66" y="0"/>
                </a:lnTo>
                <a:lnTo>
                  <a:pt x="60" y="0"/>
                </a:lnTo>
                <a:lnTo>
                  <a:pt x="56" y="0"/>
                </a:lnTo>
                <a:lnTo>
                  <a:pt x="53" y="0"/>
                </a:lnTo>
                <a:lnTo>
                  <a:pt x="51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5" y="0"/>
                </a:lnTo>
                <a:lnTo>
                  <a:pt x="42" y="0"/>
                </a:lnTo>
                <a:lnTo>
                  <a:pt x="40" y="0"/>
                </a:lnTo>
                <a:lnTo>
                  <a:pt x="36" y="0"/>
                </a:lnTo>
                <a:lnTo>
                  <a:pt x="33" y="0"/>
                </a:lnTo>
                <a:lnTo>
                  <a:pt x="26" y="0"/>
                </a:lnTo>
                <a:lnTo>
                  <a:pt x="19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49840" y="2395440"/>
            <a:ext cx="2552400" cy="2928960"/>
          </a:xfrm>
          <a:custGeom>
            <a:avLst/>
            <a:gdLst/>
            <a:ahLst/>
            <a:rect l="l" t="t" r="r" b="b"/>
            <a:pathLst>
              <a:path w="1608" h="1845">
                <a:moveTo>
                  <a:pt x="0" y="0"/>
                </a:moveTo>
                <a:lnTo>
                  <a:pt x="0" y="16"/>
                </a:lnTo>
                <a:lnTo>
                  <a:pt x="1" y="28"/>
                </a:lnTo>
                <a:lnTo>
                  <a:pt x="1" y="39"/>
                </a:lnTo>
                <a:lnTo>
                  <a:pt x="3" y="45"/>
                </a:lnTo>
                <a:lnTo>
                  <a:pt x="3" y="51"/>
                </a:lnTo>
                <a:lnTo>
                  <a:pt x="3" y="56"/>
                </a:lnTo>
                <a:lnTo>
                  <a:pt x="3" y="59"/>
                </a:lnTo>
                <a:lnTo>
                  <a:pt x="5" y="61"/>
                </a:lnTo>
                <a:lnTo>
                  <a:pt x="5" y="63"/>
                </a:lnTo>
                <a:lnTo>
                  <a:pt x="5" y="65"/>
                </a:lnTo>
                <a:lnTo>
                  <a:pt x="5" y="67"/>
                </a:lnTo>
                <a:lnTo>
                  <a:pt x="6" y="69"/>
                </a:lnTo>
                <a:lnTo>
                  <a:pt x="6" y="73"/>
                </a:lnTo>
                <a:lnTo>
                  <a:pt x="7" y="77"/>
                </a:lnTo>
                <a:lnTo>
                  <a:pt x="7" y="82"/>
                </a:lnTo>
                <a:lnTo>
                  <a:pt x="9" y="88"/>
                </a:lnTo>
                <a:lnTo>
                  <a:pt x="9" y="98"/>
                </a:lnTo>
                <a:lnTo>
                  <a:pt x="10" y="111"/>
                </a:lnTo>
                <a:lnTo>
                  <a:pt x="12" y="125"/>
                </a:lnTo>
                <a:lnTo>
                  <a:pt x="15" y="141"/>
                </a:lnTo>
                <a:lnTo>
                  <a:pt x="18" y="160"/>
                </a:lnTo>
                <a:lnTo>
                  <a:pt x="21" y="179"/>
                </a:lnTo>
                <a:lnTo>
                  <a:pt x="25" y="201"/>
                </a:lnTo>
                <a:lnTo>
                  <a:pt x="30" y="222"/>
                </a:lnTo>
                <a:lnTo>
                  <a:pt x="33" y="245"/>
                </a:lnTo>
                <a:lnTo>
                  <a:pt x="38" y="269"/>
                </a:lnTo>
                <a:lnTo>
                  <a:pt x="42" y="293"/>
                </a:lnTo>
                <a:lnTo>
                  <a:pt x="48" y="316"/>
                </a:lnTo>
                <a:lnTo>
                  <a:pt x="51" y="341"/>
                </a:lnTo>
                <a:lnTo>
                  <a:pt x="57" y="364"/>
                </a:lnTo>
                <a:lnTo>
                  <a:pt x="61" y="387"/>
                </a:lnTo>
                <a:lnTo>
                  <a:pt x="67" y="409"/>
                </a:lnTo>
                <a:lnTo>
                  <a:pt x="71" y="431"/>
                </a:lnTo>
                <a:lnTo>
                  <a:pt x="77" y="455"/>
                </a:lnTo>
                <a:lnTo>
                  <a:pt x="83" y="479"/>
                </a:lnTo>
                <a:lnTo>
                  <a:pt x="89" y="503"/>
                </a:lnTo>
                <a:lnTo>
                  <a:pt x="95" y="529"/>
                </a:lnTo>
                <a:lnTo>
                  <a:pt x="102" y="555"/>
                </a:lnTo>
                <a:lnTo>
                  <a:pt x="109" y="579"/>
                </a:lnTo>
                <a:lnTo>
                  <a:pt x="116" y="604"/>
                </a:lnTo>
                <a:lnTo>
                  <a:pt x="122" y="628"/>
                </a:lnTo>
                <a:lnTo>
                  <a:pt x="129" y="651"/>
                </a:lnTo>
                <a:lnTo>
                  <a:pt x="135" y="674"/>
                </a:lnTo>
                <a:lnTo>
                  <a:pt x="142" y="694"/>
                </a:lnTo>
                <a:lnTo>
                  <a:pt x="147" y="713"/>
                </a:lnTo>
                <a:lnTo>
                  <a:pt x="154" y="730"/>
                </a:lnTo>
                <a:lnTo>
                  <a:pt x="159" y="745"/>
                </a:lnTo>
                <a:lnTo>
                  <a:pt x="165" y="757"/>
                </a:lnTo>
                <a:lnTo>
                  <a:pt x="168" y="769"/>
                </a:lnTo>
                <a:lnTo>
                  <a:pt x="174" y="782"/>
                </a:lnTo>
                <a:lnTo>
                  <a:pt x="179" y="797"/>
                </a:lnTo>
                <a:lnTo>
                  <a:pt x="186" y="813"/>
                </a:lnTo>
                <a:lnTo>
                  <a:pt x="193" y="831"/>
                </a:lnTo>
                <a:lnTo>
                  <a:pt x="200" y="848"/>
                </a:lnTo>
                <a:lnTo>
                  <a:pt x="207" y="867"/>
                </a:lnTo>
                <a:lnTo>
                  <a:pt x="215" y="884"/>
                </a:lnTo>
                <a:lnTo>
                  <a:pt x="223" y="903"/>
                </a:lnTo>
                <a:lnTo>
                  <a:pt x="231" y="922"/>
                </a:lnTo>
                <a:lnTo>
                  <a:pt x="238" y="941"/>
                </a:lnTo>
                <a:lnTo>
                  <a:pt x="247" y="959"/>
                </a:lnTo>
                <a:lnTo>
                  <a:pt x="254" y="977"/>
                </a:lnTo>
                <a:lnTo>
                  <a:pt x="262" y="994"/>
                </a:lnTo>
                <a:lnTo>
                  <a:pt x="268" y="1011"/>
                </a:lnTo>
                <a:lnTo>
                  <a:pt x="275" y="1025"/>
                </a:lnTo>
                <a:lnTo>
                  <a:pt x="281" y="1041"/>
                </a:lnTo>
                <a:lnTo>
                  <a:pt x="288" y="1056"/>
                </a:lnTo>
                <a:lnTo>
                  <a:pt x="295" y="1073"/>
                </a:lnTo>
                <a:lnTo>
                  <a:pt x="302" y="1089"/>
                </a:lnTo>
                <a:lnTo>
                  <a:pt x="310" y="1108"/>
                </a:lnTo>
                <a:lnTo>
                  <a:pt x="317" y="1125"/>
                </a:lnTo>
                <a:lnTo>
                  <a:pt x="325" y="1143"/>
                </a:lnTo>
                <a:lnTo>
                  <a:pt x="333" y="1160"/>
                </a:lnTo>
                <a:lnTo>
                  <a:pt x="340" y="1178"/>
                </a:lnTo>
                <a:lnTo>
                  <a:pt x="348" y="1195"/>
                </a:lnTo>
                <a:lnTo>
                  <a:pt x="355" y="1211"/>
                </a:lnTo>
                <a:lnTo>
                  <a:pt x="362" y="1226"/>
                </a:lnTo>
                <a:lnTo>
                  <a:pt x="368" y="1241"/>
                </a:lnTo>
                <a:lnTo>
                  <a:pt x="374" y="1253"/>
                </a:lnTo>
                <a:lnTo>
                  <a:pt x="379" y="1265"/>
                </a:lnTo>
                <a:lnTo>
                  <a:pt x="385" y="1275"/>
                </a:lnTo>
                <a:lnTo>
                  <a:pt x="389" y="1285"/>
                </a:lnTo>
                <a:lnTo>
                  <a:pt x="394" y="1296"/>
                </a:lnTo>
                <a:lnTo>
                  <a:pt x="400" y="1308"/>
                </a:lnTo>
                <a:lnTo>
                  <a:pt x="408" y="1319"/>
                </a:lnTo>
                <a:lnTo>
                  <a:pt x="415" y="1333"/>
                </a:lnTo>
                <a:lnTo>
                  <a:pt x="423" y="1346"/>
                </a:lnTo>
                <a:lnTo>
                  <a:pt x="431" y="1359"/>
                </a:lnTo>
                <a:lnTo>
                  <a:pt x="440" y="1373"/>
                </a:lnTo>
                <a:lnTo>
                  <a:pt x="448" y="1387"/>
                </a:lnTo>
                <a:lnTo>
                  <a:pt x="457" y="1400"/>
                </a:lnTo>
                <a:lnTo>
                  <a:pt x="466" y="1413"/>
                </a:lnTo>
                <a:lnTo>
                  <a:pt x="475" y="1425"/>
                </a:lnTo>
                <a:lnTo>
                  <a:pt x="483" y="1439"/>
                </a:lnTo>
                <a:lnTo>
                  <a:pt x="492" y="1450"/>
                </a:lnTo>
                <a:lnTo>
                  <a:pt x="500" y="1461"/>
                </a:lnTo>
                <a:lnTo>
                  <a:pt x="509" y="1470"/>
                </a:lnTo>
                <a:lnTo>
                  <a:pt x="516" y="1481"/>
                </a:lnTo>
                <a:lnTo>
                  <a:pt x="524" y="1490"/>
                </a:lnTo>
                <a:lnTo>
                  <a:pt x="533" y="1501"/>
                </a:lnTo>
                <a:lnTo>
                  <a:pt x="543" y="1511"/>
                </a:lnTo>
                <a:lnTo>
                  <a:pt x="553" y="1522"/>
                </a:lnTo>
                <a:lnTo>
                  <a:pt x="564" y="1533"/>
                </a:lnTo>
                <a:lnTo>
                  <a:pt x="576" y="1545"/>
                </a:lnTo>
                <a:lnTo>
                  <a:pt x="587" y="1555"/>
                </a:lnTo>
                <a:lnTo>
                  <a:pt x="596" y="1567"/>
                </a:lnTo>
                <a:lnTo>
                  <a:pt x="607" y="1578"/>
                </a:lnTo>
                <a:lnTo>
                  <a:pt x="618" y="1588"/>
                </a:lnTo>
                <a:lnTo>
                  <a:pt x="629" y="1597"/>
                </a:lnTo>
                <a:lnTo>
                  <a:pt x="639" y="1607"/>
                </a:lnTo>
                <a:lnTo>
                  <a:pt x="649" y="1615"/>
                </a:lnTo>
                <a:lnTo>
                  <a:pt x="657" y="1622"/>
                </a:lnTo>
                <a:lnTo>
                  <a:pt x="665" y="1628"/>
                </a:lnTo>
                <a:lnTo>
                  <a:pt x="672" y="1635"/>
                </a:lnTo>
                <a:lnTo>
                  <a:pt x="680" y="1640"/>
                </a:lnTo>
                <a:lnTo>
                  <a:pt x="687" y="1646"/>
                </a:lnTo>
                <a:lnTo>
                  <a:pt x="695" y="1651"/>
                </a:lnTo>
                <a:lnTo>
                  <a:pt x="703" y="1658"/>
                </a:lnTo>
                <a:lnTo>
                  <a:pt x="711" y="1663"/>
                </a:lnTo>
                <a:lnTo>
                  <a:pt x="719" y="1669"/>
                </a:lnTo>
                <a:lnTo>
                  <a:pt x="727" y="1675"/>
                </a:lnTo>
                <a:lnTo>
                  <a:pt x="733" y="1680"/>
                </a:lnTo>
                <a:lnTo>
                  <a:pt x="741" y="1686"/>
                </a:lnTo>
                <a:lnTo>
                  <a:pt x="747" y="1691"/>
                </a:lnTo>
                <a:lnTo>
                  <a:pt x="753" y="1695"/>
                </a:lnTo>
                <a:lnTo>
                  <a:pt x="758" y="1698"/>
                </a:lnTo>
                <a:lnTo>
                  <a:pt x="763" y="1701"/>
                </a:lnTo>
                <a:lnTo>
                  <a:pt x="767" y="1704"/>
                </a:lnTo>
                <a:lnTo>
                  <a:pt x="771" y="1706"/>
                </a:lnTo>
                <a:lnTo>
                  <a:pt x="773" y="1709"/>
                </a:lnTo>
                <a:lnTo>
                  <a:pt x="777" y="1711"/>
                </a:lnTo>
                <a:lnTo>
                  <a:pt x="780" y="1713"/>
                </a:lnTo>
                <a:lnTo>
                  <a:pt x="785" y="1715"/>
                </a:lnTo>
                <a:lnTo>
                  <a:pt x="790" y="1719"/>
                </a:lnTo>
                <a:lnTo>
                  <a:pt x="796" y="1721"/>
                </a:lnTo>
                <a:lnTo>
                  <a:pt x="801" y="1724"/>
                </a:lnTo>
                <a:lnTo>
                  <a:pt x="808" y="1726"/>
                </a:lnTo>
                <a:lnTo>
                  <a:pt x="814" y="1729"/>
                </a:lnTo>
                <a:lnTo>
                  <a:pt x="821" y="1732"/>
                </a:lnTo>
                <a:lnTo>
                  <a:pt x="827" y="1736"/>
                </a:lnTo>
                <a:lnTo>
                  <a:pt x="834" y="1737"/>
                </a:lnTo>
                <a:lnTo>
                  <a:pt x="839" y="1741"/>
                </a:lnTo>
                <a:lnTo>
                  <a:pt x="847" y="1743"/>
                </a:lnTo>
                <a:lnTo>
                  <a:pt x="852" y="1746"/>
                </a:lnTo>
                <a:lnTo>
                  <a:pt x="859" y="1747"/>
                </a:lnTo>
                <a:lnTo>
                  <a:pt x="865" y="1751"/>
                </a:lnTo>
                <a:lnTo>
                  <a:pt x="871" y="1753"/>
                </a:lnTo>
                <a:lnTo>
                  <a:pt x="879" y="1757"/>
                </a:lnTo>
                <a:lnTo>
                  <a:pt x="888" y="1759"/>
                </a:lnTo>
                <a:lnTo>
                  <a:pt x="897" y="1763"/>
                </a:lnTo>
                <a:lnTo>
                  <a:pt x="907" y="1766"/>
                </a:lnTo>
                <a:lnTo>
                  <a:pt x="917" y="1769"/>
                </a:lnTo>
                <a:lnTo>
                  <a:pt x="928" y="1771"/>
                </a:lnTo>
                <a:lnTo>
                  <a:pt x="937" y="1775"/>
                </a:lnTo>
                <a:lnTo>
                  <a:pt x="949" y="1779"/>
                </a:lnTo>
                <a:lnTo>
                  <a:pt x="959" y="1783"/>
                </a:lnTo>
                <a:lnTo>
                  <a:pt x="970" y="1784"/>
                </a:lnTo>
                <a:lnTo>
                  <a:pt x="979" y="1788"/>
                </a:lnTo>
                <a:lnTo>
                  <a:pt x="991" y="1790"/>
                </a:lnTo>
                <a:lnTo>
                  <a:pt x="1000" y="1793"/>
                </a:lnTo>
                <a:lnTo>
                  <a:pt x="1010" y="1794"/>
                </a:lnTo>
                <a:lnTo>
                  <a:pt x="1019" y="1798"/>
                </a:lnTo>
                <a:lnTo>
                  <a:pt x="1028" y="1800"/>
                </a:lnTo>
                <a:lnTo>
                  <a:pt x="1038" y="1803"/>
                </a:lnTo>
                <a:lnTo>
                  <a:pt x="1049" y="1804"/>
                </a:lnTo>
                <a:lnTo>
                  <a:pt x="1061" y="1808"/>
                </a:lnTo>
                <a:lnTo>
                  <a:pt x="1072" y="1810"/>
                </a:lnTo>
                <a:lnTo>
                  <a:pt x="1083" y="1812"/>
                </a:lnTo>
                <a:lnTo>
                  <a:pt x="1097" y="1814"/>
                </a:lnTo>
                <a:lnTo>
                  <a:pt x="1108" y="1816"/>
                </a:lnTo>
                <a:lnTo>
                  <a:pt x="1119" y="1818"/>
                </a:lnTo>
                <a:lnTo>
                  <a:pt x="1130" y="1820"/>
                </a:lnTo>
                <a:lnTo>
                  <a:pt x="1142" y="1822"/>
                </a:lnTo>
                <a:lnTo>
                  <a:pt x="1151" y="1824"/>
                </a:lnTo>
                <a:lnTo>
                  <a:pt x="1162" y="1825"/>
                </a:lnTo>
                <a:lnTo>
                  <a:pt x="1171" y="1826"/>
                </a:lnTo>
                <a:lnTo>
                  <a:pt x="1180" y="1826"/>
                </a:lnTo>
                <a:lnTo>
                  <a:pt x="1187" y="1828"/>
                </a:lnTo>
                <a:lnTo>
                  <a:pt x="1195" y="1829"/>
                </a:lnTo>
                <a:lnTo>
                  <a:pt x="1205" y="1831"/>
                </a:lnTo>
                <a:lnTo>
                  <a:pt x="1216" y="1831"/>
                </a:lnTo>
                <a:lnTo>
                  <a:pt x="1227" y="1833"/>
                </a:lnTo>
                <a:lnTo>
                  <a:pt x="1238" y="1833"/>
                </a:lnTo>
                <a:lnTo>
                  <a:pt x="1249" y="1834"/>
                </a:lnTo>
                <a:lnTo>
                  <a:pt x="1263" y="1834"/>
                </a:lnTo>
                <a:lnTo>
                  <a:pt x="1274" y="1836"/>
                </a:lnTo>
                <a:lnTo>
                  <a:pt x="1287" y="1836"/>
                </a:lnTo>
                <a:lnTo>
                  <a:pt x="1298" y="1838"/>
                </a:lnTo>
                <a:lnTo>
                  <a:pt x="1311" y="1838"/>
                </a:lnTo>
                <a:lnTo>
                  <a:pt x="1323" y="1840"/>
                </a:lnTo>
                <a:lnTo>
                  <a:pt x="1334" y="1840"/>
                </a:lnTo>
                <a:lnTo>
                  <a:pt x="1344" y="1840"/>
                </a:lnTo>
                <a:lnTo>
                  <a:pt x="1354" y="1840"/>
                </a:lnTo>
                <a:lnTo>
                  <a:pt x="1363" y="1842"/>
                </a:lnTo>
                <a:lnTo>
                  <a:pt x="1373" y="1842"/>
                </a:lnTo>
                <a:lnTo>
                  <a:pt x="1384" y="1842"/>
                </a:lnTo>
                <a:lnTo>
                  <a:pt x="1395" y="1842"/>
                </a:lnTo>
                <a:lnTo>
                  <a:pt x="1407" y="1844"/>
                </a:lnTo>
                <a:lnTo>
                  <a:pt x="1419" y="1844"/>
                </a:lnTo>
                <a:lnTo>
                  <a:pt x="1431" y="1844"/>
                </a:lnTo>
                <a:lnTo>
                  <a:pt x="1444" y="1844"/>
                </a:lnTo>
                <a:lnTo>
                  <a:pt x="1455" y="1844"/>
                </a:lnTo>
                <a:lnTo>
                  <a:pt x="1468" y="1844"/>
                </a:lnTo>
                <a:lnTo>
                  <a:pt x="1479" y="1844"/>
                </a:lnTo>
                <a:lnTo>
                  <a:pt x="1491" y="1844"/>
                </a:lnTo>
                <a:lnTo>
                  <a:pt x="1500" y="1844"/>
                </a:lnTo>
                <a:lnTo>
                  <a:pt x="1511" y="1844"/>
                </a:lnTo>
                <a:lnTo>
                  <a:pt x="1520" y="1844"/>
                </a:lnTo>
                <a:lnTo>
                  <a:pt x="1529" y="1844"/>
                </a:lnTo>
                <a:lnTo>
                  <a:pt x="1534" y="1844"/>
                </a:lnTo>
                <a:lnTo>
                  <a:pt x="1539" y="1844"/>
                </a:lnTo>
                <a:lnTo>
                  <a:pt x="1542" y="1844"/>
                </a:lnTo>
                <a:lnTo>
                  <a:pt x="1546" y="1844"/>
                </a:lnTo>
                <a:lnTo>
                  <a:pt x="1547" y="1844"/>
                </a:lnTo>
                <a:lnTo>
                  <a:pt x="1549" y="1844"/>
                </a:lnTo>
                <a:lnTo>
                  <a:pt x="1551" y="1844"/>
                </a:lnTo>
                <a:lnTo>
                  <a:pt x="1553" y="1844"/>
                </a:lnTo>
                <a:lnTo>
                  <a:pt x="1555" y="1844"/>
                </a:lnTo>
                <a:lnTo>
                  <a:pt x="1557" y="1844"/>
                </a:lnTo>
                <a:lnTo>
                  <a:pt x="1561" y="1844"/>
                </a:lnTo>
                <a:lnTo>
                  <a:pt x="1567" y="1844"/>
                </a:lnTo>
                <a:lnTo>
                  <a:pt x="1573" y="1844"/>
                </a:lnTo>
                <a:lnTo>
                  <a:pt x="1582" y="1844"/>
                </a:lnTo>
                <a:lnTo>
                  <a:pt x="1593" y="1844"/>
                </a:lnTo>
                <a:lnTo>
                  <a:pt x="1607" y="1844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359240" y="2232000"/>
            <a:ext cx="2205000" cy="2502000"/>
          </a:xfrm>
          <a:custGeom>
            <a:avLst/>
            <a:gdLst/>
            <a:ahLst/>
            <a:rect l="l" t="t" r="r" b="b"/>
            <a:pathLst>
              <a:path w="1389" h="1576">
                <a:moveTo>
                  <a:pt x="0" y="0"/>
                </a:moveTo>
                <a:lnTo>
                  <a:pt x="0" y="14"/>
                </a:lnTo>
                <a:lnTo>
                  <a:pt x="1" y="24"/>
                </a:lnTo>
                <a:lnTo>
                  <a:pt x="1" y="33"/>
                </a:lnTo>
                <a:lnTo>
                  <a:pt x="3" y="39"/>
                </a:lnTo>
                <a:lnTo>
                  <a:pt x="3" y="45"/>
                </a:lnTo>
                <a:lnTo>
                  <a:pt x="3" y="48"/>
                </a:lnTo>
                <a:lnTo>
                  <a:pt x="3" y="50"/>
                </a:lnTo>
                <a:lnTo>
                  <a:pt x="4" y="52"/>
                </a:lnTo>
                <a:lnTo>
                  <a:pt x="4" y="54"/>
                </a:lnTo>
                <a:lnTo>
                  <a:pt x="4" y="56"/>
                </a:lnTo>
                <a:lnTo>
                  <a:pt x="4" y="58"/>
                </a:lnTo>
                <a:lnTo>
                  <a:pt x="5" y="59"/>
                </a:lnTo>
                <a:lnTo>
                  <a:pt x="5" y="62"/>
                </a:lnTo>
                <a:lnTo>
                  <a:pt x="6" y="65"/>
                </a:lnTo>
                <a:lnTo>
                  <a:pt x="6" y="70"/>
                </a:lnTo>
                <a:lnTo>
                  <a:pt x="8" y="75"/>
                </a:lnTo>
                <a:lnTo>
                  <a:pt x="8" y="84"/>
                </a:lnTo>
                <a:lnTo>
                  <a:pt x="9" y="94"/>
                </a:lnTo>
                <a:lnTo>
                  <a:pt x="11" y="106"/>
                </a:lnTo>
                <a:lnTo>
                  <a:pt x="13" y="120"/>
                </a:lnTo>
                <a:lnTo>
                  <a:pt x="15" y="136"/>
                </a:lnTo>
                <a:lnTo>
                  <a:pt x="18" y="152"/>
                </a:lnTo>
                <a:lnTo>
                  <a:pt x="22" y="170"/>
                </a:lnTo>
                <a:lnTo>
                  <a:pt x="26" y="188"/>
                </a:lnTo>
                <a:lnTo>
                  <a:pt x="29" y="208"/>
                </a:lnTo>
                <a:lnTo>
                  <a:pt x="33" y="228"/>
                </a:lnTo>
                <a:lnTo>
                  <a:pt x="37" y="249"/>
                </a:lnTo>
                <a:lnTo>
                  <a:pt x="42" y="269"/>
                </a:lnTo>
                <a:lnTo>
                  <a:pt x="46" y="289"/>
                </a:lnTo>
                <a:lnTo>
                  <a:pt x="49" y="310"/>
                </a:lnTo>
                <a:lnTo>
                  <a:pt x="53" y="329"/>
                </a:lnTo>
                <a:lnTo>
                  <a:pt x="59" y="348"/>
                </a:lnTo>
                <a:lnTo>
                  <a:pt x="62" y="368"/>
                </a:lnTo>
                <a:lnTo>
                  <a:pt x="67" y="388"/>
                </a:lnTo>
                <a:lnTo>
                  <a:pt x="72" y="409"/>
                </a:lnTo>
                <a:lnTo>
                  <a:pt x="78" y="430"/>
                </a:lnTo>
                <a:lnTo>
                  <a:pt x="83" y="452"/>
                </a:lnTo>
                <a:lnTo>
                  <a:pt x="89" y="473"/>
                </a:lnTo>
                <a:lnTo>
                  <a:pt x="94" y="494"/>
                </a:lnTo>
                <a:lnTo>
                  <a:pt x="101" y="514"/>
                </a:lnTo>
                <a:lnTo>
                  <a:pt x="107" y="536"/>
                </a:lnTo>
                <a:lnTo>
                  <a:pt x="112" y="556"/>
                </a:lnTo>
                <a:lnTo>
                  <a:pt x="118" y="574"/>
                </a:lnTo>
                <a:lnTo>
                  <a:pt x="124" y="591"/>
                </a:lnTo>
                <a:lnTo>
                  <a:pt x="128" y="608"/>
                </a:lnTo>
                <a:lnTo>
                  <a:pt x="134" y="622"/>
                </a:lnTo>
                <a:lnTo>
                  <a:pt x="138" y="635"/>
                </a:lnTo>
                <a:lnTo>
                  <a:pt x="143" y="645"/>
                </a:lnTo>
                <a:lnTo>
                  <a:pt x="147" y="656"/>
                </a:lnTo>
                <a:lnTo>
                  <a:pt x="151" y="667"/>
                </a:lnTo>
                <a:lnTo>
                  <a:pt x="156" y="680"/>
                </a:lnTo>
                <a:lnTo>
                  <a:pt x="162" y="693"/>
                </a:lnTo>
                <a:lnTo>
                  <a:pt x="167" y="708"/>
                </a:lnTo>
                <a:lnTo>
                  <a:pt x="174" y="723"/>
                </a:lnTo>
                <a:lnTo>
                  <a:pt x="179" y="739"/>
                </a:lnTo>
                <a:lnTo>
                  <a:pt x="187" y="754"/>
                </a:lnTo>
                <a:lnTo>
                  <a:pt x="192" y="771"/>
                </a:lnTo>
                <a:lnTo>
                  <a:pt x="200" y="787"/>
                </a:lnTo>
                <a:lnTo>
                  <a:pt x="206" y="804"/>
                </a:lnTo>
                <a:lnTo>
                  <a:pt x="214" y="818"/>
                </a:lnTo>
                <a:lnTo>
                  <a:pt x="219" y="834"/>
                </a:lnTo>
                <a:lnTo>
                  <a:pt x="225" y="848"/>
                </a:lnTo>
                <a:lnTo>
                  <a:pt x="231" y="862"/>
                </a:lnTo>
                <a:lnTo>
                  <a:pt x="238" y="875"/>
                </a:lnTo>
                <a:lnTo>
                  <a:pt x="243" y="889"/>
                </a:lnTo>
                <a:lnTo>
                  <a:pt x="248" y="902"/>
                </a:lnTo>
                <a:lnTo>
                  <a:pt x="254" y="917"/>
                </a:lnTo>
                <a:lnTo>
                  <a:pt x="261" y="931"/>
                </a:lnTo>
                <a:lnTo>
                  <a:pt x="266" y="946"/>
                </a:lnTo>
                <a:lnTo>
                  <a:pt x="274" y="961"/>
                </a:lnTo>
                <a:lnTo>
                  <a:pt x="280" y="976"/>
                </a:lnTo>
                <a:lnTo>
                  <a:pt x="288" y="991"/>
                </a:lnTo>
                <a:lnTo>
                  <a:pt x="293" y="1006"/>
                </a:lnTo>
                <a:lnTo>
                  <a:pt x="300" y="1021"/>
                </a:lnTo>
                <a:lnTo>
                  <a:pt x="306" y="1034"/>
                </a:lnTo>
                <a:lnTo>
                  <a:pt x="313" y="1047"/>
                </a:lnTo>
                <a:lnTo>
                  <a:pt x="318" y="1059"/>
                </a:lnTo>
                <a:lnTo>
                  <a:pt x="323" y="1070"/>
                </a:lnTo>
                <a:lnTo>
                  <a:pt x="328" y="1080"/>
                </a:lnTo>
                <a:lnTo>
                  <a:pt x="333" y="1088"/>
                </a:lnTo>
                <a:lnTo>
                  <a:pt x="336" y="1097"/>
                </a:lnTo>
                <a:lnTo>
                  <a:pt x="340" y="1106"/>
                </a:lnTo>
                <a:lnTo>
                  <a:pt x="346" y="1117"/>
                </a:lnTo>
                <a:lnTo>
                  <a:pt x="352" y="1126"/>
                </a:lnTo>
                <a:lnTo>
                  <a:pt x="358" y="1137"/>
                </a:lnTo>
                <a:lnTo>
                  <a:pt x="365" y="1148"/>
                </a:lnTo>
                <a:lnTo>
                  <a:pt x="372" y="1160"/>
                </a:lnTo>
                <a:lnTo>
                  <a:pt x="380" y="1171"/>
                </a:lnTo>
                <a:lnTo>
                  <a:pt x="388" y="1184"/>
                </a:lnTo>
                <a:lnTo>
                  <a:pt x="395" y="1195"/>
                </a:lnTo>
                <a:lnTo>
                  <a:pt x="402" y="1206"/>
                </a:lnTo>
                <a:lnTo>
                  <a:pt x="410" y="1216"/>
                </a:lnTo>
                <a:lnTo>
                  <a:pt x="418" y="1228"/>
                </a:lnTo>
                <a:lnTo>
                  <a:pt x="425" y="1237"/>
                </a:lnTo>
                <a:lnTo>
                  <a:pt x="432" y="1246"/>
                </a:lnTo>
                <a:lnTo>
                  <a:pt x="439" y="1254"/>
                </a:lnTo>
                <a:lnTo>
                  <a:pt x="445" y="1263"/>
                </a:lnTo>
                <a:lnTo>
                  <a:pt x="452" y="1272"/>
                </a:lnTo>
                <a:lnTo>
                  <a:pt x="460" y="1281"/>
                </a:lnTo>
                <a:lnTo>
                  <a:pt x="469" y="1290"/>
                </a:lnTo>
                <a:lnTo>
                  <a:pt x="477" y="1300"/>
                </a:lnTo>
                <a:lnTo>
                  <a:pt x="487" y="1309"/>
                </a:lnTo>
                <a:lnTo>
                  <a:pt x="496" y="1318"/>
                </a:lnTo>
                <a:lnTo>
                  <a:pt x="506" y="1328"/>
                </a:lnTo>
                <a:lnTo>
                  <a:pt x="515" y="1337"/>
                </a:lnTo>
                <a:lnTo>
                  <a:pt x="524" y="1346"/>
                </a:lnTo>
                <a:lnTo>
                  <a:pt x="534" y="1356"/>
                </a:lnTo>
                <a:lnTo>
                  <a:pt x="543" y="1363"/>
                </a:lnTo>
                <a:lnTo>
                  <a:pt x="550" y="1371"/>
                </a:lnTo>
                <a:lnTo>
                  <a:pt x="560" y="1378"/>
                </a:lnTo>
                <a:lnTo>
                  <a:pt x="567" y="1383"/>
                </a:lnTo>
                <a:lnTo>
                  <a:pt x="575" y="1388"/>
                </a:lnTo>
                <a:lnTo>
                  <a:pt x="580" y="1394"/>
                </a:lnTo>
                <a:lnTo>
                  <a:pt x="587" y="1400"/>
                </a:lnTo>
                <a:lnTo>
                  <a:pt x="594" y="1405"/>
                </a:lnTo>
                <a:lnTo>
                  <a:pt x="601" y="1409"/>
                </a:lnTo>
                <a:lnTo>
                  <a:pt x="606" y="1414"/>
                </a:lnTo>
                <a:lnTo>
                  <a:pt x="614" y="1419"/>
                </a:lnTo>
                <a:lnTo>
                  <a:pt x="621" y="1425"/>
                </a:lnTo>
                <a:lnTo>
                  <a:pt x="628" y="1429"/>
                </a:lnTo>
                <a:lnTo>
                  <a:pt x="634" y="1434"/>
                </a:lnTo>
                <a:lnTo>
                  <a:pt x="640" y="1438"/>
                </a:lnTo>
                <a:lnTo>
                  <a:pt x="645" y="1442"/>
                </a:lnTo>
                <a:lnTo>
                  <a:pt x="651" y="1446"/>
                </a:lnTo>
                <a:lnTo>
                  <a:pt x="655" y="1449"/>
                </a:lnTo>
                <a:lnTo>
                  <a:pt x="660" y="1452"/>
                </a:lnTo>
                <a:lnTo>
                  <a:pt x="663" y="1454"/>
                </a:lnTo>
                <a:lnTo>
                  <a:pt x="666" y="1456"/>
                </a:lnTo>
                <a:lnTo>
                  <a:pt x="668" y="1458"/>
                </a:lnTo>
                <a:lnTo>
                  <a:pt x="672" y="1459"/>
                </a:lnTo>
                <a:lnTo>
                  <a:pt x="675" y="1461"/>
                </a:lnTo>
                <a:lnTo>
                  <a:pt x="679" y="1463"/>
                </a:lnTo>
                <a:lnTo>
                  <a:pt x="683" y="1467"/>
                </a:lnTo>
                <a:lnTo>
                  <a:pt x="688" y="1469"/>
                </a:lnTo>
                <a:lnTo>
                  <a:pt x="693" y="1470"/>
                </a:lnTo>
                <a:lnTo>
                  <a:pt x="698" y="1472"/>
                </a:lnTo>
                <a:lnTo>
                  <a:pt x="703" y="1476"/>
                </a:lnTo>
                <a:lnTo>
                  <a:pt x="708" y="1478"/>
                </a:lnTo>
                <a:lnTo>
                  <a:pt x="714" y="1482"/>
                </a:lnTo>
                <a:lnTo>
                  <a:pt x="720" y="1484"/>
                </a:lnTo>
                <a:lnTo>
                  <a:pt x="724" y="1487"/>
                </a:lnTo>
                <a:lnTo>
                  <a:pt x="730" y="1489"/>
                </a:lnTo>
                <a:lnTo>
                  <a:pt x="736" y="1490"/>
                </a:lnTo>
                <a:lnTo>
                  <a:pt x="741" y="1492"/>
                </a:lnTo>
                <a:lnTo>
                  <a:pt x="746" y="1496"/>
                </a:lnTo>
                <a:lnTo>
                  <a:pt x="752" y="1497"/>
                </a:lnTo>
                <a:lnTo>
                  <a:pt x="759" y="1500"/>
                </a:lnTo>
                <a:lnTo>
                  <a:pt x="766" y="1502"/>
                </a:lnTo>
                <a:lnTo>
                  <a:pt x="774" y="1506"/>
                </a:lnTo>
                <a:lnTo>
                  <a:pt x="782" y="1507"/>
                </a:lnTo>
                <a:lnTo>
                  <a:pt x="791" y="1510"/>
                </a:lnTo>
                <a:lnTo>
                  <a:pt x="801" y="1512"/>
                </a:lnTo>
                <a:lnTo>
                  <a:pt x="809" y="1516"/>
                </a:lnTo>
                <a:lnTo>
                  <a:pt x="819" y="1518"/>
                </a:lnTo>
                <a:lnTo>
                  <a:pt x="828" y="1521"/>
                </a:lnTo>
                <a:lnTo>
                  <a:pt x="838" y="1523"/>
                </a:lnTo>
                <a:lnTo>
                  <a:pt x="846" y="1526"/>
                </a:lnTo>
                <a:lnTo>
                  <a:pt x="855" y="1528"/>
                </a:lnTo>
                <a:lnTo>
                  <a:pt x="863" y="1530"/>
                </a:lnTo>
                <a:lnTo>
                  <a:pt x="872" y="1531"/>
                </a:lnTo>
                <a:lnTo>
                  <a:pt x="879" y="1534"/>
                </a:lnTo>
                <a:lnTo>
                  <a:pt x="887" y="1536"/>
                </a:lnTo>
                <a:lnTo>
                  <a:pt x="897" y="1538"/>
                </a:lnTo>
                <a:lnTo>
                  <a:pt x="906" y="1540"/>
                </a:lnTo>
                <a:lnTo>
                  <a:pt x="916" y="1542"/>
                </a:lnTo>
                <a:lnTo>
                  <a:pt x="926" y="1544"/>
                </a:lnTo>
                <a:lnTo>
                  <a:pt x="936" y="1546"/>
                </a:lnTo>
                <a:lnTo>
                  <a:pt x="947" y="1548"/>
                </a:lnTo>
                <a:lnTo>
                  <a:pt x="957" y="1550"/>
                </a:lnTo>
                <a:lnTo>
                  <a:pt x="967" y="1552"/>
                </a:lnTo>
                <a:lnTo>
                  <a:pt x="976" y="1554"/>
                </a:lnTo>
                <a:lnTo>
                  <a:pt x="986" y="1556"/>
                </a:lnTo>
                <a:lnTo>
                  <a:pt x="995" y="1557"/>
                </a:lnTo>
                <a:lnTo>
                  <a:pt x="1004" y="1558"/>
                </a:lnTo>
                <a:lnTo>
                  <a:pt x="1012" y="1560"/>
                </a:lnTo>
                <a:lnTo>
                  <a:pt x="1019" y="1560"/>
                </a:lnTo>
                <a:lnTo>
                  <a:pt x="1025" y="1562"/>
                </a:lnTo>
                <a:lnTo>
                  <a:pt x="1033" y="1562"/>
                </a:lnTo>
                <a:lnTo>
                  <a:pt x="1042" y="1563"/>
                </a:lnTo>
                <a:lnTo>
                  <a:pt x="1051" y="1563"/>
                </a:lnTo>
                <a:lnTo>
                  <a:pt x="1060" y="1565"/>
                </a:lnTo>
                <a:lnTo>
                  <a:pt x="1070" y="1565"/>
                </a:lnTo>
                <a:lnTo>
                  <a:pt x="1080" y="1565"/>
                </a:lnTo>
                <a:lnTo>
                  <a:pt x="1092" y="1565"/>
                </a:lnTo>
                <a:lnTo>
                  <a:pt x="1101" y="1567"/>
                </a:lnTo>
                <a:lnTo>
                  <a:pt x="1112" y="1567"/>
                </a:lnTo>
                <a:lnTo>
                  <a:pt x="1121" y="1569"/>
                </a:lnTo>
                <a:lnTo>
                  <a:pt x="1132" y="1569"/>
                </a:lnTo>
                <a:lnTo>
                  <a:pt x="1142" y="1571"/>
                </a:lnTo>
                <a:lnTo>
                  <a:pt x="1152" y="1571"/>
                </a:lnTo>
                <a:lnTo>
                  <a:pt x="1160" y="1572"/>
                </a:lnTo>
                <a:lnTo>
                  <a:pt x="1170" y="1572"/>
                </a:lnTo>
                <a:lnTo>
                  <a:pt x="1177" y="1574"/>
                </a:lnTo>
                <a:lnTo>
                  <a:pt x="1186" y="1574"/>
                </a:lnTo>
                <a:lnTo>
                  <a:pt x="1195" y="1574"/>
                </a:lnTo>
                <a:lnTo>
                  <a:pt x="1205" y="1574"/>
                </a:lnTo>
                <a:lnTo>
                  <a:pt x="1214" y="1574"/>
                </a:lnTo>
                <a:lnTo>
                  <a:pt x="1226" y="1574"/>
                </a:lnTo>
                <a:lnTo>
                  <a:pt x="1236" y="1574"/>
                </a:lnTo>
                <a:lnTo>
                  <a:pt x="1248" y="1574"/>
                </a:lnTo>
                <a:lnTo>
                  <a:pt x="1257" y="1575"/>
                </a:lnTo>
                <a:lnTo>
                  <a:pt x="1267" y="1575"/>
                </a:lnTo>
                <a:lnTo>
                  <a:pt x="1277" y="1575"/>
                </a:lnTo>
                <a:lnTo>
                  <a:pt x="1287" y="1575"/>
                </a:lnTo>
                <a:lnTo>
                  <a:pt x="1296" y="1575"/>
                </a:lnTo>
                <a:lnTo>
                  <a:pt x="1305" y="1575"/>
                </a:lnTo>
                <a:lnTo>
                  <a:pt x="1312" y="1575"/>
                </a:lnTo>
                <a:lnTo>
                  <a:pt x="1320" y="1575"/>
                </a:lnTo>
                <a:lnTo>
                  <a:pt x="1324" y="1575"/>
                </a:lnTo>
                <a:lnTo>
                  <a:pt x="1329" y="1575"/>
                </a:lnTo>
                <a:lnTo>
                  <a:pt x="1332" y="1575"/>
                </a:lnTo>
                <a:lnTo>
                  <a:pt x="1335" y="1575"/>
                </a:lnTo>
                <a:lnTo>
                  <a:pt x="1335" y="1575"/>
                </a:lnTo>
                <a:lnTo>
                  <a:pt x="1337" y="1575"/>
                </a:lnTo>
                <a:lnTo>
                  <a:pt x="1338" y="1575"/>
                </a:lnTo>
                <a:lnTo>
                  <a:pt x="1340" y="1575"/>
                </a:lnTo>
                <a:lnTo>
                  <a:pt x="1342" y="1575"/>
                </a:lnTo>
                <a:lnTo>
                  <a:pt x="1344" y="1575"/>
                </a:lnTo>
                <a:lnTo>
                  <a:pt x="1347" y="1575"/>
                </a:lnTo>
                <a:lnTo>
                  <a:pt x="1352" y="1575"/>
                </a:lnTo>
                <a:lnTo>
                  <a:pt x="1358" y="1575"/>
                </a:lnTo>
                <a:lnTo>
                  <a:pt x="1366" y="1575"/>
                </a:lnTo>
                <a:lnTo>
                  <a:pt x="1375" y="1575"/>
                </a:lnTo>
                <a:lnTo>
                  <a:pt x="1388" y="1575"/>
                </a:ln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001000" y="632448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48720" y="1600200"/>
            <a:ext cx="761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7010280"/>
            <a:ext cx="540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480" y="205740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6858000"/>
            <a:ext cx="761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95280" y="1371600"/>
            <a:ext cx="540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43960" y="2117880"/>
            <a:ext cx="0" cy="47368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68360" y="7005600"/>
            <a:ext cx="634536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368360" y="2104560"/>
            <a:ext cx="0" cy="49006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600200" y="0"/>
            <a:ext cx="614376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10744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lgunas asignaciones son claramente inequitativ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684080" y="2366640"/>
            <a:ext cx="8374320" cy="4482000"/>
            <a:chOff x="1684080" y="2366640"/>
            <a:chExt cx="8374320" cy="4482000"/>
          </a:xfrm>
        </p:grpSpPr>
        <p:sp>
          <p:nvSpPr>
            <p:cNvPr id="601" name=""/>
            <p:cNvSpPr/>
            <p:nvPr/>
          </p:nvSpPr>
          <p:spPr>
            <a:xfrm>
              <a:off x="8001000" y="3352680"/>
              <a:ext cx="2057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estas asignaciones son eficientes pero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... para nada atrac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7732440" y="2366640"/>
              <a:ext cx="376200" cy="8492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1684080" y="3946680"/>
              <a:ext cx="6221160" cy="29019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379520" y="6477120"/>
            <a:ext cx="5256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91520" y="1905120"/>
            <a:ext cx="129528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5861160"/>
            <a:ext cx="5256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81680" y="2590920"/>
            <a:ext cx="129564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1160" y="0"/>
            <a:ext cx="977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Quizas estas tambie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449568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81160" y="457200"/>
            <a:ext cx="9777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Es esta equitativa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277440" y="2134440"/>
            <a:ext cx="4418640" cy="2666520"/>
            <a:chOff x="3277440" y="2134440"/>
            <a:chExt cx="4418640" cy="2666520"/>
          </a:xfrm>
        </p:grpSpPr>
        <p:sp>
          <p:nvSpPr>
            <p:cNvPr id="612" name=""/>
            <p:cNvSpPr/>
            <p:nvPr/>
          </p:nvSpPr>
          <p:spPr>
            <a:xfrm flipH="1">
              <a:off x="3277440" y="4800600"/>
              <a:ext cx="4418640" cy="0"/>
            </a:xfrm>
            <a:prstGeom prst="line">
              <a:avLst/>
            </a:prstGeom>
            <a:ln w="76320">
              <a:solidFill>
                <a:srgbClr val="800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77440" y="2134440"/>
              <a:ext cx="0" cy="2666520"/>
            </a:xfrm>
            <a:prstGeom prst="line">
              <a:avLst/>
            </a:prstGeom>
            <a:ln w="76320">
              <a:solidFill>
                <a:srgbClr val="800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281160" y="0"/>
            <a:ext cx="9777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ercambiemos sus asignacion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371600" y="4267080"/>
            <a:ext cx="4419000" cy="2666880"/>
            <a:chOff x="1371600" y="4267080"/>
            <a:chExt cx="4419000" cy="2666880"/>
          </a:xfrm>
        </p:grpSpPr>
        <p:sp>
          <p:nvSpPr>
            <p:cNvPr id="616" name=""/>
            <p:cNvSpPr/>
            <p:nvPr/>
          </p:nvSpPr>
          <p:spPr>
            <a:xfrm>
              <a:off x="1371600" y="4267080"/>
              <a:ext cx="4419000" cy="0"/>
            </a:xfrm>
            <a:prstGeom prst="line">
              <a:avLst/>
            </a:prstGeom>
            <a:ln w="76320">
              <a:solidFill>
                <a:srgbClr val="800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790600" y="4267080"/>
              <a:ext cx="0" cy="2666880"/>
            </a:xfrm>
            <a:prstGeom prst="line">
              <a:avLst/>
            </a:prstGeom>
            <a:ln w="76320">
              <a:solidFill>
                <a:srgbClr val="800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281160" y="0"/>
            <a:ext cx="9777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1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Envidiaría Juan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 Pedro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nuevo vistazo a la “Superioridad” de Pareto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556080"/>
            <a:ext cx="5421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Para todo individuo </a:t>
            </a: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h:</a:t>
            </a:r>
            <a:br>
              <a:rPr sz="3000"/>
            </a:b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280" y="1981080"/>
            <a:ext cx="965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a asignación [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] es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superio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a otra  [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]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72200" y="335268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4611600"/>
            <a:ext cx="6248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Por lo menos para un individuo:</a:t>
            </a:r>
            <a:br>
              <a:rPr sz="3000"/>
            </a:b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16480" y="4419720"/>
            <a:ext cx="3765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85800" y="6141960"/>
            <a:ext cx="8480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...para formalizar “equidad” y “ausencia de envidia”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quidad: asignacion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1863720" y="3641400"/>
            <a:ext cx="5683320" cy="162864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6200" y="2289240"/>
            <a:ext cx="80103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a asignación es equitativa si para cualquier par de individuos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y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'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849320" y="6143760"/>
            <a:ext cx="35607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8280"/>
                </a:solidFill>
                <a:latin typeface="Times New Roman"/>
              </a:rPr>
              <a:t>dados mis gustos prefiero debilmente</a:t>
            </a:r>
            <a:r>
              <a:rPr b="1" i="1" lang="en-GB" sz="3000" spc="-1" strike="noStrike">
                <a:solidFill>
                  <a:srgbClr val="008280"/>
                </a:solidFill>
                <a:latin typeface="Times New Roman"/>
              </a:rPr>
              <a:t>..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3151080" y="4782960"/>
            <a:ext cx="106560" cy="13147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324240" y="4782960"/>
            <a:ext cx="1579680" cy="13543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849320" y="6705720"/>
            <a:ext cx="363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i="1" lang="en-GB" sz="3000" spc="-1" strike="noStrike">
                <a:solidFill>
                  <a:srgbClr val="008280"/>
                </a:solidFill>
                <a:latin typeface="Times New Roman"/>
              </a:rPr>
              <a:t>...mi canasta a la tuy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600280" y="4692600"/>
            <a:ext cx="1111320" cy="23637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724280" y="4776840"/>
            <a:ext cx="984240" cy="2347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resultado atrayente [??]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6560" y="2970360"/>
            <a:ext cx="9210960" cy="251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290760" indent="-28335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OREMA: Si todos los individuos tienen igual ingreso la asignación competitiva se corresponde con el equilibrio competitivo 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5715000"/>
            <a:ext cx="84801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..y por supuesto debe ser efic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609480" y="1371600"/>
            <a:ext cx="8153640" cy="6210360"/>
            <a:chOff x="609480" y="1371600"/>
            <a:chExt cx="8153640" cy="6210360"/>
          </a:xfrm>
        </p:grpSpPr>
        <p:sp>
          <p:nvSpPr>
            <p:cNvPr id="639" name=""/>
            <p:cNvSpPr/>
            <p:nvPr/>
          </p:nvSpPr>
          <p:spPr>
            <a:xfrm>
              <a:off x="1971720" y="4759200"/>
              <a:ext cx="1087560" cy="1909800"/>
            </a:xfrm>
            <a:custGeom>
              <a:avLst/>
              <a:gdLst/>
              <a:ahLst/>
              <a:rect l="l" t="t" r="r" b="b"/>
              <a:pathLst>
                <a:path w="685" h="1203">
                  <a:moveTo>
                    <a:pt x="684" y="1202"/>
                  </a:moveTo>
                  <a:lnTo>
                    <a:pt x="682" y="1193"/>
                  </a:lnTo>
                  <a:lnTo>
                    <a:pt x="682" y="1185"/>
                  </a:lnTo>
                  <a:lnTo>
                    <a:pt x="681" y="1179"/>
                  </a:lnTo>
                  <a:lnTo>
                    <a:pt x="681" y="1173"/>
                  </a:lnTo>
                  <a:lnTo>
                    <a:pt x="680" y="1171"/>
                  </a:lnTo>
                  <a:lnTo>
                    <a:pt x="680" y="1167"/>
                  </a:lnTo>
                  <a:lnTo>
                    <a:pt x="680" y="1165"/>
                  </a:lnTo>
                  <a:lnTo>
                    <a:pt x="680" y="1163"/>
                  </a:lnTo>
                  <a:lnTo>
                    <a:pt x="680" y="1163"/>
                  </a:lnTo>
                  <a:lnTo>
                    <a:pt x="680" y="1161"/>
                  </a:lnTo>
                  <a:lnTo>
                    <a:pt x="680" y="1160"/>
                  </a:lnTo>
                  <a:lnTo>
                    <a:pt x="680" y="1158"/>
                  </a:lnTo>
                  <a:lnTo>
                    <a:pt x="680" y="1156"/>
                  </a:lnTo>
                  <a:lnTo>
                    <a:pt x="680" y="1153"/>
                  </a:lnTo>
                  <a:lnTo>
                    <a:pt x="680" y="1150"/>
                  </a:lnTo>
                  <a:lnTo>
                    <a:pt x="680" y="1144"/>
                  </a:lnTo>
                  <a:lnTo>
                    <a:pt x="678" y="1139"/>
                  </a:lnTo>
                  <a:lnTo>
                    <a:pt x="678" y="1131"/>
                  </a:lnTo>
                  <a:lnTo>
                    <a:pt x="676" y="1122"/>
                  </a:lnTo>
                  <a:lnTo>
                    <a:pt x="676" y="1110"/>
                  </a:lnTo>
                  <a:lnTo>
                    <a:pt x="674" y="1099"/>
                  </a:lnTo>
                  <a:lnTo>
                    <a:pt x="672" y="1086"/>
                  </a:lnTo>
                  <a:lnTo>
                    <a:pt x="670" y="1073"/>
                  </a:lnTo>
                  <a:lnTo>
                    <a:pt x="670" y="1058"/>
                  </a:lnTo>
                  <a:lnTo>
                    <a:pt x="667" y="1044"/>
                  </a:lnTo>
                  <a:lnTo>
                    <a:pt x="665" y="1028"/>
                  </a:lnTo>
                  <a:lnTo>
                    <a:pt x="664" y="1014"/>
                  </a:lnTo>
                  <a:lnTo>
                    <a:pt x="662" y="997"/>
                  </a:lnTo>
                  <a:lnTo>
                    <a:pt x="660" y="982"/>
                  </a:lnTo>
                  <a:lnTo>
                    <a:pt x="658" y="966"/>
                  </a:lnTo>
                  <a:lnTo>
                    <a:pt x="656" y="951"/>
                  </a:lnTo>
                  <a:lnTo>
                    <a:pt x="654" y="936"/>
                  </a:lnTo>
                  <a:lnTo>
                    <a:pt x="650" y="922"/>
                  </a:lnTo>
                  <a:lnTo>
                    <a:pt x="648" y="907"/>
                  </a:lnTo>
                  <a:lnTo>
                    <a:pt x="646" y="891"/>
                  </a:lnTo>
                  <a:lnTo>
                    <a:pt x="644" y="874"/>
                  </a:lnTo>
                  <a:lnTo>
                    <a:pt x="640" y="859"/>
                  </a:lnTo>
                  <a:lnTo>
                    <a:pt x="638" y="842"/>
                  </a:lnTo>
                  <a:lnTo>
                    <a:pt x="635" y="826"/>
                  </a:lnTo>
                  <a:lnTo>
                    <a:pt x="633" y="809"/>
                  </a:lnTo>
                  <a:lnTo>
                    <a:pt x="629" y="794"/>
                  </a:lnTo>
                  <a:lnTo>
                    <a:pt x="627" y="779"/>
                  </a:lnTo>
                  <a:lnTo>
                    <a:pt x="624" y="765"/>
                  </a:lnTo>
                  <a:lnTo>
                    <a:pt x="622" y="751"/>
                  </a:lnTo>
                  <a:lnTo>
                    <a:pt x="618" y="740"/>
                  </a:lnTo>
                  <a:lnTo>
                    <a:pt x="617" y="728"/>
                  </a:lnTo>
                  <a:lnTo>
                    <a:pt x="615" y="718"/>
                  </a:lnTo>
                  <a:lnTo>
                    <a:pt x="613" y="710"/>
                  </a:lnTo>
                  <a:lnTo>
                    <a:pt x="610" y="703"/>
                  </a:lnTo>
                  <a:lnTo>
                    <a:pt x="608" y="695"/>
                  </a:lnTo>
                  <a:lnTo>
                    <a:pt x="605" y="685"/>
                  </a:lnTo>
                  <a:lnTo>
                    <a:pt x="603" y="675"/>
                  </a:lnTo>
                  <a:lnTo>
                    <a:pt x="599" y="664"/>
                  </a:lnTo>
                  <a:lnTo>
                    <a:pt x="596" y="652"/>
                  </a:lnTo>
                  <a:lnTo>
                    <a:pt x="592" y="641"/>
                  </a:lnTo>
                  <a:lnTo>
                    <a:pt x="590" y="628"/>
                  </a:lnTo>
                  <a:lnTo>
                    <a:pt x="587" y="617"/>
                  </a:lnTo>
                  <a:lnTo>
                    <a:pt x="583" y="604"/>
                  </a:lnTo>
                  <a:lnTo>
                    <a:pt x="579" y="592"/>
                  </a:lnTo>
                  <a:lnTo>
                    <a:pt x="577" y="579"/>
                  </a:lnTo>
                  <a:lnTo>
                    <a:pt x="573" y="568"/>
                  </a:lnTo>
                  <a:lnTo>
                    <a:pt x="570" y="556"/>
                  </a:lnTo>
                  <a:lnTo>
                    <a:pt x="568" y="546"/>
                  </a:lnTo>
                  <a:lnTo>
                    <a:pt x="566" y="536"/>
                  </a:lnTo>
                  <a:lnTo>
                    <a:pt x="562" y="526"/>
                  </a:lnTo>
                  <a:lnTo>
                    <a:pt x="559" y="516"/>
                  </a:lnTo>
                  <a:lnTo>
                    <a:pt x="556" y="505"/>
                  </a:lnTo>
                  <a:lnTo>
                    <a:pt x="554" y="494"/>
                  </a:lnTo>
                  <a:lnTo>
                    <a:pt x="550" y="482"/>
                  </a:lnTo>
                  <a:lnTo>
                    <a:pt x="547" y="471"/>
                  </a:lnTo>
                  <a:lnTo>
                    <a:pt x="543" y="460"/>
                  </a:lnTo>
                  <a:lnTo>
                    <a:pt x="541" y="447"/>
                  </a:lnTo>
                  <a:lnTo>
                    <a:pt x="538" y="437"/>
                  </a:lnTo>
                  <a:lnTo>
                    <a:pt x="534" y="426"/>
                  </a:lnTo>
                  <a:lnTo>
                    <a:pt x="530" y="416"/>
                  </a:lnTo>
                  <a:lnTo>
                    <a:pt x="529" y="404"/>
                  </a:lnTo>
                  <a:lnTo>
                    <a:pt x="525" y="396"/>
                  </a:lnTo>
                  <a:lnTo>
                    <a:pt x="523" y="387"/>
                  </a:lnTo>
                  <a:lnTo>
                    <a:pt x="521" y="380"/>
                  </a:lnTo>
                  <a:lnTo>
                    <a:pt x="519" y="372"/>
                  </a:lnTo>
                  <a:lnTo>
                    <a:pt x="516" y="366"/>
                  </a:lnTo>
                  <a:lnTo>
                    <a:pt x="514" y="359"/>
                  </a:lnTo>
                  <a:lnTo>
                    <a:pt x="511" y="352"/>
                  </a:lnTo>
                  <a:lnTo>
                    <a:pt x="509" y="344"/>
                  </a:lnTo>
                  <a:lnTo>
                    <a:pt x="505" y="336"/>
                  </a:lnTo>
                  <a:lnTo>
                    <a:pt x="501" y="326"/>
                  </a:lnTo>
                  <a:lnTo>
                    <a:pt x="498" y="318"/>
                  </a:lnTo>
                  <a:lnTo>
                    <a:pt x="495" y="308"/>
                  </a:lnTo>
                  <a:lnTo>
                    <a:pt x="491" y="301"/>
                  </a:lnTo>
                  <a:lnTo>
                    <a:pt x="487" y="292"/>
                  </a:lnTo>
                  <a:lnTo>
                    <a:pt x="483" y="284"/>
                  </a:lnTo>
                  <a:lnTo>
                    <a:pt x="480" y="274"/>
                  </a:lnTo>
                  <a:lnTo>
                    <a:pt x="476" y="267"/>
                  </a:lnTo>
                  <a:lnTo>
                    <a:pt x="472" y="258"/>
                  </a:lnTo>
                  <a:lnTo>
                    <a:pt x="468" y="252"/>
                  </a:lnTo>
                  <a:lnTo>
                    <a:pt x="466" y="245"/>
                  </a:lnTo>
                  <a:lnTo>
                    <a:pt x="462" y="239"/>
                  </a:lnTo>
                  <a:lnTo>
                    <a:pt x="459" y="233"/>
                  </a:lnTo>
                  <a:lnTo>
                    <a:pt x="455" y="227"/>
                  </a:lnTo>
                  <a:lnTo>
                    <a:pt x="451" y="219"/>
                  </a:lnTo>
                  <a:lnTo>
                    <a:pt x="446" y="212"/>
                  </a:lnTo>
                  <a:lnTo>
                    <a:pt x="442" y="204"/>
                  </a:lnTo>
                  <a:lnTo>
                    <a:pt x="437" y="197"/>
                  </a:lnTo>
                  <a:lnTo>
                    <a:pt x="433" y="189"/>
                  </a:lnTo>
                  <a:lnTo>
                    <a:pt x="428" y="184"/>
                  </a:lnTo>
                  <a:lnTo>
                    <a:pt x="424" y="176"/>
                  </a:lnTo>
                  <a:lnTo>
                    <a:pt x="418" y="170"/>
                  </a:lnTo>
                  <a:lnTo>
                    <a:pt x="414" y="162"/>
                  </a:lnTo>
                  <a:lnTo>
                    <a:pt x="410" y="157"/>
                  </a:lnTo>
                  <a:lnTo>
                    <a:pt x="406" y="151"/>
                  </a:lnTo>
                  <a:lnTo>
                    <a:pt x="403" y="147"/>
                  </a:lnTo>
                  <a:lnTo>
                    <a:pt x="400" y="142"/>
                  </a:lnTo>
                  <a:lnTo>
                    <a:pt x="396" y="138"/>
                  </a:lnTo>
                  <a:lnTo>
                    <a:pt x="393" y="134"/>
                  </a:lnTo>
                  <a:lnTo>
                    <a:pt x="389" y="131"/>
                  </a:lnTo>
                  <a:lnTo>
                    <a:pt x="386" y="127"/>
                  </a:lnTo>
                  <a:lnTo>
                    <a:pt x="383" y="123"/>
                  </a:lnTo>
                  <a:lnTo>
                    <a:pt x="379" y="120"/>
                  </a:lnTo>
                  <a:lnTo>
                    <a:pt x="375" y="116"/>
                  </a:lnTo>
                  <a:lnTo>
                    <a:pt x="373" y="112"/>
                  </a:lnTo>
                  <a:lnTo>
                    <a:pt x="370" y="110"/>
                  </a:lnTo>
                  <a:lnTo>
                    <a:pt x="367" y="106"/>
                  </a:lnTo>
                  <a:lnTo>
                    <a:pt x="364" y="103"/>
                  </a:lnTo>
                  <a:lnTo>
                    <a:pt x="362" y="100"/>
                  </a:lnTo>
                  <a:lnTo>
                    <a:pt x="360" y="98"/>
                  </a:lnTo>
                  <a:lnTo>
                    <a:pt x="358" y="95"/>
                  </a:lnTo>
                  <a:lnTo>
                    <a:pt x="356" y="93"/>
                  </a:lnTo>
                  <a:lnTo>
                    <a:pt x="355" y="91"/>
                  </a:lnTo>
                  <a:lnTo>
                    <a:pt x="353" y="91"/>
                  </a:lnTo>
                  <a:lnTo>
                    <a:pt x="352" y="89"/>
                  </a:lnTo>
                  <a:lnTo>
                    <a:pt x="350" y="88"/>
                  </a:lnTo>
                  <a:lnTo>
                    <a:pt x="348" y="86"/>
                  </a:lnTo>
                  <a:lnTo>
                    <a:pt x="345" y="84"/>
                  </a:lnTo>
                  <a:lnTo>
                    <a:pt x="343" y="82"/>
                  </a:lnTo>
                  <a:lnTo>
                    <a:pt x="341" y="81"/>
                  </a:lnTo>
                  <a:lnTo>
                    <a:pt x="339" y="79"/>
                  </a:lnTo>
                  <a:lnTo>
                    <a:pt x="335" y="77"/>
                  </a:lnTo>
                  <a:lnTo>
                    <a:pt x="334" y="75"/>
                  </a:lnTo>
                  <a:lnTo>
                    <a:pt x="330" y="73"/>
                  </a:lnTo>
                  <a:lnTo>
                    <a:pt x="328" y="71"/>
                  </a:lnTo>
                  <a:lnTo>
                    <a:pt x="324" y="70"/>
                  </a:lnTo>
                  <a:lnTo>
                    <a:pt x="322" y="68"/>
                  </a:lnTo>
                  <a:lnTo>
                    <a:pt x="320" y="66"/>
                  </a:lnTo>
                  <a:lnTo>
                    <a:pt x="318" y="64"/>
                  </a:lnTo>
                  <a:lnTo>
                    <a:pt x="314" y="63"/>
                  </a:lnTo>
                  <a:lnTo>
                    <a:pt x="312" y="61"/>
                  </a:lnTo>
                  <a:lnTo>
                    <a:pt x="308" y="60"/>
                  </a:lnTo>
                  <a:lnTo>
                    <a:pt x="305" y="58"/>
                  </a:lnTo>
                  <a:lnTo>
                    <a:pt x="300" y="56"/>
                  </a:lnTo>
                  <a:lnTo>
                    <a:pt x="296" y="54"/>
                  </a:lnTo>
                  <a:lnTo>
                    <a:pt x="292" y="52"/>
                  </a:lnTo>
                  <a:lnTo>
                    <a:pt x="288" y="50"/>
                  </a:lnTo>
                  <a:lnTo>
                    <a:pt x="283" y="48"/>
                  </a:lnTo>
                  <a:lnTo>
                    <a:pt x="279" y="46"/>
                  </a:lnTo>
                  <a:lnTo>
                    <a:pt x="274" y="44"/>
                  </a:lnTo>
                  <a:lnTo>
                    <a:pt x="270" y="42"/>
                  </a:lnTo>
                  <a:lnTo>
                    <a:pt x="265" y="40"/>
                  </a:lnTo>
                  <a:lnTo>
                    <a:pt x="261" y="38"/>
                  </a:lnTo>
                  <a:lnTo>
                    <a:pt x="257" y="36"/>
                  </a:lnTo>
                  <a:lnTo>
                    <a:pt x="254" y="33"/>
                  </a:lnTo>
                  <a:lnTo>
                    <a:pt x="248" y="33"/>
                  </a:lnTo>
                  <a:lnTo>
                    <a:pt x="245" y="32"/>
                  </a:lnTo>
                  <a:lnTo>
                    <a:pt x="240" y="30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26" y="26"/>
                  </a:lnTo>
                  <a:lnTo>
                    <a:pt x="220" y="24"/>
                  </a:lnTo>
                  <a:lnTo>
                    <a:pt x="216" y="22"/>
                  </a:lnTo>
                  <a:lnTo>
                    <a:pt x="210" y="22"/>
                  </a:lnTo>
                  <a:lnTo>
                    <a:pt x="206" y="20"/>
                  </a:lnTo>
                  <a:lnTo>
                    <a:pt x="200" y="19"/>
                  </a:lnTo>
                  <a:lnTo>
                    <a:pt x="196" y="17"/>
                  </a:lnTo>
                  <a:lnTo>
                    <a:pt x="191" y="17"/>
                  </a:lnTo>
                  <a:lnTo>
                    <a:pt x="187" y="15"/>
                  </a:lnTo>
                  <a:lnTo>
                    <a:pt x="184" y="14"/>
                  </a:lnTo>
                  <a:lnTo>
                    <a:pt x="180" y="13"/>
                  </a:lnTo>
                  <a:lnTo>
                    <a:pt x="176" y="13"/>
                  </a:lnTo>
                  <a:lnTo>
                    <a:pt x="172" y="13"/>
                  </a:lnTo>
                  <a:lnTo>
                    <a:pt x="168" y="13"/>
                  </a:lnTo>
                  <a:lnTo>
                    <a:pt x="164" y="11"/>
                  </a:lnTo>
                  <a:lnTo>
                    <a:pt x="159" y="11"/>
                  </a:lnTo>
                  <a:lnTo>
                    <a:pt x="154" y="10"/>
                  </a:lnTo>
                  <a:lnTo>
                    <a:pt x="149" y="10"/>
                  </a:lnTo>
                  <a:lnTo>
                    <a:pt x="145" y="8"/>
                  </a:lnTo>
                  <a:lnTo>
                    <a:pt x="139" y="8"/>
                  </a:lnTo>
                  <a:lnTo>
                    <a:pt x="134" y="8"/>
                  </a:lnTo>
                  <a:lnTo>
                    <a:pt x="128" y="8"/>
                  </a:lnTo>
                  <a:lnTo>
                    <a:pt x="124" y="6"/>
                  </a:lnTo>
                  <a:lnTo>
                    <a:pt x="118" y="6"/>
                  </a:lnTo>
                  <a:lnTo>
                    <a:pt x="114" y="5"/>
                  </a:lnTo>
                  <a:lnTo>
                    <a:pt x="110" y="5"/>
                  </a:lnTo>
                  <a:lnTo>
                    <a:pt x="106" y="3"/>
                  </a:lnTo>
                  <a:lnTo>
                    <a:pt x="101" y="3"/>
                  </a:lnTo>
                  <a:lnTo>
                    <a:pt x="98" y="3"/>
                  </a:lnTo>
                  <a:lnTo>
                    <a:pt x="92" y="3"/>
                  </a:lnTo>
                  <a:lnTo>
                    <a:pt x="88" y="3"/>
                  </a:lnTo>
                  <a:lnTo>
                    <a:pt x="82" y="3"/>
                  </a:lnTo>
                  <a:lnTo>
                    <a:pt x="77" y="3"/>
                  </a:lnTo>
                  <a:lnTo>
                    <a:pt x="71" y="3"/>
                  </a:lnTo>
                  <a:lnTo>
                    <a:pt x="68" y="2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1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55960" y="2441520"/>
              <a:ext cx="2565360" cy="4297320"/>
            </a:xfrm>
            <a:custGeom>
              <a:avLst/>
              <a:gdLst/>
              <a:ahLst/>
              <a:rect l="l" t="t" r="r" b="b"/>
              <a:pathLst>
                <a:path w="1616" h="2707">
                  <a:moveTo>
                    <a:pt x="0" y="0"/>
                  </a:moveTo>
                  <a:lnTo>
                    <a:pt x="1" y="22"/>
                  </a:lnTo>
                  <a:lnTo>
                    <a:pt x="3" y="41"/>
                  </a:lnTo>
                  <a:lnTo>
                    <a:pt x="3" y="56"/>
                  </a:lnTo>
                  <a:lnTo>
                    <a:pt x="5" y="66"/>
                  </a:lnTo>
                  <a:lnTo>
                    <a:pt x="5" y="76"/>
                  </a:lnTo>
                  <a:lnTo>
                    <a:pt x="6" y="82"/>
                  </a:lnTo>
                  <a:lnTo>
                    <a:pt x="6" y="86"/>
                  </a:lnTo>
                  <a:lnTo>
                    <a:pt x="8" y="89"/>
                  </a:lnTo>
                  <a:lnTo>
                    <a:pt x="8" y="93"/>
                  </a:lnTo>
                  <a:lnTo>
                    <a:pt x="8" y="96"/>
                  </a:lnTo>
                  <a:lnTo>
                    <a:pt x="8" y="99"/>
                  </a:lnTo>
                  <a:lnTo>
                    <a:pt x="8" y="101"/>
                  </a:lnTo>
                  <a:lnTo>
                    <a:pt x="8" y="106"/>
                  </a:lnTo>
                  <a:lnTo>
                    <a:pt x="9" y="112"/>
                  </a:lnTo>
                  <a:lnTo>
                    <a:pt x="10" y="120"/>
                  </a:lnTo>
                  <a:lnTo>
                    <a:pt x="12" y="130"/>
                  </a:lnTo>
                  <a:lnTo>
                    <a:pt x="13" y="146"/>
                  </a:lnTo>
                  <a:lnTo>
                    <a:pt x="15" y="163"/>
                  </a:lnTo>
                  <a:lnTo>
                    <a:pt x="18" y="185"/>
                  </a:lnTo>
                  <a:lnTo>
                    <a:pt x="22" y="208"/>
                  </a:lnTo>
                  <a:lnTo>
                    <a:pt x="26" y="235"/>
                  </a:lnTo>
                  <a:lnTo>
                    <a:pt x="31" y="265"/>
                  </a:lnTo>
                  <a:lnTo>
                    <a:pt x="37" y="296"/>
                  </a:lnTo>
                  <a:lnTo>
                    <a:pt x="42" y="328"/>
                  </a:lnTo>
                  <a:lnTo>
                    <a:pt x="48" y="363"/>
                  </a:lnTo>
                  <a:lnTo>
                    <a:pt x="54" y="397"/>
                  </a:lnTo>
                  <a:lnTo>
                    <a:pt x="59" y="432"/>
                  </a:lnTo>
                  <a:lnTo>
                    <a:pt x="67" y="468"/>
                  </a:lnTo>
                  <a:lnTo>
                    <a:pt x="73" y="503"/>
                  </a:lnTo>
                  <a:lnTo>
                    <a:pt x="80" y="538"/>
                  </a:lnTo>
                  <a:lnTo>
                    <a:pt x="86" y="572"/>
                  </a:lnTo>
                  <a:lnTo>
                    <a:pt x="93" y="605"/>
                  </a:lnTo>
                  <a:lnTo>
                    <a:pt x="99" y="639"/>
                  </a:lnTo>
                  <a:lnTo>
                    <a:pt x="107" y="673"/>
                  </a:lnTo>
                  <a:lnTo>
                    <a:pt x="115" y="710"/>
                  </a:lnTo>
                  <a:lnTo>
                    <a:pt x="124" y="746"/>
                  </a:lnTo>
                  <a:lnTo>
                    <a:pt x="133" y="783"/>
                  </a:lnTo>
                  <a:lnTo>
                    <a:pt x="142" y="821"/>
                  </a:lnTo>
                  <a:lnTo>
                    <a:pt x="151" y="858"/>
                  </a:lnTo>
                  <a:lnTo>
                    <a:pt x="161" y="894"/>
                  </a:lnTo>
                  <a:lnTo>
                    <a:pt x="169" y="930"/>
                  </a:lnTo>
                  <a:lnTo>
                    <a:pt x="178" y="964"/>
                  </a:lnTo>
                  <a:lnTo>
                    <a:pt x="187" y="997"/>
                  </a:lnTo>
                  <a:lnTo>
                    <a:pt x="196" y="1027"/>
                  </a:lnTo>
                  <a:lnTo>
                    <a:pt x="204" y="1056"/>
                  </a:lnTo>
                  <a:lnTo>
                    <a:pt x="212" y="1081"/>
                  </a:lnTo>
                  <a:lnTo>
                    <a:pt x="219" y="1103"/>
                  </a:lnTo>
                  <a:lnTo>
                    <a:pt x="226" y="1121"/>
                  </a:lnTo>
                  <a:lnTo>
                    <a:pt x="232" y="1138"/>
                  </a:lnTo>
                  <a:lnTo>
                    <a:pt x="239" y="1158"/>
                  </a:lnTo>
                  <a:lnTo>
                    <a:pt x="246" y="1180"/>
                  </a:lnTo>
                  <a:lnTo>
                    <a:pt x="255" y="1203"/>
                  </a:lnTo>
                  <a:lnTo>
                    <a:pt x="265" y="1229"/>
                  </a:lnTo>
                  <a:lnTo>
                    <a:pt x="275" y="1255"/>
                  </a:lnTo>
                  <a:lnTo>
                    <a:pt x="285" y="1282"/>
                  </a:lnTo>
                  <a:lnTo>
                    <a:pt x="296" y="1309"/>
                  </a:lnTo>
                  <a:lnTo>
                    <a:pt x="305" y="1338"/>
                  </a:lnTo>
                  <a:lnTo>
                    <a:pt x="317" y="1366"/>
                  </a:lnTo>
                  <a:lnTo>
                    <a:pt x="327" y="1394"/>
                  </a:lnTo>
                  <a:lnTo>
                    <a:pt x="339" y="1421"/>
                  </a:lnTo>
                  <a:lnTo>
                    <a:pt x="348" y="1448"/>
                  </a:lnTo>
                  <a:lnTo>
                    <a:pt x="359" y="1473"/>
                  </a:lnTo>
                  <a:lnTo>
                    <a:pt x="368" y="1497"/>
                  </a:lnTo>
                  <a:lnTo>
                    <a:pt x="378" y="1518"/>
                  </a:lnTo>
                  <a:lnTo>
                    <a:pt x="386" y="1541"/>
                  </a:lnTo>
                  <a:lnTo>
                    <a:pt x="395" y="1564"/>
                  </a:lnTo>
                  <a:lnTo>
                    <a:pt x="405" y="1589"/>
                  </a:lnTo>
                  <a:lnTo>
                    <a:pt x="415" y="1614"/>
                  </a:lnTo>
                  <a:lnTo>
                    <a:pt x="425" y="1640"/>
                  </a:lnTo>
                  <a:lnTo>
                    <a:pt x="436" y="1666"/>
                  </a:lnTo>
                  <a:lnTo>
                    <a:pt x="446" y="1692"/>
                  </a:lnTo>
                  <a:lnTo>
                    <a:pt x="457" y="1718"/>
                  </a:lnTo>
                  <a:lnTo>
                    <a:pt x="466" y="1745"/>
                  </a:lnTo>
                  <a:lnTo>
                    <a:pt x="477" y="1770"/>
                  </a:lnTo>
                  <a:lnTo>
                    <a:pt x="486" y="1795"/>
                  </a:lnTo>
                  <a:lnTo>
                    <a:pt x="496" y="1816"/>
                  </a:lnTo>
                  <a:lnTo>
                    <a:pt x="504" y="1838"/>
                  </a:lnTo>
                  <a:lnTo>
                    <a:pt x="513" y="1858"/>
                  </a:lnTo>
                  <a:lnTo>
                    <a:pt x="519" y="1875"/>
                  </a:lnTo>
                  <a:lnTo>
                    <a:pt x="527" y="1889"/>
                  </a:lnTo>
                  <a:lnTo>
                    <a:pt x="533" y="1904"/>
                  </a:lnTo>
                  <a:lnTo>
                    <a:pt x="540" y="1920"/>
                  </a:lnTo>
                  <a:lnTo>
                    <a:pt x="549" y="1937"/>
                  </a:lnTo>
                  <a:lnTo>
                    <a:pt x="559" y="1954"/>
                  </a:lnTo>
                  <a:lnTo>
                    <a:pt x="568" y="1974"/>
                  </a:lnTo>
                  <a:lnTo>
                    <a:pt x="579" y="1994"/>
                  </a:lnTo>
                  <a:lnTo>
                    <a:pt x="591" y="2014"/>
                  </a:lnTo>
                  <a:lnTo>
                    <a:pt x="604" y="2033"/>
                  </a:lnTo>
                  <a:lnTo>
                    <a:pt x="615" y="2054"/>
                  </a:lnTo>
                  <a:lnTo>
                    <a:pt x="627" y="2074"/>
                  </a:lnTo>
                  <a:lnTo>
                    <a:pt x="639" y="2094"/>
                  </a:lnTo>
                  <a:lnTo>
                    <a:pt x="652" y="2112"/>
                  </a:lnTo>
                  <a:lnTo>
                    <a:pt x="663" y="2131"/>
                  </a:lnTo>
                  <a:lnTo>
                    <a:pt x="675" y="2148"/>
                  </a:lnTo>
                  <a:lnTo>
                    <a:pt x="686" y="2164"/>
                  </a:lnTo>
                  <a:lnTo>
                    <a:pt x="697" y="2178"/>
                  </a:lnTo>
                  <a:lnTo>
                    <a:pt x="707" y="2193"/>
                  </a:lnTo>
                  <a:lnTo>
                    <a:pt x="719" y="2207"/>
                  </a:lnTo>
                  <a:lnTo>
                    <a:pt x="731" y="2223"/>
                  </a:lnTo>
                  <a:lnTo>
                    <a:pt x="745" y="2238"/>
                  </a:lnTo>
                  <a:lnTo>
                    <a:pt x="759" y="2255"/>
                  </a:lnTo>
                  <a:lnTo>
                    <a:pt x="774" y="2272"/>
                  </a:lnTo>
                  <a:lnTo>
                    <a:pt x="789" y="2289"/>
                  </a:lnTo>
                  <a:lnTo>
                    <a:pt x="804" y="2304"/>
                  </a:lnTo>
                  <a:lnTo>
                    <a:pt x="818" y="2321"/>
                  </a:lnTo>
                  <a:lnTo>
                    <a:pt x="833" y="2337"/>
                  </a:lnTo>
                  <a:lnTo>
                    <a:pt x="847" y="2352"/>
                  </a:lnTo>
                  <a:lnTo>
                    <a:pt x="862" y="2366"/>
                  </a:lnTo>
                  <a:lnTo>
                    <a:pt x="875" y="2380"/>
                  </a:lnTo>
                  <a:lnTo>
                    <a:pt x="888" y="2392"/>
                  </a:lnTo>
                  <a:lnTo>
                    <a:pt x="899" y="2403"/>
                  </a:lnTo>
                  <a:lnTo>
                    <a:pt x="911" y="2412"/>
                  </a:lnTo>
                  <a:lnTo>
                    <a:pt x="921" y="2421"/>
                  </a:lnTo>
                  <a:lnTo>
                    <a:pt x="931" y="2430"/>
                  </a:lnTo>
                  <a:lnTo>
                    <a:pt x="941" y="2439"/>
                  </a:lnTo>
                  <a:lnTo>
                    <a:pt x="953" y="2447"/>
                  </a:lnTo>
                  <a:lnTo>
                    <a:pt x="963" y="2456"/>
                  </a:lnTo>
                  <a:lnTo>
                    <a:pt x="974" y="2464"/>
                  </a:lnTo>
                  <a:lnTo>
                    <a:pt x="984" y="2473"/>
                  </a:lnTo>
                  <a:lnTo>
                    <a:pt x="995" y="2480"/>
                  </a:lnTo>
                  <a:lnTo>
                    <a:pt x="1005" y="2488"/>
                  </a:lnTo>
                  <a:lnTo>
                    <a:pt x="1015" y="2496"/>
                  </a:lnTo>
                  <a:lnTo>
                    <a:pt x="1023" y="2504"/>
                  </a:lnTo>
                  <a:lnTo>
                    <a:pt x="1032" y="2509"/>
                  </a:lnTo>
                  <a:lnTo>
                    <a:pt x="1039" y="2516"/>
                  </a:lnTo>
                  <a:lnTo>
                    <a:pt x="1045" y="2520"/>
                  </a:lnTo>
                  <a:lnTo>
                    <a:pt x="1051" y="2524"/>
                  </a:lnTo>
                  <a:lnTo>
                    <a:pt x="1056" y="2527"/>
                  </a:lnTo>
                  <a:lnTo>
                    <a:pt x="1059" y="2531"/>
                  </a:lnTo>
                  <a:lnTo>
                    <a:pt x="1064" y="2534"/>
                  </a:lnTo>
                  <a:lnTo>
                    <a:pt x="1070" y="2538"/>
                  </a:lnTo>
                  <a:lnTo>
                    <a:pt x="1077" y="2541"/>
                  </a:lnTo>
                  <a:lnTo>
                    <a:pt x="1083" y="2546"/>
                  </a:lnTo>
                  <a:lnTo>
                    <a:pt x="1091" y="2550"/>
                  </a:lnTo>
                  <a:lnTo>
                    <a:pt x="1099" y="2554"/>
                  </a:lnTo>
                  <a:lnTo>
                    <a:pt x="1108" y="2557"/>
                  </a:lnTo>
                  <a:lnTo>
                    <a:pt x="1115" y="2563"/>
                  </a:lnTo>
                  <a:lnTo>
                    <a:pt x="1125" y="2566"/>
                  </a:lnTo>
                  <a:lnTo>
                    <a:pt x="1133" y="2571"/>
                  </a:lnTo>
                  <a:lnTo>
                    <a:pt x="1142" y="2575"/>
                  </a:lnTo>
                  <a:lnTo>
                    <a:pt x="1150" y="2578"/>
                  </a:lnTo>
                  <a:lnTo>
                    <a:pt x="1159" y="2582"/>
                  </a:lnTo>
                  <a:lnTo>
                    <a:pt x="1167" y="2586"/>
                  </a:lnTo>
                  <a:lnTo>
                    <a:pt x="1176" y="2589"/>
                  </a:lnTo>
                  <a:lnTo>
                    <a:pt x="1183" y="2594"/>
                  </a:lnTo>
                  <a:lnTo>
                    <a:pt x="1193" y="2597"/>
                  </a:lnTo>
                  <a:lnTo>
                    <a:pt x="1204" y="2602"/>
                  </a:lnTo>
                  <a:lnTo>
                    <a:pt x="1216" y="2605"/>
                  </a:lnTo>
                  <a:lnTo>
                    <a:pt x="1228" y="2611"/>
                  </a:lnTo>
                  <a:lnTo>
                    <a:pt x="1242" y="2615"/>
                  </a:lnTo>
                  <a:lnTo>
                    <a:pt x="1256" y="2620"/>
                  </a:lnTo>
                  <a:lnTo>
                    <a:pt x="1271" y="2624"/>
                  </a:lnTo>
                  <a:lnTo>
                    <a:pt x="1285" y="2630"/>
                  </a:lnTo>
                  <a:lnTo>
                    <a:pt x="1299" y="2634"/>
                  </a:lnTo>
                  <a:lnTo>
                    <a:pt x="1314" y="2640"/>
                  </a:lnTo>
                  <a:lnTo>
                    <a:pt x="1329" y="2644"/>
                  </a:lnTo>
                  <a:lnTo>
                    <a:pt x="1342" y="2648"/>
                  </a:lnTo>
                  <a:lnTo>
                    <a:pt x="1356" y="2652"/>
                  </a:lnTo>
                  <a:lnTo>
                    <a:pt x="1369" y="2656"/>
                  </a:lnTo>
                  <a:lnTo>
                    <a:pt x="1382" y="2659"/>
                  </a:lnTo>
                  <a:lnTo>
                    <a:pt x="1394" y="2663"/>
                  </a:lnTo>
                  <a:lnTo>
                    <a:pt x="1407" y="2666"/>
                  </a:lnTo>
                  <a:lnTo>
                    <a:pt x="1422" y="2670"/>
                  </a:lnTo>
                  <a:lnTo>
                    <a:pt x="1437" y="2674"/>
                  </a:lnTo>
                  <a:lnTo>
                    <a:pt x="1452" y="2678"/>
                  </a:lnTo>
                  <a:lnTo>
                    <a:pt x="1468" y="2681"/>
                  </a:lnTo>
                  <a:lnTo>
                    <a:pt x="1485" y="2685"/>
                  </a:lnTo>
                  <a:lnTo>
                    <a:pt x="1501" y="2687"/>
                  </a:lnTo>
                  <a:lnTo>
                    <a:pt x="1517" y="2691"/>
                  </a:lnTo>
                  <a:lnTo>
                    <a:pt x="1533" y="2694"/>
                  </a:lnTo>
                  <a:lnTo>
                    <a:pt x="1548" y="2697"/>
                  </a:lnTo>
                  <a:lnTo>
                    <a:pt x="1564" y="2699"/>
                  </a:lnTo>
                  <a:lnTo>
                    <a:pt x="1578" y="2701"/>
                  </a:lnTo>
                  <a:lnTo>
                    <a:pt x="1591" y="2703"/>
                  </a:lnTo>
                  <a:lnTo>
                    <a:pt x="1603" y="2705"/>
                  </a:lnTo>
                  <a:lnTo>
                    <a:pt x="1615" y="2706"/>
                  </a:lnTo>
                </a:path>
              </a:pathLst>
            </a:custGeom>
            <a:noFill/>
            <a:ln w="442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71600" y="2133720"/>
              <a:ext cx="6315120" cy="4886280"/>
            </a:xfrm>
            <a:custGeom>
              <a:avLst/>
              <a:gdLst/>
              <a:ahLst/>
              <a:rect l="l" t="t" r="r" b="b"/>
              <a:pathLst>
                <a:path w="3978" h="3078">
                  <a:moveTo>
                    <a:pt x="0" y="3077"/>
                  </a:moveTo>
                  <a:lnTo>
                    <a:pt x="1" y="3076"/>
                  </a:lnTo>
                  <a:lnTo>
                    <a:pt x="4" y="3072"/>
                  </a:lnTo>
                  <a:lnTo>
                    <a:pt x="9" y="3066"/>
                  </a:lnTo>
                  <a:lnTo>
                    <a:pt x="18" y="3058"/>
                  </a:lnTo>
                  <a:lnTo>
                    <a:pt x="26" y="3049"/>
                  </a:lnTo>
                  <a:lnTo>
                    <a:pt x="35" y="3039"/>
                  </a:lnTo>
                  <a:lnTo>
                    <a:pt x="46" y="3028"/>
                  </a:lnTo>
                  <a:lnTo>
                    <a:pt x="57" y="3016"/>
                  </a:lnTo>
                  <a:lnTo>
                    <a:pt x="66" y="3005"/>
                  </a:lnTo>
                  <a:lnTo>
                    <a:pt x="78" y="2993"/>
                  </a:lnTo>
                  <a:lnTo>
                    <a:pt x="87" y="2983"/>
                  </a:lnTo>
                  <a:lnTo>
                    <a:pt x="96" y="2973"/>
                  </a:lnTo>
                  <a:lnTo>
                    <a:pt x="102" y="2966"/>
                  </a:lnTo>
                  <a:lnTo>
                    <a:pt x="109" y="2959"/>
                  </a:lnTo>
                  <a:lnTo>
                    <a:pt x="112" y="2955"/>
                  </a:lnTo>
                  <a:lnTo>
                    <a:pt x="114" y="2953"/>
                  </a:lnTo>
                  <a:lnTo>
                    <a:pt x="114" y="2953"/>
                  </a:lnTo>
                  <a:lnTo>
                    <a:pt x="116" y="2951"/>
                  </a:lnTo>
                  <a:lnTo>
                    <a:pt x="118" y="2947"/>
                  </a:lnTo>
                  <a:lnTo>
                    <a:pt x="122" y="2941"/>
                  </a:lnTo>
                  <a:lnTo>
                    <a:pt x="126" y="2936"/>
                  </a:lnTo>
                  <a:lnTo>
                    <a:pt x="131" y="2928"/>
                  </a:lnTo>
                  <a:lnTo>
                    <a:pt x="137" y="2921"/>
                  </a:lnTo>
                  <a:lnTo>
                    <a:pt x="142" y="2911"/>
                  </a:lnTo>
                  <a:lnTo>
                    <a:pt x="147" y="2904"/>
                  </a:lnTo>
                  <a:lnTo>
                    <a:pt x="153" y="2895"/>
                  </a:lnTo>
                  <a:lnTo>
                    <a:pt x="158" y="2886"/>
                  </a:lnTo>
                  <a:lnTo>
                    <a:pt x="164" y="2877"/>
                  </a:lnTo>
                  <a:lnTo>
                    <a:pt x="168" y="2869"/>
                  </a:lnTo>
                  <a:lnTo>
                    <a:pt x="173" y="2861"/>
                  </a:lnTo>
                  <a:lnTo>
                    <a:pt x="177" y="2855"/>
                  </a:lnTo>
                  <a:lnTo>
                    <a:pt x="180" y="2849"/>
                  </a:lnTo>
                  <a:lnTo>
                    <a:pt x="182" y="2844"/>
                  </a:lnTo>
                  <a:lnTo>
                    <a:pt x="184" y="2839"/>
                  </a:lnTo>
                  <a:lnTo>
                    <a:pt x="186" y="2833"/>
                  </a:lnTo>
                  <a:lnTo>
                    <a:pt x="188" y="2825"/>
                  </a:lnTo>
                  <a:lnTo>
                    <a:pt x="190" y="2819"/>
                  </a:lnTo>
                  <a:lnTo>
                    <a:pt x="192" y="2811"/>
                  </a:lnTo>
                  <a:lnTo>
                    <a:pt x="194" y="2803"/>
                  </a:lnTo>
                  <a:lnTo>
                    <a:pt x="195" y="2796"/>
                  </a:lnTo>
                  <a:lnTo>
                    <a:pt x="196" y="2789"/>
                  </a:lnTo>
                  <a:lnTo>
                    <a:pt x="198" y="2782"/>
                  </a:lnTo>
                  <a:lnTo>
                    <a:pt x="200" y="2775"/>
                  </a:lnTo>
                  <a:lnTo>
                    <a:pt x="202" y="2767"/>
                  </a:lnTo>
                  <a:lnTo>
                    <a:pt x="204" y="2762"/>
                  </a:lnTo>
                  <a:lnTo>
                    <a:pt x="205" y="2755"/>
                  </a:lnTo>
                  <a:lnTo>
                    <a:pt x="207" y="2749"/>
                  </a:lnTo>
                  <a:lnTo>
                    <a:pt x="209" y="2744"/>
                  </a:lnTo>
                  <a:lnTo>
                    <a:pt x="211" y="2739"/>
                  </a:lnTo>
                  <a:lnTo>
                    <a:pt x="213" y="2734"/>
                  </a:lnTo>
                  <a:lnTo>
                    <a:pt x="215" y="2727"/>
                  </a:lnTo>
                  <a:lnTo>
                    <a:pt x="218" y="2720"/>
                  </a:lnTo>
                  <a:lnTo>
                    <a:pt x="220" y="2713"/>
                  </a:lnTo>
                  <a:lnTo>
                    <a:pt x="224" y="2705"/>
                  </a:lnTo>
                  <a:lnTo>
                    <a:pt x="226" y="2698"/>
                  </a:lnTo>
                  <a:lnTo>
                    <a:pt x="230" y="2690"/>
                  </a:lnTo>
                  <a:lnTo>
                    <a:pt x="232" y="2684"/>
                  </a:lnTo>
                  <a:lnTo>
                    <a:pt x="236" y="2676"/>
                  </a:lnTo>
                  <a:lnTo>
                    <a:pt x="240" y="2669"/>
                  </a:lnTo>
                  <a:lnTo>
                    <a:pt x="243" y="2662"/>
                  </a:lnTo>
                  <a:lnTo>
                    <a:pt x="245" y="2656"/>
                  </a:lnTo>
                  <a:lnTo>
                    <a:pt x="249" y="2650"/>
                  </a:lnTo>
                  <a:lnTo>
                    <a:pt x="253" y="2645"/>
                  </a:lnTo>
                  <a:lnTo>
                    <a:pt x="256" y="2639"/>
                  </a:lnTo>
                  <a:lnTo>
                    <a:pt x="259" y="2635"/>
                  </a:lnTo>
                  <a:lnTo>
                    <a:pt x="263" y="2629"/>
                  </a:lnTo>
                  <a:lnTo>
                    <a:pt x="267" y="2624"/>
                  </a:lnTo>
                  <a:lnTo>
                    <a:pt x="273" y="2618"/>
                  </a:lnTo>
                  <a:lnTo>
                    <a:pt x="278" y="2613"/>
                  </a:lnTo>
                  <a:lnTo>
                    <a:pt x="284" y="2607"/>
                  </a:lnTo>
                  <a:lnTo>
                    <a:pt x="290" y="2601"/>
                  </a:lnTo>
                  <a:lnTo>
                    <a:pt x="296" y="2594"/>
                  </a:lnTo>
                  <a:lnTo>
                    <a:pt x="302" y="2588"/>
                  </a:lnTo>
                  <a:lnTo>
                    <a:pt x="308" y="2583"/>
                  </a:lnTo>
                  <a:lnTo>
                    <a:pt x="314" y="2577"/>
                  </a:lnTo>
                  <a:lnTo>
                    <a:pt x="321" y="2571"/>
                  </a:lnTo>
                  <a:lnTo>
                    <a:pt x="326" y="2568"/>
                  </a:lnTo>
                  <a:lnTo>
                    <a:pt x="332" y="2562"/>
                  </a:lnTo>
                  <a:lnTo>
                    <a:pt x="336" y="2558"/>
                  </a:lnTo>
                  <a:lnTo>
                    <a:pt x="342" y="2553"/>
                  </a:lnTo>
                  <a:lnTo>
                    <a:pt x="346" y="2551"/>
                  </a:lnTo>
                  <a:lnTo>
                    <a:pt x="350" y="2548"/>
                  </a:lnTo>
                  <a:lnTo>
                    <a:pt x="355" y="2544"/>
                  </a:lnTo>
                  <a:lnTo>
                    <a:pt x="361" y="2540"/>
                  </a:lnTo>
                  <a:lnTo>
                    <a:pt x="366" y="2537"/>
                  </a:lnTo>
                  <a:lnTo>
                    <a:pt x="372" y="2533"/>
                  </a:lnTo>
                  <a:lnTo>
                    <a:pt x="378" y="2529"/>
                  </a:lnTo>
                  <a:lnTo>
                    <a:pt x="385" y="2525"/>
                  </a:lnTo>
                  <a:lnTo>
                    <a:pt x="391" y="2521"/>
                  </a:lnTo>
                  <a:lnTo>
                    <a:pt x="396" y="2518"/>
                  </a:lnTo>
                  <a:lnTo>
                    <a:pt x="402" y="2514"/>
                  </a:lnTo>
                  <a:lnTo>
                    <a:pt x="409" y="2510"/>
                  </a:lnTo>
                  <a:lnTo>
                    <a:pt x="413" y="2507"/>
                  </a:lnTo>
                  <a:lnTo>
                    <a:pt x="419" y="2503"/>
                  </a:lnTo>
                  <a:lnTo>
                    <a:pt x="423" y="2500"/>
                  </a:lnTo>
                  <a:lnTo>
                    <a:pt x="428" y="2496"/>
                  </a:lnTo>
                  <a:lnTo>
                    <a:pt x="432" y="2492"/>
                  </a:lnTo>
                  <a:lnTo>
                    <a:pt x="438" y="2487"/>
                  </a:lnTo>
                  <a:lnTo>
                    <a:pt x="443" y="2480"/>
                  </a:lnTo>
                  <a:lnTo>
                    <a:pt x="449" y="2473"/>
                  </a:lnTo>
                  <a:lnTo>
                    <a:pt x="454" y="2465"/>
                  </a:lnTo>
                  <a:lnTo>
                    <a:pt x="460" y="2457"/>
                  </a:lnTo>
                  <a:lnTo>
                    <a:pt x="466" y="2450"/>
                  </a:lnTo>
                  <a:lnTo>
                    <a:pt x="473" y="2440"/>
                  </a:lnTo>
                  <a:lnTo>
                    <a:pt x="479" y="2433"/>
                  </a:lnTo>
                  <a:lnTo>
                    <a:pt x="484" y="2425"/>
                  </a:lnTo>
                  <a:lnTo>
                    <a:pt x="490" y="2418"/>
                  </a:lnTo>
                  <a:lnTo>
                    <a:pt x="497" y="2411"/>
                  </a:lnTo>
                  <a:lnTo>
                    <a:pt x="503" y="2405"/>
                  </a:lnTo>
                  <a:lnTo>
                    <a:pt x="510" y="2399"/>
                  </a:lnTo>
                  <a:lnTo>
                    <a:pt x="516" y="2395"/>
                  </a:lnTo>
                  <a:lnTo>
                    <a:pt x="523" y="2391"/>
                  </a:lnTo>
                  <a:lnTo>
                    <a:pt x="520" y="2386"/>
                  </a:lnTo>
                  <a:lnTo>
                    <a:pt x="519" y="2380"/>
                  </a:lnTo>
                  <a:lnTo>
                    <a:pt x="519" y="2372"/>
                  </a:lnTo>
                  <a:lnTo>
                    <a:pt x="519" y="2364"/>
                  </a:lnTo>
                  <a:lnTo>
                    <a:pt x="519" y="2357"/>
                  </a:lnTo>
                  <a:lnTo>
                    <a:pt x="520" y="2347"/>
                  </a:lnTo>
                  <a:lnTo>
                    <a:pt x="522" y="2338"/>
                  </a:lnTo>
                  <a:lnTo>
                    <a:pt x="524" y="2329"/>
                  </a:lnTo>
                  <a:lnTo>
                    <a:pt x="524" y="2321"/>
                  </a:lnTo>
                  <a:lnTo>
                    <a:pt x="526" y="2312"/>
                  </a:lnTo>
                  <a:lnTo>
                    <a:pt x="526" y="2304"/>
                  </a:lnTo>
                  <a:lnTo>
                    <a:pt x="527" y="2294"/>
                  </a:lnTo>
                  <a:lnTo>
                    <a:pt x="526" y="2287"/>
                  </a:lnTo>
                  <a:lnTo>
                    <a:pt x="526" y="2280"/>
                  </a:lnTo>
                  <a:lnTo>
                    <a:pt x="524" y="2274"/>
                  </a:lnTo>
                  <a:lnTo>
                    <a:pt x="523" y="2267"/>
                  </a:lnTo>
                  <a:lnTo>
                    <a:pt x="528" y="2264"/>
                  </a:lnTo>
                  <a:lnTo>
                    <a:pt x="534" y="2257"/>
                  </a:lnTo>
                  <a:lnTo>
                    <a:pt x="540" y="2251"/>
                  </a:lnTo>
                  <a:lnTo>
                    <a:pt x="546" y="2242"/>
                  </a:lnTo>
                  <a:lnTo>
                    <a:pt x="550" y="2233"/>
                  </a:lnTo>
                  <a:lnTo>
                    <a:pt x="555" y="2223"/>
                  </a:lnTo>
                  <a:lnTo>
                    <a:pt x="560" y="2213"/>
                  </a:lnTo>
                  <a:lnTo>
                    <a:pt x="565" y="2201"/>
                  </a:lnTo>
                  <a:lnTo>
                    <a:pt x="569" y="2191"/>
                  </a:lnTo>
                  <a:lnTo>
                    <a:pt x="573" y="2180"/>
                  </a:lnTo>
                  <a:lnTo>
                    <a:pt x="577" y="2170"/>
                  </a:lnTo>
                  <a:lnTo>
                    <a:pt x="582" y="2159"/>
                  </a:lnTo>
                  <a:lnTo>
                    <a:pt x="586" y="2149"/>
                  </a:lnTo>
                  <a:lnTo>
                    <a:pt x="590" y="2140"/>
                  </a:lnTo>
                  <a:lnTo>
                    <a:pt x="594" y="2133"/>
                  </a:lnTo>
                  <a:lnTo>
                    <a:pt x="599" y="2125"/>
                  </a:lnTo>
                  <a:lnTo>
                    <a:pt x="603" y="2119"/>
                  </a:lnTo>
                  <a:lnTo>
                    <a:pt x="607" y="2113"/>
                  </a:lnTo>
                  <a:lnTo>
                    <a:pt x="613" y="2105"/>
                  </a:lnTo>
                  <a:lnTo>
                    <a:pt x="618" y="2098"/>
                  </a:lnTo>
                  <a:lnTo>
                    <a:pt x="624" y="2090"/>
                  </a:lnTo>
                  <a:lnTo>
                    <a:pt x="631" y="2083"/>
                  </a:lnTo>
                  <a:lnTo>
                    <a:pt x="637" y="2075"/>
                  </a:lnTo>
                  <a:lnTo>
                    <a:pt x="645" y="2066"/>
                  </a:lnTo>
                  <a:lnTo>
                    <a:pt x="650" y="2059"/>
                  </a:lnTo>
                  <a:lnTo>
                    <a:pt x="658" y="2051"/>
                  </a:lnTo>
                  <a:lnTo>
                    <a:pt x="663" y="2043"/>
                  </a:lnTo>
                  <a:lnTo>
                    <a:pt x="671" y="2035"/>
                  </a:lnTo>
                  <a:lnTo>
                    <a:pt x="676" y="2029"/>
                  </a:lnTo>
                  <a:lnTo>
                    <a:pt x="683" y="2022"/>
                  </a:lnTo>
                  <a:lnTo>
                    <a:pt x="688" y="2016"/>
                  </a:lnTo>
                  <a:lnTo>
                    <a:pt x="694" y="2010"/>
                  </a:lnTo>
                  <a:lnTo>
                    <a:pt x="702" y="2003"/>
                  </a:lnTo>
                  <a:lnTo>
                    <a:pt x="711" y="1995"/>
                  </a:lnTo>
                  <a:lnTo>
                    <a:pt x="720" y="1988"/>
                  </a:lnTo>
                  <a:lnTo>
                    <a:pt x="731" y="1979"/>
                  </a:lnTo>
                  <a:lnTo>
                    <a:pt x="742" y="1971"/>
                  </a:lnTo>
                  <a:lnTo>
                    <a:pt x="754" y="1962"/>
                  </a:lnTo>
                  <a:lnTo>
                    <a:pt x="767" y="1953"/>
                  </a:lnTo>
                  <a:lnTo>
                    <a:pt x="780" y="1944"/>
                  </a:lnTo>
                  <a:lnTo>
                    <a:pt x="791" y="1936"/>
                  </a:lnTo>
                  <a:lnTo>
                    <a:pt x="804" y="1927"/>
                  </a:lnTo>
                  <a:lnTo>
                    <a:pt x="815" y="1918"/>
                  </a:lnTo>
                  <a:lnTo>
                    <a:pt x="828" y="1909"/>
                  </a:lnTo>
                  <a:lnTo>
                    <a:pt x="838" y="1901"/>
                  </a:lnTo>
                  <a:lnTo>
                    <a:pt x="848" y="1893"/>
                  </a:lnTo>
                  <a:lnTo>
                    <a:pt x="857" y="1885"/>
                  </a:lnTo>
                  <a:lnTo>
                    <a:pt x="866" y="1877"/>
                  </a:lnTo>
                  <a:lnTo>
                    <a:pt x="869" y="1874"/>
                  </a:lnTo>
                  <a:lnTo>
                    <a:pt x="874" y="1870"/>
                  </a:lnTo>
                  <a:lnTo>
                    <a:pt x="879" y="1866"/>
                  </a:lnTo>
                  <a:lnTo>
                    <a:pt x="884" y="1861"/>
                  </a:lnTo>
                  <a:lnTo>
                    <a:pt x="890" y="1857"/>
                  </a:lnTo>
                  <a:lnTo>
                    <a:pt x="896" y="1853"/>
                  </a:lnTo>
                  <a:lnTo>
                    <a:pt x="901" y="1849"/>
                  </a:lnTo>
                  <a:lnTo>
                    <a:pt x="908" y="1843"/>
                  </a:lnTo>
                  <a:lnTo>
                    <a:pt x="914" y="1839"/>
                  </a:lnTo>
                  <a:lnTo>
                    <a:pt x="919" y="1836"/>
                  </a:lnTo>
                  <a:lnTo>
                    <a:pt x="925" y="1832"/>
                  </a:lnTo>
                  <a:lnTo>
                    <a:pt x="932" y="1826"/>
                  </a:lnTo>
                  <a:lnTo>
                    <a:pt x="937" y="1823"/>
                  </a:lnTo>
                  <a:lnTo>
                    <a:pt x="942" y="1819"/>
                  </a:lnTo>
                  <a:lnTo>
                    <a:pt x="947" y="1815"/>
                  </a:lnTo>
                  <a:lnTo>
                    <a:pt x="952" y="1811"/>
                  </a:lnTo>
                  <a:lnTo>
                    <a:pt x="954" y="1809"/>
                  </a:lnTo>
                  <a:lnTo>
                    <a:pt x="957" y="1808"/>
                  </a:lnTo>
                  <a:lnTo>
                    <a:pt x="959" y="1806"/>
                  </a:lnTo>
                  <a:lnTo>
                    <a:pt x="963" y="1803"/>
                  </a:lnTo>
                  <a:lnTo>
                    <a:pt x="965" y="1801"/>
                  </a:lnTo>
                  <a:lnTo>
                    <a:pt x="968" y="1797"/>
                  </a:lnTo>
                  <a:lnTo>
                    <a:pt x="972" y="1795"/>
                  </a:lnTo>
                  <a:lnTo>
                    <a:pt x="976" y="1791"/>
                  </a:lnTo>
                  <a:lnTo>
                    <a:pt x="978" y="1789"/>
                  </a:lnTo>
                  <a:lnTo>
                    <a:pt x="982" y="1788"/>
                  </a:lnTo>
                  <a:lnTo>
                    <a:pt x="985" y="1786"/>
                  </a:lnTo>
                  <a:lnTo>
                    <a:pt x="989" y="1783"/>
                  </a:lnTo>
                  <a:lnTo>
                    <a:pt x="991" y="1783"/>
                  </a:lnTo>
                  <a:lnTo>
                    <a:pt x="995" y="1781"/>
                  </a:lnTo>
                  <a:lnTo>
                    <a:pt x="998" y="1780"/>
                  </a:lnTo>
                  <a:lnTo>
                    <a:pt x="1002" y="1778"/>
                  </a:lnTo>
                  <a:lnTo>
                    <a:pt x="1004" y="1778"/>
                  </a:lnTo>
                  <a:lnTo>
                    <a:pt x="1006" y="1778"/>
                  </a:lnTo>
                  <a:lnTo>
                    <a:pt x="1008" y="1778"/>
                  </a:lnTo>
                  <a:lnTo>
                    <a:pt x="1012" y="1778"/>
                  </a:lnTo>
                  <a:lnTo>
                    <a:pt x="1015" y="1778"/>
                  </a:lnTo>
                  <a:lnTo>
                    <a:pt x="1019" y="1778"/>
                  </a:lnTo>
                  <a:lnTo>
                    <a:pt x="1023" y="1778"/>
                  </a:lnTo>
                  <a:lnTo>
                    <a:pt x="1026" y="1777"/>
                  </a:lnTo>
                  <a:lnTo>
                    <a:pt x="1030" y="1777"/>
                  </a:lnTo>
                  <a:lnTo>
                    <a:pt x="1033" y="1777"/>
                  </a:lnTo>
                  <a:lnTo>
                    <a:pt x="1037" y="1777"/>
                  </a:lnTo>
                  <a:lnTo>
                    <a:pt x="1041" y="1777"/>
                  </a:lnTo>
                  <a:lnTo>
                    <a:pt x="1043" y="1777"/>
                  </a:lnTo>
                  <a:lnTo>
                    <a:pt x="1047" y="1777"/>
                  </a:lnTo>
                  <a:lnTo>
                    <a:pt x="1049" y="1777"/>
                  </a:lnTo>
                  <a:lnTo>
                    <a:pt x="1052" y="1775"/>
                  </a:lnTo>
                  <a:lnTo>
                    <a:pt x="1055" y="1775"/>
                  </a:lnTo>
                  <a:lnTo>
                    <a:pt x="1060" y="1773"/>
                  </a:lnTo>
                  <a:lnTo>
                    <a:pt x="1064" y="1770"/>
                  </a:lnTo>
                  <a:lnTo>
                    <a:pt x="1072" y="1767"/>
                  </a:lnTo>
                  <a:lnTo>
                    <a:pt x="1078" y="1763"/>
                  </a:lnTo>
                  <a:lnTo>
                    <a:pt x="1086" y="1759"/>
                  </a:lnTo>
                  <a:lnTo>
                    <a:pt x="1093" y="1756"/>
                  </a:lnTo>
                  <a:lnTo>
                    <a:pt x="1102" y="1751"/>
                  </a:lnTo>
                  <a:lnTo>
                    <a:pt x="1110" y="1747"/>
                  </a:lnTo>
                  <a:lnTo>
                    <a:pt x="1117" y="1743"/>
                  </a:lnTo>
                  <a:lnTo>
                    <a:pt x="1124" y="1740"/>
                  </a:lnTo>
                  <a:lnTo>
                    <a:pt x="1132" y="1735"/>
                  </a:lnTo>
                  <a:lnTo>
                    <a:pt x="1138" y="1732"/>
                  </a:lnTo>
                  <a:lnTo>
                    <a:pt x="1143" y="1728"/>
                  </a:lnTo>
                  <a:lnTo>
                    <a:pt x="1148" y="1727"/>
                  </a:lnTo>
                  <a:lnTo>
                    <a:pt x="1152" y="1725"/>
                  </a:lnTo>
                  <a:lnTo>
                    <a:pt x="1163" y="1721"/>
                  </a:lnTo>
                  <a:lnTo>
                    <a:pt x="1176" y="1716"/>
                  </a:lnTo>
                  <a:lnTo>
                    <a:pt x="1189" y="1712"/>
                  </a:lnTo>
                  <a:lnTo>
                    <a:pt x="1202" y="1708"/>
                  </a:lnTo>
                  <a:lnTo>
                    <a:pt x="1216" y="1706"/>
                  </a:lnTo>
                  <a:lnTo>
                    <a:pt x="1230" y="1703"/>
                  </a:lnTo>
                  <a:lnTo>
                    <a:pt x="1244" y="1701"/>
                  </a:lnTo>
                  <a:lnTo>
                    <a:pt x="1259" y="1698"/>
                  </a:lnTo>
                  <a:lnTo>
                    <a:pt x="1272" y="1698"/>
                  </a:lnTo>
                  <a:lnTo>
                    <a:pt x="1287" y="1696"/>
                  </a:lnTo>
                  <a:lnTo>
                    <a:pt x="1300" y="1696"/>
                  </a:lnTo>
                  <a:lnTo>
                    <a:pt x="1316" y="1695"/>
                  </a:lnTo>
                  <a:lnTo>
                    <a:pt x="1328" y="1695"/>
                  </a:lnTo>
                  <a:lnTo>
                    <a:pt x="1342" y="1695"/>
                  </a:lnTo>
                  <a:lnTo>
                    <a:pt x="1355" y="1696"/>
                  </a:lnTo>
                  <a:lnTo>
                    <a:pt x="1370" y="1696"/>
                  </a:lnTo>
                  <a:lnTo>
                    <a:pt x="1377" y="1698"/>
                  </a:lnTo>
                  <a:lnTo>
                    <a:pt x="1386" y="1700"/>
                  </a:lnTo>
                  <a:lnTo>
                    <a:pt x="1396" y="1703"/>
                  </a:lnTo>
                  <a:lnTo>
                    <a:pt x="1408" y="1706"/>
                  </a:lnTo>
                  <a:lnTo>
                    <a:pt x="1419" y="1711"/>
                  </a:lnTo>
                  <a:lnTo>
                    <a:pt x="1431" y="1715"/>
                  </a:lnTo>
                  <a:lnTo>
                    <a:pt x="1442" y="1720"/>
                  </a:lnTo>
                  <a:lnTo>
                    <a:pt x="1455" y="1723"/>
                  </a:lnTo>
                  <a:lnTo>
                    <a:pt x="1466" y="1729"/>
                  </a:lnTo>
                  <a:lnTo>
                    <a:pt x="1478" y="1733"/>
                  </a:lnTo>
                  <a:lnTo>
                    <a:pt x="1490" y="1738"/>
                  </a:lnTo>
                  <a:lnTo>
                    <a:pt x="1501" y="1742"/>
                  </a:lnTo>
                  <a:lnTo>
                    <a:pt x="1511" y="1746"/>
                  </a:lnTo>
                  <a:lnTo>
                    <a:pt x="1522" y="1749"/>
                  </a:lnTo>
                  <a:lnTo>
                    <a:pt x="1532" y="1751"/>
                  </a:lnTo>
                  <a:lnTo>
                    <a:pt x="1541" y="1753"/>
                  </a:lnTo>
                  <a:lnTo>
                    <a:pt x="1547" y="1755"/>
                  </a:lnTo>
                  <a:lnTo>
                    <a:pt x="1554" y="1755"/>
                  </a:lnTo>
                  <a:lnTo>
                    <a:pt x="1562" y="1757"/>
                  </a:lnTo>
                  <a:lnTo>
                    <a:pt x="1571" y="1757"/>
                  </a:lnTo>
                  <a:lnTo>
                    <a:pt x="1579" y="1759"/>
                  </a:lnTo>
                  <a:lnTo>
                    <a:pt x="1589" y="1759"/>
                  </a:lnTo>
                  <a:lnTo>
                    <a:pt x="1598" y="1760"/>
                  </a:lnTo>
                  <a:lnTo>
                    <a:pt x="1608" y="1760"/>
                  </a:lnTo>
                  <a:lnTo>
                    <a:pt x="1616" y="1762"/>
                  </a:lnTo>
                  <a:lnTo>
                    <a:pt x="1626" y="1762"/>
                  </a:lnTo>
                  <a:lnTo>
                    <a:pt x="1634" y="1762"/>
                  </a:lnTo>
                  <a:lnTo>
                    <a:pt x="1644" y="1762"/>
                  </a:lnTo>
                  <a:lnTo>
                    <a:pt x="1651" y="1762"/>
                  </a:lnTo>
                  <a:lnTo>
                    <a:pt x="1660" y="1762"/>
                  </a:lnTo>
                  <a:lnTo>
                    <a:pt x="1667" y="1762"/>
                  </a:lnTo>
                  <a:lnTo>
                    <a:pt x="1674" y="1762"/>
                  </a:lnTo>
                  <a:lnTo>
                    <a:pt x="1677" y="1763"/>
                  </a:lnTo>
                  <a:lnTo>
                    <a:pt x="1680" y="1763"/>
                  </a:lnTo>
                  <a:lnTo>
                    <a:pt x="1684" y="1763"/>
                  </a:lnTo>
                  <a:lnTo>
                    <a:pt x="1688" y="1763"/>
                  </a:lnTo>
                  <a:lnTo>
                    <a:pt x="1692" y="1763"/>
                  </a:lnTo>
                  <a:lnTo>
                    <a:pt x="1698" y="1763"/>
                  </a:lnTo>
                  <a:lnTo>
                    <a:pt x="1702" y="1763"/>
                  </a:lnTo>
                  <a:lnTo>
                    <a:pt x="1707" y="1763"/>
                  </a:lnTo>
                  <a:lnTo>
                    <a:pt x="1711" y="1763"/>
                  </a:lnTo>
                  <a:lnTo>
                    <a:pt x="1716" y="1763"/>
                  </a:lnTo>
                  <a:lnTo>
                    <a:pt x="1720" y="1763"/>
                  </a:lnTo>
                  <a:lnTo>
                    <a:pt x="1725" y="1763"/>
                  </a:lnTo>
                  <a:lnTo>
                    <a:pt x="1729" y="1763"/>
                  </a:lnTo>
                  <a:lnTo>
                    <a:pt x="1734" y="1763"/>
                  </a:lnTo>
                  <a:lnTo>
                    <a:pt x="1737" y="1763"/>
                  </a:lnTo>
                  <a:lnTo>
                    <a:pt x="1741" y="1762"/>
                  </a:lnTo>
                  <a:lnTo>
                    <a:pt x="1742" y="1762"/>
                  </a:lnTo>
                  <a:lnTo>
                    <a:pt x="1744" y="1762"/>
                  </a:lnTo>
                  <a:lnTo>
                    <a:pt x="1746" y="1762"/>
                  </a:lnTo>
                  <a:lnTo>
                    <a:pt x="1749" y="1761"/>
                  </a:lnTo>
                  <a:lnTo>
                    <a:pt x="1751" y="1761"/>
                  </a:lnTo>
                  <a:lnTo>
                    <a:pt x="1754" y="1760"/>
                  </a:lnTo>
                  <a:lnTo>
                    <a:pt x="1756" y="1760"/>
                  </a:lnTo>
                  <a:lnTo>
                    <a:pt x="1760" y="1758"/>
                  </a:lnTo>
                  <a:lnTo>
                    <a:pt x="1762" y="1758"/>
                  </a:lnTo>
                  <a:lnTo>
                    <a:pt x="1765" y="1758"/>
                  </a:lnTo>
                  <a:lnTo>
                    <a:pt x="1766" y="1758"/>
                  </a:lnTo>
                  <a:lnTo>
                    <a:pt x="1770" y="1756"/>
                  </a:lnTo>
                  <a:lnTo>
                    <a:pt x="1772" y="1756"/>
                  </a:lnTo>
                  <a:lnTo>
                    <a:pt x="1774" y="1755"/>
                  </a:lnTo>
                  <a:lnTo>
                    <a:pt x="1776" y="1755"/>
                  </a:lnTo>
                  <a:lnTo>
                    <a:pt x="1779" y="1753"/>
                  </a:lnTo>
                  <a:lnTo>
                    <a:pt x="1781" y="1753"/>
                  </a:lnTo>
                  <a:lnTo>
                    <a:pt x="1784" y="1751"/>
                  </a:lnTo>
                  <a:lnTo>
                    <a:pt x="1786" y="1749"/>
                  </a:lnTo>
                  <a:lnTo>
                    <a:pt x="1790" y="1748"/>
                  </a:lnTo>
                  <a:lnTo>
                    <a:pt x="1792" y="1746"/>
                  </a:lnTo>
                  <a:lnTo>
                    <a:pt x="1795" y="1744"/>
                  </a:lnTo>
                  <a:lnTo>
                    <a:pt x="1799" y="1742"/>
                  </a:lnTo>
                  <a:lnTo>
                    <a:pt x="1803" y="1740"/>
                  </a:lnTo>
                  <a:lnTo>
                    <a:pt x="1805" y="1738"/>
                  </a:lnTo>
                  <a:lnTo>
                    <a:pt x="1808" y="1736"/>
                  </a:lnTo>
                  <a:lnTo>
                    <a:pt x="1812" y="1734"/>
                  </a:lnTo>
                  <a:lnTo>
                    <a:pt x="1815" y="1731"/>
                  </a:lnTo>
                  <a:lnTo>
                    <a:pt x="1817" y="1730"/>
                  </a:lnTo>
                  <a:lnTo>
                    <a:pt x="1821" y="1728"/>
                  </a:lnTo>
                  <a:lnTo>
                    <a:pt x="1823" y="1726"/>
                  </a:lnTo>
                  <a:lnTo>
                    <a:pt x="1826" y="1724"/>
                  </a:lnTo>
                  <a:lnTo>
                    <a:pt x="1830" y="1721"/>
                  </a:lnTo>
                  <a:lnTo>
                    <a:pt x="1836" y="1717"/>
                  </a:lnTo>
                  <a:lnTo>
                    <a:pt x="1842" y="1711"/>
                  </a:lnTo>
                  <a:lnTo>
                    <a:pt x="1847" y="1704"/>
                  </a:lnTo>
                  <a:lnTo>
                    <a:pt x="1851" y="1698"/>
                  </a:lnTo>
                  <a:lnTo>
                    <a:pt x="1856" y="1690"/>
                  </a:lnTo>
                  <a:lnTo>
                    <a:pt x="1862" y="1683"/>
                  </a:lnTo>
                  <a:lnTo>
                    <a:pt x="1868" y="1675"/>
                  </a:lnTo>
                  <a:lnTo>
                    <a:pt x="1872" y="1667"/>
                  </a:lnTo>
                  <a:lnTo>
                    <a:pt x="1876" y="1660"/>
                  </a:lnTo>
                  <a:lnTo>
                    <a:pt x="1880" y="1652"/>
                  </a:lnTo>
                  <a:lnTo>
                    <a:pt x="1886" y="1645"/>
                  </a:lnTo>
                  <a:lnTo>
                    <a:pt x="1890" y="1639"/>
                  </a:lnTo>
                  <a:lnTo>
                    <a:pt x="1893" y="1631"/>
                  </a:lnTo>
                  <a:lnTo>
                    <a:pt x="1897" y="1625"/>
                  </a:lnTo>
                  <a:lnTo>
                    <a:pt x="1901" y="1618"/>
                  </a:lnTo>
                  <a:lnTo>
                    <a:pt x="1901" y="1616"/>
                  </a:lnTo>
                  <a:lnTo>
                    <a:pt x="1903" y="1613"/>
                  </a:lnTo>
                  <a:lnTo>
                    <a:pt x="1904" y="1610"/>
                  </a:lnTo>
                  <a:lnTo>
                    <a:pt x="1906" y="1606"/>
                  </a:lnTo>
                  <a:lnTo>
                    <a:pt x="1907" y="1602"/>
                  </a:lnTo>
                  <a:lnTo>
                    <a:pt x="1909" y="1599"/>
                  </a:lnTo>
                  <a:lnTo>
                    <a:pt x="1911" y="1595"/>
                  </a:lnTo>
                  <a:lnTo>
                    <a:pt x="1912" y="1591"/>
                  </a:lnTo>
                  <a:lnTo>
                    <a:pt x="1914" y="1587"/>
                  </a:lnTo>
                  <a:lnTo>
                    <a:pt x="1916" y="1584"/>
                  </a:lnTo>
                  <a:lnTo>
                    <a:pt x="1918" y="1580"/>
                  </a:lnTo>
                  <a:lnTo>
                    <a:pt x="1920" y="1576"/>
                  </a:lnTo>
                  <a:lnTo>
                    <a:pt x="1921" y="1574"/>
                  </a:lnTo>
                  <a:lnTo>
                    <a:pt x="1923" y="1571"/>
                  </a:lnTo>
                  <a:lnTo>
                    <a:pt x="1925" y="1569"/>
                  </a:lnTo>
                  <a:lnTo>
                    <a:pt x="1928" y="1565"/>
                  </a:lnTo>
                  <a:lnTo>
                    <a:pt x="1926" y="1565"/>
                  </a:lnTo>
                  <a:lnTo>
                    <a:pt x="1926" y="1563"/>
                  </a:lnTo>
                  <a:lnTo>
                    <a:pt x="1926" y="1561"/>
                  </a:lnTo>
                  <a:lnTo>
                    <a:pt x="1926" y="1559"/>
                  </a:lnTo>
                  <a:lnTo>
                    <a:pt x="1926" y="1557"/>
                  </a:lnTo>
                  <a:lnTo>
                    <a:pt x="1928" y="1555"/>
                  </a:lnTo>
                  <a:lnTo>
                    <a:pt x="1930" y="1554"/>
                  </a:lnTo>
                  <a:lnTo>
                    <a:pt x="1931" y="1551"/>
                  </a:lnTo>
                  <a:lnTo>
                    <a:pt x="1932" y="1549"/>
                  </a:lnTo>
                  <a:lnTo>
                    <a:pt x="1934" y="1547"/>
                  </a:lnTo>
                  <a:lnTo>
                    <a:pt x="1936" y="1545"/>
                  </a:lnTo>
                  <a:lnTo>
                    <a:pt x="1938" y="1542"/>
                  </a:lnTo>
                  <a:lnTo>
                    <a:pt x="1938" y="1540"/>
                  </a:lnTo>
                  <a:lnTo>
                    <a:pt x="1940" y="1538"/>
                  </a:lnTo>
                  <a:lnTo>
                    <a:pt x="1940" y="1536"/>
                  </a:lnTo>
                  <a:lnTo>
                    <a:pt x="1941" y="1534"/>
                  </a:lnTo>
                  <a:lnTo>
                    <a:pt x="1941" y="1534"/>
                  </a:lnTo>
                  <a:lnTo>
                    <a:pt x="1941" y="1532"/>
                  </a:lnTo>
                  <a:lnTo>
                    <a:pt x="1941" y="1530"/>
                  </a:lnTo>
                  <a:lnTo>
                    <a:pt x="1941" y="1528"/>
                  </a:lnTo>
                  <a:lnTo>
                    <a:pt x="1941" y="1526"/>
                  </a:lnTo>
                  <a:lnTo>
                    <a:pt x="1941" y="1524"/>
                  </a:lnTo>
                  <a:lnTo>
                    <a:pt x="1941" y="1523"/>
                  </a:lnTo>
                  <a:lnTo>
                    <a:pt x="1942" y="1519"/>
                  </a:lnTo>
                  <a:lnTo>
                    <a:pt x="1942" y="1517"/>
                  </a:lnTo>
                  <a:lnTo>
                    <a:pt x="1942" y="1515"/>
                  </a:lnTo>
                  <a:lnTo>
                    <a:pt x="1942" y="1514"/>
                  </a:lnTo>
                  <a:lnTo>
                    <a:pt x="1942" y="1511"/>
                  </a:lnTo>
                  <a:lnTo>
                    <a:pt x="1941" y="1510"/>
                  </a:lnTo>
                  <a:lnTo>
                    <a:pt x="1941" y="1508"/>
                  </a:lnTo>
                  <a:lnTo>
                    <a:pt x="1941" y="1507"/>
                  </a:lnTo>
                  <a:lnTo>
                    <a:pt x="1941" y="1505"/>
                  </a:lnTo>
                  <a:lnTo>
                    <a:pt x="1941" y="1505"/>
                  </a:lnTo>
                  <a:lnTo>
                    <a:pt x="1941" y="1504"/>
                  </a:lnTo>
                  <a:lnTo>
                    <a:pt x="1941" y="1504"/>
                  </a:lnTo>
                  <a:lnTo>
                    <a:pt x="1942" y="1502"/>
                  </a:lnTo>
                  <a:lnTo>
                    <a:pt x="1942" y="1502"/>
                  </a:lnTo>
                  <a:lnTo>
                    <a:pt x="1944" y="1500"/>
                  </a:lnTo>
                  <a:lnTo>
                    <a:pt x="1944" y="1498"/>
                  </a:lnTo>
                  <a:lnTo>
                    <a:pt x="1946" y="1496"/>
                  </a:lnTo>
                  <a:lnTo>
                    <a:pt x="1946" y="1496"/>
                  </a:lnTo>
                  <a:lnTo>
                    <a:pt x="1946" y="1494"/>
                  </a:lnTo>
                  <a:lnTo>
                    <a:pt x="1946" y="1493"/>
                  </a:lnTo>
                  <a:lnTo>
                    <a:pt x="1948" y="1491"/>
                  </a:lnTo>
                  <a:lnTo>
                    <a:pt x="1948" y="1491"/>
                  </a:lnTo>
                  <a:lnTo>
                    <a:pt x="1948" y="1489"/>
                  </a:lnTo>
                  <a:lnTo>
                    <a:pt x="1948" y="1488"/>
                  </a:lnTo>
                  <a:lnTo>
                    <a:pt x="1950" y="1486"/>
                  </a:lnTo>
                  <a:lnTo>
                    <a:pt x="1951" y="1484"/>
                  </a:lnTo>
                  <a:lnTo>
                    <a:pt x="1953" y="1483"/>
                  </a:lnTo>
                  <a:lnTo>
                    <a:pt x="1955" y="1481"/>
                  </a:lnTo>
                  <a:lnTo>
                    <a:pt x="1958" y="1477"/>
                  </a:lnTo>
                  <a:lnTo>
                    <a:pt x="1959" y="1476"/>
                  </a:lnTo>
                  <a:lnTo>
                    <a:pt x="1962" y="1473"/>
                  </a:lnTo>
                  <a:lnTo>
                    <a:pt x="1964" y="1471"/>
                  </a:lnTo>
                  <a:lnTo>
                    <a:pt x="1968" y="1467"/>
                  </a:lnTo>
                  <a:lnTo>
                    <a:pt x="1970" y="1465"/>
                  </a:lnTo>
                  <a:lnTo>
                    <a:pt x="1973" y="1463"/>
                  </a:lnTo>
                  <a:lnTo>
                    <a:pt x="1975" y="1461"/>
                  </a:lnTo>
                  <a:lnTo>
                    <a:pt x="1979" y="1457"/>
                  </a:lnTo>
                  <a:lnTo>
                    <a:pt x="1981" y="1455"/>
                  </a:lnTo>
                  <a:lnTo>
                    <a:pt x="1983" y="1453"/>
                  </a:lnTo>
                  <a:lnTo>
                    <a:pt x="1985" y="1451"/>
                  </a:lnTo>
                  <a:lnTo>
                    <a:pt x="1988" y="1448"/>
                  </a:lnTo>
                  <a:lnTo>
                    <a:pt x="1992" y="1444"/>
                  </a:lnTo>
                  <a:lnTo>
                    <a:pt x="1997" y="1438"/>
                  </a:lnTo>
                  <a:lnTo>
                    <a:pt x="2002" y="1432"/>
                  </a:lnTo>
                  <a:lnTo>
                    <a:pt x="2008" y="1425"/>
                  </a:lnTo>
                  <a:lnTo>
                    <a:pt x="2011" y="1418"/>
                  </a:lnTo>
                  <a:lnTo>
                    <a:pt x="2017" y="1410"/>
                  </a:lnTo>
                  <a:lnTo>
                    <a:pt x="2022" y="1403"/>
                  </a:lnTo>
                  <a:lnTo>
                    <a:pt x="2028" y="1393"/>
                  </a:lnTo>
                  <a:lnTo>
                    <a:pt x="2032" y="1386"/>
                  </a:lnTo>
                  <a:lnTo>
                    <a:pt x="2037" y="1378"/>
                  </a:lnTo>
                  <a:lnTo>
                    <a:pt x="2041" y="1370"/>
                  </a:lnTo>
                  <a:lnTo>
                    <a:pt x="2046" y="1361"/>
                  </a:lnTo>
                  <a:lnTo>
                    <a:pt x="2049" y="1353"/>
                  </a:lnTo>
                  <a:lnTo>
                    <a:pt x="2052" y="1346"/>
                  </a:lnTo>
                  <a:lnTo>
                    <a:pt x="2054" y="1339"/>
                  </a:lnTo>
                  <a:lnTo>
                    <a:pt x="2057" y="1331"/>
                  </a:lnTo>
                  <a:lnTo>
                    <a:pt x="2057" y="1330"/>
                  </a:lnTo>
                  <a:lnTo>
                    <a:pt x="2059" y="1328"/>
                  </a:lnTo>
                  <a:lnTo>
                    <a:pt x="2059" y="1326"/>
                  </a:lnTo>
                  <a:lnTo>
                    <a:pt x="2060" y="1323"/>
                  </a:lnTo>
                  <a:lnTo>
                    <a:pt x="2060" y="1321"/>
                  </a:lnTo>
                  <a:lnTo>
                    <a:pt x="2062" y="1319"/>
                  </a:lnTo>
                  <a:lnTo>
                    <a:pt x="2064" y="1317"/>
                  </a:lnTo>
                  <a:lnTo>
                    <a:pt x="2066" y="1313"/>
                  </a:lnTo>
                  <a:lnTo>
                    <a:pt x="2066" y="1311"/>
                  </a:lnTo>
                  <a:lnTo>
                    <a:pt x="2068" y="1310"/>
                  </a:lnTo>
                  <a:lnTo>
                    <a:pt x="2069" y="1308"/>
                  </a:lnTo>
                  <a:lnTo>
                    <a:pt x="2071" y="1305"/>
                  </a:lnTo>
                  <a:lnTo>
                    <a:pt x="2071" y="1303"/>
                  </a:lnTo>
                  <a:lnTo>
                    <a:pt x="2072" y="1301"/>
                  </a:lnTo>
                  <a:lnTo>
                    <a:pt x="2072" y="1299"/>
                  </a:lnTo>
                  <a:lnTo>
                    <a:pt x="2074" y="1295"/>
                  </a:lnTo>
                  <a:lnTo>
                    <a:pt x="2074" y="1291"/>
                  </a:lnTo>
                  <a:lnTo>
                    <a:pt x="2076" y="1285"/>
                  </a:lnTo>
                  <a:lnTo>
                    <a:pt x="2077" y="1280"/>
                  </a:lnTo>
                  <a:lnTo>
                    <a:pt x="2078" y="1273"/>
                  </a:lnTo>
                  <a:lnTo>
                    <a:pt x="2080" y="1268"/>
                  </a:lnTo>
                  <a:lnTo>
                    <a:pt x="2082" y="1260"/>
                  </a:lnTo>
                  <a:lnTo>
                    <a:pt x="2084" y="1253"/>
                  </a:lnTo>
                  <a:lnTo>
                    <a:pt x="2088" y="1246"/>
                  </a:lnTo>
                  <a:lnTo>
                    <a:pt x="2090" y="1241"/>
                  </a:lnTo>
                  <a:lnTo>
                    <a:pt x="2094" y="1233"/>
                  </a:lnTo>
                  <a:lnTo>
                    <a:pt x="2096" y="1228"/>
                  </a:lnTo>
                  <a:lnTo>
                    <a:pt x="2100" y="1221"/>
                  </a:lnTo>
                  <a:lnTo>
                    <a:pt x="2102" y="1215"/>
                  </a:lnTo>
                  <a:lnTo>
                    <a:pt x="2106" y="1210"/>
                  </a:lnTo>
                  <a:lnTo>
                    <a:pt x="2108" y="1205"/>
                  </a:lnTo>
                  <a:lnTo>
                    <a:pt x="2112" y="1201"/>
                  </a:lnTo>
                  <a:lnTo>
                    <a:pt x="2112" y="1201"/>
                  </a:lnTo>
                  <a:lnTo>
                    <a:pt x="2114" y="1199"/>
                  </a:lnTo>
                  <a:lnTo>
                    <a:pt x="2115" y="1199"/>
                  </a:lnTo>
                  <a:lnTo>
                    <a:pt x="2117" y="1197"/>
                  </a:lnTo>
                  <a:lnTo>
                    <a:pt x="2119" y="1197"/>
                  </a:lnTo>
                  <a:lnTo>
                    <a:pt x="2121" y="1195"/>
                  </a:lnTo>
                  <a:lnTo>
                    <a:pt x="2123" y="1193"/>
                  </a:lnTo>
                  <a:lnTo>
                    <a:pt x="2126" y="1191"/>
                  </a:lnTo>
                  <a:lnTo>
                    <a:pt x="2128" y="1191"/>
                  </a:lnTo>
                  <a:lnTo>
                    <a:pt x="2130" y="1189"/>
                  </a:lnTo>
                  <a:lnTo>
                    <a:pt x="2132" y="1188"/>
                  </a:lnTo>
                  <a:lnTo>
                    <a:pt x="2134" y="1186"/>
                  </a:lnTo>
                  <a:lnTo>
                    <a:pt x="2135" y="1186"/>
                  </a:lnTo>
                  <a:lnTo>
                    <a:pt x="2137" y="1184"/>
                  </a:lnTo>
                  <a:lnTo>
                    <a:pt x="2138" y="1183"/>
                  </a:lnTo>
                  <a:lnTo>
                    <a:pt x="2140" y="1181"/>
                  </a:lnTo>
                  <a:lnTo>
                    <a:pt x="2141" y="1180"/>
                  </a:lnTo>
                  <a:lnTo>
                    <a:pt x="2143" y="1178"/>
                  </a:lnTo>
                  <a:lnTo>
                    <a:pt x="2145" y="1176"/>
                  </a:lnTo>
                  <a:lnTo>
                    <a:pt x="2146" y="1174"/>
                  </a:lnTo>
                  <a:lnTo>
                    <a:pt x="2148" y="1172"/>
                  </a:lnTo>
                  <a:lnTo>
                    <a:pt x="2150" y="1169"/>
                  </a:lnTo>
                  <a:lnTo>
                    <a:pt x="2152" y="1167"/>
                  </a:lnTo>
                  <a:lnTo>
                    <a:pt x="2155" y="1163"/>
                  </a:lnTo>
                  <a:lnTo>
                    <a:pt x="2157" y="1161"/>
                  </a:lnTo>
                  <a:lnTo>
                    <a:pt x="2159" y="1158"/>
                  </a:lnTo>
                  <a:lnTo>
                    <a:pt x="2161" y="1156"/>
                  </a:lnTo>
                  <a:lnTo>
                    <a:pt x="2163" y="1153"/>
                  </a:lnTo>
                  <a:lnTo>
                    <a:pt x="2164" y="1151"/>
                  </a:lnTo>
                  <a:lnTo>
                    <a:pt x="2165" y="1148"/>
                  </a:lnTo>
                  <a:lnTo>
                    <a:pt x="2167" y="1146"/>
                  </a:lnTo>
                  <a:lnTo>
                    <a:pt x="2169" y="1143"/>
                  </a:lnTo>
                  <a:lnTo>
                    <a:pt x="2169" y="1143"/>
                  </a:lnTo>
                  <a:lnTo>
                    <a:pt x="2169" y="1142"/>
                  </a:lnTo>
                  <a:lnTo>
                    <a:pt x="2169" y="1141"/>
                  </a:lnTo>
                  <a:lnTo>
                    <a:pt x="2171" y="1139"/>
                  </a:lnTo>
                  <a:lnTo>
                    <a:pt x="2171" y="1139"/>
                  </a:lnTo>
                  <a:lnTo>
                    <a:pt x="2172" y="1137"/>
                  </a:lnTo>
                  <a:lnTo>
                    <a:pt x="2172" y="1135"/>
                  </a:lnTo>
                  <a:lnTo>
                    <a:pt x="2174" y="1134"/>
                  </a:lnTo>
                  <a:lnTo>
                    <a:pt x="2174" y="1134"/>
                  </a:lnTo>
                  <a:lnTo>
                    <a:pt x="2174" y="1132"/>
                  </a:lnTo>
                  <a:lnTo>
                    <a:pt x="2174" y="1131"/>
                  </a:lnTo>
                  <a:lnTo>
                    <a:pt x="2175" y="1129"/>
                  </a:lnTo>
                  <a:lnTo>
                    <a:pt x="2175" y="1129"/>
                  </a:lnTo>
                  <a:lnTo>
                    <a:pt x="2176" y="1127"/>
                  </a:lnTo>
                  <a:lnTo>
                    <a:pt x="2176" y="1126"/>
                  </a:lnTo>
                  <a:lnTo>
                    <a:pt x="2178" y="1124"/>
                  </a:lnTo>
                  <a:lnTo>
                    <a:pt x="2180" y="1122"/>
                  </a:lnTo>
                  <a:lnTo>
                    <a:pt x="2184" y="1118"/>
                  </a:lnTo>
                  <a:lnTo>
                    <a:pt x="2187" y="1114"/>
                  </a:lnTo>
                  <a:lnTo>
                    <a:pt x="2192" y="1111"/>
                  </a:lnTo>
                  <a:lnTo>
                    <a:pt x="2195" y="1107"/>
                  </a:lnTo>
                  <a:lnTo>
                    <a:pt x="2200" y="1103"/>
                  </a:lnTo>
                  <a:lnTo>
                    <a:pt x="2205" y="1099"/>
                  </a:lnTo>
                  <a:lnTo>
                    <a:pt x="2211" y="1095"/>
                  </a:lnTo>
                  <a:lnTo>
                    <a:pt x="2215" y="1091"/>
                  </a:lnTo>
                  <a:lnTo>
                    <a:pt x="2220" y="1087"/>
                  </a:lnTo>
                  <a:lnTo>
                    <a:pt x="2224" y="1084"/>
                  </a:lnTo>
                  <a:lnTo>
                    <a:pt x="2230" y="1080"/>
                  </a:lnTo>
                  <a:lnTo>
                    <a:pt x="2233" y="1077"/>
                  </a:lnTo>
                  <a:lnTo>
                    <a:pt x="2238" y="1074"/>
                  </a:lnTo>
                  <a:lnTo>
                    <a:pt x="2242" y="1071"/>
                  </a:lnTo>
                  <a:lnTo>
                    <a:pt x="2245" y="1067"/>
                  </a:lnTo>
                  <a:lnTo>
                    <a:pt x="2247" y="1065"/>
                  </a:lnTo>
                  <a:lnTo>
                    <a:pt x="2250" y="1063"/>
                  </a:lnTo>
                  <a:lnTo>
                    <a:pt x="2252" y="1061"/>
                  </a:lnTo>
                  <a:lnTo>
                    <a:pt x="2255" y="1057"/>
                  </a:lnTo>
                  <a:lnTo>
                    <a:pt x="2257" y="1055"/>
                  </a:lnTo>
                  <a:lnTo>
                    <a:pt x="2261" y="1051"/>
                  </a:lnTo>
                  <a:lnTo>
                    <a:pt x="2264" y="1047"/>
                  </a:lnTo>
                  <a:lnTo>
                    <a:pt x="2268" y="1043"/>
                  </a:lnTo>
                  <a:lnTo>
                    <a:pt x="2270" y="1041"/>
                  </a:lnTo>
                  <a:lnTo>
                    <a:pt x="2274" y="1038"/>
                  </a:lnTo>
                  <a:lnTo>
                    <a:pt x="2277" y="1034"/>
                  </a:lnTo>
                  <a:lnTo>
                    <a:pt x="2281" y="1030"/>
                  </a:lnTo>
                  <a:lnTo>
                    <a:pt x="2283" y="1028"/>
                  </a:lnTo>
                  <a:lnTo>
                    <a:pt x="2286" y="1025"/>
                  </a:lnTo>
                  <a:lnTo>
                    <a:pt x="2289" y="1023"/>
                  </a:lnTo>
                  <a:lnTo>
                    <a:pt x="2293" y="1019"/>
                  </a:lnTo>
                  <a:lnTo>
                    <a:pt x="2297" y="1016"/>
                  </a:lnTo>
                  <a:lnTo>
                    <a:pt x="2302" y="1013"/>
                  </a:lnTo>
                  <a:lnTo>
                    <a:pt x="2309" y="1009"/>
                  </a:lnTo>
                  <a:lnTo>
                    <a:pt x="2316" y="1005"/>
                  </a:lnTo>
                  <a:lnTo>
                    <a:pt x="2324" y="1001"/>
                  </a:lnTo>
                  <a:lnTo>
                    <a:pt x="2331" y="998"/>
                  </a:lnTo>
                  <a:lnTo>
                    <a:pt x="2339" y="994"/>
                  </a:lnTo>
                  <a:lnTo>
                    <a:pt x="2348" y="989"/>
                  </a:lnTo>
                  <a:lnTo>
                    <a:pt x="2356" y="986"/>
                  </a:lnTo>
                  <a:lnTo>
                    <a:pt x="2364" y="982"/>
                  </a:lnTo>
                  <a:lnTo>
                    <a:pt x="2371" y="978"/>
                  </a:lnTo>
                  <a:lnTo>
                    <a:pt x="2380" y="975"/>
                  </a:lnTo>
                  <a:lnTo>
                    <a:pt x="2386" y="972"/>
                  </a:lnTo>
                  <a:lnTo>
                    <a:pt x="2394" y="968"/>
                  </a:lnTo>
                  <a:lnTo>
                    <a:pt x="2400" y="966"/>
                  </a:lnTo>
                  <a:lnTo>
                    <a:pt x="2407" y="962"/>
                  </a:lnTo>
                  <a:lnTo>
                    <a:pt x="2416" y="958"/>
                  </a:lnTo>
                  <a:lnTo>
                    <a:pt x="2428" y="955"/>
                  </a:lnTo>
                  <a:lnTo>
                    <a:pt x="2440" y="951"/>
                  </a:lnTo>
                  <a:lnTo>
                    <a:pt x="2455" y="945"/>
                  </a:lnTo>
                  <a:lnTo>
                    <a:pt x="2469" y="941"/>
                  </a:lnTo>
                  <a:lnTo>
                    <a:pt x="2484" y="936"/>
                  </a:lnTo>
                  <a:lnTo>
                    <a:pt x="2499" y="931"/>
                  </a:lnTo>
                  <a:lnTo>
                    <a:pt x="2515" y="925"/>
                  </a:lnTo>
                  <a:lnTo>
                    <a:pt x="2530" y="921"/>
                  </a:lnTo>
                  <a:lnTo>
                    <a:pt x="2545" y="915"/>
                  </a:lnTo>
                  <a:lnTo>
                    <a:pt x="2559" y="910"/>
                  </a:lnTo>
                  <a:lnTo>
                    <a:pt x="2574" y="903"/>
                  </a:lnTo>
                  <a:lnTo>
                    <a:pt x="2585" y="898"/>
                  </a:lnTo>
                  <a:lnTo>
                    <a:pt x="2597" y="891"/>
                  </a:lnTo>
                  <a:lnTo>
                    <a:pt x="2607" y="884"/>
                  </a:lnTo>
                  <a:lnTo>
                    <a:pt x="2616" y="877"/>
                  </a:lnTo>
                  <a:lnTo>
                    <a:pt x="2616" y="875"/>
                  </a:lnTo>
                  <a:lnTo>
                    <a:pt x="2618" y="873"/>
                  </a:lnTo>
                  <a:lnTo>
                    <a:pt x="2619" y="872"/>
                  </a:lnTo>
                  <a:lnTo>
                    <a:pt x="2621" y="869"/>
                  </a:lnTo>
                  <a:lnTo>
                    <a:pt x="2621" y="867"/>
                  </a:lnTo>
                  <a:lnTo>
                    <a:pt x="2623" y="864"/>
                  </a:lnTo>
                  <a:lnTo>
                    <a:pt x="2624" y="862"/>
                  </a:lnTo>
                  <a:lnTo>
                    <a:pt x="2626" y="859"/>
                  </a:lnTo>
                  <a:lnTo>
                    <a:pt x="2626" y="857"/>
                  </a:lnTo>
                  <a:lnTo>
                    <a:pt x="2628" y="853"/>
                  </a:lnTo>
                  <a:lnTo>
                    <a:pt x="2628" y="852"/>
                  </a:lnTo>
                  <a:lnTo>
                    <a:pt x="2630" y="848"/>
                  </a:lnTo>
                  <a:lnTo>
                    <a:pt x="2630" y="846"/>
                  </a:lnTo>
                  <a:lnTo>
                    <a:pt x="2632" y="843"/>
                  </a:lnTo>
                  <a:lnTo>
                    <a:pt x="2633" y="842"/>
                  </a:lnTo>
                  <a:lnTo>
                    <a:pt x="2635" y="839"/>
                  </a:lnTo>
                  <a:lnTo>
                    <a:pt x="2636" y="837"/>
                  </a:lnTo>
                  <a:lnTo>
                    <a:pt x="2638" y="833"/>
                  </a:lnTo>
                  <a:lnTo>
                    <a:pt x="2640" y="829"/>
                  </a:lnTo>
                  <a:lnTo>
                    <a:pt x="2642" y="825"/>
                  </a:lnTo>
                  <a:lnTo>
                    <a:pt x="2644" y="822"/>
                  </a:lnTo>
                  <a:lnTo>
                    <a:pt x="2646" y="818"/>
                  </a:lnTo>
                  <a:lnTo>
                    <a:pt x="2648" y="814"/>
                  </a:lnTo>
                  <a:lnTo>
                    <a:pt x="2652" y="809"/>
                  </a:lnTo>
                  <a:lnTo>
                    <a:pt x="2654" y="805"/>
                  </a:lnTo>
                  <a:lnTo>
                    <a:pt x="2657" y="801"/>
                  </a:lnTo>
                  <a:lnTo>
                    <a:pt x="2659" y="797"/>
                  </a:lnTo>
                  <a:lnTo>
                    <a:pt x="2663" y="794"/>
                  </a:lnTo>
                  <a:lnTo>
                    <a:pt x="2664" y="791"/>
                  </a:lnTo>
                  <a:lnTo>
                    <a:pt x="2668" y="787"/>
                  </a:lnTo>
                  <a:lnTo>
                    <a:pt x="2670" y="785"/>
                  </a:lnTo>
                  <a:lnTo>
                    <a:pt x="2673" y="781"/>
                  </a:lnTo>
                  <a:lnTo>
                    <a:pt x="2675" y="779"/>
                  </a:lnTo>
                  <a:lnTo>
                    <a:pt x="2679" y="777"/>
                  </a:lnTo>
                  <a:lnTo>
                    <a:pt x="2683" y="775"/>
                  </a:lnTo>
                  <a:lnTo>
                    <a:pt x="2687" y="772"/>
                  </a:lnTo>
                  <a:lnTo>
                    <a:pt x="2691" y="770"/>
                  </a:lnTo>
                  <a:lnTo>
                    <a:pt x="2696" y="766"/>
                  </a:lnTo>
                  <a:lnTo>
                    <a:pt x="2700" y="764"/>
                  </a:lnTo>
                  <a:lnTo>
                    <a:pt x="2706" y="761"/>
                  </a:lnTo>
                  <a:lnTo>
                    <a:pt x="2710" y="759"/>
                  </a:lnTo>
                  <a:lnTo>
                    <a:pt x="2714" y="757"/>
                  </a:lnTo>
                  <a:lnTo>
                    <a:pt x="2718" y="755"/>
                  </a:lnTo>
                  <a:lnTo>
                    <a:pt x="2724" y="751"/>
                  </a:lnTo>
                  <a:lnTo>
                    <a:pt x="2728" y="749"/>
                  </a:lnTo>
                  <a:lnTo>
                    <a:pt x="2732" y="747"/>
                  </a:lnTo>
                  <a:lnTo>
                    <a:pt x="2736" y="745"/>
                  </a:lnTo>
                  <a:lnTo>
                    <a:pt x="2740" y="743"/>
                  </a:lnTo>
                  <a:lnTo>
                    <a:pt x="2747" y="739"/>
                  </a:lnTo>
                  <a:lnTo>
                    <a:pt x="2755" y="734"/>
                  </a:lnTo>
                  <a:lnTo>
                    <a:pt x="2764" y="729"/>
                  </a:lnTo>
                  <a:lnTo>
                    <a:pt x="2773" y="723"/>
                  </a:lnTo>
                  <a:lnTo>
                    <a:pt x="2782" y="717"/>
                  </a:lnTo>
                  <a:lnTo>
                    <a:pt x="2793" y="710"/>
                  </a:lnTo>
                  <a:lnTo>
                    <a:pt x="2803" y="704"/>
                  </a:lnTo>
                  <a:lnTo>
                    <a:pt x="2814" y="696"/>
                  </a:lnTo>
                  <a:lnTo>
                    <a:pt x="2824" y="691"/>
                  </a:lnTo>
                  <a:lnTo>
                    <a:pt x="2835" y="685"/>
                  </a:lnTo>
                  <a:lnTo>
                    <a:pt x="2845" y="679"/>
                  </a:lnTo>
                  <a:lnTo>
                    <a:pt x="2856" y="673"/>
                  </a:lnTo>
                  <a:lnTo>
                    <a:pt x="2866" y="669"/>
                  </a:lnTo>
                  <a:lnTo>
                    <a:pt x="2875" y="664"/>
                  </a:lnTo>
                  <a:lnTo>
                    <a:pt x="2883" y="661"/>
                  </a:lnTo>
                  <a:lnTo>
                    <a:pt x="2892" y="657"/>
                  </a:lnTo>
                  <a:lnTo>
                    <a:pt x="2900" y="656"/>
                  </a:lnTo>
                  <a:lnTo>
                    <a:pt x="2909" y="655"/>
                  </a:lnTo>
                  <a:lnTo>
                    <a:pt x="2919" y="655"/>
                  </a:lnTo>
                  <a:lnTo>
                    <a:pt x="2930" y="653"/>
                  </a:lnTo>
                  <a:lnTo>
                    <a:pt x="2942" y="653"/>
                  </a:lnTo>
                  <a:lnTo>
                    <a:pt x="2954" y="652"/>
                  </a:lnTo>
                  <a:lnTo>
                    <a:pt x="2965" y="652"/>
                  </a:lnTo>
                  <a:lnTo>
                    <a:pt x="2978" y="651"/>
                  </a:lnTo>
                  <a:lnTo>
                    <a:pt x="2989" y="651"/>
                  </a:lnTo>
                  <a:lnTo>
                    <a:pt x="3002" y="651"/>
                  </a:lnTo>
                  <a:lnTo>
                    <a:pt x="3013" y="651"/>
                  </a:lnTo>
                  <a:lnTo>
                    <a:pt x="3024" y="651"/>
                  </a:lnTo>
                  <a:lnTo>
                    <a:pt x="3034" y="651"/>
                  </a:lnTo>
                  <a:lnTo>
                    <a:pt x="3045" y="650"/>
                  </a:lnTo>
                  <a:lnTo>
                    <a:pt x="3054" y="649"/>
                  </a:lnTo>
                  <a:lnTo>
                    <a:pt x="3063" y="648"/>
                  </a:lnTo>
                  <a:lnTo>
                    <a:pt x="3070" y="647"/>
                  </a:lnTo>
                  <a:lnTo>
                    <a:pt x="3078" y="645"/>
                  </a:lnTo>
                  <a:lnTo>
                    <a:pt x="3086" y="643"/>
                  </a:lnTo>
                  <a:lnTo>
                    <a:pt x="3095" y="641"/>
                  </a:lnTo>
                  <a:lnTo>
                    <a:pt x="3104" y="639"/>
                  </a:lnTo>
                  <a:lnTo>
                    <a:pt x="3114" y="636"/>
                  </a:lnTo>
                  <a:lnTo>
                    <a:pt x="3123" y="633"/>
                  </a:lnTo>
                  <a:lnTo>
                    <a:pt x="3134" y="629"/>
                  </a:lnTo>
                  <a:lnTo>
                    <a:pt x="3144" y="628"/>
                  </a:lnTo>
                  <a:lnTo>
                    <a:pt x="3153" y="624"/>
                  </a:lnTo>
                  <a:lnTo>
                    <a:pt x="3162" y="622"/>
                  </a:lnTo>
                  <a:lnTo>
                    <a:pt x="3173" y="618"/>
                  </a:lnTo>
                  <a:lnTo>
                    <a:pt x="3181" y="617"/>
                  </a:lnTo>
                  <a:lnTo>
                    <a:pt x="3190" y="614"/>
                  </a:lnTo>
                  <a:lnTo>
                    <a:pt x="3198" y="612"/>
                  </a:lnTo>
                  <a:lnTo>
                    <a:pt x="3206" y="609"/>
                  </a:lnTo>
                  <a:lnTo>
                    <a:pt x="3218" y="608"/>
                  </a:lnTo>
                  <a:lnTo>
                    <a:pt x="3232" y="606"/>
                  </a:lnTo>
                  <a:lnTo>
                    <a:pt x="3247" y="604"/>
                  </a:lnTo>
                  <a:lnTo>
                    <a:pt x="3264" y="600"/>
                  </a:lnTo>
                  <a:lnTo>
                    <a:pt x="3281" y="598"/>
                  </a:lnTo>
                  <a:lnTo>
                    <a:pt x="3299" y="596"/>
                  </a:lnTo>
                  <a:lnTo>
                    <a:pt x="3317" y="594"/>
                  </a:lnTo>
                  <a:lnTo>
                    <a:pt x="3336" y="590"/>
                  </a:lnTo>
                  <a:lnTo>
                    <a:pt x="3353" y="588"/>
                  </a:lnTo>
                  <a:lnTo>
                    <a:pt x="3372" y="585"/>
                  </a:lnTo>
                  <a:lnTo>
                    <a:pt x="3388" y="582"/>
                  </a:lnTo>
                  <a:lnTo>
                    <a:pt x="3406" y="578"/>
                  </a:lnTo>
                  <a:lnTo>
                    <a:pt x="3422" y="575"/>
                  </a:lnTo>
                  <a:lnTo>
                    <a:pt x="3437" y="571"/>
                  </a:lnTo>
                  <a:lnTo>
                    <a:pt x="3451" y="567"/>
                  </a:lnTo>
                  <a:lnTo>
                    <a:pt x="3463" y="562"/>
                  </a:lnTo>
                  <a:lnTo>
                    <a:pt x="3471" y="559"/>
                  </a:lnTo>
                  <a:lnTo>
                    <a:pt x="3480" y="555"/>
                  </a:lnTo>
                  <a:lnTo>
                    <a:pt x="3490" y="549"/>
                  </a:lnTo>
                  <a:lnTo>
                    <a:pt x="3501" y="543"/>
                  </a:lnTo>
                  <a:lnTo>
                    <a:pt x="3512" y="537"/>
                  </a:lnTo>
                  <a:lnTo>
                    <a:pt x="3523" y="530"/>
                  </a:lnTo>
                  <a:lnTo>
                    <a:pt x="3534" y="522"/>
                  </a:lnTo>
                  <a:lnTo>
                    <a:pt x="3547" y="515"/>
                  </a:lnTo>
                  <a:lnTo>
                    <a:pt x="3558" y="507"/>
                  </a:lnTo>
                  <a:lnTo>
                    <a:pt x="3569" y="500"/>
                  </a:lnTo>
                  <a:lnTo>
                    <a:pt x="3579" y="492"/>
                  </a:lnTo>
                  <a:lnTo>
                    <a:pt x="3590" y="484"/>
                  </a:lnTo>
                  <a:lnTo>
                    <a:pt x="3599" y="478"/>
                  </a:lnTo>
                  <a:lnTo>
                    <a:pt x="3609" y="470"/>
                  </a:lnTo>
                  <a:lnTo>
                    <a:pt x="3616" y="464"/>
                  </a:lnTo>
                  <a:lnTo>
                    <a:pt x="3625" y="457"/>
                  </a:lnTo>
                  <a:lnTo>
                    <a:pt x="3630" y="453"/>
                  </a:lnTo>
                  <a:lnTo>
                    <a:pt x="3636" y="448"/>
                  </a:lnTo>
                  <a:lnTo>
                    <a:pt x="3641" y="442"/>
                  </a:lnTo>
                  <a:lnTo>
                    <a:pt x="3648" y="435"/>
                  </a:lnTo>
                  <a:lnTo>
                    <a:pt x="3654" y="429"/>
                  </a:lnTo>
                  <a:lnTo>
                    <a:pt x="3662" y="421"/>
                  </a:lnTo>
                  <a:lnTo>
                    <a:pt x="3669" y="414"/>
                  </a:lnTo>
                  <a:lnTo>
                    <a:pt x="3677" y="405"/>
                  </a:lnTo>
                  <a:lnTo>
                    <a:pt x="3682" y="399"/>
                  </a:lnTo>
                  <a:lnTo>
                    <a:pt x="3690" y="391"/>
                  </a:lnTo>
                  <a:lnTo>
                    <a:pt x="3697" y="384"/>
                  </a:lnTo>
                  <a:lnTo>
                    <a:pt x="3704" y="376"/>
                  </a:lnTo>
                  <a:lnTo>
                    <a:pt x="3710" y="371"/>
                  </a:lnTo>
                  <a:lnTo>
                    <a:pt x="3717" y="364"/>
                  </a:lnTo>
                  <a:lnTo>
                    <a:pt x="3723" y="358"/>
                  </a:lnTo>
                  <a:lnTo>
                    <a:pt x="3730" y="353"/>
                  </a:lnTo>
                  <a:lnTo>
                    <a:pt x="3734" y="351"/>
                  </a:lnTo>
                  <a:lnTo>
                    <a:pt x="3738" y="347"/>
                  </a:lnTo>
                  <a:lnTo>
                    <a:pt x="3744" y="344"/>
                  </a:lnTo>
                  <a:lnTo>
                    <a:pt x="3749" y="340"/>
                  </a:lnTo>
                  <a:lnTo>
                    <a:pt x="3755" y="337"/>
                  </a:lnTo>
                  <a:lnTo>
                    <a:pt x="3761" y="333"/>
                  </a:lnTo>
                  <a:lnTo>
                    <a:pt x="3766" y="329"/>
                  </a:lnTo>
                  <a:lnTo>
                    <a:pt x="3774" y="326"/>
                  </a:lnTo>
                  <a:lnTo>
                    <a:pt x="3780" y="322"/>
                  </a:lnTo>
                  <a:lnTo>
                    <a:pt x="3786" y="318"/>
                  </a:lnTo>
                  <a:lnTo>
                    <a:pt x="3792" y="314"/>
                  </a:lnTo>
                  <a:lnTo>
                    <a:pt x="3798" y="311"/>
                  </a:lnTo>
                  <a:lnTo>
                    <a:pt x="3802" y="307"/>
                  </a:lnTo>
                  <a:lnTo>
                    <a:pt x="3808" y="303"/>
                  </a:lnTo>
                  <a:lnTo>
                    <a:pt x="3812" y="299"/>
                  </a:lnTo>
                  <a:lnTo>
                    <a:pt x="3815" y="295"/>
                  </a:lnTo>
                  <a:lnTo>
                    <a:pt x="3818" y="290"/>
                  </a:lnTo>
                  <a:lnTo>
                    <a:pt x="3822" y="283"/>
                  </a:lnTo>
                  <a:lnTo>
                    <a:pt x="3823" y="276"/>
                  </a:lnTo>
                  <a:lnTo>
                    <a:pt x="3826" y="267"/>
                  </a:lnTo>
                  <a:lnTo>
                    <a:pt x="3828" y="258"/>
                  </a:lnTo>
                  <a:lnTo>
                    <a:pt x="3830" y="249"/>
                  </a:lnTo>
                  <a:lnTo>
                    <a:pt x="3832" y="239"/>
                  </a:lnTo>
                  <a:lnTo>
                    <a:pt x="3834" y="229"/>
                  </a:lnTo>
                  <a:lnTo>
                    <a:pt x="3836" y="219"/>
                  </a:lnTo>
                  <a:lnTo>
                    <a:pt x="3838" y="210"/>
                  </a:lnTo>
                  <a:lnTo>
                    <a:pt x="3840" y="201"/>
                  </a:lnTo>
                  <a:lnTo>
                    <a:pt x="3842" y="191"/>
                  </a:lnTo>
                  <a:lnTo>
                    <a:pt x="3844" y="184"/>
                  </a:lnTo>
                  <a:lnTo>
                    <a:pt x="3847" y="175"/>
                  </a:lnTo>
                  <a:lnTo>
                    <a:pt x="3850" y="169"/>
                  </a:lnTo>
                  <a:lnTo>
                    <a:pt x="3853" y="162"/>
                  </a:lnTo>
                  <a:lnTo>
                    <a:pt x="3856" y="157"/>
                  </a:lnTo>
                  <a:lnTo>
                    <a:pt x="3861" y="151"/>
                  </a:lnTo>
                  <a:lnTo>
                    <a:pt x="3867" y="145"/>
                  </a:lnTo>
                  <a:lnTo>
                    <a:pt x="3874" y="139"/>
                  </a:lnTo>
                  <a:lnTo>
                    <a:pt x="3881" y="133"/>
                  </a:lnTo>
                  <a:lnTo>
                    <a:pt x="3889" y="128"/>
                  </a:lnTo>
                  <a:lnTo>
                    <a:pt x="3896" y="122"/>
                  </a:lnTo>
                  <a:lnTo>
                    <a:pt x="3905" y="115"/>
                  </a:lnTo>
                  <a:lnTo>
                    <a:pt x="3912" y="109"/>
                  </a:lnTo>
                  <a:lnTo>
                    <a:pt x="3920" y="103"/>
                  </a:lnTo>
                  <a:lnTo>
                    <a:pt x="3928" y="98"/>
                  </a:lnTo>
                  <a:lnTo>
                    <a:pt x="3936" y="90"/>
                  </a:lnTo>
                  <a:lnTo>
                    <a:pt x="3941" y="85"/>
                  </a:lnTo>
                  <a:lnTo>
                    <a:pt x="3948" y="79"/>
                  </a:lnTo>
                  <a:lnTo>
                    <a:pt x="3953" y="73"/>
                  </a:lnTo>
                  <a:lnTo>
                    <a:pt x="3958" y="67"/>
                  </a:lnTo>
                  <a:lnTo>
                    <a:pt x="3958" y="65"/>
                  </a:lnTo>
                  <a:lnTo>
                    <a:pt x="3960" y="61"/>
                  </a:lnTo>
                  <a:lnTo>
                    <a:pt x="3962" y="57"/>
                  </a:lnTo>
                  <a:lnTo>
                    <a:pt x="3964" y="51"/>
                  </a:lnTo>
                  <a:lnTo>
                    <a:pt x="3965" y="45"/>
                  </a:lnTo>
                  <a:lnTo>
                    <a:pt x="3967" y="40"/>
                  </a:lnTo>
                  <a:lnTo>
                    <a:pt x="3969" y="34"/>
                  </a:lnTo>
                  <a:lnTo>
                    <a:pt x="3970" y="28"/>
                  </a:lnTo>
                  <a:lnTo>
                    <a:pt x="3970" y="24"/>
                  </a:lnTo>
                  <a:lnTo>
                    <a:pt x="3972" y="18"/>
                  </a:lnTo>
                  <a:lnTo>
                    <a:pt x="3973" y="14"/>
                  </a:lnTo>
                  <a:lnTo>
                    <a:pt x="3975" y="9"/>
                  </a:lnTo>
                  <a:lnTo>
                    <a:pt x="3975" y="6"/>
                  </a:lnTo>
                  <a:lnTo>
                    <a:pt x="3976" y="3"/>
                  </a:lnTo>
                  <a:lnTo>
                    <a:pt x="3976" y="1"/>
                  </a:lnTo>
                  <a:lnTo>
                    <a:pt x="3977" y="0"/>
                  </a:lnTo>
                </a:path>
              </a:pathLst>
            </a:custGeom>
            <a:noFill/>
            <a:ln w="954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49720" y="2511360"/>
              <a:ext cx="3504960" cy="4019760"/>
            </a:xfrm>
            <a:custGeom>
              <a:avLst/>
              <a:gdLst/>
              <a:ahLst/>
              <a:rect l="l" t="t" r="r" b="b"/>
              <a:pathLst>
                <a:path w="2208" h="2532">
                  <a:moveTo>
                    <a:pt x="2207" y="2531"/>
                  </a:moveTo>
                  <a:lnTo>
                    <a:pt x="2203" y="2511"/>
                  </a:lnTo>
                  <a:lnTo>
                    <a:pt x="2202" y="2494"/>
                  </a:lnTo>
                  <a:lnTo>
                    <a:pt x="2200" y="2481"/>
                  </a:lnTo>
                  <a:lnTo>
                    <a:pt x="2199" y="2470"/>
                  </a:lnTo>
                  <a:lnTo>
                    <a:pt x="2197" y="2463"/>
                  </a:lnTo>
                  <a:lnTo>
                    <a:pt x="2197" y="2456"/>
                  </a:lnTo>
                  <a:lnTo>
                    <a:pt x="2197" y="2452"/>
                  </a:lnTo>
                  <a:lnTo>
                    <a:pt x="2197" y="2448"/>
                  </a:lnTo>
                  <a:lnTo>
                    <a:pt x="2195" y="2446"/>
                  </a:lnTo>
                  <a:lnTo>
                    <a:pt x="2195" y="2444"/>
                  </a:lnTo>
                  <a:lnTo>
                    <a:pt x="2195" y="2442"/>
                  </a:lnTo>
                  <a:lnTo>
                    <a:pt x="2195" y="2438"/>
                  </a:lnTo>
                  <a:lnTo>
                    <a:pt x="2193" y="2434"/>
                  </a:lnTo>
                  <a:lnTo>
                    <a:pt x="2193" y="2428"/>
                  </a:lnTo>
                  <a:lnTo>
                    <a:pt x="2193" y="2421"/>
                  </a:lnTo>
                  <a:lnTo>
                    <a:pt x="2193" y="2410"/>
                  </a:lnTo>
                  <a:lnTo>
                    <a:pt x="2190" y="2397"/>
                  </a:lnTo>
                  <a:lnTo>
                    <a:pt x="2189" y="2380"/>
                  </a:lnTo>
                  <a:lnTo>
                    <a:pt x="2185" y="2362"/>
                  </a:lnTo>
                  <a:lnTo>
                    <a:pt x="2182" y="2338"/>
                  </a:lnTo>
                  <a:lnTo>
                    <a:pt x="2177" y="2315"/>
                  </a:lnTo>
                  <a:lnTo>
                    <a:pt x="2172" y="2287"/>
                  </a:lnTo>
                  <a:lnTo>
                    <a:pt x="2167" y="2259"/>
                  </a:lnTo>
                  <a:lnTo>
                    <a:pt x="2162" y="2228"/>
                  </a:lnTo>
                  <a:lnTo>
                    <a:pt x="2155" y="2197"/>
                  </a:lnTo>
                  <a:lnTo>
                    <a:pt x="2149" y="2165"/>
                  </a:lnTo>
                  <a:lnTo>
                    <a:pt x="2142" y="2133"/>
                  </a:lnTo>
                  <a:lnTo>
                    <a:pt x="2137" y="2100"/>
                  </a:lnTo>
                  <a:lnTo>
                    <a:pt x="2129" y="2068"/>
                  </a:lnTo>
                  <a:lnTo>
                    <a:pt x="2124" y="2035"/>
                  </a:lnTo>
                  <a:lnTo>
                    <a:pt x="2116" y="2004"/>
                  </a:lnTo>
                  <a:lnTo>
                    <a:pt x="2111" y="1972"/>
                  </a:lnTo>
                  <a:lnTo>
                    <a:pt x="2103" y="1942"/>
                  </a:lnTo>
                  <a:lnTo>
                    <a:pt x="2095" y="1910"/>
                  </a:lnTo>
                  <a:lnTo>
                    <a:pt x="2087" y="1877"/>
                  </a:lnTo>
                  <a:lnTo>
                    <a:pt x="2080" y="1842"/>
                  </a:lnTo>
                  <a:lnTo>
                    <a:pt x="2071" y="1808"/>
                  </a:lnTo>
                  <a:lnTo>
                    <a:pt x="2062" y="1772"/>
                  </a:lnTo>
                  <a:lnTo>
                    <a:pt x="2053" y="1738"/>
                  </a:lnTo>
                  <a:lnTo>
                    <a:pt x="2044" y="1703"/>
                  </a:lnTo>
                  <a:lnTo>
                    <a:pt x="2034" y="1671"/>
                  </a:lnTo>
                  <a:lnTo>
                    <a:pt x="2025" y="1638"/>
                  </a:lnTo>
                  <a:lnTo>
                    <a:pt x="2016" y="1608"/>
                  </a:lnTo>
                  <a:lnTo>
                    <a:pt x="2007" y="1580"/>
                  </a:lnTo>
                  <a:lnTo>
                    <a:pt x="1999" y="1554"/>
                  </a:lnTo>
                  <a:lnTo>
                    <a:pt x="1992" y="1531"/>
                  </a:lnTo>
                  <a:lnTo>
                    <a:pt x="1985" y="1510"/>
                  </a:lnTo>
                  <a:lnTo>
                    <a:pt x="1979" y="1493"/>
                  </a:lnTo>
                  <a:lnTo>
                    <a:pt x="1971" y="1478"/>
                  </a:lnTo>
                  <a:lnTo>
                    <a:pt x="1965" y="1460"/>
                  </a:lnTo>
                  <a:lnTo>
                    <a:pt x="1956" y="1440"/>
                  </a:lnTo>
                  <a:lnTo>
                    <a:pt x="1948" y="1418"/>
                  </a:lnTo>
                  <a:lnTo>
                    <a:pt x="1938" y="1395"/>
                  </a:lnTo>
                  <a:lnTo>
                    <a:pt x="1928" y="1371"/>
                  </a:lnTo>
                  <a:lnTo>
                    <a:pt x="1917" y="1345"/>
                  </a:lnTo>
                  <a:lnTo>
                    <a:pt x="1908" y="1319"/>
                  </a:lnTo>
                  <a:lnTo>
                    <a:pt x="1897" y="1294"/>
                  </a:lnTo>
                  <a:lnTo>
                    <a:pt x="1885" y="1268"/>
                  </a:lnTo>
                  <a:lnTo>
                    <a:pt x="1874" y="1242"/>
                  </a:lnTo>
                  <a:lnTo>
                    <a:pt x="1864" y="1216"/>
                  </a:lnTo>
                  <a:lnTo>
                    <a:pt x="1853" y="1192"/>
                  </a:lnTo>
                  <a:lnTo>
                    <a:pt x="1843" y="1168"/>
                  </a:lnTo>
                  <a:lnTo>
                    <a:pt x="1834" y="1146"/>
                  </a:lnTo>
                  <a:lnTo>
                    <a:pt x="1827" y="1125"/>
                  </a:lnTo>
                  <a:lnTo>
                    <a:pt x="1817" y="1105"/>
                  </a:lnTo>
                  <a:lnTo>
                    <a:pt x="1808" y="1084"/>
                  </a:lnTo>
                  <a:lnTo>
                    <a:pt x="1797" y="1061"/>
                  </a:lnTo>
                  <a:lnTo>
                    <a:pt x="1788" y="1037"/>
                  </a:lnTo>
                  <a:lnTo>
                    <a:pt x="1777" y="1013"/>
                  </a:lnTo>
                  <a:lnTo>
                    <a:pt x="1767" y="989"/>
                  </a:lnTo>
                  <a:lnTo>
                    <a:pt x="1755" y="964"/>
                  </a:lnTo>
                  <a:lnTo>
                    <a:pt x="1746" y="940"/>
                  </a:lnTo>
                  <a:lnTo>
                    <a:pt x="1735" y="918"/>
                  </a:lnTo>
                  <a:lnTo>
                    <a:pt x="1725" y="894"/>
                  </a:lnTo>
                  <a:lnTo>
                    <a:pt x="1715" y="873"/>
                  </a:lnTo>
                  <a:lnTo>
                    <a:pt x="1706" y="851"/>
                  </a:lnTo>
                  <a:lnTo>
                    <a:pt x="1697" y="832"/>
                  </a:lnTo>
                  <a:lnTo>
                    <a:pt x="1689" y="814"/>
                  </a:lnTo>
                  <a:lnTo>
                    <a:pt x="1683" y="797"/>
                  </a:lnTo>
                  <a:lnTo>
                    <a:pt x="1677" y="782"/>
                  </a:lnTo>
                  <a:lnTo>
                    <a:pt x="1669" y="770"/>
                  </a:lnTo>
                  <a:lnTo>
                    <a:pt x="1662" y="756"/>
                  </a:lnTo>
                  <a:lnTo>
                    <a:pt x="1653" y="740"/>
                  </a:lnTo>
                  <a:lnTo>
                    <a:pt x="1644" y="722"/>
                  </a:lnTo>
                  <a:lnTo>
                    <a:pt x="1633" y="706"/>
                  </a:lnTo>
                  <a:lnTo>
                    <a:pt x="1623" y="687"/>
                  </a:lnTo>
                  <a:lnTo>
                    <a:pt x="1611" y="668"/>
                  </a:lnTo>
                  <a:lnTo>
                    <a:pt x="1600" y="649"/>
                  </a:lnTo>
                  <a:lnTo>
                    <a:pt x="1587" y="631"/>
                  </a:lnTo>
                  <a:lnTo>
                    <a:pt x="1575" y="612"/>
                  </a:lnTo>
                  <a:lnTo>
                    <a:pt x="1562" y="595"/>
                  </a:lnTo>
                  <a:lnTo>
                    <a:pt x="1551" y="576"/>
                  </a:lnTo>
                  <a:lnTo>
                    <a:pt x="1538" y="560"/>
                  </a:lnTo>
                  <a:lnTo>
                    <a:pt x="1527" y="544"/>
                  </a:lnTo>
                  <a:lnTo>
                    <a:pt x="1515" y="530"/>
                  </a:lnTo>
                  <a:lnTo>
                    <a:pt x="1505" y="515"/>
                  </a:lnTo>
                  <a:lnTo>
                    <a:pt x="1494" y="503"/>
                  </a:lnTo>
                  <a:lnTo>
                    <a:pt x="1483" y="489"/>
                  </a:lnTo>
                  <a:lnTo>
                    <a:pt x="1470" y="475"/>
                  </a:lnTo>
                  <a:lnTo>
                    <a:pt x="1457" y="460"/>
                  </a:lnTo>
                  <a:lnTo>
                    <a:pt x="1442" y="445"/>
                  </a:lnTo>
                  <a:lnTo>
                    <a:pt x="1429" y="430"/>
                  </a:lnTo>
                  <a:lnTo>
                    <a:pt x="1413" y="415"/>
                  </a:lnTo>
                  <a:lnTo>
                    <a:pt x="1400" y="398"/>
                  </a:lnTo>
                  <a:lnTo>
                    <a:pt x="1384" y="384"/>
                  </a:lnTo>
                  <a:lnTo>
                    <a:pt x="1369" y="369"/>
                  </a:lnTo>
                  <a:lnTo>
                    <a:pt x="1354" y="356"/>
                  </a:lnTo>
                  <a:lnTo>
                    <a:pt x="1341" y="342"/>
                  </a:lnTo>
                  <a:lnTo>
                    <a:pt x="1326" y="330"/>
                  </a:lnTo>
                  <a:lnTo>
                    <a:pt x="1314" y="319"/>
                  </a:lnTo>
                  <a:lnTo>
                    <a:pt x="1302" y="309"/>
                  </a:lnTo>
                  <a:lnTo>
                    <a:pt x="1291" y="299"/>
                  </a:lnTo>
                  <a:lnTo>
                    <a:pt x="1280" y="292"/>
                  </a:lnTo>
                  <a:lnTo>
                    <a:pt x="1270" y="284"/>
                  </a:lnTo>
                  <a:lnTo>
                    <a:pt x="1259" y="277"/>
                  </a:lnTo>
                  <a:lnTo>
                    <a:pt x="1249" y="268"/>
                  </a:lnTo>
                  <a:lnTo>
                    <a:pt x="1237" y="260"/>
                  </a:lnTo>
                  <a:lnTo>
                    <a:pt x="1227" y="251"/>
                  </a:lnTo>
                  <a:lnTo>
                    <a:pt x="1216" y="244"/>
                  </a:lnTo>
                  <a:lnTo>
                    <a:pt x="1207" y="234"/>
                  </a:lnTo>
                  <a:lnTo>
                    <a:pt x="1196" y="228"/>
                  </a:lnTo>
                  <a:lnTo>
                    <a:pt x="1187" y="221"/>
                  </a:lnTo>
                  <a:lnTo>
                    <a:pt x="1178" y="214"/>
                  </a:lnTo>
                  <a:lnTo>
                    <a:pt x="1170" y="208"/>
                  </a:lnTo>
                  <a:lnTo>
                    <a:pt x="1163" y="202"/>
                  </a:lnTo>
                  <a:lnTo>
                    <a:pt x="1157" y="197"/>
                  </a:lnTo>
                  <a:lnTo>
                    <a:pt x="1151" y="193"/>
                  </a:lnTo>
                  <a:lnTo>
                    <a:pt x="1148" y="190"/>
                  </a:lnTo>
                  <a:lnTo>
                    <a:pt x="1143" y="188"/>
                  </a:lnTo>
                  <a:lnTo>
                    <a:pt x="1138" y="184"/>
                  </a:lnTo>
                  <a:lnTo>
                    <a:pt x="1131" y="182"/>
                  </a:lnTo>
                  <a:lnTo>
                    <a:pt x="1126" y="178"/>
                  </a:lnTo>
                  <a:lnTo>
                    <a:pt x="1118" y="174"/>
                  </a:lnTo>
                  <a:lnTo>
                    <a:pt x="1111" y="171"/>
                  </a:lnTo>
                  <a:lnTo>
                    <a:pt x="1103" y="167"/>
                  </a:lnTo>
                  <a:lnTo>
                    <a:pt x="1095" y="163"/>
                  </a:lnTo>
                  <a:lnTo>
                    <a:pt x="1086" y="159"/>
                  </a:lnTo>
                  <a:lnTo>
                    <a:pt x="1077" y="155"/>
                  </a:lnTo>
                  <a:lnTo>
                    <a:pt x="1068" y="151"/>
                  </a:lnTo>
                  <a:lnTo>
                    <a:pt x="1060" y="146"/>
                  </a:lnTo>
                  <a:lnTo>
                    <a:pt x="1050" y="143"/>
                  </a:lnTo>
                  <a:lnTo>
                    <a:pt x="1042" y="140"/>
                  </a:lnTo>
                  <a:lnTo>
                    <a:pt x="1033" y="136"/>
                  </a:lnTo>
                  <a:lnTo>
                    <a:pt x="1026" y="132"/>
                  </a:lnTo>
                  <a:lnTo>
                    <a:pt x="1017" y="130"/>
                  </a:lnTo>
                  <a:lnTo>
                    <a:pt x="1008" y="126"/>
                  </a:lnTo>
                  <a:lnTo>
                    <a:pt x="997" y="123"/>
                  </a:lnTo>
                  <a:lnTo>
                    <a:pt x="985" y="119"/>
                  </a:lnTo>
                  <a:lnTo>
                    <a:pt x="972" y="115"/>
                  </a:lnTo>
                  <a:lnTo>
                    <a:pt x="959" y="110"/>
                  </a:lnTo>
                  <a:lnTo>
                    <a:pt x="944" y="106"/>
                  </a:lnTo>
                  <a:lnTo>
                    <a:pt x="931" y="101"/>
                  </a:lnTo>
                  <a:lnTo>
                    <a:pt x="916" y="97"/>
                  </a:lnTo>
                  <a:lnTo>
                    <a:pt x="901" y="92"/>
                  </a:lnTo>
                  <a:lnTo>
                    <a:pt x="886" y="88"/>
                  </a:lnTo>
                  <a:lnTo>
                    <a:pt x="872" y="83"/>
                  </a:lnTo>
                  <a:lnTo>
                    <a:pt x="857" y="79"/>
                  </a:lnTo>
                  <a:lnTo>
                    <a:pt x="843" y="75"/>
                  </a:lnTo>
                  <a:lnTo>
                    <a:pt x="830" y="72"/>
                  </a:lnTo>
                  <a:lnTo>
                    <a:pt x="819" y="68"/>
                  </a:lnTo>
                  <a:lnTo>
                    <a:pt x="806" y="66"/>
                  </a:lnTo>
                  <a:lnTo>
                    <a:pt x="793" y="62"/>
                  </a:lnTo>
                  <a:lnTo>
                    <a:pt x="778" y="60"/>
                  </a:lnTo>
                  <a:lnTo>
                    <a:pt x="763" y="56"/>
                  </a:lnTo>
                  <a:lnTo>
                    <a:pt x="747" y="54"/>
                  </a:lnTo>
                  <a:lnTo>
                    <a:pt x="731" y="50"/>
                  </a:lnTo>
                  <a:lnTo>
                    <a:pt x="714" y="46"/>
                  </a:lnTo>
                  <a:lnTo>
                    <a:pt x="699" y="43"/>
                  </a:lnTo>
                  <a:lnTo>
                    <a:pt x="681" y="41"/>
                  </a:lnTo>
                  <a:lnTo>
                    <a:pt x="665" y="38"/>
                  </a:lnTo>
                  <a:lnTo>
                    <a:pt x="650" y="36"/>
                  </a:lnTo>
                  <a:lnTo>
                    <a:pt x="635" y="32"/>
                  </a:lnTo>
                  <a:lnTo>
                    <a:pt x="620" y="30"/>
                  </a:lnTo>
                  <a:lnTo>
                    <a:pt x="607" y="28"/>
                  </a:lnTo>
                  <a:lnTo>
                    <a:pt x="595" y="26"/>
                  </a:lnTo>
                  <a:lnTo>
                    <a:pt x="584" y="24"/>
                  </a:lnTo>
                  <a:lnTo>
                    <a:pt x="573" y="24"/>
                  </a:lnTo>
                  <a:lnTo>
                    <a:pt x="561" y="22"/>
                  </a:lnTo>
                  <a:lnTo>
                    <a:pt x="547" y="22"/>
                  </a:lnTo>
                  <a:lnTo>
                    <a:pt x="534" y="20"/>
                  </a:lnTo>
                  <a:lnTo>
                    <a:pt x="517" y="20"/>
                  </a:lnTo>
                  <a:lnTo>
                    <a:pt x="503" y="18"/>
                  </a:lnTo>
                  <a:lnTo>
                    <a:pt x="486" y="16"/>
                  </a:lnTo>
                  <a:lnTo>
                    <a:pt x="470" y="14"/>
                  </a:lnTo>
                  <a:lnTo>
                    <a:pt x="453" y="14"/>
                  </a:lnTo>
                  <a:lnTo>
                    <a:pt x="436" y="12"/>
                  </a:lnTo>
                  <a:lnTo>
                    <a:pt x="419" y="12"/>
                  </a:lnTo>
                  <a:lnTo>
                    <a:pt x="403" y="10"/>
                  </a:lnTo>
                  <a:lnTo>
                    <a:pt x="387" y="10"/>
                  </a:lnTo>
                  <a:lnTo>
                    <a:pt x="371" y="8"/>
                  </a:lnTo>
                  <a:lnTo>
                    <a:pt x="357" y="7"/>
                  </a:lnTo>
                  <a:lnTo>
                    <a:pt x="345" y="5"/>
                  </a:lnTo>
                  <a:lnTo>
                    <a:pt x="331" y="5"/>
                  </a:lnTo>
                  <a:lnTo>
                    <a:pt x="318" y="5"/>
                  </a:lnTo>
                  <a:lnTo>
                    <a:pt x="303" y="5"/>
                  </a:lnTo>
                  <a:lnTo>
                    <a:pt x="288" y="4"/>
                  </a:lnTo>
                  <a:lnTo>
                    <a:pt x="271" y="4"/>
                  </a:lnTo>
                  <a:lnTo>
                    <a:pt x="255" y="4"/>
                  </a:lnTo>
                  <a:lnTo>
                    <a:pt x="239" y="4"/>
                  </a:lnTo>
                  <a:lnTo>
                    <a:pt x="222" y="2"/>
                  </a:lnTo>
                  <a:lnTo>
                    <a:pt x="205" y="2"/>
                  </a:lnTo>
                  <a:lnTo>
                    <a:pt x="189" y="2"/>
                  </a:lnTo>
                  <a:lnTo>
                    <a:pt x="172" y="2"/>
                  </a:lnTo>
                  <a:lnTo>
                    <a:pt x="157" y="1"/>
                  </a:lnTo>
                  <a:lnTo>
                    <a:pt x="143" y="1"/>
                  </a:lnTo>
                  <a:lnTo>
                    <a:pt x="129" y="1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19280" y="2857680"/>
              <a:ext cx="3052800" cy="2984400"/>
            </a:xfrm>
            <a:custGeom>
              <a:avLst/>
              <a:gdLst/>
              <a:ahLst/>
              <a:rect l="l" t="t" r="r" b="b"/>
              <a:pathLst>
                <a:path w="1923" h="1880">
                  <a:moveTo>
                    <a:pt x="1922" y="1879"/>
                  </a:moveTo>
                  <a:lnTo>
                    <a:pt x="1919" y="1864"/>
                  </a:lnTo>
                  <a:lnTo>
                    <a:pt x="1915" y="1851"/>
                  </a:lnTo>
                  <a:lnTo>
                    <a:pt x="1913" y="1841"/>
                  </a:lnTo>
                  <a:lnTo>
                    <a:pt x="1912" y="1832"/>
                  </a:lnTo>
                  <a:lnTo>
                    <a:pt x="1910" y="1827"/>
                  </a:lnTo>
                  <a:lnTo>
                    <a:pt x="1910" y="1822"/>
                  </a:lnTo>
                  <a:lnTo>
                    <a:pt x="1909" y="1819"/>
                  </a:lnTo>
                  <a:lnTo>
                    <a:pt x="1909" y="1815"/>
                  </a:lnTo>
                  <a:lnTo>
                    <a:pt x="1908" y="1814"/>
                  </a:lnTo>
                  <a:lnTo>
                    <a:pt x="1908" y="1812"/>
                  </a:lnTo>
                  <a:lnTo>
                    <a:pt x="1908" y="1810"/>
                  </a:lnTo>
                  <a:lnTo>
                    <a:pt x="1908" y="1807"/>
                  </a:lnTo>
                  <a:lnTo>
                    <a:pt x="1906" y="1804"/>
                  </a:lnTo>
                  <a:lnTo>
                    <a:pt x="1906" y="1800"/>
                  </a:lnTo>
                  <a:lnTo>
                    <a:pt x="1904" y="1794"/>
                  </a:lnTo>
                  <a:lnTo>
                    <a:pt x="1904" y="1786"/>
                  </a:lnTo>
                  <a:lnTo>
                    <a:pt x="1901" y="1776"/>
                  </a:lnTo>
                  <a:lnTo>
                    <a:pt x="1899" y="1763"/>
                  </a:lnTo>
                  <a:lnTo>
                    <a:pt x="1894" y="1748"/>
                  </a:lnTo>
                  <a:lnTo>
                    <a:pt x="1890" y="1730"/>
                  </a:lnTo>
                  <a:lnTo>
                    <a:pt x="1885" y="1710"/>
                  </a:lnTo>
                  <a:lnTo>
                    <a:pt x="1879" y="1689"/>
                  </a:lnTo>
                  <a:lnTo>
                    <a:pt x="1873" y="1667"/>
                  </a:lnTo>
                  <a:lnTo>
                    <a:pt x="1867" y="1642"/>
                  </a:lnTo>
                  <a:lnTo>
                    <a:pt x="1860" y="1618"/>
                  </a:lnTo>
                  <a:lnTo>
                    <a:pt x="1853" y="1593"/>
                  </a:lnTo>
                  <a:lnTo>
                    <a:pt x="1845" y="1568"/>
                  </a:lnTo>
                  <a:lnTo>
                    <a:pt x="1838" y="1542"/>
                  </a:lnTo>
                  <a:lnTo>
                    <a:pt x="1831" y="1517"/>
                  </a:lnTo>
                  <a:lnTo>
                    <a:pt x="1823" y="1491"/>
                  </a:lnTo>
                  <a:lnTo>
                    <a:pt x="1815" y="1466"/>
                  </a:lnTo>
                  <a:lnTo>
                    <a:pt x="1809" y="1442"/>
                  </a:lnTo>
                  <a:lnTo>
                    <a:pt x="1800" y="1418"/>
                  </a:lnTo>
                  <a:lnTo>
                    <a:pt x="1792" y="1393"/>
                  </a:lnTo>
                  <a:lnTo>
                    <a:pt x="1783" y="1367"/>
                  </a:lnTo>
                  <a:lnTo>
                    <a:pt x="1775" y="1340"/>
                  </a:lnTo>
                  <a:lnTo>
                    <a:pt x="1765" y="1314"/>
                  </a:lnTo>
                  <a:lnTo>
                    <a:pt x="1755" y="1287"/>
                  </a:lnTo>
                  <a:lnTo>
                    <a:pt x="1746" y="1261"/>
                  </a:lnTo>
                  <a:lnTo>
                    <a:pt x="1737" y="1233"/>
                  </a:lnTo>
                  <a:lnTo>
                    <a:pt x="1727" y="1209"/>
                  </a:lnTo>
                  <a:lnTo>
                    <a:pt x="1717" y="1184"/>
                  </a:lnTo>
                  <a:lnTo>
                    <a:pt x="1708" y="1161"/>
                  </a:lnTo>
                  <a:lnTo>
                    <a:pt x="1700" y="1139"/>
                  </a:lnTo>
                  <a:lnTo>
                    <a:pt x="1691" y="1120"/>
                  </a:lnTo>
                  <a:lnTo>
                    <a:pt x="1684" y="1102"/>
                  </a:lnTo>
                  <a:lnTo>
                    <a:pt x="1677" y="1086"/>
                  </a:lnTo>
                  <a:lnTo>
                    <a:pt x="1671" y="1072"/>
                  </a:lnTo>
                  <a:lnTo>
                    <a:pt x="1665" y="1060"/>
                  </a:lnTo>
                  <a:lnTo>
                    <a:pt x="1658" y="1046"/>
                  </a:lnTo>
                  <a:lnTo>
                    <a:pt x="1649" y="1032"/>
                  </a:lnTo>
                  <a:lnTo>
                    <a:pt x="1641" y="1014"/>
                  </a:lnTo>
                  <a:lnTo>
                    <a:pt x="1632" y="997"/>
                  </a:lnTo>
                  <a:lnTo>
                    <a:pt x="1623" y="978"/>
                  </a:lnTo>
                  <a:lnTo>
                    <a:pt x="1613" y="959"/>
                  </a:lnTo>
                  <a:lnTo>
                    <a:pt x="1603" y="938"/>
                  </a:lnTo>
                  <a:lnTo>
                    <a:pt x="1592" y="919"/>
                  </a:lnTo>
                  <a:lnTo>
                    <a:pt x="1582" y="898"/>
                  </a:lnTo>
                  <a:lnTo>
                    <a:pt x="1571" y="879"/>
                  </a:lnTo>
                  <a:lnTo>
                    <a:pt x="1562" y="858"/>
                  </a:lnTo>
                  <a:lnTo>
                    <a:pt x="1552" y="840"/>
                  </a:lnTo>
                  <a:lnTo>
                    <a:pt x="1543" y="821"/>
                  </a:lnTo>
                  <a:lnTo>
                    <a:pt x="1533" y="804"/>
                  </a:lnTo>
                  <a:lnTo>
                    <a:pt x="1526" y="787"/>
                  </a:lnTo>
                  <a:lnTo>
                    <a:pt x="1517" y="773"/>
                  </a:lnTo>
                  <a:lnTo>
                    <a:pt x="1509" y="756"/>
                  </a:lnTo>
                  <a:lnTo>
                    <a:pt x="1499" y="739"/>
                  </a:lnTo>
                  <a:lnTo>
                    <a:pt x="1490" y="721"/>
                  </a:lnTo>
                  <a:lnTo>
                    <a:pt x="1479" y="703"/>
                  </a:lnTo>
                  <a:lnTo>
                    <a:pt x="1469" y="684"/>
                  </a:lnTo>
                  <a:lnTo>
                    <a:pt x="1459" y="665"/>
                  </a:lnTo>
                  <a:lnTo>
                    <a:pt x="1450" y="646"/>
                  </a:lnTo>
                  <a:lnTo>
                    <a:pt x="1439" y="629"/>
                  </a:lnTo>
                  <a:lnTo>
                    <a:pt x="1429" y="611"/>
                  </a:lnTo>
                  <a:lnTo>
                    <a:pt x="1420" y="594"/>
                  </a:lnTo>
                  <a:lnTo>
                    <a:pt x="1412" y="577"/>
                  </a:lnTo>
                  <a:lnTo>
                    <a:pt x="1403" y="563"/>
                  </a:lnTo>
                  <a:lnTo>
                    <a:pt x="1395" y="549"/>
                  </a:lnTo>
                  <a:lnTo>
                    <a:pt x="1389" y="537"/>
                  </a:lnTo>
                  <a:lnTo>
                    <a:pt x="1383" y="525"/>
                  </a:lnTo>
                  <a:lnTo>
                    <a:pt x="1376" y="516"/>
                  </a:lnTo>
                  <a:lnTo>
                    <a:pt x="1369" y="504"/>
                  </a:lnTo>
                  <a:lnTo>
                    <a:pt x="1361" y="492"/>
                  </a:lnTo>
                  <a:lnTo>
                    <a:pt x="1353" y="479"/>
                  </a:lnTo>
                  <a:lnTo>
                    <a:pt x="1343" y="466"/>
                  </a:lnTo>
                  <a:lnTo>
                    <a:pt x="1334" y="452"/>
                  </a:lnTo>
                  <a:lnTo>
                    <a:pt x="1323" y="440"/>
                  </a:lnTo>
                  <a:lnTo>
                    <a:pt x="1313" y="424"/>
                  </a:lnTo>
                  <a:lnTo>
                    <a:pt x="1302" y="411"/>
                  </a:lnTo>
                  <a:lnTo>
                    <a:pt x="1291" y="397"/>
                  </a:lnTo>
                  <a:lnTo>
                    <a:pt x="1279" y="384"/>
                  </a:lnTo>
                  <a:lnTo>
                    <a:pt x="1269" y="370"/>
                  </a:lnTo>
                  <a:lnTo>
                    <a:pt x="1258" y="358"/>
                  </a:lnTo>
                  <a:lnTo>
                    <a:pt x="1248" y="346"/>
                  </a:lnTo>
                  <a:lnTo>
                    <a:pt x="1238" y="335"/>
                  </a:lnTo>
                  <a:lnTo>
                    <a:pt x="1228" y="325"/>
                  </a:lnTo>
                  <a:lnTo>
                    <a:pt x="1218" y="316"/>
                  </a:lnTo>
                  <a:lnTo>
                    <a:pt x="1208" y="306"/>
                  </a:lnTo>
                  <a:lnTo>
                    <a:pt x="1197" y="296"/>
                  </a:lnTo>
                  <a:lnTo>
                    <a:pt x="1186" y="285"/>
                  </a:lnTo>
                  <a:lnTo>
                    <a:pt x="1173" y="274"/>
                  </a:lnTo>
                  <a:lnTo>
                    <a:pt x="1161" y="262"/>
                  </a:lnTo>
                  <a:lnTo>
                    <a:pt x="1148" y="251"/>
                  </a:lnTo>
                  <a:lnTo>
                    <a:pt x="1136" y="239"/>
                  </a:lnTo>
                  <a:lnTo>
                    <a:pt x="1123" y="229"/>
                  </a:lnTo>
                  <a:lnTo>
                    <a:pt x="1110" y="218"/>
                  </a:lnTo>
                  <a:lnTo>
                    <a:pt x="1097" y="208"/>
                  </a:lnTo>
                  <a:lnTo>
                    <a:pt x="1085" y="197"/>
                  </a:lnTo>
                  <a:lnTo>
                    <a:pt x="1073" y="189"/>
                  </a:lnTo>
                  <a:lnTo>
                    <a:pt x="1063" y="180"/>
                  </a:lnTo>
                  <a:lnTo>
                    <a:pt x="1053" y="174"/>
                  </a:lnTo>
                  <a:lnTo>
                    <a:pt x="1044" y="167"/>
                  </a:lnTo>
                  <a:lnTo>
                    <a:pt x="1035" y="162"/>
                  </a:lnTo>
                  <a:lnTo>
                    <a:pt x="1026" y="156"/>
                  </a:lnTo>
                  <a:lnTo>
                    <a:pt x="1017" y="150"/>
                  </a:lnTo>
                  <a:lnTo>
                    <a:pt x="1008" y="145"/>
                  </a:lnTo>
                  <a:lnTo>
                    <a:pt x="999" y="139"/>
                  </a:lnTo>
                  <a:lnTo>
                    <a:pt x="989" y="134"/>
                  </a:lnTo>
                  <a:lnTo>
                    <a:pt x="980" y="128"/>
                  </a:lnTo>
                  <a:lnTo>
                    <a:pt x="973" y="122"/>
                  </a:lnTo>
                  <a:lnTo>
                    <a:pt x="963" y="119"/>
                  </a:lnTo>
                  <a:lnTo>
                    <a:pt x="956" y="113"/>
                  </a:lnTo>
                  <a:lnTo>
                    <a:pt x="948" y="109"/>
                  </a:lnTo>
                  <a:lnTo>
                    <a:pt x="942" y="104"/>
                  </a:lnTo>
                  <a:lnTo>
                    <a:pt x="935" y="101"/>
                  </a:lnTo>
                  <a:lnTo>
                    <a:pt x="930" y="98"/>
                  </a:lnTo>
                  <a:lnTo>
                    <a:pt x="926" y="95"/>
                  </a:lnTo>
                  <a:lnTo>
                    <a:pt x="923" y="92"/>
                  </a:lnTo>
                  <a:lnTo>
                    <a:pt x="918" y="91"/>
                  </a:lnTo>
                  <a:lnTo>
                    <a:pt x="915" y="89"/>
                  </a:lnTo>
                  <a:lnTo>
                    <a:pt x="909" y="87"/>
                  </a:lnTo>
                  <a:lnTo>
                    <a:pt x="905" y="84"/>
                  </a:lnTo>
                  <a:lnTo>
                    <a:pt x="897" y="82"/>
                  </a:lnTo>
                  <a:lnTo>
                    <a:pt x="892" y="79"/>
                  </a:lnTo>
                  <a:lnTo>
                    <a:pt x="885" y="78"/>
                  </a:lnTo>
                  <a:lnTo>
                    <a:pt x="879" y="74"/>
                  </a:lnTo>
                  <a:lnTo>
                    <a:pt x="871" y="72"/>
                  </a:lnTo>
                  <a:lnTo>
                    <a:pt x="864" y="70"/>
                  </a:lnTo>
                  <a:lnTo>
                    <a:pt x="856" y="68"/>
                  </a:lnTo>
                  <a:lnTo>
                    <a:pt x="849" y="64"/>
                  </a:lnTo>
                  <a:lnTo>
                    <a:pt x="842" y="62"/>
                  </a:lnTo>
                  <a:lnTo>
                    <a:pt x="836" y="60"/>
                  </a:lnTo>
                  <a:lnTo>
                    <a:pt x="829" y="58"/>
                  </a:lnTo>
                  <a:lnTo>
                    <a:pt x="823" y="55"/>
                  </a:lnTo>
                  <a:lnTo>
                    <a:pt x="815" y="54"/>
                  </a:lnTo>
                  <a:lnTo>
                    <a:pt x="808" y="52"/>
                  </a:lnTo>
                  <a:lnTo>
                    <a:pt x="798" y="50"/>
                  </a:lnTo>
                  <a:lnTo>
                    <a:pt x="789" y="48"/>
                  </a:lnTo>
                  <a:lnTo>
                    <a:pt x="778" y="46"/>
                  </a:lnTo>
                  <a:lnTo>
                    <a:pt x="768" y="43"/>
                  </a:lnTo>
                  <a:lnTo>
                    <a:pt x="757" y="41"/>
                  </a:lnTo>
                  <a:lnTo>
                    <a:pt x="745" y="38"/>
                  </a:lnTo>
                  <a:lnTo>
                    <a:pt x="732" y="36"/>
                  </a:lnTo>
                  <a:lnTo>
                    <a:pt x="721" y="34"/>
                  </a:lnTo>
                  <a:lnTo>
                    <a:pt x="709" y="32"/>
                  </a:lnTo>
                  <a:lnTo>
                    <a:pt x="697" y="28"/>
                  </a:lnTo>
                  <a:lnTo>
                    <a:pt x="685" y="26"/>
                  </a:lnTo>
                  <a:lnTo>
                    <a:pt x="674" y="24"/>
                  </a:lnTo>
                  <a:lnTo>
                    <a:pt x="663" y="23"/>
                  </a:lnTo>
                  <a:lnTo>
                    <a:pt x="653" y="20"/>
                  </a:lnTo>
                  <a:lnTo>
                    <a:pt x="642" y="20"/>
                  </a:lnTo>
                  <a:lnTo>
                    <a:pt x="632" y="18"/>
                  </a:lnTo>
                  <a:lnTo>
                    <a:pt x="619" y="16"/>
                  </a:lnTo>
                  <a:lnTo>
                    <a:pt x="608" y="14"/>
                  </a:lnTo>
                  <a:lnTo>
                    <a:pt x="595" y="13"/>
                  </a:lnTo>
                  <a:lnTo>
                    <a:pt x="583" y="11"/>
                  </a:lnTo>
                  <a:lnTo>
                    <a:pt x="569" y="10"/>
                  </a:lnTo>
                  <a:lnTo>
                    <a:pt x="557" y="8"/>
                  </a:lnTo>
                  <a:lnTo>
                    <a:pt x="544" y="8"/>
                  </a:lnTo>
                  <a:lnTo>
                    <a:pt x="531" y="6"/>
                  </a:lnTo>
                  <a:lnTo>
                    <a:pt x="517" y="5"/>
                  </a:lnTo>
                  <a:lnTo>
                    <a:pt x="506" y="3"/>
                  </a:lnTo>
                  <a:lnTo>
                    <a:pt x="495" y="3"/>
                  </a:lnTo>
                  <a:lnTo>
                    <a:pt x="484" y="1"/>
                  </a:lnTo>
                  <a:lnTo>
                    <a:pt x="475" y="1"/>
                  </a:lnTo>
                  <a:lnTo>
                    <a:pt x="466" y="0"/>
                  </a:lnTo>
                  <a:lnTo>
                    <a:pt x="457" y="0"/>
                  </a:lnTo>
                  <a:lnTo>
                    <a:pt x="447" y="0"/>
                  </a:lnTo>
                  <a:lnTo>
                    <a:pt x="436" y="0"/>
                  </a:lnTo>
                  <a:lnTo>
                    <a:pt x="425" y="0"/>
                  </a:lnTo>
                  <a:lnTo>
                    <a:pt x="412" y="0"/>
                  </a:lnTo>
                  <a:lnTo>
                    <a:pt x="400" y="0"/>
                  </a:lnTo>
                  <a:lnTo>
                    <a:pt x="387" y="0"/>
                  </a:lnTo>
                  <a:lnTo>
                    <a:pt x="374" y="0"/>
                  </a:lnTo>
                  <a:lnTo>
                    <a:pt x="360" y="1"/>
                  </a:lnTo>
                  <a:lnTo>
                    <a:pt x="347" y="1"/>
                  </a:lnTo>
                  <a:lnTo>
                    <a:pt x="333" y="1"/>
                  </a:lnTo>
                  <a:lnTo>
                    <a:pt x="320" y="1"/>
                  </a:lnTo>
                  <a:lnTo>
                    <a:pt x="307" y="1"/>
                  </a:lnTo>
                  <a:lnTo>
                    <a:pt x="295" y="1"/>
                  </a:lnTo>
                  <a:lnTo>
                    <a:pt x="284" y="1"/>
                  </a:lnTo>
                  <a:lnTo>
                    <a:pt x="275" y="1"/>
                  </a:lnTo>
                  <a:lnTo>
                    <a:pt x="263" y="3"/>
                  </a:lnTo>
                  <a:lnTo>
                    <a:pt x="252" y="3"/>
                  </a:lnTo>
                  <a:lnTo>
                    <a:pt x="239" y="4"/>
                  </a:lnTo>
                  <a:lnTo>
                    <a:pt x="227" y="4"/>
                  </a:lnTo>
                  <a:lnTo>
                    <a:pt x="214" y="6"/>
                  </a:lnTo>
                  <a:lnTo>
                    <a:pt x="201" y="6"/>
                  </a:lnTo>
                  <a:lnTo>
                    <a:pt x="187" y="8"/>
                  </a:lnTo>
                  <a:lnTo>
                    <a:pt x="174" y="8"/>
                  </a:lnTo>
                  <a:lnTo>
                    <a:pt x="161" y="10"/>
                  </a:lnTo>
                  <a:lnTo>
                    <a:pt x="147" y="10"/>
                  </a:lnTo>
                  <a:lnTo>
                    <a:pt x="135" y="11"/>
                  </a:lnTo>
                  <a:lnTo>
                    <a:pt x="123" y="11"/>
                  </a:lnTo>
                  <a:lnTo>
                    <a:pt x="111" y="13"/>
                  </a:lnTo>
                  <a:lnTo>
                    <a:pt x="101" y="13"/>
                  </a:lnTo>
                  <a:lnTo>
                    <a:pt x="91" y="14"/>
                  </a:lnTo>
                  <a:lnTo>
                    <a:pt x="83" y="14"/>
                  </a:lnTo>
                  <a:lnTo>
                    <a:pt x="76" y="16"/>
                  </a:lnTo>
                  <a:lnTo>
                    <a:pt x="71" y="1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1" y="16"/>
                  </a:lnTo>
                  <a:lnTo>
                    <a:pt x="59" y="16"/>
                  </a:lnTo>
                  <a:lnTo>
                    <a:pt x="58" y="16"/>
                  </a:lnTo>
                  <a:lnTo>
                    <a:pt x="57" y="16"/>
                  </a:lnTo>
                  <a:lnTo>
                    <a:pt x="54" y="18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4" y="20"/>
                  </a:lnTo>
                  <a:lnTo>
                    <a:pt x="25" y="20"/>
                  </a:lnTo>
                  <a:lnTo>
                    <a:pt x="13" y="22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16240" y="4532400"/>
              <a:ext cx="1087200" cy="1911240"/>
            </a:xfrm>
            <a:custGeom>
              <a:avLst/>
              <a:gdLst/>
              <a:ahLst/>
              <a:rect l="l" t="t" r="r" b="b"/>
              <a:pathLst>
                <a:path w="685" h="1204">
                  <a:moveTo>
                    <a:pt x="684" y="1203"/>
                  </a:moveTo>
                  <a:lnTo>
                    <a:pt x="682" y="1194"/>
                  </a:lnTo>
                  <a:lnTo>
                    <a:pt x="682" y="1186"/>
                  </a:lnTo>
                  <a:lnTo>
                    <a:pt x="682" y="1180"/>
                  </a:lnTo>
                  <a:lnTo>
                    <a:pt x="682" y="1174"/>
                  </a:lnTo>
                  <a:lnTo>
                    <a:pt x="681" y="1171"/>
                  </a:lnTo>
                  <a:lnTo>
                    <a:pt x="681" y="1168"/>
                  </a:lnTo>
                  <a:lnTo>
                    <a:pt x="681" y="1166"/>
                  </a:lnTo>
                  <a:lnTo>
                    <a:pt x="681" y="1163"/>
                  </a:lnTo>
                  <a:lnTo>
                    <a:pt x="681" y="1163"/>
                  </a:lnTo>
                  <a:lnTo>
                    <a:pt x="681" y="1161"/>
                  </a:lnTo>
                  <a:lnTo>
                    <a:pt x="681" y="1160"/>
                  </a:lnTo>
                  <a:lnTo>
                    <a:pt x="681" y="1159"/>
                  </a:lnTo>
                  <a:lnTo>
                    <a:pt x="681" y="1157"/>
                  </a:lnTo>
                  <a:lnTo>
                    <a:pt x="681" y="1154"/>
                  </a:lnTo>
                  <a:lnTo>
                    <a:pt x="681" y="1150"/>
                  </a:lnTo>
                  <a:lnTo>
                    <a:pt x="681" y="1145"/>
                  </a:lnTo>
                  <a:lnTo>
                    <a:pt x="679" y="1140"/>
                  </a:lnTo>
                  <a:lnTo>
                    <a:pt x="679" y="1132"/>
                  </a:lnTo>
                  <a:lnTo>
                    <a:pt x="677" y="1122"/>
                  </a:lnTo>
                  <a:lnTo>
                    <a:pt x="677" y="1111"/>
                  </a:lnTo>
                  <a:lnTo>
                    <a:pt x="675" y="1100"/>
                  </a:lnTo>
                  <a:lnTo>
                    <a:pt x="673" y="1087"/>
                  </a:lnTo>
                  <a:lnTo>
                    <a:pt x="671" y="1074"/>
                  </a:lnTo>
                  <a:lnTo>
                    <a:pt x="671" y="1059"/>
                  </a:lnTo>
                  <a:lnTo>
                    <a:pt x="668" y="1044"/>
                  </a:lnTo>
                  <a:lnTo>
                    <a:pt x="666" y="1029"/>
                  </a:lnTo>
                  <a:lnTo>
                    <a:pt x="664" y="1014"/>
                  </a:lnTo>
                  <a:lnTo>
                    <a:pt x="663" y="997"/>
                  </a:lnTo>
                  <a:lnTo>
                    <a:pt x="661" y="983"/>
                  </a:lnTo>
                  <a:lnTo>
                    <a:pt x="659" y="967"/>
                  </a:lnTo>
                  <a:lnTo>
                    <a:pt x="657" y="952"/>
                  </a:lnTo>
                  <a:lnTo>
                    <a:pt x="655" y="936"/>
                  </a:lnTo>
                  <a:lnTo>
                    <a:pt x="651" y="923"/>
                  </a:lnTo>
                  <a:lnTo>
                    <a:pt x="649" y="908"/>
                  </a:lnTo>
                  <a:lnTo>
                    <a:pt x="646" y="892"/>
                  </a:lnTo>
                  <a:lnTo>
                    <a:pt x="644" y="875"/>
                  </a:lnTo>
                  <a:lnTo>
                    <a:pt x="641" y="859"/>
                  </a:lnTo>
                  <a:lnTo>
                    <a:pt x="639" y="843"/>
                  </a:lnTo>
                  <a:lnTo>
                    <a:pt x="635" y="827"/>
                  </a:lnTo>
                  <a:lnTo>
                    <a:pt x="634" y="810"/>
                  </a:lnTo>
                  <a:lnTo>
                    <a:pt x="630" y="795"/>
                  </a:lnTo>
                  <a:lnTo>
                    <a:pt x="628" y="780"/>
                  </a:lnTo>
                  <a:lnTo>
                    <a:pt x="624" y="766"/>
                  </a:lnTo>
                  <a:lnTo>
                    <a:pt x="623" y="752"/>
                  </a:lnTo>
                  <a:lnTo>
                    <a:pt x="619" y="740"/>
                  </a:lnTo>
                  <a:lnTo>
                    <a:pt x="617" y="729"/>
                  </a:lnTo>
                  <a:lnTo>
                    <a:pt x="616" y="719"/>
                  </a:lnTo>
                  <a:lnTo>
                    <a:pt x="614" y="711"/>
                  </a:lnTo>
                  <a:lnTo>
                    <a:pt x="611" y="703"/>
                  </a:lnTo>
                  <a:lnTo>
                    <a:pt x="609" y="695"/>
                  </a:lnTo>
                  <a:lnTo>
                    <a:pt x="606" y="686"/>
                  </a:lnTo>
                  <a:lnTo>
                    <a:pt x="604" y="675"/>
                  </a:lnTo>
                  <a:lnTo>
                    <a:pt x="600" y="665"/>
                  </a:lnTo>
                  <a:lnTo>
                    <a:pt x="597" y="653"/>
                  </a:lnTo>
                  <a:lnTo>
                    <a:pt x="593" y="642"/>
                  </a:lnTo>
                  <a:lnTo>
                    <a:pt x="591" y="629"/>
                  </a:lnTo>
                  <a:lnTo>
                    <a:pt x="587" y="617"/>
                  </a:lnTo>
                  <a:lnTo>
                    <a:pt x="584" y="604"/>
                  </a:lnTo>
                  <a:lnTo>
                    <a:pt x="580" y="593"/>
                  </a:lnTo>
                  <a:lnTo>
                    <a:pt x="577" y="580"/>
                  </a:lnTo>
                  <a:lnTo>
                    <a:pt x="574" y="569"/>
                  </a:lnTo>
                  <a:lnTo>
                    <a:pt x="571" y="557"/>
                  </a:lnTo>
                  <a:lnTo>
                    <a:pt x="568" y="547"/>
                  </a:lnTo>
                  <a:lnTo>
                    <a:pt x="566" y="536"/>
                  </a:lnTo>
                  <a:lnTo>
                    <a:pt x="563" y="527"/>
                  </a:lnTo>
                  <a:lnTo>
                    <a:pt x="560" y="517"/>
                  </a:lnTo>
                  <a:lnTo>
                    <a:pt x="556" y="506"/>
                  </a:lnTo>
                  <a:lnTo>
                    <a:pt x="555" y="495"/>
                  </a:lnTo>
                  <a:lnTo>
                    <a:pt x="551" y="483"/>
                  </a:lnTo>
                  <a:lnTo>
                    <a:pt x="547" y="472"/>
                  </a:lnTo>
                  <a:lnTo>
                    <a:pt x="544" y="461"/>
                  </a:lnTo>
                  <a:lnTo>
                    <a:pt x="542" y="448"/>
                  </a:lnTo>
                  <a:lnTo>
                    <a:pt x="538" y="438"/>
                  </a:lnTo>
                  <a:lnTo>
                    <a:pt x="535" y="427"/>
                  </a:lnTo>
                  <a:lnTo>
                    <a:pt x="531" y="417"/>
                  </a:lnTo>
                  <a:lnTo>
                    <a:pt x="529" y="405"/>
                  </a:lnTo>
                  <a:lnTo>
                    <a:pt x="526" y="397"/>
                  </a:lnTo>
                  <a:lnTo>
                    <a:pt x="524" y="388"/>
                  </a:lnTo>
                  <a:lnTo>
                    <a:pt x="522" y="380"/>
                  </a:lnTo>
                  <a:lnTo>
                    <a:pt x="520" y="373"/>
                  </a:lnTo>
                  <a:lnTo>
                    <a:pt x="517" y="367"/>
                  </a:lnTo>
                  <a:lnTo>
                    <a:pt x="515" y="360"/>
                  </a:lnTo>
                  <a:lnTo>
                    <a:pt x="511" y="352"/>
                  </a:lnTo>
                  <a:lnTo>
                    <a:pt x="509" y="344"/>
                  </a:lnTo>
                  <a:lnTo>
                    <a:pt x="506" y="337"/>
                  </a:lnTo>
                  <a:lnTo>
                    <a:pt x="502" y="327"/>
                  </a:lnTo>
                  <a:lnTo>
                    <a:pt x="498" y="319"/>
                  </a:lnTo>
                  <a:lnTo>
                    <a:pt x="496" y="309"/>
                  </a:lnTo>
                  <a:lnTo>
                    <a:pt x="491" y="302"/>
                  </a:lnTo>
                  <a:lnTo>
                    <a:pt x="488" y="292"/>
                  </a:lnTo>
                  <a:lnTo>
                    <a:pt x="484" y="284"/>
                  </a:lnTo>
                  <a:lnTo>
                    <a:pt x="480" y="275"/>
                  </a:lnTo>
                  <a:lnTo>
                    <a:pt x="477" y="267"/>
                  </a:lnTo>
                  <a:lnTo>
                    <a:pt x="473" y="259"/>
                  </a:lnTo>
                  <a:lnTo>
                    <a:pt x="469" y="253"/>
                  </a:lnTo>
                  <a:lnTo>
                    <a:pt x="467" y="245"/>
                  </a:lnTo>
                  <a:lnTo>
                    <a:pt x="463" y="240"/>
                  </a:lnTo>
                  <a:lnTo>
                    <a:pt x="460" y="234"/>
                  </a:lnTo>
                  <a:lnTo>
                    <a:pt x="456" y="227"/>
                  </a:lnTo>
                  <a:lnTo>
                    <a:pt x="452" y="220"/>
                  </a:lnTo>
                  <a:lnTo>
                    <a:pt x="447" y="213"/>
                  </a:lnTo>
                  <a:lnTo>
                    <a:pt x="443" y="205"/>
                  </a:lnTo>
                  <a:lnTo>
                    <a:pt x="438" y="197"/>
                  </a:lnTo>
                  <a:lnTo>
                    <a:pt x="434" y="190"/>
                  </a:lnTo>
                  <a:lnTo>
                    <a:pt x="429" y="185"/>
                  </a:lnTo>
                  <a:lnTo>
                    <a:pt x="425" y="177"/>
                  </a:lnTo>
                  <a:lnTo>
                    <a:pt x="419" y="171"/>
                  </a:lnTo>
                  <a:lnTo>
                    <a:pt x="415" y="163"/>
                  </a:lnTo>
                  <a:lnTo>
                    <a:pt x="411" y="157"/>
                  </a:lnTo>
                  <a:lnTo>
                    <a:pt x="407" y="152"/>
                  </a:lnTo>
                  <a:lnTo>
                    <a:pt x="403" y="147"/>
                  </a:lnTo>
                  <a:lnTo>
                    <a:pt x="401" y="143"/>
                  </a:lnTo>
                  <a:lnTo>
                    <a:pt x="397" y="139"/>
                  </a:lnTo>
                  <a:lnTo>
                    <a:pt x="393" y="135"/>
                  </a:lnTo>
                  <a:lnTo>
                    <a:pt x="390" y="131"/>
                  </a:lnTo>
                  <a:lnTo>
                    <a:pt x="387" y="128"/>
                  </a:lnTo>
                  <a:lnTo>
                    <a:pt x="383" y="124"/>
                  </a:lnTo>
                  <a:lnTo>
                    <a:pt x="380" y="120"/>
                  </a:lnTo>
                  <a:lnTo>
                    <a:pt x="376" y="116"/>
                  </a:lnTo>
                  <a:lnTo>
                    <a:pt x="374" y="113"/>
                  </a:lnTo>
                  <a:lnTo>
                    <a:pt x="370" y="111"/>
                  </a:lnTo>
                  <a:lnTo>
                    <a:pt x="368" y="107"/>
                  </a:lnTo>
                  <a:lnTo>
                    <a:pt x="365" y="104"/>
                  </a:lnTo>
                  <a:lnTo>
                    <a:pt x="363" y="100"/>
                  </a:lnTo>
                  <a:lnTo>
                    <a:pt x="360" y="98"/>
                  </a:lnTo>
                  <a:lnTo>
                    <a:pt x="359" y="96"/>
                  </a:lnTo>
                  <a:lnTo>
                    <a:pt x="357" y="94"/>
                  </a:lnTo>
                  <a:lnTo>
                    <a:pt x="356" y="91"/>
                  </a:lnTo>
                  <a:lnTo>
                    <a:pt x="354" y="91"/>
                  </a:lnTo>
                  <a:lnTo>
                    <a:pt x="352" y="89"/>
                  </a:lnTo>
                  <a:lnTo>
                    <a:pt x="351" y="89"/>
                  </a:lnTo>
                  <a:lnTo>
                    <a:pt x="349" y="87"/>
                  </a:lnTo>
                  <a:lnTo>
                    <a:pt x="345" y="85"/>
                  </a:lnTo>
                  <a:lnTo>
                    <a:pt x="343" y="83"/>
                  </a:lnTo>
                  <a:lnTo>
                    <a:pt x="342" y="81"/>
                  </a:lnTo>
                  <a:lnTo>
                    <a:pt x="340" y="79"/>
                  </a:lnTo>
                  <a:lnTo>
                    <a:pt x="336" y="78"/>
                  </a:lnTo>
                  <a:lnTo>
                    <a:pt x="334" y="76"/>
                  </a:lnTo>
                  <a:lnTo>
                    <a:pt x="331" y="74"/>
                  </a:lnTo>
                  <a:lnTo>
                    <a:pt x="329" y="72"/>
                  </a:lnTo>
                  <a:lnTo>
                    <a:pt x="325" y="70"/>
                  </a:lnTo>
                  <a:lnTo>
                    <a:pt x="323" y="68"/>
                  </a:lnTo>
                  <a:lnTo>
                    <a:pt x="321" y="67"/>
                  </a:lnTo>
                  <a:lnTo>
                    <a:pt x="319" y="65"/>
                  </a:lnTo>
                  <a:lnTo>
                    <a:pt x="315" y="64"/>
                  </a:lnTo>
                  <a:lnTo>
                    <a:pt x="312" y="62"/>
                  </a:lnTo>
                  <a:lnTo>
                    <a:pt x="309" y="60"/>
                  </a:lnTo>
                  <a:lnTo>
                    <a:pt x="305" y="58"/>
                  </a:lnTo>
                  <a:lnTo>
                    <a:pt x="301" y="57"/>
                  </a:lnTo>
                  <a:lnTo>
                    <a:pt x="297" y="55"/>
                  </a:lnTo>
                  <a:lnTo>
                    <a:pt x="293" y="53"/>
                  </a:lnTo>
                  <a:lnTo>
                    <a:pt x="289" y="50"/>
                  </a:lnTo>
                  <a:lnTo>
                    <a:pt x="284" y="48"/>
                  </a:lnTo>
                  <a:lnTo>
                    <a:pt x="280" y="47"/>
                  </a:lnTo>
                  <a:lnTo>
                    <a:pt x="274" y="45"/>
                  </a:lnTo>
                  <a:lnTo>
                    <a:pt x="271" y="42"/>
                  </a:lnTo>
                  <a:lnTo>
                    <a:pt x="265" y="40"/>
                  </a:lnTo>
                  <a:lnTo>
                    <a:pt x="262" y="38"/>
                  </a:lnTo>
                  <a:lnTo>
                    <a:pt x="258" y="37"/>
                  </a:lnTo>
                  <a:lnTo>
                    <a:pt x="254" y="34"/>
                  </a:lnTo>
                  <a:lnTo>
                    <a:pt x="249" y="34"/>
                  </a:lnTo>
                  <a:lnTo>
                    <a:pt x="245" y="32"/>
                  </a:lnTo>
                  <a:lnTo>
                    <a:pt x="241" y="31"/>
                  </a:lnTo>
                  <a:lnTo>
                    <a:pt x="237" y="29"/>
                  </a:lnTo>
                  <a:lnTo>
                    <a:pt x="231" y="29"/>
                  </a:lnTo>
                  <a:lnTo>
                    <a:pt x="226" y="27"/>
                  </a:lnTo>
                  <a:lnTo>
                    <a:pt x="221" y="25"/>
                  </a:lnTo>
                  <a:lnTo>
                    <a:pt x="217" y="23"/>
                  </a:lnTo>
                  <a:lnTo>
                    <a:pt x="211" y="23"/>
                  </a:lnTo>
                  <a:lnTo>
                    <a:pt x="206" y="21"/>
                  </a:lnTo>
                  <a:lnTo>
                    <a:pt x="201" y="20"/>
                  </a:lnTo>
                  <a:lnTo>
                    <a:pt x="197" y="18"/>
                  </a:lnTo>
                  <a:lnTo>
                    <a:pt x="192" y="18"/>
                  </a:lnTo>
                  <a:lnTo>
                    <a:pt x="188" y="16"/>
                  </a:lnTo>
                  <a:lnTo>
                    <a:pt x="185" y="15"/>
                  </a:lnTo>
                  <a:lnTo>
                    <a:pt x="181" y="13"/>
                  </a:lnTo>
                  <a:lnTo>
                    <a:pt x="177" y="13"/>
                  </a:lnTo>
                  <a:lnTo>
                    <a:pt x="173" y="13"/>
                  </a:lnTo>
                  <a:lnTo>
                    <a:pt x="169" y="13"/>
                  </a:lnTo>
                  <a:lnTo>
                    <a:pt x="165" y="11"/>
                  </a:lnTo>
                  <a:lnTo>
                    <a:pt x="159" y="11"/>
                  </a:lnTo>
                  <a:lnTo>
                    <a:pt x="155" y="10"/>
                  </a:lnTo>
                  <a:lnTo>
                    <a:pt x="149" y="10"/>
                  </a:lnTo>
                  <a:lnTo>
                    <a:pt x="146" y="9"/>
                  </a:lnTo>
                  <a:lnTo>
                    <a:pt x="140" y="9"/>
                  </a:lnTo>
                  <a:lnTo>
                    <a:pt x="135" y="9"/>
                  </a:lnTo>
                  <a:lnTo>
                    <a:pt x="129" y="9"/>
                  </a:lnTo>
                  <a:lnTo>
                    <a:pt x="125" y="7"/>
                  </a:lnTo>
                  <a:lnTo>
                    <a:pt x="119" y="7"/>
                  </a:lnTo>
                  <a:lnTo>
                    <a:pt x="115" y="6"/>
                  </a:lnTo>
                  <a:lnTo>
                    <a:pt x="111" y="6"/>
                  </a:lnTo>
                  <a:lnTo>
                    <a:pt x="107" y="4"/>
                  </a:lnTo>
                  <a:lnTo>
                    <a:pt x="102" y="4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3" y="4"/>
                  </a:lnTo>
                  <a:lnTo>
                    <a:pt x="78" y="4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13080" y="2505240"/>
              <a:ext cx="3598920" cy="4130640"/>
            </a:xfrm>
            <a:custGeom>
              <a:avLst/>
              <a:gdLst/>
              <a:ahLst/>
              <a:rect l="l" t="t" r="r" b="b"/>
              <a:pathLst>
                <a:path w="2267" h="2602">
                  <a:moveTo>
                    <a:pt x="0" y="0"/>
                  </a:moveTo>
                  <a:lnTo>
                    <a:pt x="2" y="22"/>
                  </a:lnTo>
                  <a:lnTo>
                    <a:pt x="4" y="39"/>
                  </a:lnTo>
                  <a:lnTo>
                    <a:pt x="4" y="54"/>
                  </a:lnTo>
                  <a:lnTo>
                    <a:pt x="6" y="64"/>
                  </a:lnTo>
                  <a:lnTo>
                    <a:pt x="6" y="73"/>
                  </a:lnTo>
                  <a:lnTo>
                    <a:pt x="7" y="79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9" y="90"/>
                  </a:lnTo>
                  <a:lnTo>
                    <a:pt x="9" y="92"/>
                  </a:lnTo>
                  <a:lnTo>
                    <a:pt x="9" y="94"/>
                  </a:lnTo>
                  <a:lnTo>
                    <a:pt x="9" y="97"/>
                  </a:lnTo>
                  <a:lnTo>
                    <a:pt x="9" y="102"/>
                  </a:lnTo>
                  <a:lnTo>
                    <a:pt x="10" y="107"/>
                  </a:lnTo>
                  <a:lnTo>
                    <a:pt x="11" y="116"/>
                  </a:lnTo>
                  <a:lnTo>
                    <a:pt x="13" y="125"/>
                  </a:lnTo>
                  <a:lnTo>
                    <a:pt x="14" y="139"/>
                  </a:lnTo>
                  <a:lnTo>
                    <a:pt x="16" y="156"/>
                  </a:lnTo>
                  <a:lnTo>
                    <a:pt x="19" y="176"/>
                  </a:lnTo>
                  <a:lnTo>
                    <a:pt x="23" y="199"/>
                  </a:lnTo>
                  <a:lnTo>
                    <a:pt x="27" y="225"/>
                  </a:lnTo>
                  <a:lnTo>
                    <a:pt x="32" y="253"/>
                  </a:lnTo>
                  <a:lnTo>
                    <a:pt x="37" y="282"/>
                  </a:lnTo>
                  <a:lnTo>
                    <a:pt x="44" y="313"/>
                  </a:lnTo>
                  <a:lnTo>
                    <a:pt x="49" y="346"/>
                  </a:lnTo>
                  <a:lnTo>
                    <a:pt x="56" y="379"/>
                  </a:lnTo>
                  <a:lnTo>
                    <a:pt x="61" y="412"/>
                  </a:lnTo>
                  <a:lnTo>
                    <a:pt x="68" y="446"/>
                  </a:lnTo>
                  <a:lnTo>
                    <a:pt x="74" y="480"/>
                  </a:lnTo>
                  <a:lnTo>
                    <a:pt x="82" y="514"/>
                  </a:lnTo>
                  <a:lnTo>
                    <a:pt x="88" y="546"/>
                  </a:lnTo>
                  <a:lnTo>
                    <a:pt x="96" y="576"/>
                  </a:lnTo>
                  <a:lnTo>
                    <a:pt x="102" y="609"/>
                  </a:lnTo>
                  <a:lnTo>
                    <a:pt x="110" y="642"/>
                  </a:lnTo>
                  <a:lnTo>
                    <a:pt x="118" y="676"/>
                  </a:lnTo>
                  <a:lnTo>
                    <a:pt x="127" y="711"/>
                  </a:lnTo>
                  <a:lnTo>
                    <a:pt x="136" y="746"/>
                  </a:lnTo>
                  <a:lnTo>
                    <a:pt x="145" y="782"/>
                  </a:lnTo>
                  <a:lnTo>
                    <a:pt x="155" y="818"/>
                  </a:lnTo>
                  <a:lnTo>
                    <a:pt x="165" y="851"/>
                  </a:lnTo>
                  <a:lnTo>
                    <a:pt x="174" y="886"/>
                  </a:lnTo>
                  <a:lnTo>
                    <a:pt x="183" y="918"/>
                  </a:lnTo>
                  <a:lnTo>
                    <a:pt x="193" y="950"/>
                  </a:lnTo>
                  <a:lnTo>
                    <a:pt x="202" y="978"/>
                  </a:lnTo>
                  <a:lnTo>
                    <a:pt x="210" y="1006"/>
                  </a:lnTo>
                  <a:lnTo>
                    <a:pt x="218" y="1029"/>
                  </a:lnTo>
                  <a:lnTo>
                    <a:pt x="226" y="1050"/>
                  </a:lnTo>
                  <a:lnTo>
                    <a:pt x="233" y="1067"/>
                  </a:lnTo>
                  <a:lnTo>
                    <a:pt x="239" y="1084"/>
                  </a:lnTo>
                  <a:lnTo>
                    <a:pt x="246" y="1103"/>
                  </a:lnTo>
                  <a:lnTo>
                    <a:pt x="254" y="1124"/>
                  </a:lnTo>
                  <a:lnTo>
                    <a:pt x="264" y="1146"/>
                  </a:lnTo>
                  <a:lnTo>
                    <a:pt x="273" y="1170"/>
                  </a:lnTo>
                  <a:lnTo>
                    <a:pt x="283" y="1194"/>
                  </a:lnTo>
                  <a:lnTo>
                    <a:pt x="294" y="1220"/>
                  </a:lnTo>
                  <a:lnTo>
                    <a:pt x="306" y="1246"/>
                  </a:lnTo>
                  <a:lnTo>
                    <a:pt x="316" y="1274"/>
                  </a:lnTo>
                  <a:lnTo>
                    <a:pt x="327" y="1300"/>
                  </a:lnTo>
                  <a:lnTo>
                    <a:pt x="338" y="1327"/>
                  </a:lnTo>
                  <a:lnTo>
                    <a:pt x="349" y="1353"/>
                  </a:lnTo>
                  <a:lnTo>
                    <a:pt x="359" y="1379"/>
                  </a:lnTo>
                  <a:lnTo>
                    <a:pt x="370" y="1403"/>
                  </a:lnTo>
                  <a:lnTo>
                    <a:pt x="380" y="1426"/>
                  </a:lnTo>
                  <a:lnTo>
                    <a:pt x="390" y="1446"/>
                  </a:lnTo>
                  <a:lnTo>
                    <a:pt x="398" y="1468"/>
                  </a:lnTo>
                  <a:lnTo>
                    <a:pt x="407" y="1490"/>
                  </a:lnTo>
                  <a:lnTo>
                    <a:pt x="417" y="1513"/>
                  </a:lnTo>
                  <a:lnTo>
                    <a:pt x="428" y="1536"/>
                  </a:lnTo>
                  <a:lnTo>
                    <a:pt x="438" y="1562"/>
                  </a:lnTo>
                  <a:lnTo>
                    <a:pt x="449" y="1586"/>
                  </a:lnTo>
                  <a:lnTo>
                    <a:pt x="460" y="1611"/>
                  </a:lnTo>
                  <a:lnTo>
                    <a:pt x="472" y="1636"/>
                  </a:lnTo>
                  <a:lnTo>
                    <a:pt x="481" y="1660"/>
                  </a:lnTo>
                  <a:lnTo>
                    <a:pt x="492" y="1684"/>
                  </a:lnTo>
                  <a:lnTo>
                    <a:pt x="502" y="1707"/>
                  </a:lnTo>
                  <a:lnTo>
                    <a:pt x="512" y="1728"/>
                  </a:lnTo>
                  <a:lnTo>
                    <a:pt x="520" y="1750"/>
                  </a:lnTo>
                  <a:lnTo>
                    <a:pt x="528" y="1768"/>
                  </a:lnTo>
                  <a:lnTo>
                    <a:pt x="536" y="1784"/>
                  </a:lnTo>
                  <a:lnTo>
                    <a:pt x="543" y="1798"/>
                  </a:lnTo>
                  <a:lnTo>
                    <a:pt x="550" y="1812"/>
                  </a:lnTo>
                  <a:lnTo>
                    <a:pt x="558" y="1827"/>
                  </a:lnTo>
                  <a:lnTo>
                    <a:pt x="566" y="1843"/>
                  </a:lnTo>
                  <a:lnTo>
                    <a:pt x="576" y="1860"/>
                  </a:lnTo>
                  <a:lnTo>
                    <a:pt x="586" y="1879"/>
                  </a:lnTo>
                  <a:lnTo>
                    <a:pt x="598" y="1898"/>
                  </a:lnTo>
                  <a:lnTo>
                    <a:pt x="609" y="1916"/>
                  </a:lnTo>
                  <a:lnTo>
                    <a:pt x="622" y="1935"/>
                  </a:lnTo>
                  <a:lnTo>
                    <a:pt x="633" y="1955"/>
                  </a:lnTo>
                  <a:lnTo>
                    <a:pt x="646" y="1974"/>
                  </a:lnTo>
                  <a:lnTo>
                    <a:pt x="658" y="1992"/>
                  </a:lnTo>
                  <a:lnTo>
                    <a:pt x="671" y="2010"/>
                  </a:lnTo>
                  <a:lnTo>
                    <a:pt x="682" y="2028"/>
                  </a:lnTo>
                  <a:lnTo>
                    <a:pt x="696" y="2044"/>
                  </a:lnTo>
                  <a:lnTo>
                    <a:pt x="707" y="2060"/>
                  </a:lnTo>
                  <a:lnTo>
                    <a:pt x="719" y="2073"/>
                  </a:lnTo>
                  <a:lnTo>
                    <a:pt x="729" y="2087"/>
                  </a:lnTo>
                  <a:lnTo>
                    <a:pt x="741" y="2101"/>
                  </a:lnTo>
                  <a:lnTo>
                    <a:pt x="754" y="2116"/>
                  </a:lnTo>
                  <a:lnTo>
                    <a:pt x="768" y="2130"/>
                  </a:lnTo>
                  <a:lnTo>
                    <a:pt x="782" y="2147"/>
                  </a:lnTo>
                  <a:lnTo>
                    <a:pt x="797" y="2162"/>
                  </a:lnTo>
                  <a:lnTo>
                    <a:pt x="812" y="2178"/>
                  </a:lnTo>
                  <a:lnTo>
                    <a:pt x="828" y="2193"/>
                  </a:lnTo>
                  <a:lnTo>
                    <a:pt x="844" y="2210"/>
                  </a:lnTo>
                  <a:lnTo>
                    <a:pt x="858" y="2224"/>
                  </a:lnTo>
                  <a:lnTo>
                    <a:pt x="874" y="2240"/>
                  </a:lnTo>
                  <a:lnTo>
                    <a:pt x="888" y="2253"/>
                  </a:lnTo>
                  <a:lnTo>
                    <a:pt x="902" y="2266"/>
                  </a:lnTo>
                  <a:lnTo>
                    <a:pt x="915" y="2277"/>
                  </a:lnTo>
                  <a:lnTo>
                    <a:pt x="927" y="2288"/>
                  </a:lnTo>
                  <a:lnTo>
                    <a:pt x="939" y="2296"/>
                  </a:lnTo>
                  <a:lnTo>
                    <a:pt x="948" y="2305"/>
                  </a:lnTo>
                  <a:lnTo>
                    <a:pt x="960" y="2312"/>
                  </a:lnTo>
                  <a:lnTo>
                    <a:pt x="971" y="2321"/>
                  </a:lnTo>
                  <a:lnTo>
                    <a:pt x="982" y="2329"/>
                  </a:lnTo>
                  <a:lnTo>
                    <a:pt x="993" y="2338"/>
                  </a:lnTo>
                  <a:lnTo>
                    <a:pt x="1004" y="2346"/>
                  </a:lnTo>
                  <a:lnTo>
                    <a:pt x="1015" y="2353"/>
                  </a:lnTo>
                  <a:lnTo>
                    <a:pt x="1026" y="2360"/>
                  </a:lnTo>
                  <a:lnTo>
                    <a:pt x="1036" y="2369"/>
                  </a:lnTo>
                  <a:lnTo>
                    <a:pt x="1046" y="2376"/>
                  </a:lnTo>
                  <a:lnTo>
                    <a:pt x="1054" y="2383"/>
                  </a:lnTo>
                  <a:lnTo>
                    <a:pt x="1064" y="2389"/>
                  </a:lnTo>
                  <a:lnTo>
                    <a:pt x="1071" y="2394"/>
                  </a:lnTo>
                  <a:lnTo>
                    <a:pt x="1078" y="2399"/>
                  </a:lnTo>
                  <a:lnTo>
                    <a:pt x="1083" y="2403"/>
                  </a:lnTo>
                  <a:lnTo>
                    <a:pt x="1088" y="2406"/>
                  </a:lnTo>
                  <a:lnTo>
                    <a:pt x="1092" y="2409"/>
                  </a:lnTo>
                  <a:lnTo>
                    <a:pt x="1097" y="2412"/>
                  </a:lnTo>
                  <a:lnTo>
                    <a:pt x="1102" y="2416"/>
                  </a:lnTo>
                  <a:lnTo>
                    <a:pt x="1109" y="2418"/>
                  </a:lnTo>
                  <a:lnTo>
                    <a:pt x="1116" y="2422"/>
                  </a:lnTo>
                  <a:lnTo>
                    <a:pt x="1124" y="2426"/>
                  </a:lnTo>
                  <a:lnTo>
                    <a:pt x="1132" y="2430"/>
                  </a:lnTo>
                  <a:lnTo>
                    <a:pt x="1141" y="2434"/>
                  </a:lnTo>
                  <a:lnTo>
                    <a:pt x="1149" y="2438"/>
                  </a:lnTo>
                  <a:lnTo>
                    <a:pt x="1158" y="2442"/>
                  </a:lnTo>
                  <a:lnTo>
                    <a:pt x="1167" y="2446"/>
                  </a:lnTo>
                  <a:lnTo>
                    <a:pt x="1177" y="2450"/>
                  </a:lnTo>
                  <a:lnTo>
                    <a:pt x="1185" y="2454"/>
                  </a:lnTo>
                  <a:lnTo>
                    <a:pt x="1194" y="2457"/>
                  </a:lnTo>
                  <a:lnTo>
                    <a:pt x="1202" y="2461"/>
                  </a:lnTo>
                  <a:lnTo>
                    <a:pt x="1212" y="2464"/>
                  </a:lnTo>
                  <a:lnTo>
                    <a:pt x="1220" y="2468"/>
                  </a:lnTo>
                  <a:lnTo>
                    <a:pt x="1230" y="2472"/>
                  </a:lnTo>
                  <a:lnTo>
                    <a:pt x="1240" y="2476"/>
                  </a:lnTo>
                  <a:lnTo>
                    <a:pt x="1253" y="2479"/>
                  </a:lnTo>
                  <a:lnTo>
                    <a:pt x="1265" y="2485"/>
                  </a:lnTo>
                  <a:lnTo>
                    <a:pt x="1279" y="2488"/>
                  </a:lnTo>
                  <a:lnTo>
                    <a:pt x="1294" y="2494"/>
                  </a:lnTo>
                  <a:lnTo>
                    <a:pt x="1309" y="2497"/>
                  </a:lnTo>
                  <a:lnTo>
                    <a:pt x="1324" y="2503"/>
                  </a:lnTo>
                  <a:lnTo>
                    <a:pt x="1339" y="2507"/>
                  </a:lnTo>
                  <a:lnTo>
                    <a:pt x="1354" y="2512"/>
                  </a:lnTo>
                  <a:lnTo>
                    <a:pt x="1369" y="2516"/>
                  </a:lnTo>
                  <a:lnTo>
                    <a:pt x="1383" y="2520"/>
                  </a:lnTo>
                  <a:lnTo>
                    <a:pt x="1398" y="2524"/>
                  </a:lnTo>
                  <a:lnTo>
                    <a:pt x="1411" y="2528"/>
                  </a:lnTo>
                  <a:lnTo>
                    <a:pt x="1424" y="2530"/>
                  </a:lnTo>
                  <a:lnTo>
                    <a:pt x="1436" y="2534"/>
                  </a:lnTo>
                  <a:lnTo>
                    <a:pt x="1450" y="2538"/>
                  </a:lnTo>
                  <a:lnTo>
                    <a:pt x="1464" y="2542"/>
                  </a:lnTo>
                  <a:lnTo>
                    <a:pt x="1481" y="2545"/>
                  </a:lnTo>
                  <a:lnTo>
                    <a:pt x="1496" y="2548"/>
                  </a:lnTo>
                  <a:lnTo>
                    <a:pt x="1513" y="2552"/>
                  </a:lnTo>
                  <a:lnTo>
                    <a:pt x="1530" y="2555"/>
                  </a:lnTo>
                  <a:lnTo>
                    <a:pt x="1547" y="2557"/>
                  </a:lnTo>
                  <a:lnTo>
                    <a:pt x="1563" y="2561"/>
                  </a:lnTo>
                  <a:lnTo>
                    <a:pt x="1580" y="2563"/>
                  </a:lnTo>
                  <a:lnTo>
                    <a:pt x="1596" y="2566"/>
                  </a:lnTo>
                  <a:lnTo>
                    <a:pt x="1612" y="2568"/>
                  </a:lnTo>
                  <a:lnTo>
                    <a:pt x="1625" y="2571"/>
                  </a:lnTo>
                  <a:lnTo>
                    <a:pt x="1640" y="2573"/>
                  </a:lnTo>
                  <a:lnTo>
                    <a:pt x="1652" y="2575"/>
                  </a:lnTo>
                  <a:lnTo>
                    <a:pt x="1664" y="2575"/>
                  </a:lnTo>
                  <a:lnTo>
                    <a:pt x="1675" y="2577"/>
                  </a:lnTo>
                  <a:lnTo>
                    <a:pt x="1687" y="2579"/>
                  </a:lnTo>
                  <a:lnTo>
                    <a:pt x="1700" y="2581"/>
                  </a:lnTo>
                  <a:lnTo>
                    <a:pt x="1715" y="2581"/>
                  </a:lnTo>
                  <a:lnTo>
                    <a:pt x="1730" y="2583"/>
                  </a:lnTo>
                  <a:lnTo>
                    <a:pt x="1747" y="2585"/>
                  </a:lnTo>
                  <a:lnTo>
                    <a:pt x="1764" y="2586"/>
                  </a:lnTo>
                  <a:lnTo>
                    <a:pt x="1782" y="2586"/>
                  </a:lnTo>
                  <a:lnTo>
                    <a:pt x="1799" y="2588"/>
                  </a:lnTo>
                  <a:lnTo>
                    <a:pt x="1816" y="2590"/>
                  </a:lnTo>
                  <a:lnTo>
                    <a:pt x="1832" y="2592"/>
                  </a:lnTo>
                  <a:lnTo>
                    <a:pt x="1850" y="2592"/>
                  </a:lnTo>
                  <a:lnTo>
                    <a:pt x="1866" y="2593"/>
                  </a:lnTo>
                  <a:lnTo>
                    <a:pt x="1882" y="2593"/>
                  </a:lnTo>
                  <a:lnTo>
                    <a:pt x="1896" y="2594"/>
                  </a:lnTo>
                  <a:lnTo>
                    <a:pt x="1910" y="2594"/>
                  </a:lnTo>
                  <a:lnTo>
                    <a:pt x="1923" y="2596"/>
                  </a:lnTo>
                  <a:lnTo>
                    <a:pt x="1937" y="2596"/>
                  </a:lnTo>
                  <a:lnTo>
                    <a:pt x="1952" y="2598"/>
                  </a:lnTo>
                  <a:lnTo>
                    <a:pt x="1969" y="2598"/>
                  </a:lnTo>
                  <a:lnTo>
                    <a:pt x="1986" y="2600"/>
                  </a:lnTo>
                  <a:lnTo>
                    <a:pt x="2002" y="2600"/>
                  </a:lnTo>
                  <a:lnTo>
                    <a:pt x="2019" y="2600"/>
                  </a:lnTo>
                  <a:lnTo>
                    <a:pt x="2038" y="2600"/>
                  </a:lnTo>
                  <a:lnTo>
                    <a:pt x="2055" y="2601"/>
                  </a:lnTo>
                  <a:lnTo>
                    <a:pt x="2072" y="2601"/>
                  </a:lnTo>
                  <a:lnTo>
                    <a:pt x="2087" y="2601"/>
                  </a:lnTo>
                  <a:lnTo>
                    <a:pt x="2103" y="2601"/>
                  </a:lnTo>
                  <a:lnTo>
                    <a:pt x="2117" y="2601"/>
                  </a:lnTo>
                  <a:lnTo>
                    <a:pt x="2132" y="2601"/>
                  </a:lnTo>
                  <a:lnTo>
                    <a:pt x="2144" y="2601"/>
                  </a:lnTo>
                  <a:lnTo>
                    <a:pt x="2156" y="2601"/>
                  </a:lnTo>
                  <a:lnTo>
                    <a:pt x="2164" y="2601"/>
                  </a:lnTo>
                  <a:lnTo>
                    <a:pt x="2171" y="2601"/>
                  </a:lnTo>
                  <a:lnTo>
                    <a:pt x="2175" y="2601"/>
                  </a:lnTo>
                  <a:lnTo>
                    <a:pt x="2180" y="2601"/>
                  </a:lnTo>
                  <a:lnTo>
                    <a:pt x="2181" y="2601"/>
                  </a:lnTo>
                  <a:lnTo>
                    <a:pt x="2184" y="2601"/>
                  </a:lnTo>
                  <a:lnTo>
                    <a:pt x="2186" y="2601"/>
                  </a:lnTo>
                  <a:lnTo>
                    <a:pt x="2190" y="2601"/>
                  </a:lnTo>
                  <a:lnTo>
                    <a:pt x="2191" y="2601"/>
                  </a:lnTo>
                  <a:lnTo>
                    <a:pt x="2196" y="2601"/>
                  </a:lnTo>
                  <a:lnTo>
                    <a:pt x="2201" y="2601"/>
                  </a:lnTo>
                  <a:lnTo>
                    <a:pt x="2209" y="2601"/>
                  </a:lnTo>
                  <a:lnTo>
                    <a:pt x="2218" y="2601"/>
                  </a:lnTo>
                  <a:lnTo>
                    <a:pt x="2231" y="2601"/>
                  </a:lnTo>
                  <a:lnTo>
                    <a:pt x="2246" y="2601"/>
                  </a:lnTo>
                  <a:lnTo>
                    <a:pt x="2266" y="2601"/>
                  </a:lnTo>
                </a:path>
              </a:pathLst>
            </a:custGeom>
            <a:noFill/>
            <a:ln w="442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27280" y="2641680"/>
              <a:ext cx="2789280" cy="3211560"/>
            </a:xfrm>
            <a:custGeom>
              <a:avLst/>
              <a:gdLst/>
              <a:ahLst/>
              <a:rect l="l" t="t" r="r" b="b"/>
              <a:pathLst>
                <a:path w="1757" h="2023">
                  <a:moveTo>
                    <a:pt x="0" y="0"/>
                  </a:moveTo>
                  <a:lnTo>
                    <a:pt x="0" y="18"/>
                  </a:lnTo>
                  <a:lnTo>
                    <a:pt x="2" y="31"/>
                  </a:lnTo>
                  <a:lnTo>
                    <a:pt x="2" y="41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1"/>
                  </a:lnTo>
                  <a:lnTo>
                    <a:pt x="5" y="64"/>
                  </a:lnTo>
                  <a:lnTo>
                    <a:pt x="7" y="66"/>
                  </a:lnTo>
                  <a:lnTo>
                    <a:pt x="7" y="69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7" y="74"/>
                  </a:lnTo>
                  <a:lnTo>
                    <a:pt x="7" y="78"/>
                  </a:lnTo>
                  <a:lnTo>
                    <a:pt x="8" y="82"/>
                  </a:lnTo>
                  <a:lnTo>
                    <a:pt x="8" y="89"/>
                  </a:lnTo>
                  <a:lnTo>
                    <a:pt x="10" y="96"/>
                  </a:lnTo>
                  <a:lnTo>
                    <a:pt x="10" y="108"/>
                  </a:lnTo>
                  <a:lnTo>
                    <a:pt x="12" y="120"/>
                  </a:lnTo>
                  <a:lnTo>
                    <a:pt x="14" y="137"/>
                  </a:lnTo>
                  <a:lnTo>
                    <a:pt x="17" y="154"/>
                  </a:lnTo>
                  <a:lnTo>
                    <a:pt x="20" y="175"/>
                  </a:lnTo>
                  <a:lnTo>
                    <a:pt x="24" y="196"/>
                  </a:lnTo>
                  <a:lnTo>
                    <a:pt x="28" y="219"/>
                  </a:lnTo>
                  <a:lnTo>
                    <a:pt x="34" y="242"/>
                  </a:lnTo>
                  <a:lnTo>
                    <a:pt x="37" y="268"/>
                  </a:lnTo>
                  <a:lnTo>
                    <a:pt x="43" y="294"/>
                  </a:lnTo>
                  <a:lnTo>
                    <a:pt x="48" y="320"/>
                  </a:lnTo>
                  <a:lnTo>
                    <a:pt x="54" y="346"/>
                  </a:lnTo>
                  <a:lnTo>
                    <a:pt x="59" y="372"/>
                  </a:lnTo>
                  <a:lnTo>
                    <a:pt x="65" y="398"/>
                  </a:lnTo>
                  <a:lnTo>
                    <a:pt x="70" y="423"/>
                  </a:lnTo>
                  <a:lnTo>
                    <a:pt x="77" y="447"/>
                  </a:lnTo>
                  <a:lnTo>
                    <a:pt x="81" y="472"/>
                  </a:lnTo>
                  <a:lnTo>
                    <a:pt x="87" y="498"/>
                  </a:lnTo>
                  <a:lnTo>
                    <a:pt x="92" y="526"/>
                  </a:lnTo>
                  <a:lnTo>
                    <a:pt x="100" y="552"/>
                  </a:lnTo>
                  <a:lnTo>
                    <a:pt x="106" y="580"/>
                  </a:lnTo>
                  <a:lnTo>
                    <a:pt x="114" y="608"/>
                  </a:lnTo>
                  <a:lnTo>
                    <a:pt x="121" y="636"/>
                  </a:lnTo>
                  <a:lnTo>
                    <a:pt x="128" y="662"/>
                  </a:lnTo>
                  <a:lnTo>
                    <a:pt x="135" y="689"/>
                  </a:lnTo>
                  <a:lnTo>
                    <a:pt x="143" y="714"/>
                  </a:lnTo>
                  <a:lnTo>
                    <a:pt x="150" y="740"/>
                  </a:lnTo>
                  <a:lnTo>
                    <a:pt x="157" y="761"/>
                  </a:lnTo>
                  <a:lnTo>
                    <a:pt x="163" y="783"/>
                  </a:lnTo>
                  <a:lnTo>
                    <a:pt x="170" y="801"/>
                  </a:lnTo>
                  <a:lnTo>
                    <a:pt x="175" y="817"/>
                  </a:lnTo>
                  <a:lnTo>
                    <a:pt x="182" y="830"/>
                  </a:lnTo>
                  <a:lnTo>
                    <a:pt x="186" y="843"/>
                  </a:lnTo>
                  <a:lnTo>
                    <a:pt x="192" y="858"/>
                  </a:lnTo>
                  <a:lnTo>
                    <a:pt x="198" y="874"/>
                  </a:lnTo>
                  <a:lnTo>
                    <a:pt x="205" y="890"/>
                  </a:lnTo>
                  <a:lnTo>
                    <a:pt x="212" y="910"/>
                  </a:lnTo>
                  <a:lnTo>
                    <a:pt x="220" y="929"/>
                  </a:lnTo>
                  <a:lnTo>
                    <a:pt x="228" y="949"/>
                  </a:lnTo>
                  <a:lnTo>
                    <a:pt x="237" y="968"/>
                  </a:lnTo>
                  <a:lnTo>
                    <a:pt x="244" y="991"/>
                  </a:lnTo>
                  <a:lnTo>
                    <a:pt x="254" y="1012"/>
                  </a:lnTo>
                  <a:lnTo>
                    <a:pt x="261" y="1032"/>
                  </a:lnTo>
                  <a:lnTo>
                    <a:pt x="271" y="1052"/>
                  </a:lnTo>
                  <a:lnTo>
                    <a:pt x="278" y="1072"/>
                  </a:lnTo>
                  <a:lnTo>
                    <a:pt x="286" y="1091"/>
                  </a:lnTo>
                  <a:lnTo>
                    <a:pt x="294" y="1108"/>
                  </a:lnTo>
                  <a:lnTo>
                    <a:pt x="302" y="1124"/>
                  </a:lnTo>
                  <a:lnTo>
                    <a:pt x="308" y="1142"/>
                  </a:lnTo>
                  <a:lnTo>
                    <a:pt x="315" y="1158"/>
                  </a:lnTo>
                  <a:lnTo>
                    <a:pt x="322" y="1177"/>
                  </a:lnTo>
                  <a:lnTo>
                    <a:pt x="330" y="1195"/>
                  </a:lnTo>
                  <a:lnTo>
                    <a:pt x="338" y="1215"/>
                  </a:lnTo>
                  <a:lnTo>
                    <a:pt x="348" y="1234"/>
                  </a:lnTo>
                  <a:lnTo>
                    <a:pt x="356" y="1253"/>
                  </a:lnTo>
                  <a:lnTo>
                    <a:pt x="365" y="1272"/>
                  </a:lnTo>
                  <a:lnTo>
                    <a:pt x="372" y="1291"/>
                  </a:lnTo>
                  <a:lnTo>
                    <a:pt x="381" y="1310"/>
                  </a:lnTo>
                  <a:lnTo>
                    <a:pt x="389" y="1328"/>
                  </a:lnTo>
                  <a:lnTo>
                    <a:pt x="397" y="1344"/>
                  </a:lnTo>
                  <a:lnTo>
                    <a:pt x="404" y="1360"/>
                  </a:lnTo>
                  <a:lnTo>
                    <a:pt x="411" y="1374"/>
                  </a:lnTo>
                  <a:lnTo>
                    <a:pt x="417" y="1387"/>
                  </a:lnTo>
                  <a:lnTo>
                    <a:pt x="422" y="1397"/>
                  </a:lnTo>
                  <a:lnTo>
                    <a:pt x="427" y="1408"/>
                  </a:lnTo>
                  <a:lnTo>
                    <a:pt x="432" y="1420"/>
                  </a:lnTo>
                  <a:lnTo>
                    <a:pt x="439" y="1433"/>
                  </a:lnTo>
                  <a:lnTo>
                    <a:pt x="447" y="1446"/>
                  </a:lnTo>
                  <a:lnTo>
                    <a:pt x="454" y="1461"/>
                  </a:lnTo>
                  <a:lnTo>
                    <a:pt x="464" y="1475"/>
                  </a:lnTo>
                  <a:lnTo>
                    <a:pt x="473" y="1490"/>
                  </a:lnTo>
                  <a:lnTo>
                    <a:pt x="483" y="1504"/>
                  </a:lnTo>
                  <a:lnTo>
                    <a:pt x="492" y="1519"/>
                  </a:lnTo>
                  <a:lnTo>
                    <a:pt x="502" y="1534"/>
                  </a:lnTo>
                  <a:lnTo>
                    <a:pt x="511" y="1549"/>
                  </a:lnTo>
                  <a:lnTo>
                    <a:pt x="522" y="1563"/>
                  </a:lnTo>
                  <a:lnTo>
                    <a:pt x="531" y="1576"/>
                  </a:lnTo>
                  <a:lnTo>
                    <a:pt x="540" y="1589"/>
                  </a:lnTo>
                  <a:lnTo>
                    <a:pt x="548" y="1601"/>
                  </a:lnTo>
                  <a:lnTo>
                    <a:pt x="558" y="1611"/>
                  </a:lnTo>
                  <a:lnTo>
                    <a:pt x="565" y="1622"/>
                  </a:lnTo>
                  <a:lnTo>
                    <a:pt x="574" y="1633"/>
                  </a:lnTo>
                  <a:lnTo>
                    <a:pt x="584" y="1645"/>
                  </a:lnTo>
                  <a:lnTo>
                    <a:pt x="596" y="1656"/>
                  </a:lnTo>
                  <a:lnTo>
                    <a:pt x="607" y="1669"/>
                  </a:lnTo>
                  <a:lnTo>
                    <a:pt x="619" y="1680"/>
                  </a:lnTo>
                  <a:lnTo>
                    <a:pt x="630" y="1694"/>
                  </a:lnTo>
                  <a:lnTo>
                    <a:pt x="643" y="1705"/>
                  </a:lnTo>
                  <a:lnTo>
                    <a:pt x="654" y="1718"/>
                  </a:lnTo>
                  <a:lnTo>
                    <a:pt x="666" y="1729"/>
                  </a:lnTo>
                  <a:lnTo>
                    <a:pt x="678" y="1740"/>
                  </a:lnTo>
                  <a:lnTo>
                    <a:pt x="689" y="1750"/>
                  </a:lnTo>
                  <a:lnTo>
                    <a:pt x="699" y="1761"/>
                  </a:lnTo>
                  <a:lnTo>
                    <a:pt x="711" y="1770"/>
                  </a:lnTo>
                  <a:lnTo>
                    <a:pt x="720" y="1778"/>
                  </a:lnTo>
                  <a:lnTo>
                    <a:pt x="729" y="1784"/>
                  </a:lnTo>
                  <a:lnTo>
                    <a:pt x="737" y="1792"/>
                  </a:lnTo>
                  <a:lnTo>
                    <a:pt x="745" y="1797"/>
                  </a:lnTo>
                  <a:lnTo>
                    <a:pt x="752" y="1804"/>
                  </a:lnTo>
                  <a:lnTo>
                    <a:pt x="762" y="1810"/>
                  </a:lnTo>
                  <a:lnTo>
                    <a:pt x="769" y="1817"/>
                  </a:lnTo>
                  <a:lnTo>
                    <a:pt x="779" y="1823"/>
                  </a:lnTo>
                  <a:lnTo>
                    <a:pt x="786" y="1830"/>
                  </a:lnTo>
                  <a:lnTo>
                    <a:pt x="796" y="1835"/>
                  </a:lnTo>
                  <a:lnTo>
                    <a:pt x="803" y="1842"/>
                  </a:lnTo>
                  <a:lnTo>
                    <a:pt x="810" y="1847"/>
                  </a:lnTo>
                  <a:lnTo>
                    <a:pt x="817" y="1853"/>
                  </a:lnTo>
                  <a:lnTo>
                    <a:pt x="824" y="1857"/>
                  </a:lnTo>
                  <a:lnTo>
                    <a:pt x="829" y="1862"/>
                  </a:lnTo>
                  <a:lnTo>
                    <a:pt x="835" y="1866"/>
                  </a:lnTo>
                  <a:lnTo>
                    <a:pt x="838" y="1868"/>
                  </a:lnTo>
                  <a:lnTo>
                    <a:pt x="844" y="1870"/>
                  </a:lnTo>
                  <a:lnTo>
                    <a:pt x="846" y="1873"/>
                  </a:lnTo>
                  <a:lnTo>
                    <a:pt x="850" y="1875"/>
                  </a:lnTo>
                  <a:lnTo>
                    <a:pt x="854" y="1878"/>
                  </a:lnTo>
                  <a:lnTo>
                    <a:pt x="860" y="1880"/>
                  </a:lnTo>
                  <a:lnTo>
                    <a:pt x="865" y="1884"/>
                  </a:lnTo>
                  <a:lnTo>
                    <a:pt x="871" y="1886"/>
                  </a:lnTo>
                  <a:lnTo>
                    <a:pt x="877" y="1890"/>
                  </a:lnTo>
                  <a:lnTo>
                    <a:pt x="885" y="1892"/>
                  </a:lnTo>
                  <a:lnTo>
                    <a:pt x="890" y="1896"/>
                  </a:lnTo>
                  <a:lnTo>
                    <a:pt x="898" y="1900"/>
                  </a:lnTo>
                  <a:lnTo>
                    <a:pt x="905" y="1903"/>
                  </a:lnTo>
                  <a:lnTo>
                    <a:pt x="912" y="1906"/>
                  </a:lnTo>
                  <a:lnTo>
                    <a:pt x="918" y="1910"/>
                  </a:lnTo>
                  <a:lnTo>
                    <a:pt x="925" y="1912"/>
                  </a:lnTo>
                  <a:lnTo>
                    <a:pt x="932" y="1914"/>
                  </a:lnTo>
                  <a:lnTo>
                    <a:pt x="939" y="1916"/>
                  </a:lnTo>
                  <a:lnTo>
                    <a:pt x="945" y="1920"/>
                  </a:lnTo>
                  <a:lnTo>
                    <a:pt x="952" y="1923"/>
                  </a:lnTo>
                  <a:lnTo>
                    <a:pt x="961" y="1927"/>
                  </a:lnTo>
                  <a:lnTo>
                    <a:pt x="971" y="1929"/>
                  </a:lnTo>
                  <a:lnTo>
                    <a:pt x="980" y="1933"/>
                  </a:lnTo>
                  <a:lnTo>
                    <a:pt x="992" y="1936"/>
                  </a:lnTo>
                  <a:lnTo>
                    <a:pt x="1003" y="1940"/>
                  </a:lnTo>
                  <a:lnTo>
                    <a:pt x="1014" y="1943"/>
                  </a:lnTo>
                  <a:lnTo>
                    <a:pt x="1026" y="1946"/>
                  </a:lnTo>
                  <a:lnTo>
                    <a:pt x="1038" y="1950"/>
                  </a:lnTo>
                  <a:lnTo>
                    <a:pt x="1049" y="1954"/>
                  </a:lnTo>
                  <a:lnTo>
                    <a:pt x="1061" y="1957"/>
                  </a:lnTo>
                  <a:lnTo>
                    <a:pt x="1072" y="1961"/>
                  </a:lnTo>
                  <a:lnTo>
                    <a:pt x="1084" y="1962"/>
                  </a:lnTo>
                  <a:lnTo>
                    <a:pt x="1094" y="1966"/>
                  </a:lnTo>
                  <a:lnTo>
                    <a:pt x="1104" y="1968"/>
                  </a:lnTo>
                  <a:lnTo>
                    <a:pt x="1114" y="1971"/>
                  </a:lnTo>
                  <a:lnTo>
                    <a:pt x="1124" y="1973"/>
                  </a:lnTo>
                  <a:lnTo>
                    <a:pt x="1136" y="1976"/>
                  </a:lnTo>
                  <a:lnTo>
                    <a:pt x="1148" y="1978"/>
                  </a:lnTo>
                  <a:lnTo>
                    <a:pt x="1160" y="1982"/>
                  </a:lnTo>
                  <a:lnTo>
                    <a:pt x="1173" y="1984"/>
                  </a:lnTo>
                  <a:lnTo>
                    <a:pt x="1186" y="1986"/>
                  </a:lnTo>
                  <a:lnTo>
                    <a:pt x="1199" y="1988"/>
                  </a:lnTo>
                  <a:lnTo>
                    <a:pt x="1211" y="1992"/>
                  </a:lnTo>
                  <a:lnTo>
                    <a:pt x="1224" y="1994"/>
                  </a:lnTo>
                  <a:lnTo>
                    <a:pt x="1236" y="1996"/>
                  </a:lnTo>
                  <a:lnTo>
                    <a:pt x="1249" y="1998"/>
                  </a:lnTo>
                  <a:lnTo>
                    <a:pt x="1260" y="2000"/>
                  </a:lnTo>
                  <a:lnTo>
                    <a:pt x="1271" y="2001"/>
                  </a:lnTo>
                  <a:lnTo>
                    <a:pt x="1280" y="2003"/>
                  </a:lnTo>
                  <a:lnTo>
                    <a:pt x="1290" y="2003"/>
                  </a:lnTo>
                  <a:lnTo>
                    <a:pt x="1298" y="2005"/>
                  </a:lnTo>
                  <a:lnTo>
                    <a:pt x="1307" y="2006"/>
                  </a:lnTo>
                  <a:lnTo>
                    <a:pt x="1318" y="2008"/>
                  </a:lnTo>
                  <a:lnTo>
                    <a:pt x="1330" y="2008"/>
                  </a:lnTo>
                  <a:lnTo>
                    <a:pt x="1341" y="2009"/>
                  </a:lnTo>
                  <a:lnTo>
                    <a:pt x="1354" y="2009"/>
                  </a:lnTo>
                  <a:lnTo>
                    <a:pt x="1367" y="2011"/>
                  </a:lnTo>
                  <a:lnTo>
                    <a:pt x="1381" y="2011"/>
                  </a:lnTo>
                  <a:lnTo>
                    <a:pt x="1394" y="2013"/>
                  </a:lnTo>
                  <a:lnTo>
                    <a:pt x="1407" y="2013"/>
                  </a:lnTo>
                  <a:lnTo>
                    <a:pt x="1420" y="2015"/>
                  </a:lnTo>
                  <a:lnTo>
                    <a:pt x="1433" y="2015"/>
                  </a:lnTo>
                  <a:lnTo>
                    <a:pt x="1445" y="2017"/>
                  </a:lnTo>
                  <a:lnTo>
                    <a:pt x="1458" y="2017"/>
                  </a:lnTo>
                  <a:lnTo>
                    <a:pt x="1469" y="2018"/>
                  </a:lnTo>
                  <a:lnTo>
                    <a:pt x="1480" y="2018"/>
                  </a:lnTo>
                  <a:lnTo>
                    <a:pt x="1489" y="2019"/>
                  </a:lnTo>
                  <a:lnTo>
                    <a:pt x="1500" y="2019"/>
                  </a:lnTo>
                  <a:lnTo>
                    <a:pt x="1512" y="2019"/>
                  </a:lnTo>
                  <a:lnTo>
                    <a:pt x="1526" y="2019"/>
                  </a:lnTo>
                  <a:lnTo>
                    <a:pt x="1538" y="2021"/>
                  </a:lnTo>
                  <a:lnTo>
                    <a:pt x="1551" y="2021"/>
                  </a:lnTo>
                  <a:lnTo>
                    <a:pt x="1564" y="2021"/>
                  </a:lnTo>
                  <a:lnTo>
                    <a:pt x="1578" y="2021"/>
                  </a:lnTo>
                  <a:lnTo>
                    <a:pt x="1591" y="2022"/>
                  </a:lnTo>
                  <a:lnTo>
                    <a:pt x="1604" y="2022"/>
                  </a:lnTo>
                  <a:lnTo>
                    <a:pt x="1616" y="2022"/>
                  </a:lnTo>
                  <a:lnTo>
                    <a:pt x="1629" y="2022"/>
                  </a:lnTo>
                  <a:lnTo>
                    <a:pt x="1640" y="2022"/>
                  </a:lnTo>
                  <a:lnTo>
                    <a:pt x="1651" y="2022"/>
                  </a:lnTo>
                  <a:lnTo>
                    <a:pt x="1660" y="2022"/>
                  </a:lnTo>
                  <a:lnTo>
                    <a:pt x="1670" y="2022"/>
                  </a:lnTo>
                  <a:lnTo>
                    <a:pt x="1676" y="2022"/>
                  </a:lnTo>
                  <a:lnTo>
                    <a:pt x="1682" y="2022"/>
                  </a:lnTo>
                  <a:lnTo>
                    <a:pt x="1685" y="2022"/>
                  </a:lnTo>
                  <a:lnTo>
                    <a:pt x="1689" y="2022"/>
                  </a:lnTo>
                  <a:lnTo>
                    <a:pt x="1691" y="2022"/>
                  </a:lnTo>
                  <a:lnTo>
                    <a:pt x="1693" y="2022"/>
                  </a:lnTo>
                  <a:lnTo>
                    <a:pt x="1695" y="2022"/>
                  </a:lnTo>
                  <a:lnTo>
                    <a:pt x="1696" y="2022"/>
                  </a:lnTo>
                  <a:lnTo>
                    <a:pt x="1698" y="2022"/>
                  </a:lnTo>
                  <a:lnTo>
                    <a:pt x="1702" y="2022"/>
                  </a:lnTo>
                  <a:lnTo>
                    <a:pt x="1706" y="2022"/>
                  </a:lnTo>
                  <a:lnTo>
                    <a:pt x="1712" y="2022"/>
                  </a:lnTo>
                  <a:lnTo>
                    <a:pt x="1719" y="2022"/>
                  </a:lnTo>
                  <a:lnTo>
                    <a:pt x="1729" y="2022"/>
                  </a:lnTo>
                  <a:lnTo>
                    <a:pt x="1741" y="2022"/>
                  </a:lnTo>
                  <a:lnTo>
                    <a:pt x="1756" y="2022"/>
                  </a:lnTo>
                </a:path>
              </a:pathLst>
            </a:custGeom>
            <a:noFill/>
            <a:ln w="442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97400" y="2225520"/>
              <a:ext cx="1282680" cy="1455840"/>
            </a:xfrm>
            <a:custGeom>
              <a:avLst/>
              <a:gdLst/>
              <a:ahLst/>
              <a:rect l="l" t="t" r="r" b="b"/>
              <a:pathLst>
                <a:path w="808" h="917">
                  <a:moveTo>
                    <a:pt x="0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4" y="49"/>
                  </a:lnTo>
                  <a:lnTo>
                    <a:pt x="5" y="55"/>
                  </a:lnTo>
                  <a:lnTo>
                    <a:pt x="5" y="62"/>
                  </a:lnTo>
                  <a:lnTo>
                    <a:pt x="7" y="69"/>
                  </a:lnTo>
                  <a:lnTo>
                    <a:pt x="9" y="7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9"/>
                  </a:lnTo>
                  <a:lnTo>
                    <a:pt x="17" y="122"/>
                  </a:lnTo>
                  <a:lnTo>
                    <a:pt x="19" y="133"/>
                  </a:lnTo>
                  <a:lnTo>
                    <a:pt x="21" y="146"/>
                  </a:lnTo>
                  <a:lnTo>
                    <a:pt x="24" y="157"/>
                  </a:lnTo>
                  <a:lnTo>
                    <a:pt x="25" y="169"/>
                  </a:lnTo>
                  <a:lnTo>
                    <a:pt x="28" y="180"/>
                  </a:lnTo>
                  <a:lnTo>
                    <a:pt x="30" y="192"/>
                  </a:lnTo>
                  <a:lnTo>
                    <a:pt x="34" y="202"/>
                  </a:lnTo>
                  <a:lnTo>
                    <a:pt x="35" y="214"/>
                  </a:lnTo>
                  <a:lnTo>
                    <a:pt x="39" y="225"/>
                  </a:lnTo>
                  <a:lnTo>
                    <a:pt x="41" y="238"/>
                  </a:lnTo>
                  <a:lnTo>
                    <a:pt x="44" y="250"/>
                  </a:lnTo>
                  <a:lnTo>
                    <a:pt x="47" y="263"/>
                  </a:lnTo>
                  <a:lnTo>
                    <a:pt x="51" y="275"/>
                  </a:lnTo>
                  <a:lnTo>
                    <a:pt x="54" y="288"/>
                  </a:lnTo>
                  <a:lnTo>
                    <a:pt x="58" y="300"/>
                  </a:lnTo>
                  <a:lnTo>
                    <a:pt x="60" y="312"/>
                  </a:lnTo>
                  <a:lnTo>
                    <a:pt x="64" y="323"/>
                  </a:lnTo>
                  <a:lnTo>
                    <a:pt x="67" y="334"/>
                  </a:lnTo>
                  <a:lnTo>
                    <a:pt x="71" y="344"/>
                  </a:lnTo>
                  <a:lnTo>
                    <a:pt x="73" y="354"/>
                  </a:lnTo>
                  <a:lnTo>
                    <a:pt x="77" y="362"/>
                  </a:lnTo>
                  <a:lnTo>
                    <a:pt x="79" y="370"/>
                  </a:lnTo>
                  <a:lnTo>
                    <a:pt x="83" y="375"/>
                  </a:lnTo>
                  <a:lnTo>
                    <a:pt x="85" y="382"/>
                  </a:lnTo>
                  <a:lnTo>
                    <a:pt x="87" y="388"/>
                  </a:lnTo>
                  <a:lnTo>
                    <a:pt x="90" y="396"/>
                  </a:lnTo>
                  <a:lnTo>
                    <a:pt x="93" y="403"/>
                  </a:lnTo>
                  <a:lnTo>
                    <a:pt x="97" y="412"/>
                  </a:lnTo>
                  <a:lnTo>
                    <a:pt x="101" y="421"/>
                  </a:lnTo>
                  <a:lnTo>
                    <a:pt x="104" y="430"/>
                  </a:lnTo>
                  <a:lnTo>
                    <a:pt x="108" y="438"/>
                  </a:lnTo>
                  <a:lnTo>
                    <a:pt x="112" y="448"/>
                  </a:lnTo>
                  <a:lnTo>
                    <a:pt x="115" y="458"/>
                  </a:lnTo>
                  <a:lnTo>
                    <a:pt x="119" y="467"/>
                  </a:lnTo>
                  <a:lnTo>
                    <a:pt x="123" y="476"/>
                  </a:lnTo>
                  <a:lnTo>
                    <a:pt x="127" y="485"/>
                  </a:lnTo>
                  <a:lnTo>
                    <a:pt x="130" y="493"/>
                  </a:lnTo>
                  <a:lnTo>
                    <a:pt x="134" y="501"/>
                  </a:lnTo>
                  <a:lnTo>
                    <a:pt x="138" y="508"/>
                  </a:lnTo>
                  <a:lnTo>
                    <a:pt x="140" y="517"/>
                  </a:lnTo>
                  <a:lnTo>
                    <a:pt x="143" y="524"/>
                  </a:lnTo>
                  <a:lnTo>
                    <a:pt x="147" y="534"/>
                  </a:lnTo>
                  <a:lnTo>
                    <a:pt x="151" y="541"/>
                  </a:lnTo>
                  <a:lnTo>
                    <a:pt x="155" y="550"/>
                  </a:lnTo>
                  <a:lnTo>
                    <a:pt x="159" y="559"/>
                  </a:lnTo>
                  <a:lnTo>
                    <a:pt x="162" y="568"/>
                  </a:lnTo>
                  <a:lnTo>
                    <a:pt x="167" y="576"/>
                  </a:lnTo>
                  <a:lnTo>
                    <a:pt x="170" y="585"/>
                  </a:lnTo>
                  <a:lnTo>
                    <a:pt x="173" y="594"/>
                  </a:lnTo>
                  <a:lnTo>
                    <a:pt x="177" y="602"/>
                  </a:lnTo>
                  <a:lnTo>
                    <a:pt x="181" y="609"/>
                  </a:lnTo>
                  <a:lnTo>
                    <a:pt x="183" y="616"/>
                  </a:lnTo>
                  <a:lnTo>
                    <a:pt x="187" y="623"/>
                  </a:lnTo>
                  <a:lnTo>
                    <a:pt x="190" y="628"/>
                  </a:lnTo>
                  <a:lnTo>
                    <a:pt x="193" y="632"/>
                  </a:lnTo>
                  <a:lnTo>
                    <a:pt x="195" y="638"/>
                  </a:lnTo>
                  <a:lnTo>
                    <a:pt x="198" y="643"/>
                  </a:lnTo>
                  <a:lnTo>
                    <a:pt x="200" y="649"/>
                  </a:lnTo>
                  <a:lnTo>
                    <a:pt x="204" y="655"/>
                  </a:lnTo>
                  <a:lnTo>
                    <a:pt x="208" y="662"/>
                  </a:lnTo>
                  <a:lnTo>
                    <a:pt x="211" y="668"/>
                  </a:lnTo>
                  <a:lnTo>
                    <a:pt x="215" y="674"/>
                  </a:lnTo>
                  <a:lnTo>
                    <a:pt x="220" y="680"/>
                  </a:lnTo>
                  <a:lnTo>
                    <a:pt x="224" y="688"/>
                  </a:lnTo>
                  <a:lnTo>
                    <a:pt x="228" y="694"/>
                  </a:lnTo>
                  <a:lnTo>
                    <a:pt x="232" y="702"/>
                  </a:lnTo>
                  <a:lnTo>
                    <a:pt x="238" y="707"/>
                  </a:lnTo>
                  <a:lnTo>
                    <a:pt x="241" y="713"/>
                  </a:lnTo>
                  <a:lnTo>
                    <a:pt x="247" y="719"/>
                  </a:lnTo>
                  <a:lnTo>
                    <a:pt x="250" y="724"/>
                  </a:lnTo>
                  <a:lnTo>
                    <a:pt x="255" y="729"/>
                  </a:lnTo>
                  <a:lnTo>
                    <a:pt x="258" y="734"/>
                  </a:lnTo>
                  <a:lnTo>
                    <a:pt x="262" y="740"/>
                  </a:lnTo>
                  <a:lnTo>
                    <a:pt x="267" y="745"/>
                  </a:lnTo>
                  <a:lnTo>
                    <a:pt x="272" y="750"/>
                  </a:lnTo>
                  <a:lnTo>
                    <a:pt x="277" y="755"/>
                  </a:lnTo>
                  <a:lnTo>
                    <a:pt x="283" y="761"/>
                  </a:lnTo>
                  <a:lnTo>
                    <a:pt x="288" y="766"/>
                  </a:lnTo>
                  <a:lnTo>
                    <a:pt x="294" y="772"/>
                  </a:lnTo>
                  <a:lnTo>
                    <a:pt x="299" y="778"/>
                  </a:lnTo>
                  <a:lnTo>
                    <a:pt x="305" y="783"/>
                  </a:lnTo>
                  <a:lnTo>
                    <a:pt x="310" y="789"/>
                  </a:lnTo>
                  <a:lnTo>
                    <a:pt x="316" y="792"/>
                  </a:lnTo>
                  <a:lnTo>
                    <a:pt x="319" y="797"/>
                  </a:lnTo>
                  <a:lnTo>
                    <a:pt x="325" y="801"/>
                  </a:lnTo>
                  <a:lnTo>
                    <a:pt x="329" y="804"/>
                  </a:lnTo>
                  <a:lnTo>
                    <a:pt x="334" y="807"/>
                  </a:lnTo>
                  <a:lnTo>
                    <a:pt x="337" y="811"/>
                  </a:lnTo>
                  <a:lnTo>
                    <a:pt x="341" y="814"/>
                  </a:lnTo>
                  <a:lnTo>
                    <a:pt x="345" y="818"/>
                  </a:lnTo>
                  <a:lnTo>
                    <a:pt x="349" y="819"/>
                  </a:lnTo>
                  <a:lnTo>
                    <a:pt x="353" y="823"/>
                  </a:lnTo>
                  <a:lnTo>
                    <a:pt x="356" y="825"/>
                  </a:lnTo>
                  <a:lnTo>
                    <a:pt x="360" y="829"/>
                  </a:lnTo>
                  <a:lnTo>
                    <a:pt x="365" y="830"/>
                  </a:lnTo>
                  <a:lnTo>
                    <a:pt x="367" y="834"/>
                  </a:lnTo>
                  <a:lnTo>
                    <a:pt x="371" y="836"/>
                  </a:lnTo>
                  <a:lnTo>
                    <a:pt x="374" y="839"/>
                  </a:lnTo>
                  <a:lnTo>
                    <a:pt x="378" y="840"/>
                  </a:lnTo>
                  <a:lnTo>
                    <a:pt x="380" y="842"/>
                  </a:lnTo>
                  <a:lnTo>
                    <a:pt x="383" y="844"/>
                  </a:lnTo>
                  <a:lnTo>
                    <a:pt x="385" y="846"/>
                  </a:lnTo>
                  <a:lnTo>
                    <a:pt x="387" y="846"/>
                  </a:lnTo>
                  <a:lnTo>
                    <a:pt x="388" y="848"/>
                  </a:lnTo>
                  <a:lnTo>
                    <a:pt x="390" y="849"/>
                  </a:lnTo>
                  <a:lnTo>
                    <a:pt x="392" y="850"/>
                  </a:lnTo>
                  <a:lnTo>
                    <a:pt x="394" y="850"/>
                  </a:lnTo>
                  <a:lnTo>
                    <a:pt x="396" y="852"/>
                  </a:lnTo>
                  <a:lnTo>
                    <a:pt x="399" y="854"/>
                  </a:lnTo>
                  <a:lnTo>
                    <a:pt x="402" y="856"/>
                  </a:lnTo>
                  <a:lnTo>
                    <a:pt x="405" y="856"/>
                  </a:lnTo>
                  <a:lnTo>
                    <a:pt x="407" y="858"/>
                  </a:lnTo>
                  <a:lnTo>
                    <a:pt x="411" y="860"/>
                  </a:lnTo>
                  <a:lnTo>
                    <a:pt x="414" y="862"/>
                  </a:lnTo>
                  <a:lnTo>
                    <a:pt x="418" y="862"/>
                  </a:lnTo>
                  <a:lnTo>
                    <a:pt x="420" y="864"/>
                  </a:lnTo>
                  <a:lnTo>
                    <a:pt x="424" y="866"/>
                  </a:lnTo>
                  <a:lnTo>
                    <a:pt x="427" y="867"/>
                  </a:lnTo>
                  <a:lnTo>
                    <a:pt x="431" y="867"/>
                  </a:lnTo>
                  <a:lnTo>
                    <a:pt x="433" y="869"/>
                  </a:lnTo>
                  <a:lnTo>
                    <a:pt x="437" y="871"/>
                  </a:lnTo>
                  <a:lnTo>
                    <a:pt x="441" y="873"/>
                  </a:lnTo>
                  <a:lnTo>
                    <a:pt x="445" y="874"/>
                  </a:lnTo>
                  <a:lnTo>
                    <a:pt x="449" y="876"/>
                  </a:lnTo>
                  <a:lnTo>
                    <a:pt x="454" y="877"/>
                  </a:lnTo>
                  <a:lnTo>
                    <a:pt x="459" y="879"/>
                  </a:lnTo>
                  <a:lnTo>
                    <a:pt x="465" y="879"/>
                  </a:lnTo>
                  <a:lnTo>
                    <a:pt x="469" y="881"/>
                  </a:lnTo>
                  <a:lnTo>
                    <a:pt x="475" y="883"/>
                  </a:lnTo>
                  <a:lnTo>
                    <a:pt x="481" y="885"/>
                  </a:lnTo>
                  <a:lnTo>
                    <a:pt x="486" y="886"/>
                  </a:lnTo>
                  <a:lnTo>
                    <a:pt x="491" y="887"/>
                  </a:lnTo>
                  <a:lnTo>
                    <a:pt x="496" y="888"/>
                  </a:lnTo>
                  <a:lnTo>
                    <a:pt x="501" y="890"/>
                  </a:lnTo>
                  <a:lnTo>
                    <a:pt x="507" y="890"/>
                  </a:lnTo>
                  <a:lnTo>
                    <a:pt x="510" y="892"/>
                  </a:lnTo>
                  <a:lnTo>
                    <a:pt x="515" y="894"/>
                  </a:lnTo>
                  <a:lnTo>
                    <a:pt x="521" y="896"/>
                  </a:lnTo>
                  <a:lnTo>
                    <a:pt x="527" y="896"/>
                  </a:lnTo>
                  <a:lnTo>
                    <a:pt x="532" y="897"/>
                  </a:lnTo>
                  <a:lnTo>
                    <a:pt x="538" y="898"/>
                  </a:lnTo>
                  <a:lnTo>
                    <a:pt x="543" y="900"/>
                  </a:lnTo>
                  <a:lnTo>
                    <a:pt x="550" y="900"/>
                  </a:lnTo>
                  <a:lnTo>
                    <a:pt x="556" y="902"/>
                  </a:lnTo>
                  <a:lnTo>
                    <a:pt x="561" y="902"/>
                  </a:lnTo>
                  <a:lnTo>
                    <a:pt x="567" y="904"/>
                  </a:lnTo>
                  <a:lnTo>
                    <a:pt x="573" y="904"/>
                  </a:lnTo>
                  <a:lnTo>
                    <a:pt x="577" y="906"/>
                  </a:lnTo>
                  <a:lnTo>
                    <a:pt x="583" y="906"/>
                  </a:lnTo>
                  <a:lnTo>
                    <a:pt x="587" y="907"/>
                  </a:lnTo>
                  <a:lnTo>
                    <a:pt x="592" y="907"/>
                  </a:lnTo>
                  <a:lnTo>
                    <a:pt x="596" y="908"/>
                  </a:lnTo>
                  <a:lnTo>
                    <a:pt x="600" y="908"/>
                  </a:lnTo>
                  <a:lnTo>
                    <a:pt x="605" y="908"/>
                  </a:lnTo>
                  <a:lnTo>
                    <a:pt x="610" y="908"/>
                  </a:lnTo>
                  <a:lnTo>
                    <a:pt x="616" y="910"/>
                  </a:lnTo>
                  <a:lnTo>
                    <a:pt x="621" y="910"/>
                  </a:lnTo>
                  <a:lnTo>
                    <a:pt x="627" y="910"/>
                  </a:lnTo>
                  <a:lnTo>
                    <a:pt x="634" y="910"/>
                  </a:lnTo>
                  <a:lnTo>
                    <a:pt x="639" y="912"/>
                  </a:lnTo>
                  <a:lnTo>
                    <a:pt x="645" y="912"/>
                  </a:lnTo>
                  <a:lnTo>
                    <a:pt x="651" y="912"/>
                  </a:lnTo>
                  <a:lnTo>
                    <a:pt x="658" y="912"/>
                  </a:lnTo>
                  <a:lnTo>
                    <a:pt x="663" y="914"/>
                  </a:lnTo>
                  <a:lnTo>
                    <a:pt x="669" y="914"/>
                  </a:lnTo>
                  <a:lnTo>
                    <a:pt x="674" y="914"/>
                  </a:lnTo>
                  <a:lnTo>
                    <a:pt x="679" y="914"/>
                  </a:lnTo>
                  <a:lnTo>
                    <a:pt x="683" y="915"/>
                  </a:lnTo>
                  <a:lnTo>
                    <a:pt x="688" y="915"/>
                  </a:lnTo>
                  <a:lnTo>
                    <a:pt x="694" y="915"/>
                  </a:lnTo>
                  <a:lnTo>
                    <a:pt x="699" y="915"/>
                  </a:lnTo>
                  <a:lnTo>
                    <a:pt x="705" y="915"/>
                  </a:lnTo>
                  <a:lnTo>
                    <a:pt x="711" y="915"/>
                  </a:lnTo>
                  <a:lnTo>
                    <a:pt x="717" y="915"/>
                  </a:lnTo>
                  <a:lnTo>
                    <a:pt x="725" y="915"/>
                  </a:lnTo>
                  <a:lnTo>
                    <a:pt x="730" y="916"/>
                  </a:lnTo>
                  <a:lnTo>
                    <a:pt x="736" y="916"/>
                  </a:lnTo>
                  <a:lnTo>
                    <a:pt x="741" y="916"/>
                  </a:lnTo>
                  <a:lnTo>
                    <a:pt x="748" y="916"/>
                  </a:lnTo>
                  <a:lnTo>
                    <a:pt x="753" y="916"/>
                  </a:lnTo>
                  <a:lnTo>
                    <a:pt x="758" y="916"/>
                  </a:lnTo>
                  <a:lnTo>
                    <a:pt x="763" y="916"/>
                  </a:lnTo>
                  <a:lnTo>
                    <a:pt x="767" y="916"/>
                  </a:lnTo>
                  <a:lnTo>
                    <a:pt x="769" y="916"/>
                  </a:lnTo>
                  <a:lnTo>
                    <a:pt x="773" y="916"/>
                  </a:lnTo>
                  <a:lnTo>
                    <a:pt x="774" y="916"/>
                  </a:lnTo>
                  <a:lnTo>
                    <a:pt x="775" y="916"/>
                  </a:lnTo>
                  <a:lnTo>
                    <a:pt x="775" y="916"/>
                  </a:lnTo>
                  <a:lnTo>
                    <a:pt x="777" y="916"/>
                  </a:lnTo>
                  <a:lnTo>
                    <a:pt x="777" y="916"/>
                  </a:lnTo>
                  <a:lnTo>
                    <a:pt x="779" y="916"/>
                  </a:lnTo>
                  <a:lnTo>
                    <a:pt x="779" y="916"/>
                  </a:lnTo>
                  <a:lnTo>
                    <a:pt x="781" y="916"/>
                  </a:lnTo>
                  <a:lnTo>
                    <a:pt x="783" y="916"/>
                  </a:lnTo>
                  <a:lnTo>
                    <a:pt x="786" y="916"/>
                  </a:lnTo>
                  <a:lnTo>
                    <a:pt x="789" y="916"/>
                  </a:lnTo>
                  <a:lnTo>
                    <a:pt x="794" y="916"/>
                  </a:lnTo>
                  <a:lnTo>
                    <a:pt x="799" y="916"/>
                  </a:lnTo>
                  <a:lnTo>
                    <a:pt x="807" y="916"/>
                  </a:lnTo>
                </a:path>
              </a:pathLst>
            </a:custGeom>
            <a:noFill/>
            <a:ln w="442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65360" y="3629160"/>
              <a:ext cx="2554200" cy="2928960"/>
            </a:xfrm>
            <a:custGeom>
              <a:avLst/>
              <a:gdLst/>
              <a:ahLst/>
              <a:rect l="l" t="t" r="r" b="b"/>
              <a:pathLst>
                <a:path w="1609" h="1845">
                  <a:moveTo>
                    <a:pt x="1608" y="1844"/>
                  </a:moveTo>
                  <a:lnTo>
                    <a:pt x="1606" y="1830"/>
                  </a:lnTo>
                  <a:lnTo>
                    <a:pt x="1604" y="1817"/>
                  </a:lnTo>
                  <a:lnTo>
                    <a:pt x="1602" y="1808"/>
                  </a:lnTo>
                  <a:lnTo>
                    <a:pt x="1602" y="1800"/>
                  </a:lnTo>
                  <a:lnTo>
                    <a:pt x="1601" y="1795"/>
                  </a:lnTo>
                  <a:lnTo>
                    <a:pt x="1601" y="1790"/>
                  </a:lnTo>
                  <a:lnTo>
                    <a:pt x="1601" y="1787"/>
                  </a:lnTo>
                  <a:lnTo>
                    <a:pt x="1601" y="1784"/>
                  </a:lnTo>
                  <a:lnTo>
                    <a:pt x="1600" y="1782"/>
                  </a:lnTo>
                  <a:lnTo>
                    <a:pt x="1600" y="1780"/>
                  </a:lnTo>
                  <a:lnTo>
                    <a:pt x="1600" y="1779"/>
                  </a:lnTo>
                  <a:lnTo>
                    <a:pt x="1600" y="1776"/>
                  </a:lnTo>
                  <a:lnTo>
                    <a:pt x="1599" y="1774"/>
                  </a:lnTo>
                  <a:lnTo>
                    <a:pt x="1599" y="1769"/>
                  </a:lnTo>
                  <a:lnTo>
                    <a:pt x="1598" y="1764"/>
                  </a:lnTo>
                  <a:lnTo>
                    <a:pt x="1598" y="1756"/>
                  </a:lnTo>
                  <a:lnTo>
                    <a:pt x="1596" y="1748"/>
                  </a:lnTo>
                  <a:lnTo>
                    <a:pt x="1594" y="1735"/>
                  </a:lnTo>
                  <a:lnTo>
                    <a:pt x="1592" y="1721"/>
                  </a:lnTo>
                  <a:lnTo>
                    <a:pt x="1590" y="1704"/>
                  </a:lnTo>
                  <a:lnTo>
                    <a:pt x="1586" y="1687"/>
                  </a:lnTo>
                  <a:lnTo>
                    <a:pt x="1583" y="1667"/>
                  </a:lnTo>
                  <a:lnTo>
                    <a:pt x="1579" y="1646"/>
                  </a:lnTo>
                  <a:lnTo>
                    <a:pt x="1576" y="1623"/>
                  </a:lnTo>
                  <a:lnTo>
                    <a:pt x="1570" y="1601"/>
                  </a:lnTo>
                  <a:lnTo>
                    <a:pt x="1566" y="1578"/>
                  </a:lnTo>
                  <a:lnTo>
                    <a:pt x="1560" y="1554"/>
                  </a:lnTo>
                  <a:lnTo>
                    <a:pt x="1557" y="1530"/>
                  </a:lnTo>
                  <a:lnTo>
                    <a:pt x="1551" y="1507"/>
                  </a:lnTo>
                  <a:lnTo>
                    <a:pt x="1548" y="1483"/>
                  </a:lnTo>
                  <a:lnTo>
                    <a:pt x="1542" y="1460"/>
                  </a:lnTo>
                  <a:lnTo>
                    <a:pt x="1538" y="1437"/>
                  </a:lnTo>
                  <a:lnTo>
                    <a:pt x="1532" y="1415"/>
                  </a:lnTo>
                  <a:lnTo>
                    <a:pt x="1527" y="1392"/>
                  </a:lnTo>
                  <a:lnTo>
                    <a:pt x="1521" y="1368"/>
                  </a:lnTo>
                  <a:lnTo>
                    <a:pt x="1515" y="1342"/>
                  </a:lnTo>
                  <a:lnTo>
                    <a:pt x="1508" y="1318"/>
                  </a:lnTo>
                  <a:lnTo>
                    <a:pt x="1502" y="1291"/>
                  </a:lnTo>
                  <a:lnTo>
                    <a:pt x="1495" y="1267"/>
                  </a:lnTo>
                  <a:lnTo>
                    <a:pt x="1490" y="1241"/>
                  </a:lnTo>
                  <a:lnTo>
                    <a:pt x="1482" y="1218"/>
                  </a:lnTo>
                  <a:lnTo>
                    <a:pt x="1476" y="1194"/>
                  </a:lnTo>
                  <a:lnTo>
                    <a:pt x="1469" y="1173"/>
                  </a:lnTo>
                  <a:lnTo>
                    <a:pt x="1463" y="1152"/>
                  </a:lnTo>
                  <a:lnTo>
                    <a:pt x="1457" y="1134"/>
                  </a:lnTo>
                  <a:lnTo>
                    <a:pt x="1451" y="1116"/>
                  </a:lnTo>
                  <a:lnTo>
                    <a:pt x="1446" y="1101"/>
                  </a:lnTo>
                  <a:lnTo>
                    <a:pt x="1442" y="1088"/>
                  </a:lnTo>
                  <a:lnTo>
                    <a:pt x="1436" y="1077"/>
                  </a:lnTo>
                  <a:lnTo>
                    <a:pt x="1432" y="1064"/>
                  </a:lnTo>
                  <a:lnTo>
                    <a:pt x="1424" y="1049"/>
                  </a:lnTo>
                  <a:lnTo>
                    <a:pt x="1419" y="1033"/>
                  </a:lnTo>
                  <a:lnTo>
                    <a:pt x="1412" y="1017"/>
                  </a:lnTo>
                  <a:lnTo>
                    <a:pt x="1404" y="999"/>
                  </a:lnTo>
                  <a:lnTo>
                    <a:pt x="1397" y="980"/>
                  </a:lnTo>
                  <a:lnTo>
                    <a:pt x="1390" y="961"/>
                  </a:lnTo>
                  <a:lnTo>
                    <a:pt x="1381" y="942"/>
                  </a:lnTo>
                  <a:lnTo>
                    <a:pt x="1373" y="924"/>
                  </a:lnTo>
                  <a:lnTo>
                    <a:pt x="1366" y="905"/>
                  </a:lnTo>
                  <a:lnTo>
                    <a:pt x="1358" y="886"/>
                  </a:lnTo>
                  <a:lnTo>
                    <a:pt x="1351" y="870"/>
                  </a:lnTo>
                  <a:lnTo>
                    <a:pt x="1344" y="851"/>
                  </a:lnTo>
                  <a:lnTo>
                    <a:pt x="1336" y="836"/>
                  </a:lnTo>
                  <a:lnTo>
                    <a:pt x="1331" y="820"/>
                  </a:lnTo>
                  <a:lnTo>
                    <a:pt x="1324" y="805"/>
                  </a:lnTo>
                  <a:lnTo>
                    <a:pt x="1317" y="790"/>
                  </a:lnTo>
                  <a:lnTo>
                    <a:pt x="1310" y="773"/>
                  </a:lnTo>
                  <a:lnTo>
                    <a:pt x="1303" y="756"/>
                  </a:lnTo>
                  <a:lnTo>
                    <a:pt x="1295" y="739"/>
                  </a:lnTo>
                  <a:lnTo>
                    <a:pt x="1287" y="721"/>
                  </a:lnTo>
                  <a:lnTo>
                    <a:pt x="1280" y="704"/>
                  </a:lnTo>
                  <a:lnTo>
                    <a:pt x="1272" y="685"/>
                  </a:lnTo>
                  <a:lnTo>
                    <a:pt x="1264" y="668"/>
                  </a:lnTo>
                  <a:lnTo>
                    <a:pt x="1257" y="652"/>
                  </a:lnTo>
                  <a:lnTo>
                    <a:pt x="1249" y="636"/>
                  </a:lnTo>
                  <a:lnTo>
                    <a:pt x="1243" y="620"/>
                  </a:lnTo>
                  <a:lnTo>
                    <a:pt x="1236" y="606"/>
                  </a:lnTo>
                  <a:lnTo>
                    <a:pt x="1230" y="592"/>
                  </a:lnTo>
                  <a:lnTo>
                    <a:pt x="1226" y="580"/>
                  </a:lnTo>
                  <a:lnTo>
                    <a:pt x="1222" y="570"/>
                  </a:lnTo>
                  <a:lnTo>
                    <a:pt x="1216" y="561"/>
                  </a:lnTo>
                  <a:lnTo>
                    <a:pt x="1210" y="551"/>
                  </a:lnTo>
                  <a:lnTo>
                    <a:pt x="1204" y="539"/>
                  </a:lnTo>
                  <a:lnTo>
                    <a:pt x="1198" y="526"/>
                  </a:lnTo>
                  <a:lnTo>
                    <a:pt x="1189" y="514"/>
                  </a:lnTo>
                  <a:lnTo>
                    <a:pt x="1182" y="501"/>
                  </a:lnTo>
                  <a:lnTo>
                    <a:pt x="1173" y="488"/>
                  </a:lnTo>
                  <a:lnTo>
                    <a:pt x="1166" y="473"/>
                  </a:lnTo>
                  <a:lnTo>
                    <a:pt x="1156" y="460"/>
                  </a:lnTo>
                  <a:lnTo>
                    <a:pt x="1147" y="447"/>
                  </a:lnTo>
                  <a:lnTo>
                    <a:pt x="1138" y="434"/>
                  </a:lnTo>
                  <a:lnTo>
                    <a:pt x="1130" y="420"/>
                  </a:lnTo>
                  <a:lnTo>
                    <a:pt x="1121" y="409"/>
                  </a:lnTo>
                  <a:lnTo>
                    <a:pt x="1112" y="396"/>
                  </a:lnTo>
                  <a:lnTo>
                    <a:pt x="1104" y="386"/>
                  </a:lnTo>
                  <a:lnTo>
                    <a:pt x="1097" y="375"/>
                  </a:lnTo>
                  <a:lnTo>
                    <a:pt x="1088" y="366"/>
                  </a:lnTo>
                  <a:lnTo>
                    <a:pt x="1080" y="356"/>
                  </a:lnTo>
                  <a:lnTo>
                    <a:pt x="1071" y="346"/>
                  </a:lnTo>
                  <a:lnTo>
                    <a:pt x="1061" y="335"/>
                  </a:lnTo>
                  <a:lnTo>
                    <a:pt x="1050" y="324"/>
                  </a:lnTo>
                  <a:lnTo>
                    <a:pt x="1040" y="313"/>
                  </a:lnTo>
                  <a:lnTo>
                    <a:pt x="1029" y="302"/>
                  </a:lnTo>
                  <a:lnTo>
                    <a:pt x="1020" y="290"/>
                  </a:lnTo>
                  <a:lnTo>
                    <a:pt x="1008" y="280"/>
                  </a:lnTo>
                  <a:lnTo>
                    <a:pt x="997" y="269"/>
                  </a:lnTo>
                  <a:lnTo>
                    <a:pt x="986" y="259"/>
                  </a:lnTo>
                  <a:lnTo>
                    <a:pt x="976" y="248"/>
                  </a:lnTo>
                  <a:lnTo>
                    <a:pt x="966" y="240"/>
                  </a:lnTo>
                  <a:lnTo>
                    <a:pt x="957" y="232"/>
                  </a:lnTo>
                  <a:lnTo>
                    <a:pt x="948" y="225"/>
                  </a:lnTo>
                  <a:lnTo>
                    <a:pt x="941" y="218"/>
                  </a:lnTo>
                  <a:lnTo>
                    <a:pt x="932" y="213"/>
                  </a:lnTo>
                  <a:lnTo>
                    <a:pt x="925" y="208"/>
                  </a:lnTo>
                  <a:lnTo>
                    <a:pt x="917" y="202"/>
                  </a:lnTo>
                  <a:lnTo>
                    <a:pt x="910" y="195"/>
                  </a:lnTo>
                  <a:lnTo>
                    <a:pt x="902" y="189"/>
                  </a:lnTo>
                  <a:lnTo>
                    <a:pt x="894" y="184"/>
                  </a:lnTo>
                  <a:lnTo>
                    <a:pt x="887" y="178"/>
                  </a:lnTo>
                  <a:lnTo>
                    <a:pt x="879" y="171"/>
                  </a:lnTo>
                  <a:lnTo>
                    <a:pt x="872" y="167"/>
                  </a:lnTo>
                  <a:lnTo>
                    <a:pt x="864" y="161"/>
                  </a:lnTo>
                  <a:lnTo>
                    <a:pt x="858" y="157"/>
                  </a:lnTo>
                  <a:lnTo>
                    <a:pt x="852" y="151"/>
                  </a:lnTo>
                  <a:lnTo>
                    <a:pt x="847" y="148"/>
                  </a:lnTo>
                  <a:lnTo>
                    <a:pt x="842" y="144"/>
                  </a:lnTo>
                  <a:lnTo>
                    <a:pt x="838" y="141"/>
                  </a:lnTo>
                  <a:lnTo>
                    <a:pt x="836" y="138"/>
                  </a:lnTo>
                  <a:lnTo>
                    <a:pt x="832" y="137"/>
                  </a:lnTo>
                  <a:lnTo>
                    <a:pt x="829" y="135"/>
                  </a:lnTo>
                  <a:lnTo>
                    <a:pt x="824" y="133"/>
                  </a:lnTo>
                  <a:lnTo>
                    <a:pt x="820" y="130"/>
                  </a:lnTo>
                  <a:lnTo>
                    <a:pt x="814" y="128"/>
                  </a:lnTo>
                  <a:lnTo>
                    <a:pt x="809" y="124"/>
                  </a:lnTo>
                  <a:lnTo>
                    <a:pt x="804" y="122"/>
                  </a:lnTo>
                  <a:lnTo>
                    <a:pt x="798" y="119"/>
                  </a:lnTo>
                  <a:lnTo>
                    <a:pt x="790" y="117"/>
                  </a:lnTo>
                  <a:lnTo>
                    <a:pt x="785" y="113"/>
                  </a:lnTo>
                  <a:lnTo>
                    <a:pt x="778" y="111"/>
                  </a:lnTo>
                  <a:lnTo>
                    <a:pt x="772" y="108"/>
                  </a:lnTo>
                  <a:lnTo>
                    <a:pt x="765" y="106"/>
                  </a:lnTo>
                  <a:lnTo>
                    <a:pt x="759" y="102"/>
                  </a:lnTo>
                  <a:lnTo>
                    <a:pt x="753" y="100"/>
                  </a:lnTo>
                  <a:lnTo>
                    <a:pt x="748" y="96"/>
                  </a:lnTo>
                  <a:lnTo>
                    <a:pt x="741" y="94"/>
                  </a:lnTo>
                  <a:lnTo>
                    <a:pt x="734" y="92"/>
                  </a:lnTo>
                  <a:lnTo>
                    <a:pt x="726" y="90"/>
                  </a:lnTo>
                  <a:lnTo>
                    <a:pt x="718" y="86"/>
                  </a:lnTo>
                  <a:lnTo>
                    <a:pt x="708" y="84"/>
                  </a:lnTo>
                  <a:lnTo>
                    <a:pt x="699" y="81"/>
                  </a:lnTo>
                  <a:lnTo>
                    <a:pt x="688" y="77"/>
                  </a:lnTo>
                  <a:lnTo>
                    <a:pt x="678" y="73"/>
                  </a:lnTo>
                  <a:lnTo>
                    <a:pt x="667" y="71"/>
                  </a:lnTo>
                  <a:lnTo>
                    <a:pt x="656" y="68"/>
                  </a:lnTo>
                  <a:lnTo>
                    <a:pt x="644" y="64"/>
                  </a:lnTo>
                  <a:lnTo>
                    <a:pt x="634" y="61"/>
                  </a:lnTo>
                  <a:lnTo>
                    <a:pt x="623" y="59"/>
                  </a:lnTo>
                  <a:lnTo>
                    <a:pt x="614" y="55"/>
                  </a:lnTo>
                  <a:lnTo>
                    <a:pt x="605" y="53"/>
                  </a:lnTo>
                  <a:lnTo>
                    <a:pt x="596" y="50"/>
                  </a:lnTo>
                  <a:lnTo>
                    <a:pt x="586" y="48"/>
                  </a:lnTo>
                  <a:lnTo>
                    <a:pt x="577" y="46"/>
                  </a:lnTo>
                  <a:lnTo>
                    <a:pt x="566" y="44"/>
                  </a:lnTo>
                  <a:lnTo>
                    <a:pt x="556" y="41"/>
                  </a:lnTo>
                  <a:lnTo>
                    <a:pt x="544" y="39"/>
                  </a:lnTo>
                  <a:lnTo>
                    <a:pt x="532" y="37"/>
                  </a:lnTo>
                  <a:lnTo>
                    <a:pt x="520" y="35"/>
                  </a:lnTo>
                  <a:lnTo>
                    <a:pt x="508" y="32"/>
                  </a:lnTo>
                  <a:lnTo>
                    <a:pt x="496" y="30"/>
                  </a:lnTo>
                  <a:lnTo>
                    <a:pt x="484" y="28"/>
                  </a:lnTo>
                  <a:lnTo>
                    <a:pt x="473" y="26"/>
                  </a:lnTo>
                  <a:lnTo>
                    <a:pt x="462" y="23"/>
                  </a:lnTo>
                  <a:lnTo>
                    <a:pt x="451" y="23"/>
                  </a:lnTo>
                  <a:lnTo>
                    <a:pt x="442" y="21"/>
                  </a:lnTo>
                  <a:lnTo>
                    <a:pt x="433" y="20"/>
                  </a:lnTo>
                  <a:lnTo>
                    <a:pt x="426" y="18"/>
                  </a:lnTo>
                  <a:lnTo>
                    <a:pt x="417" y="18"/>
                  </a:lnTo>
                  <a:lnTo>
                    <a:pt x="409" y="16"/>
                  </a:lnTo>
                  <a:lnTo>
                    <a:pt x="398" y="16"/>
                  </a:lnTo>
                  <a:lnTo>
                    <a:pt x="389" y="14"/>
                  </a:lnTo>
                  <a:lnTo>
                    <a:pt x="377" y="14"/>
                  </a:lnTo>
                  <a:lnTo>
                    <a:pt x="366" y="12"/>
                  </a:lnTo>
                  <a:lnTo>
                    <a:pt x="353" y="12"/>
                  </a:lnTo>
                  <a:lnTo>
                    <a:pt x="342" y="10"/>
                  </a:lnTo>
                  <a:lnTo>
                    <a:pt x="329" y="10"/>
                  </a:lnTo>
                  <a:lnTo>
                    <a:pt x="317" y="9"/>
                  </a:lnTo>
                  <a:lnTo>
                    <a:pt x="304" y="9"/>
                  </a:lnTo>
                  <a:lnTo>
                    <a:pt x="293" y="7"/>
                  </a:lnTo>
                  <a:lnTo>
                    <a:pt x="281" y="7"/>
                  </a:lnTo>
                  <a:lnTo>
                    <a:pt x="270" y="6"/>
                  </a:lnTo>
                  <a:lnTo>
                    <a:pt x="260" y="6"/>
                  </a:lnTo>
                  <a:lnTo>
                    <a:pt x="251" y="4"/>
                  </a:lnTo>
                  <a:lnTo>
                    <a:pt x="240" y="4"/>
                  </a:lnTo>
                  <a:lnTo>
                    <a:pt x="231" y="4"/>
                  </a:lnTo>
                  <a:lnTo>
                    <a:pt x="220" y="4"/>
                  </a:lnTo>
                  <a:lnTo>
                    <a:pt x="209" y="3"/>
                  </a:lnTo>
                  <a:lnTo>
                    <a:pt x="196" y="3"/>
                  </a:lnTo>
                  <a:lnTo>
                    <a:pt x="185" y="3"/>
                  </a:lnTo>
                  <a:lnTo>
                    <a:pt x="173" y="3"/>
                  </a:lnTo>
                  <a:lnTo>
                    <a:pt x="162" y="2"/>
                  </a:lnTo>
                  <a:lnTo>
                    <a:pt x="148" y="2"/>
                  </a:lnTo>
                  <a:lnTo>
                    <a:pt x="137" y="2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3" y="1"/>
                  </a:lnTo>
                  <a:lnTo>
                    <a:pt x="94" y="1"/>
                  </a:lnTo>
                  <a:lnTo>
                    <a:pt x="84" y="1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23960" y="4114800"/>
              <a:ext cx="2230560" cy="2567160"/>
            </a:xfrm>
            <a:custGeom>
              <a:avLst/>
              <a:gdLst/>
              <a:ahLst/>
              <a:rect l="l" t="t" r="r" b="b"/>
              <a:pathLst>
                <a:path w="1405" h="1617">
                  <a:moveTo>
                    <a:pt x="1404" y="1616"/>
                  </a:moveTo>
                  <a:lnTo>
                    <a:pt x="1402" y="1604"/>
                  </a:lnTo>
                  <a:lnTo>
                    <a:pt x="1401" y="1593"/>
                  </a:lnTo>
                  <a:lnTo>
                    <a:pt x="1399" y="1584"/>
                  </a:lnTo>
                  <a:lnTo>
                    <a:pt x="1399" y="1578"/>
                  </a:lnTo>
                  <a:lnTo>
                    <a:pt x="1398" y="1573"/>
                  </a:lnTo>
                  <a:lnTo>
                    <a:pt x="1398" y="1569"/>
                  </a:lnTo>
                  <a:lnTo>
                    <a:pt x="1398" y="1566"/>
                  </a:lnTo>
                  <a:lnTo>
                    <a:pt x="1398" y="1563"/>
                  </a:lnTo>
                  <a:lnTo>
                    <a:pt x="1397" y="1562"/>
                  </a:lnTo>
                  <a:lnTo>
                    <a:pt x="1397" y="1561"/>
                  </a:lnTo>
                  <a:lnTo>
                    <a:pt x="1397" y="1559"/>
                  </a:lnTo>
                  <a:lnTo>
                    <a:pt x="1397" y="1556"/>
                  </a:lnTo>
                  <a:lnTo>
                    <a:pt x="1396" y="1554"/>
                  </a:lnTo>
                  <a:lnTo>
                    <a:pt x="1396" y="1550"/>
                  </a:lnTo>
                  <a:lnTo>
                    <a:pt x="1396" y="1545"/>
                  </a:lnTo>
                  <a:lnTo>
                    <a:pt x="1396" y="1538"/>
                  </a:lnTo>
                  <a:lnTo>
                    <a:pt x="1394" y="1531"/>
                  </a:lnTo>
                  <a:lnTo>
                    <a:pt x="1393" y="1520"/>
                  </a:lnTo>
                  <a:lnTo>
                    <a:pt x="1391" y="1508"/>
                  </a:lnTo>
                  <a:lnTo>
                    <a:pt x="1390" y="1493"/>
                  </a:lnTo>
                  <a:lnTo>
                    <a:pt x="1386" y="1477"/>
                  </a:lnTo>
                  <a:lnTo>
                    <a:pt x="1383" y="1460"/>
                  </a:lnTo>
                  <a:lnTo>
                    <a:pt x="1380" y="1442"/>
                  </a:lnTo>
                  <a:lnTo>
                    <a:pt x="1377" y="1422"/>
                  </a:lnTo>
                  <a:lnTo>
                    <a:pt x="1372" y="1402"/>
                  </a:lnTo>
                  <a:lnTo>
                    <a:pt x="1368" y="1382"/>
                  </a:lnTo>
                  <a:lnTo>
                    <a:pt x="1364" y="1361"/>
                  </a:lnTo>
                  <a:lnTo>
                    <a:pt x="1361" y="1340"/>
                  </a:lnTo>
                  <a:lnTo>
                    <a:pt x="1355" y="1319"/>
                  </a:lnTo>
                  <a:lnTo>
                    <a:pt x="1351" y="1298"/>
                  </a:lnTo>
                  <a:lnTo>
                    <a:pt x="1348" y="1278"/>
                  </a:lnTo>
                  <a:lnTo>
                    <a:pt x="1344" y="1258"/>
                  </a:lnTo>
                  <a:lnTo>
                    <a:pt x="1338" y="1239"/>
                  </a:lnTo>
                  <a:lnTo>
                    <a:pt x="1334" y="1219"/>
                  </a:lnTo>
                  <a:lnTo>
                    <a:pt x="1328" y="1198"/>
                  </a:lnTo>
                  <a:lnTo>
                    <a:pt x="1324" y="1176"/>
                  </a:lnTo>
                  <a:lnTo>
                    <a:pt x="1318" y="1154"/>
                  </a:lnTo>
                  <a:lnTo>
                    <a:pt x="1312" y="1132"/>
                  </a:lnTo>
                  <a:lnTo>
                    <a:pt x="1306" y="1110"/>
                  </a:lnTo>
                  <a:lnTo>
                    <a:pt x="1301" y="1088"/>
                  </a:lnTo>
                  <a:lnTo>
                    <a:pt x="1294" y="1068"/>
                  </a:lnTo>
                  <a:lnTo>
                    <a:pt x="1288" y="1047"/>
                  </a:lnTo>
                  <a:lnTo>
                    <a:pt x="1283" y="1028"/>
                  </a:lnTo>
                  <a:lnTo>
                    <a:pt x="1278" y="1010"/>
                  </a:lnTo>
                  <a:lnTo>
                    <a:pt x="1272" y="995"/>
                  </a:lnTo>
                  <a:lnTo>
                    <a:pt x="1268" y="979"/>
                  </a:lnTo>
                  <a:lnTo>
                    <a:pt x="1263" y="966"/>
                  </a:lnTo>
                  <a:lnTo>
                    <a:pt x="1260" y="955"/>
                  </a:lnTo>
                  <a:lnTo>
                    <a:pt x="1254" y="945"/>
                  </a:lnTo>
                  <a:lnTo>
                    <a:pt x="1250" y="934"/>
                  </a:lnTo>
                  <a:lnTo>
                    <a:pt x="1244" y="921"/>
                  </a:lnTo>
                  <a:lnTo>
                    <a:pt x="1239" y="907"/>
                  </a:lnTo>
                  <a:lnTo>
                    <a:pt x="1232" y="893"/>
                  </a:lnTo>
                  <a:lnTo>
                    <a:pt x="1226" y="877"/>
                  </a:lnTo>
                  <a:lnTo>
                    <a:pt x="1220" y="861"/>
                  </a:lnTo>
                  <a:lnTo>
                    <a:pt x="1214" y="844"/>
                  </a:lnTo>
                  <a:lnTo>
                    <a:pt x="1206" y="829"/>
                  </a:lnTo>
                  <a:lnTo>
                    <a:pt x="1199" y="812"/>
                  </a:lnTo>
                  <a:lnTo>
                    <a:pt x="1192" y="796"/>
                  </a:lnTo>
                  <a:lnTo>
                    <a:pt x="1186" y="779"/>
                  </a:lnTo>
                  <a:lnTo>
                    <a:pt x="1178" y="764"/>
                  </a:lnTo>
                  <a:lnTo>
                    <a:pt x="1173" y="748"/>
                  </a:lnTo>
                  <a:lnTo>
                    <a:pt x="1167" y="734"/>
                  </a:lnTo>
                  <a:lnTo>
                    <a:pt x="1162" y="720"/>
                  </a:lnTo>
                  <a:lnTo>
                    <a:pt x="1156" y="708"/>
                  </a:lnTo>
                  <a:lnTo>
                    <a:pt x="1150" y="694"/>
                  </a:lnTo>
                  <a:lnTo>
                    <a:pt x="1144" y="679"/>
                  </a:lnTo>
                  <a:lnTo>
                    <a:pt x="1138" y="664"/>
                  </a:lnTo>
                  <a:lnTo>
                    <a:pt x="1131" y="649"/>
                  </a:lnTo>
                  <a:lnTo>
                    <a:pt x="1126" y="633"/>
                  </a:lnTo>
                  <a:lnTo>
                    <a:pt x="1118" y="618"/>
                  </a:lnTo>
                  <a:lnTo>
                    <a:pt x="1112" y="602"/>
                  </a:lnTo>
                  <a:lnTo>
                    <a:pt x="1105" y="587"/>
                  </a:lnTo>
                  <a:lnTo>
                    <a:pt x="1099" y="572"/>
                  </a:lnTo>
                  <a:lnTo>
                    <a:pt x="1092" y="558"/>
                  </a:lnTo>
                  <a:lnTo>
                    <a:pt x="1086" y="544"/>
                  </a:lnTo>
                  <a:lnTo>
                    <a:pt x="1080" y="532"/>
                  </a:lnTo>
                  <a:lnTo>
                    <a:pt x="1075" y="520"/>
                  </a:lnTo>
                  <a:lnTo>
                    <a:pt x="1070" y="510"/>
                  </a:lnTo>
                  <a:lnTo>
                    <a:pt x="1067" y="500"/>
                  </a:lnTo>
                  <a:lnTo>
                    <a:pt x="1061" y="493"/>
                  </a:lnTo>
                  <a:lnTo>
                    <a:pt x="1057" y="484"/>
                  </a:lnTo>
                  <a:lnTo>
                    <a:pt x="1050" y="474"/>
                  </a:lnTo>
                  <a:lnTo>
                    <a:pt x="1045" y="462"/>
                  </a:lnTo>
                  <a:lnTo>
                    <a:pt x="1038" y="452"/>
                  </a:lnTo>
                  <a:lnTo>
                    <a:pt x="1031" y="440"/>
                  </a:lnTo>
                  <a:lnTo>
                    <a:pt x="1024" y="429"/>
                  </a:lnTo>
                  <a:lnTo>
                    <a:pt x="1018" y="416"/>
                  </a:lnTo>
                  <a:lnTo>
                    <a:pt x="1009" y="404"/>
                  </a:lnTo>
                  <a:lnTo>
                    <a:pt x="1001" y="392"/>
                  </a:lnTo>
                  <a:lnTo>
                    <a:pt x="994" y="381"/>
                  </a:lnTo>
                  <a:lnTo>
                    <a:pt x="986" y="370"/>
                  </a:lnTo>
                  <a:lnTo>
                    <a:pt x="979" y="360"/>
                  </a:lnTo>
                  <a:lnTo>
                    <a:pt x="971" y="348"/>
                  </a:lnTo>
                  <a:lnTo>
                    <a:pt x="964" y="339"/>
                  </a:lnTo>
                  <a:lnTo>
                    <a:pt x="958" y="330"/>
                  </a:lnTo>
                  <a:lnTo>
                    <a:pt x="951" y="322"/>
                  </a:lnTo>
                  <a:lnTo>
                    <a:pt x="943" y="313"/>
                  </a:lnTo>
                  <a:lnTo>
                    <a:pt x="934" y="304"/>
                  </a:lnTo>
                  <a:lnTo>
                    <a:pt x="927" y="294"/>
                  </a:lnTo>
                  <a:lnTo>
                    <a:pt x="918" y="285"/>
                  </a:lnTo>
                  <a:lnTo>
                    <a:pt x="908" y="276"/>
                  </a:lnTo>
                  <a:lnTo>
                    <a:pt x="899" y="266"/>
                  </a:lnTo>
                  <a:lnTo>
                    <a:pt x="890" y="255"/>
                  </a:lnTo>
                  <a:lnTo>
                    <a:pt x="880" y="246"/>
                  </a:lnTo>
                  <a:lnTo>
                    <a:pt x="871" y="236"/>
                  </a:lnTo>
                  <a:lnTo>
                    <a:pt x="862" y="228"/>
                  </a:lnTo>
                  <a:lnTo>
                    <a:pt x="853" y="219"/>
                  </a:lnTo>
                  <a:lnTo>
                    <a:pt x="844" y="212"/>
                  </a:lnTo>
                  <a:lnTo>
                    <a:pt x="836" y="204"/>
                  </a:lnTo>
                  <a:lnTo>
                    <a:pt x="828" y="198"/>
                  </a:lnTo>
                  <a:lnTo>
                    <a:pt x="823" y="192"/>
                  </a:lnTo>
                  <a:lnTo>
                    <a:pt x="815" y="188"/>
                  </a:lnTo>
                  <a:lnTo>
                    <a:pt x="808" y="182"/>
                  </a:lnTo>
                  <a:lnTo>
                    <a:pt x="801" y="177"/>
                  </a:lnTo>
                  <a:lnTo>
                    <a:pt x="795" y="172"/>
                  </a:lnTo>
                  <a:lnTo>
                    <a:pt x="788" y="167"/>
                  </a:lnTo>
                  <a:lnTo>
                    <a:pt x="782" y="162"/>
                  </a:lnTo>
                  <a:lnTo>
                    <a:pt x="774" y="157"/>
                  </a:lnTo>
                  <a:lnTo>
                    <a:pt x="768" y="151"/>
                  </a:lnTo>
                  <a:lnTo>
                    <a:pt x="761" y="147"/>
                  </a:lnTo>
                  <a:lnTo>
                    <a:pt x="756" y="143"/>
                  </a:lnTo>
                  <a:lnTo>
                    <a:pt x="750" y="139"/>
                  </a:lnTo>
                  <a:lnTo>
                    <a:pt x="745" y="134"/>
                  </a:lnTo>
                  <a:lnTo>
                    <a:pt x="739" y="132"/>
                  </a:lnTo>
                  <a:lnTo>
                    <a:pt x="736" y="128"/>
                  </a:lnTo>
                  <a:lnTo>
                    <a:pt x="732" y="126"/>
                  </a:lnTo>
                  <a:lnTo>
                    <a:pt x="730" y="123"/>
                  </a:lnTo>
                  <a:lnTo>
                    <a:pt x="726" y="122"/>
                  </a:lnTo>
                  <a:lnTo>
                    <a:pt x="724" y="120"/>
                  </a:lnTo>
                  <a:lnTo>
                    <a:pt x="720" y="118"/>
                  </a:lnTo>
                  <a:lnTo>
                    <a:pt x="717" y="116"/>
                  </a:lnTo>
                  <a:lnTo>
                    <a:pt x="711" y="114"/>
                  </a:lnTo>
                  <a:lnTo>
                    <a:pt x="707" y="112"/>
                  </a:lnTo>
                  <a:lnTo>
                    <a:pt x="701" y="110"/>
                  </a:lnTo>
                  <a:lnTo>
                    <a:pt x="697" y="106"/>
                  </a:lnTo>
                  <a:lnTo>
                    <a:pt x="692" y="104"/>
                  </a:lnTo>
                  <a:lnTo>
                    <a:pt x="686" y="102"/>
                  </a:lnTo>
                  <a:lnTo>
                    <a:pt x="680" y="100"/>
                  </a:lnTo>
                  <a:lnTo>
                    <a:pt x="675" y="96"/>
                  </a:lnTo>
                  <a:lnTo>
                    <a:pt x="669" y="94"/>
                  </a:lnTo>
                  <a:lnTo>
                    <a:pt x="664" y="92"/>
                  </a:lnTo>
                  <a:lnTo>
                    <a:pt x="658" y="90"/>
                  </a:lnTo>
                  <a:lnTo>
                    <a:pt x="653" y="86"/>
                  </a:lnTo>
                  <a:lnTo>
                    <a:pt x="647" y="85"/>
                  </a:lnTo>
                  <a:lnTo>
                    <a:pt x="641" y="83"/>
                  </a:lnTo>
                  <a:lnTo>
                    <a:pt x="634" y="81"/>
                  </a:lnTo>
                  <a:lnTo>
                    <a:pt x="627" y="78"/>
                  </a:lnTo>
                  <a:lnTo>
                    <a:pt x="618" y="76"/>
                  </a:lnTo>
                  <a:lnTo>
                    <a:pt x="610" y="72"/>
                  </a:lnTo>
                  <a:lnTo>
                    <a:pt x="601" y="70"/>
                  </a:lnTo>
                  <a:lnTo>
                    <a:pt x="592" y="67"/>
                  </a:lnTo>
                  <a:lnTo>
                    <a:pt x="582" y="65"/>
                  </a:lnTo>
                  <a:lnTo>
                    <a:pt x="573" y="62"/>
                  </a:lnTo>
                  <a:lnTo>
                    <a:pt x="564" y="60"/>
                  </a:lnTo>
                  <a:lnTo>
                    <a:pt x="554" y="56"/>
                  </a:lnTo>
                  <a:lnTo>
                    <a:pt x="545" y="54"/>
                  </a:lnTo>
                  <a:lnTo>
                    <a:pt x="536" y="51"/>
                  </a:lnTo>
                  <a:lnTo>
                    <a:pt x="528" y="49"/>
                  </a:lnTo>
                  <a:lnTo>
                    <a:pt x="521" y="46"/>
                  </a:lnTo>
                  <a:lnTo>
                    <a:pt x="512" y="44"/>
                  </a:lnTo>
                  <a:lnTo>
                    <a:pt x="504" y="42"/>
                  </a:lnTo>
                  <a:lnTo>
                    <a:pt x="494" y="40"/>
                  </a:lnTo>
                  <a:lnTo>
                    <a:pt x="485" y="39"/>
                  </a:lnTo>
                  <a:lnTo>
                    <a:pt x="474" y="37"/>
                  </a:lnTo>
                  <a:lnTo>
                    <a:pt x="465" y="35"/>
                  </a:lnTo>
                  <a:lnTo>
                    <a:pt x="454" y="33"/>
                  </a:lnTo>
                  <a:lnTo>
                    <a:pt x="444" y="30"/>
                  </a:lnTo>
                  <a:lnTo>
                    <a:pt x="433" y="29"/>
                  </a:lnTo>
                  <a:lnTo>
                    <a:pt x="424" y="27"/>
                  </a:lnTo>
                  <a:lnTo>
                    <a:pt x="414" y="25"/>
                  </a:lnTo>
                  <a:lnTo>
                    <a:pt x="404" y="23"/>
                  </a:lnTo>
                  <a:lnTo>
                    <a:pt x="395" y="22"/>
                  </a:lnTo>
                  <a:lnTo>
                    <a:pt x="386" y="20"/>
                  </a:lnTo>
                  <a:lnTo>
                    <a:pt x="378" y="19"/>
                  </a:lnTo>
                  <a:lnTo>
                    <a:pt x="372" y="18"/>
                  </a:lnTo>
                  <a:lnTo>
                    <a:pt x="364" y="18"/>
                  </a:lnTo>
                  <a:lnTo>
                    <a:pt x="357" y="17"/>
                  </a:lnTo>
                  <a:lnTo>
                    <a:pt x="347" y="17"/>
                  </a:lnTo>
                  <a:lnTo>
                    <a:pt x="339" y="15"/>
                  </a:lnTo>
                  <a:lnTo>
                    <a:pt x="329" y="15"/>
                  </a:lnTo>
                  <a:lnTo>
                    <a:pt x="319" y="13"/>
                  </a:lnTo>
                  <a:lnTo>
                    <a:pt x="308" y="13"/>
                  </a:lnTo>
                  <a:lnTo>
                    <a:pt x="299" y="11"/>
                  </a:lnTo>
                  <a:lnTo>
                    <a:pt x="288" y="11"/>
                  </a:lnTo>
                  <a:lnTo>
                    <a:pt x="276" y="10"/>
                  </a:lnTo>
                  <a:lnTo>
                    <a:pt x="265" y="10"/>
                  </a:lnTo>
                  <a:lnTo>
                    <a:pt x="256" y="8"/>
                  </a:lnTo>
                  <a:lnTo>
                    <a:pt x="245" y="8"/>
                  </a:lnTo>
                  <a:lnTo>
                    <a:pt x="236" y="7"/>
                  </a:lnTo>
                  <a:lnTo>
                    <a:pt x="226" y="7"/>
                  </a:lnTo>
                  <a:lnTo>
                    <a:pt x="219" y="5"/>
                  </a:lnTo>
                  <a:lnTo>
                    <a:pt x="210" y="5"/>
                  </a:lnTo>
                  <a:lnTo>
                    <a:pt x="201" y="5"/>
                  </a:lnTo>
                  <a:lnTo>
                    <a:pt x="191" y="5"/>
                  </a:lnTo>
                  <a:lnTo>
                    <a:pt x="181" y="4"/>
                  </a:lnTo>
                  <a:lnTo>
                    <a:pt x="170" y="4"/>
                  </a:lnTo>
                  <a:lnTo>
                    <a:pt x="160" y="4"/>
                  </a:lnTo>
                  <a:lnTo>
                    <a:pt x="149" y="4"/>
                  </a:lnTo>
                  <a:lnTo>
                    <a:pt x="140" y="2"/>
                  </a:lnTo>
                  <a:lnTo>
                    <a:pt x="128" y="2"/>
                  </a:lnTo>
                  <a:lnTo>
                    <a:pt x="118" y="2"/>
                  </a:lnTo>
                  <a:lnTo>
                    <a:pt x="108" y="2"/>
                  </a:lnTo>
                  <a:lnTo>
                    <a:pt x="98" y="1"/>
                  </a:lnTo>
                  <a:lnTo>
                    <a:pt x="89" y="1"/>
                  </a:lnTo>
                  <a:lnTo>
                    <a:pt x="80" y="1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49840" y="2395440"/>
              <a:ext cx="2552400" cy="2928960"/>
            </a:xfrm>
            <a:custGeom>
              <a:avLst/>
              <a:gdLst/>
              <a:ahLst/>
              <a:rect l="l" t="t" r="r" b="b"/>
              <a:pathLst>
                <a:path w="1608" h="1845">
                  <a:moveTo>
                    <a:pt x="0" y="0"/>
                  </a:moveTo>
                  <a:lnTo>
                    <a:pt x="0" y="16"/>
                  </a:lnTo>
                  <a:lnTo>
                    <a:pt x="1" y="28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3" y="51"/>
                  </a:lnTo>
                  <a:lnTo>
                    <a:pt x="3" y="56"/>
                  </a:lnTo>
                  <a:lnTo>
                    <a:pt x="3" y="59"/>
                  </a:lnTo>
                  <a:lnTo>
                    <a:pt x="5" y="61"/>
                  </a:lnTo>
                  <a:lnTo>
                    <a:pt x="5" y="63"/>
                  </a:lnTo>
                  <a:lnTo>
                    <a:pt x="5" y="65"/>
                  </a:lnTo>
                  <a:lnTo>
                    <a:pt x="5" y="67"/>
                  </a:lnTo>
                  <a:lnTo>
                    <a:pt x="6" y="69"/>
                  </a:lnTo>
                  <a:lnTo>
                    <a:pt x="6" y="73"/>
                  </a:lnTo>
                  <a:lnTo>
                    <a:pt x="7" y="77"/>
                  </a:lnTo>
                  <a:lnTo>
                    <a:pt x="7" y="82"/>
                  </a:lnTo>
                  <a:lnTo>
                    <a:pt x="9" y="88"/>
                  </a:lnTo>
                  <a:lnTo>
                    <a:pt x="9" y="98"/>
                  </a:lnTo>
                  <a:lnTo>
                    <a:pt x="10" y="111"/>
                  </a:lnTo>
                  <a:lnTo>
                    <a:pt x="12" y="125"/>
                  </a:lnTo>
                  <a:lnTo>
                    <a:pt x="15" y="141"/>
                  </a:lnTo>
                  <a:lnTo>
                    <a:pt x="18" y="160"/>
                  </a:lnTo>
                  <a:lnTo>
                    <a:pt x="21" y="179"/>
                  </a:lnTo>
                  <a:lnTo>
                    <a:pt x="25" y="201"/>
                  </a:lnTo>
                  <a:lnTo>
                    <a:pt x="30" y="222"/>
                  </a:lnTo>
                  <a:lnTo>
                    <a:pt x="33" y="245"/>
                  </a:lnTo>
                  <a:lnTo>
                    <a:pt x="38" y="269"/>
                  </a:lnTo>
                  <a:lnTo>
                    <a:pt x="42" y="293"/>
                  </a:lnTo>
                  <a:lnTo>
                    <a:pt x="48" y="316"/>
                  </a:lnTo>
                  <a:lnTo>
                    <a:pt x="51" y="341"/>
                  </a:lnTo>
                  <a:lnTo>
                    <a:pt x="57" y="364"/>
                  </a:lnTo>
                  <a:lnTo>
                    <a:pt x="61" y="387"/>
                  </a:lnTo>
                  <a:lnTo>
                    <a:pt x="67" y="409"/>
                  </a:lnTo>
                  <a:lnTo>
                    <a:pt x="71" y="431"/>
                  </a:lnTo>
                  <a:lnTo>
                    <a:pt x="77" y="455"/>
                  </a:lnTo>
                  <a:lnTo>
                    <a:pt x="83" y="479"/>
                  </a:lnTo>
                  <a:lnTo>
                    <a:pt x="89" y="503"/>
                  </a:lnTo>
                  <a:lnTo>
                    <a:pt x="95" y="529"/>
                  </a:lnTo>
                  <a:lnTo>
                    <a:pt x="102" y="555"/>
                  </a:lnTo>
                  <a:lnTo>
                    <a:pt x="109" y="579"/>
                  </a:lnTo>
                  <a:lnTo>
                    <a:pt x="116" y="604"/>
                  </a:lnTo>
                  <a:lnTo>
                    <a:pt x="122" y="628"/>
                  </a:lnTo>
                  <a:lnTo>
                    <a:pt x="129" y="651"/>
                  </a:lnTo>
                  <a:lnTo>
                    <a:pt x="135" y="674"/>
                  </a:lnTo>
                  <a:lnTo>
                    <a:pt x="142" y="694"/>
                  </a:lnTo>
                  <a:lnTo>
                    <a:pt x="147" y="713"/>
                  </a:lnTo>
                  <a:lnTo>
                    <a:pt x="154" y="730"/>
                  </a:lnTo>
                  <a:lnTo>
                    <a:pt x="159" y="745"/>
                  </a:lnTo>
                  <a:lnTo>
                    <a:pt x="165" y="757"/>
                  </a:lnTo>
                  <a:lnTo>
                    <a:pt x="168" y="769"/>
                  </a:lnTo>
                  <a:lnTo>
                    <a:pt x="174" y="782"/>
                  </a:lnTo>
                  <a:lnTo>
                    <a:pt x="179" y="797"/>
                  </a:lnTo>
                  <a:lnTo>
                    <a:pt x="186" y="813"/>
                  </a:lnTo>
                  <a:lnTo>
                    <a:pt x="193" y="831"/>
                  </a:lnTo>
                  <a:lnTo>
                    <a:pt x="200" y="848"/>
                  </a:lnTo>
                  <a:lnTo>
                    <a:pt x="207" y="867"/>
                  </a:lnTo>
                  <a:lnTo>
                    <a:pt x="215" y="884"/>
                  </a:lnTo>
                  <a:lnTo>
                    <a:pt x="223" y="903"/>
                  </a:lnTo>
                  <a:lnTo>
                    <a:pt x="231" y="922"/>
                  </a:lnTo>
                  <a:lnTo>
                    <a:pt x="238" y="941"/>
                  </a:lnTo>
                  <a:lnTo>
                    <a:pt x="247" y="959"/>
                  </a:lnTo>
                  <a:lnTo>
                    <a:pt x="254" y="977"/>
                  </a:lnTo>
                  <a:lnTo>
                    <a:pt x="262" y="994"/>
                  </a:lnTo>
                  <a:lnTo>
                    <a:pt x="268" y="1011"/>
                  </a:lnTo>
                  <a:lnTo>
                    <a:pt x="275" y="1025"/>
                  </a:lnTo>
                  <a:lnTo>
                    <a:pt x="281" y="1041"/>
                  </a:lnTo>
                  <a:lnTo>
                    <a:pt x="288" y="1056"/>
                  </a:lnTo>
                  <a:lnTo>
                    <a:pt x="295" y="1073"/>
                  </a:lnTo>
                  <a:lnTo>
                    <a:pt x="302" y="1089"/>
                  </a:lnTo>
                  <a:lnTo>
                    <a:pt x="310" y="1108"/>
                  </a:lnTo>
                  <a:lnTo>
                    <a:pt x="317" y="1125"/>
                  </a:lnTo>
                  <a:lnTo>
                    <a:pt x="325" y="1143"/>
                  </a:lnTo>
                  <a:lnTo>
                    <a:pt x="333" y="1160"/>
                  </a:lnTo>
                  <a:lnTo>
                    <a:pt x="340" y="1178"/>
                  </a:lnTo>
                  <a:lnTo>
                    <a:pt x="348" y="1195"/>
                  </a:lnTo>
                  <a:lnTo>
                    <a:pt x="355" y="1211"/>
                  </a:lnTo>
                  <a:lnTo>
                    <a:pt x="362" y="1226"/>
                  </a:lnTo>
                  <a:lnTo>
                    <a:pt x="368" y="1241"/>
                  </a:lnTo>
                  <a:lnTo>
                    <a:pt x="374" y="1253"/>
                  </a:lnTo>
                  <a:lnTo>
                    <a:pt x="379" y="1265"/>
                  </a:lnTo>
                  <a:lnTo>
                    <a:pt x="385" y="1275"/>
                  </a:lnTo>
                  <a:lnTo>
                    <a:pt x="389" y="1285"/>
                  </a:lnTo>
                  <a:lnTo>
                    <a:pt x="394" y="1296"/>
                  </a:lnTo>
                  <a:lnTo>
                    <a:pt x="400" y="1308"/>
                  </a:lnTo>
                  <a:lnTo>
                    <a:pt x="408" y="1319"/>
                  </a:lnTo>
                  <a:lnTo>
                    <a:pt x="415" y="1333"/>
                  </a:lnTo>
                  <a:lnTo>
                    <a:pt x="423" y="1346"/>
                  </a:lnTo>
                  <a:lnTo>
                    <a:pt x="431" y="1359"/>
                  </a:lnTo>
                  <a:lnTo>
                    <a:pt x="440" y="1373"/>
                  </a:lnTo>
                  <a:lnTo>
                    <a:pt x="448" y="1387"/>
                  </a:lnTo>
                  <a:lnTo>
                    <a:pt x="457" y="1400"/>
                  </a:lnTo>
                  <a:lnTo>
                    <a:pt x="466" y="1413"/>
                  </a:lnTo>
                  <a:lnTo>
                    <a:pt x="475" y="1425"/>
                  </a:lnTo>
                  <a:lnTo>
                    <a:pt x="483" y="1439"/>
                  </a:lnTo>
                  <a:lnTo>
                    <a:pt x="492" y="1450"/>
                  </a:lnTo>
                  <a:lnTo>
                    <a:pt x="500" y="1461"/>
                  </a:lnTo>
                  <a:lnTo>
                    <a:pt x="509" y="1470"/>
                  </a:lnTo>
                  <a:lnTo>
                    <a:pt x="516" y="1481"/>
                  </a:lnTo>
                  <a:lnTo>
                    <a:pt x="524" y="1490"/>
                  </a:lnTo>
                  <a:lnTo>
                    <a:pt x="533" y="1501"/>
                  </a:lnTo>
                  <a:lnTo>
                    <a:pt x="543" y="1511"/>
                  </a:lnTo>
                  <a:lnTo>
                    <a:pt x="553" y="1522"/>
                  </a:lnTo>
                  <a:lnTo>
                    <a:pt x="564" y="1533"/>
                  </a:lnTo>
                  <a:lnTo>
                    <a:pt x="576" y="1545"/>
                  </a:lnTo>
                  <a:lnTo>
                    <a:pt x="587" y="1555"/>
                  </a:lnTo>
                  <a:lnTo>
                    <a:pt x="596" y="1567"/>
                  </a:lnTo>
                  <a:lnTo>
                    <a:pt x="607" y="1578"/>
                  </a:lnTo>
                  <a:lnTo>
                    <a:pt x="618" y="1588"/>
                  </a:lnTo>
                  <a:lnTo>
                    <a:pt x="629" y="1597"/>
                  </a:lnTo>
                  <a:lnTo>
                    <a:pt x="639" y="1607"/>
                  </a:lnTo>
                  <a:lnTo>
                    <a:pt x="649" y="1615"/>
                  </a:lnTo>
                  <a:lnTo>
                    <a:pt x="657" y="1622"/>
                  </a:lnTo>
                  <a:lnTo>
                    <a:pt x="665" y="1628"/>
                  </a:lnTo>
                  <a:lnTo>
                    <a:pt x="672" y="1635"/>
                  </a:lnTo>
                  <a:lnTo>
                    <a:pt x="680" y="1640"/>
                  </a:lnTo>
                  <a:lnTo>
                    <a:pt x="687" y="1646"/>
                  </a:lnTo>
                  <a:lnTo>
                    <a:pt x="695" y="1651"/>
                  </a:lnTo>
                  <a:lnTo>
                    <a:pt x="703" y="1658"/>
                  </a:lnTo>
                  <a:lnTo>
                    <a:pt x="711" y="1663"/>
                  </a:lnTo>
                  <a:lnTo>
                    <a:pt x="719" y="1669"/>
                  </a:lnTo>
                  <a:lnTo>
                    <a:pt x="727" y="1675"/>
                  </a:lnTo>
                  <a:lnTo>
                    <a:pt x="733" y="1680"/>
                  </a:lnTo>
                  <a:lnTo>
                    <a:pt x="741" y="1686"/>
                  </a:lnTo>
                  <a:lnTo>
                    <a:pt x="747" y="1691"/>
                  </a:lnTo>
                  <a:lnTo>
                    <a:pt x="753" y="1695"/>
                  </a:lnTo>
                  <a:lnTo>
                    <a:pt x="758" y="1698"/>
                  </a:lnTo>
                  <a:lnTo>
                    <a:pt x="763" y="1701"/>
                  </a:lnTo>
                  <a:lnTo>
                    <a:pt x="767" y="1704"/>
                  </a:lnTo>
                  <a:lnTo>
                    <a:pt x="771" y="1706"/>
                  </a:lnTo>
                  <a:lnTo>
                    <a:pt x="773" y="1709"/>
                  </a:lnTo>
                  <a:lnTo>
                    <a:pt x="777" y="1711"/>
                  </a:lnTo>
                  <a:lnTo>
                    <a:pt x="780" y="1713"/>
                  </a:lnTo>
                  <a:lnTo>
                    <a:pt x="785" y="1715"/>
                  </a:lnTo>
                  <a:lnTo>
                    <a:pt x="790" y="1719"/>
                  </a:lnTo>
                  <a:lnTo>
                    <a:pt x="796" y="1721"/>
                  </a:lnTo>
                  <a:lnTo>
                    <a:pt x="801" y="1724"/>
                  </a:lnTo>
                  <a:lnTo>
                    <a:pt x="808" y="1726"/>
                  </a:lnTo>
                  <a:lnTo>
                    <a:pt x="814" y="1729"/>
                  </a:lnTo>
                  <a:lnTo>
                    <a:pt x="821" y="1732"/>
                  </a:lnTo>
                  <a:lnTo>
                    <a:pt x="827" y="1736"/>
                  </a:lnTo>
                  <a:lnTo>
                    <a:pt x="834" y="1737"/>
                  </a:lnTo>
                  <a:lnTo>
                    <a:pt x="839" y="1741"/>
                  </a:lnTo>
                  <a:lnTo>
                    <a:pt x="847" y="1743"/>
                  </a:lnTo>
                  <a:lnTo>
                    <a:pt x="852" y="1746"/>
                  </a:lnTo>
                  <a:lnTo>
                    <a:pt x="859" y="1747"/>
                  </a:lnTo>
                  <a:lnTo>
                    <a:pt x="865" y="1751"/>
                  </a:lnTo>
                  <a:lnTo>
                    <a:pt x="871" y="1753"/>
                  </a:lnTo>
                  <a:lnTo>
                    <a:pt x="879" y="1757"/>
                  </a:lnTo>
                  <a:lnTo>
                    <a:pt x="888" y="1759"/>
                  </a:lnTo>
                  <a:lnTo>
                    <a:pt x="897" y="1763"/>
                  </a:lnTo>
                  <a:lnTo>
                    <a:pt x="907" y="1766"/>
                  </a:lnTo>
                  <a:lnTo>
                    <a:pt x="917" y="1769"/>
                  </a:lnTo>
                  <a:lnTo>
                    <a:pt x="928" y="1771"/>
                  </a:lnTo>
                  <a:lnTo>
                    <a:pt x="937" y="1775"/>
                  </a:lnTo>
                  <a:lnTo>
                    <a:pt x="949" y="1779"/>
                  </a:lnTo>
                  <a:lnTo>
                    <a:pt x="959" y="1783"/>
                  </a:lnTo>
                  <a:lnTo>
                    <a:pt x="970" y="1784"/>
                  </a:lnTo>
                  <a:lnTo>
                    <a:pt x="979" y="1788"/>
                  </a:lnTo>
                  <a:lnTo>
                    <a:pt x="991" y="1790"/>
                  </a:lnTo>
                  <a:lnTo>
                    <a:pt x="1000" y="1793"/>
                  </a:lnTo>
                  <a:lnTo>
                    <a:pt x="1010" y="1794"/>
                  </a:lnTo>
                  <a:lnTo>
                    <a:pt x="1019" y="1798"/>
                  </a:lnTo>
                  <a:lnTo>
                    <a:pt x="1028" y="1800"/>
                  </a:lnTo>
                  <a:lnTo>
                    <a:pt x="1038" y="1803"/>
                  </a:lnTo>
                  <a:lnTo>
                    <a:pt x="1049" y="1804"/>
                  </a:lnTo>
                  <a:lnTo>
                    <a:pt x="1061" y="1808"/>
                  </a:lnTo>
                  <a:lnTo>
                    <a:pt x="1072" y="1810"/>
                  </a:lnTo>
                  <a:lnTo>
                    <a:pt x="1083" y="1812"/>
                  </a:lnTo>
                  <a:lnTo>
                    <a:pt x="1097" y="1814"/>
                  </a:lnTo>
                  <a:lnTo>
                    <a:pt x="1108" y="1816"/>
                  </a:lnTo>
                  <a:lnTo>
                    <a:pt x="1119" y="1818"/>
                  </a:lnTo>
                  <a:lnTo>
                    <a:pt x="1130" y="1820"/>
                  </a:lnTo>
                  <a:lnTo>
                    <a:pt x="1142" y="1822"/>
                  </a:lnTo>
                  <a:lnTo>
                    <a:pt x="1151" y="1824"/>
                  </a:lnTo>
                  <a:lnTo>
                    <a:pt x="1162" y="1825"/>
                  </a:lnTo>
                  <a:lnTo>
                    <a:pt x="1171" y="1826"/>
                  </a:lnTo>
                  <a:lnTo>
                    <a:pt x="1180" y="1826"/>
                  </a:lnTo>
                  <a:lnTo>
                    <a:pt x="1187" y="1828"/>
                  </a:lnTo>
                  <a:lnTo>
                    <a:pt x="1195" y="1829"/>
                  </a:lnTo>
                  <a:lnTo>
                    <a:pt x="1205" y="1831"/>
                  </a:lnTo>
                  <a:lnTo>
                    <a:pt x="1216" y="1831"/>
                  </a:lnTo>
                  <a:lnTo>
                    <a:pt x="1227" y="1833"/>
                  </a:lnTo>
                  <a:lnTo>
                    <a:pt x="1238" y="1833"/>
                  </a:lnTo>
                  <a:lnTo>
                    <a:pt x="1249" y="1834"/>
                  </a:lnTo>
                  <a:lnTo>
                    <a:pt x="1263" y="1834"/>
                  </a:lnTo>
                  <a:lnTo>
                    <a:pt x="1274" y="1836"/>
                  </a:lnTo>
                  <a:lnTo>
                    <a:pt x="1287" y="1836"/>
                  </a:lnTo>
                  <a:lnTo>
                    <a:pt x="1298" y="1838"/>
                  </a:lnTo>
                  <a:lnTo>
                    <a:pt x="1311" y="1838"/>
                  </a:lnTo>
                  <a:lnTo>
                    <a:pt x="1323" y="1840"/>
                  </a:lnTo>
                  <a:lnTo>
                    <a:pt x="1334" y="1840"/>
                  </a:lnTo>
                  <a:lnTo>
                    <a:pt x="1344" y="1840"/>
                  </a:lnTo>
                  <a:lnTo>
                    <a:pt x="1354" y="1840"/>
                  </a:lnTo>
                  <a:lnTo>
                    <a:pt x="1363" y="1842"/>
                  </a:lnTo>
                  <a:lnTo>
                    <a:pt x="1373" y="1842"/>
                  </a:lnTo>
                  <a:lnTo>
                    <a:pt x="1384" y="1842"/>
                  </a:lnTo>
                  <a:lnTo>
                    <a:pt x="1395" y="1842"/>
                  </a:lnTo>
                  <a:lnTo>
                    <a:pt x="1407" y="1844"/>
                  </a:lnTo>
                  <a:lnTo>
                    <a:pt x="1419" y="1844"/>
                  </a:lnTo>
                  <a:lnTo>
                    <a:pt x="1431" y="1844"/>
                  </a:lnTo>
                  <a:lnTo>
                    <a:pt x="1444" y="1844"/>
                  </a:lnTo>
                  <a:lnTo>
                    <a:pt x="1455" y="1844"/>
                  </a:lnTo>
                  <a:lnTo>
                    <a:pt x="1468" y="1844"/>
                  </a:lnTo>
                  <a:lnTo>
                    <a:pt x="1479" y="1844"/>
                  </a:lnTo>
                  <a:lnTo>
                    <a:pt x="1491" y="1844"/>
                  </a:lnTo>
                  <a:lnTo>
                    <a:pt x="1500" y="1844"/>
                  </a:lnTo>
                  <a:lnTo>
                    <a:pt x="1511" y="1844"/>
                  </a:lnTo>
                  <a:lnTo>
                    <a:pt x="1520" y="1844"/>
                  </a:lnTo>
                  <a:lnTo>
                    <a:pt x="1529" y="1844"/>
                  </a:lnTo>
                  <a:lnTo>
                    <a:pt x="1534" y="1844"/>
                  </a:lnTo>
                  <a:lnTo>
                    <a:pt x="1539" y="1844"/>
                  </a:lnTo>
                  <a:lnTo>
                    <a:pt x="1542" y="1844"/>
                  </a:lnTo>
                  <a:lnTo>
                    <a:pt x="1546" y="1844"/>
                  </a:lnTo>
                  <a:lnTo>
                    <a:pt x="1547" y="1844"/>
                  </a:lnTo>
                  <a:lnTo>
                    <a:pt x="1549" y="1844"/>
                  </a:lnTo>
                  <a:lnTo>
                    <a:pt x="1551" y="1844"/>
                  </a:lnTo>
                  <a:lnTo>
                    <a:pt x="1553" y="1844"/>
                  </a:lnTo>
                  <a:lnTo>
                    <a:pt x="1555" y="1844"/>
                  </a:lnTo>
                  <a:lnTo>
                    <a:pt x="1557" y="1844"/>
                  </a:lnTo>
                  <a:lnTo>
                    <a:pt x="1561" y="1844"/>
                  </a:lnTo>
                  <a:lnTo>
                    <a:pt x="1567" y="1844"/>
                  </a:lnTo>
                  <a:lnTo>
                    <a:pt x="1573" y="1844"/>
                  </a:lnTo>
                  <a:lnTo>
                    <a:pt x="1582" y="1844"/>
                  </a:lnTo>
                  <a:lnTo>
                    <a:pt x="1593" y="1844"/>
                  </a:lnTo>
                  <a:lnTo>
                    <a:pt x="1607" y="1844"/>
                  </a:lnTo>
                </a:path>
              </a:pathLst>
            </a:custGeom>
            <a:noFill/>
            <a:ln w="442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59240" y="2232000"/>
              <a:ext cx="2205000" cy="2502000"/>
            </a:xfrm>
            <a:custGeom>
              <a:avLst/>
              <a:gdLst/>
              <a:ahLst/>
              <a:rect l="l" t="t" r="r" b="b"/>
              <a:pathLst>
                <a:path w="1389" h="1576">
                  <a:moveTo>
                    <a:pt x="0" y="0"/>
                  </a:moveTo>
                  <a:lnTo>
                    <a:pt x="0" y="14"/>
                  </a:lnTo>
                  <a:lnTo>
                    <a:pt x="1" y="24"/>
                  </a:lnTo>
                  <a:lnTo>
                    <a:pt x="1" y="33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5" y="59"/>
                  </a:lnTo>
                  <a:lnTo>
                    <a:pt x="5" y="62"/>
                  </a:lnTo>
                  <a:lnTo>
                    <a:pt x="6" y="65"/>
                  </a:lnTo>
                  <a:lnTo>
                    <a:pt x="6" y="70"/>
                  </a:lnTo>
                  <a:lnTo>
                    <a:pt x="8" y="75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1" y="106"/>
                  </a:lnTo>
                  <a:lnTo>
                    <a:pt x="13" y="120"/>
                  </a:lnTo>
                  <a:lnTo>
                    <a:pt x="15" y="136"/>
                  </a:lnTo>
                  <a:lnTo>
                    <a:pt x="18" y="152"/>
                  </a:lnTo>
                  <a:lnTo>
                    <a:pt x="22" y="170"/>
                  </a:lnTo>
                  <a:lnTo>
                    <a:pt x="26" y="188"/>
                  </a:lnTo>
                  <a:lnTo>
                    <a:pt x="29" y="208"/>
                  </a:lnTo>
                  <a:lnTo>
                    <a:pt x="33" y="228"/>
                  </a:lnTo>
                  <a:lnTo>
                    <a:pt x="37" y="249"/>
                  </a:lnTo>
                  <a:lnTo>
                    <a:pt x="42" y="269"/>
                  </a:lnTo>
                  <a:lnTo>
                    <a:pt x="46" y="289"/>
                  </a:lnTo>
                  <a:lnTo>
                    <a:pt x="49" y="310"/>
                  </a:lnTo>
                  <a:lnTo>
                    <a:pt x="53" y="329"/>
                  </a:lnTo>
                  <a:lnTo>
                    <a:pt x="59" y="348"/>
                  </a:lnTo>
                  <a:lnTo>
                    <a:pt x="62" y="368"/>
                  </a:lnTo>
                  <a:lnTo>
                    <a:pt x="67" y="388"/>
                  </a:lnTo>
                  <a:lnTo>
                    <a:pt x="72" y="409"/>
                  </a:lnTo>
                  <a:lnTo>
                    <a:pt x="78" y="430"/>
                  </a:lnTo>
                  <a:lnTo>
                    <a:pt x="83" y="452"/>
                  </a:lnTo>
                  <a:lnTo>
                    <a:pt x="89" y="473"/>
                  </a:lnTo>
                  <a:lnTo>
                    <a:pt x="94" y="494"/>
                  </a:lnTo>
                  <a:lnTo>
                    <a:pt x="101" y="514"/>
                  </a:lnTo>
                  <a:lnTo>
                    <a:pt x="107" y="536"/>
                  </a:lnTo>
                  <a:lnTo>
                    <a:pt x="112" y="556"/>
                  </a:lnTo>
                  <a:lnTo>
                    <a:pt x="118" y="574"/>
                  </a:lnTo>
                  <a:lnTo>
                    <a:pt x="124" y="591"/>
                  </a:lnTo>
                  <a:lnTo>
                    <a:pt x="128" y="608"/>
                  </a:lnTo>
                  <a:lnTo>
                    <a:pt x="134" y="622"/>
                  </a:lnTo>
                  <a:lnTo>
                    <a:pt x="138" y="635"/>
                  </a:lnTo>
                  <a:lnTo>
                    <a:pt x="143" y="645"/>
                  </a:lnTo>
                  <a:lnTo>
                    <a:pt x="147" y="656"/>
                  </a:lnTo>
                  <a:lnTo>
                    <a:pt x="151" y="667"/>
                  </a:lnTo>
                  <a:lnTo>
                    <a:pt x="156" y="680"/>
                  </a:lnTo>
                  <a:lnTo>
                    <a:pt x="162" y="693"/>
                  </a:lnTo>
                  <a:lnTo>
                    <a:pt x="167" y="708"/>
                  </a:lnTo>
                  <a:lnTo>
                    <a:pt x="174" y="723"/>
                  </a:lnTo>
                  <a:lnTo>
                    <a:pt x="179" y="739"/>
                  </a:lnTo>
                  <a:lnTo>
                    <a:pt x="187" y="754"/>
                  </a:lnTo>
                  <a:lnTo>
                    <a:pt x="192" y="771"/>
                  </a:lnTo>
                  <a:lnTo>
                    <a:pt x="200" y="787"/>
                  </a:lnTo>
                  <a:lnTo>
                    <a:pt x="206" y="804"/>
                  </a:lnTo>
                  <a:lnTo>
                    <a:pt x="214" y="818"/>
                  </a:lnTo>
                  <a:lnTo>
                    <a:pt x="219" y="834"/>
                  </a:lnTo>
                  <a:lnTo>
                    <a:pt x="225" y="848"/>
                  </a:lnTo>
                  <a:lnTo>
                    <a:pt x="231" y="862"/>
                  </a:lnTo>
                  <a:lnTo>
                    <a:pt x="238" y="875"/>
                  </a:lnTo>
                  <a:lnTo>
                    <a:pt x="243" y="889"/>
                  </a:lnTo>
                  <a:lnTo>
                    <a:pt x="248" y="902"/>
                  </a:lnTo>
                  <a:lnTo>
                    <a:pt x="254" y="917"/>
                  </a:lnTo>
                  <a:lnTo>
                    <a:pt x="261" y="931"/>
                  </a:lnTo>
                  <a:lnTo>
                    <a:pt x="266" y="946"/>
                  </a:lnTo>
                  <a:lnTo>
                    <a:pt x="274" y="961"/>
                  </a:lnTo>
                  <a:lnTo>
                    <a:pt x="280" y="976"/>
                  </a:lnTo>
                  <a:lnTo>
                    <a:pt x="288" y="991"/>
                  </a:lnTo>
                  <a:lnTo>
                    <a:pt x="293" y="1006"/>
                  </a:lnTo>
                  <a:lnTo>
                    <a:pt x="300" y="1021"/>
                  </a:lnTo>
                  <a:lnTo>
                    <a:pt x="306" y="1034"/>
                  </a:lnTo>
                  <a:lnTo>
                    <a:pt x="313" y="1047"/>
                  </a:lnTo>
                  <a:lnTo>
                    <a:pt x="318" y="1059"/>
                  </a:lnTo>
                  <a:lnTo>
                    <a:pt x="323" y="1070"/>
                  </a:lnTo>
                  <a:lnTo>
                    <a:pt x="328" y="1080"/>
                  </a:lnTo>
                  <a:lnTo>
                    <a:pt x="333" y="1088"/>
                  </a:lnTo>
                  <a:lnTo>
                    <a:pt x="336" y="1097"/>
                  </a:lnTo>
                  <a:lnTo>
                    <a:pt x="340" y="1106"/>
                  </a:lnTo>
                  <a:lnTo>
                    <a:pt x="346" y="1117"/>
                  </a:lnTo>
                  <a:lnTo>
                    <a:pt x="352" y="1126"/>
                  </a:lnTo>
                  <a:lnTo>
                    <a:pt x="358" y="1137"/>
                  </a:lnTo>
                  <a:lnTo>
                    <a:pt x="365" y="1148"/>
                  </a:lnTo>
                  <a:lnTo>
                    <a:pt x="372" y="1160"/>
                  </a:lnTo>
                  <a:lnTo>
                    <a:pt x="380" y="1171"/>
                  </a:lnTo>
                  <a:lnTo>
                    <a:pt x="388" y="1184"/>
                  </a:lnTo>
                  <a:lnTo>
                    <a:pt x="395" y="1195"/>
                  </a:lnTo>
                  <a:lnTo>
                    <a:pt x="402" y="1206"/>
                  </a:lnTo>
                  <a:lnTo>
                    <a:pt x="410" y="1216"/>
                  </a:lnTo>
                  <a:lnTo>
                    <a:pt x="418" y="1228"/>
                  </a:lnTo>
                  <a:lnTo>
                    <a:pt x="425" y="1237"/>
                  </a:lnTo>
                  <a:lnTo>
                    <a:pt x="432" y="1246"/>
                  </a:lnTo>
                  <a:lnTo>
                    <a:pt x="439" y="1254"/>
                  </a:lnTo>
                  <a:lnTo>
                    <a:pt x="445" y="1263"/>
                  </a:lnTo>
                  <a:lnTo>
                    <a:pt x="452" y="1272"/>
                  </a:lnTo>
                  <a:lnTo>
                    <a:pt x="460" y="1281"/>
                  </a:lnTo>
                  <a:lnTo>
                    <a:pt x="469" y="1290"/>
                  </a:lnTo>
                  <a:lnTo>
                    <a:pt x="477" y="1300"/>
                  </a:lnTo>
                  <a:lnTo>
                    <a:pt x="487" y="1309"/>
                  </a:lnTo>
                  <a:lnTo>
                    <a:pt x="496" y="1318"/>
                  </a:lnTo>
                  <a:lnTo>
                    <a:pt x="506" y="1328"/>
                  </a:lnTo>
                  <a:lnTo>
                    <a:pt x="515" y="1337"/>
                  </a:lnTo>
                  <a:lnTo>
                    <a:pt x="524" y="1346"/>
                  </a:lnTo>
                  <a:lnTo>
                    <a:pt x="534" y="1356"/>
                  </a:lnTo>
                  <a:lnTo>
                    <a:pt x="543" y="1363"/>
                  </a:lnTo>
                  <a:lnTo>
                    <a:pt x="550" y="1371"/>
                  </a:lnTo>
                  <a:lnTo>
                    <a:pt x="560" y="1378"/>
                  </a:lnTo>
                  <a:lnTo>
                    <a:pt x="567" y="1383"/>
                  </a:lnTo>
                  <a:lnTo>
                    <a:pt x="575" y="1388"/>
                  </a:lnTo>
                  <a:lnTo>
                    <a:pt x="580" y="1394"/>
                  </a:lnTo>
                  <a:lnTo>
                    <a:pt x="587" y="1400"/>
                  </a:lnTo>
                  <a:lnTo>
                    <a:pt x="594" y="1405"/>
                  </a:lnTo>
                  <a:lnTo>
                    <a:pt x="601" y="1409"/>
                  </a:lnTo>
                  <a:lnTo>
                    <a:pt x="606" y="1414"/>
                  </a:lnTo>
                  <a:lnTo>
                    <a:pt x="614" y="1419"/>
                  </a:lnTo>
                  <a:lnTo>
                    <a:pt x="621" y="1425"/>
                  </a:lnTo>
                  <a:lnTo>
                    <a:pt x="628" y="1429"/>
                  </a:lnTo>
                  <a:lnTo>
                    <a:pt x="634" y="1434"/>
                  </a:lnTo>
                  <a:lnTo>
                    <a:pt x="640" y="1438"/>
                  </a:lnTo>
                  <a:lnTo>
                    <a:pt x="645" y="1442"/>
                  </a:lnTo>
                  <a:lnTo>
                    <a:pt x="651" y="1446"/>
                  </a:lnTo>
                  <a:lnTo>
                    <a:pt x="655" y="1449"/>
                  </a:lnTo>
                  <a:lnTo>
                    <a:pt x="660" y="1452"/>
                  </a:lnTo>
                  <a:lnTo>
                    <a:pt x="663" y="1454"/>
                  </a:lnTo>
                  <a:lnTo>
                    <a:pt x="666" y="1456"/>
                  </a:lnTo>
                  <a:lnTo>
                    <a:pt x="668" y="1458"/>
                  </a:lnTo>
                  <a:lnTo>
                    <a:pt x="672" y="1459"/>
                  </a:lnTo>
                  <a:lnTo>
                    <a:pt x="675" y="1461"/>
                  </a:lnTo>
                  <a:lnTo>
                    <a:pt x="679" y="1463"/>
                  </a:lnTo>
                  <a:lnTo>
                    <a:pt x="683" y="1467"/>
                  </a:lnTo>
                  <a:lnTo>
                    <a:pt x="688" y="1469"/>
                  </a:lnTo>
                  <a:lnTo>
                    <a:pt x="693" y="1470"/>
                  </a:lnTo>
                  <a:lnTo>
                    <a:pt x="698" y="1472"/>
                  </a:lnTo>
                  <a:lnTo>
                    <a:pt x="703" y="1476"/>
                  </a:lnTo>
                  <a:lnTo>
                    <a:pt x="708" y="1478"/>
                  </a:lnTo>
                  <a:lnTo>
                    <a:pt x="714" y="1482"/>
                  </a:lnTo>
                  <a:lnTo>
                    <a:pt x="720" y="1484"/>
                  </a:lnTo>
                  <a:lnTo>
                    <a:pt x="724" y="1487"/>
                  </a:lnTo>
                  <a:lnTo>
                    <a:pt x="730" y="1489"/>
                  </a:lnTo>
                  <a:lnTo>
                    <a:pt x="736" y="1490"/>
                  </a:lnTo>
                  <a:lnTo>
                    <a:pt x="741" y="1492"/>
                  </a:lnTo>
                  <a:lnTo>
                    <a:pt x="746" y="1496"/>
                  </a:lnTo>
                  <a:lnTo>
                    <a:pt x="752" y="1497"/>
                  </a:lnTo>
                  <a:lnTo>
                    <a:pt x="759" y="1500"/>
                  </a:lnTo>
                  <a:lnTo>
                    <a:pt x="766" y="1502"/>
                  </a:lnTo>
                  <a:lnTo>
                    <a:pt x="774" y="1506"/>
                  </a:lnTo>
                  <a:lnTo>
                    <a:pt x="782" y="1507"/>
                  </a:lnTo>
                  <a:lnTo>
                    <a:pt x="791" y="1510"/>
                  </a:lnTo>
                  <a:lnTo>
                    <a:pt x="801" y="1512"/>
                  </a:lnTo>
                  <a:lnTo>
                    <a:pt x="809" y="1516"/>
                  </a:lnTo>
                  <a:lnTo>
                    <a:pt x="819" y="1518"/>
                  </a:lnTo>
                  <a:lnTo>
                    <a:pt x="828" y="1521"/>
                  </a:lnTo>
                  <a:lnTo>
                    <a:pt x="838" y="1523"/>
                  </a:lnTo>
                  <a:lnTo>
                    <a:pt x="846" y="1526"/>
                  </a:lnTo>
                  <a:lnTo>
                    <a:pt x="855" y="1528"/>
                  </a:lnTo>
                  <a:lnTo>
                    <a:pt x="863" y="1530"/>
                  </a:lnTo>
                  <a:lnTo>
                    <a:pt x="872" y="1531"/>
                  </a:lnTo>
                  <a:lnTo>
                    <a:pt x="879" y="1534"/>
                  </a:lnTo>
                  <a:lnTo>
                    <a:pt x="887" y="1536"/>
                  </a:lnTo>
                  <a:lnTo>
                    <a:pt x="897" y="1538"/>
                  </a:lnTo>
                  <a:lnTo>
                    <a:pt x="906" y="1540"/>
                  </a:lnTo>
                  <a:lnTo>
                    <a:pt x="916" y="1542"/>
                  </a:lnTo>
                  <a:lnTo>
                    <a:pt x="926" y="1544"/>
                  </a:lnTo>
                  <a:lnTo>
                    <a:pt x="936" y="1546"/>
                  </a:lnTo>
                  <a:lnTo>
                    <a:pt x="947" y="1548"/>
                  </a:lnTo>
                  <a:lnTo>
                    <a:pt x="957" y="1550"/>
                  </a:lnTo>
                  <a:lnTo>
                    <a:pt x="967" y="1552"/>
                  </a:lnTo>
                  <a:lnTo>
                    <a:pt x="976" y="1554"/>
                  </a:lnTo>
                  <a:lnTo>
                    <a:pt x="986" y="1556"/>
                  </a:lnTo>
                  <a:lnTo>
                    <a:pt x="995" y="1557"/>
                  </a:lnTo>
                  <a:lnTo>
                    <a:pt x="1004" y="1558"/>
                  </a:lnTo>
                  <a:lnTo>
                    <a:pt x="1012" y="1560"/>
                  </a:lnTo>
                  <a:lnTo>
                    <a:pt x="1019" y="1560"/>
                  </a:lnTo>
                  <a:lnTo>
                    <a:pt x="1025" y="1562"/>
                  </a:lnTo>
                  <a:lnTo>
                    <a:pt x="1033" y="1562"/>
                  </a:lnTo>
                  <a:lnTo>
                    <a:pt x="1042" y="1563"/>
                  </a:lnTo>
                  <a:lnTo>
                    <a:pt x="1051" y="1563"/>
                  </a:lnTo>
                  <a:lnTo>
                    <a:pt x="1060" y="1565"/>
                  </a:lnTo>
                  <a:lnTo>
                    <a:pt x="1070" y="1565"/>
                  </a:lnTo>
                  <a:lnTo>
                    <a:pt x="1080" y="1565"/>
                  </a:lnTo>
                  <a:lnTo>
                    <a:pt x="1092" y="1565"/>
                  </a:lnTo>
                  <a:lnTo>
                    <a:pt x="1101" y="1567"/>
                  </a:lnTo>
                  <a:lnTo>
                    <a:pt x="1112" y="1567"/>
                  </a:lnTo>
                  <a:lnTo>
                    <a:pt x="1121" y="1569"/>
                  </a:lnTo>
                  <a:lnTo>
                    <a:pt x="1132" y="1569"/>
                  </a:lnTo>
                  <a:lnTo>
                    <a:pt x="1142" y="1571"/>
                  </a:lnTo>
                  <a:lnTo>
                    <a:pt x="1152" y="1571"/>
                  </a:lnTo>
                  <a:lnTo>
                    <a:pt x="1160" y="1572"/>
                  </a:lnTo>
                  <a:lnTo>
                    <a:pt x="1170" y="1572"/>
                  </a:lnTo>
                  <a:lnTo>
                    <a:pt x="1177" y="1574"/>
                  </a:lnTo>
                  <a:lnTo>
                    <a:pt x="1186" y="1574"/>
                  </a:lnTo>
                  <a:lnTo>
                    <a:pt x="1195" y="1574"/>
                  </a:lnTo>
                  <a:lnTo>
                    <a:pt x="1205" y="1574"/>
                  </a:lnTo>
                  <a:lnTo>
                    <a:pt x="1214" y="1574"/>
                  </a:lnTo>
                  <a:lnTo>
                    <a:pt x="1226" y="1574"/>
                  </a:lnTo>
                  <a:lnTo>
                    <a:pt x="1236" y="1574"/>
                  </a:lnTo>
                  <a:lnTo>
                    <a:pt x="1248" y="1574"/>
                  </a:lnTo>
                  <a:lnTo>
                    <a:pt x="1257" y="1575"/>
                  </a:lnTo>
                  <a:lnTo>
                    <a:pt x="1267" y="1575"/>
                  </a:lnTo>
                  <a:lnTo>
                    <a:pt x="1277" y="1575"/>
                  </a:lnTo>
                  <a:lnTo>
                    <a:pt x="1287" y="1575"/>
                  </a:lnTo>
                  <a:lnTo>
                    <a:pt x="1296" y="1575"/>
                  </a:lnTo>
                  <a:lnTo>
                    <a:pt x="1305" y="1575"/>
                  </a:lnTo>
                  <a:lnTo>
                    <a:pt x="1312" y="1575"/>
                  </a:lnTo>
                  <a:lnTo>
                    <a:pt x="1320" y="1575"/>
                  </a:lnTo>
                  <a:lnTo>
                    <a:pt x="1324" y="1575"/>
                  </a:lnTo>
                  <a:lnTo>
                    <a:pt x="1329" y="1575"/>
                  </a:lnTo>
                  <a:lnTo>
                    <a:pt x="1332" y="1575"/>
                  </a:lnTo>
                  <a:lnTo>
                    <a:pt x="1335" y="1575"/>
                  </a:lnTo>
                  <a:lnTo>
                    <a:pt x="1335" y="1575"/>
                  </a:lnTo>
                  <a:lnTo>
                    <a:pt x="1337" y="1575"/>
                  </a:lnTo>
                  <a:lnTo>
                    <a:pt x="1338" y="1575"/>
                  </a:lnTo>
                  <a:lnTo>
                    <a:pt x="1340" y="1575"/>
                  </a:lnTo>
                  <a:lnTo>
                    <a:pt x="1342" y="1575"/>
                  </a:lnTo>
                  <a:lnTo>
                    <a:pt x="1344" y="1575"/>
                  </a:lnTo>
                  <a:lnTo>
                    <a:pt x="1347" y="1575"/>
                  </a:lnTo>
                  <a:lnTo>
                    <a:pt x="1352" y="1575"/>
                  </a:lnTo>
                  <a:lnTo>
                    <a:pt x="1358" y="1575"/>
                  </a:lnTo>
                  <a:lnTo>
                    <a:pt x="1366" y="1575"/>
                  </a:lnTo>
                  <a:lnTo>
                    <a:pt x="1375" y="1575"/>
                  </a:lnTo>
                  <a:lnTo>
                    <a:pt x="1388" y="1575"/>
                  </a:lnTo>
                </a:path>
              </a:pathLst>
            </a:custGeom>
            <a:noFill/>
            <a:ln w="442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01000" y="632448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848720" y="160020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GB" sz="36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38880" y="7010280"/>
              <a:ext cx="5400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9480" y="205740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2120" y="685800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GB" sz="36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295280" y="1371600"/>
              <a:ext cx="5400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43960" y="2117880"/>
              <a:ext cx="0" cy="47368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68360" y="7005600"/>
              <a:ext cx="634536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368360" y="2104560"/>
              <a:ext cx="0" cy="49006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589040" y="2119320"/>
              <a:ext cx="614376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762120" y="7632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asignación equitativa se parecería a est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79600" y="2075040"/>
            <a:ext cx="2516400" cy="4913280"/>
          </a:xfrm>
          <a:prstGeom prst="line">
            <a:avLst/>
          </a:prstGeom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397160" y="7080120"/>
            <a:ext cx="439560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97240" y="2019240"/>
            <a:ext cx="434808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62200" y="7137360"/>
            <a:ext cx="44863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greso en términos del bie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71800" y="1606680"/>
            <a:ext cx="41911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greso entérminos del bien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33920" y="2743200"/>
            <a:ext cx="6324480" cy="5029200"/>
          </a:xfrm>
          <a:prstGeom prst="rect">
            <a:avLst/>
          </a:prstGeom>
          <a:solidFill>
            <a:srgbClr val="000080"/>
          </a:solidFill>
          <a:ln w="127080">
            <a:solidFill>
              <a:srgbClr val="ffff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359080" indent="-19018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¿Y si Juan y Pedro tienen diferentes necesidades debido a la edad , posibles discapacidades , tipo de familia...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9080" indent="-19018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e donde viene el problema: ¿de la Competenci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9080" indent="-19018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¿ del Individualism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9080" indent="-19018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38480" y="1600200"/>
            <a:ext cx="2514600" cy="1219320"/>
          </a:xfrm>
          <a:prstGeom prst="wedgeRoundRectCallout">
            <a:avLst>
              <a:gd name="adj1" fmla="val -55175"/>
              <a:gd name="adj2" fmla="val 77083"/>
              <a:gd name="adj3" fmla="val 16667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Recta de presupu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51320" y="4114800"/>
            <a:ext cx="5256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24280" y="2895480"/>
            <a:ext cx="2514600" cy="1219320"/>
          </a:xfrm>
          <a:prstGeom prst="wedgeRoundRectCallout">
            <a:avLst>
              <a:gd name="adj1" fmla="val -55175"/>
              <a:gd name="adj2" fmla="val 77083"/>
              <a:gd name="adj3" fmla="val 16667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10000"/>
                </a:solidFill>
                <a:latin typeface="Times New Roman"/>
              </a:rPr>
              <a:t>Equilibrio Competi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228600" y="128520"/>
            <a:ext cx="94536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0" y="1066680"/>
            <a:ext cx="10058400" cy="7238880"/>
            <a:chOff x="0" y="1066680"/>
            <a:chExt cx="10058400" cy="7238880"/>
          </a:xfrm>
        </p:grpSpPr>
        <p:sp>
          <p:nvSpPr>
            <p:cNvPr id="674" name=""/>
            <p:cNvSpPr/>
            <p:nvPr/>
          </p:nvSpPr>
          <p:spPr>
            <a:xfrm>
              <a:off x="0" y="1066680"/>
              <a:ext cx="10058400" cy="7238880"/>
            </a:xfrm>
            <a:custGeom>
              <a:avLst/>
              <a:gdLst/>
              <a:ahLst/>
              <a:rect l="l" t="t" r="r" b="b"/>
              <a:pathLst>
                <a:path w="6676" h="3739">
                  <a:moveTo>
                    <a:pt x="0" y="238"/>
                  </a:moveTo>
                  <a:lnTo>
                    <a:pt x="0" y="238"/>
                  </a:lnTo>
                  <a:lnTo>
                    <a:pt x="316" y="238"/>
                  </a:lnTo>
                  <a:lnTo>
                    <a:pt x="316" y="0"/>
                  </a:lnTo>
                  <a:lnTo>
                    <a:pt x="6369" y="0"/>
                  </a:lnTo>
                  <a:lnTo>
                    <a:pt x="6369" y="238"/>
                  </a:lnTo>
                  <a:lnTo>
                    <a:pt x="6675" y="238"/>
                  </a:lnTo>
                  <a:lnTo>
                    <a:pt x="6675" y="3509"/>
                  </a:lnTo>
                  <a:lnTo>
                    <a:pt x="6369" y="3509"/>
                  </a:lnTo>
                  <a:lnTo>
                    <a:pt x="6369" y="3738"/>
                  </a:lnTo>
                  <a:lnTo>
                    <a:pt x="316" y="3738"/>
                  </a:lnTo>
                  <a:lnTo>
                    <a:pt x="316" y="3509"/>
                  </a:lnTo>
                  <a:lnTo>
                    <a:pt x="0" y="3509"/>
                  </a:lnTo>
                  <a:lnTo>
                    <a:pt x="0" y="238"/>
                  </a:lnTo>
                  <a:lnTo>
                    <a:pt x="0" y="238"/>
                  </a:lnTo>
                </a:path>
              </a:pathLst>
            </a:custGeom>
            <a:solidFill>
              <a:srgbClr val="008280"/>
            </a:solidFill>
            <a:ln w="31680">
              <a:solidFill>
                <a:srgbClr val="0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572040" y="1305720"/>
              <a:ext cx="8788320" cy="6810840"/>
            </a:xfrm>
            <a:prstGeom prst="roundRect">
              <a:avLst>
                <a:gd name="adj" fmla="val 0"/>
              </a:avLst>
            </a:prstGeom>
            <a:noFill/>
            <a:ln w="31680">
              <a:solidFill>
                <a:srgbClr val="8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06440" y="1689480"/>
              <a:ext cx="9371520" cy="5966640"/>
            </a:xfrm>
            <a:prstGeom prst="roundRect">
              <a:avLst>
                <a:gd name="adj" fmla="val 0"/>
              </a:avLst>
            </a:prstGeom>
            <a:noFill/>
            <a:ln w="31680">
              <a:solidFill>
                <a:srgbClr val="0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679320" y="1421640"/>
              <a:ext cx="8655480" cy="1839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8280"/>
                </a:gs>
                <a:gs pos="50000">
                  <a:srgbClr val="e1e1e1"/>
                </a:gs>
                <a:gs pos="100000">
                  <a:srgbClr val="0082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02000" y="7828560"/>
              <a:ext cx="8628480" cy="2379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8280"/>
                </a:gs>
                <a:gs pos="50000">
                  <a:srgbClr val="e1e1e1"/>
                </a:gs>
                <a:gs pos="100000">
                  <a:srgbClr val="0082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06440" y="1840320"/>
              <a:ext cx="122040" cy="5661000"/>
            </a:xfrm>
            <a:custGeom>
              <a:avLst/>
              <a:gdLst>
                <a:gd name="textAreaLeft" fmla="*/ 0 w 122040"/>
                <a:gd name="textAreaRight" fmla="*/ 122040 w 122040"/>
                <a:gd name="textAreaTop" fmla="*/ -360 h 5661000"/>
                <a:gd name="textAreaBottom" fmla="*/ 5661000 h 5661000"/>
              </a:gdLst>
              <a:ahLst/>
              <a:rect l="textAreaLeft" t="textAreaTop" r="textAreaRight" b="textAreaBottom"/>
              <a:pathLst>
                <a:path w="21600" h="999064">
                  <a:moveTo>
                    <a:pt x="0" y="0"/>
                  </a:moveTo>
                  <a:arcTo wR="0" hR="0" stAng="16200000" swAng="-5400000"/>
                  <a:lnTo>
                    <a:pt x="0" y="999064"/>
                  </a:lnTo>
                  <a:arcTo wR="0" hR="0" stAng="10800000" swAng="-5400000"/>
                  <a:lnTo>
                    <a:pt x="21600" y="999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008280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82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9431640" y="1838160"/>
              <a:ext cx="263160" cy="566316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-360 h 5663160"/>
                <a:gd name="textAreaBottom" fmla="*/ 5663160 h 5663160"/>
              </a:gdLst>
              <a:ahLst/>
              <a:rect l="textAreaLeft" t="textAreaTop" r="textAreaRight" b="textAreaBottom"/>
              <a:pathLst>
                <a:path w="21600" h="464223">
                  <a:moveTo>
                    <a:pt x="0" y="0"/>
                  </a:moveTo>
                  <a:arcTo wR="0" hR="0" stAng="16200000" swAng="-5400000"/>
                  <a:lnTo>
                    <a:pt x="0" y="464223"/>
                  </a:lnTo>
                  <a:arcTo wR="0" hR="0" stAng="10800000" swAng="-5400000"/>
                  <a:lnTo>
                    <a:pt x="21600" y="464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008280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82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590400" y="2403360"/>
            <a:ext cx="878220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dddddd"/>
                </a:solidFill>
                <a:latin typeface="Times New Roman"/>
              </a:rPr>
              <a:t>Hemos hecho dos intentos de contestar la pregunta “¿Cómo debe ser el manejo de la economía?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dddddd"/>
                </a:solidFill>
                <a:latin typeface="Times New Roman"/>
              </a:rPr>
              <a:t>El primero fue “Según la Constitución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dddddd"/>
                </a:solidFill>
                <a:latin typeface="Times New Roman"/>
              </a:rPr>
              <a:t>Este segundo intento consistió en aplicar un número de principios generales al problema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304920" y="2270160"/>
            <a:ext cx="41400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spcBef>
                <a:spcPts val="4124"/>
              </a:spcBef>
              <a:buClr>
                <a:srgbClr val="00cc00"/>
              </a:buClr>
              <a:buSzPct val="46000"/>
              <a:buFont typeface="Monotype Sorts" charset="2"/>
              <a:buChar char="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4124"/>
              </a:spcBef>
              <a:buClr>
                <a:srgbClr val="00cc00"/>
              </a:buClr>
              <a:buSzPct val="46000"/>
              <a:buFont typeface="Monotype Sorts" charset="2"/>
              <a:buChar char="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Eficiencia potencial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4124"/>
              </a:spcBef>
              <a:buClr>
                <a:srgbClr val="00cc00"/>
              </a:buClr>
              <a:buSzPct val="46000"/>
              <a:buFont typeface="Monotype Sorts" charset="2"/>
              <a:buChar char="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6040" y="79524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5580000"/>
            <a:ext cx="465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Linda idea pero no nos lleva demasiado lej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73400" y="2203560"/>
            <a:ext cx="5375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Redondita. Simple. Pero quizás limita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57560" y="3809880"/>
            <a:ext cx="63057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Persuasiva pero quizás peligrosa en términos economicos/poli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3429000" y="5028840"/>
            <a:ext cx="6121440" cy="222552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Por estos motivos vamos a encarar un enfoque de función de bienes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089240"/>
            <a:ext cx="228600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927520" y="5315040"/>
            <a:ext cx="4539960" cy="552240"/>
            <a:chOff x="2927520" y="5315040"/>
            <a:chExt cx="4539960" cy="552240"/>
          </a:xfrm>
        </p:grpSpPr>
        <p:sp>
          <p:nvSpPr>
            <p:cNvPr id="79" name=""/>
            <p:cNvSpPr/>
            <p:nvPr/>
          </p:nvSpPr>
          <p:spPr>
            <a:xfrm>
              <a:off x="407844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275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9588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6604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752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7844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588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87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124080" y="4091040"/>
            <a:ext cx="20368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incipios de 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42080" y="408924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 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08480" y="4191120"/>
            <a:ext cx="241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5124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xtención de la 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73960" y="586728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5867280"/>
            <a:ext cx="21337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xtención de la 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586728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5334120"/>
            <a:ext cx="2486160" cy="205884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4800" y="53316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incipios de Bienes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33480" y="2217240"/>
            <a:ext cx="882000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Recapitulemos acerca de la definición de eficiencia...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...y su aplicación a una economía de bienes privadados.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Recuerde el especial rol que desempeña el equilibrio competitivo en esta circumstancia.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¿Y si se desvía de él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6040" y="79524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mirada de cerca a las reglas de la eficien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cordemos la definición de “eficiencia de Pareto”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4760" y="5818320"/>
            <a:ext cx="912816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Y no olvidemos la definición de “superioridad”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70000" y="3556080"/>
            <a:ext cx="663120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es factible</a:t>
            </a:r>
            <a:br>
              <a:rPr sz="3000"/>
            </a:b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No existe otro estado factible que sea Pareto superio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0440" y="2571840"/>
            <a:ext cx="67197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Un estado de la economía es eficiente si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uperioridad de Pare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1040" y="3556080"/>
            <a:ext cx="4570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Para todo individuo </a:t>
            </a: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h:</a:t>
            </a:r>
            <a:br>
              <a:rPr sz="3000"/>
            </a:b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09680"/>
            <a:ext cx="965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 estado de la economía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es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superio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a un estado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26320" y="3200400"/>
            <a:ext cx="3232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611600"/>
            <a:ext cx="5867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Para al menos un individuo h :</a:t>
            </a:r>
            <a:br>
              <a:rPr sz="3000"/>
            </a:b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26320" y="4419720"/>
            <a:ext cx="3232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&gt; u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486400"/>
            <a:ext cx="9915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Traduzcamos estos conceptos en un caso en que “el estado </a:t>
            </a:r>
            <a:r>
              <a:rPr b="1" i="1" lang="en-GB" sz="4800" spc="-1" strike="noStrike" u="sng">
                <a:solidFill>
                  <a:srgbClr val="ff0000"/>
                </a:solidFill>
                <a:uFillTx/>
                <a:latin typeface="Brush738 BT"/>
              </a:rPr>
              <a:t>s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 ” es simplemente una asignación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uperioridad de Pare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1040" y="3556080"/>
            <a:ext cx="4570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Para todo individuo </a:t>
            </a: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h:</a:t>
            </a:r>
            <a:br>
              <a:rPr sz="3000"/>
            </a:b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3352680"/>
            <a:ext cx="3962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611600"/>
            <a:ext cx="5410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Para al menos un individuo:</a:t>
            </a:r>
            <a:br>
              <a:rPr sz="3000"/>
            </a:b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16480" y="4419720"/>
            <a:ext cx="3765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981080"/>
            <a:ext cx="8305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a asignación [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] es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superio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a todas las asignaciones  [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]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562720"/>
            <a:ext cx="9677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(Vea la similitud entre éstas y las condiciones requeridas para bloquear...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0" y="1745280"/>
            <a:ext cx="10058400" cy="59785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4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Condiciones de eficiencia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133720" y="4343040"/>
            <a:ext cx="7238880" cy="2209680"/>
          </a:xfrm>
          <a:prstGeom prst="roundRect">
            <a:avLst>
              <a:gd name="adj" fmla="val 4162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133720" y="1980000"/>
            <a:ext cx="7162560" cy="2210040"/>
          </a:xfrm>
          <a:prstGeom prst="roundRect">
            <a:avLst>
              <a:gd name="adj" fmla="val 4162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5137200"/>
            <a:ext cx="464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gual para todo 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701800" y="1933560"/>
            <a:ext cx="6441840" cy="2104920"/>
            <a:chOff x="2701800" y="1933560"/>
            <a:chExt cx="6441840" cy="2104920"/>
          </a:xfrm>
        </p:grpSpPr>
        <p:sp>
          <p:nvSpPr>
            <p:cNvPr id="133" name=""/>
            <p:cNvSpPr/>
            <p:nvPr/>
          </p:nvSpPr>
          <p:spPr>
            <a:xfrm>
              <a:off x="2701800" y="2084040"/>
              <a:ext cx="2536560" cy="19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_____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07080" y="2084040"/>
              <a:ext cx="2536560" cy="19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96560" y="2493720"/>
              <a:ext cx="603000" cy="10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42920" y="1933560"/>
              <a:ext cx="50371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895480" y="4267080"/>
            <a:ext cx="6441840" cy="2105280"/>
            <a:chOff x="2895480" y="4267080"/>
            <a:chExt cx="6441840" cy="2105280"/>
          </a:xfrm>
        </p:grpSpPr>
        <p:sp>
          <p:nvSpPr>
            <p:cNvPr id="138" name=""/>
            <p:cNvSpPr/>
            <p:nvPr/>
          </p:nvSpPr>
          <p:spPr>
            <a:xfrm>
              <a:off x="2895480" y="4417920"/>
              <a:ext cx="25365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_____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00760" y="4417920"/>
              <a:ext cx="25365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0240" y="4827600"/>
              <a:ext cx="6030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6600" y="4267080"/>
              <a:ext cx="5037120" cy="21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105520" y="266688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gual para todo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2743200"/>
            <a:ext cx="3581280" cy="4724280"/>
          </a:xfrm>
          <a:prstGeom prst="rect">
            <a:avLst/>
          </a:prstGeom>
          <a:solidFill>
            <a:srgbClr val="ffff99"/>
          </a:solidFill>
          <a:ln w="38160">
            <a:solidFill>
              <a:srgbClr val="c2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charemos otra mirada al caso en que la regla puede ser inconducent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uego veremos las consecuencias de desviarnos de ell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 por fin los motivos  por los que en la práctica tal desvío puede ocu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3920" y="6899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0T23:04:07Z</dcterms:created>
  <dc:creator>COWELL</dc:creator>
  <dc:description/>
  <dc:language>en-US</dc:language>
  <cp:lastModifiedBy>FERNANDO VICTOR TOW</cp:lastModifiedBy>
  <dcterms:modified xsi:type="dcterms:W3CDTF">1998-09-26T23:04:22Z</dcterms:modified>
  <cp:revision>64</cp:revision>
  <dc:subject/>
  <dc:title>Capitulo II . Bienestar</dc:title>
</cp:coreProperties>
</file>